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B3AD-4E2A-4AC4-A043-BE45B43F984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7BD-4F28-4292-BE40-AADBE78BDE8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1D2-295D-4BFC-B86D-D36C12B5800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tir o conteúdo das páginas 456 a 457. enfatizar quando não se deve controlar as mudanç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 definições na página 4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 definições na página 4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ar os casos do slide 11. Descrever conteúdo das páginas 460 a 466. Se necessário, desdobrar um slide para cada f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72D4-5224-4B4A-A72D-5D0EBD176BB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89F-F80A-4B2A-8E47-F4F1F2A6FD9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C039-5AFF-47D2-8FB7-2628B45E2BC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tir também o conteúdo do quadro 1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C57B-3295-4607-A294-E881F8B14D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9305-0885-4395-B769-7136702F3EC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tópico 13.2.3 e discutir relação com bench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DE4E-BA8B-4F56-B82A-09552C8C3E1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079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7F6C-3220-4760-9047-E4B91C07F0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cuta os exemplos das páginas 454 até 456 com os alunos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E42-23B3-407F-A020-CC194F8E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091-BB78-4A96-8407-1671C376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A28-1982-4692-8264-B7BFBDC9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104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01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23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104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01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40C-0B5B-4107-9630-2B5053B3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AAE-1D80-48FE-9213-8C7F83C2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1B3-FE4B-4161-A3B3-73B582B4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A2A-CBC3-4551-8DBB-F4B6190B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B72-F689-4D16-B1AF-554611B6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3882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7DD-64EF-4EAC-A935-2AD17802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4C6-9885-4E46-AB94-AFD48EB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BC6-FA1F-435C-AAC0-8BB04C4C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603-098B-4265-9EAB-3025B69D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99E4-1B9D-4E1F-80B9-A8D0D05C4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5280" y="808200"/>
            <a:ext cx="7861320" cy="47520"/>
          </a:xfrm>
          <a:prstGeom prst="rect">
            <a:avLst/>
          </a:prstGeom>
          <a:gradFill rotWithShape="0">
            <a:gsLst>
              <a:gs pos="0">
                <a:srgbClr val="000096"/>
              </a:gs>
              <a:gs pos="100000">
                <a:srgbClr val="6363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43840" y="0"/>
            <a:ext cx="11001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360" y="257040"/>
            <a:ext cx="4386240" cy="635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03960" y="26352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cessos de apo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apítulo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040" y="4183200"/>
            <a:ext cx="329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Henrique Roz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Fernando Antônio Forcel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aniel Capaldo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José Carlos Tol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Sergio Luis da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ário Henrique Allipran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Régis Kovacs Sc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11680" y="2098800"/>
            <a:ext cx="4336920" cy="1601280"/>
            <a:chOff x="4711680" y="2098800"/>
            <a:chExt cx="4336920" cy="1601280"/>
          </a:xfrm>
        </p:grpSpPr>
        <p:sp>
          <p:nvSpPr>
            <p:cNvPr id="54" name=""/>
            <p:cNvSpPr/>
            <p:nvPr/>
          </p:nvSpPr>
          <p:spPr>
            <a:xfrm>
              <a:off x="5500440" y="3180240"/>
              <a:ext cx="527400" cy="89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5080" y="3180240"/>
              <a:ext cx="528480" cy="89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91520" y="3180240"/>
              <a:ext cx="528480" cy="89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37960" y="3180240"/>
              <a:ext cx="528480" cy="89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40480" y="2098800"/>
              <a:ext cx="4275000" cy="106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69000" y="2169360"/>
              <a:ext cx="1971720" cy="141480"/>
            </a:xfrm>
            <a:custGeom>
              <a:avLst/>
              <a:gdLst>
                <a:gd name="textAreaLeft" fmla="*/ 0 w 1971720"/>
                <a:gd name="textAreaRight" fmla="*/ 1972080 w 1971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29560" y="2169360"/>
              <a:ext cx="1261080" cy="14148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88640" y="2185200"/>
              <a:ext cx="14256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613720" y="2209680"/>
              <a:ext cx="123840" cy="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5120" y="2169360"/>
              <a:ext cx="1009800" cy="14148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8560" y="2185200"/>
              <a:ext cx="14148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92320" y="2345760"/>
              <a:ext cx="633960" cy="3740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34160" y="2336760"/>
              <a:ext cx="597960" cy="3942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32480" y="2336760"/>
              <a:ext cx="604800" cy="3942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4840" y="2367360"/>
              <a:ext cx="603720" cy="394200"/>
            </a:xfrm>
            <a:custGeom>
              <a:avLst/>
              <a:gdLst>
                <a:gd name="textAreaLeft" fmla="*/ 0 w 603720"/>
                <a:gd name="textAreaRight" fmla="*/ 604080 w 60372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87200" y="2367360"/>
              <a:ext cx="604080" cy="39420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62440" y="2385720"/>
              <a:ext cx="638280" cy="39420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22360" y="2385720"/>
              <a:ext cx="666000" cy="39420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851440" y="2328840"/>
              <a:ext cx="339120" cy="1947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193800" y="2328840"/>
              <a:ext cx="339120" cy="1947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537600" y="2328840"/>
              <a:ext cx="339120" cy="1947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9960" y="2328840"/>
              <a:ext cx="339480" cy="1947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224120" y="2328840"/>
              <a:ext cx="339120" cy="1947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923800" y="2402640"/>
              <a:ext cx="339120" cy="1933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-360 h 193320"/>
                <a:gd name="textAreaBottom" fmla="*/ 193320 h 19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266160" y="2402640"/>
              <a:ext cx="339120" cy="1933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-360 h 193320"/>
                <a:gd name="textAreaBottom" fmla="*/ 193320 h 19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609960" y="2402640"/>
              <a:ext cx="339120" cy="1933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-360 h 193320"/>
                <a:gd name="textAreaBottom" fmla="*/ 193320 h 19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952320" y="2402640"/>
              <a:ext cx="339120" cy="1933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-360 h 193320"/>
                <a:gd name="textAreaBottom" fmla="*/ 193320 h 19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296120" y="2402640"/>
              <a:ext cx="339480" cy="19332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-360 h 193320"/>
                <a:gd name="textAreaBottom" fmla="*/ 193320 h 19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996160" y="2475720"/>
              <a:ext cx="339120" cy="1929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360 h 192960"/>
                <a:gd name="textAreaBottom" fmla="*/ 193680 h 19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338520" y="2475720"/>
              <a:ext cx="339120" cy="1929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360 h 192960"/>
                <a:gd name="textAreaBottom" fmla="*/ 193680 h 19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681960" y="2475720"/>
              <a:ext cx="339120" cy="1929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360 h 192960"/>
                <a:gd name="textAreaBottom" fmla="*/ 193680 h 19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024320" y="2475720"/>
              <a:ext cx="339480" cy="1929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360 h 192960"/>
                <a:gd name="textAreaBottom" fmla="*/ 193680 h 19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368480" y="2475720"/>
              <a:ext cx="339120" cy="1929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360 h 192960"/>
                <a:gd name="textAreaBottom" fmla="*/ 193680 h 19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48240" y="2349720"/>
              <a:ext cx="307800" cy="1742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0600" y="2422080"/>
              <a:ext cx="307440" cy="17460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2960" y="2494440"/>
              <a:ext cx="307440" cy="174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54920" y="2937600"/>
              <a:ext cx="1042560" cy="144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"/>
            <p:cNvCxnSpPr>
              <a:stCxn id="90" idx="0"/>
            </p:cNvCxnSpPr>
            <p:nvPr/>
          </p:nvCxnSpPr>
          <p:spPr>
            <a:xfrm flipH="1" flipV="1">
              <a:off x="6204960" y="2684520"/>
              <a:ext cx="471600" cy="25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90" idx="0"/>
            </p:cNvCxnSpPr>
            <p:nvPr/>
          </p:nvCxnSpPr>
          <p:spPr>
            <a:xfrm flipH="1" flipV="1">
              <a:off x="6611040" y="2684520"/>
              <a:ext cx="65520" cy="25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>
              <a:stCxn id="90" idx="0"/>
            </p:cNvCxnSpPr>
            <p:nvPr/>
          </p:nvCxnSpPr>
          <p:spPr>
            <a:xfrm flipV="1">
              <a:off x="6676200" y="2684520"/>
              <a:ext cx="295560" cy="25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0" idx="0"/>
            </p:cNvCxnSpPr>
            <p:nvPr/>
          </p:nvCxnSpPr>
          <p:spPr>
            <a:xfrm flipV="1">
              <a:off x="6676200" y="2684520"/>
              <a:ext cx="663120" cy="25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90" idx="0"/>
            </p:cNvCxnSpPr>
            <p:nvPr/>
          </p:nvCxnSpPr>
          <p:spPr>
            <a:xfrm flipV="1">
              <a:off x="6676200" y="2684520"/>
              <a:ext cx="1046520" cy="25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>
              <a:stCxn id="90" idx="0"/>
            </p:cNvCxnSpPr>
            <p:nvPr/>
          </p:nvCxnSpPr>
          <p:spPr>
            <a:xfrm flipH="1" flipV="1">
              <a:off x="5756040" y="2677320"/>
              <a:ext cx="920520" cy="260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7" name=""/>
            <p:cNvSpPr/>
            <p:nvPr/>
          </p:nvSpPr>
          <p:spPr>
            <a:xfrm>
              <a:off x="4711680" y="2098800"/>
              <a:ext cx="4336920" cy="1588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46280" y="3415680"/>
              <a:ext cx="3748680" cy="284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82840" y="3242520"/>
              <a:ext cx="2898000" cy="284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6388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o gerenciamento de mudanças de engenharia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533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4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8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59" name=""/>
                <p:cNvCxnSpPr>
                  <a:stCxn id="556" idx="0"/>
                  <a:endCxn id="560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561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8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32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3" name=""/>
          <p:cNvGrpSpPr/>
          <p:nvPr/>
        </p:nvGrpSpPr>
        <p:grpSpPr>
          <a:xfrm>
            <a:off x="2063520" y="4873320"/>
            <a:ext cx="903240" cy="971640"/>
            <a:chOff x="2063520" y="4873320"/>
            <a:chExt cx="903240" cy="971640"/>
          </a:xfrm>
        </p:grpSpPr>
        <p:grpSp>
          <p:nvGrpSpPr>
            <p:cNvPr id="634" name=""/>
            <p:cNvGrpSpPr/>
            <p:nvPr/>
          </p:nvGrpSpPr>
          <p:grpSpPr>
            <a:xfrm>
              <a:off x="2063520" y="5049000"/>
              <a:ext cx="636840" cy="795960"/>
              <a:chOff x="2063520" y="5049000"/>
              <a:chExt cx="636840" cy="79596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079360" y="5049000"/>
                <a:ext cx="616320" cy="781920"/>
                <a:chOff x="2079360" y="5049000"/>
                <a:chExt cx="616320" cy="78192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2079360" y="5049000"/>
                  <a:ext cx="616320" cy="781920"/>
                  <a:chOff x="2079360" y="5049000"/>
                  <a:chExt cx="616320" cy="78192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rot="15769200">
                    <a:off x="1970640" y="5348160"/>
                    <a:ext cx="61056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rot="15769200">
                    <a:off x="2122200" y="5211360"/>
                    <a:ext cx="673560" cy="39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2090880" y="5067720"/>
                  <a:ext cx="581040" cy="744840"/>
                  <a:chOff x="2090880" y="5067720"/>
                  <a:chExt cx="581040" cy="74484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rot="15769200">
                    <a:off x="2509200" y="5577840"/>
                    <a:ext cx="17460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5769200">
                    <a:off x="2318040" y="4987080"/>
                    <a:ext cx="62640" cy="25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5769200">
                    <a:off x="2019960" y="5338440"/>
                    <a:ext cx="2484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15769200">
                    <a:off x="2314080" y="5671800"/>
                    <a:ext cx="792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4" name=""/>
              <p:cNvSpPr/>
              <p:nvPr/>
            </p:nvSpPr>
            <p:spPr>
              <a:xfrm rot="15769200">
                <a:off x="2049480" y="5172840"/>
                <a:ext cx="702360" cy="515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2063520" y="5083560"/>
                <a:ext cx="599040" cy="761400"/>
                <a:chOff x="2063520" y="5083560"/>
                <a:chExt cx="599040" cy="761400"/>
              </a:xfrm>
            </p:grpSpPr>
            <p:sp>
              <p:nvSpPr>
                <p:cNvPr id="646" name=""/>
                <p:cNvSpPr/>
                <p:nvPr/>
              </p:nvSpPr>
              <p:spPr>
                <a:xfrm rot="15769200">
                  <a:off x="2020320" y="5212800"/>
                  <a:ext cx="686160" cy="50292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5769200">
                  <a:off x="2011680" y="5206680"/>
                  <a:ext cx="702360" cy="515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15769200">
                  <a:off x="2031120" y="5220000"/>
                  <a:ext cx="663480" cy="487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2548440" y="4873320"/>
              <a:ext cx="418320" cy="411120"/>
              <a:chOff x="2548440" y="4873320"/>
              <a:chExt cx="418320" cy="411120"/>
            </a:xfrm>
          </p:grpSpPr>
          <p:sp>
            <p:nvSpPr>
              <p:cNvPr id="650" name=""/>
              <p:cNvSpPr/>
              <p:nvPr/>
            </p:nvSpPr>
            <p:spPr>
              <a:xfrm rot="15769200">
                <a:off x="2584800" y="4897080"/>
                <a:ext cx="343440" cy="37656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5769200">
                <a:off x="2548080" y="5188320"/>
                <a:ext cx="105480" cy="7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5769200">
                <a:off x="2555640" y="5180760"/>
                <a:ext cx="106560" cy="8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5769200">
                <a:off x="2586240" y="5197680"/>
                <a:ext cx="65160" cy="9612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5769200">
                <a:off x="2547360" y="5189400"/>
                <a:ext cx="105480" cy="7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769200">
                <a:off x="2595240" y="5144760"/>
                <a:ext cx="105840" cy="7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2610720" y="5113440"/>
                <a:ext cx="96120" cy="121680"/>
                <a:chOff x="2610720" y="5113440"/>
                <a:chExt cx="96120" cy="12168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2610720" y="5119560"/>
                  <a:ext cx="88920" cy="115560"/>
                  <a:chOff x="2610720" y="5119560"/>
                  <a:chExt cx="88920" cy="11556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 rot="15769200">
                    <a:off x="2602080" y="5139360"/>
                    <a:ext cx="1062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5769200">
                    <a:off x="2601360" y="5139360"/>
                    <a:ext cx="1069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5769200">
                    <a:off x="2601720" y="5139000"/>
                    <a:ext cx="1062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" name=""/>
                <p:cNvSpPr/>
                <p:nvPr/>
              </p:nvSpPr>
              <p:spPr>
                <a:xfrm rot="15769200">
                  <a:off x="2609280" y="5132520"/>
                  <a:ext cx="106200" cy="7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2625120" y="5101560"/>
                <a:ext cx="96480" cy="121320"/>
                <a:chOff x="2625120" y="5101560"/>
                <a:chExt cx="96480" cy="12132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2625120" y="5107320"/>
                  <a:ext cx="89640" cy="115560"/>
                  <a:chOff x="2625120" y="5107320"/>
                  <a:chExt cx="89640" cy="11556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rot="15769200">
                    <a:off x="2616480" y="5126760"/>
                    <a:ext cx="106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15769200">
                    <a:off x="2616480" y="5126400"/>
                    <a:ext cx="10692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5769200">
                    <a:off x="2616480" y="5126760"/>
                    <a:ext cx="1058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7" name=""/>
                <p:cNvSpPr/>
                <p:nvPr/>
              </p:nvSpPr>
              <p:spPr>
                <a:xfrm rot="15769200">
                  <a:off x="2624040" y="5120280"/>
                  <a:ext cx="105840" cy="76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638440" y="5094720"/>
                <a:ext cx="88200" cy="115560"/>
                <a:chOff x="2638440" y="5094720"/>
                <a:chExt cx="88200" cy="115560"/>
              </a:xfrm>
            </p:grpSpPr>
            <p:sp>
              <p:nvSpPr>
                <p:cNvPr id="669" name=""/>
                <p:cNvSpPr/>
                <p:nvPr/>
              </p:nvSpPr>
              <p:spPr>
                <a:xfrm rot="15769200">
                  <a:off x="2629800" y="5115240"/>
                  <a:ext cx="10584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rot="15769200">
                  <a:off x="2628720" y="5114880"/>
                  <a:ext cx="10692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638800" y="5088240"/>
                <a:ext cx="95760" cy="121320"/>
                <a:chOff x="2638800" y="5088240"/>
                <a:chExt cx="95760" cy="121320"/>
              </a:xfrm>
            </p:grpSpPr>
            <p:sp>
              <p:nvSpPr>
                <p:cNvPr id="672" name=""/>
                <p:cNvSpPr/>
                <p:nvPr/>
              </p:nvSpPr>
              <p:spPr>
                <a:xfrm rot="15769200">
                  <a:off x="2629800" y="5114160"/>
                  <a:ext cx="106200" cy="7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rot="15769200">
                  <a:off x="2637360" y="5107680"/>
                  <a:ext cx="106200" cy="7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2580120" y="4895280"/>
                <a:ext cx="357120" cy="379800"/>
                <a:chOff x="2580120" y="4895280"/>
                <a:chExt cx="357120" cy="379800"/>
              </a:xfrm>
            </p:grpSpPr>
            <p:sp>
              <p:nvSpPr>
                <p:cNvPr id="675" name=""/>
                <p:cNvSpPr/>
                <p:nvPr/>
              </p:nvSpPr>
              <p:spPr>
                <a:xfrm flipV="1">
                  <a:off x="2580120" y="4895280"/>
                  <a:ext cx="303120" cy="28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2619360" y="4988160"/>
                  <a:ext cx="31788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2652120" y="5076360"/>
                <a:ext cx="95040" cy="120960"/>
                <a:chOff x="2652120" y="5076360"/>
                <a:chExt cx="95040" cy="120960"/>
              </a:xfrm>
            </p:grpSpPr>
            <p:grpSp>
              <p:nvGrpSpPr>
                <p:cNvPr id="678" name=""/>
                <p:cNvGrpSpPr/>
                <p:nvPr/>
              </p:nvGrpSpPr>
              <p:grpSpPr>
                <a:xfrm>
                  <a:off x="2652120" y="5081760"/>
                  <a:ext cx="88200" cy="115560"/>
                  <a:chOff x="2652120" y="5081760"/>
                  <a:chExt cx="88200" cy="11556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 rot="15769200">
                    <a:off x="2643120" y="5102280"/>
                    <a:ext cx="1062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rot="15769200">
                    <a:off x="2642760" y="5101560"/>
                    <a:ext cx="1069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" name=""/>
                <p:cNvSpPr/>
                <p:nvPr/>
              </p:nvSpPr>
              <p:spPr>
                <a:xfrm rot="15769200">
                  <a:off x="2643480" y="5101200"/>
                  <a:ext cx="106200" cy="7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15769200">
                  <a:off x="2649600" y="5095440"/>
                  <a:ext cx="106200" cy="7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 rot="15769200">
                <a:off x="2692800" y="4931640"/>
                <a:ext cx="211680" cy="27828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5769200">
                <a:off x="2859480" y="4893120"/>
                <a:ext cx="115560" cy="8532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428840" y="2604960"/>
            <a:ext cx="5029200" cy="281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 mesmo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a apresent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ciação entre Mudanças de Engenharia e Melhoria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Gerenciamento de Mudanças de Engenharia (E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ECM versus gest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Tipos de mudanç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Informações e papéi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ários sobre a implantação do processo de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ia Incremental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amplo de transformaçã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na melhoria incremental d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a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CM versus gestão da configuração – quadro 13.1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600" y="1428840"/>
            <a:ext cx="8172360" cy="1971720"/>
          </a:xfrm>
          <a:prstGeom prst="rect">
            <a:avLst/>
          </a:prstGeom>
          <a:solidFill>
            <a:srgbClr val="ddddd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66640" y="2144880"/>
            <a:ext cx="2409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ç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483000" y="2146320"/>
            <a:ext cx="226548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270480" y="2146320"/>
            <a:ext cx="2235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ç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05240" y="954000"/>
            <a:ext cx="2265480" cy="8254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227400" y="3830760"/>
            <a:ext cx="281628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mento de mudanças de engenharia (EC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706560" y="3116160"/>
            <a:ext cx="1889280" cy="459720"/>
          </a:xfrm>
          <a:prstGeom prst="rect">
            <a:avLst/>
          </a:prstGeom>
          <a:solidFill>
            <a:srgbClr val="ccffcc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086280" y="1957320"/>
            <a:ext cx="3057480" cy="341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58920" y="4915080"/>
            <a:ext cx="275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orre durante todo o desenvolvimento a cada vez que se cria um objeto (documento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743120" y="3000240"/>
            <a:ext cx="0" cy="1971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192720" y="4915080"/>
            <a:ext cx="28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ividade de auditoria, ocorre mais frequentemente na macro-fase de pós-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451640" y="3065400"/>
            <a:ext cx="0" cy="1971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-520560" y="28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428840" y="1047600"/>
            <a:ext cx="7686720" cy="5581800"/>
          </a:xfrm>
          <a:custGeom>
            <a:avLst/>
            <a:gdLst/>
            <a:ahLst/>
            <a:rect l="l" t="t" r="r" b="b"/>
            <a:pathLst>
              <a:path w="4842" h="3516">
                <a:moveTo>
                  <a:pt x="3030" y="0"/>
                </a:moveTo>
                <a:lnTo>
                  <a:pt x="2241" y="753"/>
                </a:lnTo>
                <a:lnTo>
                  <a:pt x="0" y="1527"/>
                </a:lnTo>
                <a:lnTo>
                  <a:pt x="0" y="3516"/>
                </a:lnTo>
                <a:lnTo>
                  <a:pt x="4842" y="3516"/>
                </a:lnTo>
                <a:lnTo>
                  <a:pt x="4804" y="0"/>
                </a:lnTo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ipos de Mudanças de Engenhari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55960" y="2041200"/>
            <a:ext cx="8787240" cy="4475520"/>
            <a:chOff x="255960" y="2041200"/>
            <a:chExt cx="8787240" cy="4475520"/>
          </a:xfrm>
        </p:grpSpPr>
        <p:sp>
          <p:nvSpPr>
            <p:cNvPr id="707" name=""/>
            <p:cNvSpPr/>
            <p:nvPr/>
          </p:nvSpPr>
          <p:spPr>
            <a:xfrm>
              <a:off x="2452680" y="2041200"/>
              <a:ext cx="2368080" cy="30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pos de mudanç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5960" y="2787120"/>
              <a:ext cx="2000880" cy="30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ão controlad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38240" y="2787120"/>
              <a:ext cx="1519200" cy="30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rolad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30200" y="3468240"/>
              <a:ext cx="2346120" cy="61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 macro-fase “Desenvolvimento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601960" y="3468240"/>
              <a:ext cx="2725560" cy="61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 macro-fase “Pós-Desenvolvimento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5030640" y="5600160"/>
              <a:ext cx="4012560" cy="916560"/>
              <a:chOff x="5030640" y="5600160"/>
              <a:chExt cx="4012560" cy="916560"/>
            </a:xfrm>
          </p:grpSpPr>
          <p:sp>
            <p:nvSpPr>
              <p:cNvPr id="713" name=""/>
              <p:cNvSpPr/>
              <p:nvPr/>
            </p:nvSpPr>
            <p:spPr>
              <a:xfrm>
                <a:off x="5030640" y="5600160"/>
                <a:ext cx="1714320" cy="915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fetam a produção e compr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60640" y="5601600"/>
                <a:ext cx="1582560" cy="915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fetam os produtos em cam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15" name=""/>
            <p:cNvCxnSpPr>
              <a:stCxn id="707" idx="2"/>
              <a:endCxn id="709" idx="0"/>
            </p:cNvCxnSpPr>
            <p:nvPr/>
          </p:nvCxnSpPr>
          <p:spPr>
            <a:xfrm flipH="1" rot="16200000">
              <a:off x="4298400" y="1685520"/>
              <a:ext cx="438840" cy="1762560"/>
            </a:xfrm>
            <a:prstGeom prst="bentConnector3">
              <a:avLst>
                <a:gd name="adj1" fmla="val 50000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07" idx="2"/>
              <a:endCxn id="708" idx="0"/>
            </p:cNvCxnSpPr>
            <p:nvPr/>
          </p:nvCxnSpPr>
          <p:spPr>
            <a:xfrm rot="5400000">
              <a:off x="2226960" y="1377000"/>
              <a:ext cx="438840" cy="2379960"/>
            </a:xfrm>
            <a:prstGeom prst="bentConnector3">
              <a:avLst>
                <a:gd name="adj1" fmla="val 50000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7" name=""/>
            <p:cNvCxnSpPr>
              <a:stCxn id="709" idx="2"/>
              <a:endCxn id="710" idx="0"/>
            </p:cNvCxnSpPr>
            <p:nvPr/>
          </p:nvCxnSpPr>
          <p:spPr>
            <a:xfrm rot="5400000">
              <a:off x="4213800" y="2282760"/>
              <a:ext cx="374040" cy="1995840"/>
            </a:xfrm>
            <a:prstGeom prst="bentConnector3">
              <a:avLst>
                <a:gd name="adj1" fmla="val 49710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8" name=""/>
            <p:cNvCxnSpPr>
              <a:stCxn id="709" idx="2"/>
              <a:endCxn id="711" idx="0"/>
            </p:cNvCxnSpPr>
            <p:nvPr/>
          </p:nvCxnSpPr>
          <p:spPr>
            <a:xfrm flipH="1" rot="16200000">
              <a:off x="5994360" y="2496960"/>
              <a:ext cx="374040" cy="1567080"/>
            </a:xfrm>
            <a:prstGeom prst="bentConnector3">
              <a:avLst>
                <a:gd name="adj1" fmla="val 49710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9" name=""/>
            <p:cNvCxnSpPr>
              <a:stCxn id="711" idx="2"/>
              <a:endCxn id="714" idx="0"/>
            </p:cNvCxnSpPr>
            <p:nvPr/>
          </p:nvCxnSpPr>
          <p:spPr>
            <a:xfrm flipH="1" rot="16200000">
              <a:off x="6849000" y="4196160"/>
              <a:ext cx="1521360" cy="1288080"/>
            </a:xfrm>
            <a:prstGeom prst="bentConnector3">
              <a:avLst>
                <a:gd name="adj1" fmla="val 4998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0" name=""/>
            <p:cNvCxnSpPr>
              <a:stCxn id="711" idx="2"/>
              <a:endCxn id="713" idx="0"/>
            </p:cNvCxnSpPr>
            <p:nvPr/>
          </p:nvCxnSpPr>
          <p:spPr>
            <a:xfrm rot="5400000">
              <a:off x="5666040" y="4300560"/>
              <a:ext cx="1519920" cy="1078200"/>
            </a:xfrm>
            <a:prstGeom prst="bentConnector3">
              <a:avLst>
                <a:gd name="adj1" fmla="val 49940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1" name=""/>
            <p:cNvSpPr/>
            <p:nvPr/>
          </p:nvSpPr>
          <p:spPr>
            <a:xfrm>
              <a:off x="1644480" y="4534920"/>
              <a:ext cx="1530000" cy="61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m itens fís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6800" y="4534920"/>
              <a:ext cx="1530000" cy="61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 itens fís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3" name=""/>
            <p:cNvCxnSpPr>
              <a:stCxn id="710" idx="2"/>
              <a:endCxn id="721" idx="0"/>
            </p:cNvCxnSpPr>
            <p:nvPr/>
          </p:nvCxnSpPr>
          <p:spPr>
            <a:xfrm rot="5400000">
              <a:off x="2679120" y="3809880"/>
              <a:ext cx="454680" cy="993960"/>
            </a:xfrm>
            <a:prstGeom prst="bentConnector3">
              <a:avLst>
                <a:gd name="adj1" fmla="val 50000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4" name=""/>
            <p:cNvCxnSpPr>
              <a:stCxn id="710" idx="2"/>
              <a:endCxn id="722" idx="0"/>
            </p:cNvCxnSpPr>
            <p:nvPr/>
          </p:nvCxnSpPr>
          <p:spPr>
            <a:xfrm flipH="1" rot="16200000">
              <a:off x="3725280" y="3757680"/>
              <a:ext cx="454680" cy="1098360"/>
            </a:xfrm>
            <a:prstGeom prst="bentConnector3">
              <a:avLst>
                <a:gd name="adj1" fmla="val 50000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5" name=""/>
            <p:cNvCxnSpPr>
              <a:stCxn id="722" idx="2"/>
              <a:endCxn id="713" idx="1"/>
            </p:cNvCxnSpPr>
            <p:nvPr/>
          </p:nvCxnSpPr>
          <p:spPr>
            <a:xfrm flipH="1" rot="16200000">
              <a:off x="4310280" y="5337360"/>
              <a:ext cx="911880" cy="5292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6" name=""/>
            <p:cNvCxnSpPr>
              <a:stCxn id="721" idx="2"/>
              <a:endCxn id="713" idx="1"/>
            </p:cNvCxnSpPr>
            <p:nvPr/>
          </p:nvCxnSpPr>
          <p:spPr>
            <a:xfrm flipH="1" rot="16200000">
              <a:off x="3264120" y="4291200"/>
              <a:ext cx="911880" cy="2621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27" name=""/>
          <p:cNvSpPr/>
          <p:nvPr/>
        </p:nvSpPr>
        <p:spPr>
          <a:xfrm>
            <a:off x="6031080" y="1246320"/>
            <a:ext cx="314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po do gerenciamento de mudança de engenh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rot="19827000">
            <a:off x="1018800" y="4265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19827000">
            <a:off x="4488480" y="41050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rot="19827000">
            <a:off x="4682160" y="518436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19827000">
            <a:off x="6926760" y="5202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do gerenciamento de mudanças de engenhari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174680" y="1604880"/>
            <a:ext cx="72500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dido de Mudança de Engenharia (Engineering Change Request — EC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54240" y="3355920"/>
            <a:ext cx="72500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sta de Mudança de Engenharia (Engineering Change Propo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362240" y="5364000"/>
            <a:ext cx="699264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dem de Mudança de Engenharia (Engineering Change Order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— E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56880" y="2716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apéis do gerenciamento de mudanças de engenhari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querente do Pedido de Mudança de Engenharia ou Origin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itê de Controle de Mudança (Change Control Board — C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 de Mudança (Change Mana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dor de Pe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ordenador da Mudanç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449440" y="4973760"/>
            <a:ext cx="452916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algumas empresas uma pessoa pode assumir mais de um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a apresent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ciação entre Mudanças de Engenharia e Melhoria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Gerenciamento de Mudanças de Engenharia (E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CM versus gest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udanç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Fases e atividade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ários sobre a implantação do processo de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ia Incremental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amplo de transformaçã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na melhoria incremental d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a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Fases e atividades do processo de gerenciamento de mudanças de engenharia (ECM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69720" y="1901880"/>
            <a:ext cx="1283040" cy="3632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559480" y="5881680"/>
            <a:ext cx="275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CR (engineering change request): pedido de mudanç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CO (engineering change order): ordem de mudanç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143680" y="1628640"/>
            <a:ext cx="3009600" cy="281160"/>
          </a:xfrm>
          <a:custGeom>
            <a:avLst/>
            <a:gdLst/>
            <a:ahLst/>
            <a:rect l="l" t="t" r="r" b="b"/>
            <a:pathLst>
              <a:path w="1896" h="177">
                <a:moveTo>
                  <a:pt x="247" y="8"/>
                </a:moveTo>
                <a:lnTo>
                  <a:pt x="0" y="177"/>
                </a:lnTo>
                <a:lnTo>
                  <a:pt x="1896" y="177"/>
                </a:lnTo>
                <a:lnTo>
                  <a:pt x="1644" y="0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143680" y="1901880"/>
            <a:ext cx="3016080" cy="3632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161040" y="2813040"/>
            <a:ext cx="101448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er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275440" y="1973160"/>
            <a:ext cx="2786040" cy="426600"/>
            <a:chOff x="5275440" y="1973160"/>
            <a:chExt cx="2786040" cy="426600"/>
          </a:xfrm>
        </p:grpSpPr>
        <p:sp>
          <p:nvSpPr>
            <p:cNvPr id="749" name=""/>
            <p:cNvSpPr/>
            <p:nvPr/>
          </p:nvSpPr>
          <p:spPr>
            <a:xfrm>
              <a:off x="5275440" y="1973160"/>
              <a:ext cx="114948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aliar impa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83560" y="1973160"/>
              <a:ext cx="117792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r efetiv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378400" y="3876840"/>
            <a:ext cx="2579400" cy="426600"/>
            <a:chOff x="5378400" y="3876840"/>
            <a:chExt cx="2579400" cy="426600"/>
          </a:xfrm>
        </p:grpSpPr>
        <p:sp>
          <p:nvSpPr>
            <p:cNvPr id="752" name=""/>
            <p:cNvSpPr/>
            <p:nvPr/>
          </p:nvSpPr>
          <p:spPr>
            <a:xfrm>
              <a:off x="5378400" y="3876840"/>
              <a:ext cx="89064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ificar ord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72200" y="3876840"/>
              <a:ext cx="8856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ificar ped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053040" y="4432320"/>
            <a:ext cx="122076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car configu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21440" y="5035680"/>
            <a:ext cx="2893680" cy="426600"/>
            <a:chOff x="5221440" y="5035680"/>
            <a:chExt cx="2893680" cy="426600"/>
          </a:xfrm>
        </p:grpSpPr>
        <p:sp>
          <p:nvSpPr>
            <p:cNvPr id="756" name=""/>
            <p:cNvSpPr/>
            <p:nvPr/>
          </p:nvSpPr>
          <p:spPr>
            <a:xfrm>
              <a:off x="5221440" y="5035680"/>
              <a:ext cx="10206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vulgar Mudanç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46680" y="5035680"/>
              <a:ext cx="146844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ompanhar implement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5462640" y="1409760"/>
            <a:ext cx="2390760" cy="2437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r Mud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"/>
          <p:cNvCxnSpPr>
            <a:stCxn id="749" idx="2"/>
            <a:endCxn id="747" idx="1"/>
          </p:cNvCxnSpPr>
          <p:nvPr/>
        </p:nvCxnSpPr>
        <p:spPr>
          <a:xfrm flipH="1" rot="16200000">
            <a:off x="5696640" y="2579760"/>
            <a:ext cx="608760" cy="302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50" idx="2"/>
            <a:endCxn id="747" idx="3"/>
          </p:cNvCxnSpPr>
          <p:nvPr/>
        </p:nvCxnSpPr>
        <p:spPr>
          <a:xfrm rot="5400000">
            <a:off x="7023960" y="2586960"/>
            <a:ext cx="608760" cy="288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9" idx="3"/>
            <a:endCxn id="750" idx="1"/>
          </p:cNvCxnSpPr>
          <p:nvPr/>
        </p:nvCxnSpPr>
        <p:spPr>
          <a:xfrm>
            <a:off x="6433920" y="2195280"/>
            <a:ext cx="440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7" idx="2"/>
            <a:endCxn id="752" idx="0"/>
          </p:cNvCxnSpPr>
          <p:nvPr/>
        </p:nvCxnSpPr>
        <p:spPr>
          <a:xfrm rot="5400000">
            <a:off x="5946120" y="3144600"/>
            <a:ext cx="600840" cy="8452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47" idx="2"/>
            <a:endCxn id="753" idx="0"/>
          </p:cNvCxnSpPr>
          <p:nvPr/>
        </p:nvCxnSpPr>
        <p:spPr>
          <a:xfrm flipH="1" rot="16200000">
            <a:off x="6791040" y="3143520"/>
            <a:ext cx="600840" cy="847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47" idx="2"/>
            <a:endCxn id="754" idx="0"/>
          </p:cNvCxnSpPr>
          <p:nvPr/>
        </p:nvCxnSpPr>
        <p:spPr>
          <a:xfrm flipH="1">
            <a:off x="6663600" y="3267000"/>
            <a:ext cx="5400" cy="1156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57" idx="1"/>
          </p:cNvCxnSpPr>
          <p:nvPr/>
        </p:nvCxnSpPr>
        <p:spPr>
          <a:xfrm>
            <a:off x="6251400" y="5257440"/>
            <a:ext cx="386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6" name=""/>
          <p:cNvCxnSpPr>
            <a:stCxn id="754" idx="1"/>
            <a:endCxn id="756" idx="0"/>
          </p:cNvCxnSpPr>
          <p:nvPr/>
        </p:nvCxnSpPr>
        <p:spPr>
          <a:xfrm flipV="1" rot="10800000">
            <a:off x="5731920" y="4654080"/>
            <a:ext cx="311760" cy="372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7" name=""/>
          <p:cNvSpPr/>
          <p:nvPr/>
        </p:nvSpPr>
        <p:spPr>
          <a:xfrm>
            <a:off x="3560760" y="1641600"/>
            <a:ext cx="1282680" cy="261720"/>
          </a:xfrm>
          <a:custGeom>
            <a:avLst/>
            <a:gdLst/>
            <a:ahLst/>
            <a:rect l="l" t="t" r="r" b="b"/>
            <a:pathLst>
              <a:path w="808" h="165">
                <a:moveTo>
                  <a:pt x="176" y="0"/>
                </a:moveTo>
                <a:lnTo>
                  <a:pt x="0" y="165"/>
                </a:lnTo>
                <a:lnTo>
                  <a:pt x="808" y="165"/>
                </a:lnTo>
                <a:lnTo>
                  <a:pt x="637" y="0"/>
                </a:lnTo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030400" y="1701720"/>
            <a:ext cx="1276200" cy="201600"/>
          </a:xfrm>
          <a:custGeom>
            <a:avLst/>
            <a:gdLst/>
            <a:ahLst/>
            <a:rect l="l" t="t" r="r" b="b"/>
            <a:pathLst>
              <a:path w="804" h="127">
                <a:moveTo>
                  <a:pt x="111" y="0"/>
                </a:moveTo>
                <a:lnTo>
                  <a:pt x="0" y="127"/>
                </a:lnTo>
                <a:lnTo>
                  <a:pt x="804" y="127"/>
                </a:lnTo>
                <a:lnTo>
                  <a:pt x="679" y="46"/>
                </a:lnTo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2960" y="1654200"/>
            <a:ext cx="1282680" cy="249120"/>
          </a:xfrm>
          <a:custGeom>
            <a:avLst/>
            <a:gdLst/>
            <a:ahLst/>
            <a:rect l="l" t="t" r="r" b="b"/>
            <a:pathLst>
              <a:path w="808" h="157">
                <a:moveTo>
                  <a:pt x="49" y="15"/>
                </a:moveTo>
                <a:lnTo>
                  <a:pt x="0" y="157"/>
                </a:lnTo>
                <a:lnTo>
                  <a:pt x="808" y="157"/>
                </a:lnTo>
                <a:lnTo>
                  <a:pt x="73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560760" y="1901880"/>
            <a:ext cx="1282680" cy="36320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30400" y="1901880"/>
            <a:ext cx="1282680" cy="363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46040" y="4019400"/>
            <a:ext cx="11304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icit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200" y="2976480"/>
            <a:ext cx="116208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liar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36680" y="1986120"/>
            <a:ext cx="115092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minhar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95560" y="4019400"/>
            <a:ext cx="115236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s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092320" y="5035680"/>
            <a:ext cx="115884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r Sol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652920" y="2976480"/>
            <a:ext cx="115092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4080" y="1986120"/>
            <a:ext cx="11286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r pl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664080" y="4017960"/>
            <a:ext cx="11286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56160" y="5035680"/>
            <a:ext cx="114444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ov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46040" y="5035680"/>
            <a:ext cx="1130400" cy="426600"/>
            <a:chOff x="446040" y="5035680"/>
            <a:chExt cx="1130400" cy="426600"/>
          </a:xfrm>
        </p:grpSpPr>
        <p:sp>
          <p:nvSpPr>
            <p:cNvPr id="782" name=""/>
            <p:cNvSpPr/>
            <p:nvPr/>
          </p:nvSpPr>
          <p:spPr>
            <a:xfrm>
              <a:off x="474840" y="5330520"/>
              <a:ext cx="142560" cy="129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6040" y="5035680"/>
              <a:ext cx="11304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aminhar Solicit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090880" y="2975040"/>
            <a:ext cx="116352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n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74760" y="1287360"/>
            <a:ext cx="1238040" cy="487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car Mud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38400" y="1287360"/>
            <a:ext cx="1046160" cy="4870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r Mud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07000" y="1409760"/>
            <a:ext cx="819000" cy="24372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"/>
          <p:cNvCxnSpPr>
            <a:stCxn id="785" idx="3"/>
            <a:endCxn id="786" idx="1"/>
          </p:cNvCxnSpPr>
          <p:nvPr/>
        </p:nvCxnSpPr>
        <p:spPr>
          <a:xfrm>
            <a:off x="1622520" y="1541160"/>
            <a:ext cx="506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"/>
          <p:cNvCxnSpPr>
            <a:stCxn id="786" idx="3"/>
            <a:endCxn id="787" idx="1"/>
          </p:cNvCxnSpPr>
          <p:nvPr/>
        </p:nvCxnSpPr>
        <p:spPr>
          <a:xfrm>
            <a:off x="3193920" y="1541160"/>
            <a:ext cx="60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"/>
          <p:cNvCxnSpPr>
            <a:stCxn id="787" idx="3"/>
            <a:endCxn id="758" idx="1"/>
          </p:cNvCxnSpPr>
          <p:nvPr/>
        </p:nvCxnSpPr>
        <p:spPr>
          <a:xfrm>
            <a:off x="4635000" y="154116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1" name=""/>
          <p:cNvSpPr/>
          <p:nvPr/>
        </p:nvSpPr>
        <p:spPr>
          <a:xfrm>
            <a:off x="3892680" y="5837400"/>
            <a:ext cx="1382760" cy="34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qui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"/>
          <p:cNvCxnSpPr>
            <a:stCxn id="774" idx="2"/>
            <a:endCxn id="773" idx="0"/>
          </p:cNvCxnSpPr>
          <p:nvPr/>
        </p:nvCxnSpPr>
        <p:spPr>
          <a:xfrm flipH="1">
            <a:off x="1010880" y="2440080"/>
            <a:ext cx="216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2"/>
            <a:endCxn id="772" idx="0"/>
          </p:cNvCxnSpPr>
          <p:nvPr/>
        </p:nvCxnSpPr>
        <p:spPr>
          <a:xfrm>
            <a:off x="1010880" y="3430440"/>
            <a:ext cx="1080" cy="580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2" idx="2"/>
            <a:endCxn id="783" idx="0"/>
          </p:cNvCxnSpPr>
          <p:nvPr/>
        </p:nvCxnSpPr>
        <p:spPr>
          <a:xfrm>
            <a:off x="1010880" y="4473720"/>
            <a:ext cx="108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3" idx="3"/>
            <a:endCxn id="775" idx="1"/>
          </p:cNvCxnSpPr>
          <p:nvPr/>
        </p:nvCxnSpPr>
        <p:spPr>
          <a:xfrm flipV="1">
            <a:off x="1585440" y="4241520"/>
            <a:ext cx="500760" cy="1016640"/>
          </a:xfrm>
          <a:prstGeom prst="bentConnector3">
            <a:avLst>
              <a:gd name="adj1" fmla="val 497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75" idx="0"/>
            <a:endCxn id="784" idx="2"/>
          </p:cNvCxnSpPr>
          <p:nvPr/>
        </p:nvCxnSpPr>
        <p:spPr>
          <a:xfrm flipV="1">
            <a:off x="2671920" y="3429000"/>
            <a:ext cx="216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75" idx="2"/>
            <a:endCxn id="776" idx="0"/>
          </p:cNvCxnSpPr>
          <p:nvPr/>
        </p:nvCxnSpPr>
        <p:spPr>
          <a:xfrm>
            <a:off x="2671560" y="4473720"/>
            <a:ext cx="108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8" name=""/>
          <p:cNvCxnSpPr>
            <a:stCxn id="784" idx="3"/>
            <a:endCxn id="777" idx="1"/>
          </p:cNvCxnSpPr>
          <p:nvPr/>
        </p:nvCxnSpPr>
        <p:spPr>
          <a:xfrm>
            <a:off x="3263760" y="3196800"/>
            <a:ext cx="3801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9" name=""/>
          <p:cNvCxnSpPr>
            <a:stCxn id="778" idx="2"/>
            <a:endCxn id="777" idx="0"/>
          </p:cNvCxnSpPr>
          <p:nvPr/>
        </p:nvCxnSpPr>
        <p:spPr>
          <a:xfrm>
            <a:off x="4228920" y="2440080"/>
            <a:ext cx="108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0" name=""/>
          <p:cNvCxnSpPr>
            <a:stCxn id="777" idx="2"/>
            <a:endCxn id="779" idx="0"/>
          </p:cNvCxnSpPr>
          <p:nvPr/>
        </p:nvCxnSpPr>
        <p:spPr>
          <a:xfrm>
            <a:off x="4228920" y="3430440"/>
            <a:ext cx="1080" cy="57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1" name=""/>
          <p:cNvCxnSpPr>
            <a:stCxn id="779" idx="2"/>
            <a:endCxn id="780" idx="0"/>
          </p:cNvCxnSpPr>
          <p:nvPr/>
        </p:nvCxnSpPr>
        <p:spPr>
          <a:xfrm>
            <a:off x="4228920" y="4473720"/>
            <a:ext cx="108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2" name=""/>
          <p:cNvCxnSpPr>
            <a:stCxn id="780" idx="3"/>
            <a:endCxn id="749" idx="1"/>
          </p:cNvCxnSpPr>
          <p:nvPr/>
        </p:nvCxnSpPr>
        <p:spPr>
          <a:xfrm flipV="1">
            <a:off x="4809960" y="2195280"/>
            <a:ext cx="456480" cy="3062880"/>
          </a:xfrm>
          <a:prstGeom prst="bentConnector3">
            <a:avLst>
              <a:gd name="adj1" fmla="val 498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"/>
          <p:cNvSpPr/>
          <p:nvPr/>
        </p:nvSpPr>
        <p:spPr>
          <a:xfrm>
            <a:off x="428760" y="6234120"/>
            <a:ext cx="4735440" cy="282600"/>
          </a:xfrm>
          <a:custGeom>
            <a:avLst/>
            <a:gdLst>
              <a:gd name="textAreaLeft" fmla="*/ 0 w 4735440"/>
              <a:gd name="textAreaRight" fmla="*/ 4735440 w 4735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11" y="0"/>
                </a:lnTo>
                <a:lnTo>
                  <a:pt x="21600" y="10800"/>
                </a:lnTo>
                <a:lnTo>
                  <a:pt x="21111" y="21600"/>
                </a:lnTo>
                <a:lnTo>
                  <a:pt x="0" y="21600"/>
                </a:lnTo>
                <a:lnTo>
                  <a:pt x="489" y="10800"/>
                </a:lnTo>
                <a:close/>
              </a:path>
            </a:pathLst>
          </a:custGeom>
          <a:solidFill>
            <a:srgbClr val="99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nvolvimen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36680" y="6589800"/>
            <a:ext cx="4740120" cy="239760"/>
          </a:xfrm>
          <a:custGeom>
            <a:avLst/>
            <a:gdLst>
              <a:gd name="textAreaLeft" fmla="*/ 0 w 4740120"/>
              <a:gd name="textAreaRight" fmla="*/ 4740480 w 47401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7" y="0"/>
                </a:lnTo>
                <a:lnTo>
                  <a:pt x="21600" y="10800"/>
                </a:lnTo>
                <a:lnTo>
                  <a:pt x="21187" y="21600"/>
                </a:lnTo>
                <a:lnTo>
                  <a:pt x="0" y="21600"/>
                </a:lnTo>
                <a:lnTo>
                  <a:pt x="413" y="10800"/>
                </a:lnTo>
                <a:close/>
              </a:path>
            </a:pathLst>
          </a:custGeom>
          <a:solidFill>
            <a:srgbClr val="ffcc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ós- Desenvolv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16200000">
            <a:off x="7234200" y="2864880"/>
            <a:ext cx="2733480" cy="225360"/>
          </a:xfrm>
          <a:prstGeom prst="rect">
            <a:avLst/>
          </a:prstGeom>
          <a:solidFill>
            <a:srgbClr val="ffcc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16200000">
            <a:off x="6954840" y="3441240"/>
            <a:ext cx="3895560" cy="225360"/>
          </a:xfrm>
          <a:prstGeom prst="rect">
            <a:avLst/>
          </a:prstGeom>
          <a:solidFill>
            <a:srgbClr val="ffcc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to em ca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2203560"/>
            <a:ext cx="4748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4243320"/>
            <a:ext cx="4748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rot="16200000">
            <a:off x="7372440" y="2438280"/>
            <a:ext cx="1882800" cy="225360"/>
          </a:xfrm>
          <a:prstGeom prst="rect">
            <a:avLst/>
          </a:prstGeom>
          <a:solidFill>
            <a:srgbClr val="99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885080" y="1099800"/>
            <a:ext cx="1258920" cy="41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rangência de apl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"/>
          <p:cNvCxnSpPr>
            <a:stCxn id="783" idx="2"/>
            <a:endCxn id="779" idx="1"/>
          </p:cNvCxnSpPr>
          <p:nvPr/>
        </p:nvCxnSpPr>
        <p:spPr>
          <a:xfrm flipH="1" flipV="1" rot="5400000">
            <a:off x="1708560" y="3543840"/>
            <a:ext cx="1248480" cy="2643840"/>
          </a:xfrm>
          <a:prstGeom prst="bentConnector4">
            <a:avLst>
              <a:gd name="adj1" fmla="val -30025"/>
              <a:gd name="adj2" fmla="val 91883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12" name=""/>
          <p:cNvSpPr/>
          <p:nvPr/>
        </p:nvSpPr>
        <p:spPr>
          <a:xfrm>
            <a:off x="2975400" y="890640"/>
            <a:ext cx="1106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 cri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84800" y="890640"/>
            <a:ext cx="1371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 apro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"/>
          <p:cNvCxnSpPr>
            <a:stCxn id="812" idx="2"/>
          </p:cNvCxnSpPr>
          <p:nvPr/>
        </p:nvCxnSpPr>
        <p:spPr>
          <a:xfrm flipH="1">
            <a:off x="3474720" y="1139760"/>
            <a:ext cx="5472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815" name=""/>
          <p:cNvCxnSpPr>
            <a:stCxn id="813" idx="2"/>
          </p:cNvCxnSpPr>
          <p:nvPr/>
        </p:nvCxnSpPr>
        <p:spPr>
          <a:xfrm flipH="1">
            <a:off x="4978080" y="1139760"/>
            <a:ext cx="92880" cy="39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"/>
          <p:cNvSpPr/>
          <p:nvPr/>
        </p:nvSpPr>
        <p:spPr>
          <a:xfrm>
            <a:off x="1311120" y="5608800"/>
            <a:ext cx="205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R aprovado (simp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72760" y="4572000"/>
            <a:ext cx="960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R cri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8" name=""/>
          <p:cNvCxnSpPr>
            <a:stCxn id="782" idx="2"/>
            <a:endCxn id="791" idx="2"/>
          </p:cNvCxnSpPr>
          <p:nvPr/>
        </p:nvCxnSpPr>
        <p:spPr>
          <a:xfrm flipH="1" rot="16200000">
            <a:off x="1944000" y="4062240"/>
            <a:ext cx="551520" cy="33472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9" name=""/>
          <p:cNvSpPr/>
          <p:nvPr/>
        </p:nvSpPr>
        <p:spPr>
          <a:xfrm>
            <a:off x="1207440" y="901800"/>
            <a:ext cx="1482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R em aná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/>
          <p:nvPr/>
        </p:nvCxnSpPr>
        <p:spPr>
          <a:xfrm flipH="1">
            <a:off x="1833120" y="1138320"/>
            <a:ext cx="5472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821" name=""/>
          <p:cNvSpPr/>
          <p:nvPr/>
        </p:nvSpPr>
        <p:spPr>
          <a:xfrm>
            <a:off x="2234520" y="3606480"/>
            <a:ext cx="9410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CR pla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274480" y="4635000"/>
            <a:ext cx="8236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R a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8160" y="5888160"/>
            <a:ext cx="1296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R repro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5143680" y="1901880"/>
            <a:ext cx="3016080" cy="3632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214960" y="5029200"/>
            <a:ext cx="2893680" cy="426600"/>
            <a:chOff x="5214960" y="5029200"/>
            <a:chExt cx="2893680" cy="426600"/>
          </a:xfrm>
        </p:grpSpPr>
        <p:sp>
          <p:nvSpPr>
            <p:cNvPr id="826" name=""/>
            <p:cNvSpPr/>
            <p:nvPr/>
          </p:nvSpPr>
          <p:spPr>
            <a:xfrm>
              <a:off x="5214960" y="5029200"/>
              <a:ext cx="10206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vulgar Mudanç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40200" y="5029200"/>
              <a:ext cx="146844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ompanhar implement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8" name=""/>
          <p:cNvCxnSpPr>
            <a:stCxn id="826" idx="3"/>
            <a:endCxn id="827" idx="1"/>
          </p:cNvCxnSpPr>
          <p:nvPr/>
        </p:nvCxnSpPr>
        <p:spPr>
          <a:xfrm>
            <a:off x="6244920" y="5250960"/>
            <a:ext cx="38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Fases e atividades do processo de gerenciamento de mudanças de engenharia (ECM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69720" y="1901880"/>
            <a:ext cx="1283040" cy="3632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143680" y="1628640"/>
            <a:ext cx="3009600" cy="281160"/>
          </a:xfrm>
          <a:custGeom>
            <a:avLst/>
            <a:gdLst/>
            <a:ahLst/>
            <a:rect l="l" t="t" r="r" b="b"/>
            <a:pathLst>
              <a:path w="1896" h="177">
                <a:moveTo>
                  <a:pt x="247" y="8"/>
                </a:moveTo>
                <a:lnTo>
                  <a:pt x="0" y="177"/>
                </a:lnTo>
                <a:lnTo>
                  <a:pt x="1896" y="177"/>
                </a:lnTo>
                <a:lnTo>
                  <a:pt x="1644" y="0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161040" y="2813040"/>
            <a:ext cx="101448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er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275440" y="1973160"/>
            <a:ext cx="2786040" cy="426600"/>
            <a:chOff x="5275440" y="1973160"/>
            <a:chExt cx="2786040" cy="426600"/>
          </a:xfrm>
        </p:grpSpPr>
        <p:sp>
          <p:nvSpPr>
            <p:cNvPr id="834" name=""/>
            <p:cNvSpPr/>
            <p:nvPr/>
          </p:nvSpPr>
          <p:spPr>
            <a:xfrm>
              <a:off x="5275440" y="1973160"/>
              <a:ext cx="114948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aliar impa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83560" y="1973160"/>
              <a:ext cx="117792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r efetiv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378400" y="3876840"/>
            <a:ext cx="2579400" cy="426600"/>
            <a:chOff x="5378400" y="3876840"/>
            <a:chExt cx="2579400" cy="426600"/>
          </a:xfrm>
        </p:grpSpPr>
        <p:sp>
          <p:nvSpPr>
            <p:cNvPr id="837" name=""/>
            <p:cNvSpPr/>
            <p:nvPr/>
          </p:nvSpPr>
          <p:spPr>
            <a:xfrm>
              <a:off x="5378400" y="3876840"/>
              <a:ext cx="89064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ificar ord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72200" y="3876840"/>
              <a:ext cx="8856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ificar ped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6053040" y="4432320"/>
            <a:ext cx="122076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car configu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62640" y="1409760"/>
            <a:ext cx="2390760" cy="2437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r Mud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"/>
          <p:cNvCxnSpPr>
            <a:stCxn id="834" idx="2"/>
            <a:endCxn id="832" idx="1"/>
          </p:cNvCxnSpPr>
          <p:nvPr/>
        </p:nvCxnSpPr>
        <p:spPr>
          <a:xfrm flipH="1" rot="16200000">
            <a:off x="5696640" y="2579760"/>
            <a:ext cx="608760" cy="302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835" idx="2"/>
            <a:endCxn id="832" idx="3"/>
          </p:cNvCxnSpPr>
          <p:nvPr/>
        </p:nvCxnSpPr>
        <p:spPr>
          <a:xfrm rot="5400000">
            <a:off x="7023960" y="2586960"/>
            <a:ext cx="608760" cy="288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834" idx="3"/>
            <a:endCxn id="835" idx="1"/>
          </p:cNvCxnSpPr>
          <p:nvPr/>
        </p:nvCxnSpPr>
        <p:spPr>
          <a:xfrm>
            <a:off x="6433920" y="2195280"/>
            <a:ext cx="440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32" idx="2"/>
            <a:endCxn id="837" idx="0"/>
          </p:cNvCxnSpPr>
          <p:nvPr/>
        </p:nvCxnSpPr>
        <p:spPr>
          <a:xfrm rot="5400000">
            <a:off x="5946120" y="3144600"/>
            <a:ext cx="600840" cy="8452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32" idx="2"/>
            <a:endCxn id="838" idx="0"/>
          </p:cNvCxnSpPr>
          <p:nvPr/>
        </p:nvCxnSpPr>
        <p:spPr>
          <a:xfrm flipH="1" rot="16200000">
            <a:off x="6791040" y="3143520"/>
            <a:ext cx="600840" cy="847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32" idx="2"/>
            <a:endCxn id="839" idx="0"/>
          </p:cNvCxnSpPr>
          <p:nvPr/>
        </p:nvCxnSpPr>
        <p:spPr>
          <a:xfrm flipH="1">
            <a:off x="6663600" y="3267000"/>
            <a:ext cx="5400" cy="1156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39" idx="1"/>
          </p:cNvCxnSpPr>
          <p:nvPr/>
        </p:nvCxnSpPr>
        <p:spPr>
          <a:xfrm flipV="1" rot="10800000">
            <a:off x="5731920" y="4654080"/>
            <a:ext cx="311760" cy="372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8" name=""/>
          <p:cNvSpPr/>
          <p:nvPr/>
        </p:nvSpPr>
        <p:spPr>
          <a:xfrm>
            <a:off x="3560760" y="1641600"/>
            <a:ext cx="1282680" cy="261720"/>
          </a:xfrm>
          <a:custGeom>
            <a:avLst/>
            <a:gdLst/>
            <a:ahLst/>
            <a:rect l="l" t="t" r="r" b="b"/>
            <a:pathLst>
              <a:path w="808" h="165">
                <a:moveTo>
                  <a:pt x="176" y="0"/>
                </a:moveTo>
                <a:lnTo>
                  <a:pt x="0" y="165"/>
                </a:lnTo>
                <a:lnTo>
                  <a:pt x="808" y="165"/>
                </a:lnTo>
                <a:lnTo>
                  <a:pt x="637" y="0"/>
                </a:lnTo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030400" y="1701720"/>
            <a:ext cx="1276200" cy="201600"/>
          </a:xfrm>
          <a:custGeom>
            <a:avLst/>
            <a:gdLst/>
            <a:ahLst/>
            <a:rect l="l" t="t" r="r" b="b"/>
            <a:pathLst>
              <a:path w="804" h="127">
                <a:moveTo>
                  <a:pt x="111" y="0"/>
                </a:moveTo>
                <a:lnTo>
                  <a:pt x="0" y="127"/>
                </a:lnTo>
                <a:lnTo>
                  <a:pt x="804" y="127"/>
                </a:lnTo>
                <a:lnTo>
                  <a:pt x="679" y="46"/>
                </a:lnTo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72960" y="1654200"/>
            <a:ext cx="1282680" cy="249120"/>
          </a:xfrm>
          <a:custGeom>
            <a:avLst/>
            <a:gdLst/>
            <a:ahLst/>
            <a:rect l="l" t="t" r="r" b="b"/>
            <a:pathLst>
              <a:path w="808" h="157">
                <a:moveTo>
                  <a:pt x="49" y="15"/>
                </a:moveTo>
                <a:lnTo>
                  <a:pt x="0" y="157"/>
                </a:lnTo>
                <a:lnTo>
                  <a:pt x="808" y="157"/>
                </a:lnTo>
                <a:lnTo>
                  <a:pt x="73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560760" y="1901880"/>
            <a:ext cx="1282680" cy="36320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30400" y="1901880"/>
            <a:ext cx="1282680" cy="363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46040" y="4019400"/>
            <a:ext cx="11304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icit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30200" y="2976480"/>
            <a:ext cx="116208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liar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36680" y="1986120"/>
            <a:ext cx="115092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minhar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095560" y="4019400"/>
            <a:ext cx="115236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s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092320" y="5035680"/>
            <a:ext cx="115884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r Sol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52920" y="2976480"/>
            <a:ext cx="115092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64080" y="1986120"/>
            <a:ext cx="11286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r pl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664080" y="4017960"/>
            <a:ext cx="11286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56160" y="5035680"/>
            <a:ext cx="114444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ov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446040" y="5035680"/>
            <a:ext cx="1130400" cy="426600"/>
            <a:chOff x="446040" y="5035680"/>
            <a:chExt cx="1130400" cy="426600"/>
          </a:xfrm>
        </p:grpSpPr>
        <p:sp>
          <p:nvSpPr>
            <p:cNvPr id="863" name=""/>
            <p:cNvSpPr/>
            <p:nvPr/>
          </p:nvSpPr>
          <p:spPr>
            <a:xfrm>
              <a:off x="474840" y="5330520"/>
              <a:ext cx="142560" cy="129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6040" y="5035680"/>
              <a:ext cx="11304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aminhar Solicit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2090880" y="2975040"/>
            <a:ext cx="116352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nar Mud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4760" y="1287360"/>
            <a:ext cx="1238040" cy="487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car Mud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138400" y="1287360"/>
            <a:ext cx="1046160" cy="4870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r Mud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807000" y="1409760"/>
            <a:ext cx="819000" cy="24372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6" idx="3"/>
            <a:endCxn id="867" idx="1"/>
          </p:cNvCxnSpPr>
          <p:nvPr/>
        </p:nvCxnSpPr>
        <p:spPr>
          <a:xfrm>
            <a:off x="1622520" y="1541160"/>
            <a:ext cx="506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67" idx="3"/>
            <a:endCxn id="868" idx="1"/>
          </p:cNvCxnSpPr>
          <p:nvPr/>
        </p:nvCxnSpPr>
        <p:spPr>
          <a:xfrm>
            <a:off x="3193920" y="1541160"/>
            <a:ext cx="60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1" name=""/>
          <p:cNvCxnSpPr>
            <a:stCxn id="868" idx="3"/>
            <a:endCxn id="840" idx="1"/>
          </p:cNvCxnSpPr>
          <p:nvPr/>
        </p:nvCxnSpPr>
        <p:spPr>
          <a:xfrm>
            <a:off x="4635000" y="154116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"/>
          <p:cNvCxnSpPr>
            <a:stCxn id="855" idx="2"/>
            <a:endCxn id="854" idx="0"/>
          </p:cNvCxnSpPr>
          <p:nvPr/>
        </p:nvCxnSpPr>
        <p:spPr>
          <a:xfrm flipH="1">
            <a:off x="1010880" y="2440080"/>
            <a:ext cx="216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3" name=""/>
          <p:cNvCxnSpPr>
            <a:stCxn id="854" idx="2"/>
            <a:endCxn id="853" idx="0"/>
          </p:cNvCxnSpPr>
          <p:nvPr/>
        </p:nvCxnSpPr>
        <p:spPr>
          <a:xfrm>
            <a:off x="1010880" y="3430440"/>
            <a:ext cx="1080" cy="580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53" idx="2"/>
            <a:endCxn id="864" idx="0"/>
          </p:cNvCxnSpPr>
          <p:nvPr/>
        </p:nvCxnSpPr>
        <p:spPr>
          <a:xfrm>
            <a:off x="1010880" y="4473720"/>
            <a:ext cx="108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64" idx="3"/>
            <a:endCxn id="856" idx="1"/>
          </p:cNvCxnSpPr>
          <p:nvPr/>
        </p:nvCxnSpPr>
        <p:spPr>
          <a:xfrm flipV="1">
            <a:off x="1585440" y="4241520"/>
            <a:ext cx="500760" cy="1016640"/>
          </a:xfrm>
          <a:prstGeom prst="bentConnector3">
            <a:avLst>
              <a:gd name="adj1" fmla="val 497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56" idx="0"/>
            <a:endCxn id="865" idx="2"/>
          </p:cNvCxnSpPr>
          <p:nvPr/>
        </p:nvCxnSpPr>
        <p:spPr>
          <a:xfrm flipV="1">
            <a:off x="2671920" y="3429000"/>
            <a:ext cx="216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56" idx="2"/>
            <a:endCxn id="857" idx="0"/>
          </p:cNvCxnSpPr>
          <p:nvPr/>
        </p:nvCxnSpPr>
        <p:spPr>
          <a:xfrm>
            <a:off x="2671560" y="4473720"/>
            <a:ext cx="108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78" name=""/>
          <p:cNvCxnSpPr>
            <a:stCxn id="865" idx="3"/>
            <a:endCxn id="858" idx="1"/>
          </p:cNvCxnSpPr>
          <p:nvPr/>
        </p:nvCxnSpPr>
        <p:spPr>
          <a:xfrm>
            <a:off x="3263760" y="3196800"/>
            <a:ext cx="3801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"/>
          <p:cNvCxnSpPr>
            <a:stCxn id="859" idx="2"/>
            <a:endCxn id="858" idx="0"/>
          </p:cNvCxnSpPr>
          <p:nvPr/>
        </p:nvCxnSpPr>
        <p:spPr>
          <a:xfrm>
            <a:off x="4228920" y="2440080"/>
            <a:ext cx="108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80" name=""/>
          <p:cNvCxnSpPr>
            <a:stCxn id="858" idx="2"/>
            <a:endCxn id="860" idx="0"/>
          </p:cNvCxnSpPr>
          <p:nvPr/>
        </p:nvCxnSpPr>
        <p:spPr>
          <a:xfrm>
            <a:off x="4228920" y="3430440"/>
            <a:ext cx="1080" cy="57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1" name=""/>
          <p:cNvCxnSpPr>
            <a:stCxn id="860" idx="2"/>
            <a:endCxn id="861" idx="0"/>
          </p:cNvCxnSpPr>
          <p:nvPr/>
        </p:nvCxnSpPr>
        <p:spPr>
          <a:xfrm>
            <a:off x="4228920" y="4473720"/>
            <a:ext cx="108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2" name=""/>
          <p:cNvCxnSpPr>
            <a:stCxn id="861" idx="3"/>
            <a:endCxn id="834" idx="1"/>
          </p:cNvCxnSpPr>
          <p:nvPr/>
        </p:nvCxnSpPr>
        <p:spPr>
          <a:xfrm flipV="1">
            <a:off x="4809960" y="2195280"/>
            <a:ext cx="456480" cy="3062880"/>
          </a:xfrm>
          <a:prstGeom prst="bentConnector3">
            <a:avLst>
              <a:gd name="adj1" fmla="val 498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3" name=""/>
          <p:cNvSpPr/>
          <p:nvPr/>
        </p:nvSpPr>
        <p:spPr>
          <a:xfrm rot="16200000">
            <a:off x="7234200" y="2864880"/>
            <a:ext cx="2733480" cy="225360"/>
          </a:xfrm>
          <a:prstGeom prst="rect">
            <a:avLst/>
          </a:prstGeom>
          <a:solidFill>
            <a:srgbClr val="ffcc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rot="16200000">
            <a:off x="6954840" y="3441240"/>
            <a:ext cx="3895560" cy="225360"/>
          </a:xfrm>
          <a:prstGeom prst="rect">
            <a:avLst/>
          </a:prstGeom>
          <a:solidFill>
            <a:srgbClr val="ffcc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to em ca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2203560"/>
            <a:ext cx="4748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4243320"/>
            <a:ext cx="4748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rot="16200000">
            <a:off x="7372440" y="2438280"/>
            <a:ext cx="1882800" cy="225360"/>
          </a:xfrm>
          <a:prstGeom prst="rect">
            <a:avLst/>
          </a:prstGeom>
          <a:solidFill>
            <a:srgbClr val="99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885080" y="1099800"/>
            <a:ext cx="1258920" cy="41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rangência de apl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"/>
          <p:cNvCxnSpPr>
            <a:stCxn id="864" idx="2"/>
            <a:endCxn id="860" idx="1"/>
          </p:cNvCxnSpPr>
          <p:nvPr/>
        </p:nvCxnSpPr>
        <p:spPr>
          <a:xfrm flipH="1" flipV="1" rot="5400000">
            <a:off x="1708560" y="3543840"/>
            <a:ext cx="1248480" cy="2643840"/>
          </a:xfrm>
          <a:prstGeom prst="bentConnector4">
            <a:avLst>
              <a:gd name="adj1" fmla="val -30025"/>
              <a:gd name="adj2" fmla="val 91883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90" name=""/>
          <p:cNvSpPr/>
          <p:nvPr/>
        </p:nvSpPr>
        <p:spPr>
          <a:xfrm>
            <a:off x="2975400" y="890640"/>
            <a:ext cx="1106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 cri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384800" y="890640"/>
            <a:ext cx="1371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 apro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2" name=""/>
          <p:cNvCxnSpPr>
            <a:stCxn id="890" idx="2"/>
          </p:cNvCxnSpPr>
          <p:nvPr/>
        </p:nvCxnSpPr>
        <p:spPr>
          <a:xfrm flipH="1">
            <a:off x="3474720" y="1139760"/>
            <a:ext cx="5472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893" name=""/>
          <p:cNvCxnSpPr>
            <a:stCxn id="891" idx="2"/>
          </p:cNvCxnSpPr>
          <p:nvPr/>
        </p:nvCxnSpPr>
        <p:spPr>
          <a:xfrm flipH="1">
            <a:off x="4978080" y="1139760"/>
            <a:ext cx="92880" cy="39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894" name=""/>
          <p:cNvSpPr/>
          <p:nvPr/>
        </p:nvSpPr>
        <p:spPr>
          <a:xfrm>
            <a:off x="572760" y="4572000"/>
            <a:ext cx="960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R cri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07440" y="901800"/>
            <a:ext cx="1482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R em aná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"/>
          <p:cNvCxnSpPr/>
          <p:nvPr/>
        </p:nvCxnSpPr>
        <p:spPr>
          <a:xfrm flipH="1">
            <a:off x="1833120" y="1138320"/>
            <a:ext cx="5472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897" name=""/>
          <p:cNvSpPr/>
          <p:nvPr/>
        </p:nvSpPr>
        <p:spPr>
          <a:xfrm>
            <a:off x="2234520" y="3606480"/>
            <a:ext cx="9410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CR pla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274480" y="4635000"/>
            <a:ext cx="8236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R a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04720" y="6186600"/>
            <a:ext cx="431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3280" y="6624720"/>
            <a:ext cx="773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098160" y="583236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848120" y="621360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o 2, 3 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796000" y="3502080"/>
            <a:ext cx="230976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6153120" y="4246560"/>
            <a:ext cx="2417760" cy="20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6710400" y="5192640"/>
            <a:ext cx="2185920" cy="11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03960" y="26352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cessos de apo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apítulo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0520" y="4273560"/>
            <a:ext cx="4765680" cy="1746360"/>
            <a:chOff x="290520" y="4273560"/>
            <a:chExt cx="4765680" cy="1746360"/>
          </a:xfrm>
        </p:grpSpPr>
        <p:sp>
          <p:nvSpPr>
            <p:cNvPr id="102" name=""/>
            <p:cNvSpPr/>
            <p:nvPr/>
          </p:nvSpPr>
          <p:spPr>
            <a:xfrm>
              <a:off x="1690560" y="5545080"/>
              <a:ext cx="3183120" cy="284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60280" y="5462640"/>
              <a:ext cx="579600" cy="98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8520" y="5462640"/>
              <a:ext cx="581040" cy="98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38560" y="5462640"/>
              <a:ext cx="580680" cy="98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78240" y="5462640"/>
              <a:ext cx="581040" cy="98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440" y="4273560"/>
              <a:ext cx="4697280" cy="1166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55480" y="4351320"/>
              <a:ext cx="2167200" cy="155520"/>
            </a:xfrm>
            <a:custGeom>
              <a:avLst/>
              <a:gdLst>
                <a:gd name="textAreaLeft" fmla="*/ 0 w 2167200"/>
                <a:gd name="textAreaRight" fmla="*/ 2167560 w 216720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09720" y="4351320"/>
              <a:ext cx="1386000" cy="155520"/>
            </a:xfrm>
            <a:custGeom>
              <a:avLst/>
              <a:gdLst>
                <a:gd name="textAreaLeft" fmla="*/ 0 w 1386000"/>
                <a:gd name="textAreaRight" fmla="*/ 1386360 w 138600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30720" y="437040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81360" y="4395960"/>
              <a:ext cx="136440" cy="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4400" y="4351320"/>
              <a:ext cx="1109880" cy="155520"/>
            </a:xfrm>
            <a:custGeom>
              <a:avLst/>
              <a:gdLst>
                <a:gd name="textAreaLeft" fmla="*/ 0 w 1109880"/>
                <a:gd name="textAreaRight" fmla="*/ 1110240 w 110988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8600" y="4370400"/>
              <a:ext cx="14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2320" y="4545000"/>
              <a:ext cx="696960" cy="4111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4960" y="4535640"/>
              <a:ext cx="657360" cy="4330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62320" y="4535640"/>
              <a:ext cx="665280" cy="433080"/>
            </a:xfrm>
            <a:custGeom>
              <a:avLst/>
              <a:gdLst>
                <a:gd name="textAreaLeft" fmla="*/ 0 w 665280"/>
                <a:gd name="textAreaRight" fmla="*/ 665280 w 6652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49600" y="4568760"/>
              <a:ext cx="663480" cy="43344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22800" y="4568760"/>
              <a:ext cx="663480" cy="43344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05240" y="4589280"/>
              <a:ext cx="701640" cy="43344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01800" y="4589280"/>
              <a:ext cx="731880" cy="43344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546200" y="4527000"/>
              <a:ext cx="372960" cy="21420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922400" y="4527000"/>
              <a:ext cx="372960" cy="21420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300040" y="4527000"/>
              <a:ext cx="373320" cy="2142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676240" y="4527000"/>
              <a:ext cx="373320" cy="2142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054240" y="4527000"/>
              <a:ext cx="372960" cy="21420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625400" y="4607640"/>
              <a:ext cx="373320" cy="212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01600" y="4607640"/>
              <a:ext cx="373320" cy="212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379600" y="460764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55800" y="460764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133440" y="4607640"/>
              <a:ext cx="373320" cy="212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704960" y="468720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081160" y="468720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458800" y="4687200"/>
              <a:ext cx="373320" cy="212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835000" y="4687200"/>
              <a:ext cx="373320" cy="212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213000" y="468720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03040" y="4549680"/>
              <a:ext cx="338400" cy="19224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82600" y="4629240"/>
              <a:ext cx="338040" cy="1918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61800" y="4708440"/>
              <a:ext cx="338400" cy="19224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79560" y="5195880"/>
              <a:ext cx="1146240" cy="1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"/>
            <p:cNvCxnSpPr>
              <a:stCxn id="139" idx="0"/>
            </p:cNvCxnSpPr>
            <p:nvPr/>
          </p:nvCxnSpPr>
          <p:spPr>
            <a:xfrm flipH="1" flipV="1">
              <a:off x="1934640" y="4917960"/>
              <a:ext cx="51840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39" idx="0"/>
            </p:cNvCxnSpPr>
            <p:nvPr/>
          </p:nvCxnSpPr>
          <p:spPr>
            <a:xfrm flipH="1" flipV="1">
              <a:off x="2380320" y="4917960"/>
              <a:ext cx="7236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2" name=""/>
            <p:cNvCxnSpPr>
              <a:stCxn id="139" idx="0"/>
            </p:cNvCxnSpPr>
            <p:nvPr/>
          </p:nvCxnSpPr>
          <p:spPr>
            <a:xfrm flipV="1">
              <a:off x="2452320" y="4917960"/>
              <a:ext cx="32436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39" idx="0"/>
            </p:cNvCxnSpPr>
            <p:nvPr/>
          </p:nvCxnSpPr>
          <p:spPr>
            <a:xfrm flipV="1">
              <a:off x="2452680" y="4917960"/>
              <a:ext cx="72936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4" name=""/>
            <p:cNvCxnSpPr>
              <a:stCxn id="139" idx="0"/>
            </p:cNvCxnSpPr>
            <p:nvPr/>
          </p:nvCxnSpPr>
          <p:spPr>
            <a:xfrm flipV="1">
              <a:off x="2452680" y="4917960"/>
              <a:ext cx="114984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5" name=""/>
            <p:cNvCxnSpPr>
              <a:stCxn id="139" idx="0"/>
            </p:cNvCxnSpPr>
            <p:nvPr/>
          </p:nvCxnSpPr>
          <p:spPr>
            <a:xfrm flipH="1" flipV="1">
              <a:off x="1440720" y="4909680"/>
              <a:ext cx="1011960" cy="28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46" name=""/>
            <p:cNvSpPr/>
            <p:nvPr/>
          </p:nvSpPr>
          <p:spPr>
            <a:xfrm>
              <a:off x="290520" y="4273560"/>
              <a:ext cx="4765680" cy="1746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0920" y="5735520"/>
              <a:ext cx="4119480" cy="284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8520" y="1849320"/>
            <a:ext cx="4765680" cy="1746360"/>
            <a:chOff x="128520" y="1849320"/>
            <a:chExt cx="4765680" cy="1746360"/>
          </a:xfrm>
        </p:grpSpPr>
        <p:sp>
          <p:nvSpPr>
            <p:cNvPr id="149" name=""/>
            <p:cNvSpPr/>
            <p:nvPr/>
          </p:nvSpPr>
          <p:spPr>
            <a:xfrm>
              <a:off x="752400" y="3311640"/>
              <a:ext cx="411948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31760" y="3038400"/>
              <a:ext cx="579240" cy="98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0000" y="3038400"/>
              <a:ext cx="581040" cy="98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09680" y="3038400"/>
              <a:ext cx="581040" cy="98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49360" y="3038400"/>
              <a:ext cx="581040" cy="98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560" y="1849320"/>
              <a:ext cx="4697640" cy="1166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26960" y="1927080"/>
              <a:ext cx="2166840" cy="155880"/>
            </a:xfrm>
            <a:custGeom>
              <a:avLst/>
              <a:gdLst>
                <a:gd name="textAreaLeft" fmla="*/ 0 w 2166840"/>
                <a:gd name="textAreaRight" fmla="*/ 2167200 w 21668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1200" y="1927080"/>
              <a:ext cx="1386000" cy="155880"/>
            </a:xfrm>
            <a:custGeom>
              <a:avLst/>
              <a:gdLst>
                <a:gd name="textAreaLeft" fmla="*/ 0 w 1386000"/>
                <a:gd name="textAreaRight" fmla="*/ 1386360 w 13860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01840" y="1946160"/>
              <a:ext cx="1429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52840" y="1971720"/>
              <a:ext cx="136440" cy="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5880" y="1927080"/>
              <a:ext cx="1109520" cy="155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0080" y="1946160"/>
              <a:ext cx="141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3800" y="2120760"/>
              <a:ext cx="696960" cy="411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76440" y="2111400"/>
              <a:ext cx="657360" cy="43344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33800" y="2111400"/>
              <a:ext cx="664920" cy="43344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0720" y="2144880"/>
              <a:ext cx="663840" cy="4330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3920" y="2144880"/>
              <a:ext cx="663480" cy="433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76360" y="2165400"/>
              <a:ext cx="702000" cy="43344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73280" y="2165400"/>
              <a:ext cx="731880" cy="43344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417320" y="2102760"/>
              <a:ext cx="373320" cy="2142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793520" y="2102760"/>
              <a:ext cx="373320" cy="2142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71520" y="2102760"/>
              <a:ext cx="372960" cy="21420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547720" y="2102760"/>
              <a:ext cx="372960" cy="21420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925720" y="2102760"/>
              <a:ext cx="372960" cy="21420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4200"/>
                <a:gd name="textAreaBottom" fmla="*/ 21420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496880" y="218376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873080" y="218376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250720" y="2183760"/>
              <a:ext cx="373320" cy="212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627280" y="218376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04920" y="218376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76080" y="2262960"/>
              <a:ext cx="373320" cy="212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952280" y="2262960"/>
              <a:ext cx="373320" cy="212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330280" y="226296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06480" y="226296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084480" y="2262960"/>
              <a:ext cx="372960" cy="2127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-360 h 212760"/>
                <a:gd name="textAreaBottom" fmla="*/ 2127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74520" y="2125800"/>
              <a:ext cx="338040" cy="1918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54080" y="2205000"/>
              <a:ext cx="338040" cy="1922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33280" y="2284560"/>
              <a:ext cx="338040" cy="1918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50680" y="2771640"/>
              <a:ext cx="1146240" cy="1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"/>
            <p:cNvCxnSpPr>
              <a:stCxn id="186" idx="0"/>
            </p:cNvCxnSpPr>
            <p:nvPr/>
          </p:nvCxnSpPr>
          <p:spPr>
            <a:xfrm flipH="1" flipV="1">
              <a:off x="1805760" y="2493360"/>
              <a:ext cx="51804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8" name=""/>
            <p:cNvCxnSpPr>
              <a:stCxn id="186" idx="0"/>
            </p:cNvCxnSpPr>
            <p:nvPr/>
          </p:nvCxnSpPr>
          <p:spPr>
            <a:xfrm flipH="1" flipV="1">
              <a:off x="2252160" y="2493360"/>
              <a:ext cx="7200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6" idx="0"/>
            </p:cNvCxnSpPr>
            <p:nvPr/>
          </p:nvCxnSpPr>
          <p:spPr>
            <a:xfrm flipV="1">
              <a:off x="2323800" y="2493360"/>
              <a:ext cx="32472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6" idx="0"/>
            </p:cNvCxnSpPr>
            <p:nvPr/>
          </p:nvCxnSpPr>
          <p:spPr>
            <a:xfrm flipV="1">
              <a:off x="2323800" y="2493360"/>
              <a:ext cx="72936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6" idx="0"/>
            </p:cNvCxnSpPr>
            <p:nvPr/>
          </p:nvCxnSpPr>
          <p:spPr>
            <a:xfrm flipV="1">
              <a:off x="2323440" y="2493360"/>
              <a:ext cx="115020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6" idx="0"/>
            </p:cNvCxnSpPr>
            <p:nvPr/>
          </p:nvCxnSpPr>
          <p:spPr>
            <a:xfrm flipH="1" flipV="1">
              <a:off x="1311840" y="2485440"/>
              <a:ext cx="1011960" cy="286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93" name=""/>
            <p:cNvSpPr/>
            <p:nvPr/>
          </p:nvSpPr>
          <p:spPr>
            <a:xfrm>
              <a:off x="128520" y="1849320"/>
              <a:ext cx="4765680" cy="1746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62040" y="3121200"/>
              <a:ext cx="3182760" cy="2840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978440" y="2316240"/>
            <a:ext cx="41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1. Gerenciamento de Mudanç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9800" y="4916520"/>
            <a:ext cx="39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2. Melhoria Incremental d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743360" y="3100320"/>
            <a:ext cx="1371600" cy="157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979520" y="5280120"/>
            <a:ext cx="1328760" cy="585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3440" y="6278400"/>
            <a:ext cx="57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P: processo de desenvolvimento de produ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a apresent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ciação entre Mudanças de Engenharia e Melhoria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Gerenciamento de Mudanças de Engenharia (E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CM versus gest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udanç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Comentários sobre a implantação do processo de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ia Incremental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amplo de transformaçã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na melhoria incremental d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a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omentários sobre o processo de gerenciamento de mudanças de engenharia (ECM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86140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pequenas empresas uma pessoa pode assumir quase todos os papéis e simplificar o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processo é passível de ser automatizado (por meio de sistem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entender o processo antes de se imple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rreira comportamental maior: errar é desconfortante e o processo de gerenciamento de mudanças identifica potenciais de melhoria, ninguém quer er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 mudança é uma oportunidade de melhoria e aprend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a apresent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ciação entre Mudanças de Engenharia e Melhoria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Gerenciamento de Mudanças de Engenharia (E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CM versus gest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udanç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ários sobre a implantação do processo de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ia Incremental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amplo de transformaçã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na melhoria incremental d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a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Exemplo de um workflow – quadro 13.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125280" y="1960560"/>
            <a:ext cx="8848800" cy="327492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816480" y="1092240"/>
            <a:ext cx="73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workflow: automação de um process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53200" y="5945040"/>
            <a:ext cx="80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 dos sistemas CSCW, ERP, PLM, PDM. GED (E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6388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o gerenciamento de mudanças de engenharia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918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9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933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9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3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44" name=""/>
                <p:cNvCxnSpPr>
                  <a:stCxn id="941" idx="0"/>
                  <a:endCxn id="945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946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8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9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3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1006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1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1012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17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8197920" y="5351400"/>
            <a:ext cx="902160" cy="971280"/>
            <a:chOff x="8197920" y="5351400"/>
            <a:chExt cx="902160" cy="971280"/>
          </a:xfrm>
        </p:grpSpPr>
        <p:grpSp>
          <p:nvGrpSpPr>
            <p:cNvPr id="1019" name=""/>
            <p:cNvGrpSpPr/>
            <p:nvPr/>
          </p:nvGrpSpPr>
          <p:grpSpPr>
            <a:xfrm>
              <a:off x="8197920" y="5526720"/>
              <a:ext cx="636480" cy="795960"/>
              <a:chOff x="8197920" y="5526720"/>
              <a:chExt cx="636480" cy="79596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8213760" y="5526720"/>
                <a:ext cx="615600" cy="781920"/>
                <a:chOff x="8213760" y="5526720"/>
                <a:chExt cx="615600" cy="78192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8213760" y="5526720"/>
                  <a:ext cx="615600" cy="781920"/>
                  <a:chOff x="8213760" y="5526720"/>
                  <a:chExt cx="615600" cy="78192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 rot="15769200">
                    <a:off x="8104680" y="5826240"/>
                    <a:ext cx="61056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 rot="15769200">
                    <a:off x="8256240" y="5689080"/>
                    <a:ext cx="67356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8225280" y="5545440"/>
                  <a:ext cx="580320" cy="744840"/>
                  <a:chOff x="8225280" y="5545440"/>
                  <a:chExt cx="580320" cy="74484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 rot="15769200">
                    <a:off x="8643240" y="6055920"/>
                    <a:ext cx="17460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rot="15769200">
                    <a:off x="8452440" y="5465160"/>
                    <a:ext cx="6264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rot="15769200">
                    <a:off x="8154360" y="5816160"/>
                    <a:ext cx="2484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 rot="15769200">
                    <a:off x="8448480" y="6149520"/>
                    <a:ext cx="792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9" name=""/>
              <p:cNvSpPr/>
              <p:nvPr/>
            </p:nvSpPr>
            <p:spPr>
              <a:xfrm rot="15769200">
                <a:off x="8183520" y="5650560"/>
                <a:ext cx="702360" cy="514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0" name=""/>
              <p:cNvGrpSpPr/>
              <p:nvPr/>
            </p:nvGrpSpPr>
            <p:grpSpPr>
              <a:xfrm>
                <a:off x="8197920" y="5561640"/>
                <a:ext cx="598680" cy="761040"/>
                <a:chOff x="8197920" y="5561640"/>
                <a:chExt cx="598680" cy="761040"/>
              </a:xfrm>
            </p:grpSpPr>
            <p:sp>
              <p:nvSpPr>
                <p:cNvPr id="1031" name=""/>
                <p:cNvSpPr/>
                <p:nvPr/>
              </p:nvSpPr>
              <p:spPr>
                <a:xfrm rot="15769200">
                  <a:off x="8154720" y="5690880"/>
                  <a:ext cx="686160" cy="50256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rot="15769200">
                  <a:off x="8145720" y="5684400"/>
                  <a:ext cx="702360" cy="5148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rot="15769200">
                  <a:off x="8165520" y="5698080"/>
                  <a:ext cx="663480" cy="4874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4" name=""/>
            <p:cNvGrpSpPr/>
            <p:nvPr/>
          </p:nvGrpSpPr>
          <p:grpSpPr>
            <a:xfrm>
              <a:off x="8682480" y="5351400"/>
              <a:ext cx="417600" cy="410760"/>
              <a:chOff x="8682480" y="5351400"/>
              <a:chExt cx="417600" cy="410760"/>
            </a:xfrm>
          </p:grpSpPr>
          <p:sp>
            <p:nvSpPr>
              <p:cNvPr id="1035" name=""/>
              <p:cNvSpPr/>
              <p:nvPr/>
            </p:nvSpPr>
            <p:spPr>
              <a:xfrm rot="15769200">
                <a:off x="8718480" y="5374800"/>
                <a:ext cx="343440" cy="37620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5769200">
                <a:off x="8681760" y="5666760"/>
                <a:ext cx="105480" cy="7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15769200">
                <a:off x="8689680" y="5658480"/>
                <a:ext cx="106560" cy="8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15769200">
                <a:off x="8720280" y="5675400"/>
                <a:ext cx="65160" cy="9612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5769200">
                <a:off x="8681400" y="5667120"/>
                <a:ext cx="105480" cy="7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5769200">
                <a:off x="8729280" y="5622480"/>
                <a:ext cx="105840" cy="7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1" name=""/>
              <p:cNvGrpSpPr/>
              <p:nvPr/>
            </p:nvGrpSpPr>
            <p:grpSpPr>
              <a:xfrm>
                <a:off x="8744760" y="5591160"/>
                <a:ext cx="96120" cy="121680"/>
                <a:chOff x="8744760" y="5591160"/>
                <a:chExt cx="96120" cy="121680"/>
              </a:xfrm>
            </p:grpSpPr>
            <p:grpSp>
              <p:nvGrpSpPr>
                <p:cNvPr id="1042" name=""/>
                <p:cNvGrpSpPr/>
                <p:nvPr/>
              </p:nvGrpSpPr>
              <p:grpSpPr>
                <a:xfrm>
                  <a:off x="8744760" y="5597280"/>
                  <a:ext cx="88920" cy="115560"/>
                  <a:chOff x="8744760" y="5597280"/>
                  <a:chExt cx="88920" cy="1155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 rot="15769200">
                    <a:off x="8736120" y="5617080"/>
                    <a:ext cx="1062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rot="15769200">
                    <a:off x="8735400" y="5617080"/>
                    <a:ext cx="1069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rot="15769200">
                    <a:off x="8735760" y="5616720"/>
                    <a:ext cx="1062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"/>
                <p:cNvSpPr/>
                <p:nvPr/>
              </p:nvSpPr>
              <p:spPr>
                <a:xfrm rot="15769200">
                  <a:off x="8743320" y="5610240"/>
                  <a:ext cx="106200" cy="7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8759160" y="5579280"/>
                <a:ext cx="95760" cy="121320"/>
                <a:chOff x="8759160" y="5579280"/>
                <a:chExt cx="95760" cy="121320"/>
              </a:xfrm>
            </p:grpSpPr>
            <p:grpSp>
              <p:nvGrpSpPr>
                <p:cNvPr id="1048" name=""/>
                <p:cNvGrpSpPr/>
                <p:nvPr/>
              </p:nvGrpSpPr>
              <p:grpSpPr>
                <a:xfrm>
                  <a:off x="8759160" y="5585040"/>
                  <a:ext cx="88920" cy="115560"/>
                  <a:chOff x="8759160" y="5585040"/>
                  <a:chExt cx="88920" cy="11556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 rot="15769200">
                    <a:off x="8750160" y="5605200"/>
                    <a:ext cx="106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rot="15769200">
                    <a:off x="8750160" y="5604480"/>
                    <a:ext cx="1069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rot="15769200">
                    <a:off x="8750160" y="5605200"/>
                    <a:ext cx="1058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2" name=""/>
                <p:cNvSpPr/>
                <p:nvPr/>
              </p:nvSpPr>
              <p:spPr>
                <a:xfrm rot="15769200">
                  <a:off x="8757720" y="5598720"/>
                  <a:ext cx="105840" cy="7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8772480" y="5572440"/>
                <a:ext cx="88200" cy="115560"/>
                <a:chOff x="8772480" y="5572440"/>
                <a:chExt cx="88200" cy="115560"/>
              </a:xfrm>
            </p:grpSpPr>
            <p:sp>
              <p:nvSpPr>
                <p:cNvPr id="1054" name=""/>
                <p:cNvSpPr/>
                <p:nvPr/>
              </p:nvSpPr>
              <p:spPr>
                <a:xfrm rot="15769200">
                  <a:off x="8763840" y="5592960"/>
                  <a:ext cx="10584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rot="15769200">
                  <a:off x="8762760" y="5592600"/>
                  <a:ext cx="10692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8772840" y="5565960"/>
                <a:ext cx="95760" cy="121320"/>
                <a:chOff x="8772840" y="5565960"/>
                <a:chExt cx="95760" cy="121320"/>
              </a:xfrm>
            </p:grpSpPr>
            <p:sp>
              <p:nvSpPr>
                <p:cNvPr id="1057" name=""/>
                <p:cNvSpPr/>
                <p:nvPr/>
              </p:nvSpPr>
              <p:spPr>
                <a:xfrm rot="15769200">
                  <a:off x="8763840" y="5591880"/>
                  <a:ext cx="106200" cy="7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rot="15769200">
                  <a:off x="8771400" y="5585400"/>
                  <a:ext cx="106200" cy="7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8714160" y="5373000"/>
                <a:ext cx="356760" cy="379800"/>
                <a:chOff x="8714160" y="5373000"/>
                <a:chExt cx="356760" cy="379800"/>
              </a:xfrm>
            </p:grpSpPr>
            <p:sp>
              <p:nvSpPr>
                <p:cNvPr id="1060" name=""/>
                <p:cNvSpPr/>
                <p:nvPr/>
              </p:nvSpPr>
              <p:spPr>
                <a:xfrm flipV="1">
                  <a:off x="8714160" y="5373000"/>
                  <a:ext cx="302760" cy="28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V="1">
                  <a:off x="8753400" y="5465880"/>
                  <a:ext cx="31752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8785800" y="5554080"/>
                <a:ext cx="94320" cy="120960"/>
                <a:chOff x="8785800" y="5554080"/>
                <a:chExt cx="94320" cy="120960"/>
              </a:xfrm>
            </p:grpSpPr>
            <p:grpSp>
              <p:nvGrpSpPr>
                <p:cNvPr id="1063" name=""/>
                <p:cNvGrpSpPr/>
                <p:nvPr/>
              </p:nvGrpSpPr>
              <p:grpSpPr>
                <a:xfrm>
                  <a:off x="8785800" y="5559480"/>
                  <a:ext cx="88200" cy="115560"/>
                  <a:chOff x="8785800" y="5559480"/>
                  <a:chExt cx="88200" cy="11556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 rot="15769200">
                    <a:off x="8776800" y="5580000"/>
                    <a:ext cx="1062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rot="15769200">
                    <a:off x="8776440" y="5579280"/>
                    <a:ext cx="1069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"/>
                <p:cNvSpPr/>
                <p:nvPr/>
              </p:nvSpPr>
              <p:spPr>
                <a:xfrm rot="15769200">
                  <a:off x="8776800" y="5579640"/>
                  <a:ext cx="10620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rot="15769200">
                  <a:off x="8782920" y="5573880"/>
                  <a:ext cx="10620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8" name=""/>
              <p:cNvSpPr/>
              <p:nvPr/>
            </p:nvSpPr>
            <p:spPr>
              <a:xfrm rot="15769200">
                <a:off x="8826840" y="5409720"/>
                <a:ext cx="211680" cy="27792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5769200">
                <a:off x="8992800" y="5371560"/>
                <a:ext cx="115560" cy="8496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a apresent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ciação entre Mudanças de Engenharia e Melhoria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e Mudanças de Engenharia (E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CM versus gest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udanç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ários sobre a implantação do processo de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Melhoria Incremental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Definição de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amplo de transformaçã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na melhoria incremental d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a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finição de melhoria do PDP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modelo deste livro é de referência genérica (modelo de referê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 base neste livro uma empresa pode definir o seu modelo de referência específico (modelo padr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padrão serve de referência para definir os seus projetos de desenvolvimento de produtos (vide capítulo 3 e próximo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odelos de referência genéricos, específicos e proje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281160" y="488880"/>
            <a:ext cx="8672400" cy="6237360"/>
            <a:chOff x="281160" y="488880"/>
            <a:chExt cx="8672400" cy="6237360"/>
          </a:xfrm>
        </p:grpSpPr>
        <p:sp>
          <p:nvSpPr>
            <p:cNvPr id="1076" name=""/>
            <p:cNvSpPr/>
            <p:nvPr/>
          </p:nvSpPr>
          <p:spPr>
            <a:xfrm>
              <a:off x="281160" y="4130640"/>
              <a:ext cx="8632800" cy="140184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0760" y="701640"/>
              <a:ext cx="8632800" cy="28846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4200480" y="2779560"/>
              <a:ext cx="1352520" cy="630360"/>
              <a:chOff x="4200480" y="2779560"/>
              <a:chExt cx="1352520" cy="630360"/>
            </a:xfrm>
          </p:grpSpPr>
          <p:sp>
            <p:nvSpPr>
              <p:cNvPr id="1079" name=""/>
              <p:cNvSpPr/>
              <p:nvPr/>
            </p:nvSpPr>
            <p:spPr>
              <a:xfrm>
                <a:off x="4200480" y="2779560"/>
                <a:ext cx="1352520" cy="630360"/>
              </a:xfrm>
              <a:prstGeom prst="rect">
                <a:avLst/>
              </a:prstGeom>
              <a:solidFill>
                <a:srgbClr val="ffcc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312800" y="3141000"/>
                <a:ext cx="149400" cy="1724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087520" y="2973600"/>
                <a:ext cx="123840" cy="143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537440" y="2973600"/>
                <a:ext cx="99360" cy="1710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687200" y="3183120"/>
                <a:ext cx="99360" cy="171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861440" y="2890440"/>
                <a:ext cx="100440" cy="864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11200" y="3225600"/>
                <a:ext cx="100440" cy="864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6" name=""/>
              <p:cNvCxnSpPr>
                <a:stCxn id="1080" idx="3"/>
                <a:endCxn id="1083" idx="1"/>
              </p:cNvCxnSpPr>
              <p:nvPr/>
            </p:nvCxnSpPr>
            <p:spPr>
              <a:xfrm>
                <a:off x="4462560" y="3227400"/>
                <a:ext cx="225360" cy="41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087" name=""/>
              <p:cNvCxnSpPr>
                <a:stCxn id="1084" idx="3"/>
                <a:endCxn id="1081" idx="1"/>
              </p:cNvCxnSpPr>
              <p:nvPr/>
            </p:nvCxnSpPr>
            <p:spPr>
              <a:xfrm>
                <a:off x="4961880" y="2933640"/>
                <a:ext cx="125640" cy="112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088" name=""/>
              <p:cNvCxnSpPr>
                <a:stCxn id="1083" idx="3"/>
                <a:endCxn id="1084" idx="2"/>
              </p:cNvCxnSpPr>
              <p:nvPr/>
            </p:nvCxnSpPr>
            <p:spPr>
              <a:xfrm flipV="1">
                <a:off x="4786200" y="2977200"/>
                <a:ext cx="125640" cy="291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089" name=""/>
              <p:cNvCxnSpPr>
                <a:stCxn id="1085" idx="0"/>
                <a:endCxn id="1081" idx="2"/>
              </p:cNvCxnSpPr>
              <p:nvPr/>
            </p:nvCxnSpPr>
            <p:spPr>
              <a:xfrm flipV="1">
                <a:off x="5061240" y="3116160"/>
                <a:ext cx="87840" cy="109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1090" name=""/>
              <p:cNvSpPr/>
              <p:nvPr/>
            </p:nvSpPr>
            <p:spPr>
              <a:xfrm>
                <a:off x="5361120" y="2973600"/>
                <a:ext cx="124920" cy="143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1" name=""/>
              <p:cNvCxnSpPr>
                <a:stCxn id="1081" idx="3"/>
                <a:endCxn id="1090" idx="1"/>
              </p:cNvCxnSpPr>
              <p:nvPr/>
            </p:nvCxnSpPr>
            <p:spPr>
              <a:xfrm>
                <a:off x="5211000" y="3045600"/>
                <a:ext cx="150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092" name=""/>
              <p:cNvCxnSpPr>
                <a:stCxn id="1085" idx="3"/>
                <a:endCxn id="1090" idx="2"/>
              </p:cNvCxnSpPr>
              <p:nvPr/>
            </p:nvCxnSpPr>
            <p:spPr>
              <a:xfrm flipV="1">
                <a:off x="5112000" y="3116160"/>
                <a:ext cx="313200" cy="152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093" name=""/>
              <p:cNvCxnSpPr>
                <a:stCxn id="1082" idx="3"/>
                <a:endCxn id="1084" idx="1"/>
              </p:cNvCxnSpPr>
              <p:nvPr/>
            </p:nvCxnSpPr>
            <p:spPr>
              <a:xfrm flipV="1">
                <a:off x="4636800" y="2933280"/>
                <a:ext cx="225360" cy="125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094" name=""/>
              <p:cNvCxnSpPr>
                <a:endCxn id="1082" idx="1"/>
              </p:cNvCxnSpPr>
              <p:nvPr/>
            </p:nvCxnSpPr>
            <p:spPr>
              <a:xfrm>
                <a:off x="4411800" y="2953080"/>
                <a:ext cx="125640" cy="106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</p:grpSp>
        <p:grpSp>
          <p:nvGrpSpPr>
            <p:cNvPr id="1095" name=""/>
            <p:cNvGrpSpPr/>
            <p:nvPr/>
          </p:nvGrpSpPr>
          <p:grpSpPr>
            <a:xfrm>
              <a:off x="7321680" y="2309760"/>
              <a:ext cx="1269720" cy="1100160"/>
              <a:chOff x="7321680" y="2309760"/>
              <a:chExt cx="1269720" cy="1100160"/>
            </a:xfrm>
          </p:grpSpPr>
          <p:sp>
            <p:nvSpPr>
              <p:cNvPr id="1096" name=""/>
              <p:cNvSpPr/>
              <p:nvPr/>
            </p:nvSpPr>
            <p:spPr>
              <a:xfrm>
                <a:off x="7321680" y="2309760"/>
                <a:ext cx="1269720" cy="1100160"/>
              </a:xfrm>
              <a:prstGeom prst="rect">
                <a:avLst/>
              </a:prstGeom>
              <a:solidFill>
                <a:srgbClr val="99ff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67640" y="3098160"/>
                <a:ext cx="222120" cy="1926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001000" y="2488680"/>
                <a:ext cx="333360" cy="1926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001000" y="2910600"/>
                <a:ext cx="147600" cy="191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18240" y="2442960"/>
                <a:ext cx="149400" cy="190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223120" y="3145680"/>
                <a:ext cx="147600" cy="191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07360" y="2817720"/>
                <a:ext cx="149040" cy="191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3" name=""/>
              <p:cNvCxnSpPr>
                <a:endCxn id="1097" idx="1"/>
              </p:cNvCxnSpPr>
              <p:nvPr/>
            </p:nvCxnSpPr>
            <p:spPr>
              <a:xfrm flipV="1">
                <a:off x="7370280" y="3194640"/>
                <a:ext cx="297720" cy="4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04" name=""/>
              <p:cNvCxnSpPr>
                <a:stCxn id="1102" idx="2"/>
                <a:endCxn id="1097" idx="0"/>
              </p:cNvCxnSpPr>
              <p:nvPr/>
            </p:nvCxnSpPr>
            <p:spPr>
              <a:xfrm>
                <a:off x="7481520" y="3008880"/>
                <a:ext cx="297720" cy="89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05" name=""/>
              <p:cNvCxnSpPr>
                <a:stCxn id="1102" idx="0"/>
                <a:endCxn id="1100" idx="2"/>
              </p:cNvCxnSpPr>
              <p:nvPr/>
            </p:nvCxnSpPr>
            <p:spPr>
              <a:xfrm flipV="1">
                <a:off x="7481520" y="2632320"/>
                <a:ext cx="111960" cy="185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06" name=""/>
              <p:cNvCxnSpPr>
                <a:stCxn id="1100" idx="3"/>
                <a:endCxn id="1098" idx="1"/>
              </p:cNvCxnSpPr>
              <p:nvPr/>
            </p:nvCxnSpPr>
            <p:spPr>
              <a:xfrm>
                <a:off x="7667640" y="2538360"/>
                <a:ext cx="334080" cy="478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07" name=""/>
              <p:cNvCxnSpPr>
                <a:stCxn id="1108" idx="3"/>
                <a:endCxn id="1098" idx="1"/>
              </p:cNvCxnSpPr>
              <p:nvPr/>
            </p:nvCxnSpPr>
            <p:spPr>
              <a:xfrm flipV="1">
                <a:off x="7889400" y="2585160"/>
                <a:ext cx="111960" cy="244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09" name=""/>
              <p:cNvCxnSpPr>
                <a:stCxn id="1097" idx="3"/>
                <a:endCxn id="1101" idx="1"/>
              </p:cNvCxnSpPr>
              <p:nvPr/>
            </p:nvCxnSpPr>
            <p:spPr>
              <a:xfrm>
                <a:off x="7889760" y="3195000"/>
                <a:ext cx="334080" cy="4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10" name=""/>
              <p:cNvCxnSpPr>
                <a:stCxn id="1098" idx="2"/>
                <a:endCxn id="1099" idx="0"/>
              </p:cNvCxnSpPr>
              <p:nvPr/>
            </p:nvCxnSpPr>
            <p:spPr>
              <a:xfrm flipH="1">
                <a:off x="8075160" y="2681640"/>
                <a:ext cx="92880" cy="229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11" name=""/>
              <p:cNvCxnSpPr>
                <a:stCxn id="1098" idx="3"/>
              </p:cNvCxnSpPr>
              <p:nvPr/>
            </p:nvCxnSpPr>
            <p:spPr>
              <a:xfrm flipV="1">
                <a:off x="8334360" y="2443680"/>
                <a:ext cx="186480" cy="1422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12" name=""/>
              <p:cNvCxnSpPr>
                <a:stCxn id="1102" idx="3"/>
                <a:endCxn id="1108" idx="1"/>
              </p:cNvCxnSpPr>
              <p:nvPr/>
            </p:nvCxnSpPr>
            <p:spPr>
              <a:xfrm flipV="1">
                <a:off x="7556400" y="2829600"/>
                <a:ext cx="185040" cy="83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13" name=""/>
              <p:cNvCxnSpPr>
                <a:stCxn id="1099" idx="3"/>
              </p:cNvCxnSpPr>
              <p:nvPr/>
            </p:nvCxnSpPr>
            <p:spPr>
              <a:xfrm flipV="1">
                <a:off x="8148600" y="2865960"/>
                <a:ext cx="334080" cy="140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14" name=""/>
              <p:cNvCxnSpPr>
                <a:stCxn id="1108" idx="2"/>
                <a:endCxn id="1099" idx="1"/>
              </p:cNvCxnSpPr>
              <p:nvPr/>
            </p:nvCxnSpPr>
            <p:spPr>
              <a:xfrm>
                <a:off x="7815240" y="2887560"/>
                <a:ext cx="186480" cy="119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1108" name=""/>
              <p:cNvSpPr/>
              <p:nvPr/>
            </p:nvSpPr>
            <p:spPr>
              <a:xfrm>
                <a:off x="7740720" y="2770560"/>
                <a:ext cx="149040" cy="1170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5873760" y="2373480"/>
              <a:ext cx="1233360" cy="1036440"/>
              <a:chOff x="5873760" y="2373480"/>
              <a:chExt cx="1233360" cy="1036440"/>
            </a:xfrm>
          </p:grpSpPr>
          <p:sp>
            <p:nvSpPr>
              <p:cNvPr id="1116" name=""/>
              <p:cNvSpPr/>
              <p:nvPr/>
            </p:nvSpPr>
            <p:spPr>
              <a:xfrm>
                <a:off x="5873760" y="2373480"/>
                <a:ext cx="1233360" cy="1036440"/>
              </a:xfrm>
              <a:prstGeom prst="rect">
                <a:avLst/>
              </a:prstGeom>
              <a:solidFill>
                <a:srgbClr val="ff99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407280" y="2923920"/>
                <a:ext cx="183960" cy="144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554880" y="2543400"/>
                <a:ext cx="222120" cy="173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72120" y="2840040"/>
                <a:ext cx="149400" cy="871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110280" y="2459880"/>
                <a:ext cx="147600" cy="871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94600" y="3177720"/>
                <a:ext cx="149040" cy="871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2" name=""/>
              <p:cNvCxnSpPr>
                <a:stCxn id="1120" idx="3"/>
                <a:endCxn id="1118" idx="0"/>
              </p:cNvCxnSpPr>
              <p:nvPr/>
            </p:nvCxnSpPr>
            <p:spPr>
              <a:xfrm>
                <a:off x="6257520" y="2503080"/>
                <a:ext cx="408600" cy="40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23" name=""/>
              <p:cNvCxnSpPr>
                <a:stCxn id="1119" idx="3"/>
                <a:endCxn id="1117" idx="1"/>
              </p:cNvCxnSpPr>
              <p:nvPr/>
            </p:nvCxnSpPr>
            <p:spPr>
              <a:xfrm>
                <a:off x="6221520" y="2883600"/>
                <a:ext cx="186480" cy="113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24" name=""/>
              <p:cNvCxnSpPr>
                <a:endCxn id="1119" idx="2"/>
              </p:cNvCxnSpPr>
              <p:nvPr/>
            </p:nvCxnSpPr>
            <p:spPr>
              <a:xfrm flipV="1">
                <a:off x="5960880" y="2927160"/>
                <a:ext cx="186120" cy="294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25" name=""/>
              <p:cNvCxnSpPr>
                <a:stCxn id="1118" idx="2"/>
                <a:endCxn id="1117" idx="0"/>
              </p:cNvCxnSpPr>
              <p:nvPr/>
            </p:nvCxnSpPr>
            <p:spPr>
              <a:xfrm flipH="1">
                <a:off x="6498720" y="2717280"/>
                <a:ext cx="167040" cy="207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26" name=""/>
              <p:cNvCxnSpPr>
                <a:stCxn id="1121" idx="0"/>
                <a:endCxn id="1117" idx="2"/>
              </p:cNvCxnSpPr>
              <p:nvPr/>
            </p:nvCxnSpPr>
            <p:spPr>
              <a:xfrm flipV="1">
                <a:off x="6368760" y="3067560"/>
                <a:ext cx="130680" cy="109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1127" name=""/>
              <p:cNvSpPr/>
              <p:nvPr/>
            </p:nvSpPr>
            <p:spPr>
              <a:xfrm>
                <a:off x="6813720" y="2923920"/>
                <a:ext cx="185400" cy="144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8" name=""/>
              <p:cNvCxnSpPr>
                <a:stCxn id="1117" idx="3"/>
                <a:endCxn id="1127" idx="1"/>
              </p:cNvCxnSpPr>
              <p:nvPr/>
            </p:nvCxnSpPr>
            <p:spPr>
              <a:xfrm>
                <a:off x="6591240" y="2996280"/>
                <a:ext cx="2232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29" name=""/>
              <p:cNvCxnSpPr>
                <a:stCxn id="1118" idx="3"/>
                <a:endCxn id="1127" idx="0"/>
              </p:cNvCxnSpPr>
              <p:nvPr/>
            </p:nvCxnSpPr>
            <p:spPr>
              <a:xfrm>
                <a:off x="6777000" y="2630520"/>
                <a:ext cx="131040" cy="293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130" name=""/>
              <p:cNvCxnSpPr>
                <a:stCxn id="1121" idx="3"/>
                <a:endCxn id="1127" idx="2"/>
              </p:cNvCxnSpPr>
              <p:nvPr/>
            </p:nvCxnSpPr>
            <p:spPr>
              <a:xfrm flipV="1">
                <a:off x="6443640" y="3067920"/>
                <a:ext cx="464400" cy="153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</p:grpSp>
        <p:sp>
          <p:nvSpPr>
            <p:cNvPr id="1131" name=""/>
            <p:cNvSpPr/>
            <p:nvPr/>
          </p:nvSpPr>
          <p:spPr>
            <a:xfrm>
              <a:off x="2746440" y="488880"/>
              <a:ext cx="3841920" cy="3052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os de referência genér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3640" y="5218200"/>
              <a:ext cx="8318520" cy="1479600"/>
            </a:xfrm>
            <a:custGeom>
              <a:avLst/>
              <a:gdLst/>
              <a:ahLst/>
              <a:rect l="l" t="t" r="r" b="b"/>
              <a:pathLst>
                <a:path w="5240" h="932">
                  <a:moveTo>
                    <a:pt x="94" y="0"/>
                  </a:moveTo>
                  <a:lnTo>
                    <a:pt x="0" y="334"/>
                  </a:lnTo>
                  <a:lnTo>
                    <a:pt x="0" y="932"/>
                  </a:lnTo>
                  <a:lnTo>
                    <a:pt x="5232" y="922"/>
                  </a:lnTo>
                  <a:lnTo>
                    <a:pt x="5240" y="361"/>
                  </a:lnTo>
                  <a:lnTo>
                    <a:pt x="663" y="31"/>
                  </a:lnTo>
                </a:path>
              </a:pathLst>
            </a:custGeom>
            <a:solidFill>
              <a:srgbClr val="ffff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830160" y="6076800"/>
              <a:ext cx="986040" cy="536760"/>
              <a:chOff x="830160" y="6076800"/>
              <a:chExt cx="986040" cy="536760"/>
            </a:xfrm>
          </p:grpSpPr>
          <p:sp>
            <p:nvSpPr>
              <p:cNvPr id="1134" name=""/>
              <p:cNvSpPr/>
              <p:nvPr/>
            </p:nvSpPr>
            <p:spPr>
              <a:xfrm>
                <a:off x="830160" y="6076800"/>
                <a:ext cx="986040" cy="536760"/>
              </a:xfrm>
              <a:custGeom>
                <a:avLst/>
                <a:gdLst>
                  <a:gd name="textAreaLeft" fmla="*/ 0 w 986040"/>
                  <a:gd name="textAreaRight" fmla="*/ 986400 w 986040"/>
                  <a:gd name="textAreaTop" fmla="*/ 0 h 536760"/>
                  <a:gd name="textAreaBottom" fmla="*/ 537120 h 53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"/>
              <p:cNvGrpSpPr/>
              <p:nvPr/>
            </p:nvGrpSpPr>
            <p:grpSpPr>
              <a:xfrm>
                <a:off x="895680" y="6139800"/>
                <a:ext cx="739440" cy="347040"/>
                <a:chOff x="895680" y="6139800"/>
                <a:chExt cx="739440" cy="34704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895680" y="613980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950400" y="6139800"/>
                  <a:ext cx="34200" cy="6120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11960" y="620100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066680" y="620100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128240" y="620100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210680" y="61804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320120" y="61804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1388520" y="6180480"/>
                  <a:ext cx="34200" cy="6120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443600" y="61804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512000" y="61804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573560" y="61804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600920" y="6282720"/>
                  <a:ext cx="34200" cy="6120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484640" y="6343920"/>
                  <a:ext cx="34200" cy="6120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416240" y="63028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361160" y="63028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1306440" y="63028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1238040" y="63028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183320" y="6302880"/>
                  <a:ext cx="34200" cy="6120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128240" y="642564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1073520" y="634392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011960" y="6323400"/>
                  <a:ext cx="34200" cy="6120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950400" y="632340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950400" y="624168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950400" y="642564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1018800" y="642564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1190160" y="642564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1251720" y="642564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1361160" y="642564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1416240" y="642564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484640" y="642564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1546200" y="6384960"/>
                  <a:ext cx="34200" cy="61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167" name=""/>
                <p:cNvCxnSpPr>
                  <a:stCxn id="1136" idx="3"/>
                  <a:endCxn id="1137" idx="1"/>
                </p:cNvCxnSpPr>
                <p:nvPr/>
              </p:nvCxnSpPr>
              <p:spPr>
                <a:xfrm>
                  <a:off x="929520" y="6170040"/>
                  <a:ext cx="208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68" name=""/>
                <p:cNvCxnSpPr>
                  <a:stCxn id="1137" idx="3"/>
                  <a:endCxn id="1138" idx="1"/>
                </p:cNvCxnSpPr>
                <p:nvPr/>
              </p:nvCxnSpPr>
              <p:spPr>
                <a:xfrm>
                  <a:off x="984600" y="6170400"/>
                  <a:ext cx="28080" cy="61920"/>
                </a:xfrm>
                <a:prstGeom prst="bentConnector3">
                  <a:avLst>
                    <a:gd name="adj1" fmla="val 4935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69" name=""/>
                <p:cNvCxnSpPr>
                  <a:stCxn id="1138" idx="3"/>
                  <a:endCxn id="1139" idx="1"/>
                </p:cNvCxnSpPr>
                <p:nvPr/>
              </p:nvCxnSpPr>
              <p:spPr>
                <a:xfrm>
                  <a:off x="1045800" y="6231240"/>
                  <a:ext cx="208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0" name=""/>
                <p:cNvCxnSpPr>
                  <a:stCxn id="1139" idx="3"/>
                  <a:endCxn id="1140" idx="1"/>
                </p:cNvCxnSpPr>
                <p:nvPr/>
              </p:nvCxnSpPr>
              <p:spPr>
                <a:xfrm>
                  <a:off x="1100880" y="6231240"/>
                  <a:ext cx="280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1" name=""/>
                <p:cNvCxnSpPr>
                  <a:stCxn id="1140" idx="3"/>
                  <a:endCxn id="1153" idx="1"/>
                </p:cNvCxnSpPr>
                <p:nvPr/>
              </p:nvCxnSpPr>
              <p:spPr>
                <a:xfrm>
                  <a:off x="1162440" y="6231240"/>
                  <a:ext cx="20880" cy="10260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2" name=""/>
                <p:cNvCxnSpPr>
                  <a:stCxn id="1140" idx="3"/>
                  <a:endCxn id="1141" idx="1"/>
                </p:cNvCxnSpPr>
                <p:nvPr/>
              </p:nvCxnSpPr>
              <p:spPr>
                <a:xfrm flipV="1">
                  <a:off x="1162440" y="6210720"/>
                  <a:ext cx="48600" cy="208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3" name=""/>
                <p:cNvCxnSpPr>
                  <a:stCxn id="1153" idx="3"/>
                  <a:endCxn id="1152" idx="1"/>
                </p:cNvCxnSpPr>
                <p:nvPr/>
              </p:nvCxnSpPr>
              <p:spPr>
                <a:xfrm>
                  <a:off x="1217160" y="6333480"/>
                  <a:ext cx="208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4" name=""/>
                <p:cNvCxnSpPr>
                  <a:stCxn id="1152" idx="3"/>
                  <a:endCxn id="1151" idx="1"/>
                </p:cNvCxnSpPr>
                <p:nvPr/>
              </p:nvCxnSpPr>
              <p:spPr>
                <a:xfrm>
                  <a:off x="1271880" y="6333480"/>
                  <a:ext cx="3492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5" name=""/>
                <p:cNvCxnSpPr>
                  <a:stCxn id="1141" idx="3"/>
                  <a:endCxn id="1142" idx="1"/>
                </p:cNvCxnSpPr>
                <p:nvPr/>
              </p:nvCxnSpPr>
              <p:spPr>
                <a:xfrm>
                  <a:off x="1244520" y="6210720"/>
                  <a:ext cx="7596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6" name=""/>
                <p:cNvCxnSpPr>
                  <a:stCxn id="1142" idx="3"/>
                  <a:endCxn id="1143" idx="1"/>
                </p:cNvCxnSpPr>
                <p:nvPr/>
              </p:nvCxnSpPr>
              <p:spPr>
                <a:xfrm>
                  <a:off x="1353960" y="6210720"/>
                  <a:ext cx="3492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7" name=""/>
                <p:cNvCxnSpPr>
                  <a:stCxn id="1158" idx="3"/>
                  <a:endCxn id="1138" idx="1"/>
                </p:cNvCxnSpPr>
                <p:nvPr/>
              </p:nvCxnSpPr>
              <p:spPr>
                <a:xfrm flipV="1">
                  <a:off x="984600" y="6230880"/>
                  <a:ext cx="28080" cy="41400"/>
                </a:xfrm>
                <a:prstGeom prst="bentConnector3">
                  <a:avLst>
                    <a:gd name="adj1" fmla="val 4935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8" name=""/>
                <p:cNvCxnSpPr>
                  <a:stCxn id="1157" idx="3"/>
                  <a:endCxn id="1156" idx="1"/>
                </p:cNvCxnSpPr>
                <p:nvPr/>
              </p:nvCxnSpPr>
              <p:spPr>
                <a:xfrm>
                  <a:off x="984600" y="6354000"/>
                  <a:ext cx="280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79" name=""/>
                <p:cNvCxnSpPr>
                  <a:stCxn id="1156" idx="3"/>
                  <a:endCxn id="1139" idx="1"/>
                </p:cNvCxnSpPr>
                <p:nvPr/>
              </p:nvCxnSpPr>
              <p:spPr>
                <a:xfrm flipV="1">
                  <a:off x="1045800" y="6231240"/>
                  <a:ext cx="20880" cy="12312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0" name=""/>
                <p:cNvCxnSpPr>
                  <a:stCxn id="1152" idx="3"/>
                  <a:endCxn id="1142" idx="1"/>
                </p:cNvCxnSpPr>
                <p:nvPr/>
              </p:nvCxnSpPr>
              <p:spPr>
                <a:xfrm flipV="1">
                  <a:off x="1271880" y="6210720"/>
                  <a:ext cx="48600" cy="12312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1" name=""/>
                <p:cNvCxnSpPr>
                  <a:stCxn id="1151" idx="3"/>
                  <a:endCxn id="1163" idx="1"/>
                </p:cNvCxnSpPr>
                <p:nvPr/>
              </p:nvCxnSpPr>
              <p:spPr>
                <a:xfrm>
                  <a:off x="1340280" y="6333840"/>
                  <a:ext cx="20880" cy="12312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2" name=""/>
                <p:cNvCxnSpPr>
                  <a:stCxn id="1151" idx="3"/>
                  <a:endCxn id="1150" idx="1"/>
                </p:cNvCxnSpPr>
                <p:nvPr/>
              </p:nvCxnSpPr>
              <p:spPr>
                <a:xfrm>
                  <a:off x="1340280" y="6333480"/>
                  <a:ext cx="208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3" name=""/>
                <p:cNvCxnSpPr>
                  <a:stCxn id="1143" idx="3"/>
                  <a:endCxn id="1144" idx="1"/>
                </p:cNvCxnSpPr>
                <p:nvPr/>
              </p:nvCxnSpPr>
              <p:spPr>
                <a:xfrm>
                  <a:off x="1422720" y="6210720"/>
                  <a:ext cx="208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4" name=""/>
                <p:cNvCxnSpPr>
                  <a:stCxn id="1144" idx="3"/>
                  <a:endCxn id="1145" idx="1"/>
                </p:cNvCxnSpPr>
                <p:nvPr/>
              </p:nvCxnSpPr>
              <p:spPr>
                <a:xfrm>
                  <a:off x="1477440" y="6210720"/>
                  <a:ext cx="3492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5" name=""/>
                <p:cNvCxnSpPr>
                  <a:stCxn id="1145" idx="3"/>
                  <a:endCxn id="1146" idx="1"/>
                </p:cNvCxnSpPr>
                <p:nvPr/>
              </p:nvCxnSpPr>
              <p:spPr>
                <a:xfrm>
                  <a:off x="1546200" y="6210720"/>
                  <a:ext cx="280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6" name=""/>
                <p:cNvCxnSpPr>
                  <a:stCxn id="1144" idx="3"/>
                  <a:endCxn id="1147" idx="1"/>
                </p:cNvCxnSpPr>
                <p:nvPr/>
              </p:nvCxnSpPr>
              <p:spPr>
                <a:xfrm>
                  <a:off x="1477800" y="6210720"/>
                  <a:ext cx="123840" cy="102600"/>
                </a:xfrm>
                <a:prstGeom prst="bentConnector3">
                  <a:avLst>
                    <a:gd name="adj1" fmla="val 1370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7" name=""/>
                <p:cNvCxnSpPr>
                  <a:stCxn id="1159" idx="3"/>
                  <a:endCxn id="1156" idx="1"/>
                </p:cNvCxnSpPr>
                <p:nvPr/>
              </p:nvCxnSpPr>
              <p:spPr>
                <a:xfrm flipV="1">
                  <a:off x="984600" y="6353640"/>
                  <a:ext cx="28080" cy="102600"/>
                </a:xfrm>
                <a:prstGeom prst="bentConnector3">
                  <a:avLst>
                    <a:gd name="adj1" fmla="val 4935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8" name=""/>
                <p:cNvCxnSpPr>
                  <a:stCxn id="1136" idx="3"/>
                  <a:endCxn id="1157" idx="1"/>
                </p:cNvCxnSpPr>
                <p:nvPr/>
              </p:nvCxnSpPr>
              <p:spPr>
                <a:xfrm>
                  <a:off x="929520" y="6170400"/>
                  <a:ext cx="20880" cy="18432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89" name=""/>
                <p:cNvCxnSpPr>
                  <a:stCxn id="1136" idx="3"/>
                  <a:endCxn id="1158" idx="1"/>
                </p:cNvCxnSpPr>
                <p:nvPr/>
              </p:nvCxnSpPr>
              <p:spPr>
                <a:xfrm>
                  <a:off x="929520" y="6170040"/>
                  <a:ext cx="20880" cy="10260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0" name=""/>
                <p:cNvCxnSpPr>
                  <a:stCxn id="1159" idx="3"/>
                  <a:endCxn id="1160" idx="1"/>
                </p:cNvCxnSpPr>
                <p:nvPr/>
              </p:nvCxnSpPr>
              <p:spPr>
                <a:xfrm>
                  <a:off x="984240" y="6455880"/>
                  <a:ext cx="3492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1" name=""/>
                <p:cNvCxnSpPr>
                  <a:stCxn id="1160" idx="3"/>
                  <a:endCxn id="1155" idx="1"/>
                </p:cNvCxnSpPr>
                <p:nvPr/>
              </p:nvCxnSpPr>
              <p:spPr>
                <a:xfrm flipV="1">
                  <a:off x="1052640" y="6373800"/>
                  <a:ext cx="20880" cy="8244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2" name=""/>
                <p:cNvCxnSpPr>
                  <a:stCxn id="1155" idx="3"/>
                  <a:endCxn id="1140" idx="1"/>
                </p:cNvCxnSpPr>
                <p:nvPr/>
              </p:nvCxnSpPr>
              <p:spPr>
                <a:xfrm flipV="1">
                  <a:off x="1107360" y="6230880"/>
                  <a:ext cx="20880" cy="14364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3" name=""/>
                <p:cNvCxnSpPr>
                  <a:stCxn id="1160" idx="3"/>
                  <a:endCxn id="1154" idx="1"/>
                </p:cNvCxnSpPr>
                <p:nvPr/>
              </p:nvCxnSpPr>
              <p:spPr>
                <a:xfrm>
                  <a:off x="1052640" y="6455880"/>
                  <a:ext cx="7596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4" name=""/>
                <p:cNvCxnSpPr>
                  <a:stCxn id="1154" idx="3"/>
                  <a:endCxn id="1161" idx="1"/>
                </p:cNvCxnSpPr>
                <p:nvPr/>
              </p:nvCxnSpPr>
              <p:spPr>
                <a:xfrm>
                  <a:off x="1162800" y="6455880"/>
                  <a:ext cx="280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5" name=""/>
                <p:cNvCxnSpPr>
                  <a:stCxn id="1161" idx="3"/>
                  <a:endCxn id="1152" idx="1"/>
                </p:cNvCxnSpPr>
                <p:nvPr/>
              </p:nvCxnSpPr>
              <p:spPr>
                <a:xfrm flipV="1">
                  <a:off x="1224360" y="6333480"/>
                  <a:ext cx="14400" cy="123120"/>
                </a:xfrm>
                <a:prstGeom prst="bentConnector3">
                  <a:avLst>
                    <a:gd name="adj1" fmla="val 48717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6" name=""/>
                <p:cNvCxnSpPr>
                  <a:stCxn id="1161" idx="3"/>
                  <a:endCxn id="1162" idx="1"/>
                </p:cNvCxnSpPr>
                <p:nvPr/>
              </p:nvCxnSpPr>
              <p:spPr>
                <a:xfrm>
                  <a:off x="1224360" y="6455880"/>
                  <a:ext cx="280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7" name=""/>
                <p:cNvCxnSpPr>
                  <a:stCxn id="1162" idx="3"/>
                  <a:endCxn id="1151" idx="1"/>
                </p:cNvCxnSpPr>
                <p:nvPr/>
              </p:nvCxnSpPr>
              <p:spPr>
                <a:xfrm flipV="1">
                  <a:off x="1285560" y="6333480"/>
                  <a:ext cx="20880" cy="12312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8" name=""/>
                <p:cNvCxnSpPr>
                  <a:stCxn id="1150" idx="3"/>
                  <a:endCxn id="1149" idx="1"/>
                </p:cNvCxnSpPr>
                <p:nvPr/>
              </p:nvCxnSpPr>
              <p:spPr>
                <a:xfrm>
                  <a:off x="1395000" y="6333480"/>
                  <a:ext cx="208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199" name=""/>
                <p:cNvCxnSpPr>
                  <a:stCxn id="1149" idx="3"/>
                  <a:endCxn id="1148" idx="1"/>
                </p:cNvCxnSpPr>
                <p:nvPr/>
              </p:nvCxnSpPr>
              <p:spPr>
                <a:xfrm>
                  <a:off x="1450080" y="6333480"/>
                  <a:ext cx="34920" cy="4140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00" name=""/>
                <p:cNvCxnSpPr>
                  <a:stCxn id="1163" idx="3"/>
                  <a:endCxn id="1149" idx="1"/>
                </p:cNvCxnSpPr>
                <p:nvPr/>
              </p:nvCxnSpPr>
              <p:spPr>
                <a:xfrm flipV="1">
                  <a:off x="1395000" y="6333480"/>
                  <a:ext cx="20880" cy="12312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01" name=""/>
                <p:cNvCxnSpPr>
                  <a:stCxn id="1148" idx="3"/>
                  <a:endCxn id="1166" idx="1"/>
                </p:cNvCxnSpPr>
                <p:nvPr/>
              </p:nvCxnSpPr>
              <p:spPr>
                <a:xfrm>
                  <a:off x="1518840" y="6374160"/>
                  <a:ext cx="28080" cy="41400"/>
                </a:xfrm>
                <a:prstGeom prst="bentConnector3">
                  <a:avLst>
                    <a:gd name="adj1" fmla="val 4935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02" name=""/>
                <p:cNvCxnSpPr>
                  <a:stCxn id="1163" idx="3"/>
                  <a:endCxn id="1164" idx="1"/>
                </p:cNvCxnSpPr>
                <p:nvPr/>
              </p:nvCxnSpPr>
              <p:spPr>
                <a:xfrm>
                  <a:off x="1395000" y="6455880"/>
                  <a:ext cx="2088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03" name=""/>
                <p:cNvCxnSpPr>
                  <a:stCxn id="1164" idx="3"/>
                  <a:endCxn id="1165" idx="1"/>
                </p:cNvCxnSpPr>
                <p:nvPr/>
              </p:nvCxnSpPr>
              <p:spPr>
                <a:xfrm>
                  <a:off x="1450080" y="6455880"/>
                  <a:ext cx="3492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04" name=""/>
                <p:cNvCxnSpPr>
                  <a:stCxn id="1165" idx="3"/>
                  <a:endCxn id="1166" idx="1"/>
                </p:cNvCxnSpPr>
                <p:nvPr/>
              </p:nvCxnSpPr>
              <p:spPr>
                <a:xfrm flipV="1">
                  <a:off x="1518840" y="6414840"/>
                  <a:ext cx="28080" cy="41400"/>
                </a:xfrm>
                <a:prstGeom prst="bentConnector3">
                  <a:avLst>
                    <a:gd name="adj1" fmla="val 4935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05" name=""/>
                <p:cNvCxnSpPr>
                  <a:stCxn id="1166" idx="3"/>
                  <a:endCxn id="1147" idx="1"/>
                </p:cNvCxnSpPr>
                <p:nvPr/>
              </p:nvCxnSpPr>
              <p:spPr>
                <a:xfrm flipV="1">
                  <a:off x="1580040" y="6312600"/>
                  <a:ext cx="20880" cy="10260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</p:grpSp>
        </p:grpSp>
        <p:grpSp>
          <p:nvGrpSpPr>
            <p:cNvPr id="1206" name=""/>
            <p:cNvGrpSpPr/>
            <p:nvPr/>
          </p:nvGrpSpPr>
          <p:grpSpPr>
            <a:xfrm>
              <a:off x="2616120" y="5964120"/>
              <a:ext cx="1271520" cy="762120"/>
              <a:chOff x="2616120" y="5964120"/>
              <a:chExt cx="1271520" cy="762120"/>
            </a:xfrm>
          </p:grpSpPr>
          <p:sp>
            <p:nvSpPr>
              <p:cNvPr id="1207" name=""/>
              <p:cNvSpPr/>
              <p:nvPr/>
            </p:nvSpPr>
            <p:spPr>
              <a:xfrm>
                <a:off x="2616120" y="5964120"/>
                <a:ext cx="1271520" cy="762120"/>
              </a:xfrm>
              <a:custGeom>
                <a:avLst/>
                <a:gdLst>
                  <a:gd name="textAreaLeft" fmla="*/ 158760 w 1271520"/>
                  <a:gd name="textAreaRight" fmla="*/ 1112760 w 1271520"/>
                  <a:gd name="textAreaTop" fmla="*/ 190440 h 762120"/>
                  <a:gd name="textAreaBottom" fmla="*/ 57168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"/>
              <p:cNvGrpSpPr/>
              <p:nvPr/>
            </p:nvGrpSpPr>
            <p:grpSpPr>
              <a:xfrm>
                <a:off x="2771280" y="6217920"/>
                <a:ext cx="960840" cy="253800"/>
                <a:chOff x="2771280" y="6217920"/>
                <a:chExt cx="960840" cy="25380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2771280" y="6233040"/>
                  <a:ext cx="44640" cy="414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42200" y="6233040"/>
                  <a:ext cx="44640" cy="4140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988360" y="6217920"/>
                  <a:ext cx="4428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073680" y="6274800"/>
                  <a:ext cx="4428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236400" y="6274080"/>
                  <a:ext cx="4464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687840" y="6331320"/>
                  <a:ext cx="44280" cy="4212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536640" y="6373800"/>
                  <a:ext cx="44280" cy="4212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447720" y="6345360"/>
                  <a:ext cx="4464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376440" y="6345360"/>
                  <a:ext cx="4464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305520" y="6345360"/>
                  <a:ext cx="4428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216240" y="6345360"/>
                  <a:ext cx="4428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145320" y="6345360"/>
                  <a:ext cx="44280" cy="4212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073680" y="6429600"/>
                  <a:ext cx="4428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957040" y="6330600"/>
                  <a:ext cx="44640" cy="4212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842200" y="6359400"/>
                  <a:ext cx="4464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842200" y="6302880"/>
                  <a:ext cx="4464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153600" y="6429600"/>
                  <a:ext cx="4428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376440" y="6429600"/>
                  <a:ext cx="44640" cy="421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616920" y="6401880"/>
                  <a:ext cx="44280" cy="414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28" name=""/>
                <p:cNvCxnSpPr>
                  <a:stCxn id="1209" idx="3"/>
                  <a:endCxn id="1210" idx="1"/>
                </p:cNvCxnSpPr>
                <p:nvPr/>
              </p:nvCxnSpPr>
              <p:spPr>
                <a:xfrm>
                  <a:off x="2815560" y="6253920"/>
                  <a:ext cx="270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29" name=""/>
                <p:cNvCxnSpPr>
                  <a:endCxn id="1211" idx="1"/>
                </p:cNvCxnSpPr>
                <p:nvPr/>
              </p:nvCxnSpPr>
              <p:spPr>
                <a:xfrm>
                  <a:off x="2961360" y="6238440"/>
                  <a:ext cx="270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0" name=""/>
                <p:cNvCxnSpPr>
                  <a:stCxn id="1211" idx="3"/>
                  <a:endCxn id="1212" idx="1"/>
                </p:cNvCxnSpPr>
                <p:nvPr/>
              </p:nvCxnSpPr>
              <p:spPr>
                <a:xfrm>
                  <a:off x="3032280" y="6238800"/>
                  <a:ext cx="41400" cy="57600"/>
                </a:xfrm>
                <a:prstGeom prst="bentConnector3">
                  <a:avLst>
                    <a:gd name="adj1" fmla="val 49122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1" name=""/>
                <p:cNvCxnSpPr>
                  <a:stCxn id="1212" idx="3"/>
                  <a:endCxn id="1220" idx="1"/>
                </p:cNvCxnSpPr>
                <p:nvPr/>
              </p:nvCxnSpPr>
              <p:spPr>
                <a:xfrm>
                  <a:off x="3117600" y="6296400"/>
                  <a:ext cx="27720" cy="7020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2" name=""/>
                <p:cNvCxnSpPr>
                  <a:stCxn id="1212" idx="3"/>
                  <a:endCxn id="1213" idx="1"/>
                </p:cNvCxnSpPr>
                <p:nvPr/>
              </p:nvCxnSpPr>
              <p:spPr>
                <a:xfrm flipV="1">
                  <a:off x="3117960" y="6294600"/>
                  <a:ext cx="118800" cy="1080"/>
                </a:xfrm>
                <a:prstGeom prst="bentConnector3">
                  <a:avLst>
                    <a:gd name="adj1" fmla="val 49544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3" name=""/>
                <p:cNvCxnSpPr>
                  <a:stCxn id="1220" idx="3"/>
                  <a:endCxn id="1219" idx="1"/>
                </p:cNvCxnSpPr>
                <p:nvPr/>
              </p:nvCxnSpPr>
              <p:spPr>
                <a:xfrm>
                  <a:off x="3189600" y="6366240"/>
                  <a:ext cx="270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4" name=""/>
                <p:cNvCxnSpPr>
                  <a:stCxn id="1219" idx="3"/>
                  <a:endCxn id="1218" idx="1"/>
                </p:cNvCxnSpPr>
                <p:nvPr/>
              </p:nvCxnSpPr>
              <p:spPr>
                <a:xfrm>
                  <a:off x="3260520" y="6366240"/>
                  <a:ext cx="450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5" name=""/>
                <p:cNvCxnSpPr>
                  <a:stCxn id="1213" idx="3"/>
                  <a:endCxn id="1218" idx="0"/>
                </p:cNvCxnSpPr>
                <p:nvPr/>
              </p:nvCxnSpPr>
              <p:spPr>
                <a:xfrm>
                  <a:off x="3280680" y="6295320"/>
                  <a:ext cx="47880" cy="5040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6" name=""/>
                <p:cNvCxnSpPr>
                  <a:stCxn id="1224" idx="3"/>
                  <a:endCxn id="1211" idx="1"/>
                </p:cNvCxnSpPr>
                <p:nvPr/>
              </p:nvCxnSpPr>
              <p:spPr>
                <a:xfrm flipV="1">
                  <a:off x="2886480" y="6238440"/>
                  <a:ext cx="101880" cy="85680"/>
                </a:xfrm>
                <a:prstGeom prst="bentConnector3">
                  <a:avLst>
                    <a:gd name="adj1" fmla="val 49645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7" name=""/>
                <p:cNvCxnSpPr>
                  <a:stCxn id="1223" idx="3"/>
                  <a:endCxn id="1222" idx="1"/>
                </p:cNvCxnSpPr>
                <p:nvPr/>
              </p:nvCxnSpPr>
              <p:spPr>
                <a:xfrm flipV="1">
                  <a:off x="2886480" y="6351480"/>
                  <a:ext cx="70920" cy="29520"/>
                </a:xfrm>
                <a:prstGeom prst="bentConnector3">
                  <a:avLst>
                    <a:gd name="adj1" fmla="val 49489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8" name=""/>
                <p:cNvCxnSpPr>
                  <a:stCxn id="1222" idx="3"/>
                  <a:endCxn id="1211" idx="1"/>
                </p:cNvCxnSpPr>
                <p:nvPr/>
              </p:nvCxnSpPr>
              <p:spPr>
                <a:xfrm flipH="1" flipV="1">
                  <a:off x="2987640" y="6238080"/>
                  <a:ext cx="14040" cy="113400"/>
                </a:xfrm>
                <a:prstGeom prst="bentConnector5">
                  <a:avLst>
                    <a:gd name="adj1" fmla="val -684210"/>
                    <a:gd name="adj2" fmla="val 50000"/>
                    <a:gd name="adj3" fmla="val 78421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39" name=""/>
                <p:cNvCxnSpPr>
                  <a:stCxn id="1218" idx="3"/>
                  <a:endCxn id="1226" idx="1"/>
                </p:cNvCxnSpPr>
                <p:nvPr/>
              </p:nvCxnSpPr>
              <p:spPr>
                <a:xfrm>
                  <a:off x="3349440" y="6366240"/>
                  <a:ext cx="27000" cy="8460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0" name=""/>
                <p:cNvCxnSpPr>
                  <a:stCxn id="1218" idx="3"/>
                  <a:endCxn id="1217" idx="1"/>
                </p:cNvCxnSpPr>
                <p:nvPr/>
              </p:nvCxnSpPr>
              <p:spPr>
                <a:xfrm>
                  <a:off x="3349440" y="6366240"/>
                  <a:ext cx="270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1" name=""/>
                <p:cNvCxnSpPr>
                  <a:stCxn id="1209" idx="3"/>
                  <a:endCxn id="1223" idx="1"/>
                </p:cNvCxnSpPr>
                <p:nvPr/>
              </p:nvCxnSpPr>
              <p:spPr>
                <a:xfrm>
                  <a:off x="2815560" y="6253920"/>
                  <a:ext cx="27000" cy="12672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2" name=""/>
                <p:cNvCxnSpPr>
                  <a:stCxn id="1209" idx="3"/>
                  <a:endCxn id="1224" idx="1"/>
                </p:cNvCxnSpPr>
                <p:nvPr/>
              </p:nvCxnSpPr>
              <p:spPr>
                <a:xfrm>
                  <a:off x="2815560" y="6254280"/>
                  <a:ext cx="27000" cy="7020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3" name=""/>
                <p:cNvCxnSpPr>
                  <a:endCxn id="1220" idx="1"/>
                </p:cNvCxnSpPr>
                <p:nvPr/>
              </p:nvCxnSpPr>
              <p:spPr>
                <a:xfrm flipV="1">
                  <a:off x="2975760" y="6365880"/>
                  <a:ext cx="169920" cy="85320"/>
                </a:xfrm>
                <a:prstGeom prst="bentConnector3">
                  <a:avLst>
                    <a:gd name="adj1" fmla="val 49893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4" name=""/>
                <p:cNvCxnSpPr>
                  <a:stCxn id="1221" idx="3"/>
                  <a:endCxn id="1225" idx="1"/>
                </p:cNvCxnSpPr>
                <p:nvPr/>
              </p:nvCxnSpPr>
              <p:spPr>
                <a:xfrm>
                  <a:off x="3117960" y="6450120"/>
                  <a:ext cx="360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5" name=""/>
                <p:cNvCxnSpPr>
                  <a:stCxn id="1225" idx="3"/>
                  <a:endCxn id="1219" idx="1"/>
                </p:cNvCxnSpPr>
                <p:nvPr/>
              </p:nvCxnSpPr>
              <p:spPr>
                <a:xfrm flipV="1">
                  <a:off x="3198240" y="6365880"/>
                  <a:ext cx="18720" cy="84600"/>
                </a:xfrm>
                <a:prstGeom prst="bentConnector3">
                  <a:avLst>
                    <a:gd name="adj1" fmla="val 49019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6" name=""/>
                <p:cNvCxnSpPr>
                  <a:stCxn id="1217" idx="3"/>
                  <a:endCxn id="1216" idx="1"/>
                </p:cNvCxnSpPr>
                <p:nvPr/>
              </p:nvCxnSpPr>
              <p:spPr>
                <a:xfrm>
                  <a:off x="3420720" y="6366240"/>
                  <a:ext cx="270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7" name=""/>
                <p:cNvCxnSpPr>
                  <a:stCxn id="1216" idx="3"/>
                  <a:endCxn id="1215" idx="1"/>
                </p:cNvCxnSpPr>
                <p:nvPr/>
              </p:nvCxnSpPr>
              <p:spPr>
                <a:xfrm>
                  <a:off x="3492000" y="6366600"/>
                  <a:ext cx="45000" cy="280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8" name=""/>
                <p:cNvCxnSpPr>
                  <a:stCxn id="1226" idx="3"/>
                  <a:endCxn id="1216" idx="1"/>
                </p:cNvCxnSpPr>
                <p:nvPr/>
              </p:nvCxnSpPr>
              <p:spPr>
                <a:xfrm flipV="1">
                  <a:off x="3420720" y="6365880"/>
                  <a:ext cx="27000" cy="8460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49" name=""/>
                <p:cNvCxnSpPr>
                  <a:stCxn id="1215" idx="3"/>
                  <a:endCxn id="1227" idx="1"/>
                </p:cNvCxnSpPr>
                <p:nvPr/>
              </p:nvCxnSpPr>
              <p:spPr>
                <a:xfrm>
                  <a:off x="3581280" y="6394320"/>
                  <a:ext cx="36000" cy="28800"/>
                </a:xfrm>
                <a:prstGeom prst="bentConnector3">
                  <a:avLst>
                    <a:gd name="adj1" fmla="val 49494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50" name=""/>
                <p:cNvCxnSpPr>
                  <a:stCxn id="1227" idx="3"/>
                  <a:endCxn id="1214" idx="1"/>
                </p:cNvCxnSpPr>
                <p:nvPr/>
              </p:nvCxnSpPr>
              <p:spPr>
                <a:xfrm flipV="1">
                  <a:off x="3661200" y="6352560"/>
                  <a:ext cx="27000" cy="7020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51" name=""/>
                <p:cNvCxnSpPr>
                  <a:stCxn id="1223" idx="3"/>
                  <a:endCxn id="1221" idx="1"/>
                </p:cNvCxnSpPr>
                <p:nvPr/>
              </p:nvCxnSpPr>
              <p:spPr>
                <a:xfrm>
                  <a:off x="2886840" y="6380640"/>
                  <a:ext cx="187200" cy="70200"/>
                </a:xfrm>
                <a:prstGeom prst="bentConnector3">
                  <a:avLst>
                    <a:gd name="adj1" fmla="val 4971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</p:grpSp>
        </p:grpSp>
        <p:grpSp>
          <p:nvGrpSpPr>
            <p:cNvPr id="1252" name=""/>
            <p:cNvGrpSpPr/>
            <p:nvPr/>
          </p:nvGrpSpPr>
          <p:grpSpPr>
            <a:xfrm>
              <a:off x="4624560" y="6059520"/>
              <a:ext cx="1071360" cy="569880"/>
              <a:chOff x="4624560" y="6059520"/>
              <a:chExt cx="1071360" cy="569880"/>
            </a:xfrm>
          </p:grpSpPr>
          <p:sp>
            <p:nvSpPr>
              <p:cNvPr id="1253" name=""/>
              <p:cNvSpPr/>
              <p:nvPr/>
            </p:nvSpPr>
            <p:spPr>
              <a:xfrm>
                <a:off x="4624560" y="6059520"/>
                <a:ext cx="1071360" cy="569880"/>
              </a:xfrm>
              <a:custGeom>
                <a:avLst/>
                <a:gdLst>
                  <a:gd name="textAreaLeft" fmla="*/ 0 w 1071360"/>
                  <a:gd name="textAreaRight" fmla="*/ 1071720 w 1071360"/>
                  <a:gd name="textAreaTop" fmla="*/ 0 h 569880"/>
                  <a:gd name="textAreaBottom" fmla="*/ 570240 h 56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252" y="0"/>
                    </a:lnTo>
                    <a:lnTo>
                      <a:pt x="21600" y="10800"/>
                    </a:lnTo>
                    <a:lnTo>
                      <a:pt x="19252" y="21600"/>
                    </a:lnTo>
                    <a:lnTo>
                      <a:pt x="0" y="21600"/>
                    </a:lnTo>
                    <a:lnTo>
                      <a:pt x="2348" y="1080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4" name=""/>
              <p:cNvGrpSpPr/>
              <p:nvPr/>
            </p:nvGrpSpPr>
            <p:grpSpPr>
              <a:xfrm>
                <a:off x="4787280" y="6138720"/>
                <a:ext cx="805680" cy="370440"/>
                <a:chOff x="4787280" y="6138720"/>
                <a:chExt cx="805680" cy="37044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4787280" y="619560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846680" y="6195600"/>
                  <a:ext cx="37080" cy="5508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973760" y="625068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5040720" y="625068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5127480" y="613872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5324400" y="6232320"/>
                  <a:ext cx="37080" cy="5508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384160" y="623232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458680" y="623232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555880" y="6324480"/>
                  <a:ext cx="37080" cy="5544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428800" y="6380280"/>
                  <a:ext cx="37080" cy="5508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354280" y="6342840"/>
                  <a:ext cx="37080" cy="5544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294520" y="6342840"/>
                  <a:ext cx="37080" cy="5544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234760" y="6342840"/>
                  <a:ext cx="37080" cy="5544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160240" y="6342840"/>
                  <a:ext cx="37080" cy="5544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100480" y="6342840"/>
                  <a:ext cx="37080" cy="5544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40720" y="645408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914000" y="6361920"/>
                  <a:ext cx="37080" cy="5508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846680" y="636192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846680" y="628776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846680" y="645408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921560" y="645408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108040" y="645408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94520" y="645408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496120" y="6417000"/>
                  <a:ext cx="37080" cy="55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79" name=""/>
                <p:cNvCxnSpPr>
                  <a:stCxn id="1255" idx="3"/>
                  <a:endCxn id="1256" idx="1"/>
                </p:cNvCxnSpPr>
                <p:nvPr/>
              </p:nvCxnSpPr>
              <p:spPr>
                <a:xfrm>
                  <a:off x="4824360" y="6222960"/>
                  <a:ext cx="230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0" name=""/>
                <p:cNvCxnSpPr>
                  <a:endCxn id="1257" idx="1"/>
                </p:cNvCxnSpPr>
                <p:nvPr/>
              </p:nvCxnSpPr>
              <p:spPr>
                <a:xfrm>
                  <a:off x="4876200" y="6223680"/>
                  <a:ext cx="97560" cy="550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1" name=""/>
                <p:cNvCxnSpPr>
                  <a:endCxn id="1257" idx="1"/>
                </p:cNvCxnSpPr>
                <p:nvPr/>
              </p:nvCxnSpPr>
              <p:spPr>
                <a:xfrm>
                  <a:off x="4951080" y="6278400"/>
                  <a:ext cx="230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2" name=""/>
                <p:cNvCxnSpPr>
                  <a:stCxn id="1257" idx="3"/>
                  <a:endCxn id="1258" idx="1"/>
                </p:cNvCxnSpPr>
                <p:nvPr/>
              </p:nvCxnSpPr>
              <p:spPr>
                <a:xfrm>
                  <a:off x="5010840" y="6278400"/>
                  <a:ext cx="302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3" name=""/>
                <p:cNvCxnSpPr>
                  <a:stCxn id="1258" idx="3"/>
                  <a:endCxn id="1269" idx="1"/>
                </p:cNvCxnSpPr>
                <p:nvPr/>
              </p:nvCxnSpPr>
              <p:spPr>
                <a:xfrm>
                  <a:off x="5078160" y="6278760"/>
                  <a:ext cx="23040" cy="92880"/>
                </a:xfrm>
                <a:prstGeom prst="bentConnector3">
                  <a:avLst>
                    <a:gd name="adj1" fmla="val 49206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4" name=""/>
                <p:cNvCxnSpPr>
                  <a:stCxn id="1258" idx="3"/>
                  <a:endCxn id="1259" idx="1"/>
                </p:cNvCxnSpPr>
                <p:nvPr/>
              </p:nvCxnSpPr>
              <p:spPr>
                <a:xfrm flipV="1">
                  <a:off x="5078160" y="6165720"/>
                  <a:ext cx="49680" cy="112680"/>
                </a:xfrm>
                <a:prstGeom prst="bentConnector3">
                  <a:avLst>
                    <a:gd name="adj1" fmla="val 49635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5" name=""/>
                <p:cNvCxnSpPr>
                  <a:stCxn id="1269" idx="3"/>
                  <a:endCxn id="1268" idx="1"/>
                </p:cNvCxnSpPr>
                <p:nvPr/>
              </p:nvCxnSpPr>
              <p:spPr>
                <a:xfrm>
                  <a:off x="5137920" y="6370560"/>
                  <a:ext cx="230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6" name=""/>
                <p:cNvCxnSpPr>
                  <a:stCxn id="1268" idx="3"/>
                  <a:endCxn id="1267" idx="1"/>
                </p:cNvCxnSpPr>
                <p:nvPr/>
              </p:nvCxnSpPr>
              <p:spPr>
                <a:xfrm>
                  <a:off x="5196960" y="6370560"/>
                  <a:ext cx="378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7" name=""/>
                <p:cNvCxnSpPr>
                  <a:stCxn id="1259" idx="3"/>
                  <a:endCxn id="1267" idx="0"/>
                </p:cNvCxnSpPr>
                <p:nvPr/>
              </p:nvCxnSpPr>
              <p:spPr>
                <a:xfrm>
                  <a:off x="5164560" y="6166440"/>
                  <a:ext cx="89280" cy="17712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8" name=""/>
                <p:cNvCxnSpPr>
                  <a:stCxn id="1273" idx="3"/>
                  <a:endCxn id="1257" idx="1"/>
                </p:cNvCxnSpPr>
                <p:nvPr/>
              </p:nvCxnSpPr>
              <p:spPr>
                <a:xfrm flipV="1">
                  <a:off x="4884120" y="6278400"/>
                  <a:ext cx="90000" cy="37440"/>
                </a:xfrm>
                <a:prstGeom prst="bentConnector3">
                  <a:avLst>
                    <a:gd name="adj1" fmla="val 49799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9" name=""/>
                <p:cNvCxnSpPr>
                  <a:stCxn id="1272" idx="3"/>
                  <a:endCxn id="1271" idx="1"/>
                </p:cNvCxnSpPr>
                <p:nvPr/>
              </p:nvCxnSpPr>
              <p:spPr>
                <a:xfrm>
                  <a:off x="4884120" y="6388920"/>
                  <a:ext cx="302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0" name=""/>
                <p:cNvCxnSpPr>
                  <a:stCxn id="1271" idx="3"/>
                  <a:endCxn id="1257" idx="1"/>
                </p:cNvCxnSpPr>
                <p:nvPr/>
              </p:nvCxnSpPr>
              <p:spPr>
                <a:xfrm flipV="1">
                  <a:off x="4951080" y="6278040"/>
                  <a:ext cx="23040" cy="111240"/>
                </a:xfrm>
                <a:prstGeom prst="bentConnector3">
                  <a:avLst>
                    <a:gd name="adj1" fmla="val 49206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1" name=""/>
                <p:cNvCxnSpPr>
                  <a:stCxn id="1268" idx="3"/>
                  <a:endCxn id="1260" idx="1"/>
                </p:cNvCxnSpPr>
                <p:nvPr/>
              </p:nvCxnSpPr>
              <p:spPr>
                <a:xfrm flipV="1">
                  <a:off x="5197320" y="6260040"/>
                  <a:ext cx="127440" cy="110880"/>
                </a:xfrm>
                <a:prstGeom prst="bentConnector3">
                  <a:avLst>
                    <a:gd name="adj1" fmla="val 49858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2" name=""/>
                <p:cNvCxnSpPr>
                  <a:stCxn id="1267" idx="3"/>
                  <a:endCxn id="1277" idx="1"/>
                </p:cNvCxnSpPr>
                <p:nvPr/>
              </p:nvCxnSpPr>
              <p:spPr>
                <a:xfrm>
                  <a:off x="5272200" y="6370920"/>
                  <a:ext cx="23040" cy="110880"/>
                </a:xfrm>
                <a:prstGeom prst="bentConnector3">
                  <a:avLst>
                    <a:gd name="adj1" fmla="val 49206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3" name=""/>
                <p:cNvCxnSpPr>
                  <a:stCxn id="1267" idx="3"/>
                  <a:endCxn id="1266" idx="1"/>
                </p:cNvCxnSpPr>
                <p:nvPr/>
              </p:nvCxnSpPr>
              <p:spPr>
                <a:xfrm>
                  <a:off x="5272200" y="6370560"/>
                  <a:ext cx="230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4" name=""/>
                <p:cNvCxnSpPr>
                  <a:stCxn id="1260" idx="3"/>
                  <a:endCxn id="1261" idx="1"/>
                </p:cNvCxnSpPr>
                <p:nvPr/>
              </p:nvCxnSpPr>
              <p:spPr>
                <a:xfrm>
                  <a:off x="5361840" y="6260040"/>
                  <a:ext cx="230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5" name=""/>
                <p:cNvCxnSpPr>
                  <a:stCxn id="1261" idx="3"/>
                  <a:endCxn id="1262" idx="1"/>
                </p:cNvCxnSpPr>
                <p:nvPr/>
              </p:nvCxnSpPr>
              <p:spPr>
                <a:xfrm>
                  <a:off x="5420880" y="6260040"/>
                  <a:ext cx="378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6" name=""/>
                <p:cNvCxnSpPr>
                  <a:stCxn id="1261" idx="3"/>
                  <a:endCxn id="1263" idx="1"/>
                </p:cNvCxnSpPr>
                <p:nvPr/>
              </p:nvCxnSpPr>
              <p:spPr>
                <a:xfrm>
                  <a:off x="5420880" y="6260040"/>
                  <a:ext cx="135000" cy="92520"/>
                </a:xfrm>
                <a:prstGeom prst="bentConnector3">
                  <a:avLst>
                    <a:gd name="adj1" fmla="val 13636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7" name=""/>
                <p:cNvCxnSpPr>
                  <a:stCxn id="1274" idx="3"/>
                  <a:endCxn id="1271" idx="1"/>
                </p:cNvCxnSpPr>
                <p:nvPr/>
              </p:nvCxnSpPr>
              <p:spPr>
                <a:xfrm flipV="1">
                  <a:off x="4884120" y="6388560"/>
                  <a:ext cx="30240" cy="92520"/>
                </a:xfrm>
                <a:prstGeom prst="bentConnector3">
                  <a:avLst>
                    <a:gd name="adj1" fmla="val 49397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8" name=""/>
                <p:cNvCxnSpPr>
                  <a:stCxn id="1255" idx="3"/>
                  <a:endCxn id="1272" idx="1"/>
                </p:cNvCxnSpPr>
                <p:nvPr/>
              </p:nvCxnSpPr>
              <p:spPr>
                <a:xfrm>
                  <a:off x="4824360" y="6223320"/>
                  <a:ext cx="23040" cy="166320"/>
                </a:xfrm>
                <a:prstGeom prst="bentConnector3">
                  <a:avLst>
                    <a:gd name="adj1" fmla="val 49206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99" name=""/>
                <p:cNvCxnSpPr>
                  <a:stCxn id="1255" idx="3"/>
                  <a:endCxn id="1273" idx="1"/>
                </p:cNvCxnSpPr>
                <p:nvPr/>
              </p:nvCxnSpPr>
              <p:spPr>
                <a:xfrm>
                  <a:off x="4824360" y="6223320"/>
                  <a:ext cx="23040" cy="92880"/>
                </a:xfrm>
                <a:prstGeom prst="bentConnector3">
                  <a:avLst>
                    <a:gd name="adj1" fmla="val 49206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0" name=""/>
                <p:cNvCxnSpPr>
                  <a:stCxn id="1274" idx="3"/>
                  <a:endCxn id="1275" idx="1"/>
                </p:cNvCxnSpPr>
                <p:nvPr/>
              </p:nvCxnSpPr>
              <p:spPr>
                <a:xfrm>
                  <a:off x="4883760" y="6481080"/>
                  <a:ext cx="3780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1" name=""/>
                <p:cNvCxnSpPr>
                  <a:stCxn id="1275" idx="3"/>
                  <a:endCxn id="1269" idx="1"/>
                </p:cNvCxnSpPr>
                <p:nvPr/>
              </p:nvCxnSpPr>
              <p:spPr>
                <a:xfrm flipV="1">
                  <a:off x="4958280" y="6370560"/>
                  <a:ext cx="142200" cy="11160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2" name=""/>
                <p:cNvCxnSpPr>
                  <a:stCxn id="1275" idx="3"/>
                  <a:endCxn id="1270" idx="1"/>
                </p:cNvCxnSpPr>
                <p:nvPr/>
              </p:nvCxnSpPr>
              <p:spPr>
                <a:xfrm>
                  <a:off x="4958280" y="6481080"/>
                  <a:ext cx="824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3" name=""/>
                <p:cNvCxnSpPr>
                  <a:stCxn id="1270" idx="3"/>
                  <a:endCxn id="1276" idx="1"/>
                </p:cNvCxnSpPr>
                <p:nvPr/>
              </p:nvCxnSpPr>
              <p:spPr>
                <a:xfrm>
                  <a:off x="5078160" y="6481080"/>
                  <a:ext cx="302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4" name=""/>
                <p:cNvCxnSpPr>
                  <a:stCxn id="1276" idx="3"/>
                  <a:endCxn id="1268" idx="1"/>
                </p:cNvCxnSpPr>
                <p:nvPr/>
              </p:nvCxnSpPr>
              <p:spPr>
                <a:xfrm flipV="1">
                  <a:off x="5144760" y="6370560"/>
                  <a:ext cx="15480" cy="1108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5" name=""/>
                <p:cNvCxnSpPr>
                  <a:stCxn id="1266" idx="3"/>
                  <a:endCxn id="1265" idx="1"/>
                </p:cNvCxnSpPr>
                <p:nvPr/>
              </p:nvCxnSpPr>
              <p:spPr>
                <a:xfrm>
                  <a:off x="5331960" y="6370560"/>
                  <a:ext cx="23040" cy="108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6" name=""/>
                <p:cNvCxnSpPr>
                  <a:stCxn id="1265" idx="3"/>
                  <a:endCxn id="1264" idx="1"/>
                </p:cNvCxnSpPr>
                <p:nvPr/>
              </p:nvCxnSpPr>
              <p:spPr>
                <a:xfrm>
                  <a:off x="5391000" y="6370920"/>
                  <a:ext cx="37800" cy="3744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7" name=""/>
                <p:cNvCxnSpPr>
                  <a:stCxn id="1277" idx="3"/>
                  <a:endCxn id="1265" idx="1"/>
                </p:cNvCxnSpPr>
                <p:nvPr/>
              </p:nvCxnSpPr>
              <p:spPr>
                <a:xfrm flipV="1">
                  <a:off x="5331960" y="6370560"/>
                  <a:ext cx="23040" cy="110880"/>
                </a:xfrm>
                <a:prstGeom prst="bentConnector3">
                  <a:avLst>
                    <a:gd name="adj1" fmla="val 49206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8" name=""/>
                <p:cNvCxnSpPr>
                  <a:stCxn id="1264" idx="3"/>
                  <a:endCxn id="1278" idx="1"/>
                </p:cNvCxnSpPr>
                <p:nvPr/>
              </p:nvCxnSpPr>
              <p:spPr>
                <a:xfrm>
                  <a:off x="5466240" y="6407640"/>
                  <a:ext cx="30240" cy="37440"/>
                </a:xfrm>
                <a:prstGeom prst="bentConnector3">
                  <a:avLst>
                    <a:gd name="adj1" fmla="val 49397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09" name=""/>
                <p:cNvCxnSpPr>
                  <a:stCxn id="1278" idx="3"/>
                  <a:endCxn id="1263" idx="1"/>
                </p:cNvCxnSpPr>
                <p:nvPr/>
              </p:nvCxnSpPr>
              <p:spPr>
                <a:xfrm flipV="1">
                  <a:off x="5533200" y="6351840"/>
                  <a:ext cx="23040" cy="92880"/>
                </a:xfrm>
                <a:prstGeom prst="bentConnector3">
                  <a:avLst>
                    <a:gd name="adj1" fmla="val 49206"/>
                  </a:avLst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</p:grpSp>
        </p:grpSp>
        <p:sp>
          <p:nvSpPr>
            <p:cNvPr id="1310" name=""/>
            <p:cNvSpPr/>
            <p:nvPr/>
          </p:nvSpPr>
          <p:spPr>
            <a:xfrm>
              <a:off x="607680" y="5670720"/>
              <a:ext cx="11628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t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647800" y="5670720"/>
              <a:ext cx="11628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t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68760" y="5670720"/>
              <a:ext cx="11628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t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52520" y="925560"/>
              <a:ext cx="840240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ferenciados por uma combinação de fatores, como: setor, tecnologia, estratégia de fornecimento, responsabilidade, grau de inovação etc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67880" y="1801800"/>
              <a:ext cx="1315080" cy="6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tor 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: mecâ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strat: M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648160" y="1806480"/>
              <a:ext cx="1348560" cy="6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tor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: eletrô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strat: 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228560" y="1836720"/>
              <a:ext cx="1414080" cy="6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tor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: montag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strat: M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880240" y="1601640"/>
              <a:ext cx="1585080" cy="6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tor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: mecatrô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strat: M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885080" y="1608120"/>
              <a:ext cx="865440" cy="6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or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.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....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039000" y="5740560"/>
              <a:ext cx="2751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tos derivados de um modelo de referência específ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36400" y="3340080"/>
              <a:ext cx="1779840" cy="1549440"/>
            </a:xfrm>
            <a:custGeom>
              <a:avLst/>
              <a:gdLst/>
              <a:ahLst/>
              <a:rect l="l" t="t" r="r" b="b"/>
              <a:pathLst>
                <a:path w="1121" h="976">
                  <a:moveTo>
                    <a:pt x="0" y="23"/>
                  </a:moveTo>
                  <a:lnTo>
                    <a:pt x="130" y="976"/>
                  </a:lnTo>
                  <a:lnTo>
                    <a:pt x="706" y="976"/>
                  </a:lnTo>
                  <a:lnTo>
                    <a:pt x="1121" y="0"/>
                  </a:lnTo>
                </a:path>
              </a:pathLst>
            </a:custGeom>
            <a:solidFill>
              <a:srgbClr val="ffff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1" name=""/>
            <p:cNvGrpSpPr/>
            <p:nvPr/>
          </p:nvGrpSpPr>
          <p:grpSpPr>
            <a:xfrm>
              <a:off x="709560" y="4782960"/>
              <a:ext cx="1123920" cy="541440"/>
              <a:chOff x="709560" y="4782960"/>
              <a:chExt cx="1123920" cy="541440"/>
            </a:xfrm>
          </p:grpSpPr>
          <p:sp>
            <p:nvSpPr>
              <p:cNvPr id="1322" name=""/>
              <p:cNvSpPr/>
              <p:nvPr/>
            </p:nvSpPr>
            <p:spPr>
              <a:xfrm>
                <a:off x="709560" y="4782960"/>
                <a:ext cx="1123920" cy="541440"/>
              </a:xfrm>
              <a:prstGeom prst="rightArrow">
                <a:avLst>
                  <a:gd name="adj1" fmla="val 77731"/>
                  <a:gd name="adj2" fmla="val 26841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246320" y="5156280"/>
                <a:ext cx="60480" cy="766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033200" y="4988160"/>
                <a:ext cx="60480" cy="766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337400" y="4913280"/>
                <a:ext cx="90720" cy="766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560240" y="5081760"/>
                <a:ext cx="50040" cy="6372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91360" y="5062680"/>
                <a:ext cx="40680" cy="388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70040" y="5137560"/>
                <a:ext cx="40680" cy="388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29720" y="4913280"/>
                <a:ext cx="60480" cy="766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337400" y="5081760"/>
                <a:ext cx="40320" cy="7596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62640" y="5137560"/>
                <a:ext cx="90720" cy="766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205640" y="4895280"/>
                <a:ext cx="40680" cy="7560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600560" y="4913280"/>
                <a:ext cx="60480" cy="766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932400" y="4876200"/>
                <a:ext cx="40320" cy="7596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398240" y="5175000"/>
                <a:ext cx="40320" cy="7632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175040" y="5044680"/>
                <a:ext cx="40680" cy="7596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063800" y="4895280"/>
                <a:ext cx="40680" cy="3852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124280" y="5194080"/>
                <a:ext cx="40680" cy="3852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468800" y="5044680"/>
                <a:ext cx="40680" cy="3852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479240" y="4876200"/>
                <a:ext cx="40320" cy="3852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529640" y="5194080"/>
                <a:ext cx="40680" cy="3852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42" name=""/>
              <p:cNvCxnSpPr>
                <a:stCxn id="1329" idx="3"/>
                <a:endCxn id="1334" idx="1"/>
              </p:cNvCxnSpPr>
              <p:nvPr/>
            </p:nvCxnSpPr>
            <p:spPr>
              <a:xfrm flipV="1">
                <a:off x="790200" y="4914000"/>
                <a:ext cx="142200" cy="38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43" name=""/>
              <p:cNvCxnSpPr>
                <a:stCxn id="1328" idx="3"/>
                <a:endCxn id="1327" idx="1"/>
              </p:cNvCxnSpPr>
              <p:nvPr/>
            </p:nvCxnSpPr>
            <p:spPr>
              <a:xfrm flipV="1">
                <a:off x="810720" y="5082120"/>
                <a:ext cx="81360" cy="752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44" name=""/>
              <p:cNvCxnSpPr>
                <a:stCxn id="1327" idx="2"/>
                <a:endCxn id="1331" idx="1"/>
              </p:cNvCxnSpPr>
              <p:nvPr/>
            </p:nvCxnSpPr>
            <p:spPr>
              <a:xfrm>
                <a:off x="911880" y="5101560"/>
                <a:ext cx="51120" cy="745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45" name=""/>
              <p:cNvCxnSpPr>
                <a:stCxn id="1327" idx="0"/>
                <a:endCxn id="1334" idx="2"/>
              </p:cNvCxnSpPr>
              <p:nvPr/>
            </p:nvCxnSpPr>
            <p:spPr>
              <a:xfrm flipV="1">
                <a:off x="911880" y="4952160"/>
                <a:ext cx="40680" cy="1108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46" name=""/>
              <p:cNvCxnSpPr>
                <a:stCxn id="1334" idx="3"/>
                <a:endCxn id="1337" idx="1"/>
              </p:cNvCxnSpPr>
              <p:nvPr/>
            </p:nvCxnSpPr>
            <p:spPr>
              <a:xfrm>
                <a:off x="972720" y="4914000"/>
                <a:ext cx="9144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47" name=""/>
              <p:cNvCxnSpPr>
                <a:stCxn id="1331" idx="0"/>
                <a:endCxn id="1324" idx="2"/>
              </p:cNvCxnSpPr>
              <p:nvPr/>
            </p:nvCxnSpPr>
            <p:spPr>
              <a:xfrm flipV="1">
                <a:off x="1008360" y="5064120"/>
                <a:ext cx="56160" cy="73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48" name=""/>
              <p:cNvCxnSpPr>
                <a:stCxn id="1324" idx="0"/>
                <a:endCxn id="1337" idx="2"/>
              </p:cNvCxnSpPr>
              <p:nvPr/>
            </p:nvCxnSpPr>
            <p:spPr>
              <a:xfrm flipV="1">
                <a:off x="1063800" y="4933440"/>
                <a:ext cx="20880" cy="547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49" name=""/>
              <p:cNvCxnSpPr>
                <a:stCxn id="1324" idx="3"/>
                <a:endCxn id="1336" idx="1"/>
              </p:cNvCxnSpPr>
              <p:nvPr/>
            </p:nvCxnSpPr>
            <p:spPr>
              <a:xfrm>
                <a:off x="1093680" y="5026320"/>
                <a:ext cx="81360" cy="565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50" name=""/>
              <p:cNvCxnSpPr>
                <a:stCxn id="1331" idx="3"/>
                <a:endCxn id="1338" idx="1"/>
              </p:cNvCxnSpPr>
              <p:nvPr/>
            </p:nvCxnSpPr>
            <p:spPr>
              <a:xfrm>
                <a:off x="1053720" y="5175720"/>
                <a:ext cx="71280" cy="378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51" name=""/>
              <p:cNvCxnSpPr>
                <a:stCxn id="1338" idx="3"/>
                <a:endCxn id="1323" idx="1"/>
              </p:cNvCxnSpPr>
              <p:nvPr/>
            </p:nvCxnSpPr>
            <p:spPr>
              <a:xfrm flipV="1">
                <a:off x="1164960" y="5194800"/>
                <a:ext cx="81360" cy="187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52" name=""/>
              <p:cNvCxnSpPr>
                <a:stCxn id="1336" idx="2"/>
                <a:endCxn id="1323" idx="0"/>
              </p:cNvCxnSpPr>
              <p:nvPr/>
            </p:nvCxnSpPr>
            <p:spPr>
              <a:xfrm>
                <a:off x="1195200" y="5121000"/>
                <a:ext cx="81360" cy="360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53" name=""/>
              <p:cNvCxnSpPr>
                <a:stCxn id="1336" idx="0"/>
                <a:endCxn id="1332" idx="2"/>
              </p:cNvCxnSpPr>
              <p:nvPr/>
            </p:nvCxnSpPr>
            <p:spPr>
              <a:xfrm flipV="1">
                <a:off x="1195560" y="4970520"/>
                <a:ext cx="30600" cy="74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54" name=""/>
              <p:cNvCxnSpPr>
                <a:stCxn id="1337" idx="3"/>
                <a:endCxn id="1332" idx="1"/>
              </p:cNvCxnSpPr>
              <p:nvPr/>
            </p:nvCxnSpPr>
            <p:spPr>
              <a:xfrm>
                <a:off x="1104480" y="4914360"/>
                <a:ext cx="101520" cy="194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55" name=""/>
              <p:cNvCxnSpPr>
                <a:stCxn id="1332" idx="3"/>
                <a:endCxn id="1325" idx="1"/>
              </p:cNvCxnSpPr>
              <p:nvPr/>
            </p:nvCxnSpPr>
            <p:spPr>
              <a:xfrm>
                <a:off x="1246320" y="4933440"/>
                <a:ext cx="91440" cy="194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56" name=""/>
              <p:cNvCxnSpPr>
                <a:stCxn id="1357" idx="3"/>
                <a:endCxn id="1325" idx="1"/>
              </p:cNvCxnSpPr>
              <p:nvPr/>
            </p:nvCxnSpPr>
            <p:spPr>
              <a:xfrm flipV="1">
                <a:off x="1307160" y="4951800"/>
                <a:ext cx="30600" cy="972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58" name=""/>
              <p:cNvCxnSpPr>
                <a:stCxn id="1323" idx="3"/>
                <a:endCxn id="1335" idx="1"/>
              </p:cNvCxnSpPr>
              <p:nvPr/>
            </p:nvCxnSpPr>
            <p:spPr>
              <a:xfrm>
                <a:off x="1307160" y="5195160"/>
                <a:ext cx="91440" cy="187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59" name=""/>
              <p:cNvCxnSpPr>
                <a:stCxn id="1325" idx="2"/>
                <a:endCxn id="1330" idx="0"/>
              </p:cNvCxnSpPr>
              <p:nvPr/>
            </p:nvCxnSpPr>
            <p:spPr>
              <a:xfrm flipH="1">
                <a:off x="1356480" y="4989960"/>
                <a:ext cx="26280" cy="918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60" name=""/>
              <p:cNvCxnSpPr>
                <a:stCxn id="1325" idx="3"/>
                <a:endCxn id="1340" idx="1"/>
              </p:cNvCxnSpPr>
              <p:nvPr/>
            </p:nvCxnSpPr>
            <p:spPr>
              <a:xfrm flipV="1">
                <a:off x="1428480" y="4895280"/>
                <a:ext cx="51120" cy="568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61" name=""/>
              <p:cNvCxnSpPr>
                <a:stCxn id="1340" idx="3"/>
                <a:endCxn id="1333" idx="0"/>
              </p:cNvCxnSpPr>
              <p:nvPr/>
            </p:nvCxnSpPr>
            <p:spPr>
              <a:xfrm>
                <a:off x="1519200" y="4895280"/>
                <a:ext cx="111960" cy="183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62" name=""/>
              <p:cNvCxnSpPr>
                <a:stCxn id="1339" idx="3"/>
                <a:endCxn id="1326" idx="1"/>
              </p:cNvCxnSpPr>
              <p:nvPr/>
            </p:nvCxnSpPr>
            <p:spPr>
              <a:xfrm>
                <a:off x="1509480" y="5063760"/>
                <a:ext cx="51120" cy="504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63" name=""/>
              <p:cNvCxnSpPr>
                <a:stCxn id="1335" idx="3"/>
                <a:endCxn id="1339" idx="2"/>
              </p:cNvCxnSpPr>
              <p:nvPr/>
            </p:nvCxnSpPr>
            <p:spPr>
              <a:xfrm flipV="1">
                <a:off x="1438560" y="5082480"/>
                <a:ext cx="51120" cy="1306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64" name=""/>
              <p:cNvCxnSpPr>
                <a:stCxn id="1333" idx="2"/>
                <a:endCxn id="1326" idx="0"/>
              </p:cNvCxnSpPr>
              <p:nvPr/>
            </p:nvCxnSpPr>
            <p:spPr>
              <a:xfrm flipH="1">
                <a:off x="1585080" y="4989960"/>
                <a:ext cx="46080" cy="918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65" name=""/>
              <p:cNvCxnSpPr>
                <a:stCxn id="1341" idx="0"/>
                <a:endCxn id="1326" idx="2"/>
              </p:cNvCxnSpPr>
              <p:nvPr/>
            </p:nvCxnSpPr>
            <p:spPr>
              <a:xfrm flipV="1">
                <a:off x="1549800" y="5145120"/>
                <a:ext cx="36000" cy="489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sp>
            <p:nvSpPr>
              <p:cNvPr id="1366" name=""/>
              <p:cNvSpPr/>
              <p:nvPr/>
            </p:nvSpPr>
            <p:spPr>
              <a:xfrm>
                <a:off x="1671480" y="5081760"/>
                <a:ext cx="50400" cy="6372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67" name=""/>
              <p:cNvCxnSpPr>
                <a:stCxn id="1326" idx="3"/>
                <a:endCxn id="1366" idx="1"/>
              </p:cNvCxnSpPr>
              <p:nvPr/>
            </p:nvCxnSpPr>
            <p:spPr>
              <a:xfrm>
                <a:off x="1610640" y="5113440"/>
                <a:ext cx="6120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68" name=""/>
              <p:cNvCxnSpPr>
                <a:stCxn id="1333" idx="3"/>
                <a:endCxn id="1366" idx="0"/>
              </p:cNvCxnSpPr>
              <p:nvPr/>
            </p:nvCxnSpPr>
            <p:spPr>
              <a:xfrm>
                <a:off x="1661400" y="4951800"/>
                <a:ext cx="36000" cy="1299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69" name=""/>
              <p:cNvCxnSpPr>
                <a:stCxn id="1341" idx="3"/>
                <a:endCxn id="1366" idx="2"/>
              </p:cNvCxnSpPr>
              <p:nvPr/>
            </p:nvCxnSpPr>
            <p:spPr>
              <a:xfrm flipV="1">
                <a:off x="1569960" y="5145120"/>
                <a:ext cx="126720" cy="684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70" name=""/>
              <p:cNvCxnSpPr>
                <a:stCxn id="1327" idx="3"/>
                <a:endCxn id="1324" idx="1"/>
              </p:cNvCxnSpPr>
              <p:nvPr/>
            </p:nvCxnSpPr>
            <p:spPr>
              <a:xfrm flipV="1">
                <a:off x="932400" y="5025960"/>
                <a:ext cx="101520" cy="565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71" name=""/>
              <p:cNvCxnSpPr>
                <a:stCxn id="1336" idx="3"/>
                <a:endCxn id="1357" idx="1"/>
              </p:cNvCxnSpPr>
              <p:nvPr/>
            </p:nvCxnSpPr>
            <p:spPr>
              <a:xfrm flipV="1">
                <a:off x="1215720" y="5048280"/>
                <a:ext cx="50760" cy="345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72" name=""/>
              <p:cNvCxnSpPr>
                <a:stCxn id="1330" idx="3"/>
                <a:endCxn id="1339" idx="1"/>
              </p:cNvCxnSpPr>
              <p:nvPr/>
            </p:nvCxnSpPr>
            <p:spPr>
              <a:xfrm flipV="1">
                <a:off x="1377720" y="5063040"/>
                <a:ext cx="91440" cy="565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373" name=""/>
              <p:cNvCxnSpPr>
                <a:stCxn id="1357" idx="2"/>
                <a:endCxn id="1330" idx="1"/>
              </p:cNvCxnSpPr>
              <p:nvPr/>
            </p:nvCxnSpPr>
            <p:spPr>
              <a:xfrm>
                <a:off x="1286640" y="5072040"/>
                <a:ext cx="51120" cy="478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sp>
            <p:nvSpPr>
              <p:cNvPr id="1357" name=""/>
              <p:cNvSpPr/>
              <p:nvPr/>
            </p:nvSpPr>
            <p:spPr>
              <a:xfrm>
                <a:off x="1266120" y="5025600"/>
                <a:ext cx="40680" cy="4644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25600" y="2519280"/>
              <a:ext cx="1854000" cy="890640"/>
              <a:chOff x="525600" y="2519280"/>
              <a:chExt cx="1854000" cy="890640"/>
            </a:xfrm>
          </p:grpSpPr>
          <p:sp>
            <p:nvSpPr>
              <p:cNvPr id="1375" name=""/>
              <p:cNvSpPr/>
              <p:nvPr/>
            </p:nvSpPr>
            <p:spPr>
              <a:xfrm>
                <a:off x="525600" y="2519280"/>
                <a:ext cx="1854000" cy="8906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28920" y="2891880"/>
                <a:ext cx="203760" cy="207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650600" y="2690280"/>
                <a:ext cx="306000" cy="207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650600" y="3144240"/>
                <a:ext cx="135360" cy="205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207800" y="2640960"/>
                <a:ext cx="136800" cy="204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105560" y="3044160"/>
                <a:ext cx="137160" cy="205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31160" y="2640960"/>
                <a:ext cx="136800" cy="1044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092320" y="3044160"/>
                <a:ext cx="137160" cy="1044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127240" y="2590200"/>
                <a:ext cx="135360" cy="1040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84" name=""/>
              <p:cNvCxnSpPr>
                <a:stCxn id="1376" idx="0"/>
                <a:endCxn id="1381" idx="2"/>
              </p:cNvCxnSpPr>
              <p:nvPr/>
            </p:nvCxnSpPr>
            <p:spPr>
              <a:xfrm flipV="1">
                <a:off x="731160" y="2745000"/>
                <a:ext cx="69120" cy="1468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85" name=""/>
              <p:cNvCxnSpPr>
                <a:stCxn id="1376" idx="3"/>
                <a:endCxn id="1380" idx="1"/>
              </p:cNvCxnSpPr>
              <p:nvPr/>
            </p:nvCxnSpPr>
            <p:spPr>
              <a:xfrm>
                <a:off x="832320" y="2995920"/>
                <a:ext cx="273240" cy="15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86" name=""/>
              <p:cNvCxnSpPr>
                <a:stCxn id="1380" idx="2"/>
              </p:cNvCxnSpPr>
              <p:nvPr/>
            </p:nvCxnSpPr>
            <p:spPr>
              <a:xfrm>
                <a:off x="1173600" y="3249720"/>
                <a:ext cx="273240" cy="96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87" name=""/>
              <p:cNvCxnSpPr>
                <a:stCxn id="1380" idx="0"/>
                <a:endCxn id="1379" idx="2"/>
              </p:cNvCxnSpPr>
              <p:nvPr/>
            </p:nvCxnSpPr>
            <p:spPr>
              <a:xfrm flipV="1">
                <a:off x="1173600" y="2845080"/>
                <a:ext cx="102600" cy="199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88" name=""/>
              <p:cNvCxnSpPr>
                <a:stCxn id="1381" idx="3"/>
                <a:endCxn id="1379" idx="1"/>
              </p:cNvCxnSpPr>
              <p:nvPr/>
            </p:nvCxnSpPr>
            <p:spPr>
              <a:xfrm>
                <a:off x="867600" y="2693160"/>
                <a:ext cx="340200" cy="51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89" name=""/>
              <p:cNvCxnSpPr>
                <a:stCxn id="1379" idx="3"/>
                <a:endCxn id="1377" idx="1"/>
              </p:cNvCxnSpPr>
              <p:nvPr/>
            </p:nvCxnSpPr>
            <p:spPr>
              <a:xfrm>
                <a:off x="1344600" y="2743560"/>
                <a:ext cx="306720" cy="5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90" name=""/>
              <p:cNvCxnSpPr>
                <a:stCxn id="1391" idx="3"/>
                <a:endCxn id="1377" idx="1"/>
              </p:cNvCxnSpPr>
              <p:nvPr/>
            </p:nvCxnSpPr>
            <p:spPr>
              <a:xfrm flipV="1">
                <a:off x="1548720" y="2793960"/>
                <a:ext cx="102240" cy="263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92" name=""/>
              <p:cNvCxnSpPr>
                <a:stCxn id="1377" idx="2"/>
                <a:endCxn id="1378" idx="0"/>
              </p:cNvCxnSpPr>
              <p:nvPr/>
            </p:nvCxnSpPr>
            <p:spPr>
              <a:xfrm flipH="1">
                <a:off x="1719000" y="2897640"/>
                <a:ext cx="84960" cy="246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93" name=""/>
              <p:cNvCxnSpPr>
                <a:stCxn id="1377" idx="3"/>
                <a:endCxn id="1383" idx="1"/>
              </p:cNvCxnSpPr>
              <p:nvPr/>
            </p:nvCxnSpPr>
            <p:spPr>
              <a:xfrm flipV="1">
                <a:off x="1956240" y="2641680"/>
                <a:ext cx="171000" cy="1530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94" name=""/>
              <p:cNvCxnSpPr>
                <a:stCxn id="1380" idx="3"/>
                <a:endCxn id="1391" idx="1"/>
              </p:cNvCxnSpPr>
              <p:nvPr/>
            </p:nvCxnSpPr>
            <p:spPr>
              <a:xfrm flipV="1">
                <a:off x="1242360" y="3056760"/>
                <a:ext cx="169560" cy="90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95" name=""/>
              <p:cNvCxnSpPr>
                <a:stCxn id="1378" idx="3"/>
                <a:endCxn id="1382" idx="1"/>
              </p:cNvCxnSpPr>
              <p:nvPr/>
            </p:nvCxnSpPr>
            <p:spPr>
              <a:xfrm flipV="1">
                <a:off x="1785960" y="3096000"/>
                <a:ext cx="306720" cy="1512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396" name=""/>
              <p:cNvCxnSpPr>
                <a:stCxn id="1391" idx="2"/>
                <a:endCxn id="1378" idx="1"/>
              </p:cNvCxnSpPr>
              <p:nvPr/>
            </p:nvCxnSpPr>
            <p:spPr>
              <a:xfrm>
                <a:off x="1479600" y="3119400"/>
                <a:ext cx="171000" cy="128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1391" name=""/>
              <p:cNvSpPr/>
              <p:nvPr/>
            </p:nvSpPr>
            <p:spPr>
              <a:xfrm>
                <a:off x="1411560" y="2993400"/>
                <a:ext cx="137160" cy="1260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7" name=""/>
            <p:cNvSpPr/>
            <p:nvPr/>
          </p:nvSpPr>
          <p:spPr>
            <a:xfrm>
              <a:off x="2560680" y="3365640"/>
              <a:ext cx="5608440" cy="1511280"/>
            </a:xfrm>
            <a:custGeom>
              <a:avLst/>
              <a:gdLst/>
              <a:ahLst/>
              <a:rect l="l" t="t" r="r" b="b"/>
              <a:pathLst>
                <a:path w="3533" h="952">
                  <a:moveTo>
                    <a:pt x="0" y="0"/>
                  </a:moveTo>
                  <a:lnTo>
                    <a:pt x="123" y="944"/>
                  </a:lnTo>
                  <a:lnTo>
                    <a:pt x="3517" y="952"/>
                  </a:lnTo>
                  <a:lnTo>
                    <a:pt x="3533" y="852"/>
                  </a:lnTo>
                  <a:lnTo>
                    <a:pt x="906" y="15"/>
                  </a:lnTo>
                </a:path>
              </a:pathLst>
            </a:custGeom>
            <a:solidFill>
              <a:srgbClr val="ffcc99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8" name=""/>
            <p:cNvGrpSpPr/>
            <p:nvPr/>
          </p:nvGrpSpPr>
          <p:grpSpPr>
            <a:xfrm>
              <a:off x="2549520" y="2614680"/>
              <a:ext cx="1495440" cy="795240"/>
              <a:chOff x="2549520" y="2614680"/>
              <a:chExt cx="1495440" cy="795240"/>
            </a:xfrm>
          </p:grpSpPr>
          <p:sp>
            <p:nvSpPr>
              <p:cNvPr id="1399" name=""/>
              <p:cNvSpPr/>
              <p:nvPr/>
            </p:nvSpPr>
            <p:spPr>
              <a:xfrm>
                <a:off x="2549520" y="2614680"/>
                <a:ext cx="1495440" cy="795240"/>
              </a:xfrm>
              <a:prstGeom prst="rect">
                <a:avLst/>
              </a:prstGeom>
              <a:solidFill>
                <a:srgbClr val="ff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581280" y="2905200"/>
                <a:ext cx="194040" cy="1490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127320" y="3050280"/>
                <a:ext cx="130320" cy="759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738160" y="3195360"/>
                <a:ext cx="130320" cy="759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609280" y="2760480"/>
                <a:ext cx="194040" cy="1490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354840" y="3195360"/>
                <a:ext cx="291600" cy="1490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257640" y="2688480"/>
                <a:ext cx="128880" cy="1479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678120" y="2724840"/>
                <a:ext cx="130680" cy="748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7" name=""/>
              <p:cNvCxnSpPr>
                <a:stCxn id="1403" idx="3"/>
                <a:endCxn id="1405" idx="1"/>
              </p:cNvCxnSpPr>
              <p:nvPr/>
            </p:nvCxnSpPr>
            <p:spPr>
              <a:xfrm flipV="1">
                <a:off x="2802960" y="2762280"/>
                <a:ext cx="454680" cy="73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08" name=""/>
              <p:cNvCxnSpPr>
                <a:stCxn id="1402" idx="3"/>
                <a:endCxn id="1401" idx="1"/>
              </p:cNvCxnSpPr>
              <p:nvPr/>
            </p:nvCxnSpPr>
            <p:spPr>
              <a:xfrm flipV="1">
                <a:off x="2868480" y="3088440"/>
                <a:ext cx="259200" cy="145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09" name=""/>
              <p:cNvCxnSpPr>
                <a:stCxn id="1401" idx="2"/>
                <a:endCxn id="1404" idx="1"/>
              </p:cNvCxnSpPr>
              <p:nvPr/>
            </p:nvCxnSpPr>
            <p:spPr>
              <a:xfrm>
                <a:off x="3192120" y="3125880"/>
                <a:ext cx="162720" cy="144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10" name=""/>
              <p:cNvCxnSpPr>
                <a:stCxn id="1401" idx="0"/>
                <a:endCxn id="1405" idx="2"/>
              </p:cNvCxnSpPr>
              <p:nvPr/>
            </p:nvCxnSpPr>
            <p:spPr>
              <a:xfrm flipV="1">
                <a:off x="3192480" y="2835720"/>
                <a:ext cx="131040" cy="2142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11" name=""/>
              <p:cNvCxnSpPr>
                <a:stCxn id="1405" idx="3"/>
                <a:endCxn id="1406" idx="1"/>
              </p:cNvCxnSpPr>
              <p:nvPr/>
            </p:nvCxnSpPr>
            <p:spPr>
              <a:xfrm>
                <a:off x="3386520" y="2762280"/>
                <a:ext cx="2919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12" name=""/>
              <p:cNvCxnSpPr>
                <a:stCxn id="1404" idx="0"/>
                <a:endCxn id="1400" idx="2"/>
              </p:cNvCxnSpPr>
              <p:nvPr/>
            </p:nvCxnSpPr>
            <p:spPr>
              <a:xfrm flipV="1">
                <a:off x="3500280" y="3054240"/>
                <a:ext cx="178200" cy="141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13" name=""/>
              <p:cNvCxnSpPr>
                <a:stCxn id="1400" idx="0"/>
                <a:endCxn id="1406" idx="2"/>
              </p:cNvCxnSpPr>
              <p:nvPr/>
            </p:nvCxnSpPr>
            <p:spPr>
              <a:xfrm flipV="1">
                <a:off x="3677760" y="2799720"/>
                <a:ext cx="65520" cy="105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14" name=""/>
              <p:cNvCxnSpPr>
                <a:stCxn id="1404" idx="3"/>
              </p:cNvCxnSpPr>
              <p:nvPr/>
            </p:nvCxnSpPr>
            <p:spPr>
              <a:xfrm>
                <a:off x="3646440" y="3270240"/>
                <a:ext cx="226800" cy="7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15" name=""/>
              <p:cNvCxnSpPr>
                <a:stCxn id="1401" idx="3"/>
                <a:endCxn id="1400" idx="1"/>
              </p:cNvCxnSpPr>
              <p:nvPr/>
            </p:nvCxnSpPr>
            <p:spPr>
              <a:xfrm flipV="1">
                <a:off x="3257280" y="2980080"/>
                <a:ext cx="324360" cy="108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</p:grpSp>
        <p:grpSp>
          <p:nvGrpSpPr>
            <p:cNvPr id="1416" name=""/>
            <p:cNvGrpSpPr/>
            <p:nvPr/>
          </p:nvGrpSpPr>
          <p:grpSpPr>
            <a:xfrm>
              <a:off x="567360" y="4338720"/>
              <a:ext cx="7663680" cy="305280"/>
              <a:chOff x="567360" y="4338720"/>
              <a:chExt cx="7663680" cy="305280"/>
            </a:xfrm>
          </p:grpSpPr>
          <p:sp>
            <p:nvSpPr>
              <p:cNvPr id="1417" name=""/>
              <p:cNvSpPr/>
              <p:nvPr/>
            </p:nvSpPr>
            <p:spPr>
              <a:xfrm>
                <a:off x="6812280" y="4338720"/>
                <a:ext cx="141876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mpresa 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67360" y="4338720"/>
                <a:ext cx="140364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mpresa 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643840" y="4338720"/>
                <a:ext cx="140364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mpresa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719960" y="4338720"/>
                <a:ext cx="141876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mpresa 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2724120" y="4809960"/>
              <a:ext cx="1079640" cy="487440"/>
              <a:chOff x="2724120" y="4809960"/>
              <a:chExt cx="1079640" cy="487440"/>
            </a:xfrm>
          </p:grpSpPr>
          <p:sp>
            <p:nvSpPr>
              <p:cNvPr id="1422" name=""/>
              <p:cNvSpPr/>
              <p:nvPr/>
            </p:nvSpPr>
            <p:spPr>
              <a:xfrm>
                <a:off x="2724120" y="4809960"/>
                <a:ext cx="1079640" cy="487440"/>
              </a:xfrm>
              <a:prstGeom prst="rect">
                <a:avLst/>
              </a:prstGeom>
              <a:solidFill>
                <a:srgbClr val="ff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141000" y="5076360"/>
                <a:ext cx="93600" cy="464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791440" y="5078520"/>
                <a:ext cx="162360" cy="134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767320" y="4899240"/>
                <a:ext cx="139680" cy="91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304800" y="5166000"/>
                <a:ext cx="210960" cy="914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234960" y="4855320"/>
                <a:ext cx="92520" cy="9036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538800" y="4878000"/>
                <a:ext cx="93600" cy="45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9" name=""/>
              <p:cNvCxnSpPr>
                <a:stCxn id="1425" idx="3"/>
                <a:endCxn id="1427" idx="1"/>
              </p:cNvCxnSpPr>
              <p:nvPr/>
            </p:nvCxnSpPr>
            <p:spPr>
              <a:xfrm flipV="1">
                <a:off x="2907360" y="4899960"/>
                <a:ext cx="328320" cy="45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30" name=""/>
              <p:cNvCxnSpPr>
                <a:stCxn id="1424" idx="3"/>
                <a:endCxn id="1423" idx="1"/>
              </p:cNvCxnSpPr>
              <p:nvPr/>
            </p:nvCxnSpPr>
            <p:spPr>
              <a:xfrm flipV="1">
                <a:off x="2953800" y="5099400"/>
                <a:ext cx="187560" cy="46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31" name=""/>
              <p:cNvCxnSpPr>
                <a:stCxn id="1423" idx="2"/>
                <a:endCxn id="1426" idx="1"/>
              </p:cNvCxnSpPr>
              <p:nvPr/>
            </p:nvCxnSpPr>
            <p:spPr>
              <a:xfrm>
                <a:off x="3188160" y="5122800"/>
                <a:ext cx="117360" cy="88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32" name=""/>
              <p:cNvCxnSpPr>
                <a:stCxn id="1423" idx="0"/>
                <a:endCxn id="1427" idx="2"/>
              </p:cNvCxnSpPr>
              <p:nvPr/>
            </p:nvCxnSpPr>
            <p:spPr>
              <a:xfrm flipV="1">
                <a:off x="3188160" y="4945680"/>
                <a:ext cx="94320" cy="131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33" name=""/>
              <p:cNvCxnSpPr>
                <a:stCxn id="1427" idx="3"/>
                <a:endCxn id="1428" idx="1"/>
              </p:cNvCxnSpPr>
              <p:nvPr/>
            </p:nvCxnSpPr>
            <p:spPr>
              <a:xfrm>
                <a:off x="3327840" y="4899960"/>
                <a:ext cx="211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34" name=""/>
              <p:cNvCxnSpPr>
                <a:stCxn id="1426" idx="0"/>
              </p:cNvCxnSpPr>
              <p:nvPr/>
            </p:nvCxnSpPr>
            <p:spPr>
              <a:xfrm flipV="1">
                <a:off x="3410280" y="5079240"/>
                <a:ext cx="128880" cy="87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35" name=""/>
              <p:cNvCxnSpPr>
                <a:stCxn id="1426" idx="3"/>
              </p:cNvCxnSpPr>
              <p:nvPr/>
            </p:nvCxnSpPr>
            <p:spPr>
              <a:xfrm>
                <a:off x="3516120" y="5211720"/>
                <a:ext cx="164160" cy="44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36" name=""/>
              <p:cNvCxnSpPr>
                <a:stCxn id="1423" idx="3"/>
              </p:cNvCxnSpPr>
              <p:nvPr/>
            </p:nvCxnSpPr>
            <p:spPr>
              <a:xfrm flipV="1">
                <a:off x="3234600" y="5032800"/>
                <a:ext cx="234360" cy="68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</p:grpSp>
        <p:grpSp>
          <p:nvGrpSpPr>
            <p:cNvPr id="1437" name=""/>
            <p:cNvGrpSpPr/>
            <p:nvPr/>
          </p:nvGrpSpPr>
          <p:grpSpPr>
            <a:xfrm>
              <a:off x="4470480" y="4745160"/>
              <a:ext cx="1720440" cy="617400"/>
              <a:chOff x="4470480" y="4745160"/>
              <a:chExt cx="1720440" cy="6174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470480" y="4745160"/>
                <a:ext cx="1720440" cy="617400"/>
              </a:xfrm>
              <a:prstGeom prst="rect">
                <a:avLst/>
              </a:prstGeom>
              <a:solidFill>
                <a:srgbClr val="ff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657760" y="4970520"/>
                <a:ext cx="222840" cy="115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135040" y="5082840"/>
                <a:ext cx="149760" cy="586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523400" y="5131800"/>
                <a:ext cx="314280" cy="169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539960" y="4858560"/>
                <a:ext cx="222840" cy="115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96400" y="5195880"/>
                <a:ext cx="335880" cy="115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16160" y="4794480"/>
                <a:ext cx="516960" cy="1231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769360" y="4831200"/>
                <a:ext cx="273600" cy="113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46" name=""/>
              <p:cNvCxnSpPr>
                <a:stCxn id="1442" idx="3"/>
                <a:endCxn id="1444" idx="1"/>
              </p:cNvCxnSpPr>
              <p:nvPr/>
            </p:nvCxnSpPr>
            <p:spPr>
              <a:xfrm flipV="1">
                <a:off x="4762440" y="4855320"/>
                <a:ext cx="153360" cy="60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47" name=""/>
              <p:cNvCxnSpPr>
                <a:stCxn id="1441" idx="3"/>
                <a:endCxn id="1440" idx="1"/>
              </p:cNvCxnSpPr>
              <p:nvPr/>
            </p:nvCxnSpPr>
            <p:spPr>
              <a:xfrm flipV="1">
                <a:off x="4837680" y="5111280"/>
                <a:ext cx="298080" cy="105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48" name=""/>
              <p:cNvCxnSpPr>
                <a:stCxn id="1440" idx="2"/>
                <a:endCxn id="1443" idx="1"/>
              </p:cNvCxnSpPr>
              <p:nvPr/>
            </p:nvCxnSpPr>
            <p:spPr>
              <a:xfrm>
                <a:off x="5209920" y="5141520"/>
                <a:ext cx="186840" cy="112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49" name=""/>
              <p:cNvCxnSpPr>
                <a:stCxn id="1440" idx="0"/>
                <a:endCxn id="1444" idx="2"/>
              </p:cNvCxnSpPr>
              <p:nvPr/>
            </p:nvCxnSpPr>
            <p:spPr>
              <a:xfrm flipH="1" flipV="1">
                <a:off x="5175000" y="4917240"/>
                <a:ext cx="35280" cy="1656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50" name=""/>
              <p:cNvCxnSpPr>
                <a:stCxn id="1444" idx="3"/>
                <a:endCxn id="1445" idx="1"/>
              </p:cNvCxnSpPr>
              <p:nvPr/>
            </p:nvCxnSpPr>
            <p:spPr>
              <a:xfrm>
                <a:off x="5433120" y="4855680"/>
                <a:ext cx="336600" cy="327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51" name=""/>
              <p:cNvCxnSpPr>
                <a:stCxn id="1443" idx="0"/>
                <a:endCxn id="1439" idx="2"/>
              </p:cNvCxnSpPr>
              <p:nvPr/>
            </p:nvCxnSpPr>
            <p:spPr>
              <a:xfrm flipV="1">
                <a:off x="5564880" y="5086080"/>
                <a:ext cx="205200" cy="110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52" name=""/>
              <p:cNvCxnSpPr>
                <a:stCxn id="1443" idx="3"/>
              </p:cNvCxnSpPr>
              <p:nvPr/>
            </p:nvCxnSpPr>
            <p:spPr>
              <a:xfrm>
                <a:off x="5732640" y="5253840"/>
                <a:ext cx="262080" cy="56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53" name=""/>
              <p:cNvCxnSpPr>
                <a:stCxn id="1440" idx="3"/>
                <a:endCxn id="1439" idx="1"/>
              </p:cNvCxnSpPr>
              <p:nvPr/>
            </p:nvCxnSpPr>
            <p:spPr>
              <a:xfrm flipV="1">
                <a:off x="5284800" y="5027760"/>
                <a:ext cx="373320" cy="8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1454" name=""/>
              <p:cNvSpPr/>
              <p:nvPr/>
            </p:nvSpPr>
            <p:spPr>
              <a:xfrm>
                <a:off x="5833080" y="5088960"/>
                <a:ext cx="222840" cy="115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715280" y="4976640"/>
                <a:ext cx="222840" cy="115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460480" y="4921200"/>
                <a:ext cx="147960" cy="114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635800" y="5039640"/>
                <a:ext cx="147600" cy="114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6905520" y="4694400"/>
              <a:ext cx="1293840" cy="758520"/>
              <a:chOff x="6905520" y="4694400"/>
              <a:chExt cx="1293840" cy="758520"/>
            </a:xfrm>
          </p:grpSpPr>
          <p:sp>
            <p:nvSpPr>
              <p:cNvPr id="1459" name=""/>
              <p:cNvSpPr/>
              <p:nvPr/>
            </p:nvSpPr>
            <p:spPr>
              <a:xfrm>
                <a:off x="6905520" y="4694400"/>
                <a:ext cx="1293840" cy="758520"/>
              </a:xfrm>
              <a:prstGeom prst="rect">
                <a:avLst/>
              </a:prstGeom>
              <a:solidFill>
                <a:srgbClr val="ff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37280" y="4971240"/>
                <a:ext cx="193680" cy="142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483320" y="5109120"/>
                <a:ext cx="130320" cy="72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965640" y="4833720"/>
                <a:ext cx="193680" cy="142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710480" y="5248080"/>
                <a:ext cx="291960" cy="142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613640" y="4765680"/>
                <a:ext cx="188640" cy="276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34120" y="4800240"/>
                <a:ext cx="130320" cy="70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6" name=""/>
              <p:cNvCxnSpPr>
                <a:stCxn id="1462" idx="3"/>
                <a:endCxn id="1464" idx="1"/>
              </p:cNvCxnSpPr>
              <p:nvPr/>
            </p:nvCxnSpPr>
            <p:spPr>
              <a:xfrm>
                <a:off x="7159320" y="4904280"/>
                <a:ext cx="4550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67" name=""/>
              <p:cNvCxnSpPr>
                <a:endCxn id="1461" idx="1"/>
              </p:cNvCxnSpPr>
              <p:nvPr/>
            </p:nvCxnSpPr>
            <p:spPr>
              <a:xfrm flipV="1">
                <a:off x="7224120" y="5146920"/>
                <a:ext cx="259560" cy="1378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68" name=""/>
              <p:cNvCxnSpPr>
                <a:stCxn id="1461" idx="2"/>
                <a:endCxn id="1463" idx="1"/>
              </p:cNvCxnSpPr>
              <p:nvPr/>
            </p:nvCxnSpPr>
            <p:spPr>
              <a:xfrm>
                <a:off x="7548480" y="5181120"/>
                <a:ext cx="162720" cy="1386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69" name=""/>
              <p:cNvCxnSpPr>
                <a:stCxn id="1461" idx="0"/>
                <a:endCxn id="1464" idx="2"/>
              </p:cNvCxnSpPr>
              <p:nvPr/>
            </p:nvCxnSpPr>
            <p:spPr>
              <a:xfrm flipV="1">
                <a:off x="7548120" y="5042160"/>
                <a:ext cx="160920" cy="66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70" name=""/>
              <p:cNvCxnSpPr>
                <a:stCxn id="1463" idx="0"/>
                <a:endCxn id="1460" idx="2"/>
              </p:cNvCxnSpPr>
              <p:nvPr/>
            </p:nvCxnSpPr>
            <p:spPr>
              <a:xfrm flipV="1">
                <a:off x="7856280" y="5113080"/>
                <a:ext cx="178200" cy="1350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1471" name=""/>
              <p:cNvCxnSpPr>
                <a:stCxn id="1461" idx="3"/>
                <a:endCxn id="1460" idx="1"/>
              </p:cNvCxnSpPr>
              <p:nvPr/>
            </p:nvCxnSpPr>
            <p:spPr>
              <a:xfrm flipV="1">
                <a:off x="7613280" y="5041800"/>
                <a:ext cx="324360" cy="1047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1472" name=""/>
              <p:cNvSpPr/>
              <p:nvPr/>
            </p:nvSpPr>
            <p:spPr>
              <a:xfrm>
                <a:off x="7765920" y="4910760"/>
                <a:ext cx="189000" cy="276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980040" y="5146920"/>
                <a:ext cx="189000" cy="276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118280" y="4978800"/>
                <a:ext cx="193680" cy="142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270560" y="5124240"/>
                <a:ext cx="193680" cy="141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373880" y="4752000"/>
                <a:ext cx="188640" cy="276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422840" y="5269320"/>
                <a:ext cx="193680" cy="142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8" name=""/>
            <p:cNvSpPr/>
            <p:nvPr/>
          </p:nvSpPr>
          <p:spPr>
            <a:xfrm>
              <a:off x="2477520" y="3990960"/>
              <a:ext cx="4011120" cy="3052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os de referência específ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odelos de referência genéricos, específicos e proje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81160" y="4130640"/>
            <a:ext cx="8632800" cy="1401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0760" y="765000"/>
            <a:ext cx="8632800" cy="2768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7321680" y="2309760"/>
            <a:ext cx="1269720" cy="1100160"/>
            <a:chOff x="7321680" y="2309760"/>
            <a:chExt cx="1269720" cy="1100160"/>
          </a:xfrm>
        </p:grpSpPr>
        <p:sp>
          <p:nvSpPr>
            <p:cNvPr id="1483" name=""/>
            <p:cNvSpPr/>
            <p:nvPr/>
          </p:nvSpPr>
          <p:spPr>
            <a:xfrm>
              <a:off x="7321680" y="2309760"/>
              <a:ext cx="1269720" cy="1100160"/>
            </a:xfrm>
            <a:prstGeom prst="rect">
              <a:avLst/>
            </a:prstGeom>
            <a:solidFill>
              <a:srgbClr val="99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67640" y="3098160"/>
              <a:ext cx="222120" cy="192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001000" y="2488680"/>
              <a:ext cx="333360" cy="192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001000" y="2910600"/>
              <a:ext cx="147600" cy="191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518240" y="2442960"/>
              <a:ext cx="149400" cy="190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223120" y="3145680"/>
              <a:ext cx="147600" cy="191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407360" y="2817720"/>
              <a:ext cx="149040" cy="191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0" name=""/>
            <p:cNvCxnSpPr>
              <a:endCxn id="1484" idx="1"/>
            </p:cNvCxnSpPr>
            <p:nvPr/>
          </p:nvCxnSpPr>
          <p:spPr>
            <a:xfrm flipV="1">
              <a:off x="7370280" y="3194640"/>
              <a:ext cx="297720" cy="46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491" name=""/>
            <p:cNvCxnSpPr>
              <a:stCxn id="1489" idx="2"/>
              <a:endCxn id="1484" idx="0"/>
            </p:cNvCxnSpPr>
            <p:nvPr/>
          </p:nvCxnSpPr>
          <p:spPr>
            <a:xfrm>
              <a:off x="7481520" y="3008880"/>
              <a:ext cx="297720" cy="89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492" name=""/>
            <p:cNvCxnSpPr>
              <a:stCxn id="1489" idx="0"/>
              <a:endCxn id="1487" idx="2"/>
            </p:cNvCxnSpPr>
            <p:nvPr/>
          </p:nvCxnSpPr>
          <p:spPr>
            <a:xfrm flipV="1">
              <a:off x="7481520" y="2632320"/>
              <a:ext cx="111960" cy="18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493" name=""/>
            <p:cNvCxnSpPr>
              <a:stCxn id="1487" idx="3"/>
              <a:endCxn id="1485" idx="1"/>
            </p:cNvCxnSpPr>
            <p:nvPr/>
          </p:nvCxnSpPr>
          <p:spPr>
            <a:xfrm>
              <a:off x="7667640" y="2538360"/>
              <a:ext cx="334080" cy="47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494" name=""/>
            <p:cNvCxnSpPr>
              <a:stCxn id="1495" idx="3"/>
              <a:endCxn id="1485" idx="1"/>
            </p:cNvCxnSpPr>
            <p:nvPr/>
          </p:nvCxnSpPr>
          <p:spPr>
            <a:xfrm flipV="1">
              <a:off x="7889400" y="2585160"/>
              <a:ext cx="111960" cy="244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496" name=""/>
            <p:cNvCxnSpPr>
              <a:stCxn id="1484" idx="3"/>
              <a:endCxn id="1488" idx="1"/>
            </p:cNvCxnSpPr>
            <p:nvPr/>
          </p:nvCxnSpPr>
          <p:spPr>
            <a:xfrm>
              <a:off x="7889760" y="3195000"/>
              <a:ext cx="334080" cy="46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497" name=""/>
            <p:cNvCxnSpPr>
              <a:stCxn id="1485" idx="2"/>
              <a:endCxn id="1486" idx="0"/>
            </p:cNvCxnSpPr>
            <p:nvPr/>
          </p:nvCxnSpPr>
          <p:spPr>
            <a:xfrm flipH="1">
              <a:off x="8075160" y="2681640"/>
              <a:ext cx="92880" cy="229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498" name=""/>
            <p:cNvCxnSpPr>
              <a:stCxn id="1485" idx="3"/>
            </p:cNvCxnSpPr>
            <p:nvPr/>
          </p:nvCxnSpPr>
          <p:spPr>
            <a:xfrm flipV="1">
              <a:off x="8334360" y="2443680"/>
              <a:ext cx="186480" cy="142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499" name=""/>
            <p:cNvCxnSpPr>
              <a:stCxn id="1489" idx="3"/>
              <a:endCxn id="1495" idx="1"/>
            </p:cNvCxnSpPr>
            <p:nvPr/>
          </p:nvCxnSpPr>
          <p:spPr>
            <a:xfrm flipV="1">
              <a:off x="7556400" y="2829600"/>
              <a:ext cx="185040" cy="8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500" name=""/>
            <p:cNvCxnSpPr>
              <a:stCxn id="1486" idx="3"/>
            </p:cNvCxnSpPr>
            <p:nvPr/>
          </p:nvCxnSpPr>
          <p:spPr>
            <a:xfrm flipV="1">
              <a:off x="8148600" y="2865960"/>
              <a:ext cx="334080" cy="140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501" name=""/>
            <p:cNvCxnSpPr>
              <a:stCxn id="1495" idx="2"/>
              <a:endCxn id="1486" idx="1"/>
            </p:cNvCxnSpPr>
            <p:nvPr/>
          </p:nvCxnSpPr>
          <p:spPr>
            <a:xfrm>
              <a:off x="7815240" y="2887560"/>
              <a:ext cx="186480" cy="119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1495" name=""/>
            <p:cNvSpPr/>
            <p:nvPr/>
          </p:nvSpPr>
          <p:spPr>
            <a:xfrm>
              <a:off x="7740720" y="2770560"/>
              <a:ext cx="149040" cy="117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5873760" y="2373480"/>
            <a:ext cx="1233360" cy="1036440"/>
            <a:chOff x="5873760" y="2373480"/>
            <a:chExt cx="1233360" cy="1036440"/>
          </a:xfrm>
        </p:grpSpPr>
        <p:sp>
          <p:nvSpPr>
            <p:cNvPr id="1503" name=""/>
            <p:cNvSpPr/>
            <p:nvPr/>
          </p:nvSpPr>
          <p:spPr>
            <a:xfrm>
              <a:off x="5873760" y="2373480"/>
              <a:ext cx="1233360" cy="1036440"/>
            </a:xfrm>
            <a:prstGeom prst="rect">
              <a:avLst/>
            </a:prstGeom>
            <a:solidFill>
              <a:srgbClr val="ff99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407280" y="2923920"/>
              <a:ext cx="183960" cy="144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554880" y="2543400"/>
              <a:ext cx="222120" cy="173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072120" y="2840040"/>
              <a:ext cx="149400" cy="87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10280" y="2459880"/>
              <a:ext cx="147600" cy="87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294600" y="3177720"/>
              <a:ext cx="149040" cy="87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9" name=""/>
            <p:cNvCxnSpPr>
              <a:stCxn id="1507" idx="3"/>
              <a:endCxn id="1505" idx="0"/>
            </p:cNvCxnSpPr>
            <p:nvPr/>
          </p:nvCxnSpPr>
          <p:spPr>
            <a:xfrm>
              <a:off x="6257520" y="2503080"/>
              <a:ext cx="408600" cy="40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510" name=""/>
            <p:cNvCxnSpPr>
              <a:stCxn id="1506" idx="3"/>
              <a:endCxn id="1504" idx="1"/>
            </p:cNvCxnSpPr>
            <p:nvPr/>
          </p:nvCxnSpPr>
          <p:spPr>
            <a:xfrm>
              <a:off x="6221520" y="2883600"/>
              <a:ext cx="186480" cy="113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511" name=""/>
            <p:cNvCxnSpPr>
              <a:endCxn id="1506" idx="2"/>
            </p:cNvCxnSpPr>
            <p:nvPr/>
          </p:nvCxnSpPr>
          <p:spPr>
            <a:xfrm flipV="1">
              <a:off x="5960880" y="2927160"/>
              <a:ext cx="186120" cy="294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512" name=""/>
            <p:cNvCxnSpPr>
              <a:stCxn id="1505" idx="2"/>
              <a:endCxn id="1504" idx="0"/>
            </p:cNvCxnSpPr>
            <p:nvPr/>
          </p:nvCxnSpPr>
          <p:spPr>
            <a:xfrm flipH="1">
              <a:off x="6498720" y="2717280"/>
              <a:ext cx="167040" cy="207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513" name=""/>
            <p:cNvCxnSpPr>
              <a:stCxn id="1508" idx="0"/>
              <a:endCxn id="1504" idx="2"/>
            </p:cNvCxnSpPr>
            <p:nvPr/>
          </p:nvCxnSpPr>
          <p:spPr>
            <a:xfrm flipV="1">
              <a:off x="6368760" y="3067560"/>
              <a:ext cx="130680" cy="109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1514" name=""/>
            <p:cNvSpPr/>
            <p:nvPr/>
          </p:nvSpPr>
          <p:spPr>
            <a:xfrm>
              <a:off x="6813720" y="2923920"/>
              <a:ext cx="185400" cy="144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5" name=""/>
            <p:cNvCxnSpPr>
              <a:stCxn id="1504" idx="3"/>
              <a:endCxn id="1514" idx="1"/>
            </p:cNvCxnSpPr>
            <p:nvPr/>
          </p:nvCxnSpPr>
          <p:spPr>
            <a:xfrm>
              <a:off x="6591240" y="2996280"/>
              <a:ext cx="223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516" name=""/>
            <p:cNvCxnSpPr>
              <a:stCxn id="1505" idx="3"/>
              <a:endCxn id="1514" idx="0"/>
            </p:cNvCxnSpPr>
            <p:nvPr/>
          </p:nvCxnSpPr>
          <p:spPr>
            <a:xfrm>
              <a:off x="6777000" y="2630520"/>
              <a:ext cx="131040" cy="293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517" name=""/>
            <p:cNvCxnSpPr>
              <a:stCxn id="1508" idx="3"/>
              <a:endCxn id="1514" idx="2"/>
            </p:cNvCxnSpPr>
            <p:nvPr/>
          </p:nvCxnSpPr>
          <p:spPr>
            <a:xfrm flipV="1">
              <a:off x="6443640" y="3067920"/>
              <a:ext cx="464400" cy="153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</p:grpSp>
      <p:sp>
        <p:nvSpPr>
          <p:cNvPr id="1518" name=""/>
          <p:cNvSpPr/>
          <p:nvPr/>
        </p:nvSpPr>
        <p:spPr>
          <a:xfrm>
            <a:off x="2746440" y="488880"/>
            <a:ext cx="3841920" cy="305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os de referência gené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93640" y="5218200"/>
            <a:ext cx="8318520" cy="1479600"/>
          </a:xfrm>
          <a:custGeom>
            <a:avLst/>
            <a:gdLst/>
            <a:ahLst/>
            <a:rect l="l" t="t" r="r" b="b"/>
            <a:pathLst>
              <a:path w="5240" h="932">
                <a:moveTo>
                  <a:pt x="94" y="0"/>
                </a:moveTo>
                <a:lnTo>
                  <a:pt x="0" y="334"/>
                </a:lnTo>
                <a:lnTo>
                  <a:pt x="0" y="932"/>
                </a:lnTo>
                <a:lnTo>
                  <a:pt x="5232" y="922"/>
                </a:lnTo>
                <a:lnTo>
                  <a:pt x="5240" y="361"/>
                </a:lnTo>
                <a:lnTo>
                  <a:pt x="663" y="31"/>
                </a:lnTo>
              </a:path>
            </a:pathLst>
          </a:custGeom>
          <a:solidFill>
            <a:srgbClr val="ffff00">
              <a:alpha val="5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830160" y="6076800"/>
            <a:ext cx="986040" cy="536760"/>
            <a:chOff x="830160" y="6076800"/>
            <a:chExt cx="986040" cy="536760"/>
          </a:xfrm>
        </p:grpSpPr>
        <p:sp>
          <p:nvSpPr>
            <p:cNvPr id="1521" name=""/>
            <p:cNvSpPr/>
            <p:nvPr/>
          </p:nvSpPr>
          <p:spPr>
            <a:xfrm>
              <a:off x="830160" y="6076800"/>
              <a:ext cx="986040" cy="53676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2" name=""/>
            <p:cNvGrpSpPr/>
            <p:nvPr/>
          </p:nvGrpSpPr>
          <p:grpSpPr>
            <a:xfrm>
              <a:off x="895680" y="6139800"/>
              <a:ext cx="739440" cy="347040"/>
              <a:chOff x="895680" y="6139800"/>
              <a:chExt cx="739440" cy="347040"/>
            </a:xfrm>
          </p:grpSpPr>
          <p:sp>
            <p:nvSpPr>
              <p:cNvPr id="1523" name=""/>
              <p:cNvSpPr/>
              <p:nvPr/>
            </p:nvSpPr>
            <p:spPr>
              <a:xfrm>
                <a:off x="895680" y="613980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50400" y="6139800"/>
                <a:ext cx="34200" cy="61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11960" y="620100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66680" y="620100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128240" y="620100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0680" y="61804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320120" y="61804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388520" y="6180480"/>
                <a:ext cx="34200" cy="61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443600" y="61804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512000" y="61804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573560" y="61804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600920" y="6282720"/>
                <a:ext cx="34200" cy="61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484640" y="6343920"/>
                <a:ext cx="34200" cy="61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416240" y="63028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361160" y="63028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306440" y="63028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238040" y="63028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183320" y="6302880"/>
                <a:ext cx="34200" cy="61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128240" y="642564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073520" y="634392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011960" y="6323400"/>
                <a:ext cx="34200" cy="61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950400" y="632340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950400" y="624168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950400" y="642564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018800" y="642564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190160" y="642564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251720" y="642564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361160" y="642564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416240" y="642564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484640" y="642564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546200" y="6384960"/>
                <a:ext cx="34200" cy="612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4" name=""/>
              <p:cNvCxnSpPr>
                <a:stCxn id="1523" idx="3"/>
                <a:endCxn id="1524" idx="1"/>
              </p:cNvCxnSpPr>
              <p:nvPr/>
            </p:nvCxnSpPr>
            <p:spPr>
              <a:xfrm>
                <a:off x="929520" y="6170040"/>
                <a:ext cx="20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55" name=""/>
              <p:cNvCxnSpPr>
                <a:stCxn id="1524" idx="3"/>
                <a:endCxn id="1525" idx="1"/>
              </p:cNvCxnSpPr>
              <p:nvPr/>
            </p:nvCxnSpPr>
            <p:spPr>
              <a:xfrm>
                <a:off x="984600" y="6170400"/>
                <a:ext cx="28080" cy="61920"/>
              </a:xfrm>
              <a:prstGeom prst="bentConnector3">
                <a:avLst>
                  <a:gd name="adj1" fmla="val 4935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56" name=""/>
              <p:cNvCxnSpPr>
                <a:stCxn id="1525" idx="3"/>
                <a:endCxn id="1526" idx="1"/>
              </p:cNvCxnSpPr>
              <p:nvPr/>
            </p:nvCxnSpPr>
            <p:spPr>
              <a:xfrm>
                <a:off x="1045800" y="6231240"/>
                <a:ext cx="20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57" name=""/>
              <p:cNvCxnSpPr>
                <a:stCxn id="1526" idx="3"/>
                <a:endCxn id="1527" idx="1"/>
              </p:cNvCxnSpPr>
              <p:nvPr/>
            </p:nvCxnSpPr>
            <p:spPr>
              <a:xfrm>
                <a:off x="1100880" y="6231240"/>
                <a:ext cx="28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58" name=""/>
              <p:cNvCxnSpPr>
                <a:stCxn id="1527" idx="3"/>
                <a:endCxn id="1540" idx="1"/>
              </p:cNvCxnSpPr>
              <p:nvPr/>
            </p:nvCxnSpPr>
            <p:spPr>
              <a:xfrm>
                <a:off x="1162440" y="6231240"/>
                <a:ext cx="20880" cy="10260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59" name=""/>
              <p:cNvCxnSpPr>
                <a:stCxn id="1527" idx="3"/>
                <a:endCxn id="1528" idx="1"/>
              </p:cNvCxnSpPr>
              <p:nvPr/>
            </p:nvCxnSpPr>
            <p:spPr>
              <a:xfrm flipV="1">
                <a:off x="1162440" y="6210720"/>
                <a:ext cx="48600" cy="208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0" name=""/>
              <p:cNvCxnSpPr>
                <a:stCxn id="1540" idx="3"/>
                <a:endCxn id="1539" idx="1"/>
              </p:cNvCxnSpPr>
              <p:nvPr/>
            </p:nvCxnSpPr>
            <p:spPr>
              <a:xfrm>
                <a:off x="1217160" y="6333480"/>
                <a:ext cx="20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1" name=""/>
              <p:cNvCxnSpPr>
                <a:stCxn id="1539" idx="3"/>
                <a:endCxn id="1538" idx="1"/>
              </p:cNvCxnSpPr>
              <p:nvPr/>
            </p:nvCxnSpPr>
            <p:spPr>
              <a:xfrm>
                <a:off x="1271880" y="6333480"/>
                <a:ext cx="3492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2" name=""/>
              <p:cNvCxnSpPr>
                <a:stCxn id="1528" idx="3"/>
                <a:endCxn id="1529" idx="1"/>
              </p:cNvCxnSpPr>
              <p:nvPr/>
            </p:nvCxnSpPr>
            <p:spPr>
              <a:xfrm>
                <a:off x="1244520" y="6210720"/>
                <a:ext cx="7596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3" name=""/>
              <p:cNvCxnSpPr>
                <a:stCxn id="1529" idx="3"/>
                <a:endCxn id="1530" idx="1"/>
              </p:cNvCxnSpPr>
              <p:nvPr/>
            </p:nvCxnSpPr>
            <p:spPr>
              <a:xfrm>
                <a:off x="1353960" y="6210720"/>
                <a:ext cx="3492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4" name=""/>
              <p:cNvCxnSpPr>
                <a:stCxn id="1545" idx="3"/>
                <a:endCxn id="1525" idx="1"/>
              </p:cNvCxnSpPr>
              <p:nvPr/>
            </p:nvCxnSpPr>
            <p:spPr>
              <a:xfrm flipV="1">
                <a:off x="984600" y="6230880"/>
                <a:ext cx="28080" cy="41400"/>
              </a:xfrm>
              <a:prstGeom prst="bentConnector3">
                <a:avLst>
                  <a:gd name="adj1" fmla="val 4935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5" name=""/>
              <p:cNvCxnSpPr>
                <a:stCxn id="1544" idx="3"/>
                <a:endCxn id="1543" idx="1"/>
              </p:cNvCxnSpPr>
              <p:nvPr/>
            </p:nvCxnSpPr>
            <p:spPr>
              <a:xfrm>
                <a:off x="984600" y="6354000"/>
                <a:ext cx="28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6" name=""/>
              <p:cNvCxnSpPr>
                <a:stCxn id="1543" idx="3"/>
                <a:endCxn id="1526" idx="1"/>
              </p:cNvCxnSpPr>
              <p:nvPr/>
            </p:nvCxnSpPr>
            <p:spPr>
              <a:xfrm flipV="1">
                <a:off x="1045800" y="6231240"/>
                <a:ext cx="20880" cy="12312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7" name=""/>
              <p:cNvCxnSpPr>
                <a:stCxn id="1539" idx="3"/>
                <a:endCxn id="1529" idx="1"/>
              </p:cNvCxnSpPr>
              <p:nvPr/>
            </p:nvCxnSpPr>
            <p:spPr>
              <a:xfrm flipV="1">
                <a:off x="1271880" y="6210720"/>
                <a:ext cx="48600" cy="1231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8" name=""/>
              <p:cNvCxnSpPr>
                <a:stCxn id="1538" idx="3"/>
                <a:endCxn id="1550" idx="1"/>
              </p:cNvCxnSpPr>
              <p:nvPr/>
            </p:nvCxnSpPr>
            <p:spPr>
              <a:xfrm>
                <a:off x="1340280" y="6333840"/>
                <a:ext cx="20880" cy="12312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69" name=""/>
              <p:cNvCxnSpPr>
                <a:stCxn id="1538" idx="3"/>
                <a:endCxn id="1537" idx="1"/>
              </p:cNvCxnSpPr>
              <p:nvPr/>
            </p:nvCxnSpPr>
            <p:spPr>
              <a:xfrm>
                <a:off x="1340280" y="6333480"/>
                <a:ext cx="20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0" name=""/>
              <p:cNvCxnSpPr>
                <a:stCxn id="1530" idx="3"/>
                <a:endCxn id="1531" idx="1"/>
              </p:cNvCxnSpPr>
              <p:nvPr/>
            </p:nvCxnSpPr>
            <p:spPr>
              <a:xfrm>
                <a:off x="1422720" y="6210720"/>
                <a:ext cx="20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1" name=""/>
              <p:cNvCxnSpPr>
                <a:stCxn id="1531" idx="3"/>
                <a:endCxn id="1532" idx="1"/>
              </p:cNvCxnSpPr>
              <p:nvPr/>
            </p:nvCxnSpPr>
            <p:spPr>
              <a:xfrm>
                <a:off x="1477440" y="6210720"/>
                <a:ext cx="3492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2" name=""/>
              <p:cNvCxnSpPr>
                <a:stCxn id="1532" idx="3"/>
                <a:endCxn id="1533" idx="1"/>
              </p:cNvCxnSpPr>
              <p:nvPr/>
            </p:nvCxnSpPr>
            <p:spPr>
              <a:xfrm>
                <a:off x="1546200" y="6210720"/>
                <a:ext cx="28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3" name=""/>
              <p:cNvCxnSpPr>
                <a:stCxn id="1531" idx="3"/>
                <a:endCxn id="1534" idx="1"/>
              </p:cNvCxnSpPr>
              <p:nvPr/>
            </p:nvCxnSpPr>
            <p:spPr>
              <a:xfrm>
                <a:off x="1477800" y="6210720"/>
                <a:ext cx="123840" cy="102600"/>
              </a:xfrm>
              <a:prstGeom prst="bentConnector3">
                <a:avLst>
                  <a:gd name="adj1" fmla="val 1370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4" name=""/>
              <p:cNvCxnSpPr>
                <a:stCxn id="1546" idx="3"/>
                <a:endCxn id="1543" idx="1"/>
              </p:cNvCxnSpPr>
              <p:nvPr/>
            </p:nvCxnSpPr>
            <p:spPr>
              <a:xfrm flipV="1">
                <a:off x="984600" y="6353640"/>
                <a:ext cx="28080" cy="102600"/>
              </a:xfrm>
              <a:prstGeom prst="bentConnector3">
                <a:avLst>
                  <a:gd name="adj1" fmla="val 4935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5" name=""/>
              <p:cNvCxnSpPr>
                <a:stCxn id="1523" idx="3"/>
                <a:endCxn id="1544" idx="1"/>
              </p:cNvCxnSpPr>
              <p:nvPr/>
            </p:nvCxnSpPr>
            <p:spPr>
              <a:xfrm>
                <a:off x="929520" y="6170400"/>
                <a:ext cx="20880" cy="18432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6" name=""/>
              <p:cNvCxnSpPr>
                <a:stCxn id="1523" idx="3"/>
                <a:endCxn id="1545" idx="1"/>
              </p:cNvCxnSpPr>
              <p:nvPr/>
            </p:nvCxnSpPr>
            <p:spPr>
              <a:xfrm>
                <a:off x="929520" y="6170040"/>
                <a:ext cx="20880" cy="10260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7" name=""/>
              <p:cNvCxnSpPr>
                <a:stCxn id="1546" idx="3"/>
                <a:endCxn id="1547" idx="1"/>
              </p:cNvCxnSpPr>
              <p:nvPr/>
            </p:nvCxnSpPr>
            <p:spPr>
              <a:xfrm>
                <a:off x="984240" y="6455880"/>
                <a:ext cx="3492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8" name=""/>
              <p:cNvCxnSpPr>
                <a:stCxn id="1547" idx="3"/>
                <a:endCxn id="1542" idx="1"/>
              </p:cNvCxnSpPr>
              <p:nvPr/>
            </p:nvCxnSpPr>
            <p:spPr>
              <a:xfrm flipV="1">
                <a:off x="1052640" y="6373800"/>
                <a:ext cx="20880" cy="8244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79" name=""/>
              <p:cNvCxnSpPr>
                <a:stCxn id="1542" idx="3"/>
                <a:endCxn id="1527" idx="1"/>
              </p:cNvCxnSpPr>
              <p:nvPr/>
            </p:nvCxnSpPr>
            <p:spPr>
              <a:xfrm flipV="1">
                <a:off x="1107360" y="6230880"/>
                <a:ext cx="20880" cy="14364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0" name=""/>
              <p:cNvCxnSpPr>
                <a:stCxn id="1547" idx="3"/>
                <a:endCxn id="1541" idx="1"/>
              </p:cNvCxnSpPr>
              <p:nvPr/>
            </p:nvCxnSpPr>
            <p:spPr>
              <a:xfrm>
                <a:off x="1052640" y="6455880"/>
                <a:ext cx="7596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1" name=""/>
              <p:cNvCxnSpPr>
                <a:stCxn id="1541" idx="3"/>
                <a:endCxn id="1548" idx="1"/>
              </p:cNvCxnSpPr>
              <p:nvPr/>
            </p:nvCxnSpPr>
            <p:spPr>
              <a:xfrm>
                <a:off x="1162800" y="6455880"/>
                <a:ext cx="28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2" name=""/>
              <p:cNvCxnSpPr>
                <a:stCxn id="1548" idx="3"/>
                <a:endCxn id="1539" idx="1"/>
              </p:cNvCxnSpPr>
              <p:nvPr/>
            </p:nvCxnSpPr>
            <p:spPr>
              <a:xfrm flipV="1">
                <a:off x="1224360" y="6333480"/>
                <a:ext cx="14400" cy="123120"/>
              </a:xfrm>
              <a:prstGeom prst="bentConnector3">
                <a:avLst>
                  <a:gd name="adj1" fmla="val 48717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3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1224360" y="6455880"/>
                <a:ext cx="280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4" name=""/>
              <p:cNvCxnSpPr>
                <a:stCxn id="1549" idx="3"/>
                <a:endCxn id="1538" idx="1"/>
              </p:cNvCxnSpPr>
              <p:nvPr/>
            </p:nvCxnSpPr>
            <p:spPr>
              <a:xfrm flipV="1">
                <a:off x="1285560" y="6333480"/>
                <a:ext cx="20880" cy="12312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5" name=""/>
              <p:cNvCxnSpPr>
                <a:stCxn id="1537" idx="3"/>
                <a:endCxn id="1536" idx="1"/>
              </p:cNvCxnSpPr>
              <p:nvPr/>
            </p:nvCxnSpPr>
            <p:spPr>
              <a:xfrm>
                <a:off x="1395000" y="6333480"/>
                <a:ext cx="20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6" name=""/>
              <p:cNvCxnSpPr>
                <a:stCxn id="1536" idx="3"/>
                <a:endCxn id="1535" idx="1"/>
              </p:cNvCxnSpPr>
              <p:nvPr/>
            </p:nvCxnSpPr>
            <p:spPr>
              <a:xfrm>
                <a:off x="1450080" y="6333480"/>
                <a:ext cx="34920" cy="414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7" name=""/>
              <p:cNvCxnSpPr>
                <a:stCxn id="1550" idx="3"/>
                <a:endCxn id="1536" idx="1"/>
              </p:cNvCxnSpPr>
              <p:nvPr/>
            </p:nvCxnSpPr>
            <p:spPr>
              <a:xfrm flipV="1">
                <a:off x="1395000" y="6333480"/>
                <a:ext cx="20880" cy="12312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8" name=""/>
              <p:cNvCxnSpPr>
                <a:stCxn id="1535" idx="3"/>
                <a:endCxn id="1553" idx="1"/>
              </p:cNvCxnSpPr>
              <p:nvPr/>
            </p:nvCxnSpPr>
            <p:spPr>
              <a:xfrm>
                <a:off x="1518840" y="6374160"/>
                <a:ext cx="28080" cy="41400"/>
              </a:xfrm>
              <a:prstGeom prst="bentConnector3">
                <a:avLst>
                  <a:gd name="adj1" fmla="val 4935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89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1395000" y="6455880"/>
                <a:ext cx="2088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90" name=""/>
              <p:cNvCxnSpPr>
                <a:stCxn id="1551" idx="3"/>
                <a:endCxn id="1552" idx="1"/>
              </p:cNvCxnSpPr>
              <p:nvPr/>
            </p:nvCxnSpPr>
            <p:spPr>
              <a:xfrm>
                <a:off x="1450080" y="6455880"/>
                <a:ext cx="3492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91" name=""/>
              <p:cNvCxnSpPr>
                <a:stCxn id="1552" idx="3"/>
                <a:endCxn id="1553" idx="1"/>
              </p:cNvCxnSpPr>
              <p:nvPr/>
            </p:nvCxnSpPr>
            <p:spPr>
              <a:xfrm flipV="1">
                <a:off x="1518840" y="6414840"/>
                <a:ext cx="28080" cy="41400"/>
              </a:xfrm>
              <a:prstGeom prst="bentConnector3">
                <a:avLst>
                  <a:gd name="adj1" fmla="val 4935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592" name=""/>
              <p:cNvCxnSpPr>
                <a:stCxn id="1553" idx="3"/>
                <a:endCxn id="1534" idx="1"/>
              </p:cNvCxnSpPr>
              <p:nvPr/>
            </p:nvCxnSpPr>
            <p:spPr>
              <a:xfrm flipV="1">
                <a:off x="1580040" y="6312600"/>
                <a:ext cx="20880" cy="10260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593" name=""/>
          <p:cNvGrpSpPr/>
          <p:nvPr/>
        </p:nvGrpSpPr>
        <p:grpSpPr>
          <a:xfrm>
            <a:off x="2616120" y="5964120"/>
            <a:ext cx="1271520" cy="762120"/>
            <a:chOff x="2616120" y="5964120"/>
            <a:chExt cx="1271520" cy="762120"/>
          </a:xfrm>
        </p:grpSpPr>
        <p:sp>
          <p:nvSpPr>
            <p:cNvPr id="1594" name=""/>
            <p:cNvSpPr/>
            <p:nvPr/>
          </p:nvSpPr>
          <p:spPr>
            <a:xfrm>
              <a:off x="2616120" y="5964120"/>
              <a:ext cx="1271520" cy="762120"/>
            </a:xfrm>
            <a:custGeom>
              <a:avLst/>
              <a:gdLst>
                <a:gd name="textAreaLeft" fmla="*/ 158760 w 1271520"/>
                <a:gd name="textAreaRight" fmla="*/ 1112760 w 127152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2771280" y="6217920"/>
              <a:ext cx="960840" cy="253800"/>
              <a:chOff x="2771280" y="6217920"/>
              <a:chExt cx="960840" cy="253800"/>
            </a:xfrm>
          </p:grpSpPr>
          <p:sp>
            <p:nvSpPr>
              <p:cNvPr id="1596" name=""/>
              <p:cNvSpPr/>
              <p:nvPr/>
            </p:nvSpPr>
            <p:spPr>
              <a:xfrm>
                <a:off x="2771280" y="6233040"/>
                <a:ext cx="44640" cy="414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842200" y="6233040"/>
                <a:ext cx="44640" cy="414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988360" y="6217920"/>
                <a:ext cx="4428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073680" y="6274800"/>
                <a:ext cx="4428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236400" y="6274080"/>
                <a:ext cx="4464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87840" y="6331320"/>
                <a:ext cx="44280" cy="42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536640" y="6373800"/>
                <a:ext cx="44280" cy="42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447720" y="6345360"/>
                <a:ext cx="4464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376440" y="6345360"/>
                <a:ext cx="4464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305520" y="6345360"/>
                <a:ext cx="4428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16240" y="6345360"/>
                <a:ext cx="4428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145320" y="6345360"/>
                <a:ext cx="44280" cy="42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073680" y="6429600"/>
                <a:ext cx="4428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957040" y="6330600"/>
                <a:ext cx="44640" cy="42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842200" y="6359400"/>
                <a:ext cx="4464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842200" y="6302880"/>
                <a:ext cx="4464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153600" y="6429600"/>
                <a:ext cx="4428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376440" y="6429600"/>
                <a:ext cx="44640" cy="421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616920" y="6401880"/>
                <a:ext cx="44280" cy="4140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15" name=""/>
              <p:cNvCxnSpPr>
                <a:stCxn id="1596" idx="3"/>
                <a:endCxn id="1597" idx="1"/>
              </p:cNvCxnSpPr>
              <p:nvPr/>
            </p:nvCxnSpPr>
            <p:spPr>
              <a:xfrm>
                <a:off x="2815560" y="6253920"/>
                <a:ext cx="270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16" name=""/>
              <p:cNvCxnSpPr>
                <a:endCxn id="1598" idx="1"/>
              </p:cNvCxnSpPr>
              <p:nvPr/>
            </p:nvCxnSpPr>
            <p:spPr>
              <a:xfrm>
                <a:off x="2961360" y="6238440"/>
                <a:ext cx="270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17" name=""/>
              <p:cNvCxnSpPr>
                <a:stCxn id="1598" idx="3"/>
                <a:endCxn id="1599" idx="1"/>
              </p:cNvCxnSpPr>
              <p:nvPr/>
            </p:nvCxnSpPr>
            <p:spPr>
              <a:xfrm>
                <a:off x="3032280" y="6238800"/>
                <a:ext cx="41400" cy="57600"/>
              </a:xfrm>
              <a:prstGeom prst="bentConnector3">
                <a:avLst>
                  <a:gd name="adj1" fmla="val 49122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18" name=""/>
              <p:cNvCxnSpPr>
                <a:stCxn id="1599" idx="3"/>
                <a:endCxn id="1607" idx="1"/>
              </p:cNvCxnSpPr>
              <p:nvPr/>
            </p:nvCxnSpPr>
            <p:spPr>
              <a:xfrm>
                <a:off x="3117600" y="6296400"/>
                <a:ext cx="27720" cy="702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19" name=""/>
              <p:cNvCxnSpPr>
                <a:stCxn id="1599" idx="3"/>
                <a:endCxn id="1600" idx="1"/>
              </p:cNvCxnSpPr>
              <p:nvPr/>
            </p:nvCxnSpPr>
            <p:spPr>
              <a:xfrm flipV="1">
                <a:off x="3117960" y="6294600"/>
                <a:ext cx="118800" cy="1080"/>
              </a:xfrm>
              <a:prstGeom prst="bentConnector3">
                <a:avLst>
                  <a:gd name="adj1" fmla="val 49544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0" name=""/>
              <p:cNvCxnSpPr>
                <a:stCxn id="1607" idx="3"/>
                <a:endCxn id="1606" idx="1"/>
              </p:cNvCxnSpPr>
              <p:nvPr/>
            </p:nvCxnSpPr>
            <p:spPr>
              <a:xfrm>
                <a:off x="3189600" y="6366240"/>
                <a:ext cx="270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1" name=""/>
              <p:cNvCxnSpPr>
                <a:stCxn id="1606" idx="3"/>
                <a:endCxn id="1605" idx="1"/>
              </p:cNvCxnSpPr>
              <p:nvPr/>
            </p:nvCxnSpPr>
            <p:spPr>
              <a:xfrm>
                <a:off x="3260520" y="6366240"/>
                <a:ext cx="450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2" name=""/>
              <p:cNvCxnSpPr>
                <a:stCxn id="1600" idx="3"/>
                <a:endCxn id="1605" idx="0"/>
              </p:cNvCxnSpPr>
              <p:nvPr/>
            </p:nvCxnSpPr>
            <p:spPr>
              <a:xfrm>
                <a:off x="3280680" y="6295320"/>
                <a:ext cx="47880" cy="5040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3" name=""/>
              <p:cNvCxnSpPr>
                <a:stCxn id="1611" idx="3"/>
                <a:endCxn id="1598" idx="1"/>
              </p:cNvCxnSpPr>
              <p:nvPr/>
            </p:nvCxnSpPr>
            <p:spPr>
              <a:xfrm flipV="1">
                <a:off x="2886480" y="6238440"/>
                <a:ext cx="101880" cy="85680"/>
              </a:xfrm>
              <a:prstGeom prst="bentConnector3">
                <a:avLst>
                  <a:gd name="adj1" fmla="val 4964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4" name=""/>
              <p:cNvCxnSpPr>
                <a:stCxn id="1610" idx="3"/>
                <a:endCxn id="1609" idx="1"/>
              </p:cNvCxnSpPr>
              <p:nvPr/>
            </p:nvCxnSpPr>
            <p:spPr>
              <a:xfrm flipV="1">
                <a:off x="2886480" y="6351480"/>
                <a:ext cx="70920" cy="29520"/>
              </a:xfrm>
              <a:prstGeom prst="bentConnector3">
                <a:avLst>
                  <a:gd name="adj1" fmla="val 49489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5" name=""/>
              <p:cNvCxnSpPr>
                <a:stCxn id="1609" idx="3"/>
                <a:endCxn id="1598" idx="1"/>
              </p:cNvCxnSpPr>
              <p:nvPr/>
            </p:nvCxnSpPr>
            <p:spPr>
              <a:xfrm flipH="1" flipV="1">
                <a:off x="2987640" y="6238080"/>
                <a:ext cx="14040" cy="113400"/>
              </a:xfrm>
              <a:prstGeom prst="bentConnector5">
                <a:avLst>
                  <a:gd name="adj1" fmla="val -684210"/>
                  <a:gd name="adj2" fmla="val 50000"/>
                  <a:gd name="adj3" fmla="val 78421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6" name=""/>
              <p:cNvCxnSpPr>
                <a:stCxn id="1605" idx="3"/>
                <a:endCxn id="1613" idx="1"/>
              </p:cNvCxnSpPr>
              <p:nvPr/>
            </p:nvCxnSpPr>
            <p:spPr>
              <a:xfrm>
                <a:off x="3349440" y="6366240"/>
                <a:ext cx="27000" cy="846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7" name=""/>
              <p:cNvCxnSpPr>
                <a:stCxn id="1605" idx="3"/>
                <a:endCxn id="1604" idx="1"/>
              </p:cNvCxnSpPr>
              <p:nvPr/>
            </p:nvCxnSpPr>
            <p:spPr>
              <a:xfrm>
                <a:off x="3349440" y="6366240"/>
                <a:ext cx="270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8" name=""/>
              <p:cNvCxnSpPr>
                <a:stCxn id="1596" idx="3"/>
                <a:endCxn id="1610" idx="1"/>
              </p:cNvCxnSpPr>
              <p:nvPr/>
            </p:nvCxnSpPr>
            <p:spPr>
              <a:xfrm>
                <a:off x="2815560" y="6253920"/>
                <a:ext cx="27000" cy="1267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29" name=""/>
              <p:cNvCxnSpPr>
                <a:stCxn id="1596" idx="3"/>
                <a:endCxn id="1611" idx="1"/>
              </p:cNvCxnSpPr>
              <p:nvPr/>
            </p:nvCxnSpPr>
            <p:spPr>
              <a:xfrm>
                <a:off x="2815560" y="6254280"/>
                <a:ext cx="27000" cy="702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30" name=""/>
              <p:cNvCxnSpPr>
                <a:endCxn id="1607" idx="1"/>
              </p:cNvCxnSpPr>
              <p:nvPr/>
            </p:nvCxnSpPr>
            <p:spPr>
              <a:xfrm flipV="1">
                <a:off x="2975760" y="6365880"/>
                <a:ext cx="169920" cy="85320"/>
              </a:xfrm>
              <a:prstGeom prst="bentConnector3">
                <a:avLst>
                  <a:gd name="adj1" fmla="val 49893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31" name=""/>
              <p:cNvCxnSpPr>
                <a:stCxn id="1608" idx="3"/>
                <a:endCxn id="1612" idx="1"/>
              </p:cNvCxnSpPr>
              <p:nvPr/>
            </p:nvCxnSpPr>
            <p:spPr>
              <a:xfrm>
                <a:off x="3117960" y="6450120"/>
                <a:ext cx="360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32" name=""/>
              <p:cNvCxnSpPr>
                <a:stCxn id="1612" idx="3"/>
                <a:endCxn id="1606" idx="1"/>
              </p:cNvCxnSpPr>
              <p:nvPr/>
            </p:nvCxnSpPr>
            <p:spPr>
              <a:xfrm flipV="1">
                <a:off x="3198240" y="6365880"/>
                <a:ext cx="18720" cy="84600"/>
              </a:xfrm>
              <a:prstGeom prst="bentConnector3">
                <a:avLst>
                  <a:gd name="adj1" fmla="val 49019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33" name=""/>
              <p:cNvCxnSpPr>
                <a:stCxn id="1604" idx="3"/>
                <a:endCxn id="1603" idx="1"/>
              </p:cNvCxnSpPr>
              <p:nvPr/>
            </p:nvCxnSpPr>
            <p:spPr>
              <a:xfrm>
                <a:off x="3420720" y="6366240"/>
                <a:ext cx="270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34" name=""/>
              <p:cNvCxnSpPr>
                <a:stCxn id="1603" idx="3"/>
                <a:endCxn id="1602" idx="1"/>
              </p:cNvCxnSpPr>
              <p:nvPr/>
            </p:nvCxnSpPr>
            <p:spPr>
              <a:xfrm>
                <a:off x="3492000" y="6366600"/>
                <a:ext cx="45000" cy="280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35" name=""/>
              <p:cNvCxnSpPr>
                <a:stCxn id="1613" idx="3"/>
                <a:endCxn id="1603" idx="1"/>
              </p:cNvCxnSpPr>
              <p:nvPr/>
            </p:nvCxnSpPr>
            <p:spPr>
              <a:xfrm flipV="1">
                <a:off x="3420720" y="6365880"/>
                <a:ext cx="27000" cy="846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36" name=""/>
              <p:cNvCxnSpPr>
                <a:stCxn id="1602" idx="3"/>
                <a:endCxn id="1614" idx="1"/>
              </p:cNvCxnSpPr>
              <p:nvPr/>
            </p:nvCxnSpPr>
            <p:spPr>
              <a:xfrm>
                <a:off x="3581280" y="6394320"/>
                <a:ext cx="36000" cy="28800"/>
              </a:xfrm>
              <a:prstGeom prst="bentConnector3">
                <a:avLst>
                  <a:gd name="adj1" fmla="val 49494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37" name=""/>
              <p:cNvCxnSpPr>
                <a:stCxn id="1614" idx="3"/>
                <a:endCxn id="1601" idx="1"/>
              </p:cNvCxnSpPr>
              <p:nvPr/>
            </p:nvCxnSpPr>
            <p:spPr>
              <a:xfrm flipV="1">
                <a:off x="3661200" y="6352560"/>
                <a:ext cx="27000" cy="702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38" name=""/>
              <p:cNvCxnSpPr>
                <a:stCxn id="1610" idx="3"/>
                <a:endCxn id="1608" idx="1"/>
              </p:cNvCxnSpPr>
              <p:nvPr/>
            </p:nvCxnSpPr>
            <p:spPr>
              <a:xfrm>
                <a:off x="2886840" y="6380640"/>
                <a:ext cx="187200" cy="70200"/>
              </a:xfrm>
              <a:prstGeom prst="bentConnector3">
                <a:avLst>
                  <a:gd name="adj1" fmla="val 4971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639" name=""/>
          <p:cNvGrpSpPr/>
          <p:nvPr/>
        </p:nvGrpSpPr>
        <p:grpSpPr>
          <a:xfrm>
            <a:off x="4624560" y="6059520"/>
            <a:ext cx="1071360" cy="569880"/>
            <a:chOff x="4624560" y="6059520"/>
            <a:chExt cx="1071360" cy="569880"/>
          </a:xfrm>
        </p:grpSpPr>
        <p:sp>
          <p:nvSpPr>
            <p:cNvPr id="1640" name=""/>
            <p:cNvSpPr/>
            <p:nvPr/>
          </p:nvSpPr>
          <p:spPr>
            <a:xfrm>
              <a:off x="4624560" y="6059520"/>
              <a:ext cx="1071360" cy="56988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52" y="0"/>
                  </a:lnTo>
                  <a:lnTo>
                    <a:pt x="21600" y="10800"/>
                  </a:lnTo>
                  <a:lnTo>
                    <a:pt x="19252" y="21600"/>
                  </a:lnTo>
                  <a:lnTo>
                    <a:pt x="0" y="21600"/>
                  </a:lnTo>
                  <a:lnTo>
                    <a:pt x="2348" y="108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4787280" y="6138720"/>
              <a:ext cx="805680" cy="370440"/>
              <a:chOff x="4787280" y="6138720"/>
              <a:chExt cx="805680" cy="370440"/>
            </a:xfrm>
          </p:grpSpPr>
          <p:sp>
            <p:nvSpPr>
              <p:cNvPr id="1642" name=""/>
              <p:cNvSpPr/>
              <p:nvPr/>
            </p:nvSpPr>
            <p:spPr>
              <a:xfrm>
                <a:off x="4787280" y="619560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846680" y="6195600"/>
                <a:ext cx="37080" cy="55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4973760" y="625068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040720" y="625068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127480" y="613872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324400" y="6232320"/>
                <a:ext cx="37080" cy="55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384160" y="623232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458680" y="623232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555880" y="6324480"/>
                <a:ext cx="37080" cy="554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428800" y="6380280"/>
                <a:ext cx="37080" cy="55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354280" y="6342840"/>
                <a:ext cx="37080" cy="554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294520" y="6342840"/>
                <a:ext cx="37080" cy="554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234760" y="6342840"/>
                <a:ext cx="37080" cy="554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160240" y="6342840"/>
                <a:ext cx="37080" cy="554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100480" y="6342840"/>
                <a:ext cx="37080" cy="554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040720" y="645408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914000" y="6361920"/>
                <a:ext cx="37080" cy="55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846680" y="636192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846680" y="628776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846680" y="645408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921560" y="645408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08040" y="645408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294520" y="645408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496120" y="6417000"/>
                <a:ext cx="37080" cy="5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66" name=""/>
              <p:cNvCxnSpPr>
                <a:stCxn id="1642" idx="3"/>
                <a:endCxn id="1643" idx="1"/>
              </p:cNvCxnSpPr>
              <p:nvPr/>
            </p:nvCxnSpPr>
            <p:spPr>
              <a:xfrm>
                <a:off x="4824360" y="6222960"/>
                <a:ext cx="230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67" name=""/>
              <p:cNvCxnSpPr>
                <a:endCxn id="1644" idx="1"/>
              </p:cNvCxnSpPr>
              <p:nvPr/>
            </p:nvCxnSpPr>
            <p:spPr>
              <a:xfrm>
                <a:off x="4876200" y="6223680"/>
                <a:ext cx="97560" cy="550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68" name=""/>
              <p:cNvCxnSpPr>
                <a:endCxn id="1644" idx="1"/>
              </p:cNvCxnSpPr>
              <p:nvPr/>
            </p:nvCxnSpPr>
            <p:spPr>
              <a:xfrm>
                <a:off x="4951080" y="6278400"/>
                <a:ext cx="230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69" name=""/>
              <p:cNvCxnSpPr>
                <a:stCxn id="1644" idx="3"/>
                <a:endCxn id="1645" idx="1"/>
              </p:cNvCxnSpPr>
              <p:nvPr/>
            </p:nvCxnSpPr>
            <p:spPr>
              <a:xfrm>
                <a:off x="5010840" y="6278400"/>
                <a:ext cx="302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0" name=""/>
              <p:cNvCxnSpPr>
                <a:stCxn id="1645" idx="3"/>
                <a:endCxn id="1656" idx="1"/>
              </p:cNvCxnSpPr>
              <p:nvPr/>
            </p:nvCxnSpPr>
            <p:spPr>
              <a:xfrm>
                <a:off x="5078160" y="6278760"/>
                <a:ext cx="23040" cy="92880"/>
              </a:xfrm>
              <a:prstGeom prst="bentConnector3">
                <a:avLst>
                  <a:gd name="adj1" fmla="val 49206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1" name=""/>
              <p:cNvCxnSpPr>
                <a:stCxn id="1645" idx="3"/>
                <a:endCxn id="1646" idx="1"/>
              </p:cNvCxnSpPr>
              <p:nvPr/>
            </p:nvCxnSpPr>
            <p:spPr>
              <a:xfrm flipV="1">
                <a:off x="5078160" y="6165720"/>
                <a:ext cx="49680" cy="112680"/>
              </a:xfrm>
              <a:prstGeom prst="bentConnector3">
                <a:avLst>
                  <a:gd name="adj1" fmla="val 49635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2" name=""/>
              <p:cNvCxnSpPr>
                <a:stCxn id="1656" idx="3"/>
                <a:endCxn id="1655" idx="1"/>
              </p:cNvCxnSpPr>
              <p:nvPr/>
            </p:nvCxnSpPr>
            <p:spPr>
              <a:xfrm>
                <a:off x="5137920" y="6370560"/>
                <a:ext cx="230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3" name=""/>
              <p:cNvCxnSpPr>
                <a:stCxn id="1655" idx="3"/>
                <a:endCxn id="1654" idx="1"/>
              </p:cNvCxnSpPr>
              <p:nvPr/>
            </p:nvCxnSpPr>
            <p:spPr>
              <a:xfrm>
                <a:off x="5196960" y="6370560"/>
                <a:ext cx="378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4" name=""/>
              <p:cNvCxnSpPr>
                <a:stCxn id="1646" idx="3"/>
                <a:endCxn id="1654" idx="0"/>
              </p:cNvCxnSpPr>
              <p:nvPr/>
            </p:nvCxnSpPr>
            <p:spPr>
              <a:xfrm>
                <a:off x="5164560" y="6166440"/>
                <a:ext cx="89280" cy="17712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5" name=""/>
              <p:cNvCxnSpPr>
                <a:stCxn id="1660" idx="3"/>
                <a:endCxn id="1644" idx="1"/>
              </p:cNvCxnSpPr>
              <p:nvPr/>
            </p:nvCxnSpPr>
            <p:spPr>
              <a:xfrm flipV="1">
                <a:off x="4884120" y="6278400"/>
                <a:ext cx="90000" cy="37440"/>
              </a:xfrm>
              <a:prstGeom prst="bentConnector3">
                <a:avLst>
                  <a:gd name="adj1" fmla="val 49799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6" name=""/>
              <p:cNvCxnSpPr>
                <a:stCxn id="1659" idx="3"/>
                <a:endCxn id="1658" idx="1"/>
              </p:cNvCxnSpPr>
              <p:nvPr/>
            </p:nvCxnSpPr>
            <p:spPr>
              <a:xfrm>
                <a:off x="4884120" y="6388920"/>
                <a:ext cx="302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7" name=""/>
              <p:cNvCxnSpPr>
                <a:stCxn id="1658" idx="3"/>
                <a:endCxn id="1644" idx="1"/>
              </p:cNvCxnSpPr>
              <p:nvPr/>
            </p:nvCxnSpPr>
            <p:spPr>
              <a:xfrm flipV="1">
                <a:off x="4951080" y="6278040"/>
                <a:ext cx="23040" cy="111240"/>
              </a:xfrm>
              <a:prstGeom prst="bentConnector3">
                <a:avLst>
                  <a:gd name="adj1" fmla="val 49206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8" name=""/>
              <p:cNvCxnSpPr>
                <a:stCxn id="1655" idx="3"/>
                <a:endCxn id="1647" idx="1"/>
              </p:cNvCxnSpPr>
              <p:nvPr/>
            </p:nvCxnSpPr>
            <p:spPr>
              <a:xfrm flipV="1">
                <a:off x="5197320" y="6260040"/>
                <a:ext cx="127440" cy="110880"/>
              </a:xfrm>
              <a:prstGeom prst="bentConnector3">
                <a:avLst>
                  <a:gd name="adj1" fmla="val 49858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9" name=""/>
              <p:cNvCxnSpPr>
                <a:stCxn id="1654" idx="3"/>
                <a:endCxn id="1664" idx="1"/>
              </p:cNvCxnSpPr>
              <p:nvPr/>
            </p:nvCxnSpPr>
            <p:spPr>
              <a:xfrm>
                <a:off x="5272200" y="6370920"/>
                <a:ext cx="23040" cy="110880"/>
              </a:xfrm>
              <a:prstGeom prst="bentConnector3">
                <a:avLst>
                  <a:gd name="adj1" fmla="val 49206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0" name=""/>
              <p:cNvCxnSpPr>
                <a:stCxn id="1654" idx="3"/>
                <a:endCxn id="1653" idx="1"/>
              </p:cNvCxnSpPr>
              <p:nvPr/>
            </p:nvCxnSpPr>
            <p:spPr>
              <a:xfrm>
                <a:off x="5272200" y="6370560"/>
                <a:ext cx="230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1" name=""/>
              <p:cNvCxnSpPr>
                <a:stCxn id="1647" idx="3"/>
                <a:endCxn id="1648" idx="1"/>
              </p:cNvCxnSpPr>
              <p:nvPr/>
            </p:nvCxnSpPr>
            <p:spPr>
              <a:xfrm>
                <a:off x="5361840" y="6260040"/>
                <a:ext cx="230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2" name=""/>
              <p:cNvCxnSpPr>
                <a:stCxn id="1648" idx="3"/>
                <a:endCxn id="1649" idx="1"/>
              </p:cNvCxnSpPr>
              <p:nvPr/>
            </p:nvCxnSpPr>
            <p:spPr>
              <a:xfrm>
                <a:off x="5420880" y="6260040"/>
                <a:ext cx="378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3" name=""/>
              <p:cNvCxnSpPr>
                <a:stCxn id="1648" idx="3"/>
                <a:endCxn id="1650" idx="1"/>
              </p:cNvCxnSpPr>
              <p:nvPr/>
            </p:nvCxnSpPr>
            <p:spPr>
              <a:xfrm>
                <a:off x="5420880" y="6260040"/>
                <a:ext cx="135000" cy="92520"/>
              </a:xfrm>
              <a:prstGeom prst="bentConnector3">
                <a:avLst>
                  <a:gd name="adj1" fmla="val 13636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4" name=""/>
              <p:cNvCxnSpPr>
                <a:stCxn id="1661" idx="3"/>
                <a:endCxn id="1658" idx="1"/>
              </p:cNvCxnSpPr>
              <p:nvPr/>
            </p:nvCxnSpPr>
            <p:spPr>
              <a:xfrm flipV="1">
                <a:off x="4884120" y="6388560"/>
                <a:ext cx="30240" cy="92520"/>
              </a:xfrm>
              <a:prstGeom prst="bentConnector3">
                <a:avLst>
                  <a:gd name="adj1" fmla="val 49397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5" name=""/>
              <p:cNvCxnSpPr>
                <a:stCxn id="1642" idx="3"/>
                <a:endCxn id="1659" idx="1"/>
              </p:cNvCxnSpPr>
              <p:nvPr/>
            </p:nvCxnSpPr>
            <p:spPr>
              <a:xfrm>
                <a:off x="4824360" y="6223320"/>
                <a:ext cx="23040" cy="166320"/>
              </a:xfrm>
              <a:prstGeom prst="bentConnector3">
                <a:avLst>
                  <a:gd name="adj1" fmla="val 49206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6" name=""/>
              <p:cNvCxnSpPr>
                <a:stCxn id="1642" idx="3"/>
                <a:endCxn id="1660" idx="1"/>
              </p:cNvCxnSpPr>
              <p:nvPr/>
            </p:nvCxnSpPr>
            <p:spPr>
              <a:xfrm>
                <a:off x="4824360" y="6223320"/>
                <a:ext cx="23040" cy="92880"/>
              </a:xfrm>
              <a:prstGeom prst="bentConnector3">
                <a:avLst>
                  <a:gd name="adj1" fmla="val 49206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7" name=""/>
              <p:cNvCxnSpPr>
                <a:stCxn id="1661" idx="3"/>
                <a:endCxn id="1662" idx="1"/>
              </p:cNvCxnSpPr>
              <p:nvPr/>
            </p:nvCxnSpPr>
            <p:spPr>
              <a:xfrm>
                <a:off x="4883760" y="6481080"/>
                <a:ext cx="3780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8" name=""/>
              <p:cNvCxnSpPr>
                <a:stCxn id="1662" idx="3"/>
                <a:endCxn id="1656" idx="1"/>
              </p:cNvCxnSpPr>
              <p:nvPr/>
            </p:nvCxnSpPr>
            <p:spPr>
              <a:xfrm flipV="1">
                <a:off x="4958280" y="6370560"/>
                <a:ext cx="142200" cy="11160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89" name=""/>
              <p:cNvCxnSpPr>
                <a:stCxn id="1662" idx="3"/>
                <a:endCxn id="1657" idx="1"/>
              </p:cNvCxnSpPr>
              <p:nvPr/>
            </p:nvCxnSpPr>
            <p:spPr>
              <a:xfrm>
                <a:off x="4958280" y="6481080"/>
                <a:ext cx="824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90" name=""/>
              <p:cNvCxnSpPr>
                <a:stCxn id="1657" idx="3"/>
                <a:endCxn id="1663" idx="1"/>
              </p:cNvCxnSpPr>
              <p:nvPr/>
            </p:nvCxnSpPr>
            <p:spPr>
              <a:xfrm>
                <a:off x="5078160" y="6481080"/>
                <a:ext cx="302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91" name=""/>
              <p:cNvCxnSpPr>
                <a:stCxn id="1663" idx="3"/>
                <a:endCxn id="1655" idx="1"/>
              </p:cNvCxnSpPr>
              <p:nvPr/>
            </p:nvCxnSpPr>
            <p:spPr>
              <a:xfrm flipV="1">
                <a:off x="5144760" y="6370560"/>
                <a:ext cx="15480" cy="1108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92" name=""/>
              <p:cNvCxnSpPr>
                <a:stCxn id="1653" idx="3"/>
                <a:endCxn id="1652" idx="1"/>
              </p:cNvCxnSpPr>
              <p:nvPr/>
            </p:nvCxnSpPr>
            <p:spPr>
              <a:xfrm>
                <a:off x="5331960" y="6370560"/>
                <a:ext cx="23040" cy="10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93" name=""/>
              <p:cNvCxnSpPr>
                <a:stCxn id="1652" idx="3"/>
                <a:endCxn id="1651" idx="1"/>
              </p:cNvCxnSpPr>
              <p:nvPr/>
            </p:nvCxnSpPr>
            <p:spPr>
              <a:xfrm>
                <a:off x="5391000" y="6370920"/>
                <a:ext cx="37800" cy="37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94" name=""/>
              <p:cNvCxnSpPr>
                <a:stCxn id="1664" idx="3"/>
                <a:endCxn id="1652" idx="1"/>
              </p:cNvCxnSpPr>
              <p:nvPr/>
            </p:nvCxnSpPr>
            <p:spPr>
              <a:xfrm flipV="1">
                <a:off x="5331960" y="6370560"/>
                <a:ext cx="23040" cy="110880"/>
              </a:xfrm>
              <a:prstGeom prst="bentConnector3">
                <a:avLst>
                  <a:gd name="adj1" fmla="val 49206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95" name=""/>
              <p:cNvCxnSpPr>
                <a:stCxn id="1651" idx="3"/>
                <a:endCxn id="1665" idx="1"/>
              </p:cNvCxnSpPr>
              <p:nvPr/>
            </p:nvCxnSpPr>
            <p:spPr>
              <a:xfrm>
                <a:off x="5466240" y="6407640"/>
                <a:ext cx="30240" cy="37440"/>
              </a:xfrm>
              <a:prstGeom prst="bentConnector3">
                <a:avLst>
                  <a:gd name="adj1" fmla="val 49397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96" name=""/>
              <p:cNvCxnSpPr>
                <a:stCxn id="1665" idx="3"/>
                <a:endCxn id="1650" idx="1"/>
              </p:cNvCxnSpPr>
              <p:nvPr/>
            </p:nvCxnSpPr>
            <p:spPr>
              <a:xfrm flipV="1">
                <a:off x="5533200" y="6351840"/>
                <a:ext cx="23040" cy="92880"/>
              </a:xfrm>
              <a:prstGeom prst="bentConnector3">
                <a:avLst>
                  <a:gd name="adj1" fmla="val 49206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697" name=""/>
          <p:cNvSpPr/>
          <p:nvPr/>
        </p:nvSpPr>
        <p:spPr>
          <a:xfrm>
            <a:off x="607680" y="5670720"/>
            <a:ext cx="1162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647800" y="5670720"/>
            <a:ext cx="1162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568760" y="5670720"/>
            <a:ext cx="1162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039000" y="5740560"/>
            <a:ext cx="27511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s derivados de um modelo de referência espec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36400" y="3343320"/>
            <a:ext cx="3478320" cy="1546200"/>
          </a:xfrm>
          <a:custGeom>
            <a:avLst/>
            <a:gdLst/>
            <a:ahLst/>
            <a:rect l="l" t="t" r="r" b="b"/>
            <a:pathLst>
              <a:path w="2191" h="974">
                <a:moveTo>
                  <a:pt x="0" y="21"/>
                </a:moveTo>
                <a:lnTo>
                  <a:pt x="130" y="974"/>
                </a:lnTo>
                <a:lnTo>
                  <a:pt x="2020" y="954"/>
                </a:lnTo>
                <a:lnTo>
                  <a:pt x="2191" y="0"/>
                </a:lnTo>
              </a:path>
            </a:pathLst>
          </a:custGeom>
          <a:solidFill>
            <a:srgbClr val="ffff00">
              <a:alpha val="5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709560" y="4782960"/>
            <a:ext cx="1123920" cy="541440"/>
            <a:chOff x="709560" y="4782960"/>
            <a:chExt cx="1123920" cy="541440"/>
          </a:xfrm>
        </p:grpSpPr>
        <p:sp>
          <p:nvSpPr>
            <p:cNvPr id="1703" name=""/>
            <p:cNvSpPr/>
            <p:nvPr/>
          </p:nvSpPr>
          <p:spPr>
            <a:xfrm>
              <a:off x="709560" y="4782960"/>
              <a:ext cx="1123920" cy="541440"/>
            </a:xfrm>
            <a:prstGeom prst="rightArrow">
              <a:avLst>
                <a:gd name="adj1" fmla="val 77731"/>
                <a:gd name="adj2" fmla="val 26841"/>
              </a:avLst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246320" y="5156280"/>
              <a:ext cx="60480" cy="7668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33200" y="4988160"/>
              <a:ext cx="60480" cy="7668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337400" y="4913280"/>
              <a:ext cx="90720" cy="7668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60240" y="5081760"/>
              <a:ext cx="50040" cy="6372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91360" y="5062680"/>
              <a:ext cx="40680" cy="3888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70040" y="5137560"/>
              <a:ext cx="40680" cy="3888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9720" y="4913280"/>
              <a:ext cx="60480" cy="7668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337400" y="5081760"/>
              <a:ext cx="40320" cy="7596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962640" y="5137560"/>
              <a:ext cx="90720" cy="7668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205640" y="4895280"/>
              <a:ext cx="40680" cy="7560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600560" y="4913280"/>
              <a:ext cx="60480" cy="7668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932400" y="4876200"/>
              <a:ext cx="40320" cy="7596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398240" y="5175000"/>
              <a:ext cx="40320" cy="7632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75040" y="5044680"/>
              <a:ext cx="40680" cy="7596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63800" y="4895280"/>
              <a:ext cx="40680" cy="3852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124280" y="5194080"/>
              <a:ext cx="40680" cy="3852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468800" y="5044680"/>
              <a:ext cx="40680" cy="3852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479240" y="4876200"/>
              <a:ext cx="40320" cy="3852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29640" y="5194080"/>
              <a:ext cx="40680" cy="3852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3" name=""/>
            <p:cNvCxnSpPr>
              <a:stCxn id="1710" idx="3"/>
              <a:endCxn id="1715" idx="1"/>
            </p:cNvCxnSpPr>
            <p:nvPr/>
          </p:nvCxnSpPr>
          <p:spPr>
            <a:xfrm flipV="1">
              <a:off x="790200" y="4914000"/>
              <a:ext cx="142200" cy="381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24" name=""/>
            <p:cNvCxnSpPr>
              <a:stCxn id="1709" idx="3"/>
              <a:endCxn id="1708" idx="1"/>
            </p:cNvCxnSpPr>
            <p:nvPr/>
          </p:nvCxnSpPr>
          <p:spPr>
            <a:xfrm flipV="1">
              <a:off x="810720" y="5082120"/>
              <a:ext cx="81360" cy="752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25" name=""/>
            <p:cNvCxnSpPr>
              <a:stCxn id="1708" idx="2"/>
              <a:endCxn id="1712" idx="1"/>
            </p:cNvCxnSpPr>
            <p:nvPr/>
          </p:nvCxnSpPr>
          <p:spPr>
            <a:xfrm>
              <a:off x="911880" y="5101560"/>
              <a:ext cx="51120" cy="74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26" name=""/>
            <p:cNvCxnSpPr>
              <a:stCxn id="1708" idx="0"/>
              <a:endCxn id="1715" idx="2"/>
            </p:cNvCxnSpPr>
            <p:nvPr/>
          </p:nvCxnSpPr>
          <p:spPr>
            <a:xfrm flipV="1">
              <a:off x="911880" y="4952160"/>
              <a:ext cx="40680" cy="1108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27" name=""/>
            <p:cNvCxnSpPr>
              <a:stCxn id="1715" idx="3"/>
              <a:endCxn id="1718" idx="1"/>
            </p:cNvCxnSpPr>
            <p:nvPr/>
          </p:nvCxnSpPr>
          <p:spPr>
            <a:xfrm>
              <a:off x="972720" y="4914000"/>
              <a:ext cx="9144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28" name=""/>
            <p:cNvCxnSpPr>
              <a:stCxn id="1712" idx="0"/>
              <a:endCxn id="1705" idx="2"/>
            </p:cNvCxnSpPr>
            <p:nvPr/>
          </p:nvCxnSpPr>
          <p:spPr>
            <a:xfrm flipV="1">
              <a:off x="1008360" y="5064120"/>
              <a:ext cx="56160" cy="73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29" name=""/>
            <p:cNvCxnSpPr>
              <a:stCxn id="1705" idx="0"/>
              <a:endCxn id="1718" idx="2"/>
            </p:cNvCxnSpPr>
            <p:nvPr/>
          </p:nvCxnSpPr>
          <p:spPr>
            <a:xfrm flipV="1">
              <a:off x="1063800" y="4933440"/>
              <a:ext cx="20880" cy="547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30" name=""/>
            <p:cNvCxnSpPr>
              <a:stCxn id="1705" idx="3"/>
              <a:endCxn id="1717" idx="1"/>
            </p:cNvCxnSpPr>
            <p:nvPr/>
          </p:nvCxnSpPr>
          <p:spPr>
            <a:xfrm>
              <a:off x="1093680" y="5026320"/>
              <a:ext cx="81360" cy="56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31" name=""/>
            <p:cNvCxnSpPr>
              <a:stCxn id="1712" idx="3"/>
              <a:endCxn id="1719" idx="1"/>
            </p:cNvCxnSpPr>
            <p:nvPr/>
          </p:nvCxnSpPr>
          <p:spPr>
            <a:xfrm>
              <a:off x="1053720" y="5175720"/>
              <a:ext cx="71280" cy="378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32" name=""/>
            <p:cNvCxnSpPr>
              <a:stCxn id="1719" idx="3"/>
              <a:endCxn id="1704" idx="1"/>
            </p:cNvCxnSpPr>
            <p:nvPr/>
          </p:nvCxnSpPr>
          <p:spPr>
            <a:xfrm flipV="1">
              <a:off x="1164960" y="5194800"/>
              <a:ext cx="81360" cy="187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33" name=""/>
            <p:cNvCxnSpPr>
              <a:stCxn id="1717" idx="2"/>
              <a:endCxn id="1704" idx="0"/>
            </p:cNvCxnSpPr>
            <p:nvPr/>
          </p:nvCxnSpPr>
          <p:spPr>
            <a:xfrm>
              <a:off x="1195200" y="5121000"/>
              <a:ext cx="81360" cy="36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34" name=""/>
            <p:cNvCxnSpPr>
              <a:stCxn id="1717" idx="0"/>
              <a:endCxn id="1713" idx="2"/>
            </p:cNvCxnSpPr>
            <p:nvPr/>
          </p:nvCxnSpPr>
          <p:spPr>
            <a:xfrm flipV="1">
              <a:off x="1195560" y="4970520"/>
              <a:ext cx="30600" cy="741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35" name=""/>
            <p:cNvCxnSpPr>
              <a:stCxn id="1718" idx="3"/>
              <a:endCxn id="1713" idx="1"/>
            </p:cNvCxnSpPr>
            <p:nvPr/>
          </p:nvCxnSpPr>
          <p:spPr>
            <a:xfrm>
              <a:off x="1104480" y="4914360"/>
              <a:ext cx="101520" cy="19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36" name=""/>
            <p:cNvCxnSpPr>
              <a:stCxn id="1713" idx="3"/>
              <a:endCxn id="1706" idx="1"/>
            </p:cNvCxnSpPr>
            <p:nvPr/>
          </p:nvCxnSpPr>
          <p:spPr>
            <a:xfrm>
              <a:off x="1246320" y="4933440"/>
              <a:ext cx="91440" cy="19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37" name=""/>
            <p:cNvCxnSpPr>
              <a:stCxn id="1738" idx="3"/>
              <a:endCxn id="1706" idx="1"/>
            </p:cNvCxnSpPr>
            <p:nvPr/>
          </p:nvCxnSpPr>
          <p:spPr>
            <a:xfrm flipV="1">
              <a:off x="1307160" y="4951800"/>
              <a:ext cx="30600" cy="972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39" name=""/>
            <p:cNvCxnSpPr>
              <a:stCxn id="1704" idx="3"/>
              <a:endCxn id="1716" idx="1"/>
            </p:cNvCxnSpPr>
            <p:nvPr/>
          </p:nvCxnSpPr>
          <p:spPr>
            <a:xfrm>
              <a:off x="1307160" y="5195160"/>
              <a:ext cx="91440" cy="187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40" name=""/>
            <p:cNvCxnSpPr>
              <a:stCxn id="1706" idx="2"/>
              <a:endCxn id="1711" idx="0"/>
            </p:cNvCxnSpPr>
            <p:nvPr/>
          </p:nvCxnSpPr>
          <p:spPr>
            <a:xfrm flipH="1">
              <a:off x="1356480" y="4989960"/>
              <a:ext cx="26280" cy="918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41" name=""/>
            <p:cNvCxnSpPr>
              <a:stCxn id="1706" idx="3"/>
              <a:endCxn id="1721" idx="1"/>
            </p:cNvCxnSpPr>
            <p:nvPr/>
          </p:nvCxnSpPr>
          <p:spPr>
            <a:xfrm flipV="1">
              <a:off x="1428480" y="4895280"/>
              <a:ext cx="51120" cy="568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42" name=""/>
            <p:cNvCxnSpPr>
              <a:stCxn id="1721" idx="3"/>
              <a:endCxn id="1714" idx="0"/>
            </p:cNvCxnSpPr>
            <p:nvPr/>
          </p:nvCxnSpPr>
          <p:spPr>
            <a:xfrm>
              <a:off x="1519200" y="4895280"/>
              <a:ext cx="111960" cy="183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43" name=""/>
            <p:cNvCxnSpPr>
              <a:stCxn id="1720" idx="3"/>
              <a:endCxn id="1707" idx="1"/>
            </p:cNvCxnSpPr>
            <p:nvPr/>
          </p:nvCxnSpPr>
          <p:spPr>
            <a:xfrm>
              <a:off x="1509480" y="5063760"/>
              <a:ext cx="51120" cy="504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44" name=""/>
            <p:cNvCxnSpPr>
              <a:stCxn id="1716" idx="3"/>
              <a:endCxn id="1720" idx="2"/>
            </p:cNvCxnSpPr>
            <p:nvPr/>
          </p:nvCxnSpPr>
          <p:spPr>
            <a:xfrm flipV="1">
              <a:off x="1438560" y="5082480"/>
              <a:ext cx="51120" cy="1306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45" name=""/>
            <p:cNvCxnSpPr>
              <a:stCxn id="1714" idx="2"/>
              <a:endCxn id="1707" idx="0"/>
            </p:cNvCxnSpPr>
            <p:nvPr/>
          </p:nvCxnSpPr>
          <p:spPr>
            <a:xfrm flipH="1">
              <a:off x="1585080" y="4989960"/>
              <a:ext cx="46080" cy="918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46" name=""/>
            <p:cNvCxnSpPr>
              <a:stCxn id="1722" idx="0"/>
              <a:endCxn id="1707" idx="2"/>
            </p:cNvCxnSpPr>
            <p:nvPr/>
          </p:nvCxnSpPr>
          <p:spPr>
            <a:xfrm flipV="1">
              <a:off x="1549800" y="5145120"/>
              <a:ext cx="36000" cy="48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747" name=""/>
            <p:cNvSpPr/>
            <p:nvPr/>
          </p:nvSpPr>
          <p:spPr>
            <a:xfrm>
              <a:off x="1671480" y="5081760"/>
              <a:ext cx="50400" cy="6372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8" name=""/>
            <p:cNvCxnSpPr>
              <a:stCxn id="1707" idx="3"/>
              <a:endCxn id="1747" idx="1"/>
            </p:cNvCxnSpPr>
            <p:nvPr/>
          </p:nvCxnSpPr>
          <p:spPr>
            <a:xfrm>
              <a:off x="1610640" y="5113440"/>
              <a:ext cx="6120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49" name=""/>
            <p:cNvCxnSpPr>
              <a:stCxn id="1714" idx="3"/>
              <a:endCxn id="1747" idx="0"/>
            </p:cNvCxnSpPr>
            <p:nvPr/>
          </p:nvCxnSpPr>
          <p:spPr>
            <a:xfrm>
              <a:off x="1661400" y="4951800"/>
              <a:ext cx="36000" cy="129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50" name=""/>
            <p:cNvCxnSpPr>
              <a:stCxn id="1722" idx="3"/>
              <a:endCxn id="1747" idx="2"/>
            </p:cNvCxnSpPr>
            <p:nvPr/>
          </p:nvCxnSpPr>
          <p:spPr>
            <a:xfrm flipV="1">
              <a:off x="1569960" y="5145120"/>
              <a:ext cx="126720" cy="684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51" name=""/>
            <p:cNvCxnSpPr>
              <a:stCxn id="1708" idx="3"/>
              <a:endCxn id="1705" idx="1"/>
            </p:cNvCxnSpPr>
            <p:nvPr/>
          </p:nvCxnSpPr>
          <p:spPr>
            <a:xfrm flipV="1">
              <a:off x="932400" y="5025960"/>
              <a:ext cx="101520" cy="56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52" name=""/>
            <p:cNvCxnSpPr>
              <a:stCxn id="1717" idx="3"/>
              <a:endCxn id="1738" idx="1"/>
            </p:cNvCxnSpPr>
            <p:nvPr/>
          </p:nvCxnSpPr>
          <p:spPr>
            <a:xfrm flipV="1">
              <a:off x="1215720" y="5048280"/>
              <a:ext cx="50760" cy="345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53" name=""/>
            <p:cNvCxnSpPr>
              <a:stCxn id="1711" idx="3"/>
              <a:endCxn id="1720" idx="1"/>
            </p:cNvCxnSpPr>
            <p:nvPr/>
          </p:nvCxnSpPr>
          <p:spPr>
            <a:xfrm flipV="1">
              <a:off x="1377720" y="5063040"/>
              <a:ext cx="91440" cy="56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754" name=""/>
            <p:cNvCxnSpPr>
              <a:stCxn id="1738" idx="2"/>
              <a:endCxn id="1711" idx="1"/>
            </p:cNvCxnSpPr>
            <p:nvPr/>
          </p:nvCxnSpPr>
          <p:spPr>
            <a:xfrm>
              <a:off x="1286640" y="5072040"/>
              <a:ext cx="51120" cy="478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738" name=""/>
            <p:cNvSpPr/>
            <p:nvPr/>
          </p:nvSpPr>
          <p:spPr>
            <a:xfrm>
              <a:off x="1266120" y="5025600"/>
              <a:ext cx="40680" cy="46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4300560" y="3343320"/>
            <a:ext cx="3868560" cy="1533600"/>
          </a:xfrm>
          <a:custGeom>
            <a:avLst/>
            <a:gdLst/>
            <a:ahLst/>
            <a:rect l="l" t="t" r="r" b="b"/>
            <a:pathLst>
              <a:path w="2437" h="966">
                <a:moveTo>
                  <a:pt x="0" y="0"/>
                </a:moveTo>
                <a:lnTo>
                  <a:pt x="135" y="936"/>
                </a:lnTo>
                <a:lnTo>
                  <a:pt x="162" y="918"/>
                </a:lnTo>
                <a:lnTo>
                  <a:pt x="2421" y="966"/>
                </a:lnTo>
                <a:lnTo>
                  <a:pt x="2437" y="866"/>
                </a:lnTo>
                <a:lnTo>
                  <a:pt x="837" y="0"/>
                </a:lnTo>
              </a:path>
            </a:pathLst>
          </a:custGeom>
          <a:solidFill>
            <a:srgbClr val="ffcc99">
              <a:alpha val="5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4206960" y="2614680"/>
            <a:ext cx="1495440" cy="795240"/>
            <a:chOff x="4206960" y="2614680"/>
            <a:chExt cx="1495440" cy="795240"/>
          </a:xfrm>
        </p:grpSpPr>
        <p:sp>
          <p:nvSpPr>
            <p:cNvPr id="1757" name=""/>
            <p:cNvSpPr/>
            <p:nvPr/>
          </p:nvSpPr>
          <p:spPr>
            <a:xfrm>
              <a:off x="4206960" y="2614680"/>
              <a:ext cx="1495440" cy="795240"/>
            </a:xfrm>
            <a:prstGeom prst="rect">
              <a:avLst/>
            </a:prstGeom>
            <a:solidFill>
              <a:srgbClr val="ff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238720" y="2905200"/>
              <a:ext cx="194040" cy="149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784760" y="3050280"/>
              <a:ext cx="130320" cy="75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395600" y="3195360"/>
              <a:ext cx="130320" cy="75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266720" y="2760480"/>
              <a:ext cx="194040" cy="149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12280" y="3195360"/>
              <a:ext cx="291600" cy="149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15080" y="2688480"/>
              <a:ext cx="128880" cy="147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335560" y="2724840"/>
              <a:ext cx="130680" cy="74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5" name=""/>
            <p:cNvCxnSpPr>
              <a:stCxn id="1761" idx="3"/>
              <a:endCxn id="1763" idx="1"/>
            </p:cNvCxnSpPr>
            <p:nvPr/>
          </p:nvCxnSpPr>
          <p:spPr>
            <a:xfrm flipV="1">
              <a:off x="4460400" y="2762280"/>
              <a:ext cx="454680" cy="7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66" name=""/>
            <p:cNvCxnSpPr>
              <a:stCxn id="1760" idx="3"/>
              <a:endCxn id="1759" idx="1"/>
            </p:cNvCxnSpPr>
            <p:nvPr/>
          </p:nvCxnSpPr>
          <p:spPr>
            <a:xfrm flipV="1">
              <a:off x="4525920" y="3088440"/>
              <a:ext cx="259200" cy="145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67" name=""/>
            <p:cNvCxnSpPr>
              <a:stCxn id="1759" idx="2"/>
              <a:endCxn id="1762" idx="1"/>
            </p:cNvCxnSpPr>
            <p:nvPr/>
          </p:nvCxnSpPr>
          <p:spPr>
            <a:xfrm>
              <a:off x="4849560" y="3125880"/>
              <a:ext cx="162720" cy="144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68" name=""/>
            <p:cNvCxnSpPr>
              <a:stCxn id="1759" idx="0"/>
              <a:endCxn id="1763" idx="2"/>
            </p:cNvCxnSpPr>
            <p:nvPr/>
          </p:nvCxnSpPr>
          <p:spPr>
            <a:xfrm flipV="1">
              <a:off x="4849920" y="2835720"/>
              <a:ext cx="131040" cy="214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69" name=""/>
            <p:cNvCxnSpPr>
              <a:stCxn id="1763" idx="3"/>
              <a:endCxn id="1764" idx="1"/>
            </p:cNvCxnSpPr>
            <p:nvPr/>
          </p:nvCxnSpPr>
          <p:spPr>
            <a:xfrm>
              <a:off x="5043960" y="2762280"/>
              <a:ext cx="291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70" name=""/>
            <p:cNvCxnSpPr>
              <a:stCxn id="1762" idx="0"/>
              <a:endCxn id="1758" idx="2"/>
            </p:cNvCxnSpPr>
            <p:nvPr/>
          </p:nvCxnSpPr>
          <p:spPr>
            <a:xfrm flipV="1">
              <a:off x="5157720" y="3054240"/>
              <a:ext cx="178200" cy="141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71" name=""/>
            <p:cNvCxnSpPr>
              <a:stCxn id="1758" idx="0"/>
              <a:endCxn id="1764" idx="2"/>
            </p:cNvCxnSpPr>
            <p:nvPr/>
          </p:nvCxnSpPr>
          <p:spPr>
            <a:xfrm flipV="1">
              <a:off x="5335200" y="2799720"/>
              <a:ext cx="65520" cy="105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72" name=""/>
            <p:cNvCxnSpPr>
              <a:stCxn id="1762" idx="3"/>
            </p:cNvCxnSpPr>
            <p:nvPr/>
          </p:nvCxnSpPr>
          <p:spPr>
            <a:xfrm>
              <a:off x="5303880" y="3270240"/>
              <a:ext cx="226800" cy="72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73" name=""/>
            <p:cNvCxnSpPr>
              <a:stCxn id="1759" idx="3"/>
              <a:endCxn id="1758" idx="1"/>
            </p:cNvCxnSpPr>
            <p:nvPr/>
          </p:nvCxnSpPr>
          <p:spPr>
            <a:xfrm flipV="1">
              <a:off x="4914720" y="2980080"/>
              <a:ext cx="324360" cy="108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</p:grpSp>
      <p:grpSp>
        <p:nvGrpSpPr>
          <p:cNvPr id="1774" name=""/>
          <p:cNvGrpSpPr/>
          <p:nvPr/>
        </p:nvGrpSpPr>
        <p:grpSpPr>
          <a:xfrm>
            <a:off x="567360" y="4338720"/>
            <a:ext cx="7663680" cy="305280"/>
            <a:chOff x="567360" y="4338720"/>
            <a:chExt cx="7663680" cy="305280"/>
          </a:xfrm>
        </p:grpSpPr>
        <p:sp>
          <p:nvSpPr>
            <p:cNvPr id="1775" name=""/>
            <p:cNvSpPr/>
            <p:nvPr/>
          </p:nvSpPr>
          <p:spPr>
            <a:xfrm>
              <a:off x="6812280" y="4338720"/>
              <a:ext cx="14187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resa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67360" y="4338720"/>
              <a:ext cx="1403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643840" y="4338720"/>
              <a:ext cx="1403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719960" y="4338720"/>
              <a:ext cx="14187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resa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2724120" y="4809960"/>
            <a:ext cx="1079640" cy="487440"/>
            <a:chOff x="2724120" y="4809960"/>
            <a:chExt cx="1079640" cy="487440"/>
          </a:xfrm>
        </p:grpSpPr>
        <p:sp>
          <p:nvSpPr>
            <p:cNvPr id="1780" name=""/>
            <p:cNvSpPr/>
            <p:nvPr/>
          </p:nvSpPr>
          <p:spPr>
            <a:xfrm>
              <a:off x="2724120" y="4809960"/>
              <a:ext cx="1079640" cy="48744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141720" y="5076720"/>
              <a:ext cx="93600" cy="46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92520" y="5078520"/>
              <a:ext cx="161640" cy="135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766960" y="4898880"/>
              <a:ext cx="139680" cy="92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305160" y="5165640"/>
              <a:ext cx="211320" cy="92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235320" y="4856040"/>
              <a:ext cx="92160" cy="907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538440" y="4878360"/>
              <a:ext cx="93600" cy="46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7" name=""/>
            <p:cNvCxnSpPr>
              <a:stCxn id="1783" idx="3"/>
              <a:endCxn id="1785" idx="1"/>
            </p:cNvCxnSpPr>
            <p:nvPr/>
          </p:nvCxnSpPr>
          <p:spPr>
            <a:xfrm flipV="1">
              <a:off x="2906280" y="4899960"/>
              <a:ext cx="329040" cy="45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88" name=""/>
            <p:cNvCxnSpPr>
              <a:stCxn id="1782" idx="3"/>
              <a:endCxn id="1781" idx="1"/>
            </p:cNvCxnSpPr>
            <p:nvPr/>
          </p:nvCxnSpPr>
          <p:spPr>
            <a:xfrm flipV="1">
              <a:off x="2953800" y="5100120"/>
              <a:ext cx="188280" cy="4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89" name=""/>
            <p:cNvCxnSpPr>
              <a:stCxn id="1781" idx="2"/>
              <a:endCxn id="1784" idx="1"/>
            </p:cNvCxnSpPr>
            <p:nvPr/>
          </p:nvCxnSpPr>
          <p:spPr>
            <a:xfrm>
              <a:off x="3187800" y="5122440"/>
              <a:ext cx="118080" cy="89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90" name=""/>
            <p:cNvCxnSpPr>
              <a:stCxn id="1781" idx="0"/>
              <a:endCxn id="1785" idx="2"/>
            </p:cNvCxnSpPr>
            <p:nvPr/>
          </p:nvCxnSpPr>
          <p:spPr>
            <a:xfrm flipV="1">
              <a:off x="3187800" y="4946040"/>
              <a:ext cx="95760" cy="130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91" name=""/>
            <p:cNvCxnSpPr>
              <a:stCxn id="1785" idx="3"/>
              <a:endCxn id="1786" idx="1"/>
            </p:cNvCxnSpPr>
            <p:nvPr/>
          </p:nvCxnSpPr>
          <p:spPr>
            <a:xfrm>
              <a:off x="3327480" y="4900320"/>
              <a:ext cx="211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92" name=""/>
            <p:cNvCxnSpPr>
              <a:stCxn id="1784" idx="0"/>
            </p:cNvCxnSpPr>
            <p:nvPr/>
          </p:nvCxnSpPr>
          <p:spPr>
            <a:xfrm flipV="1">
              <a:off x="3411360" y="5079600"/>
              <a:ext cx="129240" cy="8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93" name=""/>
            <p:cNvCxnSpPr>
              <a:stCxn id="1784" idx="3"/>
            </p:cNvCxnSpPr>
            <p:nvPr/>
          </p:nvCxnSpPr>
          <p:spPr>
            <a:xfrm>
              <a:off x="3516480" y="5211720"/>
              <a:ext cx="164160" cy="4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794" name=""/>
            <p:cNvCxnSpPr>
              <a:stCxn id="1781" idx="3"/>
            </p:cNvCxnSpPr>
            <p:nvPr/>
          </p:nvCxnSpPr>
          <p:spPr>
            <a:xfrm flipV="1">
              <a:off x="3235320" y="5033160"/>
              <a:ext cx="234000" cy="67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</p:grpSp>
      <p:grpSp>
        <p:nvGrpSpPr>
          <p:cNvPr id="1795" name=""/>
          <p:cNvGrpSpPr/>
          <p:nvPr/>
        </p:nvGrpSpPr>
        <p:grpSpPr>
          <a:xfrm>
            <a:off x="4470480" y="4745160"/>
            <a:ext cx="1720440" cy="617400"/>
            <a:chOff x="4470480" y="4745160"/>
            <a:chExt cx="1720440" cy="617400"/>
          </a:xfrm>
        </p:grpSpPr>
        <p:sp>
          <p:nvSpPr>
            <p:cNvPr id="1796" name=""/>
            <p:cNvSpPr/>
            <p:nvPr/>
          </p:nvSpPr>
          <p:spPr>
            <a:xfrm>
              <a:off x="4470480" y="4745160"/>
              <a:ext cx="1720440" cy="617400"/>
            </a:xfrm>
            <a:prstGeom prst="rect">
              <a:avLst/>
            </a:prstGeom>
            <a:solidFill>
              <a:srgbClr val="ff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657760" y="4970520"/>
              <a:ext cx="222840" cy="115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135040" y="5082840"/>
              <a:ext cx="149760" cy="58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523400" y="5131800"/>
              <a:ext cx="314280" cy="169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39960" y="4858560"/>
              <a:ext cx="222840" cy="115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96400" y="5195880"/>
              <a:ext cx="335880" cy="115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916160" y="4794480"/>
              <a:ext cx="516960" cy="123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769360" y="4831200"/>
              <a:ext cx="273600" cy="11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4" name=""/>
            <p:cNvCxnSpPr>
              <a:stCxn id="1800" idx="3"/>
              <a:endCxn id="1802" idx="1"/>
            </p:cNvCxnSpPr>
            <p:nvPr/>
          </p:nvCxnSpPr>
          <p:spPr>
            <a:xfrm flipV="1">
              <a:off x="4762440" y="4855320"/>
              <a:ext cx="153360" cy="60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05" name=""/>
            <p:cNvCxnSpPr>
              <a:stCxn id="1799" idx="3"/>
              <a:endCxn id="1798" idx="1"/>
            </p:cNvCxnSpPr>
            <p:nvPr/>
          </p:nvCxnSpPr>
          <p:spPr>
            <a:xfrm flipV="1">
              <a:off x="4837680" y="5111280"/>
              <a:ext cx="298080" cy="105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06" name=""/>
            <p:cNvCxnSpPr>
              <a:stCxn id="1798" idx="2"/>
              <a:endCxn id="1801" idx="1"/>
            </p:cNvCxnSpPr>
            <p:nvPr/>
          </p:nvCxnSpPr>
          <p:spPr>
            <a:xfrm>
              <a:off x="5209920" y="5141520"/>
              <a:ext cx="186840" cy="112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07" name=""/>
            <p:cNvCxnSpPr>
              <a:stCxn id="1798" idx="0"/>
              <a:endCxn id="1802" idx="2"/>
            </p:cNvCxnSpPr>
            <p:nvPr/>
          </p:nvCxnSpPr>
          <p:spPr>
            <a:xfrm flipH="1" flipV="1">
              <a:off x="5175000" y="4917240"/>
              <a:ext cx="35280" cy="165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08" name=""/>
            <p:cNvCxnSpPr>
              <a:stCxn id="1802" idx="3"/>
              <a:endCxn id="1803" idx="1"/>
            </p:cNvCxnSpPr>
            <p:nvPr/>
          </p:nvCxnSpPr>
          <p:spPr>
            <a:xfrm>
              <a:off x="5433120" y="4855680"/>
              <a:ext cx="336600" cy="32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09" name=""/>
            <p:cNvCxnSpPr>
              <a:stCxn id="1801" idx="0"/>
              <a:endCxn id="1797" idx="2"/>
            </p:cNvCxnSpPr>
            <p:nvPr/>
          </p:nvCxnSpPr>
          <p:spPr>
            <a:xfrm flipV="1">
              <a:off x="5564880" y="5086080"/>
              <a:ext cx="205200" cy="110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10" name=""/>
            <p:cNvCxnSpPr>
              <a:stCxn id="1801" idx="3"/>
            </p:cNvCxnSpPr>
            <p:nvPr/>
          </p:nvCxnSpPr>
          <p:spPr>
            <a:xfrm>
              <a:off x="5732640" y="5253840"/>
              <a:ext cx="262080" cy="56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11" name=""/>
            <p:cNvCxnSpPr>
              <a:stCxn id="1798" idx="3"/>
              <a:endCxn id="1797" idx="1"/>
            </p:cNvCxnSpPr>
            <p:nvPr/>
          </p:nvCxnSpPr>
          <p:spPr>
            <a:xfrm flipV="1">
              <a:off x="5284800" y="5027760"/>
              <a:ext cx="373320" cy="8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1812" name=""/>
            <p:cNvSpPr/>
            <p:nvPr/>
          </p:nvSpPr>
          <p:spPr>
            <a:xfrm>
              <a:off x="5833080" y="5088960"/>
              <a:ext cx="222840" cy="115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715280" y="4976640"/>
              <a:ext cx="222840" cy="115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60480" y="4921200"/>
              <a:ext cx="147960" cy="114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635800" y="5039640"/>
              <a:ext cx="147600" cy="114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6905520" y="4694400"/>
            <a:ext cx="1293840" cy="758520"/>
            <a:chOff x="6905520" y="4694400"/>
            <a:chExt cx="1293840" cy="758520"/>
          </a:xfrm>
        </p:grpSpPr>
        <p:sp>
          <p:nvSpPr>
            <p:cNvPr id="1817" name=""/>
            <p:cNvSpPr/>
            <p:nvPr/>
          </p:nvSpPr>
          <p:spPr>
            <a:xfrm>
              <a:off x="6905520" y="4694400"/>
              <a:ext cx="1293840" cy="758520"/>
            </a:xfrm>
            <a:prstGeom prst="rect">
              <a:avLst/>
            </a:prstGeom>
            <a:solidFill>
              <a:srgbClr val="ff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937280" y="4971240"/>
              <a:ext cx="193680" cy="142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483320" y="5109120"/>
              <a:ext cx="130320" cy="72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965640" y="4833720"/>
              <a:ext cx="193680" cy="142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710480" y="5248080"/>
              <a:ext cx="291960" cy="142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13640" y="4765680"/>
              <a:ext cx="188640" cy="2768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034120" y="4800240"/>
              <a:ext cx="130320" cy="70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4" name=""/>
            <p:cNvCxnSpPr>
              <a:stCxn id="1820" idx="3"/>
              <a:endCxn id="1822" idx="1"/>
            </p:cNvCxnSpPr>
            <p:nvPr/>
          </p:nvCxnSpPr>
          <p:spPr>
            <a:xfrm>
              <a:off x="7159320" y="4904280"/>
              <a:ext cx="455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25" name=""/>
            <p:cNvCxnSpPr>
              <a:endCxn id="1819" idx="1"/>
            </p:cNvCxnSpPr>
            <p:nvPr/>
          </p:nvCxnSpPr>
          <p:spPr>
            <a:xfrm flipV="1">
              <a:off x="7224120" y="5146920"/>
              <a:ext cx="259560" cy="137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26" name=""/>
            <p:cNvCxnSpPr>
              <a:stCxn id="1819" idx="2"/>
              <a:endCxn id="1821" idx="1"/>
            </p:cNvCxnSpPr>
            <p:nvPr/>
          </p:nvCxnSpPr>
          <p:spPr>
            <a:xfrm>
              <a:off x="7548480" y="5181120"/>
              <a:ext cx="162720" cy="138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27" name=""/>
            <p:cNvCxnSpPr>
              <a:stCxn id="1819" idx="0"/>
              <a:endCxn id="1822" idx="2"/>
            </p:cNvCxnSpPr>
            <p:nvPr/>
          </p:nvCxnSpPr>
          <p:spPr>
            <a:xfrm flipV="1">
              <a:off x="7548120" y="5042160"/>
              <a:ext cx="160920" cy="66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28" name=""/>
            <p:cNvCxnSpPr>
              <a:stCxn id="1821" idx="0"/>
              <a:endCxn id="1818" idx="2"/>
            </p:cNvCxnSpPr>
            <p:nvPr/>
          </p:nvCxnSpPr>
          <p:spPr>
            <a:xfrm flipV="1">
              <a:off x="7856280" y="5113080"/>
              <a:ext cx="178200" cy="135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829" name=""/>
            <p:cNvCxnSpPr>
              <a:stCxn id="1819" idx="3"/>
              <a:endCxn id="1818" idx="1"/>
            </p:cNvCxnSpPr>
            <p:nvPr/>
          </p:nvCxnSpPr>
          <p:spPr>
            <a:xfrm flipV="1">
              <a:off x="7613280" y="5041800"/>
              <a:ext cx="324360" cy="104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1830" name=""/>
            <p:cNvSpPr/>
            <p:nvPr/>
          </p:nvSpPr>
          <p:spPr>
            <a:xfrm>
              <a:off x="7765920" y="4910760"/>
              <a:ext cx="189000" cy="2768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980040" y="5146920"/>
              <a:ext cx="189000" cy="2768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118280" y="4978800"/>
              <a:ext cx="193680" cy="142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70560" y="5124240"/>
              <a:ext cx="193680" cy="1418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373880" y="4752000"/>
              <a:ext cx="188640" cy="2768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422840" y="5269320"/>
              <a:ext cx="193680" cy="142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6" name=""/>
          <p:cNvSpPr/>
          <p:nvPr/>
        </p:nvSpPr>
        <p:spPr>
          <a:xfrm>
            <a:off x="2477520" y="3990960"/>
            <a:ext cx="4011120" cy="305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os de referência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rot="20071200">
            <a:off x="5402160" y="1279080"/>
            <a:ext cx="37378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re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rot="20071200">
            <a:off x="5754960" y="3908160"/>
            <a:ext cx="338940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o padrão d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04720" y="2114640"/>
            <a:ext cx="3576600" cy="1274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0" name="" descr=""/>
          <p:cNvPicPr/>
          <p:nvPr/>
        </p:nvPicPr>
        <p:blipFill>
          <a:blip r:embed="rId1"/>
          <a:stretch/>
        </p:blipFill>
        <p:spPr>
          <a:xfrm>
            <a:off x="519120" y="2114640"/>
            <a:ext cx="3568680" cy="1200240"/>
          </a:xfrm>
          <a:prstGeom prst="rect">
            <a:avLst/>
          </a:prstGeom>
          <a:ln w="0">
            <a:noFill/>
          </a:ln>
        </p:spPr>
      </p:pic>
      <p:pic>
        <p:nvPicPr>
          <p:cNvPr id="1841" name="" descr=""/>
          <p:cNvPicPr/>
          <p:nvPr/>
        </p:nvPicPr>
        <p:blipFill>
          <a:blip r:embed="rId2"/>
          <a:stretch/>
        </p:blipFill>
        <p:spPr>
          <a:xfrm>
            <a:off x="1693800" y="900000"/>
            <a:ext cx="10778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finição de melhoria do PDP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modelo deste livro é de referência genérica (modelo de referê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 base neste livro uma empresa pode definir o seu modelo de referência específico (modelo padr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padrão serve de referência para definir os seus projetos de desenvolvimento de produtos (vide capítulo 3 e próximo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rocesso de melhoria do PDP passa pela atualização do seu modelo de referência específico e conseqüente implantação dessas mudanças na prática cotid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 é incremental. Melhorias radicais são denominadas de transformações neste livro (veja capítulo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os processos de apoi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202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3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8" name=""/>
                <p:cNvCxnSpPr>
                  <a:stCxn id="225" idx="0"/>
                  <a:endCxn id="229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30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1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-234000" y="4403880"/>
            <a:ext cx="2829240" cy="1899360"/>
            <a:chOff x="-234000" y="4403880"/>
            <a:chExt cx="2829240" cy="1899360"/>
          </a:xfrm>
        </p:grpSpPr>
        <p:grpSp>
          <p:nvGrpSpPr>
            <p:cNvPr id="303" name=""/>
            <p:cNvGrpSpPr/>
            <p:nvPr/>
          </p:nvGrpSpPr>
          <p:grpSpPr>
            <a:xfrm>
              <a:off x="-234000" y="4779360"/>
              <a:ext cx="1877400" cy="1523880"/>
              <a:chOff x="-234000" y="4779360"/>
              <a:chExt cx="1877400" cy="152388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-196560" y="4779360"/>
                <a:ext cx="1830960" cy="1497960"/>
                <a:chOff x="-196560" y="4779360"/>
                <a:chExt cx="1830960" cy="149796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-196560" y="4779360"/>
                  <a:ext cx="1830960" cy="1497960"/>
                  <a:chOff x="-196560" y="4779360"/>
                  <a:chExt cx="1830960" cy="14979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15769200">
                    <a:off x="-182520" y="517140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15769200">
                    <a:off x="345600" y="484452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-165600" y="4836960"/>
                  <a:ext cx="1726560" cy="1387800"/>
                  <a:chOff x="-165600" y="4836960"/>
                  <a:chExt cx="1726560" cy="13878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15769200">
                    <a:off x="1183680" y="565992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15769200">
                    <a:off x="604800" y="454500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15769200">
                    <a:off x="-241920" y="533340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rot="15769200">
                    <a:off x="496800" y="583704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3" name=""/>
              <p:cNvSpPr/>
              <p:nvPr/>
            </p:nvSpPr>
            <p:spPr>
              <a:xfrm rot="15769200">
                <a:off x="134280" y="470340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-234000" y="4848480"/>
                <a:ext cx="1753920" cy="1454760"/>
                <a:chOff x="-234000" y="4848480"/>
                <a:chExt cx="1753920" cy="1454760"/>
              </a:xfrm>
            </p:grpSpPr>
            <p:sp>
              <p:nvSpPr>
                <p:cNvPr id="315" name=""/>
                <p:cNvSpPr/>
                <p:nvPr/>
              </p:nvSpPr>
              <p:spPr>
                <a:xfrm rot="15769200">
                  <a:off x="28080" y="479160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5769200">
                  <a:off x="11160" y="477144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5769200">
                  <a:off x="46800" y="481464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1290240" y="4403880"/>
              <a:ext cx="1305000" cy="810720"/>
              <a:chOff x="1290240" y="4403880"/>
              <a:chExt cx="1305000" cy="810720"/>
            </a:xfrm>
          </p:grpSpPr>
          <p:sp>
            <p:nvSpPr>
              <p:cNvPr id="319" name=""/>
              <p:cNvSpPr/>
              <p:nvPr/>
            </p:nvSpPr>
            <p:spPr>
              <a:xfrm rot="15769200">
                <a:off x="1618560" y="423324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769200">
                <a:off x="1326600" y="498492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769200">
                <a:off x="1351800" y="496440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5769200">
                <a:off x="1416240" y="498564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5769200">
                <a:off x="1325160" y="498636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5769200">
                <a:off x="1480680" y="489636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1468080" y="4883040"/>
                <a:ext cx="283680" cy="232920"/>
                <a:chOff x="1468080" y="4883040"/>
                <a:chExt cx="283680" cy="23292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1468080" y="4896000"/>
                  <a:ext cx="259920" cy="219960"/>
                  <a:chOff x="1468080" y="4896000"/>
                  <a:chExt cx="259920" cy="2199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15769200">
                    <a:off x="1502640" y="488772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5769200">
                    <a:off x="1501920" y="488700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15769200">
                    <a:off x="1502280" y="488664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 rot="15769200">
                  <a:off x="1526760" y="487368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514880" y="4858920"/>
                <a:ext cx="284400" cy="232560"/>
                <a:chOff x="1514880" y="4858920"/>
                <a:chExt cx="284400" cy="23256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1514880" y="4871520"/>
                  <a:ext cx="259560" cy="219960"/>
                  <a:chOff x="1514880" y="4871520"/>
                  <a:chExt cx="259560" cy="2199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15769200">
                    <a:off x="1549080" y="486288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15769200">
                    <a:off x="1548720" y="486252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15769200">
                    <a:off x="1549440" y="486252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 rot="15769200">
                  <a:off x="1574280" y="484920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558440" y="4845240"/>
                <a:ext cx="260280" cy="220680"/>
                <a:chOff x="1558440" y="4845240"/>
                <a:chExt cx="260280" cy="220680"/>
              </a:xfrm>
            </p:grpSpPr>
            <p:sp>
              <p:nvSpPr>
                <p:cNvPr id="338" name=""/>
                <p:cNvSpPr/>
                <p:nvPr/>
              </p:nvSpPr>
              <p:spPr>
                <a:xfrm rot="15769200">
                  <a:off x="1593000" y="483732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5769200">
                  <a:off x="1591920" y="483624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559160" y="4832640"/>
                <a:ext cx="283680" cy="232200"/>
                <a:chOff x="1559160" y="4832640"/>
                <a:chExt cx="283680" cy="232200"/>
              </a:xfrm>
            </p:grpSpPr>
            <p:sp>
              <p:nvSpPr>
                <p:cNvPr id="341" name=""/>
                <p:cNvSpPr/>
                <p:nvPr/>
              </p:nvSpPr>
              <p:spPr>
                <a:xfrm rot="15769200">
                  <a:off x="1592640" y="483624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5769200">
                  <a:off x="1617480" y="482328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364400" y="4455360"/>
                <a:ext cx="1138320" cy="734040"/>
                <a:chOff x="1364400" y="4455360"/>
                <a:chExt cx="1138320" cy="734040"/>
              </a:xfrm>
            </p:grpSpPr>
            <p:sp>
              <p:nvSpPr>
                <p:cNvPr id="344" name=""/>
                <p:cNvSpPr/>
                <p:nvPr/>
              </p:nvSpPr>
              <p:spPr>
                <a:xfrm flipV="1">
                  <a:off x="1364400" y="4455360"/>
                  <a:ext cx="986400" cy="56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1470600" y="4615560"/>
                  <a:ext cx="1032120" cy="57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602360" y="4809240"/>
                <a:ext cx="279720" cy="231120"/>
                <a:chOff x="1602360" y="4809240"/>
                <a:chExt cx="279720" cy="23112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1602360" y="4820400"/>
                  <a:ext cx="259560" cy="219960"/>
                  <a:chOff x="1602360" y="4820400"/>
                  <a:chExt cx="259560" cy="219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15769200">
                    <a:off x="1636920" y="481212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5769200">
                    <a:off x="1636200" y="481140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 rot="15769200">
                  <a:off x="1636560" y="481104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5769200">
                  <a:off x="1657080" y="479988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 rot="15769200">
                <a:off x="1870200" y="435384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5769200">
                <a:off x="2345760" y="439056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a apresent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ciação entre Mudanças de Engenharia e Melhoria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e Mudanças de Engenharia (E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CM versus gest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udanç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ários sobre a implantação do processo de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Melhoria Incremental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Método amplo de transformaçã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Informações e papéis na melhoria incremental d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a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Melhoria incremental dentro do ciclo de transformação de empresa (melhorias radicais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708120" y="852480"/>
            <a:ext cx="7118640" cy="4751280"/>
            <a:chOff x="708120" y="852480"/>
            <a:chExt cx="7118640" cy="4751280"/>
          </a:xfrm>
        </p:grpSpPr>
        <p:sp>
          <p:nvSpPr>
            <p:cNvPr id="1848" name=""/>
            <p:cNvSpPr/>
            <p:nvPr/>
          </p:nvSpPr>
          <p:spPr>
            <a:xfrm>
              <a:off x="1985760" y="1712880"/>
              <a:ext cx="3323880" cy="20095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13131"/>
                  </a:solidFill>
                  <a:latin typeface="Arial"/>
                </a:rPr>
                <a:t>Prover infra-estru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13131"/>
                  </a:solidFill>
                  <a:latin typeface="Arial"/>
                </a:rPr>
                <a:t>Educar / Trein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752560" y="3528720"/>
              <a:ext cx="1917360" cy="7779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3360" y="4241520"/>
              <a:ext cx="5176440" cy="1362240"/>
            </a:xfrm>
            <a:custGeom>
              <a:avLst/>
              <a:gdLst/>
              <a:ahLst/>
              <a:rect l="l" t="t" r="r" b="b"/>
              <a:pathLst>
                <a:path w="3888" h="1056">
                  <a:moveTo>
                    <a:pt x="1344" y="0"/>
                  </a:moveTo>
                  <a:lnTo>
                    <a:pt x="0" y="1056"/>
                  </a:lnTo>
                  <a:lnTo>
                    <a:pt x="3888" y="1056"/>
                  </a:lnTo>
                  <a:lnTo>
                    <a:pt x="264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1" name=""/>
            <p:cNvCxnSpPr>
              <a:stCxn id="1852" idx="1"/>
              <a:endCxn id="1853" idx="0"/>
            </p:cNvCxnSpPr>
            <p:nvPr/>
          </p:nvCxnSpPr>
          <p:spPr>
            <a:xfrm flipV="1" rot="10800000">
              <a:off x="1473840" y="1521720"/>
              <a:ext cx="862560" cy="7754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4" name=""/>
            <p:cNvCxnSpPr>
              <a:stCxn id="1855" idx="0"/>
              <a:endCxn id="1856" idx="3"/>
            </p:cNvCxnSpPr>
            <p:nvPr/>
          </p:nvCxnSpPr>
          <p:spPr>
            <a:xfrm flipV="1" rot="16200000">
              <a:off x="5029920" y="1278720"/>
              <a:ext cx="891360" cy="9194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7" name=""/>
            <p:cNvCxnSpPr>
              <a:stCxn id="1853" idx="2"/>
              <a:endCxn id="1849" idx="1"/>
            </p:cNvCxnSpPr>
            <p:nvPr/>
          </p:nvCxnSpPr>
          <p:spPr>
            <a:xfrm flipH="1" rot="16200000">
              <a:off x="1658160" y="2824560"/>
              <a:ext cx="909000" cy="12783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8" name=""/>
            <p:cNvCxnSpPr>
              <a:stCxn id="1849" idx="3"/>
              <a:endCxn id="1855" idx="2"/>
            </p:cNvCxnSpPr>
            <p:nvPr/>
          </p:nvCxnSpPr>
          <p:spPr>
            <a:xfrm flipV="1">
              <a:off x="4669920" y="3093120"/>
              <a:ext cx="1265400" cy="8247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9" name=""/>
            <p:cNvCxnSpPr>
              <a:stCxn id="1860" idx="0"/>
              <a:endCxn id="1861" idx="2"/>
            </p:cNvCxnSpPr>
            <p:nvPr/>
          </p:nvCxnSpPr>
          <p:spPr>
            <a:xfrm flipH="1" flipV="1" rot="5400000">
              <a:off x="2523600" y="3277800"/>
              <a:ext cx="592920" cy="1725840"/>
            </a:xfrm>
            <a:prstGeom prst="curvedConnector5">
              <a:avLst>
                <a:gd name="adj1" fmla="val 49817"/>
                <a:gd name="adj2" fmla="val 49989"/>
                <a:gd name="adj3" fmla="val 49817"/>
              </a:avLst>
            </a:prstGeom>
            <a:ln w="9360">
              <a:solidFill>
                <a:srgbClr val="808080"/>
              </a:solidFill>
              <a:prstDash val="lgDash"/>
              <a:miter/>
            </a:ln>
          </p:spPr>
        </p:cxnSp>
        <p:cxnSp>
          <p:nvCxnSpPr>
            <p:cNvPr id="1862" name=""/>
            <p:cNvCxnSpPr>
              <a:stCxn id="1863" idx="0"/>
              <a:endCxn id="1861" idx="2"/>
            </p:cNvCxnSpPr>
            <p:nvPr/>
          </p:nvCxnSpPr>
          <p:spPr>
            <a:xfrm flipH="1" flipV="1" rot="5400000">
              <a:off x="2946600" y="3700800"/>
              <a:ext cx="592920" cy="879840"/>
            </a:xfrm>
            <a:prstGeom prst="curvedConnector5">
              <a:avLst>
                <a:gd name="adj1" fmla="val 49817"/>
                <a:gd name="adj2" fmla="val 49979"/>
                <a:gd name="adj3" fmla="val 49817"/>
              </a:avLst>
            </a:prstGeom>
            <a:ln w="9360">
              <a:solidFill>
                <a:srgbClr val="808080"/>
              </a:solidFill>
              <a:prstDash val="lgDash"/>
              <a:miter/>
            </a:ln>
          </p:spPr>
        </p:cxnSp>
        <p:cxnSp>
          <p:nvCxnSpPr>
            <p:cNvPr id="1864" name=""/>
            <p:cNvCxnSpPr>
              <a:stCxn id="1865" idx="0"/>
              <a:endCxn id="1861" idx="2"/>
            </p:cNvCxnSpPr>
            <p:nvPr/>
          </p:nvCxnSpPr>
          <p:spPr>
            <a:xfrm flipV="1" rot="16200000">
              <a:off x="3437640" y="4088520"/>
              <a:ext cx="592920" cy="103680"/>
            </a:xfrm>
            <a:prstGeom prst="curvedConnector5">
              <a:avLst>
                <a:gd name="adj1" fmla="val 49817"/>
                <a:gd name="adj2" fmla="val 49825"/>
                <a:gd name="adj3" fmla="val 49817"/>
              </a:avLst>
            </a:prstGeom>
            <a:ln w="9360">
              <a:solidFill>
                <a:srgbClr val="808080"/>
              </a:solidFill>
              <a:prstDash val="lgDash"/>
              <a:miter/>
            </a:ln>
          </p:spPr>
        </p:cxnSp>
        <p:cxnSp>
          <p:nvCxnSpPr>
            <p:cNvPr id="1866" name=""/>
            <p:cNvCxnSpPr>
              <a:stCxn id="1867" idx="0"/>
              <a:endCxn id="1861" idx="2"/>
            </p:cNvCxnSpPr>
            <p:nvPr/>
          </p:nvCxnSpPr>
          <p:spPr>
            <a:xfrm flipV="1" rot="16200000">
              <a:off x="3897720" y="3628440"/>
              <a:ext cx="592920" cy="1023840"/>
            </a:xfrm>
            <a:prstGeom prst="curvedConnector5">
              <a:avLst>
                <a:gd name="adj1" fmla="val 49817"/>
                <a:gd name="adj2" fmla="val 49982"/>
                <a:gd name="adj3" fmla="val 49817"/>
              </a:avLst>
            </a:prstGeom>
            <a:ln w="9360">
              <a:solidFill>
                <a:srgbClr val="808080"/>
              </a:solidFill>
              <a:prstDash val="lgDash"/>
              <a:miter/>
            </a:ln>
          </p:spPr>
        </p:cxnSp>
        <p:cxnSp>
          <p:nvCxnSpPr>
            <p:cNvPr id="1868" name=""/>
            <p:cNvCxnSpPr>
              <a:stCxn id="1869" idx="0"/>
              <a:endCxn id="1861" idx="2"/>
            </p:cNvCxnSpPr>
            <p:nvPr/>
          </p:nvCxnSpPr>
          <p:spPr>
            <a:xfrm flipV="1" rot="16200000">
              <a:off x="4377240" y="3148920"/>
              <a:ext cx="592920" cy="1983240"/>
            </a:xfrm>
            <a:prstGeom prst="curvedConnector5">
              <a:avLst>
                <a:gd name="adj1" fmla="val 49817"/>
                <a:gd name="adj2" fmla="val 50000"/>
                <a:gd name="adj3" fmla="val 49817"/>
              </a:avLst>
            </a:prstGeom>
            <a:ln w="9360">
              <a:solidFill>
                <a:srgbClr val="808080"/>
              </a:solidFill>
              <a:prstDash val="lgDash"/>
              <a:miter/>
            </a:ln>
          </p:spPr>
        </p:cxnSp>
        <p:sp>
          <p:nvSpPr>
            <p:cNvPr id="1853" name=""/>
            <p:cNvSpPr/>
            <p:nvPr/>
          </p:nvSpPr>
          <p:spPr>
            <a:xfrm>
              <a:off x="708120" y="2296800"/>
              <a:ext cx="1533240" cy="712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313131"/>
                  </a:solidFill>
                  <a:latin typeface="Arial"/>
                </a:rPr>
                <a:t>Definir Ações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1282680" y="3074760"/>
              <a:ext cx="302760" cy="385920"/>
              <a:chOff x="1282680" y="3074760"/>
              <a:chExt cx="302760" cy="385920"/>
            </a:xfrm>
          </p:grpSpPr>
          <p:sp>
            <p:nvSpPr>
              <p:cNvPr id="1871" name=""/>
              <p:cNvSpPr/>
              <p:nvPr/>
            </p:nvSpPr>
            <p:spPr>
              <a:xfrm>
                <a:off x="1282680" y="3074760"/>
                <a:ext cx="298800" cy="98280"/>
              </a:xfrm>
              <a:custGeom>
                <a:avLst/>
                <a:gdLst/>
                <a:ahLst/>
                <a:rect l="l" t="t" r="r" b="b"/>
                <a:pathLst>
                  <a:path w="447" h="102">
                    <a:moveTo>
                      <a:pt x="0" y="101"/>
                    </a:moveTo>
                    <a:lnTo>
                      <a:pt x="144" y="0"/>
                    </a:lnTo>
                    <a:lnTo>
                      <a:pt x="446" y="0"/>
                    </a:lnTo>
                    <a:lnTo>
                      <a:pt x="331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f4f4f4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507680" y="3213720"/>
                <a:ext cx="77760" cy="168480"/>
              </a:xfrm>
              <a:custGeom>
                <a:avLst/>
                <a:gdLst/>
                <a:ahLst/>
                <a:rect l="l" t="t" r="r" b="b"/>
                <a:pathLst>
                  <a:path w="116" h="175">
                    <a:moveTo>
                      <a:pt x="115" y="0"/>
                    </a:moveTo>
                    <a:lnTo>
                      <a:pt x="115" y="73"/>
                    </a:lnTo>
                    <a:lnTo>
                      <a:pt x="0" y="174"/>
                    </a:lnTo>
                    <a:lnTo>
                      <a:pt x="0" y="101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507680" y="3120480"/>
                <a:ext cx="69840" cy="144000"/>
              </a:xfrm>
              <a:custGeom>
                <a:avLst/>
                <a:gdLst/>
                <a:ahLst/>
                <a:rect l="l" t="t" r="r" b="b"/>
                <a:pathLst>
                  <a:path w="105" h="149">
                    <a:moveTo>
                      <a:pt x="104" y="0"/>
                    </a:moveTo>
                    <a:lnTo>
                      <a:pt x="0" y="94"/>
                    </a:lnTo>
                    <a:lnTo>
                      <a:pt x="0" y="148"/>
                    </a:lnTo>
                    <a:lnTo>
                      <a:pt x="104" y="58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ffa27c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07680" y="3074760"/>
                <a:ext cx="69120" cy="141480"/>
              </a:xfrm>
              <a:custGeom>
                <a:avLst/>
                <a:gdLst/>
                <a:ahLst/>
                <a:rect l="l" t="t" r="r" b="b"/>
                <a:pathLst>
                  <a:path w="103" h="147">
                    <a:moveTo>
                      <a:pt x="102" y="0"/>
                    </a:moveTo>
                    <a:lnTo>
                      <a:pt x="0" y="90"/>
                    </a:lnTo>
                    <a:lnTo>
                      <a:pt x="0" y="146"/>
                    </a:lnTo>
                    <a:lnTo>
                      <a:pt x="102" y="54"/>
                    </a:lnTo>
                    <a:lnTo>
                      <a:pt x="102" y="0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07680" y="3168000"/>
                <a:ext cx="69840" cy="142560"/>
              </a:xfrm>
              <a:custGeom>
                <a:avLst/>
                <a:gdLst/>
                <a:ahLst/>
                <a:rect l="l" t="t" r="r" b="b"/>
                <a:pathLst>
                  <a:path w="105" h="149">
                    <a:moveTo>
                      <a:pt x="0" y="92"/>
                    </a:moveTo>
                    <a:lnTo>
                      <a:pt x="0" y="148"/>
                    </a:lnTo>
                    <a:lnTo>
                      <a:pt x="104" y="56"/>
                    </a:lnTo>
                    <a:lnTo>
                      <a:pt x="104" y="0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51dc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07680" y="3306600"/>
                <a:ext cx="69840" cy="149400"/>
              </a:xfrm>
              <a:custGeom>
                <a:avLst/>
                <a:gdLst/>
                <a:ahLst/>
                <a:rect l="l" t="t" r="r" b="b"/>
                <a:pathLst>
                  <a:path w="105" h="156">
                    <a:moveTo>
                      <a:pt x="104" y="0"/>
                    </a:moveTo>
                    <a:lnTo>
                      <a:pt x="0" y="90"/>
                    </a:lnTo>
                    <a:lnTo>
                      <a:pt x="0" y="155"/>
                    </a:lnTo>
                    <a:lnTo>
                      <a:pt x="104" y="5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a2ffa3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82680" y="3168000"/>
                <a:ext cx="222120" cy="292680"/>
              </a:xfrm>
              <a:custGeom>
                <a:avLst/>
                <a:gdLst/>
                <a:ahLst/>
                <a:rect l="l" t="t" r="r" b="b"/>
                <a:pathLst>
                  <a:path w="332" h="346">
                    <a:moveTo>
                      <a:pt x="0" y="0"/>
                    </a:moveTo>
                    <a:lnTo>
                      <a:pt x="0" y="345"/>
                    </a:lnTo>
                    <a:lnTo>
                      <a:pt x="331" y="345"/>
                    </a:lnTo>
                    <a:lnTo>
                      <a:pt x="3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985760" y="2361960"/>
              <a:ext cx="3186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735440" y="2373120"/>
              <a:ext cx="3186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0" name=""/>
            <p:cNvCxnSpPr>
              <a:endCxn id="1852" idx="3"/>
            </p:cNvCxnSpPr>
            <p:nvPr/>
          </p:nvCxnSpPr>
          <p:spPr>
            <a:xfrm flipH="1" flipV="1" rot="5400000">
              <a:off x="3746520" y="2317680"/>
              <a:ext cx="2064600" cy="471960"/>
            </a:xfrm>
            <a:prstGeom prst="curvedConnector5">
              <a:avLst>
                <a:gd name="adj1" fmla="val 16376"/>
                <a:gd name="adj2" fmla="val 111908"/>
                <a:gd name="adj3" fmla="val 1637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81" name=""/>
            <p:cNvGrpSpPr/>
            <p:nvPr/>
          </p:nvGrpSpPr>
          <p:grpSpPr>
            <a:xfrm>
              <a:off x="1155600" y="3463920"/>
              <a:ext cx="866160" cy="615960"/>
              <a:chOff x="1155600" y="3463920"/>
              <a:chExt cx="866160" cy="615960"/>
            </a:xfrm>
          </p:grpSpPr>
          <p:sp>
            <p:nvSpPr>
              <p:cNvPr id="1882" name=""/>
              <p:cNvSpPr/>
              <p:nvPr/>
            </p:nvSpPr>
            <p:spPr>
              <a:xfrm>
                <a:off x="1402560" y="3566160"/>
                <a:ext cx="0" cy="461160"/>
              </a:xfrm>
              <a:prstGeom prst="line">
                <a:avLst/>
              </a:prstGeom>
              <a:ln w="284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506600" y="3615120"/>
                <a:ext cx="0" cy="375840"/>
              </a:xfrm>
              <a:prstGeom prst="line">
                <a:avLst/>
              </a:prstGeom>
              <a:ln w="284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698480" y="3624840"/>
                <a:ext cx="0" cy="322200"/>
              </a:xfrm>
              <a:prstGeom prst="line">
                <a:avLst/>
              </a:prstGeom>
              <a:ln w="284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810080" y="3627000"/>
                <a:ext cx="0" cy="306720"/>
              </a:xfrm>
              <a:prstGeom prst="line">
                <a:avLst/>
              </a:prstGeom>
              <a:ln w="284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919520" y="3627000"/>
                <a:ext cx="0" cy="301680"/>
              </a:xfrm>
              <a:prstGeom prst="line">
                <a:avLst/>
              </a:prstGeom>
              <a:ln w="284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72960" y="3596760"/>
                <a:ext cx="17640" cy="23040"/>
              </a:xfrm>
              <a:prstGeom prst="ellipse">
                <a:avLst/>
              </a:prstGeom>
              <a:solidFill>
                <a:srgbClr val="3333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735200" y="3732840"/>
                <a:ext cx="16920" cy="2304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261800" y="3703680"/>
                <a:ext cx="18360" cy="2340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891080" y="3784320"/>
                <a:ext cx="17280" cy="22680"/>
              </a:xfrm>
              <a:prstGeom prst="ellipse">
                <a:avLst/>
              </a:prstGeom>
              <a:solidFill>
                <a:srgbClr val="ff505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368720" y="3671280"/>
                <a:ext cx="18360" cy="22680"/>
              </a:xfrm>
              <a:prstGeom prst="ellipse">
                <a:avLst/>
              </a:prstGeom>
              <a:solidFill>
                <a:srgbClr val="3333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831680" y="3737880"/>
                <a:ext cx="16560" cy="2268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964880" y="3829320"/>
                <a:ext cx="17280" cy="23040"/>
              </a:xfrm>
              <a:prstGeom prst="ellipse">
                <a:avLst/>
              </a:prstGeom>
              <a:solidFill>
                <a:srgbClr val="cc00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67640" y="3871800"/>
                <a:ext cx="18000" cy="23040"/>
              </a:xfrm>
              <a:prstGeom prst="ellipse">
                <a:avLst/>
              </a:prstGeom>
              <a:solidFill>
                <a:srgbClr val="cc00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303560" y="3647520"/>
                <a:ext cx="17280" cy="23400"/>
              </a:xfrm>
              <a:prstGeom prst="ellipse">
                <a:avLst/>
              </a:prstGeom>
              <a:solidFill>
                <a:srgbClr val="3333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373400" y="3727440"/>
                <a:ext cx="18000" cy="2268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4800" y="3854880"/>
                <a:ext cx="16920" cy="22680"/>
              </a:xfrm>
              <a:prstGeom prst="ellipse">
                <a:avLst/>
              </a:prstGeom>
              <a:solidFill>
                <a:srgbClr val="cc00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86640" y="3807000"/>
                <a:ext cx="18000" cy="23400"/>
              </a:xfrm>
              <a:prstGeom prst="ellipse">
                <a:avLst/>
              </a:prstGeom>
              <a:solidFill>
                <a:srgbClr val="ff505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475280" y="3841200"/>
                <a:ext cx="16920" cy="23400"/>
              </a:xfrm>
              <a:prstGeom prst="ellipse">
                <a:avLst/>
              </a:prstGeom>
              <a:solidFill>
                <a:srgbClr val="cc00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605600" y="3783240"/>
                <a:ext cx="17640" cy="22680"/>
              </a:xfrm>
              <a:prstGeom prst="ellipse">
                <a:avLst/>
              </a:prstGeom>
              <a:solidFill>
                <a:srgbClr val="ff505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337040" y="3714840"/>
                <a:ext cx="19080" cy="2520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767600" y="3830760"/>
                <a:ext cx="16560" cy="22680"/>
              </a:xfrm>
              <a:prstGeom prst="ellipse">
                <a:avLst/>
              </a:prstGeom>
              <a:solidFill>
                <a:srgbClr val="cc00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927440" y="3736800"/>
                <a:ext cx="17280" cy="2304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967400" y="3745080"/>
                <a:ext cx="17640" cy="2340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341000" y="3637080"/>
                <a:ext cx="17280" cy="22680"/>
              </a:xfrm>
              <a:prstGeom prst="ellipse">
                <a:avLst/>
              </a:prstGeom>
              <a:solidFill>
                <a:srgbClr val="3333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709280" y="3778920"/>
                <a:ext cx="18000" cy="23400"/>
              </a:xfrm>
              <a:prstGeom prst="ellipse">
                <a:avLst/>
              </a:prstGeom>
              <a:solidFill>
                <a:srgbClr val="ff505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159560" y="3463920"/>
                <a:ext cx="825840" cy="201960"/>
              </a:xfrm>
              <a:custGeom>
                <a:avLst/>
                <a:gdLst/>
                <a:ahLst/>
                <a:rect l="l" t="t" r="r" b="b"/>
                <a:pathLst>
                  <a:path w="1108" h="166">
                    <a:moveTo>
                      <a:pt x="0" y="0"/>
                    </a:moveTo>
                    <a:lnTo>
                      <a:pt x="50" y="29"/>
                    </a:lnTo>
                    <a:lnTo>
                      <a:pt x="92" y="52"/>
                    </a:lnTo>
                    <a:lnTo>
                      <a:pt x="154" y="79"/>
                    </a:lnTo>
                    <a:lnTo>
                      <a:pt x="222" y="108"/>
                    </a:lnTo>
                    <a:lnTo>
                      <a:pt x="288" y="129"/>
                    </a:lnTo>
                    <a:lnTo>
                      <a:pt x="359" y="149"/>
                    </a:lnTo>
                    <a:lnTo>
                      <a:pt x="416" y="159"/>
                    </a:lnTo>
                    <a:lnTo>
                      <a:pt x="487" y="165"/>
                    </a:lnTo>
                    <a:lnTo>
                      <a:pt x="1107" y="165"/>
                    </a:lnTo>
                  </a:path>
                </a:pathLst>
              </a:custGeom>
              <a:noFill/>
              <a:ln cap="rnd" w="28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55600" y="3877920"/>
                <a:ext cx="825840" cy="201960"/>
              </a:xfrm>
              <a:custGeom>
                <a:avLst/>
                <a:gdLst/>
                <a:ahLst/>
                <a:rect l="l" t="t" r="r" b="b"/>
                <a:pathLst>
                  <a:path w="1108" h="166">
                    <a:moveTo>
                      <a:pt x="0" y="165"/>
                    </a:moveTo>
                    <a:lnTo>
                      <a:pt x="50" y="136"/>
                    </a:lnTo>
                    <a:lnTo>
                      <a:pt x="92" y="113"/>
                    </a:lnTo>
                    <a:lnTo>
                      <a:pt x="154" y="86"/>
                    </a:lnTo>
                    <a:lnTo>
                      <a:pt x="222" y="57"/>
                    </a:lnTo>
                    <a:lnTo>
                      <a:pt x="288" y="36"/>
                    </a:lnTo>
                    <a:lnTo>
                      <a:pt x="359" y="16"/>
                    </a:lnTo>
                    <a:lnTo>
                      <a:pt x="416" y="6"/>
                    </a:lnTo>
                    <a:lnTo>
                      <a:pt x="487" y="0"/>
                    </a:lnTo>
                    <a:lnTo>
                      <a:pt x="1107" y="0"/>
                    </a:lnTo>
                  </a:path>
                </a:pathLst>
              </a:custGeom>
              <a:noFill/>
              <a:ln cap="rnd" w="28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424880" y="3672360"/>
                <a:ext cx="17640" cy="22680"/>
              </a:xfrm>
              <a:prstGeom prst="ellipse">
                <a:avLst/>
              </a:prstGeom>
              <a:solidFill>
                <a:srgbClr val="3333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65920" y="3686760"/>
                <a:ext cx="17280" cy="22680"/>
              </a:xfrm>
              <a:prstGeom prst="ellipse">
                <a:avLst/>
              </a:prstGeom>
              <a:solidFill>
                <a:srgbClr val="3333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568880" y="3690720"/>
                <a:ext cx="18000" cy="22680"/>
              </a:xfrm>
              <a:prstGeom prst="ellipse">
                <a:avLst/>
              </a:prstGeom>
              <a:solidFill>
                <a:srgbClr val="3333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301760" y="3741480"/>
                <a:ext cx="16920" cy="2304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538280" y="3736800"/>
                <a:ext cx="18000" cy="2304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437480" y="3735000"/>
                <a:ext cx="16560" cy="23400"/>
              </a:xfrm>
              <a:prstGeom prst="ellipse">
                <a:avLst/>
              </a:prstGeom>
              <a:solidFill>
                <a:srgbClr val="66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356840" y="3794040"/>
                <a:ext cx="16560" cy="22680"/>
              </a:xfrm>
              <a:prstGeom prst="ellipse">
                <a:avLst/>
              </a:prstGeom>
              <a:solidFill>
                <a:srgbClr val="ff505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784520" y="3775680"/>
                <a:ext cx="16920" cy="23040"/>
              </a:xfrm>
              <a:prstGeom prst="ellipse">
                <a:avLst/>
              </a:prstGeom>
              <a:solidFill>
                <a:srgbClr val="ff505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451520" y="3783240"/>
                <a:ext cx="16920" cy="22680"/>
              </a:xfrm>
              <a:prstGeom prst="ellipse">
                <a:avLst/>
              </a:prstGeom>
              <a:solidFill>
                <a:srgbClr val="ff505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294200" y="3884040"/>
                <a:ext cx="18000" cy="24120"/>
              </a:xfrm>
              <a:prstGeom prst="ellipse">
                <a:avLst/>
              </a:prstGeom>
              <a:solidFill>
                <a:srgbClr val="cc00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649160" y="3834000"/>
                <a:ext cx="16560" cy="22680"/>
              </a:xfrm>
              <a:prstGeom prst="ellipse">
                <a:avLst/>
              </a:prstGeom>
              <a:solidFill>
                <a:srgbClr val="cc00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558080" y="3835080"/>
                <a:ext cx="16920" cy="23400"/>
              </a:xfrm>
              <a:prstGeom prst="ellipse">
                <a:avLst/>
              </a:prstGeom>
              <a:solidFill>
                <a:srgbClr val="cc00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1" name=""/>
              <p:cNvGrpSpPr/>
              <p:nvPr/>
            </p:nvGrpSpPr>
            <p:grpSpPr>
              <a:xfrm>
                <a:off x="1996200" y="3670560"/>
                <a:ext cx="25560" cy="199800"/>
                <a:chOff x="1996200" y="3670560"/>
                <a:chExt cx="25560" cy="1998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2000520" y="3670560"/>
                  <a:ext cx="21240" cy="27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998000" y="3723840"/>
                  <a:ext cx="21960" cy="27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998000" y="3787560"/>
                  <a:ext cx="21960" cy="27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505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996200" y="3843000"/>
                  <a:ext cx="22320" cy="27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cc00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1" name=""/>
            <p:cNvSpPr/>
            <p:nvPr/>
          </p:nvSpPr>
          <p:spPr>
            <a:xfrm>
              <a:off x="2850840" y="3325680"/>
              <a:ext cx="1661760" cy="519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313131"/>
                  </a:solidFill>
                  <a:latin typeface="Arial"/>
                </a:rPr>
                <a:t>Implan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777760" y="4506840"/>
              <a:ext cx="1142640" cy="731880"/>
            </a:xfrm>
            <a:custGeom>
              <a:avLst/>
              <a:gdLst>
                <a:gd name="textAreaLeft" fmla="*/ 0 w 1142640"/>
                <a:gd name="textAreaRight" fmla="*/ 1142640 w 11426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97" y="0"/>
                  </a:lnTo>
                  <a:lnTo>
                    <a:pt x="21600" y="10800"/>
                  </a:lnTo>
                  <a:lnTo>
                    <a:pt x="17597" y="21600"/>
                  </a:lnTo>
                  <a:lnTo>
                    <a:pt x="0" y="21600"/>
                  </a:lnTo>
                  <a:lnTo>
                    <a:pt x="400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5faaa"/>
                </a:gs>
                <a:gs pos="100000">
                  <a:srgbClr val="9cf96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741480" y="4506840"/>
              <a:ext cx="1142640" cy="731880"/>
            </a:xfrm>
            <a:custGeom>
              <a:avLst/>
              <a:gdLst>
                <a:gd name="textAreaLeft" fmla="*/ 0 w 1142640"/>
                <a:gd name="textAreaRight" fmla="*/ 1142640 w 11426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97" y="0"/>
                  </a:lnTo>
                  <a:lnTo>
                    <a:pt x="21600" y="10800"/>
                  </a:lnTo>
                  <a:lnTo>
                    <a:pt x="17597" y="21600"/>
                  </a:lnTo>
                  <a:lnTo>
                    <a:pt x="0" y="21600"/>
                  </a:lnTo>
                  <a:lnTo>
                    <a:pt x="400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5faaa"/>
                </a:gs>
                <a:gs pos="100000">
                  <a:srgbClr val="9cf96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03400" y="4506840"/>
              <a:ext cx="1142640" cy="731880"/>
            </a:xfrm>
            <a:custGeom>
              <a:avLst/>
              <a:gdLst>
                <a:gd name="textAreaLeft" fmla="*/ 0 w 1142640"/>
                <a:gd name="textAreaRight" fmla="*/ 1142640 w 11426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97" y="0"/>
                  </a:lnTo>
                  <a:lnTo>
                    <a:pt x="21600" y="10800"/>
                  </a:lnTo>
                  <a:lnTo>
                    <a:pt x="17597" y="21600"/>
                  </a:lnTo>
                  <a:lnTo>
                    <a:pt x="0" y="21600"/>
                  </a:lnTo>
                  <a:lnTo>
                    <a:pt x="400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5faaa"/>
                </a:gs>
                <a:gs pos="100000">
                  <a:srgbClr val="9cf96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969920" y="4512960"/>
              <a:ext cx="947520" cy="73188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184" y="0"/>
                  </a:lnTo>
                  <a:lnTo>
                    <a:pt x="21600" y="10800"/>
                  </a:lnTo>
                  <a:lnTo>
                    <a:pt x="17184" y="21600"/>
                  </a:lnTo>
                  <a:lnTo>
                    <a:pt x="0" y="21600"/>
                  </a:lnTo>
                  <a:lnTo>
                    <a:pt x="4416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5faaa"/>
                </a:gs>
                <a:gs pos="100000">
                  <a:srgbClr val="9cf96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027080" y="4506840"/>
              <a:ext cx="1086840" cy="731880"/>
            </a:xfrm>
            <a:custGeom>
              <a:avLst/>
              <a:gdLst>
                <a:gd name="textAreaLeft" fmla="*/ 0 w 1086840"/>
                <a:gd name="textAreaRight" fmla="*/ 1087200 w 10868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74" y="0"/>
                  </a:lnTo>
                  <a:lnTo>
                    <a:pt x="21600" y="10800"/>
                  </a:lnTo>
                  <a:lnTo>
                    <a:pt x="17074" y="21600"/>
                  </a:lnTo>
                  <a:lnTo>
                    <a:pt x="0" y="21600"/>
                  </a:lnTo>
                  <a:lnTo>
                    <a:pt x="4526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cf96d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1228680" y="4674960"/>
              <a:ext cx="4818600" cy="738000"/>
              <a:chOff x="1228680" y="4674960"/>
              <a:chExt cx="4818600" cy="738000"/>
            </a:xfrm>
          </p:grpSpPr>
          <p:sp>
            <p:nvSpPr>
              <p:cNvPr id="1932" name=""/>
              <p:cNvSpPr/>
              <p:nvPr/>
            </p:nvSpPr>
            <p:spPr>
              <a:xfrm>
                <a:off x="2979000" y="4674960"/>
                <a:ext cx="1142640" cy="731880"/>
              </a:xfrm>
              <a:custGeom>
                <a:avLst/>
                <a:gdLst>
                  <a:gd name="textAreaLeft" fmla="*/ 0 w 1142640"/>
                  <a:gd name="textAreaRight" fmla="*/ 1142640 w 11426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597" y="0"/>
                    </a:lnTo>
                    <a:lnTo>
                      <a:pt x="21600" y="10800"/>
                    </a:lnTo>
                    <a:lnTo>
                      <a:pt x="17597" y="21600"/>
                    </a:lnTo>
                    <a:lnTo>
                      <a:pt x="0" y="21600"/>
                    </a:lnTo>
                    <a:lnTo>
                      <a:pt x="4003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faaa"/>
                  </a:gs>
                  <a:gs pos="100000">
                    <a:srgbClr val="9cf96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942720" y="4674960"/>
                <a:ext cx="1142640" cy="731880"/>
              </a:xfrm>
              <a:custGeom>
                <a:avLst/>
                <a:gdLst>
                  <a:gd name="textAreaLeft" fmla="*/ 0 w 1142640"/>
                  <a:gd name="textAreaRight" fmla="*/ 1142640 w 11426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597" y="0"/>
                    </a:lnTo>
                    <a:lnTo>
                      <a:pt x="21600" y="10800"/>
                    </a:lnTo>
                    <a:lnTo>
                      <a:pt x="17597" y="21600"/>
                    </a:lnTo>
                    <a:lnTo>
                      <a:pt x="0" y="21600"/>
                    </a:lnTo>
                    <a:lnTo>
                      <a:pt x="4003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faaa"/>
                  </a:gs>
                  <a:gs pos="100000">
                    <a:srgbClr val="9cf96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904640" y="4674960"/>
                <a:ext cx="1142640" cy="731880"/>
              </a:xfrm>
              <a:custGeom>
                <a:avLst/>
                <a:gdLst>
                  <a:gd name="textAreaLeft" fmla="*/ 0 w 1142640"/>
                  <a:gd name="textAreaRight" fmla="*/ 1142640 w 11426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597" y="0"/>
                    </a:lnTo>
                    <a:lnTo>
                      <a:pt x="21600" y="10800"/>
                    </a:lnTo>
                    <a:lnTo>
                      <a:pt x="17597" y="21600"/>
                    </a:lnTo>
                    <a:lnTo>
                      <a:pt x="0" y="21600"/>
                    </a:lnTo>
                    <a:lnTo>
                      <a:pt x="4003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faaa"/>
                  </a:gs>
                  <a:gs pos="100000">
                    <a:srgbClr val="9cf96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171160" y="4681440"/>
                <a:ext cx="947520" cy="73152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184" y="0"/>
                    </a:lnTo>
                    <a:lnTo>
                      <a:pt x="21600" y="10800"/>
                    </a:lnTo>
                    <a:lnTo>
                      <a:pt x="17184" y="21600"/>
                    </a:lnTo>
                    <a:lnTo>
                      <a:pt x="0" y="21600"/>
                    </a:lnTo>
                    <a:lnTo>
                      <a:pt x="4416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faaa"/>
                  </a:gs>
                  <a:gs pos="100000">
                    <a:srgbClr val="9cf96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228680" y="4674960"/>
                <a:ext cx="1085400" cy="731880"/>
              </a:xfrm>
              <a:custGeom>
                <a:avLst/>
                <a:gdLst>
                  <a:gd name="textAreaLeft" fmla="*/ 0 w 1085400"/>
                  <a:gd name="textAreaRight" fmla="*/ 1085760 w 108540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074" y="0"/>
                    </a:lnTo>
                    <a:lnTo>
                      <a:pt x="21600" y="10800"/>
                    </a:lnTo>
                    <a:lnTo>
                      <a:pt x="17074" y="21600"/>
                    </a:lnTo>
                    <a:lnTo>
                      <a:pt x="0" y="21600"/>
                    </a:lnTo>
                    <a:lnTo>
                      <a:pt x="4526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f96d"/>
                  </a:gs>
                  <a:gs pos="100000">
                    <a:srgbClr val="ffcc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1896840" y="4437000"/>
              <a:ext cx="118800" cy="1839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742840" y="4437000"/>
              <a:ext cx="120600" cy="1839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725640" y="4437000"/>
              <a:ext cx="120240" cy="1839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646520" y="4437000"/>
              <a:ext cx="120240" cy="1839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605200" y="4437000"/>
              <a:ext cx="118800" cy="1839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991040" y="2184120"/>
              <a:ext cx="1888560" cy="909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13131"/>
                  </a:solidFill>
                  <a:latin typeface="Arial"/>
                </a:rPr>
                <a:t>Entender motivação das melhori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917360" y="4005000"/>
              <a:ext cx="40478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13131"/>
                  </a:solidFill>
                  <a:latin typeface="Arial"/>
                </a:rPr>
                <a:t>Projetos de Melhoria de Process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49680" y="22320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9" name=""/>
            <p:cNvGrpSpPr/>
            <p:nvPr/>
          </p:nvGrpSpPr>
          <p:grpSpPr>
            <a:xfrm>
              <a:off x="2336760" y="1064880"/>
              <a:ext cx="2678760" cy="914400"/>
              <a:chOff x="2336760" y="1064880"/>
              <a:chExt cx="2678760" cy="914400"/>
            </a:xfrm>
          </p:grpSpPr>
          <p:sp>
            <p:nvSpPr>
              <p:cNvPr id="1852" name=""/>
              <p:cNvSpPr/>
              <p:nvPr/>
            </p:nvSpPr>
            <p:spPr>
              <a:xfrm>
                <a:off x="2336760" y="1064880"/>
                <a:ext cx="267768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800" spc="-1" strike="noStrike">
                    <a:solidFill>
                      <a:srgbClr val="313131"/>
                    </a:solidFill>
                    <a:latin typeface="Arial"/>
                  </a:rPr>
                  <a:t>Analisar situ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863600" y="12175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0" name=""/>
            <p:cNvSpPr/>
            <p:nvPr/>
          </p:nvSpPr>
          <p:spPr>
            <a:xfrm>
              <a:off x="6186960" y="852480"/>
              <a:ext cx="1639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ble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ortun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1" name=""/>
            <p:cNvCxnSpPr>
              <a:endCxn id="1938" idx="0"/>
            </p:cNvCxnSpPr>
            <p:nvPr/>
          </p:nvCxnSpPr>
          <p:spPr>
            <a:xfrm rot="5400000">
              <a:off x="6345720" y="1568520"/>
              <a:ext cx="743760" cy="584640"/>
            </a:xfrm>
            <a:prstGeom prst="curvedConnector5">
              <a:avLst>
                <a:gd name="adj1" fmla="val 49975"/>
                <a:gd name="adj2" fmla="val 49969"/>
                <a:gd name="adj3" fmla="val 4997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42" name=""/>
            <p:cNvGrpSpPr/>
            <p:nvPr/>
          </p:nvGrpSpPr>
          <p:grpSpPr>
            <a:xfrm>
              <a:off x="1447560" y="4827600"/>
              <a:ext cx="5184000" cy="733320"/>
              <a:chOff x="1447560" y="4827600"/>
              <a:chExt cx="5184000" cy="733320"/>
            </a:xfrm>
          </p:grpSpPr>
          <p:grpSp>
            <p:nvGrpSpPr>
              <p:cNvPr id="1943" name=""/>
              <p:cNvGrpSpPr/>
              <p:nvPr/>
            </p:nvGrpSpPr>
            <p:grpSpPr>
              <a:xfrm>
                <a:off x="1447560" y="4829040"/>
                <a:ext cx="1085400" cy="731880"/>
                <a:chOff x="1447560" y="4829040"/>
                <a:chExt cx="1085400" cy="73188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1447560" y="4829040"/>
                  <a:ext cx="1085400" cy="731880"/>
                </a:xfrm>
                <a:custGeom>
                  <a:avLst/>
                  <a:gdLst>
                    <a:gd name="textAreaLeft" fmla="*/ 0 w 1085400"/>
                    <a:gd name="textAreaRight" fmla="*/ 1085760 w 1085400"/>
                    <a:gd name="textAreaTop" fmla="*/ 0 h 731880"/>
                    <a:gd name="textAreaBottom" fmla="*/ 732240 h 731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7074" y="0"/>
                      </a:lnTo>
                      <a:lnTo>
                        <a:pt x="21600" y="10800"/>
                      </a:lnTo>
                      <a:lnTo>
                        <a:pt x="17074" y="21600"/>
                      </a:lnTo>
                      <a:lnTo>
                        <a:pt x="0" y="21600"/>
                      </a:lnTo>
                      <a:lnTo>
                        <a:pt x="4526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f96d"/>
                    </a:gs>
                    <a:gs pos="100000">
                      <a:srgbClr val="ffcc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624680" y="5033880"/>
                  <a:ext cx="83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Planej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6" name=""/>
              <p:cNvGrpSpPr/>
              <p:nvPr/>
            </p:nvGrpSpPr>
            <p:grpSpPr>
              <a:xfrm>
                <a:off x="2436120" y="4829040"/>
                <a:ext cx="1141920" cy="731880"/>
                <a:chOff x="2436120" y="4829040"/>
                <a:chExt cx="1141920" cy="731880"/>
              </a:xfrm>
            </p:grpSpPr>
            <p:sp>
              <p:nvSpPr>
                <p:cNvPr id="1947" name=""/>
                <p:cNvSpPr/>
                <p:nvPr/>
              </p:nvSpPr>
              <p:spPr>
                <a:xfrm>
                  <a:off x="2436120" y="4829040"/>
                  <a:ext cx="1102680" cy="731880"/>
                </a:xfrm>
                <a:custGeom>
                  <a:avLst/>
                  <a:gdLst>
                    <a:gd name="textAreaLeft" fmla="*/ 0 w 1102680"/>
                    <a:gd name="textAreaRight" fmla="*/ 1102680 w 1102680"/>
                    <a:gd name="textAreaTop" fmla="*/ 0 h 731880"/>
                    <a:gd name="textAreaBottom" fmla="*/ 732240 h 731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337" y="0"/>
                      </a:lnTo>
                      <a:lnTo>
                        <a:pt x="21600" y="10800"/>
                      </a:lnTo>
                      <a:lnTo>
                        <a:pt x="18337" y="21600"/>
                      </a:lnTo>
                      <a:lnTo>
                        <a:pt x="0" y="21600"/>
                      </a:lnTo>
                      <a:lnTo>
                        <a:pt x="3263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faaa"/>
                    </a:gs>
                    <a:gs pos="100000">
                      <a:srgbClr val="9cf96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2563560" y="50418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</a:rPr>
                    <a:t>Requisi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9" name=""/>
              <p:cNvGrpSpPr/>
              <p:nvPr/>
            </p:nvGrpSpPr>
            <p:grpSpPr>
              <a:xfrm>
                <a:off x="3458520" y="4829040"/>
                <a:ext cx="1152360" cy="731880"/>
                <a:chOff x="3458520" y="4829040"/>
                <a:chExt cx="1152360" cy="73188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3458520" y="4829040"/>
                  <a:ext cx="1142640" cy="731880"/>
                </a:xfrm>
                <a:custGeom>
                  <a:avLst/>
                  <a:gdLst>
                    <a:gd name="textAreaLeft" fmla="*/ 0 w 1142640"/>
                    <a:gd name="textAreaRight" fmla="*/ 1142640 w 1142640"/>
                    <a:gd name="textAreaTop" fmla="*/ 0 h 731880"/>
                    <a:gd name="textAreaBottom" fmla="*/ 732240 h 731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7597" y="0"/>
                      </a:lnTo>
                      <a:lnTo>
                        <a:pt x="21600" y="10800"/>
                      </a:lnTo>
                      <a:lnTo>
                        <a:pt x="17597" y="21600"/>
                      </a:lnTo>
                      <a:lnTo>
                        <a:pt x="0" y="21600"/>
                      </a:lnTo>
                      <a:lnTo>
                        <a:pt x="4003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faaa"/>
                    </a:gs>
                    <a:gs pos="100000">
                      <a:srgbClr val="9cf96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657600" y="5041800"/>
                  <a:ext cx="953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enh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2" name=""/>
              <p:cNvGrpSpPr/>
              <p:nvPr/>
            </p:nvGrpSpPr>
            <p:grpSpPr>
              <a:xfrm>
                <a:off x="4479120" y="4827600"/>
                <a:ext cx="1142640" cy="731880"/>
                <a:chOff x="4479120" y="4827600"/>
                <a:chExt cx="1142640" cy="73188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4479120" y="4827600"/>
                  <a:ext cx="1142640" cy="731880"/>
                </a:xfrm>
                <a:custGeom>
                  <a:avLst/>
                  <a:gdLst>
                    <a:gd name="textAreaLeft" fmla="*/ 0 w 1142640"/>
                    <a:gd name="textAreaRight" fmla="*/ 1142640 w 1142640"/>
                    <a:gd name="textAreaTop" fmla="*/ 0 h 731880"/>
                    <a:gd name="textAreaBottom" fmla="*/ 732240 h 731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7597" y="0"/>
                      </a:lnTo>
                      <a:lnTo>
                        <a:pt x="21600" y="10800"/>
                      </a:lnTo>
                      <a:lnTo>
                        <a:pt x="17597" y="21600"/>
                      </a:lnTo>
                      <a:lnTo>
                        <a:pt x="0" y="21600"/>
                      </a:lnTo>
                      <a:lnTo>
                        <a:pt x="4003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faaa"/>
                    </a:gs>
                    <a:gs pos="100000">
                      <a:srgbClr val="9cf96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677840" y="5040360"/>
                  <a:ext cx="886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xecut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5488920" y="4827600"/>
                <a:ext cx="1142640" cy="731880"/>
                <a:chOff x="5488920" y="4827600"/>
                <a:chExt cx="1142640" cy="73188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5488920" y="4827600"/>
                  <a:ext cx="1142640" cy="731880"/>
                </a:xfrm>
                <a:custGeom>
                  <a:avLst/>
                  <a:gdLst>
                    <a:gd name="textAreaLeft" fmla="*/ 0 w 1142640"/>
                    <a:gd name="textAreaRight" fmla="*/ 1142640 w 1142640"/>
                    <a:gd name="textAreaTop" fmla="*/ 0 h 731880"/>
                    <a:gd name="textAreaBottom" fmla="*/ 732240 h 731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7597" y="0"/>
                      </a:lnTo>
                      <a:lnTo>
                        <a:pt x="21600" y="10800"/>
                      </a:lnTo>
                      <a:lnTo>
                        <a:pt x="17597" y="21600"/>
                      </a:lnTo>
                      <a:lnTo>
                        <a:pt x="0" y="21600"/>
                      </a:lnTo>
                      <a:lnTo>
                        <a:pt x="4003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faaa"/>
                    </a:gs>
                    <a:gs pos="100000">
                      <a:srgbClr val="9cf96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5737680" y="504180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Liber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58" name=""/>
          <p:cNvSpPr/>
          <p:nvPr/>
        </p:nvSpPr>
        <p:spPr>
          <a:xfrm>
            <a:off x="6948360" y="3164040"/>
            <a:ext cx="184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a mesma figura do capítulo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4320" y="5972040"/>
            <a:ext cx="90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ós a fase de “entender” decide-se: melhoria ou transformaçã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na melhoria incremental do PDP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896760" y="2457360"/>
            <a:ext cx="77011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do ou Proposta de Mudança de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251000" y="3281400"/>
            <a:ext cx="69930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m de Mudança de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900000" y="4049640"/>
            <a:ext cx="75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e ao processo de gerenciamento de mudanças de engenh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a apresent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ciação entre Mudanças de Engenharia e Melhoria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e Mudanças de Engenharia (E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CM versus gest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udanç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ários sobre a implantação do processo de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Melhoria Incremental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amplo de transformaçã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na melhoria incremental d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Fases e atividades da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Fases e atividades da melhoria incremental 1/5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o projeto de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r recursos e pessoal para a mel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ibuir responsabilidades para a mel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inar pessoas para a mel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olver interessados na mel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critérios de avaliação da mel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h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r infra-estrutura, educar e tre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Fases e atividades da melhoria incremental 2/5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o projeto de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tar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ntar e aprovar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h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r infra-estrutura, educar e tre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Fases e atividades da melhoria incremental 3/5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o projeto de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h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desenho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desenho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novos indicadores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r infra-estrutura, educar e tre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Fases e atividades da melhoria incremental 4/5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o projeto de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h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r políticas para a operação das melhorias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a documentação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r os recursos e pessoal para operar as melhorias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inar pessoas para operar as melhorias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r infra-estrutura, educar e tre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Fases e atividades da melhoria incremental 5/5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o projeto de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h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mel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e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r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icializar e liberar operação das melhorias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ulgar melhorias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melhores práticas advindas do projeto de mel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r infra-estrutura, educar e tre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762120" y="1047600"/>
            <a:ext cx="7162560" cy="5754960"/>
            <a:chOff x="762120" y="1047600"/>
            <a:chExt cx="7162560" cy="5754960"/>
          </a:xfrm>
        </p:grpSpPr>
        <p:sp>
          <p:nvSpPr>
            <p:cNvPr id="1978" name=""/>
            <p:cNvSpPr/>
            <p:nvPr/>
          </p:nvSpPr>
          <p:spPr>
            <a:xfrm>
              <a:off x="990720" y="4284720"/>
              <a:ext cx="1904760" cy="54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o P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791320" y="4148280"/>
              <a:ext cx="1904760" cy="823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802880" y="1047600"/>
              <a:ext cx="52045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 de desenvolvimento de produtos (PDP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119960" y="5743440"/>
              <a:ext cx="1645920" cy="1059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t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lho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 proces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920560" y="5743440"/>
              <a:ext cx="1645920" cy="1059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t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danç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 produ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3" name=""/>
            <p:cNvCxnSpPr>
              <a:stCxn id="1984" idx="2"/>
              <a:endCxn id="1981" idx="3"/>
            </p:cNvCxnSpPr>
            <p:nvPr/>
          </p:nvCxnSpPr>
          <p:spPr>
            <a:xfrm rot="5400000">
              <a:off x="2366280" y="4319280"/>
              <a:ext cx="2361240" cy="155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5" name=""/>
            <p:cNvCxnSpPr>
              <a:stCxn id="1984" idx="2"/>
              <a:endCxn id="1982" idx="1"/>
            </p:cNvCxnSpPr>
            <p:nvPr/>
          </p:nvCxnSpPr>
          <p:spPr>
            <a:xfrm flipH="1" rot="16200000">
              <a:off x="3940560" y="4301640"/>
              <a:ext cx="2361240" cy="159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6" name=""/>
            <p:cNvSpPr/>
            <p:nvPr/>
          </p:nvSpPr>
          <p:spPr>
            <a:xfrm>
              <a:off x="3041280" y="5210280"/>
              <a:ext cx="2610720" cy="44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to ou processo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7" name=""/>
            <p:cNvCxnSpPr>
              <a:stCxn id="1982" idx="0"/>
              <a:endCxn id="1979" idx="2"/>
            </p:cNvCxnSpPr>
            <p:nvPr/>
          </p:nvCxnSpPr>
          <p:spPr>
            <a:xfrm flipV="1">
              <a:off x="6743520" y="4976280"/>
              <a:ext cx="1080" cy="76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8" name=""/>
            <p:cNvCxnSpPr>
              <a:stCxn id="1981" idx="0"/>
              <a:endCxn id="1978" idx="2"/>
            </p:cNvCxnSpPr>
            <p:nvPr/>
          </p:nvCxnSpPr>
          <p:spPr>
            <a:xfrm flipV="1">
              <a:off x="1942920" y="4838040"/>
              <a:ext cx="1080" cy="905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9" name=""/>
            <p:cNvCxnSpPr>
              <a:stCxn id="1979" idx="3"/>
              <a:endCxn id="1990" idx="3"/>
            </p:cNvCxnSpPr>
            <p:nvPr/>
          </p:nvCxnSpPr>
          <p:spPr>
            <a:xfrm flipH="1" flipV="1">
              <a:off x="6608520" y="2370960"/>
              <a:ext cx="1087920" cy="2189880"/>
            </a:xfrm>
            <a:prstGeom prst="bentConnector3">
              <a:avLst>
                <a:gd name="adj1" fmla="val -2101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91" name=""/>
            <p:cNvCxnSpPr>
              <a:stCxn id="1978" idx="1"/>
              <a:endCxn id="1990" idx="1"/>
            </p:cNvCxnSpPr>
            <p:nvPr/>
          </p:nvCxnSpPr>
          <p:spPr>
            <a:xfrm flipH="1" rot="10800000">
              <a:off x="990360" y="2370960"/>
              <a:ext cx="970560" cy="2188440"/>
            </a:xfrm>
            <a:prstGeom prst="bentConnector3">
              <a:avLst>
                <a:gd name="adj1" fmla="val -2356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92" name=""/>
            <p:cNvGrpSpPr/>
            <p:nvPr/>
          </p:nvGrpSpPr>
          <p:grpSpPr>
            <a:xfrm>
              <a:off x="1960560" y="1457280"/>
              <a:ext cx="4648320" cy="1827360"/>
              <a:chOff x="1960560" y="1457280"/>
              <a:chExt cx="4648320" cy="1827360"/>
            </a:xfrm>
          </p:grpSpPr>
          <p:sp>
            <p:nvSpPr>
              <p:cNvPr id="1990" name=""/>
              <p:cNvSpPr/>
              <p:nvPr/>
            </p:nvSpPr>
            <p:spPr>
              <a:xfrm>
                <a:off x="1960560" y="1457280"/>
                <a:ext cx="4648320" cy="18273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078720" y="1901160"/>
                <a:ext cx="2143800" cy="216720"/>
              </a:xfrm>
              <a:custGeom>
                <a:avLst/>
                <a:gdLst>
                  <a:gd name="textAreaLeft" fmla="*/ 0 w 2143800"/>
                  <a:gd name="textAreaRight" fmla="*/ 2144160 w 214380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921" y="0"/>
                    </a:lnTo>
                    <a:lnTo>
                      <a:pt x="21600" y="10800"/>
                    </a:lnTo>
                    <a:lnTo>
                      <a:pt x="20921" y="21600"/>
                    </a:lnTo>
                    <a:lnTo>
                      <a:pt x="0" y="21600"/>
                    </a:lnTo>
                    <a:lnTo>
                      <a:pt x="679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senvolvi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210640" y="1902240"/>
                <a:ext cx="1371240" cy="21672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642" y="0"/>
                    </a:lnTo>
                    <a:lnTo>
                      <a:pt x="21600" y="10800"/>
                    </a:lnTo>
                    <a:lnTo>
                      <a:pt x="20642" y="21600"/>
                    </a:lnTo>
                    <a:lnTo>
                      <a:pt x="0" y="21600"/>
                    </a:lnTo>
                    <a:lnTo>
                      <a:pt x="958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ó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171840" y="1964160"/>
                <a:ext cx="135360" cy="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96" name=""/>
              <p:cNvCxnSpPr>
                <a:stCxn id="1994" idx="0"/>
                <a:endCxn id="1997" idx="0"/>
              </p:cNvCxnSpPr>
              <p:nvPr/>
            </p:nvCxnSpPr>
            <p:spPr>
              <a:xfrm rot="5400000">
                <a:off x="4194360" y="236160"/>
                <a:ext cx="5040" cy="3336840"/>
              </a:xfrm>
              <a:prstGeom prst="bentConnector3">
                <a:avLst>
                  <a:gd name="adj1" fmla="val -48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997" name=""/>
              <p:cNvSpPr/>
              <p:nvPr/>
            </p:nvSpPr>
            <p:spPr>
              <a:xfrm>
                <a:off x="2009880" y="1905120"/>
                <a:ext cx="1098000" cy="213840"/>
              </a:xfrm>
              <a:custGeom>
                <a:avLst/>
                <a:gdLst>
                  <a:gd name="textAreaLeft" fmla="*/ 0 w 1098000"/>
                  <a:gd name="textAreaRight" fmla="*/ 1098000 w 109800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447" y="0"/>
                    </a:lnTo>
                    <a:lnTo>
                      <a:pt x="21600" y="10800"/>
                    </a:lnTo>
                    <a:lnTo>
                      <a:pt x="2044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017080" y="2172240"/>
                <a:ext cx="689760" cy="570960"/>
              </a:xfrm>
              <a:custGeom>
                <a:avLst/>
                <a:gdLst>
                  <a:gd name="textAreaLeft" fmla="*/ 0 w 689760"/>
                  <a:gd name="textAreaRight" fmla="*/ 690120 w 689760"/>
                  <a:gd name="textAreaTop" fmla="*/ 0 h 570960"/>
                  <a:gd name="textAreaBottom" fmla="*/ 570960 h 57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48" y="0"/>
                    </a:lnTo>
                    <a:lnTo>
                      <a:pt x="21600" y="10800"/>
                    </a:lnTo>
                    <a:lnTo>
                      <a:pt x="19548" y="21600"/>
                    </a:lnTo>
                    <a:lnTo>
                      <a:pt x="0" y="21600"/>
                    </a:lnTo>
                    <a:lnTo>
                      <a:pt x="2052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5107680" y="2157480"/>
                <a:ext cx="1483560" cy="677880"/>
                <a:chOff x="5107680" y="2157480"/>
                <a:chExt cx="1483560" cy="67788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5107680" y="2157480"/>
                  <a:ext cx="649440" cy="6033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603360"/>
                    <a:gd name="textAreaBottom" fmla="*/ 603360 h 60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5757120" y="2157480"/>
                  <a:ext cx="656280" cy="603360"/>
                </a:xfrm>
                <a:custGeom>
                  <a:avLst/>
                  <a:gdLst>
                    <a:gd name="textAreaLeft" fmla="*/ 0 w 656280"/>
                    <a:gd name="textAreaRight" fmla="*/ 656640 w 656280"/>
                    <a:gd name="textAreaTop" fmla="*/ 0 h 603360"/>
                    <a:gd name="textAreaBottom" fmla="*/ 603360 h 60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151600" y="2203560"/>
                  <a:ext cx="655200" cy="603000"/>
                </a:xfrm>
                <a:custGeom>
                  <a:avLst/>
                  <a:gdLst>
                    <a:gd name="textAreaLeft" fmla="*/ 0 w 655200"/>
                    <a:gd name="textAreaRight" fmla="*/ 655200 w 65520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5816160" y="2203560"/>
                  <a:ext cx="656280" cy="603000"/>
                </a:xfrm>
                <a:custGeom>
                  <a:avLst/>
                  <a:gdLst>
                    <a:gd name="textAreaLeft" fmla="*/ 0 w 656280"/>
                    <a:gd name="textAreaRight" fmla="*/ 656640 w 65628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898240" y="2232360"/>
                  <a:ext cx="693000" cy="603000"/>
                </a:xfrm>
                <a:custGeom>
                  <a:avLst/>
                  <a:gdLst>
                    <a:gd name="textAreaLeft" fmla="*/ 0 w 693000"/>
                    <a:gd name="textAreaRight" fmla="*/ 693360 w 69300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602" y="0"/>
                      </a:lnTo>
                      <a:lnTo>
                        <a:pt x="21600" y="10800"/>
                      </a:lnTo>
                      <a:lnTo>
                        <a:pt x="19602" y="21600"/>
                      </a:lnTo>
                      <a:lnTo>
                        <a:pt x="0" y="21600"/>
                      </a:lnTo>
                      <a:lnTo>
                        <a:pt x="1998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00" rIns="72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202720" y="2232360"/>
                  <a:ext cx="723600" cy="603000"/>
                </a:xfrm>
                <a:custGeom>
                  <a:avLst/>
                  <a:gdLst>
                    <a:gd name="textAreaLeft" fmla="*/ 0 w 723600"/>
                    <a:gd name="textAreaRight" fmla="*/ 723960 w 72360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39" y="0"/>
                      </a:lnTo>
                      <a:lnTo>
                        <a:pt x="21600" y="10800"/>
                      </a:lnTo>
                      <a:lnTo>
                        <a:pt x="19739" y="21600"/>
                      </a:lnTo>
                      <a:lnTo>
                        <a:pt x="0" y="21600"/>
                      </a:lnTo>
                      <a:lnTo>
                        <a:pt x="1861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6" name=""/>
              <p:cNvGrpSpPr/>
              <p:nvPr/>
            </p:nvGrpSpPr>
            <p:grpSpPr>
              <a:xfrm>
                <a:off x="3168360" y="2148480"/>
                <a:ext cx="1861560" cy="295920"/>
                <a:chOff x="3168360" y="2148480"/>
                <a:chExt cx="1861560" cy="295920"/>
              </a:xfrm>
            </p:grpSpPr>
            <p:sp>
              <p:nvSpPr>
                <p:cNvPr id="2007" name=""/>
                <p:cNvSpPr/>
                <p:nvPr/>
              </p:nvSpPr>
              <p:spPr>
                <a:xfrm flipV="1">
                  <a:off x="3168360" y="2148480"/>
                  <a:ext cx="369360" cy="29592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V="1">
                  <a:off x="3540960" y="2148480"/>
                  <a:ext cx="369360" cy="29592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V="1">
                  <a:off x="3914280" y="2148480"/>
                  <a:ext cx="369000" cy="2959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V="1">
                  <a:off x="4286880" y="2148480"/>
                  <a:ext cx="369000" cy="2959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V="1">
                  <a:off x="4660560" y="2148480"/>
                  <a:ext cx="369360" cy="29592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3247200" y="2258640"/>
                <a:ext cx="1861560" cy="297360"/>
                <a:chOff x="3247200" y="2258640"/>
                <a:chExt cx="1861560" cy="297360"/>
              </a:xfrm>
            </p:grpSpPr>
            <p:sp>
              <p:nvSpPr>
                <p:cNvPr id="2013" name=""/>
                <p:cNvSpPr/>
                <p:nvPr/>
              </p:nvSpPr>
              <p:spPr>
                <a:xfrm flipV="1">
                  <a:off x="3247200" y="225864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V="1">
                  <a:off x="3619800" y="225864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flipV="1">
                  <a:off x="3993120" y="2258640"/>
                  <a:ext cx="369000" cy="29736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 flipV="1">
                  <a:off x="4365720" y="2258640"/>
                  <a:ext cx="369000" cy="29736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flipV="1">
                  <a:off x="4739400" y="225864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8" name=""/>
              <p:cNvGrpSpPr/>
              <p:nvPr/>
            </p:nvGrpSpPr>
            <p:grpSpPr>
              <a:xfrm>
                <a:off x="3325680" y="2369880"/>
                <a:ext cx="1861560" cy="297360"/>
                <a:chOff x="3325680" y="2369880"/>
                <a:chExt cx="1861560" cy="297360"/>
              </a:xfrm>
            </p:grpSpPr>
            <p:sp>
              <p:nvSpPr>
                <p:cNvPr id="2019" name=""/>
                <p:cNvSpPr/>
                <p:nvPr/>
              </p:nvSpPr>
              <p:spPr>
                <a:xfrm flipV="1">
                  <a:off x="3325680" y="236988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flipV="1">
                  <a:off x="3698280" y="236988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V="1">
                  <a:off x="4071600" y="2369880"/>
                  <a:ext cx="369000" cy="29736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V="1">
                  <a:off x="4444200" y="2369880"/>
                  <a:ext cx="369000" cy="29736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V="1">
                  <a:off x="4817880" y="236988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4" name=""/>
              <p:cNvGrpSpPr/>
              <p:nvPr/>
            </p:nvGrpSpPr>
            <p:grpSpPr>
              <a:xfrm>
                <a:off x="2730240" y="2178000"/>
                <a:ext cx="491040" cy="488880"/>
                <a:chOff x="2730240" y="2178000"/>
                <a:chExt cx="491040" cy="488880"/>
              </a:xfrm>
            </p:grpSpPr>
            <p:sp>
              <p:nvSpPr>
                <p:cNvPr id="2025" name=""/>
                <p:cNvSpPr/>
                <p:nvPr/>
              </p:nvSpPr>
              <p:spPr>
                <a:xfrm>
                  <a:off x="2730240" y="2178000"/>
                  <a:ext cx="334080" cy="266760"/>
                </a:xfrm>
                <a:custGeom>
                  <a:avLst/>
                  <a:gdLst>
                    <a:gd name="textAreaLeft" fmla="*/ 0 w 334080"/>
                    <a:gd name="textAreaRight" fmla="*/ 334440 w 334080"/>
                    <a:gd name="textAreaTop" fmla="*/ 0 h 266760"/>
                    <a:gd name="textAreaBottom" fmla="*/ 266760 h 26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22" y="0"/>
                      </a:lnTo>
                      <a:lnTo>
                        <a:pt x="21600" y="10800"/>
                      </a:lnTo>
                      <a:lnTo>
                        <a:pt x="19522" y="21600"/>
                      </a:lnTo>
                      <a:lnTo>
                        <a:pt x="0" y="21600"/>
                      </a:lnTo>
                      <a:lnTo>
                        <a:pt x="2078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2808720" y="2288880"/>
                  <a:ext cx="334080" cy="267120"/>
                </a:xfrm>
                <a:custGeom>
                  <a:avLst/>
                  <a:gdLst>
                    <a:gd name="textAreaLeft" fmla="*/ 0 w 334080"/>
                    <a:gd name="textAreaRight" fmla="*/ 334440 w 334080"/>
                    <a:gd name="textAreaTop" fmla="*/ 0 h 267120"/>
                    <a:gd name="textAreaBottom" fmla="*/ 267480 h 26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22" y="0"/>
                      </a:lnTo>
                      <a:lnTo>
                        <a:pt x="21600" y="10800"/>
                      </a:lnTo>
                      <a:lnTo>
                        <a:pt x="19522" y="21600"/>
                      </a:lnTo>
                      <a:lnTo>
                        <a:pt x="0" y="21600"/>
                      </a:lnTo>
                      <a:lnTo>
                        <a:pt x="2078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2887560" y="2399760"/>
                  <a:ext cx="333720" cy="267120"/>
                </a:xfrm>
                <a:custGeom>
                  <a:avLst/>
                  <a:gdLst>
                    <a:gd name="textAreaLeft" fmla="*/ 0 w 333720"/>
                    <a:gd name="textAreaRight" fmla="*/ 333720 w 333720"/>
                    <a:gd name="textAreaTop" fmla="*/ 0 h 267120"/>
                    <a:gd name="textAreaBottom" fmla="*/ 267480 h 26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22" y="0"/>
                      </a:lnTo>
                      <a:lnTo>
                        <a:pt x="21600" y="10800"/>
                      </a:lnTo>
                      <a:lnTo>
                        <a:pt x="19522" y="21600"/>
                      </a:lnTo>
                      <a:lnTo>
                        <a:pt x="0" y="21600"/>
                      </a:lnTo>
                      <a:lnTo>
                        <a:pt x="2078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8" name=""/>
              <p:cNvGrpSpPr/>
              <p:nvPr/>
            </p:nvGrpSpPr>
            <p:grpSpPr>
              <a:xfrm>
                <a:off x="3636720" y="2624760"/>
                <a:ext cx="95760" cy="449640"/>
                <a:chOff x="3636720" y="2624760"/>
                <a:chExt cx="95760" cy="44964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3636720" y="2876760"/>
                  <a:ext cx="95760" cy="19764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V="1">
                  <a:off x="3684240" y="262476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2662200" y="2161440"/>
                <a:ext cx="96840" cy="934920"/>
                <a:chOff x="2662200" y="2161440"/>
                <a:chExt cx="96840" cy="93492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2662200" y="2898000"/>
                  <a:ext cx="96840" cy="19836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V="1">
                  <a:off x="2706840" y="2161440"/>
                  <a:ext cx="0" cy="74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4" name=""/>
              <p:cNvSpPr/>
              <p:nvPr/>
            </p:nvSpPr>
            <p:spPr>
              <a:xfrm>
                <a:off x="2545200" y="2825640"/>
                <a:ext cx="2741760" cy="3632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5" name=""/>
              <p:cNvGrpSpPr/>
              <p:nvPr/>
            </p:nvGrpSpPr>
            <p:grpSpPr>
              <a:xfrm>
                <a:off x="5136840" y="2752200"/>
                <a:ext cx="95400" cy="344520"/>
                <a:chOff x="5136840" y="2752200"/>
                <a:chExt cx="95400" cy="344520"/>
              </a:xfrm>
            </p:grpSpPr>
            <p:sp>
              <p:nvSpPr>
                <p:cNvPr id="2036" name=""/>
                <p:cNvSpPr/>
                <p:nvPr/>
              </p:nvSpPr>
              <p:spPr>
                <a:xfrm>
                  <a:off x="5136840" y="2899800"/>
                  <a:ext cx="95400" cy="19692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V="1">
                  <a:off x="5184000" y="2752200"/>
                  <a:ext cx="0" cy="14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8" name=""/>
              <p:cNvGrpSpPr/>
              <p:nvPr/>
            </p:nvGrpSpPr>
            <p:grpSpPr>
              <a:xfrm>
                <a:off x="4375440" y="2624760"/>
                <a:ext cx="96840" cy="449640"/>
                <a:chOff x="4375440" y="2624760"/>
                <a:chExt cx="96840" cy="44964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4375440" y="2876760"/>
                  <a:ext cx="96840" cy="19764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flipV="1">
                  <a:off x="4423320" y="262476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1" name=""/>
              <p:cNvGrpSpPr/>
              <p:nvPr/>
            </p:nvGrpSpPr>
            <p:grpSpPr>
              <a:xfrm>
                <a:off x="4745520" y="2624760"/>
                <a:ext cx="95760" cy="449640"/>
                <a:chOff x="4745520" y="2624760"/>
                <a:chExt cx="95760" cy="449640"/>
              </a:xfrm>
            </p:grpSpPr>
            <p:sp>
              <p:nvSpPr>
                <p:cNvPr id="2042" name=""/>
                <p:cNvSpPr/>
                <p:nvPr/>
              </p:nvSpPr>
              <p:spPr>
                <a:xfrm>
                  <a:off x="4745520" y="2876760"/>
                  <a:ext cx="95760" cy="19764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4793040" y="262476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3173040" y="2648520"/>
                <a:ext cx="95760" cy="425880"/>
                <a:chOff x="3173040" y="2648520"/>
                <a:chExt cx="95760" cy="425880"/>
              </a:xfrm>
            </p:grpSpPr>
            <p:sp>
              <p:nvSpPr>
                <p:cNvPr id="2045" name=""/>
                <p:cNvSpPr/>
                <p:nvPr/>
              </p:nvSpPr>
              <p:spPr>
                <a:xfrm flipV="1">
                  <a:off x="3220560" y="264852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173040" y="2877120"/>
                  <a:ext cx="95760" cy="19728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7" name=""/>
              <p:cNvGrpSpPr/>
              <p:nvPr/>
            </p:nvGrpSpPr>
            <p:grpSpPr>
              <a:xfrm>
                <a:off x="4007520" y="2648520"/>
                <a:ext cx="95400" cy="425880"/>
                <a:chOff x="4007520" y="2648520"/>
                <a:chExt cx="95400" cy="425880"/>
              </a:xfrm>
            </p:grpSpPr>
            <p:sp>
              <p:nvSpPr>
                <p:cNvPr id="2048" name=""/>
                <p:cNvSpPr/>
                <p:nvPr/>
              </p:nvSpPr>
              <p:spPr>
                <a:xfrm flipV="1">
                  <a:off x="4054680" y="264852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007520" y="2877120"/>
                  <a:ext cx="95400" cy="19728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0" name=""/>
              <p:cNvGrpSpPr/>
              <p:nvPr/>
            </p:nvGrpSpPr>
            <p:grpSpPr>
              <a:xfrm>
                <a:off x="3781080" y="2667240"/>
                <a:ext cx="72360" cy="342360"/>
                <a:chOff x="3781080" y="2667240"/>
                <a:chExt cx="72360" cy="342360"/>
              </a:xfrm>
            </p:grpSpPr>
            <p:sp>
              <p:nvSpPr>
                <p:cNvPr id="2051" name=""/>
                <p:cNvSpPr/>
                <p:nvPr/>
              </p:nvSpPr>
              <p:spPr>
                <a:xfrm flipV="1">
                  <a:off x="381780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3781080" y="2912040"/>
                  <a:ext cx="7236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3" name=""/>
              <p:cNvGrpSpPr/>
              <p:nvPr/>
            </p:nvGrpSpPr>
            <p:grpSpPr>
              <a:xfrm>
                <a:off x="3877920" y="2667240"/>
                <a:ext cx="72360" cy="342360"/>
                <a:chOff x="3877920" y="2667240"/>
                <a:chExt cx="72360" cy="342360"/>
              </a:xfrm>
            </p:grpSpPr>
            <p:sp>
              <p:nvSpPr>
                <p:cNvPr id="2054" name=""/>
                <p:cNvSpPr/>
                <p:nvPr/>
              </p:nvSpPr>
              <p:spPr>
                <a:xfrm flipV="1">
                  <a:off x="391464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3877920" y="2912040"/>
                  <a:ext cx="7236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6" name=""/>
              <p:cNvGrpSpPr/>
              <p:nvPr/>
            </p:nvGrpSpPr>
            <p:grpSpPr>
              <a:xfrm>
                <a:off x="4135680" y="2667240"/>
                <a:ext cx="73800" cy="342360"/>
                <a:chOff x="4135680" y="2667240"/>
                <a:chExt cx="73800" cy="342360"/>
              </a:xfrm>
            </p:grpSpPr>
            <p:sp>
              <p:nvSpPr>
                <p:cNvPr id="2057" name=""/>
                <p:cNvSpPr/>
                <p:nvPr/>
              </p:nvSpPr>
              <p:spPr>
                <a:xfrm flipV="1">
                  <a:off x="417312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135680" y="2912040"/>
                  <a:ext cx="7380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9" name=""/>
              <p:cNvGrpSpPr/>
              <p:nvPr/>
            </p:nvGrpSpPr>
            <p:grpSpPr>
              <a:xfrm>
                <a:off x="4247280" y="2667240"/>
                <a:ext cx="72360" cy="342360"/>
                <a:chOff x="4247280" y="2667240"/>
                <a:chExt cx="72360" cy="342360"/>
              </a:xfrm>
            </p:grpSpPr>
            <p:sp>
              <p:nvSpPr>
                <p:cNvPr id="2060" name=""/>
                <p:cNvSpPr/>
                <p:nvPr/>
              </p:nvSpPr>
              <p:spPr>
                <a:xfrm flipV="1">
                  <a:off x="428400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247280" y="2912040"/>
                  <a:ext cx="7236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2" name=""/>
              <p:cNvGrpSpPr/>
              <p:nvPr/>
            </p:nvGrpSpPr>
            <p:grpSpPr>
              <a:xfrm>
                <a:off x="3498840" y="2667240"/>
                <a:ext cx="72720" cy="342360"/>
                <a:chOff x="3498840" y="2667240"/>
                <a:chExt cx="72720" cy="342360"/>
              </a:xfrm>
            </p:grpSpPr>
            <p:sp>
              <p:nvSpPr>
                <p:cNvPr id="2063" name=""/>
                <p:cNvSpPr/>
                <p:nvPr/>
              </p:nvSpPr>
              <p:spPr>
                <a:xfrm flipV="1">
                  <a:off x="353556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3498840" y="2912040"/>
                  <a:ext cx="7272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"/>
              <p:cNvGrpSpPr/>
              <p:nvPr/>
            </p:nvGrpSpPr>
            <p:grpSpPr>
              <a:xfrm>
                <a:off x="4590720" y="2667240"/>
                <a:ext cx="72720" cy="342360"/>
                <a:chOff x="4590720" y="2667240"/>
                <a:chExt cx="72720" cy="342360"/>
              </a:xfrm>
            </p:grpSpPr>
            <p:sp>
              <p:nvSpPr>
                <p:cNvPr id="2066" name=""/>
                <p:cNvSpPr/>
                <p:nvPr/>
              </p:nvSpPr>
              <p:spPr>
                <a:xfrm flipV="1">
                  <a:off x="462744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590720" y="2912040"/>
                  <a:ext cx="7272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4" name=""/>
            <p:cNvSpPr/>
            <p:nvPr/>
          </p:nvSpPr>
          <p:spPr>
            <a:xfrm>
              <a:off x="3416760" y="3152880"/>
              <a:ext cx="1816560" cy="754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roble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portun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jetivos do capítul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ciar os processos de “Gerenciamento de Mudanças de Engenharia” (ECM) e de “Melhoria Incremental do PDP” e relacioná-los com 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os papéis, as informações principais e as atividades desses processos em uma empresa especí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r os possíveis tipos de mudanças exist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r o processo de gerenciamento de mudanças de engenharia no contexto da gestão da configu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como implementar o processo de ECM em um caso 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arar as fases do processo de melhoria incremental e as fases de planejamento de projeto do PMI (project management instit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a apresent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9031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Diferenciação entre Mudanças de Engenharia e Melhoria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e Mudanças de Engenharia (E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CM versus gestão da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udanç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o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ários sobre a implantação do processo de E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ia Incremental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amplo de transformação de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 papéis na melhoria incremental d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ses e atividades da melhoria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Diferenciação entre os processos de apoi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61023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os problemas ou oportunidades estiverem relacionadas com 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du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cionamos o processo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renciamento de mudanças de engenh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os problemas ou oportunidades estiverem relacionadas com 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esso de desenvolvimento de produtos (PD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cionamos o processo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lhoria d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4360" y="3728880"/>
            <a:ext cx="82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34280" y="4856040"/>
            <a:ext cx="190476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l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P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62640" y="1819440"/>
            <a:ext cx="1905120" cy="823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renciamento de mudanças de engenh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762120" y="1047600"/>
            <a:ext cx="7162560" cy="5754960"/>
            <a:chOff x="762120" y="1047600"/>
            <a:chExt cx="7162560" cy="5754960"/>
          </a:xfrm>
        </p:grpSpPr>
        <p:sp>
          <p:nvSpPr>
            <p:cNvPr id="364" name=""/>
            <p:cNvSpPr/>
            <p:nvPr/>
          </p:nvSpPr>
          <p:spPr>
            <a:xfrm>
              <a:off x="990720" y="4284720"/>
              <a:ext cx="1904760" cy="54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o P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91320" y="4148280"/>
              <a:ext cx="1904760" cy="823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02880" y="1047600"/>
              <a:ext cx="52045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 de desenvolvimento de produtos (PDP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19960" y="5743440"/>
              <a:ext cx="1645920" cy="1059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t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lho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 proces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20560" y="5743440"/>
              <a:ext cx="1645920" cy="1059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t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danç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 produ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"/>
            <p:cNvCxnSpPr>
              <a:stCxn id="370" idx="2"/>
              <a:endCxn id="367" idx="3"/>
            </p:cNvCxnSpPr>
            <p:nvPr/>
          </p:nvCxnSpPr>
          <p:spPr>
            <a:xfrm rot="5400000">
              <a:off x="2366280" y="4319280"/>
              <a:ext cx="2361240" cy="155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"/>
            <p:cNvCxnSpPr>
              <a:stCxn id="370" idx="2"/>
              <a:endCxn id="368" idx="1"/>
            </p:cNvCxnSpPr>
            <p:nvPr/>
          </p:nvCxnSpPr>
          <p:spPr>
            <a:xfrm flipH="1" rot="16200000">
              <a:off x="3940560" y="4301640"/>
              <a:ext cx="2361240" cy="159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2" name=""/>
            <p:cNvSpPr/>
            <p:nvPr/>
          </p:nvSpPr>
          <p:spPr>
            <a:xfrm>
              <a:off x="3041280" y="5210280"/>
              <a:ext cx="2610720" cy="44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to ou processo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3" name=""/>
            <p:cNvCxnSpPr>
              <a:stCxn id="368" idx="0"/>
              <a:endCxn id="365" idx="2"/>
            </p:cNvCxnSpPr>
            <p:nvPr/>
          </p:nvCxnSpPr>
          <p:spPr>
            <a:xfrm flipV="1">
              <a:off x="6743520" y="4976280"/>
              <a:ext cx="1080" cy="76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67" idx="0"/>
              <a:endCxn id="364" idx="2"/>
            </p:cNvCxnSpPr>
            <p:nvPr/>
          </p:nvCxnSpPr>
          <p:spPr>
            <a:xfrm flipV="1">
              <a:off x="1942920" y="4838040"/>
              <a:ext cx="1080" cy="905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65" idx="3"/>
              <a:endCxn id="376" idx="3"/>
            </p:cNvCxnSpPr>
            <p:nvPr/>
          </p:nvCxnSpPr>
          <p:spPr>
            <a:xfrm flipH="1" flipV="1">
              <a:off x="6608520" y="2370960"/>
              <a:ext cx="1087920" cy="2189880"/>
            </a:xfrm>
            <a:prstGeom prst="bentConnector3">
              <a:avLst>
                <a:gd name="adj1" fmla="val -2101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7" name=""/>
            <p:cNvCxnSpPr>
              <a:stCxn id="364" idx="1"/>
              <a:endCxn id="376" idx="1"/>
            </p:cNvCxnSpPr>
            <p:nvPr/>
          </p:nvCxnSpPr>
          <p:spPr>
            <a:xfrm flipH="1" rot="10800000">
              <a:off x="990360" y="2370960"/>
              <a:ext cx="970560" cy="2188440"/>
            </a:xfrm>
            <a:prstGeom prst="bentConnector3">
              <a:avLst>
                <a:gd name="adj1" fmla="val -2356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78" name=""/>
            <p:cNvGrpSpPr/>
            <p:nvPr/>
          </p:nvGrpSpPr>
          <p:grpSpPr>
            <a:xfrm>
              <a:off x="1960560" y="1457280"/>
              <a:ext cx="4648320" cy="1827360"/>
              <a:chOff x="1960560" y="1457280"/>
              <a:chExt cx="4648320" cy="1827360"/>
            </a:xfrm>
          </p:grpSpPr>
          <p:sp>
            <p:nvSpPr>
              <p:cNvPr id="376" name=""/>
              <p:cNvSpPr/>
              <p:nvPr/>
            </p:nvSpPr>
            <p:spPr>
              <a:xfrm>
                <a:off x="1960560" y="1457280"/>
                <a:ext cx="4648320" cy="18273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78720" y="1901160"/>
                <a:ext cx="2143800" cy="216720"/>
              </a:xfrm>
              <a:custGeom>
                <a:avLst/>
                <a:gdLst>
                  <a:gd name="textAreaLeft" fmla="*/ 0 w 2143800"/>
                  <a:gd name="textAreaRight" fmla="*/ 2144160 w 214380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921" y="0"/>
                    </a:lnTo>
                    <a:lnTo>
                      <a:pt x="21600" y="10800"/>
                    </a:lnTo>
                    <a:lnTo>
                      <a:pt x="20921" y="21600"/>
                    </a:lnTo>
                    <a:lnTo>
                      <a:pt x="0" y="21600"/>
                    </a:lnTo>
                    <a:lnTo>
                      <a:pt x="679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senvolvi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210640" y="1902240"/>
                <a:ext cx="1371240" cy="21672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642" y="0"/>
                    </a:lnTo>
                    <a:lnTo>
                      <a:pt x="21600" y="10800"/>
                    </a:lnTo>
                    <a:lnTo>
                      <a:pt x="20642" y="21600"/>
                    </a:lnTo>
                    <a:lnTo>
                      <a:pt x="0" y="21600"/>
                    </a:lnTo>
                    <a:lnTo>
                      <a:pt x="958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ó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71840" y="1964160"/>
                <a:ext cx="135360" cy="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"/>
              <p:cNvCxnSpPr>
                <a:stCxn id="380" idx="0"/>
                <a:endCxn id="383" idx="0"/>
              </p:cNvCxnSpPr>
              <p:nvPr/>
            </p:nvCxnSpPr>
            <p:spPr>
              <a:xfrm rot="5400000">
                <a:off x="4194360" y="236160"/>
                <a:ext cx="5040" cy="3336840"/>
              </a:xfrm>
              <a:prstGeom prst="bentConnector3">
                <a:avLst>
                  <a:gd name="adj1" fmla="val -48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3" name=""/>
              <p:cNvSpPr/>
              <p:nvPr/>
            </p:nvSpPr>
            <p:spPr>
              <a:xfrm>
                <a:off x="2009880" y="1905120"/>
                <a:ext cx="1098000" cy="213840"/>
              </a:xfrm>
              <a:custGeom>
                <a:avLst/>
                <a:gdLst>
                  <a:gd name="textAreaLeft" fmla="*/ 0 w 1098000"/>
                  <a:gd name="textAreaRight" fmla="*/ 1098000 w 109800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447" y="0"/>
                    </a:lnTo>
                    <a:lnTo>
                      <a:pt x="21600" y="10800"/>
                    </a:lnTo>
                    <a:lnTo>
                      <a:pt x="2044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017080" y="2172240"/>
                <a:ext cx="689760" cy="570960"/>
              </a:xfrm>
              <a:custGeom>
                <a:avLst/>
                <a:gdLst>
                  <a:gd name="textAreaLeft" fmla="*/ 0 w 689760"/>
                  <a:gd name="textAreaRight" fmla="*/ 690120 w 689760"/>
                  <a:gd name="textAreaTop" fmla="*/ 0 h 570960"/>
                  <a:gd name="textAreaBottom" fmla="*/ 570960 h 57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48" y="0"/>
                    </a:lnTo>
                    <a:lnTo>
                      <a:pt x="21600" y="10800"/>
                    </a:lnTo>
                    <a:lnTo>
                      <a:pt x="19548" y="21600"/>
                    </a:lnTo>
                    <a:lnTo>
                      <a:pt x="0" y="21600"/>
                    </a:lnTo>
                    <a:lnTo>
                      <a:pt x="2052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107680" y="2157480"/>
                <a:ext cx="1483560" cy="677880"/>
                <a:chOff x="5107680" y="2157480"/>
                <a:chExt cx="1483560" cy="6778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107680" y="2157480"/>
                  <a:ext cx="649440" cy="6033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603360"/>
                    <a:gd name="textAreaBottom" fmla="*/ 603360 h 60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757120" y="2157480"/>
                  <a:ext cx="656280" cy="603360"/>
                </a:xfrm>
                <a:custGeom>
                  <a:avLst/>
                  <a:gdLst>
                    <a:gd name="textAreaLeft" fmla="*/ 0 w 656280"/>
                    <a:gd name="textAreaRight" fmla="*/ 656640 w 656280"/>
                    <a:gd name="textAreaTop" fmla="*/ 0 h 603360"/>
                    <a:gd name="textAreaBottom" fmla="*/ 603360 h 60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151600" y="2203560"/>
                  <a:ext cx="655200" cy="603000"/>
                </a:xfrm>
                <a:custGeom>
                  <a:avLst/>
                  <a:gdLst>
                    <a:gd name="textAreaLeft" fmla="*/ 0 w 655200"/>
                    <a:gd name="textAreaRight" fmla="*/ 655200 w 65520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816160" y="2203560"/>
                  <a:ext cx="656280" cy="603000"/>
                </a:xfrm>
                <a:custGeom>
                  <a:avLst/>
                  <a:gdLst>
                    <a:gd name="textAreaLeft" fmla="*/ 0 w 656280"/>
                    <a:gd name="textAreaRight" fmla="*/ 656640 w 65628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98240" y="2232360"/>
                  <a:ext cx="693000" cy="603000"/>
                </a:xfrm>
                <a:custGeom>
                  <a:avLst/>
                  <a:gdLst>
                    <a:gd name="textAreaLeft" fmla="*/ 0 w 693000"/>
                    <a:gd name="textAreaRight" fmla="*/ 693360 w 69300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602" y="0"/>
                      </a:lnTo>
                      <a:lnTo>
                        <a:pt x="21600" y="10800"/>
                      </a:lnTo>
                      <a:lnTo>
                        <a:pt x="19602" y="21600"/>
                      </a:lnTo>
                      <a:lnTo>
                        <a:pt x="0" y="21600"/>
                      </a:lnTo>
                      <a:lnTo>
                        <a:pt x="1998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00" rIns="72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02720" y="2232360"/>
                  <a:ext cx="723600" cy="603000"/>
                </a:xfrm>
                <a:custGeom>
                  <a:avLst/>
                  <a:gdLst>
                    <a:gd name="textAreaLeft" fmla="*/ 0 w 723600"/>
                    <a:gd name="textAreaRight" fmla="*/ 723960 w 72360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39" y="0"/>
                      </a:lnTo>
                      <a:lnTo>
                        <a:pt x="21600" y="10800"/>
                      </a:lnTo>
                      <a:lnTo>
                        <a:pt x="19739" y="21600"/>
                      </a:lnTo>
                      <a:lnTo>
                        <a:pt x="0" y="21600"/>
                      </a:lnTo>
                      <a:lnTo>
                        <a:pt x="1861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168360" y="2148480"/>
                <a:ext cx="1861560" cy="295920"/>
                <a:chOff x="3168360" y="2148480"/>
                <a:chExt cx="1861560" cy="295920"/>
              </a:xfrm>
            </p:grpSpPr>
            <p:sp>
              <p:nvSpPr>
                <p:cNvPr id="393" name=""/>
                <p:cNvSpPr/>
                <p:nvPr/>
              </p:nvSpPr>
              <p:spPr>
                <a:xfrm flipV="1">
                  <a:off x="3168360" y="2148480"/>
                  <a:ext cx="369360" cy="29592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3540960" y="2148480"/>
                  <a:ext cx="369360" cy="29592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3914280" y="2148480"/>
                  <a:ext cx="369000" cy="2959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4286880" y="2148480"/>
                  <a:ext cx="369000" cy="2959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4660560" y="2148480"/>
                  <a:ext cx="369360" cy="29592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5920"/>
                    <a:gd name="textAreaBottom" fmla="*/ 29664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3247200" y="2258640"/>
                <a:ext cx="1861560" cy="297360"/>
                <a:chOff x="3247200" y="2258640"/>
                <a:chExt cx="1861560" cy="297360"/>
              </a:xfrm>
            </p:grpSpPr>
            <p:sp>
              <p:nvSpPr>
                <p:cNvPr id="399" name=""/>
                <p:cNvSpPr/>
                <p:nvPr/>
              </p:nvSpPr>
              <p:spPr>
                <a:xfrm flipV="1">
                  <a:off x="3247200" y="225864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3619800" y="225864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3993120" y="2258640"/>
                  <a:ext cx="369000" cy="29736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365720" y="2258640"/>
                  <a:ext cx="369000" cy="29736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4739400" y="225864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3325680" y="2369880"/>
                <a:ext cx="1861560" cy="297360"/>
                <a:chOff x="3325680" y="2369880"/>
                <a:chExt cx="1861560" cy="297360"/>
              </a:xfrm>
            </p:grpSpPr>
            <p:sp>
              <p:nvSpPr>
                <p:cNvPr id="405" name=""/>
                <p:cNvSpPr/>
                <p:nvPr/>
              </p:nvSpPr>
              <p:spPr>
                <a:xfrm flipV="1">
                  <a:off x="3325680" y="236988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3698280" y="236988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4071600" y="2369880"/>
                  <a:ext cx="369000" cy="29736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4444200" y="2369880"/>
                  <a:ext cx="369000" cy="29736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4817880" y="2369880"/>
                  <a:ext cx="369360" cy="29736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360 h 297360"/>
                    <a:gd name="textAreaBottom" fmla="*/ 298080 h 29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730240" y="2178000"/>
                <a:ext cx="491040" cy="488880"/>
                <a:chOff x="2730240" y="2178000"/>
                <a:chExt cx="491040" cy="4888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730240" y="2178000"/>
                  <a:ext cx="334080" cy="266760"/>
                </a:xfrm>
                <a:custGeom>
                  <a:avLst/>
                  <a:gdLst>
                    <a:gd name="textAreaLeft" fmla="*/ 0 w 334080"/>
                    <a:gd name="textAreaRight" fmla="*/ 334440 w 334080"/>
                    <a:gd name="textAreaTop" fmla="*/ 0 h 266760"/>
                    <a:gd name="textAreaBottom" fmla="*/ 266760 h 26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22" y="0"/>
                      </a:lnTo>
                      <a:lnTo>
                        <a:pt x="21600" y="10800"/>
                      </a:lnTo>
                      <a:lnTo>
                        <a:pt x="19522" y="21600"/>
                      </a:lnTo>
                      <a:lnTo>
                        <a:pt x="0" y="21600"/>
                      </a:lnTo>
                      <a:lnTo>
                        <a:pt x="2078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08720" y="2288880"/>
                  <a:ext cx="334080" cy="267120"/>
                </a:xfrm>
                <a:custGeom>
                  <a:avLst/>
                  <a:gdLst>
                    <a:gd name="textAreaLeft" fmla="*/ 0 w 334080"/>
                    <a:gd name="textAreaRight" fmla="*/ 334440 w 334080"/>
                    <a:gd name="textAreaTop" fmla="*/ 0 h 267120"/>
                    <a:gd name="textAreaBottom" fmla="*/ 267480 h 26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22" y="0"/>
                      </a:lnTo>
                      <a:lnTo>
                        <a:pt x="21600" y="10800"/>
                      </a:lnTo>
                      <a:lnTo>
                        <a:pt x="19522" y="21600"/>
                      </a:lnTo>
                      <a:lnTo>
                        <a:pt x="0" y="21600"/>
                      </a:lnTo>
                      <a:lnTo>
                        <a:pt x="2078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87560" y="2399760"/>
                  <a:ext cx="333720" cy="267120"/>
                </a:xfrm>
                <a:custGeom>
                  <a:avLst/>
                  <a:gdLst>
                    <a:gd name="textAreaLeft" fmla="*/ 0 w 333720"/>
                    <a:gd name="textAreaRight" fmla="*/ 333720 w 333720"/>
                    <a:gd name="textAreaTop" fmla="*/ 0 h 267120"/>
                    <a:gd name="textAreaBottom" fmla="*/ 267480 h 26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22" y="0"/>
                      </a:lnTo>
                      <a:lnTo>
                        <a:pt x="21600" y="10800"/>
                      </a:lnTo>
                      <a:lnTo>
                        <a:pt x="19522" y="21600"/>
                      </a:lnTo>
                      <a:lnTo>
                        <a:pt x="0" y="21600"/>
                      </a:lnTo>
                      <a:lnTo>
                        <a:pt x="2078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636720" y="2624760"/>
                <a:ext cx="95760" cy="449640"/>
                <a:chOff x="3636720" y="2624760"/>
                <a:chExt cx="95760" cy="4496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636720" y="2876760"/>
                  <a:ext cx="95760" cy="19764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3684240" y="262476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662200" y="2161440"/>
                <a:ext cx="96840" cy="934920"/>
                <a:chOff x="2662200" y="2161440"/>
                <a:chExt cx="96840" cy="9349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2662200" y="2898000"/>
                  <a:ext cx="96840" cy="19836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2706840" y="2161440"/>
                  <a:ext cx="0" cy="74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2545200" y="2825640"/>
                <a:ext cx="2741760" cy="3632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5136840" y="2752200"/>
                <a:ext cx="95400" cy="344520"/>
                <a:chOff x="5136840" y="2752200"/>
                <a:chExt cx="95400" cy="3445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36840" y="2899800"/>
                  <a:ext cx="95400" cy="19692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84000" y="2752200"/>
                  <a:ext cx="0" cy="14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375440" y="2624760"/>
                <a:ext cx="96840" cy="449640"/>
                <a:chOff x="4375440" y="2624760"/>
                <a:chExt cx="96840" cy="4496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375440" y="2876760"/>
                  <a:ext cx="96840" cy="19764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423320" y="262476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745520" y="2624760"/>
                <a:ext cx="95760" cy="449640"/>
                <a:chOff x="4745520" y="2624760"/>
                <a:chExt cx="95760" cy="4496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745520" y="2876760"/>
                  <a:ext cx="95760" cy="19764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4793040" y="262476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173040" y="2648520"/>
                <a:ext cx="95760" cy="425880"/>
                <a:chOff x="3173040" y="2648520"/>
                <a:chExt cx="95760" cy="425880"/>
              </a:xfrm>
            </p:grpSpPr>
            <p:sp>
              <p:nvSpPr>
                <p:cNvPr id="431" name=""/>
                <p:cNvSpPr/>
                <p:nvPr/>
              </p:nvSpPr>
              <p:spPr>
                <a:xfrm flipV="1">
                  <a:off x="3220560" y="264852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173040" y="2877120"/>
                  <a:ext cx="95760" cy="19728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007520" y="2648520"/>
                <a:ext cx="95400" cy="425880"/>
                <a:chOff x="4007520" y="2648520"/>
                <a:chExt cx="95400" cy="425880"/>
              </a:xfrm>
            </p:grpSpPr>
            <p:sp>
              <p:nvSpPr>
                <p:cNvPr id="434" name=""/>
                <p:cNvSpPr/>
                <p:nvPr/>
              </p:nvSpPr>
              <p:spPr>
                <a:xfrm flipV="1">
                  <a:off x="4054680" y="264852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007520" y="2877120"/>
                  <a:ext cx="95400" cy="197280"/>
                </a:xfrm>
                <a:prstGeom prst="flowChartDecision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781080" y="2667240"/>
                <a:ext cx="72360" cy="342360"/>
                <a:chOff x="3781080" y="2667240"/>
                <a:chExt cx="72360" cy="342360"/>
              </a:xfrm>
            </p:grpSpPr>
            <p:sp>
              <p:nvSpPr>
                <p:cNvPr id="437" name=""/>
                <p:cNvSpPr/>
                <p:nvPr/>
              </p:nvSpPr>
              <p:spPr>
                <a:xfrm flipV="1">
                  <a:off x="381780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781080" y="2912040"/>
                  <a:ext cx="7236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877920" y="2667240"/>
                <a:ext cx="72360" cy="342360"/>
                <a:chOff x="3877920" y="2667240"/>
                <a:chExt cx="72360" cy="342360"/>
              </a:xfrm>
            </p:grpSpPr>
            <p:sp>
              <p:nvSpPr>
                <p:cNvPr id="440" name=""/>
                <p:cNvSpPr/>
                <p:nvPr/>
              </p:nvSpPr>
              <p:spPr>
                <a:xfrm flipV="1">
                  <a:off x="391464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877920" y="2912040"/>
                  <a:ext cx="7236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135680" y="2667240"/>
                <a:ext cx="73800" cy="342360"/>
                <a:chOff x="4135680" y="2667240"/>
                <a:chExt cx="73800" cy="342360"/>
              </a:xfrm>
            </p:grpSpPr>
            <p:sp>
              <p:nvSpPr>
                <p:cNvPr id="443" name=""/>
                <p:cNvSpPr/>
                <p:nvPr/>
              </p:nvSpPr>
              <p:spPr>
                <a:xfrm flipV="1">
                  <a:off x="417312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35680" y="2912040"/>
                  <a:ext cx="7380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4247280" y="2667240"/>
                <a:ext cx="72360" cy="342360"/>
                <a:chOff x="4247280" y="2667240"/>
                <a:chExt cx="72360" cy="342360"/>
              </a:xfrm>
            </p:grpSpPr>
            <p:sp>
              <p:nvSpPr>
                <p:cNvPr id="446" name=""/>
                <p:cNvSpPr/>
                <p:nvPr/>
              </p:nvSpPr>
              <p:spPr>
                <a:xfrm flipV="1">
                  <a:off x="428400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247280" y="2912040"/>
                  <a:ext cx="7236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498840" y="2667240"/>
                <a:ext cx="72720" cy="342360"/>
                <a:chOff x="3498840" y="2667240"/>
                <a:chExt cx="72720" cy="342360"/>
              </a:xfrm>
            </p:grpSpPr>
            <p:sp>
              <p:nvSpPr>
                <p:cNvPr id="449" name=""/>
                <p:cNvSpPr/>
                <p:nvPr/>
              </p:nvSpPr>
              <p:spPr>
                <a:xfrm flipV="1">
                  <a:off x="353556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498840" y="2912040"/>
                  <a:ext cx="7272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590720" y="2667240"/>
                <a:ext cx="72720" cy="342360"/>
                <a:chOff x="4590720" y="2667240"/>
                <a:chExt cx="72720" cy="342360"/>
              </a:xfrm>
            </p:grpSpPr>
            <p:sp>
              <p:nvSpPr>
                <p:cNvPr id="452" name=""/>
                <p:cNvSpPr/>
                <p:nvPr/>
              </p:nvSpPr>
              <p:spPr>
                <a:xfrm flipV="1">
                  <a:off x="4627440" y="2667240"/>
                  <a:ext cx="0" cy="2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590720" y="2912040"/>
                  <a:ext cx="72720" cy="97560"/>
                </a:xfrm>
                <a:prstGeom prst="flowChartDecision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3416760" y="3152880"/>
              <a:ext cx="1816560" cy="754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roble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portun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tegração entre o PDP e os processos de apoi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1243800" y="954000"/>
            <a:ext cx="6984000" cy="5853600"/>
            <a:chOff x="1243800" y="954000"/>
            <a:chExt cx="6984000" cy="5853600"/>
          </a:xfrm>
        </p:grpSpPr>
        <p:sp>
          <p:nvSpPr>
            <p:cNvPr id="456" name=""/>
            <p:cNvSpPr/>
            <p:nvPr/>
          </p:nvSpPr>
          <p:spPr>
            <a:xfrm>
              <a:off x="1759320" y="2823120"/>
              <a:ext cx="1119960" cy="274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80720" y="1501200"/>
              <a:ext cx="1525320" cy="274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ortun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67840" y="4512960"/>
              <a:ext cx="2376000" cy="27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osta de Mudanç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9040" y="4512960"/>
              <a:ext cx="2311920" cy="27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osta de Melh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17720" y="3773520"/>
              <a:ext cx="803160" cy="27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u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55160" y="1980000"/>
              <a:ext cx="728280" cy="27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fe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93440" y="6312240"/>
              <a:ext cx="2103120" cy="27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ução = melh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72240" y="6312240"/>
              <a:ext cx="2167200" cy="27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ução = mudanç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195720" y="1644840"/>
              <a:ext cx="1780920" cy="946440"/>
              <a:chOff x="3195720" y="1644840"/>
              <a:chExt cx="1780920" cy="946440"/>
            </a:xfrm>
          </p:grpSpPr>
          <p:sp>
            <p:nvSpPr>
              <p:cNvPr id="465" name=""/>
              <p:cNvSpPr/>
              <p:nvPr/>
            </p:nvSpPr>
            <p:spPr>
              <a:xfrm>
                <a:off x="3195720" y="1644840"/>
                <a:ext cx="1780920" cy="9464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4103640" y="1789200"/>
                <a:ext cx="651960" cy="707400"/>
                <a:chOff x="4103640" y="1789200"/>
                <a:chExt cx="651960" cy="7074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445640" y="1816560"/>
                  <a:ext cx="205200" cy="181080"/>
                </a:xfrm>
                <a:custGeom>
                  <a:avLst/>
                  <a:gdLst/>
                  <a:ahLst/>
                  <a:rect l="l" t="t" r="r" b="b"/>
                  <a:pathLst>
                    <a:path w="446" h="538">
                      <a:moveTo>
                        <a:pt x="30" y="258"/>
                      </a:moveTo>
                      <a:lnTo>
                        <a:pt x="64" y="181"/>
                      </a:lnTo>
                      <a:lnTo>
                        <a:pt x="134" y="100"/>
                      </a:lnTo>
                      <a:lnTo>
                        <a:pt x="204" y="50"/>
                      </a:lnTo>
                      <a:lnTo>
                        <a:pt x="282" y="10"/>
                      </a:lnTo>
                      <a:lnTo>
                        <a:pt x="355" y="0"/>
                      </a:lnTo>
                      <a:lnTo>
                        <a:pt x="406" y="16"/>
                      </a:lnTo>
                      <a:lnTo>
                        <a:pt x="436" y="57"/>
                      </a:lnTo>
                      <a:lnTo>
                        <a:pt x="446" y="107"/>
                      </a:lnTo>
                      <a:lnTo>
                        <a:pt x="436" y="171"/>
                      </a:lnTo>
                      <a:lnTo>
                        <a:pt x="412" y="241"/>
                      </a:lnTo>
                      <a:lnTo>
                        <a:pt x="355" y="308"/>
                      </a:lnTo>
                      <a:lnTo>
                        <a:pt x="292" y="382"/>
                      </a:lnTo>
                      <a:lnTo>
                        <a:pt x="332" y="513"/>
                      </a:lnTo>
                      <a:lnTo>
                        <a:pt x="322" y="538"/>
                      </a:lnTo>
                      <a:lnTo>
                        <a:pt x="302" y="533"/>
                      </a:lnTo>
                      <a:lnTo>
                        <a:pt x="251" y="429"/>
                      </a:lnTo>
                      <a:lnTo>
                        <a:pt x="181" y="472"/>
                      </a:lnTo>
                      <a:lnTo>
                        <a:pt x="94" y="489"/>
                      </a:lnTo>
                      <a:lnTo>
                        <a:pt x="40" y="483"/>
                      </a:lnTo>
                      <a:lnTo>
                        <a:pt x="3" y="442"/>
                      </a:lnTo>
                      <a:lnTo>
                        <a:pt x="0" y="379"/>
                      </a:lnTo>
                      <a:lnTo>
                        <a:pt x="0" y="322"/>
                      </a:lnTo>
                      <a:lnTo>
                        <a:pt x="30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271760" y="1789200"/>
                  <a:ext cx="229680" cy="202320"/>
                </a:xfrm>
                <a:custGeom>
                  <a:avLst/>
                  <a:gdLst/>
                  <a:ahLst/>
                  <a:rect l="l" t="t" r="r" b="b"/>
                  <a:pathLst>
                    <a:path w="501" h="604">
                      <a:moveTo>
                        <a:pt x="207" y="434"/>
                      </a:moveTo>
                      <a:lnTo>
                        <a:pt x="227" y="454"/>
                      </a:lnTo>
                      <a:lnTo>
                        <a:pt x="240" y="491"/>
                      </a:lnTo>
                      <a:lnTo>
                        <a:pt x="247" y="564"/>
                      </a:lnTo>
                      <a:lnTo>
                        <a:pt x="200" y="604"/>
                      </a:lnTo>
                      <a:lnTo>
                        <a:pt x="137" y="571"/>
                      </a:lnTo>
                      <a:lnTo>
                        <a:pt x="111" y="471"/>
                      </a:lnTo>
                      <a:lnTo>
                        <a:pt x="47" y="311"/>
                      </a:lnTo>
                      <a:lnTo>
                        <a:pt x="17" y="171"/>
                      </a:lnTo>
                      <a:lnTo>
                        <a:pt x="0" y="40"/>
                      </a:lnTo>
                      <a:lnTo>
                        <a:pt x="17" y="0"/>
                      </a:lnTo>
                      <a:lnTo>
                        <a:pt x="40" y="0"/>
                      </a:lnTo>
                      <a:lnTo>
                        <a:pt x="157" y="34"/>
                      </a:lnTo>
                      <a:lnTo>
                        <a:pt x="308" y="91"/>
                      </a:lnTo>
                      <a:lnTo>
                        <a:pt x="348" y="94"/>
                      </a:lnTo>
                      <a:lnTo>
                        <a:pt x="380" y="84"/>
                      </a:lnTo>
                      <a:lnTo>
                        <a:pt x="407" y="131"/>
                      </a:lnTo>
                      <a:lnTo>
                        <a:pt x="501" y="200"/>
                      </a:lnTo>
                      <a:lnTo>
                        <a:pt x="501" y="220"/>
                      </a:lnTo>
                      <a:lnTo>
                        <a:pt x="481" y="230"/>
                      </a:lnTo>
                      <a:lnTo>
                        <a:pt x="410" y="171"/>
                      </a:lnTo>
                      <a:lnTo>
                        <a:pt x="387" y="191"/>
                      </a:lnTo>
                      <a:lnTo>
                        <a:pt x="301" y="213"/>
                      </a:lnTo>
                      <a:lnTo>
                        <a:pt x="251" y="191"/>
                      </a:lnTo>
                      <a:lnTo>
                        <a:pt x="257" y="144"/>
                      </a:lnTo>
                      <a:lnTo>
                        <a:pt x="210" y="111"/>
                      </a:lnTo>
                      <a:lnTo>
                        <a:pt x="126" y="80"/>
                      </a:lnTo>
                      <a:lnTo>
                        <a:pt x="67" y="64"/>
                      </a:lnTo>
                      <a:lnTo>
                        <a:pt x="67" y="111"/>
                      </a:lnTo>
                      <a:lnTo>
                        <a:pt x="81" y="213"/>
                      </a:lnTo>
                      <a:lnTo>
                        <a:pt x="107" y="291"/>
                      </a:lnTo>
                      <a:lnTo>
                        <a:pt x="147" y="374"/>
                      </a:lnTo>
                      <a:lnTo>
                        <a:pt x="207" y="4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433760" y="1919520"/>
                  <a:ext cx="321840" cy="171000"/>
                </a:xfrm>
                <a:custGeom>
                  <a:avLst/>
                  <a:gdLst/>
                  <a:ahLst/>
                  <a:rect l="l" t="t" r="r" b="b"/>
                  <a:pathLst>
                    <a:path w="701" h="511">
                      <a:moveTo>
                        <a:pt x="106" y="309"/>
                      </a:moveTo>
                      <a:lnTo>
                        <a:pt x="60" y="272"/>
                      </a:lnTo>
                      <a:lnTo>
                        <a:pt x="16" y="272"/>
                      </a:lnTo>
                      <a:lnTo>
                        <a:pt x="0" y="312"/>
                      </a:lnTo>
                      <a:lnTo>
                        <a:pt x="16" y="389"/>
                      </a:lnTo>
                      <a:lnTo>
                        <a:pt x="117" y="449"/>
                      </a:lnTo>
                      <a:lnTo>
                        <a:pt x="300" y="503"/>
                      </a:lnTo>
                      <a:lnTo>
                        <a:pt x="337" y="511"/>
                      </a:lnTo>
                      <a:lnTo>
                        <a:pt x="377" y="511"/>
                      </a:lnTo>
                      <a:lnTo>
                        <a:pt x="451" y="511"/>
                      </a:lnTo>
                      <a:lnTo>
                        <a:pt x="580" y="469"/>
                      </a:lnTo>
                      <a:lnTo>
                        <a:pt x="698" y="433"/>
                      </a:lnTo>
                      <a:lnTo>
                        <a:pt x="701" y="409"/>
                      </a:lnTo>
                      <a:lnTo>
                        <a:pt x="641" y="272"/>
                      </a:lnTo>
                      <a:lnTo>
                        <a:pt x="570" y="168"/>
                      </a:lnTo>
                      <a:lnTo>
                        <a:pt x="530" y="117"/>
                      </a:lnTo>
                      <a:lnTo>
                        <a:pt x="530" y="81"/>
                      </a:lnTo>
                      <a:lnTo>
                        <a:pt x="470" y="81"/>
                      </a:lnTo>
                      <a:lnTo>
                        <a:pt x="380" y="0"/>
                      </a:lnTo>
                      <a:lnTo>
                        <a:pt x="357" y="0"/>
                      </a:lnTo>
                      <a:lnTo>
                        <a:pt x="357" y="27"/>
                      </a:lnTo>
                      <a:lnTo>
                        <a:pt x="441" y="87"/>
                      </a:lnTo>
                      <a:lnTo>
                        <a:pt x="441" y="121"/>
                      </a:lnTo>
                      <a:lnTo>
                        <a:pt x="461" y="208"/>
                      </a:lnTo>
                      <a:lnTo>
                        <a:pt x="500" y="218"/>
                      </a:lnTo>
                      <a:lnTo>
                        <a:pt x="540" y="221"/>
                      </a:lnTo>
                      <a:lnTo>
                        <a:pt x="587" y="278"/>
                      </a:lnTo>
                      <a:lnTo>
                        <a:pt x="617" y="379"/>
                      </a:lnTo>
                      <a:lnTo>
                        <a:pt x="597" y="412"/>
                      </a:lnTo>
                      <a:lnTo>
                        <a:pt x="506" y="439"/>
                      </a:lnTo>
                      <a:lnTo>
                        <a:pt x="420" y="443"/>
                      </a:lnTo>
                      <a:lnTo>
                        <a:pt x="350" y="443"/>
                      </a:lnTo>
                      <a:lnTo>
                        <a:pt x="260" y="419"/>
                      </a:lnTo>
                      <a:lnTo>
                        <a:pt x="177" y="372"/>
                      </a:lnTo>
                      <a:lnTo>
                        <a:pt x="106" y="3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200840" y="1959480"/>
                  <a:ext cx="254880" cy="276120"/>
                </a:xfrm>
                <a:custGeom>
                  <a:avLst/>
                  <a:gdLst/>
                  <a:ahLst/>
                  <a:rect l="l" t="t" r="r" b="b"/>
                  <a:pathLst>
                    <a:path w="553" h="823">
                      <a:moveTo>
                        <a:pt x="151" y="52"/>
                      </a:moveTo>
                      <a:lnTo>
                        <a:pt x="225" y="19"/>
                      </a:lnTo>
                      <a:lnTo>
                        <a:pt x="312" y="2"/>
                      </a:lnTo>
                      <a:lnTo>
                        <a:pt x="416" y="0"/>
                      </a:lnTo>
                      <a:lnTo>
                        <a:pt x="476" y="12"/>
                      </a:lnTo>
                      <a:lnTo>
                        <a:pt x="543" y="52"/>
                      </a:lnTo>
                      <a:lnTo>
                        <a:pt x="553" y="92"/>
                      </a:lnTo>
                      <a:lnTo>
                        <a:pt x="547" y="143"/>
                      </a:lnTo>
                      <a:lnTo>
                        <a:pt x="516" y="190"/>
                      </a:lnTo>
                      <a:lnTo>
                        <a:pt x="483" y="213"/>
                      </a:lnTo>
                      <a:lnTo>
                        <a:pt x="426" y="240"/>
                      </a:lnTo>
                      <a:lnTo>
                        <a:pt x="372" y="280"/>
                      </a:lnTo>
                      <a:lnTo>
                        <a:pt x="345" y="324"/>
                      </a:lnTo>
                      <a:lnTo>
                        <a:pt x="332" y="404"/>
                      </a:lnTo>
                      <a:lnTo>
                        <a:pt x="352" y="464"/>
                      </a:lnTo>
                      <a:lnTo>
                        <a:pt x="392" y="525"/>
                      </a:lnTo>
                      <a:lnTo>
                        <a:pt x="423" y="612"/>
                      </a:lnTo>
                      <a:lnTo>
                        <a:pt x="426" y="713"/>
                      </a:lnTo>
                      <a:lnTo>
                        <a:pt x="406" y="773"/>
                      </a:lnTo>
                      <a:lnTo>
                        <a:pt x="355" y="813"/>
                      </a:lnTo>
                      <a:lnTo>
                        <a:pt x="295" y="823"/>
                      </a:lnTo>
                      <a:lnTo>
                        <a:pt x="205" y="796"/>
                      </a:lnTo>
                      <a:lnTo>
                        <a:pt x="124" y="736"/>
                      </a:lnTo>
                      <a:lnTo>
                        <a:pt x="71" y="662"/>
                      </a:lnTo>
                      <a:lnTo>
                        <a:pt x="20" y="545"/>
                      </a:lnTo>
                      <a:lnTo>
                        <a:pt x="0" y="401"/>
                      </a:lnTo>
                      <a:lnTo>
                        <a:pt x="14" y="273"/>
                      </a:lnTo>
                      <a:lnTo>
                        <a:pt x="50" y="163"/>
                      </a:lnTo>
                      <a:lnTo>
                        <a:pt x="101" y="99"/>
                      </a:lnTo>
                      <a:lnTo>
                        <a:pt x="15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103640" y="2179440"/>
                  <a:ext cx="282960" cy="317160"/>
                </a:xfrm>
                <a:custGeom>
                  <a:avLst/>
                  <a:gdLst/>
                  <a:ahLst/>
                  <a:rect l="l" t="t" r="r" b="b"/>
                  <a:pathLst>
                    <a:path w="615" h="945">
                      <a:moveTo>
                        <a:pt x="536" y="204"/>
                      </a:moveTo>
                      <a:lnTo>
                        <a:pt x="473" y="124"/>
                      </a:lnTo>
                      <a:lnTo>
                        <a:pt x="385" y="10"/>
                      </a:lnTo>
                      <a:lnTo>
                        <a:pt x="315" y="0"/>
                      </a:lnTo>
                      <a:lnTo>
                        <a:pt x="265" y="10"/>
                      </a:lnTo>
                      <a:lnTo>
                        <a:pt x="251" y="60"/>
                      </a:lnTo>
                      <a:lnTo>
                        <a:pt x="285" y="134"/>
                      </a:lnTo>
                      <a:lnTo>
                        <a:pt x="392" y="224"/>
                      </a:lnTo>
                      <a:lnTo>
                        <a:pt x="486" y="314"/>
                      </a:lnTo>
                      <a:lnTo>
                        <a:pt x="526" y="361"/>
                      </a:lnTo>
                      <a:lnTo>
                        <a:pt x="526" y="384"/>
                      </a:lnTo>
                      <a:lnTo>
                        <a:pt x="496" y="441"/>
                      </a:lnTo>
                      <a:lnTo>
                        <a:pt x="426" y="505"/>
                      </a:lnTo>
                      <a:lnTo>
                        <a:pt x="335" y="545"/>
                      </a:lnTo>
                      <a:lnTo>
                        <a:pt x="235" y="565"/>
                      </a:lnTo>
                      <a:lnTo>
                        <a:pt x="141" y="582"/>
                      </a:lnTo>
                      <a:lnTo>
                        <a:pt x="84" y="592"/>
                      </a:lnTo>
                      <a:lnTo>
                        <a:pt x="30" y="585"/>
                      </a:lnTo>
                      <a:lnTo>
                        <a:pt x="0" y="605"/>
                      </a:lnTo>
                      <a:lnTo>
                        <a:pt x="0" y="644"/>
                      </a:lnTo>
                      <a:lnTo>
                        <a:pt x="20" y="661"/>
                      </a:lnTo>
                      <a:lnTo>
                        <a:pt x="141" y="701"/>
                      </a:lnTo>
                      <a:lnTo>
                        <a:pt x="241" y="762"/>
                      </a:lnTo>
                      <a:lnTo>
                        <a:pt x="325" y="856"/>
                      </a:lnTo>
                      <a:lnTo>
                        <a:pt x="352" y="906"/>
                      </a:lnTo>
                      <a:lnTo>
                        <a:pt x="362" y="943"/>
                      </a:lnTo>
                      <a:lnTo>
                        <a:pt x="402" y="945"/>
                      </a:lnTo>
                      <a:lnTo>
                        <a:pt x="466" y="926"/>
                      </a:lnTo>
                      <a:lnTo>
                        <a:pt x="463" y="876"/>
                      </a:lnTo>
                      <a:lnTo>
                        <a:pt x="396" y="802"/>
                      </a:lnTo>
                      <a:lnTo>
                        <a:pt x="312" y="735"/>
                      </a:lnTo>
                      <a:lnTo>
                        <a:pt x="241" y="695"/>
                      </a:lnTo>
                      <a:lnTo>
                        <a:pt x="164" y="664"/>
                      </a:lnTo>
                      <a:lnTo>
                        <a:pt x="111" y="644"/>
                      </a:lnTo>
                      <a:lnTo>
                        <a:pt x="114" y="634"/>
                      </a:lnTo>
                      <a:lnTo>
                        <a:pt x="225" y="622"/>
                      </a:lnTo>
                      <a:lnTo>
                        <a:pt x="335" y="602"/>
                      </a:lnTo>
                      <a:lnTo>
                        <a:pt x="436" y="572"/>
                      </a:lnTo>
                      <a:lnTo>
                        <a:pt x="496" y="545"/>
                      </a:lnTo>
                      <a:lnTo>
                        <a:pt x="563" y="481"/>
                      </a:lnTo>
                      <a:lnTo>
                        <a:pt x="597" y="411"/>
                      </a:lnTo>
                      <a:lnTo>
                        <a:pt x="615" y="344"/>
                      </a:lnTo>
                      <a:lnTo>
                        <a:pt x="603" y="291"/>
                      </a:lnTo>
                      <a:lnTo>
                        <a:pt x="566" y="251"/>
                      </a:lnTo>
                      <a:lnTo>
                        <a:pt x="536" y="2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339080" y="2155320"/>
                  <a:ext cx="236160" cy="333720"/>
                </a:xfrm>
                <a:custGeom>
                  <a:avLst/>
                  <a:gdLst/>
                  <a:ahLst/>
                  <a:rect l="l" t="t" r="r" b="b"/>
                  <a:pathLst>
                    <a:path w="514" h="996">
                      <a:moveTo>
                        <a:pt x="63" y="0"/>
                      </a:moveTo>
                      <a:lnTo>
                        <a:pt x="3" y="2"/>
                      </a:lnTo>
                      <a:lnTo>
                        <a:pt x="0" y="49"/>
                      </a:lnTo>
                      <a:lnTo>
                        <a:pt x="20" y="99"/>
                      </a:lnTo>
                      <a:lnTo>
                        <a:pt x="70" y="160"/>
                      </a:lnTo>
                      <a:lnTo>
                        <a:pt x="120" y="223"/>
                      </a:lnTo>
                      <a:lnTo>
                        <a:pt x="173" y="363"/>
                      </a:lnTo>
                      <a:lnTo>
                        <a:pt x="190" y="460"/>
                      </a:lnTo>
                      <a:lnTo>
                        <a:pt x="183" y="551"/>
                      </a:lnTo>
                      <a:lnTo>
                        <a:pt x="153" y="670"/>
                      </a:lnTo>
                      <a:lnTo>
                        <a:pt x="120" y="774"/>
                      </a:lnTo>
                      <a:lnTo>
                        <a:pt x="90" y="882"/>
                      </a:lnTo>
                      <a:lnTo>
                        <a:pt x="70" y="932"/>
                      </a:lnTo>
                      <a:lnTo>
                        <a:pt x="60" y="982"/>
                      </a:lnTo>
                      <a:lnTo>
                        <a:pt x="84" y="996"/>
                      </a:lnTo>
                      <a:lnTo>
                        <a:pt x="143" y="976"/>
                      </a:lnTo>
                      <a:lnTo>
                        <a:pt x="253" y="955"/>
                      </a:lnTo>
                      <a:lnTo>
                        <a:pt x="354" y="965"/>
                      </a:lnTo>
                      <a:lnTo>
                        <a:pt x="453" y="996"/>
                      </a:lnTo>
                      <a:lnTo>
                        <a:pt x="473" y="992"/>
                      </a:lnTo>
                      <a:lnTo>
                        <a:pt x="514" y="932"/>
                      </a:lnTo>
                      <a:lnTo>
                        <a:pt x="514" y="905"/>
                      </a:lnTo>
                      <a:lnTo>
                        <a:pt x="430" y="892"/>
                      </a:lnTo>
                      <a:lnTo>
                        <a:pt x="324" y="892"/>
                      </a:lnTo>
                      <a:lnTo>
                        <a:pt x="223" y="912"/>
                      </a:lnTo>
                      <a:lnTo>
                        <a:pt x="129" y="942"/>
                      </a:lnTo>
                      <a:lnTo>
                        <a:pt x="120" y="925"/>
                      </a:lnTo>
                      <a:lnTo>
                        <a:pt x="139" y="882"/>
                      </a:lnTo>
                      <a:lnTo>
                        <a:pt x="193" y="754"/>
                      </a:lnTo>
                      <a:lnTo>
                        <a:pt x="230" y="625"/>
                      </a:lnTo>
                      <a:lnTo>
                        <a:pt x="250" y="511"/>
                      </a:lnTo>
                      <a:lnTo>
                        <a:pt x="250" y="450"/>
                      </a:lnTo>
                      <a:lnTo>
                        <a:pt x="240" y="360"/>
                      </a:lnTo>
                      <a:lnTo>
                        <a:pt x="213" y="274"/>
                      </a:lnTo>
                      <a:lnTo>
                        <a:pt x="190" y="213"/>
                      </a:lnTo>
                      <a:lnTo>
                        <a:pt x="153" y="133"/>
                      </a:lnTo>
                      <a:lnTo>
                        <a:pt x="114" y="39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6600" y="1949040"/>
                <a:ext cx="740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5454720" y="2498400"/>
              <a:ext cx="1781280" cy="946440"/>
              <a:chOff x="5454720" y="2498400"/>
              <a:chExt cx="1781280" cy="946440"/>
            </a:xfrm>
          </p:grpSpPr>
          <p:sp>
            <p:nvSpPr>
              <p:cNvPr id="475" name=""/>
              <p:cNvSpPr/>
              <p:nvPr/>
            </p:nvSpPr>
            <p:spPr>
              <a:xfrm>
                <a:off x="5454720" y="2498400"/>
                <a:ext cx="1781280" cy="9464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86480" y="2682360"/>
                <a:ext cx="879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põ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olic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6566040" y="2545200"/>
                <a:ext cx="472680" cy="801720"/>
                <a:chOff x="6566040" y="2545200"/>
                <a:chExt cx="472680" cy="80172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6634080" y="2545200"/>
                  <a:ext cx="258480" cy="140040"/>
                  <a:chOff x="6634080" y="2545200"/>
                  <a:chExt cx="258480" cy="1400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6726960" y="2599560"/>
                    <a:ext cx="864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378">
                        <a:moveTo>
                          <a:pt x="68" y="342"/>
                        </a:moveTo>
                        <a:lnTo>
                          <a:pt x="71" y="281"/>
                        </a:lnTo>
                        <a:lnTo>
                          <a:pt x="57" y="234"/>
                        </a:lnTo>
                        <a:lnTo>
                          <a:pt x="31" y="194"/>
                        </a:lnTo>
                        <a:lnTo>
                          <a:pt x="0" y="133"/>
                        </a:lnTo>
                        <a:lnTo>
                          <a:pt x="2" y="93"/>
                        </a:lnTo>
                        <a:lnTo>
                          <a:pt x="24" y="43"/>
                        </a:lnTo>
                        <a:lnTo>
                          <a:pt x="64" y="10"/>
                        </a:lnTo>
                        <a:lnTo>
                          <a:pt x="100" y="0"/>
                        </a:lnTo>
                        <a:lnTo>
                          <a:pt x="137" y="7"/>
                        </a:lnTo>
                        <a:lnTo>
                          <a:pt x="161" y="21"/>
                        </a:lnTo>
                        <a:lnTo>
                          <a:pt x="194" y="50"/>
                        </a:lnTo>
                        <a:lnTo>
                          <a:pt x="212" y="93"/>
                        </a:lnTo>
                        <a:lnTo>
                          <a:pt x="205" y="137"/>
                        </a:lnTo>
                        <a:lnTo>
                          <a:pt x="180" y="175"/>
                        </a:lnTo>
                        <a:lnTo>
                          <a:pt x="144" y="237"/>
                        </a:lnTo>
                        <a:lnTo>
                          <a:pt x="137" y="281"/>
                        </a:lnTo>
                        <a:lnTo>
                          <a:pt x="140" y="317"/>
                        </a:lnTo>
                        <a:lnTo>
                          <a:pt x="122" y="352"/>
                        </a:lnTo>
                        <a:lnTo>
                          <a:pt x="104" y="378"/>
                        </a:lnTo>
                        <a:lnTo>
                          <a:pt x="68" y="34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634080" y="2594880"/>
                    <a:ext cx="633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73">
                        <a:moveTo>
                          <a:pt x="156" y="73"/>
                        </a:moveTo>
                        <a:lnTo>
                          <a:pt x="26" y="50"/>
                        </a:lnTo>
                        <a:lnTo>
                          <a:pt x="0" y="24"/>
                        </a:lnTo>
                        <a:lnTo>
                          <a:pt x="10" y="3"/>
                        </a:lnTo>
                        <a:lnTo>
                          <a:pt x="40" y="0"/>
                        </a:lnTo>
                        <a:lnTo>
                          <a:pt x="156" y="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697440" y="255168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20">
                        <a:moveTo>
                          <a:pt x="68" y="120"/>
                        </a:moveTo>
                        <a:lnTo>
                          <a:pt x="0" y="44"/>
                        </a:lnTo>
                        <a:lnTo>
                          <a:pt x="7" y="11"/>
                        </a:lnTo>
                        <a:lnTo>
                          <a:pt x="40" y="0"/>
                        </a:lnTo>
                        <a:lnTo>
                          <a:pt x="58" y="23"/>
                        </a:lnTo>
                        <a:lnTo>
                          <a:pt x="68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786720" y="2545200"/>
                    <a:ext cx="2268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4">
                        <a:moveTo>
                          <a:pt x="8" y="144"/>
                        </a:moveTo>
                        <a:lnTo>
                          <a:pt x="0" y="37"/>
                        </a:lnTo>
                        <a:lnTo>
                          <a:pt x="31" y="0"/>
                        </a:lnTo>
                        <a:lnTo>
                          <a:pt x="58" y="15"/>
                        </a:lnTo>
                        <a:lnTo>
                          <a:pt x="54" y="44"/>
                        </a:lnTo>
                        <a:lnTo>
                          <a:pt x="8" y="1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835320" y="2570040"/>
                    <a:ext cx="57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0">
                        <a:moveTo>
                          <a:pt x="0" y="90"/>
                        </a:moveTo>
                        <a:lnTo>
                          <a:pt x="104" y="0"/>
                        </a:lnTo>
                        <a:lnTo>
                          <a:pt x="140" y="17"/>
                        </a:lnTo>
                        <a:lnTo>
                          <a:pt x="137" y="47"/>
                        </a:lnTo>
                        <a:lnTo>
                          <a:pt x="118" y="61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566040" y="2592000"/>
                  <a:ext cx="472680" cy="754920"/>
                  <a:chOff x="6566040" y="2592000"/>
                  <a:chExt cx="472680" cy="7549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6651360" y="2716560"/>
                    <a:ext cx="2376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578">
                        <a:moveTo>
                          <a:pt x="381" y="167"/>
                        </a:moveTo>
                        <a:lnTo>
                          <a:pt x="310" y="59"/>
                        </a:lnTo>
                        <a:lnTo>
                          <a:pt x="237" y="0"/>
                        </a:lnTo>
                        <a:lnTo>
                          <a:pt x="151" y="0"/>
                        </a:lnTo>
                        <a:lnTo>
                          <a:pt x="57" y="38"/>
                        </a:lnTo>
                        <a:lnTo>
                          <a:pt x="14" y="102"/>
                        </a:lnTo>
                        <a:lnTo>
                          <a:pt x="0" y="189"/>
                        </a:lnTo>
                        <a:lnTo>
                          <a:pt x="14" y="304"/>
                        </a:lnTo>
                        <a:lnTo>
                          <a:pt x="71" y="434"/>
                        </a:lnTo>
                        <a:lnTo>
                          <a:pt x="173" y="521"/>
                        </a:lnTo>
                        <a:lnTo>
                          <a:pt x="251" y="564"/>
                        </a:lnTo>
                        <a:lnTo>
                          <a:pt x="331" y="578"/>
                        </a:lnTo>
                        <a:lnTo>
                          <a:pt x="396" y="557"/>
                        </a:lnTo>
                        <a:lnTo>
                          <a:pt x="431" y="521"/>
                        </a:lnTo>
                        <a:lnTo>
                          <a:pt x="454" y="434"/>
                        </a:lnTo>
                        <a:lnTo>
                          <a:pt x="447" y="333"/>
                        </a:lnTo>
                        <a:lnTo>
                          <a:pt x="424" y="247"/>
                        </a:lnTo>
                        <a:lnTo>
                          <a:pt x="568" y="167"/>
                        </a:lnTo>
                        <a:lnTo>
                          <a:pt x="584" y="132"/>
                        </a:lnTo>
                        <a:lnTo>
                          <a:pt x="568" y="116"/>
                        </a:lnTo>
                        <a:lnTo>
                          <a:pt x="410" y="210"/>
                        </a:lnTo>
                        <a:lnTo>
                          <a:pt x="381" y="1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820920" y="2592000"/>
                    <a:ext cx="21204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1292">
                        <a:moveTo>
                          <a:pt x="145" y="1091"/>
                        </a:moveTo>
                        <a:lnTo>
                          <a:pt x="50" y="1162"/>
                        </a:lnTo>
                        <a:lnTo>
                          <a:pt x="22" y="1185"/>
                        </a:lnTo>
                        <a:lnTo>
                          <a:pt x="0" y="1235"/>
                        </a:lnTo>
                        <a:lnTo>
                          <a:pt x="29" y="1285"/>
                        </a:lnTo>
                        <a:lnTo>
                          <a:pt x="58" y="1292"/>
                        </a:lnTo>
                        <a:lnTo>
                          <a:pt x="145" y="1263"/>
                        </a:lnTo>
                        <a:lnTo>
                          <a:pt x="275" y="1162"/>
                        </a:lnTo>
                        <a:lnTo>
                          <a:pt x="390" y="1041"/>
                        </a:lnTo>
                        <a:lnTo>
                          <a:pt x="513" y="902"/>
                        </a:lnTo>
                        <a:lnTo>
                          <a:pt x="520" y="845"/>
                        </a:lnTo>
                        <a:lnTo>
                          <a:pt x="520" y="687"/>
                        </a:lnTo>
                        <a:lnTo>
                          <a:pt x="485" y="441"/>
                        </a:lnTo>
                        <a:lnTo>
                          <a:pt x="506" y="297"/>
                        </a:lnTo>
                        <a:lnTo>
                          <a:pt x="520" y="239"/>
                        </a:lnTo>
                        <a:lnTo>
                          <a:pt x="499" y="210"/>
                        </a:lnTo>
                        <a:lnTo>
                          <a:pt x="447" y="182"/>
                        </a:lnTo>
                        <a:lnTo>
                          <a:pt x="412" y="160"/>
                        </a:lnTo>
                        <a:lnTo>
                          <a:pt x="433" y="30"/>
                        </a:lnTo>
                        <a:lnTo>
                          <a:pt x="419" y="0"/>
                        </a:lnTo>
                        <a:lnTo>
                          <a:pt x="390" y="9"/>
                        </a:lnTo>
                        <a:lnTo>
                          <a:pt x="376" y="175"/>
                        </a:lnTo>
                        <a:lnTo>
                          <a:pt x="362" y="217"/>
                        </a:lnTo>
                        <a:lnTo>
                          <a:pt x="355" y="246"/>
                        </a:lnTo>
                        <a:lnTo>
                          <a:pt x="296" y="224"/>
                        </a:lnTo>
                        <a:lnTo>
                          <a:pt x="253" y="224"/>
                        </a:lnTo>
                        <a:lnTo>
                          <a:pt x="253" y="253"/>
                        </a:lnTo>
                        <a:lnTo>
                          <a:pt x="282" y="276"/>
                        </a:lnTo>
                        <a:lnTo>
                          <a:pt x="333" y="276"/>
                        </a:lnTo>
                        <a:lnTo>
                          <a:pt x="369" y="304"/>
                        </a:lnTo>
                        <a:lnTo>
                          <a:pt x="397" y="354"/>
                        </a:lnTo>
                        <a:lnTo>
                          <a:pt x="426" y="434"/>
                        </a:lnTo>
                        <a:lnTo>
                          <a:pt x="447" y="593"/>
                        </a:lnTo>
                        <a:lnTo>
                          <a:pt x="447" y="737"/>
                        </a:lnTo>
                        <a:lnTo>
                          <a:pt x="433" y="852"/>
                        </a:lnTo>
                        <a:lnTo>
                          <a:pt x="405" y="902"/>
                        </a:lnTo>
                        <a:lnTo>
                          <a:pt x="303" y="975"/>
                        </a:lnTo>
                        <a:lnTo>
                          <a:pt x="195" y="1041"/>
                        </a:lnTo>
                        <a:lnTo>
                          <a:pt x="145" y="10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566040" y="2863080"/>
                    <a:ext cx="1915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0" h="779">
                        <a:moveTo>
                          <a:pt x="470" y="22"/>
                        </a:moveTo>
                        <a:lnTo>
                          <a:pt x="418" y="0"/>
                        </a:lnTo>
                        <a:lnTo>
                          <a:pt x="310" y="7"/>
                        </a:lnTo>
                        <a:lnTo>
                          <a:pt x="216" y="80"/>
                        </a:lnTo>
                        <a:lnTo>
                          <a:pt x="79" y="231"/>
                        </a:lnTo>
                        <a:lnTo>
                          <a:pt x="7" y="354"/>
                        </a:lnTo>
                        <a:lnTo>
                          <a:pt x="0" y="397"/>
                        </a:lnTo>
                        <a:lnTo>
                          <a:pt x="36" y="477"/>
                        </a:lnTo>
                        <a:lnTo>
                          <a:pt x="114" y="513"/>
                        </a:lnTo>
                        <a:lnTo>
                          <a:pt x="216" y="555"/>
                        </a:lnTo>
                        <a:lnTo>
                          <a:pt x="296" y="577"/>
                        </a:lnTo>
                        <a:lnTo>
                          <a:pt x="331" y="614"/>
                        </a:lnTo>
                        <a:lnTo>
                          <a:pt x="310" y="664"/>
                        </a:lnTo>
                        <a:lnTo>
                          <a:pt x="253" y="722"/>
                        </a:lnTo>
                        <a:lnTo>
                          <a:pt x="180" y="729"/>
                        </a:lnTo>
                        <a:lnTo>
                          <a:pt x="130" y="707"/>
                        </a:lnTo>
                        <a:lnTo>
                          <a:pt x="100" y="729"/>
                        </a:lnTo>
                        <a:lnTo>
                          <a:pt x="107" y="758"/>
                        </a:lnTo>
                        <a:lnTo>
                          <a:pt x="166" y="779"/>
                        </a:lnTo>
                        <a:lnTo>
                          <a:pt x="253" y="779"/>
                        </a:lnTo>
                        <a:lnTo>
                          <a:pt x="331" y="758"/>
                        </a:lnTo>
                        <a:lnTo>
                          <a:pt x="376" y="729"/>
                        </a:lnTo>
                        <a:lnTo>
                          <a:pt x="404" y="678"/>
                        </a:lnTo>
                        <a:lnTo>
                          <a:pt x="418" y="621"/>
                        </a:lnTo>
                        <a:lnTo>
                          <a:pt x="383" y="570"/>
                        </a:lnTo>
                        <a:lnTo>
                          <a:pt x="296" y="534"/>
                        </a:lnTo>
                        <a:lnTo>
                          <a:pt x="194" y="505"/>
                        </a:lnTo>
                        <a:lnTo>
                          <a:pt x="107" y="455"/>
                        </a:lnTo>
                        <a:lnTo>
                          <a:pt x="86" y="411"/>
                        </a:lnTo>
                        <a:lnTo>
                          <a:pt x="100" y="333"/>
                        </a:lnTo>
                        <a:lnTo>
                          <a:pt x="166" y="231"/>
                        </a:lnTo>
                        <a:lnTo>
                          <a:pt x="246" y="173"/>
                        </a:lnTo>
                        <a:lnTo>
                          <a:pt x="368" y="130"/>
                        </a:lnTo>
                        <a:lnTo>
                          <a:pt x="470" y="109"/>
                        </a:lnTo>
                        <a:lnTo>
                          <a:pt x="470" y="50"/>
                        </a:lnTo>
                        <a:lnTo>
                          <a:pt x="47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721920" y="2854800"/>
                    <a:ext cx="1778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960">
                        <a:moveTo>
                          <a:pt x="383" y="303"/>
                        </a:moveTo>
                        <a:lnTo>
                          <a:pt x="338" y="123"/>
                        </a:lnTo>
                        <a:lnTo>
                          <a:pt x="288" y="36"/>
                        </a:lnTo>
                        <a:lnTo>
                          <a:pt x="180" y="0"/>
                        </a:lnTo>
                        <a:lnTo>
                          <a:pt x="71" y="15"/>
                        </a:lnTo>
                        <a:lnTo>
                          <a:pt x="21" y="109"/>
                        </a:lnTo>
                        <a:lnTo>
                          <a:pt x="28" y="225"/>
                        </a:lnTo>
                        <a:lnTo>
                          <a:pt x="57" y="411"/>
                        </a:lnTo>
                        <a:lnTo>
                          <a:pt x="57" y="577"/>
                        </a:lnTo>
                        <a:lnTo>
                          <a:pt x="21" y="721"/>
                        </a:lnTo>
                        <a:lnTo>
                          <a:pt x="0" y="801"/>
                        </a:lnTo>
                        <a:lnTo>
                          <a:pt x="14" y="872"/>
                        </a:lnTo>
                        <a:lnTo>
                          <a:pt x="64" y="910"/>
                        </a:lnTo>
                        <a:lnTo>
                          <a:pt x="130" y="945"/>
                        </a:lnTo>
                        <a:lnTo>
                          <a:pt x="194" y="960"/>
                        </a:lnTo>
                        <a:lnTo>
                          <a:pt x="274" y="960"/>
                        </a:lnTo>
                        <a:lnTo>
                          <a:pt x="368" y="887"/>
                        </a:lnTo>
                        <a:lnTo>
                          <a:pt x="440" y="735"/>
                        </a:lnTo>
                        <a:lnTo>
                          <a:pt x="433" y="598"/>
                        </a:lnTo>
                        <a:lnTo>
                          <a:pt x="390" y="440"/>
                        </a:lnTo>
                        <a:lnTo>
                          <a:pt x="383" y="3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668280" y="3032280"/>
                    <a:ext cx="135000" cy="3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1386">
                        <a:moveTo>
                          <a:pt x="319" y="21"/>
                        </a:moveTo>
                        <a:lnTo>
                          <a:pt x="233" y="0"/>
                        </a:lnTo>
                        <a:lnTo>
                          <a:pt x="182" y="21"/>
                        </a:lnTo>
                        <a:lnTo>
                          <a:pt x="160" y="92"/>
                        </a:lnTo>
                        <a:lnTo>
                          <a:pt x="182" y="489"/>
                        </a:lnTo>
                        <a:lnTo>
                          <a:pt x="182" y="583"/>
                        </a:lnTo>
                        <a:lnTo>
                          <a:pt x="153" y="758"/>
                        </a:lnTo>
                        <a:lnTo>
                          <a:pt x="146" y="959"/>
                        </a:lnTo>
                        <a:lnTo>
                          <a:pt x="160" y="1060"/>
                        </a:lnTo>
                        <a:lnTo>
                          <a:pt x="146" y="1117"/>
                        </a:lnTo>
                        <a:lnTo>
                          <a:pt x="45" y="1204"/>
                        </a:lnTo>
                        <a:lnTo>
                          <a:pt x="0" y="1313"/>
                        </a:lnTo>
                        <a:lnTo>
                          <a:pt x="9" y="1348"/>
                        </a:lnTo>
                        <a:lnTo>
                          <a:pt x="87" y="1386"/>
                        </a:lnTo>
                        <a:lnTo>
                          <a:pt x="109" y="1370"/>
                        </a:lnTo>
                        <a:lnTo>
                          <a:pt x="117" y="1306"/>
                        </a:lnTo>
                        <a:lnTo>
                          <a:pt x="139" y="1211"/>
                        </a:lnTo>
                        <a:lnTo>
                          <a:pt x="175" y="1169"/>
                        </a:lnTo>
                        <a:lnTo>
                          <a:pt x="217" y="1140"/>
                        </a:lnTo>
                        <a:lnTo>
                          <a:pt x="255" y="1103"/>
                        </a:lnTo>
                        <a:lnTo>
                          <a:pt x="262" y="1074"/>
                        </a:lnTo>
                        <a:lnTo>
                          <a:pt x="240" y="1039"/>
                        </a:lnTo>
                        <a:lnTo>
                          <a:pt x="217" y="1017"/>
                        </a:lnTo>
                        <a:lnTo>
                          <a:pt x="203" y="930"/>
                        </a:lnTo>
                        <a:lnTo>
                          <a:pt x="217" y="749"/>
                        </a:lnTo>
                        <a:lnTo>
                          <a:pt x="269" y="541"/>
                        </a:lnTo>
                        <a:lnTo>
                          <a:pt x="319" y="374"/>
                        </a:lnTo>
                        <a:lnTo>
                          <a:pt x="335" y="172"/>
                        </a:lnTo>
                        <a:lnTo>
                          <a:pt x="319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815880" y="3032280"/>
                    <a:ext cx="222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1169">
                        <a:moveTo>
                          <a:pt x="180" y="172"/>
                        </a:moveTo>
                        <a:lnTo>
                          <a:pt x="166" y="57"/>
                        </a:lnTo>
                        <a:lnTo>
                          <a:pt x="102" y="0"/>
                        </a:lnTo>
                        <a:lnTo>
                          <a:pt x="7" y="7"/>
                        </a:lnTo>
                        <a:lnTo>
                          <a:pt x="0" y="57"/>
                        </a:lnTo>
                        <a:lnTo>
                          <a:pt x="7" y="165"/>
                        </a:lnTo>
                        <a:lnTo>
                          <a:pt x="57" y="331"/>
                        </a:lnTo>
                        <a:lnTo>
                          <a:pt x="94" y="454"/>
                        </a:lnTo>
                        <a:lnTo>
                          <a:pt x="137" y="619"/>
                        </a:lnTo>
                        <a:lnTo>
                          <a:pt x="152" y="763"/>
                        </a:lnTo>
                        <a:lnTo>
                          <a:pt x="152" y="879"/>
                        </a:lnTo>
                        <a:lnTo>
                          <a:pt x="130" y="966"/>
                        </a:lnTo>
                        <a:lnTo>
                          <a:pt x="109" y="995"/>
                        </a:lnTo>
                        <a:lnTo>
                          <a:pt x="109" y="1023"/>
                        </a:lnTo>
                        <a:lnTo>
                          <a:pt x="137" y="1067"/>
                        </a:lnTo>
                        <a:lnTo>
                          <a:pt x="187" y="1082"/>
                        </a:lnTo>
                        <a:lnTo>
                          <a:pt x="267" y="1082"/>
                        </a:lnTo>
                        <a:lnTo>
                          <a:pt x="411" y="1117"/>
                        </a:lnTo>
                        <a:lnTo>
                          <a:pt x="454" y="1169"/>
                        </a:lnTo>
                        <a:lnTo>
                          <a:pt x="520" y="1139"/>
                        </a:lnTo>
                        <a:lnTo>
                          <a:pt x="549" y="1067"/>
                        </a:lnTo>
                        <a:lnTo>
                          <a:pt x="520" y="1039"/>
                        </a:lnTo>
                        <a:lnTo>
                          <a:pt x="397" y="1023"/>
                        </a:lnTo>
                        <a:lnTo>
                          <a:pt x="260" y="1023"/>
                        </a:lnTo>
                        <a:lnTo>
                          <a:pt x="202" y="1016"/>
                        </a:lnTo>
                        <a:lnTo>
                          <a:pt x="187" y="973"/>
                        </a:lnTo>
                        <a:lnTo>
                          <a:pt x="202" y="893"/>
                        </a:lnTo>
                        <a:lnTo>
                          <a:pt x="210" y="756"/>
                        </a:lnTo>
                        <a:lnTo>
                          <a:pt x="194" y="605"/>
                        </a:lnTo>
                        <a:lnTo>
                          <a:pt x="173" y="404"/>
                        </a:lnTo>
                        <a:lnTo>
                          <a:pt x="180" y="230"/>
                        </a:lnTo>
                        <a:lnTo>
                          <a:pt x="180" y="1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491" name=""/>
            <p:cNvCxnSpPr>
              <a:stCxn id="460" idx="0"/>
              <a:endCxn id="456" idx="2"/>
            </p:cNvCxnSpPr>
            <p:nvPr/>
          </p:nvCxnSpPr>
          <p:spPr>
            <a:xfrm flipV="1">
              <a:off x="2319120" y="3141360"/>
              <a:ext cx="1080" cy="63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2" name=""/>
            <p:cNvCxnSpPr>
              <a:stCxn id="456" idx="0"/>
              <a:endCxn id="461" idx="2"/>
            </p:cNvCxnSpPr>
            <p:nvPr/>
          </p:nvCxnSpPr>
          <p:spPr>
            <a:xfrm flipV="1">
              <a:off x="2319120" y="2256120"/>
              <a:ext cx="1080" cy="549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61" idx="3"/>
              <a:endCxn id="465" idx="1"/>
            </p:cNvCxnSpPr>
            <p:nvPr/>
          </p:nvCxnSpPr>
          <p:spPr>
            <a:xfrm>
              <a:off x="2688840" y="2118600"/>
              <a:ext cx="506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56" idx="3"/>
              <a:endCxn id="475" idx="1"/>
            </p:cNvCxnSpPr>
            <p:nvPr/>
          </p:nvCxnSpPr>
          <p:spPr>
            <a:xfrm flipV="1">
              <a:off x="2917440" y="2972160"/>
              <a:ext cx="25376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75" idx="2"/>
              <a:endCxn id="459" idx="0"/>
            </p:cNvCxnSpPr>
            <p:nvPr/>
          </p:nvCxnSpPr>
          <p:spPr>
            <a:xfrm>
              <a:off x="6345000" y="3444840"/>
              <a:ext cx="1080" cy="1068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75" idx="2"/>
              <a:endCxn id="458" idx="0"/>
            </p:cNvCxnSpPr>
            <p:nvPr/>
          </p:nvCxnSpPr>
          <p:spPr>
            <a:xfrm flipH="1">
              <a:off x="3255480" y="3444840"/>
              <a:ext cx="3090240" cy="1068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57" idx="2"/>
              <a:endCxn id="475" idx="0"/>
            </p:cNvCxnSpPr>
            <p:nvPr/>
          </p:nvCxnSpPr>
          <p:spPr>
            <a:xfrm>
              <a:off x="6343200" y="1820160"/>
              <a:ext cx="2520" cy="678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58" idx="2"/>
              <a:endCxn id="463" idx="0"/>
            </p:cNvCxnSpPr>
            <p:nvPr/>
          </p:nvCxnSpPr>
          <p:spPr>
            <a:xfrm>
              <a:off x="3255480" y="4788720"/>
              <a:ext cx="1080" cy="152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59" idx="2"/>
              <a:endCxn id="462" idx="0"/>
            </p:cNvCxnSpPr>
            <p:nvPr/>
          </p:nvCxnSpPr>
          <p:spPr>
            <a:xfrm>
              <a:off x="6345000" y="4788720"/>
              <a:ext cx="1080" cy="152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00" name=""/>
            <p:cNvGrpSpPr/>
            <p:nvPr/>
          </p:nvGrpSpPr>
          <p:grpSpPr>
            <a:xfrm>
              <a:off x="2654280" y="5103000"/>
              <a:ext cx="4262400" cy="820080"/>
              <a:chOff x="2654280" y="5103000"/>
              <a:chExt cx="4262400" cy="820080"/>
            </a:xfrm>
          </p:grpSpPr>
          <p:sp>
            <p:nvSpPr>
              <p:cNvPr id="501" name=""/>
              <p:cNvSpPr/>
              <p:nvPr/>
            </p:nvSpPr>
            <p:spPr>
              <a:xfrm>
                <a:off x="2654280" y="5103000"/>
                <a:ext cx="4262400" cy="82008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5818320" y="5162400"/>
                <a:ext cx="709560" cy="674640"/>
                <a:chOff x="5818320" y="5162400"/>
                <a:chExt cx="709560" cy="674640"/>
              </a:xfrm>
            </p:grpSpPr>
            <p:grpSp>
              <p:nvGrpSpPr>
                <p:cNvPr id="503" name=""/>
                <p:cNvGrpSpPr/>
                <p:nvPr/>
              </p:nvGrpSpPr>
              <p:grpSpPr>
                <a:xfrm>
                  <a:off x="6142680" y="5162400"/>
                  <a:ext cx="385200" cy="330120"/>
                  <a:chOff x="6142680" y="5162400"/>
                  <a:chExt cx="385200" cy="33012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6142680" y="5162400"/>
                    <a:ext cx="38520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0" h="1212">
                        <a:moveTo>
                          <a:pt x="12" y="254"/>
                        </a:moveTo>
                        <a:lnTo>
                          <a:pt x="6" y="159"/>
                        </a:lnTo>
                        <a:lnTo>
                          <a:pt x="53" y="71"/>
                        </a:lnTo>
                        <a:lnTo>
                          <a:pt x="143" y="0"/>
                        </a:lnTo>
                        <a:lnTo>
                          <a:pt x="278" y="30"/>
                        </a:lnTo>
                        <a:lnTo>
                          <a:pt x="396" y="112"/>
                        </a:lnTo>
                        <a:lnTo>
                          <a:pt x="544" y="177"/>
                        </a:lnTo>
                        <a:lnTo>
                          <a:pt x="704" y="242"/>
                        </a:lnTo>
                        <a:lnTo>
                          <a:pt x="852" y="332"/>
                        </a:lnTo>
                        <a:lnTo>
                          <a:pt x="940" y="414"/>
                        </a:lnTo>
                        <a:lnTo>
                          <a:pt x="922" y="438"/>
                        </a:lnTo>
                        <a:lnTo>
                          <a:pt x="757" y="591"/>
                        </a:lnTo>
                        <a:lnTo>
                          <a:pt x="698" y="674"/>
                        </a:lnTo>
                        <a:lnTo>
                          <a:pt x="686" y="751"/>
                        </a:lnTo>
                        <a:lnTo>
                          <a:pt x="680" y="851"/>
                        </a:lnTo>
                        <a:lnTo>
                          <a:pt x="669" y="982"/>
                        </a:lnTo>
                        <a:lnTo>
                          <a:pt x="638" y="1118"/>
                        </a:lnTo>
                        <a:lnTo>
                          <a:pt x="591" y="1194"/>
                        </a:lnTo>
                        <a:lnTo>
                          <a:pt x="544" y="1212"/>
                        </a:lnTo>
                        <a:lnTo>
                          <a:pt x="491" y="1171"/>
                        </a:lnTo>
                        <a:lnTo>
                          <a:pt x="402" y="1118"/>
                        </a:lnTo>
                        <a:lnTo>
                          <a:pt x="308" y="1059"/>
                        </a:lnTo>
                        <a:lnTo>
                          <a:pt x="202" y="1017"/>
                        </a:lnTo>
                        <a:lnTo>
                          <a:pt x="107" y="1005"/>
                        </a:lnTo>
                        <a:lnTo>
                          <a:pt x="59" y="928"/>
                        </a:lnTo>
                        <a:lnTo>
                          <a:pt x="24" y="816"/>
                        </a:lnTo>
                        <a:lnTo>
                          <a:pt x="0" y="633"/>
                        </a:lnTo>
                        <a:lnTo>
                          <a:pt x="6" y="473"/>
                        </a:lnTo>
                        <a:lnTo>
                          <a:pt x="18" y="379"/>
                        </a:lnTo>
                        <a:lnTo>
                          <a:pt x="59" y="379"/>
                        </a:lnTo>
                        <a:lnTo>
                          <a:pt x="53" y="538"/>
                        </a:lnTo>
                        <a:lnTo>
                          <a:pt x="53" y="709"/>
                        </a:lnTo>
                        <a:lnTo>
                          <a:pt x="78" y="810"/>
                        </a:lnTo>
                        <a:lnTo>
                          <a:pt x="119" y="928"/>
                        </a:lnTo>
                        <a:lnTo>
                          <a:pt x="213" y="976"/>
                        </a:lnTo>
                        <a:lnTo>
                          <a:pt x="343" y="1011"/>
                        </a:lnTo>
                        <a:lnTo>
                          <a:pt x="449" y="1070"/>
                        </a:lnTo>
                        <a:lnTo>
                          <a:pt x="550" y="1141"/>
                        </a:lnTo>
                        <a:lnTo>
                          <a:pt x="591" y="1094"/>
                        </a:lnTo>
                        <a:lnTo>
                          <a:pt x="615" y="994"/>
                        </a:lnTo>
                        <a:lnTo>
                          <a:pt x="626" y="863"/>
                        </a:lnTo>
                        <a:lnTo>
                          <a:pt x="638" y="727"/>
                        </a:lnTo>
                        <a:lnTo>
                          <a:pt x="680" y="609"/>
                        </a:lnTo>
                        <a:lnTo>
                          <a:pt x="798" y="485"/>
                        </a:lnTo>
                        <a:lnTo>
                          <a:pt x="852" y="420"/>
                        </a:lnTo>
                        <a:lnTo>
                          <a:pt x="846" y="396"/>
                        </a:lnTo>
                        <a:lnTo>
                          <a:pt x="698" y="295"/>
                        </a:lnTo>
                        <a:lnTo>
                          <a:pt x="550" y="230"/>
                        </a:lnTo>
                        <a:lnTo>
                          <a:pt x="426" y="171"/>
                        </a:lnTo>
                        <a:lnTo>
                          <a:pt x="349" y="136"/>
                        </a:lnTo>
                        <a:lnTo>
                          <a:pt x="272" y="89"/>
                        </a:lnTo>
                        <a:lnTo>
                          <a:pt x="225" y="65"/>
                        </a:lnTo>
                        <a:lnTo>
                          <a:pt x="148" y="59"/>
                        </a:lnTo>
                        <a:lnTo>
                          <a:pt x="101" y="100"/>
                        </a:lnTo>
                        <a:lnTo>
                          <a:pt x="65" y="165"/>
                        </a:lnTo>
                        <a:lnTo>
                          <a:pt x="65" y="224"/>
                        </a:lnTo>
                        <a:lnTo>
                          <a:pt x="59" y="283"/>
                        </a:lnTo>
                        <a:lnTo>
                          <a:pt x="12" y="2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225120" y="5263560"/>
                    <a:ext cx="120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432">
                        <a:moveTo>
                          <a:pt x="35" y="119"/>
                        </a:moveTo>
                        <a:lnTo>
                          <a:pt x="100" y="48"/>
                        </a:lnTo>
                        <a:lnTo>
                          <a:pt x="206" y="0"/>
                        </a:lnTo>
                        <a:lnTo>
                          <a:pt x="259" y="95"/>
                        </a:lnTo>
                        <a:lnTo>
                          <a:pt x="295" y="219"/>
                        </a:lnTo>
                        <a:lnTo>
                          <a:pt x="212" y="432"/>
                        </a:lnTo>
                        <a:lnTo>
                          <a:pt x="106" y="426"/>
                        </a:lnTo>
                        <a:lnTo>
                          <a:pt x="0" y="355"/>
                        </a:lnTo>
                        <a:lnTo>
                          <a:pt x="0" y="172"/>
                        </a:lnTo>
                        <a:lnTo>
                          <a:pt x="29" y="166"/>
                        </a:lnTo>
                        <a:lnTo>
                          <a:pt x="53" y="195"/>
                        </a:lnTo>
                        <a:lnTo>
                          <a:pt x="47" y="337"/>
                        </a:lnTo>
                        <a:lnTo>
                          <a:pt x="118" y="390"/>
                        </a:lnTo>
                        <a:lnTo>
                          <a:pt x="200" y="378"/>
                        </a:lnTo>
                        <a:lnTo>
                          <a:pt x="247" y="225"/>
                        </a:lnTo>
                        <a:lnTo>
                          <a:pt x="182" y="225"/>
                        </a:lnTo>
                        <a:lnTo>
                          <a:pt x="100" y="184"/>
                        </a:lnTo>
                        <a:lnTo>
                          <a:pt x="106" y="172"/>
                        </a:lnTo>
                        <a:lnTo>
                          <a:pt x="206" y="195"/>
                        </a:lnTo>
                        <a:lnTo>
                          <a:pt x="259" y="189"/>
                        </a:lnTo>
                        <a:lnTo>
                          <a:pt x="194" y="42"/>
                        </a:lnTo>
                        <a:lnTo>
                          <a:pt x="123" y="89"/>
                        </a:lnTo>
                        <a:lnTo>
                          <a:pt x="59" y="160"/>
                        </a:lnTo>
                        <a:lnTo>
                          <a:pt x="35" y="1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5818320" y="5199480"/>
                  <a:ext cx="649080" cy="637560"/>
                  <a:chOff x="5818320" y="5199480"/>
                  <a:chExt cx="649080" cy="6375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5944320" y="5308920"/>
                    <a:ext cx="5230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6" h="432">
                        <a:moveTo>
                          <a:pt x="0" y="336"/>
                        </a:moveTo>
                        <a:lnTo>
                          <a:pt x="29" y="301"/>
                        </a:lnTo>
                        <a:lnTo>
                          <a:pt x="94" y="289"/>
                        </a:lnTo>
                        <a:lnTo>
                          <a:pt x="301" y="330"/>
                        </a:lnTo>
                        <a:lnTo>
                          <a:pt x="501" y="366"/>
                        </a:lnTo>
                        <a:lnTo>
                          <a:pt x="750" y="360"/>
                        </a:lnTo>
                        <a:lnTo>
                          <a:pt x="980" y="312"/>
                        </a:lnTo>
                        <a:lnTo>
                          <a:pt x="1122" y="230"/>
                        </a:lnTo>
                        <a:lnTo>
                          <a:pt x="1104" y="165"/>
                        </a:lnTo>
                        <a:lnTo>
                          <a:pt x="1128" y="76"/>
                        </a:lnTo>
                        <a:lnTo>
                          <a:pt x="1182" y="29"/>
                        </a:lnTo>
                        <a:lnTo>
                          <a:pt x="1241" y="0"/>
                        </a:lnTo>
                        <a:lnTo>
                          <a:pt x="1264" y="64"/>
                        </a:lnTo>
                        <a:lnTo>
                          <a:pt x="1276" y="129"/>
                        </a:lnTo>
                        <a:lnTo>
                          <a:pt x="1252" y="253"/>
                        </a:lnTo>
                        <a:lnTo>
                          <a:pt x="1193" y="289"/>
                        </a:lnTo>
                        <a:lnTo>
                          <a:pt x="1051" y="336"/>
                        </a:lnTo>
                        <a:lnTo>
                          <a:pt x="898" y="377"/>
                        </a:lnTo>
                        <a:lnTo>
                          <a:pt x="644" y="426"/>
                        </a:lnTo>
                        <a:lnTo>
                          <a:pt x="407" y="432"/>
                        </a:lnTo>
                        <a:lnTo>
                          <a:pt x="88" y="402"/>
                        </a:lnTo>
                        <a:lnTo>
                          <a:pt x="0" y="3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902920" y="5225040"/>
                    <a:ext cx="28332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615">
                        <a:moveTo>
                          <a:pt x="18" y="615"/>
                        </a:moveTo>
                        <a:lnTo>
                          <a:pt x="0" y="556"/>
                        </a:lnTo>
                        <a:lnTo>
                          <a:pt x="35" y="503"/>
                        </a:lnTo>
                        <a:lnTo>
                          <a:pt x="154" y="456"/>
                        </a:lnTo>
                        <a:lnTo>
                          <a:pt x="290" y="444"/>
                        </a:lnTo>
                        <a:lnTo>
                          <a:pt x="384" y="414"/>
                        </a:lnTo>
                        <a:lnTo>
                          <a:pt x="443" y="361"/>
                        </a:lnTo>
                        <a:lnTo>
                          <a:pt x="508" y="243"/>
                        </a:lnTo>
                        <a:lnTo>
                          <a:pt x="561" y="113"/>
                        </a:lnTo>
                        <a:lnTo>
                          <a:pt x="561" y="47"/>
                        </a:lnTo>
                        <a:lnTo>
                          <a:pt x="591" y="12"/>
                        </a:lnTo>
                        <a:lnTo>
                          <a:pt x="632" y="0"/>
                        </a:lnTo>
                        <a:lnTo>
                          <a:pt x="674" y="30"/>
                        </a:lnTo>
                        <a:lnTo>
                          <a:pt x="692" y="95"/>
                        </a:lnTo>
                        <a:lnTo>
                          <a:pt x="686" y="178"/>
                        </a:lnTo>
                        <a:lnTo>
                          <a:pt x="663" y="237"/>
                        </a:lnTo>
                        <a:lnTo>
                          <a:pt x="638" y="237"/>
                        </a:lnTo>
                        <a:lnTo>
                          <a:pt x="626" y="214"/>
                        </a:lnTo>
                        <a:lnTo>
                          <a:pt x="591" y="208"/>
                        </a:lnTo>
                        <a:lnTo>
                          <a:pt x="526" y="296"/>
                        </a:lnTo>
                        <a:lnTo>
                          <a:pt x="449" y="432"/>
                        </a:lnTo>
                        <a:lnTo>
                          <a:pt x="396" y="491"/>
                        </a:lnTo>
                        <a:lnTo>
                          <a:pt x="290" y="526"/>
                        </a:lnTo>
                        <a:lnTo>
                          <a:pt x="166" y="562"/>
                        </a:lnTo>
                        <a:lnTo>
                          <a:pt x="84" y="591"/>
                        </a:lnTo>
                        <a:lnTo>
                          <a:pt x="18" y="6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5866560" y="5367960"/>
                    <a:ext cx="21564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911">
                        <a:moveTo>
                          <a:pt x="0" y="119"/>
                        </a:moveTo>
                        <a:lnTo>
                          <a:pt x="29" y="48"/>
                        </a:lnTo>
                        <a:lnTo>
                          <a:pt x="70" y="0"/>
                        </a:lnTo>
                        <a:lnTo>
                          <a:pt x="177" y="0"/>
                        </a:lnTo>
                        <a:lnTo>
                          <a:pt x="284" y="48"/>
                        </a:lnTo>
                        <a:lnTo>
                          <a:pt x="408" y="184"/>
                        </a:lnTo>
                        <a:lnTo>
                          <a:pt x="472" y="291"/>
                        </a:lnTo>
                        <a:lnTo>
                          <a:pt x="514" y="438"/>
                        </a:lnTo>
                        <a:lnTo>
                          <a:pt x="526" y="609"/>
                        </a:lnTo>
                        <a:lnTo>
                          <a:pt x="502" y="792"/>
                        </a:lnTo>
                        <a:lnTo>
                          <a:pt x="443" y="882"/>
                        </a:lnTo>
                        <a:lnTo>
                          <a:pt x="337" y="911"/>
                        </a:lnTo>
                        <a:lnTo>
                          <a:pt x="272" y="906"/>
                        </a:lnTo>
                        <a:lnTo>
                          <a:pt x="219" y="876"/>
                        </a:lnTo>
                        <a:lnTo>
                          <a:pt x="172" y="835"/>
                        </a:lnTo>
                        <a:lnTo>
                          <a:pt x="153" y="763"/>
                        </a:lnTo>
                        <a:lnTo>
                          <a:pt x="165" y="692"/>
                        </a:lnTo>
                        <a:lnTo>
                          <a:pt x="207" y="651"/>
                        </a:lnTo>
                        <a:lnTo>
                          <a:pt x="236" y="604"/>
                        </a:lnTo>
                        <a:lnTo>
                          <a:pt x="248" y="545"/>
                        </a:lnTo>
                        <a:lnTo>
                          <a:pt x="248" y="491"/>
                        </a:lnTo>
                        <a:lnTo>
                          <a:pt x="225" y="444"/>
                        </a:lnTo>
                        <a:lnTo>
                          <a:pt x="141" y="362"/>
                        </a:lnTo>
                        <a:lnTo>
                          <a:pt x="41" y="267"/>
                        </a:lnTo>
                        <a:lnTo>
                          <a:pt x="5" y="190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5818320" y="5199480"/>
                    <a:ext cx="2203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479">
                        <a:moveTo>
                          <a:pt x="396" y="261"/>
                        </a:moveTo>
                        <a:lnTo>
                          <a:pt x="355" y="178"/>
                        </a:lnTo>
                        <a:lnTo>
                          <a:pt x="277" y="77"/>
                        </a:lnTo>
                        <a:lnTo>
                          <a:pt x="206" y="12"/>
                        </a:lnTo>
                        <a:lnTo>
                          <a:pt x="123" y="0"/>
                        </a:lnTo>
                        <a:lnTo>
                          <a:pt x="53" y="24"/>
                        </a:lnTo>
                        <a:lnTo>
                          <a:pt x="5" y="83"/>
                        </a:lnTo>
                        <a:lnTo>
                          <a:pt x="0" y="165"/>
                        </a:lnTo>
                        <a:lnTo>
                          <a:pt x="35" y="284"/>
                        </a:lnTo>
                        <a:lnTo>
                          <a:pt x="123" y="396"/>
                        </a:lnTo>
                        <a:lnTo>
                          <a:pt x="224" y="473"/>
                        </a:lnTo>
                        <a:lnTo>
                          <a:pt x="319" y="479"/>
                        </a:lnTo>
                        <a:lnTo>
                          <a:pt x="378" y="455"/>
                        </a:lnTo>
                        <a:lnTo>
                          <a:pt x="390" y="420"/>
                        </a:lnTo>
                        <a:lnTo>
                          <a:pt x="396" y="367"/>
                        </a:lnTo>
                        <a:lnTo>
                          <a:pt x="467" y="379"/>
                        </a:lnTo>
                        <a:lnTo>
                          <a:pt x="514" y="402"/>
                        </a:lnTo>
                        <a:lnTo>
                          <a:pt x="538" y="367"/>
                        </a:lnTo>
                        <a:lnTo>
                          <a:pt x="514" y="343"/>
                        </a:lnTo>
                        <a:lnTo>
                          <a:pt x="437" y="314"/>
                        </a:lnTo>
                        <a:lnTo>
                          <a:pt x="390" y="296"/>
                        </a:lnTo>
                        <a:lnTo>
                          <a:pt x="396" y="2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5917320" y="5574600"/>
                    <a:ext cx="1357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899">
                        <a:moveTo>
                          <a:pt x="83" y="0"/>
                        </a:moveTo>
                        <a:lnTo>
                          <a:pt x="142" y="6"/>
                        </a:lnTo>
                        <a:lnTo>
                          <a:pt x="184" y="84"/>
                        </a:lnTo>
                        <a:lnTo>
                          <a:pt x="172" y="161"/>
                        </a:lnTo>
                        <a:lnTo>
                          <a:pt x="154" y="320"/>
                        </a:lnTo>
                        <a:lnTo>
                          <a:pt x="160" y="420"/>
                        </a:lnTo>
                        <a:lnTo>
                          <a:pt x="154" y="521"/>
                        </a:lnTo>
                        <a:lnTo>
                          <a:pt x="107" y="728"/>
                        </a:lnTo>
                        <a:lnTo>
                          <a:pt x="95" y="781"/>
                        </a:lnTo>
                        <a:lnTo>
                          <a:pt x="107" y="793"/>
                        </a:lnTo>
                        <a:lnTo>
                          <a:pt x="172" y="758"/>
                        </a:lnTo>
                        <a:lnTo>
                          <a:pt x="278" y="740"/>
                        </a:lnTo>
                        <a:lnTo>
                          <a:pt x="331" y="764"/>
                        </a:lnTo>
                        <a:lnTo>
                          <a:pt x="325" y="805"/>
                        </a:lnTo>
                        <a:lnTo>
                          <a:pt x="254" y="823"/>
                        </a:lnTo>
                        <a:lnTo>
                          <a:pt x="172" y="829"/>
                        </a:lnTo>
                        <a:lnTo>
                          <a:pt x="89" y="864"/>
                        </a:lnTo>
                        <a:lnTo>
                          <a:pt x="24" y="899"/>
                        </a:lnTo>
                        <a:lnTo>
                          <a:pt x="0" y="882"/>
                        </a:lnTo>
                        <a:lnTo>
                          <a:pt x="0" y="823"/>
                        </a:lnTo>
                        <a:lnTo>
                          <a:pt x="48" y="711"/>
                        </a:lnTo>
                        <a:lnTo>
                          <a:pt x="72" y="580"/>
                        </a:lnTo>
                        <a:lnTo>
                          <a:pt x="83" y="397"/>
                        </a:lnTo>
                        <a:lnTo>
                          <a:pt x="60" y="232"/>
                        </a:lnTo>
                        <a:lnTo>
                          <a:pt x="35" y="102"/>
                        </a:lnTo>
                        <a:lnTo>
                          <a:pt x="60" y="0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5992200" y="5551920"/>
                    <a:ext cx="217800" cy="28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2" h="1047">
                        <a:moveTo>
                          <a:pt x="113" y="11"/>
                        </a:moveTo>
                        <a:lnTo>
                          <a:pt x="30" y="0"/>
                        </a:lnTo>
                        <a:lnTo>
                          <a:pt x="0" y="59"/>
                        </a:lnTo>
                        <a:lnTo>
                          <a:pt x="30" y="130"/>
                        </a:lnTo>
                        <a:lnTo>
                          <a:pt x="113" y="248"/>
                        </a:lnTo>
                        <a:lnTo>
                          <a:pt x="177" y="420"/>
                        </a:lnTo>
                        <a:lnTo>
                          <a:pt x="201" y="561"/>
                        </a:lnTo>
                        <a:lnTo>
                          <a:pt x="189" y="709"/>
                        </a:lnTo>
                        <a:lnTo>
                          <a:pt x="166" y="899"/>
                        </a:lnTo>
                        <a:lnTo>
                          <a:pt x="142" y="1005"/>
                        </a:lnTo>
                        <a:lnTo>
                          <a:pt x="154" y="1047"/>
                        </a:lnTo>
                        <a:lnTo>
                          <a:pt x="195" y="1047"/>
                        </a:lnTo>
                        <a:lnTo>
                          <a:pt x="272" y="1011"/>
                        </a:lnTo>
                        <a:lnTo>
                          <a:pt x="390" y="987"/>
                        </a:lnTo>
                        <a:lnTo>
                          <a:pt x="515" y="987"/>
                        </a:lnTo>
                        <a:lnTo>
                          <a:pt x="532" y="952"/>
                        </a:lnTo>
                        <a:lnTo>
                          <a:pt x="462" y="905"/>
                        </a:lnTo>
                        <a:lnTo>
                          <a:pt x="425" y="905"/>
                        </a:lnTo>
                        <a:lnTo>
                          <a:pt x="272" y="952"/>
                        </a:lnTo>
                        <a:lnTo>
                          <a:pt x="225" y="970"/>
                        </a:lnTo>
                        <a:lnTo>
                          <a:pt x="213" y="946"/>
                        </a:lnTo>
                        <a:lnTo>
                          <a:pt x="236" y="793"/>
                        </a:lnTo>
                        <a:lnTo>
                          <a:pt x="266" y="626"/>
                        </a:lnTo>
                        <a:lnTo>
                          <a:pt x="272" y="479"/>
                        </a:lnTo>
                        <a:lnTo>
                          <a:pt x="248" y="331"/>
                        </a:lnTo>
                        <a:lnTo>
                          <a:pt x="207" y="160"/>
                        </a:lnTo>
                        <a:lnTo>
                          <a:pt x="160" y="29"/>
                        </a:lnTo>
                        <a:lnTo>
                          <a:pt x="11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"/>
              <p:cNvSpPr/>
              <p:nvPr/>
            </p:nvSpPr>
            <p:spPr>
              <a:xfrm>
                <a:off x="3034080" y="5343840"/>
                <a:ext cx="2351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alisa / propõe / c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14" name=""/>
            <p:cNvCxnSpPr>
              <a:stCxn id="463" idx="2"/>
              <a:endCxn id="460" idx="1"/>
            </p:cNvCxnSpPr>
            <p:nvPr/>
          </p:nvCxnSpPr>
          <p:spPr>
            <a:xfrm flipV="1" rot="16200000">
              <a:off x="1244880" y="4577040"/>
              <a:ext cx="2676600" cy="1345320"/>
            </a:xfrm>
            <a:prstGeom prst="bentConnector4">
              <a:avLst>
                <a:gd name="adj1" fmla="val -8192"/>
                <a:gd name="adj2" fmla="val 1169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62" idx="2"/>
              <a:endCxn id="460" idx="1"/>
            </p:cNvCxnSpPr>
            <p:nvPr/>
          </p:nvCxnSpPr>
          <p:spPr>
            <a:xfrm flipV="1" rot="16200000">
              <a:off x="2789640" y="3032280"/>
              <a:ext cx="2676600" cy="4434840"/>
            </a:xfrm>
            <a:prstGeom prst="bentConnector4">
              <a:avLst>
                <a:gd name="adj1" fmla="val -8192"/>
                <a:gd name="adj2" fmla="val 10515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62" idx="2"/>
              <a:endCxn id="457" idx="3"/>
            </p:cNvCxnSpPr>
            <p:nvPr/>
          </p:nvCxnSpPr>
          <p:spPr>
            <a:xfrm flipH="1" flipV="1" rot="5400000">
              <a:off x="4277160" y="3719880"/>
              <a:ext cx="4936320" cy="800640"/>
            </a:xfrm>
            <a:prstGeom prst="bentConnector4">
              <a:avLst>
                <a:gd name="adj1" fmla="val -4448"/>
                <a:gd name="adj2" fmla="val 16090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7145640" y="3715200"/>
              <a:ext cx="10821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rove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43800" y="5211360"/>
              <a:ext cx="8654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55000" y="1062000"/>
              <a:ext cx="690480" cy="274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9" idx="1"/>
              <a:endCxn id="456" idx="1"/>
            </p:cNvCxnSpPr>
            <p:nvPr/>
          </p:nvCxnSpPr>
          <p:spPr>
            <a:xfrm flipV="1" rot="10800000">
              <a:off x="1720080" y="1200240"/>
              <a:ext cx="1829520" cy="1774080"/>
            </a:xfrm>
            <a:prstGeom prst="bentConnector3">
              <a:avLst>
                <a:gd name="adj1" fmla="val 111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1" name=""/>
            <p:cNvCxnSpPr>
              <a:stCxn id="519" idx="3"/>
              <a:endCxn id="457" idx="0"/>
            </p:cNvCxnSpPr>
            <p:nvPr/>
          </p:nvCxnSpPr>
          <p:spPr>
            <a:xfrm>
              <a:off x="4251240" y="1200240"/>
              <a:ext cx="2092680" cy="28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2" name=""/>
            <p:cNvSpPr/>
            <p:nvPr/>
          </p:nvSpPr>
          <p:spPr>
            <a:xfrm>
              <a:off x="1463400" y="967680"/>
              <a:ext cx="208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remos eliminar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376520" y="954000"/>
              <a:ext cx="227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remos aproveitar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Relação entre os termos principais dos processos de apoi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20444400">
            <a:off x="-15840" y="1612800"/>
            <a:ext cx="251784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emos eliminar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9533600">
            <a:off x="7199280" y="1471320"/>
            <a:ext cx="1944720" cy="91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emos aproveitar oport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Nota sobre discussão entre os term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457360" y="3049560"/>
            <a:ext cx="402912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5394240" y="345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9160" y="1366920"/>
            <a:ext cx="755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ríamos usar mudanças como sinônimo de melhorias, mas esses termos são diferenciados neste livro por razões did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3:18:54Z</dcterms:created>
  <dc:creator>Forcellini</dc:creator>
  <dc:description/>
  <dc:language>en-US</dc:language>
  <cp:lastModifiedBy>Henrique Rozenfeld</cp:lastModifiedBy>
  <dcterms:modified xsi:type="dcterms:W3CDTF">2005-12-20T10:48:55Z</dcterms:modified>
  <cp:revision>177</cp:revision>
  <dc:subject/>
  <dc:title>Slide 1</dc:title>
</cp:coreProperties>
</file>