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8C8-A6B4-4CD1-86D7-E58D33A7FCB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56D-5AA7-4CF3-B4D9-75EAA9EECC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302-481B-4683-9F56-19F43008314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81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7D8-262A-463F-809E-8367FDC437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2C2-52A0-4CFB-A1DF-9C2CDC137AC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93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7D2-9755-4C26-8D21-6796D4FB2B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AFA-1E81-4980-8391-7B942EDCF1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99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6D1F-EDEA-4491-A7AC-B361CDD20C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0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3D5-0D00-416E-8490-4FAD2DA14C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11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566-3B6C-4010-93B3-EF68BBB9F1D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5E5-59AD-4275-AF45-32213CE95E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23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DC1-2B24-497E-8754-F7C9ACD187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valiar a fase no tópico 3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875-1A0C-4E90-B603-28DA6E2257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ritérios iniciais dessa fase estão na tabela 6.2 (página 232), mas devem ser complementados pelo time de desenvolvimento e demais interessados na fase de  planejamento do projeto e também  durante o gate anterior. Leia discussão na página 75 (critérios de avaliaçã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67A3-9058-4A56-9225-95077138C0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provar a fase no tópico 3.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0CF6-F5F6-4AAC-8E27-AE8C2EC8DB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údo do capítulo 3.6 (página 112), mas só pode ocorrer se associada à prática da gestão do conhecimento discutida no capítulo 2.12 (página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C7F5-BB5C-44A3-AAEA-8AF3419D6E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5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77A-7081-4C90-97AC-F801383F2E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61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DE8-B01A-489F-9123-DC9B2E1E40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967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0AD5-E5FD-4209-B2CD-DEA552537AD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784-2068-4EEA-A529-65CCB54629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63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que ambas as fases cuidam da cadeia de suprimentos e do mercado A fase de  preparação da produção do ponto de vista interno e o lançamento do produto do ponto de vista externo As fases tradicionalmente conhecidas como desenvolvimento de produtos terminam com a fase anterior de projeto detalhado, na qual foram definidos os processos de fabricação e as especificações dos recursos de fabricação (máquinas, equipamentos e ferramental) Quando necessário, novas instalações foram projetadas naquela fase Nela, os protótipos foram produzidos e testados, e assim o produto foi homologado, ou seja, ele atendeu aos requisitos anteriormente definidos Leia página 3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E61-48C5-4D1E-B3CF-4AC9831D3A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E0B-E1A9-4A78-AB7E-231F12BE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488-C3A4-4163-9120-65B30C8B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142-924D-467D-90B8-D307F279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F5-0463-4260-A4E8-0F4AF298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212-E99B-4197-AC0C-82ED58D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6B9-BC9E-43EA-BBE8-F4F462CF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BE1-BCA7-4339-844A-53EB5E9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9B8-2652-4EAF-8D4F-74C0BEC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114-79F9-47CF-AD77-05FF7D7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BF2-D250-4B8D-A6D6-E58495C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525-FD0B-4D9F-97C8-D5C5A5D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373-E5DE-4544-8289-45E0AF2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C05-F928-438F-8F4B-C630F946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03960" y="26352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ançamento do produ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22760" y="2158920"/>
            <a:ext cx="4502160" cy="1657080"/>
            <a:chOff x="4622760" y="2158920"/>
            <a:chExt cx="4502160" cy="1657080"/>
          </a:xfrm>
        </p:grpSpPr>
        <p:sp>
          <p:nvSpPr>
            <p:cNvPr id="54" name=""/>
            <p:cNvSpPr/>
            <p:nvPr/>
          </p:nvSpPr>
          <p:spPr>
            <a:xfrm>
              <a:off x="5180400" y="3532680"/>
              <a:ext cx="3891960" cy="28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5040" y="3352680"/>
              <a:ext cx="3007080" cy="284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44280" y="3282120"/>
              <a:ext cx="54720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24920" y="3282120"/>
              <a:ext cx="54864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7720" y="3282120"/>
              <a:ext cx="54864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9800" y="3282120"/>
              <a:ext cx="54864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55520" y="2158920"/>
              <a:ext cx="4437360" cy="1102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23640" y="2232360"/>
              <a:ext cx="2046960" cy="146880"/>
            </a:xfrm>
            <a:custGeom>
              <a:avLst/>
              <a:gdLst>
                <a:gd name="textAreaLeft" fmla="*/ 0 w 2046960"/>
                <a:gd name="textAreaRight" fmla="*/ 2047320 w 20469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58720" y="2232360"/>
              <a:ext cx="1308960" cy="146880"/>
            </a:xfrm>
            <a:custGeom>
              <a:avLst/>
              <a:gdLst>
                <a:gd name="textAreaLeft" fmla="*/ 0 w 1308960"/>
                <a:gd name="textAreaRight" fmla="*/ 1309320 w 13089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40480" y="2250360"/>
              <a:ext cx="142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76000" y="2274480"/>
              <a:ext cx="128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02320" y="2232360"/>
              <a:ext cx="1047960" cy="146880"/>
            </a:xfrm>
            <a:custGeom>
              <a:avLst/>
              <a:gdLst>
                <a:gd name="textAreaLeft" fmla="*/ 0 w 1047960"/>
                <a:gd name="textAreaRight" fmla="*/ 1047960 w 10479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4840" y="2250360"/>
              <a:ext cx="142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9520" y="2415240"/>
              <a:ext cx="658080" cy="38808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59720" y="2406240"/>
              <a:ext cx="620640" cy="40896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80360" y="2406240"/>
              <a:ext cx="628200" cy="40896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01480" y="2437560"/>
              <a:ext cx="626760" cy="409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37600" y="2437560"/>
              <a:ext cx="626760" cy="409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15360" y="2457000"/>
              <a:ext cx="662760" cy="409320"/>
            </a:xfrm>
            <a:custGeom>
              <a:avLst/>
              <a:gdLst>
                <a:gd name="textAreaLeft" fmla="*/ 0 w 662760"/>
                <a:gd name="textAreaRight" fmla="*/ 662760 w 6627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51160" y="2457000"/>
              <a:ext cx="691200" cy="4093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08960" y="2399040"/>
              <a:ext cx="352080" cy="2023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64280" y="2399040"/>
              <a:ext cx="352080" cy="2023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21400" y="2399040"/>
              <a:ext cx="352080" cy="2023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876720" y="2399040"/>
              <a:ext cx="352080" cy="2023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2320"/>
                <a:gd name="textAreaBottom" fmla="*/ 203040 h 2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883840" y="247500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239520" y="247500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596280" y="247500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951600" y="2475000"/>
              <a:ext cx="352440" cy="2008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958720" y="255024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14040" y="255024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671160" y="255024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026840" y="2550240"/>
              <a:ext cx="352080" cy="2008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0640" y="2419560"/>
              <a:ext cx="319320" cy="18144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65160" y="2494800"/>
              <a:ext cx="319320" cy="1810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40400" y="2569680"/>
              <a:ext cx="319320" cy="18144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23600" y="3030120"/>
              <a:ext cx="1082520" cy="149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0"/>
            </p:cNvCxnSpPr>
            <p:nvPr/>
          </p:nvCxnSpPr>
          <p:spPr>
            <a:xfrm flipH="1" flipV="1">
              <a:off x="6175800" y="2766960"/>
              <a:ext cx="48924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>
              <a:stCxn id="89" idx="0"/>
            </p:cNvCxnSpPr>
            <p:nvPr/>
          </p:nvCxnSpPr>
          <p:spPr>
            <a:xfrm flipH="1" flipV="1">
              <a:off x="6597000" y="2766960"/>
              <a:ext cx="6804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9" idx="0"/>
            </p:cNvCxnSpPr>
            <p:nvPr/>
          </p:nvCxnSpPr>
          <p:spPr>
            <a:xfrm flipV="1">
              <a:off x="6664680" y="2766960"/>
              <a:ext cx="30708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89" idx="0"/>
            </p:cNvCxnSpPr>
            <p:nvPr/>
          </p:nvCxnSpPr>
          <p:spPr>
            <a:xfrm flipV="1">
              <a:off x="6664680" y="2766960"/>
              <a:ext cx="68940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89" idx="0"/>
            </p:cNvCxnSpPr>
            <p:nvPr/>
          </p:nvCxnSpPr>
          <p:spPr>
            <a:xfrm flipV="1">
              <a:off x="6664680" y="2766960"/>
              <a:ext cx="1086840" cy="26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89" idx="0"/>
            </p:cNvCxnSpPr>
            <p:nvPr/>
          </p:nvCxnSpPr>
          <p:spPr>
            <a:xfrm flipH="1" flipV="1">
              <a:off x="5709240" y="2759760"/>
              <a:ext cx="955800" cy="270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22760" y="2158920"/>
              <a:ext cx="4502160" cy="1649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233480" y="2398680"/>
              <a:ext cx="502200" cy="351720"/>
              <a:chOff x="7233480" y="2398680"/>
              <a:chExt cx="502200" cy="35172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33480" y="2398320"/>
                <a:ext cx="352440" cy="20196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308360" y="2474280"/>
                <a:ext cx="352080" cy="20052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-360 h 200520"/>
                  <a:gd name="textAreaBottom" fmla="*/ 200520 h 20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383240" y="2549520"/>
                <a:ext cx="352440" cy="200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-360 h 200520"/>
                  <a:gd name="textAreaBottom" fmla="*/ 200520 h 20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senvolver processos relacionados com 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1840" y="1390680"/>
            <a:ext cx="1627200" cy="38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720" y="2338560"/>
            <a:ext cx="12337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1760" y="1461960"/>
            <a:ext cx="1224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1760" y="321480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01760" y="430380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31840" y="5234760"/>
            <a:ext cx="1627200" cy="85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mente começam a acontecer antes desta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316240" y="1006560"/>
            <a:ext cx="62402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ar que as próximas 4 atividades podem ocorrer antes da realização d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 contrário, seu desenvolvimento pode impactar o lançamento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conteúdo, no entanto, faz parte da fase de lan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tividades são sim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6320" y="109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Desenvolver processo de ven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98600" y="677880"/>
            <a:ext cx="7404120" cy="5889600"/>
            <a:chOff x="498600" y="677880"/>
            <a:chExt cx="7404120" cy="5889600"/>
          </a:xfrm>
        </p:grpSpPr>
        <p:sp>
          <p:nvSpPr>
            <p:cNvPr id="877" name=""/>
            <p:cNvSpPr/>
            <p:nvPr/>
          </p:nvSpPr>
          <p:spPr>
            <a:xfrm>
              <a:off x="3382920" y="677880"/>
              <a:ext cx="4421160" cy="384804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7720" y="1887840"/>
              <a:ext cx="13446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çamento do Produ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0800000">
              <a:off x="2387520" y="3028680"/>
              <a:ext cx="665280" cy="1537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800000">
              <a:off x="2385720" y="1758960"/>
              <a:ext cx="66492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48040" y="781200"/>
              <a:ext cx="3060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ões fina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no estratégico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no de lanç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5480" y="2170080"/>
              <a:ext cx="144792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volver processo de ven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70360" y="817560"/>
              <a:ext cx="26290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har processo de ven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76920" y="1293840"/>
              <a:ext cx="241596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quirir recur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1771560"/>
              <a:ext cx="287280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documentação comer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28360" y="2249640"/>
              <a:ext cx="33130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volver sistema de apoio a ven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8600" y="3182760"/>
              <a:ext cx="3811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ão do processo de ven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sos para operação do proces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beração do process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18000" y="5005440"/>
              <a:ext cx="3384720" cy="156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74480" y="5346720"/>
              <a:ext cx="247032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agem de proces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tudos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stema C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stema E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75320" y="4583160"/>
              <a:ext cx="298440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077840" y="4965840"/>
              <a:ext cx="3384720" cy="160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70080" y="4583160"/>
              <a:ext cx="298440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89240" y="2727360"/>
              <a:ext cx="21913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atar / alocar pesso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3800" y="3205080"/>
              <a:ext cx="19414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einar força de v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87200" y="3683160"/>
              <a:ext cx="27950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einar pessoal de apoio à v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90160" y="4160880"/>
              <a:ext cx="258948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antar processo de venda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219320" y="5146560"/>
              <a:ext cx="3090600" cy="1295640"/>
              <a:chOff x="1219320" y="5146560"/>
              <a:chExt cx="3090600" cy="1295640"/>
            </a:xfrm>
          </p:grpSpPr>
          <p:sp>
            <p:nvSpPr>
              <p:cNvPr id="898" name=""/>
              <p:cNvSpPr/>
              <p:nvPr/>
            </p:nvSpPr>
            <p:spPr>
              <a:xfrm>
                <a:off x="1219320" y="5146560"/>
                <a:ext cx="3090600" cy="12956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1312920" y="5479920"/>
                <a:ext cx="2892240" cy="547920"/>
                <a:chOff x="1312920" y="5479920"/>
                <a:chExt cx="2892240" cy="5479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1312920" y="5479920"/>
                  <a:ext cx="1224000" cy="547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senvolver processo de vend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901960" y="5578560"/>
                  <a:ext cx="1303200" cy="36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nçar produ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02" name=""/>
                <p:cNvCxnSpPr>
                  <a:stCxn id="900" idx="3"/>
                  <a:endCxn id="901" idx="1"/>
                </p:cNvCxnSpPr>
                <p:nvPr/>
              </p:nvCxnSpPr>
              <p:spPr>
                <a:xfrm>
                  <a:off x="2546280" y="5763960"/>
                  <a:ext cx="3470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320" y="109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Desenvolver processo de distribui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439560" y="863640"/>
            <a:ext cx="7463160" cy="5889600"/>
            <a:chOff x="439560" y="863640"/>
            <a:chExt cx="7463160" cy="5889600"/>
          </a:xfrm>
        </p:grpSpPr>
        <p:sp>
          <p:nvSpPr>
            <p:cNvPr id="907" name=""/>
            <p:cNvSpPr/>
            <p:nvPr/>
          </p:nvSpPr>
          <p:spPr>
            <a:xfrm>
              <a:off x="3382920" y="863640"/>
              <a:ext cx="4421160" cy="3848040"/>
            </a:xfrm>
            <a:custGeom>
              <a:avLst/>
              <a:gdLst/>
              <a:ahLst/>
              <a:rect l="l" t="t" r="r" b="b"/>
              <a:pathLst>
                <a:path w="2785" h="2424">
                  <a:moveTo>
                    <a:pt x="0" y="1010"/>
                  </a:moveTo>
                  <a:lnTo>
                    <a:pt x="718" y="0"/>
                  </a:lnTo>
                  <a:lnTo>
                    <a:pt x="2783" y="0"/>
                  </a:lnTo>
                  <a:lnTo>
                    <a:pt x="2785" y="2416"/>
                  </a:lnTo>
                  <a:lnTo>
                    <a:pt x="740" y="2424"/>
                  </a:lnTo>
                  <a:lnTo>
                    <a:pt x="10" y="133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720" y="2073600"/>
              <a:ext cx="1344600" cy="472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çamento do Produ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0800000">
              <a:off x="2387520" y="3214440"/>
              <a:ext cx="665280" cy="1537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0800000">
              <a:off x="2385720" y="1944720"/>
              <a:ext cx="66492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5400" y="863640"/>
              <a:ext cx="37825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ões fina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ão do processo de produ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no de lanç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ão da cadeia de supr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95480" y="2355840"/>
              <a:ext cx="144792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volver processo de distribu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46440" y="1003320"/>
              <a:ext cx="30625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har processo de distribu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70440" y="2454120"/>
              <a:ext cx="24163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quirir recur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34280" y="1970280"/>
              <a:ext cx="28850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char acordos com distribui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02120" y="2938320"/>
              <a:ext cx="235116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envolver sistema de apoio à distribu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9560" y="3402000"/>
              <a:ext cx="403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ificação do processo de distribui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sos para operação do proces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beração do process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18000" y="5191200"/>
              <a:ext cx="3384720" cy="156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69800" y="5694480"/>
              <a:ext cx="24703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agem de proces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stema SCM / E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75320" y="4768920"/>
              <a:ext cx="298440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étodos, ferramentas, documentos 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77840" y="5151600"/>
              <a:ext cx="3384720" cy="160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0080" y="4768920"/>
              <a:ext cx="2984400" cy="54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ção com outras a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81960" y="1486080"/>
              <a:ext cx="239112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logística do proce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71200" y="3635280"/>
              <a:ext cx="3212640" cy="21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einar pessoal de apoio à distribu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70520" y="4119480"/>
              <a:ext cx="2214360" cy="42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antar / integrar o processo de distribu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1219320" y="5332320"/>
              <a:ext cx="3090600" cy="1295280"/>
              <a:chOff x="1219320" y="5332320"/>
              <a:chExt cx="3090600" cy="1295280"/>
            </a:xfrm>
          </p:grpSpPr>
          <p:sp>
            <p:nvSpPr>
              <p:cNvPr id="927" name=""/>
              <p:cNvSpPr/>
              <p:nvPr/>
            </p:nvSpPr>
            <p:spPr>
              <a:xfrm>
                <a:off x="1219320" y="5332320"/>
                <a:ext cx="3090600" cy="12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1312560" y="5411520"/>
                <a:ext cx="2892240" cy="1135080"/>
                <a:chOff x="1312560" y="5411520"/>
                <a:chExt cx="2892240" cy="11350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1312560" y="5998680"/>
                  <a:ext cx="1224000" cy="547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senvolver processo de distribuiç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536560" y="5411520"/>
                  <a:ext cx="1250640" cy="3654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lanejar Lançamento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31" name=""/>
                <p:cNvCxnSpPr>
                  <a:stCxn id="930" idx="1"/>
                  <a:endCxn id="929" idx="0"/>
                </p:cNvCxnSpPr>
                <p:nvPr/>
              </p:nvCxnSpPr>
              <p:spPr>
                <a:xfrm flipV="1" rot="10800000">
                  <a:off x="1924560" y="5603040"/>
                  <a:ext cx="602280" cy="386640"/>
                </a:xfrm>
                <a:prstGeom prst="bentConnector2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932" name=""/>
                <p:cNvSpPr/>
                <p:nvPr/>
              </p:nvSpPr>
              <p:spPr>
                <a:xfrm>
                  <a:off x="2901600" y="6097320"/>
                  <a:ext cx="1303200" cy="36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nçar produ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33" name=""/>
                <p:cNvCxnSpPr>
                  <a:stCxn id="929" idx="3"/>
                  <a:endCxn id="932" idx="1"/>
                </p:cNvCxnSpPr>
                <p:nvPr/>
              </p:nvCxnSpPr>
              <p:spPr>
                <a:xfrm>
                  <a:off x="2545560" y="6282720"/>
                  <a:ext cx="34668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Desenvolver processo de distribuição – integração com outros process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com o processo de logística (que é integrado ao de supply ch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, implementação e controle de fluxo eficiente e eficaz de todo material, produtos e fluxo de informação as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produção (desenvolvida na fase de preparação da produção) deve considerar os canais de distribuição definidos na 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com o processo de vendas está relacionada com a promessa de tempo de entrega que um revendedor faz para um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com assistência técnica é essencial para reposição de supr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6767640" y="2155680"/>
            <a:ext cx="1388880" cy="1172880"/>
            <a:chOff x="6767640" y="2155680"/>
            <a:chExt cx="1388880" cy="1172880"/>
          </a:xfrm>
        </p:grpSpPr>
        <p:sp>
          <p:nvSpPr>
            <p:cNvPr id="939" name=""/>
            <p:cNvSpPr/>
            <p:nvPr/>
          </p:nvSpPr>
          <p:spPr>
            <a:xfrm>
              <a:off x="6825240" y="2999880"/>
              <a:ext cx="944640" cy="328680"/>
            </a:xfrm>
            <a:custGeom>
              <a:avLst/>
              <a:gdLst/>
              <a:ahLst/>
              <a:rect l="l" t="t" r="r" b="b"/>
              <a:pathLst>
                <a:path w="1541" h="537">
                  <a:moveTo>
                    <a:pt x="27" y="98"/>
                  </a:moveTo>
                  <a:lnTo>
                    <a:pt x="29" y="107"/>
                  </a:lnTo>
                  <a:lnTo>
                    <a:pt x="34" y="113"/>
                  </a:lnTo>
                  <a:lnTo>
                    <a:pt x="42" y="116"/>
                  </a:lnTo>
                  <a:lnTo>
                    <a:pt x="52" y="119"/>
                  </a:lnTo>
                  <a:lnTo>
                    <a:pt x="63" y="120"/>
                  </a:lnTo>
                  <a:lnTo>
                    <a:pt x="74" y="120"/>
                  </a:lnTo>
                  <a:lnTo>
                    <a:pt x="86" y="120"/>
                  </a:lnTo>
                  <a:lnTo>
                    <a:pt x="97" y="121"/>
                  </a:lnTo>
                  <a:lnTo>
                    <a:pt x="123" y="125"/>
                  </a:lnTo>
                  <a:lnTo>
                    <a:pt x="149" y="127"/>
                  </a:lnTo>
                  <a:lnTo>
                    <a:pt x="174" y="130"/>
                  </a:lnTo>
                  <a:lnTo>
                    <a:pt x="200" y="135"/>
                  </a:lnTo>
                  <a:lnTo>
                    <a:pt x="221" y="142"/>
                  </a:lnTo>
                  <a:lnTo>
                    <a:pt x="238" y="153"/>
                  </a:lnTo>
                  <a:lnTo>
                    <a:pt x="248" y="168"/>
                  </a:lnTo>
                  <a:lnTo>
                    <a:pt x="253" y="190"/>
                  </a:lnTo>
                  <a:lnTo>
                    <a:pt x="250" y="205"/>
                  </a:lnTo>
                  <a:lnTo>
                    <a:pt x="242" y="218"/>
                  </a:lnTo>
                  <a:lnTo>
                    <a:pt x="233" y="229"/>
                  </a:lnTo>
                  <a:lnTo>
                    <a:pt x="222" y="239"/>
                  </a:lnTo>
                  <a:lnTo>
                    <a:pt x="209" y="249"/>
                  </a:lnTo>
                  <a:lnTo>
                    <a:pt x="200" y="260"/>
                  </a:lnTo>
                  <a:lnTo>
                    <a:pt x="192" y="273"/>
                  </a:lnTo>
                  <a:lnTo>
                    <a:pt x="189" y="288"/>
                  </a:lnTo>
                  <a:lnTo>
                    <a:pt x="193" y="312"/>
                  </a:lnTo>
                  <a:lnTo>
                    <a:pt x="203" y="332"/>
                  </a:lnTo>
                  <a:lnTo>
                    <a:pt x="218" y="348"/>
                  </a:lnTo>
                  <a:lnTo>
                    <a:pt x="237" y="361"/>
                  </a:lnTo>
                  <a:lnTo>
                    <a:pt x="259" y="371"/>
                  </a:lnTo>
                  <a:lnTo>
                    <a:pt x="283" y="379"/>
                  </a:lnTo>
                  <a:lnTo>
                    <a:pt x="308" y="387"/>
                  </a:lnTo>
                  <a:lnTo>
                    <a:pt x="333" y="393"/>
                  </a:lnTo>
                  <a:lnTo>
                    <a:pt x="348" y="396"/>
                  </a:lnTo>
                  <a:lnTo>
                    <a:pt x="362" y="401"/>
                  </a:lnTo>
                  <a:lnTo>
                    <a:pt x="376" y="405"/>
                  </a:lnTo>
                  <a:lnTo>
                    <a:pt x="389" y="409"/>
                  </a:lnTo>
                  <a:lnTo>
                    <a:pt x="400" y="413"/>
                  </a:lnTo>
                  <a:lnTo>
                    <a:pt x="413" y="417"/>
                  </a:lnTo>
                  <a:lnTo>
                    <a:pt x="424" y="422"/>
                  </a:lnTo>
                  <a:lnTo>
                    <a:pt x="436" y="426"/>
                  </a:lnTo>
                  <a:lnTo>
                    <a:pt x="448" y="431"/>
                  </a:lnTo>
                  <a:lnTo>
                    <a:pt x="459" y="436"/>
                  </a:lnTo>
                  <a:lnTo>
                    <a:pt x="471" y="440"/>
                  </a:lnTo>
                  <a:lnTo>
                    <a:pt x="482" y="445"/>
                  </a:lnTo>
                  <a:lnTo>
                    <a:pt x="495" y="448"/>
                  </a:lnTo>
                  <a:lnTo>
                    <a:pt x="509" y="453"/>
                  </a:lnTo>
                  <a:lnTo>
                    <a:pt x="521" y="458"/>
                  </a:lnTo>
                  <a:lnTo>
                    <a:pt x="536" y="462"/>
                  </a:lnTo>
                  <a:lnTo>
                    <a:pt x="563" y="470"/>
                  </a:lnTo>
                  <a:lnTo>
                    <a:pt x="588" y="477"/>
                  </a:lnTo>
                  <a:lnTo>
                    <a:pt x="612" y="485"/>
                  </a:lnTo>
                  <a:lnTo>
                    <a:pt x="635" y="492"/>
                  </a:lnTo>
                  <a:lnTo>
                    <a:pt x="657" y="498"/>
                  </a:lnTo>
                  <a:lnTo>
                    <a:pt x="679" y="505"/>
                  </a:lnTo>
                  <a:lnTo>
                    <a:pt x="701" y="511"/>
                  </a:lnTo>
                  <a:lnTo>
                    <a:pt x="723" y="515"/>
                  </a:lnTo>
                  <a:lnTo>
                    <a:pt x="745" y="521"/>
                  </a:lnTo>
                  <a:lnTo>
                    <a:pt x="767" y="524"/>
                  </a:lnTo>
                  <a:lnTo>
                    <a:pt x="789" y="528"/>
                  </a:lnTo>
                  <a:lnTo>
                    <a:pt x="812" y="531"/>
                  </a:lnTo>
                  <a:lnTo>
                    <a:pt x="836" y="534"/>
                  </a:lnTo>
                  <a:lnTo>
                    <a:pt x="861" y="536"/>
                  </a:lnTo>
                  <a:lnTo>
                    <a:pt x="886" y="537"/>
                  </a:lnTo>
                  <a:lnTo>
                    <a:pt x="914" y="537"/>
                  </a:lnTo>
                  <a:lnTo>
                    <a:pt x="934" y="537"/>
                  </a:lnTo>
                  <a:lnTo>
                    <a:pt x="952" y="537"/>
                  </a:lnTo>
                  <a:lnTo>
                    <a:pt x="969" y="536"/>
                  </a:lnTo>
                  <a:lnTo>
                    <a:pt x="986" y="536"/>
                  </a:lnTo>
                  <a:lnTo>
                    <a:pt x="1002" y="536"/>
                  </a:lnTo>
                  <a:lnTo>
                    <a:pt x="1018" y="535"/>
                  </a:lnTo>
                  <a:lnTo>
                    <a:pt x="1033" y="534"/>
                  </a:lnTo>
                  <a:lnTo>
                    <a:pt x="1049" y="532"/>
                  </a:lnTo>
                  <a:lnTo>
                    <a:pt x="1064" y="531"/>
                  </a:lnTo>
                  <a:lnTo>
                    <a:pt x="1079" y="530"/>
                  </a:lnTo>
                  <a:lnTo>
                    <a:pt x="1095" y="529"/>
                  </a:lnTo>
                  <a:lnTo>
                    <a:pt x="1111" y="528"/>
                  </a:lnTo>
                  <a:lnTo>
                    <a:pt x="1127" y="525"/>
                  </a:lnTo>
                  <a:lnTo>
                    <a:pt x="1145" y="524"/>
                  </a:lnTo>
                  <a:lnTo>
                    <a:pt x="1163" y="522"/>
                  </a:lnTo>
                  <a:lnTo>
                    <a:pt x="1183" y="520"/>
                  </a:lnTo>
                  <a:lnTo>
                    <a:pt x="1203" y="519"/>
                  </a:lnTo>
                  <a:lnTo>
                    <a:pt x="1224" y="517"/>
                  </a:lnTo>
                  <a:lnTo>
                    <a:pt x="1243" y="516"/>
                  </a:lnTo>
                  <a:lnTo>
                    <a:pt x="1261" y="515"/>
                  </a:lnTo>
                  <a:lnTo>
                    <a:pt x="1278" y="512"/>
                  </a:lnTo>
                  <a:lnTo>
                    <a:pt x="1294" y="506"/>
                  </a:lnTo>
                  <a:lnTo>
                    <a:pt x="1310" y="498"/>
                  </a:lnTo>
                  <a:lnTo>
                    <a:pt x="1327" y="485"/>
                  </a:lnTo>
                  <a:lnTo>
                    <a:pt x="1335" y="477"/>
                  </a:lnTo>
                  <a:lnTo>
                    <a:pt x="1340" y="468"/>
                  </a:lnTo>
                  <a:lnTo>
                    <a:pt x="1345" y="459"/>
                  </a:lnTo>
                  <a:lnTo>
                    <a:pt x="1350" y="448"/>
                  </a:lnTo>
                  <a:lnTo>
                    <a:pt x="1353" y="440"/>
                  </a:lnTo>
                  <a:lnTo>
                    <a:pt x="1359" y="431"/>
                  </a:lnTo>
                  <a:lnTo>
                    <a:pt x="1365" y="423"/>
                  </a:lnTo>
                  <a:lnTo>
                    <a:pt x="1373" y="416"/>
                  </a:lnTo>
                  <a:lnTo>
                    <a:pt x="1395" y="402"/>
                  </a:lnTo>
                  <a:lnTo>
                    <a:pt x="1418" y="393"/>
                  </a:lnTo>
                  <a:lnTo>
                    <a:pt x="1441" y="385"/>
                  </a:lnTo>
                  <a:lnTo>
                    <a:pt x="1464" y="379"/>
                  </a:lnTo>
                  <a:lnTo>
                    <a:pt x="1486" y="371"/>
                  </a:lnTo>
                  <a:lnTo>
                    <a:pt x="1505" y="362"/>
                  </a:lnTo>
                  <a:lnTo>
                    <a:pt x="1525" y="348"/>
                  </a:lnTo>
                  <a:lnTo>
                    <a:pt x="1541" y="328"/>
                  </a:lnTo>
                  <a:lnTo>
                    <a:pt x="1524" y="322"/>
                  </a:lnTo>
                  <a:lnTo>
                    <a:pt x="1499" y="313"/>
                  </a:lnTo>
                  <a:lnTo>
                    <a:pt x="1468" y="304"/>
                  </a:lnTo>
                  <a:lnTo>
                    <a:pt x="1433" y="295"/>
                  </a:lnTo>
                  <a:lnTo>
                    <a:pt x="1391" y="284"/>
                  </a:lnTo>
                  <a:lnTo>
                    <a:pt x="1344" y="272"/>
                  </a:lnTo>
                  <a:lnTo>
                    <a:pt x="1293" y="260"/>
                  </a:lnTo>
                  <a:lnTo>
                    <a:pt x="1239" y="248"/>
                  </a:lnTo>
                  <a:lnTo>
                    <a:pt x="1180" y="234"/>
                  </a:lnTo>
                  <a:lnTo>
                    <a:pt x="1120" y="221"/>
                  </a:lnTo>
                  <a:lnTo>
                    <a:pt x="1057" y="208"/>
                  </a:lnTo>
                  <a:lnTo>
                    <a:pt x="991" y="193"/>
                  </a:lnTo>
                  <a:lnTo>
                    <a:pt x="925" y="179"/>
                  </a:lnTo>
                  <a:lnTo>
                    <a:pt x="857" y="164"/>
                  </a:lnTo>
                  <a:lnTo>
                    <a:pt x="789" y="150"/>
                  </a:lnTo>
                  <a:lnTo>
                    <a:pt x="719" y="136"/>
                  </a:lnTo>
                  <a:lnTo>
                    <a:pt x="651" y="122"/>
                  </a:lnTo>
                  <a:lnTo>
                    <a:pt x="585" y="108"/>
                  </a:lnTo>
                  <a:lnTo>
                    <a:pt x="519" y="95"/>
                  </a:lnTo>
                  <a:lnTo>
                    <a:pt x="454" y="82"/>
                  </a:lnTo>
                  <a:lnTo>
                    <a:pt x="393" y="70"/>
                  </a:lnTo>
                  <a:lnTo>
                    <a:pt x="335" y="59"/>
                  </a:lnTo>
                  <a:lnTo>
                    <a:pt x="279" y="49"/>
                  </a:lnTo>
                  <a:lnTo>
                    <a:pt x="227" y="38"/>
                  </a:lnTo>
                  <a:lnTo>
                    <a:pt x="179" y="29"/>
                  </a:lnTo>
                  <a:lnTo>
                    <a:pt x="136" y="21"/>
                  </a:lnTo>
                  <a:lnTo>
                    <a:pt x="98" y="14"/>
                  </a:lnTo>
                  <a:lnTo>
                    <a:pt x="66" y="9"/>
                  </a:lnTo>
                  <a:lnTo>
                    <a:pt x="41" y="5"/>
                  </a:lnTo>
                  <a:lnTo>
                    <a:pt x="21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10" y="24"/>
                  </a:lnTo>
                  <a:lnTo>
                    <a:pt x="17" y="30"/>
                  </a:lnTo>
                  <a:lnTo>
                    <a:pt x="24" y="37"/>
                  </a:lnTo>
                  <a:lnTo>
                    <a:pt x="29" y="44"/>
                  </a:lnTo>
                  <a:lnTo>
                    <a:pt x="33" y="52"/>
                  </a:lnTo>
                  <a:lnTo>
                    <a:pt x="34" y="63"/>
                  </a:lnTo>
                  <a:lnTo>
                    <a:pt x="32" y="74"/>
                  </a:lnTo>
                  <a:lnTo>
                    <a:pt x="28" y="85"/>
                  </a:lnTo>
                  <a:lnTo>
                    <a:pt x="27" y="98"/>
                  </a:lnTo>
                  <a:close/>
                </a:path>
              </a:pathLst>
            </a:custGeom>
            <a:solidFill>
              <a:srgbClr val="9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84560" y="2955600"/>
              <a:ext cx="1039320" cy="263520"/>
            </a:xfrm>
            <a:custGeom>
              <a:avLst/>
              <a:gdLst/>
              <a:ahLst/>
              <a:rect l="l" t="t" r="r" b="b"/>
              <a:pathLst>
                <a:path w="1693" h="430">
                  <a:moveTo>
                    <a:pt x="0" y="0"/>
                  </a:moveTo>
                  <a:lnTo>
                    <a:pt x="1617" y="347"/>
                  </a:lnTo>
                  <a:lnTo>
                    <a:pt x="1629" y="341"/>
                  </a:lnTo>
                  <a:lnTo>
                    <a:pt x="1643" y="341"/>
                  </a:lnTo>
                  <a:lnTo>
                    <a:pt x="1655" y="344"/>
                  </a:lnTo>
                  <a:lnTo>
                    <a:pt x="1669" y="351"/>
                  </a:lnTo>
                  <a:lnTo>
                    <a:pt x="1681" y="362"/>
                  </a:lnTo>
                  <a:lnTo>
                    <a:pt x="1689" y="373"/>
                  </a:lnTo>
                  <a:lnTo>
                    <a:pt x="1693" y="386"/>
                  </a:lnTo>
                  <a:lnTo>
                    <a:pt x="1692" y="398"/>
                  </a:lnTo>
                  <a:lnTo>
                    <a:pt x="1687" y="409"/>
                  </a:lnTo>
                  <a:lnTo>
                    <a:pt x="1679" y="418"/>
                  </a:lnTo>
                  <a:lnTo>
                    <a:pt x="1668" y="424"/>
                  </a:lnTo>
                  <a:lnTo>
                    <a:pt x="1655" y="428"/>
                  </a:lnTo>
                  <a:lnTo>
                    <a:pt x="1644" y="430"/>
                  </a:lnTo>
                  <a:lnTo>
                    <a:pt x="1631" y="428"/>
                  </a:lnTo>
                  <a:lnTo>
                    <a:pt x="1621" y="424"/>
                  </a:lnTo>
                  <a:lnTo>
                    <a:pt x="1612" y="417"/>
                  </a:lnTo>
                  <a:lnTo>
                    <a:pt x="17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67640" y="2776320"/>
              <a:ext cx="1388880" cy="392400"/>
            </a:xfrm>
            <a:custGeom>
              <a:avLst/>
              <a:gdLst/>
              <a:ahLst/>
              <a:rect l="l" t="t" r="r" b="b"/>
              <a:pathLst>
                <a:path w="2264" h="641">
                  <a:moveTo>
                    <a:pt x="2155" y="236"/>
                  </a:moveTo>
                  <a:lnTo>
                    <a:pt x="1212" y="6"/>
                  </a:lnTo>
                  <a:lnTo>
                    <a:pt x="1206" y="6"/>
                  </a:lnTo>
                  <a:lnTo>
                    <a:pt x="1195" y="7"/>
                  </a:lnTo>
                  <a:lnTo>
                    <a:pt x="1179" y="7"/>
                  </a:lnTo>
                  <a:lnTo>
                    <a:pt x="1159" y="7"/>
                  </a:lnTo>
                  <a:lnTo>
                    <a:pt x="1135" y="7"/>
                  </a:lnTo>
                  <a:lnTo>
                    <a:pt x="1107" y="7"/>
                  </a:lnTo>
                  <a:lnTo>
                    <a:pt x="1077" y="7"/>
                  </a:lnTo>
                  <a:lnTo>
                    <a:pt x="1044" y="7"/>
                  </a:lnTo>
                  <a:lnTo>
                    <a:pt x="1007" y="7"/>
                  </a:lnTo>
                  <a:lnTo>
                    <a:pt x="969" y="7"/>
                  </a:lnTo>
                  <a:lnTo>
                    <a:pt x="929" y="7"/>
                  </a:lnTo>
                  <a:lnTo>
                    <a:pt x="886" y="7"/>
                  </a:lnTo>
                  <a:lnTo>
                    <a:pt x="842" y="6"/>
                  </a:lnTo>
                  <a:lnTo>
                    <a:pt x="797" y="6"/>
                  </a:lnTo>
                  <a:lnTo>
                    <a:pt x="752" y="6"/>
                  </a:lnTo>
                  <a:lnTo>
                    <a:pt x="706" y="5"/>
                  </a:lnTo>
                  <a:lnTo>
                    <a:pt x="661" y="5"/>
                  </a:lnTo>
                  <a:lnTo>
                    <a:pt x="615" y="5"/>
                  </a:lnTo>
                  <a:lnTo>
                    <a:pt x="570" y="4"/>
                  </a:lnTo>
                  <a:lnTo>
                    <a:pt x="527" y="4"/>
                  </a:lnTo>
                  <a:lnTo>
                    <a:pt x="483" y="4"/>
                  </a:lnTo>
                  <a:lnTo>
                    <a:pt x="441" y="2"/>
                  </a:lnTo>
                  <a:lnTo>
                    <a:pt x="402" y="2"/>
                  </a:lnTo>
                  <a:lnTo>
                    <a:pt x="364" y="1"/>
                  </a:lnTo>
                  <a:lnTo>
                    <a:pt x="330" y="1"/>
                  </a:lnTo>
                  <a:lnTo>
                    <a:pt x="297" y="1"/>
                  </a:lnTo>
                  <a:lnTo>
                    <a:pt x="268" y="1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80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5"/>
                  </a:lnTo>
                  <a:lnTo>
                    <a:pt x="157" y="6"/>
                  </a:lnTo>
                  <a:lnTo>
                    <a:pt x="156" y="12"/>
                  </a:lnTo>
                  <a:lnTo>
                    <a:pt x="154" y="17"/>
                  </a:lnTo>
                  <a:lnTo>
                    <a:pt x="152" y="22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6" y="50"/>
                  </a:lnTo>
                  <a:lnTo>
                    <a:pt x="161" y="59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1" y="84"/>
                  </a:lnTo>
                  <a:lnTo>
                    <a:pt x="187" y="93"/>
                  </a:lnTo>
                  <a:lnTo>
                    <a:pt x="191" y="104"/>
                  </a:lnTo>
                  <a:lnTo>
                    <a:pt x="174" y="106"/>
                  </a:lnTo>
                  <a:lnTo>
                    <a:pt x="158" y="107"/>
                  </a:lnTo>
                  <a:lnTo>
                    <a:pt x="142" y="108"/>
                  </a:lnTo>
                  <a:lnTo>
                    <a:pt x="128" y="108"/>
                  </a:lnTo>
                  <a:lnTo>
                    <a:pt x="113" y="108"/>
                  </a:lnTo>
                  <a:lnTo>
                    <a:pt x="97" y="107"/>
                  </a:lnTo>
                  <a:lnTo>
                    <a:pt x="81" y="106"/>
                  </a:lnTo>
                  <a:lnTo>
                    <a:pt x="63" y="104"/>
                  </a:lnTo>
                  <a:lnTo>
                    <a:pt x="67" y="137"/>
                  </a:lnTo>
                  <a:lnTo>
                    <a:pt x="67" y="153"/>
                  </a:lnTo>
                  <a:lnTo>
                    <a:pt x="71" y="168"/>
                  </a:lnTo>
                  <a:lnTo>
                    <a:pt x="86" y="196"/>
                  </a:lnTo>
                  <a:lnTo>
                    <a:pt x="73" y="201"/>
                  </a:lnTo>
                  <a:lnTo>
                    <a:pt x="58" y="206"/>
                  </a:lnTo>
                  <a:lnTo>
                    <a:pt x="44" y="213"/>
                  </a:lnTo>
                  <a:lnTo>
                    <a:pt x="30" y="220"/>
                  </a:lnTo>
                  <a:lnTo>
                    <a:pt x="18" y="229"/>
                  </a:lnTo>
                  <a:lnTo>
                    <a:pt x="8" y="240"/>
                  </a:lnTo>
                  <a:lnTo>
                    <a:pt x="2" y="251"/>
                  </a:lnTo>
                  <a:lnTo>
                    <a:pt x="0" y="265"/>
                  </a:lnTo>
                  <a:lnTo>
                    <a:pt x="2" y="277"/>
                  </a:lnTo>
                  <a:lnTo>
                    <a:pt x="7" y="288"/>
                  </a:lnTo>
                  <a:lnTo>
                    <a:pt x="16" y="297"/>
                  </a:lnTo>
                  <a:lnTo>
                    <a:pt x="28" y="305"/>
                  </a:lnTo>
                  <a:lnTo>
                    <a:pt x="41" y="312"/>
                  </a:lnTo>
                  <a:lnTo>
                    <a:pt x="58" y="318"/>
                  </a:lnTo>
                  <a:lnTo>
                    <a:pt x="75" y="323"/>
                  </a:lnTo>
                  <a:lnTo>
                    <a:pt x="93" y="327"/>
                  </a:lnTo>
                  <a:lnTo>
                    <a:pt x="113" y="331"/>
                  </a:lnTo>
                  <a:lnTo>
                    <a:pt x="132" y="334"/>
                  </a:lnTo>
                  <a:lnTo>
                    <a:pt x="153" y="336"/>
                  </a:lnTo>
                  <a:lnTo>
                    <a:pt x="172" y="339"/>
                  </a:lnTo>
                  <a:lnTo>
                    <a:pt x="190" y="341"/>
                  </a:lnTo>
                  <a:lnTo>
                    <a:pt x="207" y="343"/>
                  </a:lnTo>
                  <a:lnTo>
                    <a:pt x="224" y="345"/>
                  </a:lnTo>
                  <a:lnTo>
                    <a:pt x="237" y="347"/>
                  </a:lnTo>
                  <a:lnTo>
                    <a:pt x="252" y="349"/>
                  </a:lnTo>
                  <a:lnTo>
                    <a:pt x="267" y="351"/>
                  </a:lnTo>
                  <a:lnTo>
                    <a:pt x="281" y="355"/>
                  </a:lnTo>
                  <a:lnTo>
                    <a:pt x="294" y="357"/>
                  </a:lnTo>
                  <a:lnTo>
                    <a:pt x="306" y="361"/>
                  </a:lnTo>
                  <a:lnTo>
                    <a:pt x="319" y="364"/>
                  </a:lnTo>
                  <a:lnTo>
                    <a:pt x="332" y="368"/>
                  </a:lnTo>
                  <a:lnTo>
                    <a:pt x="343" y="370"/>
                  </a:lnTo>
                  <a:lnTo>
                    <a:pt x="356" y="373"/>
                  </a:lnTo>
                  <a:lnTo>
                    <a:pt x="368" y="377"/>
                  </a:lnTo>
                  <a:lnTo>
                    <a:pt x="380" y="380"/>
                  </a:lnTo>
                  <a:lnTo>
                    <a:pt x="393" y="383"/>
                  </a:lnTo>
                  <a:lnTo>
                    <a:pt x="407" y="386"/>
                  </a:lnTo>
                  <a:lnTo>
                    <a:pt x="421" y="388"/>
                  </a:lnTo>
                  <a:lnTo>
                    <a:pt x="436" y="391"/>
                  </a:lnTo>
                  <a:lnTo>
                    <a:pt x="450" y="393"/>
                  </a:lnTo>
                  <a:lnTo>
                    <a:pt x="478" y="396"/>
                  </a:lnTo>
                  <a:lnTo>
                    <a:pt x="503" y="401"/>
                  </a:lnTo>
                  <a:lnTo>
                    <a:pt x="529" y="404"/>
                  </a:lnTo>
                  <a:lnTo>
                    <a:pt x="552" y="408"/>
                  </a:lnTo>
                  <a:lnTo>
                    <a:pt x="574" y="413"/>
                  </a:lnTo>
                  <a:lnTo>
                    <a:pt x="595" y="416"/>
                  </a:lnTo>
                  <a:lnTo>
                    <a:pt x="615" y="421"/>
                  </a:lnTo>
                  <a:lnTo>
                    <a:pt x="636" y="425"/>
                  </a:lnTo>
                  <a:lnTo>
                    <a:pt x="657" y="430"/>
                  </a:lnTo>
                  <a:lnTo>
                    <a:pt x="676" y="436"/>
                  </a:lnTo>
                  <a:lnTo>
                    <a:pt x="697" y="441"/>
                  </a:lnTo>
                  <a:lnTo>
                    <a:pt x="719" y="447"/>
                  </a:lnTo>
                  <a:lnTo>
                    <a:pt x="741" y="454"/>
                  </a:lnTo>
                  <a:lnTo>
                    <a:pt x="764" y="462"/>
                  </a:lnTo>
                  <a:lnTo>
                    <a:pt x="788" y="470"/>
                  </a:lnTo>
                  <a:lnTo>
                    <a:pt x="815" y="479"/>
                  </a:lnTo>
                  <a:lnTo>
                    <a:pt x="842" y="489"/>
                  </a:lnTo>
                  <a:lnTo>
                    <a:pt x="869" y="498"/>
                  </a:lnTo>
                  <a:lnTo>
                    <a:pt x="895" y="506"/>
                  </a:lnTo>
                  <a:lnTo>
                    <a:pt x="921" y="514"/>
                  </a:lnTo>
                  <a:lnTo>
                    <a:pt x="946" y="521"/>
                  </a:lnTo>
                  <a:lnTo>
                    <a:pt x="970" y="527"/>
                  </a:lnTo>
                  <a:lnTo>
                    <a:pt x="995" y="533"/>
                  </a:lnTo>
                  <a:lnTo>
                    <a:pt x="1019" y="539"/>
                  </a:lnTo>
                  <a:lnTo>
                    <a:pt x="1043" y="544"/>
                  </a:lnTo>
                  <a:lnTo>
                    <a:pt x="1066" y="550"/>
                  </a:lnTo>
                  <a:lnTo>
                    <a:pt x="1089" y="553"/>
                  </a:lnTo>
                  <a:lnTo>
                    <a:pt x="1112" y="558"/>
                  </a:lnTo>
                  <a:lnTo>
                    <a:pt x="1135" y="562"/>
                  </a:lnTo>
                  <a:lnTo>
                    <a:pt x="1158" y="566"/>
                  </a:lnTo>
                  <a:lnTo>
                    <a:pt x="1180" y="569"/>
                  </a:lnTo>
                  <a:lnTo>
                    <a:pt x="1203" y="573"/>
                  </a:lnTo>
                  <a:lnTo>
                    <a:pt x="1226" y="576"/>
                  </a:lnTo>
                  <a:lnTo>
                    <a:pt x="1248" y="580"/>
                  </a:lnTo>
                  <a:lnTo>
                    <a:pt x="1271" y="583"/>
                  </a:lnTo>
                  <a:lnTo>
                    <a:pt x="1294" y="586"/>
                  </a:lnTo>
                  <a:lnTo>
                    <a:pt x="1317" y="590"/>
                  </a:lnTo>
                  <a:lnTo>
                    <a:pt x="1341" y="593"/>
                  </a:lnTo>
                  <a:lnTo>
                    <a:pt x="1365" y="597"/>
                  </a:lnTo>
                  <a:lnTo>
                    <a:pt x="1390" y="600"/>
                  </a:lnTo>
                  <a:lnTo>
                    <a:pt x="1414" y="605"/>
                  </a:lnTo>
                  <a:lnTo>
                    <a:pt x="1439" y="608"/>
                  </a:lnTo>
                  <a:lnTo>
                    <a:pt x="1464" y="613"/>
                  </a:lnTo>
                  <a:lnTo>
                    <a:pt x="1490" y="618"/>
                  </a:lnTo>
                  <a:lnTo>
                    <a:pt x="1516" y="623"/>
                  </a:lnTo>
                  <a:lnTo>
                    <a:pt x="1544" y="628"/>
                  </a:lnTo>
                  <a:lnTo>
                    <a:pt x="1572" y="634"/>
                  </a:lnTo>
                  <a:lnTo>
                    <a:pt x="1600" y="641"/>
                  </a:lnTo>
                  <a:lnTo>
                    <a:pt x="1802" y="623"/>
                  </a:lnTo>
                  <a:lnTo>
                    <a:pt x="1804" y="597"/>
                  </a:lnTo>
                  <a:lnTo>
                    <a:pt x="1805" y="573"/>
                  </a:lnTo>
                  <a:lnTo>
                    <a:pt x="1808" y="551"/>
                  </a:lnTo>
                  <a:lnTo>
                    <a:pt x="1814" y="525"/>
                  </a:lnTo>
                  <a:lnTo>
                    <a:pt x="1824" y="507"/>
                  </a:lnTo>
                  <a:lnTo>
                    <a:pt x="1839" y="495"/>
                  </a:lnTo>
                  <a:lnTo>
                    <a:pt x="1857" y="490"/>
                  </a:lnTo>
                  <a:lnTo>
                    <a:pt x="1879" y="487"/>
                  </a:lnTo>
                  <a:lnTo>
                    <a:pt x="1902" y="490"/>
                  </a:lnTo>
                  <a:lnTo>
                    <a:pt x="1926" y="493"/>
                  </a:lnTo>
                  <a:lnTo>
                    <a:pt x="1952" y="498"/>
                  </a:lnTo>
                  <a:lnTo>
                    <a:pt x="1976" y="502"/>
                  </a:lnTo>
                  <a:lnTo>
                    <a:pt x="2132" y="502"/>
                  </a:lnTo>
                  <a:lnTo>
                    <a:pt x="2156" y="498"/>
                  </a:lnTo>
                  <a:lnTo>
                    <a:pt x="2179" y="492"/>
                  </a:lnTo>
                  <a:lnTo>
                    <a:pt x="2202" y="485"/>
                  </a:lnTo>
                  <a:lnTo>
                    <a:pt x="2221" y="476"/>
                  </a:lnTo>
                  <a:lnTo>
                    <a:pt x="2239" y="464"/>
                  </a:lnTo>
                  <a:lnTo>
                    <a:pt x="2252" y="449"/>
                  </a:lnTo>
                  <a:lnTo>
                    <a:pt x="2261" y="432"/>
                  </a:lnTo>
                  <a:lnTo>
                    <a:pt x="2264" y="410"/>
                  </a:lnTo>
                  <a:lnTo>
                    <a:pt x="2263" y="400"/>
                  </a:lnTo>
                  <a:lnTo>
                    <a:pt x="2258" y="391"/>
                  </a:lnTo>
                  <a:lnTo>
                    <a:pt x="2252" y="384"/>
                  </a:lnTo>
                  <a:lnTo>
                    <a:pt x="2246" y="377"/>
                  </a:lnTo>
                  <a:lnTo>
                    <a:pt x="2236" y="372"/>
                  </a:lnTo>
                  <a:lnTo>
                    <a:pt x="2227" y="368"/>
                  </a:lnTo>
                  <a:lnTo>
                    <a:pt x="2217" y="363"/>
                  </a:lnTo>
                  <a:lnTo>
                    <a:pt x="2206" y="358"/>
                  </a:lnTo>
                  <a:lnTo>
                    <a:pt x="2183" y="348"/>
                  </a:lnTo>
                  <a:lnTo>
                    <a:pt x="2163" y="341"/>
                  </a:lnTo>
                  <a:lnTo>
                    <a:pt x="2141" y="334"/>
                  </a:lnTo>
                  <a:lnTo>
                    <a:pt x="2120" y="330"/>
                  </a:lnTo>
                  <a:lnTo>
                    <a:pt x="2099" y="324"/>
                  </a:lnTo>
                  <a:lnTo>
                    <a:pt x="2079" y="318"/>
                  </a:lnTo>
                  <a:lnTo>
                    <a:pt x="2057" y="310"/>
                  </a:lnTo>
                  <a:lnTo>
                    <a:pt x="2034" y="300"/>
                  </a:lnTo>
                  <a:lnTo>
                    <a:pt x="2049" y="289"/>
                  </a:lnTo>
                  <a:lnTo>
                    <a:pt x="2065" y="281"/>
                  </a:lnTo>
                  <a:lnTo>
                    <a:pt x="2080" y="275"/>
                  </a:lnTo>
                  <a:lnTo>
                    <a:pt x="2096" y="270"/>
                  </a:lnTo>
                  <a:lnTo>
                    <a:pt x="2111" y="265"/>
                  </a:lnTo>
                  <a:lnTo>
                    <a:pt x="2126" y="258"/>
                  </a:lnTo>
                  <a:lnTo>
                    <a:pt x="2140" y="249"/>
                  </a:lnTo>
                  <a:lnTo>
                    <a:pt x="2155" y="236"/>
                  </a:lnTo>
                  <a:close/>
                </a:path>
              </a:pathLst>
            </a:custGeom>
            <a:solidFill>
              <a:srgbClr val="a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95000" y="2882160"/>
              <a:ext cx="35280" cy="352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11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46" y="5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727040" y="2895480"/>
              <a:ext cx="153000" cy="59760"/>
            </a:xfrm>
            <a:custGeom>
              <a:avLst/>
              <a:gdLst/>
              <a:ahLst/>
              <a:rect l="l" t="t" r="r" b="b"/>
              <a:pathLst>
                <a:path w="249" h="98">
                  <a:moveTo>
                    <a:pt x="5" y="0"/>
                  </a:moveTo>
                  <a:lnTo>
                    <a:pt x="249" y="63"/>
                  </a:lnTo>
                  <a:lnTo>
                    <a:pt x="225" y="98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a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93760" y="2913840"/>
              <a:ext cx="350640" cy="170280"/>
            </a:xfrm>
            <a:custGeom>
              <a:avLst/>
              <a:gdLst/>
              <a:ahLst/>
              <a:rect l="l" t="t" r="r" b="b"/>
              <a:pathLst>
                <a:path w="573" h="277">
                  <a:moveTo>
                    <a:pt x="0" y="115"/>
                  </a:moveTo>
                  <a:lnTo>
                    <a:pt x="272" y="277"/>
                  </a:lnTo>
                  <a:lnTo>
                    <a:pt x="573" y="139"/>
                  </a:lnTo>
                  <a:lnTo>
                    <a:pt x="318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36960" y="2790000"/>
              <a:ext cx="155520" cy="115200"/>
            </a:xfrm>
            <a:custGeom>
              <a:avLst/>
              <a:gdLst/>
              <a:ahLst/>
              <a:rect l="l" t="t" r="r" b="b"/>
              <a:pathLst>
                <a:path w="252" h="188">
                  <a:moveTo>
                    <a:pt x="91" y="12"/>
                  </a:moveTo>
                  <a:lnTo>
                    <a:pt x="99" y="9"/>
                  </a:lnTo>
                  <a:lnTo>
                    <a:pt x="106" y="6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1"/>
                  </a:lnTo>
                  <a:lnTo>
                    <a:pt x="138" y="6"/>
                  </a:lnTo>
                  <a:lnTo>
                    <a:pt x="146" y="12"/>
                  </a:lnTo>
                  <a:lnTo>
                    <a:pt x="152" y="20"/>
                  </a:lnTo>
                  <a:lnTo>
                    <a:pt x="159" y="27"/>
                  </a:lnTo>
                  <a:lnTo>
                    <a:pt x="166" y="35"/>
                  </a:lnTo>
                  <a:lnTo>
                    <a:pt x="174" y="42"/>
                  </a:lnTo>
                  <a:lnTo>
                    <a:pt x="183" y="46"/>
                  </a:lnTo>
                  <a:lnTo>
                    <a:pt x="192" y="48"/>
                  </a:lnTo>
                  <a:lnTo>
                    <a:pt x="200" y="50"/>
                  </a:lnTo>
                  <a:lnTo>
                    <a:pt x="208" y="51"/>
                  </a:lnTo>
                  <a:lnTo>
                    <a:pt x="216" y="51"/>
                  </a:lnTo>
                  <a:lnTo>
                    <a:pt x="224" y="51"/>
                  </a:lnTo>
                  <a:lnTo>
                    <a:pt x="232" y="51"/>
                  </a:lnTo>
                  <a:lnTo>
                    <a:pt x="242" y="51"/>
                  </a:lnTo>
                  <a:lnTo>
                    <a:pt x="252" y="52"/>
                  </a:lnTo>
                  <a:lnTo>
                    <a:pt x="245" y="81"/>
                  </a:lnTo>
                  <a:lnTo>
                    <a:pt x="232" y="107"/>
                  </a:lnTo>
                  <a:lnTo>
                    <a:pt x="216" y="130"/>
                  </a:lnTo>
                  <a:lnTo>
                    <a:pt x="196" y="149"/>
                  </a:lnTo>
                  <a:lnTo>
                    <a:pt x="173" y="164"/>
                  </a:lnTo>
                  <a:lnTo>
                    <a:pt x="146" y="175"/>
                  </a:lnTo>
                  <a:lnTo>
                    <a:pt x="117" y="182"/>
                  </a:lnTo>
                  <a:lnTo>
                    <a:pt x="87" y="184"/>
                  </a:lnTo>
                  <a:lnTo>
                    <a:pt x="72" y="184"/>
                  </a:lnTo>
                  <a:lnTo>
                    <a:pt x="62" y="187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8"/>
                  </a:lnTo>
                  <a:lnTo>
                    <a:pt x="38" y="184"/>
                  </a:lnTo>
                  <a:lnTo>
                    <a:pt x="29" y="180"/>
                  </a:lnTo>
                  <a:lnTo>
                    <a:pt x="16" y="172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1" y="135"/>
                  </a:lnTo>
                  <a:lnTo>
                    <a:pt x="7" y="120"/>
                  </a:lnTo>
                  <a:lnTo>
                    <a:pt x="14" y="105"/>
                  </a:lnTo>
                  <a:lnTo>
                    <a:pt x="22" y="89"/>
                  </a:lnTo>
                  <a:lnTo>
                    <a:pt x="27" y="70"/>
                  </a:lnTo>
                  <a:lnTo>
                    <a:pt x="30" y="52"/>
                  </a:lnTo>
                  <a:lnTo>
                    <a:pt x="31" y="44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2" y="29"/>
                  </a:lnTo>
                  <a:lnTo>
                    <a:pt x="48" y="25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9"/>
                  </a:lnTo>
                  <a:lnTo>
                    <a:pt x="76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7" y="10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ccd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74760" y="2159280"/>
              <a:ext cx="173880" cy="110160"/>
            </a:xfrm>
            <a:custGeom>
              <a:avLst/>
              <a:gdLst/>
              <a:ahLst/>
              <a:rect l="l" t="t" r="r" b="b"/>
              <a:pathLst>
                <a:path w="283" h="179">
                  <a:moveTo>
                    <a:pt x="29" y="167"/>
                  </a:moveTo>
                  <a:lnTo>
                    <a:pt x="31" y="156"/>
                  </a:lnTo>
                  <a:lnTo>
                    <a:pt x="33" y="144"/>
                  </a:lnTo>
                  <a:lnTo>
                    <a:pt x="36" y="133"/>
                  </a:lnTo>
                  <a:lnTo>
                    <a:pt x="38" y="123"/>
                  </a:lnTo>
                  <a:lnTo>
                    <a:pt x="41" y="112"/>
                  </a:lnTo>
                  <a:lnTo>
                    <a:pt x="46" y="105"/>
                  </a:lnTo>
                  <a:lnTo>
                    <a:pt x="54" y="101"/>
                  </a:lnTo>
                  <a:lnTo>
                    <a:pt x="63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08" y="100"/>
                  </a:lnTo>
                  <a:lnTo>
                    <a:pt x="123" y="101"/>
                  </a:lnTo>
                  <a:lnTo>
                    <a:pt x="137" y="102"/>
                  </a:lnTo>
                  <a:lnTo>
                    <a:pt x="151" y="104"/>
                  </a:lnTo>
                  <a:lnTo>
                    <a:pt x="165" y="108"/>
                  </a:lnTo>
                  <a:lnTo>
                    <a:pt x="177" y="111"/>
                  </a:lnTo>
                  <a:lnTo>
                    <a:pt x="190" y="116"/>
                  </a:lnTo>
                  <a:lnTo>
                    <a:pt x="202" y="121"/>
                  </a:lnTo>
                  <a:lnTo>
                    <a:pt x="212" y="127"/>
                  </a:lnTo>
                  <a:lnTo>
                    <a:pt x="222" y="135"/>
                  </a:lnTo>
                  <a:lnTo>
                    <a:pt x="232" y="144"/>
                  </a:lnTo>
                  <a:lnTo>
                    <a:pt x="240" y="155"/>
                  </a:lnTo>
                  <a:lnTo>
                    <a:pt x="248" y="166"/>
                  </a:lnTo>
                  <a:lnTo>
                    <a:pt x="253" y="179"/>
                  </a:lnTo>
                  <a:lnTo>
                    <a:pt x="265" y="170"/>
                  </a:lnTo>
                  <a:lnTo>
                    <a:pt x="274" y="159"/>
                  </a:lnTo>
                  <a:lnTo>
                    <a:pt x="281" y="147"/>
                  </a:lnTo>
                  <a:lnTo>
                    <a:pt x="283" y="133"/>
                  </a:lnTo>
                  <a:lnTo>
                    <a:pt x="280" y="103"/>
                  </a:lnTo>
                  <a:lnTo>
                    <a:pt x="268" y="76"/>
                  </a:lnTo>
                  <a:lnTo>
                    <a:pt x="251" y="53"/>
                  </a:lnTo>
                  <a:lnTo>
                    <a:pt x="228" y="35"/>
                  </a:lnTo>
                  <a:lnTo>
                    <a:pt x="202" y="20"/>
                  </a:lnTo>
                  <a:lnTo>
                    <a:pt x="173" y="10"/>
                  </a:lnTo>
                  <a:lnTo>
                    <a:pt x="142" y="3"/>
                  </a:lnTo>
                  <a:lnTo>
                    <a:pt x="109" y="0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2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19"/>
                  </a:lnTo>
                  <a:lnTo>
                    <a:pt x="49" y="25"/>
                  </a:lnTo>
                  <a:lnTo>
                    <a:pt x="40" y="29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83"/>
                  </a:lnTo>
                  <a:lnTo>
                    <a:pt x="13" y="112"/>
                  </a:lnTo>
                  <a:lnTo>
                    <a:pt x="22" y="142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88920" y="2393280"/>
              <a:ext cx="651240" cy="472320"/>
            </a:xfrm>
            <a:custGeom>
              <a:avLst/>
              <a:gdLst/>
              <a:ahLst/>
              <a:rect l="l" t="t" r="r" b="b"/>
              <a:pathLst>
                <a:path w="1062" h="769">
                  <a:moveTo>
                    <a:pt x="323" y="144"/>
                  </a:moveTo>
                  <a:lnTo>
                    <a:pt x="340" y="125"/>
                  </a:lnTo>
                  <a:lnTo>
                    <a:pt x="358" y="113"/>
                  </a:lnTo>
                  <a:lnTo>
                    <a:pt x="379" y="103"/>
                  </a:lnTo>
                  <a:lnTo>
                    <a:pt x="400" y="97"/>
                  </a:lnTo>
                  <a:lnTo>
                    <a:pt x="423" y="90"/>
                  </a:lnTo>
                  <a:lnTo>
                    <a:pt x="445" y="84"/>
                  </a:lnTo>
                  <a:lnTo>
                    <a:pt x="468" y="75"/>
                  </a:lnTo>
                  <a:lnTo>
                    <a:pt x="491" y="63"/>
                  </a:lnTo>
                  <a:lnTo>
                    <a:pt x="497" y="59"/>
                  </a:lnTo>
                  <a:lnTo>
                    <a:pt x="501" y="53"/>
                  </a:lnTo>
                  <a:lnTo>
                    <a:pt x="506" y="46"/>
                  </a:lnTo>
                  <a:lnTo>
                    <a:pt x="509" y="39"/>
                  </a:lnTo>
                  <a:lnTo>
                    <a:pt x="514" y="33"/>
                  </a:lnTo>
                  <a:lnTo>
                    <a:pt x="519" y="27"/>
                  </a:lnTo>
                  <a:lnTo>
                    <a:pt x="524" y="24"/>
                  </a:lnTo>
                  <a:lnTo>
                    <a:pt x="531" y="23"/>
                  </a:lnTo>
                  <a:lnTo>
                    <a:pt x="542" y="24"/>
                  </a:lnTo>
                  <a:lnTo>
                    <a:pt x="550" y="26"/>
                  </a:lnTo>
                  <a:lnTo>
                    <a:pt x="558" y="30"/>
                  </a:lnTo>
                  <a:lnTo>
                    <a:pt x="566" y="34"/>
                  </a:lnTo>
                  <a:lnTo>
                    <a:pt x="574" y="39"/>
                  </a:lnTo>
                  <a:lnTo>
                    <a:pt x="582" y="42"/>
                  </a:lnTo>
                  <a:lnTo>
                    <a:pt x="590" y="45"/>
                  </a:lnTo>
                  <a:lnTo>
                    <a:pt x="600" y="46"/>
                  </a:lnTo>
                  <a:lnTo>
                    <a:pt x="618" y="45"/>
                  </a:lnTo>
                  <a:lnTo>
                    <a:pt x="634" y="42"/>
                  </a:lnTo>
                  <a:lnTo>
                    <a:pt x="648" y="38"/>
                  </a:lnTo>
                  <a:lnTo>
                    <a:pt x="661" y="31"/>
                  </a:lnTo>
                  <a:lnTo>
                    <a:pt x="674" y="24"/>
                  </a:lnTo>
                  <a:lnTo>
                    <a:pt x="687" y="17"/>
                  </a:lnTo>
                  <a:lnTo>
                    <a:pt x="701" y="8"/>
                  </a:lnTo>
                  <a:lnTo>
                    <a:pt x="716" y="0"/>
                  </a:lnTo>
                  <a:lnTo>
                    <a:pt x="729" y="15"/>
                  </a:lnTo>
                  <a:lnTo>
                    <a:pt x="743" y="29"/>
                  </a:lnTo>
                  <a:lnTo>
                    <a:pt x="757" y="40"/>
                  </a:lnTo>
                  <a:lnTo>
                    <a:pt x="771" y="50"/>
                  </a:lnTo>
                  <a:lnTo>
                    <a:pt x="786" y="60"/>
                  </a:lnTo>
                  <a:lnTo>
                    <a:pt x="800" y="68"/>
                  </a:lnTo>
                  <a:lnTo>
                    <a:pt x="815" y="76"/>
                  </a:lnTo>
                  <a:lnTo>
                    <a:pt x="830" y="83"/>
                  </a:lnTo>
                  <a:lnTo>
                    <a:pt x="844" y="91"/>
                  </a:lnTo>
                  <a:lnTo>
                    <a:pt x="859" y="99"/>
                  </a:lnTo>
                  <a:lnTo>
                    <a:pt x="873" y="107"/>
                  </a:lnTo>
                  <a:lnTo>
                    <a:pt x="887" y="116"/>
                  </a:lnTo>
                  <a:lnTo>
                    <a:pt x="901" y="127"/>
                  </a:lnTo>
                  <a:lnTo>
                    <a:pt x="915" y="138"/>
                  </a:lnTo>
                  <a:lnTo>
                    <a:pt x="929" y="152"/>
                  </a:lnTo>
                  <a:lnTo>
                    <a:pt x="941" y="167"/>
                  </a:lnTo>
                  <a:lnTo>
                    <a:pt x="955" y="188"/>
                  </a:lnTo>
                  <a:lnTo>
                    <a:pt x="965" y="207"/>
                  </a:lnTo>
                  <a:lnTo>
                    <a:pt x="971" y="227"/>
                  </a:lnTo>
                  <a:lnTo>
                    <a:pt x="976" y="247"/>
                  </a:lnTo>
                  <a:lnTo>
                    <a:pt x="979" y="268"/>
                  </a:lnTo>
                  <a:lnTo>
                    <a:pt x="983" y="290"/>
                  </a:lnTo>
                  <a:lnTo>
                    <a:pt x="988" y="312"/>
                  </a:lnTo>
                  <a:lnTo>
                    <a:pt x="993" y="335"/>
                  </a:lnTo>
                  <a:lnTo>
                    <a:pt x="1005" y="373"/>
                  </a:lnTo>
                  <a:lnTo>
                    <a:pt x="1015" y="408"/>
                  </a:lnTo>
                  <a:lnTo>
                    <a:pt x="1023" y="441"/>
                  </a:lnTo>
                  <a:lnTo>
                    <a:pt x="1029" y="474"/>
                  </a:lnTo>
                  <a:lnTo>
                    <a:pt x="1034" y="507"/>
                  </a:lnTo>
                  <a:lnTo>
                    <a:pt x="1037" y="541"/>
                  </a:lnTo>
                  <a:lnTo>
                    <a:pt x="1039" y="578"/>
                  </a:lnTo>
                  <a:lnTo>
                    <a:pt x="1039" y="617"/>
                  </a:lnTo>
                  <a:lnTo>
                    <a:pt x="1042" y="645"/>
                  </a:lnTo>
                  <a:lnTo>
                    <a:pt x="1046" y="670"/>
                  </a:lnTo>
                  <a:lnTo>
                    <a:pt x="1054" y="694"/>
                  </a:lnTo>
                  <a:lnTo>
                    <a:pt x="1062" y="721"/>
                  </a:lnTo>
                  <a:lnTo>
                    <a:pt x="1041" y="729"/>
                  </a:lnTo>
                  <a:lnTo>
                    <a:pt x="1020" y="736"/>
                  </a:lnTo>
                  <a:lnTo>
                    <a:pt x="999" y="743"/>
                  </a:lnTo>
                  <a:lnTo>
                    <a:pt x="979" y="749"/>
                  </a:lnTo>
                  <a:lnTo>
                    <a:pt x="960" y="753"/>
                  </a:lnTo>
                  <a:lnTo>
                    <a:pt x="941" y="758"/>
                  </a:lnTo>
                  <a:lnTo>
                    <a:pt x="922" y="760"/>
                  </a:lnTo>
                  <a:lnTo>
                    <a:pt x="903" y="764"/>
                  </a:lnTo>
                  <a:lnTo>
                    <a:pt x="884" y="766"/>
                  </a:lnTo>
                  <a:lnTo>
                    <a:pt x="865" y="767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9"/>
                  </a:lnTo>
                  <a:lnTo>
                    <a:pt x="787" y="768"/>
                  </a:lnTo>
                  <a:lnTo>
                    <a:pt x="766" y="768"/>
                  </a:lnTo>
                  <a:lnTo>
                    <a:pt x="746" y="767"/>
                  </a:lnTo>
                  <a:lnTo>
                    <a:pt x="738" y="750"/>
                  </a:lnTo>
                  <a:lnTo>
                    <a:pt x="727" y="736"/>
                  </a:lnTo>
                  <a:lnTo>
                    <a:pt x="717" y="723"/>
                  </a:lnTo>
                  <a:lnTo>
                    <a:pt x="704" y="714"/>
                  </a:lnTo>
                  <a:lnTo>
                    <a:pt x="689" y="707"/>
                  </a:lnTo>
                  <a:lnTo>
                    <a:pt x="674" y="701"/>
                  </a:lnTo>
                  <a:lnTo>
                    <a:pt x="658" y="697"/>
                  </a:lnTo>
                  <a:lnTo>
                    <a:pt x="642" y="693"/>
                  </a:lnTo>
                  <a:lnTo>
                    <a:pt x="623" y="691"/>
                  </a:lnTo>
                  <a:lnTo>
                    <a:pt x="606" y="690"/>
                  </a:lnTo>
                  <a:lnTo>
                    <a:pt x="587" y="689"/>
                  </a:lnTo>
                  <a:lnTo>
                    <a:pt x="568" y="686"/>
                  </a:lnTo>
                  <a:lnTo>
                    <a:pt x="549" y="685"/>
                  </a:lnTo>
                  <a:lnTo>
                    <a:pt x="529" y="683"/>
                  </a:lnTo>
                  <a:lnTo>
                    <a:pt x="511" y="680"/>
                  </a:lnTo>
                  <a:lnTo>
                    <a:pt x="491" y="675"/>
                  </a:lnTo>
                  <a:lnTo>
                    <a:pt x="474" y="669"/>
                  </a:lnTo>
                  <a:lnTo>
                    <a:pt x="459" y="663"/>
                  </a:lnTo>
                  <a:lnTo>
                    <a:pt x="445" y="658"/>
                  </a:lnTo>
                  <a:lnTo>
                    <a:pt x="432" y="652"/>
                  </a:lnTo>
                  <a:lnTo>
                    <a:pt x="420" y="646"/>
                  </a:lnTo>
                  <a:lnTo>
                    <a:pt x="406" y="640"/>
                  </a:lnTo>
                  <a:lnTo>
                    <a:pt x="391" y="635"/>
                  </a:lnTo>
                  <a:lnTo>
                    <a:pt x="375" y="629"/>
                  </a:lnTo>
                  <a:lnTo>
                    <a:pt x="383" y="603"/>
                  </a:lnTo>
                  <a:lnTo>
                    <a:pt x="393" y="580"/>
                  </a:lnTo>
                  <a:lnTo>
                    <a:pt x="401" y="557"/>
                  </a:lnTo>
                  <a:lnTo>
                    <a:pt x="405" y="531"/>
                  </a:lnTo>
                  <a:lnTo>
                    <a:pt x="402" y="516"/>
                  </a:lnTo>
                  <a:lnTo>
                    <a:pt x="395" y="504"/>
                  </a:lnTo>
                  <a:lnTo>
                    <a:pt x="385" y="494"/>
                  </a:lnTo>
                  <a:lnTo>
                    <a:pt x="371" y="486"/>
                  </a:lnTo>
                  <a:lnTo>
                    <a:pt x="356" y="480"/>
                  </a:lnTo>
                  <a:lnTo>
                    <a:pt x="340" y="477"/>
                  </a:lnTo>
                  <a:lnTo>
                    <a:pt x="323" y="474"/>
                  </a:lnTo>
                  <a:lnTo>
                    <a:pt x="307" y="473"/>
                  </a:lnTo>
                  <a:lnTo>
                    <a:pt x="285" y="478"/>
                  </a:lnTo>
                  <a:lnTo>
                    <a:pt x="267" y="489"/>
                  </a:lnTo>
                  <a:lnTo>
                    <a:pt x="251" y="506"/>
                  </a:lnTo>
                  <a:lnTo>
                    <a:pt x="237" y="525"/>
                  </a:lnTo>
                  <a:lnTo>
                    <a:pt x="224" y="545"/>
                  </a:lnTo>
                  <a:lnTo>
                    <a:pt x="208" y="561"/>
                  </a:lnTo>
                  <a:lnTo>
                    <a:pt x="190" y="572"/>
                  </a:lnTo>
                  <a:lnTo>
                    <a:pt x="168" y="577"/>
                  </a:lnTo>
                  <a:lnTo>
                    <a:pt x="145" y="577"/>
                  </a:lnTo>
                  <a:lnTo>
                    <a:pt x="125" y="575"/>
                  </a:lnTo>
                  <a:lnTo>
                    <a:pt x="105" y="574"/>
                  </a:lnTo>
                  <a:lnTo>
                    <a:pt x="88" y="571"/>
                  </a:lnTo>
                  <a:lnTo>
                    <a:pt x="69" y="569"/>
                  </a:lnTo>
                  <a:lnTo>
                    <a:pt x="50" y="568"/>
                  </a:lnTo>
                  <a:lnTo>
                    <a:pt x="29" y="565"/>
                  </a:lnTo>
                  <a:lnTo>
                    <a:pt x="6" y="565"/>
                  </a:lnTo>
                  <a:lnTo>
                    <a:pt x="5" y="557"/>
                  </a:lnTo>
                  <a:lnTo>
                    <a:pt x="4" y="550"/>
                  </a:lnTo>
                  <a:lnTo>
                    <a:pt x="1" y="545"/>
                  </a:lnTo>
                  <a:lnTo>
                    <a:pt x="0" y="537"/>
                  </a:lnTo>
                  <a:lnTo>
                    <a:pt x="2" y="525"/>
                  </a:lnTo>
                  <a:lnTo>
                    <a:pt x="7" y="516"/>
                  </a:lnTo>
                  <a:lnTo>
                    <a:pt x="14" y="509"/>
                  </a:lnTo>
                  <a:lnTo>
                    <a:pt x="23" y="502"/>
                  </a:lnTo>
                  <a:lnTo>
                    <a:pt x="34" y="496"/>
                  </a:lnTo>
                  <a:lnTo>
                    <a:pt x="44" y="491"/>
                  </a:lnTo>
                  <a:lnTo>
                    <a:pt x="54" y="486"/>
                  </a:lnTo>
                  <a:lnTo>
                    <a:pt x="65" y="479"/>
                  </a:lnTo>
                  <a:lnTo>
                    <a:pt x="74" y="470"/>
                  </a:lnTo>
                  <a:lnTo>
                    <a:pt x="88" y="456"/>
                  </a:lnTo>
                  <a:lnTo>
                    <a:pt x="103" y="438"/>
                  </a:lnTo>
                  <a:lnTo>
                    <a:pt x="121" y="416"/>
                  </a:lnTo>
                  <a:lnTo>
                    <a:pt x="141" y="391"/>
                  </a:lnTo>
                  <a:lnTo>
                    <a:pt x="160" y="365"/>
                  </a:lnTo>
                  <a:lnTo>
                    <a:pt x="182" y="336"/>
                  </a:lnTo>
                  <a:lnTo>
                    <a:pt x="204" y="307"/>
                  </a:lnTo>
                  <a:lnTo>
                    <a:pt x="225" y="280"/>
                  </a:lnTo>
                  <a:lnTo>
                    <a:pt x="246" y="252"/>
                  </a:lnTo>
                  <a:lnTo>
                    <a:pt x="264" y="226"/>
                  </a:lnTo>
                  <a:lnTo>
                    <a:pt x="281" y="203"/>
                  </a:lnTo>
                  <a:lnTo>
                    <a:pt x="296" y="181"/>
                  </a:lnTo>
                  <a:lnTo>
                    <a:pt x="309" y="165"/>
                  </a:lnTo>
                  <a:lnTo>
                    <a:pt x="318" y="152"/>
                  </a:lnTo>
                  <a:lnTo>
                    <a:pt x="323" y="144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04280" y="2474640"/>
              <a:ext cx="105120" cy="301320"/>
            </a:xfrm>
            <a:custGeom>
              <a:avLst/>
              <a:gdLst/>
              <a:ahLst/>
              <a:rect l="l" t="t" r="r" b="b"/>
              <a:pathLst>
                <a:path w="173" h="491">
                  <a:moveTo>
                    <a:pt x="52" y="0"/>
                  </a:moveTo>
                  <a:lnTo>
                    <a:pt x="56" y="31"/>
                  </a:lnTo>
                  <a:lnTo>
                    <a:pt x="61" y="58"/>
                  </a:lnTo>
                  <a:lnTo>
                    <a:pt x="65" y="86"/>
                  </a:lnTo>
                  <a:lnTo>
                    <a:pt x="69" y="117"/>
                  </a:lnTo>
                  <a:lnTo>
                    <a:pt x="81" y="101"/>
                  </a:lnTo>
                  <a:lnTo>
                    <a:pt x="90" y="87"/>
                  </a:lnTo>
                  <a:lnTo>
                    <a:pt x="98" y="74"/>
                  </a:lnTo>
                  <a:lnTo>
                    <a:pt x="106" y="62"/>
                  </a:lnTo>
                  <a:lnTo>
                    <a:pt x="114" y="52"/>
                  </a:lnTo>
                  <a:lnTo>
                    <a:pt x="123" y="42"/>
                  </a:lnTo>
                  <a:lnTo>
                    <a:pt x="135" y="30"/>
                  </a:lnTo>
                  <a:lnTo>
                    <a:pt x="150" y="18"/>
                  </a:lnTo>
                  <a:lnTo>
                    <a:pt x="158" y="29"/>
                  </a:lnTo>
                  <a:lnTo>
                    <a:pt x="173" y="23"/>
                  </a:lnTo>
                  <a:lnTo>
                    <a:pt x="165" y="53"/>
                  </a:lnTo>
                  <a:lnTo>
                    <a:pt x="158" y="80"/>
                  </a:lnTo>
                  <a:lnTo>
                    <a:pt x="149" y="104"/>
                  </a:lnTo>
                  <a:lnTo>
                    <a:pt x="141" y="128"/>
                  </a:lnTo>
                  <a:lnTo>
                    <a:pt x="130" y="151"/>
                  </a:lnTo>
                  <a:lnTo>
                    <a:pt x="121" y="177"/>
                  </a:lnTo>
                  <a:lnTo>
                    <a:pt x="109" y="203"/>
                  </a:lnTo>
                  <a:lnTo>
                    <a:pt x="98" y="232"/>
                  </a:lnTo>
                  <a:lnTo>
                    <a:pt x="98" y="422"/>
                  </a:lnTo>
                  <a:lnTo>
                    <a:pt x="82" y="423"/>
                  </a:lnTo>
                  <a:lnTo>
                    <a:pt x="67" y="428"/>
                  </a:lnTo>
                  <a:lnTo>
                    <a:pt x="53" y="435"/>
                  </a:lnTo>
                  <a:lnTo>
                    <a:pt x="41" y="443"/>
                  </a:lnTo>
                  <a:lnTo>
                    <a:pt x="30" y="453"/>
                  </a:lnTo>
                  <a:lnTo>
                    <a:pt x="20" y="466"/>
                  </a:lnTo>
                  <a:lnTo>
                    <a:pt x="9" y="478"/>
                  </a:lnTo>
                  <a:lnTo>
                    <a:pt x="0" y="491"/>
                  </a:lnTo>
                  <a:lnTo>
                    <a:pt x="0" y="387"/>
                  </a:lnTo>
                  <a:lnTo>
                    <a:pt x="8" y="363"/>
                  </a:lnTo>
                  <a:lnTo>
                    <a:pt x="17" y="340"/>
                  </a:lnTo>
                  <a:lnTo>
                    <a:pt x="24" y="319"/>
                  </a:lnTo>
                  <a:lnTo>
                    <a:pt x="32" y="299"/>
                  </a:lnTo>
                  <a:lnTo>
                    <a:pt x="38" y="278"/>
                  </a:lnTo>
                  <a:lnTo>
                    <a:pt x="43" y="257"/>
                  </a:lnTo>
                  <a:lnTo>
                    <a:pt x="45" y="234"/>
                  </a:lnTo>
                  <a:lnTo>
                    <a:pt x="46" y="209"/>
                  </a:lnTo>
                  <a:lnTo>
                    <a:pt x="45" y="202"/>
                  </a:lnTo>
                  <a:lnTo>
                    <a:pt x="40" y="196"/>
                  </a:lnTo>
                  <a:lnTo>
                    <a:pt x="36" y="192"/>
                  </a:lnTo>
                  <a:lnTo>
                    <a:pt x="29" y="188"/>
                  </a:lnTo>
                  <a:lnTo>
                    <a:pt x="22" y="185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12" y="168"/>
                  </a:lnTo>
                  <a:lnTo>
                    <a:pt x="14" y="135"/>
                  </a:lnTo>
                  <a:lnTo>
                    <a:pt x="21" y="104"/>
                  </a:lnTo>
                  <a:lnTo>
                    <a:pt x="27" y="74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8" y="20"/>
                  </a:lnTo>
                  <a:lnTo>
                    <a:pt x="45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05560" y="2690640"/>
              <a:ext cx="131040" cy="9180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155" y="150"/>
                  </a:moveTo>
                  <a:lnTo>
                    <a:pt x="167" y="137"/>
                  </a:lnTo>
                  <a:lnTo>
                    <a:pt x="179" y="124"/>
                  </a:lnTo>
                  <a:lnTo>
                    <a:pt x="189" y="113"/>
                  </a:lnTo>
                  <a:lnTo>
                    <a:pt x="197" y="100"/>
                  </a:lnTo>
                  <a:lnTo>
                    <a:pt x="204" y="87"/>
                  </a:lnTo>
                  <a:lnTo>
                    <a:pt x="209" y="72"/>
                  </a:lnTo>
                  <a:lnTo>
                    <a:pt x="212" y="57"/>
                  </a:lnTo>
                  <a:lnTo>
                    <a:pt x="214" y="40"/>
                  </a:lnTo>
                  <a:lnTo>
                    <a:pt x="211" y="27"/>
                  </a:lnTo>
                  <a:lnTo>
                    <a:pt x="204" y="17"/>
                  </a:lnTo>
                  <a:lnTo>
                    <a:pt x="194" y="10"/>
                  </a:lnTo>
                  <a:lnTo>
                    <a:pt x="181" y="6"/>
                  </a:lnTo>
                  <a:lnTo>
                    <a:pt x="167" y="2"/>
                  </a:lnTo>
                  <a:lnTo>
                    <a:pt x="151" y="1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99" y="1"/>
                  </a:lnTo>
                  <a:lnTo>
                    <a:pt x="79" y="6"/>
                  </a:lnTo>
                  <a:lnTo>
                    <a:pt x="59" y="14"/>
                  </a:lnTo>
                  <a:lnTo>
                    <a:pt x="42" y="24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6" y="71"/>
                  </a:lnTo>
                  <a:lnTo>
                    <a:pt x="0" y="92"/>
                  </a:lnTo>
                  <a:lnTo>
                    <a:pt x="25" y="93"/>
                  </a:lnTo>
                  <a:lnTo>
                    <a:pt x="46" y="95"/>
                  </a:lnTo>
                  <a:lnTo>
                    <a:pt x="68" y="99"/>
                  </a:lnTo>
                  <a:lnTo>
                    <a:pt x="88" y="103"/>
                  </a:lnTo>
                  <a:lnTo>
                    <a:pt x="106" y="109"/>
                  </a:lnTo>
                  <a:lnTo>
                    <a:pt x="124" y="120"/>
                  </a:lnTo>
                  <a:lnTo>
                    <a:pt x="140" y="132"/>
                  </a:lnTo>
                  <a:lnTo>
                    <a:pt x="155" y="15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3280" y="2744640"/>
              <a:ext cx="232920" cy="94320"/>
            </a:xfrm>
            <a:custGeom>
              <a:avLst/>
              <a:gdLst/>
              <a:ahLst/>
              <a:rect l="l" t="t" r="r" b="b"/>
              <a:pathLst>
                <a:path w="380" h="156">
                  <a:moveTo>
                    <a:pt x="93" y="0"/>
                  </a:moveTo>
                  <a:lnTo>
                    <a:pt x="214" y="0"/>
                  </a:lnTo>
                  <a:lnTo>
                    <a:pt x="237" y="6"/>
                  </a:lnTo>
                  <a:lnTo>
                    <a:pt x="258" y="13"/>
                  </a:lnTo>
                  <a:lnTo>
                    <a:pt x="277" y="19"/>
                  </a:lnTo>
                  <a:lnTo>
                    <a:pt x="297" y="26"/>
                  </a:lnTo>
                  <a:lnTo>
                    <a:pt x="316" y="30"/>
                  </a:lnTo>
                  <a:lnTo>
                    <a:pt x="336" y="35"/>
                  </a:lnTo>
                  <a:lnTo>
                    <a:pt x="357" y="38"/>
                  </a:lnTo>
                  <a:lnTo>
                    <a:pt x="380" y="41"/>
                  </a:lnTo>
                  <a:lnTo>
                    <a:pt x="362" y="53"/>
                  </a:lnTo>
                  <a:lnTo>
                    <a:pt x="345" y="65"/>
                  </a:lnTo>
                  <a:lnTo>
                    <a:pt x="329" y="73"/>
                  </a:lnTo>
                  <a:lnTo>
                    <a:pt x="312" y="81"/>
                  </a:lnTo>
                  <a:lnTo>
                    <a:pt x="294" y="88"/>
                  </a:lnTo>
                  <a:lnTo>
                    <a:pt x="277" y="95"/>
                  </a:lnTo>
                  <a:lnTo>
                    <a:pt x="258" y="102"/>
                  </a:lnTo>
                  <a:lnTo>
                    <a:pt x="237" y="110"/>
                  </a:lnTo>
                  <a:lnTo>
                    <a:pt x="223" y="115"/>
                  </a:lnTo>
                  <a:lnTo>
                    <a:pt x="209" y="122"/>
                  </a:lnTo>
                  <a:lnTo>
                    <a:pt x="198" y="130"/>
                  </a:lnTo>
                  <a:lnTo>
                    <a:pt x="186" y="137"/>
                  </a:lnTo>
                  <a:lnTo>
                    <a:pt x="175" y="145"/>
                  </a:lnTo>
                  <a:lnTo>
                    <a:pt x="162" y="150"/>
                  </a:lnTo>
                  <a:lnTo>
                    <a:pt x="148" y="155"/>
                  </a:lnTo>
                  <a:lnTo>
                    <a:pt x="133" y="156"/>
                  </a:lnTo>
                  <a:lnTo>
                    <a:pt x="111" y="156"/>
                  </a:lnTo>
                  <a:lnTo>
                    <a:pt x="88" y="153"/>
                  </a:lnTo>
                  <a:lnTo>
                    <a:pt x="66" y="151"/>
                  </a:lnTo>
                  <a:lnTo>
                    <a:pt x="46" y="145"/>
                  </a:lnTo>
                  <a:lnTo>
                    <a:pt x="27" y="137"/>
                  </a:lnTo>
                  <a:lnTo>
                    <a:pt x="12" y="126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9" y="62"/>
                  </a:lnTo>
                  <a:lnTo>
                    <a:pt x="19" y="50"/>
                  </a:lnTo>
                  <a:lnTo>
                    <a:pt x="33" y="38"/>
                  </a:lnTo>
                  <a:lnTo>
                    <a:pt x="47" y="28"/>
                  </a:lnTo>
                  <a:lnTo>
                    <a:pt x="63" y="19"/>
                  </a:lnTo>
                  <a:lnTo>
                    <a:pt x="78" y="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45120" y="2346840"/>
              <a:ext cx="488160" cy="216720"/>
            </a:xfrm>
            <a:custGeom>
              <a:avLst/>
              <a:gdLst/>
              <a:ahLst/>
              <a:rect l="l" t="t" r="r" b="b"/>
              <a:pathLst>
                <a:path w="797" h="352">
                  <a:moveTo>
                    <a:pt x="0" y="299"/>
                  </a:moveTo>
                  <a:lnTo>
                    <a:pt x="9" y="284"/>
                  </a:lnTo>
                  <a:lnTo>
                    <a:pt x="20" y="269"/>
                  </a:lnTo>
                  <a:lnTo>
                    <a:pt x="29" y="256"/>
                  </a:lnTo>
                  <a:lnTo>
                    <a:pt x="38" y="242"/>
                  </a:lnTo>
                  <a:lnTo>
                    <a:pt x="46" y="228"/>
                  </a:lnTo>
                  <a:lnTo>
                    <a:pt x="52" y="213"/>
                  </a:lnTo>
                  <a:lnTo>
                    <a:pt x="57" y="197"/>
                  </a:lnTo>
                  <a:lnTo>
                    <a:pt x="58" y="178"/>
                  </a:lnTo>
                  <a:lnTo>
                    <a:pt x="55" y="160"/>
                  </a:lnTo>
                  <a:lnTo>
                    <a:pt x="50" y="144"/>
                  </a:lnTo>
                  <a:lnTo>
                    <a:pt x="43" y="128"/>
                  </a:lnTo>
                  <a:lnTo>
                    <a:pt x="41" y="109"/>
                  </a:lnTo>
                  <a:lnTo>
                    <a:pt x="41" y="79"/>
                  </a:lnTo>
                  <a:lnTo>
                    <a:pt x="41" y="54"/>
                  </a:lnTo>
                  <a:lnTo>
                    <a:pt x="41" y="29"/>
                  </a:lnTo>
                  <a:lnTo>
                    <a:pt x="41" y="0"/>
                  </a:lnTo>
                  <a:lnTo>
                    <a:pt x="59" y="1"/>
                  </a:lnTo>
                  <a:lnTo>
                    <a:pt x="76" y="1"/>
                  </a:lnTo>
                  <a:lnTo>
                    <a:pt x="92" y="1"/>
                  </a:lnTo>
                  <a:lnTo>
                    <a:pt x="108" y="1"/>
                  </a:lnTo>
                  <a:lnTo>
                    <a:pt x="125" y="1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204" y="0"/>
                  </a:lnTo>
                  <a:lnTo>
                    <a:pt x="229" y="0"/>
                  </a:lnTo>
                  <a:lnTo>
                    <a:pt x="255" y="0"/>
                  </a:lnTo>
                  <a:lnTo>
                    <a:pt x="279" y="0"/>
                  </a:lnTo>
                  <a:lnTo>
                    <a:pt x="302" y="1"/>
                  </a:lnTo>
                  <a:lnTo>
                    <a:pt x="325" y="1"/>
                  </a:lnTo>
                  <a:lnTo>
                    <a:pt x="348" y="2"/>
                  </a:lnTo>
                  <a:lnTo>
                    <a:pt x="370" y="3"/>
                  </a:lnTo>
                  <a:lnTo>
                    <a:pt x="392" y="6"/>
                  </a:lnTo>
                  <a:lnTo>
                    <a:pt x="415" y="7"/>
                  </a:lnTo>
                  <a:lnTo>
                    <a:pt x="437" y="10"/>
                  </a:lnTo>
                  <a:lnTo>
                    <a:pt x="460" y="14"/>
                  </a:lnTo>
                  <a:lnTo>
                    <a:pt x="484" y="17"/>
                  </a:lnTo>
                  <a:lnTo>
                    <a:pt x="508" y="23"/>
                  </a:lnTo>
                  <a:lnTo>
                    <a:pt x="534" y="28"/>
                  </a:lnTo>
                  <a:lnTo>
                    <a:pt x="560" y="34"/>
                  </a:lnTo>
                  <a:lnTo>
                    <a:pt x="682" y="40"/>
                  </a:lnTo>
                  <a:lnTo>
                    <a:pt x="697" y="36"/>
                  </a:lnTo>
                  <a:lnTo>
                    <a:pt x="711" y="33"/>
                  </a:lnTo>
                  <a:lnTo>
                    <a:pt x="725" y="31"/>
                  </a:lnTo>
                  <a:lnTo>
                    <a:pt x="739" y="31"/>
                  </a:lnTo>
                  <a:lnTo>
                    <a:pt x="753" y="32"/>
                  </a:lnTo>
                  <a:lnTo>
                    <a:pt x="766" y="34"/>
                  </a:lnTo>
                  <a:lnTo>
                    <a:pt x="781" y="37"/>
                  </a:lnTo>
                  <a:lnTo>
                    <a:pt x="797" y="40"/>
                  </a:lnTo>
                  <a:lnTo>
                    <a:pt x="787" y="56"/>
                  </a:lnTo>
                  <a:lnTo>
                    <a:pt x="774" y="69"/>
                  </a:lnTo>
                  <a:lnTo>
                    <a:pt x="762" y="81"/>
                  </a:lnTo>
                  <a:lnTo>
                    <a:pt x="748" y="90"/>
                  </a:lnTo>
                  <a:lnTo>
                    <a:pt x="733" y="98"/>
                  </a:lnTo>
                  <a:lnTo>
                    <a:pt x="718" y="104"/>
                  </a:lnTo>
                  <a:lnTo>
                    <a:pt x="702" y="109"/>
                  </a:lnTo>
                  <a:lnTo>
                    <a:pt x="686" y="114"/>
                  </a:lnTo>
                  <a:lnTo>
                    <a:pt x="670" y="119"/>
                  </a:lnTo>
                  <a:lnTo>
                    <a:pt x="652" y="122"/>
                  </a:lnTo>
                  <a:lnTo>
                    <a:pt x="635" y="127"/>
                  </a:lnTo>
                  <a:lnTo>
                    <a:pt x="618" y="131"/>
                  </a:lnTo>
                  <a:lnTo>
                    <a:pt x="600" y="137"/>
                  </a:lnTo>
                  <a:lnTo>
                    <a:pt x="583" y="144"/>
                  </a:lnTo>
                  <a:lnTo>
                    <a:pt x="566" y="152"/>
                  </a:lnTo>
                  <a:lnTo>
                    <a:pt x="549" y="161"/>
                  </a:lnTo>
                  <a:lnTo>
                    <a:pt x="529" y="174"/>
                  </a:lnTo>
                  <a:lnTo>
                    <a:pt x="509" y="185"/>
                  </a:lnTo>
                  <a:lnTo>
                    <a:pt x="492" y="197"/>
                  </a:lnTo>
                  <a:lnTo>
                    <a:pt x="476" y="207"/>
                  </a:lnTo>
                  <a:lnTo>
                    <a:pt x="459" y="220"/>
                  </a:lnTo>
                  <a:lnTo>
                    <a:pt x="443" y="233"/>
                  </a:lnTo>
                  <a:lnTo>
                    <a:pt x="426" y="248"/>
                  </a:lnTo>
                  <a:lnTo>
                    <a:pt x="410" y="265"/>
                  </a:lnTo>
                  <a:lnTo>
                    <a:pt x="397" y="280"/>
                  </a:lnTo>
                  <a:lnTo>
                    <a:pt x="385" y="296"/>
                  </a:lnTo>
                  <a:lnTo>
                    <a:pt x="373" y="310"/>
                  </a:lnTo>
                  <a:lnTo>
                    <a:pt x="363" y="324"/>
                  </a:lnTo>
                  <a:lnTo>
                    <a:pt x="350" y="335"/>
                  </a:lnTo>
                  <a:lnTo>
                    <a:pt x="337" y="344"/>
                  </a:lnTo>
                  <a:lnTo>
                    <a:pt x="320" y="350"/>
                  </a:lnTo>
                  <a:lnTo>
                    <a:pt x="301" y="352"/>
                  </a:lnTo>
                  <a:lnTo>
                    <a:pt x="294" y="351"/>
                  </a:lnTo>
                  <a:lnTo>
                    <a:pt x="287" y="350"/>
                  </a:lnTo>
                  <a:lnTo>
                    <a:pt x="280" y="348"/>
                  </a:lnTo>
                  <a:lnTo>
                    <a:pt x="274" y="346"/>
                  </a:lnTo>
                  <a:lnTo>
                    <a:pt x="269" y="342"/>
                  </a:lnTo>
                  <a:lnTo>
                    <a:pt x="262" y="340"/>
                  </a:lnTo>
                  <a:lnTo>
                    <a:pt x="256" y="337"/>
                  </a:lnTo>
                  <a:lnTo>
                    <a:pt x="249" y="335"/>
                  </a:lnTo>
                  <a:lnTo>
                    <a:pt x="133" y="335"/>
                  </a:lnTo>
                  <a:lnTo>
                    <a:pt x="115" y="332"/>
                  </a:lnTo>
                  <a:lnTo>
                    <a:pt x="99" y="327"/>
                  </a:lnTo>
                  <a:lnTo>
                    <a:pt x="82" y="322"/>
                  </a:lnTo>
                  <a:lnTo>
                    <a:pt x="66" y="318"/>
                  </a:lnTo>
                  <a:lnTo>
                    <a:pt x="50" y="313"/>
                  </a:lnTo>
                  <a:lnTo>
                    <a:pt x="34" y="309"/>
                  </a:lnTo>
                  <a:lnTo>
                    <a:pt x="16" y="304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969600" y="2386080"/>
              <a:ext cx="382680" cy="56160"/>
            </a:xfrm>
            <a:custGeom>
              <a:avLst/>
              <a:gdLst/>
              <a:ahLst/>
              <a:rect l="l" t="t" r="r" b="b"/>
              <a:pathLst>
                <a:path w="624" h="92">
                  <a:moveTo>
                    <a:pt x="17" y="0"/>
                  </a:moveTo>
                  <a:lnTo>
                    <a:pt x="214" y="35"/>
                  </a:lnTo>
                  <a:lnTo>
                    <a:pt x="624" y="35"/>
                  </a:lnTo>
                  <a:lnTo>
                    <a:pt x="612" y="52"/>
                  </a:lnTo>
                  <a:lnTo>
                    <a:pt x="597" y="66"/>
                  </a:lnTo>
                  <a:lnTo>
                    <a:pt x="581" y="76"/>
                  </a:lnTo>
                  <a:lnTo>
                    <a:pt x="563" y="83"/>
                  </a:lnTo>
                  <a:lnTo>
                    <a:pt x="543" y="88"/>
                  </a:lnTo>
                  <a:lnTo>
                    <a:pt x="521" y="91"/>
                  </a:lnTo>
                  <a:lnTo>
                    <a:pt x="500" y="92"/>
                  </a:lnTo>
                  <a:lnTo>
                    <a:pt x="477" y="92"/>
                  </a:lnTo>
                  <a:lnTo>
                    <a:pt x="459" y="92"/>
                  </a:lnTo>
                  <a:lnTo>
                    <a:pt x="442" y="92"/>
                  </a:lnTo>
                  <a:lnTo>
                    <a:pt x="427" y="91"/>
                  </a:lnTo>
                  <a:lnTo>
                    <a:pt x="411" y="90"/>
                  </a:lnTo>
                  <a:lnTo>
                    <a:pt x="396" y="90"/>
                  </a:lnTo>
                  <a:lnTo>
                    <a:pt x="382" y="89"/>
                  </a:lnTo>
                  <a:lnTo>
                    <a:pt x="367" y="88"/>
                  </a:lnTo>
                  <a:lnTo>
                    <a:pt x="353" y="87"/>
                  </a:lnTo>
                  <a:lnTo>
                    <a:pt x="339" y="86"/>
                  </a:lnTo>
                  <a:lnTo>
                    <a:pt x="326" y="83"/>
                  </a:lnTo>
                  <a:lnTo>
                    <a:pt x="311" y="82"/>
                  </a:lnTo>
                  <a:lnTo>
                    <a:pt x="296" y="81"/>
                  </a:lnTo>
                  <a:lnTo>
                    <a:pt x="281" y="80"/>
                  </a:lnTo>
                  <a:lnTo>
                    <a:pt x="265" y="77"/>
                  </a:lnTo>
                  <a:lnTo>
                    <a:pt x="248" y="76"/>
                  </a:lnTo>
                  <a:lnTo>
                    <a:pt x="231" y="75"/>
                  </a:lnTo>
                  <a:lnTo>
                    <a:pt x="210" y="74"/>
                  </a:lnTo>
                  <a:lnTo>
                    <a:pt x="191" y="72"/>
                  </a:lnTo>
                  <a:lnTo>
                    <a:pt x="172" y="71"/>
                  </a:lnTo>
                  <a:lnTo>
                    <a:pt x="156" y="69"/>
                  </a:lnTo>
                  <a:lnTo>
                    <a:pt x="139" y="68"/>
                  </a:lnTo>
                  <a:lnTo>
                    <a:pt x="120" y="67"/>
                  </a:lnTo>
                  <a:lnTo>
                    <a:pt x="101" y="65"/>
                  </a:lnTo>
                  <a:lnTo>
                    <a:pt x="80" y="64"/>
                  </a:lnTo>
                  <a:lnTo>
                    <a:pt x="67" y="64"/>
                  </a:lnTo>
                  <a:lnTo>
                    <a:pt x="54" y="64"/>
                  </a:lnTo>
                  <a:lnTo>
                    <a:pt x="40" y="62"/>
                  </a:lnTo>
                  <a:lnTo>
                    <a:pt x="27" y="61"/>
                  </a:lnTo>
                  <a:lnTo>
                    <a:pt x="17" y="58"/>
                  </a:lnTo>
                  <a:lnTo>
                    <a:pt x="8" y="53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9" y="18"/>
                  </a:lnTo>
                  <a:lnTo>
                    <a:pt x="14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367400" y="2372760"/>
              <a:ext cx="88200" cy="353160"/>
            </a:xfrm>
            <a:custGeom>
              <a:avLst/>
              <a:gdLst/>
              <a:ahLst/>
              <a:rect l="l" t="t" r="r" b="b"/>
              <a:pathLst>
                <a:path w="144" h="577">
                  <a:moveTo>
                    <a:pt x="144" y="0"/>
                  </a:moveTo>
                  <a:lnTo>
                    <a:pt x="119" y="3"/>
                  </a:lnTo>
                  <a:lnTo>
                    <a:pt x="93" y="7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7" y="32"/>
                  </a:lnTo>
                  <a:lnTo>
                    <a:pt x="12" y="46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0" y="572"/>
                  </a:lnTo>
                  <a:lnTo>
                    <a:pt x="8" y="573"/>
                  </a:lnTo>
                  <a:lnTo>
                    <a:pt x="15" y="574"/>
                  </a:lnTo>
                  <a:lnTo>
                    <a:pt x="22" y="574"/>
                  </a:lnTo>
                  <a:lnTo>
                    <a:pt x="29" y="575"/>
                  </a:lnTo>
                  <a:lnTo>
                    <a:pt x="36" y="576"/>
                  </a:lnTo>
                  <a:lnTo>
                    <a:pt x="43" y="576"/>
                  </a:lnTo>
                  <a:lnTo>
                    <a:pt x="50" y="577"/>
                  </a:lnTo>
                  <a:lnTo>
                    <a:pt x="58" y="577"/>
                  </a:lnTo>
                  <a:lnTo>
                    <a:pt x="75" y="575"/>
                  </a:lnTo>
                  <a:lnTo>
                    <a:pt x="89" y="571"/>
                  </a:lnTo>
                  <a:lnTo>
                    <a:pt x="103" y="562"/>
                  </a:lnTo>
                  <a:lnTo>
                    <a:pt x="114" y="551"/>
                  </a:lnTo>
                  <a:lnTo>
                    <a:pt x="123" y="538"/>
                  </a:lnTo>
                  <a:lnTo>
                    <a:pt x="131" y="523"/>
                  </a:lnTo>
                  <a:lnTo>
                    <a:pt x="138" y="507"/>
                  </a:lnTo>
                  <a:lnTo>
                    <a:pt x="144" y="49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88920" y="2418120"/>
              <a:ext cx="88200" cy="297720"/>
            </a:xfrm>
            <a:custGeom>
              <a:avLst/>
              <a:gdLst/>
              <a:ahLst/>
              <a:rect l="l" t="t" r="r" b="b"/>
              <a:pathLst>
                <a:path w="144" h="485">
                  <a:moveTo>
                    <a:pt x="121" y="0"/>
                  </a:moveTo>
                  <a:lnTo>
                    <a:pt x="134" y="40"/>
                  </a:lnTo>
                  <a:lnTo>
                    <a:pt x="141" y="77"/>
                  </a:lnTo>
                  <a:lnTo>
                    <a:pt x="144" y="113"/>
                  </a:lnTo>
                  <a:lnTo>
                    <a:pt x="144" y="149"/>
                  </a:lnTo>
                  <a:lnTo>
                    <a:pt x="142" y="183"/>
                  </a:lnTo>
                  <a:lnTo>
                    <a:pt x="140" y="220"/>
                  </a:lnTo>
                  <a:lnTo>
                    <a:pt x="139" y="258"/>
                  </a:lnTo>
                  <a:lnTo>
                    <a:pt x="139" y="301"/>
                  </a:lnTo>
                  <a:lnTo>
                    <a:pt x="139" y="474"/>
                  </a:lnTo>
                  <a:lnTo>
                    <a:pt x="132" y="476"/>
                  </a:lnTo>
                  <a:lnTo>
                    <a:pt x="127" y="481"/>
                  </a:lnTo>
                  <a:lnTo>
                    <a:pt x="122" y="484"/>
                  </a:lnTo>
                  <a:lnTo>
                    <a:pt x="116" y="485"/>
                  </a:lnTo>
                  <a:lnTo>
                    <a:pt x="105" y="484"/>
                  </a:lnTo>
                  <a:lnTo>
                    <a:pt x="97" y="483"/>
                  </a:lnTo>
                  <a:lnTo>
                    <a:pt x="89" y="481"/>
                  </a:lnTo>
                  <a:lnTo>
                    <a:pt x="81" y="477"/>
                  </a:lnTo>
                  <a:lnTo>
                    <a:pt x="73" y="474"/>
                  </a:lnTo>
                  <a:lnTo>
                    <a:pt x="65" y="471"/>
                  </a:lnTo>
                  <a:lnTo>
                    <a:pt x="56" y="469"/>
                  </a:lnTo>
                  <a:lnTo>
                    <a:pt x="46" y="468"/>
                  </a:lnTo>
                  <a:lnTo>
                    <a:pt x="43" y="413"/>
                  </a:lnTo>
                  <a:lnTo>
                    <a:pt x="41" y="364"/>
                  </a:lnTo>
                  <a:lnTo>
                    <a:pt x="36" y="316"/>
                  </a:lnTo>
                  <a:lnTo>
                    <a:pt x="29" y="260"/>
                  </a:lnTo>
                  <a:lnTo>
                    <a:pt x="29" y="87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2"/>
                  </a:lnTo>
                  <a:lnTo>
                    <a:pt x="7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5" y="29"/>
                  </a:lnTo>
                  <a:lnTo>
                    <a:pt x="19" y="20"/>
                  </a:lnTo>
                  <a:lnTo>
                    <a:pt x="31" y="13"/>
                  </a:lnTo>
                  <a:lnTo>
                    <a:pt x="45" y="9"/>
                  </a:lnTo>
                  <a:lnTo>
                    <a:pt x="60" y="7"/>
                  </a:lnTo>
                  <a:lnTo>
                    <a:pt x="74" y="6"/>
                  </a:lnTo>
                  <a:lnTo>
                    <a:pt x="89" y="5"/>
                  </a:lnTo>
                  <a:lnTo>
                    <a:pt x="105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3a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41680" y="2432880"/>
              <a:ext cx="170280" cy="279360"/>
            </a:xfrm>
            <a:custGeom>
              <a:avLst/>
              <a:gdLst/>
              <a:ahLst/>
              <a:rect l="l" t="t" r="r" b="b"/>
              <a:pathLst>
                <a:path w="279" h="458">
                  <a:moveTo>
                    <a:pt x="277" y="0"/>
                  </a:moveTo>
                  <a:lnTo>
                    <a:pt x="267" y="64"/>
                  </a:lnTo>
                  <a:lnTo>
                    <a:pt x="263" y="121"/>
                  </a:lnTo>
                  <a:lnTo>
                    <a:pt x="264" y="175"/>
                  </a:lnTo>
                  <a:lnTo>
                    <a:pt x="268" y="227"/>
                  </a:lnTo>
                  <a:lnTo>
                    <a:pt x="272" y="279"/>
                  </a:lnTo>
                  <a:lnTo>
                    <a:pt x="277" y="333"/>
                  </a:lnTo>
                  <a:lnTo>
                    <a:pt x="279" y="391"/>
                  </a:lnTo>
                  <a:lnTo>
                    <a:pt x="277" y="454"/>
                  </a:lnTo>
                  <a:lnTo>
                    <a:pt x="255" y="455"/>
                  </a:lnTo>
                  <a:lnTo>
                    <a:pt x="234" y="456"/>
                  </a:lnTo>
                  <a:lnTo>
                    <a:pt x="215" y="458"/>
                  </a:lnTo>
                  <a:lnTo>
                    <a:pt x="196" y="458"/>
                  </a:lnTo>
                  <a:lnTo>
                    <a:pt x="180" y="458"/>
                  </a:lnTo>
                  <a:lnTo>
                    <a:pt x="164" y="458"/>
                  </a:lnTo>
                  <a:lnTo>
                    <a:pt x="148" y="458"/>
                  </a:lnTo>
                  <a:lnTo>
                    <a:pt x="133" y="458"/>
                  </a:lnTo>
                  <a:lnTo>
                    <a:pt x="118" y="456"/>
                  </a:lnTo>
                  <a:lnTo>
                    <a:pt x="103" y="456"/>
                  </a:lnTo>
                  <a:lnTo>
                    <a:pt x="87" y="455"/>
                  </a:lnTo>
                  <a:lnTo>
                    <a:pt x="72" y="455"/>
                  </a:lnTo>
                  <a:lnTo>
                    <a:pt x="56" y="455"/>
                  </a:lnTo>
                  <a:lnTo>
                    <a:pt x="39" y="454"/>
                  </a:lnTo>
                  <a:lnTo>
                    <a:pt x="20" y="454"/>
                  </a:lnTo>
                  <a:lnTo>
                    <a:pt x="0" y="454"/>
                  </a:lnTo>
                  <a:lnTo>
                    <a:pt x="0" y="255"/>
                  </a:lnTo>
                  <a:lnTo>
                    <a:pt x="6" y="228"/>
                  </a:lnTo>
                  <a:lnTo>
                    <a:pt x="14" y="205"/>
                  </a:lnTo>
                  <a:lnTo>
                    <a:pt x="25" y="184"/>
                  </a:lnTo>
                  <a:lnTo>
                    <a:pt x="37" y="166"/>
                  </a:lnTo>
                  <a:lnTo>
                    <a:pt x="51" y="149"/>
                  </a:lnTo>
                  <a:lnTo>
                    <a:pt x="67" y="134"/>
                  </a:lnTo>
                  <a:lnTo>
                    <a:pt x="85" y="119"/>
                  </a:lnTo>
                  <a:lnTo>
                    <a:pt x="103" y="106"/>
                  </a:lnTo>
                  <a:lnTo>
                    <a:pt x="123" y="93"/>
                  </a:lnTo>
                  <a:lnTo>
                    <a:pt x="145" y="81"/>
                  </a:lnTo>
                  <a:lnTo>
                    <a:pt x="165" y="69"/>
                  </a:lnTo>
                  <a:lnTo>
                    <a:pt x="187" y="57"/>
                  </a:lnTo>
                  <a:lnTo>
                    <a:pt x="210" y="44"/>
                  </a:lnTo>
                  <a:lnTo>
                    <a:pt x="232" y="30"/>
                  </a:lnTo>
                  <a:lnTo>
                    <a:pt x="255" y="1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25640" y="2782440"/>
              <a:ext cx="173880" cy="180360"/>
            </a:xfrm>
            <a:custGeom>
              <a:avLst/>
              <a:gdLst/>
              <a:ahLst/>
              <a:rect l="l" t="t" r="r" b="b"/>
              <a:pathLst>
                <a:path w="285" h="293">
                  <a:moveTo>
                    <a:pt x="0" y="86"/>
                  </a:moveTo>
                  <a:lnTo>
                    <a:pt x="19" y="80"/>
                  </a:lnTo>
                  <a:lnTo>
                    <a:pt x="37" y="74"/>
                  </a:lnTo>
                  <a:lnTo>
                    <a:pt x="54" y="70"/>
                  </a:lnTo>
                  <a:lnTo>
                    <a:pt x="70" y="65"/>
                  </a:lnTo>
                  <a:lnTo>
                    <a:pt x="87" y="61"/>
                  </a:lnTo>
                  <a:lnTo>
                    <a:pt x="102" y="56"/>
                  </a:lnTo>
                  <a:lnTo>
                    <a:pt x="118" y="51"/>
                  </a:lnTo>
                  <a:lnTo>
                    <a:pt x="133" y="46"/>
                  </a:lnTo>
                  <a:lnTo>
                    <a:pt x="148" y="41"/>
                  </a:lnTo>
                  <a:lnTo>
                    <a:pt x="163" y="36"/>
                  </a:lnTo>
                  <a:lnTo>
                    <a:pt x="178" y="31"/>
                  </a:lnTo>
                  <a:lnTo>
                    <a:pt x="194" y="26"/>
                  </a:lnTo>
                  <a:lnTo>
                    <a:pt x="210" y="20"/>
                  </a:lnTo>
                  <a:lnTo>
                    <a:pt x="226" y="13"/>
                  </a:lnTo>
                  <a:lnTo>
                    <a:pt x="243" y="6"/>
                  </a:lnTo>
                  <a:lnTo>
                    <a:pt x="262" y="0"/>
                  </a:lnTo>
                  <a:lnTo>
                    <a:pt x="274" y="35"/>
                  </a:lnTo>
                  <a:lnTo>
                    <a:pt x="281" y="68"/>
                  </a:lnTo>
                  <a:lnTo>
                    <a:pt x="284" y="100"/>
                  </a:lnTo>
                  <a:lnTo>
                    <a:pt x="285" y="138"/>
                  </a:lnTo>
                  <a:lnTo>
                    <a:pt x="282" y="154"/>
                  </a:lnTo>
                  <a:lnTo>
                    <a:pt x="277" y="167"/>
                  </a:lnTo>
                  <a:lnTo>
                    <a:pt x="269" y="178"/>
                  </a:lnTo>
                  <a:lnTo>
                    <a:pt x="257" y="189"/>
                  </a:lnTo>
                  <a:lnTo>
                    <a:pt x="244" y="197"/>
                  </a:lnTo>
                  <a:lnTo>
                    <a:pt x="229" y="205"/>
                  </a:lnTo>
                  <a:lnTo>
                    <a:pt x="215" y="212"/>
                  </a:lnTo>
                  <a:lnTo>
                    <a:pt x="200" y="218"/>
                  </a:lnTo>
                  <a:lnTo>
                    <a:pt x="186" y="225"/>
                  </a:lnTo>
                  <a:lnTo>
                    <a:pt x="173" y="231"/>
                  </a:lnTo>
                  <a:lnTo>
                    <a:pt x="162" y="238"/>
                  </a:lnTo>
                  <a:lnTo>
                    <a:pt x="149" y="244"/>
                  </a:lnTo>
                  <a:lnTo>
                    <a:pt x="137" y="248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3" y="263"/>
                  </a:lnTo>
                  <a:lnTo>
                    <a:pt x="91" y="268"/>
                  </a:lnTo>
                  <a:lnTo>
                    <a:pt x="79" y="271"/>
                  </a:lnTo>
                  <a:lnTo>
                    <a:pt x="67" y="276"/>
                  </a:lnTo>
                  <a:lnTo>
                    <a:pt x="54" y="280"/>
                  </a:lnTo>
                  <a:lnTo>
                    <a:pt x="42" y="283"/>
                  </a:lnTo>
                  <a:lnTo>
                    <a:pt x="29" y="286"/>
                  </a:lnTo>
                  <a:lnTo>
                    <a:pt x="15" y="290"/>
                  </a:lnTo>
                  <a:lnTo>
                    <a:pt x="0" y="2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13440" y="2701440"/>
              <a:ext cx="439200" cy="123840"/>
            </a:xfrm>
            <a:custGeom>
              <a:avLst/>
              <a:gdLst/>
              <a:ahLst/>
              <a:rect l="l" t="t" r="r" b="b"/>
              <a:pathLst>
                <a:path w="717" h="202">
                  <a:moveTo>
                    <a:pt x="144" y="0"/>
                  </a:moveTo>
                  <a:lnTo>
                    <a:pt x="140" y="2"/>
                  </a:lnTo>
                  <a:lnTo>
                    <a:pt x="129" y="7"/>
                  </a:lnTo>
                  <a:lnTo>
                    <a:pt x="112" y="15"/>
                  </a:lnTo>
                  <a:lnTo>
                    <a:pt x="91" y="24"/>
                  </a:lnTo>
                  <a:lnTo>
                    <a:pt x="68" y="36"/>
                  </a:lnTo>
                  <a:lnTo>
                    <a:pt x="45" y="48"/>
                  </a:lnTo>
                  <a:lnTo>
                    <a:pt x="21" y="62"/>
                  </a:lnTo>
                  <a:lnTo>
                    <a:pt x="0" y="75"/>
                  </a:lnTo>
                  <a:lnTo>
                    <a:pt x="20" y="85"/>
                  </a:lnTo>
                  <a:lnTo>
                    <a:pt x="38" y="95"/>
                  </a:lnTo>
                  <a:lnTo>
                    <a:pt x="57" y="103"/>
                  </a:lnTo>
                  <a:lnTo>
                    <a:pt x="76" y="108"/>
                  </a:lnTo>
                  <a:lnTo>
                    <a:pt x="95" y="114"/>
                  </a:lnTo>
                  <a:lnTo>
                    <a:pt x="113" y="119"/>
                  </a:lnTo>
                  <a:lnTo>
                    <a:pt x="132" y="122"/>
                  </a:lnTo>
                  <a:lnTo>
                    <a:pt x="151" y="126"/>
                  </a:lnTo>
                  <a:lnTo>
                    <a:pt x="170" y="128"/>
                  </a:lnTo>
                  <a:lnTo>
                    <a:pt x="189" y="130"/>
                  </a:lnTo>
                  <a:lnTo>
                    <a:pt x="209" y="133"/>
                  </a:lnTo>
                  <a:lnTo>
                    <a:pt x="228" y="135"/>
                  </a:lnTo>
                  <a:lnTo>
                    <a:pt x="249" y="136"/>
                  </a:lnTo>
                  <a:lnTo>
                    <a:pt x="270" y="138"/>
                  </a:lnTo>
                  <a:lnTo>
                    <a:pt x="291" y="141"/>
                  </a:lnTo>
                  <a:lnTo>
                    <a:pt x="313" y="144"/>
                  </a:lnTo>
                  <a:lnTo>
                    <a:pt x="336" y="148"/>
                  </a:lnTo>
                  <a:lnTo>
                    <a:pt x="358" y="152"/>
                  </a:lnTo>
                  <a:lnTo>
                    <a:pt x="378" y="156"/>
                  </a:lnTo>
                  <a:lnTo>
                    <a:pt x="399" y="160"/>
                  </a:lnTo>
                  <a:lnTo>
                    <a:pt x="417" y="165"/>
                  </a:lnTo>
                  <a:lnTo>
                    <a:pt x="437" y="169"/>
                  </a:lnTo>
                  <a:lnTo>
                    <a:pt x="455" y="174"/>
                  </a:lnTo>
                  <a:lnTo>
                    <a:pt x="474" y="178"/>
                  </a:lnTo>
                  <a:lnTo>
                    <a:pt x="492" y="182"/>
                  </a:lnTo>
                  <a:lnTo>
                    <a:pt x="511" y="186"/>
                  </a:lnTo>
                  <a:lnTo>
                    <a:pt x="529" y="190"/>
                  </a:lnTo>
                  <a:lnTo>
                    <a:pt x="549" y="192"/>
                  </a:lnTo>
                  <a:lnTo>
                    <a:pt x="570" y="196"/>
                  </a:lnTo>
                  <a:lnTo>
                    <a:pt x="590" y="198"/>
                  </a:lnTo>
                  <a:lnTo>
                    <a:pt x="613" y="201"/>
                  </a:lnTo>
                  <a:lnTo>
                    <a:pt x="636" y="202"/>
                  </a:lnTo>
                  <a:lnTo>
                    <a:pt x="631" y="196"/>
                  </a:lnTo>
                  <a:lnTo>
                    <a:pt x="625" y="190"/>
                  </a:lnTo>
                  <a:lnTo>
                    <a:pt x="619" y="186"/>
                  </a:lnTo>
                  <a:lnTo>
                    <a:pt x="613" y="181"/>
                  </a:lnTo>
                  <a:lnTo>
                    <a:pt x="608" y="176"/>
                  </a:lnTo>
                  <a:lnTo>
                    <a:pt x="602" y="172"/>
                  </a:lnTo>
                  <a:lnTo>
                    <a:pt x="595" y="166"/>
                  </a:lnTo>
                  <a:lnTo>
                    <a:pt x="589" y="161"/>
                  </a:lnTo>
                  <a:lnTo>
                    <a:pt x="601" y="144"/>
                  </a:lnTo>
                  <a:lnTo>
                    <a:pt x="613" y="130"/>
                  </a:lnTo>
                  <a:lnTo>
                    <a:pt x="627" y="120"/>
                  </a:lnTo>
                  <a:lnTo>
                    <a:pt x="643" y="111"/>
                  </a:lnTo>
                  <a:lnTo>
                    <a:pt x="659" y="104"/>
                  </a:lnTo>
                  <a:lnTo>
                    <a:pt x="678" y="97"/>
                  </a:lnTo>
                  <a:lnTo>
                    <a:pt x="696" y="91"/>
                  </a:lnTo>
                  <a:lnTo>
                    <a:pt x="717" y="86"/>
                  </a:lnTo>
                  <a:lnTo>
                    <a:pt x="468" y="28"/>
                  </a:lnTo>
                  <a:lnTo>
                    <a:pt x="455" y="28"/>
                  </a:lnTo>
                  <a:lnTo>
                    <a:pt x="439" y="27"/>
                  </a:lnTo>
                  <a:lnTo>
                    <a:pt x="422" y="25"/>
                  </a:lnTo>
                  <a:lnTo>
                    <a:pt x="404" y="24"/>
                  </a:lnTo>
                  <a:lnTo>
                    <a:pt x="383" y="23"/>
                  </a:lnTo>
                  <a:lnTo>
                    <a:pt x="362" y="21"/>
                  </a:lnTo>
                  <a:lnTo>
                    <a:pt x="340" y="20"/>
                  </a:lnTo>
                  <a:lnTo>
                    <a:pt x="318" y="17"/>
                  </a:lnTo>
                  <a:lnTo>
                    <a:pt x="295" y="16"/>
                  </a:lnTo>
                  <a:lnTo>
                    <a:pt x="273" y="14"/>
                  </a:lnTo>
                  <a:lnTo>
                    <a:pt x="253" y="13"/>
                  </a:lnTo>
                  <a:lnTo>
                    <a:pt x="232" y="12"/>
                  </a:lnTo>
                  <a:lnTo>
                    <a:pt x="213" y="12"/>
                  </a:lnTo>
                  <a:lnTo>
                    <a:pt x="196" y="10"/>
                  </a:lnTo>
                  <a:lnTo>
                    <a:pt x="180" y="10"/>
                  </a:lnTo>
                  <a:lnTo>
                    <a:pt x="167" y="1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0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089840" y="2712600"/>
              <a:ext cx="204840" cy="48960"/>
            </a:xfrm>
            <a:custGeom>
              <a:avLst/>
              <a:gdLst/>
              <a:ahLst/>
              <a:rect l="l" t="t" r="r" b="b"/>
              <a:pathLst>
                <a:path w="334" h="81">
                  <a:moveTo>
                    <a:pt x="0" y="0"/>
                  </a:moveTo>
                  <a:lnTo>
                    <a:pt x="16" y="18"/>
                  </a:lnTo>
                  <a:lnTo>
                    <a:pt x="33" y="33"/>
                  </a:lnTo>
                  <a:lnTo>
                    <a:pt x="50" y="45"/>
                  </a:lnTo>
                  <a:lnTo>
                    <a:pt x="69" y="56"/>
                  </a:lnTo>
                  <a:lnTo>
                    <a:pt x="87" y="65"/>
                  </a:lnTo>
                  <a:lnTo>
                    <a:pt x="108" y="72"/>
                  </a:lnTo>
                  <a:lnTo>
                    <a:pt x="131" y="76"/>
                  </a:lnTo>
                  <a:lnTo>
                    <a:pt x="155" y="81"/>
                  </a:lnTo>
                  <a:lnTo>
                    <a:pt x="276" y="81"/>
                  </a:lnTo>
                  <a:lnTo>
                    <a:pt x="288" y="75"/>
                  </a:lnTo>
                  <a:lnTo>
                    <a:pt x="299" y="69"/>
                  </a:lnTo>
                  <a:lnTo>
                    <a:pt x="308" y="61"/>
                  </a:lnTo>
                  <a:lnTo>
                    <a:pt x="318" y="53"/>
                  </a:lnTo>
                  <a:lnTo>
                    <a:pt x="323" y="44"/>
                  </a:lnTo>
                  <a:lnTo>
                    <a:pt x="329" y="33"/>
                  </a:lnTo>
                  <a:lnTo>
                    <a:pt x="333" y="21"/>
                  </a:lnTo>
                  <a:lnTo>
                    <a:pt x="3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37920" y="2534760"/>
              <a:ext cx="210600" cy="181440"/>
            </a:xfrm>
            <a:custGeom>
              <a:avLst/>
              <a:gdLst/>
              <a:ahLst/>
              <a:rect l="l" t="t" r="r" b="b"/>
              <a:pathLst>
                <a:path w="343" h="295">
                  <a:moveTo>
                    <a:pt x="17" y="261"/>
                  </a:moveTo>
                  <a:lnTo>
                    <a:pt x="0" y="174"/>
                  </a:lnTo>
                  <a:lnTo>
                    <a:pt x="0" y="6"/>
                  </a:lnTo>
                  <a:lnTo>
                    <a:pt x="8" y="5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73" y="1"/>
                  </a:lnTo>
                  <a:lnTo>
                    <a:pt x="88" y="4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8" y="14"/>
                  </a:lnTo>
                  <a:lnTo>
                    <a:pt x="141" y="19"/>
                  </a:lnTo>
                  <a:lnTo>
                    <a:pt x="156" y="22"/>
                  </a:lnTo>
                  <a:lnTo>
                    <a:pt x="172" y="24"/>
                  </a:lnTo>
                  <a:lnTo>
                    <a:pt x="194" y="26"/>
                  </a:lnTo>
                  <a:lnTo>
                    <a:pt x="215" y="26"/>
                  </a:lnTo>
                  <a:lnTo>
                    <a:pt x="235" y="24"/>
                  </a:lnTo>
                  <a:lnTo>
                    <a:pt x="254" y="24"/>
                  </a:lnTo>
                  <a:lnTo>
                    <a:pt x="273" y="24"/>
                  </a:lnTo>
                  <a:lnTo>
                    <a:pt x="291" y="27"/>
                  </a:lnTo>
                  <a:lnTo>
                    <a:pt x="310" y="32"/>
                  </a:lnTo>
                  <a:lnTo>
                    <a:pt x="329" y="42"/>
                  </a:lnTo>
                  <a:lnTo>
                    <a:pt x="343" y="58"/>
                  </a:lnTo>
                  <a:lnTo>
                    <a:pt x="343" y="81"/>
                  </a:lnTo>
                  <a:lnTo>
                    <a:pt x="338" y="106"/>
                  </a:lnTo>
                  <a:lnTo>
                    <a:pt x="335" y="134"/>
                  </a:lnTo>
                  <a:lnTo>
                    <a:pt x="334" y="176"/>
                  </a:lnTo>
                  <a:lnTo>
                    <a:pt x="331" y="214"/>
                  </a:lnTo>
                  <a:lnTo>
                    <a:pt x="330" y="253"/>
                  </a:lnTo>
                  <a:lnTo>
                    <a:pt x="335" y="295"/>
                  </a:lnTo>
                  <a:lnTo>
                    <a:pt x="219" y="295"/>
                  </a:lnTo>
                  <a:lnTo>
                    <a:pt x="206" y="292"/>
                  </a:lnTo>
                  <a:lnTo>
                    <a:pt x="193" y="289"/>
                  </a:lnTo>
                  <a:lnTo>
                    <a:pt x="181" y="286"/>
                  </a:lnTo>
                  <a:lnTo>
                    <a:pt x="168" y="284"/>
                  </a:lnTo>
                  <a:lnTo>
                    <a:pt x="155" y="280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9" y="273"/>
                  </a:lnTo>
                  <a:lnTo>
                    <a:pt x="107" y="271"/>
                  </a:lnTo>
                  <a:lnTo>
                    <a:pt x="94" y="270"/>
                  </a:lnTo>
                  <a:lnTo>
                    <a:pt x="83" y="267"/>
                  </a:lnTo>
                  <a:lnTo>
                    <a:pt x="70" y="266"/>
                  </a:lnTo>
                  <a:lnTo>
                    <a:pt x="57" y="264"/>
                  </a:lnTo>
                  <a:lnTo>
                    <a:pt x="43" y="263"/>
                  </a:lnTo>
                  <a:lnTo>
                    <a:pt x="31" y="262"/>
                  </a:lnTo>
                  <a:lnTo>
                    <a:pt x="17" y="261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03720" y="2761560"/>
              <a:ext cx="434160" cy="204840"/>
            </a:xfrm>
            <a:custGeom>
              <a:avLst/>
              <a:gdLst/>
              <a:ahLst/>
              <a:rect l="l" t="t" r="r" b="b"/>
              <a:pathLst>
                <a:path w="709" h="334">
                  <a:moveTo>
                    <a:pt x="15" y="0"/>
                  </a:moveTo>
                  <a:lnTo>
                    <a:pt x="34" y="7"/>
                  </a:lnTo>
                  <a:lnTo>
                    <a:pt x="52" y="13"/>
                  </a:lnTo>
                  <a:lnTo>
                    <a:pt x="69" y="17"/>
                  </a:lnTo>
                  <a:lnTo>
                    <a:pt x="86" y="22"/>
                  </a:lnTo>
                  <a:lnTo>
                    <a:pt x="103" y="24"/>
                  </a:lnTo>
                  <a:lnTo>
                    <a:pt x="119" y="27"/>
                  </a:lnTo>
                  <a:lnTo>
                    <a:pt x="135" y="28"/>
                  </a:lnTo>
                  <a:lnTo>
                    <a:pt x="151" y="29"/>
                  </a:lnTo>
                  <a:lnTo>
                    <a:pt x="167" y="30"/>
                  </a:lnTo>
                  <a:lnTo>
                    <a:pt x="184" y="31"/>
                  </a:lnTo>
                  <a:lnTo>
                    <a:pt x="201" y="31"/>
                  </a:lnTo>
                  <a:lnTo>
                    <a:pt x="218" y="32"/>
                  </a:lnTo>
                  <a:lnTo>
                    <a:pt x="235" y="33"/>
                  </a:lnTo>
                  <a:lnTo>
                    <a:pt x="254" y="36"/>
                  </a:lnTo>
                  <a:lnTo>
                    <a:pt x="273" y="38"/>
                  </a:lnTo>
                  <a:lnTo>
                    <a:pt x="293" y="40"/>
                  </a:lnTo>
                  <a:lnTo>
                    <a:pt x="307" y="43"/>
                  </a:lnTo>
                  <a:lnTo>
                    <a:pt x="318" y="47"/>
                  </a:lnTo>
                  <a:lnTo>
                    <a:pt x="330" y="51"/>
                  </a:lnTo>
                  <a:lnTo>
                    <a:pt x="341" y="55"/>
                  </a:lnTo>
                  <a:lnTo>
                    <a:pt x="353" y="61"/>
                  </a:lnTo>
                  <a:lnTo>
                    <a:pt x="364" y="66"/>
                  </a:lnTo>
                  <a:lnTo>
                    <a:pt x="377" y="70"/>
                  </a:lnTo>
                  <a:lnTo>
                    <a:pt x="391" y="75"/>
                  </a:lnTo>
                  <a:lnTo>
                    <a:pt x="413" y="81"/>
                  </a:lnTo>
                  <a:lnTo>
                    <a:pt x="434" y="85"/>
                  </a:lnTo>
                  <a:lnTo>
                    <a:pt x="454" y="90"/>
                  </a:lnTo>
                  <a:lnTo>
                    <a:pt x="474" y="93"/>
                  </a:lnTo>
                  <a:lnTo>
                    <a:pt x="492" y="97"/>
                  </a:lnTo>
                  <a:lnTo>
                    <a:pt x="512" y="99"/>
                  </a:lnTo>
                  <a:lnTo>
                    <a:pt x="530" y="100"/>
                  </a:lnTo>
                  <a:lnTo>
                    <a:pt x="549" y="101"/>
                  </a:lnTo>
                  <a:lnTo>
                    <a:pt x="566" y="103"/>
                  </a:lnTo>
                  <a:lnTo>
                    <a:pt x="586" y="104"/>
                  </a:lnTo>
                  <a:lnTo>
                    <a:pt x="604" y="104"/>
                  </a:lnTo>
                  <a:lnTo>
                    <a:pt x="624" y="104"/>
                  </a:lnTo>
                  <a:lnTo>
                    <a:pt x="643" y="104"/>
                  </a:lnTo>
                  <a:lnTo>
                    <a:pt x="664" y="104"/>
                  </a:lnTo>
                  <a:lnTo>
                    <a:pt x="686" y="104"/>
                  </a:lnTo>
                  <a:lnTo>
                    <a:pt x="709" y="104"/>
                  </a:lnTo>
                  <a:lnTo>
                    <a:pt x="704" y="165"/>
                  </a:lnTo>
                  <a:lnTo>
                    <a:pt x="704" y="219"/>
                  </a:lnTo>
                  <a:lnTo>
                    <a:pt x="708" y="273"/>
                  </a:lnTo>
                  <a:lnTo>
                    <a:pt x="709" y="334"/>
                  </a:lnTo>
                  <a:lnTo>
                    <a:pt x="593" y="334"/>
                  </a:lnTo>
                  <a:lnTo>
                    <a:pt x="0" y="225"/>
                  </a:lnTo>
                  <a:lnTo>
                    <a:pt x="0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82320" y="2726280"/>
              <a:ext cx="159120" cy="112680"/>
            </a:xfrm>
            <a:custGeom>
              <a:avLst/>
              <a:gdLst/>
              <a:ahLst/>
              <a:rect l="l" t="t" r="r" b="b"/>
              <a:pathLst>
                <a:path w="261" h="185">
                  <a:moveTo>
                    <a:pt x="208" y="58"/>
                  </a:moveTo>
                  <a:lnTo>
                    <a:pt x="188" y="56"/>
                  </a:lnTo>
                  <a:lnTo>
                    <a:pt x="173" y="50"/>
                  </a:lnTo>
                  <a:lnTo>
                    <a:pt x="159" y="42"/>
                  </a:lnTo>
                  <a:lnTo>
                    <a:pt x="148" y="33"/>
                  </a:lnTo>
                  <a:lnTo>
                    <a:pt x="135" y="22"/>
                  </a:lnTo>
                  <a:lnTo>
                    <a:pt x="121" y="13"/>
                  </a:lnTo>
                  <a:lnTo>
                    <a:pt x="106" y="5"/>
                  </a:lnTo>
                  <a:lnTo>
                    <a:pt x="87" y="0"/>
                  </a:lnTo>
                  <a:lnTo>
                    <a:pt x="78" y="21"/>
                  </a:lnTo>
                  <a:lnTo>
                    <a:pt x="68" y="40"/>
                  </a:lnTo>
                  <a:lnTo>
                    <a:pt x="59" y="56"/>
                  </a:lnTo>
                  <a:lnTo>
                    <a:pt x="49" y="72"/>
                  </a:lnTo>
                  <a:lnTo>
                    <a:pt x="38" y="88"/>
                  </a:lnTo>
                  <a:lnTo>
                    <a:pt x="26" y="104"/>
                  </a:lnTo>
                  <a:lnTo>
                    <a:pt x="14" y="120"/>
                  </a:lnTo>
                  <a:lnTo>
                    <a:pt x="0" y="139"/>
                  </a:lnTo>
                  <a:lnTo>
                    <a:pt x="11" y="136"/>
                  </a:lnTo>
                  <a:lnTo>
                    <a:pt x="19" y="133"/>
                  </a:lnTo>
                  <a:lnTo>
                    <a:pt x="27" y="129"/>
                  </a:lnTo>
                  <a:lnTo>
                    <a:pt x="35" y="125"/>
                  </a:lnTo>
                  <a:lnTo>
                    <a:pt x="43" y="121"/>
                  </a:lnTo>
                  <a:lnTo>
                    <a:pt x="51" y="119"/>
                  </a:lnTo>
                  <a:lnTo>
                    <a:pt x="59" y="117"/>
                  </a:lnTo>
                  <a:lnTo>
                    <a:pt x="70" y="116"/>
                  </a:lnTo>
                  <a:lnTo>
                    <a:pt x="82" y="119"/>
                  </a:lnTo>
                  <a:lnTo>
                    <a:pt x="93" y="126"/>
                  </a:lnTo>
                  <a:lnTo>
                    <a:pt x="101" y="138"/>
                  </a:lnTo>
                  <a:lnTo>
                    <a:pt x="108" y="150"/>
                  </a:lnTo>
                  <a:lnTo>
                    <a:pt x="113" y="163"/>
                  </a:lnTo>
                  <a:lnTo>
                    <a:pt x="121" y="174"/>
                  </a:lnTo>
                  <a:lnTo>
                    <a:pt x="132" y="181"/>
                  </a:lnTo>
                  <a:lnTo>
                    <a:pt x="144" y="185"/>
                  </a:lnTo>
                  <a:lnTo>
                    <a:pt x="157" y="184"/>
                  </a:lnTo>
                  <a:lnTo>
                    <a:pt x="170" y="182"/>
                  </a:lnTo>
                  <a:lnTo>
                    <a:pt x="180" y="179"/>
                  </a:lnTo>
                  <a:lnTo>
                    <a:pt x="191" y="176"/>
                  </a:lnTo>
                  <a:lnTo>
                    <a:pt x="202" y="172"/>
                  </a:lnTo>
                  <a:lnTo>
                    <a:pt x="212" y="167"/>
                  </a:lnTo>
                  <a:lnTo>
                    <a:pt x="224" y="164"/>
                  </a:lnTo>
                  <a:lnTo>
                    <a:pt x="237" y="162"/>
                  </a:lnTo>
                  <a:lnTo>
                    <a:pt x="261" y="116"/>
                  </a:lnTo>
                  <a:lnTo>
                    <a:pt x="208" y="5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89520" y="2211840"/>
              <a:ext cx="151920" cy="245160"/>
            </a:xfrm>
            <a:custGeom>
              <a:avLst/>
              <a:gdLst/>
              <a:ahLst/>
              <a:rect l="l" t="t" r="r" b="b"/>
              <a:pathLst>
                <a:path w="249" h="398">
                  <a:moveTo>
                    <a:pt x="0" y="86"/>
                  </a:moveTo>
                  <a:lnTo>
                    <a:pt x="2" y="119"/>
                  </a:lnTo>
                  <a:lnTo>
                    <a:pt x="8" y="147"/>
                  </a:lnTo>
                  <a:lnTo>
                    <a:pt x="16" y="174"/>
                  </a:lnTo>
                  <a:lnTo>
                    <a:pt x="26" y="199"/>
                  </a:lnTo>
                  <a:lnTo>
                    <a:pt x="36" y="224"/>
                  </a:lnTo>
                  <a:lnTo>
                    <a:pt x="44" y="251"/>
                  </a:lnTo>
                  <a:lnTo>
                    <a:pt x="50" y="280"/>
                  </a:lnTo>
                  <a:lnTo>
                    <a:pt x="52" y="312"/>
                  </a:lnTo>
                  <a:lnTo>
                    <a:pt x="54" y="326"/>
                  </a:lnTo>
                  <a:lnTo>
                    <a:pt x="59" y="337"/>
                  </a:lnTo>
                  <a:lnTo>
                    <a:pt x="67" y="348"/>
                  </a:lnTo>
                  <a:lnTo>
                    <a:pt x="76" y="357"/>
                  </a:lnTo>
                  <a:lnTo>
                    <a:pt x="86" y="365"/>
                  </a:lnTo>
                  <a:lnTo>
                    <a:pt x="96" y="375"/>
                  </a:lnTo>
                  <a:lnTo>
                    <a:pt x="104" y="386"/>
                  </a:lnTo>
                  <a:lnTo>
                    <a:pt x="109" y="398"/>
                  </a:lnTo>
                  <a:lnTo>
                    <a:pt x="124" y="382"/>
                  </a:lnTo>
                  <a:lnTo>
                    <a:pt x="142" y="369"/>
                  </a:lnTo>
                  <a:lnTo>
                    <a:pt x="159" y="358"/>
                  </a:lnTo>
                  <a:lnTo>
                    <a:pt x="177" y="348"/>
                  </a:lnTo>
                  <a:lnTo>
                    <a:pt x="194" y="337"/>
                  </a:lnTo>
                  <a:lnTo>
                    <a:pt x="206" y="325"/>
                  </a:lnTo>
                  <a:lnTo>
                    <a:pt x="215" y="309"/>
                  </a:lnTo>
                  <a:lnTo>
                    <a:pt x="219" y="289"/>
                  </a:lnTo>
                  <a:lnTo>
                    <a:pt x="219" y="271"/>
                  </a:lnTo>
                  <a:lnTo>
                    <a:pt x="219" y="254"/>
                  </a:lnTo>
                  <a:lnTo>
                    <a:pt x="219" y="238"/>
                  </a:lnTo>
                  <a:lnTo>
                    <a:pt x="219" y="220"/>
                  </a:lnTo>
                  <a:lnTo>
                    <a:pt x="223" y="189"/>
                  </a:lnTo>
                  <a:lnTo>
                    <a:pt x="234" y="161"/>
                  </a:lnTo>
                  <a:lnTo>
                    <a:pt x="244" y="135"/>
                  </a:lnTo>
                  <a:lnTo>
                    <a:pt x="249" y="104"/>
                  </a:lnTo>
                  <a:lnTo>
                    <a:pt x="245" y="82"/>
                  </a:lnTo>
                  <a:lnTo>
                    <a:pt x="236" y="63"/>
                  </a:lnTo>
                  <a:lnTo>
                    <a:pt x="221" y="48"/>
                  </a:lnTo>
                  <a:lnTo>
                    <a:pt x="203" y="37"/>
                  </a:lnTo>
                  <a:lnTo>
                    <a:pt x="181" y="27"/>
                  </a:lnTo>
                  <a:lnTo>
                    <a:pt x="158" y="22"/>
                  </a:lnTo>
                  <a:lnTo>
                    <a:pt x="134" y="18"/>
                  </a:lnTo>
                  <a:lnTo>
                    <a:pt x="109" y="17"/>
                  </a:lnTo>
                  <a:lnTo>
                    <a:pt x="97" y="16"/>
                  </a:lnTo>
                  <a:lnTo>
                    <a:pt x="85" y="13"/>
                  </a:lnTo>
                  <a:lnTo>
                    <a:pt x="74" y="9"/>
                  </a:lnTo>
                  <a:lnTo>
                    <a:pt x="63" y="4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23" y="6"/>
                  </a:lnTo>
                  <a:lnTo>
                    <a:pt x="8" y="21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72240" y="2155680"/>
              <a:ext cx="186480" cy="13716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239" y="10"/>
                  </a:moveTo>
                  <a:lnTo>
                    <a:pt x="247" y="20"/>
                  </a:lnTo>
                  <a:lnTo>
                    <a:pt x="257" y="28"/>
                  </a:lnTo>
                  <a:lnTo>
                    <a:pt x="270" y="37"/>
                  </a:lnTo>
                  <a:lnTo>
                    <a:pt x="281" y="46"/>
                  </a:lnTo>
                  <a:lnTo>
                    <a:pt x="292" y="55"/>
                  </a:lnTo>
                  <a:lnTo>
                    <a:pt x="300" y="65"/>
                  </a:lnTo>
                  <a:lnTo>
                    <a:pt x="304" y="78"/>
                  </a:lnTo>
                  <a:lnTo>
                    <a:pt x="303" y="93"/>
                  </a:lnTo>
                  <a:lnTo>
                    <a:pt x="290" y="168"/>
                  </a:lnTo>
                  <a:lnTo>
                    <a:pt x="283" y="172"/>
                  </a:lnTo>
                  <a:lnTo>
                    <a:pt x="276" y="175"/>
                  </a:lnTo>
                  <a:lnTo>
                    <a:pt x="269" y="175"/>
                  </a:lnTo>
                  <a:lnTo>
                    <a:pt x="261" y="174"/>
                  </a:lnTo>
                  <a:lnTo>
                    <a:pt x="263" y="144"/>
                  </a:lnTo>
                  <a:lnTo>
                    <a:pt x="263" y="111"/>
                  </a:lnTo>
                  <a:lnTo>
                    <a:pt x="257" y="81"/>
                  </a:lnTo>
                  <a:lnTo>
                    <a:pt x="241" y="57"/>
                  </a:lnTo>
                  <a:lnTo>
                    <a:pt x="235" y="50"/>
                  </a:lnTo>
                  <a:lnTo>
                    <a:pt x="227" y="48"/>
                  </a:lnTo>
                  <a:lnTo>
                    <a:pt x="218" y="46"/>
                  </a:lnTo>
                  <a:lnTo>
                    <a:pt x="210" y="45"/>
                  </a:lnTo>
                  <a:lnTo>
                    <a:pt x="201" y="43"/>
                  </a:lnTo>
                  <a:lnTo>
                    <a:pt x="194" y="40"/>
                  </a:lnTo>
                  <a:lnTo>
                    <a:pt x="189" y="34"/>
                  </a:lnTo>
                  <a:lnTo>
                    <a:pt x="188" y="24"/>
                  </a:lnTo>
                  <a:lnTo>
                    <a:pt x="170" y="23"/>
                  </a:lnTo>
                  <a:lnTo>
                    <a:pt x="150" y="23"/>
                  </a:lnTo>
                  <a:lnTo>
                    <a:pt x="129" y="24"/>
                  </a:lnTo>
                  <a:lnTo>
                    <a:pt x="109" y="26"/>
                  </a:lnTo>
                  <a:lnTo>
                    <a:pt x="88" y="31"/>
                  </a:lnTo>
                  <a:lnTo>
                    <a:pt x="67" y="38"/>
                  </a:lnTo>
                  <a:lnTo>
                    <a:pt x="49" y="47"/>
                  </a:lnTo>
                  <a:lnTo>
                    <a:pt x="31" y="60"/>
                  </a:lnTo>
                  <a:lnTo>
                    <a:pt x="31" y="99"/>
                  </a:lnTo>
                  <a:lnTo>
                    <a:pt x="39" y="138"/>
                  </a:lnTo>
                  <a:lnTo>
                    <a:pt x="48" y="177"/>
                  </a:lnTo>
                  <a:lnTo>
                    <a:pt x="50" y="217"/>
                  </a:lnTo>
                  <a:lnTo>
                    <a:pt x="44" y="222"/>
                  </a:lnTo>
                  <a:lnTo>
                    <a:pt x="38" y="222"/>
                  </a:lnTo>
                  <a:lnTo>
                    <a:pt x="33" y="221"/>
                  </a:lnTo>
                  <a:lnTo>
                    <a:pt x="28" y="221"/>
                  </a:lnTo>
                  <a:lnTo>
                    <a:pt x="20" y="178"/>
                  </a:lnTo>
                  <a:lnTo>
                    <a:pt x="11" y="137"/>
                  </a:lnTo>
                  <a:lnTo>
                    <a:pt x="4" y="95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7" y="34"/>
                  </a:lnTo>
                  <a:lnTo>
                    <a:pt x="41" y="27"/>
                  </a:lnTo>
                  <a:lnTo>
                    <a:pt x="54" y="20"/>
                  </a:lnTo>
                  <a:lnTo>
                    <a:pt x="69" y="15"/>
                  </a:lnTo>
                  <a:lnTo>
                    <a:pt x="83" y="10"/>
                  </a:lnTo>
                  <a:lnTo>
                    <a:pt x="98" y="7"/>
                  </a:lnTo>
                  <a:lnTo>
                    <a:pt x="113" y="3"/>
                  </a:lnTo>
                  <a:lnTo>
                    <a:pt x="128" y="1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1"/>
                  </a:lnTo>
                  <a:lnTo>
                    <a:pt x="207" y="3"/>
                  </a:lnTo>
                  <a:lnTo>
                    <a:pt x="223" y="7"/>
                  </a:lnTo>
                  <a:lnTo>
                    <a:pt x="2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03200" y="2205720"/>
              <a:ext cx="84600" cy="2916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38" y="15"/>
                  </a:moveTo>
                  <a:lnTo>
                    <a:pt x="138" y="24"/>
                  </a:lnTo>
                  <a:lnTo>
                    <a:pt x="136" y="29"/>
                  </a:lnTo>
                  <a:lnTo>
                    <a:pt x="131" y="33"/>
                  </a:lnTo>
                  <a:lnTo>
                    <a:pt x="124" y="36"/>
                  </a:lnTo>
                  <a:lnTo>
                    <a:pt x="117" y="38"/>
                  </a:lnTo>
                  <a:lnTo>
                    <a:pt x="109" y="42"/>
                  </a:lnTo>
                  <a:lnTo>
                    <a:pt x="102" y="44"/>
                  </a:lnTo>
                  <a:lnTo>
                    <a:pt x="97" y="48"/>
                  </a:lnTo>
                  <a:lnTo>
                    <a:pt x="83" y="48"/>
                  </a:lnTo>
                  <a:lnTo>
                    <a:pt x="70" y="47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4" y="36"/>
                  </a:lnTo>
                  <a:lnTo>
                    <a:pt x="23" y="30"/>
                  </a:lnTo>
                  <a:lnTo>
                    <a:pt x="11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11"/>
                  </a:lnTo>
                  <a:lnTo>
                    <a:pt x="18" y="9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10"/>
                  </a:lnTo>
                  <a:lnTo>
                    <a:pt x="42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7"/>
                  </a:lnTo>
                  <a:lnTo>
                    <a:pt x="72" y="18"/>
                  </a:lnTo>
                  <a:lnTo>
                    <a:pt x="84" y="19"/>
                  </a:lnTo>
                  <a:lnTo>
                    <a:pt x="93" y="15"/>
                  </a:lnTo>
                  <a:lnTo>
                    <a:pt x="104" y="10"/>
                  </a:lnTo>
                  <a:lnTo>
                    <a:pt x="113" y="5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4" y="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00680" y="2293920"/>
              <a:ext cx="133560" cy="11376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210" y="88"/>
                  </a:moveTo>
                  <a:lnTo>
                    <a:pt x="197" y="104"/>
                  </a:lnTo>
                  <a:lnTo>
                    <a:pt x="185" y="123"/>
                  </a:lnTo>
                  <a:lnTo>
                    <a:pt x="172" y="141"/>
                  </a:lnTo>
                  <a:lnTo>
                    <a:pt x="158" y="158"/>
                  </a:lnTo>
                  <a:lnTo>
                    <a:pt x="142" y="173"/>
                  </a:lnTo>
                  <a:lnTo>
                    <a:pt x="125" y="183"/>
                  </a:lnTo>
                  <a:lnTo>
                    <a:pt x="104" y="186"/>
                  </a:lnTo>
                  <a:lnTo>
                    <a:pt x="80" y="181"/>
                  </a:lnTo>
                  <a:lnTo>
                    <a:pt x="60" y="172"/>
                  </a:lnTo>
                  <a:lnTo>
                    <a:pt x="45" y="159"/>
                  </a:lnTo>
                  <a:lnTo>
                    <a:pt x="33" y="143"/>
                  </a:lnTo>
                  <a:lnTo>
                    <a:pt x="23" y="126"/>
                  </a:lnTo>
                  <a:lnTo>
                    <a:pt x="16" y="106"/>
                  </a:lnTo>
                  <a:lnTo>
                    <a:pt x="11" y="86"/>
                  </a:lnTo>
                  <a:lnTo>
                    <a:pt x="6" y="66"/>
                  </a:lnTo>
                  <a:lnTo>
                    <a:pt x="0" y="47"/>
                  </a:lnTo>
                  <a:lnTo>
                    <a:pt x="20" y="48"/>
                  </a:lnTo>
                  <a:lnTo>
                    <a:pt x="34" y="57"/>
                  </a:lnTo>
                  <a:lnTo>
                    <a:pt x="43" y="73"/>
                  </a:lnTo>
                  <a:lnTo>
                    <a:pt x="51" y="93"/>
                  </a:lnTo>
                  <a:lnTo>
                    <a:pt x="58" y="112"/>
                  </a:lnTo>
                  <a:lnTo>
                    <a:pt x="68" y="131"/>
                  </a:lnTo>
                  <a:lnTo>
                    <a:pt x="83" y="144"/>
                  </a:lnTo>
                  <a:lnTo>
                    <a:pt x="105" y="151"/>
                  </a:lnTo>
                  <a:lnTo>
                    <a:pt x="111" y="163"/>
                  </a:lnTo>
                  <a:lnTo>
                    <a:pt x="122" y="155"/>
                  </a:lnTo>
                  <a:lnTo>
                    <a:pt x="133" y="146"/>
                  </a:lnTo>
                  <a:lnTo>
                    <a:pt x="143" y="135"/>
                  </a:lnTo>
                  <a:lnTo>
                    <a:pt x="152" y="124"/>
                  </a:lnTo>
                  <a:lnTo>
                    <a:pt x="160" y="111"/>
                  </a:lnTo>
                  <a:lnTo>
                    <a:pt x="168" y="98"/>
                  </a:lnTo>
                  <a:lnTo>
                    <a:pt x="175" y="86"/>
                  </a:lnTo>
                  <a:lnTo>
                    <a:pt x="182" y="74"/>
                  </a:lnTo>
                  <a:lnTo>
                    <a:pt x="185" y="57"/>
                  </a:lnTo>
                  <a:lnTo>
                    <a:pt x="186" y="37"/>
                  </a:lnTo>
                  <a:lnTo>
                    <a:pt x="189" y="18"/>
                  </a:lnTo>
                  <a:lnTo>
                    <a:pt x="198" y="0"/>
                  </a:lnTo>
                  <a:lnTo>
                    <a:pt x="211" y="6"/>
                  </a:lnTo>
                  <a:lnTo>
                    <a:pt x="217" y="14"/>
                  </a:lnTo>
                  <a:lnTo>
                    <a:pt x="219" y="25"/>
                  </a:lnTo>
                  <a:lnTo>
                    <a:pt x="217" y="36"/>
                  </a:lnTo>
                  <a:lnTo>
                    <a:pt x="215" y="49"/>
                  </a:lnTo>
                  <a:lnTo>
                    <a:pt x="211" y="63"/>
                  </a:lnTo>
                  <a:lnTo>
                    <a:pt x="209" y="75"/>
                  </a:lnTo>
                  <a:lnTo>
                    <a:pt x="21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946560" y="2331000"/>
              <a:ext cx="388800" cy="113760"/>
            </a:xfrm>
            <a:custGeom>
              <a:avLst/>
              <a:gdLst/>
              <a:ahLst/>
              <a:rect l="l" t="t" r="r" b="b"/>
              <a:pathLst>
                <a:path w="634" h="186">
                  <a:moveTo>
                    <a:pt x="340" y="20"/>
                  </a:moveTo>
                  <a:lnTo>
                    <a:pt x="359" y="20"/>
                  </a:lnTo>
                  <a:lnTo>
                    <a:pt x="377" y="22"/>
                  </a:lnTo>
                  <a:lnTo>
                    <a:pt x="395" y="25"/>
                  </a:lnTo>
                  <a:lnTo>
                    <a:pt x="413" y="28"/>
                  </a:lnTo>
                  <a:lnTo>
                    <a:pt x="430" y="31"/>
                  </a:lnTo>
                  <a:lnTo>
                    <a:pt x="448" y="36"/>
                  </a:lnTo>
                  <a:lnTo>
                    <a:pt x="465" y="41"/>
                  </a:lnTo>
                  <a:lnTo>
                    <a:pt x="483" y="46"/>
                  </a:lnTo>
                  <a:lnTo>
                    <a:pt x="501" y="51"/>
                  </a:lnTo>
                  <a:lnTo>
                    <a:pt x="518" y="56"/>
                  </a:lnTo>
                  <a:lnTo>
                    <a:pt x="535" y="59"/>
                  </a:lnTo>
                  <a:lnTo>
                    <a:pt x="554" y="63"/>
                  </a:lnTo>
                  <a:lnTo>
                    <a:pt x="571" y="65"/>
                  </a:lnTo>
                  <a:lnTo>
                    <a:pt x="589" y="67"/>
                  </a:lnTo>
                  <a:lnTo>
                    <a:pt x="608" y="67"/>
                  </a:lnTo>
                  <a:lnTo>
                    <a:pt x="626" y="66"/>
                  </a:lnTo>
                  <a:lnTo>
                    <a:pt x="628" y="72"/>
                  </a:lnTo>
                  <a:lnTo>
                    <a:pt x="631" y="75"/>
                  </a:lnTo>
                  <a:lnTo>
                    <a:pt x="633" y="80"/>
                  </a:lnTo>
                  <a:lnTo>
                    <a:pt x="634" y="86"/>
                  </a:lnTo>
                  <a:lnTo>
                    <a:pt x="626" y="94"/>
                  </a:lnTo>
                  <a:lnTo>
                    <a:pt x="590" y="91"/>
                  </a:lnTo>
                  <a:lnTo>
                    <a:pt x="556" y="87"/>
                  </a:lnTo>
                  <a:lnTo>
                    <a:pt x="520" y="82"/>
                  </a:lnTo>
                  <a:lnTo>
                    <a:pt x="484" y="76"/>
                  </a:lnTo>
                  <a:lnTo>
                    <a:pt x="450" y="71"/>
                  </a:lnTo>
                  <a:lnTo>
                    <a:pt x="414" y="65"/>
                  </a:lnTo>
                  <a:lnTo>
                    <a:pt x="380" y="59"/>
                  </a:lnTo>
                  <a:lnTo>
                    <a:pt x="344" y="53"/>
                  </a:lnTo>
                  <a:lnTo>
                    <a:pt x="309" y="48"/>
                  </a:lnTo>
                  <a:lnTo>
                    <a:pt x="275" y="44"/>
                  </a:lnTo>
                  <a:lnTo>
                    <a:pt x="239" y="41"/>
                  </a:lnTo>
                  <a:lnTo>
                    <a:pt x="204" y="38"/>
                  </a:lnTo>
                  <a:lnTo>
                    <a:pt x="170" y="38"/>
                  </a:lnTo>
                  <a:lnTo>
                    <a:pt x="134" y="41"/>
                  </a:lnTo>
                  <a:lnTo>
                    <a:pt x="100" y="44"/>
                  </a:lnTo>
                  <a:lnTo>
                    <a:pt x="65" y="50"/>
                  </a:lnTo>
                  <a:lnTo>
                    <a:pt x="53" y="83"/>
                  </a:lnTo>
                  <a:lnTo>
                    <a:pt x="49" y="120"/>
                  </a:lnTo>
                  <a:lnTo>
                    <a:pt x="44" y="156"/>
                  </a:lnTo>
                  <a:lnTo>
                    <a:pt x="32" y="186"/>
                  </a:lnTo>
                  <a:lnTo>
                    <a:pt x="24" y="177"/>
                  </a:lnTo>
                  <a:lnTo>
                    <a:pt x="17" y="178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0" y="161"/>
                  </a:lnTo>
                  <a:lnTo>
                    <a:pt x="2" y="133"/>
                  </a:lnTo>
                  <a:lnTo>
                    <a:pt x="7" y="129"/>
                  </a:lnTo>
                  <a:lnTo>
                    <a:pt x="5" y="125"/>
                  </a:lnTo>
                  <a:lnTo>
                    <a:pt x="0" y="120"/>
                  </a:lnTo>
                  <a:lnTo>
                    <a:pt x="2" y="113"/>
                  </a:lnTo>
                  <a:lnTo>
                    <a:pt x="2" y="93"/>
                  </a:lnTo>
                  <a:lnTo>
                    <a:pt x="2" y="71"/>
                  </a:lnTo>
                  <a:lnTo>
                    <a:pt x="6" y="49"/>
                  </a:lnTo>
                  <a:lnTo>
                    <a:pt x="15" y="30"/>
                  </a:lnTo>
                  <a:lnTo>
                    <a:pt x="28" y="18"/>
                  </a:lnTo>
                  <a:lnTo>
                    <a:pt x="42" y="11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77" y="2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5"/>
                  </a:lnTo>
                  <a:lnTo>
                    <a:pt x="239" y="6"/>
                  </a:lnTo>
                  <a:lnTo>
                    <a:pt x="252" y="7"/>
                  </a:lnTo>
                  <a:lnTo>
                    <a:pt x="264" y="10"/>
                  </a:lnTo>
                  <a:lnTo>
                    <a:pt x="277" y="11"/>
                  </a:lnTo>
                  <a:lnTo>
                    <a:pt x="290" y="13"/>
                  </a:lnTo>
                  <a:lnTo>
                    <a:pt x="302" y="14"/>
                  </a:lnTo>
                  <a:lnTo>
                    <a:pt x="315" y="17"/>
                  </a:lnTo>
                  <a:lnTo>
                    <a:pt x="328" y="18"/>
                  </a:lnTo>
                  <a:lnTo>
                    <a:pt x="3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24560" y="2356560"/>
              <a:ext cx="215640" cy="608400"/>
            </a:xfrm>
            <a:custGeom>
              <a:avLst/>
              <a:gdLst/>
              <a:ahLst/>
              <a:rect l="l" t="t" r="r" b="b"/>
              <a:pathLst>
                <a:path w="352" h="993">
                  <a:moveTo>
                    <a:pt x="225" y="24"/>
                  </a:moveTo>
                  <a:lnTo>
                    <a:pt x="233" y="95"/>
                  </a:lnTo>
                  <a:lnTo>
                    <a:pt x="233" y="169"/>
                  </a:lnTo>
                  <a:lnTo>
                    <a:pt x="230" y="245"/>
                  </a:lnTo>
                  <a:lnTo>
                    <a:pt x="233" y="325"/>
                  </a:lnTo>
                  <a:lnTo>
                    <a:pt x="233" y="363"/>
                  </a:lnTo>
                  <a:lnTo>
                    <a:pt x="234" y="402"/>
                  </a:lnTo>
                  <a:lnTo>
                    <a:pt x="237" y="441"/>
                  </a:lnTo>
                  <a:lnTo>
                    <a:pt x="244" y="479"/>
                  </a:lnTo>
                  <a:lnTo>
                    <a:pt x="296" y="327"/>
                  </a:lnTo>
                  <a:lnTo>
                    <a:pt x="303" y="326"/>
                  </a:lnTo>
                  <a:lnTo>
                    <a:pt x="311" y="326"/>
                  </a:lnTo>
                  <a:lnTo>
                    <a:pt x="318" y="328"/>
                  </a:lnTo>
                  <a:lnTo>
                    <a:pt x="325" y="333"/>
                  </a:lnTo>
                  <a:lnTo>
                    <a:pt x="313" y="357"/>
                  </a:lnTo>
                  <a:lnTo>
                    <a:pt x="304" y="382"/>
                  </a:lnTo>
                  <a:lnTo>
                    <a:pt x="297" y="409"/>
                  </a:lnTo>
                  <a:lnTo>
                    <a:pt x="290" y="435"/>
                  </a:lnTo>
                  <a:lnTo>
                    <a:pt x="282" y="462"/>
                  </a:lnTo>
                  <a:lnTo>
                    <a:pt x="273" y="486"/>
                  </a:lnTo>
                  <a:lnTo>
                    <a:pt x="260" y="509"/>
                  </a:lnTo>
                  <a:lnTo>
                    <a:pt x="244" y="529"/>
                  </a:lnTo>
                  <a:lnTo>
                    <a:pt x="244" y="532"/>
                  </a:lnTo>
                  <a:lnTo>
                    <a:pt x="257" y="533"/>
                  </a:lnTo>
                  <a:lnTo>
                    <a:pt x="272" y="534"/>
                  </a:lnTo>
                  <a:lnTo>
                    <a:pt x="288" y="536"/>
                  </a:lnTo>
                  <a:lnTo>
                    <a:pt x="304" y="537"/>
                  </a:lnTo>
                  <a:lnTo>
                    <a:pt x="319" y="540"/>
                  </a:lnTo>
                  <a:lnTo>
                    <a:pt x="333" y="547"/>
                  </a:lnTo>
                  <a:lnTo>
                    <a:pt x="344" y="559"/>
                  </a:lnTo>
                  <a:lnTo>
                    <a:pt x="352" y="574"/>
                  </a:lnTo>
                  <a:lnTo>
                    <a:pt x="349" y="600"/>
                  </a:lnTo>
                  <a:lnTo>
                    <a:pt x="341" y="625"/>
                  </a:lnTo>
                  <a:lnTo>
                    <a:pt x="333" y="651"/>
                  </a:lnTo>
                  <a:lnTo>
                    <a:pt x="329" y="678"/>
                  </a:lnTo>
                  <a:lnTo>
                    <a:pt x="313" y="700"/>
                  </a:lnTo>
                  <a:lnTo>
                    <a:pt x="306" y="725"/>
                  </a:lnTo>
                  <a:lnTo>
                    <a:pt x="304" y="751"/>
                  </a:lnTo>
                  <a:lnTo>
                    <a:pt x="306" y="778"/>
                  </a:lnTo>
                  <a:lnTo>
                    <a:pt x="310" y="805"/>
                  </a:lnTo>
                  <a:lnTo>
                    <a:pt x="311" y="833"/>
                  </a:lnTo>
                  <a:lnTo>
                    <a:pt x="308" y="860"/>
                  </a:lnTo>
                  <a:lnTo>
                    <a:pt x="298" y="886"/>
                  </a:lnTo>
                  <a:lnTo>
                    <a:pt x="283" y="894"/>
                  </a:lnTo>
                  <a:lnTo>
                    <a:pt x="268" y="901"/>
                  </a:lnTo>
                  <a:lnTo>
                    <a:pt x="252" y="909"/>
                  </a:lnTo>
                  <a:lnTo>
                    <a:pt x="237" y="917"/>
                  </a:lnTo>
                  <a:lnTo>
                    <a:pt x="222" y="924"/>
                  </a:lnTo>
                  <a:lnTo>
                    <a:pt x="207" y="931"/>
                  </a:lnTo>
                  <a:lnTo>
                    <a:pt x="191" y="939"/>
                  </a:lnTo>
                  <a:lnTo>
                    <a:pt x="176" y="946"/>
                  </a:lnTo>
                  <a:lnTo>
                    <a:pt x="160" y="953"/>
                  </a:lnTo>
                  <a:lnTo>
                    <a:pt x="145" y="958"/>
                  </a:lnTo>
                  <a:lnTo>
                    <a:pt x="129" y="965"/>
                  </a:lnTo>
                  <a:lnTo>
                    <a:pt x="113" y="971"/>
                  </a:lnTo>
                  <a:lnTo>
                    <a:pt x="97" y="977"/>
                  </a:lnTo>
                  <a:lnTo>
                    <a:pt x="81" y="983"/>
                  </a:lnTo>
                  <a:lnTo>
                    <a:pt x="64" y="988"/>
                  </a:lnTo>
                  <a:lnTo>
                    <a:pt x="48" y="993"/>
                  </a:lnTo>
                  <a:lnTo>
                    <a:pt x="43" y="992"/>
                  </a:lnTo>
                  <a:lnTo>
                    <a:pt x="37" y="988"/>
                  </a:lnTo>
                  <a:lnTo>
                    <a:pt x="32" y="986"/>
                  </a:lnTo>
                  <a:lnTo>
                    <a:pt x="25" y="985"/>
                  </a:lnTo>
                  <a:lnTo>
                    <a:pt x="24" y="979"/>
                  </a:lnTo>
                  <a:lnTo>
                    <a:pt x="25" y="977"/>
                  </a:lnTo>
                  <a:lnTo>
                    <a:pt x="28" y="975"/>
                  </a:lnTo>
                  <a:lnTo>
                    <a:pt x="29" y="969"/>
                  </a:lnTo>
                  <a:lnTo>
                    <a:pt x="44" y="962"/>
                  </a:lnTo>
                  <a:lnTo>
                    <a:pt x="60" y="955"/>
                  </a:lnTo>
                  <a:lnTo>
                    <a:pt x="75" y="948"/>
                  </a:lnTo>
                  <a:lnTo>
                    <a:pt x="91" y="940"/>
                  </a:lnTo>
                  <a:lnTo>
                    <a:pt x="106" y="932"/>
                  </a:lnTo>
                  <a:lnTo>
                    <a:pt x="121" y="924"/>
                  </a:lnTo>
                  <a:lnTo>
                    <a:pt x="137" y="916"/>
                  </a:lnTo>
                  <a:lnTo>
                    <a:pt x="152" y="908"/>
                  </a:lnTo>
                  <a:lnTo>
                    <a:pt x="167" y="900"/>
                  </a:lnTo>
                  <a:lnTo>
                    <a:pt x="182" y="892"/>
                  </a:lnTo>
                  <a:lnTo>
                    <a:pt x="196" y="882"/>
                  </a:lnTo>
                  <a:lnTo>
                    <a:pt x="211" y="874"/>
                  </a:lnTo>
                  <a:lnTo>
                    <a:pt x="226" y="865"/>
                  </a:lnTo>
                  <a:lnTo>
                    <a:pt x="240" y="856"/>
                  </a:lnTo>
                  <a:lnTo>
                    <a:pt x="255" y="848"/>
                  </a:lnTo>
                  <a:lnTo>
                    <a:pt x="268" y="839"/>
                  </a:lnTo>
                  <a:lnTo>
                    <a:pt x="265" y="804"/>
                  </a:lnTo>
                  <a:lnTo>
                    <a:pt x="270" y="771"/>
                  </a:lnTo>
                  <a:lnTo>
                    <a:pt x="272" y="738"/>
                  </a:lnTo>
                  <a:lnTo>
                    <a:pt x="263" y="706"/>
                  </a:lnTo>
                  <a:lnTo>
                    <a:pt x="242" y="715"/>
                  </a:lnTo>
                  <a:lnTo>
                    <a:pt x="221" y="725"/>
                  </a:lnTo>
                  <a:lnTo>
                    <a:pt x="200" y="734"/>
                  </a:lnTo>
                  <a:lnTo>
                    <a:pt x="180" y="742"/>
                  </a:lnTo>
                  <a:lnTo>
                    <a:pt x="158" y="750"/>
                  </a:lnTo>
                  <a:lnTo>
                    <a:pt x="136" y="758"/>
                  </a:lnTo>
                  <a:lnTo>
                    <a:pt x="114" y="765"/>
                  </a:lnTo>
                  <a:lnTo>
                    <a:pt x="92" y="772"/>
                  </a:lnTo>
                  <a:lnTo>
                    <a:pt x="86" y="768"/>
                  </a:lnTo>
                  <a:lnTo>
                    <a:pt x="82" y="763"/>
                  </a:lnTo>
                  <a:lnTo>
                    <a:pt x="82" y="756"/>
                  </a:lnTo>
                  <a:lnTo>
                    <a:pt x="86" y="750"/>
                  </a:lnTo>
                  <a:lnTo>
                    <a:pt x="104" y="738"/>
                  </a:lnTo>
                  <a:lnTo>
                    <a:pt x="122" y="729"/>
                  </a:lnTo>
                  <a:lnTo>
                    <a:pt x="142" y="721"/>
                  </a:lnTo>
                  <a:lnTo>
                    <a:pt x="162" y="715"/>
                  </a:lnTo>
                  <a:lnTo>
                    <a:pt x="182" y="708"/>
                  </a:lnTo>
                  <a:lnTo>
                    <a:pt x="203" y="701"/>
                  </a:lnTo>
                  <a:lnTo>
                    <a:pt x="222" y="693"/>
                  </a:lnTo>
                  <a:lnTo>
                    <a:pt x="242" y="684"/>
                  </a:lnTo>
                  <a:lnTo>
                    <a:pt x="228" y="678"/>
                  </a:lnTo>
                  <a:lnTo>
                    <a:pt x="213" y="674"/>
                  </a:lnTo>
                  <a:lnTo>
                    <a:pt x="196" y="672"/>
                  </a:lnTo>
                  <a:lnTo>
                    <a:pt x="180" y="669"/>
                  </a:lnTo>
                  <a:lnTo>
                    <a:pt x="162" y="668"/>
                  </a:lnTo>
                  <a:lnTo>
                    <a:pt x="146" y="666"/>
                  </a:lnTo>
                  <a:lnTo>
                    <a:pt x="130" y="663"/>
                  </a:lnTo>
                  <a:lnTo>
                    <a:pt x="114" y="659"/>
                  </a:lnTo>
                  <a:lnTo>
                    <a:pt x="9" y="659"/>
                  </a:lnTo>
                  <a:lnTo>
                    <a:pt x="2" y="653"/>
                  </a:lnTo>
                  <a:lnTo>
                    <a:pt x="0" y="646"/>
                  </a:lnTo>
                  <a:lnTo>
                    <a:pt x="1" y="640"/>
                  </a:lnTo>
                  <a:lnTo>
                    <a:pt x="7" y="634"/>
                  </a:lnTo>
                  <a:lnTo>
                    <a:pt x="23" y="632"/>
                  </a:lnTo>
                  <a:lnTo>
                    <a:pt x="40" y="632"/>
                  </a:lnTo>
                  <a:lnTo>
                    <a:pt x="58" y="631"/>
                  </a:lnTo>
                  <a:lnTo>
                    <a:pt x="75" y="631"/>
                  </a:lnTo>
                  <a:lnTo>
                    <a:pt x="92" y="631"/>
                  </a:lnTo>
                  <a:lnTo>
                    <a:pt x="109" y="631"/>
                  </a:lnTo>
                  <a:lnTo>
                    <a:pt x="127" y="631"/>
                  </a:lnTo>
                  <a:lnTo>
                    <a:pt x="145" y="632"/>
                  </a:lnTo>
                  <a:lnTo>
                    <a:pt x="162" y="634"/>
                  </a:lnTo>
                  <a:lnTo>
                    <a:pt x="180" y="636"/>
                  </a:lnTo>
                  <a:lnTo>
                    <a:pt x="196" y="637"/>
                  </a:lnTo>
                  <a:lnTo>
                    <a:pt x="213" y="640"/>
                  </a:lnTo>
                  <a:lnTo>
                    <a:pt x="229" y="644"/>
                  </a:lnTo>
                  <a:lnTo>
                    <a:pt x="245" y="648"/>
                  </a:lnTo>
                  <a:lnTo>
                    <a:pt x="261" y="653"/>
                  </a:lnTo>
                  <a:lnTo>
                    <a:pt x="276" y="659"/>
                  </a:lnTo>
                  <a:lnTo>
                    <a:pt x="282" y="665"/>
                  </a:lnTo>
                  <a:lnTo>
                    <a:pt x="286" y="672"/>
                  </a:lnTo>
                  <a:lnTo>
                    <a:pt x="288" y="677"/>
                  </a:lnTo>
                  <a:lnTo>
                    <a:pt x="296" y="678"/>
                  </a:lnTo>
                  <a:lnTo>
                    <a:pt x="306" y="657"/>
                  </a:lnTo>
                  <a:lnTo>
                    <a:pt x="309" y="632"/>
                  </a:lnTo>
                  <a:lnTo>
                    <a:pt x="312" y="608"/>
                  </a:lnTo>
                  <a:lnTo>
                    <a:pt x="325" y="587"/>
                  </a:lnTo>
                  <a:lnTo>
                    <a:pt x="325" y="577"/>
                  </a:lnTo>
                  <a:lnTo>
                    <a:pt x="323" y="567"/>
                  </a:lnTo>
                  <a:lnTo>
                    <a:pt x="316" y="560"/>
                  </a:lnTo>
                  <a:lnTo>
                    <a:pt x="306" y="556"/>
                  </a:lnTo>
                  <a:lnTo>
                    <a:pt x="297" y="556"/>
                  </a:lnTo>
                  <a:lnTo>
                    <a:pt x="287" y="555"/>
                  </a:lnTo>
                  <a:lnTo>
                    <a:pt x="276" y="553"/>
                  </a:lnTo>
                  <a:lnTo>
                    <a:pt x="265" y="553"/>
                  </a:lnTo>
                  <a:lnTo>
                    <a:pt x="255" y="553"/>
                  </a:lnTo>
                  <a:lnTo>
                    <a:pt x="246" y="556"/>
                  </a:lnTo>
                  <a:lnTo>
                    <a:pt x="241" y="563"/>
                  </a:lnTo>
                  <a:lnTo>
                    <a:pt x="238" y="574"/>
                  </a:lnTo>
                  <a:lnTo>
                    <a:pt x="227" y="581"/>
                  </a:lnTo>
                  <a:lnTo>
                    <a:pt x="214" y="586"/>
                  </a:lnTo>
                  <a:lnTo>
                    <a:pt x="202" y="591"/>
                  </a:lnTo>
                  <a:lnTo>
                    <a:pt x="189" y="594"/>
                  </a:lnTo>
                  <a:lnTo>
                    <a:pt x="175" y="597"/>
                  </a:lnTo>
                  <a:lnTo>
                    <a:pt x="161" y="599"/>
                  </a:lnTo>
                  <a:lnTo>
                    <a:pt x="146" y="599"/>
                  </a:lnTo>
                  <a:lnTo>
                    <a:pt x="131" y="598"/>
                  </a:lnTo>
                  <a:lnTo>
                    <a:pt x="122" y="598"/>
                  </a:lnTo>
                  <a:lnTo>
                    <a:pt x="120" y="591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2" y="576"/>
                  </a:lnTo>
                  <a:lnTo>
                    <a:pt x="131" y="574"/>
                  </a:lnTo>
                  <a:lnTo>
                    <a:pt x="140" y="571"/>
                  </a:lnTo>
                  <a:lnTo>
                    <a:pt x="150" y="567"/>
                  </a:lnTo>
                  <a:lnTo>
                    <a:pt x="158" y="563"/>
                  </a:lnTo>
                  <a:lnTo>
                    <a:pt x="166" y="559"/>
                  </a:lnTo>
                  <a:lnTo>
                    <a:pt x="174" y="554"/>
                  </a:lnTo>
                  <a:lnTo>
                    <a:pt x="182" y="551"/>
                  </a:lnTo>
                  <a:lnTo>
                    <a:pt x="191" y="548"/>
                  </a:lnTo>
                  <a:lnTo>
                    <a:pt x="199" y="484"/>
                  </a:lnTo>
                  <a:lnTo>
                    <a:pt x="202" y="419"/>
                  </a:lnTo>
                  <a:lnTo>
                    <a:pt x="202" y="355"/>
                  </a:lnTo>
                  <a:lnTo>
                    <a:pt x="200" y="291"/>
                  </a:lnTo>
                  <a:lnTo>
                    <a:pt x="198" y="227"/>
                  </a:lnTo>
                  <a:lnTo>
                    <a:pt x="196" y="163"/>
                  </a:lnTo>
                  <a:lnTo>
                    <a:pt x="197" y="100"/>
                  </a:lnTo>
                  <a:lnTo>
                    <a:pt x="200" y="36"/>
                  </a:lnTo>
                  <a:lnTo>
                    <a:pt x="187" y="30"/>
                  </a:lnTo>
                  <a:lnTo>
                    <a:pt x="173" y="28"/>
                  </a:lnTo>
                  <a:lnTo>
                    <a:pt x="158" y="28"/>
                  </a:lnTo>
                  <a:lnTo>
                    <a:pt x="142" y="28"/>
                  </a:lnTo>
                  <a:lnTo>
                    <a:pt x="127" y="30"/>
                  </a:lnTo>
                  <a:lnTo>
                    <a:pt x="113" y="30"/>
                  </a:lnTo>
                  <a:lnTo>
                    <a:pt x="99" y="30"/>
                  </a:lnTo>
                  <a:lnTo>
                    <a:pt x="86" y="28"/>
                  </a:lnTo>
                  <a:lnTo>
                    <a:pt x="91" y="17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8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1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88" y="3"/>
                  </a:lnTo>
                  <a:lnTo>
                    <a:pt x="197" y="6"/>
                  </a:lnTo>
                  <a:lnTo>
                    <a:pt x="205" y="9"/>
                  </a:lnTo>
                  <a:lnTo>
                    <a:pt x="212" y="13"/>
                  </a:lnTo>
                  <a:lnTo>
                    <a:pt x="219" y="18"/>
                  </a:lnTo>
                  <a:lnTo>
                    <a:pt x="2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10400" y="2387160"/>
              <a:ext cx="144360" cy="321480"/>
            </a:xfrm>
            <a:custGeom>
              <a:avLst/>
              <a:gdLst/>
              <a:ahLst/>
              <a:rect l="l" t="t" r="r" b="b"/>
              <a:pathLst>
                <a:path w="235" h="525">
                  <a:moveTo>
                    <a:pt x="232" y="28"/>
                  </a:moveTo>
                  <a:lnTo>
                    <a:pt x="235" y="52"/>
                  </a:lnTo>
                  <a:lnTo>
                    <a:pt x="232" y="74"/>
                  </a:lnTo>
                  <a:lnTo>
                    <a:pt x="227" y="96"/>
                  </a:lnTo>
                  <a:lnTo>
                    <a:pt x="220" y="117"/>
                  </a:lnTo>
                  <a:lnTo>
                    <a:pt x="209" y="138"/>
                  </a:lnTo>
                  <a:lnTo>
                    <a:pt x="199" y="157"/>
                  </a:lnTo>
                  <a:lnTo>
                    <a:pt x="188" y="177"/>
                  </a:lnTo>
                  <a:lnTo>
                    <a:pt x="178" y="196"/>
                  </a:lnTo>
                  <a:lnTo>
                    <a:pt x="153" y="208"/>
                  </a:lnTo>
                  <a:lnTo>
                    <a:pt x="141" y="244"/>
                  </a:lnTo>
                  <a:lnTo>
                    <a:pt x="130" y="280"/>
                  </a:lnTo>
                  <a:lnTo>
                    <a:pt x="119" y="316"/>
                  </a:lnTo>
                  <a:lnTo>
                    <a:pt x="110" y="353"/>
                  </a:lnTo>
                  <a:lnTo>
                    <a:pt x="103" y="391"/>
                  </a:lnTo>
                  <a:lnTo>
                    <a:pt x="100" y="429"/>
                  </a:lnTo>
                  <a:lnTo>
                    <a:pt x="99" y="469"/>
                  </a:lnTo>
                  <a:lnTo>
                    <a:pt x="101" y="511"/>
                  </a:lnTo>
                  <a:lnTo>
                    <a:pt x="81" y="525"/>
                  </a:lnTo>
                  <a:lnTo>
                    <a:pt x="71" y="487"/>
                  </a:lnTo>
                  <a:lnTo>
                    <a:pt x="71" y="447"/>
                  </a:lnTo>
                  <a:lnTo>
                    <a:pt x="74" y="407"/>
                  </a:lnTo>
                  <a:lnTo>
                    <a:pt x="79" y="369"/>
                  </a:lnTo>
                  <a:lnTo>
                    <a:pt x="76" y="366"/>
                  </a:lnTo>
                  <a:lnTo>
                    <a:pt x="72" y="366"/>
                  </a:lnTo>
                  <a:lnTo>
                    <a:pt x="69" y="368"/>
                  </a:lnTo>
                  <a:lnTo>
                    <a:pt x="65" y="369"/>
                  </a:lnTo>
                  <a:lnTo>
                    <a:pt x="55" y="371"/>
                  </a:lnTo>
                  <a:lnTo>
                    <a:pt x="46" y="370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1" y="360"/>
                  </a:lnTo>
                  <a:lnTo>
                    <a:pt x="15" y="354"/>
                  </a:lnTo>
                  <a:lnTo>
                    <a:pt x="8" y="349"/>
                  </a:lnTo>
                  <a:lnTo>
                    <a:pt x="1" y="345"/>
                  </a:lnTo>
                  <a:lnTo>
                    <a:pt x="0" y="316"/>
                  </a:lnTo>
                  <a:lnTo>
                    <a:pt x="6" y="288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29" y="239"/>
                  </a:lnTo>
                  <a:lnTo>
                    <a:pt x="35" y="253"/>
                  </a:lnTo>
                  <a:lnTo>
                    <a:pt x="38" y="271"/>
                  </a:lnTo>
                  <a:lnTo>
                    <a:pt x="42" y="286"/>
                  </a:lnTo>
                  <a:lnTo>
                    <a:pt x="38" y="298"/>
                  </a:lnTo>
                  <a:lnTo>
                    <a:pt x="32" y="308"/>
                  </a:lnTo>
                  <a:lnTo>
                    <a:pt x="27" y="320"/>
                  </a:lnTo>
                  <a:lnTo>
                    <a:pt x="28" y="333"/>
                  </a:lnTo>
                  <a:lnTo>
                    <a:pt x="34" y="339"/>
                  </a:lnTo>
                  <a:lnTo>
                    <a:pt x="40" y="343"/>
                  </a:lnTo>
                  <a:lnTo>
                    <a:pt x="47" y="345"/>
                  </a:lnTo>
                  <a:lnTo>
                    <a:pt x="54" y="346"/>
                  </a:lnTo>
                  <a:lnTo>
                    <a:pt x="62" y="346"/>
                  </a:lnTo>
                  <a:lnTo>
                    <a:pt x="68" y="346"/>
                  </a:lnTo>
                  <a:lnTo>
                    <a:pt x="74" y="345"/>
                  </a:lnTo>
                  <a:lnTo>
                    <a:pt x="79" y="345"/>
                  </a:lnTo>
                  <a:lnTo>
                    <a:pt x="85" y="324"/>
                  </a:lnTo>
                  <a:lnTo>
                    <a:pt x="92" y="305"/>
                  </a:lnTo>
                  <a:lnTo>
                    <a:pt x="97" y="284"/>
                  </a:lnTo>
                  <a:lnTo>
                    <a:pt x="103" y="263"/>
                  </a:lnTo>
                  <a:lnTo>
                    <a:pt x="109" y="244"/>
                  </a:lnTo>
                  <a:lnTo>
                    <a:pt x="116" y="223"/>
                  </a:lnTo>
                  <a:lnTo>
                    <a:pt x="122" y="203"/>
                  </a:lnTo>
                  <a:lnTo>
                    <a:pt x="129" y="182"/>
                  </a:lnTo>
                  <a:lnTo>
                    <a:pt x="125" y="172"/>
                  </a:lnTo>
                  <a:lnTo>
                    <a:pt x="121" y="163"/>
                  </a:lnTo>
                  <a:lnTo>
                    <a:pt x="114" y="154"/>
                  </a:lnTo>
                  <a:lnTo>
                    <a:pt x="106" y="146"/>
                  </a:lnTo>
                  <a:lnTo>
                    <a:pt x="99" y="136"/>
                  </a:lnTo>
                  <a:lnTo>
                    <a:pt x="91" y="128"/>
                  </a:lnTo>
                  <a:lnTo>
                    <a:pt x="85" y="119"/>
                  </a:lnTo>
                  <a:lnTo>
                    <a:pt x="81" y="109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5" y="105"/>
                  </a:lnTo>
                  <a:lnTo>
                    <a:pt x="101" y="105"/>
                  </a:lnTo>
                  <a:lnTo>
                    <a:pt x="109" y="113"/>
                  </a:lnTo>
                  <a:lnTo>
                    <a:pt x="117" y="121"/>
                  </a:lnTo>
                  <a:lnTo>
                    <a:pt x="125" y="131"/>
                  </a:lnTo>
                  <a:lnTo>
                    <a:pt x="133" y="139"/>
                  </a:lnTo>
                  <a:lnTo>
                    <a:pt x="140" y="148"/>
                  </a:lnTo>
                  <a:lnTo>
                    <a:pt x="147" y="156"/>
                  </a:lnTo>
                  <a:lnTo>
                    <a:pt x="155" y="163"/>
                  </a:lnTo>
                  <a:lnTo>
                    <a:pt x="162" y="169"/>
                  </a:lnTo>
                  <a:lnTo>
                    <a:pt x="169" y="158"/>
                  </a:lnTo>
                  <a:lnTo>
                    <a:pt x="175" y="147"/>
                  </a:lnTo>
                  <a:lnTo>
                    <a:pt x="180" y="135"/>
                  </a:lnTo>
                  <a:lnTo>
                    <a:pt x="186" y="124"/>
                  </a:lnTo>
                  <a:lnTo>
                    <a:pt x="191" y="112"/>
                  </a:lnTo>
                  <a:lnTo>
                    <a:pt x="195" y="99"/>
                  </a:lnTo>
                  <a:lnTo>
                    <a:pt x="200" y="88"/>
                  </a:lnTo>
                  <a:lnTo>
                    <a:pt x="203" y="75"/>
                  </a:lnTo>
                  <a:lnTo>
                    <a:pt x="199" y="73"/>
                  </a:lnTo>
                  <a:lnTo>
                    <a:pt x="194" y="72"/>
                  </a:lnTo>
                  <a:lnTo>
                    <a:pt x="191" y="73"/>
                  </a:lnTo>
                  <a:lnTo>
                    <a:pt x="186" y="78"/>
                  </a:lnTo>
                  <a:lnTo>
                    <a:pt x="190" y="68"/>
                  </a:lnTo>
                  <a:lnTo>
                    <a:pt x="191" y="56"/>
                  </a:lnTo>
                  <a:lnTo>
                    <a:pt x="188" y="42"/>
                  </a:lnTo>
                  <a:lnTo>
                    <a:pt x="187" y="28"/>
                  </a:lnTo>
                  <a:lnTo>
                    <a:pt x="186" y="15"/>
                  </a:lnTo>
                  <a:lnTo>
                    <a:pt x="190" y="5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92040" y="2412000"/>
              <a:ext cx="56160" cy="95400"/>
            </a:xfrm>
            <a:custGeom>
              <a:avLst/>
              <a:gdLst/>
              <a:ahLst/>
              <a:rect l="l" t="t" r="r" b="b"/>
              <a:pathLst>
                <a:path w="94" h="154">
                  <a:moveTo>
                    <a:pt x="38" y="85"/>
                  </a:moveTo>
                  <a:lnTo>
                    <a:pt x="42" y="89"/>
                  </a:lnTo>
                  <a:lnTo>
                    <a:pt x="45" y="92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3" y="85"/>
                  </a:lnTo>
                  <a:lnTo>
                    <a:pt x="67" y="74"/>
                  </a:lnTo>
                  <a:lnTo>
                    <a:pt x="74" y="66"/>
                  </a:lnTo>
                  <a:lnTo>
                    <a:pt x="86" y="63"/>
                  </a:lnTo>
                  <a:lnTo>
                    <a:pt x="91" y="71"/>
                  </a:lnTo>
                  <a:lnTo>
                    <a:pt x="94" y="78"/>
                  </a:lnTo>
                  <a:lnTo>
                    <a:pt x="93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79" y="107"/>
                  </a:lnTo>
                  <a:lnTo>
                    <a:pt x="74" y="115"/>
                  </a:lnTo>
                  <a:lnTo>
                    <a:pt x="72" y="122"/>
                  </a:lnTo>
                  <a:lnTo>
                    <a:pt x="67" y="128"/>
                  </a:lnTo>
                  <a:lnTo>
                    <a:pt x="64" y="134"/>
                  </a:lnTo>
                  <a:lnTo>
                    <a:pt x="59" y="140"/>
                  </a:lnTo>
                  <a:lnTo>
                    <a:pt x="56" y="146"/>
                  </a:lnTo>
                  <a:lnTo>
                    <a:pt x="51" y="151"/>
                  </a:lnTo>
                  <a:lnTo>
                    <a:pt x="45" y="153"/>
                  </a:lnTo>
                  <a:lnTo>
                    <a:pt x="37" y="154"/>
                  </a:lnTo>
                  <a:lnTo>
                    <a:pt x="28" y="152"/>
                  </a:lnTo>
                  <a:lnTo>
                    <a:pt x="18" y="135"/>
                  </a:lnTo>
                  <a:lnTo>
                    <a:pt x="10" y="116"/>
                  </a:lnTo>
                  <a:lnTo>
                    <a:pt x="4" y="98"/>
                  </a:lnTo>
                  <a:lnTo>
                    <a:pt x="0" y="78"/>
                  </a:lnTo>
                  <a:lnTo>
                    <a:pt x="0" y="59"/>
                  </a:lnTo>
                  <a:lnTo>
                    <a:pt x="2" y="38"/>
                  </a:lnTo>
                  <a:lnTo>
                    <a:pt x="6" y="18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8"/>
                  </a:lnTo>
                  <a:lnTo>
                    <a:pt x="28" y="51"/>
                  </a:lnTo>
                  <a:lnTo>
                    <a:pt x="28" y="63"/>
                  </a:lnTo>
                  <a:lnTo>
                    <a:pt x="30" y="75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58760" y="2416680"/>
              <a:ext cx="28080" cy="302760"/>
            </a:xfrm>
            <a:custGeom>
              <a:avLst/>
              <a:gdLst/>
              <a:ahLst/>
              <a:rect l="l" t="t" r="r" b="b"/>
              <a:pathLst>
                <a:path w="46" h="493">
                  <a:moveTo>
                    <a:pt x="28" y="53"/>
                  </a:moveTo>
                  <a:lnTo>
                    <a:pt x="36" y="164"/>
                  </a:lnTo>
                  <a:lnTo>
                    <a:pt x="44" y="273"/>
                  </a:lnTo>
                  <a:lnTo>
                    <a:pt x="46" y="382"/>
                  </a:lnTo>
                  <a:lnTo>
                    <a:pt x="38" y="491"/>
                  </a:lnTo>
                  <a:lnTo>
                    <a:pt x="33" y="493"/>
                  </a:lnTo>
                  <a:lnTo>
                    <a:pt x="28" y="492"/>
                  </a:lnTo>
                  <a:lnTo>
                    <a:pt x="22" y="491"/>
                  </a:lnTo>
                  <a:lnTo>
                    <a:pt x="16" y="493"/>
                  </a:lnTo>
                  <a:lnTo>
                    <a:pt x="14" y="372"/>
                  </a:lnTo>
                  <a:lnTo>
                    <a:pt x="13" y="250"/>
                  </a:lnTo>
                  <a:lnTo>
                    <a:pt x="10" y="130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25" y="23"/>
                  </a:lnTo>
                  <a:lnTo>
                    <a:pt x="26" y="38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71800" y="2422800"/>
              <a:ext cx="97920" cy="856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58" y="47"/>
                  </a:moveTo>
                  <a:lnTo>
                    <a:pt x="155" y="54"/>
                  </a:lnTo>
                  <a:lnTo>
                    <a:pt x="153" y="61"/>
                  </a:lnTo>
                  <a:lnTo>
                    <a:pt x="148" y="67"/>
                  </a:lnTo>
                  <a:lnTo>
                    <a:pt x="141" y="69"/>
                  </a:lnTo>
                  <a:lnTo>
                    <a:pt x="123" y="70"/>
                  </a:lnTo>
                  <a:lnTo>
                    <a:pt x="106" y="76"/>
                  </a:lnTo>
                  <a:lnTo>
                    <a:pt x="91" y="84"/>
                  </a:lnTo>
                  <a:lnTo>
                    <a:pt x="76" y="93"/>
                  </a:lnTo>
                  <a:lnTo>
                    <a:pt x="61" y="105"/>
                  </a:lnTo>
                  <a:lnTo>
                    <a:pt x="48" y="118"/>
                  </a:lnTo>
                  <a:lnTo>
                    <a:pt x="34" y="130"/>
                  </a:lnTo>
                  <a:lnTo>
                    <a:pt x="22" y="142"/>
                  </a:lnTo>
                  <a:lnTo>
                    <a:pt x="14" y="139"/>
                  </a:lnTo>
                  <a:lnTo>
                    <a:pt x="5" y="136"/>
                  </a:lnTo>
                  <a:lnTo>
                    <a:pt x="0" y="129"/>
                  </a:lnTo>
                  <a:lnTo>
                    <a:pt x="3" y="120"/>
                  </a:lnTo>
                  <a:lnTo>
                    <a:pt x="16" y="99"/>
                  </a:lnTo>
                  <a:lnTo>
                    <a:pt x="31" y="80"/>
                  </a:lnTo>
                  <a:lnTo>
                    <a:pt x="47" y="60"/>
                  </a:lnTo>
                  <a:lnTo>
                    <a:pt x="65" y="43"/>
                  </a:lnTo>
                  <a:lnTo>
                    <a:pt x="85" y="28"/>
                  </a:lnTo>
                  <a:lnTo>
                    <a:pt x="106" y="15"/>
                  </a:lnTo>
                  <a:lnTo>
                    <a:pt x="126" y="6"/>
                  </a:lnTo>
                  <a:lnTo>
                    <a:pt x="149" y="0"/>
                  </a:lnTo>
                  <a:lnTo>
                    <a:pt x="160" y="10"/>
                  </a:lnTo>
                  <a:lnTo>
                    <a:pt x="160" y="22"/>
                  </a:lnTo>
                  <a:lnTo>
                    <a:pt x="156" y="35"/>
                  </a:lnTo>
                  <a:lnTo>
                    <a:pt x="1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72240" y="2424240"/>
              <a:ext cx="386280" cy="447480"/>
            </a:xfrm>
            <a:custGeom>
              <a:avLst/>
              <a:gdLst/>
              <a:ahLst/>
              <a:rect l="l" t="t" r="r" b="b"/>
              <a:pathLst>
                <a:path w="630" h="731">
                  <a:moveTo>
                    <a:pt x="437" y="71"/>
                  </a:moveTo>
                  <a:lnTo>
                    <a:pt x="500" y="106"/>
                  </a:lnTo>
                  <a:lnTo>
                    <a:pt x="504" y="141"/>
                  </a:lnTo>
                  <a:lnTo>
                    <a:pt x="513" y="172"/>
                  </a:lnTo>
                  <a:lnTo>
                    <a:pt x="527" y="202"/>
                  </a:lnTo>
                  <a:lnTo>
                    <a:pt x="542" y="231"/>
                  </a:lnTo>
                  <a:lnTo>
                    <a:pt x="557" y="260"/>
                  </a:lnTo>
                  <a:lnTo>
                    <a:pt x="570" y="288"/>
                  </a:lnTo>
                  <a:lnTo>
                    <a:pt x="580" y="321"/>
                  </a:lnTo>
                  <a:lnTo>
                    <a:pt x="583" y="354"/>
                  </a:lnTo>
                  <a:lnTo>
                    <a:pt x="591" y="383"/>
                  </a:lnTo>
                  <a:lnTo>
                    <a:pt x="598" y="412"/>
                  </a:lnTo>
                  <a:lnTo>
                    <a:pt x="605" y="442"/>
                  </a:lnTo>
                  <a:lnTo>
                    <a:pt x="612" y="470"/>
                  </a:lnTo>
                  <a:lnTo>
                    <a:pt x="618" y="500"/>
                  </a:lnTo>
                  <a:lnTo>
                    <a:pt x="622" y="530"/>
                  </a:lnTo>
                  <a:lnTo>
                    <a:pt x="627" y="560"/>
                  </a:lnTo>
                  <a:lnTo>
                    <a:pt x="630" y="591"/>
                  </a:lnTo>
                  <a:lnTo>
                    <a:pt x="621" y="598"/>
                  </a:lnTo>
                  <a:lnTo>
                    <a:pt x="617" y="607"/>
                  </a:lnTo>
                  <a:lnTo>
                    <a:pt x="617" y="618"/>
                  </a:lnTo>
                  <a:lnTo>
                    <a:pt x="619" y="631"/>
                  </a:lnTo>
                  <a:lnTo>
                    <a:pt x="620" y="644"/>
                  </a:lnTo>
                  <a:lnTo>
                    <a:pt x="621" y="657"/>
                  </a:lnTo>
                  <a:lnTo>
                    <a:pt x="619" y="670"/>
                  </a:lnTo>
                  <a:lnTo>
                    <a:pt x="611" y="680"/>
                  </a:lnTo>
                  <a:lnTo>
                    <a:pt x="591" y="688"/>
                  </a:lnTo>
                  <a:lnTo>
                    <a:pt x="570" y="695"/>
                  </a:lnTo>
                  <a:lnTo>
                    <a:pt x="550" y="701"/>
                  </a:lnTo>
                  <a:lnTo>
                    <a:pt x="528" y="705"/>
                  </a:lnTo>
                  <a:lnTo>
                    <a:pt x="506" y="709"/>
                  </a:lnTo>
                  <a:lnTo>
                    <a:pt x="484" y="712"/>
                  </a:lnTo>
                  <a:lnTo>
                    <a:pt x="463" y="715"/>
                  </a:lnTo>
                  <a:lnTo>
                    <a:pt x="443" y="718"/>
                  </a:lnTo>
                  <a:lnTo>
                    <a:pt x="430" y="719"/>
                  </a:lnTo>
                  <a:lnTo>
                    <a:pt x="418" y="719"/>
                  </a:lnTo>
                  <a:lnTo>
                    <a:pt x="407" y="720"/>
                  </a:lnTo>
                  <a:lnTo>
                    <a:pt x="395" y="722"/>
                  </a:lnTo>
                  <a:lnTo>
                    <a:pt x="384" y="723"/>
                  </a:lnTo>
                  <a:lnTo>
                    <a:pt x="372" y="725"/>
                  </a:lnTo>
                  <a:lnTo>
                    <a:pt x="361" y="726"/>
                  </a:lnTo>
                  <a:lnTo>
                    <a:pt x="349" y="727"/>
                  </a:lnTo>
                  <a:lnTo>
                    <a:pt x="338" y="728"/>
                  </a:lnTo>
                  <a:lnTo>
                    <a:pt x="326" y="728"/>
                  </a:lnTo>
                  <a:lnTo>
                    <a:pt x="315" y="730"/>
                  </a:lnTo>
                  <a:lnTo>
                    <a:pt x="303" y="731"/>
                  </a:lnTo>
                  <a:lnTo>
                    <a:pt x="292" y="731"/>
                  </a:lnTo>
                  <a:lnTo>
                    <a:pt x="280" y="731"/>
                  </a:lnTo>
                  <a:lnTo>
                    <a:pt x="269" y="731"/>
                  </a:lnTo>
                  <a:lnTo>
                    <a:pt x="256" y="730"/>
                  </a:lnTo>
                  <a:lnTo>
                    <a:pt x="251" y="723"/>
                  </a:lnTo>
                  <a:lnTo>
                    <a:pt x="246" y="718"/>
                  </a:lnTo>
                  <a:lnTo>
                    <a:pt x="238" y="715"/>
                  </a:lnTo>
                  <a:lnTo>
                    <a:pt x="231" y="710"/>
                  </a:lnTo>
                  <a:lnTo>
                    <a:pt x="242" y="695"/>
                  </a:lnTo>
                  <a:lnTo>
                    <a:pt x="248" y="679"/>
                  </a:lnTo>
                  <a:lnTo>
                    <a:pt x="250" y="660"/>
                  </a:lnTo>
                  <a:lnTo>
                    <a:pt x="250" y="642"/>
                  </a:lnTo>
                  <a:lnTo>
                    <a:pt x="247" y="624"/>
                  </a:lnTo>
                  <a:lnTo>
                    <a:pt x="241" y="605"/>
                  </a:lnTo>
                  <a:lnTo>
                    <a:pt x="236" y="588"/>
                  </a:lnTo>
                  <a:lnTo>
                    <a:pt x="231" y="572"/>
                  </a:lnTo>
                  <a:lnTo>
                    <a:pt x="214" y="572"/>
                  </a:lnTo>
                  <a:lnTo>
                    <a:pt x="199" y="566"/>
                  </a:lnTo>
                  <a:lnTo>
                    <a:pt x="187" y="557"/>
                  </a:lnTo>
                  <a:lnTo>
                    <a:pt x="175" y="544"/>
                  </a:lnTo>
                  <a:lnTo>
                    <a:pt x="164" y="533"/>
                  </a:lnTo>
                  <a:lnTo>
                    <a:pt x="152" y="521"/>
                  </a:lnTo>
                  <a:lnTo>
                    <a:pt x="138" y="514"/>
                  </a:lnTo>
                  <a:lnTo>
                    <a:pt x="123" y="511"/>
                  </a:lnTo>
                  <a:lnTo>
                    <a:pt x="112" y="525"/>
                  </a:lnTo>
                  <a:lnTo>
                    <a:pt x="98" y="538"/>
                  </a:lnTo>
                  <a:lnTo>
                    <a:pt x="84" y="551"/>
                  </a:lnTo>
                  <a:lnTo>
                    <a:pt x="72" y="564"/>
                  </a:lnTo>
                  <a:lnTo>
                    <a:pt x="59" y="578"/>
                  </a:lnTo>
                  <a:lnTo>
                    <a:pt x="47" y="591"/>
                  </a:lnTo>
                  <a:lnTo>
                    <a:pt x="39" y="609"/>
                  </a:lnTo>
                  <a:lnTo>
                    <a:pt x="35" y="627"/>
                  </a:lnTo>
                  <a:lnTo>
                    <a:pt x="44" y="626"/>
                  </a:lnTo>
                  <a:lnTo>
                    <a:pt x="53" y="621"/>
                  </a:lnTo>
                  <a:lnTo>
                    <a:pt x="61" y="614"/>
                  </a:lnTo>
                  <a:lnTo>
                    <a:pt x="68" y="606"/>
                  </a:lnTo>
                  <a:lnTo>
                    <a:pt x="76" y="598"/>
                  </a:lnTo>
                  <a:lnTo>
                    <a:pt x="84" y="592"/>
                  </a:lnTo>
                  <a:lnTo>
                    <a:pt x="93" y="590"/>
                  </a:lnTo>
                  <a:lnTo>
                    <a:pt x="104" y="591"/>
                  </a:lnTo>
                  <a:lnTo>
                    <a:pt x="108" y="599"/>
                  </a:lnTo>
                  <a:lnTo>
                    <a:pt x="112" y="607"/>
                  </a:lnTo>
                  <a:lnTo>
                    <a:pt x="115" y="616"/>
                  </a:lnTo>
                  <a:lnTo>
                    <a:pt x="119" y="625"/>
                  </a:lnTo>
                  <a:lnTo>
                    <a:pt x="121" y="633"/>
                  </a:lnTo>
                  <a:lnTo>
                    <a:pt x="126" y="640"/>
                  </a:lnTo>
                  <a:lnTo>
                    <a:pt x="132" y="647"/>
                  </a:lnTo>
                  <a:lnTo>
                    <a:pt x="140" y="652"/>
                  </a:lnTo>
                  <a:lnTo>
                    <a:pt x="150" y="651"/>
                  </a:lnTo>
                  <a:lnTo>
                    <a:pt x="160" y="648"/>
                  </a:lnTo>
                  <a:lnTo>
                    <a:pt x="170" y="644"/>
                  </a:lnTo>
                  <a:lnTo>
                    <a:pt x="179" y="640"/>
                  </a:lnTo>
                  <a:lnTo>
                    <a:pt x="187" y="635"/>
                  </a:lnTo>
                  <a:lnTo>
                    <a:pt x="196" y="629"/>
                  </a:lnTo>
                  <a:lnTo>
                    <a:pt x="205" y="625"/>
                  </a:lnTo>
                  <a:lnTo>
                    <a:pt x="214" y="621"/>
                  </a:lnTo>
                  <a:lnTo>
                    <a:pt x="219" y="627"/>
                  </a:lnTo>
                  <a:lnTo>
                    <a:pt x="221" y="635"/>
                  </a:lnTo>
                  <a:lnTo>
                    <a:pt x="221" y="642"/>
                  </a:lnTo>
                  <a:lnTo>
                    <a:pt x="220" y="649"/>
                  </a:lnTo>
                  <a:lnTo>
                    <a:pt x="214" y="657"/>
                  </a:lnTo>
                  <a:lnTo>
                    <a:pt x="208" y="664"/>
                  </a:lnTo>
                  <a:lnTo>
                    <a:pt x="199" y="670"/>
                  </a:lnTo>
                  <a:lnTo>
                    <a:pt x="191" y="674"/>
                  </a:lnTo>
                  <a:lnTo>
                    <a:pt x="182" y="678"/>
                  </a:lnTo>
                  <a:lnTo>
                    <a:pt x="174" y="682"/>
                  </a:lnTo>
                  <a:lnTo>
                    <a:pt x="165" y="686"/>
                  </a:lnTo>
                  <a:lnTo>
                    <a:pt x="157" y="690"/>
                  </a:lnTo>
                  <a:lnTo>
                    <a:pt x="142" y="689"/>
                  </a:lnTo>
                  <a:lnTo>
                    <a:pt x="130" y="685"/>
                  </a:lnTo>
                  <a:lnTo>
                    <a:pt x="121" y="678"/>
                  </a:lnTo>
                  <a:lnTo>
                    <a:pt x="113" y="669"/>
                  </a:lnTo>
                  <a:lnTo>
                    <a:pt x="106" y="659"/>
                  </a:lnTo>
                  <a:lnTo>
                    <a:pt x="99" y="648"/>
                  </a:lnTo>
                  <a:lnTo>
                    <a:pt x="92" y="637"/>
                  </a:lnTo>
                  <a:lnTo>
                    <a:pt x="84" y="627"/>
                  </a:lnTo>
                  <a:lnTo>
                    <a:pt x="77" y="635"/>
                  </a:lnTo>
                  <a:lnTo>
                    <a:pt x="70" y="642"/>
                  </a:lnTo>
                  <a:lnTo>
                    <a:pt x="61" y="648"/>
                  </a:lnTo>
                  <a:lnTo>
                    <a:pt x="52" y="651"/>
                  </a:lnTo>
                  <a:lnTo>
                    <a:pt x="42" y="655"/>
                  </a:lnTo>
                  <a:lnTo>
                    <a:pt x="31" y="656"/>
                  </a:lnTo>
                  <a:lnTo>
                    <a:pt x="21" y="656"/>
                  </a:lnTo>
                  <a:lnTo>
                    <a:pt x="9" y="655"/>
                  </a:lnTo>
                  <a:lnTo>
                    <a:pt x="2" y="644"/>
                  </a:lnTo>
                  <a:lnTo>
                    <a:pt x="0" y="634"/>
                  </a:lnTo>
                  <a:lnTo>
                    <a:pt x="2" y="625"/>
                  </a:lnTo>
                  <a:lnTo>
                    <a:pt x="6" y="614"/>
                  </a:lnTo>
                  <a:lnTo>
                    <a:pt x="12" y="604"/>
                  </a:lnTo>
                  <a:lnTo>
                    <a:pt x="17" y="594"/>
                  </a:lnTo>
                  <a:lnTo>
                    <a:pt x="23" y="583"/>
                  </a:lnTo>
                  <a:lnTo>
                    <a:pt x="27" y="572"/>
                  </a:lnTo>
                  <a:lnTo>
                    <a:pt x="40" y="561"/>
                  </a:lnTo>
                  <a:lnTo>
                    <a:pt x="51" y="550"/>
                  </a:lnTo>
                  <a:lnTo>
                    <a:pt x="61" y="536"/>
                  </a:lnTo>
                  <a:lnTo>
                    <a:pt x="70" y="522"/>
                  </a:lnTo>
                  <a:lnTo>
                    <a:pt x="81" y="510"/>
                  </a:lnTo>
                  <a:lnTo>
                    <a:pt x="92" y="499"/>
                  </a:lnTo>
                  <a:lnTo>
                    <a:pt x="106" y="492"/>
                  </a:lnTo>
                  <a:lnTo>
                    <a:pt x="123" y="489"/>
                  </a:lnTo>
                  <a:lnTo>
                    <a:pt x="135" y="493"/>
                  </a:lnTo>
                  <a:lnTo>
                    <a:pt x="148" y="498"/>
                  </a:lnTo>
                  <a:lnTo>
                    <a:pt x="159" y="504"/>
                  </a:lnTo>
                  <a:lnTo>
                    <a:pt x="171" y="511"/>
                  </a:lnTo>
                  <a:lnTo>
                    <a:pt x="181" y="518"/>
                  </a:lnTo>
                  <a:lnTo>
                    <a:pt x="190" y="527"/>
                  </a:lnTo>
                  <a:lnTo>
                    <a:pt x="198" y="536"/>
                  </a:lnTo>
                  <a:lnTo>
                    <a:pt x="206" y="548"/>
                  </a:lnTo>
                  <a:lnTo>
                    <a:pt x="214" y="541"/>
                  </a:lnTo>
                  <a:lnTo>
                    <a:pt x="219" y="531"/>
                  </a:lnTo>
                  <a:lnTo>
                    <a:pt x="224" y="525"/>
                  </a:lnTo>
                  <a:lnTo>
                    <a:pt x="234" y="520"/>
                  </a:lnTo>
                  <a:lnTo>
                    <a:pt x="254" y="516"/>
                  </a:lnTo>
                  <a:lnTo>
                    <a:pt x="274" y="518"/>
                  </a:lnTo>
                  <a:lnTo>
                    <a:pt x="295" y="521"/>
                  </a:lnTo>
                  <a:lnTo>
                    <a:pt x="316" y="525"/>
                  </a:lnTo>
                  <a:lnTo>
                    <a:pt x="334" y="525"/>
                  </a:lnTo>
                  <a:lnTo>
                    <a:pt x="353" y="521"/>
                  </a:lnTo>
                  <a:lnTo>
                    <a:pt x="368" y="510"/>
                  </a:lnTo>
                  <a:lnTo>
                    <a:pt x="379" y="489"/>
                  </a:lnTo>
                  <a:lnTo>
                    <a:pt x="395" y="490"/>
                  </a:lnTo>
                  <a:lnTo>
                    <a:pt x="411" y="491"/>
                  </a:lnTo>
                  <a:lnTo>
                    <a:pt x="426" y="492"/>
                  </a:lnTo>
                  <a:lnTo>
                    <a:pt x="441" y="495"/>
                  </a:lnTo>
                  <a:lnTo>
                    <a:pt x="454" y="498"/>
                  </a:lnTo>
                  <a:lnTo>
                    <a:pt x="468" y="504"/>
                  </a:lnTo>
                  <a:lnTo>
                    <a:pt x="481" y="513"/>
                  </a:lnTo>
                  <a:lnTo>
                    <a:pt x="492" y="525"/>
                  </a:lnTo>
                  <a:lnTo>
                    <a:pt x="493" y="534"/>
                  </a:lnTo>
                  <a:lnTo>
                    <a:pt x="488" y="539"/>
                  </a:lnTo>
                  <a:lnTo>
                    <a:pt x="479" y="543"/>
                  </a:lnTo>
                  <a:lnTo>
                    <a:pt x="473" y="544"/>
                  </a:lnTo>
                  <a:lnTo>
                    <a:pt x="467" y="541"/>
                  </a:lnTo>
                  <a:lnTo>
                    <a:pt x="460" y="536"/>
                  </a:lnTo>
                  <a:lnTo>
                    <a:pt x="453" y="531"/>
                  </a:lnTo>
                  <a:lnTo>
                    <a:pt x="445" y="527"/>
                  </a:lnTo>
                  <a:lnTo>
                    <a:pt x="436" y="522"/>
                  </a:lnTo>
                  <a:lnTo>
                    <a:pt x="426" y="520"/>
                  </a:lnTo>
                  <a:lnTo>
                    <a:pt x="417" y="519"/>
                  </a:lnTo>
                  <a:lnTo>
                    <a:pt x="407" y="520"/>
                  </a:lnTo>
                  <a:lnTo>
                    <a:pt x="393" y="538"/>
                  </a:lnTo>
                  <a:lnTo>
                    <a:pt x="377" y="548"/>
                  </a:lnTo>
                  <a:lnTo>
                    <a:pt x="361" y="550"/>
                  </a:lnTo>
                  <a:lnTo>
                    <a:pt x="342" y="548"/>
                  </a:lnTo>
                  <a:lnTo>
                    <a:pt x="324" y="543"/>
                  </a:lnTo>
                  <a:lnTo>
                    <a:pt x="304" y="538"/>
                  </a:lnTo>
                  <a:lnTo>
                    <a:pt x="284" y="537"/>
                  </a:lnTo>
                  <a:lnTo>
                    <a:pt x="264" y="542"/>
                  </a:lnTo>
                  <a:lnTo>
                    <a:pt x="281" y="579"/>
                  </a:lnTo>
                  <a:lnTo>
                    <a:pt x="289" y="619"/>
                  </a:lnTo>
                  <a:lnTo>
                    <a:pt x="291" y="663"/>
                  </a:lnTo>
                  <a:lnTo>
                    <a:pt x="285" y="704"/>
                  </a:lnTo>
                  <a:lnTo>
                    <a:pt x="293" y="710"/>
                  </a:lnTo>
                  <a:lnTo>
                    <a:pt x="311" y="710"/>
                  </a:lnTo>
                  <a:lnTo>
                    <a:pt x="330" y="710"/>
                  </a:lnTo>
                  <a:lnTo>
                    <a:pt x="348" y="709"/>
                  </a:lnTo>
                  <a:lnTo>
                    <a:pt x="367" y="708"/>
                  </a:lnTo>
                  <a:lnTo>
                    <a:pt x="385" y="705"/>
                  </a:lnTo>
                  <a:lnTo>
                    <a:pt x="405" y="703"/>
                  </a:lnTo>
                  <a:lnTo>
                    <a:pt x="423" y="701"/>
                  </a:lnTo>
                  <a:lnTo>
                    <a:pt x="441" y="697"/>
                  </a:lnTo>
                  <a:lnTo>
                    <a:pt x="460" y="694"/>
                  </a:lnTo>
                  <a:lnTo>
                    <a:pt x="478" y="690"/>
                  </a:lnTo>
                  <a:lnTo>
                    <a:pt x="497" y="687"/>
                  </a:lnTo>
                  <a:lnTo>
                    <a:pt x="515" y="682"/>
                  </a:lnTo>
                  <a:lnTo>
                    <a:pt x="534" y="678"/>
                  </a:lnTo>
                  <a:lnTo>
                    <a:pt x="551" y="673"/>
                  </a:lnTo>
                  <a:lnTo>
                    <a:pt x="569" y="669"/>
                  </a:lnTo>
                  <a:lnTo>
                    <a:pt x="587" y="663"/>
                  </a:lnTo>
                  <a:lnTo>
                    <a:pt x="591" y="652"/>
                  </a:lnTo>
                  <a:lnTo>
                    <a:pt x="583" y="598"/>
                  </a:lnTo>
                  <a:lnTo>
                    <a:pt x="572" y="545"/>
                  </a:lnTo>
                  <a:lnTo>
                    <a:pt x="560" y="492"/>
                  </a:lnTo>
                  <a:lnTo>
                    <a:pt x="546" y="440"/>
                  </a:lnTo>
                  <a:lnTo>
                    <a:pt x="532" y="389"/>
                  </a:lnTo>
                  <a:lnTo>
                    <a:pt x="519" y="338"/>
                  </a:lnTo>
                  <a:lnTo>
                    <a:pt x="506" y="286"/>
                  </a:lnTo>
                  <a:lnTo>
                    <a:pt x="494" y="234"/>
                  </a:lnTo>
                  <a:lnTo>
                    <a:pt x="501" y="233"/>
                  </a:lnTo>
                  <a:lnTo>
                    <a:pt x="507" y="228"/>
                  </a:lnTo>
                  <a:lnTo>
                    <a:pt x="509" y="220"/>
                  </a:lnTo>
                  <a:lnTo>
                    <a:pt x="506" y="212"/>
                  </a:lnTo>
                  <a:lnTo>
                    <a:pt x="498" y="203"/>
                  </a:lnTo>
                  <a:lnTo>
                    <a:pt x="491" y="195"/>
                  </a:lnTo>
                  <a:lnTo>
                    <a:pt x="484" y="186"/>
                  </a:lnTo>
                  <a:lnTo>
                    <a:pt x="479" y="177"/>
                  </a:lnTo>
                  <a:lnTo>
                    <a:pt x="475" y="167"/>
                  </a:lnTo>
                  <a:lnTo>
                    <a:pt x="469" y="157"/>
                  </a:lnTo>
                  <a:lnTo>
                    <a:pt x="464" y="147"/>
                  </a:lnTo>
                  <a:lnTo>
                    <a:pt x="459" y="136"/>
                  </a:lnTo>
                  <a:lnTo>
                    <a:pt x="441" y="119"/>
                  </a:lnTo>
                  <a:lnTo>
                    <a:pt x="422" y="104"/>
                  </a:lnTo>
                  <a:lnTo>
                    <a:pt x="401" y="89"/>
                  </a:lnTo>
                  <a:lnTo>
                    <a:pt x="382" y="75"/>
                  </a:lnTo>
                  <a:lnTo>
                    <a:pt x="362" y="60"/>
                  </a:lnTo>
                  <a:lnTo>
                    <a:pt x="344" y="44"/>
                  </a:lnTo>
                  <a:lnTo>
                    <a:pt x="327" y="26"/>
                  </a:lnTo>
                  <a:lnTo>
                    <a:pt x="315" y="4"/>
                  </a:lnTo>
                  <a:lnTo>
                    <a:pt x="320" y="1"/>
                  </a:lnTo>
                  <a:lnTo>
                    <a:pt x="327" y="0"/>
                  </a:lnTo>
                  <a:lnTo>
                    <a:pt x="334" y="1"/>
                  </a:lnTo>
                  <a:lnTo>
                    <a:pt x="340" y="4"/>
                  </a:lnTo>
                  <a:lnTo>
                    <a:pt x="4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30520" y="2425320"/>
              <a:ext cx="160560" cy="268560"/>
            </a:xfrm>
            <a:custGeom>
              <a:avLst/>
              <a:gdLst/>
              <a:ahLst/>
              <a:rect l="l" t="t" r="r" b="b"/>
              <a:pathLst>
                <a:path w="263" h="436">
                  <a:moveTo>
                    <a:pt x="263" y="27"/>
                  </a:moveTo>
                  <a:lnTo>
                    <a:pt x="250" y="39"/>
                  </a:lnTo>
                  <a:lnTo>
                    <a:pt x="238" y="49"/>
                  </a:lnTo>
                  <a:lnTo>
                    <a:pt x="226" y="61"/>
                  </a:lnTo>
                  <a:lnTo>
                    <a:pt x="213" y="72"/>
                  </a:lnTo>
                  <a:lnTo>
                    <a:pt x="201" y="84"/>
                  </a:lnTo>
                  <a:lnTo>
                    <a:pt x="188" y="94"/>
                  </a:lnTo>
                  <a:lnTo>
                    <a:pt x="176" y="106"/>
                  </a:lnTo>
                  <a:lnTo>
                    <a:pt x="164" y="117"/>
                  </a:lnTo>
                  <a:lnTo>
                    <a:pt x="151" y="129"/>
                  </a:lnTo>
                  <a:lnTo>
                    <a:pt x="138" y="139"/>
                  </a:lnTo>
                  <a:lnTo>
                    <a:pt x="126" y="151"/>
                  </a:lnTo>
                  <a:lnTo>
                    <a:pt x="113" y="161"/>
                  </a:lnTo>
                  <a:lnTo>
                    <a:pt x="100" y="171"/>
                  </a:lnTo>
                  <a:lnTo>
                    <a:pt x="88" y="182"/>
                  </a:lnTo>
                  <a:lnTo>
                    <a:pt x="75" y="192"/>
                  </a:lnTo>
                  <a:lnTo>
                    <a:pt x="61" y="203"/>
                  </a:lnTo>
                  <a:lnTo>
                    <a:pt x="50" y="229"/>
                  </a:lnTo>
                  <a:lnTo>
                    <a:pt x="44" y="256"/>
                  </a:lnTo>
                  <a:lnTo>
                    <a:pt x="42" y="283"/>
                  </a:lnTo>
                  <a:lnTo>
                    <a:pt x="43" y="312"/>
                  </a:lnTo>
                  <a:lnTo>
                    <a:pt x="44" y="341"/>
                  </a:lnTo>
                  <a:lnTo>
                    <a:pt x="45" y="370"/>
                  </a:lnTo>
                  <a:lnTo>
                    <a:pt x="44" y="398"/>
                  </a:lnTo>
                  <a:lnTo>
                    <a:pt x="39" y="427"/>
                  </a:lnTo>
                  <a:lnTo>
                    <a:pt x="34" y="433"/>
                  </a:lnTo>
                  <a:lnTo>
                    <a:pt x="28" y="436"/>
                  </a:lnTo>
                  <a:lnTo>
                    <a:pt x="21" y="436"/>
                  </a:lnTo>
                  <a:lnTo>
                    <a:pt x="14" y="433"/>
                  </a:lnTo>
                  <a:lnTo>
                    <a:pt x="9" y="424"/>
                  </a:lnTo>
                  <a:lnTo>
                    <a:pt x="9" y="412"/>
                  </a:lnTo>
                  <a:lnTo>
                    <a:pt x="8" y="402"/>
                  </a:lnTo>
                  <a:lnTo>
                    <a:pt x="0" y="394"/>
                  </a:lnTo>
                  <a:lnTo>
                    <a:pt x="3" y="368"/>
                  </a:lnTo>
                  <a:lnTo>
                    <a:pt x="4" y="342"/>
                  </a:lnTo>
                  <a:lnTo>
                    <a:pt x="3" y="315"/>
                  </a:lnTo>
                  <a:lnTo>
                    <a:pt x="3" y="289"/>
                  </a:lnTo>
                  <a:lnTo>
                    <a:pt x="3" y="262"/>
                  </a:lnTo>
                  <a:lnTo>
                    <a:pt x="5" y="237"/>
                  </a:lnTo>
                  <a:lnTo>
                    <a:pt x="12" y="212"/>
                  </a:lnTo>
                  <a:lnTo>
                    <a:pt x="22" y="189"/>
                  </a:lnTo>
                  <a:lnTo>
                    <a:pt x="37" y="177"/>
                  </a:lnTo>
                  <a:lnTo>
                    <a:pt x="52" y="166"/>
                  </a:lnTo>
                  <a:lnTo>
                    <a:pt x="67" y="154"/>
                  </a:lnTo>
                  <a:lnTo>
                    <a:pt x="82" y="141"/>
                  </a:lnTo>
                  <a:lnTo>
                    <a:pt x="97" y="130"/>
                  </a:lnTo>
                  <a:lnTo>
                    <a:pt x="111" y="117"/>
                  </a:lnTo>
                  <a:lnTo>
                    <a:pt x="126" y="106"/>
                  </a:lnTo>
                  <a:lnTo>
                    <a:pt x="141" y="93"/>
                  </a:lnTo>
                  <a:lnTo>
                    <a:pt x="155" y="80"/>
                  </a:lnTo>
                  <a:lnTo>
                    <a:pt x="168" y="69"/>
                  </a:lnTo>
                  <a:lnTo>
                    <a:pt x="183" y="56"/>
                  </a:lnTo>
                  <a:lnTo>
                    <a:pt x="197" y="45"/>
                  </a:lnTo>
                  <a:lnTo>
                    <a:pt x="212" y="33"/>
                  </a:lnTo>
                  <a:lnTo>
                    <a:pt x="226" y="22"/>
                  </a:lnTo>
                  <a:lnTo>
                    <a:pt x="240" y="10"/>
                  </a:lnTo>
                  <a:lnTo>
                    <a:pt x="255" y="0"/>
                  </a:lnTo>
                  <a:lnTo>
                    <a:pt x="259" y="4"/>
                  </a:lnTo>
                  <a:lnTo>
                    <a:pt x="263" y="11"/>
                  </a:lnTo>
                  <a:lnTo>
                    <a:pt x="263" y="19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28200" y="2427840"/>
              <a:ext cx="158040" cy="259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113" y="3"/>
                  </a:moveTo>
                  <a:lnTo>
                    <a:pt x="118" y="1"/>
                  </a:lnTo>
                  <a:lnTo>
                    <a:pt x="123" y="3"/>
                  </a:lnTo>
                  <a:lnTo>
                    <a:pt x="129" y="6"/>
                  </a:lnTo>
                  <a:lnTo>
                    <a:pt x="134" y="8"/>
                  </a:lnTo>
                  <a:lnTo>
                    <a:pt x="126" y="27"/>
                  </a:lnTo>
                  <a:lnTo>
                    <a:pt x="117" y="45"/>
                  </a:lnTo>
                  <a:lnTo>
                    <a:pt x="109" y="65"/>
                  </a:lnTo>
                  <a:lnTo>
                    <a:pt x="100" y="83"/>
                  </a:lnTo>
                  <a:lnTo>
                    <a:pt x="91" y="102"/>
                  </a:lnTo>
                  <a:lnTo>
                    <a:pt x="80" y="120"/>
                  </a:lnTo>
                  <a:lnTo>
                    <a:pt x="70" y="137"/>
                  </a:lnTo>
                  <a:lnTo>
                    <a:pt x="57" y="155"/>
                  </a:lnTo>
                  <a:lnTo>
                    <a:pt x="70" y="162"/>
                  </a:lnTo>
                  <a:lnTo>
                    <a:pt x="83" y="166"/>
                  </a:lnTo>
                  <a:lnTo>
                    <a:pt x="95" y="170"/>
                  </a:lnTo>
                  <a:lnTo>
                    <a:pt x="108" y="172"/>
                  </a:lnTo>
                  <a:lnTo>
                    <a:pt x="121" y="174"/>
                  </a:lnTo>
                  <a:lnTo>
                    <a:pt x="132" y="175"/>
                  </a:lnTo>
                  <a:lnTo>
                    <a:pt x="145" y="177"/>
                  </a:lnTo>
                  <a:lnTo>
                    <a:pt x="158" y="177"/>
                  </a:lnTo>
                  <a:lnTo>
                    <a:pt x="170" y="178"/>
                  </a:lnTo>
                  <a:lnTo>
                    <a:pt x="183" y="179"/>
                  </a:lnTo>
                  <a:lnTo>
                    <a:pt x="194" y="181"/>
                  </a:lnTo>
                  <a:lnTo>
                    <a:pt x="207" y="182"/>
                  </a:lnTo>
                  <a:lnTo>
                    <a:pt x="220" y="186"/>
                  </a:lnTo>
                  <a:lnTo>
                    <a:pt x="232" y="190"/>
                  </a:lnTo>
                  <a:lnTo>
                    <a:pt x="245" y="196"/>
                  </a:lnTo>
                  <a:lnTo>
                    <a:pt x="258" y="203"/>
                  </a:lnTo>
                  <a:lnTo>
                    <a:pt x="250" y="212"/>
                  </a:lnTo>
                  <a:lnTo>
                    <a:pt x="242" y="216"/>
                  </a:lnTo>
                  <a:lnTo>
                    <a:pt x="231" y="217"/>
                  </a:lnTo>
                  <a:lnTo>
                    <a:pt x="221" y="216"/>
                  </a:lnTo>
                  <a:lnTo>
                    <a:pt x="211" y="212"/>
                  </a:lnTo>
                  <a:lnTo>
                    <a:pt x="200" y="209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61" y="204"/>
                  </a:lnTo>
                  <a:lnTo>
                    <a:pt x="143" y="202"/>
                  </a:lnTo>
                  <a:lnTo>
                    <a:pt x="122" y="197"/>
                  </a:lnTo>
                  <a:lnTo>
                    <a:pt x="101" y="195"/>
                  </a:lnTo>
                  <a:lnTo>
                    <a:pt x="81" y="194"/>
                  </a:lnTo>
                  <a:lnTo>
                    <a:pt x="63" y="196"/>
                  </a:lnTo>
                  <a:lnTo>
                    <a:pt x="46" y="203"/>
                  </a:lnTo>
                  <a:lnTo>
                    <a:pt x="32" y="217"/>
                  </a:lnTo>
                  <a:lnTo>
                    <a:pt x="49" y="418"/>
                  </a:lnTo>
                  <a:lnTo>
                    <a:pt x="45" y="421"/>
                  </a:lnTo>
                  <a:lnTo>
                    <a:pt x="40" y="423"/>
                  </a:lnTo>
                  <a:lnTo>
                    <a:pt x="35" y="424"/>
                  </a:lnTo>
                  <a:lnTo>
                    <a:pt x="30" y="424"/>
                  </a:lnTo>
                  <a:lnTo>
                    <a:pt x="14" y="397"/>
                  </a:lnTo>
                  <a:lnTo>
                    <a:pt x="4" y="368"/>
                  </a:lnTo>
                  <a:lnTo>
                    <a:pt x="0" y="338"/>
                  </a:lnTo>
                  <a:lnTo>
                    <a:pt x="0" y="307"/>
                  </a:lnTo>
                  <a:lnTo>
                    <a:pt x="1" y="276"/>
                  </a:lnTo>
                  <a:lnTo>
                    <a:pt x="3" y="243"/>
                  </a:lnTo>
                  <a:lnTo>
                    <a:pt x="4" y="211"/>
                  </a:lnTo>
                  <a:lnTo>
                    <a:pt x="4" y="180"/>
                  </a:lnTo>
                  <a:lnTo>
                    <a:pt x="17" y="160"/>
                  </a:lnTo>
                  <a:lnTo>
                    <a:pt x="31" y="140"/>
                  </a:lnTo>
                  <a:lnTo>
                    <a:pt x="43" y="120"/>
                  </a:lnTo>
                  <a:lnTo>
                    <a:pt x="55" y="98"/>
                  </a:lnTo>
                  <a:lnTo>
                    <a:pt x="68" y="77"/>
                  </a:lnTo>
                  <a:lnTo>
                    <a:pt x="79" y="57"/>
                  </a:lnTo>
                  <a:lnTo>
                    <a:pt x="90" y="35"/>
                  </a:lnTo>
                  <a:lnTo>
                    <a:pt x="101" y="14"/>
                  </a:lnTo>
                  <a:lnTo>
                    <a:pt x="113" y="0"/>
                  </a:lnTo>
                  <a:lnTo>
                    <a:pt x="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143840" y="2480760"/>
              <a:ext cx="186480" cy="248760"/>
            </a:xfrm>
            <a:custGeom>
              <a:avLst/>
              <a:gdLst/>
              <a:ahLst/>
              <a:rect l="l" t="t" r="r" b="b"/>
              <a:pathLst>
                <a:path w="303" h="406">
                  <a:moveTo>
                    <a:pt x="284" y="26"/>
                  </a:moveTo>
                  <a:lnTo>
                    <a:pt x="287" y="104"/>
                  </a:lnTo>
                  <a:lnTo>
                    <a:pt x="295" y="179"/>
                  </a:lnTo>
                  <a:lnTo>
                    <a:pt x="302" y="256"/>
                  </a:lnTo>
                  <a:lnTo>
                    <a:pt x="303" y="336"/>
                  </a:lnTo>
                  <a:lnTo>
                    <a:pt x="302" y="350"/>
                  </a:lnTo>
                  <a:lnTo>
                    <a:pt x="296" y="362"/>
                  </a:lnTo>
                  <a:lnTo>
                    <a:pt x="288" y="375"/>
                  </a:lnTo>
                  <a:lnTo>
                    <a:pt x="281" y="386"/>
                  </a:lnTo>
                  <a:lnTo>
                    <a:pt x="267" y="393"/>
                  </a:lnTo>
                  <a:lnTo>
                    <a:pt x="252" y="398"/>
                  </a:lnTo>
                  <a:lnTo>
                    <a:pt x="237" y="401"/>
                  </a:lnTo>
                  <a:lnTo>
                    <a:pt x="222" y="404"/>
                  </a:lnTo>
                  <a:lnTo>
                    <a:pt x="206" y="405"/>
                  </a:lnTo>
                  <a:lnTo>
                    <a:pt x="190" y="406"/>
                  </a:lnTo>
                  <a:lnTo>
                    <a:pt x="173" y="406"/>
                  </a:lnTo>
                  <a:lnTo>
                    <a:pt x="157" y="405"/>
                  </a:lnTo>
                  <a:lnTo>
                    <a:pt x="140" y="405"/>
                  </a:lnTo>
                  <a:lnTo>
                    <a:pt x="123" y="404"/>
                  </a:lnTo>
                  <a:lnTo>
                    <a:pt x="106" y="403"/>
                  </a:lnTo>
                  <a:lnTo>
                    <a:pt x="90" y="401"/>
                  </a:lnTo>
                  <a:lnTo>
                    <a:pt x="74" y="400"/>
                  </a:lnTo>
                  <a:lnTo>
                    <a:pt x="58" y="399"/>
                  </a:lnTo>
                  <a:lnTo>
                    <a:pt x="43" y="399"/>
                  </a:lnTo>
                  <a:lnTo>
                    <a:pt x="28" y="400"/>
                  </a:lnTo>
                  <a:lnTo>
                    <a:pt x="23" y="398"/>
                  </a:lnTo>
                  <a:lnTo>
                    <a:pt x="19" y="396"/>
                  </a:lnTo>
                  <a:lnTo>
                    <a:pt x="13" y="393"/>
                  </a:lnTo>
                  <a:lnTo>
                    <a:pt x="7" y="391"/>
                  </a:lnTo>
                  <a:lnTo>
                    <a:pt x="2" y="388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3"/>
                  </a:lnTo>
                  <a:lnTo>
                    <a:pt x="19" y="373"/>
                  </a:lnTo>
                  <a:lnTo>
                    <a:pt x="32" y="374"/>
                  </a:lnTo>
                  <a:lnTo>
                    <a:pt x="48" y="374"/>
                  </a:lnTo>
                  <a:lnTo>
                    <a:pt x="63" y="375"/>
                  </a:lnTo>
                  <a:lnTo>
                    <a:pt x="78" y="375"/>
                  </a:lnTo>
                  <a:lnTo>
                    <a:pt x="95" y="375"/>
                  </a:lnTo>
                  <a:lnTo>
                    <a:pt x="110" y="375"/>
                  </a:lnTo>
                  <a:lnTo>
                    <a:pt x="126" y="374"/>
                  </a:lnTo>
                  <a:lnTo>
                    <a:pt x="141" y="373"/>
                  </a:lnTo>
                  <a:lnTo>
                    <a:pt x="156" y="371"/>
                  </a:lnTo>
                  <a:lnTo>
                    <a:pt x="171" y="368"/>
                  </a:lnTo>
                  <a:lnTo>
                    <a:pt x="186" y="365"/>
                  </a:lnTo>
                  <a:lnTo>
                    <a:pt x="199" y="361"/>
                  </a:lnTo>
                  <a:lnTo>
                    <a:pt x="213" y="355"/>
                  </a:lnTo>
                  <a:lnTo>
                    <a:pt x="226" y="350"/>
                  </a:lnTo>
                  <a:lnTo>
                    <a:pt x="239" y="342"/>
                  </a:lnTo>
                  <a:lnTo>
                    <a:pt x="254" y="317"/>
                  </a:lnTo>
                  <a:lnTo>
                    <a:pt x="257" y="241"/>
                  </a:lnTo>
                  <a:lnTo>
                    <a:pt x="260" y="164"/>
                  </a:lnTo>
                  <a:lnTo>
                    <a:pt x="260" y="88"/>
                  </a:lnTo>
                  <a:lnTo>
                    <a:pt x="256" y="12"/>
                  </a:lnTo>
                  <a:lnTo>
                    <a:pt x="262" y="0"/>
                  </a:lnTo>
                  <a:lnTo>
                    <a:pt x="269" y="5"/>
                  </a:lnTo>
                  <a:lnTo>
                    <a:pt x="274" y="11"/>
                  </a:lnTo>
                  <a:lnTo>
                    <a:pt x="280" y="18"/>
                  </a:lnTo>
                  <a:lnTo>
                    <a:pt x="28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2360" y="2511360"/>
              <a:ext cx="23040" cy="4284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68"/>
                  </a:moveTo>
                  <a:lnTo>
                    <a:pt x="20" y="70"/>
                  </a:lnTo>
                  <a:lnTo>
                    <a:pt x="16" y="56"/>
                  </a:lnTo>
                  <a:lnTo>
                    <a:pt x="10" y="44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20"/>
                  </a:lnTo>
                  <a:lnTo>
                    <a:pt x="35" y="36"/>
                  </a:lnTo>
                  <a:lnTo>
                    <a:pt x="39" y="52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03200" y="2629080"/>
              <a:ext cx="36720" cy="9288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61" y="22"/>
                  </a:moveTo>
                  <a:lnTo>
                    <a:pt x="25" y="144"/>
                  </a:lnTo>
                  <a:lnTo>
                    <a:pt x="21" y="147"/>
                  </a:lnTo>
                  <a:lnTo>
                    <a:pt x="17" y="150"/>
                  </a:lnTo>
                  <a:lnTo>
                    <a:pt x="15" y="154"/>
                  </a:lnTo>
                  <a:lnTo>
                    <a:pt x="9" y="153"/>
                  </a:lnTo>
                  <a:lnTo>
                    <a:pt x="2" y="139"/>
                  </a:lnTo>
                  <a:lnTo>
                    <a:pt x="0" y="123"/>
                  </a:lnTo>
                  <a:lnTo>
                    <a:pt x="1" y="105"/>
                  </a:lnTo>
                  <a:lnTo>
                    <a:pt x="6" y="89"/>
                  </a:lnTo>
                  <a:lnTo>
                    <a:pt x="9" y="91"/>
                  </a:lnTo>
                  <a:lnTo>
                    <a:pt x="18" y="68"/>
                  </a:lnTo>
                  <a:lnTo>
                    <a:pt x="24" y="44"/>
                  </a:lnTo>
                  <a:lnTo>
                    <a:pt x="31" y="21"/>
                  </a:lnTo>
                  <a:lnTo>
                    <a:pt x="41" y="0"/>
                  </a:lnTo>
                  <a:lnTo>
                    <a:pt x="49" y="3"/>
                  </a:lnTo>
                  <a:lnTo>
                    <a:pt x="55" y="7"/>
                  </a:lnTo>
                  <a:lnTo>
                    <a:pt x="60" y="14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73560" y="2689200"/>
              <a:ext cx="143280" cy="39240"/>
            </a:xfrm>
            <a:custGeom>
              <a:avLst/>
              <a:gdLst/>
              <a:ahLst/>
              <a:rect l="l" t="t" r="r" b="b"/>
              <a:pathLst>
                <a:path w="233" h="63">
                  <a:moveTo>
                    <a:pt x="232" y="33"/>
                  </a:moveTo>
                  <a:lnTo>
                    <a:pt x="233" y="44"/>
                  </a:lnTo>
                  <a:lnTo>
                    <a:pt x="230" y="53"/>
                  </a:lnTo>
                  <a:lnTo>
                    <a:pt x="223" y="57"/>
                  </a:lnTo>
                  <a:lnTo>
                    <a:pt x="214" y="59"/>
                  </a:lnTo>
                  <a:lnTo>
                    <a:pt x="203" y="61"/>
                  </a:lnTo>
                  <a:lnTo>
                    <a:pt x="193" y="61"/>
                  </a:lnTo>
                  <a:lnTo>
                    <a:pt x="182" y="62"/>
                  </a:lnTo>
                  <a:lnTo>
                    <a:pt x="173" y="63"/>
                  </a:lnTo>
                  <a:lnTo>
                    <a:pt x="149" y="63"/>
                  </a:lnTo>
                  <a:lnTo>
                    <a:pt x="125" y="61"/>
                  </a:lnTo>
                  <a:lnTo>
                    <a:pt x="102" y="57"/>
                  </a:lnTo>
                  <a:lnTo>
                    <a:pt x="80" y="51"/>
                  </a:lnTo>
                  <a:lnTo>
                    <a:pt x="58" y="44"/>
                  </a:lnTo>
                  <a:lnTo>
                    <a:pt x="38" y="36"/>
                  </a:lnTo>
                  <a:lnTo>
                    <a:pt x="19" y="2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6" y="9"/>
                  </a:lnTo>
                  <a:lnTo>
                    <a:pt x="80" y="10"/>
                  </a:lnTo>
                  <a:lnTo>
                    <a:pt x="94" y="11"/>
                  </a:lnTo>
                  <a:lnTo>
                    <a:pt x="108" y="12"/>
                  </a:lnTo>
                  <a:lnTo>
                    <a:pt x="121" y="13"/>
                  </a:lnTo>
                  <a:lnTo>
                    <a:pt x="135" y="14"/>
                  </a:lnTo>
                  <a:lnTo>
                    <a:pt x="149" y="16"/>
                  </a:lnTo>
                  <a:lnTo>
                    <a:pt x="163" y="18"/>
                  </a:lnTo>
                  <a:lnTo>
                    <a:pt x="177" y="19"/>
                  </a:lnTo>
                  <a:lnTo>
                    <a:pt x="191" y="23"/>
                  </a:lnTo>
                  <a:lnTo>
                    <a:pt x="204" y="25"/>
                  </a:lnTo>
                  <a:lnTo>
                    <a:pt x="218" y="28"/>
                  </a:lnTo>
                  <a:lnTo>
                    <a:pt x="23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891480" y="2723760"/>
              <a:ext cx="450000" cy="164160"/>
            </a:xfrm>
            <a:custGeom>
              <a:avLst/>
              <a:gdLst/>
              <a:ahLst/>
              <a:rect l="l" t="t" r="r" b="b"/>
              <a:pathLst>
                <a:path w="735" h="266">
                  <a:moveTo>
                    <a:pt x="126" y="13"/>
                  </a:moveTo>
                  <a:lnTo>
                    <a:pt x="123" y="21"/>
                  </a:lnTo>
                  <a:lnTo>
                    <a:pt x="113" y="26"/>
                  </a:lnTo>
                  <a:lnTo>
                    <a:pt x="100" y="31"/>
                  </a:lnTo>
                  <a:lnTo>
                    <a:pt x="87" y="35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79" y="49"/>
                  </a:lnTo>
                  <a:lnTo>
                    <a:pt x="96" y="58"/>
                  </a:lnTo>
                  <a:lnTo>
                    <a:pt x="117" y="61"/>
                  </a:lnTo>
                  <a:lnTo>
                    <a:pt x="138" y="63"/>
                  </a:lnTo>
                  <a:lnTo>
                    <a:pt x="159" y="68"/>
                  </a:lnTo>
                  <a:lnTo>
                    <a:pt x="178" y="71"/>
                  </a:lnTo>
                  <a:lnTo>
                    <a:pt x="199" y="75"/>
                  </a:lnTo>
                  <a:lnTo>
                    <a:pt x="219" y="79"/>
                  </a:lnTo>
                  <a:lnTo>
                    <a:pt x="238" y="83"/>
                  </a:lnTo>
                  <a:lnTo>
                    <a:pt x="258" y="86"/>
                  </a:lnTo>
                  <a:lnTo>
                    <a:pt x="277" y="90"/>
                  </a:lnTo>
                  <a:lnTo>
                    <a:pt x="297" y="94"/>
                  </a:lnTo>
                  <a:lnTo>
                    <a:pt x="316" y="97"/>
                  </a:lnTo>
                  <a:lnTo>
                    <a:pt x="337" y="100"/>
                  </a:lnTo>
                  <a:lnTo>
                    <a:pt x="358" y="102"/>
                  </a:lnTo>
                  <a:lnTo>
                    <a:pt x="379" y="105"/>
                  </a:lnTo>
                  <a:lnTo>
                    <a:pt x="399" y="106"/>
                  </a:lnTo>
                  <a:lnTo>
                    <a:pt x="421" y="107"/>
                  </a:lnTo>
                  <a:lnTo>
                    <a:pt x="440" y="113"/>
                  </a:lnTo>
                  <a:lnTo>
                    <a:pt x="459" y="116"/>
                  </a:lnTo>
                  <a:lnTo>
                    <a:pt x="478" y="121"/>
                  </a:lnTo>
                  <a:lnTo>
                    <a:pt x="497" y="123"/>
                  </a:lnTo>
                  <a:lnTo>
                    <a:pt x="517" y="126"/>
                  </a:lnTo>
                  <a:lnTo>
                    <a:pt x="538" y="128"/>
                  </a:lnTo>
                  <a:lnTo>
                    <a:pt x="557" y="130"/>
                  </a:lnTo>
                  <a:lnTo>
                    <a:pt x="577" y="131"/>
                  </a:lnTo>
                  <a:lnTo>
                    <a:pt x="598" y="134"/>
                  </a:lnTo>
                  <a:lnTo>
                    <a:pt x="617" y="136"/>
                  </a:lnTo>
                  <a:lnTo>
                    <a:pt x="637" y="138"/>
                  </a:lnTo>
                  <a:lnTo>
                    <a:pt x="656" y="142"/>
                  </a:lnTo>
                  <a:lnTo>
                    <a:pt x="676" y="145"/>
                  </a:lnTo>
                  <a:lnTo>
                    <a:pt x="694" y="150"/>
                  </a:lnTo>
                  <a:lnTo>
                    <a:pt x="713" y="155"/>
                  </a:lnTo>
                  <a:lnTo>
                    <a:pt x="731" y="162"/>
                  </a:lnTo>
                  <a:lnTo>
                    <a:pt x="735" y="172"/>
                  </a:lnTo>
                  <a:lnTo>
                    <a:pt x="732" y="183"/>
                  </a:lnTo>
                  <a:lnTo>
                    <a:pt x="727" y="194"/>
                  </a:lnTo>
                  <a:lnTo>
                    <a:pt x="717" y="200"/>
                  </a:lnTo>
                  <a:lnTo>
                    <a:pt x="686" y="197"/>
                  </a:lnTo>
                  <a:lnTo>
                    <a:pt x="655" y="194"/>
                  </a:lnTo>
                  <a:lnTo>
                    <a:pt x="624" y="189"/>
                  </a:lnTo>
                  <a:lnTo>
                    <a:pt x="593" y="183"/>
                  </a:lnTo>
                  <a:lnTo>
                    <a:pt x="562" y="177"/>
                  </a:lnTo>
                  <a:lnTo>
                    <a:pt x="531" y="172"/>
                  </a:lnTo>
                  <a:lnTo>
                    <a:pt x="500" y="166"/>
                  </a:lnTo>
                  <a:lnTo>
                    <a:pt x="469" y="159"/>
                  </a:lnTo>
                  <a:lnTo>
                    <a:pt x="437" y="153"/>
                  </a:lnTo>
                  <a:lnTo>
                    <a:pt x="405" y="147"/>
                  </a:lnTo>
                  <a:lnTo>
                    <a:pt x="374" y="142"/>
                  </a:lnTo>
                  <a:lnTo>
                    <a:pt x="343" y="136"/>
                  </a:lnTo>
                  <a:lnTo>
                    <a:pt x="311" y="131"/>
                  </a:lnTo>
                  <a:lnTo>
                    <a:pt x="280" y="127"/>
                  </a:lnTo>
                  <a:lnTo>
                    <a:pt x="247" y="123"/>
                  </a:lnTo>
                  <a:lnTo>
                    <a:pt x="215" y="121"/>
                  </a:lnTo>
                  <a:lnTo>
                    <a:pt x="194" y="115"/>
                  </a:lnTo>
                  <a:lnTo>
                    <a:pt x="172" y="109"/>
                  </a:lnTo>
                  <a:lnTo>
                    <a:pt x="152" y="104"/>
                  </a:lnTo>
                  <a:lnTo>
                    <a:pt x="130" y="99"/>
                  </a:lnTo>
                  <a:lnTo>
                    <a:pt x="109" y="94"/>
                  </a:lnTo>
                  <a:lnTo>
                    <a:pt x="87" y="90"/>
                  </a:lnTo>
                  <a:lnTo>
                    <a:pt x="65" y="85"/>
                  </a:lnTo>
                  <a:lnTo>
                    <a:pt x="43" y="82"/>
                  </a:lnTo>
                  <a:lnTo>
                    <a:pt x="31" y="128"/>
                  </a:lnTo>
                  <a:lnTo>
                    <a:pt x="30" y="175"/>
                  </a:lnTo>
                  <a:lnTo>
                    <a:pt x="30" y="221"/>
                  </a:lnTo>
                  <a:lnTo>
                    <a:pt x="22" y="265"/>
                  </a:lnTo>
                  <a:lnTo>
                    <a:pt x="11" y="266"/>
                  </a:lnTo>
                  <a:lnTo>
                    <a:pt x="4" y="259"/>
                  </a:lnTo>
                  <a:lnTo>
                    <a:pt x="2" y="248"/>
                  </a:lnTo>
                  <a:lnTo>
                    <a:pt x="0" y="237"/>
                  </a:lnTo>
                  <a:lnTo>
                    <a:pt x="3" y="188"/>
                  </a:lnTo>
                  <a:lnTo>
                    <a:pt x="2" y="134"/>
                  </a:lnTo>
                  <a:lnTo>
                    <a:pt x="3" y="81"/>
                  </a:lnTo>
                  <a:lnTo>
                    <a:pt x="13" y="32"/>
                  </a:lnTo>
                  <a:lnTo>
                    <a:pt x="26" y="26"/>
                  </a:lnTo>
                  <a:lnTo>
                    <a:pt x="40" y="20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1" y="3"/>
                  </a:lnTo>
                  <a:lnTo>
                    <a:pt x="95" y="0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15760" y="2736000"/>
              <a:ext cx="173880" cy="46440"/>
            </a:xfrm>
            <a:custGeom>
              <a:avLst/>
              <a:gdLst/>
              <a:ahLst/>
              <a:rect l="l" t="t" r="r" b="b"/>
              <a:pathLst>
                <a:path w="285" h="74">
                  <a:moveTo>
                    <a:pt x="263" y="12"/>
                  </a:moveTo>
                  <a:lnTo>
                    <a:pt x="271" y="13"/>
                  </a:lnTo>
                  <a:lnTo>
                    <a:pt x="278" y="17"/>
                  </a:lnTo>
                  <a:lnTo>
                    <a:pt x="283" y="23"/>
                  </a:lnTo>
                  <a:lnTo>
                    <a:pt x="285" y="32"/>
                  </a:lnTo>
                  <a:lnTo>
                    <a:pt x="271" y="41"/>
                  </a:lnTo>
                  <a:lnTo>
                    <a:pt x="257" y="49"/>
                  </a:lnTo>
                  <a:lnTo>
                    <a:pt x="242" y="56"/>
                  </a:lnTo>
                  <a:lnTo>
                    <a:pt x="226" y="62"/>
                  </a:lnTo>
                  <a:lnTo>
                    <a:pt x="210" y="66"/>
                  </a:lnTo>
                  <a:lnTo>
                    <a:pt x="194" y="70"/>
                  </a:lnTo>
                  <a:lnTo>
                    <a:pt x="177" y="72"/>
                  </a:lnTo>
                  <a:lnTo>
                    <a:pt x="160" y="74"/>
                  </a:lnTo>
                  <a:lnTo>
                    <a:pt x="143" y="74"/>
                  </a:lnTo>
                  <a:lnTo>
                    <a:pt x="126" y="74"/>
                  </a:lnTo>
                  <a:lnTo>
                    <a:pt x="108" y="72"/>
                  </a:lnTo>
                  <a:lnTo>
                    <a:pt x="92" y="70"/>
                  </a:lnTo>
                  <a:lnTo>
                    <a:pt x="76" y="66"/>
                  </a:lnTo>
                  <a:lnTo>
                    <a:pt x="60" y="62"/>
                  </a:lnTo>
                  <a:lnTo>
                    <a:pt x="45" y="56"/>
                  </a:lnTo>
                  <a:lnTo>
                    <a:pt x="30" y="49"/>
                  </a:lnTo>
                  <a:lnTo>
                    <a:pt x="22" y="42"/>
                  </a:lnTo>
                  <a:lnTo>
                    <a:pt x="15" y="35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1" y="15"/>
                  </a:lnTo>
                  <a:lnTo>
                    <a:pt x="55" y="18"/>
                  </a:lnTo>
                  <a:lnTo>
                    <a:pt x="69" y="21"/>
                  </a:lnTo>
                  <a:lnTo>
                    <a:pt x="83" y="25"/>
                  </a:lnTo>
                  <a:lnTo>
                    <a:pt x="97" y="28"/>
                  </a:lnTo>
                  <a:lnTo>
                    <a:pt x="111" y="31"/>
                  </a:lnTo>
                  <a:lnTo>
                    <a:pt x="124" y="33"/>
                  </a:lnTo>
                  <a:lnTo>
                    <a:pt x="138" y="34"/>
                  </a:lnTo>
                  <a:lnTo>
                    <a:pt x="153" y="35"/>
                  </a:lnTo>
                  <a:lnTo>
                    <a:pt x="167" y="35"/>
                  </a:lnTo>
                  <a:lnTo>
                    <a:pt x="181" y="35"/>
                  </a:lnTo>
                  <a:lnTo>
                    <a:pt x="195" y="34"/>
                  </a:lnTo>
                  <a:lnTo>
                    <a:pt x="209" y="32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50" y="19"/>
                  </a:lnTo>
                  <a:lnTo>
                    <a:pt x="2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18240" y="2829240"/>
              <a:ext cx="154440" cy="88200"/>
            </a:xfrm>
            <a:custGeom>
              <a:avLst/>
              <a:gdLst/>
              <a:ahLst/>
              <a:rect l="l" t="t" r="r" b="b"/>
              <a:pathLst>
                <a:path w="251" h="144">
                  <a:moveTo>
                    <a:pt x="63" y="40"/>
                  </a:moveTo>
                  <a:lnTo>
                    <a:pt x="57" y="57"/>
                  </a:lnTo>
                  <a:lnTo>
                    <a:pt x="55" y="74"/>
                  </a:lnTo>
                  <a:lnTo>
                    <a:pt x="59" y="93"/>
                  </a:lnTo>
                  <a:lnTo>
                    <a:pt x="68" y="109"/>
                  </a:lnTo>
                  <a:lnTo>
                    <a:pt x="90" y="106"/>
                  </a:lnTo>
                  <a:lnTo>
                    <a:pt x="112" y="103"/>
                  </a:lnTo>
                  <a:lnTo>
                    <a:pt x="132" y="98"/>
                  </a:lnTo>
                  <a:lnTo>
                    <a:pt x="153" y="94"/>
                  </a:lnTo>
                  <a:lnTo>
                    <a:pt x="174" y="87"/>
                  </a:lnTo>
                  <a:lnTo>
                    <a:pt x="193" y="80"/>
                  </a:lnTo>
                  <a:lnTo>
                    <a:pt x="213" y="71"/>
                  </a:lnTo>
                  <a:lnTo>
                    <a:pt x="231" y="62"/>
                  </a:lnTo>
                  <a:lnTo>
                    <a:pt x="238" y="60"/>
                  </a:lnTo>
                  <a:lnTo>
                    <a:pt x="243" y="64"/>
                  </a:lnTo>
                  <a:lnTo>
                    <a:pt x="246" y="68"/>
                  </a:lnTo>
                  <a:lnTo>
                    <a:pt x="251" y="72"/>
                  </a:lnTo>
                  <a:lnTo>
                    <a:pt x="241" y="82"/>
                  </a:lnTo>
                  <a:lnTo>
                    <a:pt x="229" y="91"/>
                  </a:lnTo>
                  <a:lnTo>
                    <a:pt x="216" y="100"/>
                  </a:lnTo>
                  <a:lnTo>
                    <a:pt x="203" y="108"/>
                  </a:lnTo>
                  <a:lnTo>
                    <a:pt x="189" y="115"/>
                  </a:lnTo>
                  <a:lnTo>
                    <a:pt x="175" y="121"/>
                  </a:lnTo>
                  <a:lnTo>
                    <a:pt x="161" y="128"/>
                  </a:lnTo>
                  <a:lnTo>
                    <a:pt x="148" y="136"/>
                  </a:lnTo>
                  <a:lnTo>
                    <a:pt x="130" y="143"/>
                  </a:lnTo>
                  <a:lnTo>
                    <a:pt x="113" y="144"/>
                  </a:lnTo>
                  <a:lnTo>
                    <a:pt x="95" y="143"/>
                  </a:lnTo>
                  <a:lnTo>
                    <a:pt x="79" y="139"/>
                  </a:lnTo>
                  <a:lnTo>
                    <a:pt x="62" y="133"/>
                  </a:lnTo>
                  <a:lnTo>
                    <a:pt x="46" y="126"/>
                  </a:lnTo>
                  <a:lnTo>
                    <a:pt x="30" y="120"/>
                  </a:lnTo>
                  <a:lnTo>
                    <a:pt x="12" y="117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7" y="57"/>
                  </a:lnTo>
                  <a:lnTo>
                    <a:pt x="15" y="42"/>
                  </a:lnTo>
                  <a:lnTo>
                    <a:pt x="23" y="27"/>
                  </a:lnTo>
                  <a:lnTo>
                    <a:pt x="31" y="13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56" y="14"/>
                  </a:lnTo>
                  <a:lnTo>
                    <a:pt x="59" y="27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83400" y="2835360"/>
              <a:ext cx="31680" cy="158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51" y="2"/>
                  </a:moveTo>
                  <a:lnTo>
                    <a:pt x="50" y="12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0" y="24"/>
                  </a:lnTo>
                  <a:lnTo>
                    <a:pt x="21" y="24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7000" y="2869560"/>
              <a:ext cx="202320" cy="5616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00" y="30"/>
                  </a:moveTo>
                  <a:lnTo>
                    <a:pt x="310" y="35"/>
                  </a:lnTo>
                  <a:lnTo>
                    <a:pt x="320" y="38"/>
                  </a:lnTo>
                  <a:lnTo>
                    <a:pt x="328" y="44"/>
                  </a:lnTo>
                  <a:lnTo>
                    <a:pt x="331" y="56"/>
                  </a:lnTo>
                  <a:lnTo>
                    <a:pt x="329" y="61"/>
                  </a:lnTo>
                  <a:lnTo>
                    <a:pt x="328" y="68"/>
                  </a:lnTo>
                  <a:lnTo>
                    <a:pt x="328" y="76"/>
                  </a:lnTo>
                  <a:lnTo>
                    <a:pt x="328" y="83"/>
                  </a:lnTo>
                  <a:lnTo>
                    <a:pt x="320" y="90"/>
                  </a:lnTo>
                  <a:lnTo>
                    <a:pt x="312" y="91"/>
                  </a:lnTo>
                  <a:lnTo>
                    <a:pt x="304" y="90"/>
                  </a:lnTo>
                  <a:lnTo>
                    <a:pt x="295" y="87"/>
                  </a:lnTo>
                  <a:lnTo>
                    <a:pt x="286" y="82"/>
                  </a:lnTo>
                  <a:lnTo>
                    <a:pt x="277" y="77"/>
                  </a:lnTo>
                  <a:lnTo>
                    <a:pt x="268" y="73"/>
                  </a:lnTo>
                  <a:lnTo>
                    <a:pt x="259" y="72"/>
                  </a:lnTo>
                  <a:lnTo>
                    <a:pt x="242" y="68"/>
                  </a:lnTo>
                  <a:lnTo>
                    <a:pt x="226" y="66"/>
                  </a:lnTo>
                  <a:lnTo>
                    <a:pt x="211" y="64"/>
                  </a:lnTo>
                  <a:lnTo>
                    <a:pt x="195" y="60"/>
                  </a:lnTo>
                  <a:lnTo>
                    <a:pt x="179" y="58"/>
                  </a:lnTo>
                  <a:lnTo>
                    <a:pt x="163" y="56"/>
                  </a:lnTo>
                  <a:lnTo>
                    <a:pt x="147" y="52"/>
                  </a:lnTo>
                  <a:lnTo>
                    <a:pt x="131" y="50"/>
                  </a:lnTo>
                  <a:lnTo>
                    <a:pt x="116" y="46"/>
                  </a:lnTo>
                  <a:lnTo>
                    <a:pt x="100" y="44"/>
                  </a:lnTo>
                  <a:lnTo>
                    <a:pt x="83" y="41"/>
                  </a:lnTo>
                  <a:lnTo>
                    <a:pt x="68" y="37"/>
                  </a:lnTo>
                  <a:lnTo>
                    <a:pt x="53" y="34"/>
                  </a:lnTo>
                  <a:lnTo>
                    <a:pt x="39" y="30"/>
                  </a:lnTo>
                  <a:lnTo>
                    <a:pt x="24" y="27"/>
                  </a:lnTo>
                  <a:lnTo>
                    <a:pt x="9" y="22"/>
                  </a:lnTo>
                  <a:lnTo>
                    <a:pt x="5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1"/>
                  </a:lnTo>
                  <a:lnTo>
                    <a:pt x="78" y="5"/>
                  </a:lnTo>
                  <a:lnTo>
                    <a:pt x="98" y="10"/>
                  </a:lnTo>
                  <a:lnTo>
                    <a:pt x="119" y="13"/>
                  </a:lnTo>
                  <a:lnTo>
                    <a:pt x="140" y="16"/>
                  </a:lnTo>
                  <a:lnTo>
                    <a:pt x="161" y="16"/>
                  </a:lnTo>
                  <a:lnTo>
                    <a:pt x="30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080" y="2889360"/>
              <a:ext cx="183600" cy="73440"/>
            </a:xfrm>
            <a:custGeom>
              <a:avLst/>
              <a:gdLst/>
              <a:ahLst/>
              <a:rect l="l" t="t" r="r" b="b"/>
              <a:pathLst>
                <a:path w="298" h="121">
                  <a:moveTo>
                    <a:pt x="252" y="63"/>
                  </a:moveTo>
                  <a:lnTo>
                    <a:pt x="258" y="67"/>
                  </a:lnTo>
                  <a:lnTo>
                    <a:pt x="266" y="72"/>
                  </a:lnTo>
                  <a:lnTo>
                    <a:pt x="275" y="75"/>
                  </a:lnTo>
                  <a:lnTo>
                    <a:pt x="283" y="78"/>
                  </a:lnTo>
                  <a:lnTo>
                    <a:pt x="291" y="82"/>
                  </a:lnTo>
                  <a:lnTo>
                    <a:pt x="296" y="88"/>
                  </a:lnTo>
                  <a:lnTo>
                    <a:pt x="298" y="96"/>
                  </a:lnTo>
                  <a:lnTo>
                    <a:pt x="297" y="108"/>
                  </a:lnTo>
                  <a:lnTo>
                    <a:pt x="214" y="121"/>
                  </a:lnTo>
                  <a:lnTo>
                    <a:pt x="207" y="119"/>
                  </a:lnTo>
                  <a:lnTo>
                    <a:pt x="200" y="117"/>
                  </a:lnTo>
                  <a:lnTo>
                    <a:pt x="194" y="113"/>
                  </a:lnTo>
                  <a:lnTo>
                    <a:pt x="191" y="108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2" y="81"/>
                  </a:lnTo>
                  <a:lnTo>
                    <a:pt x="168" y="76"/>
                  </a:lnTo>
                  <a:lnTo>
                    <a:pt x="154" y="72"/>
                  </a:lnTo>
                  <a:lnTo>
                    <a:pt x="140" y="67"/>
                  </a:lnTo>
                  <a:lnTo>
                    <a:pt x="126" y="63"/>
                  </a:lnTo>
                  <a:lnTo>
                    <a:pt x="113" y="58"/>
                  </a:lnTo>
                  <a:lnTo>
                    <a:pt x="100" y="52"/>
                  </a:lnTo>
                  <a:lnTo>
                    <a:pt x="86" y="51"/>
                  </a:lnTo>
                  <a:lnTo>
                    <a:pt x="72" y="49"/>
                  </a:lnTo>
                  <a:lnTo>
                    <a:pt x="60" y="45"/>
                  </a:lnTo>
                  <a:lnTo>
                    <a:pt x="47" y="41"/>
                  </a:lnTo>
                  <a:lnTo>
                    <a:pt x="34" y="36"/>
                  </a:lnTo>
                  <a:lnTo>
                    <a:pt x="22" y="30"/>
                  </a:lnTo>
                  <a:lnTo>
                    <a:pt x="10" y="2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37" y="6"/>
                  </a:lnTo>
                  <a:lnTo>
                    <a:pt x="49" y="11"/>
                  </a:lnTo>
                  <a:lnTo>
                    <a:pt x="62" y="15"/>
                  </a:lnTo>
                  <a:lnTo>
                    <a:pt x="75" y="20"/>
                  </a:lnTo>
                  <a:lnTo>
                    <a:pt x="87" y="25"/>
                  </a:lnTo>
                  <a:lnTo>
                    <a:pt x="100" y="27"/>
                  </a:lnTo>
                  <a:lnTo>
                    <a:pt x="120" y="30"/>
                  </a:lnTo>
                  <a:lnTo>
                    <a:pt x="138" y="34"/>
                  </a:lnTo>
                  <a:lnTo>
                    <a:pt x="158" y="40"/>
                  </a:lnTo>
                  <a:lnTo>
                    <a:pt x="176" y="45"/>
                  </a:lnTo>
                  <a:lnTo>
                    <a:pt x="194" y="51"/>
                  </a:lnTo>
                  <a:lnTo>
                    <a:pt x="213" y="56"/>
                  </a:lnTo>
                  <a:lnTo>
                    <a:pt x="232" y="60"/>
                  </a:lnTo>
                  <a:lnTo>
                    <a:pt x="25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34320" y="2892960"/>
              <a:ext cx="401040" cy="89280"/>
            </a:xfrm>
            <a:custGeom>
              <a:avLst/>
              <a:gdLst/>
              <a:ahLst/>
              <a:rect l="l" t="t" r="r" b="b"/>
              <a:pathLst>
                <a:path w="653" h="147">
                  <a:moveTo>
                    <a:pt x="362" y="56"/>
                  </a:moveTo>
                  <a:lnTo>
                    <a:pt x="377" y="60"/>
                  </a:lnTo>
                  <a:lnTo>
                    <a:pt x="392" y="66"/>
                  </a:lnTo>
                  <a:lnTo>
                    <a:pt x="407" y="69"/>
                  </a:lnTo>
                  <a:lnTo>
                    <a:pt x="422" y="74"/>
                  </a:lnTo>
                  <a:lnTo>
                    <a:pt x="437" y="77"/>
                  </a:lnTo>
                  <a:lnTo>
                    <a:pt x="453" y="80"/>
                  </a:lnTo>
                  <a:lnTo>
                    <a:pt x="468" y="83"/>
                  </a:lnTo>
                  <a:lnTo>
                    <a:pt x="484" y="86"/>
                  </a:lnTo>
                  <a:lnTo>
                    <a:pt x="500" y="88"/>
                  </a:lnTo>
                  <a:lnTo>
                    <a:pt x="515" y="90"/>
                  </a:lnTo>
                  <a:lnTo>
                    <a:pt x="531" y="92"/>
                  </a:lnTo>
                  <a:lnTo>
                    <a:pt x="547" y="95"/>
                  </a:lnTo>
                  <a:lnTo>
                    <a:pt x="563" y="97"/>
                  </a:lnTo>
                  <a:lnTo>
                    <a:pt x="578" y="98"/>
                  </a:lnTo>
                  <a:lnTo>
                    <a:pt x="594" y="101"/>
                  </a:lnTo>
                  <a:lnTo>
                    <a:pt x="609" y="103"/>
                  </a:lnTo>
                  <a:lnTo>
                    <a:pt x="614" y="106"/>
                  </a:lnTo>
                  <a:lnTo>
                    <a:pt x="620" y="110"/>
                  </a:lnTo>
                  <a:lnTo>
                    <a:pt x="627" y="112"/>
                  </a:lnTo>
                  <a:lnTo>
                    <a:pt x="632" y="116"/>
                  </a:lnTo>
                  <a:lnTo>
                    <a:pt x="638" y="119"/>
                  </a:lnTo>
                  <a:lnTo>
                    <a:pt x="644" y="124"/>
                  </a:lnTo>
                  <a:lnTo>
                    <a:pt x="650" y="129"/>
                  </a:lnTo>
                  <a:lnTo>
                    <a:pt x="653" y="136"/>
                  </a:lnTo>
                  <a:lnTo>
                    <a:pt x="651" y="147"/>
                  </a:lnTo>
                  <a:lnTo>
                    <a:pt x="623" y="145"/>
                  </a:lnTo>
                  <a:lnTo>
                    <a:pt x="594" y="144"/>
                  </a:lnTo>
                  <a:lnTo>
                    <a:pt x="567" y="142"/>
                  </a:lnTo>
                  <a:lnTo>
                    <a:pt x="540" y="139"/>
                  </a:lnTo>
                  <a:lnTo>
                    <a:pt x="513" y="134"/>
                  </a:lnTo>
                  <a:lnTo>
                    <a:pt x="486" y="129"/>
                  </a:lnTo>
                  <a:lnTo>
                    <a:pt x="458" y="125"/>
                  </a:lnTo>
                  <a:lnTo>
                    <a:pt x="432" y="119"/>
                  </a:lnTo>
                  <a:lnTo>
                    <a:pt x="405" y="114"/>
                  </a:lnTo>
                  <a:lnTo>
                    <a:pt x="379" y="109"/>
                  </a:lnTo>
                  <a:lnTo>
                    <a:pt x="351" y="103"/>
                  </a:lnTo>
                  <a:lnTo>
                    <a:pt x="325" y="97"/>
                  </a:lnTo>
                  <a:lnTo>
                    <a:pt x="298" y="91"/>
                  </a:lnTo>
                  <a:lnTo>
                    <a:pt x="271" y="87"/>
                  </a:lnTo>
                  <a:lnTo>
                    <a:pt x="244" y="82"/>
                  </a:lnTo>
                  <a:lnTo>
                    <a:pt x="217" y="77"/>
                  </a:lnTo>
                  <a:lnTo>
                    <a:pt x="7" y="28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29" y="6"/>
                  </a:lnTo>
                  <a:lnTo>
                    <a:pt x="51" y="10"/>
                  </a:lnTo>
                  <a:lnTo>
                    <a:pt x="72" y="14"/>
                  </a:lnTo>
                  <a:lnTo>
                    <a:pt x="94" y="18"/>
                  </a:lnTo>
                  <a:lnTo>
                    <a:pt x="116" y="20"/>
                  </a:lnTo>
                  <a:lnTo>
                    <a:pt x="139" y="22"/>
                  </a:lnTo>
                  <a:lnTo>
                    <a:pt x="161" y="25"/>
                  </a:lnTo>
                  <a:lnTo>
                    <a:pt x="183" y="27"/>
                  </a:lnTo>
                  <a:lnTo>
                    <a:pt x="206" y="29"/>
                  </a:lnTo>
                  <a:lnTo>
                    <a:pt x="228" y="31"/>
                  </a:lnTo>
                  <a:lnTo>
                    <a:pt x="250" y="35"/>
                  </a:lnTo>
                  <a:lnTo>
                    <a:pt x="273" y="37"/>
                  </a:lnTo>
                  <a:lnTo>
                    <a:pt x="295" y="41"/>
                  </a:lnTo>
                  <a:lnTo>
                    <a:pt x="317" y="45"/>
                  </a:lnTo>
                  <a:lnTo>
                    <a:pt x="340" y="50"/>
                  </a:lnTo>
                  <a:lnTo>
                    <a:pt x="36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91400" y="2910240"/>
              <a:ext cx="185040" cy="129960"/>
            </a:xfrm>
            <a:custGeom>
              <a:avLst/>
              <a:gdLst/>
              <a:ahLst/>
              <a:rect l="l" t="t" r="r" b="b"/>
              <a:pathLst>
                <a:path w="303" h="212">
                  <a:moveTo>
                    <a:pt x="125" y="59"/>
                  </a:moveTo>
                  <a:lnTo>
                    <a:pt x="146" y="69"/>
                  </a:lnTo>
                  <a:lnTo>
                    <a:pt x="167" y="77"/>
                  </a:lnTo>
                  <a:lnTo>
                    <a:pt x="188" y="86"/>
                  </a:lnTo>
                  <a:lnTo>
                    <a:pt x="210" y="93"/>
                  </a:lnTo>
                  <a:lnTo>
                    <a:pt x="231" y="100"/>
                  </a:lnTo>
                  <a:lnTo>
                    <a:pt x="253" y="107"/>
                  </a:lnTo>
                  <a:lnTo>
                    <a:pt x="275" y="113"/>
                  </a:lnTo>
                  <a:lnTo>
                    <a:pt x="297" y="119"/>
                  </a:lnTo>
                  <a:lnTo>
                    <a:pt x="299" y="126"/>
                  </a:lnTo>
                  <a:lnTo>
                    <a:pt x="301" y="132"/>
                  </a:lnTo>
                  <a:lnTo>
                    <a:pt x="301" y="139"/>
                  </a:lnTo>
                  <a:lnTo>
                    <a:pt x="303" y="145"/>
                  </a:lnTo>
                  <a:lnTo>
                    <a:pt x="291" y="150"/>
                  </a:lnTo>
                  <a:lnTo>
                    <a:pt x="279" y="154"/>
                  </a:lnTo>
                  <a:lnTo>
                    <a:pt x="266" y="158"/>
                  </a:lnTo>
                  <a:lnTo>
                    <a:pt x="255" y="162"/>
                  </a:lnTo>
                  <a:lnTo>
                    <a:pt x="242" y="166"/>
                  </a:lnTo>
                  <a:lnTo>
                    <a:pt x="229" y="169"/>
                  </a:lnTo>
                  <a:lnTo>
                    <a:pt x="216" y="173"/>
                  </a:lnTo>
                  <a:lnTo>
                    <a:pt x="204" y="176"/>
                  </a:lnTo>
                  <a:lnTo>
                    <a:pt x="191" y="180"/>
                  </a:lnTo>
                  <a:lnTo>
                    <a:pt x="178" y="183"/>
                  </a:lnTo>
                  <a:lnTo>
                    <a:pt x="167" y="188"/>
                  </a:lnTo>
                  <a:lnTo>
                    <a:pt x="154" y="191"/>
                  </a:lnTo>
                  <a:lnTo>
                    <a:pt x="142" y="196"/>
                  </a:lnTo>
                  <a:lnTo>
                    <a:pt x="130" y="200"/>
                  </a:lnTo>
                  <a:lnTo>
                    <a:pt x="117" y="206"/>
                  </a:lnTo>
                  <a:lnTo>
                    <a:pt x="106" y="212"/>
                  </a:lnTo>
                  <a:lnTo>
                    <a:pt x="100" y="208"/>
                  </a:lnTo>
                  <a:lnTo>
                    <a:pt x="97" y="204"/>
                  </a:lnTo>
                  <a:lnTo>
                    <a:pt x="94" y="198"/>
                  </a:lnTo>
                  <a:lnTo>
                    <a:pt x="92" y="192"/>
                  </a:lnTo>
                  <a:lnTo>
                    <a:pt x="107" y="182"/>
                  </a:lnTo>
                  <a:lnTo>
                    <a:pt x="122" y="174"/>
                  </a:lnTo>
                  <a:lnTo>
                    <a:pt x="137" y="166"/>
                  </a:lnTo>
                  <a:lnTo>
                    <a:pt x="153" y="159"/>
                  </a:lnTo>
                  <a:lnTo>
                    <a:pt x="169" y="153"/>
                  </a:lnTo>
                  <a:lnTo>
                    <a:pt x="185" y="146"/>
                  </a:lnTo>
                  <a:lnTo>
                    <a:pt x="202" y="139"/>
                  </a:lnTo>
                  <a:lnTo>
                    <a:pt x="216" y="131"/>
                  </a:lnTo>
                  <a:lnTo>
                    <a:pt x="205" y="124"/>
                  </a:lnTo>
                  <a:lnTo>
                    <a:pt x="193" y="117"/>
                  </a:lnTo>
                  <a:lnTo>
                    <a:pt x="181" y="113"/>
                  </a:lnTo>
                  <a:lnTo>
                    <a:pt x="168" y="107"/>
                  </a:lnTo>
                  <a:lnTo>
                    <a:pt x="155" y="101"/>
                  </a:lnTo>
                  <a:lnTo>
                    <a:pt x="143" y="97"/>
                  </a:lnTo>
                  <a:lnTo>
                    <a:pt x="130" y="90"/>
                  </a:lnTo>
                  <a:lnTo>
                    <a:pt x="117" y="83"/>
                  </a:lnTo>
                  <a:lnTo>
                    <a:pt x="102" y="75"/>
                  </a:lnTo>
                  <a:lnTo>
                    <a:pt x="89" y="67"/>
                  </a:lnTo>
                  <a:lnTo>
                    <a:pt x="75" y="59"/>
                  </a:lnTo>
                  <a:lnTo>
                    <a:pt x="61" y="49"/>
                  </a:lnTo>
                  <a:lnTo>
                    <a:pt x="46" y="41"/>
                  </a:lnTo>
                  <a:lnTo>
                    <a:pt x="32" y="33"/>
                  </a:lnTo>
                  <a:lnTo>
                    <a:pt x="18" y="26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6"/>
                  </a:lnTo>
                  <a:lnTo>
                    <a:pt x="8" y="0"/>
                  </a:lnTo>
                  <a:lnTo>
                    <a:pt x="23" y="3"/>
                  </a:lnTo>
                  <a:lnTo>
                    <a:pt x="39" y="8"/>
                  </a:lnTo>
                  <a:lnTo>
                    <a:pt x="54" y="15"/>
                  </a:lnTo>
                  <a:lnTo>
                    <a:pt x="69" y="23"/>
                  </a:lnTo>
                  <a:lnTo>
                    <a:pt x="83" y="31"/>
                  </a:lnTo>
                  <a:lnTo>
                    <a:pt x="98" y="40"/>
                  </a:lnTo>
                  <a:lnTo>
                    <a:pt x="112" y="49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469280" y="2917440"/>
              <a:ext cx="242640" cy="176400"/>
            </a:xfrm>
            <a:custGeom>
              <a:avLst/>
              <a:gdLst/>
              <a:ahLst/>
              <a:rect l="l" t="t" r="r" b="b"/>
              <a:pathLst>
                <a:path w="395" h="287">
                  <a:moveTo>
                    <a:pt x="318" y="20"/>
                  </a:moveTo>
                  <a:lnTo>
                    <a:pt x="302" y="26"/>
                  </a:lnTo>
                  <a:lnTo>
                    <a:pt x="286" y="33"/>
                  </a:lnTo>
                  <a:lnTo>
                    <a:pt x="270" y="39"/>
                  </a:lnTo>
                  <a:lnTo>
                    <a:pt x="254" y="45"/>
                  </a:lnTo>
                  <a:lnTo>
                    <a:pt x="237" y="51"/>
                  </a:lnTo>
                  <a:lnTo>
                    <a:pt x="221" y="57"/>
                  </a:lnTo>
                  <a:lnTo>
                    <a:pt x="205" y="63"/>
                  </a:lnTo>
                  <a:lnTo>
                    <a:pt x="189" y="69"/>
                  </a:lnTo>
                  <a:lnTo>
                    <a:pt x="173" y="75"/>
                  </a:lnTo>
                  <a:lnTo>
                    <a:pt x="157" y="80"/>
                  </a:lnTo>
                  <a:lnTo>
                    <a:pt x="140" y="86"/>
                  </a:lnTo>
                  <a:lnTo>
                    <a:pt x="123" y="91"/>
                  </a:lnTo>
                  <a:lnTo>
                    <a:pt x="107" y="96"/>
                  </a:lnTo>
                  <a:lnTo>
                    <a:pt x="90" y="102"/>
                  </a:lnTo>
                  <a:lnTo>
                    <a:pt x="74" y="107"/>
                  </a:lnTo>
                  <a:lnTo>
                    <a:pt x="57" y="113"/>
                  </a:lnTo>
                  <a:lnTo>
                    <a:pt x="72" y="121"/>
                  </a:lnTo>
                  <a:lnTo>
                    <a:pt x="87" y="129"/>
                  </a:lnTo>
                  <a:lnTo>
                    <a:pt x="103" y="138"/>
                  </a:lnTo>
                  <a:lnTo>
                    <a:pt x="118" y="146"/>
                  </a:lnTo>
                  <a:lnTo>
                    <a:pt x="133" y="154"/>
                  </a:lnTo>
                  <a:lnTo>
                    <a:pt x="149" y="163"/>
                  </a:lnTo>
                  <a:lnTo>
                    <a:pt x="164" y="171"/>
                  </a:lnTo>
                  <a:lnTo>
                    <a:pt x="179" y="181"/>
                  </a:lnTo>
                  <a:lnTo>
                    <a:pt x="194" y="189"/>
                  </a:lnTo>
                  <a:lnTo>
                    <a:pt x="210" y="199"/>
                  </a:lnTo>
                  <a:lnTo>
                    <a:pt x="224" y="208"/>
                  </a:lnTo>
                  <a:lnTo>
                    <a:pt x="239" y="219"/>
                  </a:lnTo>
                  <a:lnTo>
                    <a:pt x="254" y="229"/>
                  </a:lnTo>
                  <a:lnTo>
                    <a:pt x="269" y="239"/>
                  </a:lnTo>
                  <a:lnTo>
                    <a:pt x="282" y="251"/>
                  </a:lnTo>
                  <a:lnTo>
                    <a:pt x="296" y="262"/>
                  </a:lnTo>
                  <a:lnTo>
                    <a:pt x="308" y="254"/>
                  </a:lnTo>
                  <a:lnTo>
                    <a:pt x="319" y="246"/>
                  </a:lnTo>
                  <a:lnTo>
                    <a:pt x="332" y="238"/>
                  </a:lnTo>
                  <a:lnTo>
                    <a:pt x="345" y="231"/>
                  </a:lnTo>
                  <a:lnTo>
                    <a:pt x="356" y="224"/>
                  </a:lnTo>
                  <a:lnTo>
                    <a:pt x="369" y="217"/>
                  </a:lnTo>
                  <a:lnTo>
                    <a:pt x="383" y="212"/>
                  </a:lnTo>
                  <a:lnTo>
                    <a:pt x="395" y="207"/>
                  </a:lnTo>
                  <a:lnTo>
                    <a:pt x="395" y="227"/>
                  </a:lnTo>
                  <a:lnTo>
                    <a:pt x="378" y="232"/>
                  </a:lnTo>
                  <a:lnTo>
                    <a:pt x="362" y="243"/>
                  </a:lnTo>
                  <a:lnTo>
                    <a:pt x="345" y="257"/>
                  </a:lnTo>
                  <a:lnTo>
                    <a:pt x="330" y="270"/>
                  </a:lnTo>
                  <a:lnTo>
                    <a:pt x="313" y="282"/>
                  </a:lnTo>
                  <a:lnTo>
                    <a:pt x="297" y="287"/>
                  </a:lnTo>
                  <a:lnTo>
                    <a:pt x="280" y="283"/>
                  </a:lnTo>
                  <a:lnTo>
                    <a:pt x="263" y="268"/>
                  </a:lnTo>
                  <a:lnTo>
                    <a:pt x="257" y="263"/>
                  </a:lnTo>
                  <a:lnTo>
                    <a:pt x="252" y="259"/>
                  </a:lnTo>
                  <a:lnTo>
                    <a:pt x="247" y="255"/>
                  </a:lnTo>
                  <a:lnTo>
                    <a:pt x="241" y="252"/>
                  </a:lnTo>
                  <a:lnTo>
                    <a:pt x="235" y="250"/>
                  </a:lnTo>
                  <a:lnTo>
                    <a:pt x="229" y="247"/>
                  </a:lnTo>
                  <a:lnTo>
                    <a:pt x="224" y="246"/>
                  </a:lnTo>
                  <a:lnTo>
                    <a:pt x="218" y="245"/>
                  </a:lnTo>
                  <a:lnTo>
                    <a:pt x="203" y="230"/>
                  </a:lnTo>
                  <a:lnTo>
                    <a:pt x="188" y="217"/>
                  </a:lnTo>
                  <a:lnTo>
                    <a:pt x="172" y="206"/>
                  </a:lnTo>
                  <a:lnTo>
                    <a:pt x="156" y="195"/>
                  </a:lnTo>
                  <a:lnTo>
                    <a:pt x="138" y="187"/>
                  </a:lnTo>
                  <a:lnTo>
                    <a:pt x="121" y="181"/>
                  </a:lnTo>
                  <a:lnTo>
                    <a:pt x="103" y="175"/>
                  </a:lnTo>
                  <a:lnTo>
                    <a:pt x="83" y="171"/>
                  </a:lnTo>
                  <a:lnTo>
                    <a:pt x="72" y="161"/>
                  </a:lnTo>
                  <a:lnTo>
                    <a:pt x="59" y="152"/>
                  </a:lnTo>
                  <a:lnTo>
                    <a:pt x="45" y="144"/>
                  </a:lnTo>
                  <a:lnTo>
                    <a:pt x="32" y="136"/>
                  </a:lnTo>
                  <a:lnTo>
                    <a:pt x="21" y="128"/>
                  </a:lnTo>
                  <a:lnTo>
                    <a:pt x="10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16" y="85"/>
                  </a:lnTo>
                  <a:lnTo>
                    <a:pt x="32" y="78"/>
                  </a:lnTo>
                  <a:lnTo>
                    <a:pt x="48" y="72"/>
                  </a:lnTo>
                  <a:lnTo>
                    <a:pt x="66" y="66"/>
                  </a:lnTo>
                  <a:lnTo>
                    <a:pt x="82" y="62"/>
                  </a:lnTo>
                  <a:lnTo>
                    <a:pt x="98" y="57"/>
                  </a:lnTo>
                  <a:lnTo>
                    <a:pt x="115" y="53"/>
                  </a:lnTo>
                  <a:lnTo>
                    <a:pt x="131" y="48"/>
                  </a:lnTo>
                  <a:lnTo>
                    <a:pt x="148" y="43"/>
                  </a:lnTo>
                  <a:lnTo>
                    <a:pt x="165" y="39"/>
                  </a:lnTo>
                  <a:lnTo>
                    <a:pt x="181" y="34"/>
                  </a:lnTo>
                  <a:lnTo>
                    <a:pt x="197" y="30"/>
                  </a:lnTo>
                  <a:lnTo>
                    <a:pt x="214" y="24"/>
                  </a:lnTo>
                  <a:lnTo>
                    <a:pt x="231" y="18"/>
                  </a:lnTo>
                  <a:lnTo>
                    <a:pt x="247" y="11"/>
                  </a:lnTo>
                  <a:lnTo>
                    <a:pt x="263" y="4"/>
                  </a:lnTo>
                  <a:lnTo>
                    <a:pt x="269" y="10"/>
                  </a:lnTo>
                  <a:lnTo>
                    <a:pt x="275" y="11"/>
                  </a:lnTo>
                  <a:lnTo>
                    <a:pt x="282" y="10"/>
                  </a:lnTo>
                  <a:lnTo>
                    <a:pt x="289" y="8"/>
                  </a:lnTo>
                  <a:lnTo>
                    <a:pt x="297" y="4"/>
                  </a:lnTo>
                  <a:lnTo>
                    <a:pt x="304" y="1"/>
                  </a:lnTo>
                  <a:lnTo>
                    <a:pt x="312" y="0"/>
                  </a:lnTo>
                  <a:lnTo>
                    <a:pt x="320" y="1"/>
                  </a:lnTo>
                  <a:lnTo>
                    <a:pt x="3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76720" y="2982600"/>
              <a:ext cx="868680" cy="196200"/>
            </a:xfrm>
            <a:custGeom>
              <a:avLst/>
              <a:gdLst/>
              <a:ahLst/>
              <a:rect l="l" t="t" r="r" b="b"/>
              <a:pathLst>
                <a:path w="1414" h="319">
                  <a:moveTo>
                    <a:pt x="618" y="109"/>
                  </a:moveTo>
                  <a:lnTo>
                    <a:pt x="626" y="115"/>
                  </a:lnTo>
                  <a:lnTo>
                    <a:pt x="647" y="119"/>
                  </a:lnTo>
                  <a:lnTo>
                    <a:pt x="669" y="124"/>
                  </a:lnTo>
                  <a:lnTo>
                    <a:pt x="690" y="129"/>
                  </a:lnTo>
                  <a:lnTo>
                    <a:pt x="710" y="133"/>
                  </a:lnTo>
                  <a:lnTo>
                    <a:pt x="731" y="138"/>
                  </a:lnTo>
                  <a:lnTo>
                    <a:pt x="752" y="142"/>
                  </a:lnTo>
                  <a:lnTo>
                    <a:pt x="773" y="148"/>
                  </a:lnTo>
                  <a:lnTo>
                    <a:pt x="793" y="153"/>
                  </a:lnTo>
                  <a:lnTo>
                    <a:pt x="813" y="157"/>
                  </a:lnTo>
                  <a:lnTo>
                    <a:pt x="834" y="162"/>
                  </a:lnTo>
                  <a:lnTo>
                    <a:pt x="854" y="166"/>
                  </a:lnTo>
                  <a:lnTo>
                    <a:pt x="875" y="170"/>
                  </a:lnTo>
                  <a:lnTo>
                    <a:pt x="895" y="174"/>
                  </a:lnTo>
                  <a:lnTo>
                    <a:pt x="916" y="178"/>
                  </a:lnTo>
                  <a:lnTo>
                    <a:pt x="936" y="181"/>
                  </a:lnTo>
                  <a:lnTo>
                    <a:pt x="957" y="184"/>
                  </a:lnTo>
                  <a:lnTo>
                    <a:pt x="958" y="186"/>
                  </a:lnTo>
                  <a:lnTo>
                    <a:pt x="959" y="190"/>
                  </a:lnTo>
                  <a:lnTo>
                    <a:pt x="962" y="191"/>
                  </a:lnTo>
                  <a:lnTo>
                    <a:pt x="965" y="192"/>
                  </a:lnTo>
                  <a:lnTo>
                    <a:pt x="980" y="193"/>
                  </a:lnTo>
                  <a:lnTo>
                    <a:pt x="994" y="195"/>
                  </a:lnTo>
                  <a:lnTo>
                    <a:pt x="1009" y="197"/>
                  </a:lnTo>
                  <a:lnTo>
                    <a:pt x="1024" y="200"/>
                  </a:lnTo>
                  <a:lnTo>
                    <a:pt x="1039" y="202"/>
                  </a:lnTo>
                  <a:lnTo>
                    <a:pt x="1054" y="205"/>
                  </a:lnTo>
                  <a:lnTo>
                    <a:pt x="1069" y="208"/>
                  </a:lnTo>
                  <a:lnTo>
                    <a:pt x="1084" y="212"/>
                  </a:lnTo>
                  <a:lnTo>
                    <a:pt x="1098" y="215"/>
                  </a:lnTo>
                  <a:lnTo>
                    <a:pt x="1113" y="217"/>
                  </a:lnTo>
                  <a:lnTo>
                    <a:pt x="1126" y="221"/>
                  </a:lnTo>
                  <a:lnTo>
                    <a:pt x="1140" y="224"/>
                  </a:lnTo>
                  <a:lnTo>
                    <a:pt x="1154" y="227"/>
                  </a:lnTo>
                  <a:lnTo>
                    <a:pt x="1167" y="229"/>
                  </a:lnTo>
                  <a:lnTo>
                    <a:pt x="1179" y="231"/>
                  </a:lnTo>
                  <a:lnTo>
                    <a:pt x="1192" y="234"/>
                  </a:lnTo>
                  <a:lnTo>
                    <a:pt x="1206" y="237"/>
                  </a:lnTo>
                  <a:lnTo>
                    <a:pt x="1219" y="239"/>
                  </a:lnTo>
                  <a:lnTo>
                    <a:pt x="1232" y="243"/>
                  </a:lnTo>
                  <a:lnTo>
                    <a:pt x="1245" y="246"/>
                  </a:lnTo>
                  <a:lnTo>
                    <a:pt x="1258" y="248"/>
                  </a:lnTo>
                  <a:lnTo>
                    <a:pt x="1272" y="252"/>
                  </a:lnTo>
                  <a:lnTo>
                    <a:pt x="1284" y="255"/>
                  </a:lnTo>
                  <a:lnTo>
                    <a:pt x="1297" y="258"/>
                  </a:lnTo>
                  <a:lnTo>
                    <a:pt x="1311" y="261"/>
                  </a:lnTo>
                  <a:lnTo>
                    <a:pt x="1323" y="265"/>
                  </a:lnTo>
                  <a:lnTo>
                    <a:pt x="1336" y="268"/>
                  </a:lnTo>
                  <a:lnTo>
                    <a:pt x="1350" y="270"/>
                  </a:lnTo>
                  <a:lnTo>
                    <a:pt x="1364" y="274"/>
                  </a:lnTo>
                  <a:lnTo>
                    <a:pt x="1376" y="277"/>
                  </a:lnTo>
                  <a:lnTo>
                    <a:pt x="1390" y="280"/>
                  </a:lnTo>
                  <a:lnTo>
                    <a:pt x="1404" y="283"/>
                  </a:lnTo>
                  <a:lnTo>
                    <a:pt x="1410" y="290"/>
                  </a:lnTo>
                  <a:lnTo>
                    <a:pt x="1413" y="297"/>
                  </a:lnTo>
                  <a:lnTo>
                    <a:pt x="1414" y="304"/>
                  </a:lnTo>
                  <a:lnTo>
                    <a:pt x="1411" y="311"/>
                  </a:lnTo>
                  <a:lnTo>
                    <a:pt x="1396" y="316"/>
                  </a:lnTo>
                  <a:lnTo>
                    <a:pt x="1381" y="319"/>
                  </a:lnTo>
                  <a:lnTo>
                    <a:pt x="1366" y="319"/>
                  </a:lnTo>
                  <a:lnTo>
                    <a:pt x="1351" y="318"/>
                  </a:lnTo>
                  <a:lnTo>
                    <a:pt x="1336" y="315"/>
                  </a:lnTo>
                  <a:lnTo>
                    <a:pt x="1321" y="312"/>
                  </a:lnTo>
                  <a:lnTo>
                    <a:pt x="1306" y="307"/>
                  </a:lnTo>
                  <a:lnTo>
                    <a:pt x="1291" y="303"/>
                  </a:lnTo>
                  <a:lnTo>
                    <a:pt x="1258" y="295"/>
                  </a:lnTo>
                  <a:lnTo>
                    <a:pt x="1223" y="286"/>
                  </a:lnTo>
                  <a:lnTo>
                    <a:pt x="1190" y="280"/>
                  </a:lnTo>
                  <a:lnTo>
                    <a:pt x="1155" y="272"/>
                  </a:lnTo>
                  <a:lnTo>
                    <a:pt x="1122" y="266"/>
                  </a:lnTo>
                  <a:lnTo>
                    <a:pt x="1088" y="259"/>
                  </a:lnTo>
                  <a:lnTo>
                    <a:pt x="1054" y="252"/>
                  </a:lnTo>
                  <a:lnTo>
                    <a:pt x="1020" y="246"/>
                  </a:lnTo>
                  <a:lnTo>
                    <a:pt x="987" y="239"/>
                  </a:lnTo>
                  <a:lnTo>
                    <a:pt x="952" y="232"/>
                  </a:lnTo>
                  <a:lnTo>
                    <a:pt x="919" y="225"/>
                  </a:lnTo>
                  <a:lnTo>
                    <a:pt x="886" y="219"/>
                  </a:lnTo>
                  <a:lnTo>
                    <a:pt x="852" y="210"/>
                  </a:lnTo>
                  <a:lnTo>
                    <a:pt x="819" y="202"/>
                  </a:lnTo>
                  <a:lnTo>
                    <a:pt x="785" y="193"/>
                  </a:lnTo>
                  <a:lnTo>
                    <a:pt x="752" y="184"/>
                  </a:lnTo>
                  <a:lnTo>
                    <a:pt x="713" y="177"/>
                  </a:lnTo>
                  <a:lnTo>
                    <a:pt x="674" y="170"/>
                  </a:lnTo>
                  <a:lnTo>
                    <a:pt x="634" y="162"/>
                  </a:lnTo>
                  <a:lnTo>
                    <a:pt x="595" y="154"/>
                  </a:lnTo>
                  <a:lnTo>
                    <a:pt x="556" y="146"/>
                  </a:lnTo>
                  <a:lnTo>
                    <a:pt x="517" y="137"/>
                  </a:lnTo>
                  <a:lnTo>
                    <a:pt x="478" y="128"/>
                  </a:lnTo>
                  <a:lnTo>
                    <a:pt x="439" y="117"/>
                  </a:lnTo>
                  <a:lnTo>
                    <a:pt x="401" y="108"/>
                  </a:lnTo>
                  <a:lnTo>
                    <a:pt x="361" y="99"/>
                  </a:lnTo>
                  <a:lnTo>
                    <a:pt x="322" y="89"/>
                  </a:lnTo>
                  <a:lnTo>
                    <a:pt x="283" y="80"/>
                  </a:lnTo>
                  <a:lnTo>
                    <a:pt x="244" y="71"/>
                  </a:lnTo>
                  <a:lnTo>
                    <a:pt x="205" y="63"/>
                  </a:lnTo>
                  <a:lnTo>
                    <a:pt x="164" y="55"/>
                  </a:lnTo>
                  <a:lnTo>
                    <a:pt x="125" y="48"/>
                  </a:lnTo>
                  <a:lnTo>
                    <a:pt x="111" y="45"/>
                  </a:lnTo>
                  <a:lnTo>
                    <a:pt x="98" y="39"/>
                  </a:lnTo>
                  <a:lnTo>
                    <a:pt x="83" y="34"/>
                  </a:lnTo>
                  <a:lnTo>
                    <a:pt x="69" y="28"/>
                  </a:lnTo>
                  <a:lnTo>
                    <a:pt x="55" y="25"/>
                  </a:lnTo>
                  <a:lnTo>
                    <a:pt x="41" y="22"/>
                  </a:lnTo>
                  <a:lnTo>
                    <a:pt x="26" y="20"/>
                  </a:lnTo>
                  <a:lnTo>
                    <a:pt x="11" y="20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21" y="1"/>
                  </a:lnTo>
                  <a:lnTo>
                    <a:pt x="42" y="3"/>
                  </a:lnTo>
                  <a:lnTo>
                    <a:pt x="63" y="8"/>
                  </a:lnTo>
                  <a:lnTo>
                    <a:pt x="84" y="12"/>
                  </a:lnTo>
                  <a:lnTo>
                    <a:pt x="103" y="18"/>
                  </a:lnTo>
                  <a:lnTo>
                    <a:pt x="124" y="24"/>
                  </a:lnTo>
                  <a:lnTo>
                    <a:pt x="145" y="28"/>
                  </a:lnTo>
                  <a:lnTo>
                    <a:pt x="167" y="32"/>
                  </a:lnTo>
                  <a:lnTo>
                    <a:pt x="184" y="35"/>
                  </a:lnTo>
                  <a:lnTo>
                    <a:pt x="201" y="38"/>
                  </a:lnTo>
                  <a:lnTo>
                    <a:pt x="218" y="41"/>
                  </a:lnTo>
                  <a:lnTo>
                    <a:pt x="235" y="43"/>
                  </a:lnTo>
                  <a:lnTo>
                    <a:pt x="251" y="46"/>
                  </a:lnTo>
                  <a:lnTo>
                    <a:pt x="267" y="48"/>
                  </a:lnTo>
                  <a:lnTo>
                    <a:pt x="284" y="50"/>
                  </a:lnTo>
                  <a:lnTo>
                    <a:pt x="300" y="53"/>
                  </a:lnTo>
                  <a:lnTo>
                    <a:pt x="316" y="56"/>
                  </a:lnTo>
                  <a:lnTo>
                    <a:pt x="333" y="58"/>
                  </a:lnTo>
                  <a:lnTo>
                    <a:pt x="349" y="62"/>
                  </a:lnTo>
                  <a:lnTo>
                    <a:pt x="365" y="64"/>
                  </a:lnTo>
                  <a:lnTo>
                    <a:pt x="381" y="68"/>
                  </a:lnTo>
                  <a:lnTo>
                    <a:pt x="397" y="72"/>
                  </a:lnTo>
                  <a:lnTo>
                    <a:pt x="413" y="77"/>
                  </a:lnTo>
                  <a:lnTo>
                    <a:pt x="430" y="81"/>
                  </a:lnTo>
                  <a:lnTo>
                    <a:pt x="61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938240" y="3043080"/>
            <a:ext cx="696960" cy="650880"/>
            <a:chOff x="1938240" y="3043080"/>
            <a:chExt cx="696960" cy="650880"/>
          </a:xfrm>
        </p:grpSpPr>
        <p:sp>
          <p:nvSpPr>
            <p:cNvPr id="990" name=""/>
            <p:cNvSpPr/>
            <p:nvPr/>
          </p:nvSpPr>
          <p:spPr>
            <a:xfrm>
              <a:off x="2376360" y="3221280"/>
              <a:ext cx="85320" cy="162360"/>
            </a:xfrm>
            <a:custGeom>
              <a:avLst/>
              <a:gdLst/>
              <a:ahLst/>
              <a:rect l="l" t="t" r="r" b="b"/>
              <a:pathLst>
                <a:path w="2225" h="2921">
                  <a:moveTo>
                    <a:pt x="274" y="0"/>
                  </a:moveTo>
                  <a:lnTo>
                    <a:pt x="0" y="371"/>
                  </a:lnTo>
                  <a:lnTo>
                    <a:pt x="425" y="1942"/>
                  </a:lnTo>
                  <a:lnTo>
                    <a:pt x="1349" y="2921"/>
                  </a:lnTo>
                  <a:lnTo>
                    <a:pt x="2225" y="2107"/>
                  </a:lnTo>
                  <a:lnTo>
                    <a:pt x="1713" y="812"/>
                  </a:lnTo>
                  <a:lnTo>
                    <a:pt x="1568" y="44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1840" y="3301920"/>
              <a:ext cx="242280" cy="390960"/>
            </a:xfrm>
            <a:custGeom>
              <a:avLst/>
              <a:gdLst/>
              <a:ahLst/>
              <a:rect l="l" t="t" r="r" b="b"/>
              <a:pathLst>
                <a:path w="6295" h="7020">
                  <a:moveTo>
                    <a:pt x="0" y="7020"/>
                  </a:moveTo>
                  <a:lnTo>
                    <a:pt x="5961" y="7020"/>
                  </a:lnTo>
                  <a:lnTo>
                    <a:pt x="5961" y="6766"/>
                  </a:lnTo>
                  <a:lnTo>
                    <a:pt x="5870" y="6321"/>
                  </a:lnTo>
                  <a:lnTo>
                    <a:pt x="5870" y="6112"/>
                  </a:lnTo>
                  <a:lnTo>
                    <a:pt x="5994" y="5835"/>
                  </a:lnTo>
                  <a:lnTo>
                    <a:pt x="5984" y="5713"/>
                  </a:lnTo>
                  <a:lnTo>
                    <a:pt x="5859" y="5530"/>
                  </a:lnTo>
                  <a:lnTo>
                    <a:pt x="5870" y="5094"/>
                  </a:lnTo>
                  <a:lnTo>
                    <a:pt x="6225" y="3339"/>
                  </a:lnTo>
                  <a:lnTo>
                    <a:pt x="6274" y="2894"/>
                  </a:lnTo>
                  <a:lnTo>
                    <a:pt x="6295" y="2441"/>
                  </a:lnTo>
                  <a:lnTo>
                    <a:pt x="6274" y="1996"/>
                  </a:lnTo>
                  <a:lnTo>
                    <a:pt x="6225" y="1548"/>
                  </a:lnTo>
                  <a:lnTo>
                    <a:pt x="5984" y="930"/>
                  </a:lnTo>
                  <a:lnTo>
                    <a:pt x="5159" y="393"/>
                  </a:lnTo>
                  <a:lnTo>
                    <a:pt x="4554" y="87"/>
                  </a:lnTo>
                  <a:lnTo>
                    <a:pt x="2934" y="0"/>
                  </a:lnTo>
                  <a:lnTo>
                    <a:pt x="2325" y="187"/>
                  </a:lnTo>
                  <a:lnTo>
                    <a:pt x="1311" y="892"/>
                  </a:lnTo>
                  <a:lnTo>
                    <a:pt x="857" y="2324"/>
                  </a:lnTo>
                  <a:lnTo>
                    <a:pt x="232" y="5542"/>
                  </a:lnTo>
                  <a:lnTo>
                    <a:pt x="0" y="702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87720" y="3281040"/>
              <a:ext cx="216000" cy="412560"/>
            </a:xfrm>
            <a:custGeom>
              <a:avLst/>
              <a:gdLst/>
              <a:ahLst/>
              <a:rect l="l" t="t" r="r" b="b"/>
              <a:pathLst>
                <a:path w="5617" h="7407">
                  <a:moveTo>
                    <a:pt x="222" y="7407"/>
                  </a:moveTo>
                  <a:lnTo>
                    <a:pt x="5041" y="7407"/>
                  </a:lnTo>
                  <a:lnTo>
                    <a:pt x="5617" y="2054"/>
                  </a:lnTo>
                  <a:lnTo>
                    <a:pt x="3891" y="0"/>
                  </a:lnTo>
                  <a:lnTo>
                    <a:pt x="1235" y="333"/>
                  </a:lnTo>
                  <a:lnTo>
                    <a:pt x="400" y="1883"/>
                  </a:lnTo>
                  <a:lnTo>
                    <a:pt x="0" y="5116"/>
                  </a:lnTo>
                  <a:lnTo>
                    <a:pt x="222" y="74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3440" y="3197880"/>
              <a:ext cx="78120" cy="121320"/>
            </a:xfrm>
            <a:custGeom>
              <a:avLst/>
              <a:gdLst/>
              <a:ahLst/>
              <a:rect l="l" t="t" r="r" b="b"/>
              <a:pathLst>
                <a:path w="2037" h="2185">
                  <a:moveTo>
                    <a:pt x="2004" y="0"/>
                  </a:moveTo>
                  <a:lnTo>
                    <a:pt x="2037" y="54"/>
                  </a:lnTo>
                  <a:lnTo>
                    <a:pt x="1720" y="553"/>
                  </a:lnTo>
                  <a:lnTo>
                    <a:pt x="465" y="2185"/>
                  </a:lnTo>
                  <a:lnTo>
                    <a:pt x="0" y="1990"/>
                  </a:lnTo>
                  <a:lnTo>
                    <a:pt x="339" y="679"/>
                  </a:lnTo>
                  <a:lnTo>
                    <a:pt x="513" y="473"/>
                  </a:lnTo>
                  <a:lnTo>
                    <a:pt x="20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38240" y="3278520"/>
              <a:ext cx="266760" cy="415080"/>
            </a:xfrm>
            <a:custGeom>
              <a:avLst/>
              <a:gdLst/>
              <a:ahLst/>
              <a:rect l="l" t="t" r="r" b="b"/>
              <a:pathLst>
                <a:path w="6942" h="7455">
                  <a:moveTo>
                    <a:pt x="141" y="7455"/>
                  </a:moveTo>
                  <a:lnTo>
                    <a:pt x="6791" y="7455"/>
                  </a:lnTo>
                  <a:lnTo>
                    <a:pt x="6824" y="6379"/>
                  </a:lnTo>
                  <a:lnTo>
                    <a:pt x="6811" y="5733"/>
                  </a:lnTo>
                  <a:lnTo>
                    <a:pt x="6824" y="3641"/>
                  </a:lnTo>
                  <a:lnTo>
                    <a:pt x="6942" y="2528"/>
                  </a:lnTo>
                  <a:lnTo>
                    <a:pt x="6537" y="1242"/>
                  </a:lnTo>
                  <a:lnTo>
                    <a:pt x="4743" y="264"/>
                  </a:lnTo>
                  <a:lnTo>
                    <a:pt x="3099" y="0"/>
                  </a:lnTo>
                  <a:lnTo>
                    <a:pt x="2830" y="412"/>
                  </a:lnTo>
                  <a:lnTo>
                    <a:pt x="2679" y="542"/>
                  </a:lnTo>
                  <a:lnTo>
                    <a:pt x="2312" y="753"/>
                  </a:lnTo>
                  <a:lnTo>
                    <a:pt x="1050" y="1511"/>
                  </a:lnTo>
                  <a:lnTo>
                    <a:pt x="805" y="1829"/>
                  </a:lnTo>
                  <a:lnTo>
                    <a:pt x="464" y="2850"/>
                  </a:lnTo>
                  <a:lnTo>
                    <a:pt x="344" y="4115"/>
                  </a:lnTo>
                  <a:lnTo>
                    <a:pt x="232" y="4733"/>
                  </a:lnTo>
                  <a:lnTo>
                    <a:pt x="173" y="5018"/>
                  </a:lnTo>
                  <a:lnTo>
                    <a:pt x="118" y="5648"/>
                  </a:lnTo>
                  <a:lnTo>
                    <a:pt x="0" y="6116"/>
                  </a:lnTo>
                  <a:lnTo>
                    <a:pt x="141" y="7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78360" y="3497040"/>
              <a:ext cx="73440" cy="63000"/>
            </a:xfrm>
            <a:custGeom>
              <a:avLst/>
              <a:gdLst/>
              <a:ahLst/>
              <a:rect l="l" t="t" r="r" b="b"/>
              <a:pathLst>
                <a:path w="1907" h="1143">
                  <a:moveTo>
                    <a:pt x="1907" y="582"/>
                  </a:moveTo>
                  <a:lnTo>
                    <a:pt x="1713" y="512"/>
                  </a:lnTo>
                  <a:lnTo>
                    <a:pt x="1420" y="292"/>
                  </a:lnTo>
                  <a:lnTo>
                    <a:pt x="1224" y="184"/>
                  </a:lnTo>
                  <a:lnTo>
                    <a:pt x="307" y="0"/>
                  </a:lnTo>
                  <a:lnTo>
                    <a:pt x="113" y="98"/>
                  </a:lnTo>
                  <a:lnTo>
                    <a:pt x="0" y="276"/>
                  </a:lnTo>
                  <a:lnTo>
                    <a:pt x="0" y="457"/>
                  </a:lnTo>
                  <a:lnTo>
                    <a:pt x="68" y="668"/>
                  </a:lnTo>
                  <a:lnTo>
                    <a:pt x="68" y="749"/>
                  </a:lnTo>
                  <a:lnTo>
                    <a:pt x="483" y="1001"/>
                  </a:lnTo>
                  <a:lnTo>
                    <a:pt x="1730" y="1143"/>
                  </a:lnTo>
                  <a:lnTo>
                    <a:pt x="1907" y="582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91560" y="3151080"/>
              <a:ext cx="83520" cy="272880"/>
            </a:xfrm>
            <a:custGeom>
              <a:avLst/>
              <a:gdLst/>
              <a:ahLst/>
              <a:rect l="l" t="t" r="r" b="b"/>
              <a:pathLst>
                <a:path w="2177" h="4905">
                  <a:moveTo>
                    <a:pt x="91" y="860"/>
                  </a:moveTo>
                  <a:lnTo>
                    <a:pt x="0" y="1679"/>
                  </a:lnTo>
                  <a:lnTo>
                    <a:pt x="32" y="1878"/>
                  </a:lnTo>
                  <a:lnTo>
                    <a:pt x="203" y="2426"/>
                  </a:lnTo>
                  <a:lnTo>
                    <a:pt x="351" y="2780"/>
                  </a:lnTo>
                  <a:lnTo>
                    <a:pt x="528" y="3028"/>
                  </a:lnTo>
                  <a:lnTo>
                    <a:pt x="167" y="4438"/>
                  </a:lnTo>
                  <a:lnTo>
                    <a:pt x="91" y="4905"/>
                  </a:lnTo>
                  <a:lnTo>
                    <a:pt x="667" y="4180"/>
                  </a:lnTo>
                  <a:lnTo>
                    <a:pt x="1771" y="2593"/>
                  </a:lnTo>
                  <a:lnTo>
                    <a:pt x="2177" y="2200"/>
                  </a:lnTo>
                  <a:lnTo>
                    <a:pt x="2009" y="887"/>
                  </a:lnTo>
                  <a:lnTo>
                    <a:pt x="1191" y="0"/>
                  </a:lnTo>
                  <a:lnTo>
                    <a:pt x="91" y="86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72760" y="3075480"/>
              <a:ext cx="85680" cy="192960"/>
            </a:xfrm>
            <a:custGeom>
              <a:avLst/>
              <a:gdLst/>
              <a:ahLst/>
              <a:rect l="l" t="t" r="r" b="b"/>
              <a:pathLst>
                <a:path w="2232" h="3464">
                  <a:moveTo>
                    <a:pt x="0" y="1194"/>
                  </a:moveTo>
                  <a:lnTo>
                    <a:pt x="0" y="1442"/>
                  </a:lnTo>
                  <a:lnTo>
                    <a:pt x="97" y="1899"/>
                  </a:lnTo>
                  <a:lnTo>
                    <a:pt x="201" y="2044"/>
                  </a:lnTo>
                  <a:lnTo>
                    <a:pt x="325" y="2157"/>
                  </a:lnTo>
                  <a:lnTo>
                    <a:pt x="346" y="2464"/>
                  </a:lnTo>
                  <a:lnTo>
                    <a:pt x="346" y="2678"/>
                  </a:lnTo>
                  <a:lnTo>
                    <a:pt x="486" y="2889"/>
                  </a:lnTo>
                  <a:lnTo>
                    <a:pt x="637" y="3072"/>
                  </a:lnTo>
                  <a:lnTo>
                    <a:pt x="853" y="3243"/>
                  </a:lnTo>
                  <a:lnTo>
                    <a:pt x="1057" y="3368"/>
                  </a:lnTo>
                  <a:lnTo>
                    <a:pt x="1321" y="3464"/>
                  </a:lnTo>
                  <a:lnTo>
                    <a:pt x="1469" y="3464"/>
                  </a:lnTo>
                  <a:lnTo>
                    <a:pt x="1574" y="3436"/>
                  </a:lnTo>
                  <a:lnTo>
                    <a:pt x="1640" y="3243"/>
                  </a:lnTo>
                  <a:lnTo>
                    <a:pt x="1749" y="2995"/>
                  </a:lnTo>
                  <a:lnTo>
                    <a:pt x="1881" y="2776"/>
                  </a:lnTo>
                  <a:lnTo>
                    <a:pt x="2129" y="1899"/>
                  </a:lnTo>
                  <a:lnTo>
                    <a:pt x="2232" y="1403"/>
                  </a:lnTo>
                  <a:lnTo>
                    <a:pt x="2129" y="789"/>
                  </a:lnTo>
                  <a:lnTo>
                    <a:pt x="782" y="0"/>
                  </a:lnTo>
                  <a:lnTo>
                    <a:pt x="125" y="909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34880" y="3089520"/>
              <a:ext cx="92160" cy="139320"/>
            </a:xfrm>
            <a:custGeom>
              <a:avLst/>
              <a:gdLst/>
              <a:ahLst/>
              <a:rect l="l" t="t" r="r" b="b"/>
              <a:pathLst>
                <a:path w="2393" h="2508">
                  <a:moveTo>
                    <a:pt x="65" y="2396"/>
                  </a:moveTo>
                  <a:lnTo>
                    <a:pt x="0" y="2078"/>
                  </a:lnTo>
                  <a:lnTo>
                    <a:pt x="0" y="1813"/>
                  </a:lnTo>
                  <a:lnTo>
                    <a:pt x="75" y="1643"/>
                  </a:lnTo>
                  <a:lnTo>
                    <a:pt x="145" y="1233"/>
                  </a:lnTo>
                  <a:lnTo>
                    <a:pt x="188" y="915"/>
                  </a:lnTo>
                  <a:lnTo>
                    <a:pt x="430" y="506"/>
                  </a:lnTo>
                  <a:lnTo>
                    <a:pt x="812" y="368"/>
                  </a:lnTo>
                  <a:lnTo>
                    <a:pt x="986" y="233"/>
                  </a:lnTo>
                  <a:lnTo>
                    <a:pt x="1131" y="190"/>
                  </a:lnTo>
                  <a:lnTo>
                    <a:pt x="1418" y="157"/>
                  </a:lnTo>
                  <a:lnTo>
                    <a:pt x="1675" y="0"/>
                  </a:lnTo>
                  <a:lnTo>
                    <a:pt x="1853" y="12"/>
                  </a:lnTo>
                  <a:lnTo>
                    <a:pt x="2107" y="157"/>
                  </a:lnTo>
                  <a:lnTo>
                    <a:pt x="2268" y="287"/>
                  </a:lnTo>
                  <a:lnTo>
                    <a:pt x="2393" y="737"/>
                  </a:lnTo>
                  <a:lnTo>
                    <a:pt x="366" y="2508"/>
                  </a:lnTo>
                  <a:lnTo>
                    <a:pt x="65" y="2396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53960" y="3148560"/>
              <a:ext cx="86400" cy="195480"/>
            </a:xfrm>
            <a:custGeom>
              <a:avLst/>
              <a:gdLst/>
              <a:ahLst/>
              <a:rect l="l" t="t" r="r" b="b"/>
              <a:pathLst>
                <a:path w="2248" h="3518">
                  <a:moveTo>
                    <a:pt x="891" y="0"/>
                  </a:moveTo>
                  <a:lnTo>
                    <a:pt x="61" y="521"/>
                  </a:lnTo>
                  <a:lnTo>
                    <a:pt x="0" y="1887"/>
                  </a:lnTo>
                  <a:lnTo>
                    <a:pt x="563" y="3518"/>
                  </a:lnTo>
                  <a:lnTo>
                    <a:pt x="2093" y="2274"/>
                  </a:lnTo>
                  <a:lnTo>
                    <a:pt x="2248" y="1198"/>
                  </a:lnTo>
                  <a:lnTo>
                    <a:pt x="1520" y="17"/>
                  </a:lnTo>
                  <a:lnTo>
                    <a:pt x="891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45960" y="3064320"/>
              <a:ext cx="84960" cy="182520"/>
            </a:xfrm>
            <a:custGeom>
              <a:avLst/>
              <a:gdLst/>
              <a:ahLst/>
              <a:rect l="l" t="t" r="r" b="b"/>
              <a:pathLst>
                <a:path w="2219" h="3281">
                  <a:moveTo>
                    <a:pt x="135" y="280"/>
                  </a:moveTo>
                  <a:lnTo>
                    <a:pt x="0" y="1008"/>
                  </a:lnTo>
                  <a:lnTo>
                    <a:pt x="0" y="1626"/>
                  </a:lnTo>
                  <a:lnTo>
                    <a:pt x="258" y="2760"/>
                  </a:lnTo>
                  <a:lnTo>
                    <a:pt x="400" y="2853"/>
                  </a:lnTo>
                  <a:lnTo>
                    <a:pt x="419" y="2950"/>
                  </a:lnTo>
                  <a:lnTo>
                    <a:pt x="545" y="3169"/>
                  </a:lnTo>
                  <a:lnTo>
                    <a:pt x="619" y="3281"/>
                  </a:lnTo>
                  <a:lnTo>
                    <a:pt x="1040" y="3088"/>
                  </a:lnTo>
                  <a:lnTo>
                    <a:pt x="1439" y="2884"/>
                  </a:lnTo>
                  <a:lnTo>
                    <a:pt x="1730" y="2631"/>
                  </a:lnTo>
                  <a:lnTo>
                    <a:pt x="1984" y="2379"/>
                  </a:lnTo>
                  <a:lnTo>
                    <a:pt x="1936" y="2061"/>
                  </a:lnTo>
                  <a:lnTo>
                    <a:pt x="2074" y="2019"/>
                  </a:lnTo>
                  <a:lnTo>
                    <a:pt x="2219" y="1555"/>
                  </a:lnTo>
                  <a:lnTo>
                    <a:pt x="2210" y="1260"/>
                  </a:lnTo>
                  <a:lnTo>
                    <a:pt x="1691" y="32"/>
                  </a:lnTo>
                  <a:lnTo>
                    <a:pt x="642" y="0"/>
                  </a:lnTo>
                  <a:lnTo>
                    <a:pt x="135" y="28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42640" y="3102480"/>
              <a:ext cx="94320" cy="75960"/>
            </a:xfrm>
            <a:custGeom>
              <a:avLst/>
              <a:gdLst/>
              <a:ahLst/>
              <a:rect l="l" t="t" r="r" b="b"/>
              <a:pathLst>
                <a:path w="2457" h="1371">
                  <a:moveTo>
                    <a:pt x="0" y="1043"/>
                  </a:moveTo>
                  <a:lnTo>
                    <a:pt x="189" y="398"/>
                  </a:lnTo>
                  <a:lnTo>
                    <a:pt x="685" y="31"/>
                  </a:lnTo>
                  <a:lnTo>
                    <a:pt x="1052" y="0"/>
                  </a:lnTo>
                  <a:lnTo>
                    <a:pt x="1358" y="31"/>
                  </a:lnTo>
                  <a:lnTo>
                    <a:pt x="1805" y="253"/>
                  </a:lnTo>
                  <a:lnTo>
                    <a:pt x="2134" y="334"/>
                  </a:lnTo>
                  <a:lnTo>
                    <a:pt x="2269" y="473"/>
                  </a:lnTo>
                  <a:lnTo>
                    <a:pt x="2408" y="682"/>
                  </a:lnTo>
                  <a:lnTo>
                    <a:pt x="2457" y="1033"/>
                  </a:lnTo>
                  <a:lnTo>
                    <a:pt x="2457" y="1371"/>
                  </a:lnTo>
                  <a:lnTo>
                    <a:pt x="128" y="1232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48760" y="3137040"/>
              <a:ext cx="80640" cy="204480"/>
            </a:xfrm>
            <a:custGeom>
              <a:avLst/>
              <a:gdLst/>
              <a:ahLst/>
              <a:rect l="l" t="t" r="r" b="b"/>
              <a:pathLst>
                <a:path w="2090" h="3674">
                  <a:moveTo>
                    <a:pt x="48" y="425"/>
                  </a:moveTo>
                  <a:lnTo>
                    <a:pt x="0" y="792"/>
                  </a:lnTo>
                  <a:lnTo>
                    <a:pt x="97" y="1845"/>
                  </a:lnTo>
                  <a:lnTo>
                    <a:pt x="210" y="2524"/>
                  </a:lnTo>
                  <a:lnTo>
                    <a:pt x="210" y="2662"/>
                  </a:lnTo>
                  <a:lnTo>
                    <a:pt x="290" y="2840"/>
                  </a:lnTo>
                  <a:lnTo>
                    <a:pt x="399" y="2997"/>
                  </a:lnTo>
                  <a:lnTo>
                    <a:pt x="593" y="3126"/>
                  </a:lnTo>
                  <a:lnTo>
                    <a:pt x="847" y="3326"/>
                  </a:lnTo>
                  <a:lnTo>
                    <a:pt x="1073" y="3535"/>
                  </a:lnTo>
                  <a:lnTo>
                    <a:pt x="1228" y="3674"/>
                  </a:lnTo>
                  <a:lnTo>
                    <a:pt x="1357" y="3657"/>
                  </a:lnTo>
                  <a:lnTo>
                    <a:pt x="1585" y="3406"/>
                  </a:lnTo>
                  <a:lnTo>
                    <a:pt x="1692" y="3232"/>
                  </a:lnTo>
                  <a:lnTo>
                    <a:pt x="1805" y="2997"/>
                  </a:lnTo>
                  <a:lnTo>
                    <a:pt x="1859" y="2733"/>
                  </a:lnTo>
                  <a:lnTo>
                    <a:pt x="1978" y="1937"/>
                  </a:lnTo>
                  <a:lnTo>
                    <a:pt x="2016" y="1845"/>
                  </a:lnTo>
                  <a:lnTo>
                    <a:pt x="2090" y="1468"/>
                  </a:lnTo>
                  <a:lnTo>
                    <a:pt x="2075" y="646"/>
                  </a:lnTo>
                  <a:lnTo>
                    <a:pt x="2000" y="328"/>
                  </a:lnTo>
                  <a:lnTo>
                    <a:pt x="1472" y="0"/>
                  </a:lnTo>
                  <a:lnTo>
                    <a:pt x="259" y="247"/>
                  </a:lnTo>
                  <a:lnTo>
                    <a:pt x="48" y="42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66040" y="3244320"/>
              <a:ext cx="42840" cy="12240"/>
            </a:xfrm>
            <a:custGeom>
              <a:avLst/>
              <a:gdLst/>
              <a:ahLst/>
              <a:rect l="l" t="t" r="r" b="b"/>
              <a:pathLst>
                <a:path w="1115" h="226">
                  <a:moveTo>
                    <a:pt x="560" y="17"/>
                  </a:moveTo>
                  <a:lnTo>
                    <a:pt x="425" y="0"/>
                  </a:lnTo>
                  <a:lnTo>
                    <a:pt x="333" y="17"/>
                  </a:lnTo>
                  <a:lnTo>
                    <a:pt x="139" y="55"/>
                  </a:lnTo>
                  <a:lnTo>
                    <a:pt x="16" y="88"/>
                  </a:lnTo>
                  <a:lnTo>
                    <a:pt x="0" y="167"/>
                  </a:lnTo>
                  <a:lnTo>
                    <a:pt x="26" y="210"/>
                  </a:lnTo>
                  <a:lnTo>
                    <a:pt x="188" y="184"/>
                  </a:lnTo>
                  <a:lnTo>
                    <a:pt x="364" y="226"/>
                  </a:lnTo>
                  <a:lnTo>
                    <a:pt x="560" y="167"/>
                  </a:lnTo>
                  <a:lnTo>
                    <a:pt x="738" y="226"/>
                  </a:lnTo>
                  <a:lnTo>
                    <a:pt x="931" y="193"/>
                  </a:lnTo>
                  <a:lnTo>
                    <a:pt x="1092" y="210"/>
                  </a:lnTo>
                  <a:lnTo>
                    <a:pt x="1115" y="136"/>
                  </a:lnTo>
                  <a:lnTo>
                    <a:pt x="754" y="0"/>
                  </a:lnTo>
                  <a:lnTo>
                    <a:pt x="634" y="0"/>
                  </a:lnTo>
                  <a:lnTo>
                    <a:pt x="5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39040" y="3101760"/>
              <a:ext cx="100080" cy="132480"/>
            </a:xfrm>
            <a:custGeom>
              <a:avLst/>
              <a:gdLst/>
              <a:ahLst/>
              <a:rect l="l" t="t" r="r" b="b"/>
              <a:pathLst>
                <a:path w="2602" h="2389">
                  <a:moveTo>
                    <a:pt x="1362" y="12"/>
                  </a:moveTo>
                  <a:lnTo>
                    <a:pt x="1594" y="125"/>
                  </a:lnTo>
                  <a:lnTo>
                    <a:pt x="1675" y="345"/>
                  </a:lnTo>
                  <a:lnTo>
                    <a:pt x="1400" y="270"/>
                  </a:lnTo>
                  <a:lnTo>
                    <a:pt x="1504" y="452"/>
                  </a:lnTo>
                  <a:lnTo>
                    <a:pt x="1191" y="366"/>
                  </a:lnTo>
                  <a:lnTo>
                    <a:pt x="911" y="345"/>
                  </a:lnTo>
                  <a:lnTo>
                    <a:pt x="1059" y="496"/>
                  </a:lnTo>
                  <a:lnTo>
                    <a:pt x="624" y="587"/>
                  </a:lnTo>
                  <a:lnTo>
                    <a:pt x="786" y="711"/>
                  </a:lnTo>
                  <a:lnTo>
                    <a:pt x="522" y="722"/>
                  </a:lnTo>
                  <a:lnTo>
                    <a:pt x="219" y="979"/>
                  </a:lnTo>
                  <a:lnTo>
                    <a:pt x="139" y="995"/>
                  </a:lnTo>
                  <a:lnTo>
                    <a:pt x="361" y="663"/>
                  </a:lnTo>
                  <a:lnTo>
                    <a:pt x="216" y="711"/>
                  </a:lnTo>
                  <a:lnTo>
                    <a:pt x="435" y="480"/>
                  </a:lnTo>
                  <a:lnTo>
                    <a:pt x="306" y="452"/>
                  </a:lnTo>
                  <a:lnTo>
                    <a:pt x="489" y="286"/>
                  </a:lnTo>
                  <a:lnTo>
                    <a:pt x="786" y="65"/>
                  </a:lnTo>
                  <a:lnTo>
                    <a:pt x="284" y="345"/>
                  </a:lnTo>
                  <a:lnTo>
                    <a:pt x="96" y="683"/>
                  </a:lnTo>
                  <a:lnTo>
                    <a:pt x="0" y="1140"/>
                  </a:lnTo>
                  <a:lnTo>
                    <a:pt x="25" y="1700"/>
                  </a:lnTo>
                  <a:lnTo>
                    <a:pt x="219" y="2035"/>
                  </a:lnTo>
                  <a:lnTo>
                    <a:pt x="344" y="2389"/>
                  </a:lnTo>
                  <a:lnTo>
                    <a:pt x="295" y="1722"/>
                  </a:lnTo>
                  <a:lnTo>
                    <a:pt x="274" y="1371"/>
                  </a:lnTo>
                  <a:lnTo>
                    <a:pt x="334" y="1140"/>
                  </a:lnTo>
                  <a:lnTo>
                    <a:pt x="522" y="1017"/>
                  </a:lnTo>
                  <a:lnTo>
                    <a:pt x="931" y="921"/>
                  </a:lnTo>
                  <a:lnTo>
                    <a:pt x="1390" y="936"/>
                  </a:lnTo>
                  <a:lnTo>
                    <a:pt x="1611" y="877"/>
                  </a:lnTo>
                  <a:lnTo>
                    <a:pt x="1736" y="770"/>
                  </a:lnTo>
                  <a:lnTo>
                    <a:pt x="1853" y="921"/>
                  </a:lnTo>
                  <a:lnTo>
                    <a:pt x="2003" y="1027"/>
                  </a:lnTo>
                  <a:lnTo>
                    <a:pt x="2219" y="1114"/>
                  </a:lnTo>
                  <a:lnTo>
                    <a:pt x="2258" y="1480"/>
                  </a:lnTo>
                  <a:lnTo>
                    <a:pt x="2247" y="1926"/>
                  </a:lnTo>
                  <a:lnTo>
                    <a:pt x="2273" y="2232"/>
                  </a:lnTo>
                  <a:lnTo>
                    <a:pt x="2495" y="1722"/>
                  </a:lnTo>
                  <a:lnTo>
                    <a:pt x="2602" y="1307"/>
                  </a:lnTo>
                  <a:lnTo>
                    <a:pt x="2592" y="995"/>
                  </a:lnTo>
                  <a:lnTo>
                    <a:pt x="2472" y="618"/>
                  </a:lnTo>
                  <a:lnTo>
                    <a:pt x="2332" y="452"/>
                  </a:lnTo>
                  <a:lnTo>
                    <a:pt x="2483" y="722"/>
                  </a:lnTo>
                  <a:lnTo>
                    <a:pt x="2559" y="1088"/>
                  </a:lnTo>
                  <a:lnTo>
                    <a:pt x="2559" y="1371"/>
                  </a:lnTo>
                  <a:lnTo>
                    <a:pt x="2393" y="1060"/>
                  </a:lnTo>
                  <a:lnTo>
                    <a:pt x="2483" y="1071"/>
                  </a:lnTo>
                  <a:lnTo>
                    <a:pt x="2327" y="824"/>
                  </a:lnTo>
                  <a:lnTo>
                    <a:pt x="2434" y="824"/>
                  </a:lnTo>
                  <a:lnTo>
                    <a:pt x="2403" y="770"/>
                  </a:lnTo>
                  <a:lnTo>
                    <a:pt x="2215" y="663"/>
                  </a:lnTo>
                  <a:lnTo>
                    <a:pt x="2247" y="618"/>
                  </a:lnTo>
                  <a:lnTo>
                    <a:pt x="1971" y="511"/>
                  </a:lnTo>
                  <a:lnTo>
                    <a:pt x="2031" y="452"/>
                  </a:lnTo>
                  <a:lnTo>
                    <a:pt x="1961" y="286"/>
                  </a:lnTo>
                  <a:lnTo>
                    <a:pt x="2215" y="328"/>
                  </a:lnTo>
                  <a:lnTo>
                    <a:pt x="1961" y="242"/>
                  </a:lnTo>
                  <a:lnTo>
                    <a:pt x="1707" y="76"/>
                  </a:lnTo>
                  <a:lnTo>
                    <a:pt x="1481" y="0"/>
                  </a:lnTo>
                  <a:lnTo>
                    <a:pt x="13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57040" y="3277440"/>
              <a:ext cx="63360" cy="63000"/>
            </a:xfrm>
            <a:custGeom>
              <a:avLst/>
              <a:gdLst/>
              <a:ahLst/>
              <a:rect l="l" t="t" r="r" b="b"/>
              <a:pathLst>
                <a:path w="1649" h="1140">
                  <a:moveTo>
                    <a:pt x="0" y="0"/>
                  </a:moveTo>
                  <a:lnTo>
                    <a:pt x="0" y="135"/>
                  </a:lnTo>
                  <a:lnTo>
                    <a:pt x="39" y="265"/>
                  </a:lnTo>
                  <a:lnTo>
                    <a:pt x="108" y="404"/>
                  </a:lnTo>
                  <a:lnTo>
                    <a:pt x="225" y="512"/>
                  </a:lnTo>
                  <a:lnTo>
                    <a:pt x="454" y="674"/>
                  </a:lnTo>
                  <a:lnTo>
                    <a:pt x="711" y="877"/>
                  </a:lnTo>
                  <a:lnTo>
                    <a:pt x="917" y="1061"/>
                  </a:lnTo>
                  <a:lnTo>
                    <a:pt x="1024" y="1140"/>
                  </a:lnTo>
                  <a:lnTo>
                    <a:pt x="1131" y="1140"/>
                  </a:lnTo>
                  <a:lnTo>
                    <a:pt x="1353" y="926"/>
                  </a:lnTo>
                  <a:lnTo>
                    <a:pt x="1498" y="722"/>
                  </a:lnTo>
                  <a:lnTo>
                    <a:pt x="1590" y="512"/>
                  </a:lnTo>
                  <a:lnTo>
                    <a:pt x="1649" y="2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98360" y="3339720"/>
              <a:ext cx="167040" cy="354240"/>
            </a:xfrm>
            <a:custGeom>
              <a:avLst/>
              <a:gdLst/>
              <a:ahLst/>
              <a:rect l="l" t="t" r="r" b="b"/>
              <a:pathLst>
                <a:path w="4344" h="6359">
                  <a:moveTo>
                    <a:pt x="2512" y="0"/>
                  </a:moveTo>
                  <a:lnTo>
                    <a:pt x="2361" y="260"/>
                  </a:lnTo>
                  <a:lnTo>
                    <a:pt x="2512" y="340"/>
                  </a:lnTo>
                  <a:lnTo>
                    <a:pt x="2625" y="527"/>
                  </a:lnTo>
                  <a:lnTo>
                    <a:pt x="2496" y="765"/>
                  </a:lnTo>
                  <a:lnTo>
                    <a:pt x="2399" y="1136"/>
                  </a:lnTo>
                  <a:lnTo>
                    <a:pt x="2377" y="1571"/>
                  </a:lnTo>
                  <a:lnTo>
                    <a:pt x="2480" y="2824"/>
                  </a:lnTo>
                  <a:lnTo>
                    <a:pt x="2512" y="3654"/>
                  </a:lnTo>
                  <a:lnTo>
                    <a:pt x="2534" y="4972"/>
                  </a:lnTo>
                  <a:lnTo>
                    <a:pt x="2453" y="5983"/>
                  </a:lnTo>
                  <a:lnTo>
                    <a:pt x="1774" y="5983"/>
                  </a:lnTo>
                  <a:lnTo>
                    <a:pt x="1165" y="5896"/>
                  </a:lnTo>
                  <a:lnTo>
                    <a:pt x="689" y="5728"/>
                  </a:lnTo>
                  <a:lnTo>
                    <a:pt x="194" y="5487"/>
                  </a:lnTo>
                  <a:lnTo>
                    <a:pt x="103" y="5677"/>
                  </a:lnTo>
                  <a:lnTo>
                    <a:pt x="103" y="6015"/>
                  </a:lnTo>
                  <a:lnTo>
                    <a:pt x="0" y="6359"/>
                  </a:lnTo>
                  <a:lnTo>
                    <a:pt x="4235" y="6354"/>
                  </a:lnTo>
                  <a:lnTo>
                    <a:pt x="4192" y="5876"/>
                  </a:lnTo>
                  <a:lnTo>
                    <a:pt x="4312" y="5677"/>
                  </a:lnTo>
                  <a:lnTo>
                    <a:pt x="4344" y="5364"/>
                  </a:lnTo>
                  <a:lnTo>
                    <a:pt x="4235" y="5191"/>
                  </a:lnTo>
                  <a:lnTo>
                    <a:pt x="4161" y="4998"/>
                  </a:lnTo>
                  <a:lnTo>
                    <a:pt x="3874" y="5751"/>
                  </a:lnTo>
                  <a:lnTo>
                    <a:pt x="3655" y="5924"/>
                  </a:lnTo>
                  <a:lnTo>
                    <a:pt x="3514" y="5967"/>
                  </a:lnTo>
                  <a:lnTo>
                    <a:pt x="3514" y="5143"/>
                  </a:lnTo>
                  <a:lnTo>
                    <a:pt x="3423" y="3670"/>
                  </a:lnTo>
                  <a:lnTo>
                    <a:pt x="3310" y="2395"/>
                  </a:lnTo>
                  <a:lnTo>
                    <a:pt x="3115" y="1323"/>
                  </a:lnTo>
                  <a:lnTo>
                    <a:pt x="2830" y="657"/>
                  </a:lnTo>
                  <a:lnTo>
                    <a:pt x="2738" y="501"/>
                  </a:lnTo>
                  <a:lnTo>
                    <a:pt x="2799" y="308"/>
                  </a:lnTo>
                  <a:lnTo>
                    <a:pt x="2799" y="163"/>
                  </a:lnTo>
                  <a:lnTo>
                    <a:pt x="2664" y="21"/>
                  </a:lnTo>
                  <a:lnTo>
                    <a:pt x="25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38960" y="3303000"/>
              <a:ext cx="104760" cy="388440"/>
            </a:xfrm>
            <a:custGeom>
              <a:avLst/>
              <a:gdLst/>
              <a:ahLst/>
              <a:rect l="l" t="t" r="r" b="b"/>
              <a:pathLst>
                <a:path w="2725" h="6972">
                  <a:moveTo>
                    <a:pt x="2725" y="0"/>
                  </a:moveTo>
                  <a:lnTo>
                    <a:pt x="2442" y="237"/>
                  </a:lnTo>
                  <a:lnTo>
                    <a:pt x="1320" y="894"/>
                  </a:lnTo>
                  <a:lnTo>
                    <a:pt x="1018" y="1056"/>
                  </a:lnTo>
                  <a:lnTo>
                    <a:pt x="770" y="1372"/>
                  </a:lnTo>
                  <a:lnTo>
                    <a:pt x="429" y="2432"/>
                  </a:lnTo>
                  <a:lnTo>
                    <a:pt x="365" y="3165"/>
                  </a:lnTo>
                  <a:lnTo>
                    <a:pt x="242" y="4224"/>
                  </a:lnTo>
                  <a:lnTo>
                    <a:pt x="123" y="4588"/>
                  </a:lnTo>
                  <a:lnTo>
                    <a:pt x="113" y="5122"/>
                  </a:lnTo>
                  <a:lnTo>
                    <a:pt x="0" y="5623"/>
                  </a:lnTo>
                  <a:lnTo>
                    <a:pt x="10" y="5918"/>
                  </a:lnTo>
                  <a:lnTo>
                    <a:pt x="113" y="69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4880" y="3043080"/>
              <a:ext cx="89640" cy="136800"/>
            </a:xfrm>
            <a:custGeom>
              <a:avLst/>
              <a:gdLst/>
              <a:ahLst/>
              <a:rect l="l" t="t" r="r" b="b"/>
              <a:pathLst>
                <a:path w="2334" h="2458">
                  <a:moveTo>
                    <a:pt x="33" y="1382"/>
                  </a:moveTo>
                  <a:lnTo>
                    <a:pt x="134" y="781"/>
                  </a:lnTo>
                  <a:lnTo>
                    <a:pt x="211" y="684"/>
                  </a:lnTo>
                  <a:lnTo>
                    <a:pt x="387" y="593"/>
                  </a:lnTo>
                  <a:lnTo>
                    <a:pt x="710" y="577"/>
                  </a:lnTo>
                  <a:lnTo>
                    <a:pt x="1074" y="558"/>
                  </a:lnTo>
                  <a:lnTo>
                    <a:pt x="1289" y="494"/>
                  </a:lnTo>
                  <a:lnTo>
                    <a:pt x="1502" y="442"/>
                  </a:lnTo>
                  <a:lnTo>
                    <a:pt x="1654" y="468"/>
                  </a:lnTo>
                  <a:lnTo>
                    <a:pt x="1718" y="522"/>
                  </a:lnTo>
                  <a:lnTo>
                    <a:pt x="1747" y="732"/>
                  </a:lnTo>
                  <a:lnTo>
                    <a:pt x="1612" y="1150"/>
                  </a:lnTo>
                  <a:lnTo>
                    <a:pt x="1589" y="1361"/>
                  </a:lnTo>
                  <a:lnTo>
                    <a:pt x="1617" y="1582"/>
                  </a:lnTo>
                  <a:lnTo>
                    <a:pt x="1747" y="1737"/>
                  </a:lnTo>
                  <a:lnTo>
                    <a:pt x="1747" y="1850"/>
                  </a:lnTo>
                  <a:lnTo>
                    <a:pt x="1801" y="1850"/>
                  </a:lnTo>
                  <a:lnTo>
                    <a:pt x="1950" y="1641"/>
                  </a:lnTo>
                  <a:lnTo>
                    <a:pt x="2059" y="1624"/>
                  </a:lnTo>
                  <a:lnTo>
                    <a:pt x="2172" y="1669"/>
                  </a:lnTo>
                  <a:lnTo>
                    <a:pt x="2237" y="1817"/>
                  </a:lnTo>
                  <a:lnTo>
                    <a:pt x="2237" y="1975"/>
                  </a:lnTo>
                  <a:lnTo>
                    <a:pt x="2065" y="2458"/>
                  </a:lnTo>
                  <a:lnTo>
                    <a:pt x="2301" y="1936"/>
                  </a:lnTo>
                  <a:lnTo>
                    <a:pt x="2285" y="1759"/>
                  </a:lnTo>
                  <a:lnTo>
                    <a:pt x="2334" y="1437"/>
                  </a:lnTo>
                  <a:lnTo>
                    <a:pt x="2311" y="1109"/>
                  </a:lnTo>
                  <a:lnTo>
                    <a:pt x="2215" y="764"/>
                  </a:lnTo>
                  <a:lnTo>
                    <a:pt x="2027" y="522"/>
                  </a:lnTo>
                  <a:lnTo>
                    <a:pt x="1892" y="468"/>
                  </a:lnTo>
                  <a:lnTo>
                    <a:pt x="1783" y="451"/>
                  </a:lnTo>
                  <a:lnTo>
                    <a:pt x="1703" y="268"/>
                  </a:lnTo>
                  <a:lnTo>
                    <a:pt x="1482" y="107"/>
                  </a:lnTo>
                  <a:lnTo>
                    <a:pt x="1009" y="0"/>
                  </a:lnTo>
                  <a:lnTo>
                    <a:pt x="685" y="10"/>
                  </a:lnTo>
                  <a:lnTo>
                    <a:pt x="387" y="140"/>
                  </a:lnTo>
                  <a:lnTo>
                    <a:pt x="166" y="442"/>
                  </a:lnTo>
                  <a:lnTo>
                    <a:pt x="97" y="651"/>
                  </a:lnTo>
                  <a:lnTo>
                    <a:pt x="69" y="845"/>
                  </a:lnTo>
                  <a:lnTo>
                    <a:pt x="0" y="1082"/>
                  </a:lnTo>
                  <a:lnTo>
                    <a:pt x="11" y="1308"/>
                  </a:lnTo>
                  <a:lnTo>
                    <a:pt x="33" y="1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62160" y="3199320"/>
              <a:ext cx="57960" cy="46080"/>
            </a:xfrm>
            <a:custGeom>
              <a:avLst/>
              <a:gdLst/>
              <a:ahLst/>
              <a:rect l="l" t="t" r="r" b="b"/>
              <a:pathLst>
                <a:path w="1510" h="834">
                  <a:moveTo>
                    <a:pt x="1510" y="0"/>
                  </a:moveTo>
                  <a:lnTo>
                    <a:pt x="1229" y="290"/>
                  </a:lnTo>
                  <a:lnTo>
                    <a:pt x="1008" y="477"/>
                  </a:lnTo>
                  <a:lnTo>
                    <a:pt x="695" y="634"/>
                  </a:lnTo>
                  <a:lnTo>
                    <a:pt x="199" y="834"/>
                  </a:lnTo>
                  <a:lnTo>
                    <a:pt x="96" y="692"/>
                  </a:lnTo>
                  <a:lnTo>
                    <a:pt x="0" y="5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19320" y="3100680"/>
              <a:ext cx="250200" cy="397800"/>
            </a:xfrm>
            <a:custGeom>
              <a:avLst/>
              <a:gdLst/>
              <a:ahLst/>
              <a:rect l="l" t="t" r="r" b="b"/>
              <a:pathLst>
                <a:path w="6501" h="7150">
                  <a:moveTo>
                    <a:pt x="28" y="3320"/>
                  </a:moveTo>
                  <a:lnTo>
                    <a:pt x="189" y="2997"/>
                  </a:lnTo>
                  <a:lnTo>
                    <a:pt x="561" y="2631"/>
                  </a:lnTo>
                  <a:lnTo>
                    <a:pt x="1101" y="2264"/>
                  </a:lnTo>
                  <a:lnTo>
                    <a:pt x="917" y="2782"/>
                  </a:lnTo>
                  <a:lnTo>
                    <a:pt x="895" y="3191"/>
                  </a:lnTo>
                  <a:lnTo>
                    <a:pt x="775" y="3680"/>
                  </a:lnTo>
                  <a:lnTo>
                    <a:pt x="1101" y="3082"/>
                  </a:lnTo>
                  <a:lnTo>
                    <a:pt x="1101" y="2809"/>
                  </a:lnTo>
                  <a:lnTo>
                    <a:pt x="1310" y="2605"/>
                  </a:lnTo>
                  <a:lnTo>
                    <a:pt x="1268" y="2809"/>
                  </a:lnTo>
                  <a:lnTo>
                    <a:pt x="1268" y="3056"/>
                  </a:lnTo>
                  <a:lnTo>
                    <a:pt x="1197" y="3137"/>
                  </a:lnTo>
                  <a:lnTo>
                    <a:pt x="1197" y="3255"/>
                  </a:lnTo>
                  <a:lnTo>
                    <a:pt x="1078" y="3713"/>
                  </a:lnTo>
                  <a:lnTo>
                    <a:pt x="1649" y="2965"/>
                  </a:lnTo>
                  <a:lnTo>
                    <a:pt x="2437" y="2119"/>
                  </a:lnTo>
                  <a:lnTo>
                    <a:pt x="2646" y="1764"/>
                  </a:lnTo>
                  <a:lnTo>
                    <a:pt x="2878" y="2151"/>
                  </a:lnTo>
                  <a:lnTo>
                    <a:pt x="3051" y="2212"/>
                  </a:lnTo>
                  <a:lnTo>
                    <a:pt x="3213" y="2002"/>
                  </a:lnTo>
                  <a:lnTo>
                    <a:pt x="3165" y="1613"/>
                  </a:lnTo>
                  <a:lnTo>
                    <a:pt x="3262" y="1018"/>
                  </a:lnTo>
                  <a:lnTo>
                    <a:pt x="3497" y="1168"/>
                  </a:lnTo>
                  <a:lnTo>
                    <a:pt x="3397" y="898"/>
                  </a:lnTo>
                  <a:lnTo>
                    <a:pt x="3445" y="618"/>
                  </a:lnTo>
                  <a:lnTo>
                    <a:pt x="3655" y="682"/>
                  </a:lnTo>
                  <a:lnTo>
                    <a:pt x="3892" y="682"/>
                  </a:lnTo>
                  <a:lnTo>
                    <a:pt x="4296" y="506"/>
                  </a:lnTo>
                  <a:lnTo>
                    <a:pt x="4553" y="448"/>
                  </a:lnTo>
                  <a:lnTo>
                    <a:pt x="4366" y="328"/>
                  </a:lnTo>
                  <a:lnTo>
                    <a:pt x="4673" y="328"/>
                  </a:lnTo>
                  <a:lnTo>
                    <a:pt x="5024" y="419"/>
                  </a:lnTo>
                  <a:lnTo>
                    <a:pt x="4900" y="237"/>
                  </a:lnTo>
                  <a:lnTo>
                    <a:pt x="4717" y="145"/>
                  </a:lnTo>
                  <a:lnTo>
                    <a:pt x="4997" y="209"/>
                  </a:lnTo>
                  <a:lnTo>
                    <a:pt x="5304" y="328"/>
                  </a:lnTo>
                  <a:lnTo>
                    <a:pt x="5304" y="237"/>
                  </a:lnTo>
                  <a:lnTo>
                    <a:pt x="5185" y="0"/>
                  </a:lnTo>
                  <a:lnTo>
                    <a:pt x="5725" y="209"/>
                  </a:lnTo>
                  <a:lnTo>
                    <a:pt x="6009" y="593"/>
                  </a:lnTo>
                  <a:lnTo>
                    <a:pt x="6257" y="1227"/>
                  </a:lnTo>
                  <a:lnTo>
                    <a:pt x="6285" y="1613"/>
                  </a:lnTo>
                  <a:lnTo>
                    <a:pt x="6453" y="1909"/>
                  </a:lnTo>
                  <a:lnTo>
                    <a:pt x="6501" y="2389"/>
                  </a:lnTo>
                  <a:lnTo>
                    <a:pt x="6382" y="2840"/>
                  </a:lnTo>
                  <a:lnTo>
                    <a:pt x="6172" y="3137"/>
                  </a:lnTo>
                  <a:lnTo>
                    <a:pt x="6122" y="3443"/>
                  </a:lnTo>
                  <a:lnTo>
                    <a:pt x="5644" y="3733"/>
                  </a:lnTo>
                  <a:lnTo>
                    <a:pt x="5584" y="3443"/>
                  </a:lnTo>
                  <a:lnTo>
                    <a:pt x="5529" y="3346"/>
                  </a:lnTo>
                  <a:lnTo>
                    <a:pt x="5487" y="3110"/>
                  </a:lnTo>
                  <a:lnTo>
                    <a:pt x="5460" y="2866"/>
                  </a:lnTo>
                  <a:lnTo>
                    <a:pt x="5529" y="2361"/>
                  </a:lnTo>
                  <a:lnTo>
                    <a:pt x="5487" y="2151"/>
                  </a:lnTo>
                  <a:lnTo>
                    <a:pt x="5396" y="1942"/>
                  </a:lnTo>
                  <a:lnTo>
                    <a:pt x="5368" y="1791"/>
                  </a:lnTo>
                  <a:lnTo>
                    <a:pt x="5249" y="1674"/>
                  </a:lnTo>
                  <a:lnTo>
                    <a:pt x="5159" y="1496"/>
                  </a:lnTo>
                  <a:lnTo>
                    <a:pt x="5116" y="1194"/>
                  </a:lnTo>
                  <a:lnTo>
                    <a:pt x="5024" y="1168"/>
                  </a:lnTo>
                  <a:lnTo>
                    <a:pt x="4647" y="1168"/>
                  </a:lnTo>
                  <a:lnTo>
                    <a:pt x="4528" y="1107"/>
                  </a:lnTo>
                  <a:lnTo>
                    <a:pt x="4457" y="985"/>
                  </a:lnTo>
                  <a:lnTo>
                    <a:pt x="4334" y="1018"/>
                  </a:lnTo>
                  <a:lnTo>
                    <a:pt x="4220" y="1168"/>
                  </a:lnTo>
                  <a:lnTo>
                    <a:pt x="4108" y="1259"/>
                  </a:lnTo>
                  <a:lnTo>
                    <a:pt x="3828" y="1404"/>
                  </a:lnTo>
                  <a:lnTo>
                    <a:pt x="3729" y="1430"/>
                  </a:lnTo>
                  <a:lnTo>
                    <a:pt x="3616" y="2212"/>
                  </a:lnTo>
                  <a:lnTo>
                    <a:pt x="3639" y="2605"/>
                  </a:lnTo>
                  <a:lnTo>
                    <a:pt x="3828" y="3346"/>
                  </a:lnTo>
                  <a:lnTo>
                    <a:pt x="3961" y="3465"/>
                  </a:lnTo>
                  <a:lnTo>
                    <a:pt x="4128" y="3583"/>
                  </a:lnTo>
                  <a:lnTo>
                    <a:pt x="4199" y="3825"/>
                  </a:lnTo>
                  <a:lnTo>
                    <a:pt x="4172" y="4067"/>
                  </a:lnTo>
                  <a:lnTo>
                    <a:pt x="3680" y="4927"/>
                  </a:lnTo>
                  <a:lnTo>
                    <a:pt x="3477" y="4723"/>
                  </a:lnTo>
                  <a:lnTo>
                    <a:pt x="3428" y="4573"/>
                  </a:lnTo>
                  <a:lnTo>
                    <a:pt x="3445" y="4337"/>
                  </a:lnTo>
                  <a:lnTo>
                    <a:pt x="3520" y="4153"/>
                  </a:lnTo>
                  <a:lnTo>
                    <a:pt x="3655" y="3825"/>
                  </a:lnTo>
                  <a:lnTo>
                    <a:pt x="2975" y="4094"/>
                  </a:lnTo>
                  <a:lnTo>
                    <a:pt x="2792" y="4283"/>
                  </a:lnTo>
                  <a:lnTo>
                    <a:pt x="2604" y="4573"/>
                  </a:lnTo>
                  <a:lnTo>
                    <a:pt x="2486" y="4992"/>
                  </a:lnTo>
                  <a:lnTo>
                    <a:pt x="2420" y="6035"/>
                  </a:lnTo>
                  <a:lnTo>
                    <a:pt x="2231" y="6666"/>
                  </a:lnTo>
                  <a:lnTo>
                    <a:pt x="2160" y="6994"/>
                  </a:lnTo>
                  <a:lnTo>
                    <a:pt x="2135" y="7150"/>
                  </a:lnTo>
                  <a:lnTo>
                    <a:pt x="2086" y="7150"/>
                  </a:lnTo>
                  <a:lnTo>
                    <a:pt x="2135" y="5896"/>
                  </a:lnTo>
                  <a:lnTo>
                    <a:pt x="2015" y="5201"/>
                  </a:lnTo>
                  <a:lnTo>
                    <a:pt x="1806" y="4782"/>
                  </a:lnTo>
                  <a:lnTo>
                    <a:pt x="1455" y="4482"/>
                  </a:lnTo>
                  <a:lnTo>
                    <a:pt x="804" y="4067"/>
                  </a:lnTo>
                  <a:lnTo>
                    <a:pt x="212" y="3713"/>
                  </a:lnTo>
                  <a:lnTo>
                    <a:pt x="0" y="3555"/>
                  </a:lnTo>
                  <a:lnTo>
                    <a:pt x="28" y="3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23360" y="3262680"/>
              <a:ext cx="111960" cy="245880"/>
            </a:xfrm>
            <a:custGeom>
              <a:avLst/>
              <a:gdLst/>
              <a:ahLst/>
              <a:rect l="l" t="t" r="r" b="b"/>
              <a:pathLst>
                <a:path w="2915" h="4418">
                  <a:moveTo>
                    <a:pt x="2862" y="441"/>
                  </a:moveTo>
                  <a:lnTo>
                    <a:pt x="2421" y="808"/>
                  </a:lnTo>
                  <a:lnTo>
                    <a:pt x="1833" y="1432"/>
                  </a:lnTo>
                  <a:lnTo>
                    <a:pt x="1294" y="2147"/>
                  </a:lnTo>
                  <a:lnTo>
                    <a:pt x="847" y="2927"/>
                  </a:lnTo>
                  <a:lnTo>
                    <a:pt x="425" y="3793"/>
                  </a:lnTo>
                  <a:lnTo>
                    <a:pt x="216" y="4418"/>
                  </a:lnTo>
                  <a:lnTo>
                    <a:pt x="0" y="4369"/>
                  </a:lnTo>
                  <a:lnTo>
                    <a:pt x="119" y="3793"/>
                  </a:lnTo>
                  <a:lnTo>
                    <a:pt x="356" y="3110"/>
                  </a:lnTo>
                  <a:lnTo>
                    <a:pt x="733" y="2264"/>
                  </a:lnTo>
                  <a:lnTo>
                    <a:pt x="1008" y="1764"/>
                  </a:lnTo>
                  <a:lnTo>
                    <a:pt x="1622" y="1039"/>
                  </a:lnTo>
                  <a:lnTo>
                    <a:pt x="2280" y="474"/>
                  </a:lnTo>
                  <a:lnTo>
                    <a:pt x="2744" y="151"/>
                  </a:lnTo>
                  <a:lnTo>
                    <a:pt x="2915" y="0"/>
                  </a:lnTo>
                  <a:lnTo>
                    <a:pt x="2862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81240" y="3508560"/>
              <a:ext cx="85320" cy="95400"/>
            </a:xfrm>
            <a:custGeom>
              <a:avLst/>
              <a:gdLst/>
              <a:ahLst/>
              <a:rect l="l" t="t" r="r" b="b"/>
              <a:pathLst>
                <a:path w="2231" h="1710">
                  <a:moveTo>
                    <a:pt x="1848" y="1710"/>
                  </a:moveTo>
                  <a:lnTo>
                    <a:pt x="2231" y="456"/>
                  </a:lnTo>
                  <a:lnTo>
                    <a:pt x="1831" y="364"/>
                  </a:lnTo>
                  <a:lnTo>
                    <a:pt x="1648" y="843"/>
                  </a:lnTo>
                  <a:lnTo>
                    <a:pt x="1475" y="811"/>
                  </a:lnTo>
                  <a:lnTo>
                    <a:pt x="1475" y="392"/>
                  </a:lnTo>
                  <a:lnTo>
                    <a:pt x="1281" y="122"/>
                  </a:lnTo>
                  <a:lnTo>
                    <a:pt x="731" y="0"/>
                  </a:lnTo>
                  <a:lnTo>
                    <a:pt x="705" y="122"/>
                  </a:lnTo>
                  <a:lnTo>
                    <a:pt x="563" y="209"/>
                  </a:lnTo>
                  <a:lnTo>
                    <a:pt x="252" y="209"/>
                  </a:lnTo>
                  <a:lnTo>
                    <a:pt x="473" y="300"/>
                  </a:lnTo>
                  <a:lnTo>
                    <a:pt x="586" y="331"/>
                  </a:lnTo>
                  <a:lnTo>
                    <a:pt x="634" y="392"/>
                  </a:lnTo>
                  <a:lnTo>
                    <a:pt x="614" y="456"/>
                  </a:lnTo>
                  <a:lnTo>
                    <a:pt x="563" y="483"/>
                  </a:lnTo>
                  <a:lnTo>
                    <a:pt x="446" y="509"/>
                  </a:lnTo>
                  <a:lnTo>
                    <a:pt x="614" y="537"/>
                  </a:lnTo>
                  <a:lnTo>
                    <a:pt x="634" y="570"/>
                  </a:lnTo>
                  <a:lnTo>
                    <a:pt x="634" y="660"/>
                  </a:lnTo>
                  <a:lnTo>
                    <a:pt x="515" y="692"/>
                  </a:lnTo>
                  <a:lnTo>
                    <a:pt x="370" y="718"/>
                  </a:lnTo>
                  <a:lnTo>
                    <a:pt x="0" y="537"/>
                  </a:lnTo>
                  <a:lnTo>
                    <a:pt x="209" y="779"/>
                  </a:lnTo>
                  <a:lnTo>
                    <a:pt x="209" y="1288"/>
                  </a:lnTo>
                  <a:lnTo>
                    <a:pt x="328" y="1559"/>
                  </a:lnTo>
                  <a:lnTo>
                    <a:pt x="446" y="1646"/>
                  </a:lnTo>
                  <a:lnTo>
                    <a:pt x="489" y="1646"/>
                  </a:lnTo>
                  <a:lnTo>
                    <a:pt x="489" y="1262"/>
                  </a:lnTo>
                  <a:lnTo>
                    <a:pt x="586" y="876"/>
                  </a:lnTo>
                  <a:lnTo>
                    <a:pt x="1126" y="988"/>
                  </a:lnTo>
                  <a:lnTo>
                    <a:pt x="1433" y="956"/>
                  </a:lnTo>
                  <a:lnTo>
                    <a:pt x="1616" y="1015"/>
                  </a:lnTo>
                  <a:lnTo>
                    <a:pt x="1616" y="1527"/>
                  </a:lnTo>
                  <a:lnTo>
                    <a:pt x="1848" y="1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78360" y="3502440"/>
              <a:ext cx="4320" cy="36000"/>
            </a:xfrm>
            <a:custGeom>
              <a:avLst/>
              <a:gdLst/>
              <a:ahLst/>
              <a:rect l="l" t="t" r="r" b="b"/>
              <a:pathLst>
                <a:path w="117" h="651">
                  <a:moveTo>
                    <a:pt x="65" y="651"/>
                  </a:moveTo>
                  <a:lnTo>
                    <a:pt x="65" y="570"/>
                  </a:lnTo>
                  <a:lnTo>
                    <a:pt x="0" y="355"/>
                  </a:lnTo>
                  <a:lnTo>
                    <a:pt x="0" y="178"/>
                  </a:lnTo>
                  <a:lnTo>
                    <a:pt x="1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191680" y="3497040"/>
              <a:ext cx="66600" cy="34560"/>
            </a:xfrm>
            <a:custGeom>
              <a:avLst/>
              <a:gdLst/>
              <a:ahLst/>
              <a:rect l="l" t="t" r="r" b="b"/>
              <a:pathLst>
                <a:path w="1739" h="630">
                  <a:moveTo>
                    <a:pt x="0" y="0"/>
                  </a:moveTo>
                  <a:lnTo>
                    <a:pt x="451" y="98"/>
                  </a:lnTo>
                  <a:lnTo>
                    <a:pt x="866" y="184"/>
                  </a:lnTo>
                  <a:lnTo>
                    <a:pt x="1056" y="276"/>
                  </a:lnTo>
                  <a:lnTo>
                    <a:pt x="1385" y="512"/>
                  </a:lnTo>
                  <a:lnTo>
                    <a:pt x="1739" y="6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99600" y="3604320"/>
              <a:ext cx="1080" cy="86760"/>
            </a:xfrm>
            <a:custGeom>
              <a:avLst/>
              <a:gdLst/>
              <a:ahLst/>
              <a:rect l="l" t="t" r="r" b="b"/>
              <a:pathLst>
                <a:path w="36" h="1560">
                  <a:moveTo>
                    <a:pt x="10" y="0"/>
                  </a:moveTo>
                  <a:lnTo>
                    <a:pt x="36" y="651"/>
                  </a:lnTo>
                  <a:lnTo>
                    <a:pt x="26" y="1087"/>
                  </a:lnTo>
                  <a:lnTo>
                    <a:pt x="0" y="15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35240" y="3090240"/>
              <a:ext cx="83880" cy="132840"/>
            </a:xfrm>
            <a:custGeom>
              <a:avLst/>
              <a:gdLst/>
              <a:ahLst/>
              <a:rect l="l" t="t" r="r" b="b"/>
              <a:pathLst>
                <a:path w="2182" h="2392">
                  <a:moveTo>
                    <a:pt x="64" y="2392"/>
                  </a:moveTo>
                  <a:lnTo>
                    <a:pt x="0" y="2086"/>
                  </a:lnTo>
                  <a:lnTo>
                    <a:pt x="0" y="1819"/>
                  </a:lnTo>
                  <a:lnTo>
                    <a:pt x="76" y="1597"/>
                  </a:lnTo>
                  <a:lnTo>
                    <a:pt x="145" y="1194"/>
                  </a:lnTo>
                  <a:lnTo>
                    <a:pt x="157" y="952"/>
                  </a:lnTo>
                  <a:lnTo>
                    <a:pt x="420" y="489"/>
                  </a:lnTo>
                  <a:lnTo>
                    <a:pt x="738" y="382"/>
                  </a:lnTo>
                  <a:lnTo>
                    <a:pt x="1023" y="199"/>
                  </a:lnTo>
                  <a:lnTo>
                    <a:pt x="1416" y="138"/>
                  </a:lnTo>
                  <a:lnTo>
                    <a:pt x="1693" y="0"/>
                  </a:lnTo>
                  <a:lnTo>
                    <a:pt x="1864" y="0"/>
                  </a:lnTo>
                  <a:lnTo>
                    <a:pt x="2182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00480" y="3146760"/>
              <a:ext cx="54360" cy="35280"/>
            </a:xfrm>
            <a:custGeom>
              <a:avLst/>
              <a:gdLst/>
              <a:ahLst/>
              <a:rect l="l" t="t" r="r" b="b"/>
              <a:pathLst>
                <a:path w="1421" h="640">
                  <a:moveTo>
                    <a:pt x="603" y="141"/>
                  </a:moveTo>
                  <a:lnTo>
                    <a:pt x="603" y="350"/>
                  </a:lnTo>
                  <a:lnTo>
                    <a:pt x="548" y="431"/>
                  </a:lnTo>
                  <a:lnTo>
                    <a:pt x="403" y="528"/>
                  </a:lnTo>
                  <a:lnTo>
                    <a:pt x="290" y="544"/>
                  </a:lnTo>
                  <a:lnTo>
                    <a:pt x="150" y="544"/>
                  </a:lnTo>
                  <a:lnTo>
                    <a:pt x="64" y="495"/>
                  </a:lnTo>
                  <a:lnTo>
                    <a:pt x="4" y="399"/>
                  </a:lnTo>
                  <a:lnTo>
                    <a:pt x="0" y="238"/>
                  </a:lnTo>
                  <a:lnTo>
                    <a:pt x="4" y="96"/>
                  </a:lnTo>
                  <a:lnTo>
                    <a:pt x="43" y="38"/>
                  </a:lnTo>
                  <a:lnTo>
                    <a:pt x="161" y="0"/>
                  </a:lnTo>
                  <a:lnTo>
                    <a:pt x="403" y="0"/>
                  </a:lnTo>
                  <a:lnTo>
                    <a:pt x="522" y="38"/>
                  </a:lnTo>
                  <a:lnTo>
                    <a:pt x="603" y="96"/>
                  </a:lnTo>
                  <a:lnTo>
                    <a:pt x="780" y="96"/>
                  </a:lnTo>
                  <a:lnTo>
                    <a:pt x="866" y="119"/>
                  </a:lnTo>
                  <a:lnTo>
                    <a:pt x="996" y="86"/>
                  </a:lnTo>
                  <a:lnTo>
                    <a:pt x="1115" y="86"/>
                  </a:lnTo>
                  <a:lnTo>
                    <a:pt x="1266" y="96"/>
                  </a:lnTo>
                  <a:lnTo>
                    <a:pt x="1385" y="167"/>
                  </a:lnTo>
                  <a:lnTo>
                    <a:pt x="1421" y="248"/>
                  </a:lnTo>
                  <a:lnTo>
                    <a:pt x="1421" y="431"/>
                  </a:lnTo>
                  <a:lnTo>
                    <a:pt x="1347" y="576"/>
                  </a:lnTo>
                  <a:lnTo>
                    <a:pt x="1244" y="640"/>
                  </a:lnTo>
                  <a:lnTo>
                    <a:pt x="1044" y="592"/>
                  </a:lnTo>
                  <a:lnTo>
                    <a:pt x="906" y="495"/>
                  </a:lnTo>
                  <a:lnTo>
                    <a:pt x="866" y="399"/>
                  </a:lnTo>
                  <a:lnTo>
                    <a:pt x="861" y="248"/>
                  </a:lnTo>
                  <a:lnTo>
                    <a:pt x="861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73120" y="3057480"/>
              <a:ext cx="89640" cy="124560"/>
            </a:xfrm>
            <a:custGeom>
              <a:avLst/>
              <a:gdLst/>
              <a:ahLst/>
              <a:rect l="l" t="t" r="r" b="b"/>
              <a:pathLst>
                <a:path w="2333" h="2241">
                  <a:moveTo>
                    <a:pt x="367" y="1977"/>
                  </a:moveTo>
                  <a:lnTo>
                    <a:pt x="232" y="1806"/>
                  </a:lnTo>
                  <a:lnTo>
                    <a:pt x="167" y="1488"/>
                  </a:lnTo>
                  <a:lnTo>
                    <a:pt x="64" y="1455"/>
                  </a:lnTo>
                  <a:lnTo>
                    <a:pt x="0" y="1532"/>
                  </a:lnTo>
                  <a:lnTo>
                    <a:pt x="0" y="1259"/>
                  </a:lnTo>
                  <a:lnTo>
                    <a:pt x="80" y="735"/>
                  </a:lnTo>
                  <a:lnTo>
                    <a:pt x="388" y="312"/>
                  </a:lnTo>
                  <a:lnTo>
                    <a:pt x="685" y="274"/>
                  </a:lnTo>
                  <a:lnTo>
                    <a:pt x="851" y="58"/>
                  </a:lnTo>
                  <a:lnTo>
                    <a:pt x="1233" y="0"/>
                  </a:lnTo>
                  <a:lnTo>
                    <a:pt x="1622" y="106"/>
                  </a:lnTo>
                  <a:lnTo>
                    <a:pt x="1967" y="312"/>
                  </a:lnTo>
                  <a:lnTo>
                    <a:pt x="2241" y="766"/>
                  </a:lnTo>
                  <a:lnTo>
                    <a:pt x="2312" y="1140"/>
                  </a:lnTo>
                  <a:lnTo>
                    <a:pt x="2333" y="1552"/>
                  </a:lnTo>
                  <a:lnTo>
                    <a:pt x="2231" y="2032"/>
                  </a:lnTo>
                  <a:lnTo>
                    <a:pt x="2106" y="2241"/>
                  </a:lnTo>
                  <a:lnTo>
                    <a:pt x="2122" y="2010"/>
                  </a:lnTo>
                  <a:lnTo>
                    <a:pt x="2122" y="1327"/>
                  </a:lnTo>
                  <a:lnTo>
                    <a:pt x="1957" y="1279"/>
                  </a:lnTo>
                  <a:lnTo>
                    <a:pt x="1773" y="1111"/>
                  </a:lnTo>
                  <a:lnTo>
                    <a:pt x="1481" y="999"/>
                  </a:lnTo>
                  <a:lnTo>
                    <a:pt x="1249" y="885"/>
                  </a:lnTo>
                  <a:lnTo>
                    <a:pt x="1094" y="718"/>
                  </a:lnTo>
                  <a:lnTo>
                    <a:pt x="981" y="537"/>
                  </a:lnTo>
                  <a:lnTo>
                    <a:pt x="808" y="409"/>
                  </a:lnTo>
                  <a:lnTo>
                    <a:pt x="785" y="606"/>
                  </a:lnTo>
                  <a:lnTo>
                    <a:pt x="701" y="735"/>
                  </a:lnTo>
                  <a:lnTo>
                    <a:pt x="566" y="834"/>
                  </a:lnTo>
                  <a:lnTo>
                    <a:pt x="489" y="982"/>
                  </a:lnTo>
                  <a:lnTo>
                    <a:pt x="479" y="1111"/>
                  </a:lnTo>
                  <a:lnTo>
                    <a:pt x="502" y="1290"/>
                  </a:lnTo>
                  <a:lnTo>
                    <a:pt x="457" y="1407"/>
                  </a:lnTo>
                  <a:lnTo>
                    <a:pt x="398" y="1521"/>
                  </a:lnTo>
                  <a:lnTo>
                    <a:pt x="367" y="1687"/>
                  </a:lnTo>
                  <a:lnTo>
                    <a:pt x="344" y="1849"/>
                  </a:lnTo>
                  <a:lnTo>
                    <a:pt x="367" y="1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86440" y="3224880"/>
              <a:ext cx="51480" cy="46080"/>
            </a:xfrm>
            <a:custGeom>
              <a:avLst/>
              <a:gdLst/>
              <a:ahLst/>
              <a:rect l="l" t="t" r="r" b="b"/>
              <a:pathLst>
                <a:path w="1343" h="835">
                  <a:moveTo>
                    <a:pt x="0" y="0"/>
                  </a:moveTo>
                  <a:lnTo>
                    <a:pt x="113" y="216"/>
                  </a:lnTo>
                  <a:lnTo>
                    <a:pt x="293" y="394"/>
                  </a:lnTo>
                  <a:lnTo>
                    <a:pt x="528" y="591"/>
                  </a:lnTo>
                  <a:lnTo>
                    <a:pt x="863" y="770"/>
                  </a:lnTo>
                  <a:lnTo>
                    <a:pt x="1078" y="835"/>
                  </a:lnTo>
                  <a:lnTo>
                    <a:pt x="1197" y="755"/>
                  </a:lnTo>
                  <a:lnTo>
                    <a:pt x="1278" y="607"/>
                  </a:lnTo>
                  <a:lnTo>
                    <a:pt x="1343" y="4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6760" y="3241440"/>
              <a:ext cx="146880" cy="452160"/>
            </a:xfrm>
            <a:custGeom>
              <a:avLst/>
              <a:gdLst/>
              <a:ahLst/>
              <a:rect l="l" t="t" r="r" b="b"/>
              <a:pathLst>
                <a:path w="3826" h="8123">
                  <a:moveTo>
                    <a:pt x="2744" y="467"/>
                  </a:moveTo>
                  <a:lnTo>
                    <a:pt x="2943" y="1179"/>
                  </a:lnTo>
                  <a:lnTo>
                    <a:pt x="2943" y="1694"/>
                  </a:lnTo>
                  <a:lnTo>
                    <a:pt x="2663" y="1118"/>
                  </a:lnTo>
                  <a:lnTo>
                    <a:pt x="2641" y="850"/>
                  </a:lnTo>
                  <a:lnTo>
                    <a:pt x="2452" y="495"/>
                  </a:lnTo>
                  <a:lnTo>
                    <a:pt x="2376" y="515"/>
                  </a:lnTo>
                  <a:lnTo>
                    <a:pt x="2258" y="515"/>
                  </a:lnTo>
                  <a:lnTo>
                    <a:pt x="2215" y="876"/>
                  </a:lnTo>
                  <a:lnTo>
                    <a:pt x="2431" y="1037"/>
                  </a:lnTo>
                  <a:lnTo>
                    <a:pt x="2490" y="1146"/>
                  </a:lnTo>
                  <a:lnTo>
                    <a:pt x="2376" y="1372"/>
                  </a:lnTo>
                  <a:lnTo>
                    <a:pt x="2317" y="1974"/>
                  </a:lnTo>
                  <a:lnTo>
                    <a:pt x="2274" y="2077"/>
                  </a:lnTo>
                  <a:lnTo>
                    <a:pt x="1820" y="1259"/>
                  </a:lnTo>
                  <a:lnTo>
                    <a:pt x="1439" y="790"/>
                  </a:lnTo>
                  <a:lnTo>
                    <a:pt x="1176" y="300"/>
                  </a:lnTo>
                  <a:lnTo>
                    <a:pt x="1051" y="0"/>
                  </a:lnTo>
                  <a:lnTo>
                    <a:pt x="705" y="220"/>
                  </a:lnTo>
                  <a:lnTo>
                    <a:pt x="0" y="1118"/>
                  </a:lnTo>
                  <a:lnTo>
                    <a:pt x="87" y="1372"/>
                  </a:lnTo>
                  <a:lnTo>
                    <a:pt x="236" y="1510"/>
                  </a:lnTo>
                  <a:lnTo>
                    <a:pt x="776" y="1887"/>
                  </a:lnTo>
                  <a:lnTo>
                    <a:pt x="927" y="2109"/>
                  </a:lnTo>
                  <a:lnTo>
                    <a:pt x="1176" y="2324"/>
                  </a:lnTo>
                  <a:lnTo>
                    <a:pt x="1331" y="2716"/>
                  </a:lnTo>
                  <a:lnTo>
                    <a:pt x="1411" y="3260"/>
                  </a:lnTo>
                  <a:lnTo>
                    <a:pt x="1411" y="3749"/>
                  </a:lnTo>
                  <a:lnTo>
                    <a:pt x="1331" y="4492"/>
                  </a:lnTo>
                  <a:lnTo>
                    <a:pt x="1202" y="5202"/>
                  </a:lnTo>
                  <a:lnTo>
                    <a:pt x="1176" y="5836"/>
                  </a:lnTo>
                  <a:lnTo>
                    <a:pt x="1176" y="6686"/>
                  </a:lnTo>
                  <a:lnTo>
                    <a:pt x="1137" y="7504"/>
                  </a:lnTo>
                  <a:lnTo>
                    <a:pt x="1137" y="8123"/>
                  </a:lnTo>
                  <a:lnTo>
                    <a:pt x="1713" y="8123"/>
                  </a:lnTo>
                  <a:lnTo>
                    <a:pt x="1820" y="7591"/>
                  </a:lnTo>
                  <a:lnTo>
                    <a:pt x="1778" y="7176"/>
                  </a:lnTo>
                  <a:lnTo>
                    <a:pt x="1864" y="6660"/>
                  </a:lnTo>
                  <a:lnTo>
                    <a:pt x="1820" y="6380"/>
                  </a:lnTo>
                  <a:lnTo>
                    <a:pt x="1907" y="6186"/>
                  </a:lnTo>
                  <a:lnTo>
                    <a:pt x="2106" y="6003"/>
                  </a:lnTo>
                  <a:lnTo>
                    <a:pt x="2144" y="5642"/>
                  </a:lnTo>
                  <a:lnTo>
                    <a:pt x="2365" y="4464"/>
                  </a:lnTo>
                  <a:lnTo>
                    <a:pt x="2376" y="3642"/>
                  </a:lnTo>
                  <a:lnTo>
                    <a:pt x="2554" y="2683"/>
                  </a:lnTo>
                  <a:lnTo>
                    <a:pt x="2808" y="2001"/>
                  </a:lnTo>
                  <a:lnTo>
                    <a:pt x="3028" y="1785"/>
                  </a:lnTo>
                  <a:lnTo>
                    <a:pt x="3826" y="1259"/>
                  </a:lnTo>
                  <a:lnTo>
                    <a:pt x="3674" y="1092"/>
                  </a:lnTo>
                  <a:lnTo>
                    <a:pt x="3353" y="850"/>
                  </a:lnTo>
                  <a:lnTo>
                    <a:pt x="2943" y="624"/>
                  </a:lnTo>
                  <a:lnTo>
                    <a:pt x="2744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68880" y="3109320"/>
              <a:ext cx="134280" cy="416160"/>
            </a:xfrm>
            <a:custGeom>
              <a:avLst/>
              <a:gdLst/>
              <a:ahLst/>
              <a:rect l="l" t="t" r="r" b="b"/>
              <a:pathLst>
                <a:path w="3498" h="7466">
                  <a:moveTo>
                    <a:pt x="927" y="3491"/>
                  </a:moveTo>
                  <a:lnTo>
                    <a:pt x="1063" y="3636"/>
                  </a:lnTo>
                  <a:lnTo>
                    <a:pt x="1198" y="3662"/>
                  </a:lnTo>
                  <a:lnTo>
                    <a:pt x="786" y="5185"/>
                  </a:lnTo>
                  <a:lnTo>
                    <a:pt x="760" y="5466"/>
                  </a:lnTo>
                  <a:lnTo>
                    <a:pt x="1736" y="3807"/>
                  </a:lnTo>
                  <a:lnTo>
                    <a:pt x="2090" y="3453"/>
                  </a:lnTo>
                  <a:lnTo>
                    <a:pt x="1639" y="3636"/>
                  </a:lnTo>
                  <a:lnTo>
                    <a:pt x="2225" y="3318"/>
                  </a:lnTo>
                  <a:lnTo>
                    <a:pt x="2582" y="2973"/>
                  </a:lnTo>
                  <a:lnTo>
                    <a:pt x="2609" y="2593"/>
                  </a:lnTo>
                  <a:lnTo>
                    <a:pt x="2502" y="2216"/>
                  </a:lnTo>
                  <a:lnTo>
                    <a:pt x="2360" y="1726"/>
                  </a:lnTo>
                  <a:lnTo>
                    <a:pt x="2064" y="1586"/>
                  </a:lnTo>
                  <a:lnTo>
                    <a:pt x="1983" y="1382"/>
                  </a:lnTo>
                  <a:lnTo>
                    <a:pt x="1794" y="1382"/>
                  </a:lnTo>
                  <a:lnTo>
                    <a:pt x="1720" y="1209"/>
                  </a:lnTo>
                  <a:lnTo>
                    <a:pt x="1736" y="930"/>
                  </a:lnTo>
                  <a:lnTo>
                    <a:pt x="1359" y="1102"/>
                  </a:lnTo>
                  <a:lnTo>
                    <a:pt x="1229" y="1311"/>
                  </a:lnTo>
                  <a:lnTo>
                    <a:pt x="1198" y="1586"/>
                  </a:lnTo>
                  <a:lnTo>
                    <a:pt x="975" y="1485"/>
                  </a:lnTo>
                  <a:lnTo>
                    <a:pt x="927" y="1662"/>
                  </a:lnTo>
                  <a:lnTo>
                    <a:pt x="733" y="1662"/>
                  </a:lnTo>
                  <a:lnTo>
                    <a:pt x="702" y="2039"/>
                  </a:lnTo>
                  <a:lnTo>
                    <a:pt x="598" y="2419"/>
                  </a:lnTo>
                  <a:lnTo>
                    <a:pt x="621" y="2593"/>
                  </a:lnTo>
                  <a:lnTo>
                    <a:pt x="786" y="3179"/>
                  </a:lnTo>
                  <a:lnTo>
                    <a:pt x="572" y="3108"/>
                  </a:lnTo>
                  <a:lnTo>
                    <a:pt x="490" y="2947"/>
                  </a:lnTo>
                  <a:lnTo>
                    <a:pt x="328" y="2866"/>
                  </a:lnTo>
                  <a:lnTo>
                    <a:pt x="135" y="2629"/>
                  </a:lnTo>
                  <a:lnTo>
                    <a:pt x="135" y="2139"/>
                  </a:lnTo>
                  <a:lnTo>
                    <a:pt x="0" y="1866"/>
                  </a:lnTo>
                  <a:lnTo>
                    <a:pt x="135" y="1521"/>
                  </a:lnTo>
                  <a:lnTo>
                    <a:pt x="0" y="1273"/>
                  </a:lnTo>
                  <a:lnTo>
                    <a:pt x="28" y="999"/>
                  </a:lnTo>
                  <a:lnTo>
                    <a:pt x="276" y="693"/>
                  </a:lnTo>
                  <a:lnTo>
                    <a:pt x="544" y="311"/>
                  </a:lnTo>
                  <a:lnTo>
                    <a:pt x="1063" y="0"/>
                  </a:lnTo>
                  <a:lnTo>
                    <a:pt x="1466" y="0"/>
                  </a:lnTo>
                  <a:lnTo>
                    <a:pt x="1736" y="129"/>
                  </a:lnTo>
                  <a:lnTo>
                    <a:pt x="1929" y="129"/>
                  </a:lnTo>
                  <a:lnTo>
                    <a:pt x="2010" y="204"/>
                  </a:lnTo>
                  <a:lnTo>
                    <a:pt x="2286" y="101"/>
                  </a:lnTo>
                  <a:lnTo>
                    <a:pt x="2502" y="101"/>
                  </a:lnTo>
                  <a:lnTo>
                    <a:pt x="2718" y="311"/>
                  </a:lnTo>
                  <a:lnTo>
                    <a:pt x="2986" y="963"/>
                  </a:lnTo>
                  <a:lnTo>
                    <a:pt x="3288" y="1311"/>
                  </a:lnTo>
                  <a:lnTo>
                    <a:pt x="3320" y="1662"/>
                  </a:lnTo>
                  <a:lnTo>
                    <a:pt x="3288" y="1866"/>
                  </a:lnTo>
                  <a:lnTo>
                    <a:pt x="3472" y="2216"/>
                  </a:lnTo>
                  <a:lnTo>
                    <a:pt x="3498" y="2458"/>
                  </a:lnTo>
                  <a:lnTo>
                    <a:pt x="3391" y="2700"/>
                  </a:lnTo>
                  <a:lnTo>
                    <a:pt x="3368" y="2947"/>
                  </a:lnTo>
                  <a:lnTo>
                    <a:pt x="3472" y="3108"/>
                  </a:lnTo>
                  <a:lnTo>
                    <a:pt x="3230" y="3421"/>
                  </a:lnTo>
                  <a:lnTo>
                    <a:pt x="2965" y="3527"/>
                  </a:lnTo>
                  <a:lnTo>
                    <a:pt x="2657" y="3527"/>
                  </a:lnTo>
                  <a:lnTo>
                    <a:pt x="1957" y="4217"/>
                  </a:lnTo>
                  <a:lnTo>
                    <a:pt x="1466" y="4937"/>
                  </a:lnTo>
                  <a:lnTo>
                    <a:pt x="786" y="5669"/>
                  </a:lnTo>
                  <a:lnTo>
                    <a:pt x="135" y="6879"/>
                  </a:lnTo>
                  <a:lnTo>
                    <a:pt x="28" y="7466"/>
                  </a:lnTo>
                  <a:lnTo>
                    <a:pt x="28" y="6573"/>
                  </a:lnTo>
                  <a:lnTo>
                    <a:pt x="383" y="4873"/>
                  </a:lnTo>
                  <a:lnTo>
                    <a:pt x="760" y="3871"/>
                  </a:lnTo>
                  <a:lnTo>
                    <a:pt x="975" y="3636"/>
                  </a:lnTo>
                  <a:lnTo>
                    <a:pt x="927" y="3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97320" y="3459600"/>
              <a:ext cx="66600" cy="231480"/>
            </a:xfrm>
            <a:custGeom>
              <a:avLst/>
              <a:gdLst/>
              <a:ahLst/>
              <a:rect l="l" t="t" r="r" b="b"/>
              <a:pathLst>
                <a:path w="1741" h="4158">
                  <a:moveTo>
                    <a:pt x="1741" y="0"/>
                  </a:moveTo>
                  <a:lnTo>
                    <a:pt x="1277" y="1420"/>
                  </a:lnTo>
                  <a:lnTo>
                    <a:pt x="1250" y="1866"/>
                  </a:lnTo>
                  <a:lnTo>
                    <a:pt x="954" y="2324"/>
                  </a:lnTo>
                  <a:lnTo>
                    <a:pt x="1110" y="2733"/>
                  </a:lnTo>
                  <a:lnTo>
                    <a:pt x="1029" y="2949"/>
                  </a:lnTo>
                  <a:lnTo>
                    <a:pt x="712" y="2949"/>
                  </a:lnTo>
                  <a:lnTo>
                    <a:pt x="465" y="3394"/>
                  </a:lnTo>
                  <a:lnTo>
                    <a:pt x="496" y="3560"/>
                  </a:lnTo>
                  <a:lnTo>
                    <a:pt x="0" y="4158"/>
                  </a:lnTo>
                  <a:lnTo>
                    <a:pt x="194" y="3599"/>
                  </a:lnTo>
                  <a:lnTo>
                    <a:pt x="387" y="2674"/>
                  </a:lnTo>
                  <a:lnTo>
                    <a:pt x="410" y="1973"/>
                  </a:lnTo>
                  <a:lnTo>
                    <a:pt x="465" y="1769"/>
                  </a:lnTo>
                  <a:lnTo>
                    <a:pt x="765" y="1909"/>
                  </a:lnTo>
                  <a:lnTo>
                    <a:pt x="922" y="1738"/>
                  </a:lnTo>
                  <a:lnTo>
                    <a:pt x="814" y="1451"/>
                  </a:lnTo>
                  <a:lnTo>
                    <a:pt x="987" y="1216"/>
                  </a:lnTo>
                  <a:lnTo>
                    <a:pt x="1196" y="1145"/>
                  </a:lnTo>
                  <a:lnTo>
                    <a:pt x="1408" y="833"/>
                  </a:lnTo>
                  <a:lnTo>
                    <a:pt x="1357" y="662"/>
                  </a:lnTo>
                  <a:lnTo>
                    <a:pt x="1472" y="521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72920" y="3309480"/>
              <a:ext cx="62280" cy="381600"/>
            </a:xfrm>
            <a:custGeom>
              <a:avLst/>
              <a:gdLst/>
              <a:ahLst/>
              <a:rect l="l" t="t" r="r" b="b"/>
              <a:pathLst>
                <a:path w="1623" h="6855">
                  <a:moveTo>
                    <a:pt x="0" y="0"/>
                  </a:moveTo>
                  <a:lnTo>
                    <a:pt x="486" y="280"/>
                  </a:lnTo>
                  <a:lnTo>
                    <a:pt x="1299" y="799"/>
                  </a:lnTo>
                  <a:lnTo>
                    <a:pt x="1541" y="1421"/>
                  </a:lnTo>
                  <a:lnTo>
                    <a:pt x="1623" y="2287"/>
                  </a:lnTo>
                  <a:lnTo>
                    <a:pt x="1569" y="3053"/>
                  </a:lnTo>
                  <a:lnTo>
                    <a:pt x="1192" y="4989"/>
                  </a:lnTo>
                  <a:lnTo>
                    <a:pt x="1159" y="5371"/>
                  </a:lnTo>
                  <a:lnTo>
                    <a:pt x="1299" y="5569"/>
                  </a:lnTo>
                  <a:lnTo>
                    <a:pt x="1299" y="5682"/>
                  </a:lnTo>
                  <a:lnTo>
                    <a:pt x="1192" y="5990"/>
                  </a:lnTo>
                  <a:lnTo>
                    <a:pt x="1192" y="6199"/>
                  </a:lnTo>
                  <a:lnTo>
                    <a:pt x="1266" y="6608"/>
                  </a:lnTo>
                  <a:lnTo>
                    <a:pt x="1266" y="68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942480" y="2038320"/>
            <a:ext cx="1040400" cy="1100160"/>
            <a:chOff x="942480" y="2038320"/>
            <a:chExt cx="1040400" cy="1100160"/>
          </a:xfrm>
        </p:grpSpPr>
        <p:sp>
          <p:nvSpPr>
            <p:cNvPr id="1025" name=""/>
            <p:cNvSpPr/>
            <p:nvPr/>
          </p:nvSpPr>
          <p:spPr>
            <a:xfrm>
              <a:off x="955800" y="2268720"/>
              <a:ext cx="867960" cy="793080"/>
            </a:xfrm>
            <a:custGeom>
              <a:avLst/>
              <a:gdLst/>
              <a:ahLst/>
              <a:rect l="l" t="t" r="r" b="b"/>
              <a:pathLst>
                <a:path w="8398" h="7221">
                  <a:moveTo>
                    <a:pt x="2623" y="603"/>
                  </a:moveTo>
                  <a:lnTo>
                    <a:pt x="2102" y="1736"/>
                  </a:lnTo>
                  <a:lnTo>
                    <a:pt x="2678" y="1450"/>
                  </a:lnTo>
                  <a:lnTo>
                    <a:pt x="2768" y="1475"/>
                  </a:lnTo>
                  <a:lnTo>
                    <a:pt x="2861" y="1571"/>
                  </a:lnTo>
                  <a:lnTo>
                    <a:pt x="3166" y="1426"/>
                  </a:lnTo>
                  <a:lnTo>
                    <a:pt x="3603" y="1426"/>
                  </a:lnTo>
                  <a:lnTo>
                    <a:pt x="3904" y="1182"/>
                  </a:lnTo>
                  <a:lnTo>
                    <a:pt x="5838" y="1549"/>
                  </a:lnTo>
                  <a:lnTo>
                    <a:pt x="6354" y="1862"/>
                  </a:lnTo>
                  <a:lnTo>
                    <a:pt x="6822" y="1982"/>
                  </a:lnTo>
                  <a:lnTo>
                    <a:pt x="7246" y="2272"/>
                  </a:lnTo>
                  <a:lnTo>
                    <a:pt x="7472" y="2323"/>
                  </a:lnTo>
                  <a:lnTo>
                    <a:pt x="7730" y="2540"/>
                  </a:lnTo>
                  <a:lnTo>
                    <a:pt x="7730" y="2611"/>
                  </a:lnTo>
                  <a:lnTo>
                    <a:pt x="7820" y="2681"/>
                  </a:lnTo>
                  <a:lnTo>
                    <a:pt x="7952" y="2966"/>
                  </a:lnTo>
                  <a:lnTo>
                    <a:pt x="8216" y="3283"/>
                  </a:lnTo>
                  <a:lnTo>
                    <a:pt x="8290" y="3670"/>
                  </a:lnTo>
                  <a:lnTo>
                    <a:pt x="8290" y="3960"/>
                  </a:lnTo>
                  <a:lnTo>
                    <a:pt x="8398" y="4129"/>
                  </a:lnTo>
                  <a:lnTo>
                    <a:pt x="8398" y="4303"/>
                  </a:lnTo>
                  <a:lnTo>
                    <a:pt x="8066" y="4850"/>
                  </a:lnTo>
                  <a:lnTo>
                    <a:pt x="7341" y="5452"/>
                  </a:lnTo>
                  <a:lnTo>
                    <a:pt x="7154" y="5386"/>
                  </a:lnTo>
                  <a:lnTo>
                    <a:pt x="7080" y="5021"/>
                  </a:lnTo>
                  <a:lnTo>
                    <a:pt x="6972" y="4875"/>
                  </a:lnTo>
                  <a:lnTo>
                    <a:pt x="6822" y="5362"/>
                  </a:lnTo>
                  <a:lnTo>
                    <a:pt x="6711" y="6689"/>
                  </a:lnTo>
                  <a:lnTo>
                    <a:pt x="6469" y="7221"/>
                  </a:lnTo>
                  <a:lnTo>
                    <a:pt x="2080" y="7221"/>
                  </a:lnTo>
                  <a:lnTo>
                    <a:pt x="1913" y="6740"/>
                  </a:lnTo>
                  <a:lnTo>
                    <a:pt x="2160" y="5652"/>
                  </a:lnTo>
                  <a:lnTo>
                    <a:pt x="1913" y="3554"/>
                  </a:lnTo>
                  <a:lnTo>
                    <a:pt x="1298" y="3568"/>
                  </a:lnTo>
                  <a:lnTo>
                    <a:pt x="946" y="3815"/>
                  </a:lnTo>
                  <a:lnTo>
                    <a:pt x="519" y="3740"/>
                  </a:lnTo>
                  <a:lnTo>
                    <a:pt x="129" y="3568"/>
                  </a:lnTo>
                  <a:lnTo>
                    <a:pt x="0" y="3136"/>
                  </a:lnTo>
                  <a:lnTo>
                    <a:pt x="118" y="2422"/>
                  </a:lnTo>
                  <a:lnTo>
                    <a:pt x="487" y="1643"/>
                  </a:lnTo>
                  <a:lnTo>
                    <a:pt x="1245" y="749"/>
                  </a:lnTo>
                  <a:lnTo>
                    <a:pt x="1865" y="0"/>
                  </a:lnTo>
                  <a:lnTo>
                    <a:pt x="2529" y="530"/>
                  </a:lnTo>
                  <a:lnTo>
                    <a:pt x="2623" y="6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14000" y="2648520"/>
              <a:ext cx="155160" cy="414720"/>
            </a:xfrm>
            <a:custGeom>
              <a:avLst/>
              <a:gdLst/>
              <a:ahLst/>
              <a:rect l="l" t="t" r="r" b="b"/>
              <a:pathLst>
                <a:path w="1505" h="3777">
                  <a:moveTo>
                    <a:pt x="1505" y="113"/>
                  </a:moveTo>
                  <a:lnTo>
                    <a:pt x="1413" y="258"/>
                  </a:lnTo>
                  <a:lnTo>
                    <a:pt x="1324" y="355"/>
                  </a:lnTo>
                  <a:lnTo>
                    <a:pt x="1347" y="576"/>
                  </a:lnTo>
                  <a:lnTo>
                    <a:pt x="1144" y="1799"/>
                  </a:lnTo>
                  <a:lnTo>
                    <a:pt x="833" y="2542"/>
                  </a:lnTo>
                  <a:lnTo>
                    <a:pt x="676" y="3158"/>
                  </a:lnTo>
                  <a:lnTo>
                    <a:pt x="575" y="3575"/>
                  </a:lnTo>
                  <a:lnTo>
                    <a:pt x="527" y="3777"/>
                  </a:lnTo>
                  <a:lnTo>
                    <a:pt x="0" y="3777"/>
                  </a:lnTo>
                  <a:lnTo>
                    <a:pt x="275" y="2783"/>
                  </a:lnTo>
                  <a:lnTo>
                    <a:pt x="685" y="1701"/>
                  </a:lnTo>
                  <a:lnTo>
                    <a:pt x="1045" y="525"/>
                  </a:lnTo>
                  <a:lnTo>
                    <a:pt x="1202" y="399"/>
                  </a:lnTo>
                  <a:lnTo>
                    <a:pt x="1153" y="219"/>
                  </a:lnTo>
                  <a:lnTo>
                    <a:pt x="1144" y="0"/>
                  </a:lnTo>
                  <a:lnTo>
                    <a:pt x="1395" y="0"/>
                  </a:lnTo>
                  <a:lnTo>
                    <a:pt x="1481" y="26"/>
                  </a:lnTo>
                  <a:lnTo>
                    <a:pt x="1505" y="1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13280" y="2646720"/>
              <a:ext cx="142560" cy="416520"/>
            </a:xfrm>
            <a:custGeom>
              <a:avLst/>
              <a:gdLst/>
              <a:ahLst/>
              <a:rect l="l" t="t" r="r" b="b"/>
              <a:pathLst>
                <a:path w="1386" h="3786">
                  <a:moveTo>
                    <a:pt x="1369" y="23"/>
                  </a:moveTo>
                  <a:lnTo>
                    <a:pt x="1316" y="78"/>
                  </a:lnTo>
                  <a:lnTo>
                    <a:pt x="1293" y="180"/>
                  </a:lnTo>
                  <a:lnTo>
                    <a:pt x="1307" y="283"/>
                  </a:lnTo>
                  <a:lnTo>
                    <a:pt x="1386" y="288"/>
                  </a:lnTo>
                  <a:lnTo>
                    <a:pt x="1337" y="364"/>
                  </a:lnTo>
                  <a:lnTo>
                    <a:pt x="1369" y="562"/>
                  </a:lnTo>
                  <a:lnTo>
                    <a:pt x="1337" y="968"/>
                  </a:lnTo>
                  <a:lnTo>
                    <a:pt x="1096" y="1978"/>
                  </a:lnTo>
                  <a:lnTo>
                    <a:pt x="1272" y="956"/>
                  </a:lnTo>
                  <a:lnTo>
                    <a:pt x="1270" y="760"/>
                  </a:lnTo>
                  <a:lnTo>
                    <a:pt x="1195" y="668"/>
                  </a:lnTo>
                  <a:lnTo>
                    <a:pt x="1138" y="687"/>
                  </a:lnTo>
                  <a:lnTo>
                    <a:pt x="1010" y="1070"/>
                  </a:lnTo>
                  <a:lnTo>
                    <a:pt x="790" y="1902"/>
                  </a:lnTo>
                  <a:lnTo>
                    <a:pt x="536" y="2600"/>
                  </a:lnTo>
                  <a:lnTo>
                    <a:pt x="294" y="3410"/>
                  </a:lnTo>
                  <a:lnTo>
                    <a:pt x="209" y="3786"/>
                  </a:lnTo>
                  <a:lnTo>
                    <a:pt x="0" y="3786"/>
                  </a:lnTo>
                  <a:lnTo>
                    <a:pt x="195" y="3124"/>
                  </a:lnTo>
                  <a:lnTo>
                    <a:pt x="670" y="1575"/>
                  </a:lnTo>
                  <a:lnTo>
                    <a:pt x="1056" y="534"/>
                  </a:lnTo>
                  <a:lnTo>
                    <a:pt x="1195" y="417"/>
                  </a:lnTo>
                  <a:lnTo>
                    <a:pt x="1182" y="316"/>
                  </a:lnTo>
                  <a:lnTo>
                    <a:pt x="1096" y="23"/>
                  </a:lnTo>
                  <a:lnTo>
                    <a:pt x="1261" y="0"/>
                  </a:lnTo>
                  <a:lnTo>
                    <a:pt x="1369" y="2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58640" y="2046240"/>
              <a:ext cx="257040" cy="187920"/>
            </a:xfrm>
            <a:custGeom>
              <a:avLst/>
              <a:gdLst/>
              <a:ahLst/>
              <a:rect l="l" t="t" r="r" b="b"/>
              <a:pathLst>
                <a:path w="2496" h="1712">
                  <a:moveTo>
                    <a:pt x="1154" y="0"/>
                  </a:moveTo>
                  <a:lnTo>
                    <a:pt x="354" y="327"/>
                  </a:lnTo>
                  <a:lnTo>
                    <a:pt x="0" y="1712"/>
                  </a:lnTo>
                  <a:lnTo>
                    <a:pt x="2334" y="1268"/>
                  </a:lnTo>
                  <a:lnTo>
                    <a:pt x="2486" y="1077"/>
                  </a:lnTo>
                  <a:lnTo>
                    <a:pt x="2496" y="947"/>
                  </a:lnTo>
                  <a:lnTo>
                    <a:pt x="2380" y="813"/>
                  </a:lnTo>
                  <a:lnTo>
                    <a:pt x="2297" y="609"/>
                  </a:lnTo>
                  <a:lnTo>
                    <a:pt x="2184" y="475"/>
                  </a:lnTo>
                  <a:lnTo>
                    <a:pt x="2009" y="262"/>
                  </a:lnTo>
                  <a:lnTo>
                    <a:pt x="1789" y="196"/>
                  </a:lnTo>
                  <a:lnTo>
                    <a:pt x="1712" y="216"/>
                  </a:lnTo>
                  <a:lnTo>
                    <a:pt x="1387" y="48"/>
                  </a:lnTo>
                  <a:lnTo>
                    <a:pt x="1154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87760" y="2718720"/>
              <a:ext cx="146160" cy="93960"/>
            </a:xfrm>
            <a:custGeom>
              <a:avLst/>
              <a:gdLst/>
              <a:ahLst/>
              <a:rect l="l" t="t" r="r" b="b"/>
              <a:pathLst>
                <a:path w="1411" h="860">
                  <a:moveTo>
                    <a:pt x="0" y="644"/>
                  </a:moveTo>
                  <a:lnTo>
                    <a:pt x="260" y="512"/>
                  </a:lnTo>
                  <a:lnTo>
                    <a:pt x="505" y="372"/>
                  </a:lnTo>
                  <a:lnTo>
                    <a:pt x="689" y="323"/>
                  </a:lnTo>
                  <a:lnTo>
                    <a:pt x="850" y="346"/>
                  </a:lnTo>
                  <a:lnTo>
                    <a:pt x="1037" y="442"/>
                  </a:lnTo>
                  <a:lnTo>
                    <a:pt x="1250" y="653"/>
                  </a:lnTo>
                  <a:lnTo>
                    <a:pt x="1376" y="860"/>
                  </a:lnTo>
                  <a:lnTo>
                    <a:pt x="1411" y="664"/>
                  </a:lnTo>
                  <a:lnTo>
                    <a:pt x="1387" y="442"/>
                  </a:lnTo>
                  <a:lnTo>
                    <a:pt x="1300" y="352"/>
                  </a:lnTo>
                  <a:lnTo>
                    <a:pt x="1185" y="293"/>
                  </a:lnTo>
                  <a:lnTo>
                    <a:pt x="1152" y="220"/>
                  </a:lnTo>
                  <a:lnTo>
                    <a:pt x="1134" y="115"/>
                  </a:lnTo>
                  <a:lnTo>
                    <a:pt x="1060" y="46"/>
                  </a:lnTo>
                  <a:lnTo>
                    <a:pt x="938" y="0"/>
                  </a:lnTo>
                  <a:lnTo>
                    <a:pt x="338" y="196"/>
                  </a:lnTo>
                  <a:lnTo>
                    <a:pt x="237" y="312"/>
                  </a:lnTo>
                  <a:lnTo>
                    <a:pt x="53" y="429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78040" y="2827080"/>
              <a:ext cx="111240" cy="131760"/>
            </a:xfrm>
            <a:custGeom>
              <a:avLst/>
              <a:gdLst/>
              <a:ahLst/>
              <a:rect l="l" t="t" r="r" b="b"/>
              <a:pathLst>
                <a:path w="1078" h="1202">
                  <a:moveTo>
                    <a:pt x="663" y="1120"/>
                  </a:moveTo>
                  <a:lnTo>
                    <a:pt x="465" y="868"/>
                  </a:lnTo>
                  <a:lnTo>
                    <a:pt x="391" y="527"/>
                  </a:lnTo>
                  <a:lnTo>
                    <a:pt x="285" y="472"/>
                  </a:lnTo>
                  <a:lnTo>
                    <a:pt x="235" y="384"/>
                  </a:lnTo>
                  <a:lnTo>
                    <a:pt x="0" y="327"/>
                  </a:lnTo>
                  <a:lnTo>
                    <a:pt x="15" y="195"/>
                  </a:lnTo>
                  <a:lnTo>
                    <a:pt x="90" y="134"/>
                  </a:lnTo>
                  <a:lnTo>
                    <a:pt x="541" y="0"/>
                  </a:lnTo>
                  <a:lnTo>
                    <a:pt x="790" y="0"/>
                  </a:lnTo>
                  <a:lnTo>
                    <a:pt x="885" y="149"/>
                  </a:lnTo>
                  <a:lnTo>
                    <a:pt x="1004" y="452"/>
                  </a:lnTo>
                  <a:lnTo>
                    <a:pt x="1048" y="721"/>
                  </a:lnTo>
                  <a:lnTo>
                    <a:pt x="1076" y="878"/>
                  </a:lnTo>
                  <a:lnTo>
                    <a:pt x="1078" y="1033"/>
                  </a:lnTo>
                  <a:lnTo>
                    <a:pt x="1039" y="1132"/>
                  </a:lnTo>
                  <a:lnTo>
                    <a:pt x="832" y="1202"/>
                  </a:lnTo>
                  <a:lnTo>
                    <a:pt x="663" y="112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3280" y="2170080"/>
              <a:ext cx="283320" cy="457920"/>
            </a:xfrm>
            <a:custGeom>
              <a:avLst/>
              <a:gdLst/>
              <a:ahLst/>
              <a:rect l="l" t="t" r="r" b="b"/>
              <a:pathLst>
                <a:path w="2747" h="4163">
                  <a:moveTo>
                    <a:pt x="1386" y="170"/>
                  </a:moveTo>
                  <a:lnTo>
                    <a:pt x="1109" y="240"/>
                  </a:lnTo>
                  <a:lnTo>
                    <a:pt x="968" y="350"/>
                  </a:lnTo>
                  <a:lnTo>
                    <a:pt x="723" y="438"/>
                  </a:lnTo>
                  <a:lnTo>
                    <a:pt x="410" y="839"/>
                  </a:lnTo>
                  <a:lnTo>
                    <a:pt x="237" y="814"/>
                  </a:lnTo>
                  <a:lnTo>
                    <a:pt x="127" y="827"/>
                  </a:lnTo>
                  <a:lnTo>
                    <a:pt x="13" y="886"/>
                  </a:lnTo>
                  <a:lnTo>
                    <a:pt x="0" y="1005"/>
                  </a:lnTo>
                  <a:lnTo>
                    <a:pt x="46" y="1302"/>
                  </a:lnTo>
                  <a:lnTo>
                    <a:pt x="200" y="1653"/>
                  </a:lnTo>
                  <a:lnTo>
                    <a:pt x="313" y="1778"/>
                  </a:lnTo>
                  <a:lnTo>
                    <a:pt x="433" y="1778"/>
                  </a:lnTo>
                  <a:lnTo>
                    <a:pt x="463" y="2033"/>
                  </a:lnTo>
                  <a:lnTo>
                    <a:pt x="463" y="2734"/>
                  </a:lnTo>
                  <a:lnTo>
                    <a:pt x="585" y="3152"/>
                  </a:lnTo>
                  <a:lnTo>
                    <a:pt x="982" y="3682"/>
                  </a:lnTo>
                  <a:lnTo>
                    <a:pt x="1291" y="4053"/>
                  </a:lnTo>
                  <a:lnTo>
                    <a:pt x="1314" y="4163"/>
                  </a:lnTo>
                  <a:lnTo>
                    <a:pt x="1441" y="3772"/>
                  </a:lnTo>
                  <a:lnTo>
                    <a:pt x="1795" y="3548"/>
                  </a:lnTo>
                  <a:lnTo>
                    <a:pt x="1940" y="3506"/>
                  </a:lnTo>
                  <a:lnTo>
                    <a:pt x="2037" y="3295"/>
                  </a:lnTo>
                  <a:lnTo>
                    <a:pt x="2028" y="3198"/>
                  </a:lnTo>
                  <a:lnTo>
                    <a:pt x="2028" y="3097"/>
                  </a:lnTo>
                  <a:lnTo>
                    <a:pt x="2162" y="2930"/>
                  </a:lnTo>
                  <a:lnTo>
                    <a:pt x="2323" y="2656"/>
                  </a:lnTo>
                  <a:lnTo>
                    <a:pt x="2423" y="2420"/>
                  </a:lnTo>
                  <a:lnTo>
                    <a:pt x="2544" y="2091"/>
                  </a:lnTo>
                  <a:lnTo>
                    <a:pt x="2643" y="1726"/>
                  </a:lnTo>
                  <a:lnTo>
                    <a:pt x="2696" y="1445"/>
                  </a:lnTo>
                  <a:lnTo>
                    <a:pt x="2696" y="1222"/>
                  </a:lnTo>
                  <a:lnTo>
                    <a:pt x="2696" y="814"/>
                  </a:lnTo>
                  <a:lnTo>
                    <a:pt x="2747" y="97"/>
                  </a:lnTo>
                  <a:lnTo>
                    <a:pt x="2648" y="0"/>
                  </a:lnTo>
                  <a:lnTo>
                    <a:pt x="1494" y="293"/>
                  </a:lnTo>
                  <a:lnTo>
                    <a:pt x="1369" y="293"/>
                  </a:lnTo>
                  <a:lnTo>
                    <a:pt x="1386" y="1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34280" y="2426760"/>
              <a:ext cx="75240" cy="113400"/>
            </a:xfrm>
            <a:custGeom>
              <a:avLst/>
              <a:gdLst/>
              <a:ahLst/>
              <a:rect l="l" t="t" r="r" b="b"/>
              <a:pathLst>
                <a:path w="726" h="1033">
                  <a:moveTo>
                    <a:pt x="726" y="0"/>
                  </a:moveTo>
                  <a:lnTo>
                    <a:pt x="627" y="69"/>
                  </a:lnTo>
                  <a:lnTo>
                    <a:pt x="397" y="413"/>
                  </a:lnTo>
                  <a:lnTo>
                    <a:pt x="272" y="526"/>
                  </a:lnTo>
                  <a:lnTo>
                    <a:pt x="83" y="786"/>
                  </a:lnTo>
                  <a:lnTo>
                    <a:pt x="0" y="1033"/>
                  </a:lnTo>
                  <a:lnTo>
                    <a:pt x="189" y="940"/>
                  </a:lnTo>
                  <a:lnTo>
                    <a:pt x="362" y="764"/>
                  </a:lnTo>
                  <a:lnTo>
                    <a:pt x="694" y="203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53440" y="2040840"/>
              <a:ext cx="334800" cy="308520"/>
            </a:xfrm>
            <a:custGeom>
              <a:avLst/>
              <a:gdLst/>
              <a:ahLst/>
              <a:rect l="l" t="t" r="r" b="b"/>
              <a:pathLst>
                <a:path w="3242" h="2812">
                  <a:moveTo>
                    <a:pt x="725" y="2649"/>
                  </a:moveTo>
                  <a:lnTo>
                    <a:pt x="899" y="2216"/>
                  </a:lnTo>
                  <a:lnTo>
                    <a:pt x="1165" y="1915"/>
                  </a:lnTo>
                  <a:lnTo>
                    <a:pt x="1469" y="1812"/>
                  </a:lnTo>
                  <a:lnTo>
                    <a:pt x="1637" y="1722"/>
                  </a:lnTo>
                  <a:lnTo>
                    <a:pt x="1804" y="1515"/>
                  </a:lnTo>
                  <a:lnTo>
                    <a:pt x="2079" y="1618"/>
                  </a:lnTo>
                  <a:lnTo>
                    <a:pt x="2255" y="1429"/>
                  </a:lnTo>
                  <a:lnTo>
                    <a:pt x="2635" y="1231"/>
                  </a:lnTo>
                  <a:lnTo>
                    <a:pt x="2877" y="862"/>
                  </a:lnTo>
                  <a:lnTo>
                    <a:pt x="3242" y="673"/>
                  </a:lnTo>
                  <a:lnTo>
                    <a:pt x="3134" y="368"/>
                  </a:lnTo>
                  <a:lnTo>
                    <a:pt x="2659" y="0"/>
                  </a:lnTo>
                  <a:lnTo>
                    <a:pt x="2507" y="0"/>
                  </a:lnTo>
                  <a:lnTo>
                    <a:pt x="2288" y="43"/>
                  </a:lnTo>
                  <a:lnTo>
                    <a:pt x="1907" y="187"/>
                  </a:lnTo>
                  <a:lnTo>
                    <a:pt x="1838" y="240"/>
                  </a:lnTo>
                  <a:lnTo>
                    <a:pt x="1778" y="339"/>
                  </a:lnTo>
                  <a:lnTo>
                    <a:pt x="1336" y="871"/>
                  </a:lnTo>
                  <a:lnTo>
                    <a:pt x="1054" y="1102"/>
                  </a:lnTo>
                  <a:lnTo>
                    <a:pt x="622" y="1378"/>
                  </a:lnTo>
                  <a:lnTo>
                    <a:pt x="437" y="1556"/>
                  </a:lnTo>
                  <a:lnTo>
                    <a:pt x="0" y="2160"/>
                  </a:lnTo>
                  <a:lnTo>
                    <a:pt x="222" y="2812"/>
                  </a:lnTo>
                  <a:lnTo>
                    <a:pt x="420" y="2812"/>
                  </a:lnTo>
                  <a:lnTo>
                    <a:pt x="725" y="2649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35320" y="2306520"/>
              <a:ext cx="79200" cy="52560"/>
            </a:xfrm>
            <a:custGeom>
              <a:avLst/>
              <a:gdLst/>
              <a:ahLst/>
              <a:rect l="l" t="t" r="r" b="b"/>
              <a:pathLst>
                <a:path w="769" h="472">
                  <a:moveTo>
                    <a:pt x="53" y="0"/>
                  </a:moveTo>
                  <a:lnTo>
                    <a:pt x="270" y="0"/>
                  </a:lnTo>
                  <a:lnTo>
                    <a:pt x="393" y="69"/>
                  </a:lnTo>
                  <a:lnTo>
                    <a:pt x="690" y="69"/>
                  </a:lnTo>
                  <a:lnTo>
                    <a:pt x="769" y="263"/>
                  </a:lnTo>
                  <a:lnTo>
                    <a:pt x="644" y="472"/>
                  </a:lnTo>
                  <a:lnTo>
                    <a:pt x="699" y="297"/>
                  </a:lnTo>
                  <a:lnTo>
                    <a:pt x="644" y="230"/>
                  </a:lnTo>
                  <a:lnTo>
                    <a:pt x="431" y="391"/>
                  </a:lnTo>
                  <a:lnTo>
                    <a:pt x="376" y="391"/>
                  </a:lnTo>
                  <a:lnTo>
                    <a:pt x="204" y="318"/>
                  </a:lnTo>
                  <a:lnTo>
                    <a:pt x="99" y="297"/>
                  </a:lnTo>
                  <a:lnTo>
                    <a:pt x="0" y="214"/>
                  </a:lnTo>
                  <a:lnTo>
                    <a:pt x="150" y="285"/>
                  </a:lnTo>
                  <a:lnTo>
                    <a:pt x="305" y="285"/>
                  </a:lnTo>
                  <a:lnTo>
                    <a:pt x="480" y="230"/>
                  </a:lnTo>
                  <a:lnTo>
                    <a:pt x="332" y="175"/>
                  </a:lnTo>
                  <a:lnTo>
                    <a:pt x="99" y="37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2360" y="2314440"/>
              <a:ext cx="18720" cy="504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0"/>
                  </a:moveTo>
                  <a:lnTo>
                    <a:pt x="101" y="51"/>
                  </a:lnTo>
                  <a:lnTo>
                    <a:pt x="0" y="51"/>
                  </a:lnTo>
                  <a:lnTo>
                    <a:pt x="78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35760" y="2293200"/>
              <a:ext cx="53280" cy="48240"/>
            </a:xfrm>
            <a:custGeom>
              <a:avLst/>
              <a:gdLst/>
              <a:ahLst/>
              <a:rect l="l" t="t" r="r" b="b"/>
              <a:pathLst>
                <a:path w="519" h="440">
                  <a:moveTo>
                    <a:pt x="0" y="385"/>
                  </a:moveTo>
                  <a:lnTo>
                    <a:pt x="9" y="242"/>
                  </a:lnTo>
                  <a:lnTo>
                    <a:pt x="173" y="122"/>
                  </a:lnTo>
                  <a:lnTo>
                    <a:pt x="387" y="75"/>
                  </a:lnTo>
                  <a:lnTo>
                    <a:pt x="519" y="0"/>
                  </a:lnTo>
                  <a:lnTo>
                    <a:pt x="459" y="143"/>
                  </a:lnTo>
                  <a:lnTo>
                    <a:pt x="272" y="191"/>
                  </a:lnTo>
                  <a:lnTo>
                    <a:pt x="148" y="242"/>
                  </a:lnTo>
                  <a:lnTo>
                    <a:pt x="173" y="297"/>
                  </a:lnTo>
                  <a:lnTo>
                    <a:pt x="297" y="297"/>
                  </a:lnTo>
                  <a:lnTo>
                    <a:pt x="429" y="264"/>
                  </a:lnTo>
                  <a:lnTo>
                    <a:pt x="238" y="407"/>
                  </a:lnTo>
                  <a:lnTo>
                    <a:pt x="81" y="352"/>
                  </a:lnTo>
                  <a:lnTo>
                    <a:pt x="0" y="440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1160" y="2387520"/>
              <a:ext cx="96480" cy="72720"/>
            </a:xfrm>
            <a:custGeom>
              <a:avLst/>
              <a:gdLst/>
              <a:ahLst/>
              <a:rect l="l" t="t" r="r" b="b"/>
              <a:pathLst>
                <a:path w="942" h="666">
                  <a:moveTo>
                    <a:pt x="127" y="514"/>
                  </a:moveTo>
                  <a:lnTo>
                    <a:pt x="257" y="477"/>
                  </a:lnTo>
                  <a:lnTo>
                    <a:pt x="393" y="477"/>
                  </a:lnTo>
                  <a:lnTo>
                    <a:pt x="619" y="546"/>
                  </a:lnTo>
                  <a:lnTo>
                    <a:pt x="740" y="546"/>
                  </a:lnTo>
                  <a:lnTo>
                    <a:pt x="886" y="525"/>
                  </a:lnTo>
                  <a:lnTo>
                    <a:pt x="942" y="514"/>
                  </a:lnTo>
                  <a:lnTo>
                    <a:pt x="942" y="574"/>
                  </a:lnTo>
                  <a:lnTo>
                    <a:pt x="886" y="565"/>
                  </a:lnTo>
                  <a:lnTo>
                    <a:pt x="749" y="599"/>
                  </a:lnTo>
                  <a:lnTo>
                    <a:pt x="595" y="599"/>
                  </a:lnTo>
                  <a:lnTo>
                    <a:pt x="402" y="525"/>
                  </a:lnTo>
                  <a:lnTo>
                    <a:pt x="281" y="525"/>
                  </a:lnTo>
                  <a:lnTo>
                    <a:pt x="146" y="599"/>
                  </a:lnTo>
                  <a:lnTo>
                    <a:pt x="127" y="666"/>
                  </a:lnTo>
                  <a:lnTo>
                    <a:pt x="28" y="636"/>
                  </a:lnTo>
                  <a:lnTo>
                    <a:pt x="0" y="444"/>
                  </a:lnTo>
                  <a:lnTo>
                    <a:pt x="105" y="163"/>
                  </a:lnTo>
                  <a:lnTo>
                    <a:pt x="323" y="0"/>
                  </a:lnTo>
                  <a:lnTo>
                    <a:pt x="178" y="174"/>
                  </a:lnTo>
                  <a:lnTo>
                    <a:pt x="120" y="336"/>
                  </a:lnTo>
                  <a:lnTo>
                    <a:pt x="28" y="453"/>
                  </a:lnTo>
                  <a:lnTo>
                    <a:pt x="127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74200" y="2468160"/>
              <a:ext cx="61920" cy="21600"/>
            </a:xfrm>
            <a:custGeom>
              <a:avLst/>
              <a:gdLst/>
              <a:ahLst/>
              <a:rect l="l" t="t" r="r" b="b"/>
              <a:pathLst>
                <a:path w="602" h="195">
                  <a:moveTo>
                    <a:pt x="570" y="21"/>
                  </a:moveTo>
                  <a:lnTo>
                    <a:pt x="453" y="52"/>
                  </a:lnTo>
                  <a:lnTo>
                    <a:pt x="323" y="74"/>
                  </a:lnTo>
                  <a:lnTo>
                    <a:pt x="215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139" y="52"/>
                  </a:lnTo>
                  <a:lnTo>
                    <a:pt x="176" y="102"/>
                  </a:lnTo>
                  <a:lnTo>
                    <a:pt x="139" y="123"/>
                  </a:lnTo>
                  <a:lnTo>
                    <a:pt x="233" y="195"/>
                  </a:lnTo>
                  <a:lnTo>
                    <a:pt x="369" y="195"/>
                  </a:lnTo>
                  <a:lnTo>
                    <a:pt x="499" y="143"/>
                  </a:lnTo>
                  <a:lnTo>
                    <a:pt x="602" y="52"/>
                  </a:lnTo>
                  <a:lnTo>
                    <a:pt x="57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85000" y="2343600"/>
              <a:ext cx="63360" cy="88560"/>
            </a:xfrm>
            <a:custGeom>
              <a:avLst/>
              <a:gdLst/>
              <a:ahLst/>
              <a:rect l="l" t="t" r="r" b="b"/>
              <a:pathLst>
                <a:path w="619" h="807">
                  <a:moveTo>
                    <a:pt x="72" y="378"/>
                  </a:moveTo>
                  <a:lnTo>
                    <a:pt x="35" y="452"/>
                  </a:lnTo>
                  <a:lnTo>
                    <a:pt x="41" y="507"/>
                  </a:lnTo>
                  <a:lnTo>
                    <a:pt x="111" y="538"/>
                  </a:lnTo>
                  <a:lnTo>
                    <a:pt x="175" y="571"/>
                  </a:lnTo>
                  <a:lnTo>
                    <a:pt x="289" y="678"/>
                  </a:lnTo>
                  <a:lnTo>
                    <a:pt x="443" y="696"/>
                  </a:lnTo>
                  <a:lnTo>
                    <a:pt x="556" y="678"/>
                  </a:lnTo>
                  <a:lnTo>
                    <a:pt x="593" y="609"/>
                  </a:lnTo>
                  <a:lnTo>
                    <a:pt x="593" y="523"/>
                  </a:lnTo>
                  <a:lnTo>
                    <a:pt x="514" y="196"/>
                  </a:lnTo>
                  <a:lnTo>
                    <a:pt x="489" y="0"/>
                  </a:lnTo>
                  <a:lnTo>
                    <a:pt x="556" y="279"/>
                  </a:lnTo>
                  <a:lnTo>
                    <a:pt x="619" y="523"/>
                  </a:lnTo>
                  <a:lnTo>
                    <a:pt x="619" y="588"/>
                  </a:lnTo>
                  <a:lnTo>
                    <a:pt x="579" y="696"/>
                  </a:lnTo>
                  <a:lnTo>
                    <a:pt x="498" y="749"/>
                  </a:lnTo>
                  <a:lnTo>
                    <a:pt x="364" y="807"/>
                  </a:lnTo>
                  <a:lnTo>
                    <a:pt x="210" y="782"/>
                  </a:lnTo>
                  <a:lnTo>
                    <a:pt x="129" y="678"/>
                  </a:lnTo>
                  <a:lnTo>
                    <a:pt x="90" y="609"/>
                  </a:lnTo>
                  <a:lnTo>
                    <a:pt x="17" y="538"/>
                  </a:lnTo>
                  <a:lnTo>
                    <a:pt x="0" y="452"/>
                  </a:lnTo>
                  <a:lnTo>
                    <a:pt x="7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01480" y="2038320"/>
              <a:ext cx="195120" cy="195120"/>
            </a:xfrm>
            <a:custGeom>
              <a:avLst/>
              <a:gdLst/>
              <a:ahLst/>
              <a:rect l="l" t="t" r="r" b="b"/>
              <a:pathLst>
                <a:path w="1886" h="1777">
                  <a:moveTo>
                    <a:pt x="1835" y="1281"/>
                  </a:moveTo>
                  <a:lnTo>
                    <a:pt x="1661" y="1507"/>
                  </a:lnTo>
                  <a:lnTo>
                    <a:pt x="1142" y="1777"/>
                  </a:lnTo>
                  <a:lnTo>
                    <a:pt x="969" y="1777"/>
                  </a:lnTo>
                  <a:lnTo>
                    <a:pt x="1195" y="1604"/>
                  </a:lnTo>
                  <a:lnTo>
                    <a:pt x="921" y="1604"/>
                  </a:lnTo>
                  <a:lnTo>
                    <a:pt x="1314" y="1399"/>
                  </a:lnTo>
                  <a:lnTo>
                    <a:pt x="692" y="1514"/>
                  </a:lnTo>
                  <a:lnTo>
                    <a:pt x="517" y="1514"/>
                  </a:lnTo>
                  <a:lnTo>
                    <a:pt x="580" y="1386"/>
                  </a:lnTo>
                  <a:lnTo>
                    <a:pt x="554" y="1485"/>
                  </a:lnTo>
                  <a:lnTo>
                    <a:pt x="701" y="1485"/>
                  </a:lnTo>
                  <a:lnTo>
                    <a:pt x="1375" y="1300"/>
                  </a:lnTo>
                  <a:lnTo>
                    <a:pt x="956" y="1252"/>
                  </a:lnTo>
                  <a:lnTo>
                    <a:pt x="1290" y="1160"/>
                  </a:lnTo>
                  <a:lnTo>
                    <a:pt x="1661" y="1160"/>
                  </a:lnTo>
                  <a:lnTo>
                    <a:pt x="1169" y="1021"/>
                  </a:lnTo>
                  <a:lnTo>
                    <a:pt x="1635" y="1039"/>
                  </a:lnTo>
                  <a:lnTo>
                    <a:pt x="1545" y="922"/>
                  </a:lnTo>
                  <a:lnTo>
                    <a:pt x="1262" y="791"/>
                  </a:lnTo>
                  <a:lnTo>
                    <a:pt x="1178" y="622"/>
                  </a:lnTo>
                  <a:lnTo>
                    <a:pt x="1467" y="721"/>
                  </a:lnTo>
                  <a:lnTo>
                    <a:pt x="1273" y="486"/>
                  </a:lnTo>
                  <a:lnTo>
                    <a:pt x="969" y="387"/>
                  </a:lnTo>
                  <a:lnTo>
                    <a:pt x="1202" y="329"/>
                  </a:lnTo>
                  <a:lnTo>
                    <a:pt x="989" y="166"/>
                  </a:lnTo>
                  <a:lnTo>
                    <a:pt x="775" y="149"/>
                  </a:lnTo>
                  <a:lnTo>
                    <a:pt x="630" y="215"/>
                  </a:lnTo>
                  <a:lnTo>
                    <a:pt x="1073" y="707"/>
                  </a:lnTo>
                  <a:lnTo>
                    <a:pt x="877" y="622"/>
                  </a:lnTo>
                  <a:lnTo>
                    <a:pt x="989" y="869"/>
                  </a:lnTo>
                  <a:lnTo>
                    <a:pt x="852" y="841"/>
                  </a:lnTo>
                  <a:lnTo>
                    <a:pt x="1015" y="1039"/>
                  </a:lnTo>
                  <a:lnTo>
                    <a:pt x="674" y="1061"/>
                  </a:lnTo>
                  <a:lnTo>
                    <a:pt x="367" y="1180"/>
                  </a:lnTo>
                  <a:lnTo>
                    <a:pt x="427" y="721"/>
                  </a:lnTo>
                  <a:lnTo>
                    <a:pt x="367" y="604"/>
                  </a:lnTo>
                  <a:lnTo>
                    <a:pt x="0" y="454"/>
                  </a:lnTo>
                  <a:lnTo>
                    <a:pt x="270" y="433"/>
                  </a:lnTo>
                  <a:lnTo>
                    <a:pt x="714" y="692"/>
                  </a:lnTo>
                  <a:lnTo>
                    <a:pt x="828" y="692"/>
                  </a:lnTo>
                  <a:lnTo>
                    <a:pt x="743" y="415"/>
                  </a:lnTo>
                  <a:lnTo>
                    <a:pt x="286" y="48"/>
                  </a:lnTo>
                  <a:lnTo>
                    <a:pt x="97" y="48"/>
                  </a:lnTo>
                  <a:lnTo>
                    <a:pt x="310" y="0"/>
                  </a:lnTo>
                  <a:lnTo>
                    <a:pt x="1048" y="78"/>
                  </a:lnTo>
                  <a:lnTo>
                    <a:pt x="1347" y="297"/>
                  </a:lnTo>
                  <a:lnTo>
                    <a:pt x="1322" y="415"/>
                  </a:lnTo>
                  <a:lnTo>
                    <a:pt x="1635" y="573"/>
                  </a:lnTo>
                  <a:lnTo>
                    <a:pt x="1545" y="634"/>
                  </a:lnTo>
                  <a:lnTo>
                    <a:pt x="1683" y="650"/>
                  </a:lnTo>
                  <a:lnTo>
                    <a:pt x="1606" y="692"/>
                  </a:lnTo>
                  <a:lnTo>
                    <a:pt x="1753" y="791"/>
                  </a:lnTo>
                  <a:lnTo>
                    <a:pt x="1661" y="811"/>
                  </a:lnTo>
                  <a:lnTo>
                    <a:pt x="1791" y="940"/>
                  </a:lnTo>
                  <a:lnTo>
                    <a:pt x="1782" y="1039"/>
                  </a:lnTo>
                  <a:lnTo>
                    <a:pt x="1683" y="1061"/>
                  </a:lnTo>
                  <a:lnTo>
                    <a:pt x="1727" y="1151"/>
                  </a:lnTo>
                  <a:lnTo>
                    <a:pt x="1886" y="1199"/>
                  </a:lnTo>
                  <a:lnTo>
                    <a:pt x="1835" y="1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53760" y="2070720"/>
              <a:ext cx="70200" cy="198000"/>
            </a:xfrm>
            <a:custGeom>
              <a:avLst/>
              <a:gdLst/>
              <a:ahLst/>
              <a:rect l="l" t="t" r="r" b="b"/>
              <a:pathLst>
                <a:path w="687" h="1801">
                  <a:moveTo>
                    <a:pt x="0" y="0"/>
                  </a:moveTo>
                  <a:lnTo>
                    <a:pt x="194" y="48"/>
                  </a:lnTo>
                  <a:lnTo>
                    <a:pt x="454" y="373"/>
                  </a:lnTo>
                  <a:lnTo>
                    <a:pt x="574" y="615"/>
                  </a:lnTo>
                  <a:lnTo>
                    <a:pt x="687" y="779"/>
                  </a:lnTo>
                  <a:lnTo>
                    <a:pt x="675" y="938"/>
                  </a:lnTo>
                  <a:lnTo>
                    <a:pt x="553" y="1065"/>
                  </a:lnTo>
                  <a:lnTo>
                    <a:pt x="548" y="1287"/>
                  </a:lnTo>
                  <a:lnTo>
                    <a:pt x="427" y="1678"/>
                  </a:lnTo>
                  <a:lnTo>
                    <a:pt x="403" y="1801"/>
                  </a:lnTo>
                  <a:lnTo>
                    <a:pt x="403" y="1344"/>
                  </a:lnTo>
                  <a:lnTo>
                    <a:pt x="403" y="1065"/>
                  </a:lnTo>
                  <a:lnTo>
                    <a:pt x="376" y="938"/>
                  </a:lnTo>
                  <a:lnTo>
                    <a:pt x="548" y="938"/>
                  </a:lnTo>
                  <a:lnTo>
                    <a:pt x="625" y="812"/>
                  </a:lnTo>
                  <a:lnTo>
                    <a:pt x="491" y="764"/>
                  </a:lnTo>
                  <a:lnTo>
                    <a:pt x="581" y="724"/>
                  </a:lnTo>
                  <a:lnTo>
                    <a:pt x="390" y="572"/>
                  </a:lnTo>
                  <a:lnTo>
                    <a:pt x="504" y="544"/>
                  </a:lnTo>
                  <a:lnTo>
                    <a:pt x="324" y="353"/>
                  </a:lnTo>
                  <a:lnTo>
                    <a:pt x="337" y="276"/>
                  </a:lnTo>
                  <a:lnTo>
                    <a:pt x="168" y="157"/>
                  </a:lnTo>
                  <a:lnTo>
                    <a:pt x="13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68360" y="2130480"/>
              <a:ext cx="75960" cy="83520"/>
            </a:xfrm>
            <a:custGeom>
              <a:avLst/>
              <a:gdLst/>
              <a:ahLst/>
              <a:rect l="l" t="t" r="r" b="b"/>
              <a:pathLst>
                <a:path w="739" h="763">
                  <a:moveTo>
                    <a:pt x="739" y="0"/>
                  </a:moveTo>
                  <a:lnTo>
                    <a:pt x="538" y="411"/>
                  </a:lnTo>
                  <a:lnTo>
                    <a:pt x="396" y="508"/>
                  </a:lnTo>
                  <a:lnTo>
                    <a:pt x="135" y="629"/>
                  </a:lnTo>
                  <a:lnTo>
                    <a:pt x="0" y="763"/>
                  </a:lnTo>
                  <a:lnTo>
                    <a:pt x="176" y="666"/>
                  </a:lnTo>
                  <a:lnTo>
                    <a:pt x="448" y="593"/>
                  </a:lnTo>
                  <a:lnTo>
                    <a:pt x="607" y="459"/>
                  </a:lnTo>
                  <a:lnTo>
                    <a:pt x="693" y="339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81600" y="2143800"/>
              <a:ext cx="118800" cy="146520"/>
            </a:xfrm>
            <a:custGeom>
              <a:avLst/>
              <a:gdLst/>
              <a:ahLst/>
              <a:rect l="l" t="t" r="r" b="b"/>
              <a:pathLst>
                <a:path w="1150" h="1336">
                  <a:moveTo>
                    <a:pt x="1016" y="0"/>
                  </a:moveTo>
                  <a:lnTo>
                    <a:pt x="1016" y="101"/>
                  </a:lnTo>
                  <a:lnTo>
                    <a:pt x="1042" y="149"/>
                  </a:lnTo>
                  <a:lnTo>
                    <a:pt x="1150" y="220"/>
                  </a:lnTo>
                  <a:lnTo>
                    <a:pt x="1056" y="220"/>
                  </a:lnTo>
                  <a:lnTo>
                    <a:pt x="939" y="292"/>
                  </a:lnTo>
                  <a:lnTo>
                    <a:pt x="816" y="426"/>
                  </a:lnTo>
                  <a:lnTo>
                    <a:pt x="786" y="525"/>
                  </a:lnTo>
                  <a:lnTo>
                    <a:pt x="786" y="611"/>
                  </a:lnTo>
                  <a:lnTo>
                    <a:pt x="840" y="644"/>
                  </a:lnTo>
                  <a:lnTo>
                    <a:pt x="1056" y="525"/>
                  </a:lnTo>
                  <a:lnTo>
                    <a:pt x="963" y="714"/>
                  </a:lnTo>
                  <a:lnTo>
                    <a:pt x="1090" y="681"/>
                  </a:lnTo>
                  <a:lnTo>
                    <a:pt x="1056" y="837"/>
                  </a:lnTo>
                  <a:lnTo>
                    <a:pt x="1056" y="995"/>
                  </a:lnTo>
                  <a:lnTo>
                    <a:pt x="897" y="1138"/>
                  </a:lnTo>
                  <a:lnTo>
                    <a:pt x="887" y="1336"/>
                  </a:lnTo>
                  <a:lnTo>
                    <a:pt x="816" y="1322"/>
                  </a:lnTo>
                  <a:lnTo>
                    <a:pt x="640" y="1119"/>
                  </a:lnTo>
                  <a:lnTo>
                    <a:pt x="558" y="1068"/>
                  </a:lnTo>
                  <a:lnTo>
                    <a:pt x="475" y="1068"/>
                  </a:lnTo>
                  <a:lnTo>
                    <a:pt x="572" y="1033"/>
                  </a:lnTo>
                  <a:lnTo>
                    <a:pt x="620" y="1015"/>
                  </a:lnTo>
                  <a:lnTo>
                    <a:pt x="572" y="644"/>
                  </a:lnTo>
                  <a:lnTo>
                    <a:pt x="422" y="844"/>
                  </a:lnTo>
                  <a:lnTo>
                    <a:pt x="205" y="936"/>
                  </a:lnTo>
                  <a:lnTo>
                    <a:pt x="0" y="967"/>
                  </a:lnTo>
                  <a:lnTo>
                    <a:pt x="242" y="884"/>
                  </a:lnTo>
                  <a:lnTo>
                    <a:pt x="405" y="798"/>
                  </a:lnTo>
                  <a:lnTo>
                    <a:pt x="509" y="644"/>
                  </a:lnTo>
                  <a:lnTo>
                    <a:pt x="678" y="426"/>
                  </a:lnTo>
                  <a:lnTo>
                    <a:pt x="860" y="239"/>
                  </a:lnTo>
                  <a:lnTo>
                    <a:pt x="975" y="171"/>
                  </a:lnTo>
                  <a:lnTo>
                    <a:pt x="985" y="116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91760" y="2109600"/>
              <a:ext cx="37080" cy="22680"/>
            </a:xfrm>
            <a:custGeom>
              <a:avLst/>
              <a:gdLst/>
              <a:ahLst/>
              <a:rect l="l" t="t" r="r" b="b"/>
              <a:pathLst>
                <a:path w="353" h="211">
                  <a:moveTo>
                    <a:pt x="263" y="211"/>
                  </a:moveTo>
                  <a:lnTo>
                    <a:pt x="353" y="121"/>
                  </a:lnTo>
                  <a:lnTo>
                    <a:pt x="243" y="12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263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57920" y="2044440"/>
              <a:ext cx="42840" cy="17280"/>
            </a:xfrm>
            <a:custGeom>
              <a:avLst/>
              <a:gdLst/>
              <a:ahLst/>
              <a:rect l="l" t="t" r="r" b="b"/>
              <a:pathLst>
                <a:path w="417" h="158">
                  <a:moveTo>
                    <a:pt x="417" y="0"/>
                  </a:moveTo>
                  <a:lnTo>
                    <a:pt x="0" y="158"/>
                  </a:lnTo>
                  <a:lnTo>
                    <a:pt x="334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58480" y="2074320"/>
              <a:ext cx="185040" cy="203040"/>
            </a:xfrm>
            <a:custGeom>
              <a:avLst/>
              <a:gdLst/>
              <a:ahLst/>
              <a:rect l="l" t="t" r="r" b="b"/>
              <a:pathLst>
                <a:path w="1789" h="1847">
                  <a:moveTo>
                    <a:pt x="1789" y="0"/>
                  </a:moveTo>
                  <a:lnTo>
                    <a:pt x="1335" y="561"/>
                  </a:lnTo>
                  <a:lnTo>
                    <a:pt x="1065" y="831"/>
                  </a:lnTo>
                  <a:lnTo>
                    <a:pt x="648" y="1105"/>
                  </a:lnTo>
                  <a:lnTo>
                    <a:pt x="491" y="1255"/>
                  </a:lnTo>
                  <a:lnTo>
                    <a:pt x="0" y="1847"/>
                  </a:lnTo>
                  <a:lnTo>
                    <a:pt x="413" y="1242"/>
                  </a:lnTo>
                  <a:lnTo>
                    <a:pt x="608" y="1033"/>
                  </a:lnTo>
                  <a:lnTo>
                    <a:pt x="867" y="888"/>
                  </a:lnTo>
                  <a:lnTo>
                    <a:pt x="1142" y="692"/>
                  </a:lnTo>
                  <a:lnTo>
                    <a:pt x="1335" y="532"/>
                  </a:lnTo>
                  <a:lnTo>
                    <a:pt x="17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81680" y="2300040"/>
              <a:ext cx="215640" cy="230400"/>
            </a:xfrm>
            <a:custGeom>
              <a:avLst/>
              <a:gdLst/>
              <a:ahLst/>
              <a:rect l="l" t="t" r="r" b="b"/>
              <a:pathLst>
                <a:path w="2092" h="2100">
                  <a:moveTo>
                    <a:pt x="2092" y="0"/>
                  </a:moveTo>
                  <a:lnTo>
                    <a:pt x="2084" y="283"/>
                  </a:lnTo>
                  <a:lnTo>
                    <a:pt x="2011" y="666"/>
                  </a:lnTo>
                  <a:lnTo>
                    <a:pt x="1743" y="1457"/>
                  </a:lnTo>
                  <a:lnTo>
                    <a:pt x="1596" y="1678"/>
                  </a:lnTo>
                  <a:lnTo>
                    <a:pt x="1596" y="2088"/>
                  </a:lnTo>
                  <a:lnTo>
                    <a:pt x="1512" y="2100"/>
                  </a:lnTo>
                  <a:lnTo>
                    <a:pt x="1376" y="1954"/>
                  </a:lnTo>
                  <a:lnTo>
                    <a:pt x="1222" y="2030"/>
                  </a:lnTo>
                  <a:lnTo>
                    <a:pt x="1145" y="2030"/>
                  </a:lnTo>
                  <a:lnTo>
                    <a:pt x="912" y="2021"/>
                  </a:lnTo>
                  <a:lnTo>
                    <a:pt x="639" y="1913"/>
                  </a:lnTo>
                  <a:lnTo>
                    <a:pt x="325" y="1699"/>
                  </a:lnTo>
                  <a:lnTo>
                    <a:pt x="116" y="1527"/>
                  </a:lnTo>
                  <a:lnTo>
                    <a:pt x="0" y="1048"/>
                  </a:lnTo>
                  <a:lnTo>
                    <a:pt x="158" y="1527"/>
                  </a:lnTo>
                  <a:lnTo>
                    <a:pt x="593" y="1850"/>
                  </a:lnTo>
                  <a:lnTo>
                    <a:pt x="941" y="1984"/>
                  </a:lnTo>
                  <a:lnTo>
                    <a:pt x="1167" y="1996"/>
                  </a:lnTo>
                  <a:lnTo>
                    <a:pt x="1376" y="1913"/>
                  </a:lnTo>
                  <a:lnTo>
                    <a:pt x="1512" y="1765"/>
                  </a:lnTo>
                  <a:lnTo>
                    <a:pt x="1640" y="1576"/>
                  </a:lnTo>
                  <a:lnTo>
                    <a:pt x="1743" y="1369"/>
                  </a:lnTo>
                  <a:lnTo>
                    <a:pt x="1881" y="986"/>
                  </a:lnTo>
                  <a:lnTo>
                    <a:pt x="1951" y="751"/>
                  </a:lnTo>
                  <a:lnTo>
                    <a:pt x="2002" y="495"/>
                  </a:lnTo>
                  <a:lnTo>
                    <a:pt x="2055" y="308"/>
                  </a:lnTo>
                  <a:lnTo>
                    <a:pt x="20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6520" y="2279160"/>
              <a:ext cx="133920" cy="337320"/>
            </a:xfrm>
            <a:custGeom>
              <a:avLst/>
              <a:gdLst/>
              <a:ahLst/>
              <a:rect l="l" t="t" r="r" b="b"/>
              <a:pathLst>
                <a:path w="1288" h="3071">
                  <a:moveTo>
                    <a:pt x="470" y="687"/>
                  </a:moveTo>
                  <a:lnTo>
                    <a:pt x="548" y="1086"/>
                  </a:lnTo>
                  <a:lnTo>
                    <a:pt x="477" y="1069"/>
                  </a:lnTo>
                  <a:lnTo>
                    <a:pt x="477" y="1681"/>
                  </a:lnTo>
                  <a:lnTo>
                    <a:pt x="571" y="2059"/>
                  </a:lnTo>
                  <a:lnTo>
                    <a:pt x="924" y="2568"/>
                  </a:lnTo>
                  <a:lnTo>
                    <a:pt x="1213" y="2667"/>
                  </a:lnTo>
                  <a:lnTo>
                    <a:pt x="1288" y="3071"/>
                  </a:lnTo>
                  <a:lnTo>
                    <a:pt x="971" y="2785"/>
                  </a:lnTo>
                  <a:lnTo>
                    <a:pt x="548" y="2188"/>
                  </a:lnTo>
                  <a:lnTo>
                    <a:pt x="447" y="1803"/>
                  </a:lnTo>
                  <a:lnTo>
                    <a:pt x="447" y="1023"/>
                  </a:lnTo>
                  <a:lnTo>
                    <a:pt x="398" y="821"/>
                  </a:lnTo>
                  <a:lnTo>
                    <a:pt x="301" y="821"/>
                  </a:lnTo>
                  <a:lnTo>
                    <a:pt x="180" y="669"/>
                  </a:lnTo>
                  <a:lnTo>
                    <a:pt x="35" y="348"/>
                  </a:lnTo>
                  <a:lnTo>
                    <a:pt x="0" y="0"/>
                  </a:lnTo>
                  <a:lnTo>
                    <a:pt x="35" y="297"/>
                  </a:lnTo>
                  <a:lnTo>
                    <a:pt x="211" y="669"/>
                  </a:lnTo>
                  <a:lnTo>
                    <a:pt x="323" y="788"/>
                  </a:lnTo>
                  <a:lnTo>
                    <a:pt x="398" y="788"/>
                  </a:lnTo>
                  <a:lnTo>
                    <a:pt x="470" y="6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17960" y="2257200"/>
              <a:ext cx="26280" cy="11520"/>
            </a:xfrm>
            <a:custGeom>
              <a:avLst/>
              <a:gdLst/>
              <a:ahLst/>
              <a:rect l="l" t="t" r="r" b="b"/>
              <a:pathLst>
                <a:path w="259" h="105">
                  <a:moveTo>
                    <a:pt x="0" y="105"/>
                  </a:moveTo>
                  <a:lnTo>
                    <a:pt x="125" y="24"/>
                  </a:lnTo>
                  <a:lnTo>
                    <a:pt x="259" y="0"/>
                  </a:lnTo>
                  <a:lnTo>
                    <a:pt x="259" y="35"/>
                  </a:lnTo>
                  <a:lnTo>
                    <a:pt x="145" y="5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27320" y="2276640"/>
              <a:ext cx="33480" cy="65160"/>
            </a:xfrm>
            <a:custGeom>
              <a:avLst/>
              <a:gdLst/>
              <a:ahLst/>
              <a:rect l="l" t="t" r="r" b="b"/>
              <a:pathLst>
                <a:path w="325" h="592">
                  <a:moveTo>
                    <a:pt x="325" y="592"/>
                  </a:moveTo>
                  <a:lnTo>
                    <a:pt x="157" y="454"/>
                  </a:lnTo>
                  <a:lnTo>
                    <a:pt x="157" y="353"/>
                  </a:lnTo>
                  <a:lnTo>
                    <a:pt x="238" y="203"/>
                  </a:lnTo>
                  <a:lnTo>
                    <a:pt x="238" y="149"/>
                  </a:lnTo>
                  <a:lnTo>
                    <a:pt x="118" y="46"/>
                  </a:lnTo>
                  <a:lnTo>
                    <a:pt x="55" y="46"/>
                  </a:lnTo>
                  <a:lnTo>
                    <a:pt x="14" y="232"/>
                  </a:lnTo>
                  <a:lnTo>
                    <a:pt x="79" y="470"/>
                  </a:lnTo>
                  <a:lnTo>
                    <a:pt x="0" y="265"/>
                  </a:lnTo>
                  <a:lnTo>
                    <a:pt x="0" y="184"/>
                  </a:lnTo>
                  <a:lnTo>
                    <a:pt x="28" y="9"/>
                  </a:lnTo>
                  <a:lnTo>
                    <a:pt x="92" y="0"/>
                  </a:lnTo>
                  <a:lnTo>
                    <a:pt x="259" y="129"/>
                  </a:lnTo>
                  <a:lnTo>
                    <a:pt x="297" y="250"/>
                  </a:lnTo>
                  <a:lnTo>
                    <a:pt x="270" y="399"/>
                  </a:lnTo>
                  <a:lnTo>
                    <a:pt x="270" y="486"/>
                  </a:lnTo>
                  <a:lnTo>
                    <a:pt x="325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61800" y="2405880"/>
              <a:ext cx="95760" cy="191520"/>
            </a:xfrm>
            <a:custGeom>
              <a:avLst/>
              <a:gdLst/>
              <a:ahLst/>
              <a:rect l="l" t="t" r="r" b="b"/>
              <a:pathLst>
                <a:path w="930" h="1750">
                  <a:moveTo>
                    <a:pt x="930" y="0"/>
                  </a:moveTo>
                  <a:lnTo>
                    <a:pt x="756" y="204"/>
                  </a:lnTo>
                  <a:lnTo>
                    <a:pt x="615" y="819"/>
                  </a:lnTo>
                  <a:lnTo>
                    <a:pt x="578" y="1750"/>
                  </a:lnTo>
                  <a:lnTo>
                    <a:pt x="578" y="844"/>
                  </a:lnTo>
                  <a:lnTo>
                    <a:pt x="481" y="745"/>
                  </a:lnTo>
                  <a:lnTo>
                    <a:pt x="422" y="383"/>
                  </a:lnTo>
                  <a:lnTo>
                    <a:pt x="481" y="231"/>
                  </a:lnTo>
                  <a:lnTo>
                    <a:pt x="341" y="231"/>
                  </a:lnTo>
                  <a:lnTo>
                    <a:pt x="242" y="204"/>
                  </a:lnTo>
                  <a:lnTo>
                    <a:pt x="0" y="305"/>
                  </a:lnTo>
                  <a:lnTo>
                    <a:pt x="242" y="152"/>
                  </a:lnTo>
                  <a:lnTo>
                    <a:pt x="543" y="152"/>
                  </a:lnTo>
                  <a:lnTo>
                    <a:pt x="797" y="99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74320" y="2427840"/>
              <a:ext cx="138600" cy="127440"/>
            </a:xfrm>
            <a:custGeom>
              <a:avLst/>
              <a:gdLst/>
              <a:ahLst/>
              <a:rect l="l" t="t" r="r" b="b"/>
              <a:pathLst>
                <a:path w="1343" h="1161">
                  <a:moveTo>
                    <a:pt x="1106" y="0"/>
                  </a:moveTo>
                  <a:lnTo>
                    <a:pt x="1343" y="1161"/>
                  </a:lnTo>
                  <a:lnTo>
                    <a:pt x="1150" y="565"/>
                  </a:lnTo>
                  <a:lnTo>
                    <a:pt x="656" y="27"/>
                  </a:lnTo>
                  <a:lnTo>
                    <a:pt x="0" y="280"/>
                  </a:lnTo>
                  <a:lnTo>
                    <a:pt x="537" y="0"/>
                  </a:lnTo>
                  <a:lnTo>
                    <a:pt x="712" y="0"/>
                  </a:lnTo>
                  <a:lnTo>
                    <a:pt x="1086" y="414"/>
                  </a:lnTo>
                  <a:lnTo>
                    <a:pt x="1035" y="0"/>
                  </a:lnTo>
                  <a:lnTo>
                    <a:pt x="1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29840" y="2549160"/>
              <a:ext cx="144360" cy="192600"/>
            </a:xfrm>
            <a:custGeom>
              <a:avLst/>
              <a:gdLst/>
              <a:ahLst/>
              <a:rect l="l" t="t" r="r" b="b"/>
              <a:pathLst>
                <a:path w="1396" h="1747">
                  <a:moveTo>
                    <a:pt x="919" y="869"/>
                  </a:moveTo>
                  <a:lnTo>
                    <a:pt x="712" y="305"/>
                  </a:lnTo>
                  <a:lnTo>
                    <a:pt x="1141" y="611"/>
                  </a:lnTo>
                  <a:lnTo>
                    <a:pt x="726" y="202"/>
                  </a:lnTo>
                  <a:lnTo>
                    <a:pt x="468" y="0"/>
                  </a:lnTo>
                  <a:lnTo>
                    <a:pt x="194" y="129"/>
                  </a:lnTo>
                  <a:lnTo>
                    <a:pt x="0" y="440"/>
                  </a:lnTo>
                  <a:lnTo>
                    <a:pt x="412" y="1747"/>
                  </a:lnTo>
                  <a:lnTo>
                    <a:pt x="154" y="793"/>
                  </a:lnTo>
                  <a:lnTo>
                    <a:pt x="194" y="745"/>
                  </a:lnTo>
                  <a:lnTo>
                    <a:pt x="119" y="408"/>
                  </a:lnTo>
                  <a:lnTo>
                    <a:pt x="174" y="360"/>
                  </a:lnTo>
                  <a:lnTo>
                    <a:pt x="843" y="1588"/>
                  </a:lnTo>
                  <a:lnTo>
                    <a:pt x="866" y="1489"/>
                  </a:lnTo>
                  <a:lnTo>
                    <a:pt x="308" y="408"/>
                  </a:lnTo>
                  <a:lnTo>
                    <a:pt x="308" y="279"/>
                  </a:lnTo>
                  <a:lnTo>
                    <a:pt x="394" y="173"/>
                  </a:lnTo>
                  <a:lnTo>
                    <a:pt x="800" y="846"/>
                  </a:lnTo>
                  <a:lnTo>
                    <a:pt x="965" y="995"/>
                  </a:lnTo>
                  <a:lnTo>
                    <a:pt x="1064" y="1283"/>
                  </a:lnTo>
                  <a:lnTo>
                    <a:pt x="1076" y="1132"/>
                  </a:lnTo>
                  <a:lnTo>
                    <a:pt x="1020" y="947"/>
                  </a:lnTo>
                  <a:lnTo>
                    <a:pt x="1141" y="922"/>
                  </a:lnTo>
                  <a:lnTo>
                    <a:pt x="1297" y="922"/>
                  </a:lnTo>
                  <a:lnTo>
                    <a:pt x="1396" y="947"/>
                  </a:lnTo>
                  <a:lnTo>
                    <a:pt x="1316" y="869"/>
                  </a:lnTo>
                  <a:lnTo>
                    <a:pt x="1064" y="846"/>
                  </a:lnTo>
                  <a:lnTo>
                    <a:pt x="919" y="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1880" y="2512080"/>
              <a:ext cx="78480" cy="115920"/>
            </a:xfrm>
            <a:custGeom>
              <a:avLst/>
              <a:gdLst/>
              <a:ahLst/>
              <a:rect l="l" t="t" r="r" b="b"/>
              <a:pathLst>
                <a:path w="765" h="1053">
                  <a:moveTo>
                    <a:pt x="0" y="1053"/>
                  </a:moveTo>
                  <a:lnTo>
                    <a:pt x="163" y="694"/>
                  </a:lnTo>
                  <a:lnTo>
                    <a:pt x="497" y="463"/>
                  </a:lnTo>
                  <a:lnTo>
                    <a:pt x="666" y="410"/>
                  </a:lnTo>
                  <a:lnTo>
                    <a:pt x="765" y="180"/>
                  </a:lnTo>
                  <a:lnTo>
                    <a:pt x="686" y="0"/>
                  </a:lnTo>
                  <a:lnTo>
                    <a:pt x="666" y="226"/>
                  </a:lnTo>
                  <a:lnTo>
                    <a:pt x="572" y="410"/>
                  </a:lnTo>
                  <a:lnTo>
                    <a:pt x="339" y="486"/>
                  </a:lnTo>
                  <a:lnTo>
                    <a:pt x="82" y="694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1880" y="2580120"/>
              <a:ext cx="129600" cy="113400"/>
            </a:xfrm>
            <a:custGeom>
              <a:avLst/>
              <a:gdLst/>
              <a:ahLst/>
              <a:rect l="l" t="t" r="r" b="b"/>
              <a:pathLst>
                <a:path w="1258" h="1028">
                  <a:moveTo>
                    <a:pt x="82" y="466"/>
                  </a:moveTo>
                  <a:lnTo>
                    <a:pt x="460" y="205"/>
                  </a:lnTo>
                  <a:lnTo>
                    <a:pt x="790" y="0"/>
                  </a:lnTo>
                  <a:lnTo>
                    <a:pt x="1069" y="180"/>
                  </a:lnTo>
                  <a:lnTo>
                    <a:pt x="1258" y="668"/>
                  </a:lnTo>
                  <a:lnTo>
                    <a:pt x="965" y="364"/>
                  </a:lnTo>
                  <a:lnTo>
                    <a:pt x="613" y="364"/>
                  </a:lnTo>
                  <a:lnTo>
                    <a:pt x="235" y="742"/>
                  </a:lnTo>
                  <a:lnTo>
                    <a:pt x="218" y="826"/>
                  </a:lnTo>
                  <a:lnTo>
                    <a:pt x="0" y="1028"/>
                  </a:lnTo>
                  <a:lnTo>
                    <a:pt x="193" y="742"/>
                  </a:lnTo>
                  <a:lnTo>
                    <a:pt x="163" y="643"/>
                  </a:lnTo>
                  <a:lnTo>
                    <a:pt x="260" y="615"/>
                  </a:lnTo>
                  <a:lnTo>
                    <a:pt x="460" y="307"/>
                  </a:lnTo>
                  <a:lnTo>
                    <a:pt x="82" y="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68800" y="2699640"/>
              <a:ext cx="51840" cy="80640"/>
            </a:xfrm>
            <a:custGeom>
              <a:avLst/>
              <a:gdLst/>
              <a:ahLst/>
              <a:rect l="l" t="t" r="r" b="b"/>
              <a:pathLst>
                <a:path w="503" h="733">
                  <a:moveTo>
                    <a:pt x="0" y="0"/>
                  </a:moveTo>
                  <a:lnTo>
                    <a:pt x="310" y="401"/>
                  </a:lnTo>
                  <a:lnTo>
                    <a:pt x="503" y="733"/>
                  </a:lnTo>
                  <a:lnTo>
                    <a:pt x="297" y="4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20560" y="2699640"/>
              <a:ext cx="47880" cy="190800"/>
            </a:xfrm>
            <a:custGeom>
              <a:avLst/>
              <a:gdLst/>
              <a:ahLst/>
              <a:rect l="l" t="t" r="r" b="b"/>
              <a:pathLst>
                <a:path w="461" h="1738">
                  <a:moveTo>
                    <a:pt x="360" y="0"/>
                  </a:moveTo>
                  <a:lnTo>
                    <a:pt x="417" y="329"/>
                  </a:lnTo>
                  <a:lnTo>
                    <a:pt x="461" y="784"/>
                  </a:lnTo>
                  <a:lnTo>
                    <a:pt x="395" y="1120"/>
                  </a:lnTo>
                  <a:lnTo>
                    <a:pt x="261" y="1353"/>
                  </a:lnTo>
                  <a:lnTo>
                    <a:pt x="0" y="1738"/>
                  </a:lnTo>
                  <a:lnTo>
                    <a:pt x="338" y="1098"/>
                  </a:lnTo>
                  <a:lnTo>
                    <a:pt x="395" y="784"/>
                  </a:lnTo>
                  <a:lnTo>
                    <a:pt x="338" y="431"/>
                  </a:lnTo>
                  <a:lnTo>
                    <a:pt x="338" y="147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72680" y="2690640"/>
              <a:ext cx="302400" cy="375480"/>
            </a:xfrm>
            <a:custGeom>
              <a:avLst/>
              <a:gdLst/>
              <a:ahLst/>
              <a:rect l="l" t="t" r="r" b="b"/>
              <a:pathLst>
                <a:path w="2931" h="3415">
                  <a:moveTo>
                    <a:pt x="806" y="0"/>
                  </a:moveTo>
                  <a:lnTo>
                    <a:pt x="828" y="183"/>
                  </a:lnTo>
                  <a:lnTo>
                    <a:pt x="806" y="617"/>
                  </a:lnTo>
                  <a:lnTo>
                    <a:pt x="685" y="1156"/>
                  </a:lnTo>
                  <a:lnTo>
                    <a:pt x="664" y="1310"/>
                  </a:lnTo>
                  <a:lnTo>
                    <a:pt x="940" y="1486"/>
                  </a:lnTo>
                  <a:lnTo>
                    <a:pt x="1338" y="2105"/>
                  </a:lnTo>
                  <a:lnTo>
                    <a:pt x="1556" y="2261"/>
                  </a:lnTo>
                  <a:lnTo>
                    <a:pt x="1849" y="2389"/>
                  </a:lnTo>
                  <a:lnTo>
                    <a:pt x="1929" y="2288"/>
                  </a:lnTo>
                  <a:lnTo>
                    <a:pt x="1889" y="1925"/>
                  </a:lnTo>
                  <a:lnTo>
                    <a:pt x="1731" y="1610"/>
                  </a:lnTo>
                  <a:lnTo>
                    <a:pt x="1577" y="1000"/>
                  </a:lnTo>
                  <a:lnTo>
                    <a:pt x="1793" y="1560"/>
                  </a:lnTo>
                  <a:lnTo>
                    <a:pt x="1966" y="1696"/>
                  </a:lnTo>
                  <a:lnTo>
                    <a:pt x="2126" y="1696"/>
                  </a:lnTo>
                  <a:lnTo>
                    <a:pt x="2324" y="1596"/>
                  </a:lnTo>
                  <a:lnTo>
                    <a:pt x="2382" y="1387"/>
                  </a:lnTo>
                  <a:lnTo>
                    <a:pt x="2340" y="1637"/>
                  </a:lnTo>
                  <a:lnTo>
                    <a:pt x="2169" y="1822"/>
                  </a:lnTo>
                  <a:lnTo>
                    <a:pt x="2045" y="1925"/>
                  </a:lnTo>
                  <a:lnTo>
                    <a:pt x="2006" y="2129"/>
                  </a:lnTo>
                  <a:lnTo>
                    <a:pt x="2065" y="2261"/>
                  </a:lnTo>
                  <a:lnTo>
                    <a:pt x="2184" y="2261"/>
                  </a:lnTo>
                  <a:lnTo>
                    <a:pt x="2402" y="2154"/>
                  </a:lnTo>
                  <a:lnTo>
                    <a:pt x="2640" y="1822"/>
                  </a:lnTo>
                  <a:lnTo>
                    <a:pt x="2799" y="1387"/>
                  </a:lnTo>
                  <a:lnTo>
                    <a:pt x="2911" y="949"/>
                  </a:lnTo>
                  <a:lnTo>
                    <a:pt x="2911" y="1486"/>
                  </a:lnTo>
                  <a:lnTo>
                    <a:pt x="2873" y="2129"/>
                  </a:lnTo>
                  <a:lnTo>
                    <a:pt x="2931" y="2620"/>
                  </a:lnTo>
                  <a:lnTo>
                    <a:pt x="2911" y="3004"/>
                  </a:lnTo>
                  <a:lnTo>
                    <a:pt x="2815" y="3259"/>
                  </a:lnTo>
                  <a:lnTo>
                    <a:pt x="2661" y="3386"/>
                  </a:lnTo>
                  <a:lnTo>
                    <a:pt x="2580" y="3415"/>
                  </a:lnTo>
                  <a:lnTo>
                    <a:pt x="2283" y="3415"/>
                  </a:lnTo>
                  <a:lnTo>
                    <a:pt x="2045" y="3259"/>
                  </a:lnTo>
                  <a:lnTo>
                    <a:pt x="1632" y="3184"/>
                  </a:lnTo>
                  <a:lnTo>
                    <a:pt x="1356" y="3184"/>
                  </a:lnTo>
                  <a:lnTo>
                    <a:pt x="1750" y="3162"/>
                  </a:lnTo>
                  <a:lnTo>
                    <a:pt x="2087" y="3184"/>
                  </a:lnTo>
                  <a:lnTo>
                    <a:pt x="2324" y="3136"/>
                  </a:lnTo>
                  <a:lnTo>
                    <a:pt x="2439" y="3030"/>
                  </a:lnTo>
                  <a:lnTo>
                    <a:pt x="2538" y="2830"/>
                  </a:lnTo>
                  <a:lnTo>
                    <a:pt x="2538" y="2567"/>
                  </a:lnTo>
                  <a:lnTo>
                    <a:pt x="2460" y="2389"/>
                  </a:lnTo>
                  <a:lnTo>
                    <a:pt x="2361" y="2309"/>
                  </a:lnTo>
                  <a:lnTo>
                    <a:pt x="2087" y="2466"/>
                  </a:lnTo>
                  <a:lnTo>
                    <a:pt x="2361" y="2716"/>
                  </a:lnTo>
                  <a:lnTo>
                    <a:pt x="2361" y="2929"/>
                  </a:lnTo>
                  <a:lnTo>
                    <a:pt x="2126" y="2772"/>
                  </a:lnTo>
                  <a:lnTo>
                    <a:pt x="1685" y="2716"/>
                  </a:lnTo>
                  <a:lnTo>
                    <a:pt x="1338" y="2541"/>
                  </a:lnTo>
                  <a:lnTo>
                    <a:pt x="1146" y="2309"/>
                  </a:lnTo>
                  <a:lnTo>
                    <a:pt x="1001" y="2105"/>
                  </a:lnTo>
                  <a:lnTo>
                    <a:pt x="806" y="2022"/>
                  </a:lnTo>
                  <a:lnTo>
                    <a:pt x="628" y="2006"/>
                  </a:lnTo>
                  <a:lnTo>
                    <a:pt x="489" y="2053"/>
                  </a:lnTo>
                  <a:lnTo>
                    <a:pt x="334" y="2228"/>
                  </a:lnTo>
                  <a:lnTo>
                    <a:pt x="388" y="2905"/>
                  </a:lnTo>
                  <a:lnTo>
                    <a:pt x="553" y="3259"/>
                  </a:lnTo>
                  <a:lnTo>
                    <a:pt x="334" y="2869"/>
                  </a:lnTo>
                  <a:lnTo>
                    <a:pt x="237" y="2494"/>
                  </a:lnTo>
                  <a:lnTo>
                    <a:pt x="0" y="3415"/>
                  </a:lnTo>
                  <a:lnTo>
                    <a:pt x="74" y="2929"/>
                  </a:lnTo>
                  <a:lnTo>
                    <a:pt x="300" y="2129"/>
                  </a:lnTo>
                  <a:lnTo>
                    <a:pt x="569" y="1486"/>
                  </a:lnTo>
                  <a:lnTo>
                    <a:pt x="685" y="1024"/>
                  </a:lnTo>
                  <a:lnTo>
                    <a:pt x="786" y="543"/>
                  </a:lnTo>
                  <a:lnTo>
                    <a:pt x="806" y="183"/>
                  </a:lnTo>
                  <a:lnTo>
                    <a:pt x="8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269360" y="2602800"/>
              <a:ext cx="186480" cy="463320"/>
            </a:xfrm>
            <a:custGeom>
              <a:avLst/>
              <a:gdLst/>
              <a:ahLst/>
              <a:rect l="l" t="t" r="r" b="b"/>
              <a:pathLst>
                <a:path w="1809" h="4214">
                  <a:moveTo>
                    <a:pt x="1809" y="929"/>
                  </a:moveTo>
                  <a:lnTo>
                    <a:pt x="1752" y="850"/>
                  </a:lnTo>
                  <a:lnTo>
                    <a:pt x="1688" y="850"/>
                  </a:lnTo>
                  <a:lnTo>
                    <a:pt x="1510" y="982"/>
                  </a:lnTo>
                  <a:lnTo>
                    <a:pt x="1383" y="1469"/>
                  </a:lnTo>
                  <a:lnTo>
                    <a:pt x="963" y="2601"/>
                  </a:lnTo>
                  <a:lnTo>
                    <a:pt x="565" y="3852"/>
                  </a:lnTo>
                  <a:lnTo>
                    <a:pt x="475" y="4214"/>
                  </a:lnTo>
                  <a:lnTo>
                    <a:pt x="392" y="4214"/>
                  </a:lnTo>
                  <a:lnTo>
                    <a:pt x="475" y="3852"/>
                  </a:lnTo>
                  <a:lnTo>
                    <a:pt x="413" y="2928"/>
                  </a:lnTo>
                  <a:lnTo>
                    <a:pt x="431" y="2213"/>
                  </a:lnTo>
                  <a:lnTo>
                    <a:pt x="392" y="1667"/>
                  </a:lnTo>
                  <a:lnTo>
                    <a:pt x="238" y="770"/>
                  </a:lnTo>
                  <a:lnTo>
                    <a:pt x="0" y="0"/>
                  </a:lnTo>
                  <a:lnTo>
                    <a:pt x="254" y="537"/>
                  </a:lnTo>
                  <a:lnTo>
                    <a:pt x="330" y="929"/>
                  </a:lnTo>
                  <a:lnTo>
                    <a:pt x="489" y="1929"/>
                  </a:lnTo>
                  <a:lnTo>
                    <a:pt x="688" y="2570"/>
                  </a:lnTo>
                  <a:lnTo>
                    <a:pt x="785" y="3060"/>
                  </a:lnTo>
                  <a:lnTo>
                    <a:pt x="963" y="2436"/>
                  </a:lnTo>
                  <a:lnTo>
                    <a:pt x="1022" y="2236"/>
                  </a:lnTo>
                  <a:lnTo>
                    <a:pt x="785" y="1593"/>
                  </a:lnTo>
                  <a:lnTo>
                    <a:pt x="710" y="1131"/>
                  </a:lnTo>
                  <a:lnTo>
                    <a:pt x="510" y="564"/>
                  </a:lnTo>
                  <a:lnTo>
                    <a:pt x="745" y="1155"/>
                  </a:lnTo>
                  <a:lnTo>
                    <a:pt x="862" y="1667"/>
                  </a:lnTo>
                  <a:lnTo>
                    <a:pt x="1059" y="2133"/>
                  </a:lnTo>
                  <a:lnTo>
                    <a:pt x="1317" y="1388"/>
                  </a:lnTo>
                  <a:lnTo>
                    <a:pt x="1492" y="929"/>
                  </a:lnTo>
                  <a:lnTo>
                    <a:pt x="1688" y="799"/>
                  </a:lnTo>
                  <a:lnTo>
                    <a:pt x="1809" y="799"/>
                  </a:lnTo>
                  <a:lnTo>
                    <a:pt x="1809" y="9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49320" y="2280960"/>
              <a:ext cx="337320" cy="785160"/>
            </a:xfrm>
            <a:custGeom>
              <a:avLst/>
              <a:gdLst/>
              <a:ahLst/>
              <a:rect l="l" t="t" r="r" b="b"/>
              <a:pathLst>
                <a:path w="3270" h="7142">
                  <a:moveTo>
                    <a:pt x="2125" y="2264"/>
                  </a:moveTo>
                  <a:lnTo>
                    <a:pt x="2248" y="2596"/>
                  </a:lnTo>
                  <a:lnTo>
                    <a:pt x="2287" y="2903"/>
                  </a:lnTo>
                  <a:lnTo>
                    <a:pt x="2287" y="3129"/>
                  </a:lnTo>
                  <a:lnTo>
                    <a:pt x="2125" y="3549"/>
                  </a:lnTo>
                  <a:lnTo>
                    <a:pt x="2273" y="3465"/>
                  </a:lnTo>
                  <a:lnTo>
                    <a:pt x="2446" y="3263"/>
                  </a:lnTo>
                  <a:lnTo>
                    <a:pt x="2446" y="3624"/>
                  </a:lnTo>
                  <a:lnTo>
                    <a:pt x="2380" y="3910"/>
                  </a:lnTo>
                  <a:lnTo>
                    <a:pt x="2308" y="4364"/>
                  </a:lnTo>
                  <a:lnTo>
                    <a:pt x="2557" y="4032"/>
                  </a:lnTo>
                  <a:lnTo>
                    <a:pt x="2681" y="3698"/>
                  </a:lnTo>
                  <a:lnTo>
                    <a:pt x="2681" y="3338"/>
                  </a:lnTo>
                  <a:lnTo>
                    <a:pt x="2602" y="3009"/>
                  </a:lnTo>
                  <a:lnTo>
                    <a:pt x="2822" y="3465"/>
                  </a:lnTo>
                  <a:lnTo>
                    <a:pt x="2938" y="4011"/>
                  </a:lnTo>
                  <a:lnTo>
                    <a:pt x="2879" y="4496"/>
                  </a:lnTo>
                  <a:lnTo>
                    <a:pt x="2923" y="4909"/>
                  </a:lnTo>
                  <a:lnTo>
                    <a:pt x="3028" y="5575"/>
                  </a:lnTo>
                  <a:lnTo>
                    <a:pt x="3070" y="6162"/>
                  </a:lnTo>
                  <a:lnTo>
                    <a:pt x="3270" y="7113"/>
                  </a:lnTo>
                  <a:lnTo>
                    <a:pt x="3013" y="6294"/>
                  </a:lnTo>
                  <a:lnTo>
                    <a:pt x="2938" y="5749"/>
                  </a:lnTo>
                  <a:lnTo>
                    <a:pt x="2721" y="5364"/>
                  </a:lnTo>
                  <a:lnTo>
                    <a:pt x="2578" y="4957"/>
                  </a:lnTo>
                  <a:lnTo>
                    <a:pt x="2523" y="5423"/>
                  </a:lnTo>
                  <a:lnTo>
                    <a:pt x="2656" y="6142"/>
                  </a:lnTo>
                  <a:lnTo>
                    <a:pt x="2700" y="6679"/>
                  </a:lnTo>
                  <a:lnTo>
                    <a:pt x="2822" y="7142"/>
                  </a:lnTo>
                  <a:lnTo>
                    <a:pt x="2557" y="7142"/>
                  </a:lnTo>
                  <a:lnTo>
                    <a:pt x="2107" y="6557"/>
                  </a:lnTo>
                  <a:lnTo>
                    <a:pt x="2107" y="6679"/>
                  </a:lnTo>
                  <a:lnTo>
                    <a:pt x="2308" y="7142"/>
                  </a:lnTo>
                  <a:lnTo>
                    <a:pt x="1886" y="7142"/>
                  </a:lnTo>
                  <a:lnTo>
                    <a:pt x="1810" y="6889"/>
                  </a:lnTo>
                  <a:lnTo>
                    <a:pt x="1810" y="6632"/>
                  </a:lnTo>
                  <a:lnTo>
                    <a:pt x="1951" y="6243"/>
                  </a:lnTo>
                  <a:lnTo>
                    <a:pt x="2092" y="5856"/>
                  </a:lnTo>
                  <a:lnTo>
                    <a:pt x="2125" y="5448"/>
                  </a:lnTo>
                  <a:lnTo>
                    <a:pt x="2004" y="5088"/>
                  </a:lnTo>
                  <a:lnTo>
                    <a:pt x="1987" y="4779"/>
                  </a:lnTo>
                  <a:lnTo>
                    <a:pt x="2029" y="4397"/>
                  </a:lnTo>
                  <a:lnTo>
                    <a:pt x="1974" y="4032"/>
                  </a:lnTo>
                  <a:lnTo>
                    <a:pt x="1932" y="3675"/>
                  </a:lnTo>
                  <a:lnTo>
                    <a:pt x="1932" y="3549"/>
                  </a:lnTo>
                  <a:lnTo>
                    <a:pt x="1596" y="3599"/>
                  </a:lnTo>
                  <a:lnTo>
                    <a:pt x="1282" y="3778"/>
                  </a:lnTo>
                  <a:lnTo>
                    <a:pt x="1008" y="3828"/>
                  </a:lnTo>
                  <a:lnTo>
                    <a:pt x="685" y="3828"/>
                  </a:lnTo>
                  <a:lnTo>
                    <a:pt x="319" y="3675"/>
                  </a:lnTo>
                  <a:lnTo>
                    <a:pt x="81" y="3439"/>
                  </a:lnTo>
                  <a:lnTo>
                    <a:pt x="0" y="3009"/>
                  </a:lnTo>
                  <a:lnTo>
                    <a:pt x="40" y="2617"/>
                  </a:lnTo>
                  <a:lnTo>
                    <a:pt x="161" y="2235"/>
                  </a:lnTo>
                  <a:lnTo>
                    <a:pt x="319" y="1903"/>
                  </a:lnTo>
                  <a:lnTo>
                    <a:pt x="653" y="1415"/>
                  </a:lnTo>
                  <a:lnTo>
                    <a:pt x="1321" y="646"/>
                  </a:lnTo>
                  <a:lnTo>
                    <a:pt x="1655" y="259"/>
                  </a:lnTo>
                  <a:lnTo>
                    <a:pt x="1875" y="0"/>
                  </a:lnTo>
                  <a:lnTo>
                    <a:pt x="1635" y="337"/>
                  </a:lnTo>
                  <a:lnTo>
                    <a:pt x="1422" y="595"/>
                  </a:lnTo>
                  <a:lnTo>
                    <a:pt x="1360" y="976"/>
                  </a:lnTo>
                  <a:lnTo>
                    <a:pt x="1360" y="697"/>
                  </a:lnTo>
                  <a:lnTo>
                    <a:pt x="1321" y="697"/>
                  </a:lnTo>
                  <a:lnTo>
                    <a:pt x="888" y="1211"/>
                  </a:lnTo>
                  <a:lnTo>
                    <a:pt x="609" y="1570"/>
                  </a:lnTo>
                  <a:lnTo>
                    <a:pt x="475" y="1854"/>
                  </a:lnTo>
                  <a:lnTo>
                    <a:pt x="438" y="2110"/>
                  </a:lnTo>
                  <a:lnTo>
                    <a:pt x="438" y="2444"/>
                  </a:lnTo>
                  <a:lnTo>
                    <a:pt x="494" y="2852"/>
                  </a:lnTo>
                  <a:lnTo>
                    <a:pt x="396" y="2596"/>
                  </a:lnTo>
                  <a:lnTo>
                    <a:pt x="341" y="2264"/>
                  </a:lnTo>
                  <a:lnTo>
                    <a:pt x="196" y="2674"/>
                  </a:lnTo>
                  <a:lnTo>
                    <a:pt x="196" y="3087"/>
                  </a:lnTo>
                  <a:lnTo>
                    <a:pt x="295" y="3391"/>
                  </a:lnTo>
                  <a:lnTo>
                    <a:pt x="519" y="3549"/>
                  </a:lnTo>
                  <a:lnTo>
                    <a:pt x="830" y="3624"/>
                  </a:lnTo>
                  <a:lnTo>
                    <a:pt x="1123" y="3576"/>
                  </a:lnTo>
                  <a:lnTo>
                    <a:pt x="1261" y="3391"/>
                  </a:lnTo>
                  <a:lnTo>
                    <a:pt x="947" y="3465"/>
                  </a:lnTo>
                  <a:lnTo>
                    <a:pt x="1340" y="3237"/>
                  </a:lnTo>
                  <a:lnTo>
                    <a:pt x="1556" y="2982"/>
                  </a:lnTo>
                  <a:lnTo>
                    <a:pt x="1875" y="2444"/>
                  </a:lnTo>
                  <a:lnTo>
                    <a:pt x="1655" y="2982"/>
                  </a:lnTo>
                  <a:lnTo>
                    <a:pt x="1422" y="3290"/>
                  </a:lnTo>
                  <a:lnTo>
                    <a:pt x="1713" y="3189"/>
                  </a:lnTo>
                  <a:lnTo>
                    <a:pt x="1886" y="3263"/>
                  </a:lnTo>
                  <a:lnTo>
                    <a:pt x="2149" y="3129"/>
                  </a:lnTo>
                  <a:lnTo>
                    <a:pt x="2206" y="2884"/>
                  </a:lnTo>
                  <a:lnTo>
                    <a:pt x="2206" y="2596"/>
                  </a:lnTo>
                  <a:lnTo>
                    <a:pt x="2125" y="2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79280" y="2252880"/>
              <a:ext cx="197640" cy="352800"/>
            </a:xfrm>
            <a:custGeom>
              <a:avLst/>
              <a:gdLst/>
              <a:ahLst/>
              <a:rect l="l" t="t" r="r" b="b"/>
              <a:pathLst>
                <a:path w="1914" h="3211">
                  <a:moveTo>
                    <a:pt x="726" y="128"/>
                  </a:moveTo>
                  <a:lnTo>
                    <a:pt x="966" y="767"/>
                  </a:lnTo>
                  <a:lnTo>
                    <a:pt x="1012" y="875"/>
                  </a:lnTo>
                  <a:lnTo>
                    <a:pt x="1196" y="875"/>
                  </a:lnTo>
                  <a:lnTo>
                    <a:pt x="1460" y="712"/>
                  </a:lnTo>
                  <a:lnTo>
                    <a:pt x="1662" y="281"/>
                  </a:lnTo>
                  <a:lnTo>
                    <a:pt x="1914" y="0"/>
                  </a:lnTo>
                  <a:lnTo>
                    <a:pt x="1635" y="359"/>
                  </a:lnTo>
                  <a:lnTo>
                    <a:pt x="1475" y="791"/>
                  </a:lnTo>
                  <a:lnTo>
                    <a:pt x="1047" y="1692"/>
                  </a:lnTo>
                  <a:lnTo>
                    <a:pt x="902" y="2005"/>
                  </a:lnTo>
                  <a:lnTo>
                    <a:pt x="1026" y="2206"/>
                  </a:lnTo>
                  <a:lnTo>
                    <a:pt x="1185" y="2618"/>
                  </a:lnTo>
                  <a:lnTo>
                    <a:pt x="987" y="2206"/>
                  </a:lnTo>
                  <a:lnTo>
                    <a:pt x="888" y="2107"/>
                  </a:lnTo>
                  <a:lnTo>
                    <a:pt x="690" y="2565"/>
                  </a:lnTo>
                  <a:lnTo>
                    <a:pt x="498" y="2927"/>
                  </a:lnTo>
                  <a:lnTo>
                    <a:pt x="21" y="3211"/>
                  </a:lnTo>
                  <a:lnTo>
                    <a:pt x="537" y="2697"/>
                  </a:lnTo>
                  <a:lnTo>
                    <a:pt x="809" y="2156"/>
                  </a:lnTo>
                  <a:lnTo>
                    <a:pt x="923" y="1770"/>
                  </a:lnTo>
                  <a:lnTo>
                    <a:pt x="1242" y="1106"/>
                  </a:lnTo>
                  <a:lnTo>
                    <a:pt x="1296" y="848"/>
                  </a:lnTo>
                  <a:lnTo>
                    <a:pt x="1185" y="926"/>
                  </a:lnTo>
                  <a:lnTo>
                    <a:pt x="1012" y="926"/>
                  </a:lnTo>
                  <a:lnTo>
                    <a:pt x="888" y="1258"/>
                  </a:lnTo>
                  <a:lnTo>
                    <a:pt x="671" y="1436"/>
                  </a:lnTo>
                  <a:lnTo>
                    <a:pt x="240" y="1668"/>
                  </a:lnTo>
                  <a:lnTo>
                    <a:pt x="0" y="2005"/>
                  </a:lnTo>
                  <a:lnTo>
                    <a:pt x="258" y="1591"/>
                  </a:lnTo>
                  <a:lnTo>
                    <a:pt x="726" y="1334"/>
                  </a:lnTo>
                  <a:lnTo>
                    <a:pt x="902" y="1077"/>
                  </a:lnTo>
                  <a:lnTo>
                    <a:pt x="902" y="875"/>
                  </a:lnTo>
                  <a:lnTo>
                    <a:pt x="726" y="281"/>
                  </a:lnTo>
                  <a:lnTo>
                    <a:pt x="72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22040" y="2419200"/>
              <a:ext cx="102240" cy="158040"/>
            </a:xfrm>
            <a:custGeom>
              <a:avLst/>
              <a:gdLst/>
              <a:ahLst/>
              <a:rect l="l" t="t" r="r" b="b"/>
              <a:pathLst>
                <a:path w="995" h="1441">
                  <a:moveTo>
                    <a:pt x="874" y="108"/>
                  </a:moveTo>
                  <a:lnTo>
                    <a:pt x="832" y="260"/>
                  </a:lnTo>
                  <a:lnTo>
                    <a:pt x="675" y="543"/>
                  </a:lnTo>
                  <a:lnTo>
                    <a:pt x="496" y="829"/>
                  </a:lnTo>
                  <a:lnTo>
                    <a:pt x="279" y="1033"/>
                  </a:lnTo>
                  <a:lnTo>
                    <a:pt x="182" y="1079"/>
                  </a:lnTo>
                  <a:lnTo>
                    <a:pt x="263" y="875"/>
                  </a:lnTo>
                  <a:lnTo>
                    <a:pt x="437" y="597"/>
                  </a:lnTo>
                  <a:lnTo>
                    <a:pt x="221" y="875"/>
                  </a:lnTo>
                  <a:lnTo>
                    <a:pt x="83" y="1152"/>
                  </a:lnTo>
                  <a:lnTo>
                    <a:pt x="0" y="1441"/>
                  </a:lnTo>
                  <a:lnTo>
                    <a:pt x="396" y="1033"/>
                  </a:lnTo>
                  <a:lnTo>
                    <a:pt x="729" y="597"/>
                  </a:lnTo>
                  <a:lnTo>
                    <a:pt x="910" y="286"/>
                  </a:lnTo>
                  <a:lnTo>
                    <a:pt x="995" y="0"/>
                  </a:lnTo>
                  <a:lnTo>
                    <a:pt x="87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77880" y="2450520"/>
              <a:ext cx="183240" cy="231120"/>
            </a:xfrm>
            <a:custGeom>
              <a:avLst/>
              <a:gdLst/>
              <a:ahLst/>
              <a:rect l="l" t="t" r="r" b="b"/>
              <a:pathLst>
                <a:path w="1774" h="2107">
                  <a:moveTo>
                    <a:pt x="0" y="0"/>
                  </a:moveTo>
                  <a:lnTo>
                    <a:pt x="375" y="209"/>
                  </a:lnTo>
                  <a:lnTo>
                    <a:pt x="848" y="283"/>
                  </a:lnTo>
                  <a:lnTo>
                    <a:pt x="1224" y="567"/>
                  </a:lnTo>
                  <a:lnTo>
                    <a:pt x="1457" y="617"/>
                  </a:lnTo>
                  <a:lnTo>
                    <a:pt x="1774" y="901"/>
                  </a:lnTo>
                  <a:lnTo>
                    <a:pt x="1756" y="1277"/>
                  </a:lnTo>
                  <a:lnTo>
                    <a:pt x="1497" y="2107"/>
                  </a:lnTo>
                  <a:lnTo>
                    <a:pt x="1655" y="1512"/>
                  </a:lnTo>
                  <a:lnTo>
                    <a:pt x="1655" y="1180"/>
                  </a:lnTo>
                  <a:lnTo>
                    <a:pt x="1736" y="927"/>
                  </a:lnTo>
                  <a:lnTo>
                    <a:pt x="1479" y="692"/>
                  </a:lnTo>
                  <a:lnTo>
                    <a:pt x="1237" y="617"/>
                  </a:lnTo>
                  <a:lnTo>
                    <a:pt x="887" y="435"/>
                  </a:lnTo>
                  <a:lnTo>
                    <a:pt x="695" y="336"/>
                  </a:lnTo>
                  <a:lnTo>
                    <a:pt x="315" y="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29560" y="3017880"/>
              <a:ext cx="99000" cy="48240"/>
            </a:xfrm>
            <a:custGeom>
              <a:avLst/>
              <a:gdLst/>
              <a:ahLst/>
              <a:rect l="l" t="t" r="r" b="b"/>
              <a:pathLst>
                <a:path w="958" h="435">
                  <a:moveTo>
                    <a:pt x="448" y="435"/>
                  </a:moveTo>
                  <a:lnTo>
                    <a:pt x="332" y="303"/>
                  </a:lnTo>
                  <a:lnTo>
                    <a:pt x="176" y="182"/>
                  </a:lnTo>
                  <a:lnTo>
                    <a:pt x="0" y="0"/>
                  </a:lnTo>
                  <a:lnTo>
                    <a:pt x="213" y="24"/>
                  </a:lnTo>
                  <a:lnTo>
                    <a:pt x="473" y="131"/>
                  </a:lnTo>
                  <a:lnTo>
                    <a:pt x="710" y="255"/>
                  </a:lnTo>
                  <a:lnTo>
                    <a:pt x="958" y="435"/>
                  </a:lnTo>
                  <a:lnTo>
                    <a:pt x="448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33240" y="2775240"/>
              <a:ext cx="116280" cy="41760"/>
            </a:xfrm>
            <a:custGeom>
              <a:avLst/>
              <a:gdLst/>
              <a:ahLst/>
              <a:rect l="l" t="t" r="r" b="b"/>
              <a:pathLst>
                <a:path w="1125" h="387">
                  <a:moveTo>
                    <a:pt x="0" y="0"/>
                  </a:moveTo>
                  <a:lnTo>
                    <a:pt x="102" y="25"/>
                  </a:lnTo>
                  <a:lnTo>
                    <a:pt x="157" y="73"/>
                  </a:lnTo>
                  <a:lnTo>
                    <a:pt x="279" y="255"/>
                  </a:lnTo>
                  <a:lnTo>
                    <a:pt x="397" y="361"/>
                  </a:lnTo>
                  <a:lnTo>
                    <a:pt x="593" y="387"/>
                  </a:lnTo>
                  <a:lnTo>
                    <a:pt x="768" y="361"/>
                  </a:lnTo>
                  <a:lnTo>
                    <a:pt x="948" y="283"/>
                  </a:lnTo>
                  <a:lnTo>
                    <a:pt x="1125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67800" y="2763720"/>
              <a:ext cx="18000" cy="76320"/>
            </a:xfrm>
            <a:custGeom>
              <a:avLst/>
              <a:gdLst/>
              <a:ahLst/>
              <a:rect l="l" t="t" r="r" b="b"/>
              <a:pathLst>
                <a:path w="176" h="691">
                  <a:moveTo>
                    <a:pt x="156" y="486"/>
                  </a:moveTo>
                  <a:lnTo>
                    <a:pt x="176" y="0"/>
                  </a:lnTo>
                  <a:lnTo>
                    <a:pt x="117" y="0"/>
                  </a:lnTo>
                  <a:lnTo>
                    <a:pt x="0" y="691"/>
                  </a:lnTo>
                  <a:lnTo>
                    <a:pt x="77" y="460"/>
                  </a:lnTo>
                  <a:lnTo>
                    <a:pt x="156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62120" y="2586240"/>
              <a:ext cx="82440" cy="293400"/>
            </a:xfrm>
            <a:custGeom>
              <a:avLst/>
              <a:gdLst/>
              <a:ahLst/>
              <a:rect l="l" t="t" r="r" b="b"/>
              <a:pathLst>
                <a:path w="804" h="2670">
                  <a:moveTo>
                    <a:pt x="666" y="0"/>
                  </a:moveTo>
                  <a:lnTo>
                    <a:pt x="585" y="560"/>
                  </a:lnTo>
                  <a:lnTo>
                    <a:pt x="452" y="949"/>
                  </a:lnTo>
                  <a:lnTo>
                    <a:pt x="295" y="1233"/>
                  </a:lnTo>
                  <a:lnTo>
                    <a:pt x="156" y="1464"/>
                  </a:lnTo>
                  <a:lnTo>
                    <a:pt x="233" y="973"/>
                  </a:lnTo>
                  <a:lnTo>
                    <a:pt x="314" y="613"/>
                  </a:lnTo>
                  <a:lnTo>
                    <a:pt x="156" y="1033"/>
                  </a:lnTo>
                  <a:lnTo>
                    <a:pt x="74" y="1464"/>
                  </a:lnTo>
                  <a:lnTo>
                    <a:pt x="62" y="1898"/>
                  </a:lnTo>
                  <a:lnTo>
                    <a:pt x="16" y="2283"/>
                  </a:lnTo>
                  <a:lnTo>
                    <a:pt x="0" y="2617"/>
                  </a:lnTo>
                  <a:lnTo>
                    <a:pt x="196" y="2079"/>
                  </a:lnTo>
                  <a:lnTo>
                    <a:pt x="277" y="2259"/>
                  </a:lnTo>
                  <a:lnTo>
                    <a:pt x="277" y="2487"/>
                  </a:lnTo>
                  <a:lnTo>
                    <a:pt x="452" y="2670"/>
                  </a:lnTo>
                  <a:lnTo>
                    <a:pt x="606" y="2545"/>
                  </a:lnTo>
                  <a:lnTo>
                    <a:pt x="424" y="2545"/>
                  </a:lnTo>
                  <a:lnTo>
                    <a:pt x="350" y="2363"/>
                  </a:lnTo>
                  <a:lnTo>
                    <a:pt x="350" y="2259"/>
                  </a:lnTo>
                  <a:lnTo>
                    <a:pt x="523" y="2232"/>
                  </a:lnTo>
                  <a:lnTo>
                    <a:pt x="350" y="2079"/>
                  </a:lnTo>
                  <a:lnTo>
                    <a:pt x="374" y="1949"/>
                  </a:lnTo>
                  <a:lnTo>
                    <a:pt x="644" y="1898"/>
                  </a:lnTo>
                  <a:lnTo>
                    <a:pt x="804" y="1791"/>
                  </a:lnTo>
                  <a:lnTo>
                    <a:pt x="510" y="1872"/>
                  </a:lnTo>
                  <a:lnTo>
                    <a:pt x="314" y="1847"/>
                  </a:lnTo>
                  <a:lnTo>
                    <a:pt x="217" y="1718"/>
                  </a:lnTo>
                  <a:lnTo>
                    <a:pt x="233" y="1538"/>
                  </a:lnTo>
                  <a:lnTo>
                    <a:pt x="334" y="1254"/>
                  </a:lnTo>
                  <a:lnTo>
                    <a:pt x="547" y="973"/>
                  </a:lnTo>
                  <a:lnTo>
                    <a:pt x="631" y="714"/>
                  </a:lnTo>
                  <a:lnTo>
                    <a:pt x="684" y="309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8880" y="2563200"/>
              <a:ext cx="81720" cy="246240"/>
            </a:xfrm>
            <a:custGeom>
              <a:avLst/>
              <a:gdLst/>
              <a:ahLst/>
              <a:rect l="l" t="t" r="r" b="b"/>
              <a:pathLst>
                <a:path w="793" h="2233">
                  <a:moveTo>
                    <a:pt x="175" y="0"/>
                  </a:moveTo>
                  <a:lnTo>
                    <a:pt x="294" y="247"/>
                  </a:lnTo>
                  <a:lnTo>
                    <a:pt x="571" y="537"/>
                  </a:lnTo>
                  <a:lnTo>
                    <a:pt x="689" y="866"/>
                  </a:lnTo>
                  <a:lnTo>
                    <a:pt x="689" y="1178"/>
                  </a:lnTo>
                  <a:lnTo>
                    <a:pt x="793" y="1360"/>
                  </a:lnTo>
                  <a:lnTo>
                    <a:pt x="769" y="1589"/>
                  </a:lnTo>
                  <a:lnTo>
                    <a:pt x="689" y="1413"/>
                  </a:lnTo>
                  <a:lnTo>
                    <a:pt x="615" y="1360"/>
                  </a:lnTo>
                  <a:lnTo>
                    <a:pt x="454" y="1567"/>
                  </a:lnTo>
                  <a:lnTo>
                    <a:pt x="313" y="1717"/>
                  </a:lnTo>
                  <a:lnTo>
                    <a:pt x="119" y="2022"/>
                  </a:lnTo>
                  <a:lnTo>
                    <a:pt x="0" y="2233"/>
                  </a:lnTo>
                  <a:lnTo>
                    <a:pt x="264" y="1717"/>
                  </a:lnTo>
                  <a:lnTo>
                    <a:pt x="454" y="1413"/>
                  </a:lnTo>
                  <a:lnTo>
                    <a:pt x="558" y="1178"/>
                  </a:lnTo>
                  <a:lnTo>
                    <a:pt x="594" y="952"/>
                  </a:lnTo>
                  <a:lnTo>
                    <a:pt x="571" y="690"/>
                  </a:lnTo>
                  <a:lnTo>
                    <a:pt x="516" y="537"/>
                  </a:lnTo>
                  <a:lnTo>
                    <a:pt x="375" y="385"/>
                  </a:lnTo>
                  <a:lnTo>
                    <a:pt x="264" y="247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98480" y="2756880"/>
              <a:ext cx="266040" cy="381600"/>
            </a:xfrm>
            <a:custGeom>
              <a:avLst/>
              <a:gdLst/>
              <a:ahLst/>
              <a:rect l="l" t="t" r="r" b="b"/>
              <a:pathLst>
                <a:path w="2574" h="3472">
                  <a:moveTo>
                    <a:pt x="2249" y="2795"/>
                  </a:moveTo>
                  <a:lnTo>
                    <a:pt x="2376" y="2654"/>
                  </a:lnTo>
                  <a:lnTo>
                    <a:pt x="2472" y="2474"/>
                  </a:lnTo>
                  <a:lnTo>
                    <a:pt x="2547" y="2172"/>
                  </a:lnTo>
                  <a:lnTo>
                    <a:pt x="2574" y="1866"/>
                  </a:lnTo>
                  <a:lnTo>
                    <a:pt x="2574" y="1468"/>
                  </a:lnTo>
                  <a:lnTo>
                    <a:pt x="2496" y="1028"/>
                  </a:lnTo>
                  <a:lnTo>
                    <a:pt x="2351" y="650"/>
                  </a:lnTo>
                  <a:lnTo>
                    <a:pt x="2150" y="314"/>
                  </a:lnTo>
                  <a:lnTo>
                    <a:pt x="1921" y="97"/>
                  </a:lnTo>
                  <a:lnTo>
                    <a:pt x="1732" y="14"/>
                  </a:lnTo>
                  <a:lnTo>
                    <a:pt x="1602" y="0"/>
                  </a:lnTo>
                  <a:lnTo>
                    <a:pt x="1408" y="37"/>
                  </a:lnTo>
                  <a:lnTo>
                    <a:pt x="806" y="365"/>
                  </a:lnTo>
                  <a:lnTo>
                    <a:pt x="481" y="679"/>
                  </a:lnTo>
                  <a:lnTo>
                    <a:pt x="130" y="1098"/>
                  </a:lnTo>
                  <a:lnTo>
                    <a:pt x="33" y="1287"/>
                  </a:lnTo>
                  <a:lnTo>
                    <a:pt x="0" y="1468"/>
                  </a:lnTo>
                  <a:lnTo>
                    <a:pt x="18" y="1725"/>
                  </a:lnTo>
                  <a:lnTo>
                    <a:pt x="66" y="1967"/>
                  </a:lnTo>
                  <a:lnTo>
                    <a:pt x="154" y="2235"/>
                  </a:lnTo>
                  <a:lnTo>
                    <a:pt x="195" y="2430"/>
                  </a:lnTo>
                  <a:lnTo>
                    <a:pt x="229" y="2654"/>
                  </a:lnTo>
                  <a:lnTo>
                    <a:pt x="241" y="2852"/>
                  </a:lnTo>
                  <a:lnTo>
                    <a:pt x="229" y="3048"/>
                  </a:lnTo>
                  <a:lnTo>
                    <a:pt x="209" y="3221"/>
                  </a:lnTo>
                  <a:lnTo>
                    <a:pt x="154" y="3329"/>
                  </a:lnTo>
                  <a:lnTo>
                    <a:pt x="79" y="34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92800" y="2791080"/>
              <a:ext cx="102240" cy="274320"/>
            </a:xfrm>
            <a:custGeom>
              <a:avLst/>
              <a:gdLst/>
              <a:ahLst/>
              <a:rect l="l" t="t" r="r" b="b"/>
              <a:pathLst>
                <a:path w="991" h="2494">
                  <a:moveTo>
                    <a:pt x="576" y="2494"/>
                  </a:moveTo>
                  <a:lnTo>
                    <a:pt x="762" y="2369"/>
                  </a:lnTo>
                  <a:lnTo>
                    <a:pt x="894" y="2160"/>
                  </a:lnTo>
                  <a:lnTo>
                    <a:pt x="958" y="1901"/>
                  </a:lnTo>
                  <a:lnTo>
                    <a:pt x="991" y="1556"/>
                  </a:lnTo>
                  <a:lnTo>
                    <a:pt x="968" y="1198"/>
                  </a:lnTo>
                  <a:lnTo>
                    <a:pt x="894" y="793"/>
                  </a:lnTo>
                  <a:lnTo>
                    <a:pt x="784" y="505"/>
                  </a:lnTo>
                  <a:lnTo>
                    <a:pt x="640" y="281"/>
                  </a:lnTo>
                  <a:lnTo>
                    <a:pt x="463" y="110"/>
                  </a:lnTo>
                  <a:lnTo>
                    <a:pt x="237" y="27"/>
                  </a:lnTo>
                  <a:lnTo>
                    <a:pt x="1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75520" y="2874600"/>
              <a:ext cx="26280" cy="253800"/>
            </a:xfrm>
            <a:custGeom>
              <a:avLst/>
              <a:gdLst/>
              <a:ahLst/>
              <a:rect l="l" t="t" r="r" b="b"/>
              <a:pathLst>
                <a:path w="257" h="2314">
                  <a:moveTo>
                    <a:pt x="246" y="0"/>
                  </a:moveTo>
                  <a:lnTo>
                    <a:pt x="114" y="96"/>
                  </a:lnTo>
                  <a:lnTo>
                    <a:pt x="29" y="237"/>
                  </a:lnTo>
                  <a:lnTo>
                    <a:pt x="5" y="406"/>
                  </a:lnTo>
                  <a:lnTo>
                    <a:pt x="0" y="571"/>
                  </a:lnTo>
                  <a:lnTo>
                    <a:pt x="29" y="733"/>
                  </a:lnTo>
                  <a:lnTo>
                    <a:pt x="125" y="1035"/>
                  </a:lnTo>
                  <a:lnTo>
                    <a:pt x="200" y="1329"/>
                  </a:lnTo>
                  <a:lnTo>
                    <a:pt x="238" y="1628"/>
                  </a:lnTo>
                  <a:lnTo>
                    <a:pt x="257" y="1902"/>
                  </a:lnTo>
                  <a:lnTo>
                    <a:pt x="224" y="2072"/>
                  </a:lnTo>
                  <a:lnTo>
                    <a:pt x="180" y="23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89560" y="2717280"/>
              <a:ext cx="149400" cy="80640"/>
            </a:xfrm>
            <a:custGeom>
              <a:avLst/>
              <a:gdLst/>
              <a:ahLst/>
              <a:rect l="l" t="t" r="r" b="b"/>
              <a:pathLst>
                <a:path w="1448" h="737">
                  <a:moveTo>
                    <a:pt x="90" y="633"/>
                  </a:moveTo>
                  <a:lnTo>
                    <a:pt x="112" y="451"/>
                  </a:lnTo>
                  <a:lnTo>
                    <a:pt x="259" y="354"/>
                  </a:lnTo>
                  <a:lnTo>
                    <a:pt x="259" y="539"/>
                  </a:lnTo>
                  <a:lnTo>
                    <a:pt x="341" y="306"/>
                  </a:lnTo>
                  <a:lnTo>
                    <a:pt x="494" y="200"/>
                  </a:lnTo>
                  <a:lnTo>
                    <a:pt x="989" y="55"/>
                  </a:lnTo>
                  <a:lnTo>
                    <a:pt x="1096" y="99"/>
                  </a:lnTo>
                  <a:lnTo>
                    <a:pt x="1147" y="184"/>
                  </a:lnTo>
                  <a:lnTo>
                    <a:pt x="1154" y="297"/>
                  </a:lnTo>
                  <a:lnTo>
                    <a:pt x="1200" y="354"/>
                  </a:lnTo>
                  <a:lnTo>
                    <a:pt x="1336" y="437"/>
                  </a:lnTo>
                  <a:lnTo>
                    <a:pt x="1398" y="523"/>
                  </a:lnTo>
                  <a:lnTo>
                    <a:pt x="1416" y="633"/>
                  </a:lnTo>
                  <a:lnTo>
                    <a:pt x="1422" y="737"/>
                  </a:lnTo>
                  <a:lnTo>
                    <a:pt x="1448" y="583"/>
                  </a:lnTo>
                  <a:lnTo>
                    <a:pt x="1435" y="424"/>
                  </a:lnTo>
                  <a:lnTo>
                    <a:pt x="1382" y="368"/>
                  </a:lnTo>
                  <a:lnTo>
                    <a:pt x="1248" y="327"/>
                  </a:lnTo>
                  <a:lnTo>
                    <a:pt x="1193" y="255"/>
                  </a:lnTo>
                  <a:lnTo>
                    <a:pt x="1193" y="174"/>
                  </a:lnTo>
                  <a:lnTo>
                    <a:pt x="1147" y="68"/>
                  </a:lnTo>
                  <a:lnTo>
                    <a:pt x="1063" y="13"/>
                  </a:lnTo>
                  <a:lnTo>
                    <a:pt x="927" y="0"/>
                  </a:lnTo>
                  <a:lnTo>
                    <a:pt x="780" y="29"/>
                  </a:lnTo>
                  <a:lnTo>
                    <a:pt x="381" y="184"/>
                  </a:lnTo>
                  <a:lnTo>
                    <a:pt x="259" y="281"/>
                  </a:lnTo>
                  <a:lnTo>
                    <a:pt x="250" y="327"/>
                  </a:lnTo>
                  <a:lnTo>
                    <a:pt x="77" y="424"/>
                  </a:lnTo>
                  <a:lnTo>
                    <a:pt x="26" y="477"/>
                  </a:lnTo>
                  <a:lnTo>
                    <a:pt x="0" y="592"/>
                  </a:lnTo>
                  <a:lnTo>
                    <a:pt x="12" y="677"/>
                  </a:lnTo>
                  <a:lnTo>
                    <a:pt x="9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80920" y="2793600"/>
              <a:ext cx="85320" cy="72720"/>
            </a:xfrm>
            <a:custGeom>
              <a:avLst/>
              <a:gdLst/>
              <a:ahLst/>
              <a:rect l="l" t="t" r="r" b="b"/>
              <a:pathLst>
                <a:path w="822" h="663">
                  <a:moveTo>
                    <a:pt x="307" y="0"/>
                  </a:moveTo>
                  <a:lnTo>
                    <a:pt x="323" y="63"/>
                  </a:lnTo>
                  <a:lnTo>
                    <a:pt x="400" y="138"/>
                  </a:lnTo>
                  <a:lnTo>
                    <a:pt x="499" y="180"/>
                  </a:lnTo>
                  <a:lnTo>
                    <a:pt x="485" y="309"/>
                  </a:lnTo>
                  <a:lnTo>
                    <a:pt x="340" y="365"/>
                  </a:lnTo>
                  <a:lnTo>
                    <a:pt x="40" y="446"/>
                  </a:lnTo>
                  <a:lnTo>
                    <a:pt x="0" y="545"/>
                  </a:lnTo>
                  <a:lnTo>
                    <a:pt x="8" y="663"/>
                  </a:lnTo>
                  <a:lnTo>
                    <a:pt x="40" y="536"/>
                  </a:lnTo>
                  <a:lnTo>
                    <a:pt x="107" y="461"/>
                  </a:lnTo>
                  <a:lnTo>
                    <a:pt x="626" y="327"/>
                  </a:lnTo>
                  <a:lnTo>
                    <a:pt x="769" y="327"/>
                  </a:lnTo>
                  <a:lnTo>
                    <a:pt x="822" y="338"/>
                  </a:lnTo>
                  <a:lnTo>
                    <a:pt x="709" y="213"/>
                  </a:lnTo>
                  <a:lnTo>
                    <a:pt x="582" y="83"/>
                  </a:lnTo>
                  <a:lnTo>
                    <a:pt x="406" y="24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82000" y="2858760"/>
              <a:ext cx="107280" cy="41760"/>
            </a:xfrm>
            <a:custGeom>
              <a:avLst/>
              <a:gdLst/>
              <a:ahLst/>
              <a:rect l="l" t="t" r="r" b="b"/>
              <a:pathLst>
                <a:path w="1042" h="383">
                  <a:moveTo>
                    <a:pt x="40" y="56"/>
                  </a:moveTo>
                  <a:lnTo>
                    <a:pt x="163" y="81"/>
                  </a:lnTo>
                  <a:lnTo>
                    <a:pt x="374" y="75"/>
                  </a:lnTo>
                  <a:lnTo>
                    <a:pt x="739" y="0"/>
                  </a:lnTo>
                  <a:lnTo>
                    <a:pt x="892" y="0"/>
                  </a:lnTo>
                  <a:lnTo>
                    <a:pt x="680" y="75"/>
                  </a:lnTo>
                  <a:lnTo>
                    <a:pt x="323" y="146"/>
                  </a:lnTo>
                  <a:lnTo>
                    <a:pt x="341" y="224"/>
                  </a:lnTo>
                  <a:lnTo>
                    <a:pt x="519" y="242"/>
                  </a:lnTo>
                  <a:lnTo>
                    <a:pt x="796" y="273"/>
                  </a:lnTo>
                  <a:lnTo>
                    <a:pt x="998" y="344"/>
                  </a:lnTo>
                  <a:lnTo>
                    <a:pt x="1025" y="344"/>
                  </a:lnTo>
                  <a:lnTo>
                    <a:pt x="1042" y="383"/>
                  </a:lnTo>
                  <a:lnTo>
                    <a:pt x="888" y="358"/>
                  </a:lnTo>
                  <a:lnTo>
                    <a:pt x="719" y="314"/>
                  </a:lnTo>
                  <a:lnTo>
                    <a:pt x="341" y="254"/>
                  </a:lnTo>
                  <a:lnTo>
                    <a:pt x="271" y="215"/>
                  </a:lnTo>
                  <a:lnTo>
                    <a:pt x="200" y="146"/>
                  </a:lnTo>
                  <a:lnTo>
                    <a:pt x="0" y="56"/>
                  </a:lnTo>
                  <a:lnTo>
                    <a:pt x="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74440" y="2886120"/>
              <a:ext cx="110520" cy="137160"/>
            </a:xfrm>
            <a:custGeom>
              <a:avLst/>
              <a:gdLst/>
              <a:ahLst/>
              <a:rect l="l" t="t" r="r" b="b"/>
              <a:pathLst>
                <a:path w="1074" h="1247">
                  <a:moveTo>
                    <a:pt x="429" y="0"/>
                  </a:moveTo>
                  <a:lnTo>
                    <a:pt x="373" y="90"/>
                  </a:lnTo>
                  <a:lnTo>
                    <a:pt x="292" y="371"/>
                  </a:lnTo>
                  <a:lnTo>
                    <a:pt x="193" y="329"/>
                  </a:lnTo>
                  <a:lnTo>
                    <a:pt x="0" y="415"/>
                  </a:lnTo>
                  <a:lnTo>
                    <a:pt x="53" y="639"/>
                  </a:lnTo>
                  <a:lnTo>
                    <a:pt x="147" y="964"/>
                  </a:lnTo>
                  <a:lnTo>
                    <a:pt x="224" y="1247"/>
                  </a:lnTo>
                  <a:lnTo>
                    <a:pt x="1074" y="1247"/>
                  </a:lnTo>
                  <a:lnTo>
                    <a:pt x="316" y="1005"/>
                  </a:lnTo>
                  <a:lnTo>
                    <a:pt x="147" y="784"/>
                  </a:lnTo>
                  <a:lnTo>
                    <a:pt x="106" y="562"/>
                  </a:lnTo>
                  <a:lnTo>
                    <a:pt x="274" y="463"/>
                  </a:lnTo>
                  <a:lnTo>
                    <a:pt x="397" y="11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96040" y="3023280"/>
              <a:ext cx="45360" cy="42120"/>
            </a:xfrm>
            <a:custGeom>
              <a:avLst/>
              <a:gdLst/>
              <a:ahLst/>
              <a:rect l="l" t="t" r="r" b="b"/>
              <a:pathLst>
                <a:path w="439" h="378">
                  <a:moveTo>
                    <a:pt x="79" y="0"/>
                  </a:moveTo>
                  <a:lnTo>
                    <a:pt x="119" y="157"/>
                  </a:lnTo>
                  <a:lnTo>
                    <a:pt x="193" y="300"/>
                  </a:lnTo>
                  <a:lnTo>
                    <a:pt x="281" y="341"/>
                  </a:lnTo>
                  <a:lnTo>
                    <a:pt x="373" y="365"/>
                  </a:lnTo>
                  <a:lnTo>
                    <a:pt x="439" y="378"/>
                  </a:lnTo>
                  <a:lnTo>
                    <a:pt x="46" y="378"/>
                  </a:lnTo>
                  <a:lnTo>
                    <a:pt x="0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04320" y="2885040"/>
              <a:ext cx="90720" cy="137880"/>
            </a:xfrm>
            <a:custGeom>
              <a:avLst/>
              <a:gdLst/>
              <a:ahLst/>
              <a:rect l="l" t="t" r="r" b="b"/>
              <a:pathLst>
                <a:path w="877" h="1259">
                  <a:moveTo>
                    <a:pt x="105" y="0"/>
                  </a:moveTo>
                  <a:lnTo>
                    <a:pt x="180" y="141"/>
                  </a:lnTo>
                  <a:lnTo>
                    <a:pt x="224" y="409"/>
                  </a:lnTo>
                  <a:lnTo>
                    <a:pt x="277" y="475"/>
                  </a:lnTo>
                  <a:lnTo>
                    <a:pt x="224" y="651"/>
                  </a:lnTo>
                  <a:lnTo>
                    <a:pt x="114" y="747"/>
                  </a:lnTo>
                  <a:lnTo>
                    <a:pt x="114" y="965"/>
                  </a:lnTo>
                  <a:lnTo>
                    <a:pt x="0" y="1031"/>
                  </a:lnTo>
                  <a:lnTo>
                    <a:pt x="782" y="1259"/>
                  </a:lnTo>
                  <a:lnTo>
                    <a:pt x="844" y="1044"/>
                  </a:lnTo>
                  <a:lnTo>
                    <a:pt x="877" y="809"/>
                  </a:lnTo>
                  <a:lnTo>
                    <a:pt x="868" y="574"/>
                  </a:lnTo>
                  <a:lnTo>
                    <a:pt x="831" y="297"/>
                  </a:lnTo>
                  <a:lnTo>
                    <a:pt x="824" y="171"/>
                  </a:lnTo>
                  <a:lnTo>
                    <a:pt x="824" y="453"/>
                  </a:lnTo>
                  <a:lnTo>
                    <a:pt x="782" y="581"/>
                  </a:lnTo>
                  <a:lnTo>
                    <a:pt x="708" y="605"/>
                  </a:lnTo>
                  <a:lnTo>
                    <a:pt x="578" y="620"/>
                  </a:lnTo>
                  <a:lnTo>
                    <a:pt x="429" y="581"/>
                  </a:lnTo>
                  <a:lnTo>
                    <a:pt x="323" y="441"/>
                  </a:lnTo>
                  <a:lnTo>
                    <a:pt x="250" y="273"/>
                  </a:lnTo>
                  <a:lnTo>
                    <a:pt x="224" y="102"/>
                  </a:lnTo>
                  <a:lnTo>
                    <a:pt x="224" y="3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942480" y="3066120"/>
              <a:ext cx="777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1820160" y="3064320"/>
              <a:ext cx="16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0" name="" descr=""/>
          <p:cNvPicPr/>
          <p:nvPr/>
        </p:nvPicPr>
        <p:blipFill>
          <a:blip r:embed="rId1"/>
          <a:srcRect l="0" t="0" r="27274" b="0"/>
          <a:stretch/>
        </p:blipFill>
        <p:spPr>
          <a:xfrm>
            <a:off x="281160" y="2811600"/>
            <a:ext cx="866520" cy="86040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1065960" y="1459080"/>
            <a:ext cx="1279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660360" y="1595520"/>
            <a:ext cx="1400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85880" y="1847160"/>
            <a:ext cx="3900600" cy="1650240"/>
          </a:xfrm>
          <a:prstGeom prst="leftRightArrow">
            <a:avLst>
              <a:gd name="adj1" fmla="val 50000"/>
              <a:gd name="adj2" fmla="val 470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01680" y="3903840"/>
            <a:ext cx="8599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l de comunicação entre amb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ar base de dados única sobre clientes (sistema C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onar processos de apoio (gestão de mudanças de prod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os serviços mais valorizados pelos cl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ser integradas açõ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45600" y="6491160"/>
            <a:ext cx="85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M: customer relationship management, SAC: serviço de atendimento ao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ocesso de atendimento ao client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7945560" y="1285920"/>
            <a:ext cx="72360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42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C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6320" y="109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Desenvolver processo de atendimento ao client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439560" y="677880"/>
            <a:ext cx="7463160" cy="5889600"/>
            <a:chOff x="439560" y="677880"/>
            <a:chExt cx="7463160" cy="5889600"/>
          </a:xfrm>
        </p:grpSpPr>
        <p:grpSp>
          <p:nvGrpSpPr>
            <p:cNvPr id="1090" name=""/>
            <p:cNvGrpSpPr/>
            <p:nvPr/>
          </p:nvGrpSpPr>
          <p:grpSpPr>
            <a:xfrm>
              <a:off x="439560" y="677880"/>
              <a:ext cx="7463160" cy="5889600"/>
              <a:chOff x="439560" y="677880"/>
              <a:chExt cx="7463160" cy="5889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382920" y="677880"/>
                <a:ext cx="4421160" cy="3848040"/>
              </a:xfrm>
              <a:custGeom>
                <a:avLst/>
                <a:gdLst/>
                <a:ahLst/>
                <a:rect l="l" t="t" r="r" b="b"/>
                <a:pathLst>
                  <a:path w="2785" h="2424">
                    <a:moveTo>
                      <a:pt x="0" y="1010"/>
                    </a:moveTo>
                    <a:lnTo>
                      <a:pt x="718" y="0"/>
                    </a:lnTo>
                    <a:lnTo>
                      <a:pt x="2783" y="0"/>
                    </a:lnTo>
                    <a:lnTo>
                      <a:pt x="2785" y="2416"/>
                    </a:lnTo>
                    <a:lnTo>
                      <a:pt x="740" y="2424"/>
                    </a:lnTo>
                    <a:lnTo>
                      <a:pt x="10" y="1339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47720" y="1887840"/>
                <a:ext cx="1344600" cy="472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nçamento do Produt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0800000">
                <a:off x="2387520" y="3028680"/>
                <a:ext cx="665280" cy="1537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0800000">
                <a:off x="2385720" y="1758960"/>
                <a:ext cx="664920" cy="1540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4840" y="1139760"/>
                <a:ext cx="3060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specificações finais 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lano de lanç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995480" y="2170080"/>
                <a:ext cx="1447920" cy="852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processo de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9560" y="3216240"/>
                <a:ext cx="403704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specificação do processo de atendimento ao cl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ursos para operação do proces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iberação do processo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518000" y="5005440"/>
                <a:ext cx="3384720" cy="1562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792320" y="5508720"/>
                <a:ext cx="2831400" cy="80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delagem de proces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stema SCM / ER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stemas de tele-atendi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675320" y="4583160"/>
                <a:ext cx="2984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77840" y="4965840"/>
                <a:ext cx="3384720" cy="160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270080" y="4583160"/>
                <a:ext cx="298440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lação com outras atividad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1219320" y="5146560"/>
                <a:ext cx="3090600" cy="1295640"/>
                <a:chOff x="1219320" y="5146560"/>
                <a:chExt cx="3090600" cy="129564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219320" y="5146560"/>
                  <a:ext cx="3090600" cy="1295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1312920" y="5226120"/>
                  <a:ext cx="2892240" cy="1184400"/>
                  <a:chOff x="1312920" y="5226120"/>
                  <a:chExt cx="2892240" cy="118440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1312920" y="5680080"/>
                    <a:ext cx="1224000" cy="73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er processo de atendimento ao cl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536920" y="5226120"/>
                    <a:ext cx="1251000" cy="36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lanejar Lançamento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08" name=""/>
                  <p:cNvCxnSpPr>
                    <a:stCxn id="1107" idx="1"/>
                    <a:endCxn id="1106" idx="0"/>
                  </p:cNvCxnSpPr>
                  <p:nvPr/>
                </p:nvCxnSpPr>
                <p:spPr>
                  <a:xfrm flipV="1" rot="10800000">
                    <a:off x="1924920" y="5417640"/>
                    <a:ext cx="602280" cy="25344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109" name=""/>
                  <p:cNvSpPr/>
                  <p:nvPr/>
                </p:nvSpPr>
                <p:spPr>
                  <a:xfrm>
                    <a:off x="2901960" y="5867280"/>
                    <a:ext cx="1303200" cy="370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ançar produt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10" name=""/>
                  <p:cNvCxnSpPr>
                    <a:stCxn id="1106" idx="3"/>
                    <a:endCxn id="1109" idx="1"/>
                  </p:cNvCxnSpPr>
                  <p:nvPr/>
                </p:nvCxnSpPr>
                <p:spPr>
                  <a:xfrm flipV="1">
                    <a:off x="2546280" y="6052320"/>
                    <a:ext cx="347040" cy="2520"/>
                  </a:xfrm>
                  <a:prstGeom prst="straightConnector1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  <p:grpSp>
          <p:nvGrpSpPr>
            <p:cNvPr id="1111" name=""/>
            <p:cNvGrpSpPr/>
            <p:nvPr/>
          </p:nvGrpSpPr>
          <p:grpSpPr>
            <a:xfrm>
              <a:off x="4230720" y="733320"/>
              <a:ext cx="3470040" cy="3698280"/>
              <a:chOff x="4230720" y="733320"/>
              <a:chExt cx="3470040" cy="3698280"/>
            </a:xfrm>
          </p:grpSpPr>
          <p:sp>
            <p:nvSpPr>
              <p:cNvPr id="1112" name=""/>
              <p:cNvSpPr/>
              <p:nvPr/>
            </p:nvSpPr>
            <p:spPr>
              <a:xfrm>
                <a:off x="4808520" y="733320"/>
                <a:ext cx="231300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har processo de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762800" y="4005000"/>
                <a:ext cx="240480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antar processo de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230720" y="3565440"/>
                <a:ext cx="347004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einar pessoal de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497480" y="3127320"/>
                <a:ext cx="293508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tratar / alocar pessoal/empre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87920" y="2474640"/>
                <a:ext cx="255276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sistema de apoio a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708800" y="1823760"/>
                <a:ext cx="251280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documentação de atendimento ao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28560" y="1384200"/>
                <a:ext cx="167328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rar recursos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"/>
                <p:cNvCxnSpPr>
                  <a:stCxn id="126" idx="0"/>
                  <a:endCxn id="13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438520" y="3088800"/>
            <a:ext cx="2847240" cy="2518920"/>
            <a:chOff x="5438520" y="3088800"/>
            <a:chExt cx="2847240" cy="2518920"/>
          </a:xfrm>
        </p:grpSpPr>
        <p:grpSp>
          <p:nvGrpSpPr>
            <p:cNvPr id="204" name=""/>
            <p:cNvGrpSpPr/>
            <p:nvPr/>
          </p:nvGrpSpPr>
          <p:grpSpPr>
            <a:xfrm>
              <a:off x="6241320" y="3489840"/>
              <a:ext cx="2044440" cy="2117880"/>
              <a:chOff x="6241320" y="3489840"/>
              <a:chExt cx="2044440" cy="21178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6242040" y="3520080"/>
                <a:ext cx="2013120" cy="1995120"/>
                <a:chOff x="6242040" y="3520080"/>
                <a:chExt cx="2013120" cy="199512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6242040" y="3520080"/>
                  <a:ext cx="2013120" cy="1995120"/>
                  <a:chOff x="6242040" y="3520080"/>
                  <a:chExt cx="2013120" cy="19951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8852400">
                    <a:off x="6974640" y="4300920"/>
                    <a:ext cx="1098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8852400">
                    <a:off x="6475680" y="3749400"/>
                    <a:ext cx="121176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479280" y="3582000"/>
                  <a:ext cx="1576080" cy="1879560"/>
                  <a:chOff x="6479280" y="3582000"/>
                  <a:chExt cx="1576080" cy="18795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8852400">
                    <a:off x="7124760" y="3634560"/>
                    <a:ext cx="31428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8852400">
                    <a:off x="6683400" y="4446720"/>
                    <a:ext cx="11304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8852400">
                    <a:off x="7269120" y="512028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8852400">
                    <a:off x="7772400" y="414396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 rot="8852400">
                <a:off x="6573960" y="3703320"/>
                <a:ext cx="126432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356160" y="3572280"/>
                <a:ext cx="1929600" cy="2035440"/>
                <a:chOff x="6356160" y="3572280"/>
                <a:chExt cx="1929600" cy="2035440"/>
              </a:xfrm>
            </p:grpSpPr>
            <p:sp>
              <p:nvSpPr>
                <p:cNvPr id="216" name=""/>
                <p:cNvSpPr/>
                <p:nvPr/>
              </p:nvSpPr>
              <p:spPr>
                <a:xfrm rot="8852400">
                  <a:off x="6703200" y="3803400"/>
                  <a:ext cx="123444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8852400">
                  <a:off x="6688800" y="3785760"/>
                  <a:ext cx="126396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8852400">
                  <a:off x="6723360" y="3827880"/>
                  <a:ext cx="119376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5438520" y="3088800"/>
              <a:ext cx="1269000" cy="1324080"/>
              <a:chOff x="5438520" y="3088800"/>
              <a:chExt cx="1269000" cy="1324080"/>
            </a:xfrm>
          </p:grpSpPr>
          <p:sp>
            <p:nvSpPr>
              <p:cNvPr id="220" name=""/>
              <p:cNvSpPr/>
              <p:nvPr/>
            </p:nvSpPr>
            <p:spPr>
              <a:xfrm rot="8852400">
                <a:off x="5780880" y="31626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8852400">
                <a:off x="6466320" y="396864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8852400">
                <a:off x="6445800" y="393660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8852400">
                <a:off x="6509520" y="387468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8852400">
                <a:off x="6468480" y="39693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8852400">
                <a:off x="6320160" y="38667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230880" y="3802680"/>
                <a:ext cx="311400" cy="319320"/>
                <a:chOff x="6230880" y="3802680"/>
                <a:chExt cx="311400" cy="3193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6252840" y="3818520"/>
                  <a:ext cx="289440" cy="303480"/>
                  <a:chOff x="6252840" y="3818520"/>
                  <a:chExt cx="289440" cy="303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8852400">
                    <a:off x="6302880" y="38512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8852400">
                    <a:off x="6301440" y="385128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8852400">
                    <a:off x="6301800" y="385164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 rot="8852400">
                  <a:off x="6279120" y="383508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188760" y="3770280"/>
                <a:ext cx="311400" cy="319320"/>
                <a:chOff x="6188760" y="3770280"/>
                <a:chExt cx="311400" cy="3193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6211080" y="3786480"/>
                  <a:ext cx="289080" cy="303120"/>
                  <a:chOff x="6211080" y="3786480"/>
                  <a:chExt cx="289080" cy="3031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8852400">
                    <a:off x="6260040" y="381888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8852400">
                    <a:off x="6259320" y="38192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8852400">
                    <a:off x="6260040" y="381960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rot="8852400">
                  <a:off x="6237360" y="380268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168240" y="3757320"/>
                <a:ext cx="290160" cy="304200"/>
                <a:chOff x="6168240" y="3757320"/>
                <a:chExt cx="290160" cy="304200"/>
              </a:xfrm>
            </p:grpSpPr>
            <p:sp>
              <p:nvSpPr>
                <p:cNvPr id="239" name=""/>
                <p:cNvSpPr/>
                <p:nvPr/>
              </p:nvSpPr>
              <p:spPr>
                <a:xfrm rot="8852400">
                  <a:off x="6217920" y="379008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852400">
                  <a:off x="6216840" y="379044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146280" y="3741840"/>
                <a:ext cx="311040" cy="319680"/>
                <a:chOff x="6146280" y="3741840"/>
                <a:chExt cx="311040" cy="319680"/>
              </a:xfrm>
            </p:grpSpPr>
            <p:sp>
              <p:nvSpPr>
                <p:cNvPr id="242" name=""/>
                <p:cNvSpPr/>
                <p:nvPr/>
              </p:nvSpPr>
              <p:spPr>
                <a:xfrm rot="8852400">
                  <a:off x="6216840" y="379116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8852400">
                  <a:off x="6194880" y="37742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78200" y="3318840"/>
                <a:ext cx="1039680" cy="855360"/>
                <a:chOff x="5578200" y="3318840"/>
                <a:chExt cx="1039680" cy="855360"/>
              </a:xfrm>
            </p:grpSpPr>
            <p:sp>
              <p:nvSpPr>
                <p:cNvPr id="245" name=""/>
                <p:cNvSpPr/>
                <p:nvPr/>
              </p:nvSpPr>
              <p:spPr>
                <a:xfrm flipH="1" flipV="1">
                  <a:off x="5578200" y="3524400"/>
                  <a:ext cx="933480" cy="64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5658120" y="3318840"/>
                  <a:ext cx="959760" cy="68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08840" y="3716640"/>
                <a:ext cx="307800" cy="316080"/>
                <a:chOff x="6108840" y="3716640"/>
                <a:chExt cx="307800" cy="3160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6127560" y="3729600"/>
                  <a:ext cx="289080" cy="303120"/>
                  <a:chOff x="6127560" y="3729600"/>
                  <a:chExt cx="289080" cy="3031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8852400">
                    <a:off x="6176880" y="376200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8852400">
                    <a:off x="6175800" y="37623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 rot="8852400">
                  <a:off x="6175800" y="37620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8852400">
                  <a:off x="6157080" y="37490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8852400">
                <a:off x="5812560" y="320976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8852400">
                <a:off x="5493600" y="327168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aracterística do processo de assistência técnic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tos são mais confiáveis e descart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ços de manutenção são vendidos com os produtos (outra fonte de fatur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nteúdo de apoio à assistência técnica é criado durante a fase de detalhamento (manuais e instruções de manuten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6320" y="109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Desenvolver processo de assistência técnic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471600" y="936720"/>
            <a:ext cx="7462440" cy="5889600"/>
            <a:chOff x="471600" y="936720"/>
            <a:chExt cx="7462440" cy="5889600"/>
          </a:xfrm>
        </p:grpSpPr>
        <p:grpSp>
          <p:nvGrpSpPr>
            <p:cNvPr id="1125" name=""/>
            <p:cNvGrpSpPr/>
            <p:nvPr/>
          </p:nvGrpSpPr>
          <p:grpSpPr>
            <a:xfrm>
              <a:off x="471600" y="936720"/>
              <a:ext cx="7462440" cy="5889600"/>
              <a:chOff x="471600" y="936720"/>
              <a:chExt cx="7462440" cy="5889600"/>
            </a:xfrm>
          </p:grpSpPr>
          <p:sp>
            <p:nvSpPr>
              <p:cNvPr id="1126" name=""/>
              <p:cNvSpPr/>
              <p:nvPr/>
            </p:nvSpPr>
            <p:spPr>
              <a:xfrm>
                <a:off x="3414600" y="936720"/>
                <a:ext cx="4420800" cy="3848040"/>
              </a:xfrm>
              <a:custGeom>
                <a:avLst/>
                <a:gdLst/>
                <a:ahLst/>
                <a:rect l="l" t="t" r="r" b="b"/>
                <a:pathLst>
                  <a:path w="2785" h="2424">
                    <a:moveTo>
                      <a:pt x="0" y="1010"/>
                    </a:moveTo>
                    <a:lnTo>
                      <a:pt x="718" y="0"/>
                    </a:lnTo>
                    <a:lnTo>
                      <a:pt x="2783" y="0"/>
                    </a:lnTo>
                    <a:lnTo>
                      <a:pt x="2785" y="2416"/>
                    </a:lnTo>
                    <a:lnTo>
                      <a:pt x="740" y="2424"/>
                    </a:lnTo>
                    <a:lnTo>
                      <a:pt x="10" y="1339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9400" y="2146680"/>
                <a:ext cx="1344240" cy="472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nçamento do Produt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0800000">
                <a:off x="2418840" y="3287520"/>
                <a:ext cx="664920" cy="1537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0800000">
                <a:off x="2417760" y="2017800"/>
                <a:ext cx="664560" cy="1540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6520" y="1398600"/>
                <a:ext cx="3060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specificações finais do produ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lano de lanç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27160" y="2428920"/>
                <a:ext cx="1447560" cy="852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processo de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71600" y="3475080"/>
                <a:ext cx="403668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specificação do processo de assistência técn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ursos para operação do proces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iberação do processo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549680" y="5264280"/>
                <a:ext cx="3384360" cy="1562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04360" y="5767560"/>
                <a:ext cx="247032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delagem de proces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stema SCM / ER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707000" y="4842000"/>
                <a:ext cx="298404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étodos, ferramentas, documentos de apo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109520" y="5224680"/>
                <a:ext cx="3384360" cy="160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301760" y="4842000"/>
                <a:ext cx="2984040" cy="5490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lação com outras atividad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1251000" y="5405400"/>
                <a:ext cx="3090240" cy="1295640"/>
                <a:chOff x="1251000" y="5405400"/>
                <a:chExt cx="3090240" cy="129564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1251000" y="5405400"/>
                  <a:ext cx="3090240" cy="1295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1344240" y="5484960"/>
                  <a:ext cx="2891520" cy="1184400"/>
                  <a:chOff x="1344240" y="5484960"/>
                  <a:chExt cx="2891520" cy="118440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1344240" y="5938920"/>
                    <a:ext cx="1223640" cy="73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er processo de assistência técn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567880" y="5484960"/>
                    <a:ext cx="1250640" cy="36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lanejar Lançamento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43" name=""/>
                  <p:cNvCxnSpPr>
                    <a:stCxn id="1142" idx="1"/>
                    <a:endCxn id="1141" idx="0"/>
                  </p:cNvCxnSpPr>
                  <p:nvPr/>
                </p:nvCxnSpPr>
                <p:spPr>
                  <a:xfrm flipV="1" rot="10800000">
                    <a:off x="1955880" y="5676480"/>
                    <a:ext cx="601920" cy="253440"/>
                  </a:xfrm>
                  <a:prstGeom prst="bentConnector2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144" name=""/>
                  <p:cNvSpPr/>
                  <p:nvPr/>
                </p:nvSpPr>
                <p:spPr>
                  <a:xfrm>
                    <a:off x="2932920" y="6126120"/>
                    <a:ext cx="1302840" cy="370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ançar produt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45" name=""/>
                  <p:cNvCxnSpPr>
                    <a:stCxn id="1141" idx="3"/>
                    <a:endCxn id="1144" idx="1"/>
                  </p:cNvCxnSpPr>
                  <p:nvPr/>
                </p:nvCxnSpPr>
                <p:spPr>
                  <a:xfrm flipV="1">
                    <a:off x="2576880" y="6311160"/>
                    <a:ext cx="346680" cy="2520"/>
                  </a:xfrm>
                  <a:prstGeom prst="straightConnector1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  <p:grpSp>
          <p:nvGrpSpPr>
            <p:cNvPr id="1146" name=""/>
            <p:cNvGrpSpPr/>
            <p:nvPr/>
          </p:nvGrpSpPr>
          <p:grpSpPr>
            <a:xfrm>
              <a:off x="4408560" y="992160"/>
              <a:ext cx="3175920" cy="3698280"/>
              <a:chOff x="4408560" y="992160"/>
              <a:chExt cx="3175920" cy="3698280"/>
            </a:xfrm>
          </p:grpSpPr>
          <p:sp>
            <p:nvSpPr>
              <p:cNvPr id="1147" name=""/>
              <p:cNvSpPr/>
              <p:nvPr/>
            </p:nvSpPr>
            <p:spPr>
              <a:xfrm>
                <a:off x="4839840" y="992160"/>
                <a:ext cx="231228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har processo de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94120" y="4263840"/>
                <a:ext cx="240408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antar processo de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408560" y="3824280"/>
                <a:ext cx="317592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einar pessoal de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528440" y="3386160"/>
                <a:ext cx="293508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tratar / alocar pessoal/empre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19240" y="2733480"/>
                <a:ext cx="255204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sistema de apoio a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40120" y="2082600"/>
                <a:ext cx="2512080" cy="42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envolver documentação de assistência téc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59520" y="1643040"/>
                <a:ext cx="1673280" cy="213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rar recursos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arefas da atividades: Promover marketing de lança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r o plano de lan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 a campanha public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a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ver as v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ar os fornecedores de 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152360" y="4940280"/>
            <a:ext cx="5835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 a documentação pode ser gerenciada por sistemas GED (gerenciamento eletrônico de documentos). Não somente desta fase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023240" y="4824360"/>
            <a:ext cx="1501200" cy="2033280"/>
            <a:chOff x="7023240" y="4824360"/>
            <a:chExt cx="1501200" cy="2033280"/>
          </a:xfrm>
        </p:grpSpPr>
        <p:sp>
          <p:nvSpPr>
            <p:cNvPr id="1160" name=""/>
            <p:cNvSpPr/>
            <p:nvPr/>
          </p:nvSpPr>
          <p:spPr>
            <a:xfrm>
              <a:off x="7682400" y="6305400"/>
              <a:ext cx="833760" cy="542160"/>
            </a:xfrm>
            <a:custGeom>
              <a:avLst/>
              <a:gdLst/>
              <a:ahLst/>
              <a:rect l="l" t="t" r="r" b="b"/>
              <a:pathLst>
                <a:path w="5066" h="3461">
                  <a:moveTo>
                    <a:pt x="0" y="2296"/>
                  </a:moveTo>
                  <a:lnTo>
                    <a:pt x="170" y="1853"/>
                  </a:lnTo>
                  <a:lnTo>
                    <a:pt x="962" y="1352"/>
                  </a:lnTo>
                  <a:lnTo>
                    <a:pt x="3272" y="262"/>
                  </a:lnTo>
                  <a:lnTo>
                    <a:pt x="4030" y="0"/>
                  </a:lnTo>
                  <a:lnTo>
                    <a:pt x="4375" y="280"/>
                  </a:lnTo>
                  <a:lnTo>
                    <a:pt x="4691" y="609"/>
                  </a:lnTo>
                  <a:lnTo>
                    <a:pt x="5066" y="1076"/>
                  </a:lnTo>
                  <a:lnTo>
                    <a:pt x="5066" y="1277"/>
                  </a:lnTo>
                  <a:lnTo>
                    <a:pt x="1764" y="3461"/>
                  </a:lnTo>
                  <a:lnTo>
                    <a:pt x="674" y="2741"/>
                  </a:lnTo>
                  <a:lnTo>
                    <a:pt x="242" y="2461"/>
                  </a:lnTo>
                  <a:lnTo>
                    <a:pt x="0" y="2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045560" y="4834440"/>
              <a:ext cx="1330560" cy="1725120"/>
            </a:xfrm>
            <a:custGeom>
              <a:avLst/>
              <a:gdLst/>
              <a:ahLst/>
              <a:rect l="l" t="t" r="r" b="b"/>
              <a:pathLst>
                <a:path w="8088" h="11020">
                  <a:moveTo>
                    <a:pt x="911" y="6733"/>
                  </a:moveTo>
                  <a:lnTo>
                    <a:pt x="2067" y="6519"/>
                  </a:lnTo>
                  <a:lnTo>
                    <a:pt x="2121" y="6662"/>
                  </a:lnTo>
                  <a:lnTo>
                    <a:pt x="364" y="7193"/>
                  </a:lnTo>
                  <a:lnTo>
                    <a:pt x="496" y="9360"/>
                  </a:lnTo>
                  <a:lnTo>
                    <a:pt x="3133" y="11020"/>
                  </a:lnTo>
                  <a:lnTo>
                    <a:pt x="4209" y="10419"/>
                  </a:lnTo>
                  <a:lnTo>
                    <a:pt x="5229" y="9921"/>
                  </a:lnTo>
                  <a:lnTo>
                    <a:pt x="6413" y="9392"/>
                  </a:lnTo>
                  <a:lnTo>
                    <a:pt x="7757" y="8824"/>
                  </a:lnTo>
                  <a:lnTo>
                    <a:pt x="8088" y="6982"/>
                  </a:lnTo>
                  <a:lnTo>
                    <a:pt x="5858" y="6485"/>
                  </a:lnTo>
                  <a:lnTo>
                    <a:pt x="5640" y="5705"/>
                  </a:lnTo>
                  <a:lnTo>
                    <a:pt x="6800" y="5137"/>
                  </a:lnTo>
                  <a:lnTo>
                    <a:pt x="7265" y="4854"/>
                  </a:lnTo>
                  <a:lnTo>
                    <a:pt x="7235" y="4461"/>
                  </a:lnTo>
                  <a:lnTo>
                    <a:pt x="7072" y="3933"/>
                  </a:lnTo>
                  <a:lnTo>
                    <a:pt x="6713" y="2763"/>
                  </a:lnTo>
                  <a:lnTo>
                    <a:pt x="6250" y="1592"/>
                  </a:lnTo>
                  <a:lnTo>
                    <a:pt x="5833" y="672"/>
                  </a:lnTo>
                  <a:lnTo>
                    <a:pt x="5640" y="285"/>
                  </a:lnTo>
                  <a:lnTo>
                    <a:pt x="5418" y="0"/>
                  </a:lnTo>
                  <a:lnTo>
                    <a:pt x="3523" y="387"/>
                  </a:lnTo>
                  <a:lnTo>
                    <a:pt x="2067" y="814"/>
                  </a:lnTo>
                  <a:lnTo>
                    <a:pt x="965" y="1308"/>
                  </a:lnTo>
                  <a:lnTo>
                    <a:pt x="415" y="2372"/>
                  </a:lnTo>
                  <a:lnTo>
                    <a:pt x="578" y="2763"/>
                  </a:lnTo>
                  <a:lnTo>
                    <a:pt x="200" y="3470"/>
                  </a:lnTo>
                  <a:lnTo>
                    <a:pt x="0" y="3933"/>
                  </a:lnTo>
                  <a:lnTo>
                    <a:pt x="89" y="4751"/>
                  </a:lnTo>
                  <a:lnTo>
                    <a:pt x="364" y="5635"/>
                  </a:lnTo>
                  <a:lnTo>
                    <a:pt x="748" y="6485"/>
                  </a:lnTo>
                  <a:lnTo>
                    <a:pt x="911" y="67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46800" y="5647680"/>
              <a:ext cx="70920" cy="81000"/>
            </a:xfrm>
            <a:custGeom>
              <a:avLst/>
              <a:gdLst/>
              <a:ahLst/>
              <a:rect l="l" t="t" r="r" b="b"/>
              <a:pathLst>
                <a:path w="431" h="522">
                  <a:moveTo>
                    <a:pt x="12" y="309"/>
                  </a:moveTo>
                  <a:lnTo>
                    <a:pt x="0" y="197"/>
                  </a:lnTo>
                  <a:lnTo>
                    <a:pt x="38" y="77"/>
                  </a:lnTo>
                  <a:lnTo>
                    <a:pt x="120" y="0"/>
                  </a:lnTo>
                  <a:lnTo>
                    <a:pt x="292" y="0"/>
                  </a:lnTo>
                  <a:lnTo>
                    <a:pt x="387" y="90"/>
                  </a:lnTo>
                  <a:lnTo>
                    <a:pt x="431" y="324"/>
                  </a:lnTo>
                  <a:lnTo>
                    <a:pt x="387" y="490"/>
                  </a:lnTo>
                  <a:lnTo>
                    <a:pt x="206" y="522"/>
                  </a:lnTo>
                  <a:lnTo>
                    <a:pt x="21" y="431"/>
                  </a:lnTo>
                  <a:lnTo>
                    <a:pt x="12" y="309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272000" y="4945680"/>
              <a:ext cx="852480" cy="805680"/>
            </a:xfrm>
            <a:custGeom>
              <a:avLst/>
              <a:gdLst/>
              <a:ahLst/>
              <a:rect l="l" t="t" r="r" b="b"/>
              <a:pathLst>
                <a:path w="5181" h="5137">
                  <a:moveTo>
                    <a:pt x="0" y="932"/>
                  </a:moveTo>
                  <a:lnTo>
                    <a:pt x="344" y="1509"/>
                  </a:lnTo>
                  <a:lnTo>
                    <a:pt x="780" y="2391"/>
                  </a:lnTo>
                  <a:lnTo>
                    <a:pt x="1143" y="3181"/>
                  </a:lnTo>
                  <a:lnTo>
                    <a:pt x="1459" y="3920"/>
                  </a:lnTo>
                  <a:lnTo>
                    <a:pt x="1729" y="4619"/>
                  </a:lnTo>
                  <a:lnTo>
                    <a:pt x="1923" y="5137"/>
                  </a:lnTo>
                  <a:lnTo>
                    <a:pt x="2762" y="4923"/>
                  </a:lnTo>
                  <a:lnTo>
                    <a:pt x="3584" y="4619"/>
                  </a:lnTo>
                  <a:lnTo>
                    <a:pt x="4527" y="4224"/>
                  </a:lnTo>
                  <a:lnTo>
                    <a:pt x="5098" y="3950"/>
                  </a:lnTo>
                  <a:lnTo>
                    <a:pt x="5168" y="3741"/>
                  </a:lnTo>
                  <a:lnTo>
                    <a:pt x="5181" y="3292"/>
                  </a:lnTo>
                  <a:lnTo>
                    <a:pt x="5098" y="2857"/>
                  </a:lnTo>
                  <a:lnTo>
                    <a:pt x="4838" y="2083"/>
                  </a:lnTo>
                  <a:lnTo>
                    <a:pt x="4568" y="1489"/>
                  </a:lnTo>
                  <a:lnTo>
                    <a:pt x="4280" y="957"/>
                  </a:lnTo>
                  <a:lnTo>
                    <a:pt x="4013" y="558"/>
                  </a:lnTo>
                  <a:lnTo>
                    <a:pt x="3765" y="264"/>
                  </a:lnTo>
                  <a:lnTo>
                    <a:pt x="3425" y="54"/>
                  </a:lnTo>
                  <a:lnTo>
                    <a:pt x="3092" y="0"/>
                  </a:lnTo>
                  <a:lnTo>
                    <a:pt x="2463" y="86"/>
                  </a:lnTo>
                  <a:lnTo>
                    <a:pt x="1685" y="341"/>
                  </a:lnTo>
                  <a:lnTo>
                    <a:pt x="107" y="866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533720" y="5289120"/>
              <a:ext cx="364320" cy="195480"/>
            </a:xfrm>
            <a:custGeom>
              <a:avLst/>
              <a:gdLst/>
              <a:ahLst/>
              <a:rect l="l" t="t" r="r" b="b"/>
              <a:pathLst>
                <a:path w="2215" h="1246">
                  <a:moveTo>
                    <a:pt x="2215" y="0"/>
                  </a:moveTo>
                  <a:lnTo>
                    <a:pt x="2164" y="432"/>
                  </a:lnTo>
                  <a:lnTo>
                    <a:pt x="2052" y="883"/>
                  </a:lnTo>
                  <a:lnTo>
                    <a:pt x="1839" y="1160"/>
                  </a:lnTo>
                  <a:lnTo>
                    <a:pt x="1467" y="1246"/>
                  </a:lnTo>
                  <a:lnTo>
                    <a:pt x="1004" y="1188"/>
                  </a:lnTo>
                  <a:lnTo>
                    <a:pt x="499" y="938"/>
                  </a:lnTo>
                  <a:lnTo>
                    <a:pt x="181" y="707"/>
                  </a:lnTo>
                  <a:lnTo>
                    <a:pt x="0" y="493"/>
                  </a:lnTo>
                  <a:lnTo>
                    <a:pt x="486" y="493"/>
                  </a:lnTo>
                  <a:lnTo>
                    <a:pt x="1072" y="419"/>
                  </a:lnTo>
                  <a:lnTo>
                    <a:pt x="1678" y="236"/>
                  </a:lnTo>
                  <a:lnTo>
                    <a:pt x="2164" y="0"/>
                  </a:lnTo>
                  <a:lnTo>
                    <a:pt x="22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90520" y="5128920"/>
              <a:ext cx="115560" cy="77400"/>
            </a:xfrm>
            <a:custGeom>
              <a:avLst/>
              <a:gdLst/>
              <a:ahLst/>
              <a:rect l="l" t="t" r="r" b="b"/>
              <a:pathLst>
                <a:path w="700" h="498">
                  <a:moveTo>
                    <a:pt x="122" y="498"/>
                  </a:moveTo>
                  <a:lnTo>
                    <a:pt x="193" y="403"/>
                  </a:lnTo>
                  <a:lnTo>
                    <a:pt x="331" y="272"/>
                  </a:lnTo>
                  <a:lnTo>
                    <a:pt x="438" y="201"/>
                  </a:lnTo>
                  <a:lnTo>
                    <a:pt x="700" y="91"/>
                  </a:lnTo>
                  <a:lnTo>
                    <a:pt x="632" y="0"/>
                  </a:lnTo>
                  <a:lnTo>
                    <a:pt x="369" y="66"/>
                  </a:lnTo>
                  <a:lnTo>
                    <a:pt x="193" y="182"/>
                  </a:lnTo>
                  <a:lnTo>
                    <a:pt x="84" y="272"/>
                  </a:lnTo>
                  <a:lnTo>
                    <a:pt x="0" y="429"/>
                  </a:lnTo>
                  <a:lnTo>
                    <a:pt x="122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48280" y="5062320"/>
              <a:ext cx="102600" cy="45000"/>
            </a:xfrm>
            <a:custGeom>
              <a:avLst/>
              <a:gdLst/>
              <a:ahLst/>
              <a:rect l="l" t="t" r="r" b="b"/>
              <a:pathLst>
                <a:path w="629" h="289">
                  <a:moveTo>
                    <a:pt x="33" y="289"/>
                  </a:moveTo>
                  <a:lnTo>
                    <a:pt x="231" y="202"/>
                  </a:lnTo>
                  <a:lnTo>
                    <a:pt x="385" y="154"/>
                  </a:lnTo>
                  <a:lnTo>
                    <a:pt x="527" y="154"/>
                  </a:lnTo>
                  <a:lnTo>
                    <a:pt x="613" y="182"/>
                  </a:lnTo>
                  <a:lnTo>
                    <a:pt x="629" y="42"/>
                  </a:lnTo>
                  <a:lnTo>
                    <a:pt x="436" y="0"/>
                  </a:lnTo>
                  <a:lnTo>
                    <a:pt x="262" y="24"/>
                  </a:lnTo>
                  <a:lnTo>
                    <a:pt x="107" y="87"/>
                  </a:lnTo>
                  <a:lnTo>
                    <a:pt x="0" y="182"/>
                  </a:lnTo>
                  <a:lnTo>
                    <a:pt x="33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75920" y="5196600"/>
              <a:ext cx="142920" cy="63720"/>
            </a:xfrm>
            <a:custGeom>
              <a:avLst/>
              <a:gdLst/>
              <a:ahLst/>
              <a:rect l="l" t="t" r="r" b="b"/>
              <a:pathLst>
                <a:path w="877" h="411">
                  <a:moveTo>
                    <a:pt x="0" y="275"/>
                  </a:moveTo>
                  <a:lnTo>
                    <a:pt x="194" y="275"/>
                  </a:lnTo>
                  <a:lnTo>
                    <a:pt x="407" y="250"/>
                  </a:lnTo>
                  <a:lnTo>
                    <a:pt x="584" y="184"/>
                  </a:lnTo>
                  <a:lnTo>
                    <a:pt x="738" y="69"/>
                  </a:lnTo>
                  <a:lnTo>
                    <a:pt x="826" y="0"/>
                  </a:lnTo>
                  <a:lnTo>
                    <a:pt x="877" y="49"/>
                  </a:lnTo>
                  <a:lnTo>
                    <a:pt x="774" y="202"/>
                  </a:lnTo>
                  <a:lnTo>
                    <a:pt x="631" y="321"/>
                  </a:lnTo>
                  <a:lnTo>
                    <a:pt x="474" y="385"/>
                  </a:lnTo>
                  <a:lnTo>
                    <a:pt x="319" y="411"/>
                  </a:lnTo>
                  <a:lnTo>
                    <a:pt x="125" y="385"/>
                  </a:lnTo>
                  <a:lnTo>
                    <a:pt x="18" y="32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44440" y="5206320"/>
              <a:ext cx="543240" cy="170280"/>
            </a:xfrm>
            <a:custGeom>
              <a:avLst/>
              <a:gdLst/>
              <a:ahLst/>
              <a:rect l="l" t="t" r="r" b="b"/>
              <a:pathLst>
                <a:path w="3301" h="1086">
                  <a:moveTo>
                    <a:pt x="0" y="975"/>
                  </a:moveTo>
                  <a:lnTo>
                    <a:pt x="210" y="904"/>
                  </a:lnTo>
                  <a:lnTo>
                    <a:pt x="387" y="794"/>
                  </a:lnTo>
                  <a:lnTo>
                    <a:pt x="506" y="679"/>
                  </a:lnTo>
                  <a:lnTo>
                    <a:pt x="612" y="522"/>
                  </a:lnTo>
                  <a:lnTo>
                    <a:pt x="681" y="407"/>
                  </a:lnTo>
                  <a:lnTo>
                    <a:pt x="681" y="564"/>
                  </a:lnTo>
                  <a:lnTo>
                    <a:pt x="650" y="794"/>
                  </a:lnTo>
                  <a:lnTo>
                    <a:pt x="563" y="929"/>
                  </a:lnTo>
                  <a:lnTo>
                    <a:pt x="843" y="947"/>
                  </a:lnTo>
                  <a:lnTo>
                    <a:pt x="1312" y="929"/>
                  </a:lnTo>
                  <a:lnTo>
                    <a:pt x="1752" y="838"/>
                  </a:lnTo>
                  <a:lnTo>
                    <a:pt x="2262" y="679"/>
                  </a:lnTo>
                  <a:lnTo>
                    <a:pt x="2508" y="564"/>
                  </a:lnTo>
                  <a:lnTo>
                    <a:pt x="2792" y="407"/>
                  </a:lnTo>
                  <a:lnTo>
                    <a:pt x="2965" y="252"/>
                  </a:lnTo>
                  <a:lnTo>
                    <a:pt x="2733" y="181"/>
                  </a:lnTo>
                  <a:lnTo>
                    <a:pt x="2558" y="0"/>
                  </a:lnTo>
                  <a:lnTo>
                    <a:pt x="2792" y="71"/>
                  </a:lnTo>
                  <a:lnTo>
                    <a:pt x="3018" y="91"/>
                  </a:lnTo>
                  <a:lnTo>
                    <a:pt x="3301" y="24"/>
                  </a:lnTo>
                  <a:lnTo>
                    <a:pt x="3278" y="133"/>
                  </a:lnTo>
                  <a:lnTo>
                    <a:pt x="3156" y="206"/>
                  </a:lnTo>
                  <a:lnTo>
                    <a:pt x="3054" y="252"/>
                  </a:lnTo>
                  <a:lnTo>
                    <a:pt x="2840" y="453"/>
                  </a:lnTo>
                  <a:lnTo>
                    <a:pt x="2455" y="703"/>
                  </a:lnTo>
                  <a:lnTo>
                    <a:pt x="1842" y="929"/>
                  </a:lnTo>
                  <a:lnTo>
                    <a:pt x="1278" y="1019"/>
                  </a:lnTo>
                  <a:lnTo>
                    <a:pt x="772" y="1066"/>
                  </a:lnTo>
                  <a:lnTo>
                    <a:pt x="474" y="1066"/>
                  </a:lnTo>
                  <a:lnTo>
                    <a:pt x="317" y="1086"/>
                  </a:lnTo>
                  <a:lnTo>
                    <a:pt x="174" y="1086"/>
                  </a:lnTo>
                  <a:lnTo>
                    <a:pt x="16" y="1019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525800" y="5281560"/>
              <a:ext cx="374760" cy="228960"/>
            </a:xfrm>
            <a:custGeom>
              <a:avLst/>
              <a:gdLst/>
              <a:ahLst/>
              <a:rect l="l" t="t" r="r" b="b"/>
              <a:pathLst>
                <a:path w="2281" h="1471">
                  <a:moveTo>
                    <a:pt x="2179" y="71"/>
                  </a:moveTo>
                  <a:lnTo>
                    <a:pt x="2179" y="272"/>
                  </a:lnTo>
                  <a:lnTo>
                    <a:pt x="2121" y="637"/>
                  </a:lnTo>
                  <a:lnTo>
                    <a:pt x="2054" y="884"/>
                  </a:lnTo>
                  <a:lnTo>
                    <a:pt x="1915" y="1068"/>
                  </a:lnTo>
                  <a:lnTo>
                    <a:pt x="1718" y="1158"/>
                  </a:lnTo>
                  <a:lnTo>
                    <a:pt x="1459" y="1179"/>
                  </a:lnTo>
                  <a:lnTo>
                    <a:pt x="1212" y="1158"/>
                  </a:lnTo>
                  <a:lnTo>
                    <a:pt x="842" y="1020"/>
                  </a:lnTo>
                  <a:lnTo>
                    <a:pt x="476" y="838"/>
                  </a:lnTo>
                  <a:lnTo>
                    <a:pt x="282" y="703"/>
                  </a:lnTo>
                  <a:lnTo>
                    <a:pt x="102" y="546"/>
                  </a:lnTo>
                  <a:lnTo>
                    <a:pt x="0" y="593"/>
                  </a:lnTo>
                  <a:lnTo>
                    <a:pt x="175" y="814"/>
                  </a:lnTo>
                  <a:lnTo>
                    <a:pt x="476" y="1110"/>
                  </a:lnTo>
                  <a:lnTo>
                    <a:pt x="776" y="1288"/>
                  </a:lnTo>
                  <a:lnTo>
                    <a:pt x="1212" y="1455"/>
                  </a:lnTo>
                  <a:lnTo>
                    <a:pt x="1495" y="1471"/>
                  </a:lnTo>
                  <a:lnTo>
                    <a:pt x="1737" y="1455"/>
                  </a:lnTo>
                  <a:lnTo>
                    <a:pt x="1947" y="1336"/>
                  </a:lnTo>
                  <a:lnTo>
                    <a:pt x="2092" y="1158"/>
                  </a:lnTo>
                  <a:lnTo>
                    <a:pt x="2195" y="904"/>
                  </a:lnTo>
                  <a:lnTo>
                    <a:pt x="2243" y="613"/>
                  </a:lnTo>
                  <a:lnTo>
                    <a:pt x="2281" y="293"/>
                  </a:lnTo>
                  <a:lnTo>
                    <a:pt x="2281" y="0"/>
                  </a:lnTo>
                  <a:lnTo>
                    <a:pt x="217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760160" y="5515920"/>
              <a:ext cx="126000" cy="46440"/>
            </a:xfrm>
            <a:custGeom>
              <a:avLst/>
              <a:gdLst/>
              <a:ahLst/>
              <a:rect l="l" t="t" r="r" b="b"/>
              <a:pathLst>
                <a:path w="770" h="294">
                  <a:moveTo>
                    <a:pt x="14" y="201"/>
                  </a:moveTo>
                  <a:lnTo>
                    <a:pt x="224" y="221"/>
                  </a:lnTo>
                  <a:lnTo>
                    <a:pt x="415" y="201"/>
                  </a:lnTo>
                  <a:lnTo>
                    <a:pt x="593" y="139"/>
                  </a:lnTo>
                  <a:lnTo>
                    <a:pt x="719" y="0"/>
                  </a:lnTo>
                  <a:lnTo>
                    <a:pt x="770" y="93"/>
                  </a:lnTo>
                  <a:lnTo>
                    <a:pt x="643" y="201"/>
                  </a:lnTo>
                  <a:lnTo>
                    <a:pt x="490" y="270"/>
                  </a:lnTo>
                  <a:lnTo>
                    <a:pt x="363" y="294"/>
                  </a:lnTo>
                  <a:lnTo>
                    <a:pt x="206" y="294"/>
                  </a:lnTo>
                  <a:lnTo>
                    <a:pt x="0" y="246"/>
                  </a:lnTo>
                  <a:lnTo>
                    <a:pt x="1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77200" y="4923360"/>
              <a:ext cx="114120" cy="167760"/>
            </a:xfrm>
            <a:custGeom>
              <a:avLst/>
              <a:gdLst/>
              <a:ahLst/>
              <a:rect l="l" t="t" r="r" b="b"/>
              <a:pathLst>
                <a:path w="695" h="1068">
                  <a:moveTo>
                    <a:pt x="143" y="1068"/>
                  </a:moveTo>
                  <a:lnTo>
                    <a:pt x="87" y="1068"/>
                  </a:lnTo>
                  <a:lnTo>
                    <a:pt x="16" y="1019"/>
                  </a:lnTo>
                  <a:lnTo>
                    <a:pt x="0" y="928"/>
                  </a:lnTo>
                  <a:lnTo>
                    <a:pt x="36" y="727"/>
                  </a:lnTo>
                  <a:lnTo>
                    <a:pt x="439" y="0"/>
                  </a:lnTo>
                  <a:lnTo>
                    <a:pt x="525" y="0"/>
                  </a:lnTo>
                  <a:lnTo>
                    <a:pt x="665" y="114"/>
                  </a:lnTo>
                  <a:lnTo>
                    <a:pt x="695" y="249"/>
                  </a:lnTo>
                  <a:lnTo>
                    <a:pt x="665" y="389"/>
                  </a:lnTo>
                  <a:lnTo>
                    <a:pt x="193" y="1040"/>
                  </a:lnTo>
                  <a:lnTo>
                    <a:pt x="143" y="10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683840" y="4870440"/>
              <a:ext cx="122040" cy="110520"/>
            </a:xfrm>
            <a:custGeom>
              <a:avLst/>
              <a:gdLst/>
              <a:ahLst/>
              <a:rect l="l" t="t" r="r" b="b"/>
              <a:pathLst>
                <a:path w="740" h="698">
                  <a:moveTo>
                    <a:pt x="107" y="0"/>
                  </a:moveTo>
                  <a:lnTo>
                    <a:pt x="36" y="20"/>
                  </a:lnTo>
                  <a:lnTo>
                    <a:pt x="0" y="110"/>
                  </a:lnTo>
                  <a:lnTo>
                    <a:pt x="0" y="247"/>
                  </a:lnTo>
                  <a:lnTo>
                    <a:pt x="87" y="316"/>
                  </a:lnTo>
                  <a:lnTo>
                    <a:pt x="666" y="698"/>
                  </a:lnTo>
                  <a:lnTo>
                    <a:pt x="720" y="650"/>
                  </a:lnTo>
                  <a:lnTo>
                    <a:pt x="740" y="448"/>
                  </a:lnTo>
                  <a:lnTo>
                    <a:pt x="649" y="334"/>
                  </a:lnTo>
                  <a:lnTo>
                    <a:pt x="214" y="2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83760" y="4940640"/>
              <a:ext cx="547200" cy="815760"/>
            </a:xfrm>
            <a:custGeom>
              <a:avLst/>
              <a:gdLst/>
              <a:ahLst/>
              <a:rect l="l" t="t" r="r" b="b"/>
              <a:pathLst>
                <a:path w="3329" h="5204">
                  <a:moveTo>
                    <a:pt x="1365" y="87"/>
                  </a:moveTo>
                  <a:lnTo>
                    <a:pt x="1526" y="112"/>
                  </a:lnTo>
                  <a:lnTo>
                    <a:pt x="1715" y="226"/>
                  </a:lnTo>
                  <a:lnTo>
                    <a:pt x="1981" y="452"/>
                  </a:lnTo>
                  <a:lnTo>
                    <a:pt x="2225" y="772"/>
                  </a:lnTo>
                  <a:lnTo>
                    <a:pt x="2578" y="1381"/>
                  </a:lnTo>
                  <a:lnTo>
                    <a:pt x="2911" y="2130"/>
                  </a:lnTo>
                  <a:lnTo>
                    <a:pt x="3156" y="2849"/>
                  </a:lnTo>
                  <a:lnTo>
                    <a:pt x="3265" y="3395"/>
                  </a:lnTo>
                  <a:lnTo>
                    <a:pt x="3243" y="3778"/>
                  </a:lnTo>
                  <a:lnTo>
                    <a:pt x="3178" y="3937"/>
                  </a:lnTo>
                  <a:lnTo>
                    <a:pt x="2458" y="4300"/>
                  </a:lnTo>
                  <a:lnTo>
                    <a:pt x="1526" y="4684"/>
                  </a:lnTo>
                  <a:lnTo>
                    <a:pt x="596" y="4995"/>
                  </a:lnTo>
                  <a:lnTo>
                    <a:pt x="0" y="5158"/>
                  </a:lnTo>
                  <a:lnTo>
                    <a:pt x="16" y="5204"/>
                  </a:lnTo>
                  <a:lnTo>
                    <a:pt x="892" y="4956"/>
                  </a:lnTo>
                  <a:lnTo>
                    <a:pt x="1612" y="4702"/>
                  </a:lnTo>
                  <a:lnTo>
                    <a:pt x="2368" y="4390"/>
                  </a:lnTo>
                  <a:lnTo>
                    <a:pt x="3033" y="4094"/>
                  </a:lnTo>
                  <a:lnTo>
                    <a:pt x="3265" y="3979"/>
                  </a:lnTo>
                  <a:lnTo>
                    <a:pt x="3329" y="3732"/>
                  </a:lnTo>
                  <a:lnTo>
                    <a:pt x="3318" y="3238"/>
                  </a:lnTo>
                  <a:lnTo>
                    <a:pt x="3140" y="2557"/>
                  </a:lnTo>
                  <a:lnTo>
                    <a:pt x="2894" y="1878"/>
                  </a:lnTo>
                  <a:lnTo>
                    <a:pt x="2524" y="1130"/>
                  </a:lnTo>
                  <a:lnTo>
                    <a:pt x="2211" y="629"/>
                  </a:lnTo>
                  <a:lnTo>
                    <a:pt x="1928" y="293"/>
                  </a:lnTo>
                  <a:lnTo>
                    <a:pt x="1594" y="69"/>
                  </a:lnTo>
                  <a:lnTo>
                    <a:pt x="1459" y="25"/>
                  </a:lnTo>
                  <a:lnTo>
                    <a:pt x="1241" y="0"/>
                  </a:lnTo>
                  <a:lnTo>
                    <a:pt x="136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68040" y="4945680"/>
              <a:ext cx="504000" cy="145440"/>
            </a:xfrm>
            <a:custGeom>
              <a:avLst/>
              <a:gdLst/>
              <a:ahLst/>
              <a:rect l="l" t="t" r="r" b="b"/>
              <a:pathLst>
                <a:path w="3061" h="929">
                  <a:moveTo>
                    <a:pt x="3005" y="62"/>
                  </a:moveTo>
                  <a:lnTo>
                    <a:pt x="2602" y="87"/>
                  </a:lnTo>
                  <a:lnTo>
                    <a:pt x="1668" y="387"/>
                  </a:lnTo>
                  <a:lnTo>
                    <a:pt x="796" y="657"/>
                  </a:lnTo>
                  <a:lnTo>
                    <a:pt x="23" y="929"/>
                  </a:lnTo>
                  <a:lnTo>
                    <a:pt x="0" y="862"/>
                  </a:lnTo>
                  <a:lnTo>
                    <a:pt x="899" y="566"/>
                  </a:lnTo>
                  <a:lnTo>
                    <a:pt x="1550" y="360"/>
                  </a:lnTo>
                  <a:lnTo>
                    <a:pt x="2322" y="110"/>
                  </a:lnTo>
                  <a:lnTo>
                    <a:pt x="2686" y="44"/>
                  </a:lnTo>
                  <a:lnTo>
                    <a:pt x="3061" y="0"/>
                  </a:lnTo>
                  <a:lnTo>
                    <a:pt x="300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62640" y="5079960"/>
              <a:ext cx="331200" cy="678960"/>
            </a:xfrm>
            <a:custGeom>
              <a:avLst/>
              <a:gdLst/>
              <a:ahLst/>
              <a:rect l="l" t="t" r="r" b="b"/>
              <a:pathLst>
                <a:path w="2020" h="4337">
                  <a:moveTo>
                    <a:pt x="0" y="18"/>
                  </a:moveTo>
                  <a:lnTo>
                    <a:pt x="305" y="560"/>
                  </a:lnTo>
                  <a:lnTo>
                    <a:pt x="597" y="1152"/>
                  </a:lnTo>
                  <a:lnTo>
                    <a:pt x="945" y="1920"/>
                  </a:lnTo>
                  <a:lnTo>
                    <a:pt x="1370" y="2845"/>
                  </a:lnTo>
                  <a:lnTo>
                    <a:pt x="1670" y="3686"/>
                  </a:lnTo>
                  <a:lnTo>
                    <a:pt x="1930" y="4337"/>
                  </a:lnTo>
                  <a:lnTo>
                    <a:pt x="2020" y="4295"/>
                  </a:lnTo>
                  <a:lnTo>
                    <a:pt x="1806" y="3749"/>
                  </a:lnTo>
                  <a:lnTo>
                    <a:pt x="1403" y="2709"/>
                  </a:lnTo>
                  <a:lnTo>
                    <a:pt x="1021" y="1849"/>
                  </a:lnTo>
                  <a:lnTo>
                    <a:pt x="720" y="1197"/>
                  </a:lnTo>
                  <a:lnTo>
                    <a:pt x="479" y="699"/>
                  </a:lnTo>
                  <a:lnTo>
                    <a:pt x="230" y="268"/>
                  </a:lnTo>
                  <a:lnTo>
                    <a:pt x="7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53280" y="4880880"/>
              <a:ext cx="947160" cy="906840"/>
            </a:xfrm>
            <a:custGeom>
              <a:avLst/>
              <a:gdLst/>
              <a:ahLst/>
              <a:rect l="l" t="t" r="r" b="b"/>
              <a:pathLst>
                <a:path w="5759" h="5791">
                  <a:moveTo>
                    <a:pt x="0" y="1182"/>
                  </a:moveTo>
                  <a:lnTo>
                    <a:pt x="1093" y="798"/>
                  </a:lnTo>
                  <a:lnTo>
                    <a:pt x="1882" y="570"/>
                  </a:lnTo>
                  <a:lnTo>
                    <a:pt x="2832" y="317"/>
                  </a:lnTo>
                  <a:lnTo>
                    <a:pt x="4041" y="94"/>
                  </a:lnTo>
                  <a:lnTo>
                    <a:pt x="4464" y="977"/>
                  </a:lnTo>
                  <a:lnTo>
                    <a:pt x="4889" y="1972"/>
                  </a:lnTo>
                  <a:lnTo>
                    <a:pt x="5324" y="3012"/>
                  </a:lnTo>
                  <a:lnTo>
                    <a:pt x="5566" y="3805"/>
                  </a:lnTo>
                  <a:lnTo>
                    <a:pt x="5673" y="4254"/>
                  </a:lnTo>
                  <a:lnTo>
                    <a:pt x="5249" y="4347"/>
                  </a:lnTo>
                  <a:lnTo>
                    <a:pt x="4637" y="4665"/>
                  </a:lnTo>
                  <a:lnTo>
                    <a:pt x="4530" y="4796"/>
                  </a:lnTo>
                  <a:lnTo>
                    <a:pt x="4058" y="5002"/>
                  </a:lnTo>
                  <a:lnTo>
                    <a:pt x="3236" y="5342"/>
                  </a:lnTo>
                  <a:lnTo>
                    <a:pt x="2516" y="5568"/>
                  </a:lnTo>
                  <a:lnTo>
                    <a:pt x="2129" y="5638"/>
                  </a:lnTo>
                  <a:lnTo>
                    <a:pt x="2093" y="5568"/>
                  </a:lnTo>
                  <a:lnTo>
                    <a:pt x="1966" y="5590"/>
                  </a:lnTo>
                  <a:lnTo>
                    <a:pt x="2006" y="5683"/>
                  </a:lnTo>
                  <a:lnTo>
                    <a:pt x="1844" y="5704"/>
                  </a:lnTo>
                  <a:lnTo>
                    <a:pt x="1862" y="5791"/>
                  </a:lnTo>
                  <a:lnTo>
                    <a:pt x="2231" y="5729"/>
                  </a:lnTo>
                  <a:lnTo>
                    <a:pt x="2773" y="5590"/>
                  </a:lnTo>
                  <a:lnTo>
                    <a:pt x="3659" y="5294"/>
                  </a:lnTo>
                  <a:lnTo>
                    <a:pt x="4584" y="4911"/>
                  </a:lnTo>
                  <a:lnTo>
                    <a:pt x="5249" y="4595"/>
                  </a:lnTo>
                  <a:lnTo>
                    <a:pt x="5759" y="4299"/>
                  </a:lnTo>
                  <a:lnTo>
                    <a:pt x="5673" y="3872"/>
                  </a:lnTo>
                  <a:lnTo>
                    <a:pt x="5477" y="3235"/>
                  </a:lnTo>
                  <a:lnTo>
                    <a:pt x="5126" y="2335"/>
                  </a:lnTo>
                  <a:lnTo>
                    <a:pt x="4797" y="1495"/>
                  </a:lnTo>
                  <a:lnTo>
                    <a:pt x="4390" y="612"/>
                  </a:lnTo>
                  <a:lnTo>
                    <a:pt x="4094" y="0"/>
                  </a:lnTo>
                  <a:lnTo>
                    <a:pt x="3181" y="159"/>
                  </a:lnTo>
                  <a:lnTo>
                    <a:pt x="2475" y="317"/>
                  </a:lnTo>
                  <a:lnTo>
                    <a:pt x="1882" y="498"/>
                  </a:lnTo>
                  <a:lnTo>
                    <a:pt x="1253" y="661"/>
                  </a:lnTo>
                  <a:lnTo>
                    <a:pt x="583" y="884"/>
                  </a:lnTo>
                  <a:lnTo>
                    <a:pt x="56" y="1090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01000" y="4824360"/>
              <a:ext cx="846000" cy="963360"/>
            </a:xfrm>
            <a:custGeom>
              <a:avLst/>
              <a:gdLst/>
              <a:ahLst/>
              <a:rect l="l" t="t" r="r" b="b"/>
              <a:pathLst>
                <a:path w="5143" h="6150">
                  <a:moveTo>
                    <a:pt x="2788" y="6150"/>
                  </a:moveTo>
                  <a:lnTo>
                    <a:pt x="2681" y="6132"/>
                  </a:lnTo>
                  <a:lnTo>
                    <a:pt x="2263" y="5065"/>
                  </a:lnTo>
                  <a:lnTo>
                    <a:pt x="1821" y="3935"/>
                  </a:lnTo>
                  <a:lnTo>
                    <a:pt x="1333" y="2875"/>
                  </a:lnTo>
                  <a:lnTo>
                    <a:pt x="896" y="2057"/>
                  </a:lnTo>
                  <a:lnTo>
                    <a:pt x="591" y="1541"/>
                  </a:lnTo>
                  <a:lnTo>
                    <a:pt x="65" y="2466"/>
                  </a:lnTo>
                  <a:lnTo>
                    <a:pt x="0" y="2442"/>
                  </a:lnTo>
                  <a:lnTo>
                    <a:pt x="155" y="2057"/>
                  </a:lnTo>
                  <a:lnTo>
                    <a:pt x="386" y="1632"/>
                  </a:lnTo>
                  <a:lnTo>
                    <a:pt x="591" y="1284"/>
                  </a:lnTo>
                  <a:lnTo>
                    <a:pt x="1349" y="900"/>
                  </a:lnTo>
                  <a:lnTo>
                    <a:pt x="2595" y="518"/>
                  </a:lnTo>
                  <a:lnTo>
                    <a:pt x="3651" y="248"/>
                  </a:lnTo>
                  <a:lnTo>
                    <a:pt x="5107" y="0"/>
                  </a:lnTo>
                  <a:lnTo>
                    <a:pt x="5143" y="71"/>
                  </a:lnTo>
                  <a:lnTo>
                    <a:pt x="3897" y="297"/>
                  </a:lnTo>
                  <a:lnTo>
                    <a:pt x="2964" y="518"/>
                  </a:lnTo>
                  <a:lnTo>
                    <a:pt x="1629" y="947"/>
                  </a:lnTo>
                  <a:lnTo>
                    <a:pt x="654" y="1402"/>
                  </a:lnTo>
                  <a:lnTo>
                    <a:pt x="1287" y="2557"/>
                  </a:lnTo>
                  <a:lnTo>
                    <a:pt x="1772" y="3528"/>
                  </a:lnTo>
                  <a:lnTo>
                    <a:pt x="2156" y="4457"/>
                  </a:lnTo>
                  <a:lnTo>
                    <a:pt x="2476" y="5361"/>
                  </a:lnTo>
                  <a:lnTo>
                    <a:pt x="2754" y="6042"/>
                  </a:lnTo>
                  <a:lnTo>
                    <a:pt x="2788" y="6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03160" y="4824360"/>
              <a:ext cx="1148760" cy="1076040"/>
            </a:xfrm>
            <a:custGeom>
              <a:avLst/>
              <a:gdLst/>
              <a:ahLst/>
              <a:rect l="l" t="t" r="r" b="b"/>
              <a:pathLst>
                <a:path w="6980" h="6874">
                  <a:moveTo>
                    <a:pt x="5037" y="43"/>
                  </a:moveTo>
                  <a:lnTo>
                    <a:pt x="5373" y="588"/>
                  </a:lnTo>
                  <a:lnTo>
                    <a:pt x="5759" y="1427"/>
                  </a:lnTo>
                  <a:lnTo>
                    <a:pt x="6213" y="2557"/>
                  </a:lnTo>
                  <a:lnTo>
                    <a:pt x="6545" y="3528"/>
                  </a:lnTo>
                  <a:lnTo>
                    <a:pt x="6809" y="4412"/>
                  </a:lnTo>
                  <a:lnTo>
                    <a:pt x="6898" y="4930"/>
                  </a:lnTo>
                  <a:lnTo>
                    <a:pt x="6055" y="5337"/>
                  </a:lnTo>
                  <a:lnTo>
                    <a:pt x="4193" y="6063"/>
                  </a:lnTo>
                  <a:lnTo>
                    <a:pt x="2961" y="6470"/>
                  </a:lnTo>
                  <a:lnTo>
                    <a:pt x="1910" y="6745"/>
                  </a:lnTo>
                  <a:lnTo>
                    <a:pt x="1628" y="5768"/>
                  </a:lnTo>
                  <a:lnTo>
                    <a:pt x="1230" y="4658"/>
                  </a:lnTo>
                  <a:lnTo>
                    <a:pt x="826" y="3778"/>
                  </a:lnTo>
                  <a:lnTo>
                    <a:pt x="403" y="2986"/>
                  </a:lnTo>
                  <a:lnTo>
                    <a:pt x="32" y="2394"/>
                  </a:lnTo>
                  <a:lnTo>
                    <a:pt x="0" y="2442"/>
                  </a:lnTo>
                  <a:lnTo>
                    <a:pt x="266" y="2915"/>
                  </a:lnTo>
                  <a:lnTo>
                    <a:pt x="683" y="3778"/>
                  </a:lnTo>
                  <a:lnTo>
                    <a:pt x="1072" y="4658"/>
                  </a:lnTo>
                  <a:lnTo>
                    <a:pt x="1209" y="5180"/>
                  </a:lnTo>
                  <a:lnTo>
                    <a:pt x="909" y="5180"/>
                  </a:lnTo>
                  <a:lnTo>
                    <a:pt x="933" y="5270"/>
                  </a:lnTo>
                  <a:lnTo>
                    <a:pt x="1106" y="5294"/>
                  </a:lnTo>
                  <a:lnTo>
                    <a:pt x="1159" y="5413"/>
                  </a:lnTo>
                  <a:lnTo>
                    <a:pt x="1175" y="5587"/>
                  </a:lnTo>
                  <a:lnTo>
                    <a:pt x="1123" y="5653"/>
                  </a:lnTo>
                  <a:lnTo>
                    <a:pt x="1019" y="5701"/>
                  </a:lnTo>
                  <a:lnTo>
                    <a:pt x="933" y="5725"/>
                  </a:lnTo>
                  <a:lnTo>
                    <a:pt x="945" y="5796"/>
                  </a:lnTo>
                  <a:lnTo>
                    <a:pt x="1123" y="5859"/>
                  </a:lnTo>
                  <a:lnTo>
                    <a:pt x="1298" y="5859"/>
                  </a:lnTo>
                  <a:lnTo>
                    <a:pt x="1444" y="5796"/>
                  </a:lnTo>
                  <a:lnTo>
                    <a:pt x="1612" y="6444"/>
                  </a:lnTo>
                  <a:lnTo>
                    <a:pt x="1739" y="6874"/>
                  </a:lnTo>
                  <a:lnTo>
                    <a:pt x="2266" y="6827"/>
                  </a:lnTo>
                  <a:lnTo>
                    <a:pt x="3128" y="6585"/>
                  </a:lnTo>
                  <a:lnTo>
                    <a:pt x="4090" y="6269"/>
                  </a:lnTo>
                  <a:lnTo>
                    <a:pt x="5209" y="5816"/>
                  </a:lnTo>
                  <a:lnTo>
                    <a:pt x="6192" y="5361"/>
                  </a:lnTo>
                  <a:lnTo>
                    <a:pt x="6980" y="4954"/>
                  </a:lnTo>
                  <a:lnTo>
                    <a:pt x="6825" y="4140"/>
                  </a:lnTo>
                  <a:lnTo>
                    <a:pt x="6493" y="3096"/>
                  </a:lnTo>
                  <a:lnTo>
                    <a:pt x="6055" y="1924"/>
                  </a:lnTo>
                  <a:lnTo>
                    <a:pt x="5670" y="1020"/>
                  </a:lnTo>
                  <a:lnTo>
                    <a:pt x="5350" y="383"/>
                  </a:lnTo>
                  <a:lnTo>
                    <a:pt x="5073" y="0"/>
                  </a:lnTo>
                  <a:lnTo>
                    <a:pt x="503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233840" y="5636160"/>
              <a:ext cx="38160" cy="98640"/>
            </a:xfrm>
            <a:custGeom>
              <a:avLst/>
              <a:gdLst/>
              <a:ahLst/>
              <a:rect l="l" t="t" r="r" b="b"/>
              <a:pathLst>
                <a:path w="234" h="636">
                  <a:moveTo>
                    <a:pt x="234" y="521"/>
                  </a:moveTo>
                  <a:lnTo>
                    <a:pt x="160" y="497"/>
                  </a:lnTo>
                  <a:lnTo>
                    <a:pt x="107" y="382"/>
                  </a:lnTo>
                  <a:lnTo>
                    <a:pt x="94" y="267"/>
                  </a:lnTo>
                  <a:lnTo>
                    <a:pt x="124" y="138"/>
                  </a:lnTo>
                  <a:lnTo>
                    <a:pt x="180" y="90"/>
                  </a:lnTo>
                  <a:lnTo>
                    <a:pt x="124" y="0"/>
                  </a:lnTo>
                  <a:lnTo>
                    <a:pt x="41" y="90"/>
                  </a:lnTo>
                  <a:lnTo>
                    <a:pt x="0" y="267"/>
                  </a:lnTo>
                  <a:lnTo>
                    <a:pt x="21" y="435"/>
                  </a:lnTo>
                  <a:lnTo>
                    <a:pt x="73" y="545"/>
                  </a:lnTo>
                  <a:lnTo>
                    <a:pt x="196" y="636"/>
                  </a:lnTo>
                  <a:lnTo>
                    <a:pt x="234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023240" y="5256720"/>
              <a:ext cx="363240" cy="647640"/>
            </a:xfrm>
            <a:custGeom>
              <a:avLst/>
              <a:gdLst/>
              <a:ahLst/>
              <a:rect l="l" t="t" r="r" b="b"/>
              <a:pathLst>
                <a:path w="2211" h="4140">
                  <a:moveTo>
                    <a:pt x="683" y="0"/>
                  </a:moveTo>
                  <a:lnTo>
                    <a:pt x="477" y="320"/>
                  </a:lnTo>
                  <a:lnTo>
                    <a:pt x="214" y="818"/>
                  </a:lnTo>
                  <a:lnTo>
                    <a:pt x="0" y="1315"/>
                  </a:lnTo>
                  <a:lnTo>
                    <a:pt x="141" y="2129"/>
                  </a:lnTo>
                  <a:lnTo>
                    <a:pt x="439" y="3010"/>
                  </a:lnTo>
                  <a:lnTo>
                    <a:pt x="708" y="3643"/>
                  </a:lnTo>
                  <a:lnTo>
                    <a:pt x="1019" y="4140"/>
                  </a:lnTo>
                  <a:lnTo>
                    <a:pt x="2211" y="3896"/>
                  </a:lnTo>
                  <a:lnTo>
                    <a:pt x="2122" y="3757"/>
                  </a:lnTo>
                  <a:lnTo>
                    <a:pt x="1546" y="3896"/>
                  </a:lnTo>
                  <a:lnTo>
                    <a:pt x="1106" y="3959"/>
                  </a:lnTo>
                  <a:lnTo>
                    <a:pt x="774" y="3440"/>
                  </a:lnTo>
                  <a:lnTo>
                    <a:pt x="526" y="2804"/>
                  </a:lnTo>
                  <a:lnTo>
                    <a:pt x="337" y="2150"/>
                  </a:lnTo>
                  <a:lnTo>
                    <a:pt x="214" y="1517"/>
                  </a:lnTo>
                  <a:lnTo>
                    <a:pt x="197" y="1177"/>
                  </a:lnTo>
                  <a:lnTo>
                    <a:pt x="457" y="613"/>
                  </a:lnTo>
                  <a:lnTo>
                    <a:pt x="653" y="297"/>
                  </a:lnTo>
                  <a:lnTo>
                    <a:pt x="774" y="13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98080" y="5717520"/>
              <a:ext cx="879120" cy="467280"/>
            </a:xfrm>
            <a:custGeom>
              <a:avLst/>
              <a:gdLst/>
              <a:ahLst/>
              <a:rect l="l" t="t" r="r" b="b"/>
              <a:pathLst>
                <a:path w="5337" h="2979">
                  <a:moveTo>
                    <a:pt x="889" y="818"/>
                  </a:moveTo>
                  <a:lnTo>
                    <a:pt x="1245" y="1078"/>
                  </a:lnTo>
                  <a:lnTo>
                    <a:pt x="1637" y="1172"/>
                  </a:lnTo>
                  <a:lnTo>
                    <a:pt x="1949" y="1324"/>
                  </a:lnTo>
                  <a:lnTo>
                    <a:pt x="2134" y="1489"/>
                  </a:lnTo>
                  <a:lnTo>
                    <a:pt x="2266" y="1652"/>
                  </a:lnTo>
                  <a:lnTo>
                    <a:pt x="2305" y="1777"/>
                  </a:lnTo>
                  <a:lnTo>
                    <a:pt x="1747" y="1826"/>
                  </a:lnTo>
                  <a:lnTo>
                    <a:pt x="996" y="1797"/>
                  </a:lnTo>
                  <a:lnTo>
                    <a:pt x="296" y="1652"/>
                  </a:lnTo>
                  <a:lnTo>
                    <a:pt x="90" y="1508"/>
                  </a:lnTo>
                  <a:lnTo>
                    <a:pt x="90" y="1032"/>
                  </a:lnTo>
                  <a:lnTo>
                    <a:pt x="0" y="1054"/>
                  </a:lnTo>
                  <a:lnTo>
                    <a:pt x="20" y="1541"/>
                  </a:lnTo>
                  <a:lnTo>
                    <a:pt x="280" y="1750"/>
                  </a:lnTo>
                  <a:lnTo>
                    <a:pt x="687" y="1872"/>
                  </a:lnTo>
                  <a:lnTo>
                    <a:pt x="1299" y="1948"/>
                  </a:lnTo>
                  <a:lnTo>
                    <a:pt x="2027" y="1924"/>
                  </a:lnTo>
                  <a:lnTo>
                    <a:pt x="2376" y="1872"/>
                  </a:lnTo>
                  <a:lnTo>
                    <a:pt x="2636" y="1797"/>
                  </a:lnTo>
                  <a:lnTo>
                    <a:pt x="3084" y="1872"/>
                  </a:lnTo>
                  <a:lnTo>
                    <a:pt x="3326" y="1948"/>
                  </a:lnTo>
                  <a:lnTo>
                    <a:pt x="1541" y="2688"/>
                  </a:lnTo>
                  <a:lnTo>
                    <a:pt x="1040" y="2881"/>
                  </a:lnTo>
                  <a:lnTo>
                    <a:pt x="1019" y="2979"/>
                  </a:lnTo>
                  <a:lnTo>
                    <a:pt x="2080" y="2544"/>
                  </a:lnTo>
                  <a:lnTo>
                    <a:pt x="3163" y="2113"/>
                  </a:lnTo>
                  <a:lnTo>
                    <a:pt x="4074" y="1777"/>
                  </a:lnTo>
                  <a:lnTo>
                    <a:pt x="5337" y="1324"/>
                  </a:lnTo>
                  <a:lnTo>
                    <a:pt x="5324" y="1296"/>
                  </a:lnTo>
                  <a:lnTo>
                    <a:pt x="3163" y="790"/>
                  </a:lnTo>
                  <a:lnTo>
                    <a:pt x="3104" y="478"/>
                  </a:lnTo>
                  <a:lnTo>
                    <a:pt x="3051" y="264"/>
                  </a:lnTo>
                  <a:lnTo>
                    <a:pt x="2939" y="0"/>
                  </a:lnTo>
                  <a:lnTo>
                    <a:pt x="889" y="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091640" y="5875560"/>
              <a:ext cx="1289160" cy="699120"/>
            </a:xfrm>
            <a:custGeom>
              <a:avLst/>
              <a:gdLst/>
              <a:ahLst/>
              <a:rect l="l" t="t" r="r" b="b"/>
              <a:pathLst>
                <a:path w="7842" h="4465">
                  <a:moveTo>
                    <a:pt x="1788" y="0"/>
                  </a:moveTo>
                  <a:lnTo>
                    <a:pt x="0" y="501"/>
                  </a:lnTo>
                  <a:lnTo>
                    <a:pt x="166" y="2714"/>
                  </a:lnTo>
                  <a:lnTo>
                    <a:pt x="2847" y="4465"/>
                  </a:lnTo>
                  <a:lnTo>
                    <a:pt x="3143" y="4271"/>
                  </a:lnTo>
                  <a:lnTo>
                    <a:pt x="3981" y="3793"/>
                  </a:lnTo>
                  <a:lnTo>
                    <a:pt x="5116" y="3264"/>
                  </a:lnTo>
                  <a:lnTo>
                    <a:pt x="6292" y="2762"/>
                  </a:lnTo>
                  <a:lnTo>
                    <a:pt x="7545" y="2233"/>
                  </a:lnTo>
                  <a:lnTo>
                    <a:pt x="7842" y="387"/>
                  </a:lnTo>
                  <a:lnTo>
                    <a:pt x="7787" y="355"/>
                  </a:lnTo>
                  <a:lnTo>
                    <a:pt x="7427" y="2137"/>
                  </a:lnTo>
                  <a:lnTo>
                    <a:pt x="6090" y="2714"/>
                  </a:lnTo>
                  <a:lnTo>
                    <a:pt x="4560" y="3358"/>
                  </a:lnTo>
                  <a:lnTo>
                    <a:pt x="3631" y="3822"/>
                  </a:lnTo>
                  <a:lnTo>
                    <a:pt x="2923" y="4200"/>
                  </a:lnTo>
                  <a:lnTo>
                    <a:pt x="2994" y="3506"/>
                  </a:lnTo>
                  <a:lnTo>
                    <a:pt x="3167" y="2738"/>
                  </a:lnTo>
                  <a:lnTo>
                    <a:pt x="3330" y="2094"/>
                  </a:lnTo>
                  <a:lnTo>
                    <a:pt x="3274" y="2094"/>
                  </a:lnTo>
                  <a:lnTo>
                    <a:pt x="3072" y="2738"/>
                  </a:lnTo>
                  <a:lnTo>
                    <a:pt x="2898" y="3437"/>
                  </a:lnTo>
                  <a:lnTo>
                    <a:pt x="2792" y="4251"/>
                  </a:lnTo>
                  <a:lnTo>
                    <a:pt x="260" y="2639"/>
                  </a:lnTo>
                  <a:lnTo>
                    <a:pt x="111" y="600"/>
                  </a:lnTo>
                  <a:lnTo>
                    <a:pt x="3219" y="1948"/>
                  </a:lnTo>
                  <a:lnTo>
                    <a:pt x="3314" y="1892"/>
                  </a:lnTo>
                  <a:lnTo>
                    <a:pt x="3236" y="1798"/>
                  </a:lnTo>
                  <a:lnTo>
                    <a:pt x="222" y="501"/>
                  </a:lnTo>
                  <a:lnTo>
                    <a:pt x="1953" y="47"/>
                  </a:lnTo>
                  <a:lnTo>
                    <a:pt x="17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070840" y="5997240"/>
              <a:ext cx="226080" cy="272880"/>
            </a:xfrm>
            <a:custGeom>
              <a:avLst/>
              <a:gdLst/>
              <a:ahLst/>
              <a:rect l="l" t="t" r="r" b="b"/>
              <a:pathLst>
                <a:path w="1372" h="1751">
                  <a:moveTo>
                    <a:pt x="188" y="456"/>
                  </a:moveTo>
                  <a:lnTo>
                    <a:pt x="1372" y="0"/>
                  </a:lnTo>
                  <a:lnTo>
                    <a:pt x="1306" y="336"/>
                  </a:lnTo>
                  <a:lnTo>
                    <a:pt x="1188" y="834"/>
                  </a:lnTo>
                  <a:lnTo>
                    <a:pt x="1135" y="1273"/>
                  </a:lnTo>
                  <a:lnTo>
                    <a:pt x="0" y="1751"/>
                  </a:lnTo>
                  <a:lnTo>
                    <a:pt x="0" y="1708"/>
                  </a:lnTo>
                  <a:lnTo>
                    <a:pt x="855" y="1324"/>
                  </a:lnTo>
                  <a:lnTo>
                    <a:pt x="878" y="1076"/>
                  </a:lnTo>
                  <a:lnTo>
                    <a:pt x="312" y="1104"/>
                  </a:lnTo>
                  <a:lnTo>
                    <a:pt x="206" y="1028"/>
                  </a:lnTo>
                  <a:lnTo>
                    <a:pt x="91" y="1076"/>
                  </a:lnTo>
                  <a:lnTo>
                    <a:pt x="20" y="1438"/>
                  </a:lnTo>
                  <a:lnTo>
                    <a:pt x="0" y="1438"/>
                  </a:lnTo>
                  <a:lnTo>
                    <a:pt x="167" y="649"/>
                  </a:lnTo>
                  <a:lnTo>
                    <a:pt x="111" y="1009"/>
                  </a:lnTo>
                  <a:lnTo>
                    <a:pt x="969" y="649"/>
                  </a:lnTo>
                  <a:lnTo>
                    <a:pt x="1040" y="479"/>
                  </a:lnTo>
                  <a:lnTo>
                    <a:pt x="929" y="411"/>
                  </a:lnTo>
                  <a:lnTo>
                    <a:pt x="839" y="290"/>
                  </a:lnTo>
                  <a:lnTo>
                    <a:pt x="188" y="479"/>
                  </a:lnTo>
                  <a:lnTo>
                    <a:pt x="188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62960" y="6138720"/>
              <a:ext cx="172080" cy="119880"/>
            </a:xfrm>
            <a:custGeom>
              <a:avLst/>
              <a:gdLst/>
              <a:ahLst/>
              <a:rect l="l" t="t" r="r" b="b"/>
              <a:pathLst>
                <a:path w="1047" h="769">
                  <a:moveTo>
                    <a:pt x="23" y="721"/>
                  </a:moveTo>
                  <a:lnTo>
                    <a:pt x="921" y="338"/>
                  </a:lnTo>
                  <a:lnTo>
                    <a:pt x="1013" y="21"/>
                  </a:lnTo>
                  <a:lnTo>
                    <a:pt x="1047" y="0"/>
                  </a:lnTo>
                  <a:lnTo>
                    <a:pt x="937" y="362"/>
                  </a:lnTo>
                  <a:lnTo>
                    <a:pt x="0" y="769"/>
                  </a:lnTo>
                  <a:lnTo>
                    <a:pt x="23" y="7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675920" y="6301440"/>
              <a:ext cx="848520" cy="556200"/>
            </a:xfrm>
            <a:custGeom>
              <a:avLst/>
              <a:gdLst/>
              <a:ahLst/>
              <a:rect l="l" t="t" r="r" b="b"/>
              <a:pathLst>
                <a:path w="5155" h="3553">
                  <a:moveTo>
                    <a:pt x="0" y="2354"/>
                  </a:moveTo>
                  <a:lnTo>
                    <a:pt x="625" y="2758"/>
                  </a:lnTo>
                  <a:lnTo>
                    <a:pt x="1227" y="3168"/>
                  </a:lnTo>
                  <a:lnTo>
                    <a:pt x="1764" y="3553"/>
                  </a:lnTo>
                  <a:lnTo>
                    <a:pt x="5155" y="1298"/>
                  </a:lnTo>
                  <a:lnTo>
                    <a:pt x="5138" y="1079"/>
                  </a:lnTo>
                  <a:lnTo>
                    <a:pt x="4710" y="530"/>
                  </a:lnTo>
                  <a:lnTo>
                    <a:pt x="4246" y="99"/>
                  </a:lnTo>
                  <a:lnTo>
                    <a:pt x="4149" y="118"/>
                  </a:lnTo>
                  <a:lnTo>
                    <a:pt x="4636" y="578"/>
                  </a:lnTo>
                  <a:lnTo>
                    <a:pt x="4916" y="957"/>
                  </a:lnTo>
                  <a:lnTo>
                    <a:pt x="5064" y="1150"/>
                  </a:lnTo>
                  <a:lnTo>
                    <a:pt x="5064" y="1273"/>
                  </a:lnTo>
                  <a:lnTo>
                    <a:pt x="3818" y="2067"/>
                  </a:lnTo>
                  <a:lnTo>
                    <a:pt x="1804" y="3407"/>
                  </a:lnTo>
                  <a:lnTo>
                    <a:pt x="1749" y="3118"/>
                  </a:lnTo>
                  <a:lnTo>
                    <a:pt x="1548" y="2885"/>
                  </a:lnTo>
                  <a:lnTo>
                    <a:pt x="353" y="1992"/>
                  </a:lnTo>
                  <a:lnTo>
                    <a:pt x="313" y="2039"/>
                  </a:lnTo>
                  <a:lnTo>
                    <a:pt x="1471" y="2929"/>
                  </a:lnTo>
                  <a:lnTo>
                    <a:pt x="1619" y="3150"/>
                  </a:lnTo>
                  <a:lnTo>
                    <a:pt x="1710" y="3407"/>
                  </a:lnTo>
                  <a:lnTo>
                    <a:pt x="53" y="2305"/>
                  </a:lnTo>
                  <a:lnTo>
                    <a:pt x="238" y="1898"/>
                  </a:lnTo>
                  <a:lnTo>
                    <a:pt x="949" y="1438"/>
                  </a:lnTo>
                  <a:lnTo>
                    <a:pt x="2026" y="912"/>
                  </a:lnTo>
                  <a:lnTo>
                    <a:pt x="3215" y="357"/>
                  </a:lnTo>
                  <a:lnTo>
                    <a:pt x="4074" y="24"/>
                  </a:lnTo>
                  <a:lnTo>
                    <a:pt x="4058" y="0"/>
                  </a:lnTo>
                  <a:lnTo>
                    <a:pt x="3256" y="262"/>
                  </a:lnTo>
                  <a:lnTo>
                    <a:pt x="2006" y="838"/>
                  </a:lnTo>
                  <a:lnTo>
                    <a:pt x="895" y="1395"/>
                  </a:lnTo>
                  <a:lnTo>
                    <a:pt x="167" y="1873"/>
                  </a:lnTo>
                  <a:lnTo>
                    <a:pt x="0" y="2305"/>
                  </a:lnTo>
                  <a:lnTo>
                    <a:pt x="0" y="2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75800" y="6474600"/>
              <a:ext cx="505080" cy="288000"/>
            </a:xfrm>
            <a:custGeom>
              <a:avLst/>
              <a:gdLst/>
              <a:ahLst/>
              <a:rect l="l" t="t" r="r" b="b"/>
              <a:pathLst>
                <a:path w="3068" h="1843">
                  <a:moveTo>
                    <a:pt x="54" y="1843"/>
                  </a:moveTo>
                  <a:lnTo>
                    <a:pt x="1209" y="1101"/>
                  </a:lnTo>
                  <a:lnTo>
                    <a:pt x="2515" y="330"/>
                  </a:lnTo>
                  <a:lnTo>
                    <a:pt x="3068" y="42"/>
                  </a:lnTo>
                  <a:lnTo>
                    <a:pt x="3068" y="0"/>
                  </a:lnTo>
                  <a:lnTo>
                    <a:pt x="3013" y="18"/>
                  </a:lnTo>
                  <a:lnTo>
                    <a:pt x="2195" y="407"/>
                  </a:lnTo>
                  <a:lnTo>
                    <a:pt x="1064" y="1073"/>
                  </a:lnTo>
                  <a:lnTo>
                    <a:pt x="0" y="1793"/>
                  </a:lnTo>
                  <a:lnTo>
                    <a:pt x="54" y="18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10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mparação da abrangências dos sistemas PDM e EDM (GED) – quadro 8.18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487440" y="1689120"/>
            <a:ext cx="2517840" cy="2517840"/>
            <a:chOff x="487440" y="1689120"/>
            <a:chExt cx="2517840" cy="2517840"/>
          </a:xfrm>
        </p:grpSpPr>
        <p:sp>
          <p:nvSpPr>
            <p:cNvPr id="1189" name=""/>
            <p:cNvSpPr/>
            <p:nvPr/>
          </p:nvSpPr>
          <p:spPr>
            <a:xfrm>
              <a:off x="487440" y="1689120"/>
              <a:ext cx="2517840" cy="25178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31760" y="2540160"/>
              <a:ext cx="1427400" cy="14270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22920" y="1995480"/>
              <a:ext cx="104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22920" y="3011400"/>
              <a:ext cx="104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D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16120" y="5786280"/>
            <a:ext cx="615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 é mais conhecido no Brasil como GED (gestão eletrônica de doc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76280" y="4448160"/>
            <a:ext cx="455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DM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duct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823400" y="5057640"/>
            <a:ext cx="542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M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etronic docu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3479760" y="1689120"/>
            <a:ext cx="5450040" cy="2517840"/>
            <a:chOff x="3479760" y="1689120"/>
            <a:chExt cx="5450040" cy="2517840"/>
          </a:xfrm>
        </p:grpSpPr>
        <p:sp>
          <p:nvSpPr>
            <p:cNvPr id="1197" name=""/>
            <p:cNvSpPr/>
            <p:nvPr/>
          </p:nvSpPr>
          <p:spPr>
            <a:xfrm>
              <a:off x="5118120" y="1689120"/>
              <a:ext cx="2173320" cy="25178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79760" y="2867040"/>
              <a:ext cx="5450040" cy="11001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80440" y="1995480"/>
              <a:ext cx="104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80440" y="3254400"/>
              <a:ext cx="104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D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Tecnologias dos sistemas GED (gestão eletrônica de documentos) – quadro 10.2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7960" y="1044720"/>
            <a:ext cx="8469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 Imaging (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tical Character Recognition ( O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ligent Character Recognition ( I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 Management (DM): equivale ao EDM tradi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/ERM:  Computer Output to Laser Disk (COLD ) /Enterprise Report Management (E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ords and Information Management (RI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73160" y="5478480"/>
            <a:ext cx="6796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D evolui para o ECM (enterprise content management), sigla que neste livro significa (engineering change management – capítulo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lançar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81160" y="1781280"/>
            <a:ext cx="123336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85840" y="1004760"/>
            <a:ext cx="1224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85840" y="255744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166840" y="1041480"/>
            <a:ext cx="15192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40120" y="1677960"/>
            <a:ext cx="11160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2" name=""/>
          <p:cNvCxnSpPr>
            <a:stCxn id="1211" idx="2"/>
            <a:endCxn id="1213" idx="3"/>
          </p:cNvCxnSpPr>
          <p:nvPr/>
        </p:nvCxnSpPr>
        <p:spPr>
          <a:xfrm rot="5400000">
            <a:off x="3690000" y="2033640"/>
            <a:ext cx="610560" cy="80712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14" name=""/>
          <p:cNvCxnSpPr>
            <a:stCxn id="1210" idx="2"/>
            <a:endCxn id="1213" idx="0"/>
          </p:cNvCxnSpPr>
          <p:nvPr/>
        </p:nvCxnSpPr>
        <p:spPr>
          <a:xfrm>
            <a:off x="2927160" y="1707840"/>
            <a:ext cx="5400" cy="37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5" name=""/>
          <p:cNvGrpSpPr/>
          <p:nvPr/>
        </p:nvGrpSpPr>
        <p:grpSpPr>
          <a:xfrm>
            <a:off x="2279520" y="2095560"/>
            <a:ext cx="1303200" cy="1290600"/>
            <a:chOff x="2279520" y="2095560"/>
            <a:chExt cx="1303200" cy="1290600"/>
          </a:xfrm>
        </p:grpSpPr>
        <p:sp>
          <p:nvSpPr>
            <p:cNvPr id="1213" name=""/>
            <p:cNvSpPr/>
            <p:nvPr/>
          </p:nvSpPr>
          <p:spPr>
            <a:xfrm>
              <a:off x="2279520" y="2095560"/>
              <a:ext cx="1303200" cy="12906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nçar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82400" y="2183040"/>
              <a:ext cx="184320" cy="133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82400" y="2509920"/>
              <a:ext cx="184320" cy="133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82400" y="2838600"/>
              <a:ext cx="184320" cy="133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82400" y="3167280"/>
              <a:ext cx="184320" cy="133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20" name=""/>
          <p:cNvCxnSpPr>
            <a:stCxn id="1208" idx="3"/>
            <a:endCxn id="1216" idx="1"/>
          </p:cNvCxnSpPr>
          <p:nvPr/>
        </p:nvCxnSpPr>
        <p:spPr>
          <a:xfrm>
            <a:off x="1518840" y="1333080"/>
            <a:ext cx="764280" cy="916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207" idx="3"/>
            <a:endCxn id="1217" idx="1"/>
          </p:cNvCxnSpPr>
          <p:nvPr/>
        </p:nvCxnSpPr>
        <p:spPr>
          <a:xfrm>
            <a:off x="1523880" y="2109960"/>
            <a:ext cx="759600" cy="467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09" idx="3"/>
            <a:endCxn id="1218" idx="1"/>
          </p:cNvCxnSpPr>
          <p:nvPr/>
        </p:nvCxnSpPr>
        <p:spPr>
          <a:xfrm flipV="1">
            <a:off x="1518840" y="2904840"/>
            <a:ext cx="764280" cy="87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24" idx="3"/>
            <a:endCxn id="1219" idx="1"/>
          </p:cNvCxnSpPr>
          <p:nvPr/>
        </p:nvCxnSpPr>
        <p:spPr>
          <a:xfrm flipV="1">
            <a:off x="1533240" y="3233160"/>
            <a:ext cx="749880" cy="74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4" name=""/>
          <p:cNvSpPr/>
          <p:nvPr/>
        </p:nvSpPr>
        <p:spPr>
          <a:xfrm>
            <a:off x="299880" y="354636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381480" y="2959200"/>
            <a:ext cx="4362480" cy="825480"/>
          </a:xfrm>
          <a:prstGeom prst="rect">
            <a:avLst/>
          </a:prstGeom>
          <a:solidFill>
            <a:srgbClr val="ffff6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 central da fase de lançamento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252520" y="4302000"/>
            <a:ext cx="641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refas da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os processos de apoio ao lanç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o evento de lanç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tar os serviços para o lanç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o evento de lan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gerenciar lança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715400" y="2822400"/>
            <a:ext cx="537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refas da a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enciar 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enciar a aceitaçã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enciar a 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357960" y="1316160"/>
            <a:ext cx="1071360" cy="921960"/>
            <a:chOff x="6357960" y="1316160"/>
            <a:chExt cx="1071360" cy="921960"/>
          </a:xfrm>
        </p:grpSpPr>
        <p:sp>
          <p:nvSpPr>
            <p:cNvPr id="1232" name=""/>
            <p:cNvSpPr/>
            <p:nvPr/>
          </p:nvSpPr>
          <p:spPr>
            <a:xfrm>
              <a:off x="6475320" y="1420920"/>
              <a:ext cx="954000" cy="817200"/>
            </a:xfrm>
            <a:custGeom>
              <a:avLst/>
              <a:gdLst/>
              <a:ahLst/>
              <a:rect l="l" t="t" r="r" b="b"/>
              <a:pathLst>
                <a:path w="9934" h="9946">
                  <a:moveTo>
                    <a:pt x="8690" y="0"/>
                  </a:moveTo>
                  <a:lnTo>
                    <a:pt x="8690" y="8703"/>
                  </a:lnTo>
                  <a:lnTo>
                    <a:pt x="0" y="8703"/>
                  </a:lnTo>
                  <a:lnTo>
                    <a:pt x="0" y="9946"/>
                  </a:lnTo>
                  <a:lnTo>
                    <a:pt x="9934" y="9946"/>
                  </a:lnTo>
                  <a:lnTo>
                    <a:pt x="9934" y="0"/>
                  </a:lnTo>
                  <a:lnTo>
                    <a:pt x="86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57960" y="1316160"/>
              <a:ext cx="954720" cy="824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57960" y="1316160"/>
              <a:ext cx="298080" cy="824760"/>
            </a:xfrm>
            <a:prstGeom prst="rect">
              <a:avLst/>
            </a:prstGeom>
            <a:solidFill>
              <a:srgbClr val="00ea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59640" y="1418040"/>
              <a:ext cx="653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59640" y="1520640"/>
              <a:ext cx="653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59640" y="1625760"/>
              <a:ext cx="653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659640" y="1728000"/>
              <a:ext cx="6530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659640" y="1830960"/>
              <a:ext cx="6530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659640" y="1933560"/>
              <a:ext cx="6530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59640" y="2036520"/>
              <a:ext cx="6530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77360" y="1316160"/>
              <a:ext cx="36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63600" y="1316160"/>
              <a:ext cx="72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95800" y="1316160"/>
              <a:ext cx="36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15680" y="1316160"/>
              <a:ext cx="36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35560" y="1316160"/>
              <a:ext cx="36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255440" y="1316160"/>
              <a:ext cx="360" cy="82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58200" y="136692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658200" y="167688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658200" y="1470600"/>
              <a:ext cx="85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58200" y="177984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58200" y="198612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58200" y="1573200"/>
              <a:ext cx="85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658200" y="188352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58200" y="2089080"/>
              <a:ext cx="85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47600" y="1366920"/>
              <a:ext cx="178920" cy="153720"/>
            </a:xfrm>
            <a:custGeom>
              <a:avLst/>
              <a:gdLst/>
              <a:ahLst/>
              <a:rect l="l" t="t" r="r" b="b"/>
              <a:pathLst>
                <a:path w="1860" h="1871">
                  <a:moveTo>
                    <a:pt x="1860" y="0"/>
                  </a:moveTo>
                  <a:lnTo>
                    <a:pt x="0" y="1871"/>
                  </a:lnTo>
                  <a:lnTo>
                    <a:pt x="1860" y="187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447600" y="1366920"/>
              <a:ext cx="178920" cy="153720"/>
            </a:xfrm>
            <a:custGeom>
              <a:avLst/>
              <a:gdLst/>
              <a:ahLst/>
              <a:rect l="l" t="t" r="r" b="b"/>
              <a:pathLst>
                <a:path w="1860" h="1871">
                  <a:moveTo>
                    <a:pt x="1860" y="0"/>
                  </a:moveTo>
                  <a:lnTo>
                    <a:pt x="0" y="0"/>
                  </a:lnTo>
                  <a:lnTo>
                    <a:pt x="0" y="187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80000" y="1395000"/>
              <a:ext cx="109800" cy="964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47600" y="1573200"/>
              <a:ext cx="178920" cy="154440"/>
            </a:xfrm>
            <a:custGeom>
              <a:avLst/>
              <a:gdLst/>
              <a:ahLst/>
              <a:rect l="l" t="t" r="r" b="b"/>
              <a:pathLst>
                <a:path w="1860" h="1876">
                  <a:moveTo>
                    <a:pt x="1860" y="0"/>
                  </a:moveTo>
                  <a:lnTo>
                    <a:pt x="0" y="1876"/>
                  </a:lnTo>
                  <a:lnTo>
                    <a:pt x="1860" y="1876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47600" y="1573200"/>
              <a:ext cx="178920" cy="154440"/>
            </a:xfrm>
            <a:custGeom>
              <a:avLst/>
              <a:gdLst/>
              <a:ahLst/>
              <a:rect l="l" t="t" r="r" b="b"/>
              <a:pathLst>
                <a:path w="1860" h="1876">
                  <a:moveTo>
                    <a:pt x="1860" y="0"/>
                  </a:moveTo>
                  <a:lnTo>
                    <a:pt x="0" y="0"/>
                  </a:lnTo>
                  <a:lnTo>
                    <a:pt x="0" y="1876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80000" y="1600920"/>
              <a:ext cx="109800" cy="964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447600" y="1779840"/>
              <a:ext cx="178920" cy="153720"/>
            </a:xfrm>
            <a:custGeom>
              <a:avLst/>
              <a:gdLst/>
              <a:ahLst/>
              <a:rect l="l" t="t" r="r" b="b"/>
              <a:pathLst>
                <a:path w="1860" h="1869">
                  <a:moveTo>
                    <a:pt x="1860" y="0"/>
                  </a:moveTo>
                  <a:lnTo>
                    <a:pt x="0" y="1869"/>
                  </a:lnTo>
                  <a:lnTo>
                    <a:pt x="1860" y="1869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47600" y="1779840"/>
              <a:ext cx="178920" cy="153720"/>
            </a:xfrm>
            <a:custGeom>
              <a:avLst/>
              <a:gdLst/>
              <a:ahLst/>
              <a:rect l="l" t="t" r="r" b="b"/>
              <a:pathLst>
                <a:path w="1860" h="1869">
                  <a:moveTo>
                    <a:pt x="1860" y="0"/>
                  </a:moveTo>
                  <a:lnTo>
                    <a:pt x="0" y="0"/>
                  </a:lnTo>
                  <a:lnTo>
                    <a:pt x="0" y="1869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80000" y="1807200"/>
              <a:ext cx="109800" cy="975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48320" y="1986120"/>
              <a:ext cx="55800" cy="50040"/>
            </a:xfrm>
            <a:custGeom>
              <a:avLst/>
              <a:gdLst/>
              <a:ahLst/>
              <a:rect l="l" t="t" r="r" b="b"/>
              <a:pathLst>
                <a:path w="583" h="606">
                  <a:moveTo>
                    <a:pt x="288" y="0"/>
                  </a:moveTo>
                  <a:lnTo>
                    <a:pt x="455" y="58"/>
                  </a:lnTo>
                  <a:lnTo>
                    <a:pt x="576" y="206"/>
                  </a:lnTo>
                  <a:lnTo>
                    <a:pt x="583" y="330"/>
                  </a:lnTo>
                  <a:lnTo>
                    <a:pt x="535" y="491"/>
                  </a:lnTo>
                  <a:lnTo>
                    <a:pt x="371" y="606"/>
                  </a:lnTo>
                  <a:lnTo>
                    <a:pt x="214" y="606"/>
                  </a:lnTo>
                  <a:lnTo>
                    <a:pt x="47" y="491"/>
                  </a:lnTo>
                  <a:lnTo>
                    <a:pt x="0" y="297"/>
                  </a:lnTo>
                  <a:lnTo>
                    <a:pt x="47" y="132"/>
                  </a:lnTo>
                  <a:lnTo>
                    <a:pt x="214" y="15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455520" y="1993680"/>
              <a:ext cx="28080" cy="25560"/>
            </a:xfrm>
            <a:custGeom>
              <a:avLst/>
              <a:gdLst/>
              <a:ahLst/>
              <a:rect l="l" t="t" r="r" b="b"/>
              <a:pathLst>
                <a:path w="295" h="315">
                  <a:moveTo>
                    <a:pt x="145" y="0"/>
                  </a:moveTo>
                  <a:lnTo>
                    <a:pt x="295" y="144"/>
                  </a:lnTo>
                  <a:lnTo>
                    <a:pt x="191" y="315"/>
                  </a:lnTo>
                  <a:lnTo>
                    <a:pt x="35" y="268"/>
                  </a:lnTo>
                  <a:lnTo>
                    <a:pt x="0" y="144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67480" y="1986120"/>
              <a:ext cx="56520" cy="50040"/>
            </a:xfrm>
            <a:custGeom>
              <a:avLst/>
              <a:gdLst/>
              <a:ahLst/>
              <a:rect l="l" t="t" r="r" b="b"/>
              <a:pathLst>
                <a:path w="591" h="606">
                  <a:moveTo>
                    <a:pt x="297" y="0"/>
                  </a:moveTo>
                  <a:lnTo>
                    <a:pt x="462" y="58"/>
                  </a:lnTo>
                  <a:lnTo>
                    <a:pt x="579" y="206"/>
                  </a:lnTo>
                  <a:lnTo>
                    <a:pt x="591" y="330"/>
                  </a:lnTo>
                  <a:lnTo>
                    <a:pt x="544" y="491"/>
                  </a:lnTo>
                  <a:lnTo>
                    <a:pt x="379" y="606"/>
                  </a:lnTo>
                  <a:lnTo>
                    <a:pt x="202" y="606"/>
                  </a:lnTo>
                  <a:lnTo>
                    <a:pt x="56" y="491"/>
                  </a:lnTo>
                  <a:lnTo>
                    <a:pt x="0" y="297"/>
                  </a:lnTo>
                  <a:lnTo>
                    <a:pt x="56" y="132"/>
                  </a:lnTo>
                  <a:lnTo>
                    <a:pt x="202" y="15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75400" y="1993680"/>
              <a:ext cx="29160" cy="25560"/>
            </a:xfrm>
            <a:custGeom>
              <a:avLst/>
              <a:gdLst/>
              <a:ahLst/>
              <a:rect l="l" t="t" r="r" b="b"/>
              <a:pathLst>
                <a:path w="300" h="315">
                  <a:moveTo>
                    <a:pt x="148" y="0"/>
                  </a:moveTo>
                  <a:lnTo>
                    <a:pt x="300" y="144"/>
                  </a:lnTo>
                  <a:lnTo>
                    <a:pt x="191" y="315"/>
                  </a:lnTo>
                  <a:lnTo>
                    <a:pt x="33" y="268"/>
                  </a:lnTo>
                  <a:lnTo>
                    <a:pt x="0" y="14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56040" y="1575000"/>
              <a:ext cx="656640" cy="207000"/>
            </a:xfrm>
            <a:custGeom>
              <a:avLst/>
              <a:gdLst/>
              <a:ahLst/>
              <a:rect l="l" t="t" r="r" b="b"/>
              <a:pathLst>
                <a:path w="6842" h="2521">
                  <a:moveTo>
                    <a:pt x="0" y="1263"/>
                  </a:moveTo>
                  <a:lnTo>
                    <a:pt x="626" y="1263"/>
                  </a:lnTo>
                  <a:lnTo>
                    <a:pt x="626" y="2521"/>
                  </a:lnTo>
                  <a:lnTo>
                    <a:pt x="1869" y="2521"/>
                  </a:lnTo>
                  <a:lnTo>
                    <a:pt x="1869" y="1263"/>
                  </a:lnTo>
                  <a:lnTo>
                    <a:pt x="3098" y="1263"/>
                  </a:lnTo>
                  <a:lnTo>
                    <a:pt x="3098" y="2521"/>
                  </a:lnTo>
                  <a:lnTo>
                    <a:pt x="4343" y="2521"/>
                  </a:lnTo>
                  <a:lnTo>
                    <a:pt x="4343" y="1263"/>
                  </a:lnTo>
                  <a:lnTo>
                    <a:pt x="5599" y="1263"/>
                  </a:lnTo>
                  <a:lnTo>
                    <a:pt x="5599" y="0"/>
                  </a:lnTo>
                  <a:lnTo>
                    <a:pt x="68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6221520" y="5141880"/>
            <a:ext cx="2221920" cy="1117440"/>
            <a:chOff x="6221520" y="5141880"/>
            <a:chExt cx="2221920" cy="1117440"/>
          </a:xfrm>
        </p:grpSpPr>
        <p:grpSp>
          <p:nvGrpSpPr>
            <p:cNvPr id="1271" name=""/>
            <p:cNvGrpSpPr/>
            <p:nvPr/>
          </p:nvGrpSpPr>
          <p:grpSpPr>
            <a:xfrm>
              <a:off x="6292440" y="5141880"/>
              <a:ext cx="2151000" cy="1117440"/>
              <a:chOff x="6292440" y="5141880"/>
              <a:chExt cx="2151000" cy="1117440"/>
            </a:xfrm>
          </p:grpSpPr>
          <p:sp>
            <p:nvSpPr>
              <p:cNvPr id="1272" name=""/>
              <p:cNvSpPr/>
              <p:nvPr/>
            </p:nvSpPr>
            <p:spPr>
              <a:xfrm>
                <a:off x="6600960" y="5941440"/>
                <a:ext cx="1409760" cy="317880"/>
              </a:xfrm>
              <a:custGeom>
                <a:avLst/>
                <a:gdLst/>
                <a:ahLst/>
                <a:rect l="l" t="t" r="r" b="b"/>
                <a:pathLst>
                  <a:path w="10590" h="2123">
                    <a:moveTo>
                      <a:pt x="10590" y="2123"/>
                    </a:moveTo>
                    <a:lnTo>
                      <a:pt x="7476" y="0"/>
                    </a:lnTo>
                    <a:lnTo>
                      <a:pt x="2525" y="0"/>
                    </a:lnTo>
                    <a:lnTo>
                      <a:pt x="0" y="2123"/>
                    </a:lnTo>
                    <a:lnTo>
                      <a:pt x="10590" y="21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63040" y="5249520"/>
                <a:ext cx="462960" cy="63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250760" y="5256360"/>
                <a:ext cx="75240" cy="193320"/>
              </a:xfrm>
              <a:custGeom>
                <a:avLst/>
                <a:gdLst/>
                <a:ahLst/>
                <a:rect l="l" t="t" r="r" b="b"/>
                <a:pathLst>
                  <a:path w="565" h="1300">
                    <a:moveTo>
                      <a:pt x="392" y="11"/>
                    </a:moveTo>
                    <a:lnTo>
                      <a:pt x="273" y="39"/>
                    </a:lnTo>
                    <a:lnTo>
                      <a:pt x="154" y="118"/>
                    </a:lnTo>
                    <a:lnTo>
                      <a:pt x="66" y="256"/>
                    </a:lnTo>
                    <a:lnTo>
                      <a:pt x="5" y="496"/>
                    </a:lnTo>
                    <a:lnTo>
                      <a:pt x="0" y="735"/>
                    </a:lnTo>
                    <a:lnTo>
                      <a:pt x="5" y="977"/>
                    </a:lnTo>
                    <a:lnTo>
                      <a:pt x="38" y="1063"/>
                    </a:lnTo>
                    <a:lnTo>
                      <a:pt x="84" y="1143"/>
                    </a:lnTo>
                    <a:lnTo>
                      <a:pt x="380" y="1259"/>
                    </a:lnTo>
                    <a:lnTo>
                      <a:pt x="565" y="1300"/>
                    </a:lnTo>
                    <a:lnTo>
                      <a:pt x="565" y="0"/>
                    </a:lnTo>
                    <a:lnTo>
                      <a:pt x="392" y="1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199640" y="5454720"/>
                <a:ext cx="105480" cy="421920"/>
              </a:xfrm>
              <a:custGeom>
                <a:avLst/>
                <a:gdLst/>
                <a:ahLst/>
                <a:rect l="l" t="t" r="r" b="b"/>
                <a:pathLst>
                  <a:path w="796" h="2822">
                    <a:moveTo>
                      <a:pt x="340" y="35"/>
                    </a:moveTo>
                    <a:lnTo>
                      <a:pt x="229" y="61"/>
                    </a:lnTo>
                    <a:lnTo>
                      <a:pt x="189" y="229"/>
                    </a:lnTo>
                    <a:lnTo>
                      <a:pt x="101" y="672"/>
                    </a:lnTo>
                    <a:lnTo>
                      <a:pt x="68" y="958"/>
                    </a:lnTo>
                    <a:lnTo>
                      <a:pt x="8" y="1285"/>
                    </a:lnTo>
                    <a:lnTo>
                      <a:pt x="0" y="1564"/>
                    </a:lnTo>
                    <a:lnTo>
                      <a:pt x="47" y="1778"/>
                    </a:lnTo>
                    <a:lnTo>
                      <a:pt x="54" y="1942"/>
                    </a:lnTo>
                    <a:lnTo>
                      <a:pt x="114" y="2062"/>
                    </a:lnTo>
                    <a:lnTo>
                      <a:pt x="340" y="2569"/>
                    </a:lnTo>
                    <a:lnTo>
                      <a:pt x="374" y="2608"/>
                    </a:lnTo>
                    <a:lnTo>
                      <a:pt x="248" y="2721"/>
                    </a:lnTo>
                    <a:lnTo>
                      <a:pt x="275" y="2747"/>
                    </a:lnTo>
                    <a:lnTo>
                      <a:pt x="413" y="2661"/>
                    </a:lnTo>
                    <a:lnTo>
                      <a:pt x="497" y="2670"/>
                    </a:lnTo>
                    <a:lnTo>
                      <a:pt x="569" y="2707"/>
                    </a:lnTo>
                    <a:lnTo>
                      <a:pt x="674" y="2701"/>
                    </a:lnTo>
                    <a:lnTo>
                      <a:pt x="720" y="2788"/>
                    </a:lnTo>
                    <a:lnTo>
                      <a:pt x="796" y="2822"/>
                    </a:lnTo>
                    <a:lnTo>
                      <a:pt x="787" y="0"/>
                    </a:lnTo>
                    <a:lnTo>
                      <a:pt x="340" y="3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954480" y="5337720"/>
                <a:ext cx="136080" cy="155160"/>
              </a:xfrm>
              <a:custGeom>
                <a:avLst/>
                <a:gdLst/>
                <a:ahLst/>
                <a:rect l="l" t="t" r="r" b="b"/>
                <a:pathLst>
                  <a:path w="1023" h="1044">
                    <a:moveTo>
                      <a:pt x="1023" y="0"/>
                    </a:moveTo>
                    <a:lnTo>
                      <a:pt x="945" y="5"/>
                    </a:lnTo>
                    <a:lnTo>
                      <a:pt x="867" y="11"/>
                    </a:lnTo>
                    <a:lnTo>
                      <a:pt x="791" y="27"/>
                    </a:lnTo>
                    <a:lnTo>
                      <a:pt x="714" y="46"/>
                    </a:lnTo>
                    <a:lnTo>
                      <a:pt x="639" y="71"/>
                    </a:lnTo>
                    <a:lnTo>
                      <a:pt x="569" y="104"/>
                    </a:lnTo>
                    <a:lnTo>
                      <a:pt x="500" y="138"/>
                    </a:lnTo>
                    <a:lnTo>
                      <a:pt x="433" y="181"/>
                    </a:lnTo>
                    <a:lnTo>
                      <a:pt x="371" y="228"/>
                    </a:lnTo>
                    <a:lnTo>
                      <a:pt x="311" y="279"/>
                    </a:lnTo>
                    <a:lnTo>
                      <a:pt x="258" y="334"/>
                    </a:lnTo>
                    <a:lnTo>
                      <a:pt x="208" y="394"/>
                    </a:lnTo>
                    <a:lnTo>
                      <a:pt x="162" y="458"/>
                    </a:lnTo>
                    <a:lnTo>
                      <a:pt x="120" y="525"/>
                    </a:lnTo>
                    <a:lnTo>
                      <a:pt x="85" y="594"/>
                    </a:lnTo>
                    <a:lnTo>
                      <a:pt x="55" y="666"/>
                    </a:lnTo>
                    <a:lnTo>
                      <a:pt x="30" y="742"/>
                    </a:lnTo>
                    <a:lnTo>
                      <a:pt x="11" y="818"/>
                    </a:lnTo>
                    <a:lnTo>
                      <a:pt x="0" y="864"/>
                    </a:lnTo>
                    <a:lnTo>
                      <a:pt x="1023" y="1044"/>
                    </a:lnTo>
                    <a:lnTo>
                      <a:pt x="102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957720" y="54669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997" h="378">
                    <a:moveTo>
                      <a:pt x="997" y="175"/>
                    </a:moveTo>
                    <a:lnTo>
                      <a:pt x="0" y="378"/>
                    </a:lnTo>
                    <a:lnTo>
                      <a:pt x="0" y="0"/>
                    </a:lnTo>
                    <a:lnTo>
                      <a:pt x="997" y="17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964200" y="5493240"/>
                <a:ext cx="126360" cy="120600"/>
              </a:xfrm>
              <a:custGeom>
                <a:avLst/>
                <a:gdLst/>
                <a:ahLst/>
                <a:rect l="l" t="t" r="r" b="b"/>
                <a:pathLst>
                  <a:path w="954" h="802">
                    <a:moveTo>
                      <a:pt x="954" y="0"/>
                    </a:moveTo>
                    <a:lnTo>
                      <a:pt x="288" y="802"/>
                    </a:lnTo>
                    <a:lnTo>
                      <a:pt x="203" y="733"/>
                    </a:lnTo>
                    <a:lnTo>
                      <a:pt x="143" y="662"/>
                    </a:lnTo>
                    <a:lnTo>
                      <a:pt x="97" y="611"/>
                    </a:lnTo>
                    <a:lnTo>
                      <a:pt x="53" y="510"/>
                    </a:lnTo>
                    <a:lnTo>
                      <a:pt x="16" y="398"/>
                    </a:lnTo>
                    <a:lnTo>
                      <a:pt x="7" y="268"/>
                    </a:lnTo>
                    <a:lnTo>
                      <a:pt x="0" y="191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002360" y="5493240"/>
                <a:ext cx="131040" cy="157680"/>
              </a:xfrm>
              <a:custGeom>
                <a:avLst/>
                <a:gdLst/>
                <a:ahLst/>
                <a:rect l="l" t="t" r="r" b="b"/>
                <a:pathLst>
                  <a:path w="982" h="1051">
                    <a:moveTo>
                      <a:pt x="659" y="0"/>
                    </a:moveTo>
                    <a:lnTo>
                      <a:pt x="982" y="994"/>
                    </a:lnTo>
                    <a:lnTo>
                      <a:pt x="866" y="1028"/>
                    </a:lnTo>
                    <a:lnTo>
                      <a:pt x="765" y="1044"/>
                    </a:lnTo>
                    <a:lnTo>
                      <a:pt x="648" y="1051"/>
                    </a:lnTo>
                    <a:lnTo>
                      <a:pt x="505" y="1035"/>
                    </a:lnTo>
                    <a:lnTo>
                      <a:pt x="365" y="1000"/>
                    </a:lnTo>
                    <a:lnTo>
                      <a:pt x="238" y="959"/>
                    </a:lnTo>
                    <a:lnTo>
                      <a:pt x="132" y="899"/>
                    </a:lnTo>
                    <a:lnTo>
                      <a:pt x="51" y="846"/>
                    </a:lnTo>
                    <a:lnTo>
                      <a:pt x="0" y="807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090920" y="5337720"/>
                <a:ext cx="139320" cy="303480"/>
              </a:xfrm>
              <a:custGeom>
                <a:avLst/>
                <a:gdLst/>
                <a:ahLst/>
                <a:rect l="l" t="t" r="r" b="b"/>
                <a:pathLst>
                  <a:path w="1047" h="2038">
                    <a:moveTo>
                      <a:pt x="323" y="2038"/>
                    </a:moveTo>
                    <a:lnTo>
                      <a:pt x="396" y="2012"/>
                    </a:lnTo>
                    <a:lnTo>
                      <a:pt x="468" y="1978"/>
                    </a:lnTo>
                    <a:lnTo>
                      <a:pt x="537" y="1941"/>
                    </a:lnTo>
                    <a:lnTo>
                      <a:pt x="605" y="1899"/>
                    </a:lnTo>
                    <a:lnTo>
                      <a:pt x="666" y="1851"/>
                    </a:lnTo>
                    <a:lnTo>
                      <a:pt x="726" y="1798"/>
                    </a:lnTo>
                    <a:lnTo>
                      <a:pt x="780" y="1741"/>
                    </a:lnTo>
                    <a:lnTo>
                      <a:pt x="831" y="1682"/>
                    </a:lnTo>
                    <a:lnTo>
                      <a:pt x="877" y="1616"/>
                    </a:lnTo>
                    <a:lnTo>
                      <a:pt x="916" y="1547"/>
                    </a:lnTo>
                    <a:lnTo>
                      <a:pt x="952" y="1477"/>
                    </a:lnTo>
                    <a:lnTo>
                      <a:pt x="983" y="1404"/>
                    </a:lnTo>
                    <a:lnTo>
                      <a:pt x="1007" y="1330"/>
                    </a:lnTo>
                    <a:lnTo>
                      <a:pt x="1024" y="1256"/>
                    </a:lnTo>
                    <a:lnTo>
                      <a:pt x="1038" y="1176"/>
                    </a:lnTo>
                    <a:lnTo>
                      <a:pt x="1047" y="1099"/>
                    </a:lnTo>
                    <a:lnTo>
                      <a:pt x="1047" y="1018"/>
                    </a:lnTo>
                    <a:lnTo>
                      <a:pt x="1042" y="941"/>
                    </a:lnTo>
                    <a:lnTo>
                      <a:pt x="1031" y="862"/>
                    </a:lnTo>
                    <a:lnTo>
                      <a:pt x="1013" y="785"/>
                    </a:lnTo>
                    <a:lnTo>
                      <a:pt x="992" y="710"/>
                    </a:lnTo>
                    <a:lnTo>
                      <a:pt x="962" y="638"/>
                    </a:lnTo>
                    <a:lnTo>
                      <a:pt x="930" y="565"/>
                    </a:lnTo>
                    <a:lnTo>
                      <a:pt x="890" y="495"/>
                    </a:lnTo>
                    <a:lnTo>
                      <a:pt x="847" y="431"/>
                    </a:lnTo>
                    <a:lnTo>
                      <a:pt x="798" y="369"/>
                    </a:lnTo>
                    <a:lnTo>
                      <a:pt x="745" y="311"/>
                    </a:lnTo>
                    <a:lnTo>
                      <a:pt x="688" y="258"/>
                    </a:lnTo>
                    <a:lnTo>
                      <a:pt x="627" y="207"/>
                    </a:lnTo>
                    <a:lnTo>
                      <a:pt x="561" y="163"/>
                    </a:lnTo>
                    <a:lnTo>
                      <a:pt x="492" y="124"/>
                    </a:lnTo>
                    <a:lnTo>
                      <a:pt x="422" y="88"/>
                    </a:lnTo>
                    <a:lnTo>
                      <a:pt x="350" y="60"/>
                    </a:lnTo>
                    <a:lnTo>
                      <a:pt x="273" y="36"/>
                    </a:lnTo>
                    <a:lnTo>
                      <a:pt x="196" y="18"/>
                    </a:lnTo>
                    <a:lnTo>
                      <a:pt x="119" y="7"/>
                    </a:lnTo>
                    <a:lnTo>
                      <a:pt x="40" y="2"/>
                    </a:lnTo>
                    <a:lnTo>
                      <a:pt x="0" y="0"/>
                    </a:lnTo>
                    <a:lnTo>
                      <a:pt x="0" y="1051"/>
                    </a:lnTo>
                    <a:lnTo>
                      <a:pt x="323" y="2038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292440" y="5615280"/>
                <a:ext cx="793080" cy="628920"/>
              </a:xfrm>
              <a:custGeom>
                <a:avLst/>
                <a:gdLst/>
                <a:ahLst/>
                <a:rect l="l" t="t" r="r" b="b"/>
                <a:pathLst>
                  <a:path w="5964" h="4208">
                    <a:moveTo>
                      <a:pt x="0" y="2163"/>
                    </a:moveTo>
                    <a:lnTo>
                      <a:pt x="182" y="1829"/>
                    </a:lnTo>
                    <a:lnTo>
                      <a:pt x="401" y="1532"/>
                    </a:lnTo>
                    <a:lnTo>
                      <a:pt x="632" y="1287"/>
                    </a:lnTo>
                    <a:lnTo>
                      <a:pt x="839" y="1160"/>
                    </a:lnTo>
                    <a:lnTo>
                      <a:pt x="1215" y="1197"/>
                    </a:lnTo>
                    <a:lnTo>
                      <a:pt x="3447" y="0"/>
                    </a:lnTo>
                    <a:lnTo>
                      <a:pt x="4181" y="349"/>
                    </a:lnTo>
                    <a:lnTo>
                      <a:pt x="4387" y="837"/>
                    </a:lnTo>
                    <a:lnTo>
                      <a:pt x="4620" y="1699"/>
                    </a:lnTo>
                    <a:lnTo>
                      <a:pt x="4893" y="1699"/>
                    </a:lnTo>
                    <a:lnTo>
                      <a:pt x="5033" y="1762"/>
                    </a:lnTo>
                    <a:lnTo>
                      <a:pt x="5060" y="1854"/>
                    </a:lnTo>
                    <a:lnTo>
                      <a:pt x="5319" y="1829"/>
                    </a:lnTo>
                    <a:lnTo>
                      <a:pt x="5733" y="1893"/>
                    </a:lnTo>
                    <a:lnTo>
                      <a:pt x="5964" y="2163"/>
                    </a:lnTo>
                    <a:lnTo>
                      <a:pt x="5913" y="2523"/>
                    </a:lnTo>
                    <a:lnTo>
                      <a:pt x="5370" y="2547"/>
                    </a:lnTo>
                    <a:lnTo>
                      <a:pt x="4673" y="2650"/>
                    </a:lnTo>
                    <a:lnTo>
                      <a:pt x="4324" y="2857"/>
                    </a:lnTo>
                    <a:lnTo>
                      <a:pt x="4687" y="2857"/>
                    </a:lnTo>
                    <a:lnTo>
                      <a:pt x="4943" y="2831"/>
                    </a:lnTo>
                    <a:lnTo>
                      <a:pt x="5007" y="3154"/>
                    </a:lnTo>
                    <a:lnTo>
                      <a:pt x="4880" y="3385"/>
                    </a:lnTo>
                    <a:lnTo>
                      <a:pt x="4530" y="4053"/>
                    </a:lnTo>
                    <a:lnTo>
                      <a:pt x="4194" y="4208"/>
                    </a:lnTo>
                    <a:lnTo>
                      <a:pt x="0" y="4208"/>
                    </a:lnTo>
                    <a:lnTo>
                      <a:pt x="0" y="216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661800" y="5725080"/>
                <a:ext cx="99000" cy="234000"/>
              </a:xfrm>
              <a:custGeom>
                <a:avLst/>
                <a:gdLst/>
                <a:ahLst/>
                <a:rect l="l" t="t" r="r" b="b"/>
                <a:pathLst>
                  <a:path w="745" h="1567">
                    <a:moveTo>
                      <a:pt x="0" y="122"/>
                    </a:moveTo>
                    <a:lnTo>
                      <a:pt x="111" y="306"/>
                    </a:lnTo>
                    <a:lnTo>
                      <a:pt x="243" y="554"/>
                    </a:lnTo>
                    <a:lnTo>
                      <a:pt x="323" y="798"/>
                    </a:lnTo>
                    <a:lnTo>
                      <a:pt x="441" y="1127"/>
                    </a:lnTo>
                    <a:lnTo>
                      <a:pt x="560" y="1567"/>
                    </a:lnTo>
                    <a:lnTo>
                      <a:pt x="745" y="600"/>
                    </a:lnTo>
                    <a:lnTo>
                      <a:pt x="619" y="455"/>
                    </a:lnTo>
                    <a:lnTo>
                      <a:pt x="335" y="168"/>
                    </a:lnTo>
                    <a:lnTo>
                      <a:pt x="79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39640" y="564480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76" h="1353">
                    <a:moveTo>
                      <a:pt x="0" y="162"/>
                    </a:moveTo>
                    <a:lnTo>
                      <a:pt x="73" y="274"/>
                    </a:lnTo>
                    <a:lnTo>
                      <a:pt x="158" y="484"/>
                    </a:lnTo>
                    <a:lnTo>
                      <a:pt x="184" y="648"/>
                    </a:lnTo>
                    <a:lnTo>
                      <a:pt x="205" y="892"/>
                    </a:lnTo>
                    <a:lnTo>
                      <a:pt x="224" y="1162"/>
                    </a:lnTo>
                    <a:lnTo>
                      <a:pt x="290" y="1353"/>
                    </a:lnTo>
                    <a:lnTo>
                      <a:pt x="376" y="900"/>
                    </a:lnTo>
                    <a:lnTo>
                      <a:pt x="362" y="373"/>
                    </a:lnTo>
                    <a:lnTo>
                      <a:pt x="90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873840" y="5699880"/>
                <a:ext cx="27720" cy="199800"/>
              </a:xfrm>
              <a:custGeom>
                <a:avLst/>
                <a:gdLst/>
                <a:ahLst/>
                <a:rect l="l" t="t" r="r" b="b"/>
                <a:pathLst>
                  <a:path w="204" h="1343">
                    <a:moveTo>
                      <a:pt x="79" y="0"/>
                    </a:moveTo>
                    <a:lnTo>
                      <a:pt x="79" y="46"/>
                    </a:lnTo>
                    <a:lnTo>
                      <a:pt x="72" y="106"/>
                    </a:lnTo>
                    <a:lnTo>
                      <a:pt x="40" y="183"/>
                    </a:lnTo>
                    <a:lnTo>
                      <a:pt x="26" y="462"/>
                    </a:lnTo>
                    <a:lnTo>
                      <a:pt x="33" y="683"/>
                    </a:lnTo>
                    <a:lnTo>
                      <a:pt x="0" y="875"/>
                    </a:lnTo>
                    <a:lnTo>
                      <a:pt x="40" y="1086"/>
                    </a:lnTo>
                    <a:lnTo>
                      <a:pt x="0" y="1191"/>
                    </a:lnTo>
                    <a:lnTo>
                      <a:pt x="79" y="1343"/>
                    </a:lnTo>
                    <a:lnTo>
                      <a:pt x="132" y="1224"/>
                    </a:lnTo>
                    <a:lnTo>
                      <a:pt x="185" y="941"/>
                    </a:lnTo>
                    <a:lnTo>
                      <a:pt x="204" y="666"/>
                    </a:lnTo>
                    <a:lnTo>
                      <a:pt x="192" y="482"/>
                    </a:lnTo>
                    <a:lnTo>
                      <a:pt x="165" y="291"/>
                    </a:lnTo>
                    <a:lnTo>
                      <a:pt x="197" y="183"/>
                    </a:lnTo>
                    <a:lnTo>
                      <a:pt x="204" y="158"/>
                    </a:lnTo>
                    <a:lnTo>
                      <a:pt x="192" y="79"/>
                    </a:lnTo>
                    <a:lnTo>
                      <a:pt x="139" y="1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732000" y="5800680"/>
                <a:ext cx="46800" cy="244800"/>
              </a:xfrm>
              <a:custGeom>
                <a:avLst/>
                <a:gdLst/>
                <a:ahLst/>
                <a:rect l="l" t="t" r="r" b="b"/>
                <a:pathLst>
                  <a:path w="350" h="1637">
                    <a:moveTo>
                      <a:pt x="108" y="18"/>
                    </a:moveTo>
                    <a:lnTo>
                      <a:pt x="119" y="77"/>
                    </a:lnTo>
                    <a:lnTo>
                      <a:pt x="86" y="156"/>
                    </a:lnTo>
                    <a:lnTo>
                      <a:pt x="119" y="341"/>
                    </a:lnTo>
                    <a:lnTo>
                      <a:pt x="132" y="387"/>
                    </a:lnTo>
                    <a:lnTo>
                      <a:pt x="119" y="472"/>
                    </a:lnTo>
                    <a:lnTo>
                      <a:pt x="86" y="608"/>
                    </a:lnTo>
                    <a:lnTo>
                      <a:pt x="73" y="781"/>
                    </a:lnTo>
                    <a:lnTo>
                      <a:pt x="0" y="947"/>
                    </a:lnTo>
                    <a:lnTo>
                      <a:pt x="73" y="1222"/>
                    </a:lnTo>
                    <a:lnTo>
                      <a:pt x="126" y="1301"/>
                    </a:lnTo>
                    <a:lnTo>
                      <a:pt x="218" y="1452"/>
                    </a:lnTo>
                    <a:lnTo>
                      <a:pt x="231" y="1615"/>
                    </a:lnTo>
                    <a:lnTo>
                      <a:pt x="277" y="1637"/>
                    </a:lnTo>
                    <a:lnTo>
                      <a:pt x="350" y="1615"/>
                    </a:lnTo>
                    <a:lnTo>
                      <a:pt x="350" y="1242"/>
                    </a:lnTo>
                    <a:lnTo>
                      <a:pt x="271" y="176"/>
                    </a:lnTo>
                    <a:lnTo>
                      <a:pt x="194" y="57"/>
                    </a:lnTo>
                    <a:lnTo>
                      <a:pt x="113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44040" y="6034680"/>
                <a:ext cx="284040" cy="85680"/>
              </a:xfrm>
              <a:custGeom>
                <a:avLst/>
                <a:gdLst/>
                <a:ahLst/>
                <a:rect l="l" t="t" r="r" b="b"/>
                <a:pathLst>
                  <a:path w="2136" h="578">
                    <a:moveTo>
                      <a:pt x="0" y="6"/>
                    </a:moveTo>
                    <a:lnTo>
                      <a:pt x="31" y="138"/>
                    </a:lnTo>
                    <a:lnTo>
                      <a:pt x="45" y="248"/>
                    </a:lnTo>
                    <a:lnTo>
                      <a:pt x="45" y="393"/>
                    </a:lnTo>
                    <a:lnTo>
                      <a:pt x="38" y="507"/>
                    </a:lnTo>
                    <a:lnTo>
                      <a:pt x="24" y="578"/>
                    </a:lnTo>
                    <a:lnTo>
                      <a:pt x="2136" y="279"/>
                    </a:lnTo>
                    <a:lnTo>
                      <a:pt x="1274" y="83"/>
                    </a:lnTo>
                    <a:lnTo>
                      <a:pt x="259" y="171"/>
                    </a:lnTo>
                    <a:lnTo>
                      <a:pt x="229" y="64"/>
                    </a:lnTo>
                    <a:lnTo>
                      <a:pt x="18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85360" y="6158880"/>
                <a:ext cx="339480" cy="100440"/>
              </a:xfrm>
              <a:custGeom>
                <a:avLst/>
                <a:gdLst/>
                <a:ahLst/>
                <a:rect l="l" t="t" r="r" b="b"/>
                <a:pathLst>
                  <a:path w="2549" h="673">
                    <a:moveTo>
                      <a:pt x="0" y="673"/>
                    </a:moveTo>
                    <a:lnTo>
                      <a:pt x="1083" y="673"/>
                    </a:lnTo>
                    <a:lnTo>
                      <a:pt x="2549" y="242"/>
                    </a:lnTo>
                    <a:lnTo>
                      <a:pt x="1423" y="0"/>
                    </a:lnTo>
                    <a:lnTo>
                      <a:pt x="116" y="279"/>
                    </a:lnTo>
                    <a:lnTo>
                      <a:pt x="0" y="6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051320" y="5909400"/>
                <a:ext cx="245880" cy="113400"/>
              </a:xfrm>
              <a:custGeom>
                <a:avLst/>
                <a:gdLst/>
                <a:ahLst/>
                <a:rect l="l" t="t" r="r" b="b"/>
                <a:pathLst>
                  <a:path w="1853" h="763">
                    <a:moveTo>
                      <a:pt x="1291" y="763"/>
                    </a:moveTo>
                    <a:lnTo>
                      <a:pt x="0" y="681"/>
                    </a:lnTo>
                    <a:lnTo>
                      <a:pt x="117" y="396"/>
                    </a:lnTo>
                    <a:lnTo>
                      <a:pt x="90" y="191"/>
                    </a:lnTo>
                    <a:lnTo>
                      <a:pt x="27" y="70"/>
                    </a:lnTo>
                    <a:lnTo>
                      <a:pt x="275" y="0"/>
                    </a:lnTo>
                    <a:lnTo>
                      <a:pt x="607" y="268"/>
                    </a:lnTo>
                    <a:lnTo>
                      <a:pt x="906" y="337"/>
                    </a:lnTo>
                    <a:lnTo>
                      <a:pt x="1853" y="420"/>
                    </a:lnTo>
                    <a:lnTo>
                      <a:pt x="1291" y="7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084440" y="5851800"/>
                <a:ext cx="119160" cy="126720"/>
              </a:xfrm>
              <a:custGeom>
                <a:avLst/>
                <a:gdLst/>
                <a:ahLst/>
                <a:rect l="l" t="t" r="r" b="b"/>
                <a:pathLst>
                  <a:path w="893" h="848">
                    <a:moveTo>
                      <a:pt x="0" y="396"/>
                    </a:moveTo>
                    <a:lnTo>
                      <a:pt x="12" y="318"/>
                    </a:lnTo>
                    <a:lnTo>
                      <a:pt x="108" y="184"/>
                    </a:lnTo>
                    <a:lnTo>
                      <a:pt x="159" y="76"/>
                    </a:lnTo>
                    <a:lnTo>
                      <a:pt x="192" y="50"/>
                    </a:lnTo>
                    <a:lnTo>
                      <a:pt x="286" y="64"/>
                    </a:lnTo>
                    <a:lnTo>
                      <a:pt x="330" y="59"/>
                    </a:lnTo>
                    <a:lnTo>
                      <a:pt x="390" y="0"/>
                    </a:lnTo>
                    <a:lnTo>
                      <a:pt x="484" y="39"/>
                    </a:lnTo>
                    <a:lnTo>
                      <a:pt x="554" y="50"/>
                    </a:lnTo>
                    <a:lnTo>
                      <a:pt x="535" y="96"/>
                    </a:lnTo>
                    <a:lnTo>
                      <a:pt x="503" y="120"/>
                    </a:lnTo>
                    <a:lnTo>
                      <a:pt x="572" y="154"/>
                    </a:lnTo>
                    <a:lnTo>
                      <a:pt x="593" y="204"/>
                    </a:lnTo>
                    <a:lnTo>
                      <a:pt x="593" y="217"/>
                    </a:lnTo>
                    <a:lnTo>
                      <a:pt x="644" y="224"/>
                    </a:lnTo>
                    <a:lnTo>
                      <a:pt x="688" y="244"/>
                    </a:lnTo>
                    <a:lnTo>
                      <a:pt x="694" y="279"/>
                    </a:lnTo>
                    <a:lnTo>
                      <a:pt x="694" y="325"/>
                    </a:lnTo>
                    <a:lnTo>
                      <a:pt x="752" y="352"/>
                    </a:lnTo>
                    <a:lnTo>
                      <a:pt x="765" y="413"/>
                    </a:lnTo>
                    <a:lnTo>
                      <a:pt x="772" y="446"/>
                    </a:lnTo>
                    <a:lnTo>
                      <a:pt x="866" y="465"/>
                    </a:lnTo>
                    <a:lnTo>
                      <a:pt x="893" y="490"/>
                    </a:lnTo>
                    <a:lnTo>
                      <a:pt x="879" y="530"/>
                    </a:lnTo>
                    <a:lnTo>
                      <a:pt x="840" y="573"/>
                    </a:lnTo>
                    <a:lnTo>
                      <a:pt x="784" y="580"/>
                    </a:lnTo>
                    <a:lnTo>
                      <a:pt x="765" y="650"/>
                    </a:lnTo>
                    <a:lnTo>
                      <a:pt x="727" y="701"/>
                    </a:lnTo>
                    <a:lnTo>
                      <a:pt x="662" y="701"/>
                    </a:lnTo>
                    <a:lnTo>
                      <a:pt x="593" y="751"/>
                    </a:lnTo>
                    <a:lnTo>
                      <a:pt x="547" y="771"/>
                    </a:lnTo>
                    <a:lnTo>
                      <a:pt x="464" y="825"/>
                    </a:lnTo>
                    <a:lnTo>
                      <a:pt x="413" y="839"/>
                    </a:lnTo>
                    <a:lnTo>
                      <a:pt x="303" y="848"/>
                    </a:lnTo>
                    <a:lnTo>
                      <a:pt x="134" y="834"/>
                    </a:lnTo>
                    <a:lnTo>
                      <a:pt x="139" y="714"/>
                    </a:lnTo>
                    <a:lnTo>
                      <a:pt x="134" y="624"/>
                    </a:lnTo>
                    <a:lnTo>
                      <a:pt x="114" y="543"/>
                    </a:lnTo>
                    <a:lnTo>
                      <a:pt x="81" y="486"/>
                    </a:lnTo>
                    <a:lnTo>
                      <a:pt x="35" y="426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978960" y="5988240"/>
                <a:ext cx="103320" cy="108720"/>
              </a:xfrm>
              <a:custGeom>
                <a:avLst/>
                <a:gdLst/>
                <a:ahLst/>
                <a:rect l="l" t="t" r="r" b="b"/>
                <a:pathLst>
                  <a:path w="771" h="729">
                    <a:moveTo>
                      <a:pt x="215" y="138"/>
                    </a:moveTo>
                    <a:lnTo>
                      <a:pt x="389" y="10"/>
                    </a:lnTo>
                    <a:lnTo>
                      <a:pt x="459" y="0"/>
                    </a:lnTo>
                    <a:lnTo>
                      <a:pt x="605" y="61"/>
                    </a:lnTo>
                    <a:lnTo>
                      <a:pt x="706" y="138"/>
                    </a:lnTo>
                    <a:lnTo>
                      <a:pt x="738" y="206"/>
                    </a:lnTo>
                    <a:lnTo>
                      <a:pt x="738" y="233"/>
                    </a:lnTo>
                    <a:lnTo>
                      <a:pt x="759" y="272"/>
                    </a:lnTo>
                    <a:lnTo>
                      <a:pt x="759" y="303"/>
                    </a:lnTo>
                    <a:lnTo>
                      <a:pt x="752" y="340"/>
                    </a:lnTo>
                    <a:lnTo>
                      <a:pt x="771" y="367"/>
                    </a:lnTo>
                    <a:lnTo>
                      <a:pt x="771" y="418"/>
                    </a:lnTo>
                    <a:lnTo>
                      <a:pt x="759" y="443"/>
                    </a:lnTo>
                    <a:lnTo>
                      <a:pt x="727" y="475"/>
                    </a:lnTo>
                    <a:lnTo>
                      <a:pt x="701" y="524"/>
                    </a:lnTo>
                    <a:lnTo>
                      <a:pt x="662" y="569"/>
                    </a:lnTo>
                    <a:lnTo>
                      <a:pt x="567" y="616"/>
                    </a:lnTo>
                    <a:lnTo>
                      <a:pt x="381" y="659"/>
                    </a:lnTo>
                    <a:lnTo>
                      <a:pt x="222" y="699"/>
                    </a:lnTo>
                    <a:lnTo>
                      <a:pt x="68" y="729"/>
                    </a:lnTo>
                    <a:lnTo>
                      <a:pt x="0" y="722"/>
                    </a:lnTo>
                    <a:lnTo>
                      <a:pt x="0" y="323"/>
                    </a:lnTo>
                    <a:lnTo>
                      <a:pt x="215" y="1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68440" y="6108840"/>
                <a:ext cx="128520" cy="113400"/>
              </a:xfrm>
              <a:custGeom>
                <a:avLst/>
                <a:gdLst/>
                <a:ahLst/>
                <a:rect l="l" t="t" r="r" b="b"/>
                <a:pathLst>
                  <a:path w="965" h="762">
                    <a:moveTo>
                      <a:pt x="0" y="356"/>
                    </a:moveTo>
                    <a:lnTo>
                      <a:pt x="108" y="458"/>
                    </a:lnTo>
                    <a:lnTo>
                      <a:pt x="186" y="559"/>
                    </a:lnTo>
                    <a:lnTo>
                      <a:pt x="229" y="642"/>
                    </a:lnTo>
                    <a:lnTo>
                      <a:pt x="229" y="750"/>
                    </a:lnTo>
                    <a:lnTo>
                      <a:pt x="389" y="762"/>
                    </a:lnTo>
                    <a:lnTo>
                      <a:pt x="581" y="756"/>
                    </a:lnTo>
                    <a:lnTo>
                      <a:pt x="728" y="710"/>
                    </a:lnTo>
                    <a:lnTo>
                      <a:pt x="836" y="624"/>
                    </a:lnTo>
                    <a:lnTo>
                      <a:pt x="899" y="504"/>
                    </a:lnTo>
                    <a:lnTo>
                      <a:pt x="926" y="444"/>
                    </a:lnTo>
                    <a:lnTo>
                      <a:pt x="965" y="393"/>
                    </a:lnTo>
                    <a:lnTo>
                      <a:pt x="930" y="297"/>
                    </a:lnTo>
                    <a:lnTo>
                      <a:pt x="943" y="235"/>
                    </a:lnTo>
                    <a:lnTo>
                      <a:pt x="926" y="172"/>
                    </a:lnTo>
                    <a:lnTo>
                      <a:pt x="804" y="64"/>
                    </a:lnTo>
                    <a:lnTo>
                      <a:pt x="714" y="0"/>
                    </a:lnTo>
                    <a:lnTo>
                      <a:pt x="627" y="0"/>
                    </a:lnTo>
                    <a:lnTo>
                      <a:pt x="416" y="94"/>
                    </a:lnTo>
                    <a:lnTo>
                      <a:pt x="57" y="297"/>
                    </a:lnTo>
                    <a:lnTo>
                      <a:pt x="0" y="35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22720" y="550260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241" h="1287">
                    <a:moveTo>
                      <a:pt x="1107" y="15"/>
                    </a:moveTo>
                    <a:lnTo>
                      <a:pt x="1139" y="152"/>
                    </a:lnTo>
                    <a:lnTo>
                      <a:pt x="1146" y="224"/>
                    </a:lnTo>
                    <a:lnTo>
                      <a:pt x="1139" y="270"/>
                    </a:lnTo>
                    <a:lnTo>
                      <a:pt x="1130" y="291"/>
                    </a:lnTo>
                    <a:lnTo>
                      <a:pt x="1149" y="337"/>
                    </a:lnTo>
                    <a:lnTo>
                      <a:pt x="1200" y="471"/>
                    </a:lnTo>
                    <a:lnTo>
                      <a:pt x="1241" y="552"/>
                    </a:lnTo>
                    <a:lnTo>
                      <a:pt x="1218" y="574"/>
                    </a:lnTo>
                    <a:lnTo>
                      <a:pt x="1134" y="567"/>
                    </a:lnTo>
                    <a:lnTo>
                      <a:pt x="1077" y="593"/>
                    </a:lnTo>
                    <a:lnTo>
                      <a:pt x="1097" y="679"/>
                    </a:lnTo>
                    <a:lnTo>
                      <a:pt x="989" y="745"/>
                    </a:lnTo>
                    <a:lnTo>
                      <a:pt x="976" y="761"/>
                    </a:lnTo>
                    <a:lnTo>
                      <a:pt x="1051" y="766"/>
                    </a:lnTo>
                    <a:lnTo>
                      <a:pt x="1051" y="798"/>
                    </a:lnTo>
                    <a:lnTo>
                      <a:pt x="1011" y="840"/>
                    </a:lnTo>
                    <a:lnTo>
                      <a:pt x="1049" y="945"/>
                    </a:lnTo>
                    <a:lnTo>
                      <a:pt x="1035" y="998"/>
                    </a:lnTo>
                    <a:lnTo>
                      <a:pt x="980" y="1026"/>
                    </a:lnTo>
                    <a:lnTo>
                      <a:pt x="835" y="1017"/>
                    </a:lnTo>
                    <a:lnTo>
                      <a:pt x="749" y="1017"/>
                    </a:lnTo>
                    <a:lnTo>
                      <a:pt x="558" y="1022"/>
                    </a:lnTo>
                    <a:lnTo>
                      <a:pt x="558" y="1191"/>
                    </a:lnTo>
                    <a:lnTo>
                      <a:pt x="466" y="1287"/>
                    </a:lnTo>
                    <a:lnTo>
                      <a:pt x="385" y="1218"/>
                    </a:lnTo>
                    <a:lnTo>
                      <a:pt x="293" y="1072"/>
                    </a:lnTo>
                    <a:lnTo>
                      <a:pt x="220" y="1011"/>
                    </a:lnTo>
                    <a:lnTo>
                      <a:pt x="19" y="780"/>
                    </a:lnTo>
                    <a:lnTo>
                      <a:pt x="0" y="552"/>
                    </a:lnTo>
                    <a:lnTo>
                      <a:pt x="90" y="233"/>
                    </a:lnTo>
                    <a:lnTo>
                      <a:pt x="662" y="0"/>
                    </a:lnTo>
                    <a:lnTo>
                      <a:pt x="1107" y="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755400" y="5416560"/>
                <a:ext cx="241560" cy="115920"/>
              </a:xfrm>
              <a:custGeom>
                <a:avLst/>
                <a:gdLst/>
                <a:ahLst/>
                <a:rect l="l" t="t" r="r" b="b"/>
                <a:pathLst>
                  <a:path w="1819" h="778">
                    <a:moveTo>
                      <a:pt x="1819" y="461"/>
                    </a:moveTo>
                    <a:lnTo>
                      <a:pt x="1784" y="507"/>
                    </a:lnTo>
                    <a:lnTo>
                      <a:pt x="1732" y="518"/>
                    </a:lnTo>
                    <a:lnTo>
                      <a:pt x="997" y="624"/>
                    </a:lnTo>
                    <a:lnTo>
                      <a:pt x="120" y="778"/>
                    </a:lnTo>
                    <a:lnTo>
                      <a:pt x="0" y="696"/>
                    </a:lnTo>
                    <a:lnTo>
                      <a:pt x="10" y="604"/>
                    </a:lnTo>
                    <a:lnTo>
                      <a:pt x="21" y="574"/>
                    </a:lnTo>
                    <a:lnTo>
                      <a:pt x="95" y="481"/>
                    </a:lnTo>
                    <a:lnTo>
                      <a:pt x="155" y="378"/>
                    </a:lnTo>
                    <a:lnTo>
                      <a:pt x="210" y="262"/>
                    </a:lnTo>
                    <a:lnTo>
                      <a:pt x="254" y="211"/>
                    </a:lnTo>
                    <a:lnTo>
                      <a:pt x="314" y="110"/>
                    </a:lnTo>
                    <a:lnTo>
                      <a:pt x="344" y="68"/>
                    </a:lnTo>
                    <a:lnTo>
                      <a:pt x="432" y="13"/>
                    </a:lnTo>
                    <a:lnTo>
                      <a:pt x="531" y="13"/>
                    </a:lnTo>
                    <a:lnTo>
                      <a:pt x="628" y="48"/>
                    </a:lnTo>
                    <a:lnTo>
                      <a:pt x="837" y="0"/>
                    </a:lnTo>
                    <a:lnTo>
                      <a:pt x="1033" y="68"/>
                    </a:lnTo>
                    <a:lnTo>
                      <a:pt x="1202" y="129"/>
                    </a:lnTo>
                    <a:lnTo>
                      <a:pt x="1393" y="170"/>
                    </a:lnTo>
                    <a:lnTo>
                      <a:pt x="1520" y="219"/>
                    </a:lnTo>
                    <a:lnTo>
                      <a:pt x="1639" y="304"/>
                    </a:lnTo>
                    <a:lnTo>
                      <a:pt x="1711" y="385"/>
                    </a:lnTo>
                    <a:lnTo>
                      <a:pt x="1762" y="437"/>
                    </a:lnTo>
                    <a:lnTo>
                      <a:pt x="1804" y="446"/>
                    </a:lnTo>
                    <a:lnTo>
                      <a:pt x="1819" y="46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674400" y="5509800"/>
                <a:ext cx="181080" cy="291600"/>
              </a:xfrm>
              <a:custGeom>
                <a:avLst/>
                <a:gdLst/>
                <a:ahLst/>
                <a:rect l="l" t="t" r="r" b="b"/>
                <a:pathLst>
                  <a:path w="1365" h="1951">
                    <a:moveTo>
                      <a:pt x="60" y="35"/>
                    </a:moveTo>
                    <a:lnTo>
                      <a:pt x="254" y="0"/>
                    </a:lnTo>
                    <a:lnTo>
                      <a:pt x="480" y="0"/>
                    </a:lnTo>
                    <a:lnTo>
                      <a:pt x="689" y="46"/>
                    </a:lnTo>
                    <a:lnTo>
                      <a:pt x="807" y="96"/>
                    </a:lnTo>
                    <a:lnTo>
                      <a:pt x="1043" y="300"/>
                    </a:lnTo>
                    <a:lnTo>
                      <a:pt x="1151" y="544"/>
                    </a:lnTo>
                    <a:lnTo>
                      <a:pt x="1155" y="599"/>
                    </a:lnTo>
                    <a:lnTo>
                      <a:pt x="1166" y="657"/>
                    </a:lnTo>
                    <a:lnTo>
                      <a:pt x="1151" y="707"/>
                    </a:lnTo>
                    <a:lnTo>
                      <a:pt x="1212" y="773"/>
                    </a:lnTo>
                    <a:lnTo>
                      <a:pt x="1365" y="993"/>
                    </a:lnTo>
                    <a:lnTo>
                      <a:pt x="1360" y="1039"/>
                    </a:lnTo>
                    <a:lnTo>
                      <a:pt x="1346" y="1070"/>
                    </a:lnTo>
                    <a:lnTo>
                      <a:pt x="1263" y="1074"/>
                    </a:lnTo>
                    <a:lnTo>
                      <a:pt x="1227" y="1074"/>
                    </a:lnTo>
                    <a:lnTo>
                      <a:pt x="1212" y="1136"/>
                    </a:lnTo>
                    <a:lnTo>
                      <a:pt x="1181" y="1232"/>
                    </a:lnTo>
                    <a:lnTo>
                      <a:pt x="1155" y="1254"/>
                    </a:lnTo>
                    <a:lnTo>
                      <a:pt x="1181" y="1309"/>
                    </a:lnTo>
                    <a:lnTo>
                      <a:pt x="1175" y="1355"/>
                    </a:lnTo>
                    <a:lnTo>
                      <a:pt x="1146" y="1374"/>
                    </a:lnTo>
                    <a:lnTo>
                      <a:pt x="1111" y="1397"/>
                    </a:lnTo>
                    <a:lnTo>
                      <a:pt x="1135" y="1478"/>
                    </a:lnTo>
                    <a:lnTo>
                      <a:pt x="1139" y="1568"/>
                    </a:lnTo>
                    <a:lnTo>
                      <a:pt x="1116" y="1619"/>
                    </a:lnTo>
                    <a:lnTo>
                      <a:pt x="1058" y="1630"/>
                    </a:lnTo>
                    <a:lnTo>
                      <a:pt x="950" y="1630"/>
                    </a:lnTo>
                    <a:lnTo>
                      <a:pt x="685" y="1646"/>
                    </a:lnTo>
                    <a:lnTo>
                      <a:pt x="614" y="1835"/>
                    </a:lnTo>
                    <a:lnTo>
                      <a:pt x="558" y="1951"/>
                    </a:lnTo>
                    <a:lnTo>
                      <a:pt x="518" y="1931"/>
                    </a:lnTo>
                    <a:lnTo>
                      <a:pt x="445" y="1839"/>
                    </a:lnTo>
                    <a:lnTo>
                      <a:pt x="362" y="1742"/>
                    </a:lnTo>
                    <a:lnTo>
                      <a:pt x="252" y="1646"/>
                    </a:lnTo>
                    <a:lnTo>
                      <a:pt x="138" y="1549"/>
                    </a:lnTo>
                    <a:lnTo>
                      <a:pt x="0" y="1467"/>
                    </a:lnTo>
                    <a:lnTo>
                      <a:pt x="50" y="989"/>
                    </a:lnTo>
                    <a:lnTo>
                      <a:pt x="180" y="687"/>
                    </a:lnTo>
                    <a:lnTo>
                      <a:pt x="316" y="676"/>
                    </a:lnTo>
                    <a:lnTo>
                      <a:pt x="424" y="636"/>
                    </a:lnTo>
                    <a:lnTo>
                      <a:pt x="485" y="597"/>
                    </a:lnTo>
                    <a:lnTo>
                      <a:pt x="518" y="537"/>
                    </a:lnTo>
                    <a:lnTo>
                      <a:pt x="531" y="482"/>
                    </a:lnTo>
                    <a:lnTo>
                      <a:pt x="491" y="401"/>
                    </a:lnTo>
                    <a:lnTo>
                      <a:pt x="173" y="270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627600" y="5518440"/>
                <a:ext cx="117000" cy="95400"/>
              </a:xfrm>
              <a:custGeom>
                <a:avLst/>
                <a:gdLst/>
                <a:ahLst/>
                <a:rect l="l" t="t" r="r" b="b"/>
                <a:pathLst>
                  <a:path w="874" h="639">
                    <a:moveTo>
                      <a:pt x="404" y="0"/>
                    </a:moveTo>
                    <a:lnTo>
                      <a:pt x="444" y="35"/>
                    </a:lnTo>
                    <a:lnTo>
                      <a:pt x="486" y="107"/>
                    </a:lnTo>
                    <a:lnTo>
                      <a:pt x="539" y="184"/>
                    </a:lnTo>
                    <a:lnTo>
                      <a:pt x="600" y="235"/>
                    </a:lnTo>
                    <a:lnTo>
                      <a:pt x="736" y="289"/>
                    </a:lnTo>
                    <a:lnTo>
                      <a:pt x="828" y="342"/>
                    </a:lnTo>
                    <a:lnTo>
                      <a:pt x="855" y="392"/>
                    </a:lnTo>
                    <a:lnTo>
                      <a:pt x="874" y="480"/>
                    </a:lnTo>
                    <a:lnTo>
                      <a:pt x="813" y="570"/>
                    </a:lnTo>
                    <a:lnTo>
                      <a:pt x="758" y="613"/>
                    </a:lnTo>
                    <a:lnTo>
                      <a:pt x="664" y="639"/>
                    </a:lnTo>
                    <a:lnTo>
                      <a:pt x="574" y="628"/>
                    </a:lnTo>
                    <a:lnTo>
                      <a:pt x="459" y="597"/>
                    </a:lnTo>
                    <a:lnTo>
                      <a:pt x="200" y="473"/>
                    </a:lnTo>
                    <a:lnTo>
                      <a:pt x="0" y="342"/>
                    </a:lnTo>
                    <a:lnTo>
                      <a:pt x="20" y="261"/>
                    </a:lnTo>
                    <a:lnTo>
                      <a:pt x="55" y="208"/>
                    </a:lnTo>
                    <a:lnTo>
                      <a:pt x="112" y="169"/>
                    </a:lnTo>
                    <a:lnTo>
                      <a:pt x="173" y="118"/>
                    </a:lnTo>
                    <a:lnTo>
                      <a:pt x="213" y="61"/>
                    </a:lnTo>
                    <a:lnTo>
                      <a:pt x="255" y="41"/>
                    </a:lnTo>
                    <a:lnTo>
                      <a:pt x="321" y="14"/>
                    </a:lnTo>
                    <a:lnTo>
                      <a:pt x="389" y="0"/>
                    </a:lnTo>
                    <a:lnTo>
                      <a:pt x="4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629760" y="5537160"/>
                <a:ext cx="114840" cy="76680"/>
              </a:xfrm>
              <a:custGeom>
                <a:avLst/>
                <a:gdLst/>
                <a:ahLst/>
                <a:rect l="l" t="t" r="r" b="b"/>
                <a:pathLst>
                  <a:path w="858" h="512">
                    <a:moveTo>
                      <a:pt x="832" y="284"/>
                    </a:moveTo>
                    <a:lnTo>
                      <a:pt x="788" y="344"/>
                    </a:lnTo>
                    <a:lnTo>
                      <a:pt x="659" y="415"/>
                    </a:lnTo>
                    <a:lnTo>
                      <a:pt x="577" y="437"/>
                    </a:lnTo>
                    <a:lnTo>
                      <a:pt x="408" y="330"/>
                    </a:lnTo>
                    <a:lnTo>
                      <a:pt x="597" y="295"/>
                    </a:lnTo>
                    <a:lnTo>
                      <a:pt x="777" y="257"/>
                    </a:lnTo>
                    <a:lnTo>
                      <a:pt x="823" y="233"/>
                    </a:lnTo>
                    <a:lnTo>
                      <a:pt x="777" y="194"/>
                    </a:lnTo>
                    <a:lnTo>
                      <a:pt x="659" y="136"/>
                    </a:lnTo>
                    <a:lnTo>
                      <a:pt x="562" y="97"/>
                    </a:lnTo>
                    <a:lnTo>
                      <a:pt x="480" y="0"/>
                    </a:lnTo>
                    <a:lnTo>
                      <a:pt x="531" y="86"/>
                    </a:lnTo>
                    <a:lnTo>
                      <a:pt x="604" y="141"/>
                    </a:lnTo>
                    <a:lnTo>
                      <a:pt x="669" y="187"/>
                    </a:lnTo>
                    <a:lnTo>
                      <a:pt x="512" y="167"/>
                    </a:lnTo>
                    <a:lnTo>
                      <a:pt x="300" y="148"/>
                    </a:lnTo>
                    <a:lnTo>
                      <a:pt x="162" y="97"/>
                    </a:lnTo>
                    <a:lnTo>
                      <a:pt x="100" y="90"/>
                    </a:lnTo>
                    <a:lnTo>
                      <a:pt x="143" y="14"/>
                    </a:lnTo>
                    <a:lnTo>
                      <a:pt x="54" y="63"/>
                    </a:lnTo>
                    <a:lnTo>
                      <a:pt x="0" y="171"/>
                    </a:lnTo>
                    <a:lnTo>
                      <a:pt x="291" y="371"/>
                    </a:lnTo>
                    <a:lnTo>
                      <a:pt x="639" y="512"/>
                    </a:lnTo>
                    <a:lnTo>
                      <a:pt x="797" y="406"/>
                    </a:lnTo>
                    <a:lnTo>
                      <a:pt x="858" y="298"/>
                    </a:lnTo>
                    <a:lnTo>
                      <a:pt x="832" y="28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419160" y="5780160"/>
                <a:ext cx="111600" cy="156240"/>
              </a:xfrm>
              <a:custGeom>
                <a:avLst/>
                <a:gdLst/>
                <a:ahLst/>
                <a:rect l="l" t="t" r="r" b="b"/>
                <a:pathLst>
                  <a:path w="840" h="1044">
                    <a:moveTo>
                      <a:pt x="0" y="51"/>
                    </a:moveTo>
                    <a:lnTo>
                      <a:pt x="310" y="326"/>
                    </a:lnTo>
                    <a:lnTo>
                      <a:pt x="523" y="585"/>
                    </a:lnTo>
                    <a:lnTo>
                      <a:pt x="681" y="807"/>
                    </a:lnTo>
                    <a:lnTo>
                      <a:pt x="840" y="1044"/>
                    </a:lnTo>
                    <a:lnTo>
                      <a:pt x="808" y="761"/>
                    </a:lnTo>
                    <a:lnTo>
                      <a:pt x="739" y="553"/>
                    </a:lnTo>
                    <a:lnTo>
                      <a:pt x="663" y="416"/>
                    </a:lnTo>
                    <a:lnTo>
                      <a:pt x="486" y="245"/>
                    </a:lnTo>
                    <a:lnTo>
                      <a:pt x="315" y="139"/>
                    </a:lnTo>
                    <a:lnTo>
                      <a:pt x="132" y="42"/>
                    </a:lnTo>
                    <a:lnTo>
                      <a:pt x="43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27440" y="5618520"/>
                <a:ext cx="256680" cy="265320"/>
              </a:xfrm>
              <a:custGeom>
                <a:avLst/>
                <a:gdLst/>
                <a:ahLst/>
                <a:rect l="l" t="t" r="r" b="b"/>
                <a:pathLst>
                  <a:path w="1925" h="1769">
                    <a:moveTo>
                      <a:pt x="1925" y="226"/>
                    </a:moveTo>
                    <a:lnTo>
                      <a:pt x="1925" y="396"/>
                    </a:lnTo>
                    <a:lnTo>
                      <a:pt x="1911" y="497"/>
                    </a:lnTo>
                    <a:lnTo>
                      <a:pt x="1856" y="791"/>
                    </a:lnTo>
                    <a:lnTo>
                      <a:pt x="1773" y="841"/>
                    </a:lnTo>
                    <a:lnTo>
                      <a:pt x="1715" y="875"/>
                    </a:lnTo>
                    <a:lnTo>
                      <a:pt x="1742" y="986"/>
                    </a:lnTo>
                    <a:lnTo>
                      <a:pt x="1749" y="1101"/>
                    </a:lnTo>
                    <a:lnTo>
                      <a:pt x="1786" y="1314"/>
                    </a:lnTo>
                    <a:lnTo>
                      <a:pt x="1749" y="1351"/>
                    </a:lnTo>
                    <a:lnTo>
                      <a:pt x="1648" y="1300"/>
                    </a:lnTo>
                    <a:lnTo>
                      <a:pt x="1584" y="1351"/>
                    </a:lnTo>
                    <a:lnTo>
                      <a:pt x="1560" y="1422"/>
                    </a:lnTo>
                    <a:lnTo>
                      <a:pt x="1482" y="1411"/>
                    </a:lnTo>
                    <a:lnTo>
                      <a:pt x="1426" y="1422"/>
                    </a:lnTo>
                    <a:lnTo>
                      <a:pt x="1439" y="1534"/>
                    </a:lnTo>
                    <a:lnTo>
                      <a:pt x="1388" y="1580"/>
                    </a:lnTo>
                    <a:lnTo>
                      <a:pt x="1369" y="1687"/>
                    </a:lnTo>
                    <a:lnTo>
                      <a:pt x="1332" y="1749"/>
                    </a:lnTo>
                    <a:lnTo>
                      <a:pt x="1187" y="1769"/>
                    </a:lnTo>
                    <a:lnTo>
                      <a:pt x="917" y="1724"/>
                    </a:lnTo>
                    <a:lnTo>
                      <a:pt x="712" y="1742"/>
                    </a:lnTo>
                    <a:lnTo>
                      <a:pt x="613" y="1523"/>
                    </a:lnTo>
                    <a:lnTo>
                      <a:pt x="447" y="1351"/>
                    </a:lnTo>
                    <a:lnTo>
                      <a:pt x="320" y="1259"/>
                    </a:lnTo>
                    <a:lnTo>
                      <a:pt x="152" y="1164"/>
                    </a:lnTo>
                    <a:lnTo>
                      <a:pt x="0" y="1088"/>
                    </a:lnTo>
                    <a:lnTo>
                      <a:pt x="105" y="919"/>
                    </a:lnTo>
                    <a:lnTo>
                      <a:pt x="776" y="290"/>
                    </a:lnTo>
                    <a:lnTo>
                      <a:pt x="1692" y="0"/>
                    </a:lnTo>
                    <a:lnTo>
                      <a:pt x="1856" y="81"/>
                    </a:lnTo>
                    <a:lnTo>
                      <a:pt x="1925" y="22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78560" y="5551560"/>
                <a:ext cx="160560" cy="145800"/>
              </a:xfrm>
              <a:custGeom>
                <a:avLst/>
                <a:gdLst/>
                <a:ahLst/>
                <a:rect l="l" t="t" r="r" b="b"/>
                <a:pathLst>
                  <a:path w="1206" h="971">
                    <a:moveTo>
                      <a:pt x="948" y="648"/>
                    </a:moveTo>
                    <a:lnTo>
                      <a:pt x="853" y="718"/>
                    </a:lnTo>
                    <a:lnTo>
                      <a:pt x="725" y="738"/>
                    </a:lnTo>
                    <a:lnTo>
                      <a:pt x="587" y="768"/>
                    </a:lnTo>
                    <a:lnTo>
                      <a:pt x="33" y="971"/>
                    </a:lnTo>
                    <a:lnTo>
                      <a:pt x="0" y="454"/>
                    </a:lnTo>
                    <a:lnTo>
                      <a:pt x="157" y="246"/>
                    </a:lnTo>
                    <a:lnTo>
                      <a:pt x="341" y="107"/>
                    </a:lnTo>
                    <a:lnTo>
                      <a:pt x="533" y="37"/>
                    </a:lnTo>
                    <a:lnTo>
                      <a:pt x="776" y="0"/>
                    </a:lnTo>
                    <a:lnTo>
                      <a:pt x="980" y="33"/>
                    </a:lnTo>
                    <a:lnTo>
                      <a:pt x="1206" y="134"/>
                    </a:lnTo>
                    <a:lnTo>
                      <a:pt x="1149" y="556"/>
                    </a:lnTo>
                    <a:lnTo>
                      <a:pt x="948" y="64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40200" y="5707440"/>
                <a:ext cx="896400" cy="534240"/>
              </a:xfrm>
              <a:custGeom>
                <a:avLst/>
                <a:gdLst/>
                <a:ahLst/>
                <a:rect l="l" t="t" r="r" b="b"/>
                <a:pathLst>
                  <a:path w="6735" h="3575">
                    <a:moveTo>
                      <a:pt x="6735" y="3575"/>
                    </a:moveTo>
                    <a:lnTo>
                      <a:pt x="2074" y="3575"/>
                    </a:lnTo>
                    <a:lnTo>
                      <a:pt x="2074" y="3133"/>
                    </a:lnTo>
                    <a:lnTo>
                      <a:pt x="2144" y="3006"/>
                    </a:lnTo>
                    <a:lnTo>
                      <a:pt x="2303" y="2949"/>
                    </a:lnTo>
                    <a:lnTo>
                      <a:pt x="1344" y="2647"/>
                    </a:lnTo>
                    <a:lnTo>
                      <a:pt x="1028" y="2021"/>
                    </a:lnTo>
                    <a:lnTo>
                      <a:pt x="200" y="1808"/>
                    </a:lnTo>
                    <a:lnTo>
                      <a:pt x="0" y="1381"/>
                    </a:lnTo>
                    <a:lnTo>
                      <a:pt x="314" y="1153"/>
                    </a:lnTo>
                    <a:lnTo>
                      <a:pt x="657" y="953"/>
                    </a:lnTo>
                    <a:lnTo>
                      <a:pt x="929" y="953"/>
                    </a:lnTo>
                    <a:lnTo>
                      <a:pt x="958" y="853"/>
                    </a:lnTo>
                    <a:lnTo>
                      <a:pt x="1116" y="853"/>
                    </a:lnTo>
                    <a:lnTo>
                      <a:pt x="1544" y="439"/>
                    </a:lnTo>
                    <a:lnTo>
                      <a:pt x="1643" y="369"/>
                    </a:lnTo>
                    <a:lnTo>
                      <a:pt x="1758" y="353"/>
                    </a:lnTo>
                    <a:lnTo>
                      <a:pt x="1802" y="212"/>
                    </a:lnTo>
                    <a:lnTo>
                      <a:pt x="1858" y="96"/>
                    </a:lnTo>
                    <a:lnTo>
                      <a:pt x="2303" y="0"/>
                    </a:lnTo>
                    <a:lnTo>
                      <a:pt x="4061" y="226"/>
                    </a:lnTo>
                    <a:lnTo>
                      <a:pt x="5276" y="839"/>
                    </a:lnTo>
                    <a:lnTo>
                      <a:pt x="5634" y="982"/>
                    </a:lnTo>
                    <a:lnTo>
                      <a:pt x="5904" y="1224"/>
                    </a:lnTo>
                    <a:lnTo>
                      <a:pt x="6164" y="1494"/>
                    </a:lnTo>
                    <a:lnTo>
                      <a:pt x="6377" y="1865"/>
                    </a:lnTo>
                    <a:lnTo>
                      <a:pt x="6549" y="2266"/>
                    </a:lnTo>
                    <a:lnTo>
                      <a:pt x="6649" y="2792"/>
                    </a:lnTo>
                    <a:lnTo>
                      <a:pt x="6735" y="357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877880" y="5734800"/>
                <a:ext cx="101160" cy="162360"/>
              </a:xfrm>
              <a:custGeom>
                <a:avLst/>
                <a:gdLst/>
                <a:ahLst/>
                <a:rect l="l" t="t" r="r" b="b"/>
                <a:pathLst>
                  <a:path w="760" h="1087">
                    <a:moveTo>
                      <a:pt x="760" y="55"/>
                    </a:moveTo>
                    <a:lnTo>
                      <a:pt x="652" y="140"/>
                    </a:lnTo>
                    <a:lnTo>
                      <a:pt x="475" y="342"/>
                    </a:lnTo>
                    <a:lnTo>
                      <a:pt x="327" y="562"/>
                    </a:lnTo>
                    <a:lnTo>
                      <a:pt x="219" y="832"/>
                    </a:lnTo>
                    <a:lnTo>
                      <a:pt x="143" y="1087"/>
                    </a:lnTo>
                    <a:lnTo>
                      <a:pt x="0" y="947"/>
                    </a:lnTo>
                    <a:lnTo>
                      <a:pt x="4" y="680"/>
                    </a:lnTo>
                    <a:lnTo>
                      <a:pt x="41" y="555"/>
                    </a:lnTo>
                    <a:lnTo>
                      <a:pt x="88" y="472"/>
                    </a:lnTo>
                    <a:lnTo>
                      <a:pt x="398" y="177"/>
                    </a:lnTo>
                    <a:lnTo>
                      <a:pt x="725" y="0"/>
                    </a:lnTo>
                    <a:lnTo>
                      <a:pt x="76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808760" y="5778720"/>
                <a:ext cx="27360" cy="59760"/>
              </a:xfrm>
              <a:custGeom>
                <a:avLst/>
                <a:gdLst/>
                <a:ahLst/>
                <a:rect l="l" t="t" r="r" b="b"/>
                <a:pathLst>
                  <a:path w="209" h="403">
                    <a:moveTo>
                      <a:pt x="209" y="99"/>
                    </a:moveTo>
                    <a:lnTo>
                      <a:pt x="149" y="177"/>
                    </a:lnTo>
                    <a:lnTo>
                      <a:pt x="41" y="403"/>
                    </a:lnTo>
                    <a:lnTo>
                      <a:pt x="0" y="166"/>
                    </a:lnTo>
                    <a:lnTo>
                      <a:pt x="64" y="0"/>
                    </a:lnTo>
                    <a:lnTo>
                      <a:pt x="209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783200" y="5750280"/>
                <a:ext cx="34920" cy="143280"/>
              </a:xfrm>
              <a:custGeom>
                <a:avLst/>
                <a:gdLst/>
                <a:ahLst/>
                <a:rect l="l" t="t" r="r" b="b"/>
                <a:pathLst>
                  <a:path w="265" h="960">
                    <a:moveTo>
                      <a:pt x="161" y="0"/>
                    </a:moveTo>
                    <a:lnTo>
                      <a:pt x="132" y="31"/>
                    </a:lnTo>
                    <a:lnTo>
                      <a:pt x="97" y="190"/>
                    </a:lnTo>
                    <a:lnTo>
                      <a:pt x="42" y="289"/>
                    </a:lnTo>
                    <a:lnTo>
                      <a:pt x="0" y="789"/>
                    </a:lnTo>
                    <a:lnTo>
                      <a:pt x="32" y="960"/>
                    </a:lnTo>
                    <a:lnTo>
                      <a:pt x="216" y="847"/>
                    </a:lnTo>
                    <a:lnTo>
                      <a:pt x="265" y="552"/>
                    </a:lnTo>
                    <a:lnTo>
                      <a:pt x="233" y="397"/>
                    </a:lnTo>
                    <a:lnTo>
                      <a:pt x="227" y="250"/>
                    </a:lnTo>
                    <a:lnTo>
                      <a:pt x="210" y="180"/>
                    </a:lnTo>
                    <a:lnTo>
                      <a:pt x="265" y="72"/>
                    </a:lnTo>
                    <a:lnTo>
                      <a:pt x="216" y="24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860960" y="5837400"/>
                <a:ext cx="33840" cy="195840"/>
              </a:xfrm>
              <a:custGeom>
                <a:avLst/>
                <a:gdLst/>
                <a:ahLst/>
                <a:rect l="l" t="t" r="r" b="b"/>
                <a:pathLst>
                  <a:path w="261" h="1312">
                    <a:moveTo>
                      <a:pt x="136" y="0"/>
                    </a:moveTo>
                    <a:lnTo>
                      <a:pt x="90" y="64"/>
                    </a:lnTo>
                    <a:lnTo>
                      <a:pt x="49" y="154"/>
                    </a:lnTo>
                    <a:lnTo>
                      <a:pt x="55" y="406"/>
                    </a:lnTo>
                    <a:lnTo>
                      <a:pt x="24" y="595"/>
                    </a:lnTo>
                    <a:lnTo>
                      <a:pt x="0" y="975"/>
                    </a:lnTo>
                    <a:lnTo>
                      <a:pt x="37" y="1312"/>
                    </a:lnTo>
                    <a:lnTo>
                      <a:pt x="191" y="1081"/>
                    </a:lnTo>
                    <a:lnTo>
                      <a:pt x="191" y="745"/>
                    </a:lnTo>
                    <a:lnTo>
                      <a:pt x="261" y="378"/>
                    </a:lnTo>
                    <a:lnTo>
                      <a:pt x="191" y="290"/>
                    </a:lnTo>
                    <a:lnTo>
                      <a:pt x="145" y="129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46520" y="6028920"/>
                <a:ext cx="348840" cy="76320"/>
              </a:xfrm>
              <a:custGeom>
                <a:avLst/>
                <a:gdLst/>
                <a:ahLst/>
                <a:rect l="l" t="t" r="r" b="b"/>
                <a:pathLst>
                  <a:path w="2624" h="509">
                    <a:moveTo>
                      <a:pt x="0" y="149"/>
                    </a:moveTo>
                    <a:lnTo>
                      <a:pt x="2011" y="0"/>
                    </a:lnTo>
                    <a:lnTo>
                      <a:pt x="2624" y="78"/>
                    </a:lnTo>
                    <a:lnTo>
                      <a:pt x="2593" y="357"/>
                    </a:lnTo>
                    <a:lnTo>
                      <a:pt x="675" y="50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10400" y="6150960"/>
                <a:ext cx="203400" cy="70200"/>
              </a:xfrm>
              <a:custGeom>
                <a:avLst/>
                <a:gdLst/>
                <a:ahLst/>
                <a:rect l="l" t="t" r="r" b="b"/>
                <a:pathLst>
                  <a:path w="1527" h="478">
                    <a:moveTo>
                      <a:pt x="0" y="169"/>
                    </a:moveTo>
                    <a:lnTo>
                      <a:pt x="925" y="478"/>
                    </a:lnTo>
                    <a:lnTo>
                      <a:pt x="1527" y="408"/>
                    </a:lnTo>
                    <a:lnTo>
                      <a:pt x="1527" y="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505280" y="5854320"/>
                <a:ext cx="33840" cy="83520"/>
              </a:xfrm>
              <a:custGeom>
                <a:avLst/>
                <a:gdLst/>
                <a:ahLst/>
                <a:rect l="l" t="t" r="r" b="b"/>
                <a:pathLst>
                  <a:path w="261" h="563">
                    <a:moveTo>
                      <a:pt x="0" y="563"/>
                    </a:moveTo>
                    <a:lnTo>
                      <a:pt x="220" y="11"/>
                    </a:lnTo>
                    <a:lnTo>
                      <a:pt x="261" y="0"/>
                    </a:lnTo>
                    <a:lnTo>
                      <a:pt x="90" y="563"/>
                    </a:lnTo>
                    <a:lnTo>
                      <a:pt x="0" y="5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862040" y="5967720"/>
                <a:ext cx="89280" cy="118080"/>
              </a:xfrm>
              <a:custGeom>
                <a:avLst/>
                <a:gdLst/>
                <a:ahLst/>
                <a:rect l="l" t="t" r="r" b="b"/>
                <a:pathLst>
                  <a:path w="672" h="791">
                    <a:moveTo>
                      <a:pt x="0" y="759"/>
                    </a:moveTo>
                    <a:lnTo>
                      <a:pt x="602" y="0"/>
                    </a:lnTo>
                    <a:lnTo>
                      <a:pt x="672" y="39"/>
                    </a:lnTo>
                    <a:lnTo>
                      <a:pt x="90" y="791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375320" y="5895000"/>
                <a:ext cx="182880" cy="109800"/>
              </a:xfrm>
              <a:custGeom>
                <a:avLst/>
                <a:gdLst/>
                <a:ahLst/>
                <a:rect l="l" t="t" r="r" b="b"/>
                <a:pathLst>
                  <a:path w="1376" h="741">
                    <a:moveTo>
                      <a:pt x="9" y="629"/>
                    </a:moveTo>
                    <a:lnTo>
                      <a:pt x="260" y="741"/>
                    </a:lnTo>
                    <a:lnTo>
                      <a:pt x="481" y="722"/>
                    </a:lnTo>
                    <a:lnTo>
                      <a:pt x="744" y="680"/>
                    </a:lnTo>
                    <a:lnTo>
                      <a:pt x="954" y="680"/>
                    </a:lnTo>
                    <a:lnTo>
                      <a:pt x="1095" y="699"/>
                    </a:lnTo>
                    <a:lnTo>
                      <a:pt x="1365" y="321"/>
                    </a:lnTo>
                    <a:lnTo>
                      <a:pt x="1376" y="150"/>
                    </a:lnTo>
                    <a:lnTo>
                      <a:pt x="1275" y="99"/>
                    </a:lnTo>
                    <a:lnTo>
                      <a:pt x="1185" y="141"/>
                    </a:lnTo>
                    <a:lnTo>
                      <a:pt x="1115" y="119"/>
                    </a:lnTo>
                    <a:lnTo>
                      <a:pt x="1044" y="300"/>
                    </a:lnTo>
                    <a:lnTo>
                      <a:pt x="985" y="291"/>
                    </a:lnTo>
                    <a:lnTo>
                      <a:pt x="1073" y="49"/>
                    </a:lnTo>
                    <a:lnTo>
                      <a:pt x="924" y="0"/>
                    </a:lnTo>
                    <a:lnTo>
                      <a:pt x="843" y="18"/>
                    </a:lnTo>
                    <a:lnTo>
                      <a:pt x="470" y="211"/>
                    </a:lnTo>
                    <a:lnTo>
                      <a:pt x="209" y="161"/>
                    </a:lnTo>
                    <a:lnTo>
                      <a:pt x="101" y="211"/>
                    </a:lnTo>
                    <a:lnTo>
                      <a:pt x="0" y="431"/>
                    </a:lnTo>
                    <a:lnTo>
                      <a:pt x="9" y="62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30840" y="6020280"/>
                <a:ext cx="202320" cy="93240"/>
              </a:xfrm>
              <a:custGeom>
                <a:avLst/>
                <a:gdLst/>
                <a:ahLst/>
                <a:rect l="l" t="t" r="r" b="b"/>
                <a:pathLst>
                  <a:path w="1519" h="631">
                    <a:moveTo>
                      <a:pt x="445" y="281"/>
                    </a:moveTo>
                    <a:lnTo>
                      <a:pt x="585" y="200"/>
                    </a:lnTo>
                    <a:lnTo>
                      <a:pt x="616" y="180"/>
                    </a:lnTo>
                    <a:lnTo>
                      <a:pt x="654" y="149"/>
                    </a:lnTo>
                    <a:lnTo>
                      <a:pt x="724" y="163"/>
                    </a:lnTo>
                    <a:lnTo>
                      <a:pt x="797" y="90"/>
                    </a:lnTo>
                    <a:lnTo>
                      <a:pt x="1168" y="0"/>
                    </a:lnTo>
                    <a:lnTo>
                      <a:pt x="1309" y="81"/>
                    </a:lnTo>
                    <a:lnTo>
                      <a:pt x="1519" y="112"/>
                    </a:lnTo>
                    <a:lnTo>
                      <a:pt x="1319" y="391"/>
                    </a:lnTo>
                    <a:lnTo>
                      <a:pt x="1198" y="532"/>
                    </a:lnTo>
                    <a:lnTo>
                      <a:pt x="996" y="599"/>
                    </a:lnTo>
                    <a:lnTo>
                      <a:pt x="645" y="562"/>
                    </a:lnTo>
                    <a:lnTo>
                      <a:pt x="403" y="611"/>
                    </a:lnTo>
                    <a:lnTo>
                      <a:pt x="234" y="631"/>
                    </a:lnTo>
                    <a:lnTo>
                      <a:pt x="184" y="583"/>
                    </a:lnTo>
                    <a:lnTo>
                      <a:pt x="32" y="592"/>
                    </a:lnTo>
                    <a:lnTo>
                      <a:pt x="0" y="551"/>
                    </a:lnTo>
                    <a:lnTo>
                      <a:pt x="51" y="521"/>
                    </a:lnTo>
                    <a:lnTo>
                      <a:pt x="141" y="419"/>
                    </a:lnTo>
                    <a:lnTo>
                      <a:pt x="334" y="352"/>
                    </a:lnTo>
                    <a:lnTo>
                      <a:pt x="454" y="320"/>
                    </a:lnTo>
                    <a:lnTo>
                      <a:pt x="445" y="28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763760" y="6039360"/>
                <a:ext cx="227880" cy="165960"/>
              </a:xfrm>
              <a:custGeom>
                <a:avLst/>
                <a:gdLst/>
                <a:ahLst/>
                <a:rect l="l" t="t" r="r" b="b"/>
                <a:pathLst>
                  <a:path w="1708" h="1115">
                    <a:moveTo>
                      <a:pt x="332" y="352"/>
                    </a:moveTo>
                    <a:lnTo>
                      <a:pt x="292" y="374"/>
                    </a:lnTo>
                    <a:lnTo>
                      <a:pt x="202" y="463"/>
                    </a:lnTo>
                    <a:lnTo>
                      <a:pt x="92" y="463"/>
                    </a:lnTo>
                    <a:lnTo>
                      <a:pt x="59" y="512"/>
                    </a:lnTo>
                    <a:lnTo>
                      <a:pt x="59" y="664"/>
                    </a:lnTo>
                    <a:lnTo>
                      <a:pt x="20" y="761"/>
                    </a:lnTo>
                    <a:lnTo>
                      <a:pt x="0" y="873"/>
                    </a:lnTo>
                    <a:lnTo>
                      <a:pt x="20" y="982"/>
                    </a:lnTo>
                    <a:lnTo>
                      <a:pt x="101" y="1053"/>
                    </a:lnTo>
                    <a:lnTo>
                      <a:pt x="403" y="1115"/>
                    </a:lnTo>
                    <a:lnTo>
                      <a:pt x="403" y="823"/>
                    </a:lnTo>
                    <a:lnTo>
                      <a:pt x="543" y="761"/>
                    </a:lnTo>
                    <a:lnTo>
                      <a:pt x="844" y="682"/>
                    </a:lnTo>
                    <a:lnTo>
                      <a:pt x="1215" y="693"/>
                    </a:lnTo>
                    <a:lnTo>
                      <a:pt x="1597" y="701"/>
                    </a:lnTo>
                    <a:lnTo>
                      <a:pt x="1708" y="673"/>
                    </a:lnTo>
                    <a:lnTo>
                      <a:pt x="1699" y="521"/>
                    </a:lnTo>
                    <a:lnTo>
                      <a:pt x="1659" y="412"/>
                    </a:lnTo>
                    <a:lnTo>
                      <a:pt x="1507" y="332"/>
                    </a:lnTo>
                    <a:lnTo>
                      <a:pt x="1415" y="262"/>
                    </a:lnTo>
                    <a:lnTo>
                      <a:pt x="1256" y="82"/>
                    </a:lnTo>
                    <a:lnTo>
                      <a:pt x="1226" y="34"/>
                    </a:lnTo>
                    <a:lnTo>
                      <a:pt x="1026" y="51"/>
                    </a:lnTo>
                    <a:lnTo>
                      <a:pt x="824" y="302"/>
                    </a:lnTo>
                    <a:lnTo>
                      <a:pt x="745" y="281"/>
                    </a:lnTo>
                    <a:lnTo>
                      <a:pt x="934" y="42"/>
                    </a:lnTo>
                    <a:lnTo>
                      <a:pt x="824" y="0"/>
                    </a:lnTo>
                    <a:lnTo>
                      <a:pt x="785" y="34"/>
                    </a:lnTo>
                    <a:lnTo>
                      <a:pt x="712" y="281"/>
                    </a:lnTo>
                    <a:lnTo>
                      <a:pt x="602" y="302"/>
                    </a:lnTo>
                    <a:lnTo>
                      <a:pt x="562" y="352"/>
                    </a:lnTo>
                    <a:lnTo>
                      <a:pt x="574" y="412"/>
                    </a:lnTo>
                    <a:lnTo>
                      <a:pt x="422" y="341"/>
                    </a:lnTo>
                    <a:lnTo>
                      <a:pt x="332" y="35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24360" y="5891400"/>
                <a:ext cx="73440" cy="46440"/>
              </a:xfrm>
              <a:custGeom>
                <a:avLst/>
                <a:gdLst/>
                <a:ahLst/>
                <a:rect l="l" t="t" r="r" b="b"/>
                <a:pathLst>
                  <a:path w="553" h="311">
                    <a:moveTo>
                      <a:pt x="0" y="110"/>
                    </a:moveTo>
                    <a:lnTo>
                      <a:pt x="81" y="148"/>
                    </a:lnTo>
                    <a:lnTo>
                      <a:pt x="182" y="131"/>
                    </a:lnTo>
                    <a:lnTo>
                      <a:pt x="241" y="198"/>
                    </a:lnTo>
                    <a:lnTo>
                      <a:pt x="272" y="311"/>
                    </a:lnTo>
                    <a:lnTo>
                      <a:pt x="553" y="311"/>
                    </a:lnTo>
                    <a:lnTo>
                      <a:pt x="514" y="189"/>
                    </a:lnTo>
                    <a:lnTo>
                      <a:pt x="434" y="60"/>
                    </a:lnTo>
                    <a:lnTo>
                      <a:pt x="311" y="0"/>
                    </a:lnTo>
                    <a:lnTo>
                      <a:pt x="212" y="0"/>
                    </a:lnTo>
                    <a:lnTo>
                      <a:pt x="10" y="8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456320" y="5946120"/>
                <a:ext cx="30600" cy="334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50" y="19"/>
                    </a:moveTo>
                    <a:lnTo>
                      <a:pt x="29" y="35"/>
                    </a:lnTo>
                    <a:lnTo>
                      <a:pt x="15" y="59"/>
                    </a:lnTo>
                    <a:lnTo>
                      <a:pt x="6" y="79"/>
                    </a:lnTo>
                    <a:lnTo>
                      <a:pt x="0" y="100"/>
                    </a:lnTo>
                    <a:lnTo>
                      <a:pt x="0" y="134"/>
                    </a:lnTo>
                    <a:lnTo>
                      <a:pt x="11" y="160"/>
                    </a:lnTo>
                    <a:lnTo>
                      <a:pt x="31" y="187"/>
                    </a:lnTo>
                    <a:lnTo>
                      <a:pt x="57" y="204"/>
                    </a:lnTo>
                    <a:lnTo>
                      <a:pt x="84" y="217"/>
                    </a:lnTo>
                    <a:lnTo>
                      <a:pt x="119" y="222"/>
                    </a:lnTo>
                    <a:lnTo>
                      <a:pt x="163" y="215"/>
                    </a:lnTo>
                    <a:lnTo>
                      <a:pt x="193" y="195"/>
                    </a:lnTo>
                    <a:lnTo>
                      <a:pt x="218" y="171"/>
                    </a:lnTo>
                    <a:lnTo>
                      <a:pt x="233" y="136"/>
                    </a:lnTo>
                    <a:lnTo>
                      <a:pt x="235" y="107"/>
                    </a:lnTo>
                    <a:lnTo>
                      <a:pt x="232" y="72"/>
                    </a:lnTo>
                    <a:lnTo>
                      <a:pt x="214" y="42"/>
                    </a:lnTo>
                    <a:lnTo>
                      <a:pt x="189" y="19"/>
                    </a:lnTo>
                    <a:lnTo>
                      <a:pt x="158" y="6"/>
                    </a:lnTo>
                    <a:lnTo>
                      <a:pt x="133" y="0"/>
                    </a:lnTo>
                    <a:lnTo>
                      <a:pt x="97" y="0"/>
                    </a:lnTo>
                    <a:lnTo>
                      <a:pt x="66" y="8"/>
                    </a:lnTo>
                    <a:lnTo>
                      <a:pt x="5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512840" y="5936760"/>
                <a:ext cx="58320" cy="78840"/>
              </a:xfrm>
              <a:custGeom>
                <a:avLst/>
                <a:gdLst/>
                <a:ahLst/>
                <a:rect l="l" t="t" r="r" b="b"/>
                <a:pathLst>
                  <a:path w="440" h="530">
                    <a:moveTo>
                      <a:pt x="29" y="0"/>
                    </a:moveTo>
                    <a:lnTo>
                      <a:pt x="0" y="171"/>
                    </a:lnTo>
                    <a:lnTo>
                      <a:pt x="0" y="302"/>
                    </a:lnTo>
                    <a:lnTo>
                      <a:pt x="9" y="443"/>
                    </a:lnTo>
                    <a:lnTo>
                      <a:pt x="89" y="501"/>
                    </a:lnTo>
                    <a:lnTo>
                      <a:pt x="232" y="521"/>
                    </a:lnTo>
                    <a:lnTo>
                      <a:pt x="440" y="530"/>
                    </a:lnTo>
                    <a:lnTo>
                      <a:pt x="361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94640" y="6023880"/>
                <a:ext cx="30600" cy="1404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0" y="11"/>
                    </a:moveTo>
                    <a:lnTo>
                      <a:pt x="230" y="91"/>
                    </a:lnTo>
                    <a:lnTo>
                      <a:pt x="230" y="51"/>
                    </a:lnTo>
                    <a:lnTo>
                      <a:pt x="9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700040" y="604188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90" h="443">
                    <a:moveTo>
                      <a:pt x="290" y="42"/>
                    </a:moveTo>
                    <a:lnTo>
                      <a:pt x="223" y="132"/>
                    </a:lnTo>
                    <a:lnTo>
                      <a:pt x="181" y="261"/>
                    </a:lnTo>
                    <a:lnTo>
                      <a:pt x="150" y="443"/>
                    </a:lnTo>
                    <a:lnTo>
                      <a:pt x="9" y="392"/>
                    </a:lnTo>
                    <a:lnTo>
                      <a:pt x="0" y="254"/>
                    </a:lnTo>
                    <a:lnTo>
                      <a:pt x="9" y="132"/>
                    </a:lnTo>
                    <a:lnTo>
                      <a:pt x="71" y="31"/>
                    </a:lnTo>
                    <a:lnTo>
                      <a:pt x="189" y="0"/>
                    </a:lnTo>
                    <a:lnTo>
                      <a:pt x="29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985520" y="6100560"/>
                <a:ext cx="28440" cy="41760"/>
              </a:xfrm>
              <a:custGeom>
                <a:avLst/>
                <a:gdLst/>
                <a:ahLst/>
                <a:rect l="l" t="t" r="r" b="b"/>
                <a:pathLst>
                  <a:path w="220" h="281">
                    <a:moveTo>
                      <a:pt x="60" y="281"/>
                    </a:moveTo>
                    <a:lnTo>
                      <a:pt x="49" y="151"/>
                    </a:lnTo>
                    <a:lnTo>
                      <a:pt x="0" y="0"/>
                    </a:lnTo>
                    <a:lnTo>
                      <a:pt x="169" y="30"/>
                    </a:lnTo>
                    <a:lnTo>
                      <a:pt x="208" y="132"/>
                    </a:lnTo>
                    <a:lnTo>
                      <a:pt x="220" y="252"/>
                    </a:lnTo>
                    <a:lnTo>
                      <a:pt x="60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993080" y="5729760"/>
                <a:ext cx="248760" cy="217440"/>
              </a:xfrm>
              <a:custGeom>
                <a:avLst/>
                <a:gdLst/>
                <a:ahLst/>
                <a:rect l="l" t="t" r="r" b="b"/>
                <a:pathLst>
                  <a:path w="1870" h="1457">
                    <a:moveTo>
                      <a:pt x="0" y="135"/>
                    </a:moveTo>
                    <a:lnTo>
                      <a:pt x="17" y="207"/>
                    </a:lnTo>
                    <a:lnTo>
                      <a:pt x="107" y="324"/>
                    </a:lnTo>
                    <a:lnTo>
                      <a:pt x="97" y="376"/>
                    </a:lnTo>
                    <a:lnTo>
                      <a:pt x="35" y="558"/>
                    </a:lnTo>
                    <a:lnTo>
                      <a:pt x="17" y="631"/>
                    </a:lnTo>
                    <a:lnTo>
                      <a:pt x="23" y="647"/>
                    </a:lnTo>
                    <a:lnTo>
                      <a:pt x="171" y="684"/>
                    </a:lnTo>
                    <a:lnTo>
                      <a:pt x="206" y="701"/>
                    </a:lnTo>
                    <a:lnTo>
                      <a:pt x="279" y="809"/>
                    </a:lnTo>
                    <a:lnTo>
                      <a:pt x="351" y="926"/>
                    </a:lnTo>
                    <a:lnTo>
                      <a:pt x="404" y="1033"/>
                    </a:lnTo>
                    <a:lnTo>
                      <a:pt x="441" y="1106"/>
                    </a:lnTo>
                    <a:lnTo>
                      <a:pt x="505" y="1106"/>
                    </a:lnTo>
                    <a:lnTo>
                      <a:pt x="793" y="1071"/>
                    </a:lnTo>
                    <a:lnTo>
                      <a:pt x="955" y="1152"/>
                    </a:lnTo>
                    <a:lnTo>
                      <a:pt x="1056" y="1304"/>
                    </a:lnTo>
                    <a:lnTo>
                      <a:pt x="1144" y="1457"/>
                    </a:lnTo>
                    <a:lnTo>
                      <a:pt x="1372" y="1251"/>
                    </a:lnTo>
                    <a:lnTo>
                      <a:pt x="1626" y="1079"/>
                    </a:lnTo>
                    <a:lnTo>
                      <a:pt x="1768" y="963"/>
                    </a:lnTo>
                    <a:lnTo>
                      <a:pt x="1840" y="862"/>
                    </a:lnTo>
                    <a:lnTo>
                      <a:pt x="1870" y="746"/>
                    </a:lnTo>
                    <a:lnTo>
                      <a:pt x="171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15880" y="5531400"/>
                <a:ext cx="259560" cy="273600"/>
              </a:xfrm>
              <a:custGeom>
                <a:avLst/>
                <a:gdLst/>
                <a:ahLst/>
                <a:rect l="l" t="t" r="r" b="b"/>
                <a:pathLst>
                  <a:path w="1951" h="1837">
                    <a:moveTo>
                      <a:pt x="101" y="127"/>
                    </a:moveTo>
                    <a:lnTo>
                      <a:pt x="64" y="298"/>
                    </a:lnTo>
                    <a:lnTo>
                      <a:pt x="46" y="424"/>
                    </a:lnTo>
                    <a:lnTo>
                      <a:pt x="46" y="531"/>
                    </a:lnTo>
                    <a:lnTo>
                      <a:pt x="53" y="569"/>
                    </a:lnTo>
                    <a:lnTo>
                      <a:pt x="0" y="720"/>
                    </a:lnTo>
                    <a:lnTo>
                      <a:pt x="0" y="749"/>
                    </a:lnTo>
                    <a:lnTo>
                      <a:pt x="90" y="793"/>
                    </a:lnTo>
                    <a:lnTo>
                      <a:pt x="110" y="872"/>
                    </a:lnTo>
                    <a:lnTo>
                      <a:pt x="162" y="936"/>
                    </a:lnTo>
                    <a:lnTo>
                      <a:pt x="244" y="1028"/>
                    </a:lnTo>
                    <a:lnTo>
                      <a:pt x="270" y="1107"/>
                    </a:lnTo>
                    <a:lnTo>
                      <a:pt x="290" y="1171"/>
                    </a:lnTo>
                    <a:lnTo>
                      <a:pt x="316" y="1234"/>
                    </a:lnTo>
                    <a:lnTo>
                      <a:pt x="343" y="1234"/>
                    </a:lnTo>
                    <a:lnTo>
                      <a:pt x="424" y="1261"/>
                    </a:lnTo>
                    <a:lnTo>
                      <a:pt x="578" y="1296"/>
                    </a:lnTo>
                    <a:lnTo>
                      <a:pt x="613" y="1296"/>
                    </a:lnTo>
                    <a:lnTo>
                      <a:pt x="622" y="1333"/>
                    </a:lnTo>
                    <a:lnTo>
                      <a:pt x="758" y="1386"/>
                    </a:lnTo>
                    <a:lnTo>
                      <a:pt x="694" y="1422"/>
                    </a:lnTo>
                    <a:lnTo>
                      <a:pt x="670" y="1468"/>
                    </a:lnTo>
                    <a:lnTo>
                      <a:pt x="676" y="1494"/>
                    </a:lnTo>
                    <a:lnTo>
                      <a:pt x="740" y="1529"/>
                    </a:lnTo>
                    <a:lnTo>
                      <a:pt x="749" y="1575"/>
                    </a:lnTo>
                    <a:lnTo>
                      <a:pt x="714" y="1602"/>
                    </a:lnTo>
                    <a:lnTo>
                      <a:pt x="705" y="1685"/>
                    </a:lnTo>
                    <a:lnTo>
                      <a:pt x="714" y="1720"/>
                    </a:lnTo>
                    <a:lnTo>
                      <a:pt x="767" y="1755"/>
                    </a:lnTo>
                    <a:lnTo>
                      <a:pt x="929" y="1738"/>
                    </a:lnTo>
                    <a:lnTo>
                      <a:pt x="1219" y="1801"/>
                    </a:lnTo>
                    <a:lnTo>
                      <a:pt x="1327" y="1837"/>
                    </a:lnTo>
                    <a:lnTo>
                      <a:pt x="1454" y="1729"/>
                    </a:lnTo>
                    <a:lnTo>
                      <a:pt x="1634" y="1558"/>
                    </a:lnTo>
                    <a:lnTo>
                      <a:pt x="1805" y="1430"/>
                    </a:lnTo>
                    <a:lnTo>
                      <a:pt x="1951" y="1351"/>
                    </a:lnTo>
                    <a:lnTo>
                      <a:pt x="1445" y="118"/>
                    </a:lnTo>
                    <a:lnTo>
                      <a:pt x="578" y="0"/>
                    </a:lnTo>
                    <a:lnTo>
                      <a:pt x="101" y="12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115480" y="5611680"/>
                <a:ext cx="141480" cy="207720"/>
              </a:xfrm>
              <a:custGeom>
                <a:avLst/>
                <a:gdLst/>
                <a:ahLst/>
                <a:rect l="l" t="t" r="r" b="b"/>
                <a:pathLst>
                  <a:path w="1066" h="1387">
                    <a:moveTo>
                      <a:pt x="0" y="145"/>
                    </a:moveTo>
                    <a:lnTo>
                      <a:pt x="569" y="1332"/>
                    </a:lnTo>
                    <a:lnTo>
                      <a:pt x="1046" y="1387"/>
                    </a:lnTo>
                    <a:lnTo>
                      <a:pt x="1066" y="945"/>
                    </a:lnTo>
                    <a:lnTo>
                      <a:pt x="959" y="596"/>
                    </a:lnTo>
                    <a:lnTo>
                      <a:pt x="814" y="317"/>
                    </a:lnTo>
                    <a:lnTo>
                      <a:pt x="677" y="172"/>
                    </a:lnTo>
                    <a:lnTo>
                      <a:pt x="477" y="18"/>
                    </a:lnTo>
                    <a:lnTo>
                      <a:pt x="180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891920" y="5542200"/>
                <a:ext cx="110520" cy="57240"/>
              </a:xfrm>
              <a:custGeom>
                <a:avLst/>
                <a:gdLst/>
                <a:ahLst/>
                <a:rect l="l" t="t" r="r" b="b"/>
                <a:pathLst>
                  <a:path w="833" h="387">
                    <a:moveTo>
                      <a:pt x="0" y="108"/>
                    </a:moveTo>
                    <a:lnTo>
                      <a:pt x="108" y="235"/>
                    </a:lnTo>
                    <a:lnTo>
                      <a:pt x="833" y="387"/>
                    </a:lnTo>
                    <a:lnTo>
                      <a:pt x="796" y="270"/>
                    </a:lnTo>
                    <a:lnTo>
                      <a:pt x="561" y="27"/>
                    </a:lnTo>
                    <a:lnTo>
                      <a:pt x="424" y="55"/>
                    </a:lnTo>
                    <a:lnTo>
                      <a:pt x="325" y="0"/>
                    </a:lnTo>
                    <a:lnTo>
                      <a:pt x="162" y="73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715160" y="5487120"/>
                <a:ext cx="174240" cy="172080"/>
              </a:xfrm>
              <a:custGeom>
                <a:avLst/>
                <a:gdLst/>
                <a:ahLst/>
                <a:rect l="l" t="t" r="r" b="b"/>
                <a:pathLst>
                  <a:path w="1309" h="1160">
                    <a:moveTo>
                      <a:pt x="0" y="297"/>
                    </a:moveTo>
                    <a:lnTo>
                      <a:pt x="46" y="396"/>
                    </a:lnTo>
                    <a:lnTo>
                      <a:pt x="182" y="451"/>
                    </a:lnTo>
                    <a:lnTo>
                      <a:pt x="217" y="532"/>
                    </a:lnTo>
                    <a:lnTo>
                      <a:pt x="171" y="639"/>
                    </a:lnTo>
                    <a:lnTo>
                      <a:pt x="154" y="747"/>
                    </a:lnTo>
                    <a:lnTo>
                      <a:pt x="171" y="883"/>
                    </a:lnTo>
                    <a:lnTo>
                      <a:pt x="325" y="1017"/>
                    </a:lnTo>
                    <a:lnTo>
                      <a:pt x="325" y="1108"/>
                    </a:lnTo>
                    <a:lnTo>
                      <a:pt x="442" y="1160"/>
                    </a:lnTo>
                    <a:lnTo>
                      <a:pt x="631" y="1062"/>
                    </a:lnTo>
                    <a:lnTo>
                      <a:pt x="631" y="1026"/>
                    </a:lnTo>
                    <a:lnTo>
                      <a:pt x="685" y="945"/>
                    </a:lnTo>
                    <a:lnTo>
                      <a:pt x="767" y="721"/>
                    </a:lnTo>
                    <a:lnTo>
                      <a:pt x="822" y="595"/>
                    </a:lnTo>
                    <a:lnTo>
                      <a:pt x="894" y="523"/>
                    </a:lnTo>
                    <a:lnTo>
                      <a:pt x="1039" y="459"/>
                    </a:lnTo>
                    <a:lnTo>
                      <a:pt x="1309" y="288"/>
                    </a:lnTo>
                    <a:lnTo>
                      <a:pt x="1111" y="117"/>
                    </a:lnTo>
                    <a:lnTo>
                      <a:pt x="984" y="18"/>
                    </a:lnTo>
                    <a:lnTo>
                      <a:pt x="795" y="0"/>
                    </a:lnTo>
                    <a:lnTo>
                      <a:pt x="615" y="64"/>
                    </a:lnTo>
                    <a:lnTo>
                      <a:pt x="270" y="136"/>
                    </a:lnTo>
                    <a:lnTo>
                      <a:pt x="154" y="180"/>
                    </a:lnTo>
                    <a:lnTo>
                      <a:pt x="27" y="262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19800" y="5361480"/>
                <a:ext cx="417240" cy="488880"/>
              </a:xfrm>
              <a:custGeom>
                <a:avLst/>
                <a:gdLst/>
                <a:ahLst/>
                <a:rect l="l" t="t" r="r" b="b"/>
                <a:pathLst>
                  <a:path w="3135" h="3272">
                    <a:moveTo>
                      <a:pt x="293" y="417"/>
                    </a:moveTo>
                    <a:lnTo>
                      <a:pt x="223" y="521"/>
                    </a:lnTo>
                    <a:lnTo>
                      <a:pt x="180" y="767"/>
                    </a:lnTo>
                    <a:lnTo>
                      <a:pt x="139" y="1051"/>
                    </a:lnTo>
                    <a:lnTo>
                      <a:pt x="104" y="1281"/>
                    </a:lnTo>
                    <a:lnTo>
                      <a:pt x="95" y="1512"/>
                    </a:lnTo>
                    <a:lnTo>
                      <a:pt x="86" y="1734"/>
                    </a:lnTo>
                    <a:lnTo>
                      <a:pt x="42" y="1958"/>
                    </a:lnTo>
                    <a:lnTo>
                      <a:pt x="0" y="2103"/>
                    </a:lnTo>
                    <a:lnTo>
                      <a:pt x="36" y="2333"/>
                    </a:lnTo>
                    <a:lnTo>
                      <a:pt x="62" y="2547"/>
                    </a:lnTo>
                    <a:lnTo>
                      <a:pt x="198" y="2831"/>
                    </a:lnTo>
                    <a:lnTo>
                      <a:pt x="352" y="3112"/>
                    </a:lnTo>
                    <a:lnTo>
                      <a:pt x="420" y="3221"/>
                    </a:lnTo>
                    <a:lnTo>
                      <a:pt x="686" y="3103"/>
                    </a:lnTo>
                    <a:lnTo>
                      <a:pt x="1185" y="3248"/>
                    </a:lnTo>
                    <a:lnTo>
                      <a:pt x="1828" y="3272"/>
                    </a:lnTo>
                    <a:lnTo>
                      <a:pt x="2541" y="3127"/>
                    </a:lnTo>
                    <a:lnTo>
                      <a:pt x="2798" y="2999"/>
                    </a:lnTo>
                    <a:lnTo>
                      <a:pt x="2937" y="2914"/>
                    </a:lnTo>
                    <a:lnTo>
                      <a:pt x="2937" y="2854"/>
                    </a:lnTo>
                    <a:lnTo>
                      <a:pt x="2884" y="2760"/>
                    </a:lnTo>
                    <a:lnTo>
                      <a:pt x="2757" y="2589"/>
                    </a:lnTo>
                    <a:lnTo>
                      <a:pt x="2677" y="2444"/>
                    </a:lnTo>
                    <a:lnTo>
                      <a:pt x="2628" y="2358"/>
                    </a:lnTo>
                    <a:lnTo>
                      <a:pt x="2591" y="2289"/>
                    </a:lnTo>
                    <a:lnTo>
                      <a:pt x="2662" y="2289"/>
                    </a:lnTo>
                    <a:lnTo>
                      <a:pt x="2824" y="2188"/>
                    </a:lnTo>
                    <a:lnTo>
                      <a:pt x="3013" y="2144"/>
                    </a:lnTo>
                    <a:lnTo>
                      <a:pt x="3055" y="1982"/>
                    </a:lnTo>
                    <a:lnTo>
                      <a:pt x="3073" y="1861"/>
                    </a:lnTo>
                    <a:lnTo>
                      <a:pt x="3135" y="1775"/>
                    </a:lnTo>
                    <a:lnTo>
                      <a:pt x="3108" y="1716"/>
                    </a:lnTo>
                    <a:lnTo>
                      <a:pt x="3055" y="1630"/>
                    </a:lnTo>
                    <a:lnTo>
                      <a:pt x="2960" y="1598"/>
                    </a:lnTo>
                    <a:lnTo>
                      <a:pt x="2919" y="1272"/>
                    </a:lnTo>
                    <a:lnTo>
                      <a:pt x="2875" y="1213"/>
                    </a:lnTo>
                    <a:lnTo>
                      <a:pt x="2893" y="1109"/>
                    </a:lnTo>
                    <a:lnTo>
                      <a:pt x="2849" y="982"/>
                    </a:lnTo>
                    <a:lnTo>
                      <a:pt x="2824" y="725"/>
                    </a:lnTo>
                    <a:lnTo>
                      <a:pt x="2798" y="503"/>
                    </a:lnTo>
                    <a:lnTo>
                      <a:pt x="2730" y="367"/>
                    </a:lnTo>
                    <a:lnTo>
                      <a:pt x="2635" y="263"/>
                    </a:lnTo>
                    <a:lnTo>
                      <a:pt x="2582" y="246"/>
                    </a:lnTo>
                    <a:lnTo>
                      <a:pt x="2095" y="152"/>
                    </a:lnTo>
                    <a:lnTo>
                      <a:pt x="1853" y="60"/>
                    </a:lnTo>
                    <a:lnTo>
                      <a:pt x="1726" y="0"/>
                    </a:lnTo>
                    <a:lnTo>
                      <a:pt x="1150" y="24"/>
                    </a:lnTo>
                    <a:lnTo>
                      <a:pt x="1049" y="101"/>
                    </a:lnTo>
                    <a:lnTo>
                      <a:pt x="928" y="205"/>
                    </a:lnTo>
                    <a:lnTo>
                      <a:pt x="636" y="332"/>
                    </a:lnTo>
                    <a:lnTo>
                      <a:pt x="352" y="408"/>
                    </a:lnTo>
                    <a:lnTo>
                      <a:pt x="293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507440" y="5514840"/>
                <a:ext cx="191160" cy="211320"/>
              </a:xfrm>
              <a:custGeom>
                <a:avLst/>
                <a:gdLst/>
                <a:ahLst/>
                <a:rect l="l" t="t" r="r" b="b"/>
                <a:pathLst>
                  <a:path w="1442" h="1420">
                    <a:moveTo>
                      <a:pt x="52" y="1420"/>
                    </a:moveTo>
                    <a:lnTo>
                      <a:pt x="94" y="1369"/>
                    </a:lnTo>
                    <a:lnTo>
                      <a:pt x="232" y="1026"/>
                    </a:lnTo>
                    <a:lnTo>
                      <a:pt x="419" y="736"/>
                    </a:lnTo>
                    <a:lnTo>
                      <a:pt x="626" y="599"/>
                    </a:lnTo>
                    <a:lnTo>
                      <a:pt x="833" y="521"/>
                    </a:lnTo>
                    <a:lnTo>
                      <a:pt x="1108" y="461"/>
                    </a:lnTo>
                    <a:lnTo>
                      <a:pt x="1270" y="394"/>
                    </a:lnTo>
                    <a:lnTo>
                      <a:pt x="1364" y="308"/>
                    </a:lnTo>
                    <a:lnTo>
                      <a:pt x="1435" y="216"/>
                    </a:lnTo>
                    <a:lnTo>
                      <a:pt x="1442" y="129"/>
                    </a:lnTo>
                    <a:lnTo>
                      <a:pt x="1424" y="35"/>
                    </a:lnTo>
                    <a:lnTo>
                      <a:pt x="1382" y="0"/>
                    </a:lnTo>
                    <a:lnTo>
                      <a:pt x="1143" y="35"/>
                    </a:lnTo>
                    <a:lnTo>
                      <a:pt x="977" y="129"/>
                    </a:lnTo>
                    <a:lnTo>
                      <a:pt x="721" y="290"/>
                    </a:lnTo>
                    <a:lnTo>
                      <a:pt x="490" y="521"/>
                    </a:lnTo>
                    <a:lnTo>
                      <a:pt x="343" y="666"/>
                    </a:lnTo>
                    <a:lnTo>
                      <a:pt x="216" y="855"/>
                    </a:lnTo>
                    <a:lnTo>
                      <a:pt x="136" y="1009"/>
                    </a:lnTo>
                    <a:lnTo>
                      <a:pt x="68" y="1164"/>
                    </a:lnTo>
                    <a:lnTo>
                      <a:pt x="0" y="1334"/>
                    </a:lnTo>
                    <a:lnTo>
                      <a:pt x="52" y="142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254000" y="5616360"/>
                <a:ext cx="282960" cy="249840"/>
              </a:xfrm>
              <a:custGeom>
                <a:avLst/>
                <a:gdLst/>
                <a:ahLst/>
                <a:rect l="l" t="t" r="r" b="b"/>
                <a:pathLst>
                  <a:path w="2125" h="1676">
                    <a:moveTo>
                      <a:pt x="0" y="1642"/>
                    </a:moveTo>
                    <a:lnTo>
                      <a:pt x="2125" y="0"/>
                    </a:lnTo>
                    <a:lnTo>
                      <a:pt x="2125" y="42"/>
                    </a:lnTo>
                    <a:lnTo>
                      <a:pt x="33" y="1676"/>
                    </a:lnTo>
                    <a:lnTo>
                      <a:pt x="0" y="164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567920" y="5617440"/>
                <a:ext cx="31680" cy="59400"/>
              </a:xfrm>
              <a:custGeom>
                <a:avLst/>
                <a:gdLst/>
                <a:ahLst/>
                <a:rect l="l" t="t" r="r" b="b"/>
                <a:pathLst>
                  <a:path w="241" h="402">
                    <a:moveTo>
                      <a:pt x="215" y="0"/>
                    </a:moveTo>
                    <a:lnTo>
                      <a:pt x="241" y="86"/>
                    </a:lnTo>
                    <a:lnTo>
                      <a:pt x="241" y="195"/>
                    </a:lnTo>
                    <a:lnTo>
                      <a:pt x="224" y="263"/>
                    </a:lnTo>
                    <a:lnTo>
                      <a:pt x="189" y="333"/>
                    </a:lnTo>
                    <a:lnTo>
                      <a:pt x="144" y="402"/>
                    </a:lnTo>
                    <a:lnTo>
                      <a:pt x="0" y="323"/>
                    </a:lnTo>
                    <a:lnTo>
                      <a:pt x="103" y="210"/>
                    </a:lnTo>
                    <a:lnTo>
                      <a:pt x="171" y="4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530840" y="560088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478" h="461">
                    <a:moveTo>
                      <a:pt x="48" y="9"/>
                    </a:moveTo>
                    <a:lnTo>
                      <a:pt x="33" y="0"/>
                    </a:lnTo>
                    <a:lnTo>
                      <a:pt x="48" y="76"/>
                    </a:lnTo>
                    <a:lnTo>
                      <a:pt x="33" y="154"/>
                    </a:lnTo>
                    <a:lnTo>
                      <a:pt x="33" y="221"/>
                    </a:lnTo>
                    <a:lnTo>
                      <a:pt x="0" y="384"/>
                    </a:lnTo>
                    <a:lnTo>
                      <a:pt x="6" y="419"/>
                    </a:lnTo>
                    <a:lnTo>
                      <a:pt x="42" y="452"/>
                    </a:lnTo>
                    <a:lnTo>
                      <a:pt x="127" y="461"/>
                    </a:lnTo>
                    <a:lnTo>
                      <a:pt x="231" y="452"/>
                    </a:lnTo>
                    <a:lnTo>
                      <a:pt x="367" y="375"/>
                    </a:lnTo>
                    <a:lnTo>
                      <a:pt x="445" y="299"/>
                    </a:lnTo>
                    <a:lnTo>
                      <a:pt x="478" y="221"/>
                    </a:lnTo>
                    <a:lnTo>
                      <a:pt x="461" y="85"/>
                    </a:lnTo>
                    <a:lnTo>
                      <a:pt x="411" y="32"/>
                    </a:lnTo>
                    <a:lnTo>
                      <a:pt x="393" y="18"/>
                    </a:lnTo>
                    <a:lnTo>
                      <a:pt x="340" y="50"/>
                    </a:lnTo>
                    <a:lnTo>
                      <a:pt x="316" y="76"/>
                    </a:lnTo>
                    <a:lnTo>
                      <a:pt x="316" y="162"/>
                    </a:lnTo>
                    <a:lnTo>
                      <a:pt x="222" y="177"/>
                    </a:lnTo>
                    <a:lnTo>
                      <a:pt x="169" y="145"/>
                    </a:lnTo>
                    <a:lnTo>
                      <a:pt x="109" y="76"/>
                    </a:lnTo>
                    <a:lnTo>
                      <a:pt x="85" y="18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290000" y="5763240"/>
                <a:ext cx="57240" cy="65520"/>
              </a:xfrm>
              <a:custGeom>
                <a:avLst/>
                <a:gdLst/>
                <a:ahLst/>
                <a:rect l="l" t="t" r="r" b="b"/>
                <a:pathLst>
                  <a:path w="437" h="435">
                    <a:moveTo>
                      <a:pt x="6" y="264"/>
                    </a:moveTo>
                    <a:lnTo>
                      <a:pt x="15" y="369"/>
                    </a:lnTo>
                    <a:lnTo>
                      <a:pt x="92" y="411"/>
                    </a:lnTo>
                    <a:lnTo>
                      <a:pt x="154" y="435"/>
                    </a:lnTo>
                    <a:lnTo>
                      <a:pt x="378" y="275"/>
                    </a:lnTo>
                    <a:lnTo>
                      <a:pt x="378" y="197"/>
                    </a:lnTo>
                    <a:lnTo>
                      <a:pt x="290" y="103"/>
                    </a:lnTo>
                    <a:lnTo>
                      <a:pt x="393" y="112"/>
                    </a:lnTo>
                    <a:lnTo>
                      <a:pt x="437" y="44"/>
                    </a:lnTo>
                    <a:lnTo>
                      <a:pt x="426" y="0"/>
                    </a:lnTo>
                    <a:lnTo>
                      <a:pt x="290" y="17"/>
                    </a:lnTo>
                    <a:lnTo>
                      <a:pt x="171" y="17"/>
                    </a:lnTo>
                    <a:lnTo>
                      <a:pt x="119" y="59"/>
                    </a:lnTo>
                    <a:lnTo>
                      <a:pt x="110" y="139"/>
                    </a:lnTo>
                    <a:lnTo>
                      <a:pt x="15" y="162"/>
                    </a:lnTo>
                    <a:lnTo>
                      <a:pt x="0" y="213"/>
                    </a:lnTo>
                    <a:lnTo>
                      <a:pt x="6" y="26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371000" y="5354640"/>
                <a:ext cx="94680" cy="321480"/>
              </a:xfrm>
              <a:custGeom>
                <a:avLst/>
                <a:gdLst/>
                <a:ahLst/>
                <a:rect l="l" t="t" r="r" b="b"/>
                <a:pathLst>
                  <a:path w="712" h="2147">
                    <a:moveTo>
                      <a:pt x="16" y="68"/>
                    </a:moveTo>
                    <a:lnTo>
                      <a:pt x="0" y="189"/>
                    </a:lnTo>
                    <a:lnTo>
                      <a:pt x="9" y="341"/>
                    </a:lnTo>
                    <a:lnTo>
                      <a:pt x="35" y="496"/>
                    </a:lnTo>
                    <a:lnTo>
                      <a:pt x="207" y="1127"/>
                    </a:lnTo>
                    <a:lnTo>
                      <a:pt x="325" y="1573"/>
                    </a:lnTo>
                    <a:lnTo>
                      <a:pt x="514" y="2147"/>
                    </a:lnTo>
                    <a:lnTo>
                      <a:pt x="634" y="1342"/>
                    </a:lnTo>
                    <a:lnTo>
                      <a:pt x="659" y="941"/>
                    </a:lnTo>
                    <a:lnTo>
                      <a:pt x="686" y="743"/>
                    </a:lnTo>
                    <a:lnTo>
                      <a:pt x="712" y="446"/>
                    </a:lnTo>
                    <a:lnTo>
                      <a:pt x="703" y="162"/>
                    </a:lnTo>
                    <a:lnTo>
                      <a:pt x="694" y="86"/>
                    </a:lnTo>
                    <a:lnTo>
                      <a:pt x="653" y="35"/>
                    </a:lnTo>
                    <a:lnTo>
                      <a:pt x="583" y="0"/>
                    </a:lnTo>
                    <a:lnTo>
                      <a:pt x="16" y="68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358040" y="5384520"/>
                <a:ext cx="120240" cy="295200"/>
              </a:xfrm>
              <a:custGeom>
                <a:avLst/>
                <a:gdLst/>
                <a:ahLst/>
                <a:rect l="l" t="t" r="r" b="b"/>
                <a:pathLst>
                  <a:path w="911" h="1975">
                    <a:moveTo>
                      <a:pt x="378" y="103"/>
                    </a:moveTo>
                    <a:lnTo>
                      <a:pt x="277" y="53"/>
                    </a:lnTo>
                    <a:lnTo>
                      <a:pt x="183" y="0"/>
                    </a:lnTo>
                    <a:lnTo>
                      <a:pt x="86" y="0"/>
                    </a:lnTo>
                    <a:lnTo>
                      <a:pt x="35" y="35"/>
                    </a:lnTo>
                    <a:lnTo>
                      <a:pt x="21" y="94"/>
                    </a:lnTo>
                    <a:lnTo>
                      <a:pt x="0" y="138"/>
                    </a:lnTo>
                    <a:lnTo>
                      <a:pt x="27" y="224"/>
                    </a:lnTo>
                    <a:lnTo>
                      <a:pt x="62" y="274"/>
                    </a:lnTo>
                    <a:lnTo>
                      <a:pt x="106" y="250"/>
                    </a:lnTo>
                    <a:lnTo>
                      <a:pt x="183" y="206"/>
                    </a:lnTo>
                    <a:lnTo>
                      <a:pt x="277" y="189"/>
                    </a:lnTo>
                    <a:lnTo>
                      <a:pt x="198" y="291"/>
                    </a:lnTo>
                    <a:lnTo>
                      <a:pt x="139" y="411"/>
                    </a:lnTo>
                    <a:lnTo>
                      <a:pt x="113" y="540"/>
                    </a:lnTo>
                    <a:lnTo>
                      <a:pt x="106" y="609"/>
                    </a:lnTo>
                    <a:lnTo>
                      <a:pt x="277" y="676"/>
                    </a:lnTo>
                    <a:lnTo>
                      <a:pt x="304" y="487"/>
                    </a:lnTo>
                    <a:lnTo>
                      <a:pt x="372" y="274"/>
                    </a:lnTo>
                    <a:lnTo>
                      <a:pt x="378" y="632"/>
                    </a:lnTo>
                    <a:lnTo>
                      <a:pt x="405" y="975"/>
                    </a:lnTo>
                    <a:lnTo>
                      <a:pt x="464" y="1333"/>
                    </a:lnTo>
                    <a:lnTo>
                      <a:pt x="526" y="1608"/>
                    </a:lnTo>
                    <a:lnTo>
                      <a:pt x="602" y="1975"/>
                    </a:lnTo>
                    <a:lnTo>
                      <a:pt x="655" y="1549"/>
                    </a:lnTo>
                    <a:lnTo>
                      <a:pt x="671" y="1351"/>
                    </a:lnTo>
                    <a:lnTo>
                      <a:pt x="618" y="899"/>
                    </a:lnTo>
                    <a:lnTo>
                      <a:pt x="570" y="573"/>
                    </a:lnTo>
                    <a:lnTo>
                      <a:pt x="558" y="454"/>
                    </a:lnTo>
                    <a:lnTo>
                      <a:pt x="645" y="514"/>
                    </a:lnTo>
                    <a:lnTo>
                      <a:pt x="706" y="609"/>
                    </a:lnTo>
                    <a:lnTo>
                      <a:pt x="750" y="615"/>
                    </a:lnTo>
                    <a:lnTo>
                      <a:pt x="800" y="523"/>
                    </a:lnTo>
                    <a:lnTo>
                      <a:pt x="809" y="411"/>
                    </a:lnTo>
                    <a:lnTo>
                      <a:pt x="791" y="351"/>
                    </a:lnTo>
                    <a:lnTo>
                      <a:pt x="765" y="342"/>
                    </a:lnTo>
                    <a:lnTo>
                      <a:pt x="645" y="309"/>
                    </a:lnTo>
                    <a:lnTo>
                      <a:pt x="602" y="265"/>
                    </a:lnTo>
                    <a:lnTo>
                      <a:pt x="576" y="197"/>
                    </a:lnTo>
                    <a:lnTo>
                      <a:pt x="645" y="197"/>
                    </a:lnTo>
                    <a:lnTo>
                      <a:pt x="765" y="265"/>
                    </a:lnTo>
                    <a:lnTo>
                      <a:pt x="869" y="283"/>
                    </a:lnTo>
                    <a:lnTo>
                      <a:pt x="911" y="265"/>
                    </a:lnTo>
                    <a:lnTo>
                      <a:pt x="911" y="197"/>
                    </a:lnTo>
                    <a:lnTo>
                      <a:pt x="886" y="79"/>
                    </a:lnTo>
                    <a:lnTo>
                      <a:pt x="842" y="0"/>
                    </a:lnTo>
                    <a:lnTo>
                      <a:pt x="756" y="9"/>
                    </a:lnTo>
                    <a:lnTo>
                      <a:pt x="645" y="53"/>
                    </a:lnTo>
                    <a:lnTo>
                      <a:pt x="576" y="94"/>
                    </a:lnTo>
                    <a:lnTo>
                      <a:pt x="484" y="44"/>
                    </a:lnTo>
                    <a:lnTo>
                      <a:pt x="378" y="58"/>
                    </a:lnTo>
                    <a:lnTo>
                      <a:pt x="378" y="10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303680" y="5141880"/>
                <a:ext cx="193680" cy="207720"/>
              </a:xfrm>
              <a:custGeom>
                <a:avLst/>
                <a:gdLst/>
                <a:ahLst/>
                <a:rect l="l" t="t" r="r" b="b"/>
                <a:pathLst>
                  <a:path w="1450" h="1389">
                    <a:moveTo>
                      <a:pt x="268" y="1389"/>
                    </a:moveTo>
                    <a:lnTo>
                      <a:pt x="155" y="1338"/>
                    </a:lnTo>
                    <a:lnTo>
                      <a:pt x="88" y="1267"/>
                    </a:lnTo>
                    <a:lnTo>
                      <a:pt x="48" y="1184"/>
                    </a:lnTo>
                    <a:lnTo>
                      <a:pt x="4" y="1035"/>
                    </a:lnTo>
                    <a:lnTo>
                      <a:pt x="0" y="879"/>
                    </a:lnTo>
                    <a:lnTo>
                      <a:pt x="9" y="732"/>
                    </a:lnTo>
                    <a:lnTo>
                      <a:pt x="21" y="594"/>
                    </a:lnTo>
                    <a:lnTo>
                      <a:pt x="44" y="490"/>
                    </a:lnTo>
                    <a:lnTo>
                      <a:pt x="120" y="391"/>
                    </a:lnTo>
                    <a:lnTo>
                      <a:pt x="169" y="343"/>
                    </a:lnTo>
                    <a:lnTo>
                      <a:pt x="198" y="294"/>
                    </a:lnTo>
                    <a:lnTo>
                      <a:pt x="254" y="250"/>
                    </a:lnTo>
                    <a:lnTo>
                      <a:pt x="314" y="220"/>
                    </a:lnTo>
                    <a:lnTo>
                      <a:pt x="341" y="193"/>
                    </a:lnTo>
                    <a:lnTo>
                      <a:pt x="378" y="154"/>
                    </a:lnTo>
                    <a:lnTo>
                      <a:pt x="406" y="145"/>
                    </a:lnTo>
                    <a:lnTo>
                      <a:pt x="448" y="64"/>
                    </a:lnTo>
                    <a:lnTo>
                      <a:pt x="512" y="27"/>
                    </a:lnTo>
                    <a:lnTo>
                      <a:pt x="623" y="0"/>
                    </a:lnTo>
                    <a:lnTo>
                      <a:pt x="738" y="4"/>
                    </a:lnTo>
                    <a:lnTo>
                      <a:pt x="887" y="29"/>
                    </a:lnTo>
                    <a:lnTo>
                      <a:pt x="922" y="70"/>
                    </a:lnTo>
                    <a:lnTo>
                      <a:pt x="936" y="101"/>
                    </a:lnTo>
                    <a:lnTo>
                      <a:pt x="1044" y="61"/>
                    </a:lnTo>
                    <a:lnTo>
                      <a:pt x="1157" y="87"/>
                    </a:lnTo>
                    <a:lnTo>
                      <a:pt x="1228" y="136"/>
                    </a:lnTo>
                    <a:lnTo>
                      <a:pt x="1270" y="193"/>
                    </a:lnTo>
                    <a:lnTo>
                      <a:pt x="1323" y="246"/>
                    </a:lnTo>
                    <a:lnTo>
                      <a:pt x="1388" y="378"/>
                    </a:lnTo>
                    <a:lnTo>
                      <a:pt x="1437" y="501"/>
                    </a:lnTo>
                    <a:lnTo>
                      <a:pt x="1450" y="650"/>
                    </a:lnTo>
                    <a:lnTo>
                      <a:pt x="1441" y="769"/>
                    </a:lnTo>
                    <a:lnTo>
                      <a:pt x="362" y="1375"/>
                    </a:lnTo>
                    <a:lnTo>
                      <a:pt x="268" y="138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332480" y="5181120"/>
                <a:ext cx="139320" cy="221040"/>
              </a:xfrm>
              <a:custGeom>
                <a:avLst/>
                <a:gdLst/>
                <a:ahLst/>
                <a:rect l="l" t="t" r="r" b="b"/>
                <a:pathLst>
                  <a:path w="1044" h="1481">
                    <a:moveTo>
                      <a:pt x="219" y="137"/>
                    </a:moveTo>
                    <a:lnTo>
                      <a:pt x="175" y="233"/>
                    </a:lnTo>
                    <a:lnTo>
                      <a:pt x="163" y="351"/>
                    </a:lnTo>
                    <a:lnTo>
                      <a:pt x="0" y="630"/>
                    </a:lnTo>
                    <a:lnTo>
                      <a:pt x="37" y="771"/>
                    </a:lnTo>
                    <a:lnTo>
                      <a:pt x="97" y="815"/>
                    </a:lnTo>
                    <a:lnTo>
                      <a:pt x="189" y="828"/>
                    </a:lnTo>
                    <a:lnTo>
                      <a:pt x="244" y="851"/>
                    </a:lnTo>
                    <a:lnTo>
                      <a:pt x="292" y="969"/>
                    </a:lnTo>
                    <a:lnTo>
                      <a:pt x="306" y="1132"/>
                    </a:lnTo>
                    <a:lnTo>
                      <a:pt x="327" y="1235"/>
                    </a:lnTo>
                    <a:lnTo>
                      <a:pt x="424" y="1386"/>
                    </a:lnTo>
                    <a:lnTo>
                      <a:pt x="507" y="1444"/>
                    </a:lnTo>
                    <a:lnTo>
                      <a:pt x="571" y="1481"/>
                    </a:lnTo>
                    <a:lnTo>
                      <a:pt x="578" y="1421"/>
                    </a:lnTo>
                    <a:lnTo>
                      <a:pt x="627" y="1409"/>
                    </a:lnTo>
                    <a:lnTo>
                      <a:pt x="670" y="1402"/>
                    </a:lnTo>
                    <a:lnTo>
                      <a:pt x="696" y="1393"/>
                    </a:lnTo>
                    <a:lnTo>
                      <a:pt x="795" y="1331"/>
                    </a:lnTo>
                    <a:lnTo>
                      <a:pt x="857" y="1277"/>
                    </a:lnTo>
                    <a:lnTo>
                      <a:pt x="897" y="1213"/>
                    </a:lnTo>
                    <a:lnTo>
                      <a:pt x="897" y="1079"/>
                    </a:lnTo>
                    <a:lnTo>
                      <a:pt x="975" y="983"/>
                    </a:lnTo>
                    <a:lnTo>
                      <a:pt x="1024" y="846"/>
                    </a:lnTo>
                    <a:lnTo>
                      <a:pt x="1044" y="655"/>
                    </a:lnTo>
                    <a:lnTo>
                      <a:pt x="1031" y="521"/>
                    </a:lnTo>
                    <a:lnTo>
                      <a:pt x="989" y="356"/>
                    </a:lnTo>
                    <a:lnTo>
                      <a:pt x="945" y="231"/>
                    </a:lnTo>
                    <a:lnTo>
                      <a:pt x="848" y="75"/>
                    </a:lnTo>
                    <a:lnTo>
                      <a:pt x="778" y="13"/>
                    </a:lnTo>
                    <a:lnTo>
                      <a:pt x="705" y="0"/>
                    </a:lnTo>
                    <a:lnTo>
                      <a:pt x="585" y="9"/>
                    </a:lnTo>
                    <a:lnTo>
                      <a:pt x="330" y="79"/>
                    </a:lnTo>
                    <a:lnTo>
                      <a:pt x="219" y="1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385040" y="524448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42" h="143">
                    <a:moveTo>
                      <a:pt x="118" y="0"/>
                    </a:moveTo>
                    <a:lnTo>
                      <a:pt x="92" y="5"/>
                    </a:lnTo>
                    <a:lnTo>
                      <a:pt x="69" y="26"/>
                    </a:lnTo>
                    <a:lnTo>
                      <a:pt x="66" y="46"/>
                    </a:lnTo>
                    <a:lnTo>
                      <a:pt x="66" y="48"/>
                    </a:lnTo>
                    <a:lnTo>
                      <a:pt x="114" y="41"/>
                    </a:lnTo>
                    <a:lnTo>
                      <a:pt x="158" y="46"/>
                    </a:lnTo>
                    <a:lnTo>
                      <a:pt x="154" y="21"/>
                    </a:lnTo>
                    <a:lnTo>
                      <a:pt x="149" y="5"/>
                    </a:lnTo>
                    <a:lnTo>
                      <a:pt x="186" y="5"/>
                    </a:lnTo>
                    <a:lnTo>
                      <a:pt x="221" y="32"/>
                    </a:lnTo>
                    <a:lnTo>
                      <a:pt x="242" y="70"/>
                    </a:lnTo>
                    <a:lnTo>
                      <a:pt x="224" y="97"/>
                    </a:lnTo>
                    <a:lnTo>
                      <a:pt x="202" y="83"/>
                    </a:lnTo>
                    <a:lnTo>
                      <a:pt x="163" y="107"/>
                    </a:lnTo>
                    <a:lnTo>
                      <a:pt x="136" y="131"/>
                    </a:lnTo>
                    <a:lnTo>
                      <a:pt x="96" y="143"/>
                    </a:lnTo>
                    <a:lnTo>
                      <a:pt x="62" y="143"/>
                    </a:lnTo>
                    <a:lnTo>
                      <a:pt x="21" y="125"/>
                    </a:lnTo>
                    <a:lnTo>
                      <a:pt x="0" y="97"/>
                    </a:lnTo>
                    <a:lnTo>
                      <a:pt x="4" y="58"/>
                    </a:lnTo>
                    <a:lnTo>
                      <a:pt x="26" y="26"/>
                    </a:lnTo>
                    <a:lnTo>
                      <a:pt x="57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431840" y="523728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0" y="112"/>
                    </a:moveTo>
                    <a:lnTo>
                      <a:pt x="18" y="63"/>
                    </a:lnTo>
                    <a:lnTo>
                      <a:pt x="44" y="28"/>
                    </a:lnTo>
                    <a:lnTo>
                      <a:pt x="85" y="0"/>
                    </a:lnTo>
                    <a:lnTo>
                      <a:pt x="67" y="61"/>
                    </a:lnTo>
                    <a:lnTo>
                      <a:pt x="133" y="51"/>
                    </a:lnTo>
                    <a:lnTo>
                      <a:pt x="120" y="9"/>
                    </a:lnTo>
                    <a:lnTo>
                      <a:pt x="146" y="13"/>
                    </a:lnTo>
                    <a:lnTo>
                      <a:pt x="177" y="70"/>
                    </a:lnTo>
                    <a:lnTo>
                      <a:pt x="183" y="92"/>
                    </a:lnTo>
                    <a:lnTo>
                      <a:pt x="159" y="125"/>
                    </a:lnTo>
                    <a:lnTo>
                      <a:pt x="129" y="141"/>
                    </a:lnTo>
                    <a:lnTo>
                      <a:pt x="88" y="145"/>
                    </a:lnTo>
                    <a:lnTo>
                      <a:pt x="53" y="134"/>
                    </a:lnTo>
                    <a:lnTo>
                      <a:pt x="18" y="12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347600" y="529812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51" y="4"/>
                    </a:moveTo>
                    <a:lnTo>
                      <a:pt x="70" y="0"/>
                    </a:lnTo>
                    <a:lnTo>
                      <a:pt x="121" y="13"/>
                    </a:lnTo>
                    <a:lnTo>
                      <a:pt x="150" y="70"/>
                    </a:lnTo>
                    <a:lnTo>
                      <a:pt x="136" y="131"/>
                    </a:lnTo>
                    <a:lnTo>
                      <a:pt x="65" y="149"/>
                    </a:lnTo>
                    <a:lnTo>
                      <a:pt x="0" y="114"/>
                    </a:lnTo>
                    <a:lnTo>
                      <a:pt x="5" y="61"/>
                    </a:lnTo>
                    <a:lnTo>
                      <a:pt x="31" y="22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880" y="5310360"/>
                <a:ext cx="23400" cy="6840"/>
              </a:xfrm>
              <a:custGeom>
                <a:avLst/>
                <a:gdLst/>
                <a:ahLst/>
                <a:rect l="l" t="t" r="r" b="b"/>
                <a:pathLst>
                  <a:path w="179" h="50">
                    <a:moveTo>
                      <a:pt x="0" y="18"/>
                    </a:moveTo>
                    <a:lnTo>
                      <a:pt x="32" y="43"/>
                    </a:lnTo>
                    <a:lnTo>
                      <a:pt x="93" y="50"/>
                    </a:lnTo>
                    <a:lnTo>
                      <a:pt x="129" y="46"/>
                    </a:lnTo>
                    <a:lnTo>
                      <a:pt x="157" y="36"/>
                    </a:lnTo>
                    <a:lnTo>
                      <a:pt x="168" y="22"/>
                    </a:lnTo>
                    <a:lnTo>
                      <a:pt x="179" y="2"/>
                    </a:lnTo>
                    <a:lnTo>
                      <a:pt x="143" y="0"/>
                    </a:lnTo>
                    <a:lnTo>
                      <a:pt x="93" y="11"/>
                    </a:lnTo>
                    <a:lnTo>
                      <a:pt x="14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388280" y="5252760"/>
                <a:ext cx="23400" cy="1080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30"/>
                    </a:moveTo>
                    <a:lnTo>
                      <a:pt x="9" y="55"/>
                    </a:lnTo>
                    <a:lnTo>
                      <a:pt x="75" y="69"/>
                    </a:lnTo>
                    <a:lnTo>
                      <a:pt x="99" y="62"/>
                    </a:lnTo>
                    <a:lnTo>
                      <a:pt x="128" y="41"/>
                    </a:lnTo>
                    <a:lnTo>
                      <a:pt x="149" y="27"/>
                    </a:lnTo>
                    <a:lnTo>
                      <a:pt x="174" y="21"/>
                    </a:lnTo>
                    <a:lnTo>
                      <a:pt x="128" y="0"/>
                    </a:lnTo>
                    <a:lnTo>
                      <a:pt x="31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437240" y="5248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27" h="57">
                    <a:moveTo>
                      <a:pt x="0" y="30"/>
                    </a:moveTo>
                    <a:lnTo>
                      <a:pt x="0" y="41"/>
                    </a:lnTo>
                    <a:lnTo>
                      <a:pt x="31" y="50"/>
                    </a:lnTo>
                    <a:lnTo>
                      <a:pt x="88" y="57"/>
                    </a:lnTo>
                    <a:lnTo>
                      <a:pt x="100" y="53"/>
                    </a:lnTo>
                    <a:lnTo>
                      <a:pt x="114" y="27"/>
                    </a:lnTo>
                    <a:lnTo>
                      <a:pt x="127" y="9"/>
                    </a:lnTo>
                    <a:lnTo>
                      <a:pt x="100" y="0"/>
                    </a:lnTo>
                    <a:lnTo>
                      <a:pt x="63" y="9"/>
                    </a:lnTo>
                    <a:lnTo>
                      <a:pt x="26" y="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396560" y="52552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0" y="11"/>
                    </a:moveTo>
                    <a:lnTo>
                      <a:pt x="0" y="24"/>
                    </a:lnTo>
                    <a:lnTo>
                      <a:pt x="7" y="43"/>
                    </a:lnTo>
                    <a:lnTo>
                      <a:pt x="25" y="48"/>
                    </a:lnTo>
                    <a:lnTo>
                      <a:pt x="42" y="43"/>
                    </a:lnTo>
                    <a:lnTo>
                      <a:pt x="60" y="34"/>
                    </a:lnTo>
                    <a:lnTo>
                      <a:pt x="62" y="24"/>
                    </a:lnTo>
                    <a:lnTo>
                      <a:pt x="62" y="13"/>
                    </a:lnTo>
                    <a:lnTo>
                      <a:pt x="56" y="0"/>
                    </a:lnTo>
                    <a:lnTo>
                      <a:pt x="27" y="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442280" y="52480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0" y="9"/>
                    </a:moveTo>
                    <a:lnTo>
                      <a:pt x="0" y="28"/>
                    </a:lnTo>
                    <a:lnTo>
                      <a:pt x="9" y="42"/>
                    </a:lnTo>
                    <a:lnTo>
                      <a:pt x="26" y="46"/>
                    </a:lnTo>
                    <a:lnTo>
                      <a:pt x="42" y="42"/>
                    </a:lnTo>
                    <a:lnTo>
                      <a:pt x="53" y="37"/>
                    </a:lnTo>
                    <a:lnTo>
                      <a:pt x="59" y="26"/>
                    </a:lnTo>
                    <a:lnTo>
                      <a:pt x="56" y="9"/>
                    </a:lnTo>
                    <a:lnTo>
                      <a:pt x="53" y="0"/>
                    </a:lnTo>
                    <a:lnTo>
                      <a:pt x="33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398720" y="5255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17" y="0"/>
                    </a:moveTo>
                    <a:lnTo>
                      <a:pt x="31" y="20"/>
                    </a:lnTo>
                    <a:lnTo>
                      <a:pt x="22" y="27"/>
                    </a:lnTo>
                    <a:lnTo>
                      <a:pt x="5" y="24"/>
                    </a:lnTo>
                    <a:lnTo>
                      <a:pt x="0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445520" y="52495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8" y="0"/>
                    </a:moveTo>
                    <a:lnTo>
                      <a:pt x="31" y="9"/>
                    </a:lnTo>
                    <a:lnTo>
                      <a:pt x="22" y="29"/>
                    </a:lnTo>
                    <a:lnTo>
                      <a:pt x="0" y="22"/>
                    </a:lnTo>
                    <a:lnTo>
                      <a:pt x="4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415640" y="530208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219" h="67">
                    <a:moveTo>
                      <a:pt x="0" y="53"/>
                    </a:moveTo>
                    <a:lnTo>
                      <a:pt x="28" y="67"/>
                    </a:lnTo>
                    <a:lnTo>
                      <a:pt x="99" y="67"/>
                    </a:lnTo>
                    <a:lnTo>
                      <a:pt x="175" y="53"/>
                    </a:lnTo>
                    <a:lnTo>
                      <a:pt x="210" y="45"/>
                    </a:lnTo>
                    <a:lnTo>
                      <a:pt x="219" y="32"/>
                    </a:lnTo>
                    <a:lnTo>
                      <a:pt x="210" y="23"/>
                    </a:lnTo>
                    <a:lnTo>
                      <a:pt x="180" y="0"/>
                    </a:lnTo>
                    <a:lnTo>
                      <a:pt x="134" y="0"/>
                    </a:lnTo>
                    <a:lnTo>
                      <a:pt x="83" y="5"/>
                    </a:lnTo>
                    <a:lnTo>
                      <a:pt x="26" y="2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394400" y="525636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01" h="48">
                    <a:moveTo>
                      <a:pt x="101" y="0"/>
                    </a:moveTo>
                    <a:lnTo>
                      <a:pt x="71" y="24"/>
                    </a:lnTo>
                    <a:lnTo>
                      <a:pt x="46" y="44"/>
                    </a:lnTo>
                    <a:lnTo>
                      <a:pt x="0" y="48"/>
                    </a:lnTo>
                    <a:lnTo>
                      <a:pt x="55" y="26"/>
                    </a:lnTo>
                    <a:lnTo>
                      <a:pt x="82" y="2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378560" y="5232600"/>
                <a:ext cx="33840" cy="6840"/>
              </a:xfrm>
              <a:custGeom>
                <a:avLst/>
                <a:gdLst/>
                <a:ahLst/>
                <a:rect l="l" t="t" r="r" b="b"/>
                <a:pathLst>
                  <a:path w="253" h="53">
                    <a:moveTo>
                      <a:pt x="0" y="48"/>
                    </a:moveTo>
                    <a:lnTo>
                      <a:pt x="44" y="9"/>
                    </a:lnTo>
                    <a:lnTo>
                      <a:pt x="81" y="0"/>
                    </a:lnTo>
                    <a:lnTo>
                      <a:pt x="138" y="9"/>
                    </a:lnTo>
                    <a:lnTo>
                      <a:pt x="200" y="20"/>
                    </a:lnTo>
                    <a:lnTo>
                      <a:pt x="253" y="53"/>
                    </a:lnTo>
                    <a:lnTo>
                      <a:pt x="205" y="36"/>
                    </a:lnTo>
                    <a:lnTo>
                      <a:pt x="162" y="36"/>
                    </a:lnTo>
                    <a:lnTo>
                      <a:pt x="81" y="20"/>
                    </a:lnTo>
                    <a:lnTo>
                      <a:pt x="48" y="20"/>
                    </a:lnTo>
                    <a:lnTo>
                      <a:pt x="26" y="3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380720" y="5243400"/>
                <a:ext cx="30600" cy="20160"/>
              </a:xfrm>
              <a:custGeom>
                <a:avLst/>
                <a:gdLst/>
                <a:ahLst/>
                <a:rect l="l" t="t" r="r" b="b"/>
                <a:pathLst>
                  <a:path w="230" h="132">
                    <a:moveTo>
                      <a:pt x="34" y="90"/>
                    </a:moveTo>
                    <a:lnTo>
                      <a:pt x="41" y="61"/>
                    </a:lnTo>
                    <a:lnTo>
                      <a:pt x="56" y="40"/>
                    </a:lnTo>
                    <a:lnTo>
                      <a:pt x="85" y="10"/>
                    </a:lnTo>
                    <a:lnTo>
                      <a:pt x="118" y="0"/>
                    </a:lnTo>
                    <a:lnTo>
                      <a:pt x="60" y="10"/>
                    </a:lnTo>
                    <a:lnTo>
                      <a:pt x="23" y="42"/>
                    </a:lnTo>
                    <a:lnTo>
                      <a:pt x="10" y="63"/>
                    </a:lnTo>
                    <a:lnTo>
                      <a:pt x="0" y="99"/>
                    </a:lnTo>
                    <a:lnTo>
                      <a:pt x="12" y="118"/>
                    </a:lnTo>
                    <a:lnTo>
                      <a:pt x="32" y="107"/>
                    </a:lnTo>
                    <a:lnTo>
                      <a:pt x="74" y="132"/>
                    </a:lnTo>
                    <a:lnTo>
                      <a:pt x="58" y="112"/>
                    </a:lnTo>
                    <a:lnTo>
                      <a:pt x="56" y="95"/>
                    </a:lnTo>
                    <a:lnTo>
                      <a:pt x="153" y="79"/>
                    </a:lnTo>
                    <a:lnTo>
                      <a:pt x="180" y="68"/>
                    </a:lnTo>
                    <a:lnTo>
                      <a:pt x="199" y="75"/>
                    </a:lnTo>
                    <a:lnTo>
                      <a:pt x="230" y="88"/>
                    </a:lnTo>
                    <a:lnTo>
                      <a:pt x="230" y="75"/>
                    </a:lnTo>
                    <a:lnTo>
                      <a:pt x="184" y="59"/>
                    </a:lnTo>
                    <a:lnTo>
                      <a:pt x="142" y="63"/>
                    </a:lnTo>
                    <a:lnTo>
                      <a:pt x="90" y="75"/>
                    </a:lnTo>
                    <a:lnTo>
                      <a:pt x="46" y="79"/>
                    </a:lnTo>
                    <a:lnTo>
                      <a:pt x="34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435080" y="5245560"/>
                <a:ext cx="21960" cy="720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0" y="46"/>
                    </a:moveTo>
                    <a:lnTo>
                      <a:pt x="24" y="11"/>
                    </a:lnTo>
                    <a:lnTo>
                      <a:pt x="70" y="16"/>
                    </a:lnTo>
                    <a:lnTo>
                      <a:pt x="116" y="0"/>
                    </a:lnTo>
                    <a:lnTo>
                      <a:pt x="167" y="0"/>
                    </a:lnTo>
                    <a:lnTo>
                      <a:pt x="145" y="16"/>
                    </a:lnTo>
                    <a:lnTo>
                      <a:pt x="148" y="31"/>
                    </a:lnTo>
                    <a:lnTo>
                      <a:pt x="104" y="18"/>
                    </a:lnTo>
                    <a:lnTo>
                      <a:pt x="65" y="31"/>
                    </a:lnTo>
                    <a:lnTo>
                      <a:pt x="28" y="27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4440" y="5237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83" h="63">
                    <a:moveTo>
                      <a:pt x="0" y="0"/>
                    </a:moveTo>
                    <a:lnTo>
                      <a:pt x="32" y="9"/>
                    </a:lnTo>
                    <a:lnTo>
                      <a:pt x="51" y="24"/>
                    </a:lnTo>
                    <a:lnTo>
                      <a:pt x="62" y="63"/>
                    </a:lnTo>
                    <a:lnTo>
                      <a:pt x="83" y="61"/>
                    </a:lnTo>
                    <a:lnTo>
                      <a:pt x="78" y="33"/>
                    </a:lnTo>
                    <a:lnTo>
                      <a:pt x="62" y="1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30760" y="521820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192" h="130">
                    <a:moveTo>
                      <a:pt x="0" y="130"/>
                    </a:moveTo>
                    <a:lnTo>
                      <a:pt x="25" y="84"/>
                    </a:lnTo>
                    <a:lnTo>
                      <a:pt x="136" y="0"/>
                    </a:lnTo>
                    <a:lnTo>
                      <a:pt x="159" y="9"/>
                    </a:lnTo>
                    <a:lnTo>
                      <a:pt x="192" y="46"/>
                    </a:lnTo>
                    <a:lnTo>
                      <a:pt x="159" y="15"/>
                    </a:lnTo>
                    <a:lnTo>
                      <a:pt x="148" y="15"/>
                    </a:lnTo>
                    <a:lnTo>
                      <a:pt x="34" y="92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439040" y="525168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85" y="0"/>
                    </a:moveTo>
                    <a:lnTo>
                      <a:pt x="66" y="31"/>
                    </a:lnTo>
                    <a:lnTo>
                      <a:pt x="0" y="24"/>
                    </a:lnTo>
                    <a:lnTo>
                      <a:pt x="34" y="40"/>
                    </a:lnTo>
                    <a:lnTo>
                      <a:pt x="34" y="52"/>
                    </a:lnTo>
                    <a:lnTo>
                      <a:pt x="61" y="35"/>
                    </a:lnTo>
                    <a:lnTo>
                      <a:pt x="87" y="3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428600" y="5241960"/>
                <a:ext cx="10440" cy="46440"/>
              </a:xfrm>
              <a:custGeom>
                <a:avLst/>
                <a:gdLst/>
                <a:ahLst/>
                <a:rect l="l" t="t" r="r" b="b"/>
                <a:pathLst>
                  <a:path w="79" h="307">
                    <a:moveTo>
                      <a:pt x="9" y="0"/>
                    </a:moveTo>
                    <a:lnTo>
                      <a:pt x="9" y="52"/>
                    </a:lnTo>
                    <a:lnTo>
                      <a:pt x="16" y="113"/>
                    </a:lnTo>
                    <a:lnTo>
                      <a:pt x="41" y="177"/>
                    </a:lnTo>
                    <a:lnTo>
                      <a:pt x="72" y="210"/>
                    </a:lnTo>
                    <a:lnTo>
                      <a:pt x="76" y="230"/>
                    </a:lnTo>
                    <a:lnTo>
                      <a:pt x="62" y="246"/>
                    </a:lnTo>
                    <a:lnTo>
                      <a:pt x="79" y="252"/>
                    </a:lnTo>
                    <a:lnTo>
                      <a:pt x="79" y="267"/>
                    </a:lnTo>
                    <a:lnTo>
                      <a:pt x="50" y="265"/>
                    </a:lnTo>
                    <a:lnTo>
                      <a:pt x="11" y="307"/>
                    </a:lnTo>
                    <a:lnTo>
                      <a:pt x="9" y="302"/>
                    </a:lnTo>
                    <a:lnTo>
                      <a:pt x="4" y="272"/>
                    </a:lnTo>
                    <a:lnTo>
                      <a:pt x="11" y="252"/>
                    </a:lnTo>
                    <a:lnTo>
                      <a:pt x="26" y="223"/>
                    </a:lnTo>
                    <a:lnTo>
                      <a:pt x="41" y="210"/>
                    </a:lnTo>
                    <a:lnTo>
                      <a:pt x="53" y="208"/>
                    </a:lnTo>
                    <a:lnTo>
                      <a:pt x="26" y="168"/>
                    </a:lnTo>
                    <a:lnTo>
                      <a:pt x="11" y="129"/>
                    </a:lnTo>
                    <a:lnTo>
                      <a:pt x="4" y="85"/>
                    </a:lnTo>
                    <a:lnTo>
                      <a:pt x="0" y="4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413840" y="527580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3" h="90">
                    <a:moveTo>
                      <a:pt x="103" y="62"/>
                    </a:moveTo>
                    <a:lnTo>
                      <a:pt x="103" y="39"/>
                    </a:lnTo>
                    <a:lnTo>
                      <a:pt x="82" y="44"/>
                    </a:lnTo>
                    <a:lnTo>
                      <a:pt x="62" y="69"/>
                    </a:lnTo>
                    <a:lnTo>
                      <a:pt x="34" y="69"/>
                    </a:lnTo>
                    <a:lnTo>
                      <a:pt x="20" y="53"/>
                    </a:lnTo>
                    <a:lnTo>
                      <a:pt x="16" y="39"/>
                    </a:lnTo>
                    <a:lnTo>
                      <a:pt x="16" y="20"/>
                    </a:lnTo>
                    <a:lnTo>
                      <a:pt x="16" y="0"/>
                    </a:lnTo>
                    <a:lnTo>
                      <a:pt x="2" y="20"/>
                    </a:lnTo>
                    <a:lnTo>
                      <a:pt x="0" y="48"/>
                    </a:lnTo>
                    <a:lnTo>
                      <a:pt x="7" y="75"/>
                    </a:lnTo>
                    <a:lnTo>
                      <a:pt x="20" y="88"/>
                    </a:lnTo>
                    <a:lnTo>
                      <a:pt x="41" y="90"/>
                    </a:lnTo>
                    <a:lnTo>
                      <a:pt x="68" y="73"/>
                    </a:lnTo>
                    <a:lnTo>
                      <a:pt x="92" y="62"/>
                    </a:lnTo>
                    <a:lnTo>
                      <a:pt x="10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404840" y="5238360"/>
                <a:ext cx="12600" cy="30960"/>
              </a:xfrm>
              <a:custGeom>
                <a:avLst/>
                <a:gdLst/>
                <a:ahLst/>
                <a:rect l="l" t="t" r="r" b="b"/>
                <a:pathLst>
                  <a:path w="96" h="204">
                    <a:moveTo>
                      <a:pt x="23" y="0"/>
                    </a:moveTo>
                    <a:lnTo>
                      <a:pt x="34" y="27"/>
                    </a:lnTo>
                    <a:lnTo>
                      <a:pt x="0" y="27"/>
                    </a:lnTo>
                    <a:lnTo>
                      <a:pt x="4" y="40"/>
                    </a:lnTo>
                    <a:lnTo>
                      <a:pt x="39" y="50"/>
                    </a:lnTo>
                    <a:lnTo>
                      <a:pt x="60" y="84"/>
                    </a:lnTo>
                    <a:lnTo>
                      <a:pt x="74" y="112"/>
                    </a:lnTo>
                    <a:lnTo>
                      <a:pt x="72" y="135"/>
                    </a:lnTo>
                    <a:lnTo>
                      <a:pt x="57" y="163"/>
                    </a:lnTo>
                    <a:lnTo>
                      <a:pt x="30" y="204"/>
                    </a:lnTo>
                    <a:lnTo>
                      <a:pt x="74" y="158"/>
                    </a:lnTo>
                    <a:lnTo>
                      <a:pt x="90" y="123"/>
                    </a:lnTo>
                    <a:lnTo>
                      <a:pt x="96" y="96"/>
                    </a:lnTo>
                    <a:lnTo>
                      <a:pt x="90" y="79"/>
                    </a:lnTo>
                    <a:lnTo>
                      <a:pt x="72" y="40"/>
                    </a:lnTo>
                    <a:lnTo>
                      <a:pt x="50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96560" y="5255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6" y="0"/>
                    </a:moveTo>
                    <a:lnTo>
                      <a:pt x="16" y="16"/>
                    </a:lnTo>
                    <a:lnTo>
                      <a:pt x="26" y="23"/>
                    </a:lnTo>
                    <a:lnTo>
                      <a:pt x="9" y="23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444440" y="5249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6" y="0"/>
                    </a:moveTo>
                    <a:lnTo>
                      <a:pt x="21" y="13"/>
                    </a:lnTo>
                    <a:lnTo>
                      <a:pt x="27" y="13"/>
                    </a:lnTo>
                    <a:lnTo>
                      <a:pt x="16" y="21"/>
                    </a:lnTo>
                    <a:lnTo>
                      <a:pt x="0" y="19"/>
                    </a:lnTo>
                    <a:lnTo>
                      <a:pt x="5" y="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94400" y="5255280"/>
                <a:ext cx="8640" cy="6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0" y="11"/>
                    </a:moveTo>
                    <a:lnTo>
                      <a:pt x="0" y="24"/>
                    </a:lnTo>
                    <a:lnTo>
                      <a:pt x="7" y="43"/>
                    </a:lnTo>
                    <a:lnTo>
                      <a:pt x="21" y="48"/>
                    </a:lnTo>
                    <a:lnTo>
                      <a:pt x="44" y="43"/>
                    </a:lnTo>
                    <a:lnTo>
                      <a:pt x="62" y="32"/>
                    </a:lnTo>
                    <a:lnTo>
                      <a:pt x="62" y="15"/>
                    </a:lnTo>
                    <a:lnTo>
                      <a:pt x="60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441200" y="524952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3" y="0"/>
                    </a:moveTo>
                    <a:lnTo>
                      <a:pt x="0" y="12"/>
                    </a:lnTo>
                    <a:lnTo>
                      <a:pt x="0" y="26"/>
                    </a:lnTo>
                    <a:lnTo>
                      <a:pt x="16" y="40"/>
                    </a:lnTo>
                    <a:lnTo>
                      <a:pt x="28" y="44"/>
                    </a:lnTo>
                    <a:lnTo>
                      <a:pt x="51" y="38"/>
                    </a:lnTo>
                    <a:lnTo>
                      <a:pt x="58" y="26"/>
                    </a:lnTo>
                    <a:lnTo>
                      <a:pt x="58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453080" y="523368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60" h="83">
                    <a:moveTo>
                      <a:pt x="0" y="46"/>
                    </a:moveTo>
                    <a:lnTo>
                      <a:pt x="28" y="35"/>
                    </a:lnTo>
                    <a:lnTo>
                      <a:pt x="37" y="0"/>
                    </a:lnTo>
                    <a:lnTo>
                      <a:pt x="60" y="46"/>
                    </a:lnTo>
                    <a:lnTo>
                      <a:pt x="48" y="83"/>
                    </a:lnTo>
                    <a:lnTo>
                      <a:pt x="11" y="83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75320" y="5249520"/>
                <a:ext cx="7200" cy="1044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55" y="17"/>
                    </a:moveTo>
                    <a:lnTo>
                      <a:pt x="0" y="0"/>
                    </a:lnTo>
                    <a:lnTo>
                      <a:pt x="4" y="33"/>
                    </a:lnTo>
                    <a:lnTo>
                      <a:pt x="53" y="65"/>
                    </a:lnTo>
                    <a:lnTo>
                      <a:pt x="5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88280" y="5259960"/>
                <a:ext cx="10440" cy="3600"/>
              </a:xfrm>
              <a:custGeom>
                <a:avLst/>
                <a:gdLst/>
                <a:ahLst/>
                <a:rect l="l" t="t" r="r" b="b"/>
                <a:pathLst>
                  <a:path w="77" h="29">
                    <a:moveTo>
                      <a:pt x="0" y="0"/>
                    </a:moveTo>
                    <a:lnTo>
                      <a:pt x="77" y="23"/>
                    </a:lnTo>
                    <a:lnTo>
                      <a:pt x="48" y="29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01880" y="5178600"/>
                <a:ext cx="96480" cy="177840"/>
              </a:xfrm>
              <a:custGeom>
                <a:avLst/>
                <a:gdLst/>
                <a:ahLst/>
                <a:rect l="l" t="t" r="r" b="b"/>
                <a:pathLst>
                  <a:path w="728" h="1197">
                    <a:moveTo>
                      <a:pt x="447" y="189"/>
                    </a:moveTo>
                    <a:lnTo>
                      <a:pt x="431" y="219"/>
                    </a:lnTo>
                    <a:lnTo>
                      <a:pt x="420" y="283"/>
                    </a:lnTo>
                    <a:lnTo>
                      <a:pt x="420" y="385"/>
                    </a:lnTo>
                    <a:lnTo>
                      <a:pt x="424" y="486"/>
                    </a:lnTo>
                    <a:lnTo>
                      <a:pt x="435" y="534"/>
                    </a:lnTo>
                    <a:lnTo>
                      <a:pt x="442" y="567"/>
                    </a:lnTo>
                    <a:lnTo>
                      <a:pt x="431" y="622"/>
                    </a:lnTo>
                    <a:lnTo>
                      <a:pt x="417" y="637"/>
                    </a:lnTo>
                    <a:lnTo>
                      <a:pt x="352" y="648"/>
                    </a:lnTo>
                    <a:lnTo>
                      <a:pt x="299" y="639"/>
                    </a:lnTo>
                    <a:lnTo>
                      <a:pt x="262" y="643"/>
                    </a:lnTo>
                    <a:lnTo>
                      <a:pt x="240" y="657"/>
                    </a:lnTo>
                    <a:lnTo>
                      <a:pt x="266" y="749"/>
                    </a:lnTo>
                    <a:lnTo>
                      <a:pt x="286" y="777"/>
                    </a:lnTo>
                    <a:lnTo>
                      <a:pt x="318" y="804"/>
                    </a:lnTo>
                    <a:lnTo>
                      <a:pt x="357" y="816"/>
                    </a:lnTo>
                    <a:lnTo>
                      <a:pt x="383" y="802"/>
                    </a:lnTo>
                    <a:lnTo>
                      <a:pt x="369" y="823"/>
                    </a:lnTo>
                    <a:lnTo>
                      <a:pt x="357" y="866"/>
                    </a:lnTo>
                    <a:lnTo>
                      <a:pt x="365" y="892"/>
                    </a:lnTo>
                    <a:lnTo>
                      <a:pt x="392" y="910"/>
                    </a:lnTo>
                    <a:lnTo>
                      <a:pt x="424" y="918"/>
                    </a:lnTo>
                    <a:lnTo>
                      <a:pt x="452" y="903"/>
                    </a:lnTo>
                    <a:lnTo>
                      <a:pt x="466" y="876"/>
                    </a:lnTo>
                    <a:lnTo>
                      <a:pt x="466" y="850"/>
                    </a:lnTo>
                    <a:lnTo>
                      <a:pt x="447" y="820"/>
                    </a:lnTo>
                    <a:lnTo>
                      <a:pt x="413" y="795"/>
                    </a:lnTo>
                    <a:lnTo>
                      <a:pt x="452" y="802"/>
                    </a:lnTo>
                    <a:lnTo>
                      <a:pt x="435" y="681"/>
                    </a:lnTo>
                    <a:lnTo>
                      <a:pt x="488" y="850"/>
                    </a:lnTo>
                    <a:lnTo>
                      <a:pt x="528" y="934"/>
                    </a:lnTo>
                    <a:lnTo>
                      <a:pt x="574" y="991"/>
                    </a:lnTo>
                    <a:lnTo>
                      <a:pt x="648" y="1053"/>
                    </a:lnTo>
                    <a:lnTo>
                      <a:pt x="728" y="1097"/>
                    </a:lnTo>
                    <a:lnTo>
                      <a:pt x="606" y="1044"/>
                    </a:lnTo>
                    <a:lnTo>
                      <a:pt x="558" y="1012"/>
                    </a:lnTo>
                    <a:lnTo>
                      <a:pt x="507" y="973"/>
                    </a:lnTo>
                    <a:lnTo>
                      <a:pt x="530" y="1197"/>
                    </a:lnTo>
                    <a:lnTo>
                      <a:pt x="493" y="1197"/>
                    </a:lnTo>
                    <a:lnTo>
                      <a:pt x="444" y="1141"/>
                    </a:lnTo>
                    <a:lnTo>
                      <a:pt x="444" y="1194"/>
                    </a:lnTo>
                    <a:lnTo>
                      <a:pt x="405" y="1189"/>
                    </a:lnTo>
                    <a:lnTo>
                      <a:pt x="277" y="1153"/>
                    </a:lnTo>
                    <a:lnTo>
                      <a:pt x="187" y="1111"/>
                    </a:lnTo>
                    <a:lnTo>
                      <a:pt x="115" y="1056"/>
                    </a:lnTo>
                    <a:lnTo>
                      <a:pt x="57" y="969"/>
                    </a:lnTo>
                    <a:lnTo>
                      <a:pt x="29" y="876"/>
                    </a:lnTo>
                    <a:lnTo>
                      <a:pt x="5" y="763"/>
                    </a:lnTo>
                    <a:lnTo>
                      <a:pt x="0" y="670"/>
                    </a:lnTo>
                    <a:lnTo>
                      <a:pt x="5" y="537"/>
                    </a:lnTo>
                    <a:lnTo>
                      <a:pt x="20" y="438"/>
                    </a:lnTo>
                    <a:lnTo>
                      <a:pt x="7" y="675"/>
                    </a:lnTo>
                    <a:lnTo>
                      <a:pt x="29" y="816"/>
                    </a:lnTo>
                    <a:lnTo>
                      <a:pt x="57" y="938"/>
                    </a:lnTo>
                    <a:lnTo>
                      <a:pt x="106" y="1019"/>
                    </a:lnTo>
                    <a:lnTo>
                      <a:pt x="159" y="1074"/>
                    </a:lnTo>
                    <a:lnTo>
                      <a:pt x="219" y="1111"/>
                    </a:lnTo>
                    <a:lnTo>
                      <a:pt x="150" y="1026"/>
                    </a:lnTo>
                    <a:lnTo>
                      <a:pt x="115" y="969"/>
                    </a:lnTo>
                    <a:lnTo>
                      <a:pt x="92" y="881"/>
                    </a:lnTo>
                    <a:lnTo>
                      <a:pt x="92" y="784"/>
                    </a:lnTo>
                    <a:lnTo>
                      <a:pt x="101" y="694"/>
                    </a:lnTo>
                    <a:lnTo>
                      <a:pt x="138" y="595"/>
                    </a:lnTo>
                    <a:lnTo>
                      <a:pt x="159" y="549"/>
                    </a:lnTo>
                    <a:lnTo>
                      <a:pt x="159" y="514"/>
                    </a:lnTo>
                    <a:lnTo>
                      <a:pt x="173" y="468"/>
                    </a:lnTo>
                    <a:lnTo>
                      <a:pt x="196" y="435"/>
                    </a:lnTo>
                    <a:lnTo>
                      <a:pt x="231" y="404"/>
                    </a:lnTo>
                    <a:lnTo>
                      <a:pt x="272" y="389"/>
                    </a:lnTo>
                    <a:lnTo>
                      <a:pt x="219" y="398"/>
                    </a:lnTo>
                    <a:lnTo>
                      <a:pt x="170" y="435"/>
                    </a:lnTo>
                    <a:lnTo>
                      <a:pt x="145" y="466"/>
                    </a:lnTo>
                    <a:lnTo>
                      <a:pt x="123" y="510"/>
                    </a:lnTo>
                    <a:lnTo>
                      <a:pt x="106" y="560"/>
                    </a:lnTo>
                    <a:lnTo>
                      <a:pt x="95" y="633"/>
                    </a:lnTo>
                    <a:lnTo>
                      <a:pt x="92" y="694"/>
                    </a:lnTo>
                    <a:lnTo>
                      <a:pt x="73" y="643"/>
                    </a:lnTo>
                    <a:lnTo>
                      <a:pt x="64" y="587"/>
                    </a:lnTo>
                    <a:lnTo>
                      <a:pt x="64" y="530"/>
                    </a:lnTo>
                    <a:lnTo>
                      <a:pt x="77" y="477"/>
                    </a:lnTo>
                    <a:lnTo>
                      <a:pt x="88" y="438"/>
                    </a:lnTo>
                    <a:lnTo>
                      <a:pt x="101" y="415"/>
                    </a:lnTo>
                    <a:lnTo>
                      <a:pt x="83" y="404"/>
                    </a:lnTo>
                    <a:lnTo>
                      <a:pt x="77" y="385"/>
                    </a:lnTo>
                    <a:lnTo>
                      <a:pt x="83" y="339"/>
                    </a:lnTo>
                    <a:lnTo>
                      <a:pt x="106" y="283"/>
                    </a:lnTo>
                    <a:lnTo>
                      <a:pt x="145" y="231"/>
                    </a:lnTo>
                    <a:lnTo>
                      <a:pt x="189" y="198"/>
                    </a:lnTo>
                    <a:lnTo>
                      <a:pt x="240" y="175"/>
                    </a:lnTo>
                    <a:lnTo>
                      <a:pt x="311" y="154"/>
                    </a:lnTo>
                    <a:lnTo>
                      <a:pt x="253" y="127"/>
                    </a:lnTo>
                    <a:lnTo>
                      <a:pt x="284" y="90"/>
                    </a:lnTo>
                    <a:lnTo>
                      <a:pt x="334" y="66"/>
                    </a:lnTo>
                    <a:lnTo>
                      <a:pt x="392" y="53"/>
                    </a:lnTo>
                    <a:lnTo>
                      <a:pt x="442" y="53"/>
                    </a:lnTo>
                    <a:lnTo>
                      <a:pt x="528" y="66"/>
                    </a:lnTo>
                    <a:lnTo>
                      <a:pt x="447" y="24"/>
                    </a:lnTo>
                    <a:lnTo>
                      <a:pt x="383" y="22"/>
                    </a:lnTo>
                    <a:lnTo>
                      <a:pt x="420" y="7"/>
                    </a:lnTo>
                    <a:lnTo>
                      <a:pt x="473" y="0"/>
                    </a:lnTo>
                    <a:lnTo>
                      <a:pt x="539" y="13"/>
                    </a:lnTo>
                    <a:lnTo>
                      <a:pt x="606" y="37"/>
                    </a:lnTo>
                    <a:lnTo>
                      <a:pt x="680" y="70"/>
                    </a:lnTo>
                    <a:lnTo>
                      <a:pt x="696" y="90"/>
                    </a:lnTo>
                    <a:lnTo>
                      <a:pt x="624" y="110"/>
                    </a:lnTo>
                    <a:lnTo>
                      <a:pt x="563" y="120"/>
                    </a:lnTo>
                    <a:lnTo>
                      <a:pt x="497" y="150"/>
                    </a:lnTo>
                    <a:lnTo>
                      <a:pt x="466" y="175"/>
                    </a:lnTo>
                    <a:lnTo>
                      <a:pt x="44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365600" y="5150160"/>
                <a:ext cx="129600" cy="199440"/>
              </a:xfrm>
              <a:custGeom>
                <a:avLst/>
                <a:gdLst/>
                <a:ahLst/>
                <a:rect l="l" t="t" r="r" b="b"/>
                <a:pathLst>
                  <a:path w="976" h="1334">
                    <a:moveTo>
                      <a:pt x="104" y="226"/>
                    </a:moveTo>
                    <a:lnTo>
                      <a:pt x="16" y="171"/>
                    </a:lnTo>
                    <a:lnTo>
                      <a:pt x="0" y="145"/>
                    </a:lnTo>
                    <a:lnTo>
                      <a:pt x="5" y="118"/>
                    </a:lnTo>
                    <a:lnTo>
                      <a:pt x="24" y="90"/>
                    </a:lnTo>
                    <a:lnTo>
                      <a:pt x="66" y="51"/>
                    </a:lnTo>
                    <a:lnTo>
                      <a:pt x="125" y="22"/>
                    </a:lnTo>
                    <a:lnTo>
                      <a:pt x="196" y="4"/>
                    </a:lnTo>
                    <a:lnTo>
                      <a:pt x="255" y="0"/>
                    </a:lnTo>
                    <a:lnTo>
                      <a:pt x="302" y="4"/>
                    </a:lnTo>
                    <a:lnTo>
                      <a:pt x="332" y="18"/>
                    </a:lnTo>
                    <a:lnTo>
                      <a:pt x="353" y="35"/>
                    </a:lnTo>
                    <a:lnTo>
                      <a:pt x="367" y="62"/>
                    </a:lnTo>
                    <a:lnTo>
                      <a:pt x="378" y="110"/>
                    </a:lnTo>
                    <a:lnTo>
                      <a:pt x="392" y="66"/>
                    </a:lnTo>
                    <a:lnTo>
                      <a:pt x="396" y="37"/>
                    </a:lnTo>
                    <a:lnTo>
                      <a:pt x="396" y="20"/>
                    </a:lnTo>
                    <a:lnTo>
                      <a:pt x="429" y="37"/>
                    </a:lnTo>
                    <a:lnTo>
                      <a:pt x="455" y="72"/>
                    </a:lnTo>
                    <a:lnTo>
                      <a:pt x="473" y="115"/>
                    </a:lnTo>
                    <a:lnTo>
                      <a:pt x="473" y="150"/>
                    </a:lnTo>
                    <a:lnTo>
                      <a:pt x="473" y="196"/>
                    </a:lnTo>
                    <a:lnTo>
                      <a:pt x="510" y="92"/>
                    </a:lnTo>
                    <a:lnTo>
                      <a:pt x="523" y="125"/>
                    </a:lnTo>
                    <a:lnTo>
                      <a:pt x="537" y="145"/>
                    </a:lnTo>
                    <a:lnTo>
                      <a:pt x="554" y="161"/>
                    </a:lnTo>
                    <a:lnTo>
                      <a:pt x="585" y="161"/>
                    </a:lnTo>
                    <a:lnTo>
                      <a:pt x="627" y="145"/>
                    </a:lnTo>
                    <a:lnTo>
                      <a:pt x="671" y="129"/>
                    </a:lnTo>
                    <a:lnTo>
                      <a:pt x="717" y="129"/>
                    </a:lnTo>
                    <a:lnTo>
                      <a:pt x="767" y="141"/>
                    </a:lnTo>
                    <a:lnTo>
                      <a:pt x="727" y="145"/>
                    </a:lnTo>
                    <a:lnTo>
                      <a:pt x="694" y="165"/>
                    </a:lnTo>
                    <a:lnTo>
                      <a:pt x="668" y="189"/>
                    </a:lnTo>
                    <a:lnTo>
                      <a:pt x="705" y="196"/>
                    </a:lnTo>
                    <a:lnTo>
                      <a:pt x="758" y="207"/>
                    </a:lnTo>
                    <a:lnTo>
                      <a:pt x="798" y="222"/>
                    </a:lnTo>
                    <a:lnTo>
                      <a:pt x="860" y="268"/>
                    </a:lnTo>
                    <a:lnTo>
                      <a:pt x="874" y="290"/>
                    </a:lnTo>
                    <a:lnTo>
                      <a:pt x="820" y="263"/>
                    </a:lnTo>
                    <a:lnTo>
                      <a:pt x="765" y="249"/>
                    </a:lnTo>
                    <a:lnTo>
                      <a:pt x="712" y="242"/>
                    </a:lnTo>
                    <a:lnTo>
                      <a:pt x="782" y="268"/>
                    </a:lnTo>
                    <a:lnTo>
                      <a:pt x="844" y="304"/>
                    </a:lnTo>
                    <a:lnTo>
                      <a:pt x="892" y="353"/>
                    </a:lnTo>
                    <a:lnTo>
                      <a:pt x="913" y="387"/>
                    </a:lnTo>
                    <a:lnTo>
                      <a:pt x="918" y="415"/>
                    </a:lnTo>
                    <a:lnTo>
                      <a:pt x="914" y="431"/>
                    </a:lnTo>
                    <a:lnTo>
                      <a:pt x="906" y="433"/>
                    </a:lnTo>
                    <a:lnTo>
                      <a:pt x="881" y="426"/>
                    </a:lnTo>
                    <a:lnTo>
                      <a:pt x="826" y="394"/>
                    </a:lnTo>
                    <a:lnTo>
                      <a:pt x="789" y="364"/>
                    </a:lnTo>
                    <a:lnTo>
                      <a:pt x="868" y="457"/>
                    </a:lnTo>
                    <a:lnTo>
                      <a:pt x="914" y="530"/>
                    </a:lnTo>
                    <a:lnTo>
                      <a:pt x="947" y="597"/>
                    </a:lnTo>
                    <a:lnTo>
                      <a:pt x="969" y="675"/>
                    </a:lnTo>
                    <a:lnTo>
                      <a:pt x="976" y="742"/>
                    </a:lnTo>
                    <a:lnTo>
                      <a:pt x="971" y="816"/>
                    </a:lnTo>
                    <a:lnTo>
                      <a:pt x="961" y="920"/>
                    </a:lnTo>
                    <a:lnTo>
                      <a:pt x="936" y="1012"/>
                    </a:lnTo>
                    <a:lnTo>
                      <a:pt x="890" y="1092"/>
                    </a:lnTo>
                    <a:lnTo>
                      <a:pt x="826" y="1169"/>
                    </a:lnTo>
                    <a:lnTo>
                      <a:pt x="740" y="1245"/>
                    </a:lnTo>
                    <a:lnTo>
                      <a:pt x="694" y="1277"/>
                    </a:lnTo>
                    <a:lnTo>
                      <a:pt x="641" y="1290"/>
                    </a:lnTo>
                    <a:lnTo>
                      <a:pt x="551" y="1334"/>
                    </a:lnTo>
                    <a:lnTo>
                      <a:pt x="622" y="1277"/>
                    </a:lnTo>
                    <a:lnTo>
                      <a:pt x="705" y="1176"/>
                    </a:lnTo>
                    <a:lnTo>
                      <a:pt x="747" y="1063"/>
                    </a:lnTo>
                    <a:lnTo>
                      <a:pt x="772" y="927"/>
                    </a:lnTo>
                    <a:lnTo>
                      <a:pt x="773" y="855"/>
                    </a:lnTo>
                    <a:lnTo>
                      <a:pt x="765" y="749"/>
                    </a:lnTo>
                    <a:lnTo>
                      <a:pt x="747" y="679"/>
                    </a:lnTo>
                    <a:lnTo>
                      <a:pt x="727" y="622"/>
                    </a:lnTo>
                    <a:lnTo>
                      <a:pt x="712" y="587"/>
                    </a:lnTo>
                    <a:lnTo>
                      <a:pt x="703" y="523"/>
                    </a:lnTo>
                    <a:lnTo>
                      <a:pt x="681" y="433"/>
                    </a:lnTo>
                    <a:lnTo>
                      <a:pt x="657" y="387"/>
                    </a:lnTo>
                    <a:lnTo>
                      <a:pt x="572" y="263"/>
                    </a:lnTo>
                    <a:lnTo>
                      <a:pt x="537" y="237"/>
                    </a:lnTo>
                    <a:lnTo>
                      <a:pt x="494" y="222"/>
                    </a:lnTo>
                    <a:lnTo>
                      <a:pt x="455" y="217"/>
                    </a:lnTo>
                    <a:lnTo>
                      <a:pt x="389" y="226"/>
                    </a:lnTo>
                    <a:lnTo>
                      <a:pt x="215" y="281"/>
                    </a:lnTo>
                    <a:lnTo>
                      <a:pt x="104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305840" y="5141880"/>
                <a:ext cx="190440" cy="139680"/>
              </a:xfrm>
              <a:custGeom>
                <a:avLst/>
                <a:gdLst/>
                <a:ahLst/>
                <a:rect l="l" t="t" r="r" b="b"/>
                <a:pathLst>
                  <a:path w="1435" h="931">
                    <a:moveTo>
                      <a:pt x="0" y="597"/>
                    </a:moveTo>
                    <a:lnTo>
                      <a:pt x="15" y="516"/>
                    </a:lnTo>
                    <a:lnTo>
                      <a:pt x="59" y="442"/>
                    </a:lnTo>
                    <a:lnTo>
                      <a:pt x="103" y="394"/>
                    </a:lnTo>
                    <a:lnTo>
                      <a:pt x="151" y="354"/>
                    </a:lnTo>
                    <a:lnTo>
                      <a:pt x="160" y="325"/>
                    </a:lnTo>
                    <a:lnTo>
                      <a:pt x="202" y="281"/>
                    </a:lnTo>
                    <a:lnTo>
                      <a:pt x="248" y="253"/>
                    </a:lnTo>
                    <a:lnTo>
                      <a:pt x="298" y="237"/>
                    </a:lnTo>
                    <a:lnTo>
                      <a:pt x="301" y="216"/>
                    </a:lnTo>
                    <a:lnTo>
                      <a:pt x="323" y="184"/>
                    </a:lnTo>
                    <a:lnTo>
                      <a:pt x="363" y="158"/>
                    </a:lnTo>
                    <a:lnTo>
                      <a:pt x="400" y="147"/>
                    </a:lnTo>
                    <a:lnTo>
                      <a:pt x="415" y="90"/>
                    </a:lnTo>
                    <a:lnTo>
                      <a:pt x="457" y="50"/>
                    </a:lnTo>
                    <a:lnTo>
                      <a:pt x="518" y="29"/>
                    </a:lnTo>
                    <a:lnTo>
                      <a:pt x="589" y="11"/>
                    </a:lnTo>
                    <a:lnTo>
                      <a:pt x="657" y="13"/>
                    </a:lnTo>
                    <a:lnTo>
                      <a:pt x="745" y="27"/>
                    </a:lnTo>
                    <a:lnTo>
                      <a:pt x="801" y="50"/>
                    </a:lnTo>
                    <a:lnTo>
                      <a:pt x="815" y="29"/>
                    </a:lnTo>
                    <a:lnTo>
                      <a:pt x="861" y="35"/>
                    </a:lnTo>
                    <a:lnTo>
                      <a:pt x="888" y="64"/>
                    </a:lnTo>
                    <a:lnTo>
                      <a:pt x="909" y="97"/>
                    </a:lnTo>
                    <a:lnTo>
                      <a:pt x="914" y="136"/>
                    </a:lnTo>
                    <a:lnTo>
                      <a:pt x="914" y="189"/>
                    </a:lnTo>
                    <a:lnTo>
                      <a:pt x="914" y="257"/>
                    </a:lnTo>
                    <a:lnTo>
                      <a:pt x="944" y="251"/>
                    </a:lnTo>
                    <a:lnTo>
                      <a:pt x="958" y="158"/>
                    </a:lnTo>
                    <a:lnTo>
                      <a:pt x="964" y="124"/>
                    </a:lnTo>
                    <a:lnTo>
                      <a:pt x="982" y="101"/>
                    </a:lnTo>
                    <a:lnTo>
                      <a:pt x="1008" y="83"/>
                    </a:lnTo>
                    <a:lnTo>
                      <a:pt x="1063" y="77"/>
                    </a:lnTo>
                    <a:lnTo>
                      <a:pt x="1110" y="85"/>
                    </a:lnTo>
                    <a:lnTo>
                      <a:pt x="1177" y="112"/>
                    </a:lnTo>
                    <a:lnTo>
                      <a:pt x="1221" y="163"/>
                    </a:lnTo>
                    <a:lnTo>
                      <a:pt x="1237" y="189"/>
                    </a:lnTo>
                    <a:lnTo>
                      <a:pt x="1215" y="196"/>
                    </a:lnTo>
                    <a:lnTo>
                      <a:pt x="1266" y="216"/>
                    </a:lnTo>
                    <a:lnTo>
                      <a:pt x="1316" y="290"/>
                    </a:lnTo>
                    <a:lnTo>
                      <a:pt x="1362" y="382"/>
                    </a:lnTo>
                    <a:lnTo>
                      <a:pt x="1395" y="481"/>
                    </a:lnTo>
                    <a:lnTo>
                      <a:pt x="1409" y="571"/>
                    </a:lnTo>
                    <a:lnTo>
                      <a:pt x="1419" y="686"/>
                    </a:lnTo>
                    <a:lnTo>
                      <a:pt x="1419" y="778"/>
                    </a:lnTo>
                    <a:lnTo>
                      <a:pt x="1410" y="931"/>
                    </a:lnTo>
                    <a:lnTo>
                      <a:pt x="1430" y="791"/>
                    </a:lnTo>
                    <a:lnTo>
                      <a:pt x="1435" y="682"/>
                    </a:lnTo>
                    <a:lnTo>
                      <a:pt x="1424" y="549"/>
                    </a:lnTo>
                    <a:lnTo>
                      <a:pt x="1400" y="451"/>
                    </a:lnTo>
                    <a:lnTo>
                      <a:pt x="1356" y="334"/>
                    </a:lnTo>
                    <a:lnTo>
                      <a:pt x="1301" y="233"/>
                    </a:lnTo>
                    <a:lnTo>
                      <a:pt x="1262" y="196"/>
                    </a:lnTo>
                    <a:lnTo>
                      <a:pt x="1237" y="147"/>
                    </a:lnTo>
                    <a:lnTo>
                      <a:pt x="1177" y="90"/>
                    </a:lnTo>
                    <a:lnTo>
                      <a:pt x="1114" y="59"/>
                    </a:lnTo>
                    <a:lnTo>
                      <a:pt x="1045" y="44"/>
                    </a:lnTo>
                    <a:lnTo>
                      <a:pt x="982" y="32"/>
                    </a:lnTo>
                    <a:lnTo>
                      <a:pt x="942" y="35"/>
                    </a:lnTo>
                    <a:lnTo>
                      <a:pt x="927" y="55"/>
                    </a:lnTo>
                    <a:lnTo>
                      <a:pt x="921" y="77"/>
                    </a:lnTo>
                    <a:lnTo>
                      <a:pt x="888" y="35"/>
                    </a:lnTo>
                    <a:lnTo>
                      <a:pt x="840" y="20"/>
                    </a:lnTo>
                    <a:lnTo>
                      <a:pt x="764" y="11"/>
                    </a:lnTo>
                    <a:lnTo>
                      <a:pt x="644" y="0"/>
                    </a:lnTo>
                    <a:lnTo>
                      <a:pt x="561" y="0"/>
                    </a:lnTo>
                    <a:lnTo>
                      <a:pt x="474" y="27"/>
                    </a:lnTo>
                    <a:lnTo>
                      <a:pt x="423" y="59"/>
                    </a:lnTo>
                    <a:lnTo>
                      <a:pt x="395" y="85"/>
                    </a:lnTo>
                    <a:lnTo>
                      <a:pt x="376" y="121"/>
                    </a:lnTo>
                    <a:lnTo>
                      <a:pt x="374" y="147"/>
                    </a:lnTo>
                    <a:lnTo>
                      <a:pt x="328" y="170"/>
                    </a:lnTo>
                    <a:lnTo>
                      <a:pt x="289" y="200"/>
                    </a:lnTo>
                    <a:lnTo>
                      <a:pt x="264" y="226"/>
                    </a:lnTo>
                    <a:lnTo>
                      <a:pt x="183" y="266"/>
                    </a:lnTo>
                    <a:lnTo>
                      <a:pt x="149" y="310"/>
                    </a:lnTo>
                    <a:lnTo>
                      <a:pt x="134" y="352"/>
                    </a:lnTo>
                    <a:lnTo>
                      <a:pt x="72" y="407"/>
                    </a:lnTo>
                    <a:lnTo>
                      <a:pt x="44" y="451"/>
                    </a:lnTo>
                    <a:lnTo>
                      <a:pt x="10" y="509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342200" y="5271840"/>
                <a:ext cx="11520" cy="15480"/>
              </a:xfrm>
              <a:custGeom>
                <a:avLst/>
                <a:gdLst/>
                <a:ahLst/>
                <a:rect l="l" t="t" r="r" b="b"/>
                <a:pathLst>
                  <a:path w="93" h="104">
                    <a:moveTo>
                      <a:pt x="12" y="10"/>
                    </a:moveTo>
                    <a:lnTo>
                      <a:pt x="12" y="25"/>
                    </a:lnTo>
                    <a:lnTo>
                      <a:pt x="0" y="65"/>
                    </a:lnTo>
                    <a:lnTo>
                      <a:pt x="5" y="74"/>
                    </a:lnTo>
                    <a:lnTo>
                      <a:pt x="93" y="104"/>
                    </a:lnTo>
                    <a:lnTo>
                      <a:pt x="59" y="83"/>
                    </a:lnTo>
                    <a:lnTo>
                      <a:pt x="53" y="54"/>
                    </a:lnTo>
                    <a:lnTo>
                      <a:pt x="58" y="39"/>
                    </a:lnTo>
                    <a:lnTo>
                      <a:pt x="75" y="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09520" y="5298120"/>
                <a:ext cx="36000" cy="11880"/>
              </a:xfrm>
              <a:custGeom>
                <a:avLst/>
                <a:gdLst/>
                <a:ahLst/>
                <a:rect l="l" t="t" r="r" b="b"/>
                <a:pathLst>
                  <a:path w="268" h="79">
                    <a:moveTo>
                      <a:pt x="0" y="79"/>
                    </a:moveTo>
                    <a:lnTo>
                      <a:pt x="64" y="24"/>
                    </a:lnTo>
                    <a:lnTo>
                      <a:pt x="108" y="9"/>
                    </a:lnTo>
                    <a:lnTo>
                      <a:pt x="134" y="2"/>
                    </a:lnTo>
                    <a:lnTo>
                      <a:pt x="159" y="9"/>
                    </a:lnTo>
                    <a:lnTo>
                      <a:pt x="169" y="2"/>
                    </a:lnTo>
                    <a:lnTo>
                      <a:pt x="196" y="0"/>
                    </a:lnTo>
                    <a:lnTo>
                      <a:pt x="222" y="2"/>
                    </a:lnTo>
                    <a:lnTo>
                      <a:pt x="246" y="21"/>
                    </a:lnTo>
                    <a:lnTo>
                      <a:pt x="268" y="60"/>
                    </a:lnTo>
                    <a:lnTo>
                      <a:pt x="237" y="39"/>
                    </a:lnTo>
                    <a:lnTo>
                      <a:pt x="206" y="28"/>
                    </a:lnTo>
                    <a:lnTo>
                      <a:pt x="191" y="28"/>
                    </a:lnTo>
                    <a:lnTo>
                      <a:pt x="152" y="28"/>
                    </a:lnTo>
                    <a:lnTo>
                      <a:pt x="97" y="39"/>
                    </a:lnTo>
                    <a:lnTo>
                      <a:pt x="60" y="55"/>
                    </a:lnTo>
                    <a:lnTo>
                      <a:pt x="33" y="74"/>
                    </a:lnTo>
                    <a:lnTo>
                      <a:pt x="11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07360" y="530640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285" h="72">
                    <a:moveTo>
                      <a:pt x="48" y="19"/>
                    </a:moveTo>
                    <a:lnTo>
                      <a:pt x="96" y="26"/>
                    </a:lnTo>
                    <a:lnTo>
                      <a:pt x="138" y="31"/>
                    </a:lnTo>
                    <a:lnTo>
                      <a:pt x="189" y="26"/>
                    </a:lnTo>
                    <a:lnTo>
                      <a:pt x="246" y="17"/>
                    </a:lnTo>
                    <a:lnTo>
                      <a:pt x="285" y="0"/>
                    </a:lnTo>
                    <a:lnTo>
                      <a:pt x="285" y="9"/>
                    </a:lnTo>
                    <a:lnTo>
                      <a:pt x="266" y="40"/>
                    </a:lnTo>
                    <a:lnTo>
                      <a:pt x="242" y="61"/>
                    </a:lnTo>
                    <a:lnTo>
                      <a:pt x="204" y="68"/>
                    </a:lnTo>
                    <a:lnTo>
                      <a:pt x="239" y="53"/>
                    </a:lnTo>
                    <a:lnTo>
                      <a:pt x="255" y="31"/>
                    </a:lnTo>
                    <a:lnTo>
                      <a:pt x="255" y="26"/>
                    </a:lnTo>
                    <a:lnTo>
                      <a:pt x="216" y="31"/>
                    </a:lnTo>
                    <a:lnTo>
                      <a:pt x="172" y="40"/>
                    </a:lnTo>
                    <a:lnTo>
                      <a:pt x="128" y="40"/>
                    </a:lnTo>
                    <a:lnTo>
                      <a:pt x="99" y="42"/>
                    </a:lnTo>
                    <a:lnTo>
                      <a:pt x="110" y="55"/>
                    </a:lnTo>
                    <a:lnTo>
                      <a:pt x="149" y="68"/>
                    </a:lnTo>
                    <a:lnTo>
                      <a:pt x="172" y="72"/>
                    </a:lnTo>
                    <a:lnTo>
                      <a:pt x="126" y="68"/>
                    </a:lnTo>
                    <a:lnTo>
                      <a:pt x="87" y="61"/>
                    </a:lnTo>
                    <a:lnTo>
                      <a:pt x="66" y="42"/>
                    </a:lnTo>
                    <a:lnTo>
                      <a:pt x="46" y="26"/>
                    </a:lnTo>
                    <a:lnTo>
                      <a:pt x="36" y="24"/>
                    </a:lnTo>
                    <a:lnTo>
                      <a:pt x="11" y="40"/>
                    </a:lnTo>
                    <a:lnTo>
                      <a:pt x="0" y="19"/>
                    </a:lnTo>
                    <a:lnTo>
                      <a:pt x="15" y="5"/>
                    </a:lnTo>
                    <a:lnTo>
                      <a:pt x="4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45520" y="5303160"/>
                <a:ext cx="2160" cy="4680"/>
              </a:xfrm>
              <a:custGeom>
                <a:avLst/>
                <a:gdLst/>
                <a:ahLst/>
                <a:rect l="l" t="t" r="r" b="b"/>
                <a:pathLst>
                  <a:path w="23" h="38">
                    <a:moveTo>
                      <a:pt x="0" y="27"/>
                    </a:moveTo>
                    <a:lnTo>
                      <a:pt x="7" y="0"/>
                    </a:lnTo>
                    <a:lnTo>
                      <a:pt x="23" y="11"/>
                    </a:lnTo>
                    <a:lnTo>
                      <a:pt x="7" y="3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58040" y="5269680"/>
                <a:ext cx="1044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0200" y="5267160"/>
                <a:ext cx="136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66680" y="5271840"/>
                <a:ext cx="1260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73160" y="5276880"/>
                <a:ext cx="72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368840" y="5323320"/>
                <a:ext cx="43560" cy="69120"/>
              </a:xfrm>
              <a:custGeom>
                <a:avLst/>
                <a:gdLst/>
                <a:ahLst/>
                <a:rect l="l" t="t" r="r" b="b"/>
                <a:pathLst>
                  <a:path w="335" h="471">
                    <a:moveTo>
                      <a:pt x="0" y="12"/>
                    </a:moveTo>
                    <a:lnTo>
                      <a:pt x="23" y="168"/>
                    </a:lnTo>
                    <a:lnTo>
                      <a:pt x="30" y="276"/>
                    </a:lnTo>
                    <a:lnTo>
                      <a:pt x="12" y="286"/>
                    </a:lnTo>
                    <a:lnTo>
                      <a:pt x="0" y="403"/>
                    </a:lnTo>
                    <a:lnTo>
                      <a:pt x="23" y="306"/>
                    </a:lnTo>
                    <a:lnTo>
                      <a:pt x="41" y="306"/>
                    </a:lnTo>
                    <a:lnTo>
                      <a:pt x="89" y="414"/>
                    </a:lnTo>
                    <a:lnTo>
                      <a:pt x="207" y="471"/>
                    </a:lnTo>
                    <a:lnTo>
                      <a:pt x="129" y="372"/>
                    </a:lnTo>
                    <a:lnTo>
                      <a:pt x="60" y="265"/>
                    </a:lnTo>
                    <a:lnTo>
                      <a:pt x="49" y="80"/>
                    </a:lnTo>
                    <a:lnTo>
                      <a:pt x="188" y="159"/>
                    </a:lnTo>
                    <a:lnTo>
                      <a:pt x="284" y="394"/>
                    </a:lnTo>
                    <a:lnTo>
                      <a:pt x="284" y="196"/>
                    </a:lnTo>
                    <a:lnTo>
                      <a:pt x="335" y="159"/>
                    </a:lnTo>
                    <a:lnTo>
                      <a:pt x="225" y="126"/>
                    </a:lnTo>
                    <a:lnTo>
                      <a:pt x="108" y="69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21040" y="5348520"/>
                <a:ext cx="20160" cy="23760"/>
              </a:xfrm>
              <a:custGeom>
                <a:avLst/>
                <a:gdLst/>
                <a:ahLst/>
                <a:rect l="l" t="t" r="r" b="b"/>
                <a:pathLst>
                  <a:path w="157" h="164">
                    <a:moveTo>
                      <a:pt x="0" y="0"/>
                    </a:moveTo>
                    <a:lnTo>
                      <a:pt x="157" y="0"/>
                    </a:lnTo>
                    <a:lnTo>
                      <a:pt x="60" y="164"/>
                    </a:lnTo>
                    <a:lnTo>
                      <a:pt x="20" y="164"/>
                    </a:lnTo>
                    <a:lnTo>
                      <a:pt x="2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23200" y="5341320"/>
                <a:ext cx="32040" cy="50040"/>
              </a:xfrm>
              <a:custGeom>
                <a:avLst/>
                <a:gdLst/>
                <a:ahLst/>
                <a:rect l="l" t="t" r="r" b="b"/>
                <a:pathLst>
                  <a:path w="235" h="330">
                    <a:moveTo>
                      <a:pt x="202" y="0"/>
                    </a:moveTo>
                    <a:lnTo>
                      <a:pt x="202" y="127"/>
                    </a:lnTo>
                    <a:lnTo>
                      <a:pt x="121" y="248"/>
                    </a:lnTo>
                    <a:lnTo>
                      <a:pt x="0" y="330"/>
                    </a:lnTo>
                    <a:lnTo>
                      <a:pt x="220" y="194"/>
                    </a:lnTo>
                    <a:lnTo>
                      <a:pt x="235" y="148"/>
                    </a:lnTo>
                    <a:lnTo>
                      <a:pt x="229" y="127"/>
                    </a:lnTo>
                    <a:lnTo>
                      <a:pt x="220" y="9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62440" y="5367600"/>
                <a:ext cx="142560" cy="180360"/>
              </a:xfrm>
              <a:custGeom>
                <a:avLst/>
                <a:gdLst/>
                <a:ahLst/>
                <a:rect l="l" t="t" r="r" b="b"/>
                <a:pathLst>
                  <a:path w="1072" h="1211">
                    <a:moveTo>
                      <a:pt x="0" y="0"/>
                    </a:moveTo>
                    <a:lnTo>
                      <a:pt x="79" y="77"/>
                    </a:lnTo>
                    <a:lnTo>
                      <a:pt x="289" y="203"/>
                    </a:lnTo>
                    <a:lnTo>
                      <a:pt x="320" y="159"/>
                    </a:lnTo>
                    <a:lnTo>
                      <a:pt x="773" y="231"/>
                    </a:lnTo>
                    <a:lnTo>
                      <a:pt x="791" y="306"/>
                    </a:lnTo>
                    <a:lnTo>
                      <a:pt x="791" y="475"/>
                    </a:lnTo>
                    <a:lnTo>
                      <a:pt x="749" y="798"/>
                    </a:lnTo>
                    <a:lnTo>
                      <a:pt x="814" y="475"/>
                    </a:lnTo>
                    <a:lnTo>
                      <a:pt x="821" y="306"/>
                    </a:lnTo>
                    <a:lnTo>
                      <a:pt x="805" y="224"/>
                    </a:lnTo>
                    <a:lnTo>
                      <a:pt x="911" y="352"/>
                    </a:lnTo>
                    <a:lnTo>
                      <a:pt x="966" y="524"/>
                    </a:lnTo>
                    <a:lnTo>
                      <a:pt x="975" y="692"/>
                    </a:lnTo>
                    <a:lnTo>
                      <a:pt x="999" y="897"/>
                    </a:lnTo>
                    <a:lnTo>
                      <a:pt x="1056" y="1082"/>
                    </a:lnTo>
                    <a:lnTo>
                      <a:pt x="1040" y="1211"/>
                    </a:lnTo>
                    <a:lnTo>
                      <a:pt x="1072" y="1091"/>
                    </a:lnTo>
                    <a:lnTo>
                      <a:pt x="1063" y="1040"/>
                    </a:lnTo>
                    <a:lnTo>
                      <a:pt x="1033" y="904"/>
                    </a:lnTo>
                    <a:lnTo>
                      <a:pt x="999" y="759"/>
                    </a:lnTo>
                    <a:lnTo>
                      <a:pt x="986" y="572"/>
                    </a:lnTo>
                    <a:lnTo>
                      <a:pt x="975" y="484"/>
                    </a:lnTo>
                    <a:lnTo>
                      <a:pt x="920" y="323"/>
                    </a:lnTo>
                    <a:lnTo>
                      <a:pt x="814" y="203"/>
                    </a:lnTo>
                    <a:lnTo>
                      <a:pt x="782" y="207"/>
                    </a:lnTo>
                    <a:lnTo>
                      <a:pt x="733" y="185"/>
                    </a:lnTo>
                    <a:lnTo>
                      <a:pt x="482" y="136"/>
                    </a:lnTo>
                    <a:lnTo>
                      <a:pt x="199" y="73"/>
                    </a:lnTo>
                    <a:lnTo>
                      <a:pt x="5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38400" y="5505120"/>
                <a:ext cx="159480" cy="121680"/>
              </a:xfrm>
              <a:custGeom>
                <a:avLst/>
                <a:gdLst/>
                <a:ahLst/>
                <a:rect l="l" t="t" r="r" b="b"/>
                <a:pathLst>
                  <a:path w="1196" h="816">
                    <a:moveTo>
                      <a:pt x="148" y="0"/>
                    </a:moveTo>
                    <a:lnTo>
                      <a:pt x="113" y="210"/>
                    </a:lnTo>
                    <a:lnTo>
                      <a:pt x="82" y="443"/>
                    </a:lnTo>
                    <a:lnTo>
                      <a:pt x="64" y="671"/>
                    </a:lnTo>
                    <a:lnTo>
                      <a:pt x="58" y="703"/>
                    </a:lnTo>
                    <a:lnTo>
                      <a:pt x="0" y="636"/>
                    </a:lnTo>
                    <a:lnTo>
                      <a:pt x="64" y="752"/>
                    </a:lnTo>
                    <a:lnTo>
                      <a:pt x="131" y="816"/>
                    </a:lnTo>
                    <a:lnTo>
                      <a:pt x="106" y="752"/>
                    </a:lnTo>
                    <a:lnTo>
                      <a:pt x="260" y="581"/>
                    </a:lnTo>
                    <a:lnTo>
                      <a:pt x="463" y="394"/>
                    </a:lnTo>
                    <a:lnTo>
                      <a:pt x="631" y="267"/>
                    </a:lnTo>
                    <a:lnTo>
                      <a:pt x="818" y="146"/>
                    </a:lnTo>
                    <a:lnTo>
                      <a:pt x="1012" y="81"/>
                    </a:lnTo>
                    <a:lnTo>
                      <a:pt x="1123" y="72"/>
                    </a:lnTo>
                    <a:lnTo>
                      <a:pt x="1196" y="90"/>
                    </a:lnTo>
                    <a:lnTo>
                      <a:pt x="1169" y="56"/>
                    </a:lnTo>
                    <a:lnTo>
                      <a:pt x="1108" y="56"/>
                    </a:lnTo>
                    <a:lnTo>
                      <a:pt x="987" y="63"/>
                    </a:lnTo>
                    <a:lnTo>
                      <a:pt x="807" y="129"/>
                    </a:lnTo>
                    <a:lnTo>
                      <a:pt x="647" y="228"/>
                    </a:lnTo>
                    <a:lnTo>
                      <a:pt x="477" y="346"/>
                    </a:lnTo>
                    <a:lnTo>
                      <a:pt x="260" y="549"/>
                    </a:lnTo>
                    <a:lnTo>
                      <a:pt x="221" y="588"/>
                    </a:lnTo>
                    <a:lnTo>
                      <a:pt x="196" y="443"/>
                    </a:lnTo>
                    <a:lnTo>
                      <a:pt x="196" y="394"/>
                    </a:lnTo>
                    <a:lnTo>
                      <a:pt x="229" y="346"/>
                    </a:lnTo>
                    <a:lnTo>
                      <a:pt x="179" y="313"/>
                    </a:lnTo>
                    <a:lnTo>
                      <a:pt x="163" y="274"/>
                    </a:lnTo>
                    <a:lnTo>
                      <a:pt x="148" y="210"/>
                    </a:lnTo>
                    <a:lnTo>
                      <a:pt x="148" y="12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59640" y="5520600"/>
                <a:ext cx="136080" cy="109800"/>
              </a:xfrm>
              <a:custGeom>
                <a:avLst/>
                <a:gdLst/>
                <a:ahLst/>
                <a:rect l="l" t="t" r="r" b="b"/>
                <a:pathLst>
                  <a:path w="1024" h="735">
                    <a:moveTo>
                      <a:pt x="1024" y="0"/>
                    </a:moveTo>
                    <a:lnTo>
                      <a:pt x="897" y="47"/>
                    </a:lnTo>
                    <a:lnTo>
                      <a:pt x="734" y="104"/>
                    </a:lnTo>
                    <a:lnTo>
                      <a:pt x="572" y="194"/>
                    </a:lnTo>
                    <a:lnTo>
                      <a:pt x="395" y="321"/>
                    </a:lnTo>
                    <a:lnTo>
                      <a:pt x="217" y="459"/>
                    </a:lnTo>
                    <a:lnTo>
                      <a:pt x="97" y="581"/>
                    </a:lnTo>
                    <a:lnTo>
                      <a:pt x="0" y="687"/>
                    </a:lnTo>
                    <a:lnTo>
                      <a:pt x="130" y="565"/>
                    </a:lnTo>
                    <a:lnTo>
                      <a:pt x="169" y="565"/>
                    </a:lnTo>
                    <a:lnTo>
                      <a:pt x="194" y="605"/>
                    </a:lnTo>
                    <a:lnTo>
                      <a:pt x="233" y="638"/>
                    </a:lnTo>
                    <a:lnTo>
                      <a:pt x="242" y="735"/>
                    </a:lnTo>
                    <a:lnTo>
                      <a:pt x="253" y="629"/>
                    </a:lnTo>
                    <a:lnTo>
                      <a:pt x="194" y="526"/>
                    </a:lnTo>
                    <a:lnTo>
                      <a:pt x="300" y="443"/>
                    </a:lnTo>
                    <a:lnTo>
                      <a:pt x="468" y="346"/>
                    </a:lnTo>
                    <a:lnTo>
                      <a:pt x="688" y="258"/>
                    </a:lnTo>
                    <a:lnTo>
                      <a:pt x="800" y="216"/>
                    </a:lnTo>
                    <a:lnTo>
                      <a:pt x="904" y="152"/>
                    </a:lnTo>
                    <a:lnTo>
                      <a:pt x="969" y="104"/>
                    </a:lnTo>
                    <a:lnTo>
                      <a:pt x="1006" y="56"/>
                    </a:lnTo>
                    <a:lnTo>
                      <a:pt x="1024" y="23"/>
                    </a:lnTo>
                    <a:lnTo>
                      <a:pt x="10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05280" y="565920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266" h="452">
                    <a:moveTo>
                      <a:pt x="162" y="0"/>
                    </a:moveTo>
                    <a:lnTo>
                      <a:pt x="97" y="115"/>
                    </a:lnTo>
                    <a:lnTo>
                      <a:pt x="0" y="366"/>
                    </a:lnTo>
                    <a:lnTo>
                      <a:pt x="57" y="452"/>
                    </a:lnTo>
                    <a:lnTo>
                      <a:pt x="107" y="414"/>
                    </a:lnTo>
                    <a:lnTo>
                      <a:pt x="187" y="414"/>
                    </a:lnTo>
                    <a:lnTo>
                      <a:pt x="194" y="300"/>
                    </a:lnTo>
                    <a:lnTo>
                      <a:pt x="229" y="179"/>
                    </a:lnTo>
                    <a:lnTo>
                      <a:pt x="266" y="74"/>
                    </a:lnTo>
                    <a:lnTo>
                      <a:pt x="211" y="65"/>
                    </a:lnTo>
                    <a:lnTo>
                      <a:pt x="156" y="194"/>
                    </a:lnTo>
                    <a:lnTo>
                      <a:pt x="107" y="315"/>
                    </a:lnTo>
                    <a:lnTo>
                      <a:pt x="90" y="405"/>
                    </a:lnTo>
                    <a:lnTo>
                      <a:pt x="66" y="423"/>
                    </a:lnTo>
                    <a:lnTo>
                      <a:pt x="35" y="366"/>
                    </a:lnTo>
                    <a:lnTo>
                      <a:pt x="97" y="161"/>
                    </a:lnTo>
                    <a:lnTo>
                      <a:pt x="171" y="9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86280" y="5522760"/>
                <a:ext cx="113760" cy="84960"/>
              </a:xfrm>
              <a:custGeom>
                <a:avLst/>
                <a:gdLst/>
                <a:ahLst/>
                <a:rect l="l" t="t" r="r" b="b"/>
                <a:pathLst>
                  <a:path w="857" h="567">
                    <a:moveTo>
                      <a:pt x="830" y="0"/>
                    </a:moveTo>
                    <a:lnTo>
                      <a:pt x="857" y="57"/>
                    </a:lnTo>
                    <a:lnTo>
                      <a:pt x="850" y="129"/>
                    </a:lnTo>
                    <a:lnTo>
                      <a:pt x="806" y="219"/>
                    </a:lnTo>
                    <a:lnTo>
                      <a:pt x="727" y="323"/>
                    </a:lnTo>
                    <a:lnTo>
                      <a:pt x="620" y="389"/>
                    </a:lnTo>
                    <a:lnTo>
                      <a:pt x="485" y="429"/>
                    </a:lnTo>
                    <a:lnTo>
                      <a:pt x="314" y="461"/>
                    </a:lnTo>
                    <a:lnTo>
                      <a:pt x="136" y="512"/>
                    </a:lnTo>
                    <a:lnTo>
                      <a:pt x="32" y="540"/>
                    </a:lnTo>
                    <a:lnTo>
                      <a:pt x="14" y="567"/>
                    </a:lnTo>
                    <a:lnTo>
                      <a:pt x="0" y="534"/>
                    </a:lnTo>
                    <a:lnTo>
                      <a:pt x="145" y="479"/>
                    </a:lnTo>
                    <a:lnTo>
                      <a:pt x="395" y="422"/>
                    </a:lnTo>
                    <a:lnTo>
                      <a:pt x="549" y="380"/>
                    </a:lnTo>
                    <a:lnTo>
                      <a:pt x="664" y="332"/>
                    </a:lnTo>
                    <a:lnTo>
                      <a:pt x="718" y="274"/>
                    </a:lnTo>
                    <a:lnTo>
                      <a:pt x="784" y="193"/>
                    </a:lnTo>
                    <a:lnTo>
                      <a:pt x="812" y="129"/>
                    </a:lnTo>
                    <a:lnTo>
                      <a:pt x="823" y="72"/>
                    </a:lnTo>
                    <a:lnTo>
                      <a:pt x="812" y="18"/>
                    </a:lnTo>
                    <a:lnTo>
                      <a:pt x="8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83040" y="5526720"/>
                <a:ext cx="112680" cy="76320"/>
              </a:xfrm>
              <a:custGeom>
                <a:avLst/>
                <a:gdLst/>
                <a:ahLst/>
                <a:rect l="l" t="t" r="r" b="b"/>
                <a:pathLst>
                  <a:path w="848" h="508">
                    <a:moveTo>
                      <a:pt x="848" y="0"/>
                    </a:moveTo>
                    <a:lnTo>
                      <a:pt x="809" y="99"/>
                    </a:lnTo>
                    <a:lnTo>
                      <a:pt x="735" y="176"/>
                    </a:lnTo>
                    <a:lnTo>
                      <a:pt x="640" y="248"/>
                    </a:lnTo>
                    <a:lnTo>
                      <a:pt x="510" y="306"/>
                    </a:lnTo>
                    <a:lnTo>
                      <a:pt x="363" y="354"/>
                    </a:lnTo>
                    <a:lnTo>
                      <a:pt x="212" y="403"/>
                    </a:lnTo>
                    <a:lnTo>
                      <a:pt x="97" y="460"/>
                    </a:lnTo>
                    <a:lnTo>
                      <a:pt x="25" y="508"/>
                    </a:lnTo>
                    <a:lnTo>
                      <a:pt x="0" y="502"/>
                    </a:lnTo>
                    <a:lnTo>
                      <a:pt x="73" y="442"/>
                    </a:lnTo>
                    <a:lnTo>
                      <a:pt x="194" y="370"/>
                    </a:lnTo>
                    <a:lnTo>
                      <a:pt x="374" y="315"/>
                    </a:lnTo>
                    <a:lnTo>
                      <a:pt x="574" y="248"/>
                    </a:lnTo>
                    <a:lnTo>
                      <a:pt x="680" y="200"/>
                    </a:lnTo>
                    <a:lnTo>
                      <a:pt x="761" y="145"/>
                    </a:lnTo>
                    <a:lnTo>
                      <a:pt x="809" y="82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212240" y="5374800"/>
                <a:ext cx="149040" cy="467280"/>
              </a:xfrm>
              <a:custGeom>
                <a:avLst/>
                <a:gdLst/>
                <a:ahLst/>
                <a:rect l="l" t="t" r="r" b="b"/>
                <a:pathLst>
                  <a:path w="1115" h="3125">
                    <a:moveTo>
                      <a:pt x="1115" y="0"/>
                    </a:moveTo>
                    <a:lnTo>
                      <a:pt x="979" y="96"/>
                    </a:lnTo>
                    <a:lnTo>
                      <a:pt x="768" y="182"/>
                    </a:lnTo>
                    <a:lnTo>
                      <a:pt x="460" y="257"/>
                    </a:lnTo>
                    <a:lnTo>
                      <a:pt x="399" y="314"/>
                    </a:lnTo>
                    <a:lnTo>
                      <a:pt x="332" y="314"/>
                    </a:lnTo>
                    <a:lnTo>
                      <a:pt x="260" y="442"/>
                    </a:lnTo>
                    <a:lnTo>
                      <a:pt x="122" y="1283"/>
                    </a:lnTo>
                    <a:lnTo>
                      <a:pt x="131" y="1542"/>
                    </a:lnTo>
                    <a:lnTo>
                      <a:pt x="91" y="1760"/>
                    </a:lnTo>
                    <a:lnTo>
                      <a:pt x="0" y="2042"/>
                    </a:lnTo>
                    <a:lnTo>
                      <a:pt x="43" y="2219"/>
                    </a:lnTo>
                    <a:lnTo>
                      <a:pt x="43" y="2333"/>
                    </a:lnTo>
                    <a:lnTo>
                      <a:pt x="179" y="2641"/>
                    </a:lnTo>
                    <a:lnTo>
                      <a:pt x="447" y="3125"/>
                    </a:lnTo>
                    <a:lnTo>
                      <a:pt x="145" y="2520"/>
                    </a:lnTo>
                    <a:lnTo>
                      <a:pt x="122" y="2374"/>
                    </a:lnTo>
                    <a:lnTo>
                      <a:pt x="203" y="2356"/>
                    </a:lnTo>
                    <a:lnTo>
                      <a:pt x="381" y="2356"/>
                    </a:lnTo>
                    <a:lnTo>
                      <a:pt x="544" y="2413"/>
                    </a:lnTo>
                    <a:lnTo>
                      <a:pt x="412" y="2342"/>
                    </a:lnTo>
                    <a:lnTo>
                      <a:pt x="315" y="2309"/>
                    </a:lnTo>
                    <a:lnTo>
                      <a:pt x="194" y="2277"/>
                    </a:lnTo>
                    <a:lnTo>
                      <a:pt x="145" y="2234"/>
                    </a:lnTo>
                    <a:lnTo>
                      <a:pt x="139" y="2188"/>
                    </a:lnTo>
                    <a:lnTo>
                      <a:pt x="170" y="2138"/>
                    </a:lnTo>
                    <a:lnTo>
                      <a:pt x="212" y="2107"/>
                    </a:lnTo>
                    <a:lnTo>
                      <a:pt x="122" y="2083"/>
                    </a:lnTo>
                    <a:lnTo>
                      <a:pt x="82" y="2035"/>
                    </a:lnTo>
                    <a:lnTo>
                      <a:pt x="73" y="1987"/>
                    </a:lnTo>
                    <a:lnTo>
                      <a:pt x="82" y="1920"/>
                    </a:lnTo>
                    <a:lnTo>
                      <a:pt x="115" y="1865"/>
                    </a:lnTo>
                    <a:lnTo>
                      <a:pt x="139" y="1793"/>
                    </a:lnTo>
                    <a:lnTo>
                      <a:pt x="145" y="1669"/>
                    </a:lnTo>
                    <a:lnTo>
                      <a:pt x="154" y="1485"/>
                    </a:lnTo>
                    <a:lnTo>
                      <a:pt x="154" y="1292"/>
                    </a:lnTo>
                    <a:lnTo>
                      <a:pt x="187" y="991"/>
                    </a:lnTo>
                    <a:lnTo>
                      <a:pt x="260" y="541"/>
                    </a:lnTo>
                    <a:lnTo>
                      <a:pt x="309" y="401"/>
                    </a:lnTo>
                    <a:lnTo>
                      <a:pt x="357" y="338"/>
                    </a:lnTo>
                    <a:lnTo>
                      <a:pt x="412" y="354"/>
                    </a:lnTo>
                    <a:lnTo>
                      <a:pt x="519" y="329"/>
                    </a:lnTo>
                    <a:lnTo>
                      <a:pt x="800" y="209"/>
                    </a:lnTo>
                    <a:lnTo>
                      <a:pt x="985" y="120"/>
                    </a:lnTo>
                    <a:lnTo>
                      <a:pt x="1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243200" y="5437080"/>
                <a:ext cx="82800" cy="329760"/>
              </a:xfrm>
              <a:custGeom>
                <a:avLst/>
                <a:gdLst/>
                <a:ahLst/>
                <a:rect l="l" t="t" r="r" b="b"/>
                <a:pathLst>
                  <a:path w="625" h="2206">
                    <a:moveTo>
                      <a:pt x="214" y="0"/>
                    </a:moveTo>
                    <a:lnTo>
                      <a:pt x="299" y="212"/>
                    </a:lnTo>
                    <a:lnTo>
                      <a:pt x="357" y="431"/>
                    </a:lnTo>
                    <a:lnTo>
                      <a:pt x="366" y="640"/>
                    </a:lnTo>
                    <a:lnTo>
                      <a:pt x="407" y="784"/>
                    </a:lnTo>
                    <a:lnTo>
                      <a:pt x="456" y="938"/>
                    </a:lnTo>
                    <a:lnTo>
                      <a:pt x="493" y="1165"/>
                    </a:lnTo>
                    <a:lnTo>
                      <a:pt x="511" y="1349"/>
                    </a:lnTo>
                    <a:lnTo>
                      <a:pt x="493" y="1648"/>
                    </a:lnTo>
                    <a:lnTo>
                      <a:pt x="504" y="1811"/>
                    </a:lnTo>
                    <a:lnTo>
                      <a:pt x="504" y="1901"/>
                    </a:lnTo>
                    <a:lnTo>
                      <a:pt x="625" y="2197"/>
                    </a:lnTo>
                    <a:lnTo>
                      <a:pt x="613" y="2206"/>
                    </a:lnTo>
                    <a:lnTo>
                      <a:pt x="463" y="1835"/>
                    </a:lnTo>
                    <a:lnTo>
                      <a:pt x="463" y="1732"/>
                    </a:lnTo>
                    <a:lnTo>
                      <a:pt x="389" y="1673"/>
                    </a:lnTo>
                    <a:lnTo>
                      <a:pt x="357" y="1602"/>
                    </a:lnTo>
                    <a:lnTo>
                      <a:pt x="251" y="1602"/>
                    </a:lnTo>
                    <a:lnTo>
                      <a:pt x="334" y="1480"/>
                    </a:lnTo>
                    <a:lnTo>
                      <a:pt x="235" y="1464"/>
                    </a:lnTo>
                    <a:lnTo>
                      <a:pt x="18" y="1528"/>
                    </a:lnTo>
                    <a:lnTo>
                      <a:pt x="244" y="1440"/>
                    </a:lnTo>
                    <a:lnTo>
                      <a:pt x="244" y="1295"/>
                    </a:lnTo>
                    <a:lnTo>
                      <a:pt x="27" y="1400"/>
                    </a:lnTo>
                    <a:lnTo>
                      <a:pt x="9" y="1358"/>
                    </a:lnTo>
                    <a:lnTo>
                      <a:pt x="157" y="1229"/>
                    </a:lnTo>
                    <a:lnTo>
                      <a:pt x="276" y="776"/>
                    </a:lnTo>
                    <a:lnTo>
                      <a:pt x="166" y="857"/>
                    </a:lnTo>
                    <a:lnTo>
                      <a:pt x="58" y="963"/>
                    </a:lnTo>
                    <a:lnTo>
                      <a:pt x="0" y="1019"/>
                    </a:lnTo>
                    <a:lnTo>
                      <a:pt x="0" y="978"/>
                    </a:lnTo>
                    <a:lnTo>
                      <a:pt x="43" y="875"/>
                    </a:lnTo>
                    <a:lnTo>
                      <a:pt x="124" y="745"/>
                    </a:lnTo>
                    <a:lnTo>
                      <a:pt x="203" y="640"/>
                    </a:lnTo>
                    <a:lnTo>
                      <a:pt x="286" y="551"/>
                    </a:lnTo>
                    <a:lnTo>
                      <a:pt x="286" y="371"/>
                    </a:lnTo>
                    <a:lnTo>
                      <a:pt x="260" y="212"/>
                    </a:lnTo>
                    <a:lnTo>
                      <a:pt x="227" y="67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255080" y="5697360"/>
                <a:ext cx="44640" cy="8280"/>
              </a:xfrm>
              <a:custGeom>
                <a:avLst/>
                <a:gdLst/>
                <a:ahLst/>
                <a:rect l="l" t="t" r="r" b="b"/>
                <a:pathLst>
                  <a:path w="339" h="57">
                    <a:moveTo>
                      <a:pt x="0" y="57"/>
                    </a:moveTo>
                    <a:lnTo>
                      <a:pt x="88" y="26"/>
                    </a:lnTo>
                    <a:lnTo>
                      <a:pt x="169" y="11"/>
                    </a:lnTo>
                    <a:lnTo>
                      <a:pt x="252" y="0"/>
                    </a:lnTo>
                    <a:lnTo>
                      <a:pt x="316" y="0"/>
                    </a:lnTo>
                    <a:lnTo>
                      <a:pt x="339" y="51"/>
                    </a:lnTo>
                    <a:lnTo>
                      <a:pt x="284" y="35"/>
                    </a:lnTo>
                    <a:lnTo>
                      <a:pt x="204" y="35"/>
                    </a:lnTo>
                    <a:lnTo>
                      <a:pt x="97" y="4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239960" y="5750280"/>
                <a:ext cx="45360" cy="19080"/>
              </a:xfrm>
              <a:custGeom>
                <a:avLst/>
                <a:gdLst/>
                <a:ahLst/>
                <a:rect l="l" t="t" r="r" b="b"/>
                <a:pathLst>
                  <a:path w="347" h="129">
                    <a:moveTo>
                      <a:pt x="39" y="0"/>
                    </a:moveTo>
                    <a:lnTo>
                      <a:pt x="171" y="8"/>
                    </a:lnTo>
                    <a:lnTo>
                      <a:pt x="281" y="37"/>
                    </a:lnTo>
                    <a:lnTo>
                      <a:pt x="341" y="63"/>
                    </a:lnTo>
                    <a:lnTo>
                      <a:pt x="347" y="90"/>
                    </a:lnTo>
                    <a:lnTo>
                      <a:pt x="329" y="97"/>
                    </a:lnTo>
                    <a:lnTo>
                      <a:pt x="265" y="111"/>
                    </a:lnTo>
                    <a:lnTo>
                      <a:pt x="178" y="129"/>
                    </a:lnTo>
                    <a:lnTo>
                      <a:pt x="217" y="102"/>
                    </a:lnTo>
                    <a:lnTo>
                      <a:pt x="209" y="74"/>
                    </a:lnTo>
                    <a:lnTo>
                      <a:pt x="178" y="48"/>
                    </a:lnTo>
                    <a:lnTo>
                      <a:pt x="145" y="30"/>
                    </a:lnTo>
                    <a:lnTo>
                      <a:pt x="0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272000" y="5761080"/>
                <a:ext cx="86040" cy="8208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134" y="378"/>
                    </a:moveTo>
                    <a:lnTo>
                      <a:pt x="134" y="313"/>
                    </a:lnTo>
                    <a:lnTo>
                      <a:pt x="143" y="301"/>
                    </a:lnTo>
                    <a:lnTo>
                      <a:pt x="157" y="276"/>
                    </a:lnTo>
                    <a:lnTo>
                      <a:pt x="157" y="256"/>
                    </a:lnTo>
                    <a:lnTo>
                      <a:pt x="136" y="223"/>
                    </a:lnTo>
                    <a:lnTo>
                      <a:pt x="136" y="207"/>
                    </a:lnTo>
                    <a:lnTo>
                      <a:pt x="141" y="191"/>
                    </a:lnTo>
                    <a:lnTo>
                      <a:pt x="152" y="175"/>
                    </a:lnTo>
                    <a:lnTo>
                      <a:pt x="180" y="166"/>
                    </a:lnTo>
                    <a:lnTo>
                      <a:pt x="242" y="162"/>
                    </a:lnTo>
                    <a:lnTo>
                      <a:pt x="240" y="115"/>
                    </a:lnTo>
                    <a:lnTo>
                      <a:pt x="249" y="83"/>
                    </a:lnTo>
                    <a:lnTo>
                      <a:pt x="263" y="66"/>
                    </a:lnTo>
                    <a:lnTo>
                      <a:pt x="286" y="52"/>
                    </a:lnTo>
                    <a:lnTo>
                      <a:pt x="319" y="43"/>
                    </a:lnTo>
                    <a:lnTo>
                      <a:pt x="387" y="34"/>
                    </a:lnTo>
                    <a:lnTo>
                      <a:pt x="448" y="30"/>
                    </a:lnTo>
                    <a:lnTo>
                      <a:pt x="510" y="15"/>
                    </a:lnTo>
                    <a:lnTo>
                      <a:pt x="535" y="15"/>
                    </a:lnTo>
                    <a:lnTo>
                      <a:pt x="542" y="21"/>
                    </a:lnTo>
                    <a:lnTo>
                      <a:pt x="528" y="43"/>
                    </a:lnTo>
                    <a:lnTo>
                      <a:pt x="514" y="83"/>
                    </a:lnTo>
                    <a:lnTo>
                      <a:pt x="510" y="108"/>
                    </a:lnTo>
                    <a:lnTo>
                      <a:pt x="406" y="115"/>
                    </a:lnTo>
                    <a:lnTo>
                      <a:pt x="505" y="129"/>
                    </a:lnTo>
                    <a:lnTo>
                      <a:pt x="542" y="207"/>
                    </a:lnTo>
                    <a:lnTo>
                      <a:pt x="567" y="258"/>
                    </a:lnTo>
                    <a:lnTo>
                      <a:pt x="586" y="281"/>
                    </a:lnTo>
                    <a:lnTo>
                      <a:pt x="611" y="292"/>
                    </a:lnTo>
                    <a:lnTo>
                      <a:pt x="635" y="297"/>
                    </a:lnTo>
                    <a:lnTo>
                      <a:pt x="641" y="290"/>
                    </a:lnTo>
                    <a:lnTo>
                      <a:pt x="625" y="219"/>
                    </a:lnTo>
                    <a:lnTo>
                      <a:pt x="607" y="127"/>
                    </a:lnTo>
                    <a:lnTo>
                      <a:pt x="595" y="37"/>
                    </a:lnTo>
                    <a:lnTo>
                      <a:pt x="581" y="15"/>
                    </a:lnTo>
                    <a:lnTo>
                      <a:pt x="556" y="2"/>
                    </a:lnTo>
                    <a:lnTo>
                      <a:pt x="508" y="0"/>
                    </a:lnTo>
                    <a:lnTo>
                      <a:pt x="457" y="15"/>
                    </a:lnTo>
                    <a:lnTo>
                      <a:pt x="383" y="23"/>
                    </a:lnTo>
                    <a:lnTo>
                      <a:pt x="307" y="34"/>
                    </a:lnTo>
                    <a:lnTo>
                      <a:pt x="261" y="52"/>
                    </a:lnTo>
                    <a:lnTo>
                      <a:pt x="235" y="83"/>
                    </a:lnTo>
                    <a:lnTo>
                      <a:pt x="229" y="118"/>
                    </a:lnTo>
                    <a:lnTo>
                      <a:pt x="217" y="142"/>
                    </a:lnTo>
                    <a:lnTo>
                      <a:pt x="196" y="156"/>
                    </a:lnTo>
                    <a:lnTo>
                      <a:pt x="148" y="166"/>
                    </a:lnTo>
                    <a:lnTo>
                      <a:pt x="132" y="193"/>
                    </a:lnTo>
                    <a:lnTo>
                      <a:pt x="125" y="223"/>
                    </a:lnTo>
                    <a:lnTo>
                      <a:pt x="123" y="241"/>
                    </a:lnTo>
                    <a:lnTo>
                      <a:pt x="123" y="253"/>
                    </a:lnTo>
                    <a:lnTo>
                      <a:pt x="90" y="297"/>
                    </a:lnTo>
                    <a:lnTo>
                      <a:pt x="58" y="348"/>
                    </a:lnTo>
                    <a:lnTo>
                      <a:pt x="18" y="430"/>
                    </a:lnTo>
                    <a:lnTo>
                      <a:pt x="5" y="488"/>
                    </a:lnTo>
                    <a:lnTo>
                      <a:pt x="0" y="527"/>
                    </a:lnTo>
                    <a:lnTo>
                      <a:pt x="0" y="549"/>
                    </a:lnTo>
                    <a:lnTo>
                      <a:pt x="178" y="412"/>
                    </a:lnTo>
                    <a:lnTo>
                      <a:pt x="145" y="391"/>
                    </a:lnTo>
                    <a:lnTo>
                      <a:pt x="134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298640" y="577872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344" h="362">
                    <a:moveTo>
                      <a:pt x="213" y="0"/>
                    </a:moveTo>
                    <a:lnTo>
                      <a:pt x="268" y="54"/>
                    </a:lnTo>
                    <a:lnTo>
                      <a:pt x="310" y="105"/>
                    </a:lnTo>
                    <a:lnTo>
                      <a:pt x="337" y="215"/>
                    </a:lnTo>
                    <a:lnTo>
                      <a:pt x="344" y="294"/>
                    </a:lnTo>
                    <a:lnTo>
                      <a:pt x="332" y="309"/>
                    </a:lnTo>
                    <a:lnTo>
                      <a:pt x="316" y="316"/>
                    </a:lnTo>
                    <a:lnTo>
                      <a:pt x="286" y="307"/>
                    </a:lnTo>
                    <a:lnTo>
                      <a:pt x="263" y="330"/>
                    </a:lnTo>
                    <a:lnTo>
                      <a:pt x="238" y="331"/>
                    </a:lnTo>
                    <a:lnTo>
                      <a:pt x="196" y="325"/>
                    </a:lnTo>
                    <a:lnTo>
                      <a:pt x="173" y="356"/>
                    </a:lnTo>
                    <a:lnTo>
                      <a:pt x="141" y="362"/>
                    </a:lnTo>
                    <a:lnTo>
                      <a:pt x="109" y="362"/>
                    </a:lnTo>
                    <a:lnTo>
                      <a:pt x="65" y="356"/>
                    </a:lnTo>
                    <a:lnTo>
                      <a:pt x="0" y="314"/>
                    </a:lnTo>
                    <a:lnTo>
                      <a:pt x="42" y="331"/>
                    </a:lnTo>
                    <a:lnTo>
                      <a:pt x="46" y="309"/>
                    </a:lnTo>
                    <a:lnTo>
                      <a:pt x="59" y="289"/>
                    </a:lnTo>
                    <a:lnTo>
                      <a:pt x="79" y="281"/>
                    </a:lnTo>
                    <a:lnTo>
                      <a:pt x="99" y="279"/>
                    </a:lnTo>
                    <a:lnTo>
                      <a:pt x="116" y="281"/>
                    </a:lnTo>
                    <a:lnTo>
                      <a:pt x="70" y="241"/>
                    </a:lnTo>
                    <a:lnTo>
                      <a:pt x="22" y="187"/>
                    </a:lnTo>
                    <a:lnTo>
                      <a:pt x="79" y="228"/>
                    </a:lnTo>
                    <a:lnTo>
                      <a:pt x="114" y="250"/>
                    </a:lnTo>
                    <a:lnTo>
                      <a:pt x="118" y="224"/>
                    </a:lnTo>
                    <a:lnTo>
                      <a:pt x="132" y="199"/>
                    </a:lnTo>
                    <a:lnTo>
                      <a:pt x="155" y="185"/>
                    </a:lnTo>
                    <a:lnTo>
                      <a:pt x="202" y="169"/>
                    </a:lnTo>
                    <a:lnTo>
                      <a:pt x="171" y="129"/>
                    </a:lnTo>
                    <a:lnTo>
                      <a:pt x="103" y="65"/>
                    </a:lnTo>
                    <a:lnTo>
                      <a:pt x="182" y="134"/>
                    </a:lnTo>
                    <a:lnTo>
                      <a:pt x="213" y="164"/>
                    </a:lnTo>
                    <a:lnTo>
                      <a:pt x="224" y="138"/>
                    </a:lnTo>
                    <a:lnTo>
                      <a:pt x="242" y="118"/>
                    </a:lnTo>
                    <a:lnTo>
                      <a:pt x="261" y="116"/>
                    </a:lnTo>
                    <a:lnTo>
                      <a:pt x="294" y="118"/>
                    </a:lnTo>
                    <a:lnTo>
                      <a:pt x="310" y="127"/>
                    </a:lnTo>
                    <a:lnTo>
                      <a:pt x="294" y="100"/>
                    </a:lnTo>
                    <a:lnTo>
                      <a:pt x="252" y="46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348680" y="57812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50" y="0"/>
                    </a:moveTo>
                    <a:lnTo>
                      <a:pt x="81" y="11"/>
                    </a:lnTo>
                    <a:lnTo>
                      <a:pt x="118" y="20"/>
                    </a:lnTo>
                    <a:lnTo>
                      <a:pt x="118" y="35"/>
                    </a:lnTo>
                    <a:lnTo>
                      <a:pt x="107" y="53"/>
                    </a:lnTo>
                    <a:lnTo>
                      <a:pt x="85" y="69"/>
                    </a:lnTo>
                    <a:lnTo>
                      <a:pt x="57" y="71"/>
                    </a:lnTo>
                    <a:lnTo>
                      <a:pt x="39" y="69"/>
                    </a:lnTo>
                    <a:lnTo>
                      <a:pt x="0" y="4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279560" y="5828040"/>
                <a:ext cx="27720" cy="20160"/>
              </a:xfrm>
              <a:custGeom>
                <a:avLst/>
                <a:gdLst/>
                <a:ahLst/>
                <a:rect l="l" t="t" r="r" b="b"/>
                <a:pathLst>
                  <a:path w="212" h="137">
                    <a:moveTo>
                      <a:pt x="0" y="137"/>
                    </a:moveTo>
                    <a:lnTo>
                      <a:pt x="11" y="137"/>
                    </a:lnTo>
                    <a:lnTo>
                      <a:pt x="57" y="117"/>
                    </a:lnTo>
                    <a:lnTo>
                      <a:pt x="127" y="77"/>
                    </a:lnTo>
                    <a:lnTo>
                      <a:pt x="178" y="45"/>
                    </a:lnTo>
                    <a:lnTo>
                      <a:pt x="212" y="22"/>
                    </a:lnTo>
                    <a:lnTo>
                      <a:pt x="178" y="0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406280" y="5378400"/>
                <a:ext cx="73080" cy="50040"/>
              </a:xfrm>
              <a:custGeom>
                <a:avLst/>
                <a:gdLst/>
                <a:ahLst/>
                <a:rect l="l" t="t" r="r" b="b"/>
                <a:pathLst>
                  <a:path w="553" h="338">
                    <a:moveTo>
                      <a:pt x="18" y="99"/>
                    </a:moveTo>
                    <a:lnTo>
                      <a:pt x="11" y="154"/>
                    </a:lnTo>
                    <a:lnTo>
                      <a:pt x="18" y="202"/>
                    </a:lnTo>
                    <a:lnTo>
                      <a:pt x="29" y="250"/>
                    </a:lnTo>
                    <a:lnTo>
                      <a:pt x="46" y="277"/>
                    </a:lnTo>
                    <a:lnTo>
                      <a:pt x="89" y="273"/>
                    </a:lnTo>
                    <a:lnTo>
                      <a:pt x="99" y="235"/>
                    </a:lnTo>
                    <a:lnTo>
                      <a:pt x="108" y="262"/>
                    </a:lnTo>
                    <a:lnTo>
                      <a:pt x="145" y="255"/>
                    </a:lnTo>
                    <a:lnTo>
                      <a:pt x="159" y="176"/>
                    </a:lnTo>
                    <a:lnTo>
                      <a:pt x="177" y="121"/>
                    </a:lnTo>
                    <a:lnTo>
                      <a:pt x="137" y="99"/>
                    </a:lnTo>
                    <a:lnTo>
                      <a:pt x="99" y="132"/>
                    </a:lnTo>
                    <a:lnTo>
                      <a:pt x="60" y="88"/>
                    </a:lnTo>
                    <a:lnTo>
                      <a:pt x="119" y="66"/>
                    </a:lnTo>
                    <a:lnTo>
                      <a:pt x="191" y="88"/>
                    </a:lnTo>
                    <a:lnTo>
                      <a:pt x="194" y="105"/>
                    </a:lnTo>
                    <a:lnTo>
                      <a:pt x="271" y="84"/>
                    </a:lnTo>
                    <a:lnTo>
                      <a:pt x="385" y="18"/>
                    </a:lnTo>
                    <a:lnTo>
                      <a:pt x="412" y="0"/>
                    </a:lnTo>
                    <a:lnTo>
                      <a:pt x="449" y="0"/>
                    </a:lnTo>
                    <a:lnTo>
                      <a:pt x="486" y="47"/>
                    </a:lnTo>
                    <a:lnTo>
                      <a:pt x="532" y="128"/>
                    </a:lnTo>
                    <a:lnTo>
                      <a:pt x="546" y="218"/>
                    </a:lnTo>
                    <a:lnTo>
                      <a:pt x="553" y="288"/>
                    </a:lnTo>
                    <a:lnTo>
                      <a:pt x="546" y="326"/>
                    </a:lnTo>
                    <a:lnTo>
                      <a:pt x="526" y="338"/>
                    </a:lnTo>
                    <a:lnTo>
                      <a:pt x="477" y="338"/>
                    </a:lnTo>
                    <a:lnTo>
                      <a:pt x="396" y="317"/>
                    </a:lnTo>
                    <a:lnTo>
                      <a:pt x="308" y="266"/>
                    </a:lnTo>
                    <a:lnTo>
                      <a:pt x="249" y="235"/>
                    </a:lnTo>
                    <a:lnTo>
                      <a:pt x="200" y="225"/>
                    </a:lnTo>
                    <a:lnTo>
                      <a:pt x="265" y="229"/>
                    </a:lnTo>
                    <a:lnTo>
                      <a:pt x="361" y="277"/>
                    </a:lnTo>
                    <a:lnTo>
                      <a:pt x="433" y="303"/>
                    </a:lnTo>
                    <a:lnTo>
                      <a:pt x="482" y="321"/>
                    </a:lnTo>
                    <a:lnTo>
                      <a:pt x="532" y="317"/>
                    </a:lnTo>
                    <a:lnTo>
                      <a:pt x="537" y="277"/>
                    </a:lnTo>
                    <a:lnTo>
                      <a:pt x="532" y="187"/>
                    </a:lnTo>
                    <a:lnTo>
                      <a:pt x="498" y="121"/>
                    </a:lnTo>
                    <a:lnTo>
                      <a:pt x="460" y="88"/>
                    </a:lnTo>
                    <a:lnTo>
                      <a:pt x="412" y="84"/>
                    </a:lnTo>
                    <a:lnTo>
                      <a:pt x="359" y="88"/>
                    </a:lnTo>
                    <a:lnTo>
                      <a:pt x="302" y="110"/>
                    </a:lnTo>
                    <a:lnTo>
                      <a:pt x="460" y="147"/>
                    </a:lnTo>
                    <a:lnTo>
                      <a:pt x="466" y="181"/>
                    </a:lnTo>
                    <a:lnTo>
                      <a:pt x="456" y="191"/>
                    </a:lnTo>
                    <a:lnTo>
                      <a:pt x="378" y="154"/>
                    </a:lnTo>
                    <a:lnTo>
                      <a:pt x="284" y="137"/>
                    </a:lnTo>
                    <a:lnTo>
                      <a:pt x="233" y="137"/>
                    </a:lnTo>
                    <a:lnTo>
                      <a:pt x="184" y="158"/>
                    </a:lnTo>
                    <a:lnTo>
                      <a:pt x="177" y="202"/>
                    </a:lnTo>
                    <a:lnTo>
                      <a:pt x="177" y="255"/>
                    </a:lnTo>
                    <a:lnTo>
                      <a:pt x="145" y="273"/>
                    </a:lnTo>
                    <a:lnTo>
                      <a:pt x="106" y="273"/>
                    </a:lnTo>
                    <a:lnTo>
                      <a:pt x="67" y="301"/>
                    </a:lnTo>
                    <a:lnTo>
                      <a:pt x="29" y="288"/>
                    </a:lnTo>
                    <a:lnTo>
                      <a:pt x="11" y="246"/>
                    </a:lnTo>
                    <a:lnTo>
                      <a:pt x="0" y="187"/>
                    </a:lnTo>
                    <a:lnTo>
                      <a:pt x="7" y="132"/>
                    </a:lnTo>
                    <a:lnTo>
                      <a:pt x="1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429680" y="5411880"/>
                <a:ext cx="34920" cy="64440"/>
              </a:xfrm>
              <a:custGeom>
                <a:avLst/>
                <a:gdLst/>
                <a:ahLst/>
                <a:rect l="l" t="t" r="r" b="b"/>
                <a:pathLst>
                  <a:path w="268" h="431">
                    <a:moveTo>
                      <a:pt x="24" y="0"/>
                    </a:moveTo>
                    <a:lnTo>
                      <a:pt x="79" y="76"/>
                    </a:lnTo>
                    <a:lnTo>
                      <a:pt x="138" y="113"/>
                    </a:lnTo>
                    <a:lnTo>
                      <a:pt x="226" y="147"/>
                    </a:lnTo>
                    <a:lnTo>
                      <a:pt x="252" y="175"/>
                    </a:lnTo>
                    <a:lnTo>
                      <a:pt x="268" y="235"/>
                    </a:lnTo>
                    <a:lnTo>
                      <a:pt x="263" y="302"/>
                    </a:lnTo>
                    <a:lnTo>
                      <a:pt x="242" y="366"/>
                    </a:lnTo>
                    <a:lnTo>
                      <a:pt x="208" y="417"/>
                    </a:lnTo>
                    <a:lnTo>
                      <a:pt x="191" y="431"/>
                    </a:lnTo>
                    <a:lnTo>
                      <a:pt x="155" y="426"/>
                    </a:lnTo>
                    <a:lnTo>
                      <a:pt x="108" y="366"/>
                    </a:lnTo>
                    <a:lnTo>
                      <a:pt x="68" y="329"/>
                    </a:lnTo>
                    <a:lnTo>
                      <a:pt x="24" y="302"/>
                    </a:lnTo>
                    <a:lnTo>
                      <a:pt x="0" y="235"/>
                    </a:lnTo>
                    <a:lnTo>
                      <a:pt x="37" y="290"/>
                    </a:lnTo>
                    <a:lnTo>
                      <a:pt x="83" y="311"/>
                    </a:lnTo>
                    <a:lnTo>
                      <a:pt x="129" y="371"/>
                    </a:lnTo>
                    <a:lnTo>
                      <a:pt x="155" y="404"/>
                    </a:lnTo>
                    <a:lnTo>
                      <a:pt x="185" y="417"/>
                    </a:lnTo>
                    <a:lnTo>
                      <a:pt x="219" y="371"/>
                    </a:lnTo>
                    <a:lnTo>
                      <a:pt x="249" y="302"/>
                    </a:lnTo>
                    <a:lnTo>
                      <a:pt x="252" y="235"/>
                    </a:lnTo>
                    <a:lnTo>
                      <a:pt x="237" y="175"/>
                    </a:lnTo>
                    <a:lnTo>
                      <a:pt x="208" y="150"/>
                    </a:lnTo>
                    <a:lnTo>
                      <a:pt x="143" y="129"/>
                    </a:lnTo>
                    <a:lnTo>
                      <a:pt x="92" y="96"/>
                    </a:lnTo>
                    <a:lnTo>
                      <a:pt x="60" y="63"/>
                    </a:lnTo>
                    <a:lnTo>
                      <a:pt x="37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424280" y="5414040"/>
                <a:ext cx="37080" cy="271080"/>
              </a:xfrm>
              <a:custGeom>
                <a:avLst/>
                <a:gdLst/>
                <a:ahLst/>
                <a:rect l="l" t="t" r="r" b="b"/>
                <a:pathLst>
                  <a:path w="281" h="1812">
                    <a:moveTo>
                      <a:pt x="32" y="0"/>
                    </a:moveTo>
                    <a:lnTo>
                      <a:pt x="53" y="60"/>
                    </a:lnTo>
                    <a:lnTo>
                      <a:pt x="92" y="100"/>
                    </a:lnTo>
                    <a:lnTo>
                      <a:pt x="140" y="143"/>
                    </a:lnTo>
                    <a:lnTo>
                      <a:pt x="171" y="177"/>
                    </a:lnTo>
                    <a:lnTo>
                      <a:pt x="177" y="214"/>
                    </a:lnTo>
                    <a:lnTo>
                      <a:pt x="168" y="258"/>
                    </a:lnTo>
                    <a:lnTo>
                      <a:pt x="140" y="274"/>
                    </a:lnTo>
                    <a:lnTo>
                      <a:pt x="153" y="249"/>
                    </a:lnTo>
                    <a:lnTo>
                      <a:pt x="153" y="199"/>
                    </a:lnTo>
                    <a:lnTo>
                      <a:pt x="92" y="173"/>
                    </a:lnTo>
                    <a:lnTo>
                      <a:pt x="53" y="139"/>
                    </a:lnTo>
                    <a:lnTo>
                      <a:pt x="32" y="106"/>
                    </a:lnTo>
                    <a:lnTo>
                      <a:pt x="46" y="194"/>
                    </a:lnTo>
                    <a:lnTo>
                      <a:pt x="63" y="323"/>
                    </a:lnTo>
                    <a:lnTo>
                      <a:pt x="102" y="551"/>
                    </a:lnTo>
                    <a:lnTo>
                      <a:pt x="134" y="809"/>
                    </a:lnTo>
                    <a:lnTo>
                      <a:pt x="157" y="1010"/>
                    </a:lnTo>
                    <a:lnTo>
                      <a:pt x="171" y="1174"/>
                    </a:lnTo>
                    <a:lnTo>
                      <a:pt x="210" y="893"/>
                    </a:lnTo>
                    <a:lnTo>
                      <a:pt x="247" y="561"/>
                    </a:lnTo>
                    <a:lnTo>
                      <a:pt x="270" y="372"/>
                    </a:lnTo>
                    <a:lnTo>
                      <a:pt x="281" y="335"/>
                    </a:lnTo>
                    <a:lnTo>
                      <a:pt x="265" y="572"/>
                    </a:lnTo>
                    <a:lnTo>
                      <a:pt x="228" y="1010"/>
                    </a:lnTo>
                    <a:lnTo>
                      <a:pt x="194" y="1383"/>
                    </a:lnTo>
                    <a:lnTo>
                      <a:pt x="171" y="1688"/>
                    </a:lnTo>
                    <a:lnTo>
                      <a:pt x="168" y="1812"/>
                    </a:lnTo>
                    <a:lnTo>
                      <a:pt x="48" y="1796"/>
                    </a:lnTo>
                    <a:lnTo>
                      <a:pt x="23" y="1497"/>
                    </a:lnTo>
                    <a:lnTo>
                      <a:pt x="83" y="1713"/>
                    </a:lnTo>
                    <a:lnTo>
                      <a:pt x="107" y="1506"/>
                    </a:lnTo>
                    <a:lnTo>
                      <a:pt x="153" y="1222"/>
                    </a:lnTo>
                    <a:lnTo>
                      <a:pt x="107" y="779"/>
                    </a:lnTo>
                    <a:lnTo>
                      <a:pt x="48" y="350"/>
                    </a:lnTo>
                    <a:lnTo>
                      <a:pt x="28" y="177"/>
                    </a:lnTo>
                    <a:lnTo>
                      <a:pt x="14" y="91"/>
                    </a:lnTo>
                    <a:lnTo>
                      <a:pt x="6" y="47"/>
                    </a:lnTo>
                    <a:lnTo>
                      <a:pt x="0" y="3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360200" y="5402160"/>
                <a:ext cx="75240" cy="271080"/>
              </a:xfrm>
              <a:custGeom>
                <a:avLst/>
                <a:gdLst/>
                <a:ahLst/>
                <a:rect l="l" t="t" r="r" b="b"/>
                <a:pathLst>
                  <a:path w="567" h="1819">
                    <a:moveTo>
                      <a:pt x="307" y="7"/>
                    </a:moveTo>
                    <a:lnTo>
                      <a:pt x="259" y="23"/>
                    </a:lnTo>
                    <a:lnTo>
                      <a:pt x="244" y="33"/>
                    </a:lnTo>
                    <a:lnTo>
                      <a:pt x="101" y="0"/>
                    </a:lnTo>
                    <a:lnTo>
                      <a:pt x="0" y="18"/>
                    </a:lnTo>
                    <a:lnTo>
                      <a:pt x="4" y="23"/>
                    </a:lnTo>
                    <a:lnTo>
                      <a:pt x="70" y="23"/>
                    </a:lnTo>
                    <a:lnTo>
                      <a:pt x="123" y="44"/>
                    </a:lnTo>
                    <a:lnTo>
                      <a:pt x="237" y="49"/>
                    </a:lnTo>
                    <a:lnTo>
                      <a:pt x="166" y="145"/>
                    </a:lnTo>
                    <a:lnTo>
                      <a:pt x="101" y="293"/>
                    </a:lnTo>
                    <a:lnTo>
                      <a:pt x="48" y="486"/>
                    </a:lnTo>
                    <a:lnTo>
                      <a:pt x="155" y="532"/>
                    </a:lnTo>
                    <a:lnTo>
                      <a:pt x="178" y="570"/>
                    </a:lnTo>
                    <a:lnTo>
                      <a:pt x="265" y="574"/>
                    </a:lnTo>
                    <a:lnTo>
                      <a:pt x="296" y="374"/>
                    </a:lnTo>
                    <a:lnTo>
                      <a:pt x="330" y="222"/>
                    </a:lnTo>
                    <a:lnTo>
                      <a:pt x="330" y="422"/>
                    </a:lnTo>
                    <a:lnTo>
                      <a:pt x="351" y="688"/>
                    </a:lnTo>
                    <a:lnTo>
                      <a:pt x="390" y="1081"/>
                    </a:lnTo>
                    <a:lnTo>
                      <a:pt x="397" y="1247"/>
                    </a:lnTo>
                    <a:lnTo>
                      <a:pt x="296" y="877"/>
                    </a:lnTo>
                    <a:lnTo>
                      <a:pt x="219" y="644"/>
                    </a:lnTo>
                    <a:lnTo>
                      <a:pt x="318" y="1017"/>
                    </a:lnTo>
                    <a:lnTo>
                      <a:pt x="382" y="1284"/>
                    </a:lnTo>
                    <a:lnTo>
                      <a:pt x="452" y="1477"/>
                    </a:lnTo>
                    <a:lnTo>
                      <a:pt x="489" y="1607"/>
                    </a:lnTo>
                    <a:lnTo>
                      <a:pt x="523" y="1819"/>
                    </a:lnTo>
                    <a:lnTo>
                      <a:pt x="567" y="1814"/>
                    </a:lnTo>
                    <a:lnTo>
                      <a:pt x="521" y="1576"/>
                    </a:lnTo>
                    <a:lnTo>
                      <a:pt x="450" y="1295"/>
                    </a:lnTo>
                    <a:lnTo>
                      <a:pt x="411" y="1005"/>
                    </a:lnTo>
                    <a:lnTo>
                      <a:pt x="373" y="666"/>
                    </a:lnTo>
                    <a:lnTo>
                      <a:pt x="344" y="332"/>
                    </a:lnTo>
                    <a:lnTo>
                      <a:pt x="351" y="163"/>
                    </a:lnTo>
                    <a:lnTo>
                      <a:pt x="362" y="88"/>
                    </a:lnTo>
                    <a:lnTo>
                      <a:pt x="351" y="55"/>
                    </a:lnTo>
                    <a:lnTo>
                      <a:pt x="325" y="154"/>
                    </a:lnTo>
                    <a:lnTo>
                      <a:pt x="292" y="288"/>
                    </a:lnTo>
                    <a:lnTo>
                      <a:pt x="247" y="547"/>
                    </a:lnTo>
                    <a:lnTo>
                      <a:pt x="189" y="532"/>
                    </a:lnTo>
                    <a:lnTo>
                      <a:pt x="166" y="484"/>
                    </a:lnTo>
                    <a:lnTo>
                      <a:pt x="134" y="486"/>
                    </a:lnTo>
                    <a:lnTo>
                      <a:pt x="90" y="484"/>
                    </a:lnTo>
                    <a:lnTo>
                      <a:pt x="74" y="466"/>
                    </a:lnTo>
                    <a:lnTo>
                      <a:pt x="118" y="293"/>
                    </a:lnTo>
                    <a:lnTo>
                      <a:pt x="189" y="136"/>
                    </a:lnTo>
                    <a:lnTo>
                      <a:pt x="265" y="37"/>
                    </a:lnTo>
                    <a:lnTo>
                      <a:pt x="30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355160" y="5383440"/>
                <a:ext cx="51840" cy="46080"/>
              </a:xfrm>
              <a:custGeom>
                <a:avLst/>
                <a:gdLst/>
                <a:ahLst/>
                <a:rect l="l" t="t" r="r" b="b"/>
                <a:pathLst>
                  <a:path w="395" h="312">
                    <a:moveTo>
                      <a:pt x="395" y="129"/>
                    </a:moveTo>
                    <a:lnTo>
                      <a:pt x="318" y="70"/>
                    </a:lnTo>
                    <a:lnTo>
                      <a:pt x="243" y="28"/>
                    </a:lnTo>
                    <a:lnTo>
                      <a:pt x="185" y="11"/>
                    </a:lnTo>
                    <a:lnTo>
                      <a:pt x="97" y="0"/>
                    </a:lnTo>
                    <a:lnTo>
                      <a:pt x="55" y="18"/>
                    </a:lnTo>
                    <a:lnTo>
                      <a:pt x="26" y="65"/>
                    </a:lnTo>
                    <a:lnTo>
                      <a:pt x="21" y="129"/>
                    </a:lnTo>
                    <a:lnTo>
                      <a:pt x="0" y="152"/>
                    </a:lnTo>
                    <a:lnTo>
                      <a:pt x="9" y="233"/>
                    </a:lnTo>
                    <a:lnTo>
                      <a:pt x="65" y="312"/>
                    </a:lnTo>
                    <a:lnTo>
                      <a:pt x="86" y="312"/>
                    </a:lnTo>
                    <a:lnTo>
                      <a:pt x="125" y="272"/>
                    </a:lnTo>
                    <a:lnTo>
                      <a:pt x="162" y="233"/>
                    </a:lnTo>
                    <a:lnTo>
                      <a:pt x="210" y="212"/>
                    </a:lnTo>
                    <a:lnTo>
                      <a:pt x="281" y="196"/>
                    </a:lnTo>
                    <a:lnTo>
                      <a:pt x="288" y="173"/>
                    </a:lnTo>
                    <a:lnTo>
                      <a:pt x="191" y="196"/>
                    </a:lnTo>
                    <a:lnTo>
                      <a:pt x="134" y="226"/>
                    </a:lnTo>
                    <a:lnTo>
                      <a:pt x="81" y="283"/>
                    </a:lnTo>
                    <a:lnTo>
                      <a:pt x="59" y="274"/>
                    </a:lnTo>
                    <a:lnTo>
                      <a:pt x="37" y="244"/>
                    </a:lnTo>
                    <a:lnTo>
                      <a:pt x="26" y="189"/>
                    </a:lnTo>
                    <a:lnTo>
                      <a:pt x="26" y="152"/>
                    </a:lnTo>
                    <a:lnTo>
                      <a:pt x="44" y="99"/>
                    </a:lnTo>
                    <a:lnTo>
                      <a:pt x="48" y="48"/>
                    </a:lnTo>
                    <a:lnTo>
                      <a:pt x="74" y="18"/>
                    </a:lnTo>
                    <a:lnTo>
                      <a:pt x="125" y="11"/>
                    </a:lnTo>
                    <a:lnTo>
                      <a:pt x="194" y="21"/>
                    </a:lnTo>
                    <a:lnTo>
                      <a:pt x="309" y="76"/>
                    </a:lnTo>
                    <a:lnTo>
                      <a:pt x="395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373160" y="5419080"/>
                <a:ext cx="4320" cy="21240"/>
              </a:xfrm>
              <a:custGeom>
                <a:avLst/>
                <a:gdLst/>
                <a:ahLst/>
                <a:rect l="l" t="t" r="r" b="b"/>
                <a:pathLst>
                  <a:path w="33" h="145">
                    <a:moveTo>
                      <a:pt x="7" y="0"/>
                    </a:moveTo>
                    <a:lnTo>
                      <a:pt x="33" y="127"/>
                    </a:lnTo>
                    <a:lnTo>
                      <a:pt x="28" y="145"/>
                    </a:lnTo>
                    <a:lnTo>
                      <a:pt x="11" y="68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462440" y="5367600"/>
                <a:ext cx="2160" cy="1404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0" y="0"/>
                    </a:moveTo>
                    <a:lnTo>
                      <a:pt x="14" y="33"/>
                    </a:lnTo>
                    <a:lnTo>
                      <a:pt x="19" y="97"/>
                    </a:lnTo>
                    <a:lnTo>
                      <a:pt x="8" y="97"/>
                    </a:lnTo>
                    <a:lnTo>
                      <a:pt x="3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62440" y="5426280"/>
                <a:ext cx="2160" cy="16560"/>
              </a:xfrm>
              <a:custGeom>
                <a:avLst/>
                <a:gdLst/>
                <a:ahLst/>
                <a:rect l="l" t="t" r="r" b="b"/>
                <a:pathLst>
                  <a:path w="14" h="114">
                    <a:moveTo>
                      <a:pt x="14" y="0"/>
                    </a:moveTo>
                    <a:lnTo>
                      <a:pt x="3" y="114"/>
                    </a:lnTo>
                    <a:lnTo>
                      <a:pt x="0" y="97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26360" y="54547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0" y="0"/>
                    </a:moveTo>
                    <a:lnTo>
                      <a:pt x="101" y="17"/>
                    </a:lnTo>
                    <a:lnTo>
                      <a:pt x="121" y="26"/>
                    </a:lnTo>
                    <a:lnTo>
                      <a:pt x="84" y="66"/>
                    </a:lnTo>
                    <a:lnTo>
                      <a:pt x="92" y="38"/>
                    </a:lnTo>
                    <a:lnTo>
                      <a:pt x="2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493400" y="544536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0" y="26"/>
                    </a:moveTo>
                    <a:lnTo>
                      <a:pt x="74" y="4"/>
                    </a:lnTo>
                    <a:lnTo>
                      <a:pt x="136" y="0"/>
                    </a:lnTo>
                    <a:lnTo>
                      <a:pt x="41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533000" y="5600880"/>
                <a:ext cx="40320" cy="51480"/>
              </a:xfrm>
              <a:custGeom>
                <a:avLst/>
                <a:gdLst/>
                <a:ahLst/>
                <a:rect l="l" t="t" r="r" b="b"/>
                <a:pathLst>
                  <a:path w="299" h="339">
                    <a:moveTo>
                      <a:pt x="7" y="0"/>
                    </a:moveTo>
                    <a:lnTo>
                      <a:pt x="29" y="75"/>
                    </a:lnTo>
                    <a:lnTo>
                      <a:pt x="29" y="130"/>
                    </a:lnTo>
                    <a:lnTo>
                      <a:pt x="92" y="201"/>
                    </a:lnTo>
                    <a:lnTo>
                      <a:pt x="126" y="257"/>
                    </a:lnTo>
                    <a:lnTo>
                      <a:pt x="189" y="252"/>
                    </a:lnTo>
                    <a:lnTo>
                      <a:pt x="260" y="273"/>
                    </a:lnTo>
                    <a:lnTo>
                      <a:pt x="299" y="339"/>
                    </a:lnTo>
                    <a:lnTo>
                      <a:pt x="136" y="293"/>
                    </a:lnTo>
                    <a:lnTo>
                      <a:pt x="68" y="307"/>
                    </a:lnTo>
                    <a:lnTo>
                      <a:pt x="46" y="301"/>
                    </a:lnTo>
                    <a:lnTo>
                      <a:pt x="101" y="279"/>
                    </a:lnTo>
                    <a:lnTo>
                      <a:pt x="59" y="201"/>
                    </a:lnTo>
                    <a:lnTo>
                      <a:pt x="29" y="171"/>
                    </a:lnTo>
                    <a:lnTo>
                      <a:pt x="18" y="217"/>
                    </a:lnTo>
                    <a:lnTo>
                      <a:pt x="0" y="134"/>
                    </a:lnTo>
                    <a:lnTo>
                      <a:pt x="13" y="106"/>
                    </a:lnTo>
                    <a:lnTo>
                      <a:pt x="13" y="5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525440" y="5624640"/>
                <a:ext cx="74160" cy="70200"/>
              </a:xfrm>
              <a:custGeom>
                <a:avLst/>
                <a:gdLst/>
                <a:ahLst/>
                <a:rect l="l" t="t" r="r" b="b"/>
                <a:pathLst>
                  <a:path w="560" h="470">
                    <a:moveTo>
                      <a:pt x="62" y="11"/>
                    </a:moveTo>
                    <a:lnTo>
                      <a:pt x="24" y="66"/>
                    </a:lnTo>
                    <a:lnTo>
                      <a:pt x="24" y="99"/>
                    </a:lnTo>
                    <a:lnTo>
                      <a:pt x="0" y="143"/>
                    </a:lnTo>
                    <a:lnTo>
                      <a:pt x="24" y="251"/>
                    </a:lnTo>
                    <a:lnTo>
                      <a:pt x="36" y="279"/>
                    </a:lnTo>
                    <a:lnTo>
                      <a:pt x="50" y="297"/>
                    </a:lnTo>
                    <a:lnTo>
                      <a:pt x="193" y="323"/>
                    </a:lnTo>
                    <a:lnTo>
                      <a:pt x="211" y="308"/>
                    </a:lnTo>
                    <a:lnTo>
                      <a:pt x="229" y="315"/>
                    </a:lnTo>
                    <a:lnTo>
                      <a:pt x="269" y="429"/>
                    </a:lnTo>
                    <a:lnTo>
                      <a:pt x="297" y="460"/>
                    </a:lnTo>
                    <a:lnTo>
                      <a:pt x="323" y="470"/>
                    </a:lnTo>
                    <a:lnTo>
                      <a:pt x="350" y="470"/>
                    </a:lnTo>
                    <a:lnTo>
                      <a:pt x="389" y="447"/>
                    </a:lnTo>
                    <a:lnTo>
                      <a:pt x="437" y="396"/>
                    </a:lnTo>
                    <a:lnTo>
                      <a:pt x="488" y="327"/>
                    </a:lnTo>
                    <a:lnTo>
                      <a:pt x="521" y="260"/>
                    </a:lnTo>
                    <a:lnTo>
                      <a:pt x="548" y="205"/>
                    </a:lnTo>
                    <a:lnTo>
                      <a:pt x="560" y="152"/>
                    </a:lnTo>
                    <a:lnTo>
                      <a:pt x="560" y="90"/>
                    </a:lnTo>
                    <a:lnTo>
                      <a:pt x="560" y="46"/>
                    </a:lnTo>
                    <a:lnTo>
                      <a:pt x="548" y="0"/>
                    </a:lnTo>
                    <a:lnTo>
                      <a:pt x="554" y="69"/>
                    </a:lnTo>
                    <a:lnTo>
                      <a:pt x="548" y="136"/>
                    </a:lnTo>
                    <a:lnTo>
                      <a:pt x="534" y="205"/>
                    </a:lnTo>
                    <a:lnTo>
                      <a:pt x="510" y="255"/>
                    </a:lnTo>
                    <a:lnTo>
                      <a:pt x="488" y="284"/>
                    </a:lnTo>
                    <a:lnTo>
                      <a:pt x="422" y="267"/>
                    </a:lnTo>
                    <a:lnTo>
                      <a:pt x="350" y="255"/>
                    </a:lnTo>
                    <a:lnTo>
                      <a:pt x="422" y="205"/>
                    </a:lnTo>
                    <a:lnTo>
                      <a:pt x="458" y="159"/>
                    </a:lnTo>
                    <a:lnTo>
                      <a:pt x="486" y="113"/>
                    </a:lnTo>
                    <a:lnTo>
                      <a:pt x="497" y="73"/>
                    </a:lnTo>
                    <a:lnTo>
                      <a:pt x="462" y="136"/>
                    </a:lnTo>
                    <a:lnTo>
                      <a:pt x="422" y="181"/>
                    </a:lnTo>
                    <a:lnTo>
                      <a:pt x="371" y="218"/>
                    </a:lnTo>
                    <a:lnTo>
                      <a:pt x="299" y="249"/>
                    </a:lnTo>
                    <a:lnTo>
                      <a:pt x="279" y="240"/>
                    </a:lnTo>
                    <a:lnTo>
                      <a:pt x="135" y="170"/>
                    </a:lnTo>
                    <a:lnTo>
                      <a:pt x="255" y="260"/>
                    </a:lnTo>
                    <a:lnTo>
                      <a:pt x="204" y="279"/>
                    </a:lnTo>
                    <a:lnTo>
                      <a:pt x="66" y="218"/>
                    </a:lnTo>
                    <a:lnTo>
                      <a:pt x="184" y="281"/>
                    </a:lnTo>
                    <a:lnTo>
                      <a:pt x="145" y="297"/>
                    </a:lnTo>
                    <a:lnTo>
                      <a:pt x="48" y="267"/>
                    </a:lnTo>
                    <a:lnTo>
                      <a:pt x="36" y="242"/>
                    </a:lnTo>
                    <a:lnTo>
                      <a:pt x="48" y="209"/>
                    </a:lnTo>
                    <a:lnTo>
                      <a:pt x="57" y="214"/>
                    </a:lnTo>
                    <a:lnTo>
                      <a:pt x="66" y="194"/>
                    </a:lnTo>
                    <a:lnTo>
                      <a:pt x="96" y="170"/>
                    </a:lnTo>
                    <a:lnTo>
                      <a:pt x="101" y="136"/>
                    </a:lnTo>
                    <a:lnTo>
                      <a:pt x="73" y="44"/>
                    </a:ln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555320" y="5610240"/>
                <a:ext cx="27720" cy="20160"/>
              </a:xfrm>
              <a:custGeom>
                <a:avLst/>
                <a:gdLst/>
                <a:ahLst/>
                <a:rect l="l" t="t" r="r" b="b"/>
                <a:pathLst>
                  <a:path w="208" h="135">
                    <a:moveTo>
                      <a:pt x="127" y="0"/>
                    </a:moveTo>
                    <a:lnTo>
                      <a:pt x="127" y="36"/>
                    </a:lnTo>
                    <a:lnTo>
                      <a:pt x="153" y="62"/>
                    </a:lnTo>
                    <a:lnTo>
                      <a:pt x="208" y="90"/>
                    </a:lnTo>
                    <a:lnTo>
                      <a:pt x="164" y="85"/>
                    </a:lnTo>
                    <a:lnTo>
                      <a:pt x="158" y="120"/>
                    </a:lnTo>
                    <a:lnTo>
                      <a:pt x="171" y="135"/>
                    </a:lnTo>
                    <a:lnTo>
                      <a:pt x="103" y="122"/>
                    </a:lnTo>
                    <a:lnTo>
                      <a:pt x="42" y="120"/>
                    </a:lnTo>
                    <a:lnTo>
                      <a:pt x="5" y="108"/>
                    </a:lnTo>
                    <a:lnTo>
                      <a:pt x="0" y="97"/>
                    </a:lnTo>
                    <a:lnTo>
                      <a:pt x="42" y="87"/>
                    </a:lnTo>
                    <a:lnTo>
                      <a:pt x="79" y="87"/>
                    </a:lnTo>
                    <a:lnTo>
                      <a:pt x="65" y="58"/>
                    </a:lnTo>
                    <a:lnTo>
                      <a:pt x="109" y="1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90600" y="559368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338" h="316">
                    <a:moveTo>
                      <a:pt x="11" y="120"/>
                    </a:moveTo>
                    <a:lnTo>
                      <a:pt x="62" y="101"/>
                    </a:lnTo>
                    <a:lnTo>
                      <a:pt x="147" y="116"/>
                    </a:lnTo>
                    <a:lnTo>
                      <a:pt x="209" y="83"/>
                    </a:lnTo>
                    <a:lnTo>
                      <a:pt x="276" y="106"/>
                    </a:lnTo>
                    <a:lnTo>
                      <a:pt x="320" y="206"/>
                    </a:lnTo>
                    <a:lnTo>
                      <a:pt x="279" y="316"/>
                    </a:lnTo>
                    <a:lnTo>
                      <a:pt x="332" y="256"/>
                    </a:lnTo>
                    <a:lnTo>
                      <a:pt x="338" y="196"/>
                    </a:lnTo>
                    <a:lnTo>
                      <a:pt x="276" y="79"/>
                    </a:lnTo>
                    <a:lnTo>
                      <a:pt x="195" y="39"/>
                    </a:lnTo>
                    <a:lnTo>
                      <a:pt x="198" y="0"/>
                    </a:lnTo>
                    <a:lnTo>
                      <a:pt x="101" y="15"/>
                    </a:lnTo>
                    <a:lnTo>
                      <a:pt x="0" y="108"/>
                    </a:lnTo>
                    <a:lnTo>
                      <a:pt x="11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549920" y="5617440"/>
                <a:ext cx="79920" cy="89640"/>
              </a:xfrm>
              <a:custGeom>
                <a:avLst/>
                <a:gdLst/>
                <a:ahLst/>
                <a:rect l="l" t="t" r="r" b="b"/>
                <a:pathLst>
                  <a:path w="594" h="602">
                    <a:moveTo>
                      <a:pt x="350" y="0"/>
                    </a:moveTo>
                    <a:lnTo>
                      <a:pt x="557" y="65"/>
                    </a:lnTo>
                    <a:lnTo>
                      <a:pt x="594" y="127"/>
                    </a:lnTo>
                    <a:lnTo>
                      <a:pt x="578" y="282"/>
                    </a:lnTo>
                    <a:lnTo>
                      <a:pt x="532" y="430"/>
                    </a:lnTo>
                    <a:lnTo>
                      <a:pt x="364" y="478"/>
                    </a:lnTo>
                    <a:lnTo>
                      <a:pt x="170" y="602"/>
                    </a:lnTo>
                    <a:lnTo>
                      <a:pt x="115" y="595"/>
                    </a:lnTo>
                    <a:lnTo>
                      <a:pt x="46" y="514"/>
                    </a:lnTo>
                    <a:lnTo>
                      <a:pt x="14" y="434"/>
                    </a:lnTo>
                    <a:lnTo>
                      <a:pt x="0" y="369"/>
                    </a:lnTo>
                    <a:lnTo>
                      <a:pt x="9" y="369"/>
                    </a:lnTo>
                    <a:lnTo>
                      <a:pt x="29" y="443"/>
                    </a:lnTo>
                    <a:lnTo>
                      <a:pt x="89" y="545"/>
                    </a:lnTo>
                    <a:lnTo>
                      <a:pt x="145" y="582"/>
                    </a:lnTo>
                    <a:lnTo>
                      <a:pt x="233" y="524"/>
                    </a:lnTo>
                    <a:lnTo>
                      <a:pt x="328" y="464"/>
                    </a:lnTo>
                    <a:lnTo>
                      <a:pt x="458" y="303"/>
                    </a:lnTo>
                    <a:lnTo>
                      <a:pt x="458" y="388"/>
                    </a:lnTo>
                    <a:lnTo>
                      <a:pt x="517" y="399"/>
                    </a:lnTo>
                    <a:lnTo>
                      <a:pt x="565" y="268"/>
                    </a:lnTo>
                    <a:lnTo>
                      <a:pt x="578" y="129"/>
                    </a:lnTo>
                    <a:lnTo>
                      <a:pt x="523" y="65"/>
                    </a:lnTo>
                    <a:lnTo>
                      <a:pt x="454" y="65"/>
                    </a:lnTo>
                    <a:lnTo>
                      <a:pt x="412" y="28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340040" y="5499000"/>
                <a:ext cx="167040" cy="209160"/>
              </a:xfrm>
              <a:custGeom>
                <a:avLst/>
                <a:gdLst/>
                <a:ahLst/>
                <a:rect l="l" t="t" r="r" b="b"/>
                <a:pathLst>
                  <a:path w="1257" h="1399">
                    <a:moveTo>
                      <a:pt x="664" y="1081"/>
                    </a:moveTo>
                    <a:lnTo>
                      <a:pt x="673" y="1249"/>
                    </a:lnTo>
                    <a:lnTo>
                      <a:pt x="551" y="1066"/>
                    </a:lnTo>
                    <a:lnTo>
                      <a:pt x="281" y="620"/>
                    </a:lnTo>
                    <a:lnTo>
                      <a:pt x="0" y="140"/>
                    </a:lnTo>
                    <a:lnTo>
                      <a:pt x="336" y="739"/>
                    </a:lnTo>
                    <a:lnTo>
                      <a:pt x="540" y="1108"/>
                    </a:lnTo>
                    <a:lnTo>
                      <a:pt x="657" y="1283"/>
                    </a:lnTo>
                    <a:lnTo>
                      <a:pt x="657" y="1399"/>
                    </a:lnTo>
                    <a:lnTo>
                      <a:pt x="846" y="1253"/>
                    </a:lnTo>
                    <a:lnTo>
                      <a:pt x="916" y="1018"/>
                    </a:lnTo>
                    <a:lnTo>
                      <a:pt x="1033" y="633"/>
                    </a:lnTo>
                    <a:lnTo>
                      <a:pt x="1136" y="334"/>
                    </a:lnTo>
                    <a:lnTo>
                      <a:pt x="1257" y="0"/>
                    </a:lnTo>
                    <a:lnTo>
                      <a:pt x="1066" y="426"/>
                    </a:lnTo>
                    <a:lnTo>
                      <a:pt x="950" y="760"/>
                    </a:lnTo>
                    <a:lnTo>
                      <a:pt x="857" y="1033"/>
                    </a:lnTo>
                    <a:lnTo>
                      <a:pt x="809" y="1213"/>
                    </a:lnTo>
                    <a:lnTo>
                      <a:pt x="809" y="1249"/>
                    </a:lnTo>
                    <a:lnTo>
                      <a:pt x="699" y="1171"/>
                    </a:lnTo>
                    <a:lnTo>
                      <a:pt x="664" y="10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334640" y="5616360"/>
                <a:ext cx="201240" cy="179280"/>
              </a:xfrm>
              <a:custGeom>
                <a:avLst/>
                <a:gdLst/>
                <a:ahLst/>
                <a:rect l="l" t="t" r="r" b="b"/>
                <a:pathLst>
                  <a:path w="1515" h="1204">
                    <a:moveTo>
                      <a:pt x="0" y="1162"/>
                    </a:moveTo>
                    <a:lnTo>
                      <a:pt x="1515" y="0"/>
                    </a:lnTo>
                    <a:lnTo>
                      <a:pt x="1515" y="46"/>
                    </a:lnTo>
                    <a:lnTo>
                      <a:pt x="31" y="12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254000" y="5843520"/>
                <a:ext cx="26280" cy="22680"/>
              </a:xfrm>
              <a:custGeom>
                <a:avLst/>
                <a:gdLst/>
                <a:ahLst/>
                <a:rect l="l" t="t" r="r" b="b"/>
                <a:pathLst>
                  <a:path w="201" h="156">
                    <a:moveTo>
                      <a:pt x="145" y="0"/>
                    </a:moveTo>
                    <a:lnTo>
                      <a:pt x="0" y="117"/>
                    </a:lnTo>
                    <a:lnTo>
                      <a:pt x="35" y="156"/>
                    </a:lnTo>
                    <a:lnTo>
                      <a:pt x="201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297560" y="5691600"/>
                <a:ext cx="315000" cy="313200"/>
              </a:xfrm>
              <a:custGeom>
                <a:avLst/>
                <a:gdLst/>
                <a:ahLst/>
                <a:rect l="l" t="t" r="r" b="b"/>
                <a:pathLst>
                  <a:path w="2366" h="2098">
                    <a:moveTo>
                      <a:pt x="956" y="191"/>
                    </a:moveTo>
                    <a:lnTo>
                      <a:pt x="927" y="437"/>
                    </a:lnTo>
                    <a:lnTo>
                      <a:pt x="861" y="867"/>
                    </a:lnTo>
                    <a:lnTo>
                      <a:pt x="824" y="1012"/>
                    </a:lnTo>
                    <a:lnTo>
                      <a:pt x="771" y="1012"/>
                    </a:lnTo>
                    <a:lnTo>
                      <a:pt x="459" y="964"/>
                    </a:lnTo>
                    <a:lnTo>
                      <a:pt x="240" y="911"/>
                    </a:lnTo>
                    <a:lnTo>
                      <a:pt x="141" y="863"/>
                    </a:lnTo>
                    <a:lnTo>
                      <a:pt x="33" y="934"/>
                    </a:lnTo>
                    <a:lnTo>
                      <a:pt x="26" y="1148"/>
                    </a:lnTo>
                    <a:lnTo>
                      <a:pt x="9" y="1474"/>
                    </a:lnTo>
                    <a:lnTo>
                      <a:pt x="0" y="1674"/>
                    </a:lnTo>
                    <a:lnTo>
                      <a:pt x="561" y="1674"/>
                    </a:lnTo>
                    <a:lnTo>
                      <a:pt x="521" y="1713"/>
                    </a:lnTo>
                    <a:lnTo>
                      <a:pt x="446" y="1780"/>
                    </a:lnTo>
                    <a:lnTo>
                      <a:pt x="351" y="1922"/>
                    </a:lnTo>
                    <a:lnTo>
                      <a:pt x="358" y="1966"/>
                    </a:lnTo>
                    <a:lnTo>
                      <a:pt x="418" y="1990"/>
                    </a:lnTo>
                    <a:lnTo>
                      <a:pt x="556" y="2036"/>
                    </a:lnTo>
                    <a:lnTo>
                      <a:pt x="657" y="2056"/>
                    </a:lnTo>
                    <a:lnTo>
                      <a:pt x="837" y="2091"/>
                    </a:lnTo>
                    <a:lnTo>
                      <a:pt x="1042" y="2098"/>
                    </a:lnTo>
                    <a:lnTo>
                      <a:pt x="1215" y="2068"/>
                    </a:lnTo>
                    <a:lnTo>
                      <a:pt x="1035" y="2087"/>
                    </a:lnTo>
                    <a:lnTo>
                      <a:pt x="851" y="2087"/>
                    </a:lnTo>
                    <a:lnTo>
                      <a:pt x="736" y="2056"/>
                    </a:lnTo>
                    <a:lnTo>
                      <a:pt x="639" y="2003"/>
                    </a:lnTo>
                    <a:lnTo>
                      <a:pt x="626" y="1960"/>
                    </a:lnTo>
                    <a:lnTo>
                      <a:pt x="639" y="1922"/>
                    </a:lnTo>
                    <a:lnTo>
                      <a:pt x="609" y="1835"/>
                    </a:lnTo>
                    <a:lnTo>
                      <a:pt x="596" y="1768"/>
                    </a:lnTo>
                    <a:lnTo>
                      <a:pt x="626" y="1731"/>
                    </a:lnTo>
                    <a:lnTo>
                      <a:pt x="664" y="1713"/>
                    </a:lnTo>
                    <a:lnTo>
                      <a:pt x="639" y="1641"/>
                    </a:lnTo>
                    <a:lnTo>
                      <a:pt x="664" y="1600"/>
                    </a:lnTo>
                    <a:lnTo>
                      <a:pt x="706" y="1533"/>
                    </a:lnTo>
                    <a:lnTo>
                      <a:pt x="789" y="1516"/>
                    </a:lnTo>
                    <a:lnTo>
                      <a:pt x="945" y="1577"/>
                    </a:lnTo>
                    <a:lnTo>
                      <a:pt x="1142" y="1613"/>
                    </a:lnTo>
                    <a:lnTo>
                      <a:pt x="1396" y="1648"/>
                    </a:lnTo>
                    <a:lnTo>
                      <a:pt x="1587" y="1648"/>
                    </a:lnTo>
                    <a:lnTo>
                      <a:pt x="1387" y="1637"/>
                    </a:lnTo>
                    <a:lnTo>
                      <a:pt x="1292" y="1613"/>
                    </a:lnTo>
                    <a:lnTo>
                      <a:pt x="1292" y="1547"/>
                    </a:lnTo>
                    <a:lnTo>
                      <a:pt x="1400" y="1494"/>
                    </a:lnTo>
                    <a:lnTo>
                      <a:pt x="1424" y="1613"/>
                    </a:lnTo>
                    <a:lnTo>
                      <a:pt x="1430" y="1408"/>
                    </a:lnTo>
                    <a:lnTo>
                      <a:pt x="1490" y="1367"/>
                    </a:lnTo>
                    <a:lnTo>
                      <a:pt x="1628" y="1415"/>
                    </a:lnTo>
                    <a:lnTo>
                      <a:pt x="1573" y="1600"/>
                    </a:lnTo>
                    <a:lnTo>
                      <a:pt x="1767" y="1097"/>
                    </a:lnTo>
                    <a:lnTo>
                      <a:pt x="1798" y="1102"/>
                    </a:lnTo>
                    <a:lnTo>
                      <a:pt x="1622" y="1630"/>
                    </a:lnTo>
                    <a:lnTo>
                      <a:pt x="1681" y="1510"/>
                    </a:lnTo>
                    <a:lnTo>
                      <a:pt x="1732" y="1507"/>
                    </a:lnTo>
                    <a:lnTo>
                      <a:pt x="1774" y="1520"/>
                    </a:lnTo>
                    <a:lnTo>
                      <a:pt x="1718" y="1613"/>
                    </a:lnTo>
                    <a:lnTo>
                      <a:pt x="1826" y="1480"/>
                    </a:lnTo>
                    <a:lnTo>
                      <a:pt x="1873" y="1480"/>
                    </a:lnTo>
                    <a:lnTo>
                      <a:pt x="1928" y="1565"/>
                    </a:lnTo>
                    <a:lnTo>
                      <a:pt x="1921" y="1619"/>
                    </a:lnTo>
                    <a:lnTo>
                      <a:pt x="1905" y="1641"/>
                    </a:lnTo>
                    <a:lnTo>
                      <a:pt x="1972" y="1637"/>
                    </a:lnTo>
                    <a:lnTo>
                      <a:pt x="1972" y="1540"/>
                    </a:lnTo>
                    <a:lnTo>
                      <a:pt x="1919" y="1450"/>
                    </a:lnTo>
                    <a:lnTo>
                      <a:pt x="1868" y="1427"/>
                    </a:lnTo>
                    <a:lnTo>
                      <a:pt x="1847" y="1427"/>
                    </a:lnTo>
                    <a:lnTo>
                      <a:pt x="1808" y="1461"/>
                    </a:lnTo>
                    <a:lnTo>
                      <a:pt x="1743" y="1450"/>
                    </a:lnTo>
                    <a:lnTo>
                      <a:pt x="1712" y="1445"/>
                    </a:lnTo>
                    <a:lnTo>
                      <a:pt x="1732" y="1422"/>
                    </a:lnTo>
                    <a:lnTo>
                      <a:pt x="1826" y="1397"/>
                    </a:lnTo>
                    <a:lnTo>
                      <a:pt x="1934" y="1342"/>
                    </a:lnTo>
                    <a:lnTo>
                      <a:pt x="2041" y="1367"/>
                    </a:lnTo>
                    <a:lnTo>
                      <a:pt x="2167" y="1432"/>
                    </a:lnTo>
                    <a:lnTo>
                      <a:pt x="2145" y="1241"/>
                    </a:lnTo>
                    <a:lnTo>
                      <a:pt x="2121" y="989"/>
                    </a:lnTo>
                    <a:lnTo>
                      <a:pt x="2114" y="853"/>
                    </a:lnTo>
                    <a:lnTo>
                      <a:pt x="2308" y="756"/>
                    </a:lnTo>
                    <a:lnTo>
                      <a:pt x="2366" y="712"/>
                    </a:lnTo>
                    <a:lnTo>
                      <a:pt x="2366" y="687"/>
                    </a:lnTo>
                    <a:lnTo>
                      <a:pt x="2294" y="533"/>
                    </a:lnTo>
                    <a:lnTo>
                      <a:pt x="2174" y="376"/>
                    </a:lnTo>
                    <a:lnTo>
                      <a:pt x="2053" y="184"/>
                    </a:lnTo>
                    <a:lnTo>
                      <a:pt x="1988" y="64"/>
                    </a:lnTo>
                    <a:lnTo>
                      <a:pt x="1945" y="0"/>
                    </a:lnTo>
                    <a:lnTo>
                      <a:pt x="1941" y="4"/>
                    </a:lnTo>
                    <a:lnTo>
                      <a:pt x="2059" y="233"/>
                    </a:lnTo>
                    <a:lnTo>
                      <a:pt x="2163" y="389"/>
                    </a:lnTo>
                    <a:lnTo>
                      <a:pt x="2260" y="521"/>
                    </a:lnTo>
                    <a:lnTo>
                      <a:pt x="2312" y="628"/>
                    </a:lnTo>
                    <a:lnTo>
                      <a:pt x="2336" y="701"/>
                    </a:lnTo>
                    <a:lnTo>
                      <a:pt x="2260" y="760"/>
                    </a:lnTo>
                    <a:lnTo>
                      <a:pt x="2121" y="832"/>
                    </a:lnTo>
                    <a:lnTo>
                      <a:pt x="1958" y="878"/>
                    </a:lnTo>
                    <a:lnTo>
                      <a:pt x="1670" y="929"/>
                    </a:lnTo>
                    <a:lnTo>
                      <a:pt x="1312" y="995"/>
                    </a:lnTo>
                    <a:lnTo>
                      <a:pt x="1227" y="989"/>
                    </a:lnTo>
                    <a:lnTo>
                      <a:pt x="1215" y="964"/>
                    </a:lnTo>
                    <a:lnTo>
                      <a:pt x="1202" y="916"/>
                    </a:lnTo>
                    <a:lnTo>
                      <a:pt x="1149" y="538"/>
                    </a:lnTo>
                    <a:lnTo>
                      <a:pt x="1130" y="256"/>
                    </a:lnTo>
                    <a:lnTo>
                      <a:pt x="1130" y="136"/>
                    </a:lnTo>
                    <a:lnTo>
                      <a:pt x="1142" y="39"/>
                    </a:lnTo>
                    <a:lnTo>
                      <a:pt x="9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713000" y="560196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67" h="162">
                    <a:moveTo>
                      <a:pt x="50" y="0"/>
                    </a:moveTo>
                    <a:lnTo>
                      <a:pt x="0" y="7"/>
                    </a:lnTo>
                    <a:lnTo>
                      <a:pt x="38" y="19"/>
                    </a:lnTo>
                    <a:lnTo>
                      <a:pt x="20" y="56"/>
                    </a:lnTo>
                    <a:lnTo>
                      <a:pt x="68" y="104"/>
                    </a:lnTo>
                    <a:lnTo>
                      <a:pt x="132" y="122"/>
                    </a:lnTo>
                    <a:lnTo>
                      <a:pt x="167" y="162"/>
                    </a:lnTo>
                    <a:lnTo>
                      <a:pt x="112" y="88"/>
                    </a:lnTo>
                    <a:lnTo>
                      <a:pt x="139" y="74"/>
                    </a:lnTo>
                    <a:lnTo>
                      <a:pt x="77" y="56"/>
                    </a:lnTo>
                    <a:lnTo>
                      <a:pt x="64" y="2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713720" y="5530320"/>
                <a:ext cx="30600" cy="70200"/>
              </a:xfrm>
              <a:custGeom>
                <a:avLst/>
                <a:gdLst/>
                <a:ahLst/>
                <a:rect l="l" t="t" r="r" b="b"/>
                <a:pathLst>
                  <a:path w="229" h="470">
                    <a:moveTo>
                      <a:pt x="113" y="157"/>
                    </a:moveTo>
                    <a:lnTo>
                      <a:pt x="69" y="351"/>
                    </a:lnTo>
                    <a:lnTo>
                      <a:pt x="55" y="470"/>
                    </a:lnTo>
                    <a:lnTo>
                      <a:pt x="55" y="346"/>
                    </a:lnTo>
                    <a:lnTo>
                      <a:pt x="76" y="187"/>
                    </a:lnTo>
                    <a:lnTo>
                      <a:pt x="81" y="140"/>
                    </a:lnTo>
                    <a:lnTo>
                      <a:pt x="14" y="85"/>
                    </a:lnTo>
                    <a:lnTo>
                      <a:pt x="0" y="0"/>
                    </a:lnTo>
                    <a:lnTo>
                      <a:pt x="51" y="92"/>
                    </a:lnTo>
                    <a:lnTo>
                      <a:pt x="126" y="122"/>
                    </a:lnTo>
                    <a:lnTo>
                      <a:pt x="180" y="129"/>
                    </a:lnTo>
                    <a:lnTo>
                      <a:pt x="229" y="228"/>
                    </a:lnTo>
                    <a:lnTo>
                      <a:pt x="173" y="341"/>
                    </a:lnTo>
                    <a:lnTo>
                      <a:pt x="154" y="439"/>
                    </a:lnTo>
                    <a:lnTo>
                      <a:pt x="161" y="341"/>
                    </a:lnTo>
                    <a:lnTo>
                      <a:pt x="198" y="248"/>
                    </a:lnTo>
                    <a:lnTo>
                      <a:pt x="161" y="171"/>
                    </a:lnTo>
                    <a:lnTo>
                      <a:pt x="113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713720" y="5617440"/>
                <a:ext cx="77400" cy="107640"/>
              </a:xfrm>
              <a:custGeom>
                <a:avLst/>
                <a:gdLst/>
                <a:ahLst/>
                <a:rect l="l" t="t" r="r" b="b"/>
                <a:pathLst>
                  <a:path w="583" h="722">
                    <a:moveTo>
                      <a:pt x="92" y="21"/>
                    </a:moveTo>
                    <a:lnTo>
                      <a:pt x="130" y="98"/>
                    </a:lnTo>
                    <a:lnTo>
                      <a:pt x="119" y="272"/>
                    </a:lnTo>
                    <a:lnTo>
                      <a:pt x="143" y="321"/>
                    </a:lnTo>
                    <a:lnTo>
                      <a:pt x="256" y="439"/>
                    </a:lnTo>
                    <a:lnTo>
                      <a:pt x="293" y="527"/>
                    </a:lnTo>
                    <a:lnTo>
                      <a:pt x="293" y="600"/>
                    </a:lnTo>
                    <a:lnTo>
                      <a:pt x="323" y="660"/>
                    </a:lnTo>
                    <a:lnTo>
                      <a:pt x="409" y="646"/>
                    </a:lnTo>
                    <a:lnTo>
                      <a:pt x="539" y="711"/>
                    </a:lnTo>
                    <a:lnTo>
                      <a:pt x="583" y="722"/>
                    </a:lnTo>
                    <a:lnTo>
                      <a:pt x="484" y="711"/>
                    </a:lnTo>
                    <a:lnTo>
                      <a:pt x="311" y="674"/>
                    </a:lnTo>
                    <a:lnTo>
                      <a:pt x="273" y="600"/>
                    </a:lnTo>
                    <a:lnTo>
                      <a:pt x="273" y="531"/>
                    </a:lnTo>
                    <a:lnTo>
                      <a:pt x="222" y="428"/>
                    </a:lnTo>
                    <a:lnTo>
                      <a:pt x="113" y="316"/>
                    </a:lnTo>
                    <a:lnTo>
                      <a:pt x="88" y="248"/>
                    </a:lnTo>
                    <a:lnTo>
                      <a:pt x="0" y="187"/>
                    </a:lnTo>
                    <a:lnTo>
                      <a:pt x="0" y="164"/>
                    </a:lnTo>
                    <a:lnTo>
                      <a:pt x="51" y="190"/>
                    </a:lnTo>
                    <a:lnTo>
                      <a:pt x="106" y="208"/>
                    </a:lnTo>
                    <a:lnTo>
                      <a:pt x="113" y="109"/>
                    </a:lnTo>
                    <a:lnTo>
                      <a:pt x="81" y="21"/>
                    </a:lnTo>
                    <a:lnTo>
                      <a:pt x="64" y="0"/>
                    </a:lnTo>
                    <a:lnTo>
                      <a:pt x="9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713720" y="5616360"/>
                <a:ext cx="9360" cy="27360"/>
              </a:xfrm>
              <a:custGeom>
                <a:avLst/>
                <a:gdLst/>
                <a:ahLst/>
                <a:rect l="l" t="t" r="r" b="b"/>
                <a:pathLst>
                  <a:path w="69" h="185">
                    <a:moveTo>
                      <a:pt x="0" y="185"/>
                    </a:moveTo>
                    <a:lnTo>
                      <a:pt x="0" y="153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7" y="1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736400" y="5612760"/>
                <a:ext cx="42480" cy="48960"/>
              </a:xfrm>
              <a:custGeom>
                <a:avLst/>
                <a:gdLst/>
                <a:ahLst/>
                <a:rect l="l" t="t" r="r" b="b"/>
                <a:pathLst>
                  <a:path w="316" h="330">
                    <a:moveTo>
                      <a:pt x="0" y="0"/>
                    </a:moveTo>
                    <a:lnTo>
                      <a:pt x="111" y="113"/>
                    </a:lnTo>
                    <a:lnTo>
                      <a:pt x="166" y="150"/>
                    </a:lnTo>
                    <a:lnTo>
                      <a:pt x="166" y="249"/>
                    </a:lnTo>
                    <a:lnTo>
                      <a:pt x="316" y="330"/>
                    </a:lnTo>
                    <a:lnTo>
                      <a:pt x="148" y="286"/>
                    </a:lnTo>
                    <a:lnTo>
                      <a:pt x="125" y="143"/>
                    </a:lnTo>
                    <a:lnTo>
                      <a:pt x="5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723440" y="5479920"/>
                <a:ext cx="164880" cy="47520"/>
              </a:xfrm>
              <a:custGeom>
                <a:avLst/>
                <a:gdLst/>
                <a:ahLst/>
                <a:rect l="l" t="t" r="r" b="b"/>
                <a:pathLst>
                  <a:path w="1241" h="317">
                    <a:moveTo>
                      <a:pt x="0" y="279"/>
                    </a:moveTo>
                    <a:lnTo>
                      <a:pt x="180" y="167"/>
                    </a:lnTo>
                    <a:lnTo>
                      <a:pt x="553" y="75"/>
                    </a:lnTo>
                    <a:lnTo>
                      <a:pt x="708" y="0"/>
                    </a:lnTo>
                    <a:lnTo>
                      <a:pt x="918" y="58"/>
                    </a:lnTo>
                    <a:lnTo>
                      <a:pt x="1127" y="236"/>
                    </a:lnTo>
                    <a:lnTo>
                      <a:pt x="1241" y="312"/>
                    </a:lnTo>
                    <a:lnTo>
                      <a:pt x="1173" y="317"/>
                    </a:lnTo>
                    <a:lnTo>
                      <a:pt x="1054" y="201"/>
                    </a:lnTo>
                    <a:lnTo>
                      <a:pt x="925" y="81"/>
                    </a:lnTo>
                    <a:lnTo>
                      <a:pt x="756" y="58"/>
                    </a:lnTo>
                    <a:lnTo>
                      <a:pt x="602" y="88"/>
                    </a:lnTo>
                    <a:lnTo>
                      <a:pt x="558" y="143"/>
                    </a:lnTo>
                    <a:lnTo>
                      <a:pt x="340" y="155"/>
                    </a:lnTo>
                    <a:lnTo>
                      <a:pt x="160" y="201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736400" y="5665320"/>
                <a:ext cx="1584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744680" y="5667840"/>
                <a:ext cx="1368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754400" y="5668920"/>
                <a:ext cx="9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799040" y="5522760"/>
                <a:ext cx="200880" cy="115920"/>
              </a:xfrm>
              <a:custGeom>
                <a:avLst/>
                <a:gdLst/>
                <a:ahLst/>
                <a:rect l="l" t="t" r="r" b="b"/>
                <a:pathLst>
                  <a:path w="1507" h="780">
                    <a:moveTo>
                      <a:pt x="273" y="99"/>
                    </a:moveTo>
                    <a:lnTo>
                      <a:pt x="273" y="157"/>
                    </a:lnTo>
                    <a:lnTo>
                      <a:pt x="314" y="208"/>
                    </a:lnTo>
                    <a:lnTo>
                      <a:pt x="328" y="231"/>
                    </a:lnTo>
                    <a:lnTo>
                      <a:pt x="236" y="279"/>
                    </a:lnTo>
                    <a:lnTo>
                      <a:pt x="147" y="397"/>
                    </a:lnTo>
                    <a:lnTo>
                      <a:pt x="72" y="560"/>
                    </a:lnTo>
                    <a:lnTo>
                      <a:pt x="20" y="731"/>
                    </a:lnTo>
                    <a:lnTo>
                      <a:pt x="0" y="780"/>
                    </a:lnTo>
                    <a:lnTo>
                      <a:pt x="61" y="683"/>
                    </a:lnTo>
                    <a:lnTo>
                      <a:pt x="112" y="598"/>
                    </a:lnTo>
                    <a:lnTo>
                      <a:pt x="123" y="490"/>
                    </a:lnTo>
                    <a:lnTo>
                      <a:pt x="191" y="353"/>
                    </a:lnTo>
                    <a:lnTo>
                      <a:pt x="273" y="279"/>
                    </a:lnTo>
                    <a:lnTo>
                      <a:pt x="354" y="244"/>
                    </a:lnTo>
                    <a:lnTo>
                      <a:pt x="439" y="272"/>
                    </a:lnTo>
                    <a:lnTo>
                      <a:pt x="596" y="272"/>
                    </a:lnTo>
                    <a:lnTo>
                      <a:pt x="688" y="319"/>
                    </a:lnTo>
                    <a:lnTo>
                      <a:pt x="688" y="348"/>
                    </a:lnTo>
                    <a:lnTo>
                      <a:pt x="782" y="353"/>
                    </a:lnTo>
                    <a:lnTo>
                      <a:pt x="736" y="257"/>
                    </a:lnTo>
                    <a:lnTo>
                      <a:pt x="872" y="259"/>
                    </a:lnTo>
                    <a:lnTo>
                      <a:pt x="936" y="222"/>
                    </a:lnTo>
                    <a:lnTo>
                      <a:pt x="936" y="180"/>
                    </a:lnTo>
                    <a:lnTo>
                      <a:pt x="1041" y="187"/>
                    </a:lnTo>
                    <a:lnTo>
                      <a:pt x="1085" y="249"/>
                    </a:lnTo>
                    <a:lnTo>
                      <a:pt x="1184" y="222"/>
                    </a:lnTo>
                    <a:lnTo>
                      <a:pt x="1246" y="272"/>
                    </a:lnTo>
                    <a:lnTo>
                      <a:pt x="1271" y="348"/>
                    </a:lnTo>
                    <a:lnTo>
                      <a:pt x="1382" y="397"/>
                    </a:lnTo>
                    <a:lnTo>
                      <a:pt x="1426" y="397"/>
                    </a:lnTo>
                    <a:lnTo>
                      <a:pt x="1444" y="448"/>
                    </a:lnTo>
                    <a:lnTo>
                      <a:pt x="1507" y="422"/>
                    </a:lnTo>
                    <a:lnTo>
                      <a:pt x="1507" y="367"/>
                    </a:lnTo>
                    <a:lnTo>
                      <a:pt x="1481" y="293"/>
                    </a:lnTo>
                    <a:lnTo>
                      <a:pt x="1389" y="205"/>
                    </a:lnTo>
                    <a:lnTo>
                      <a:pt x="1301" y="125"/>
                    </a:lnTo>
                    <a:lnTo>
                      <a:pt x="1211" y="64"/>
                    </a:lnTo>
                    <a:lnTo>
                      <a:pt x="1110" y="18"/>
                    </a:lnTo>
                    <a:lnTo>
                      <a:pt x="997" y="0"/>
                    </a:lnTo>
                    <a:lnTo>
                      <a:pt x="837" y="0"/>
                    </a:lnTo>
                    <a:lnTo>
                      <a:pt x="596" y="31"/>
                    </a:lnTo>
                    <a:lnTo>
                      <a:pt x="290" y="79"/>
                    </a:lnTo>
                    <a:lnTo>
                      <a:pt x="273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776720" y="5636520"/>
                <a:ext cx="51120" cy="59760"/>
              </a:xfrm>
              <a:custGeom>
                <a:avLst/>
                <a:gdLst/>
                <a:ahLst/>
                <a:rect l="l" t="t" r="r" b="b"/>
                <a:pathLst>
                  <a:path w="385" h="402">
                    <a:moveTo>
                      <a:pt x="143" y="0"/>
                    </a:moveTo>
                    <a:lnTo>
                      <a:pt x="143" y="58"/>
                    </a:lnTo>
                    <a:lnTo>
                      <a:pt x="174" y="110"/>
                    </a:lnTo>
                    <a:lnTo>
                      <a:pt x="86" y="222"/>
                    </a:lnTo>
                    <a:lnTo>
                      <a:pt x="37" y="339"/>
                    </a:lnTo>
                    <a:lnTo>
                      <a:pt x="0" y="402"/>
                    </a:lnTo>
                    <a:lnTo>
                      <a:pt x="55" y="347"/>
                    </a:lnTo>
                    <a:lnTo>
                      <a:pt x="117" y="240"/>
                    </a:lnTo>
                    <a:lnTo>
                      <a:pt x="198" y="167"/>
                    </a:lnTo>
                    <a:lnTo>
                      <a:pt x="224" y="236"/>
                    </a:lnTo>
                    <a:lnTo>
                      <a:pt x="315" y="323"/>
                    </a:lnTo>
                    <a:lnTo>
                      <a:pt x="315" y="291"/>
                    </a:lnTo>
                    <a:lnTo>
                      <a:pt x="290" y="229"/>
                    </a:lnTo>
                    <a:lnTo>
                      <a:pt x="290" y="187"/>
                    </a:lnTo>
                    <a:lnTo>
                      <a:pt x="334" y="229"/>
                    </a:lnTo>
                    <a:lnTo>
                      <a:pt x="385" y="222"/>
                    </a:lnTo>
                    <a:lnTo>
                      <a:pt x="348" y="209"/>
                    </a:lnTo>
                    <a:lnTo>
                      <a:pt x="235" y="86"/>
                    </a:lnTo>
                    <a:lnTo>
                      <a:pt x="185" y="6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775640" y="5696280"/>
                <a:ext cx="47520" cy="60840"/>
              </a:xfrm>
              <a:custGeom>
                <a:avLst/>
                <a:gdLst/>
                <a:ahLst/>
                <a:rect l="l" t="t" r="r" b="b"/>
                <a:pathLst>
                  <a:path w="368" h="409">
                    <a:moveTo>
                      <a:pt x="9" y="0"/>
                    </a:moveTo>
                    <a:lnTo>
                      <a:pt x="41" y="57"/>
                    </a:lnTo>
                    <a:lnTo>
                      <a:pt x="108" y="37"/>
                    </a:lnTo>
                    <a:lnTo>
                      <a:pt x="194" y="95"/>
                    </a:lnTo>
                    <a:lnTo>
                      <a:pt x="240" y="44"/>
                    </a:lnTo>
                    <a:lnTo>
                      <a:pt x="240" y="129"/>
                    </a:lnTo>
                    <a:lnTo>
                      <a:pt x="368" y="374"/>
                    </a:lnTo>
                    <a:lnTo>
                      <a:pt x="368" y="409"/>
                    </a:lnTo>
                    <a:lnTo>
                      <a:pt x="227" y="143"/>
                    </a:lnTo>
                    <a:lnTo>
                      <a:pt x="187" y="143"/>
                    </a:lnTo>
                    <a:lnTo>
                      <a:pt x="156" y="191"/>
                    </a:lnTo>
                    <a:lnTo>
                      <a:pt x="145" y="136"/>
                    </a:lnTo>
                    <a:lnTo>
                      <a:pt x="20" y="64"/>
                    </a:lnTo>
                    <a:lnTo>
                      <a:pt x="0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96880" y="572976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55" h="131">
                    <a:moveTo>
                      <a:pt x="0" y="0"/>
                    </a:moveTo>
                    <a:lnTo>
                      <a:pt x="141" y="53"/>
                    </a:lnTo>
                    <a:lnTo>
                      <a:pt x="155" y="73"/>
                    </a:lnTo>
                    <a:lnTo>
                      <a:pt x="90" y="80"/>
                    </a:lnTo>
                    <a:lnTo>
                      <a:pt x="56" y="131"/>
                    </a:lnTo>
                    <a:lnTo>
                      <a:pt x="75" y="73"/>
                    </a:lnTo>
                    <a:lnTo>
                      <a:pt x="104" y="62"/>
                    </a:lnTo>
                    <a:lnTo>
                      <a:pt x="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5721480"/>
                <a:ext cx="1476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20280" y="5725080"/>
                <a:ext cx="1476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30000" y="5728680"/>
                <a:ext cx="104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05520" y="5753880"/>
                <a:ext cx="13680" cy="26280"/>
              </a:xfrm>
              <a:custGeom>
                <a:avLst/>
                <a:gdLst/>
                <a:ahLst/>
                <a:rect l="l" t="t" r="r" b="b"/>
                <a:pathLst>
                  <a:path w="103" h="180">
                    <a:moveTo>
                      <a:pt x="0" y="5"/>
                    </a:moveTo>
                    <a:lnTo>
                      <a:pt x="42" y="0"/>
                    </a:lnTo>
                    <a:lnTo>
                      <a:pt x="103" y="65"/>
                    </a:lnTo>
                    <a:lnTo>
                      <a:pt x="28" y="125"/>
                    </a:lnTo>
                    <a:lnTo>
                      <a:pt x="17" y="180"/>
                    </a:lnTo>
                    <a:lnTo>
                      <a:pt x="24" y="106"/>
                    </a:lnTo>
                    <a:lnTo>
                      <a:pt x="42" y="79"/>
                    </a:lnTo>
                    <a:lnTo>
                      <a:pt x="17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680" y="5747760"/>
                <a:ext cx="145800" cy="68040"/>
              </a:xfrm>
              <a:custGeom>
                <a:avLst/>
                <a:gdLst/>
                <a:ahLst/>
                <a:rect l="l" t="t" r="r" b="b"/>
                <a:pathLst>
                  <a:path w="1093" h="459">
                    <a:moveTo>
                      <a:pt x="0" y="253"/>
                    </a:moveTo>
                    <a:lnTo>
                      <a:pt x="44" y="284"/>
                    </a:lnTo>
                    <a:lnTo>
                      <a:pt x="106" y="253"/>
                    </a:lnTo>
                    <a:lnTo>
                      <a:pt x="124" y="102"/>
                    </a:lnTo>
                    <a:lnTo>
                      <a:pt x="175" y="167"/>
                    </a:lnTo>
                    <a:lnTo>
                      <a:pt x="293" y="174"/>
                    </a:lnTo>
                    <a:lnTo>
                      <a:pt x="337" y="231"/>
                    </a:lnTo>
                    <a:lnTo>
                      <a:pt x="361" y="217"/>
                    </a:lnTo>
                    <a:lnTo>
                      <a:pt x="466" y="93"/>
                    </a:lnTo>
                    <a:lnTo>
                      <a:pt x="569" y="93"/>
                    </a:lnTo>
                    <a:lnTo>
                      <a:pt x="620" y="231"/>
                    </a:lnTo>
                    <a:lnTo>
                      <a:pt x="708" y="303"/>
                    </a:lnTo>
                    <a:lnTo>
                      <a:pt x="936" y="106"/>
                    </a:lnTo>
                    <a:lnTo>
                      <a:pt x="1093" y="0"/>
                    </a:lnTo>
                    <a:lnTo>
                      <a:pt x="899" y="150"/>
                    </a:lnTo>
                    <a:lnTo>
                      <a:pt x="735" y="303"/>
                    </a:lnTo>
                    <a:lnTo>
                      <a:pt x="596" y="459"/>
                    </a:lnTo>
                    <a:lnTo>
                      <a:pt x="569" y="441"/>
                    </a:lnTo>
                    <a:lnTo>
                      <a:pt x="355" y="378"/>
                    </a:lnTo>
                    <a:lnTo>
                      <a:pt x="249" y="330"/>
                    </a:lnTo>
                    <a:lnTo>
                      <a:pt x="191" y="330"/>
                    </a:lnTo>
                    <a:lnTo>
                      <a:pt x="106" y="348"/>
                    </a:lnTo>
                    <a:lnTo>
                      <a:pt x="37" y="334"/>
                    </a:lnTo>
                    <a:lnTo>
                      <a:pt x="0" y="29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3680" y="5564880"/>
                <a:ext cx="175680" cy="187560"/>
              </a:xfrm>
              <a:custGeom>
                <a:avLst/>
                <a:gdLst/>
                <a:ahLst/>
                <a:rect l="l" t="t" r="r" b="b"/>
                <a:pathLst>
                  <a:path w="1317" h="1255">
                    <a:moveTo>
                      <a:pt x="362" y="31"/>
                    </a:moveTo>
                    <a:lnTo>
                      <a:pt x="182" y="113"/>
                    </a:lnTo>
                    <a:lnTo>
                      <a:pt x="124" y="305"/>
                    </a:lnTo>
                    <a:lnTo>
                      <a:pt x="0" y="459"/>
                    </a:lnTo>
                    <a:lnTo>
                      <a:pt x="21" y="549"/>
                    </a:lnTo>
                    <a:lnTo>
                      <a:pt x="69" y="602"/>
                    </a:lnTo>
                    <a:lnTo>
                      <a:pt x="99" y="646"/>
                    </a:lnTo>
                    <a:lnTo>
                      <a:pt x="95" y="727"/>
                    </a:lnTo>
                    <a:lnTo>
                      <a:pt x="182" y="782"/>
                    </a:lnTo>
                    <a:lnTo>
                      <a:pt x="337" y="818"/>
                    </a:lnTo>
                    <a:lnTo>
                      <a:pt x="311" y="778"/>
                    </a:lnTo>
                    <a:lnTo>
                      <a:pt x="348" y="747"/>
                    </a:lnTo>
                    <a:lnTo>
                      <a:pt x="385" y="701"/>
                    </a:lnTo>
                    <a:lnTo>
                      <a:pt x="477" y="694"/>
                    </a:lnTo>
                    <a:lnTo>
                      <a:pt x="539" y="740"/>
                    </a:lnTo>
                    <a:lnTo>
                      <a:pt x="574" y="802"/>
                    </a:lnTo>
                    <a:lnTo>
                      <a:pt x="585" y="895"/>
                    </a:lnTo>
                    <a:lnTo>
                      <a:pt x="579" y="962"/>
                    </a:lnTo>
                    <a:lnTo>
                      <a:pt x="539" y="1057"/>
                    </a:lnTo>
                    <a:lnTo>
                      <a:pt x="498" y="1119"/>
                    </a:lnTo>
                    <a:lnTo>
                      <a:pt x="436" y="1174"/>
                    </a:lnTo>
                    <a:lnTo>
                      <a:pt x="392" y="1187"/>
                    </a:lnTo>
                    <a:lnTo>
                      <a:pt x="355" y="1180"/>
                    </a:lnTo>
                    <a:lnTo>
                      <a:pt x="330" y="1160"/>
                    </a:lnTo>
                    <a:lnTo>
                      <a:pt x="306" y="1125"/>
                    </a:lnTo>
                    <a:lnTo>
                      <a:pt x="284" y="1095"/>
                    </a:lnTo>
                    <a:lnTo>
                      <a:pt x="318" y="1180"/>
                    </a:lnTo>
                    <a:lnTo>
                      <a:pt x="348" y="1238"/>
                    </a:lnTo>
                    <a:lnTo>
                      <a:pt x="375" y="1255"/>
                    </a:lnTo>
                    <a:lnTo>
                      <a:pt x="422" y="1248"/>
                    </a:lnTo>
                    <a:lnTo>
                      <a:pt x="477" y="1200"/>
                    </a:lnTo>
                    <a:lnTo>
                      <a:pt x="548" y="1095"/>
                    </a:lnTo>
                    <a:lnTo>
                      <a:pt x="585" y="996"/>
                    </a:lnTo>
                    <a:lnTo>
                      <a:pt x="603" y="901"/>
                    </a:lnTo>
                    <a:lnTo>
                      <a:pt x="603" y="851"/>
                    </a:lnTo>
                    <a:lnTo>
                      <a:pt x="696" y="895"/>
                    </a:lnTo>
                    <a:lnTo>
                      <a:pt x="752" y="987"/>
                    </a:lnTo>
                    <a:lnTo>
                      <a:pt x="827" y="1057"/>
                    </a:lnTo>
                    <a:lnTo>
                      <a:pt x="882" y="1049"/>
                    </a:lnTo>
                    <a:lnTo>
                      <a:pt x="895" y="938"/>
                    </a:lnTo>
                    <a:lnTo>
                      <a:pt x="938" y="809"/>
                    </a:lnTo>
                    <a:lnTo>
                      <a:pt x="1120" y="616"/>
                    </a:lnTo>
                    <a:lnTo>
                      <a:pt x="1298" y="404"/>
                    </a:lnTo>
                    <a:lnTo>
                      <a:pt x="1317" y="343"/>
                    </a:lnTo>
                    <a:lnTo>
                      <a:pt x="1284" y="220"/>
                    </a:lnTo>
                    <a:lnTo>
                      <a:pt x="1217" y="150"/>
                    </a:lnTo>
                    <a:lnTo>
                      <a:pt x="1161" y="118"/>
                    </a:lnTo>
                    <a:lnTo>
                      <a:pt x="1111" y="171"/>
                    </a:lnTo>
                    <a:lnTo>
                      <a:pt x="1001" y="136"/>
                    </a:lnTo>
                    <a:lnTo>
                      <a:pt x="950" y="123"/>
                    </a:lnTo>
                    <a:lnTo>
                      <a:pt x="933" y="136"/>
                    </a:lnTo>
                    <a:lnTo>
                      <a:pt x="878" y="88"/>
                    </a:lnTo>
                    <a:lnTo>
                      <a:pt x="821" y="99"/>
                    </a:lnTo>
                    <a:lnTo>
                      <a:pt x="765" y="88"/>
                    </a:lnTo>
                    <a:lnTo>
                      <a:pt x="719" y="26"/>
                    </a:lnTo>
                    <a:lnTo>
                      <a:pt x="657" y="14"/>
                    </a:lnTo>
                    <a:lnTo>
                      <a:pt x="597" y="31"/>
                    </a:lnTo>
                    <a:lnTo>
                      <a:pt x="535" y="20"/>
                    </a:lnTo>
                    <a:lnTo>
                      <a:pt x="410" y="0"/>
                    </a:lnTo>
                    <a:lnTo>
                      <a:pt x="36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87600" y="5679720"/>
                <a:ext cx="25560" cy="45360"/>
              </a:xfrm>
              <a:custGeom>
                <a:avLst/>
                <a:gdLst/>
                <a:ahLst/>
                <a:rect l="l" t="t" r="r" b="b"/>
                <a:pathLst>
                  <a:path w="193" h="305">
                    <a:moveTo>
                      <a:pt x="0" y="53"/>
                    </a:moveTo>
                    <a:lnTo>
                      <a:pt x="31" y="17"/>
                    </a:lnTo>
                    <a:lnTo>
                      <a:pt x="75" y="0"/>
                    </a:lnTo>
                    <a:lnTo>
                      <a:pt x="130" y="0"/>
                    </a:lnTo>
                    <a:lnTo>
                      <a:pt x="167" y="31"/>
                    </a:lnTo>
                    <a:lnTo>
                      <a:pt x="193" y="86"/>
                    </a:lnTo>
                    <a:lnTo>
                      <a:pt x="193" y="153"/>
                    </a:lnTo>
                    <a:lnTo>
                      <a:pt x="174" y="235"/>
                    </a:lnTo>
                    <a:lnTo>
                      <a:pt x="125" y="305"/>
                    </a:lnTo>
                    <a:lnTo>
                      <a:pt x="167" y="217"/>
                    </a:lnTo>
                    <a:lnTo>
                      <a:pt x="174" y="150"/>
                    </a:lnTo>
                    <a:lnTo>
                      <a:pt x="160" y="99"/>
                    </a:lnTo>
                    <a:lnTo>
                      <a:pt x="130" y="79"/>
                    </a:lnTo>
                    <a:lnTo>
                      <a:pt x="98" y="79"/>
                    </a:lnTo>
                    <a:lnTo>
                      <a:pt x="79" y="86"/>
                    </a:lnTo>
                    <a:lnTo>
                      <a:pt x="75" y="112"/>
                    </a:lnTo>
                    <a:lnTo>
                      <a:pt x="86" y="136"/>
                    </a:lnTo>
                    <a:lnTo>
                      <a:pt x="105" y="150"/>
                    </a:lnTo>
                    <a:lnTo>
                      <a:pt x="105" y="185"/>
                    </a:lnTo>
                    <a:lnTo>
                      <a:pt x="86" y="222"/>
                    </a:lnTo>
                    <a:lnTo>
                      <a:pt x="68" y="235"/>
                    </a:lnTo>
                    <a:lnTo>
                      <a:pt x="20" y="259"/>
                    </a:lnTo>
                    <a:lnTo>
                      <a:pt x="61" y="211"/>
                    </a:lnTo>
                    <a:lnTo>
                      <a:pt x="61" y="191"/>
                    </a:lnTo>
                    <a:lnTo>
                      <a:pt x="44" y="160"/>
                    </a:lnTo>
                    <a:lnTo>
                      <a:pt x="20" y="123"/>
                    </a:lnTo>
                    <a:lnTo>
                      <a:pt x="6" y="99"/>
                    </a:lnTo>
                    <a:lnTo>
                      <a:pt x="6" y="7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781040" y="56484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4" h="58">
                    <a:moveTo>
                      <a:pt x="0" y="58"/>
                    </a:moveTo>
                    <a:lnTo>
                      <a:pt x="62" y="0"/>
                    </a:lnTo>
                    <a:lnTo>
                      <a:pt x="94" y="1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7869240" y="5707080"/>
                <a:ext cx="6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7871400" y="5695920"/>
                <a:ext cx="115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7871400" y="5686560"/>
                <a:ext cx="147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7871400" y="5679720"/>
                <a:ext cx="828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85520" y="5767920"/>
                <a:ext cx="30600" cy="62280"/>
              </a:xfrm>
              <a:custGeom>
                <a:avLst/>
                <a:gdLst/>
                <a:ahLst/>
                <a:rect l="l" t="t" r="r" b="b"/>
                <a:pathLst>
                  <a:path w="235" h="411">
                    <a:moveTo>
                      <a:pt x="49" y="26"/>
                    </a:moveTo>
                    <a:lnTo>
                      <a:pt x="24" y="67"/>
                    </a:lnTo>
                    <a:lnTo>
                      <a:pt x="18" y="120"/>
                    </a:lnTo>
                    <a:lnTo>
                      <a:pt x="28" y="196"/>
                    </a:lnTo>
                    <a:lnTo>
                      <a:pt x="60" y="281"/>
                    </a:lnTo>
                    <a:lnTo>
                      <a:pt x="97" y="339"/>
                    </a:lnTo>
                    <a:lnTo>
                      <a:pt x="152" y="387"/>
                    </a:lnTo>
                    <a:lnTo>
                      <a:pt x="194" y="404"/>
                    </a:lnTo>
                    <a:lnTo>
                      <a:pt x="224" y="391"/>
                    </a:lnTo>
                    <a:lnTo>
                      <a:pt x="231" y="373"/>
                    </a:lnTo>
                    <a:lnTo>
                      <a:pt x="235" y="397"/>
                    </a:lnTo>
                    <a:lnTo>
                      <a:pt x="207" y="411"/>
                    </a:lnTo>
                    <a:lnTo>
                      <a:pt x="176" y="411"/>
                    </a:lnTo>
                    <a:lnTo>
                      <a:pt x="101" y="367"/>
                    </a:lnTo>
                    <a:lnTo>
                      <a:pt x="49" y="292"/>
                    </a:lnTo>
                    <a:lnTo>
                      <a:pt x="5" y="196"/>
                    </a:lnTo>
                    <a:lnTo>
                      <a:pt x="0" y="106"/>
                    </a:lnTo>
                    <a:lnTo>
                      <a:pt x="5" y="35"/>
                    </a:lnTo>
                    <a:lnTo>
                      <a:pt x="24" y="13"/>
                    </a:lnTo>
                    <a:lnTo>
                      <a:pt x="53" y="0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94160" y="5795640"/>
                <a:ext cx="86040" cy="5760"/>
              </a:xfrm>
              <a:custGeom>
                <a:avLst/>
                <a:gdLst/>
                <a:ahLst/>
                <a:rect l="l" t="t" r="r" b="b"/>
                <a:pathLst>
                  <a:path w="652" h="40">
                    <a:moveTo>
                      <a:pt x="7" y="0"/>
                    </a:moveTo>
                    <a:lnTo>
                      <a:pt x="652" y="0"/>
                    </a:lnTo>
                    <a:lnTo>
                      <a:pt x="652" y="14"/>
                    </a:lnTo>
                    <a:lnTo>
                      <a:pt x="62" y="23"/>
                    </a:lnTo>
                    <a:lnTo>
                      <a:pt x="25" y="40"/>
                    </a:lnTo>
                    <a:lnTo>
                      <a:pt x="0" y="2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89480" y="5758560"/>
                <a:ext cx="39240" cy="93240"/>
              </a:xfrm>
              <a:custGeom>
                <a:avLst/>
                <a:gdLst/>
                <a:ahLst/>
                <a:rect l="l" t="t" r="r" b="b"/>
                <a:pathLst>
                  <a:path w="299" h="622">
                    <a:moveTo>
                      <a:pt x="0" y="13"/>
                    </a:moveTo>
                    <a:lnTo>
                      <a:pt x="5" y="48"/>
                    </a:lnTo>
                    <a:lnTo>
                      <a:pt x="97" y="114"/>
                    </a:lnTo>
                    <a:lnTo>
                      <a:pt x="110" y="154"/>
                    </a:lnTo>
                    <a:lnTo>
                      <a:pt x="106" y="176"/>
                    </a:lnTo>
                    <a:lnTo>
                      <a:pt x="18" y="439"/>
                    </a:lnTo>
                    <a:lnTo>
                      <a:pt x="30" y="463"/>
                    </a:lnTo>
                    <a:lnTo>
                      <a:pt x="189" y="492"/>
                    </a:lnTo>
                    <a:lnTo>
                      <a:pt x="231" y="538"/>
                    </a:lnTo>
                    <a:lnTo>
                      <a:pt x="299" y="622"/>
                    </a:lnTo>
                    <a:lnTo>
                      <a:pt x="207" y="470"/>
                    </a:lnTo>
                    <a:lnTo>
                      <a:pt x="200" y="398"/>
                    </a:lnTo>
                    <a:lnTo>
                      <a:pt x="172" y="463"/>
                    </a:lnTo>
                    <a:lnTo>
                      <a:pt x="152" y="470"/>
                    </a:lnTo>
                    <a:lnTo>
                      <a:pt x="37" y="444"/>
                    </a:lnTo>
                    <a:lnTo>
                      <a:pt x="37" y="419"/>
                    </a:lnTo>
                    <a:lnTo>
                      <a:pt x="97" y="248"/>
                    </a:lnTo>
                    <a:lnTo>
                      <a:pt x="134" y="200"/>
                    </a:lnTo>
                    <a:lnTo>
                      <a:pt x="196" y="257"/>
                    </a:lnTo>
                    <a:lnTo>
                      <a:pt x="207" y="336"/>
                    </a:lnTo>
                    <a:lnTo>
                      <a:pt x="238" y="262"/>
                    </a:lnTo>
                    <a:lnTo>
                      <a:pt x="251" y="220"/>
                    </a:lnTo>
                    <a:lnTo>
                      <a:pt x="238" y="176"/>
                    </a:lnTo>
                    <a:lnTo>
                      <a:pt x="141" y="110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035560" y="5788440"/>
                <a:ext cx="101880" cy="149400"/>
              </a:xfrm>
              <a:custGeom>
                <a:avLst/>
                <a:gdLst/>
                <a:ahLst/>
                <a:rect l="l" t="t" r="r" b="b"/>
                <a:pathLst>
                  <a:path w="775" h="995">
                    <a:moveTo>
                      <a:pt x="0" y="490"/>
                    </a:moveTo>
                    <a:lnTo>
                      <a:pt x="62" y="576"/>
                    </a:lnTo>
                    <a:lnTo>
                      <a:pt x="104" y="684"/>
                    </a:lnTo>
                    <a:lnTo>
                      <a:pt x="123" y="703"/>
                    </a:lnTo>
                    <a:lnTo>
                      <a:pt x="154" y="710"/>
                    </a:lnTo>
                    <a:lnTo>
                      <a:pt x="191" y="689"/>
                    </a:lnTo>
                    <a:lnTo>
                      <a:pt x="240" y="648"/>
                    </a:lnTo>
                    <a:lnTo>
                      <a:pt x="275" y="562"/>
                    </a:lnTo>
                    <a:lnTo>
                      <a:pt x="288" y="470"/>
                    </a:lnTo>
                    <a:lnTo>
                      <a:pt x="349" y="345"/>
                    </a:lnTo>
                    <a:lnTo>
                      <a:pt x="380" y="422"/>
                    </a:lnTo>
                    <a:lnTo>
                      <a:pt x="429" y="452"/>
                    </a:lnTo>
                    <a:lnTo>
                      <a:pt x="470" y="440"/>
                    </a:lnTo>
                    <a:lnTo>
                      <a:pt x="512" y="373"/>
                    </a:lnTo>
                    <a:lnTo>
                      <a:pt x="569" y="311"/>
                    </a:lnTo>
                    <a:lnTo>
                      <a:pt x="593" y="228"/>
                    </a:lnTo>
                    <a:lnTo>
                      <a:pt x="604" y="166"/>
                    </a:lnTo>
                    <a:lnTo>
                      <a:pt x="593" y="106"/>
                    </a:lnTo>
                    <a:lnTo>
                      <a:pt x="574" y="48"/>
                    </a:lnTo>
                    <a:lnTo>
                      <a:pt x="512" y="0"/>
                    </a:lnTo>
                    <a:lnTo>
                      <a:pt x="611" y="62"/>
                    </a:lnTo>
                    <a:lnTo>
                      <a:pt x="666" y="171"/>
                    </a:lnTo>
                    <a:lnTo>
                      <a:pt x="673" y="253"/>
                    </a:lnTo>
                    <a:lnTo>
                      <a:pt x="666" y="354"/>
                    </a:lnTo>
                    <a:lnTo>
                      <a:pt x="646" y="518"/>
                    </a:lnTo>
                    <a:lnTo>
                      <a:pt x="727" y="576"/>
                    </a:lnTo>
                    <a:lnTo>
                      <a:pt x="758" y="641"/>
                    </a:lnTo>
                    <a:lnTo>
                      <a:pt x="767" y="714"/>
                    </a:lnTo>
                    <a:lnTo>
                      <a:pt x="763" y="830"/>
                    </a:lnTo>
                    <a:lnTo>
                      <a:pt x="752" y="896"/>
                    </a:lnTo>
                    <a:lnTo>
                      <a:pt x="734" y="910"/>
                    </a:lnTo>
                    <a:lnTo>
                      <a:pt x="775" y="995"/>
                    </a:lnTo>
                    <a:lnTo>
                      <a:pt x="659" y="844"/>
                    </a:lnTo>
                    <a:lnTo>
                      <a:pt x="584" y="758"/>
                    </a:lnTo>
                    <a:lnTo>
                      <a:pt x="512" y="723"/>
                    </a:lnTo>
                    <a:lnTo>
                      <a:pt x="470" y="710"/>
                    </a:lnTo>
                    <a:lnTo>
                      <a:pt x="367" y="738"/>
                    </a:lnTo>
                    <a:lnTo>
                      <a:pt x="266" y="745"/>
                    </a:lnTo>
                    <a:lnTo>
                      <a:pt x="178" y="738"/>
                    </a:lnTo>
                    <a:lnTo>
                      <a:pt x="116" y="728"/>
                    </a:lnTo>
                    <a:lnTo>
                      <a:pt x="86" y="689"/>
                    </a:lnTo>
                    <a:lnTo>
                      <a:pt x="68" y="624"/>
                    </a:lnTo>
                    <a:lnTo>
                      <a:pt x="48" y="576"/>
                    </a:lnTo>
                    <a:lnTo>
                      <a:pt x="0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58880" y="5585400"/>
                <a:ext cx="299160" cy="266400"/>
              </a:xfrm>
              <a:custGeom>
                <a:avLst/>
                <a:gdLst/>
                <a:ahLst/>
                <a:rect l="l" t="t" r="r" b="b"/>
                <a:pathLst>
                  <a:path w="2251" h="1787">
                    <a:moveTo>
                      <a:pt x="1718" y="268"/>
                    </a:moveTo>
                    <a:lnTo>
                      <a:pt x="1609" y="231"/>
                    </a:lnTo>
                    <a:lnTo>
                      <a:pt x="1524" y="224"/>
                    </a:lnTo>
                    <a:lnTo>
                      <a:pt x="1635" y="297"/>
                    </a:lnTo>
                    <a:lnTo>
                      <a:pt x="1702" y="403"/>
                    </a:lnTo>
                    <a:lnTo>
                      <a:pt x="1761" y="565"/>
                    </a:lnTo>
                    <a:lnTo>
                      <a:pt x="1805" y="687"/>
                    </a:lnTo>
                    <a:lnTo>
                      <a:pt x="1835" y="774"/>
                    </a:lnTo>
                    <a:lnTo>
                      <a:pt x="1745" y="639"/>
                    </a:lnTo>
                    <a:lnTo>
                      <a:pt x="1664" y="498"/>
                    </a:lnTo>
                    <a:lnTo>
                      <a:pt x="1561" y="431"/>
                    </a:lnTo>
                    <a:lnTo>
                      <a:pt x="1446" y="378"/>
                    </a:lnTo>
                    <a:lnTo>
                      <a:pt x="1409" y="330"/>
                    </a:lnTo>
                    <a:lnTo>
                      <a:pt x="1462" y="464"/>
                    </a:lnTo>
                    <a:lnTo>
                      <a:pt x="1529" y="530"/>
                    </a:lnTo>
                    <a:lnTo>
                      <a:pt x="1423" y="475"/>
                    </a:lnTo>
                    <a:lnTo>
                      <a:pt x="1339" y="408"/>
                    </a:lnTo>
                    <a:lnTo>
                      <a:pt x="1264" y="383"/>
                    </a:lnTo>
                    <a:lnTo>
                      <a:pt x="1324" y="516"/>
                    </a:lnTo>
                    <a:lnTo>
                      <a:pt x="1434" y="657"/>
                    </a:lnTo>
                    <a:lnTo>
                      <a:pt x="1543" y="730"/>
                    </a:lnTo>
                    <a:lnTo>
                      <a:pt x="1664" y="822"/>
                    </a:lnTo>
                    <a:lnTo>
                      <a:pt x="1750" y="883"/>
                    </a:lnTo>
                    <a:lnTo>
                      <a:pt x="1798" y="961"/>
                    </a:lnTo>
                    <a:lnTo>
                      <a:pt x="1805" y="1044"/>
                    </a:lnTo>
                    <a:lnTo>
                      <a:pt x="1817" y="1178"/>
                    </a:lnTo>
                    <a:lnTo>
                      <a:pt x="1884" y="1288"/>
                    </a:lnTo>
                    <a:lnTo>
                      <a:pt x="1950" y="1337"/>
                    </a:lnTo>
                    <a:lnTo>
                      <a:pt x="2053" y="1360"/>
                    </a:lnTo>
                    <a:lnTo>
                      <a:pt x="2128" y="1422"/>
                    </a:lnTo>
                    <a:lnTo>
                      <a:pt x="2145" y="1508"/>
                    </a:lnTo>
                    <a:lnTo>
                      <a:pt x="2172" y="1453"/>
                    </a:lnTo>
                    <a:lnTo>
                      <a:pt x="2145" y="1347"/>
                    </a:lnTo>
                    <a:lnTo>
                      <a:pt x="2073" y="1275"/>
                    </a:lnTo>
                    <a:lnTo>
                      <a:pt x="2006" y="1238"/>
                    </a:lnTo>
                    <a:lnTo>
                      <a:pt x="1946" y="1152"/>
                    </a:lnTo>
                    <a:lnTo>
                      <a:pt x="1902" y="1062"/>
                    </a:lnTo>
                    <a:lnTo>
                      <a:pt x="1969" y="1116"/>
                    </a:lnTo>
                    <a:lnTo>
                      <a:pt x="2024" y="1132"/>
                    </a:lnTo>
                    <a:lnTo>
                      <a:pt x="2062" y="1121"/>
                    </a:lnTo>
                    <a:lnTo>
                      <a:pt x="2053" y="1097"/>
                    </a:lnTo>
                    <a:lnTo>
                      <a:pt x="2024" y="1068"/>
                    </a:lnTo>
                    <a:lnTo>
                      <a:pt x="1981" y="1000"/>
                    </a:lnTo>
                    <a:lnTo>
                      <a:pt x="1976" y="934"/>
                    </a:lnTo>
                    <a:lnTo>
                      <a:pt x="1990" y="901"/>
                    </a:lnTo>
                    <a:lnTo>
                      <a:pt x="2006" y="883"/>
                    </a:lnTo>
                    <a:lnTo>
                      <a:pt x="2024" y="897"/>
                    </a:lnTo>
                    <a:lnTo>
                      <a:pt x="2066" y="915"/>
                    </a:lnTo>
                    <a:lnTo>
                      <a:pt x="2135" y="1000"/>
                    </a:lnTo>
                    <a:lnTo>
                      <a:pt x="2193" y="1158"/>
                    </a:lnTo>
                    <a:lnTo>
                      <a:pt x="2225" y="1226"/>
                    </a:lnTo>
                    <a:lnTo>
                      <a:pt x="2185" y="1000"/>
                    </a:lnTo>
                    <a:lnTo>
                      <a:pt x="2096" y="738"/>
                    </a:lnTo>
                    <a:lnTo>
                      <a:pt x="1956" y="488"/>
                    </a:lnTo>
                    <a:lnTo>
                      <a:pt x="1895" y="408"/>
                    </a:lnTo>
                    <a:lnTo>
                      <a:pt x="1990" y="493"/>
                    </a:lnTo>
                    <a:lnTo>
                      <a:pt x="2145" y="774"/>
                    </a:lnTo>
                    <a:lnTo>
                      <a:pt x="2220" y="1062"/>
                    </a:lnTo>
                    <a:lnTo>
                      <a:pt x="2251" y="1374"/>
                    </a:lnTo>
                    <a:lnTo>
                      <a:pt x="2246" y="1598"/>
                    </a:lnTo>
                    <a:lnTo>
                      <a:pt x="2128" y="1719"/>
                    </a:lnTo>
                    <a:lnTo>
                      <a:pt x="1928" y="1787"/>
                    </a:lnTo>
                    <a:lnTo>
                      <a:pt x="1767" y="1763"/>
                    </a:lnTo>
                    <a:lnTo>
                      <a:pt x="1596" y="1710"/>
                    </a:lnTo>
                    <a:lnTo>
                      <a:pt x="1529" y="1604"/>
                    </a:lnTo>
                    <a:lnTo>
                      <a:pt x="1457" y="1563"/>
                    </a:lnTo>
                    <a:lnTo>
                      <a:pt x="1352" y="1536"/>
                    </a:lnTo>
                    <a:lnTo>
                      <a:pt x="1264" y="1512"/>
                    </a:lnTo>
                    <a:lnTo>
                      <a:pt x="1207" y="1508"/>
                    </a:lnTo>
                    <a:lnTo>
                      <a:pt x="1153" y="1413"/>
                    </a:lnTo>
                    <a:lnTo>
                      <a:pt x="1091" y="1360"/>
                    </a:lnTo>
                    <a:lnTo>
                      <a:pt x="1007" y="1391"/>
                    </a:lnTo>
                    <a:lnTo>
                      <a:pt x="939" y="1391"/>
                    </a:lnTo>
                    <a:lnTo>
                      <a:pt x="961" y="1471"/>
                    </a:lnTo>
                    <a:lnTo>
                      <a:pt x="860" y="1487"/>
                    </a:lnTo>
                    <a:lnTo>
                      <a:pt x="816" y="1395"/>
                    </a:lnTo>
                    <a:lnTo>
                      <a:pt x="731" y="1395"/>
                    </a:lnTo>
                    <a:lnTo>
                      <a:pt x="653" y="1360"/>
                    </a:lnTo>
                    <a:lnTo>
                      <a:pt x="607" y="1319"/>
                    </a:lnTo>
                    <a:lnTo>
                      <a:pt x="586" y="1266"/>
                    </a:lnTo>
                    <a:lnTo>
                      <a:pt x="581" y="1238"/>
                    </a:lnTo>
                    <a:lnTo>
                      <a:pt x="462" y="1217"/>
                    </a:lnTo>
                    <a:lnTo>
                      <a:pt x="323" y="1165"/>
                    </a:lnTo>
                    <a:lnTo>
                      <a:pt x="176" y="1084"/>
                    </a:lnTo>
                    <a:lnTo>
                      <a:pt x="93" y="1012"/>
                    </a:lnTo>
                    <a:lnTo>
                      <a:pt x="42" y="961"/>
                    </a:lnTo>
                    <a:lnTo>
                      <a:pt x="14" y="901"/>
                    </a:lnTo>
                    <a:lnTo>
                      <a:pt x="0" y="846"/>
                    </a:lnTo>
                    <a:lnTo>
                      <a:pt x="31" y="687"/>
                    </a:lnTo>
                    <a:lnTo>
                      <a:pt x="152" y="493"/>
                    </a:lnTo>
                    <a:lnTo>
                      <a:pt x="420" y="268"/>
                    </a:lnTo>
                    <a:lnTo>
                      <a:pt x="640" y="122"/>
                    </a:lnTo>
                    <a:lnTo>
                      <a:pt x="816" y="46"/>
                    </a:lnTo>
                    <a:lnTo>
                      <a:pt x="1007" y="11"/>
                    </a:lnTo>
                    <a:lnTo>
                      <a:pt x="1231" y="0"/>
                    </a:lnTo>
                    <a:lnTo>
                      <a:pt x="1414" y="30"/>
                    </a:lnTo>
                    <a:lnTo>
                      <a:pt x="1543" y="97"/>
                    </a:lnTo>
                    <a:lnTo>
                      <a:pt x="1653" y="187"/>
                    </a:lnTo>
                    <a:lnTo>
                      <a:pt x="1718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078040" y="578628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192" h="396">
                    <a:moveTo>
                      <a:pt x="75" y="38"/>
                    </a:moveTo>
                    <a:lnTo>
                      <a:pt x="132" y="75"/>
                    </a:lnTo>
                    <a:lnTo>
                      <a:pt x="174" y="128"/>
                    </a:lnTo>
                    <a:lnTo>
                      <a:pt x="192" y="196"/>
                    </a:lnTo>
                    <a:lnTo>
                      <a:pt x="192" y="246"/>
                    </a:lnTo>
                    <a:lnTo>
                      <a:pt x="174" y="301"/>
                    </a:lnTo>
                    <a:lnTo>
                      <a:pt x="150" y="329"/>
                    </a:lnTo>
                    <a:lnTo>
                      <a:pt x="121" y="396"/>
                    </a:lnTo>
                    <a:lnTo>
                      <a:pt x="102" y="396"/>
                    </a:lnTo>
                    <a:lnTo>
                      <a:pt x="108" y="363"/>
                    </a:lnTo>
                    <a:lnTo>
                      <a:pt x="150" y="310"/>
                    </a:lnTo>
                    <a:lnTo>
                      <a:pt x="162" y="262"/>
                    </a:lnTo>
                    <a:lnTo>
                      <a:pt x="150" y="196"/>
                    </a:lnTo>
                    <a:lnTo>
                      <a:pt x="121" y="154"/>
                    </a:lnTo>
                    <a:lnTo>
                      <a:pt x="121" y="209"/>
                    </a:lnTo>
                    <a:lnTo>
                      <a:pt x="75" y="288"/>
                    </a:lnTo>
                    <a:lnTo>
                      <a:pt x="88" y="223"/>
                    </a:lnTo>
                    <a:lnTo>
                      <a:pt x="75" y="174"/>
                    </a:lnTo>
                    <a:lnTo>
                      <a:pt x="40" y="174"/>
                    </a:lnTo>
                    <a:lnTo>
                      <a:pt x="22" y="147"/>
                    </a:lnTo>
                    <a:lnTo>
                      <a:pt x="9" y="135"/>
                    </a:lnTo>
                    <a:lnTo>
                      <a:pt x="0" y="75"/>
                    </a:lnTo>
                    <a:lnTo>
                      <a:pt x="22" y="27"/>
                    </a:lnTo>
                    <a:lnTo>
                      <a:pt x="53" y="0"/>
                    </a:lnTo>
                    <a:lnTo>
                      <a:pt x="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8062920" y="5799240"/>
                <a:ext cx="10440" cy="34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8057880" y="5795640"/>
                <a:ext cx="1152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8052480" y="5803920"/>
                <a:ext cx="936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8049240" y="5812560"/>
                <a:ext cx="648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10680" y="5725080"/>
                <a:ext cx="354240" cy="252000"/>
              </a:xfrm>
              <a:custGeom>
                <a:avLst/>
                <a:gdLst/>
                <a:ahLst/>
                <a:rect l="l" t="t" r="r" b="b"/>
                <a:pathLst>
                  <a:path w="2665" h="1692">
                    <a:moveTo>
                      <a:pt x="514" y="1178"/>
                    </a:moveTo>
                    <a:lnTo>
                      <a:pt x="595" y="1291"/>
                    </a:lnTo>
                    <a:lnTo>
                      <a:pt x="632" y="1387"/>
                    </a:lnTo>
                    <a:lnTo>
                      <a:pt x="632" y="1420"/>
                    </a:lnTo>
                    <a:lnTo>
                      <a:pt x="334" y="1420"/>
                    </a:lnTo>
                    <a:lnTo>
                      <a:pt x="19" y="1409"/>
                    </a:lnTo>
                    <a:lnTo>
                      <a:pt x="0" y="1692"/>
                    </a:lnTo>
                    <a:lnTo>
                      <a:pt x="37" y="1433"/>
                    </a:lnTo>
                    <a:lnTo>
                      <a:pt x="312" y="1440"/>
                    </a:lnTo>
                    <a:lnTo>
                      <a:pt x="477" y="1446"/>
                    </a:lnTo>
                    <a:lnTo>
                      <a:pt x="804" y="1440"/>
                    </a:lnTo>
                    <a:lnTo>
                      <a:pt x="1123" y="1395"/>
                    </a:lnTo>
                    <a:lnTo>
                      <a:pt x="1750" y="1374"/>
                    </a:lnTo>
                    <a:lnTo>
                      <a:pt x="1815" y="1349"/>
                    </a:lnTo>
                    <a:lnTo>
                      <a:pt x="1892" y="1321"/>
                    </a:lnTo>
                    <a:lnTo>
                      <a:pt x="1960" y="1268"/>
                    </a:lnTo>
                    <a:lnTo>
                      <a:pt x="1995" y="1268"/>
                    </a:lnTo>
                    <a:lnTo>
                      <a:pt x="2020" y="1187"/>
                    </a:lnTo>
                    <a:lnTo>
                      <a:pt x="2045" y="1157"/>
                    </a:lnTo>
                    <a:lnTo>
                      <a:pt x="2213" y="1090"/>
                    </a:lnTo>
                    <a:lnTo>
                      <a:pt x="2472" y="947"/>
                    </a:lnTo>
                    <a:lnTo>
                      <a:pt x="2354" y="963"/>
                    </a:lnTo>
                    <a:lnTo>
                      <a:pt x="2391" y="881"/>
                    </a:lnTo>
                    <a:lnTo>
                      <a:pt x="2472" y="798"/>
                    </a:lnTo>
                    <a:lnTo>
                      <a:pt x="2562" y="791"/>
                    </a:lnTo>
                    <a:lnTo>
                      <a:pt x="2621" y="648"/>
                    </a:lnTo>
                    <a:lnTo>
                      <a:pt x="2665" y="537"/>
                    </a:lnTo>
                    <a:lnTo>
                      <a:pt x="2606" y="517"/>
                    </a:lnTo>
                    <a:lnTo>
                      <a:pt x="2525" y="689"/>
                    </a:lnTo>
                    <a:lnTo>
                      <a:pt x="2435" y="783"/>
                    </a:lnTo>
                    <a:lnTo>
                      <a:pt x="2366" y="864"/>
                    </a:lnTo>
                    <a:lnTo>
                      <a:pt x="2315" y="978"/>
                    </a:lnTo>
                    <a:lnTo>
                      <a:pt x="2094" y="1081"/>
                    </a:lnTo>
                    <a:lnTo>
                      <a:pt x="2077" y="829"/>
                    </a:lnTo>
                    <a:lnTo>
                      <a:pt x="2094" y="560"/>
                    </a:lnTo>
                    <a:lnTo>
                      <a:pt x="2114" y="418"/>
                    </a:lnTo>
                    <a:lnTo>
                      <a:pt x="2144" y="374"/>
                    </a:lnTo>
                    <a:lnTo>
                      <a:pt x="2144" y="343"/>
                    </a:lnTo>
                    <a:lnTo>
                      <a:pt x="2160" y="268"/>
                    </a:lnTo>
                    <a:lnTo>
                      <a:pt x="2174" y="200"/>
                    </a:lnTo>
                    <a:lnTo>
                      <a:pt x="2144" y="277"/>
                    </a:lnTo>
                    <a:lnTo>
                      <a:pt x="2121" y="365"/>
                    </a:lnTo>
                    <a:lnTo>
                      <a:pt x="2070" y="493"/>
                    </a:lnTo>
                    <a:lnTo>
                      <a:pt x="2045" y="671"/>
                    </a:lnTo>
                    <a:lnTo>
                      <a:pt x="2045" y="798"/>
                    </a:lnTo>
                    <a:lnTo>
                      <a:pt x="1986" y="636"/>
                    </a:lnTo>
                    <a:lnTo>
                      <a:pt x="1982" y="403"/>
                    </a:lnTo>
                    <a:lnTo>
                      <a:pt x="1995" y="180"/>
                    </a:lnTo>
                    <a:lnTo>
                      <a:pt x="2045" y="0"/>
                    </a:lnTo>
                    <a:lnTo>
                      <a:pt x="1967" y="83"/>
                    </a:lnTo>
                    <a:lnTo>
                      <a:pt x="1949" y="277"/>
                    </a:lnTo>
                    <a:lnTo>
                      <a:pt x="1960" y="470"/>
                    </a:lnTo>
                    <a:lnTo>
                      <a:pt x="1973" y="644"/>
                    </a:lnTo>
                    <a:lnTo>
                      <a:pt x="1927" y="657"/>
                    </a:lnTo>
                    <a:lnTo>
                      <a:pt x="1868" y="664"/>
                    </a:lnTo>
                    <a:lnTo>
                      <a:pt x="1808" y="644"/>
                    </a:lnTo>
                    <a:lnTo>
                      <a:pt x="1750" y="595"/>
                    </a:lnTo>
                    <a:lnTo>
                      <a:pt x="1704" y="508"/>
                    </a:lnTo>
                    <a:lnTo>
                      <a:pt x="1653" y="644"/>
                    </a:lnTo>
                    <a:lnTo>
                      <a:pt x="1586" y="754"/>
                    </a:lnTo>
                    <a:lnTo>
                      <a:pt x="1450" y="925"/>
                    </a:lnTo>
                    <a:lnTo>
                      <a:pt x="1281" y="875"/>
                    </a:lnTo>
                    <a:lnTo>
                      <a:pt x="1118" y="816"/>
                    </a:lnTo>
                    <a:lnTo>
                      <a:pt x="1325" y="904"/>
                    </a:lnTo>
                    <a:lnTo>
                      <a:pt x="1474" y="956"/>
                    </a:lnTo>
                    <a:lnTo>
                      <a:pt x="1614" y="985"/>
                    </a:lnTo>
                    <a:lnTo>
                      <a:pt x="1764" y="1022"/>
                    </a:lnTo>
                    <a:lnTo>
                      <a:pt x="1609" y="1016"/>
                    </a:lnTo>
                    <a:lnTo>
                      <a:pt x="1423" y="991"/>
                    </a:lnTo>
                    <a:lnTo>
                      <a:pt x="1229" y="941"/>
                    </a:lnTo>
                    <a:lnTo>
                      <a:pt x="1109" y="956"/>
                    </a:lnTo>
                    <a:lnTo>
                      <a:pt x="1272" y="1075"/>
                    </a:lnTo>
                    <a:lnTo>
                      <a:pt x="1206" y="1090"/>
                    </a:lnTo>
                    <a:lnTo>
                      <a:pt x="1094" y="1104"/>
                    </a:lnTo>
                    <a:lnTo>
                      <a:pt x="960" y="985"/>
                    </a:lnTo>
                    <a:lnTo>
                      <a:pt x="901" y="985"/>
                    </a:lnTo>
                    <a:lnTo>
                      <a:pt x="966" y="1208"/>
                    </a:lnTo>
                    <a:lnTo>
                      <a:pt x="842" y="1111"/>
                    </a:lnTo>
                    <a:lnTo>
                      <a:pt x="782" y="1022"/>
                    </a:lnTo>
                    <a:lnTo>
                      <a:pt x="536" y="1111"/>
                    </a:lnTo>
                    <a:lnTo>
                      <a:pt x="514" y="1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749000" y="5753880"/>
                <a:ext cx="25560" cy="77400"/>
              </a:xfrm>
              <a:custGeom>
                <a:avLst/>
                <a:gdLst/>
                <a:ahLst/>
                <a:rect l="l" t="t" r="r" b="b"/>
                <a:pathLst>
                  <a:path w="190" h="521">
                    <a:moveTo>
                      <a:pt x="171" y="22"/>
                    </a:moveTo>
                    <a:lnTo>
                      <a:pt x="111" y="0"/>
                    </a:lnTo>
                    <a:lnTo>
                      <a:pt x="72" y="0"/>
                    </a:lnTo>
                    <a:lnTo>
                      <a:pt x="28" y="35"/>
                    </a:lnTo>
                    <a:lnTo>
                      <a:pt x="5" y="103"/>
                    </a:lnTo>
                    <a:lnTo>
                      <a:pt x="0" y="193"/>
                    </a:lnTo>
                    <a:lnTo>
                      <a:pt x="19" y="290"/>
                    </a:lnTo>
                    <a:lnTo>
                      <a:pt x="51" y="364"/>
                    </a:lnTo>
                    <a:lnTo>
                      <a:pt x="90" y="433"/>
                    </a:lnTo>
                    <a:lnTo>
                      <a:pt x="164" y="521"/>
                    </a:lnTo>
                    <a:lnTo>
                      <a:pt x="190" y="505"/>
                    </a:lnTo>
                    <a:lnTo>
                      <a:pt x="127" y="399"/>
                    </a:lnTo>
                    <a:lnTo>
                      <a:pt x="90" y="304"/>
                    </a:lnTo>
                    <a:lnTo>
                      <a:pt x="72" y="215"/>
                    </a:lnTo>
                    <a:lnTo>
                      <a:pt x="81" y="147"/>
                    </a:lnTo>
                    <a:lnTo>
                      <a:pt x="104" y="88"/>
                    </a:lnTo>
                    <a:lnTo>
                      <a:pt x="131" y="51"/>
                    </a:lnTo>
                    <a:lnTo>
                      <a:pt x="17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60800" y="5772960"/>
                <a:ext cx="81720" cy="73800"/>
              </a:xfrm>
              <a:custGeom>
                <a:avLst/>
                <a:gdLst/>
                <a:ahLst/>
                <a:rect l="l" t="t" r="r" b="b"/>
                <a:pathLst>
                  <a:path w="611" h="493">
                    <a:moveTo>
                      <a:pt x="611" y="0"/>
                    </a:moveTo>
                    <a:lnTo>
                      <a:pt x="505" y="113"/>
                    </a:lnTo>
                    <a:lnTo>
                      <a:pt x="358" y="253"/>
                    </a:lnTo>
                    <a:lnTo>
                      <a:pt x="199" y="431"/>
                    </a:lnTo>
                    <a:lnTo>
                      <a:pt x="97" y="431"/>
                    </a:lnTo>
                    <a:lnTo>
                      <a:pt x="21" y="440"/>
                    </a:lnTo>
                    <a:lnTo>
                      <a:pt x="0" y="493"/>
                    </a:lnTo>
                    <a:lnTo>
                      <a:pt x="21" y="401"/>
                    </a:lnTo>
                    <a:lnTo>
                      <a:pt x="140" y="387"/>
                    </a:lnTo>
                    <a:lnTo>
                      <a:pt x="318" y="228"/>
                    </a:lnTo>
                    <a:lnTo>
                      <a:pt x="549" y="51"/>
                    </a:lnTo>
                    <a:lnTo>
                      <a:pt x="6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580880" y="5846760"/>
                <a:ext cx="73080" cy="33480"/>
              </a:xfrm>
              <a:custGeom>
                <a:avLst/>
                <a:gdLst/>
                <a:ahLst/>
                <a:rect l="l" t="t" r="r" b="b"/>
                <a:pathLst>
                  <a:path w="551" h="228">
                    <a:moveTo>
                      <a:pt x="8" y="228"/>
                    </a:moveTo>
                    <a:lnTo>
                      <a:pt x="148" y="155"/>
                    </a:lnTo>
                    <a:lnTo>
                      <a:pt x="342" y="21"/>
                    </a:lnTo>
                    <a:lnTo>
                      <a:pt x="551" y="0"/>
                    </a:lnTo>
                    <a:lnTo>
                      <a:pt x="342" y="7"/>
                    </a:lnTo>
                    <a:lnTo>
                      <a:pt x="162" y="118"/>
                    </a:lnTo>
                    <a:lnTo>
                      <a:pt x="0" y="206"/>
                    </a:lnTo>
                    <a:lnTo>
                      <a:pt x="8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806600" y="5792040"/>
                <a:ext cx="27360" cy="87120"/>
              </a:xfrm>
              <a:custGeom>
                <a:avLst/>
                <a:gdLst/>
                <a:ahLst/>
                <a:rect l="l" t="t" r="r" b="b"/>
                <a:pathLst>
                  <a:path w="207" h="580">
                    <a:moveTo>
                      <a:pt x="207" y="6"/>
                    </a:moveTo>
                    <a:lnTo>
                      <a:pt x="126" y="165"/>
                    </a:lnTo>
                    <a:lnTo>
                      <a:pt x="82" y="336"/>
                    </a:lnTo>
                    <a:lnTo>
                      <a:pt x="44" y="561"/>
                    </a:lnTo>
                    <a:lnTo>
                      <a:pt x="0" y="580"/>
                    </a:lnTo>
                    <a:lnTo>
                      <a:pt x="59" y="283"/>
                    </a:lnTo>
                    <a:lnTo>
                      <a:pt x="29" y="135"/>
                    </a:lnTo>
                    <a:lnTo>
                      <a:pt x="29" y="0"/>
                    </a:lnTo>
                    <a:lnTo>
                      <a:pt x="44" y="38"/>
                    </a:lnTo>
                    <a:lnTo>
                      <a:pt x="50" y="130"/>
                    </a:lnTo>
                    <a:lnTo>
                      <a:pt x="82" y="193"/>
                    </a:lnTo>
                    <a:lnTo>
                      <a:pt x="119" y="96"/>
                    </a:lnTo>
                    <a:lnTo>
                      <a:pt x="191" y="0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794720" y="577656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01" h="53">
                    <a:moveTo>
                      <a:pt x="0" y="9"/>
                    </a:moveTo>
                    <a:lnTo>
                      <a:pt x="94" y="0"/>
                    </a:lnTo>
                    <a:lnTo>
                      <a:pt x="101" y="53"/>
                    </a:lnTo>
                    <a:lnTo>
                      <a:pt x="0" y="3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511400" y="5881680"/>
                <a:ext cx="356760" cy="205560"/>
              </a:xfrm>
              <a:custGeom>
                <a:avLst/>
                <a:gdLst/>
                <a:ahLst/>
                <a:rect l="l" t="t" r="r" b="b"/>
                <a:pathLst>
                  <a:path w="2683" h="1379">
                    <a:moveTo>
                      <a:pt x="0" y="687"/>
                    </a:moveTo>
                    <a:lnTo>
                      <a:pt x="12" y="777"/>
                    </a:lnTo>
                    <a:lnTo>
                      <a:pt x="37" y="821"/>
                    </a:lnTo>
                    <a:lnTo>
                      <a:pt x="72" y="850"/>
                    </a:lnTo>
                    <a:lnTo>
                      <a:pt x="120" y="867"/>
                    </a:lnTo>
                    <a:lnTo>
                      <a:pt x="410" y="881"/>
                    </a:lnTo>
                    <a:lnTo>
                      <a:pt x="373" y="597"/>
                    </a:lnTo>
                    <a:lnTo>
                      <a:pt x="351" y="382"/>
                    </a:lnTo>
                    <a:lnTo>
                      <a:pt x="373" y="389"/>
                    </a:lnTo>
                    <a:lnTo>
                      <a:pt x="410" y="562"/>
                    </a:lnTo>
                    <a:lnTo>
                      <a:pt x="977" y="582"/>
                    </a:lnTo>
                    <a:lnTo>
                      <a:pt x="977" y="463"/>
                    </a:lnTo>
                    <a:lnTo>
                      <a:pt x="1236" y="768"/>
                    </a:lnTo>
                    <a:lnTo>
                      <a:pt x="1303" y="784"/>
                    </a:lnTo>
                    <a:lnTo>
                      <a:pt x="1346" y="756"/>
                    </a:lnTo>
                    <a:lnTo>
                      <a:pt x="1139" y="470"/>
                    </a:lnTo>
                    <a:lnTo>
                      <a:pt x="1250" y="530"/>
                    </a:lnTo>
                    <a:lnTo>
                      <a:pt x="1623" y="463"/>
                    </a:lnTo>
                    <a:lnTo>
                      <a:pt x="1817" y="470"/>
                    </a:lnTo>
                    <a:lnTo>
                      <a:pt x="1826" y="277"/>
                    </a:lnTo>
                    <a:lnTo>
                      <a:pt x="1861" y="240"/>
                    </a:lnTo>
                    <a:lnTo>
                      <a:pt x="1879" y="369"/>
                    </a:lnTo>
                    <a:lnTo>
                      <a:pt x="1960" y="435"/>
                    </a:lnTo>
                    <a:lnTo>
                      <a:pt x="2013" y="523"/>
                    </a:lnTo>
                    <a:lnTo>
                      <a:pt x="1907" y="622"/>
                    </a:lnTo>
                    <a:lnTo>
                      <a:pt x="1771" y="724"/>
                    </a:lnTo>
                    <a:lnTo>
                      <a:pt x="1630" y="768"/>
                    </a:lnTo>
                    <a:lnTo>
                      <a:pt x="1489" y="791"/>
                    </a:lnTo>
                    <a:lnTo>
                      <a:pt x="1333" y="814"/>
                    </a:lnTo>
                    <a:lnTo>
                      <a:pt x="1505" y="844"/>
                    </a:lnTo>
                    <a:lnTo>
                      <a:pt x="1713" y="814"/>
                    </a:lnTo>
                    <a:lnTo>
                      <a:pt x="1847" y="814"/>
                    </a:lnTo>
                    <a:lnTo>
                      <a:pt x="2013" y="850"/>
                    </a:lnTo>
                    <a:lnTo>
                      <a:pt x="2038" y="874"/>
                    </a:lnTo>
                    <a:lnTo>
                      <a:pt x="2038" y="798"/>
                    </a:lnTo>
                    <a:lnTo>
                      <a:pt x="2063" y="756"/>
                    </a:lnTo>
                    <a:lnTo>
                      <a:pt x="2131" y="733"/>
                    </a:lnTo>
                    <a:lnTo>
                      <a:pt x="2175" y="724"/>
                    </a:lnTo>
                    <a:lnTo>
                      <a:pt x="2271" y="717"/>
                    </a:lnTo>
                    <a:lnTo>
                      <a:pt x="2225" y="657"/>
                    </a:lnTo>
                    <a:lnTo>
                      <a:pt x="2124" y="604"/>
                    </a:lnTo>
                    <a:lnTo>
                      <a:pt x="2034" y="588"/>
                    </a:lnTo>
                    <a:lnTo>
                      <a:pt x="2124" y="553"/>
                    </a:lnTo>
                    <a:lnTo>
                      <a:pt x="2213" y="553"/>
                    </a:lnTo>
                    <a:lnTo>
                      <a:pt x="2355" y="604"/>
                    </a:lnTo>
                    <a:lnTo>
                      <a:pt x="2465" y="674"/>
                    </a:lnTo>
                    <a:lnTo>
                      <a:pt x="2538" y="740"/>
                    </a:lnTo>
                    <a:lnTo>
                      <a:pt x="2481" y="628"/>
                    </a:lnTo>
                    <a:lnTo>
                      <a:pt x="2412" y="553"/>
                    </a:lnTo>
                    <a:lnTo>
                      <a:pt x="2294" y="463"/>
                    </a:lnTo>
                    <a:lnTo>
                      <a:pt x="2232" y="457"/>
                    </a:lnTo>
                    <a:lnTo>
                      <a:pt x="2131" y="463"/>
                    </a:lnTo>
                    <a:lnTo>
                      <a:pt x="2038" y="507"/>
                    </a:lnTo>
                    <a:lnTo>
                      <a:pt x="2026" y="441"/>
                    </a:lnTo>
                    <a:lnTo>
                      <a:pt x="2026" y="358"/>
                    </a:lnTo>
                    <a:lnTo>
                      <a:pt x="2034" y="323"/>
                    </a:lnTo>
                    <a:lnTo>
                      <a:pt x="2019" y="202"/>
                    </a:lnTo>
                    <a:lnTo>
                      <a:pt x="2070" y="369"/>
                    </a:lnTo>
                    <a:lnTo>
                      <a:pt x="2184" y="382"/>
                    </a:lnTo>
                    <a:lnTo>
                      <a:pt x="2340" y="217"/>
                    </a:lnTo>
                    <a:lnTo>
                      <a:pt x="2502" y="0"/>
                    </a:lnTo>
                    <a:lnTo>
                      <a:pt x="2359" y="217"/>
                    </a:lnTo>
                    <a:lnTo>
                      <a:pt x="2221" y="395"/>
                    </a:lnTo>
                    <a:lnTo>
                      <a:pt x="2184" y="435"/>
                    </a:lnTo>
                    <a:lnTo>
                      <a:pt x="2265" y="429"/>
                    </a:lnTo>
                    <a:lnTo>
                      <a:pt x="2347" y="429"/>
                    </a:lnTo>
                    <a:lnTo>
                      <a:pt x="2419" y="448"/>
                    </a:lnTo>
                    <a:lnTo>
                      <a:pt x="2533" y="404"/>
                    </a:lnTo>
                    <a:lnTo>
                      <a:pt x="2599" y="567"/>
                    </a:lnTo>
                    <a:lnTo>
                      <a:pt x="2637" y="814"/>
                    </a:lnTo>
                    <a:lnTo>
                      <a:pt x="2683" y="1037"/>
                    </a:lnTo>
                    <a:lnTo>
                      <a:pt x="2555" y="1096"/>
                    </a:lnTo>
                    <a:lnTo>
                      <a:pt x="2271" y="1112"/>
                    </a:lnTo>
                    <a:lnTo>
                      <a:pt x="1663" y="1105"/>
                    </a:lnTo>
                    <a:lnTo>
                      <a:pt x="1517" y="1096"/>
                    </a:lnTo>
                    <a:lnTo>
                      <a:pt x="1436" y="1187"/>
                    </a:lnTo>
                    <a:lnTo>
                      <a:pt x="1408" y="1277"/>
                    </a:lnTo>
                    <a:lnTo>
                      <a:pt x="1402" y="1379"/>
                    </a:lnTo>
                    <a:lnTo>
                      <a:pt x="1408" y="1208"/>
                    </a:lnTo>
                    <a:lnTo>
                      <a:pt x="1408" y="1149"/>
                    </a:lnTo>
                    <a:lnTo>
                      <a:pt x="1236" y="1155"/>
                    </a:lnTo>
                    <a:lnTo>
                      <a:pt x="1139" y="1283"/>
                    </a:lnTo>
                    <a:lnTo>
                      <a:pt x="1072" y="1335"/>
                    </a:lnTo>
                    <a:lnTo>
                      <a:pt x="994" y="1351"/>
                    </a:lnTo>
                    <a:lnTo>
                      <a:pt x="991" y="1330"/>
                    </a:lnTo>
                    <a:lnTo>
                      <a:pt x="1006" y="1270"/>
                    </a:lnTo>
                    <a:lnTo>
                      <a:pt x="1012" y="1321"/>
                    </a:lnTo>
                    <a:lnTo>
                      <a:pt x="1043" y="1321"/>
                    </a:lnTo>
                    <a:lnTo>
                      <a:pt x="1125" y="1261"/>
                    </a:lnTo>
                    <a:lnTo>
                      <a:pt x="1199" y="1164"/>
                    </a:lnTo>
                    <a:lnTo>
                      <a:pt x="1236" y="1081"/>
                    </a:lnTo>
                    <a:lnTo>
                      <a:pt x="1243" y="1136"/>
                    </a:lnTo>
                    <a:lnTo>
                      <a:pt x="1346" y="1112"/>
                    </a:lnTo>
                    <a:lnTo>
                      <a:pt x="1505" y="1074"/>
                    </a:lnTo>
                    <a:lnTo>
                      <a:pt x="1614" y="1031"/>
                    </a:lnTo>
                    <a:lnTo>
                      <a:pt x="1542" y="987"/>
                    </a:lnTo>
                    <a:lnTo>
                      <a:pt x="1454" y="954"/>
                    </a:lnTo>
                    <a:lnTo>
                      <a:pt x="1377" y="943"/>
                    </a:lnTo>
                    <a:lnTo>
                      <a:pt x="1303" y="943"/>
                    </a:lnTo>
                    <a:lnTo>
                      <a:pt x="1116" y="1008"/>
                    </a:lnTo>
                    <a:lnTo>
                      <a:pt x="1035" y="1208"/>
                    </a:lnTo>
                    <a:lnTo>
                      <a:pt x="1079" y="1044"/>
                    </a:lnTo>
                    <a:lnTo>
                      <a:pt x="1006" y="1037"/>
                    </a:lnTo>
                    <a:lnTo>
                      <a:pt x="931" y="1031"/>
                    </a:lnTo>
                    <a:lnTo>
                      <a:pt x="916" y="1061"/>
                    </a:lnTo>
                    <a:lnTo>
                      <a:pt x="835" y="1298"/>
                    </a:lnTo>
                    <a:lnTo>
                      <a:pt x="869" y="1121"/>
                    </a:lnTo>
                    <a:lnTo>
                      <a:pt x="869" y="1074"/>
                    </a:lnTo>
                    <a:lnTo>
                      <a:pt x="900" y="1015"/>
                    </a:lnTo>
                    <a:lnTo>
                      <a:pt x="424" y="993"/>
                    </a:lnTo>
                    <a:lnTo>
                      <a:pt x="417" y="909"/>
                    </a:lnTo>
                    <a:lnTo>
                      <a:pt x="127" y="888"/>
                    </a:lnTo>
                    <a:lnTo>
                      <a:pt x="58" y="867"/>
                    </a:lnTo>
                    <a:lnTo>
                      <a:pt x="12" y="821"/>
                    </a:lnTo>
                    <a:lnTo>
                      <a:pt x="0" y="76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592400" y="6040800"/>
                <a:ext cx="37080" cy="22680"/>
              </a:xfrm>
              <a:custGeom>
                <a:avLst/>
                <a:gdLst/>
                <a:ahLst/>
                <a:rect l="l" t="t" r="r" b="b"/>
                <a:pathLst>
                  <a:path w="274" h="149">
                    <a:moveTo>
                      <a:pt x="274" y="6"/>
                    </a:moveTo>
                    <a:lnTo>
                      <a:pt x="171" y="0"/>
                    </a:lnTo>
                    <a:lnTo>
                      <a:pt x="118" y="44"/>
                    </a:lnTo>
                    <a:lnTo>
                      <a:pt x="53" y="74"/>
                    </a:lnTo>
                    <a:lnTo>
                      <a:pt x="0" y="119"/>
                    </a:lnTo>
                    <a:lnTo>
                      <a:pt x="67" y="87"/>
                    </a:lnTo>
                    <a:lnTo>
                      <a:pt x="118" y="59"/>
                    </a:lnTo>
                    <a:lnTo>
                      <a:pt x="87" y="149"/>
                    </a:lnTo>
                    <a:lnTo>
                      <a:pt x="148" y="44"/>
                    </a:lnTo>
                    <a:lnTo>
                      <a:pt x="186" y="13"/>
                    </a:lnTo>
                    <a:lnTo>
                      <a:pt x="224" y="13"/>
                    </a:lnTo>
                    <a:lnTo>
                      <a:pt x="267" y="28"/>
                    </a:lnTo>
                    <a:lnTo>
                      <a:pt x="2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589160" y="6062040"/>
                <a:ext cx="34920" cy="22680"/>
              </a:xfrm>
              <a:custGeom>
                <a:avLst/>
                <a:gdLst/>
                <a:ahLst/>
                <a:rect l="l" t="t" r="r" b="b"/>
                <a:pathLst>
                  <a:path w="267" h="150">
                    <a:moveTo>
                      <a:pt x="7" y="0"/>
                    </a:moveTo>
                    <a:lnTo>
                      <a:pt x="23" y="25"/>
                    </a:lnTo>
                    <a:lnTo>
                      <a:pt x="102" y="25"/>
                    </a:lnTo>
                    <a:lnTo>
                      <a:pt x="83" y="90"/>
                    </a:lnTo>
                    <a:lnTo>
                      <a:pt x="141" y="97"/>
                    </a:lnTo>
                    <a:lnTo>
                      <a:pt x="207" y="90"/>
                    </a:lnTo>
                    <a:lnTo>
                      <a:pt x="267" y="37"/>
                    </a:lnTo>
                    <a:lnTo>
                      <a:pt x="207" y="122"/>
                    </a:lnTo>
                    <a:lnTo>
                      <a:pt x="141" y="150"/>
                    </a:lnTo>
                    <a:lnTo>
                      <a:pt x="74" y="143"/>
                    </a:lnTo>
                    <a:lnTo>
                      <a:pt x="67" y="97"/>
                    </a:lnTo>
                    <a:lnTo>
                      <a:pt x="67" y="62"/>
                    </a:lnTo>
                    <a:lnTo>
                      <a:pt x="14" y="53"/>
                    </a:lnTo>
                    <a:lnTo>
                      <a:pt x="0" y="2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21200" y="6058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217" h="192">
                    <a:moveTo>
                      <a:pt x="9" y="134"/>
                    </a:moveTo>
                    <a:lnTo>
                      <a:pt x="15" y="155"/>
                    </a:lnTo>
                    <a:lnTo>
                      <a:pt x="52" y="171"/>
                    </a:lnTo>
                    <a:lnTo>
                      <a:pt x="105" y="148"/>
                    </a:lnTo>
                    <a:lnTo>
                      <a:pt x="217" y="0"/>
                    </a:lnTo>
                    <a:lnTo>
                      <a:pt x="168" y="111"/>
                    </a:lnTo>
                    <a:lnTo>
                      <a:pt x="133" y="164"/>
                    </a:lnTo>
                    <a:lnTo>
                      <a:pt x="68" y="192"/>
                    </a:lnTo>
                    <a:lnTo>
                      <a:pt x="15" y="192"/>
                    </a:lnTo>
                    <a:lnTo>
                      <a:pt x="0" y="171"/>
                    </a:lnTo>
                    <a:lnTo>
                      <a:pt x="0" y="148"/>
                    </a:lnTo>
                    <a:lnTo>
                      <a:pt x="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86360" y="6022800"/>
                <a:ext cx="41040" cy="15120"/>
              </a:xfrm>
              <a:custGeom>
                <a:avLst/>
                <a:gdLst/>
                <a:ahLst/>
                <a:rect l="l" t="t" r="r" b="b"/>
                <a:pathLst>
                  <a:path w="314" h="101">
                    <a:moveTo>
                      <a:pt x="0" y="0"/>
                    </a:moveTo>
                    <a:lnTo>
                      <a:pt x="61" y="28"/>
                    </a:lnTo>
                    <a:lnTo>
                      <a:pt x="158" y="65"/>
                    </a:lnTo>
                    <a:lnTo>
                      <a:pt x="314" y="101"/>
                    </a:lnTo>
                    <a:lnTo>
                      <a:pt x="167" y="50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45840" y="5821920"/>
                <a:ext cx="13680" cy="152640"/>
              </a:xfrm>
              <a:custGeom>
                <a:avLst/>
                <a:gdLst/>
                <a:ahLst/>
                <a:rect l="l" t="t" r="r" b="b"/>
                <a:pathLst>
                  <a:path w="103" h="1025">
                    <a:moveTo>
                      <a:pt x="103" y="0"/>
                    </a:moveTo>
                    <a:lnTo>
                      <a:pt x="60" y="203"/>
                    </a:lnTo>
                    <a:lnTo>
                      <a:pt x="37" y="387"/>
                    </a:lnTo>
                    <a:lnTo>
                      <a:pt x="37" y="578"/>
                    </a:lnTo>
                    <a:lnTo>
                      <a:pt x="60" y="807"/>
                    </a:lnTo>
                    <a:lnTo>
                      <a:pt x="97" y="1025"/>
                    </a:lnTo>
                    <a:lnTo>
                      <a:pt x="27" y="832"/>
                    </a:lnTo>
                    <a:lnTo>
                      <a:pt x="13" y="680"/>
                    </a:lnTo>
                    <a:lnTo>
                      <a:pt x="0" y="433"/>
                    </a:lnTo>
                    <a:lnTo>
                      <a:pt x="22" y="269"/>
                    </a:lnTo>
                    <a:lnTo>
                      <a:pt x="44" y="135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466760" y="5935680"/>
                <a:ext cx="20160" cy="11880"/>
              </a:xfrm>
              <a:custGeom>
                <a:avLst/>
                <a:gdLst/>
                <a:ahLst/>
                <a:rect l="l" t="t" r="r" b="b"/>
                <a:pathLst>
                  <a:path w="155" h="78">
                    <a:moveTo>
                      <a:pt x="0" y="55"/>
                    </a:moveTo>
                    <a:lnTo>
                      <a:pt x="33" y="53"/>
                    </a:lnTo>
                    <a:lnTo>
                      <a:pt x="72" y="57"/>
                    </a:lnTo>
                    <a:lnTo>
                      <a:pt x="128" y="78"/>
                    </a:lnTo>
                    <a:lnTo>
                      <a:pt x="134" y="44"/>
                    </a:lnTo>
                    <a:lnTo>
                      <a:pt x="155" y="13"/>
                    </a:lnTo>
                    <a:lnTo>
                      <a:pt x="20" y="0"/>
                    </a:lnTo>
                    <a:lnTo>
                      <a:pt x="7" y="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462440" y="5981040"/>
                <a:ext cx="50040" cy="19080"/>
              </a:xfrm>
              <a:custGeom>
                <a:avLst/>
                <a:gdLst/>
                <a:ahLst/>
                <a:rect l="l" t="t" r="r" b="b"/>
                <a:pathLst>
                  <a:path w="378" h="128">
                    <a:moveTo>
                      <a:pt x="0" y="3"/>
                    </a:moveTo>
                    <a:lnTo>
                      <a:pt x="0" y="44"/>
                    </a:lnTo>
                    <a:lnTo>
                      <a:pt x="7" y="86"/>
                    </a:lnTo>
                    <a:lnTo>
                      <a:pt x="14" y="128"/>
                    </a:lnTo>
                    <a:lnTo>
                      <a:pt x="145" y="119"/>
                    </a:lnTo>
                    <a:lnTo>
                      <a:pt x="267" y="114"/>
                    </a:lnTo>
                    <a:lnTo>
                      <a:pt x="378" y="128"/>
                    </a:lnTo>
                    <a:lnTo>
                      <a:pt x="373" y="102"/>
                    </a:lnTo>
                    <a:lnTo>
                      <a:pt x="271" y="99"/>
                    </a:lnTo>
                    <a:lnTo>
                      <a:pt x="145" y="102"/>
                    </a:lnTo>
                    <a:lnTo>
                      <a:pt x="139" y="75"/>
                    </a:lnTo>
                    <a:lnTo>
                      <a:pt x="135" y="29"/>
                    </a:lnTo>
                    <a:lnTo>
                      <a:pt x="135" y="0"/>
                    </a:lnTo>
                    <a:lnTo>
                      <a:pt x="110" y="11"/>
                    </a:lnTo>
                    <a:lnTo>
                      <a:pt x="76" y="13"/>
                    </a:lnTo>
                    <a:lnTo>
                      <a:pt x="49" y="13"/>
                    </a:lnTo>
                    <a:lnTo>
                      <a:pt x="2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142120" y="5834880"/>
                <a:ext cx="107280" cy="115920"/>
              </a:xfrm>
              <a:custGeom>
                <a:avLst/>
                <a:gdLst/>
                <a:ahLst/>
                <a:rect l="l" t="t" r="r" b="b"/>
                <a:pathLst>
                  <a:path w="811" h="774">
                    <a:moveTo>
                      <a:pt x="811" y="0"/>
                    </a:moveTo>
                    <a:lnTo>
                      <a:pt x="773" y="126"/>
                    </a:lnTo>
                    <a:lnTo>
                      <a:pt x="703" y="233"/>
                    </a:lnTo>
                    <a:lnTo>
                      <a:pt x="558" y="361"/>
                    </a:lnTo>
                    <a:lnTo>
                      <a:pt x="328" y="504"/>
                    </a:lnTo>
                    <a:lnTo>
                      <a:pt x="145" y="649"/>
                    </a:lnTo>
                    <a:lnTo>
                      <a:pt x="0" y="774"/>
                    </a:lnTo>
                    <a:lnTo>
                      <a:pt x="233" y="541"/>
                    </a:lnTo>
                    <a:lnTo>
                      <a:pt x="468" y="343"/>
                    </a:lnTo>
                    <a:lnTo>
                      <a:pt x="630" y="218"/>
                    </a:lnTo>
                    <a:lnTo>
                      <a:pt x="685" y="145"/>
                    </a:lnTo>
                    <a:lnTo>
                      <a:pt x="720" y="38"/>
                    </a:lnTo>
                    <a:lnTo>
                      <a:pt x="8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839720" y="5750280"/>
                <a:ext cx="167040" cy="325080"/>
              </a:xfrm>
              <a:custGeom>
                <a:avLst/>
                <a:gdLst/>
                <a:ahLst/>
                <a:rect l="l" t="t" r="r" b="b"/>
                <a:pathLst>
                  <a:path w="1254" h="2176">
                    <a:moveTo>
                      <a:pt x="980" y="0"/>
                    </a:moveTo>
                    <a:lnTo>
                      <a:pt x="846" y="140"/>
                    </a:lnTo>
                    <a:lnTo>
                      <a:pt x="692" y="330"/>
                    </a:lnTo>
                    <a:lnTo>
                      <a:pt x="563" y="583"/>
                    </a:lnTo>
                    <a:lnTo>
                      <a:pt x="475" y="860"/>
                    </a:lnTo>
                    <a:lnTo>
                      <a:pt x="392" y="1148"/>
                    </a:lnTo>
                    <a:lnTo>
                      <a:pt x="343" y="1394"/>
                    </a:lnTo>
                    <a:lnTo>
                      <a:pt x="343" y="1614"/>
                    </a:lnTo>
                    <a:lnTo>
                      <a:pt x="438" y="1456"/>
                    </a:lnTo>
                    <a:lnTo>
                      <a:pt x="639" y="994"/>
                    </a:lnTo>
                    <a:lnTo>
                      <a:pt x="1090" y="825"/>
                    </a:lnTo>
                    <a:lnTo>
                      <a:pt x="1254" y="825"/>
                    </a:lnTo>
                    <a:lnTo>
                      <a:pt x="761" y="1010"/>
                    </a:lnTo>
                    <a:lnTo>
                      <a:pt x="712" y="1106"/>
                    </a:lnTo>
                    <a:lnTo>
                      <a:pt x="639" y="1196"/>
                    </a:lnTo>
                    <a:lnTo>
                      <a:pt x="597" y="1222"/>
                    </a:lnTo>
                    <a:lnTo>
                      <a:pt x="563" y="1258"/>
                    </a:lnTo>
                    <a:lnTo>
                      <a:pt x="514" y="1388"/>
                    </a:lnTo>
                    <a:lnTo>
                      <a:pt x="398" y="1641"/>
                    </a:lnTo>
                    <a:lnTo>
                      <a:pt x="288" y="1779"/>
                    </a:lnTo>
                    <a:lnTo>
                      <a:pt x="288" y="1832"/>
                    </a:lnTo>
                    <a:lnTo>
                      <a:pt x="311" y="1966"/>
                    </a:lnTo>
                    <a:lnTo>
                      <a:pt x="240" y="1943"/>
                    </a:lnTo>
                    <a:lnTo>
                      <a:pt x="226" y="1959"/>
                    </a:lnTo>
                    <a:lnTo>
                      <a:pt x="187" y="2089"/>
                    </a:lnTo>
                    <a:lnTo>
                      <a:pt x="171" y="1990"/>
                    </a:lnTo>
                    <a:lnTo>
                      <a:pt x="129" y="1976"/>
                    </a:lnTo>
                    <a:lnTo>
                      <a:pt x="88" y="1990"/>
                    </a:lnTo>
                    <a:lnTo>
                      <a:pt x="48" y="2054"/>
                    </a:lnTo>
                    <a:lnTo>
                      <a:pt x="0" y="2176"/>
                    </a:lnTo>
                    <a:lnTo>
                      <a:pt x="20" y="2047"/>
                    </a:lnTo>
                    <a:lnTo>
                      <a:pt x="48" y="1976"/>
                    </a:lnTo>
                    <a:lnTo>
                      <a:pt x="119" y="1918"/>
                    </a:lnTo>
                    <a:lnTo>
                      <a:pt x="198" y="1876"/>
                    </a:lnTo>
                    <a:lnTo>
                      <a:pt x="219" y="1745"/>
                    </a:lnTo>
                    <a:lnTo>
                      <a:pt x="311" y="1641"/>
                    </a:lnTo>
                    <a:lnTo>
                      <a:pt x="304" y="1422"/>
                    </a:lnTo>
                    <a:lnTo>
                      <a:pt x="330" y="1210"/>
                    </a:lnTo>
                    <a:lnTo>
                      <a:pt x="392" y="984"/>
                    </a:lnTo>
                    <a:lnTo>
                      <a:pt x="468" y="749"/>
                    </a:lnTo>
                    <a:lnTo>
                      <a:pt x="556" y="521"/>
                    </a:lnTo>
                    <a:lnTo>
                      <a:pt x="659" y="344"/>
                    </a:lnTo>
                    <a:lnTo>
                      <a:pt x="770" y="201"/>
                    </a:lnTo>
                    <a:lnTo>
                      <a:pt x="866" y="104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867080" y="5810040"/>
                <a:ext cx="26280" cy="97560"/>
              </a:xfrm>
              <a:custGeom>
                <a:avLst/>
                <a:gdLst/>
                <a:ahLst/>
                <a:rect l="l" t="t" r="r" b="b"/>
                <a:pathLst>
                  <a:path w="201" h="654">
                    <a:moveTo>
                      <a:pt x="138" y="62"/>
                    </a:moveTo>
                    <a:lnTo>
                      <a:pt x="106" y="122"/>
                    </a:lnTo>
                    <a:lnTo>
                      <a:pt x="99" y="226"/>
                    </a:lnTo>
                    <a:lnTo>
                      <a:pt x="106" y="343"/>
                    </a:lnTo>
                    <a:lnTo>
                      <a:pt x="138" y="433"/>
                    </a:lnTo>
                    <a:lnTo>
                      <a:pt x="180" y="500"/>
                    </a:lnTo>
                    <a:lnTo>
                      <a:pt x="201" y="542"/>
                    </a:lnTo>
                    <a:lnTo>
                      <a:pt x="166" y="654"/>
                    </a:lnTo>
                    <a:lnTo>
                      <a:pt x="76" y="617"/>
                    </a:lnTo>
                    <a:lnTo>
                      <a:pt x="0" y="595"/>
                    </a:lnTo>
                    <a:lnTo>
                      <a:pt x="44" y="585"/>
                    </a:lnTo>
                    <a:lnTo>
                      <a:pt x="99" y="585"/>
                    </a:lnTo>
                    <a:lnTo>
                      <a:pt x="153" y="595"/>
                    </a:lnTo>
                    <a:lnTo>
                      <a:pt x="157" y="542"/>
                    </a:lnTo>
                    <a:lnTo>
                      <a:pt x="109" y="433"/>
                    </a:lnTo>
                    <a:lnTo>
                      <a:pt x="92" y="350"/>
                    </a:lnTo>
                    <a:lnTo>
                      <a:pt x="76" y="242"/>
                    </a:lnTo>
                    <a:lnTo>
                      <a:pt x="83" y="138"/>
                    </a:lnTo>
                    <a:lnTo>
                      <a:pt x="106" y="62"/>
                    </a:lnTo>
                    <a:lnTo>
                      <a:pt x="125" y="0"/>
                    </a:lnTo>
                    <a:lnTo>
                      <a:pt x="138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857720" y="5830560"/>
                <a:ext cx="22320" cy="189720"/>
              </a:xfrm>
              <a:custGeom>
                <a:avLst/>
                <a:gdLst/>
                <a:ahLst/>
                <a:rect l="l" t="t" r="r" b="b"/>
                <a:pathLst>
                  <a:path w="168" h="1277">
                    <a:moveTo>
                      <a:pt x="145" y="53"/>
                    </a:moveTo>
                    <a:lnTo>
                      <a:pt x="104" y="136"/>
                    </a:lnTo>
                    <a:lnTo>
                      <a:pt x="78" y="224"/>
                    </a:lnTo>
                    <a:lnTo>
                      <a:pt x="69" y="302"/>
                    </a:lnTo>
                    <a:lnTo>
                      <a:pt x="69" y="392"/>
                    </a:lnTo>
                    <a:lnTo>
                      <a:pt x="83" y="464"/>
                    </a:lnTo>
                    <a:lnTo>
                      <a:pt x="62" y="561"/>
                    </a:lnTo>
                    <a:lnTo>
                      <a:pt x="35" y="783"/>
                    </a:lnTo>
                    <a:lnTo>
                      <a:pt x="23" y="932"/>
                    </a:lnTo>
                    <a:lnTo>
                      <a:pt x="29" y="1058"/>
                    </a:lnTo>
                    <a:lnTo>
                      <a:pt x="55" y="1277"/>
                    </a:lnTo>
                    <a:lnTo>
                      <a:pt x="0" y="1077"/>
                    </a:lnTo>
                    <a:lnTo>
                      <a:pt x="0" y="906"/>
                    </a:lnTo>
                    <a:lnTo>
                      <a:pt x="16" y="728"/>
                    </a:lnTo>
                    <a:lnTo>
                      <a:pt x="42" y="561"/>
                    </a:lnTo>
                    <a:lnTo>
                      <a:pt x="55" y="464"/>
                    </a:lnTo>
                    <a:lnTo>
                      <a:pt x="51" y="348"/>
                    </a:lnTo>
                    <a:lnTo>
                      <a:pt x="55" y="219"/>
                    </a:lnTo>
                    <a:lnTo>
                      <a:pt x="90" y="124"/>
                    </a:lnTo>
                    <a:lnTo>
                      <a:pt x="124" y="53"/>
                    </a:lnTo>
                    <a:lnTo>
                      <a:pt x="168" y="0"/>
                    </a:lnTo>
                    <a:lnTo>
                      <a:pt x="14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33320" y="583992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556" h="300">
                    <a:moveTo>
                      <a:pt x="0" y="300"/>
                    </a:moveTo>
                    <a:lnTo>
                      <a:pt x="394" y="171"/>
                    </a:lnTo>
                    <a:lnTo>
                      <a:pt x="413" y="103"/>
                    </a:lnTo>
                    <a:lnTo>
                      <a:pt x="556" y="19"/>
                    </a:lnTo>
                    <a:lnTo>
                      <a:pt x="468" y="7"/>
                    </a:lnTo>
                    <a:lnTo>
                      <a:pt x="346" y="0"/>
                    </a:lnTo>
                    <a:lnTo>
                      <a:pt x="227" y="42"/>
                    </a:lnTo>
                    <a:lnTo>
                      <a:pt x="141" y="103"/>
                    </a:lnTo>
                    <a:lnTo>
                      <a:pt x="65" y="187"/>
                    </a:lnTo>
                    <a:lnTo>
                      <a:pt x="16" y="25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898040" y="5896080"/>
                <a:ext cx="226440" cy="211680"/>
              </a:xfrm>
              <a:custGeom>
                <a:avLst/>
                <a:gdLst/>
                <a:ahLst/>
                <a:rect l="l" t="t" r="r" b="b"/>
                <a:pathLst>
                  <a:path w="1703" h="1420">
                    <a:moveTo>
                      <a:pt x="1092" y="0"/>
                    </a:moveTo>
                    <a:lnTo>
                      <a:pt x="1134" y="40"/>
                    </a:lnTo>
                    <a:lnTo>
                      <a:pt x="1217" y="53"/>
                    </a:lnTo>
                    <a:lnTo>
                      <a:pt x="1331" y="60"/>
                    </a:lnTo>
                    <a:lnTo>
                      <a:pt x="1422" y="46"/>
                    </a:lnTo>
                    <a:lnTo>
                      <a:pt x="1512" y="24"/>
                    </a:lnTo>
                    <a:lnTo>
                      <a:pt x="1606" y="88"/>
                    </a:lnTo>
                    <a:lnTo>
                      <a:pt x="1696" y="178"/>
                    </a:lnTo>
                    <a:lnTo>
                      <a:pt x="1703" y="217"/>
                    </a:lnTo>
                    <a:lnTo>
                      <a:pt x="1663" y="307"/>
                    </a:lnTo>
                    <a:lnTo>
                      <a:pt x="1621" y="473"/>
                    </a:lnTo>
                    <a:lnTo>
                      <a:pt x="1621" y="576"/>
                    </a:lnTo>
                    <a:lnTo>
                      <a:pt x="1634" y="715"/>
                    </a:lnTo>
                    <a:lnTo>
                      <a:pt x="1595" y="837"/>
                    </a:lnTo>
                    <a:lnTo>
                      <a:pt x="1379" y="1180"/>
                    </a:lnTo>
                    <a:lnTo>
                      <a:pt x="1346" y="1275"/>
                    </a:lnTo>
                    <a:lnTo>
                      <a:pt x="1340" y="1331"/>
                    </a:lnTo>
                    <a:lnTo>
                      <a:pt x="1285" y="1378"/>
                    </a:lnTo>
                    <a:lnTo>
                      <a:pt x="1197" y="1409"/>
                    </a:lnTo>
                    <a:lnTo>
                      <a:pt x="1026" y="1420"/>
                    </a:lnTo>
                    <a:lnTo>
                      <a:pt x="823" y="1420"/>
                    </a:lnTo>
                    <a:lnTo>
                      <a:pt x="701" y="1409"/>
                    </a:lnTo>
                    <a:lnTo>
                      <a:pt x="652" y="1384"/>
                    </a:lnTo>
                    <a:lnTo>
                      <a:pt x="584" y="1413"/>
                    </a:lnTo>
                    <a:lnTo>
                      <a:pt x="481" y="1323"/>
                    </a:lnTo>
                    <a:lnTo>
                      <a:pt x="371" y="1222"/>
                    </a:lnTo>
                    <a:lnTo>
                      <a:pt x="305" y="1144"/>
                    </a:lnTo>
                    <a:lnTo>
                      <a:pt x="215" y="1020"/>
                    </a:lnTo>
                    <a:lnTo>
                      <a:pt x="186" y="1006"/>
                    </a:lnTo>
                    <a:lnTo>
                      <a:pt x="0" y="1015"/>
                    </a:lnTo>
                    <a:lnTo>
                      <a:pt x="21" y="996"/>
                    </a:lnTo>
                    <a:lnTo>
                      <a:pt x="125" y="989"/>
                    </a:lnTo>
                    <a:lnTo>
                      <a:pt x="193" y="982"/>
                    </a:lnTo>
                    <a:lnTo>
                      <a:pt x="228" y="1006"/>
                    </a:lnTo>
                    <a:lnTo>
                      <a:pt x="360" y="1174"/>
                    </a:lnTo>
                    <a:lnTo>
                      <a:pt x="438" y="1236"/>
                    </a:lnTo>
                    <a:lnTo>
                      <a:pt x="535" y="1236"/>
                    </a:lnTo>
                    <a:lnTo>
                      <a:pt x="707" y="1290"/>
                    </a:lnTo>
                    <a:lnTo>
                      <a:pt x="758" y="1284"/>
                    </a:lnTo>
                    <a:lnTo>
                      <a:pt x="742" y="1202"/>
                    </a:lnTo>
                    <a:lnTo>
                      <a:pt x="701" y="1084"/>
                    </a:lnTo>
                    <a:lnTo>
                      <a:pt x="613" y="939"/>
                    </a:lnTo>
                    <a:lnTo>
                      <a:pt x="516" y="828"/>
                    </a:lnTo>
                    <a:lnTo>
                      <a:pt x="399" y="747"/>
                    </a:lnTo>
                    <a:lnTo>
                      <a:pt x="323" y="740"/>
                    </a:lnTo>
                    <a:lnTo>
                      <a:pt x="298" y="747"/>
                    </a:lnTo>
                    <a:lnTo>
                      <a:pt x="290" y="761"/>
                    </a:lnTo>
                    <a:lnTo>
                      <a:pt x="364" y="870"/>
                    </a:lnTo>
                    <a:lnTo>
                      <a:pt x="392" y="1006"/>
                    </a:lnTo>
                    <a:lnTo>
                      <a:pt x="392" y="1057"/>
                    </a:lnTo>
                    <a:lnTo>
                      <a:pt x="364" y="1000"/>
                    </a:lnTo>
                    <a:lnTo>
                      <a:pt x="311" y="906"/>
                    </a:lnTo>
                    <a:lnTo>
                      <a:pt x="248" y="844"/>
                    </a:lnTo>
                    <a:lnTo>
                      <a:pt x="173" y="789"/>
                    </a:lnTo>
                    <a:lnTo>
                      <a:pt x="283" y="653"/>
                    </a:lnTo>
                    <a:lnTo>
                      <a:pt x="384" y="685"/>
                    </a:lnTo>
                    <a:lnTo>
                      <a:pt x="503" y="752"/>
                    </a:lnTo>
                    <a:lnTo>
                      <a:pt x="613" y="844"/>
                    </a:lnTo>
                    <a:lnTo>
                      <a:pt x="735" y="860"/>
                    </a:lnTo>
                    <a:lnTo>
                      <a:pt x="901" y="851"/>
                    </a:lnTo>
                    <a:lnTo>
                      <a:pt x="977" y="828"/>
                    </a:lnTo>
                    <a:lnTo>
                      <a:pt x="1092" y="438"/>
                    </a:lnTo>
                    <a:lnTo>
                      <a:pt x="1153" y="288"/>
                    </a:lnTo>
                    <a:lnTo>
                      <a:pt x="1224" y="152"/>
                    </a:lnTo>
                    <a:lnTo>
                      <a:pt x="784" y="259"/>
                    </a:lnTo>
                    <a:lnTo>
                      <a:pt x="555" y="301"/>
                    </a:lnTo>
                    <a:lnTo>
                      <a:pt x="399" y="307"/>
                    </a:lnTo>
                    <a:lnTo>
                      <a:pt x="332" y="288"/>
                    </a:lnTo>
                    <a:lnTo>
                      <a:pt x="323" y="266"/>
                    </a:lnTo>
                    <a:lnTo>
                      <a:pt x="338" y="252"/>
                    </a:lnTo>
                    <a:lnTo>
                      <a:pt x="433" y="226"/>
                    </a:lnTo>
                    <a:lnTo>
                      <a:pt x="422" y="247"/>
                    </a:lnTo>
                    <a:lnTo>
                      <a:pt x="413" y="279"/>
                    </a:lnTo>
                    <a:lnTo>
                      <a:pt x="433" y="288"/>
                    </a:lnTo>
                    <a:lnTo>
                      <a:pt x="530" y="279"/>
                    </a:lnTo>
                    <a:lnTo>
                      <a:pt x="687" y="247"/>
                    </a:lnTo>
                    <a:lnTo>
                      <a:pt x="859" y="169"/>
                    </a:lnTo>
                    <a:lnTo>
                      <a:pt x="968" y="110"/>
                    </a:lnTo>
                    <a:lnTo>
                      <a:pt x="1072" y="60"/>
                    </a:lnTo>
                    <a:lnTo>
                      <a:pt x="1092" y="33"/>
                    </a:lnTo>
                    <a:lnTo>
                      <a:pt x="10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892640" y="5991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41" h="277">
                    <a:moveTo>
                      <a:pt x="241" y="0"/>
                    </a:moveTo>
                    <a:lnTo>
                      <a:pt x="180" y="9"/>
                    </a:lnTo>
                    <a:lnTo>
                      <a:pt x="84" y="35"/>
                    </a:lnTo>
                    <a:lnTo>
                      <a:pt x="22" y="76"/>
                    </a:lnTo>
                    <a:lnTo>
                      <a:pt x="0" y="108"/>
                    </a:lnTo>
                    <a:lnTo>
                      <a:pt x="0" y="158"/>
                    </a:lnTo>
                    <a:lnTo>
                      <a:pt x="8" y="216"/>
                    </a:lnTo>
                    <a:lnTo>
                      <a:pt x="22" y="277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812000" y="5850720"/>
                <a:ext cx="631440" cy="406080"/>
              </a:xfrm>
              <a:custGeom>
                <a:avLst/>
                <a:gdLst/>
                <a:ahLst/>
                <a:rect l="l" t="t" r="r" b="b"/>
                <a:pathLst>
                  <a:path w="4749" h="2718">
                    <a:moveTo>
                      <a:pt x="3544" y="0"/>
                    </a:moveTo>
                    <a:lnTo>
                      <a:pt x="3670" y="55"/>
                    </a:lnTo>
                    <a:lnTo>
                      <a:pt x="4100" y="505"/>
                    </a:lnTo>
                    <a:lnTo>
                      <a:pt x="4459" y="1099"/>
                    </a:lnTo>
                    <a:lnTo>
                      <a:pt x="4658" y="1639"/>
                    </a:lnTo>
                    <a:lnTo>
                      <a:pt x="4749" y="2215"/>
                    </a:lnTo>
                    <a:lnTo>
                      <a:pt x="4749" y="2718"/>
                    </a:lnTo>
                    <a:lnTo>
                      <a:pt x="0" y="2718"/>
                    </a:lnTo>
                    <a:lnTo>
                      <a:pt x="0" y="2125"/>
                    </a:lnTo>
                    <a:lnTo>
                      <a:pt x="53" y="2035"/>
                    </a:lnTo>
                    <a:lnTo>
                      <a:pt x="160" y="1998"/>
                    </a:lnTo>
                    <a:lnTo>
                      <a:pt x="503" y="1945"/>
                    </a:lnTo>
                    <a:lnTo>
                      <a:pt x="125" y="2055"/>
                    </a:lnTo>
                    <a:lnTo>
                      <a:pt x="90" y="2105"/>
                    </a:lnTo>
                    <a:lnTo>
                      <a:pt x="197" y="2233"/>
                    </a:lnTo>
                    <a:lnTo>
                      <a:pt x="395" y="2379"/>
                    </a:lnTo>
                    <a:lnTo>
                      <a:pt x="665" y="2506"/>
                    </a:lnTo>
                    <a:lnTo>
                      <a:pt x="593" y="2379"/>
                    </a:lnTo>
                    <a:lnTo>
                      <a:pt x="575" y="2250"/>
                    </a:lnTo>
                    <a:lnTo>
                      <a:pt x="575" y="2143"/>
                    </a:lnTo>
                    <a:lnTo>
                      <a:pt x="665" y="2268"/>
                    </a:lnTo>
                    <a:lnTo>
                      <a:pt x="808" y="2379"/>
                    </a:lnTo>
                    <a:lnTo>
                      <a:pt x="971" y="2433"/>
                    </a:lnTo>
                    <a:lnTo>
                      <a:pt x="1082" y="2448"/>
                    </a:lnTo>
                    <a:lnTo>
                      <a:pt x="1082" y="2305"/>
                    </a:lnTo>
                    <a:lnTo>
                      <a:pt x="1132" y="2181"/>
                    </a:lnTo>
                    <a:lnTo>
                      <a:pt x="1222" y="2195"/>
                    </a:lnTo>
                    <a:lnTo>
                      <a:pt x="1329" y="2125"/>
                    </a:lnTo>
                    <a:lnTo>
                      <a:pt x="1402" y="1998"/>
                    </a:lnTo>
                    <a:lnTo>
                      <a:pt x="1545" y="1837"/>
                    </a:lnTo>
                    <a:lnTo>
                      <a:pt x="1672" y="1803"/>
                    </a:lnTo>
                    <a:lnTo>
                      <a:pt x="1744" y="1872"/>
                    </a:lnTo>
                    <a:lnTo>
                      <a:pt x="1654" y="1837"/>
                    </a:lnTo>
                    <a:lnTo>
                      <a:pt x="1567" y="1890"/>
                    </a:lnTo>
                    <a:lnTo>
                      <a:pt x="1492" y="2091"/>
                    </a:lnTo>
                    <a:lnTo>
                      <a:pt x="1492" y="2305"/>
                    </a:lnTo>
                    <a:lnTo>
                      <a:pt x="1545" y="2413"/>
                    </a:lnTo>
                    <a:lnTo>
                      <a:pt x="1619" y="2433"/>
                    </a:lnTo>
                    <a:lnTo>
                      <a:pt x="1690" y="2340"/>
                    </a:lnTo>
                    <a:lnTo>
                      <a:pt x="1744" y="2181"/>
                    </a:lnTo>
                    <a:lnTo>
                      <a:pt x="1762" y="2035"/>
                    </a:lnTo>
                    <a:lnTo>
                      <a:pt x="1780" y="2305"/>
                    </a:lnTo>
                    <a:lnTo>
                      <a:pt x="1817" y="2448"/>
                    </a:lnTo>
                    <a:lnTo>
                      <a:pt x="1873" y="2506"/>
                    </a:lnTo>
                    <a:lnTo>
                      <a:pt x="2175" y="2361"/>
                    </a:lnTo>
                    <a:lnTo>
                      <a:pt x="2500" y="2125"/>
                    </a:lnTo>
                    <a:lnTo>
                      <a:pt x="2714" y="1927"/>
                    </a:lnTo>
                    <a:lnTo>
                      <a:pt x="2843" y="1745"/>
                    </a:lnTo>
                    <a:lnTo>
                      <a:pt x="2876" y="1639"/>
                    </a:lnTo>
                    <a:lnTo>
                      <a:pt x="3002" y="1620"/>
                    </a:lnTo>
                    <a:lnTo>
                      <a:pt x="3149" y="1567"/>
                    </a:lnTo>
                    <a:lnTo>
                      <a:pt x="2859" y="1477"/>
                    </a:lnTo>
                    <a:lnTo>
                      <a:pt x="3111" y="1422"/>
                    </a:lnTo>
                    <a:lnTo>
                      <a:pt x="3344" y="1335"/>
                    </a:lnTo>
                    <a:lnTo>
                      <a:pt x="3002" y="1206"/>
                    </a:lnTo>
                    <a:lnTo>
                      <a:pt x="2681" y="1154"/>
                    </a:lnTo>
                    <a:lnTo>
                      <a:pt x="2391" y="1154"/>
                    </a:lnTo>
                    <a:lnTo>
                      <a:pt x="2285" y="1224"/>
                    </a:lnTo>
                    <a:lnTo>
                      <a:pt x="2251" y="1387"/>
                    </a:lnTo>
                    <a:lnTo>
                      <a:pt x="2213" y="1351"/>
                    </a:lnTo>
                    <a:lnTo>
                      <a:pt x="1978" y="1620"/>
                    </a:lnTo>
                    <a:lnTo>
                      <a:pt x="2013" y="1317"/>
                    </a:lnTo>
                    <a:lnTo>
                      <a:pt x="2175" y="1134"/>
                    </a:lnTo>
                    <a:lnTo>
                      <a:pt x="2463" y="956"/>
                    </a:lnTo>
                    <a:lnTo>
                      <a:pt x="2661" y="793"/>
                    </a:lnTo>
                    <a:lnTo>
                      <a:pt x="3221" y="611"/>
                    </a:lnTo>
                    <a:lnTo>
                      <a:pt x="2698" y="830"/>
                    </a:lnTo>
                    <a:lnTo>
                      <a:pt x="2431" y="1081"/>
                    </a:lnTo>
                    <a:lnTo>
                      <a:pt x="2769" y="1026"/>
                    </a:lnTo>
                    <a:lnTo>
                      <a:pt x="3094" y="938"/>
                    </a:lnTo>
                    <a:lnTo>
                      <a:pt x="3329" y="686"/>
                    </a:lnTo>
                    <a:lnTo>
                      <a:pt x="3329" y="595"/>
                    </a:lnTo>
                    <a:lnTo>
                      <a:pt x="3472" y="738"/>
                    </a:lnTo>
                    <a:lnTo>
                      <a:pt x="3708" y="991"/>
                    </a:lnTo>
                    <a:lnTo>
                      <a:pt x="3938" y="1407"/>
                    </a:lnTo>
                    <a:lnTo>
                      <a:pt x="4120" y="1909"/>
                    </a:lnTo>
                    <a:lnTo>
                      <a:pt x="4228" y="2195"/>
                    </a:lnTo>
                    <a:lnTo>
                      <a:pt x="4351" y="1855"/>
                    </a:lnTo>
                    <a:lnTo>
                      <a:pt x="4408" y="1567"/>
                    </a:lnTo>
                    <a:lnTo>
                      <a:pt x="4443" y="1261"/>
                    </a:lnTo>
                    <a:lnTo>
                      <a:pt x="4298" y="866"/>
                    </a:lnTo>
                    <a:lnTo>
                      <a:pt x="4100" y="523"/>
                    </a:lnTo>
                    <a:lnTo>
                      <a:pt x="3708" y="110"/>
                    </a:lnTo>
                    <a:lnTo>
                      <a:pt x="35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04600" y="610524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76" h="230">
                    <a:moveTo>
                      <a:pt x="0" y="0"/>
                    </a:moveTo>
                    <a:lnTo>
                      <a:pt x="34" y="67"/>
                    </a:lnTo>
                    <a:lnTo>
                      <a:pt x="52" y="136"/>
                    </a:lnTo>
                    <a:lnTo>
                      <a:pt x="46" y="230"/>
                    </a:lnTo>
                    <a:lnTo>
                      <a:pt x="76" y="195"/>
                    </a:lnTo>
                    <a:lnTo>
                      <a:pt x="69" y="118"/>
                    </a:lnTo>
                    <a:lnTo>
                      <a:pt x="34" y="41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883280" y="6100560"/>
                <a:ext cx="133200" cy="46440"/>
              </a:xfrm>
              <a:custGeom>
                <a:avLst/>
                <a:gdLst/>
                <a:ahLst/>
                <a:rect l="l" t="t" r="r" b="b"/>
                <a:pathLst>
                  <a:path w="993" h="316">
                    <a:moveTo>
                      <a:pt x="703" y="44"/>
                    </a:moveTo>
                    <a:lnTo>
                      <a:pt x="744" y="53"/>
                    </a:lnTo>
                    <a:lnTo>
                      <a:pt x="782" y="129"/>
                    </a:lnTo>
                    <a:lnTo>
                      <a:pt x="786" y="206"/>
                    </a:lnTo>
                    <a:lnTo>
                      <a:pt x="786" y="258"/>
                    </a:lnTo>
                    <a:lnTo>
                      <a:pt x="479" y="291"/>
                    </a:lnTo>
                    <a:lnTo>
                      <a:pt x="265" y="283"/>
                    </a:lnTo>
                    <a:lnTo>
                      <a:pt x="0" y="258"/>
                    </a:lnTo>
                    <a:lnTo>
                      <a:pt x="230" y="300"/>
                    </a:lnTo>
                    <a:lnTo>
                      <a:pt x="454" y="316"/>
                    </a:lnTo>
                    <a:lnTo>
                      <a:pt x="677" y="316"/>
                    </a:lnTo>
                    <a:lnTo>
                      <a:pt x="924" y="274"/>
                    </a:lnTo>
                    <a:lnTo>
                      <a:pt x="993" y="221"/>
                    </a:lnTo>
                    <a:lnTo>
                      <a:pt x="822" y="249"/>
                    </a:lnTo>
                    <a:lnTo>
                      <a:pt x="815" y="171"/>
                    </a:lnTo>
                    <a:lnTo>
                      <a:pt x="795" y="85"/>
                    </a:lnTo>
                    <a:lnTo>
                      <a:pt x="782" y="35"/>
                    </a:lnTo>
                    <a:lnTo>
                      <a:pt x="753" y="0"/>
                    </a:lnTo>
                    <a:lnTo>
                      <a:pt x="703" y="0"/>
                    </a:lnTo>
                    <a:lnTo>
                      <a:pt x="70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862040" y="5966640"/>
                <a:ext cx="87120" cy="117360"/>
              </a:xfrm>
              <a:custGeom>
                <a:avLst/>
                <a:gdLst/>
                <a:ahLst/>
                <a:rect l="l" t="t" r="r" b="b"/>
                <a:pathLst>
                  <a:path w="652" h="782">
                    <a:moveTo>
                      <a:pt x="0" y="764"/>
                    </a:moveTo>
                    <a:lnTo>
                      <a:pt x="590" y="0"/>
                    </a:lnTo>
                    <a:lnTo>
                      <a:pt x="652" y="42"/>
                    </a:lnTo>
                    <a:lnTo>
                      <a:pt x="83" y="7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840800" y="6052680"/>
                <a:ext cx="87120" cy="41400"/>
              </a:xfrm>
              <a:custGeom>
                <a:avLst/>
                <a:gdLst/>
                <a:ahLst/>
                <a:rect l="l" t="t" r="r" b="b"/>
                <a:pathLst>
                  <a:path w="659" h="276">
                    <a:moveTo>
                      <a:pt x="301" y="146"/>
                    </a:moveTo>
                    <a:lnTo>
                      <a:pt x="384" y="137"/>
                    </a:lnTo>
                    <a:lnTo>
                      <a:pt x="555" y="0"/>
                    </a:lnTo>
                    <a:lnTo>
                      <a:pt x="523" y="95"/>
                    </a:lnTo>
                    <a:lnTo>
                      <a:pt x="452" y="207"/>
                    </a:lnTo>
                    <a:lnTo>
                      <a:pt x="496" y="240"/>
                    </a:lnTo>
                    <a:lnTo>
                      <a:pt x="659" y="223"/>
                    </a:lnTo>
                    <a:lnTo>
                      <a:pt x="496" y="276"/>
                    </a:lnTo>
                    <a:lnTo>
                      <a:pt x="393" y="276"/>
                    </a:lnTo>
                    <a:lnTo>
                      <a:pt x="204" y="223"/>
                    </a:lnTo>
                    <a:lnTo>
                      <a:pt x="103" y="196"/>
                    </a:lnTo>
                    <a:lnTo>
                      <a:pt x="34" y="196"/>
                    </a:lnTo>
                    <a:lnTo>
                      <a:pt x="0" y="214"/>
                    </a:lnTo>
                    <a:lnTo>
                      <a:pt x="25" y="196"/>
                    </a:lnTo>
                    <a:lnTo>
                      <a:pt x="103" y="182"/>
                    </a:lnTo>
                    <a:lnTo>
                      <a:pt x="246" y="196"/>
                    </a:lnTo>
                    <a:lnTo>
                      <a:pt x="301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805520" y="6088680"/>
                <a:ext cx="73440" cy="52560"/>
              </a:xfrm>
              <a:custGeom>
                <a:avLst/>
                <a:gdLst/>
                <a:ahLst/>
                <a:rect l="l" t="t" r="r" b="b"/>
                <a:pathLst>
                  <a:path w="556" h="352">
                    <a:moveTo>
                      <a:pt x="556" y="352"/>
                    </a:moveTo>
                    <a:lnTo>
                      <a:pt x="538" y="260"/>
                    </a:lnTo>
                    <a:lnTo>
                      <a:pt x="496" y="198"/>
                    </a:lnTo>
                    <a:lnTo>
                      <a:pt x="444" y="147"/>
                    </a:lnTo>
                    <a:lnTo>
                      <a:pt x="435" y="86"/>
                    </a:lnTo>
                    <a:lnTo>
                      <a:pt x="418" y="36"/>
                    </a:lnTo>
                    <a:lnTo>
                      <a:pt x="367" y="36"/>
                    </a:lnTo>
                    <a:lnTo>
                      <a:pt x="305" y="53"/>
                    </a:lnTo>
                    <a:lnTo>
                      <a:pt x="270" y="78"/>
                    </a:lnTo>
                    <a:lnTo>
                      <a:pt x="171" y="36"/>
                    </a:lnTo>
                    <a:lnTo>
                      <a:pt x="75" y="0"/>
                    </a:lnTo>
                    <a:lnTo>
                      <a:pt x="0" y="9"/>
                    </a:lnTo>
                    <a:lnTo>
                      <a:pt x="109" y="36"/>
                    </a:lnTo>
                    <a:lnTo>
                      <a:pt x="270" y="122"/>
                    </a:lnTo>
                    <a:lnTo>
                      <a:pt x="330" y="163"/>
                    </a:lnTo>
                    <a:lnTo>
                      <a:pt x="316" y="101"/>
                    </a:lnTo>
                    <a:lnTo>
                      <a:pt x="376" y="101"/>
                    </a:lnTo>
                    <a:lnTo>
                      <a:pt x="427" y="163"/>
                    </a:lnTo>
                    <a:lnTo>
                      <a:pt x="468" y="240"/>
                    </a:lnTo>
                    <a:lnTo>
                      <a:pt x="503" y="318"/>
                    </a:lnTo>
                    <a:lnTo>
                      <a:pt x="503" y="352"/>
                    </a:lnTo>
                    <a:lnTo>
                      <a:pt x="556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760880" y="6094440"/>
                <a:ext cx="54000" cy="110880"/>
              </a:xfrm>
              <a:custGeom>
                <a:avLst/>
                <a:gdLst/>
                <a:ahLst/>
                <a:rect l="l" t="t" r="r" b="b"/>
                <a:pathLst>
                  <a:path w="413" h="747">
                    <a:moveTo>
                      <a:pt x="309" y="0"/>
                    </a:moveTo>
                    <a:lnTo>
                      <a:pt x="233" y="111"/>
                    </a:lnTo>
                    <a:lnTo>
                      <a:pt x="129" y="118"/>
                    </a:lnTo>
                    <a:lnTo>
                      <a:pt x="129" y="178"/>
                    </a:lnTo>
                    <a:lnTo>
                      <a:pt x="166" y="263"/>
                    </a:lnTo>
                    <a:lnTo>
                      <a:pt x="166" y="282"/>
                    </a:lnTo>
                    <a:lnTo>
                      <a:pt x="78" y="325"/>
                    </a:lnTo>
                    <a:lnTo>
                      <a:pt x="191" y="478"/>
                    </a:lnTo>
                    <a:lnTo>
                      <a:pt x="191" y="540"/>
                    </a:lnTo>
                    <a:lnTo>
                      <a:pt x="69" y="455"/>
                    </a:lnTo>
                    <a:lnTo>
                      <a:pt x="46" y="549"/>
                    </a:lnTo>
                    <a:lnTo>
                      <a:pt x="62" y="609"/>
                    </a:lnTo>
                    <a:lnTo>
                      <a:pt x="105" y="660"/>
                    </a:lnTo>
                    <a:lnTo>
                      <a:pt x="413" y="747"/>
                    </a:lnTo>
                    <a:lnTo>
                      <a:pt x="96" y="676"/>
                    </a:lnTo>
                    <a:lnTo>
                      <a:pt x="26" y="609"/>
                    </a:lnTo>
                    <a:lnTo>
                      <a:pt x="0" y="470"/>
                    </a:lnTo>
                    <a:lnTo>
                      <a:pt x="53" y="342"/>
                    </a:lnTo>
                    <a:lnTo>
                      <a:pt x="69" y="282"/>
                    </a:lnTo>
                    <a:lnTo>
                      <a:pt x="111" y="257"/>
                    </a:lnTo>
                    <a:lnTo>
                      <a:pt x="105" y="144"/>
                    </a:lnTo>
                    <a:lnTo>
                      <a:pt x="129" y="95"/>
                    </a:lnTo>
                    <a:lnTo>
                      <a:pt x="242" y="65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864920" y="6111360"/>
                <a:ext cx="86400" cy="32040"/>
              </a:xfrm>
              <a:custGeom>
                <a:avLst/>
                <a:gdLst/>
                <a:ahLst/>
                <a:rect l="l" t="t" r="r" b="b"/>
                <a:pathLst>
                  <a:path w="644" h="222">
                    <a:moveTo>
                      <a:pt x="0" y="0"/>
                    </a:moveTo>
                    <a:lnTo>
                      <a:pt x="139" y="16"/>
                    </a:lnTo>
                    <a:lnTo>
                      <a:pt x="266" y="60"/>
                    </a:lnTo>
                    <a:lnTo>
                      <a:pt x="396" y="152"/>
                    </a:lnTo>
                    <a:lnTo>
                      <a:pt x="473" y="189"/>
                    </a:lnTo>
                    <a:lnTo>
                      <a:pt x="644" y="222"/>
                    </a:lnTo>
                    <a:lnTo>
                      <a:pt x="404" y="222"/>
                    </a:lnTo>
                    <a:lnTo>
                      <a:pt x="266" y="146"/>
                    </a:lnTo>
                    <a:lnTo>
                      <a:pt x="189" y="84"/>
                    </a:lnTo>
                    <a:lnTo>
                      <a:pt x="139" y="93"/>
                    </a:lnTo>
                    <a:lnTo>
                      <a:pt x="77" y="128"/>
                    </a:lnTo>
                    <a:lnTo>
                      <a:pt x="12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7527960" y="6068160"/>
              <a:ext cx="258840" cy="68040"/>
            </a:xfrm>
            <a:custGeom>
              <a:avLst/>
              <a:gdLst/>
              <a:ahLst/>
              <a:rect l="l" t="t" r="r" b="b"/>
              <a:pathLst>
                <a:path w="1943" h="454">
                  <a:moveTo>
                    <a:pt x="452" y="0"/>
                  </a:moveTo>
                  <a:lnTo>
                    <a:pt x="323" y="7"/>
                  </a:lnTo>
                  <a:lnTo>
                    <a:pt x="92" y="119"/>
                  </a:lnTo>
                  <a:lnTo>
                    <a:pt x="68" y="178"/>
                  </a:lnTo>
                  <a:lnTo>
                    <a:pt x="0" y="205"/>
                  </a:lnTo>
                  <a:lnTo>
                    <a:pt x="0" y="249"/>
                  </a:lnTo>
                  <a:lnTo>
                    <a:pt x="50" y="274"/>
                  </a:lnTo>
                  <a:lnTo>
                    <a:pt x="171" y="274"/>
                  </a:lnTo>
                  <a:lnTo>
                    <a:pt x="228" y="308"/>
                  </a:lnTo>
                  <a:lnTo>
                    <a:pt x="369" y="308"/>
                  </a:lnTo>
                  <a:lnTo>
                    <a:pt x="580" y="290"/>
                  </a:lnTo>
                  <a:lnTo>
                    <a:pt x="728" y="274"/>
                  </a:lnTo>
                  <a:lnTo>
                    <a:pt x="857" y="299"/>
                  </a:lnTo>
                  <a:lnTo>
                    <a:pt x="1009" y="299"/>
                  </a:lnTo>
                  <a:lnTo>
                    <a:pt x="1111" y="290"/>
                  </a:lnTo>
                  <a:lnTo>
                    <a:pt x="1247" y="237"/>
                  </a:lnTo>
                  <a:lnTo>
                    <a:pt x="1277" y="228"/>
                  </a:lnTo>
                  <a:lnTo>
                    <a:pt x="1300" y="299"/>
                  </a:lnTo>
                  <a:lnTo>
                    <a:pt x="1463" y="343"/>
                  </a:lnTo>
                  <a:lnTo>
                    <a:pt x="1489" y="405"/>
                  </a:lnTo>
                  <a:lnTo>
                    <a:pt x="1713" y="444"/>
                  </a:lnTo>
                  <a:lnTo>
                    <a:pt x="1841" y="454"/>
                  </a:lnTo>
                  <a:lnTo>
                    <a:pt x="1874" y="429"/>
                  </a:lnTo>
                  <a:lnTo>
                    <a:pt x="1850" y="325"/>
                  </a:lnTo>
                  <a:lnTo>
                    <a:pt x="1865" y="274"/>
                  </a:lnTo>
                  <a:lnTo>
                    <a:pt x="1943" y="258"/>
                  </a:lnTo>
                  <a:lnTo>
                    <a:pt x="1463" y="205"/>
                  </a:lnTo>
                  <a:lnTo>
                    <a:pt x="1463" y="110"/>
                  </a:lnTo>
                  <a:lnTo>
                    <a:pt x="1480" y="0"/>
                  </a:lnTo>
                  <a:lnTo>
                    <a:pt x="1439" y="103"/>
                  </a:lnTo>
                  <a:lnTo>
                    <a:pt x="1422" y="189"/>
                  </a:lnTo>
                  <a:lnTo>
                    <a:pt x="1413" y="205"/>
                  </a:lnTo>
                  <a:lnTo>
                    <a:pt x="1283" y="178"/>
                  </a:lnTo>
                  <a:lnTo>
                    <a:pt x="1283" y="103"/>
                  </a:lnTo>
                  <a:lnTo>
                    <a:pt x="1136" y="214"/>
                  </a:lnTo>
                  <a:lnTo>
                    <a:pt x="1044" y="228"/>
                  </a:lnTo>
                  <a:lnTo>
                    <a:pt x="857" y="228"/>
                  </a:lnTo>
                  <a:lnTo>
                    <a:pt x="710" y="222"/>
                  </a:lnTo>
                  <a:lnTo>
                    <a:pt x="606" y="237"/>
                  </a:lnTo>
                  <a:lnTo>
                    <a:pt x="384" y="274"/>
                  </a:lnTo>
                  <a:lnTo>
                    <a:pt x="299" y="283"/>
                  </a:lnTo>
                  <a:lnTo>
                    <a:pt x="248" y="283"/>
                  </a:lnTo>
                  <a:lnTo>
                    <a:pt x="228" y="258"/>
                  </a:lnTo>
                  <a:lnTo>
                    <a:pt x="350" y="228"/>
                  </a:lnTo>
                  <a:lnTo>
                    <a:pt x="488" y="178"/>
                  </a:lnTo>
                  <a:lnTo>
                    <a:pt x="580" y="145"/>
                  </a:lnTo>
                  <a:lnTo>
                    <a:pt x="360" y="205"/>
                  </a:lnTo>
                  <a:lnTo>
                    <a:pt x="221" y="237"/>
                  </a:lnTo>
                  <a:lnTo>
                    <a:pt x="110" y="258"/>
                  </a:lnTo>
                  <a:lnTo>
                    <a:pt x="57" y="249"/>
                  </a:lnTo>
                  <a:lnTo>
                    <a:pt x="50" y="214"/>
                  </a:lnTo>
                  <a:lnTo>
                    <a:pt x="154" y="161"/>
                  </a:lnTo>
                  <a:lnTo>
                    <a:pt x="299" y="92"/>
                  </a:lnTo>
                  <a:lnTo>
                    <a:pt x="540" y="51"/>
                  </a:lnTo>
                  <a:lnTo>
                    <a:pt x="530" y="33"/>
                  </a:lnTo>
                  <a:lnTo>
                    <a:pt x="290" y="85"/>
                  </a:lnTo>
                  <a:lnTo>
                    <a:pt x="127" y="154"/>
                  </a:lnTo>
                  <a:lnTo>
                    <a:pt x="143" y="119"/>
                  </a:lnTo>
                  <a:lnTo>
                    <a:pt x="332" y="25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31360" y="6046920"/>
              <a:ext cx="10440" cy="108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70"/>
                  </a:moveTo>
                  <a:lnTo>
                    <a:pt x="77" y="0"/>
                  </a:lnTo>
                  <a:lnTo>
                    <a:pt x="24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45800" y="6050160"/>
              <a:ext cx="89280" cy="53640"/>
            </a:xfrm>
            <a:custGeom>
              <a:avLst/>
              <a:gdLst/>
              <a:ahLst/>
              <a:rect l="l" t="t" r="r" b="b"/>
              <a:pathLst>
                <a:path w="675" h="360">
                  <a:moveTo>
                    <a:pt x="675" y="360"/>
                  </a:moveTo>
                  <a:lnTo>
                    <a:pt x="675" y="259"/>
                  </a:lnTo>
                  <a:lnTo>
                    <a:pt x="0" y="0"/>
                  </a:lnTo>
                  <a:lnTo>
                    <a:pt x="0" y="79"/>
                  </a:lnTo>
                  <a:lnTo>
                    <a:pt x="6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7435440" y="6095520"/>
              <a:ext cx="1011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7345800" y="6030000"/>
              <a:ext cx="2682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7435440" y="6081120"/>
              <a:ext cx="118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10040" y="6175800"/>
              <a:ext cx="122400" cy="45360"/>
            </a:xfrm>
            <a:custGeom>
              <a:avLst/>
              <a:gdLst/>
              <a:ahLst/>
              <a:rect l="l" t="t" r="r" b="b"/>
              <a:pathLst>
                <a:path w="920" h="305">
                  <a:moveTo>
                    <a:pt x="920" y="305"/>
                  </a:moveTo>
                  <a:lnTo>
                    <a:pt x="920" y="251"/>
                  </a:lnTo>
                  <a:lnTo>
                    <a:pt x="0" y="0"/>
                  </a:lnTo>
                  <a:lnTo>
                    <a:pt x="0" y="39"/>
                  </a:lnTo>
                  <a:lnTo>
                    <a:pt x="92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7732440" y="6210360"/>
              <a:ext cx="7992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7732440" y="6203520"/>
              <a:ext cx="76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7610040" y="6154200"/>
              <a:ext cx="16056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422400" y="5544720"/>
              <a:ext cx="178920" cy="230400"/>
            </a:xfrm>
            <a:custGeom>
              <a:avLst/>
              <a:gdLst/>
              <a:ahLst/>
              <a:rect l="l" t="t" r="r" b="b"/>
              <a:pathLst>
                <a:path w="1346" h="1545">
                  <a:moveTo>
                    <a:pt x="973" y="941"/>
                  </a:moveTo>
                  <a:lnTo>
                    <a:pt x="916" y="976"/>
                  </a:lnTo>
                  <a:lnTo>
                    <a:pt x="837" y="985"/>
                  </a:lnTo>
                  <a:lnTo>
                    <a:pt x="725" y="991"/>
                  </a:lnTo>
                  <a:lnTo>
                    <a:pt x="668" y="1035"/>
                  </a:lnTo>
                  <a:lnTo>
                    <a:pt x="637" y="1096"/>
                  </a:lnTo>
                  <a:lnTo>
                    <a:pt x="637" y="1151"/>
                  </a:lnTo>
                  <a:lnTo>
                    <a:pt x="661" y="1213"/>
                  </a:lnTo>
                  <a:lnTo>
                    <a:pt x="698" y="1241"/>
                  </a:lnTo>
                  <a:lnTo>
                    <a:pt x="643" y="1227"/>
                  </a:lnTo>
                  <a:lnTo>
                    <a:pt x="661" y="1273"/>
                  </a:lnTo>
                  <a:lnTo>
                    <a:pt x="692" y="1303"/>
                  </a:lnTo>
                  <a:lnTo>
                    <a:pt x="657" y="1321"/>
                  </a:lnTo>
                  <a:lnTo>
                    <a:pt x="611" y="1321"/>
                  </a:lnTo>
                  <a:lnTo>
                    <a:pt x="574" y="1303"/>
                  </a:lnTo>
                  <a:lnTo>
                    <a:pt x="574" y="1334"/>
                  </a:lnTo>
                  <a:lnTo>
                    <a:pt x="595" y="1372"/>
                  </a:lnTo>
                  <a:lnTo>
                    <a:pt x="611" y="1389"/>
                  </a:lnTo>
                  <a:lnTo>
                    <a:pt x="583" y="1389"/>
                  </a:lnTo>
                  <a:lnTo>
                    <a:pt x="532" y="1372"/>
                  </a:lnTo>
                  <a:lnTo>
                    <a:pt x="507" y="1338"/>
                  </a:lnTo>
                  <a:lnTo>
                    <a:pt x="498" y="1398"/>
                  </a:lnTo>
                  <a:lnTo>
                    <a:pt x="518" y="1446"/>
                  </a:lnTo>
                  <a:lnTo>
                    <a:pt x="586" y="1520"/>
                  </a:lnTo>
                  <a:lnTo>
                    <a:pt x="536" y="1545"/>
                  </a:lnTo>
                  <a:lnTo>
                    <a:pt x="475" y="1545"/>
                  </a:lnTo>
                  <a:lnTo>
                    <a:pt x="376" y="1527"/>
                  </a:lnTo>
                  <a:lnTo>
                    <a:pt x="301" y="1483"/>
                  </a:lnTo>
                  <a:lnTo>
                    <a:pt x="244" y="1426"/>
                  </a:lnTo>
                  <a:lnTo>
                    <a:pt x="244" y="1488"/>
                  </a:lnTo>
                  <a:lnTo>
                    <a:pt x="207" y="1474"/>
                  </a:lnTo>
                  <a:lnTo>
                    <a:pt x="175" y="1439"/>
                  </a:lnTo>
                  <a:lnTo>
                    <a:pt x="115" y="1488"/>
                  </a:lnTo>
                  <a:lnTo>
                    <a:pt x="64" y="1439"/>
                  </a:lnTo>
                  <a:lnTo>
                    <a:pt x="26" y="1372"/>
                  </a:lnTo>
                  <a:lnTo>
                    <a:pt x="13" y="1308"/>
                  </a:lnTo>
                  <a:lnTo>
                    <a:pt x="0" y="1195"/>
                  </a:lnTo>
                  <a:lnTo>
                    <a:pt x="26" y="1040"/>
                  </a:lnTo>
                  <a:lnTo>
                    <a:pt x="83" y="865"/>
                  </a:lnTo>
                  <a:lnTo>
                    <a:pt x="196" y="673"/>
                  </a:lnTo>
                  <a:lnTo>
                    <a:pt x="305" y="503"/>
                  </a:lnTo>
                  <a:lnTo>
                    <a:pt x="475" y="316"/>
                  </a:lnTo>
                  <a:lnTo>
                    <a:pt x="606" y="194"/>
                  </a:lnTo>
                  <a:lnTo>
                    <a:pt x="736" y="108"/>
                  </a:lnTo>
                  <a:lnTo>
                    <a:pt x="866" y="40"/>
                  </a:lnTo>
                  <a:lnTo>
                    <a:pt x="1004" y="14"/>
                  </a:lnTo>
                  <a:lnTo>
                    <a:pt x="1136" y="0"/>
                  </a:lnTo>
                  <a:lnTo>
                    <a:pt x="961" y="62"/>
                  </a:lnTo>
                  <a:lnTo>
                    <a:pt x="850" y="116"/>
                  </a:lnTo>
                  <a:lnTo>
                    <a:pt x="754" y="231"/>
                  </a:lnTo>
                  <a:lnTo>
                    <a:pt x="680" y="323"/>
                  </a:lnTo>
                  <a:lnTo>
                    <a:pt x="779" y="298"/>
                  </a:lnTo>
                  <a:lnTo>
                    <a:pt x="966" y="217"/>
                  </a:lnTo>
                  <a:lnTo>
                    <a:pt x="922" y="282"/>
                  </a:lnTo>
                  <a:lnTo>
                    <a:pt x="866" y="349"/>
                  </a:lnTo>
                  <a:lnTo>
                    <a:pt x="775" y="413"/>
                  </a:lnTo>
                  <a:lnTo>
                    <a:pt x="866" y="381"/>
                  </a:lnTo>
                  <a:lnTo>
                    <a:pt x="922" y="363"/>
                  </a:lnTo>
                  <a:lnTo>
                    <a:pt x="878" y="418"/>
                  </a:lnTo>
                  <a:lnTo>
                    <a:pt x="804" y="462"/>
                  </a:lnTo>
                  <a:lnTo>
                    <a:pt x="698" y="512"/>
                  </a:lnTo>
                  <a:lnTo>
                    <a:pt x="804" y="480"/>
                  </a:lnTo>
                  <a:lnTo>
                    <a:pt x="912" y="448"/>
                  </a:lnTo>
                  <a:lnTo>
                    <a:pt x="1024" y="391"/>
                  </a:lnTo>
                  <a:lnTo>
                    <a:pt x="1109" y="349"/>
                  </a:lnTo>
                  <a:lnTo>
                    <a:pt x="1081" y="391"/>
                  </a:lnTo>
                  <a:lnTo>
                    <a:pt x="995" y="475"/>
                  </a:lnTo>
                  <a:lnTo>
                    <a:pt x="929" y="536"/>
                  </a:lnTo>
                  <a:lnTo>
                    <a:pt x="1024" y="512"/>
                  </a:lnTo>
                  <a:lnTo>
                    <a:pt x="1116" y="475"/>
                  </a:lnTo>
                  <a:lnTo>
                    <a:pt x="1178" y="453"/>
                  </a:lnTo>
                  <a:lnTo>
                    <a:pt x="1109" y="512"/>
                  </a:lnTo>
                  <a:lnTo>
                    <a:pt x="1004" y="579"/>
                  </a:lnTo>
                  <a:lnTo>
                    <a:pt x="1116" y="565"/>
                  </a:lnTo>
                  <a:lnTo>
                    <a:pt x="1222" y="517"/>
                  </a:lnTo>
                  <a:lnTo>
                    <a:pt x="1289" y="466"/>
                  </a:lnTo>
                  <a:lnTo>
                    <a:pt x="1215" y="549"/>
                  </a:lnTo>
                  <a:lnTo>
                    <a:pt x="1102" y="618"/>
                  </a:lnTo>
                  <a:lnTo>
                    <a:pt x="1017" y="642"/>
                  </a:lnTo>
                  <a:lnTo>
                    <a:pt x="936" y="653"/>
                  </a:lnTo>
                  <a:lnTo>
                    <a:pt x="853" y="653"/>
                  </a:lnTo>
                  <a:lnTo>
                    <a:pt x="936" y="669"/>
                  </a:lnTo>
                  <a:lnTo>
                    <a:pt x="1058" y="669"/>
                  </a:lnTo>
                  <a:lnTo>
                    <a:pt x="1178" y="642"/>
                  </a:lnTo>
                  <a:lnTo>
                    <a:pt x="1286" y="598"/>
                  </a:lnTo>
                  <a:lnTo>
                    <a:pt x="1235" y="653"/>
                  </a:lnTo>
                  <a:lnTo>
                    <a:pt x="1166" y="692"/>
                  </a:lnTo>
                  <a:lnTo>
                    <a:pt x="1265" y="673"/>
                  </a:lnTo>
                  <a:lnTo>
                    <a:pt x="1346" y="653"/>
                  </a:lnTo>
                  <a:lnTo>
                    <a:pt x="1296" y="697"/>
                  </a:lnTo>
                  <a:lnTo>
                    <a:pt x="1184" y="743"/>
                  </a:lnTo>
                  <a:lnTo>
                    <a:pt x="1067" y="766"/>
                  </a:lnTo>
                  <a:lnTo>
                    <a:pt x="966" y="778"/>
                  </a:lnTo>
                  <a:lnTo>
                    <a:pt x="763" y="791"/>
                  </a:lnTo>
                  <a:lnTo>
                    <a:pt x="650" y="828"/>
                  </a:lnTo>
                  <a:lnTo>
                    <a:pt x="574" y="877"/>
                  </a:lnTo>
                  <a:lnTo>
                    <a:pt x="687" y="835"/>
                  </a:lnTo>
                  <a:lnTo>
                    <a:pt x="823" y="817"/>
                  </a:lnTo>
                  <a:lnTo>
                    <a:pt x="956" y="828"/>
                  </a:lnTo>
                  <a:lnTo>
                    <a:pt x="1046" y="817"/>
                  </a:lnTo>
                  <a:lnTo>
                    <a:pt x="973" y="9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5000" y="5544720"/>
              <a:ext cx="182880" cy="182880"/>
            </a:xfrm>
            <a:custGeom>
              <a:avLst/>
              <a:gdLst/>
              <a:ahLst/>
              <a:rect l="l" t="t" r="r" b="b"/>
              <a:pathLst>
                <a:path w="1377" h="1227">
                  <a:moveTo>
                    <a:pt x="0" y="224"/>
                  </a:moveTo>
                  <a:lnTo>
                    <a:pt x="74" y="176"/>
                  </a:lnTo>
                  <a:lnTo>
                    <a:pt x="155" y="143"/>
                  </a:lnTo>
                  <a:lnTo>
                    <a:pt x="275" y="112"/>
                  </a:lnTo>
                  <a:lnTo>
                    <a:pt x="393" y="108"/>
                  </a:lnTo>
                  <a:lnTo>
                    <a:pt x="268" y="169"/>
                  </a:lnTo>
                  <a:lnTo>
                    <a:pt x="353" y="156"/>
                  </a:lnTo>
                  <a:lnTo>
                    <a:pt x="455" y="136"/>
                  </a:lnTo>
                  <a:lnTo>
                    <a:pt x="404" y="180"/>
                  </a:lnTo>
                  <a:lnTo>
                    <a:pt x="332" y="255"/>
                  </a:lnTo>
                  <a:lnTo>
                    <a:pt x="257" y="310"/>
                  </a:lnTo>
                  <a:lnTo>
                    <a:pt x="349" y="268"/>
                  </a:lnTo>
                  <a:lnTo>
                    <a:pt x="437" y="242"/>
                  </a:lnTo>
                  <a:lnTo>
                    <a:pt x="522" y="224"/>
                  </a:lnTo>
                  <a:lnTo>
                    <a:pt x="630" y="231"/>
                  </a:lnTo>
                  <a:lnTo>
                    <a:pt x="727" y="238"/>
                  </a:lnTo>
                  <a:lnTo>
                    <a:pt x="597" y="249"/>
                  </a:lnTo>
                  <a:lnTo>
                    <a:pt x="485" y="282"/>
                  </a:lnTo>
                  <a:lnTo>
                    <a:pt x="417" y="305"/>
                  </a:lnTo>
                  <a:lnTo>
                    <a:pt x="533" y="286"/>
                  </a:lnTo>
                  <a:lnTo>
                    <a:pt x="641" y="286"/>
                  </a:lnTo>
                  <a:lnTo>
                    <a:pt x="764" y="310"/>
                  </a:lnTo>
                  <a:lnTo>
                    <a:pt x="835" y="316"/>
                  </a:lnTo>
                  <a:lnTo>
                    <a:pt x="672" y="343"/>
                  </a:lnTo>
                  <a:lnTo>
                    <a:pt x="597" y="374"/>
                  </a:lnTo>
                  <a:lnTo>
                    <a:pt x="685" y="367"/>
                  </a:lnTo>
                  <a:lnTo>
                    <a:pt x="798" y="363"/>
                  </a:lnTo>
                  <a:lnTo>
                    <a:pt x="672" y="397"/>
                  </a:lnTo>
                  <a:lnTo>
                    <a:pt x="597" y="436"/>
                  </a:lnTo>
                  <a:lnTo>
                    <a:pt x="560" y="475"/>
                  </a:lnTo>
                  <a:lnTo>
                    <a:pt x="637" y="441"/>
                  </a:lnTo>
                  <a:lnTo>
                    <a:pt x="604" y="499"/>
                  </a:lnTo>
                  <a:lnTo>
                    <a:pt x="556" y="554"/>
                  </a:lnTo>
                  <a:lnTo>
                    <a:pt x="641" y="517"/>
                  </a:lnTo>
                  <a:lnTo>
                    <a:pt x="611" y="598"/>
                  </a:lnTo>
                  <a:lnTo>
                    <a:pt x="573" y="635"/>
                  </a:lnTo>
                  <a:lnTo>
                    <a:pt x="494" y="679"/>
                  </a:lnTo>
                  <a:lnTo>
                    <a:pt x="286" y="759"/>
                  </a:lnTo>
                  <a:lnTo>
                    <a:pt x="494" y="729"/>
                  </a:lnTo>
                  <a:lnTo>
                    <a:pt x="630" y="685"/>
                  </a:lnTo>
                  <a:lnTo>
                    <a:pt x="519" y="756"/>
                  </a:lnTo>
                  <a:lnTo>
                    <a:pt x="448" y="778"/>
                  </a:lnTo>
                  <a:lnTo>
                    <a:pt x="335" y="798"/>
                  </a:lnTo>
                  <a:lnTo>
                    <a:pt x="437" y="791"/>
                  </a:lnTo>
                  <a:lnTo>
                    <a:pt x="478" y="842"/>
                  </a:lnTo>
                  <a:lnTo>
                    <a:pt x="494" y="897"/>
                  </a:lnTo>
                  <a:lnTo>
                    <a:pt x="485" y="985"/>
                  </a:lnTo>
                  <a:lnTo>
                    <a:pt x="579" y="1052"/>
                  </a:lnTo>
                  <a:lnTo>
                    <a:pt x="637" y="941"/>
                  </a:lnTo>
                  <a:lnTo>
                    <a:pt x="861" y="860"/>
                  </a:lnTo>
                  <a:lnTo>
                    <a:pt x="920" y="817"/>
                  </a:lnTo>
                  <a:lnTo>
                    <a:pt x="958" y="778"/>
                  </a:lnTo>
                  <a:lnTo>
                    <a:pt x="920" y="756"/>
                  </a:lnTo>
                  <a:lnTo>
                    <a:pt x="953" y="720"/>
                  </a:lnTo>
                  <a:lnTo>
                    <a:pt x="964" y="692"/>
                  </a:lnTo>
                  <a:lnTo>
                    <a:pt x="902" y="679"/>
                  </a:lnTo>
                  <a:lnTo>
                    <a:pt x="953" y="646"/>
                  </a:lnTo>
                  <a:lnTo>
                    <a:pt x="934" y="604"/>
                  </a:lnTo>
                  <a:lnTo>
                    <a:pt x="964" y="586"/>
                  </a:lnTo>
                  <a:lnTo>
                    <a:pt x="934" y="530"/>
                  </a:lnTo>
                  <a:lnTo>
                    <a:pt x="1010" y="536"/>
                  </a:lnTo>
                  <a:lnTo>
                    <a:pt x="1096" y="586"/>
                  </a:lnTo>
                  <a:lnTo>
                    <a:pt x="1144" y="660"/>
                  </a:lnTo>
                  <a:lnTo>
                    <a:pt x="1188" y="766"/>
                  </a:lnTo>
                  <a:lnTo>
                    <a:pt x="1188" y="886"/>
                  </a:lnTo>
                  <a:lnTo>
                    <a:pt x="1133" y="1227"/>
                  </a:lnTo>
                  <a:lnTo>
                    <a:pt x="1199" y="904"/>
                  </a:lnTo>
                  <a:lnTo>
                    <a:pt x="1270" y="909"/>
                  </a:lnTo>
                  <a:lnTo>
                    <a:pt x="1333" y="877"/>
                  </a:lnTo>
                  <a:lnTo>
                    <a:pt x="1365" y="805"/>
                  </a:lnTo>
                  <a:lnTo>
                    <a:pt x="1377" y="697"/>
                  </a:lnTo>
                  <a:lnTo>
                    <a:pt x="1358" y="579"/>
                  </a:lnTo>
                  <a:lnTo>
                    <a:pt x="1287" y="418"/>
                  </a:lnTo>
                  <a:lnTo>
                    <a:pt x="1165" y="286"/>
                  </a:lnTo>
                  <a:lnTo>
                    <a:pt x="964" y="162"/>
                  </a:lnTo>
                  <a:lnTo>
                    <a:pt x="771" y="95"/>
                  </a:lnTo>
                  <a:lnTo>
                    <a:pt x="630" y="40"/>
                  </a:lnTo>
                  <a:lnTo>
                    <a:pt x="519" y="7"/>
                  </a:lnTo>
                  <a:lnTo>
                    <a:pt x="424" y="0"/>
                  </a:lnTo>
                  <a:lnTo>
                    <a:pt x="314" y="0"/>
                  </a:lnTo>
                  <a:lnTo>
                    <a:pt x="180" y="40"/>
                  </a:lnTo>
                  <a:lnTo>
                    <a:pt x="24" y="11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30040" y="5684400"/>
              <a:ext cx="45360" cy="60840"/>
            </a:xfrm>
            <a:custGeom>
              <a:avLst/>
              <a:gdLst/>
              <a:ahLst/>
              <a:rect l="l" t="t" r="r" b="b"/>
              <a:pathLst>
                <a:path w="340" h="409">
                  <a:moveTo>
                    <a:pt x="164" y="0"/>
                  </a:moveTo>
                  <a:lnTo>
                    <a:pt x="143" y="99"/>
                  </a:lnTo>
                  <a:lnTo>
                    <a:pt x="143" y="148"/>
                  </a:lnTo>
                  <a:lnTo>
                    <a:pt x="211" y="310"/>
                  </a:lnTo>
                  <a:lnTo>
                    <a:pt x="229" y="330"/>
                  </a:lnTo>
                  <a:lnTo>
                    <a:pt x="259" y="341"/>
                  </a:lnTo>
                  <a:lnTo>
                    <a:pt x="303" y="337"/>
                  </a:lnTo>
                  <a:lnTo>
                    <a:pt x="340" y="310"/>
                  </a:lnTo>
                  <a:lnTo>
                    <a:pt x="296" y="358"/>
                  </a:lnTo>
                  <a:lnTo>
                    <a:pt x="240" y="385"/>
                  </a:lnTo>
                  <a:lnTo>
                    <a:pt x="160" y="409"/>
                  </a:lnTo>
                  <a:lnTo>
                    <a:pt x="74" y="409"/>
                  </a:lnTo>
                  <a:lnTo>
                    <a:pt x="24" y="392"/>
                  </a:lnTo>
                  <a:lnTo>
                    <a:pt x="5" y="358"/>
                  </a:lnTo>
                  <a:lnTo>
                    <a:pt x="0" y="297"/>
                  </a:lnTo>
                  <a:lnTo>
                    <a:pt x="10" y="215"/>
                  </a:lnTo>
                  <a:lnTo>
                    <a:pt x="40" y="136"/>
                  </a:lnTo>
                  <a:lnTo>
                    <a:pt x="92" y="55"/>
                  </a:lnTo>
                  <a:lnTo>
                    <a:pt x="123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58840" y="5670000"/>
              <a:ext cx="30600" cy="47520"/>
            </a:xfrm>
            <a:custGeom>
              <a:avLst/>
              <a:gdLst/>
              <a:ahLst/>
              <a:rect l="l" t="t" r="r" b="b"/>
              <a:pathLst>
                <a:path w="237" h="316">
                  <a:moveTo>
                    <a:pt x="11" y="62"/>
                  </a:moveTo>
                  <a:lnTo>
                    <a:pt x="34" y="30"/>
                  </a:lnTo>
                  <a:lnTo>
                    <a:pt x="68" y="4"/>
                  </a:lnTo>
                  <a:lnTo>
                    <a:pt x="112" y="0"/>
                  </a:lnTo>
                  <a:lnTo>
                    <a:pt x="173" y="11"/>
                  </a:lnTo>
                  <a:lnTo>
                    <a:pt x="237" y="67"/>
                  </a:lnTo>
                  <a:lnTo>
                    <a:pt x="228" y="129"/>
                  </a:lnTo>
                  <a:lnTo>
                    <a:pt x="173" y="156"/>
                  </a:lnTo>
                  <a:lnTo>
                    <a:pt x="142" y="205"/>
                  </a:lnTo>
                  <a:lnTo>
                    <a:pt x="129" y="265"/>
                  </a:lnTo>
                  <a:lnTo>
                    <a:pt x="123" y="316"/>
                  </a:lnTo>
                  <a:lnTo>
                    <a:pt x="85" y="261"/>
                  </a:lnTo>
                  <a:lnTo>
                    <a:pt x="78" y="205"/>
                  </a:lnTo>
                  <a:lnTo>
                    <a:pt x="92" y="156"/>
                  </a:lnTo>
                  <a:lnTo>
                    <a:pt x="112" y="94"/>
                  </a:lnTo>
                  <a:lnTo>
                    <a:pt x="147" y="55"/>
                  </a:lnTo>
                  <a:lnTo>
                    <a:pt x="119" y="35"/>
                  </a:lnTo>
                  <a:lnTo>
                    <a:pt x="68" y="35"/>
                  </a:lnTo>
                  <a:lnTo>
                    <a:pt x="22" y="62"/>
                  </a:lnTo>
                  <a:lnTo>
                    <a:pt x="0" y="99"/>
                  </a:lnTo>
                  <a:lnTo>
                    <a:pt x="1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88720" y="5688000"/>
              <a:ext cx="648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93040" y="5691600"/>
              <a:ext cx="61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597000" y="5695200"/>
              <a:ext cx="50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01320" y="5698800"/>
              <a:ext cx="50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39840" y="5721480"/>
              <a:ext cx="37080" cy="57240"/>
            </a:xfrm>
            <a:custGeom>
              <a:avLst/>
              <a:gdLst/>
              <a:ahLst/>
              <a:rect l="l" t="t" r="r" b="b"/>
              <a:pathLst>
                <a:path w="286" h="386">
                  <a:moveTo>
                    <a:pt x="180" y="169"/>
                  </a:moveTo>
                  <a:lnTo>
                    <a:pt x="262" y="162"/>
                  </a:lnTo>
                  <a:lnTo>
                    <a:pt x="286" y="131"/>
                  </a:lnTo>
                  <a:lnTo>
                    <a:pt x="251" y="90"/>
                  </a:lnTo>
                  <a:lnTo>
                    <a:pt x="187" y="0"/>
                  </a:lnTo>
                  <a:lnTo>
                    <a:pt x="44" y="21"/>
                  </a:lnTo>
                  <a:lnTo>
                    <a:pt x="0" y="21"/>
                  </a:lnTo>
                  <a:lnTo>
                    <a:pt x="20" y="162"/>
                  </a:lnTo>
                  <a:lnTo>
                    <a:pt x="55" y="243"/>
                  </a:lnTo>
                  <a:lnTo>
                    <a:pt x="32" y="305"/>
                  </a:lnTo>
                  <a:lnTo>
                    <a:pt x="32" y="386"/>
                  </a:lnTo>
                  <a:lnTo>
                    <a:pt x="51" y="367"/>
                  </a:lnTo>
                  <a:lnTo>
                    <a:pt x="51" y="305"/>
                  </a:lnTo>
                  <a:lnTo>
                    <a:pt x="88" y="256"/>
                  </a:lnTo>
                  <a:lnTo>
                    <a:pt x="126" y="237"/>
                  </a:lnTo>
                  <a:lnTo>
                    <a:pt x="126" y="199"/>
                  </a:lnTo>
                  <a:lnTo>
                    <a:pt x="150" y="138"/>
                  </a:lnTo>
                  <a:lnTo>
                    <a:pt x="113" y="169"/>
                  </a:lnTo>
                  <a:lnTo>
                    <a:pt x="88" y="63"/>
                  </a:lnTo>
                  <a:lnTo>
                    <a:pt x="168" y="70"/>
                  </a:lnTo>
                  <a:lnTo>
                    <a:pt x="203" y="99"/>
                  </a:lnTo>
                  <a:lnTo>
                    <a:pt x="187" y="145"/>
                  </a:lnTo>
                  <a:lnTo>
                    <a:pt x="18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596280" y="5747760"/>
              <a:ext cx="70920" cy="100440"/>
            </a:xfrm>
            <a:custGeom>
              <a:avLst/>
              <a:gdLst/>
              <a:ahLst/>
              <a:rect l="l" t="t" r="r" b="b"/>
              <a:pathLst>
                <a:path w="530" h="668">
                  <a:moveTo>
                    <a:pt x="453" y="13"/>
                  </a:moveTo>
                  <a:lnTo>
                    <a:pt x="477" y="125"/>
                  </a:lnTo>
                  <a:lnTo>
                    <a:pt x="477" y="202"/>
                  </a:lnTo>
                  <a:lnTo>
                    <a:pt x="530" y="443"/>
                  </a:lnTo>
                  <a:lnTo>
                    <a:pt x="486" y="505"/>
                  </a:lnTo>
                  <a:lnTo>
                    <a:pt x="355" y="450"/>
                  </a:lnTo>
                  <a:lnTo>
                    <a:pt x="310" y="498"/>
                  </a:lnTo>
                  <a:lnTo>
                    <a:pt x="310" y="574"/>
                  </a:lnTo>
                  <a:lnTo>
                    <a:pt x="260" y="574"/>
                  </a:lnTo>
                  <a:lnTo>
                    <a:pt x="207" y="549"/>
                  </a:lnTo>
                  <a:lnTo>
                    <a:pt x="95" y="579"/>
                  </a:lnTo>
                  <a:lnTo>
                    <a:pt x="27" y="668"/>
                  </a:lnTo>
                  <a:lnTo>
                    <a:pt x="0" y="661"/>
                  </a:lnTo>
                  <a:lnTo>
                    <a:pt x="75" y="531"/>
                  </a:lnTo>
                  <a:lnTo>
                    <a:pt x="123" y="505"/>
                  </a:lnTo>
                  <a:lnTo>
                    <a:pt x="123" y="556"/>
                  </a:lnTo>
                  <a:lnTo>
                    <a:pt x="207" y="531"/>
                  </a:lnTo>
                  <a:lnTo>
                    <a:pt x="268" y="549"/>
                  </a:lnTo>
                  <a:lnTo>
                    <a:pt x="297" y="487"/>
                  </a:lnTo>
                  <a:lnTo>
                    <a:pt x="360" y="431"/>
                  </a:lnTo>
                  <a:lnTo>
                    <a:pt x="360" y="406"/>
                  </a:lnTo>
                  <a:lnTo>
                    <a:pt x="286" y="376"/>
                  </a:lnTo>
                  <a:lnTo>
                    <a:pt x="286" y="355"/>
                  </a:lnTo>
                  <a:lnTo>
                    <a:pt x="348" y="355"/>
                  </a:lnTo>
                  <a:lnTo>
                    <a:pt x="416" y="406"/>
                  </a:lnTo>
                  <a:lnTo>
                    <a:pt x="429" y="450"/>
                  </a:lnTo>
                  <a:lnTo>
                    <a:pt x="468" y="470"/>
                  </a:lnTo>
                  <a:lnTo>
                    <a:pt x="503" y="436"/>
                  </a:lnTo>
                  <a:lnTo>
                    <a:pt x="462" y="187"/>
                  </a:lnTo>
                  <a:lnTo>
                    <a:pt x="453" y="88"/>
                  </a:lnTo>
                  <a:lnTo>
                    <a:pt x="429" y="0"/>
                  </a:lnTo>
                  <a:lnTo>
                    <a:pt x="4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601320" y="5787360"/>
              <a:ext cx="38160" cy="33120"/>
            </a:xfrm>
            <a:custGeom>
              <a:avLst/>
              <a:gdLst/>
              <a:ahLst/>
              <a:rect l="l" t="t" r="r" b="b"/>
              <a:pathLst>
                <a:path w="281" h="218">
                  <a:moveTo>
                    <a:pt x="277" y="5"/>
                  </a:moveTo>
                  <a:lnTo>
                    <a:pt x="251" y="0"/>
                  </a:lnTo>
                  <a:lnTo>
                    <a:pt x="75" y="75"/>
                  </a:lnTo>
                  <a:lnTo>
                    <a:pt x="75" y="99"/>
                  </a:lnTo>
                  <a:lnTo>
                    <a:pt x="94" y="143"/>
                  </a:lnTo>
                  <a:lnTo>
                    <a:pt x="0" y="218"/>
                  </a:lnTo>
                  <a:lnTo>
                    <a:pt x="129" y="129"/>
                  </a:lnTo>
                  <a:lnTo>
                    <a:pt x="251" y="55"/>
                  </a:lnTo>
                  <a:lnTo>
                    <a:pt x="281" y="18"/>
                  </a:lnTo>
                  <a:lnTo>
                    <a:pt x="27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22840" y="5764320"/>
              <a:ext cx="96480" cy="122760"/>
            </a:xfrm>
            <a:custGeom>
              <a:avLst/>
              <a:gdLst/>
              <a:ahLst/>
              <a:rect l="l" t="t" r="r" b="b"/>
              <a:pathLst>
                <a:path w="726" h="821">
                  <a:moveTo>
                    <a:pt x="712" y="452"/>
                  </a:moveTo>
                  <a:lnTo>
                    <a:pt x="712" y="577"/>
                  </a:lnTo>
                  <a:lnTo>
                    <a:pt x="617" y="616"/>
                  </a:lnTo>
                  <a:lnTo>
                    <a:pt x="654" y="641"/>
                  </a:lnTo>
                  <a:lnTo>
                    <a:pt x="636" y="733"/>
                  </a:lnTo>
                  <a:lnTo>
                    <a:pt x="592" y="759"/>
                  </a:lnTo>
                  <a:lnTo>
                    <a:pt x="542" y="733"/>
                  </a:lnTo>
                  <a:lnTo>
                    <a:pt x="498" y="685"/>
                  </a:lnTo>
                  <a:lnTo>
                    <a:pt x="355" y="621"/>
                  </a:lnTo>
                  <a:lnTo>
                    <a:pt x="355" y="485"/>
                  </a:lnTo>
                  <a:lnTo>
                    <a:pt x="189" y="146"/>
                  </a:lnTo>
                  <a:lnTo>
                    <a:pt x="50" y="0"/>
                  </a:lnTo>
                  <a:lnTo>
                    <a:pt x="50" y="478"/>
                  </a:lnTo>
                  <a:lnTo>
                    <a:pt x="37" y="646"/>
                  </a:lnTo>
                  <a:lnTo>
                    <a:pt x="13" y="740"/>
                  </a:lnTo>
                  <a:lnTo>
                    <a:pt x="0" y="755"/>
                  </a:lnTo>
                  <a:lnTo>
                    <a:pt x="21" y="814"/>
                  </a:lnTo>
                  <a:lnTo>
                    <a:pt x="64" y="797"/>
                  </a:lnTo>
                  <a:lnTo>
                    <a:pt x="133" y="784"/>
                  </a:lnTo>
                  <a:lnTo>
                    <a:pt x="241" y="784"/>
                  </a:lnTo>
                  <a:lnTo>
                    <a:pt x="382" y="803"/>
                  </a:lnTo>
                  <a:lnTo>
                    <a:pt x="511" y="821"/>
                  </a:lnTo>
                  <a:lnTo>
                    <a:pt x="592" y="803"/>
                  </a:lnTo>
                  <a:lnTo>
                    <a:pt x="643" y="766"/>
                  </a:lnTo>
                  <a:lnTo>
                    <a:pt x="672" y="706"/>
                  </a:lnTo>
                  <a:lnTo>
                    <a:pt x="672" y="641"/>
                  </a:lnTo>
                  <a:lnTo>
                    <a:pt x="685" y="616"/>
                  </a:lnTo>
                  <a:lnTo>
                    <a:pt x="723" y="584"/>
                  </a:lnTo>
                  <a:lnTo>
                    <a:pt x="726" y="549"/>
                  </a:lnTo>
                  <a:lnTo>
                    <a:pt x="716" y="452"/>
                  </a:lnTo>
                  <a:lnTo>
                    <a:pt x="71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85640" y="5595840"/>
              <a:ext cx="42480" cy="16560"/>
            </a:xfrm>
            <a:custGeom>
              <a:avLst/>
              <a:gdLst/>
              <a:ahLst/>
              <a:rect l="l" t="t" r="r" b="b"/>
              <a:pathLst>
                <a:path w="321" h="112">
                  <a:moveTo>
                    <a:pt x="35" y="93"/>
                  </a:moveTo>
                  <a:lnTo>
                    <a:pt x="81" y="31"/>
                  </a:lnTo>
                  <a:lnTo>
                    <a:pt x="143" y="0"/>
                  </a:lnTo>
                  <a:lnTo>
                    <a:pt x="208" y="31"/>
                  </a:lnTo>
                  <a:lnTo>
                    <a:pt x="301" y="57"/>
                  </a:lnTo>
                  <a:lnTo>
                    <a:pt x="321" y="77"/>
                  </a:lnTo>
                  <a:lnTo>
                    <a:pt x="290" y="101"/>
                  </a:lnTo>
                  <a:lnTo>
                    <a:pt x="208" y="88"/>
                  </a:lnTo>
                  <a:lnTo>
                    <a:pt x="136" y="50"/>
                  </a:lnTo>
                  <a:lnTo>
                    <a:pt x="101" y="57"/>
                  </a:lnTo>
                  <a:lnTo>
                    <a:pt x="77" y="70"/>
                  </a:lnTo>
                  <a:lnTo>
                    <a:pt x="51" y="112"/>
                  </a:lnTo>
                  <a:lnTo>
                    <a:pt x="0" y="88"/>
                  </a:lnTo>
                  <a:lnTo>
                    <a:pt x="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94280" y="5610240"/>
              <a:ext cx="61560" cy="66960"/>
            </a:xfrm>
            <a:custGeom>
              <a:avLst/>
              <a:gdLst/>
              <a:ahLst/>
              <a:rect l="l" t="t" r="r" b="b"/>
              <a:pathLst>
                <a:path w="468" h="450">
                  <a:moveTo>
                    <a:pt x="208" y="3"/>
                  </a:moveTo>
                  <a:lnTo>
                    <a:pt x="132" y="39"/>
                  </a:lnTo>
                  <a:lnTo>
                    <a:pt x="96" y="70"/>
                  </a:lnTo>
                  <a:lnTo>
                    <a:pt x="3" y="100"/>
                  </a:lnTo>
                  <a:lnTo>
                    <a:pt x="0" y="111"/>
                  </a:lnTo>
                  <a:lnTo>
                    <a:pt x="96" y="173"/>
                  </a:lnTo>
                  <a:lnTo>
                    <a:pt x="96" y="118"/>
                  </a:lnTo>
                  <a:lnTo>
                    <a:pt x="146" y="111"/>
                  </a:lnTo>
                  <a:lnTo>
                    <a:pt x="208" y="173"/>
                  </a:lnTo>
                  <a:lnTo>
                    <a:pt x="208" y="281"/>
                  </a:lnTo>
                  <a:lnTo>
                    <a:pt x="187" y="335"/>
                  </a:lnTo>
                  <a:lnTo>
                    <a:pt x="219" y="285"/>
                  </a:lnTo>
                  <a:lnTo>
                    <a:pt x="233" y="235"/>
                  </a:lnTo>
                  <a:lnTo>
                    <a:pt x="239" y="169"/>
                  </a:lnTo>
                  <a:lnTo>
                    <a:pt x="239" y="107"/>
                  </a:lnTo>
                  <a:lnTo>
                    <a:pt x="270" y="100"/>
                  </a:lnTo>
                  <a:lnTo>
                    <a:pt x="289" y="100"/>
                  </a:lnTo>
                  <a:lnTo>
                    <a:pt x="428" y="281"/>
                  </a:lnTo>
                  <a:lnTo>
                    <a:pt x="459" y="328"/>
                  </a:lnTo>
                  <a:lnTo>
                    <a:pt x="452" y="362"/>
                  </a:lnTo>
                  <a:lnTo>
                    <a:pt x="439" y="388"/>
                  </a:lnTo>
                  <a:lnTo>
                    <a:pt x="406" y="388"/>
                  </a:lnTo>
                  <a:lnTo>
                    <a:pt x="344" y="362"/>
                  </a:lnTo>
                  <a:lnTo>
                    <a:pt x="300" y="358"/>
                  </a:lnTo>
                  <a:lnTo>
                    <a:pt x="281" y="381"/>
                  </a:lnTo>
                  <a:lnTo>
                    <a:pt x="248" y="379"/>
                  </a:lnTo>
                  <a:lnTo>
                    <a:pt x="204" y="362"/>
                  </a:lnTo>
                  <a:lnTo>
                    <a:pt x="185" y="379"/>
                  </a:lnTo>
                  <a:lnTo>
                    <a:pt x="222" y="423"/>
                  </a:lnTo>
                  <a:lnTo>
                    <a:pt x="289" y="423"/>
                  </a:lnTo>
                  <a:lnTo>
                    <a:pt x="316" y="450"/>
                  </a:lnTo>
                  <a:lnTo>
                    <a:pt x="342" y="415"/>
                  </a:lnTo>
                  <a:lnTo>
                    <a:pt x="439" y="420"/>
                  </a:lnTo>
                  <a:lnTo>
                    <a:pt x="464" y="388"/>
                  </a:lnTo>
                  <a:lnTo>
                    <a:pt x="468" y="335"/>
                  </a:lnTo>
                  <a:lnTo>
                    <a:pt x="459" y="300"/>
                  </a:lnTo>
                  <a:lnTo>
                    <a:pt x="327" y="118"/>
                  </a:lnTo>
                  <a:lnTo>
                    <a:pt x="305" y="88"/>
                  </a:lnTo>
                  <a:lnTo>
                    <a:pt x="305" y="65"/>
                  </a:lnTo>
                  <a:lnTo>
                    <a:pt x="239" y="61"/>
                  </a:lnTo>
                  <a:lnTo>
                    <a:pt x="228" y="30"/>
                  </a:lnTo>
                  <a:lnTo>
                    <a:pt x="222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32440" y="5606640"/>
              <a:ext cx="9360" cy="22680"/>
            </a:xfrm>
            <a:custGeom>
              <a:avLst/>
              <a:gdLst/>
              <a:ahLst/>
              <a:rect l="l" t="t" r="r" b="b"/>
              <a:pathLst>
                <a:path w="73" h="150">
                  <a:moveTo>
                    <a:pt x="0" y="88"/>
                  </a:moveTo>
                  <a:lnTo>
                    <a:pt x="15" y="38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41" y="7"/>
                  </a:lnTo>
                  <a:lnTo>
                    <a:pt x="73" y="62"/>
                  </a:lnTo>
                  <a:lnTo>
                    <a:pt x="73" y="150"/>
                  </a:lnTo>
                  <a:lnTo>
                    <a:pt x="62" y="97"/>
                  </a:lnTo>
                  <a:lnTo>
                    <a:pt x="48" y="69"/>
                  </a:lnTo>
                  <a:lnTo>
                    <a:pt x="6" y="11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05800" y="5637960"/>
              <a:ext cx="13680" cy="21240"/>
            </a:xfrm>
            <a:custGeom>
              <a:avLst/>
              <a:gdLst/>
              <a:ahLst/>
              <a:rect l="l" t="t" r="r" b="b"/>
              <a:pathLst>
                <a:path w="101" h="140">
                  <a:moveTo>
                    <a:pt x="0" y="0"/>
                  </a:moveTo>
                  <a:lnTo>
                    <a:pt x="0" y="66"/>
                  </a:lnTo>
                  <a:lnTo>
                    <a:pt x="27" y="124"/>
                  </a:lnTo>
                  <a:lnTo>
                    <a:pt x="50" y="140"/>
                  </a:lnTo>
                  <a:lnTo>
                    <a:pt x="82" y="140"/>
                  </a:lnTo>
                  <a:lnTo>
                    <a:pt x="101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701760" y="5621040"/>
              <a:ext cx="100800" cy="8280"/>
            </a:xfrm>
            <a:custGeom>
              <a:avLst/>
              <a:gdLst/>
              <a:ahLst/>
              <a:rect l="l" t="t" r="r" b="b"/>
              <a:pathLst>
                <a:path w="761" h="53">
                  <a:moveTo>
                    <a:pt x="761" y="37"/>
                  </a:moveTo>
                  <a:lnTo>
                    <a:pt x="9" y="0"/>
                  </a:lnTo>
                  <a:lnTo>
                    <a:pt x="0" y="14"/>
                  </a:lnTo>
                  <a:lnTo>
                    <a:pt x="741" y="53"/>
                  </a:lnTo>
                  <a:lnTo>
                    <a:pt x="76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02560" y="5654520"/>
              <a:ext cx="19080" cy="29520"/>
            </a:xfrm>
            <a:custGeom>
              <a:avLst/>
              <a:gdLst/>
              <a:ahLst/>
              <a:rect l="l" t="t" r="r" b="b"/>
              <a:pathLst>
                <a:path w="148" h="205">
                  <a:moveTo>
                    <a:pt x="148" y="0"/>
                  </a:moveTo>
                  <a:lnTo>
                    <a:pt x="148" y="77"/>
                  </a:lnTo>
                  <a:lnTo>
                    <a:pt x="51" y="124"/>
                  </a:lnTo>
                  <a:lnTo>
                    <a:pt x="0" y="205"/>
                  </a:lnTo>
                  <a:lnTo>
                    <a:pt x="0" y="119"/>
                  </a:lnTo>
                  <a:lnTo>
                    <a:pt x="58" y="22"/>
                  </a:lnTo>
                  <a:lnTo>
                    <a:pt x="88" y="31"/>
                  </a:lnTo>
                  <a:lnTo>
                    <a:pt x="120" y="3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00760" y="5688000"/>
              <a:ext cx="10440" cy="2016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82" y="48"/>
                  </a:moveTo>
                  <a:lnTo>
                    <a:pt x="48" y="0"/>
                  </a:lnTo>
                  <a:lnTo>
                    <a:pt x="24" y="27"/>
                  </a:lnTo>
                  <a:lnTo>
                    <a:pt x="0" y="92"/>
                  </a:lnTo>
                  <a:lnTo>
                    <a:pt x="20" y="138"/>
                  </a:lnTo>
                  <a:lnTo>
                    <a:pt x="82" y="62"/>
                  </a:lnTo>
                  <a:lnTo>
                    <a:pt x="8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10120" y="5697360"/>
              <a:ext cx="1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22720" y="5673600"/>
              <a:ext cx="13680" cy="40320"/>
            </a:xfrm>
            <a:custGeom>
              <a:avLst/>
              <a:gdLst/>
              <a:ahLst/>
              <a:rect l="l" t="t" r="r" b="b"/>
              <a:pathLst>
                <a:path w="102" h="271">
                  <a:moveTo>
                    <a:pt x="102" y="0"/>
                  </a:moveTo>
                  <a:lnTo>
                    <a:pt x="65" y="152"/>
                  </a:lnTo>
                  <a:lnTo>
                    <a:pt x="47" y="159"/>
                  </a:lnTo>
                  <a:lnTo>
                    <a:pt x="70" y="200"/>
                  </a:lnTo>
                  <a:lnTo>
                    <a:pt x="56" y="271"/>
                  </a:lnTo>
                  <a:lnTo>
                    <a:pt x="62" y="207"/>
                  </a:lnTo>
                  <a:lnTo>
                    <a:pt x="0" y="159"/>
                  </a:lnTo>
                  <a:lnTo>
                    <a:pt x="56" y="139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12280" y="5708520"/>
              <a:ext cx="18000" cy="34560"/>
            </a:xfrm>
            <a:custGeom>
              <a:avLst/>
              <a:gdLst/>
              <a:ahLst/>
              <a:rect l="l" t="t" r="r" b="b"/>
              <a:pathLst>
                <a:path w="139" h="232">
                  <a:moveTo>
                    <a:pt x="10" y="0"/>
                  </a:moveTo>
                  <a:lnTo>
                    <a:pt x="86" y="0"/>
                  </a:lnTo>
                  <a:lnTo>
                    <a:pt x="112" y="32"/>
                  </a:lnTo>
                  <a:lnTo>
                    <a:pt x="139" y="25"/>
                  </a:lnTo>
                  <a:lnTo>
                    <a:pt x="139" y="48"/>
                  </a:lnTo>
                  <a:lnTo>
                    <a:pt x="92" y="93"/>
                  </a:lnTo>
                  <a:lnTo>
                    <a:pt x="107" y="159"/>
                  </a:lnTo>
                  <a:lnTo>
                    <a:pt x="97" y="232"/>
                  </a:lnTo>
                  <a:lnTo>
                    <a:pt x="97" y="159"/>
                  </a:lnTo>
                  <a:lnTo>
                    <a:pt x="77" y="97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72600" y="5550480"/>
              <a:ext cx="77400" cy="81000"/>
            </a:xfrm>
            <a:custGeom>
              <a:avLst/>
              <a:gdLst/>
              <a:ahLst/>
              <a:rect l="l" t="t" r="r" b="b"/>
              <a:pathLst>
                <a:path w="580" h="540">
                  <a:moveTo>
                    <a:pt x="459" y="447"/>
                  </a:moveTo>
                  <a:lnTo>
                    <a:pt x="482" y="540"/>
                  </a:lnTo>
                  <a:lnTo>
                    <a:pt x="301" y="525"/>
                  </a:lnTo>
                  <a:lnTo>
                    <a:pt x="286" y="468"/>
                  </a:lnTo>
                  <a:lnTo>
                    <a:pt x="240" y="437"/>
                  </a:lnTo>
                  <a:lnTo>
                    <a:pt x="194" y="435"/>
                  </a:lnTo>
                  <a:lnTo>
                    <a:pt x="0" y="255"/>
                  </a:lnTo>
                  <a:lnTo>
                    <a:pt x="58" y="233"/>
                  </a:lnTo>
                  <a:lnTo>
                    <a:pt x="106" y="228"/>
                  </a:lnTo>
                  <a:lnTo>
                    <a:pt x="165" y="239"/>
                  </a:lnTo>
                  <a:lnTo>
                    <a:pt x="204" y="265"/>
                  </a:lnTo>
                  <a:lnTo>
                    <a:pt x="229" y="294"/>
                  </a:lnTo>
                  <a:lnTo>
                    <a:pt x="264" y="345"/>
                  </a:lnTo>
                  <a:lnTo>
                    <a:pt x="277" y="389"/>
                  </a:lnTo>
                  <a:lnTo>
                    <a:pt x="337" y="373"/>
                  </a:lnTo>
                  <a:lnTo>
                    <a:pt x="398" y="336"/>
                  </a:lnTo>
                  <a:lnTo>
                    <a:pt x="464" y="283"/>
                  </a:lnTo>
                  <a:lnTo>
                    <a:pt x="501" y="239"/>
                  </a:lnTo>
                  <a:lnTo>
                    <a:pt x="508" y="204"/>
                  </a:lnTo>
                  <a:lnTo>
                    <a:pt x="459" y="221"/>
                  </a:lnTo>
                  <a:lnTo>
                    <a:pt x="378" y="244"/>
                  </a:lnTo>
                  <a:lnTo>
                    <a:pt x="296" y="255"/>
                  </a:lnTo>
                  <a:lnTo>
                    <a:pt x="229" y="255"/>
                  </a:lnTo>
                  <a:lnTo>
                    <a:pt x="326" y="239"/>
                  </a:lnTo>
                  <a:lnTo>
                    <a:pt x="420" y="212"/>
                  </a:lnTo>
                  <a:lnTo>
                    <a:pt x="485" y="189"/>
                  </a:lnTo>
                  <a:lnTo>
                    <a:pt x="494" y="173"/>
                  </a:lnTo>
                  <a:lnTo>
                    <a:pt x="475" y="134"/>
                  </a:lnTo>
                  <a:lnTo>
                    <a:pt x="425" y="101"/>
                  </a:lnTo>
                  <a:lnTo>
                    <a:pt x="363" y="66"/>
                  </a:lnTo>
                  <a:lnTo>
                    <a:pt x="296" y="39"/>
                  </a:lnTo>
                  <a:lnTo>
                    <a:pt x="220" y="0"/>
                  </a:lnTo>
                  <a:lnTo>
                    <a:pt x="425" y="72"/>
                  </a:lnTo>
                  <a:lnTo>
                    <a:pt x="510" y="120"/>
                  </a:lnTo>
                  <a:lnTo>
                    <a:pt x="515" y="168"/>
                  </a:lnTo>
                  <a:lnTo>
                    <a:pt x="543" y="177"/>
                  </a:lnTo>
                  <a:lnTo>
                    <a:pt x="545" y="212"/>
                  </a:lnTo>
                  <a:lnTo>
                    <a:pt x="580" y="212"/>
                  </a:lnTo>
                  <a:lnTo>
                    <a:pt x="563" y="290"/>
                  </a:lnTo>
                  <a:lnTo>
                    <a:pt x="515" y="351"/>
                  </a:lnTo>
                  <a:lnTo>
                    <a:pt x="471" y="398"/>
                  </a:lnTo>
                  <a:lnTo>
                    <a:pt x="446" y="417"/>
                  </a:lnTo>
                  <a:lnTo>
                    <a:pt x="459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732360" y="5617440"/>
              <a:ext cx="936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737760" y="5621040"/>
              <a:ext cx="126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46400" y="5629320"/>
              <a:ext cx="1440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56840" y="5637960"/>
              <a:ext cx="1476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63240" y="5572080"/>
              <a:ext cx="74160" cy="5760"/>
            </a:xfrm>
            <a:custGeom>
              <a:avLst/>
              <a:gdLst/>
              <a:ahLst/>
              <a:rect l="l" t="t" r="r" b="b"/>
              <a:pathLst>
                <a:path w="560" h="37">
                  <a:moveTo>
                    <a:pt x="560" y="0"/>
                  </a:moveTo>
                  <a:lnTo>
                    <a:pt x="455" y="18"/>
                  </a:lnTo>
                  <a:lnTo>
                    <a:pt x="279" y="32"/>
                  </a:lnTo>
                  <a:lnTo>
                    <a:pt x="121" y="32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57840" y="5568480"/>
              <a:ext cx="76320" cy="4680"/>
            </a:xfrm>
            <a:custGeom>
              <a:avLst/>
              <a:gdLst/>
              <a:ahLst/>
              <a:rect l="l" t="t" r="r" b="b"/>
              <a:pathLst>
                <a:path w="576" h="32">
                  <a:moveTo>
                    <a:pt x="576" y="0"/>
                  </a:moveTo>
                  <a:lnTo>
                    <a:pt x="403" y="14"/>
                  </a:lnTo>
                  <a:lnTo>
                    <a:pt x="260" y="14"/>
                  </a:lnTo>
                  <a:lnTo>
                    <a:pt x="97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26880" y="5507640"/>
              <a:ext cx="200160" cy="94320"/>
            </a:xfrm>
            <a:custGeom>
              <a:avLst/>
              <a:gdLst/>
              <a:ahLst/>
              <a:rect l="l" t="t" r="r" b="b"/>
              <a:pathLst>
                <a:path w="1510" h="634">
                  <a:moveTo>
                    <a:pt x="1499" y="634"/>
                  </a:moveTo>
                  <a:lnTo>
                    <a:pt x="1499" y="560"/>
                  </a:lnTo>
                  <a:lnTo>
                    <a:pt x="1434" y="456"/>
                  </a:lnTo>
                  <a:lnTo>
                    <a:pt x="1354" y="306"/>
                  </a:lnTo>
                  <a:lnTo>
                    <a:pt x="1245" y="194"/>
                  </a:lnTo>
                  <a:lnTo>
                    <a:pt x="1079" y="86"/>
                  </a:lnTo>
                  <a:lnTo>
                    <a:pt x="895" y="32"/>
                  </a:lnTo>
                  <a:lnTo>
                    <a:pt x="719" y="23"/>
                  </a:lnTo>
                  <a:lnTo>
                    <a:pt x="524" y="37"/>
                  </a:lnTo>
                  <a:lnTo>
                    <a:pt x="431" y="67"/>
                  </a:lnTo>
                  <a:lnTo>
                    <a:pt x="462" y="110"/>
                  </a:lnTo>
                  <a:lnTo>
                    <a:pt x="489" y="178"/>
                  </a:lnTo>
                  <a:lnTo>
                    <a:pt x="530" y="240"/>
                  </a:lnTo>
                  <a:lnTo>
                    <a:pt x="473" y="187"/>
                  </a:lnTo>
                  <a:lnTo>
                    <a:pt x="427" y="110"/>
                  </a:lnTo>
                  <a:lnTo>
                    <a:pt x="381" y="92"/>
                  </a:lnTo>
                  <a:lnTo>
                    <a:pt x="300" y="101"/>
                  </a:lnTo>
                  <a:lnTo>
                    <a:pt x="233" y="148"/>
                  </a:lnTo>
                  <a:lnTo>
                    <a:pt x="166" y="224"/>
                  </a:lnTo>
                  <a:lnTo>
                    <a:pt x="93" y="277"/>
                  </a:lnTo>
                  <a:lnTo>
                    <a:pt x="56" y="328"/>
                  </a:lnTo>
                  <a:lnTo>
                    <a:pt x="38" y="378"/>
                  </a:lnTo>
                  <a:lnTo>
                    <a:pt x="0" y="365"/>
                  </a:lnTo>
                  <a:lnTo>
                    <a:pt x="38" y="286"/>
                  </a:lnTo>
                  <a:lnTo>
                    <a:pt x="141" y="209"/>
                  </a:lnTo>
                  <a:lnTo>
                    <a:pt x="233" y="106"/>
                  </a:lnTo>
                  <a:lnTo>
                    <a:pt x="365" y="55"/>
                  </a:lnTo>
                  <a:lnTo>
                    <a:pt x="418" y="46"/>
                  </a:lnTo>
                  <a:lnTo>
                    <a:pt x="551" y="16"/>
                  </a:lnTo>
                  <a:lnTo>
                    <a:pt x="719" y="0"/>
                  </a:lnTo>
                  <a:lnTo>
                    <a:pt x="902" y="16"/>
                  </a:lnTo>
                  <a:lnTo>
                    <a:pt x="1036" y="51"/>
                  </a:lnTo>
                  <a:lnTo>
                    <a:pt x="1174" y="117"/>
                  </a:lnTo>
                  <a:lnTo>
                    <a:pt x="1310" y="224"/>
                  </a:lnTo>
                  <a:lnTo>
                    <a:pt x="1388" y="328"/>
                  </a:lnTo>
                  <a:lnTo>
                    <a:pt x="1510" y="551"/>
                  </a:lnTo>
                  <a:lnTo>
                    <a:pt x="1499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710040" y="5514840"/>
              <a:ext cx="47520" cy="39240"/>
            </a:xfrm>
            <a:custGeom>
              <a:avLst/>
              <a:gdLst/>
              <a:ahLst/>
              <a:rect l="l" t="t" r="r" b="b"/>
              <a:pathLst>
                <a:path w="360" h="258">
                  <a:moveTo>
                    <a:pt x="0" y="258"/>
                  </a:moveTo>
                  <a:lnTo>
                    <a:pt x="40" y="176"/>
                  </a:lnTo>
                  <a:lnTo>
                    <a:pt x="92" y="108"/>
                  </a:lnTo>
                  <a:lnTo>
                    <a:pt x="169" y="55"/>
                  </a:lnTo>
                  <a:lnTo>
                    <a:pt x="238" y="26"/>
                  </a:lnTo>
                  <a:lnTo>
                    <a:pt x="3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02480" y="5510880"/>
              <a:ext cx="4320" cy="42840"/>
            </a:xfrm>
            <a:custGeom>
              <a:avLst/>
              <a:gdLst/>
              <a:ahLst/>
              <a:rect l="l" t="t" r="r" b="b"/>
              <a:pathLst>
                <a:path w="28" h="288">
                  <a:moveTo>
                    <a:pt x="28" y="288"/>
                  </a:moveTo>
                  <a:lnTo>
                    <a:pt x="12" y="206"/>
                  </a:lnTo>
                  <a:lnTo>
                    <a:pt x="12" y="147"/>
                  </a:lnTo>
                  <a:lnTo>
                    <a:pt x="16" y="76"/>
                  </a:lnTo>
                  <a:lnTo>
                    <a:pt x="12" y="3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07880" y="5509800"/>
              <a:ext cx="29520" cy="41400"/>
            </a:xfrm>
            <a:custGeom>
              <a:avLst/>
              <a:gdLst/>
              <a:ahLst/>
              <a:rect l="l" t="t" r="r" b="b"/>
              <a:pathLst>
                <a:path w="229" h="279">
                  <a:moveTo>
                    <a:pt x="0" y="279"/>
                  </a:moveTo>
                  <a:lnTo>
                    <a:pt x="16" y="217"/>
                  </a:lnTo>
                  <a:lnTo>
                    <a:pt x="47" y="147"/>
                  </a:lnTo>
                  <a:lnTo>
                    <a:pt x="86" y="94"/>
                  </a:lnTo>
                  <a:lnTo>
                    <a:pt x="141" y="44"/>
                  </a:lnTo>
                  <a:lnTo>
                    <a:pt x="185" y="14"/>
                  </a:lnTo>
                  <a:lnTo>
                    <a:pt x="2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97440" y="5673600"/>
              <a:ext cx="125280" cy="127800"/>
            </a:xfrm>
            <a:custGeom>
              <a:avLst/>
              <a:gdLst/>
              <a:ahLst/>
              <a:rect l="l" t="t" r="r" b="b"/>
              <a:pathLst>
                <a:path w="945" h="856">
                  <a:moveTo>
                    <a:pt x="35" y="0"/>
                  </a:moveTo>
                  <a:lnTo>
                    <a:pt x="75" y="87"/>
                  </a:lnTo>
                  <a:lnTo>
                    <a:pt x="111" y="97"/>
                  </a:lnTo>
                  <a:lnTo>
                    <a:pt x="167" y="85"/>
                  </a:lnTo>
                  <a:lnTo>
                    <a:pt x="198" y="49"/>
                  </a:lnTo>
                  <a:lnTo>
                    <a:pt x="335" y="279"/>
                  </a:lnTo>
                  <a:lnTo>
                    <a:pt x="556" y="440"/>
                  </a:lnTo>
                  <a:lnTo>
                    <a:pt x="699" y="420"/>
                  </a:lnTo>
                  <a:lnTo>
                    <a:pt x="729" y="344"/>
                  </a:lnTo>
                  <a:lnTo>
                    <a:pt x="770" y="482"/>
                  </a:lnTo>
                  <a:lnTo>
                    <a:pt x="872" y="530"/>
                  </a:lnTo>
                  <a:lnTo>
                    <a:pt x="945" y="512"/>
                  </a:lnTo>
                  <a:lnTo>
                    <a:pt x="930" y="537"/>
                  </a:lnTo>
                  <a:lnTo>
                    <a:pt x="837" y="559"/>
                  </a:lnTo>
                  <a:lnTo>
                    <a:pt x="745" y="559"/>
                  </a:lnTo>
                  <a:lnTo>
                    <a:pt x="653" y="595"/>
                  </a:lnTo>
                  <a:lnTo>
                    <a:pt x="549" y="606"/>
                  </a:lnTo>
                  <a:lnTo>
                    <a:pt x="510" y="643"/>
                  </a:lnTo>
                  <a:lnTo>
                    <a:pt x="450" y="728"/>
                  </a:lnTo>
                  <a:lnTo>
                    <a:pt x="445" y="790"/>
                  </a:lnTo>
                  <a:lnTo>
                    <a:pt x="383" y="856"/>
                  </a:lnTo>
                  <a:lnTo>
                    <a:pt x="438" y="687"/>
                  </a:lnTo>
                  <a:lnTo>
                    <a:pt x="392" y="652"/>
                  </a:lnTo>
                  <a:lnTo>
                    <a:pt x="363" y="592"/>
                  </a:lnTo>
                  <a:lnTo>
                    <a:pt x="330" y="502"/>
                  </a:lnTo>
                  <a:lnTo>
                    <a:pt x="279" y="438"/>
                  </a:lnTo>
                  <a:lnTo>
                    <a:pt x="218" y="385"/>
                  </a:lnTo>
                  <a:lnTo>
                    <a:pt x="167" y="328"/>
                  </a:lnTo>
                  <a:lnTo>
                    <a:pt x="143" y="291"/>
                  </a:lnTo>
                  <a:lnTo>
                    <a:pt x="128" y="254"/>
                  </a:lnTo>
                  <a:lnTo>
                    <a:pt x="111" y="177"/>
                  </a:lnTo>
                  <a:lnTo>
                    <a:pt x="111" y="146"/>
                  </a:lnTo>
                  <a:lnTo>
                    <a:pt x="67" y="141"/>
                  </a:lnTo>
                  <a:lnTo>
                    <a:pt x="29" y="104"/>
                  </a:lnTo>
                  <a:lnTo>
                    <a:pt x="14" y="5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00320" y="5624640"/>
              <a:ext cx="15840" cy="42840"/>
            </a:xfrm>
            <a:custGeom>
              <a:avLst/>
              <a:gdLst/>
              <a:ahLst/>
              <a:rect l="l" t="t" r="r" b="b"/>
              <a:pathLst>
                <a:path w="122" h="281">
                  <a:moveTo>
                    <a:pt x="104" y="108"/>
                  </a:moveTo>
                  <a:lnTo>
                    <a:pt x="97" y="150"/>
                  </a:lnTo>
                  <a:lnTo>
                    <a:pt x="104" y="200"/>
                  </a:lnTo>
                  <a:lnTo>
                    <a:pt x="119" y="221"/>
                  </a:lnTo>
                  <a:lnTo>
                    <a:pt x="122" y="253"/>
                  </a:lnTo>
                  <a:lnTo>
                    <a:pt x="119" y="279"/>
                  </a:lnTo>
                  <a:lnTo>
                    <a:pt x="97" y="281"/>
                  </a:lnTo>
                  <a:lnTo>
                    <a:pt x="60" y="262"/>
                  </a:lnTo>
                  <a:lnTo>
                    <a:pt x="43" y="221"/>
                  </a:lnTo>
                  <a:lnTo>
                    <a:pt x="36" y="145"/>
                  </a:lnTo>
                  <a:lnTo>
                    <a:pt x="43" y="104"/>
                  </a:lnTo>
                  <a:lnTo>
                    <a:pt x="16" y="36"/>
                  </a:lnTo>
                  <a:lnTo>
                    <a:pt x="0" y="0"/>
                  </a:lnTo>
                  <a:lnTo>
                    <a:pt x="51" y="25"/>
                  </a:lnTo>
                  <a:lnTo>
                    <a:pt x="113" y="104"/>
                  </a:lnTo>
                  <a:lnTo>
                    <a:pt x="1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45480" y="5537160"/>
              <a:ext cx="27720" cy="11880"/>
            </a:xfrm>
            <a:custGeom>
              <a:avLst/>
              <a:gdLst/>
              <a:ahLst/>
              <a:rect l="l" t="t" r="r" b="b"/>
              <a:pathLst>
                <a:path w="209" h="77">
                  <a:moveTo>
                    <a:pt x="51" y="31"/>
                  </a:moveTo>
                  <a:lnTo>
                    <a:pt x="99" y="61"/>
                  </a:lnTo>
                  <a:lnTo>
                    <a:pt x="161" y="61"/>
                  </a:lnTo>
                  <a:lnTo>
                    <a:pt x="182" y="77"/>
                  </a:lnTo>
                  <a:lnTo>
                    <a:pt x="209" y="26"/>
                  </a:lnTo>
                  <a:lnTo>
                    <a:pt x="182" y="26"/>
                  </a:lnTo>
                  <a:lnTo>
                    <a:pt x="145" y="0"/>
                  </a:lnTo>
                  <a:lnTo>
                    <a:pt x="51" y="0"/>
                  </a:lnTo>
                  <a:lnTo>
                    <a:pt x="0" y="51"/>
                  </a:lnTo>
                  <a:lnTo>
                    <a:pt x="5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936840" y="5544720"/>
              <a:ext cx="22320" cy="26280"/>
            </a:xfrm>
            <a:custGeom>
              <a:avLst/>
              <a:gdLst/>
              <a:ahLst/>
              <a:rect l="l" t="t" r="r" b="b"/>
              <a:pathLst>
                <a:path w="171" h="176">
                  <a:moveTo>
                    <a:pt x="155" y="26"/>
                  </a:moveTo>
                  <a:lnTo>
                    <a:pt x="171" y="46"/>
                  </a:lnTo>
                  <a:lnTo>
                    <a:pt x="116" y="46"/>
                  </a:lnTo>
                  <a:lnTo>
                    <a:pt x="90" y="81"/>
                  </a:lnTo>
                  <a:lnTo>
                    <a:pt x="120" y="97"/>
                  </a:lnTo>
                  <a:lnTo>
                    <a:pt x="104" y="132"/>
                  </a:lnTo>
                  <a:lnTo>
                    <a:pt x="104" y="176"/>
                  </a:lnTo>
                  <a:lnTo>
                    <a:pt x="94" y="141"/>
                  </a:lnTo>
                  <a:lnTo>
                    <a:pt x="44" y="93"/>
                  </a:lnTo>
                  <a:lnTo>
                    <a:pt x="14" y="97"/>
                  </a:lnTo>
                  <a:lnTo>
                    <a:pt x="0" y="114"/>
                  </a:lnTo>
                  <a:lnTo>
                    <a:pt x="8" y="81"/>
                  </a:lnTo>
                  <a:lnTo>
                    <a:pt x="58" y="63"/>
                  </a:lnTo>
                  <a:lnTo>
                    <a:pt x="160" y="0"/>
                  </a:lnTo>
                  <a:lnTo>
                    <a:pt x="15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68880" y="5506200"/>
              <a:ext cx="4320" cy="26280"/>
            </a:xfrm>
            <a:custGeom>
              <a:avLst/>
              <a:gdLst/>
              <a:ahLst/>
              <a:rect l="l" t="t" r="r" b="b"/>
              <a:pathLst>
                <a:path w="33" h="174">
                  <a:moveTo>
                    <a:pt x="13" y="0"/>
                  </a:moveTo>
                  <a:lnTo>
                    <a:pt x="33" y="66"/>
                  </a:lnTo>
                  <a:lnTo>
                    <a:pt x="33" y="174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947640" y="5549040"/>
              <a:ext cx="40320" cy="68040"/>
            </a:xfrm>
            <a:custGeom>
              <a:avLst/>
              <a:gdLst/>
              <a:ahLst/>
              <a:rect l="l" t="t" r="r" b="b"/>
              <a:pathLst>
                <a:path w="302" h="454">
                  <a:moveTo>
                    <a:pt x="191" y="0"/>
                  </a:moveTo>
                  <a:lnTo>
                    <a:pt x="302" y="239"/>
                  </a:lnTo>
                  <a:lnTo>
                    <a:pt x="292" y="257"/>
                  </a:lnTo>
                  <a:lnTo>
                    <a:pt x="256" y="274"/>
                  </a:lnTo>
                  <a:lnTo>
                    <a:pt x="202" y="267"/>
                  </a:lnTo>
                  <a:lnTo>
                    <a:pt x="151" y="288"/>
                  </a:lnTo>
                  <a:lnTo>
                    <a:pt x="158" y="373"/>
                  </a:lnTo>
                  <a:lnTo>
                    <a:pt x="0" y="454"/>
                  </a:lnTo>
                  <a:lnTo>
                    <a:pt x="142" y="366"/>
                  </a:lnTo>
                  <a:lnTo>
                    <a:pt x="136" y="334"/>
                  </a:lnTo>
                  <a:lnTo>
                    <a:pt x="115" y="297"/>
                  </a:lnTo>
                  <a:lnTo>
                    <a:pt x="72" y="288"/>
                  </a:lnTo>
                  <a:lnTo>
                    <a:pt x="76" y="221"/>
                  </a:lnTo>
                  <a:lnTo>
                    <a:pt x="120" y="272"/>
                  </a:lnTo>
                  <a:lnTo>
                    <a:pt x="136" y="267"/>
                  </a:lnTo>
                  <a:lnTo>
                    <a:pt x="162" y="237"/>
                  </a:lnTo>
                  <a:lnTo>
                    <a:pt x="253" y="251"/>
                  </a:lnTo>
                  <a:lnTo>
                    <a:pt x="279" y="239"/>
                  </a:lnTo>
                  <a:lnTo>
                    <a:pt x="283" y="226"/>
                  </a:lnTo>
                  <a:lnTo>
                    <a:pt x="212" y="5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926400" y="5616360"/>
              <a:ext cx="38160" cy="42840"/>
            </a:xfrm>
            <a:custGeom>
              <a:avLst/>
              <a:gdLst/>
              <a:ahLst/>
              <a:rect l="l" t="t" r="r" b="b"/>
              <a:pathLst>
                <a:path w="281" h="291">
                  <a:moveTo>
                    <a:pt x="168" y="5"/>
                  </a:moveTo>
                  <a:lnTo>
                    <a:pt x="260" y="0"/>
                  </a:lnTo>
                  <a:lnTo>
                    <a:pt x="281" y="33"/>
                  </a:lnTo>
                  <a:lnTo>
                    <a:pt x="233" y="86"/>
                  </a:lnTo>
                  <a:lnTo>
                    <a:pt x="272" y="150"/>
                  </a:lnTo>
                  <a:lnTo>
                    <a:pt x="272" y="217"/>
                  </a:lnTo>
                  <a:lnTo>
                    <a:pt x="223" y="281"/>
                  </a:lnTo>
                  <a:lnTo>
                    <a:pt x="152" y="291"/>
                  </a:lnTo>
                  <a:lnTo>
                    <a:pt x="0" y="266"/>
                  </a:lnTo>
                  <a:lnTo>
                    <a:pt x="194" y="261"/>
                  </a:lnTo>
                  <a:lnTo>
                    <a:pt x="249" y="210"/>
                  </a:lnTo>
                  <a:lnTo>
                    <a:pt x="207" y="99"/>
                  </a:lnTo>
                  <a:lnTo>
                    <a:pt x="218" y="63"/>
                  </a:lnTo>
                  <a:lnTo>
                    <a:pt x="249" y="15"/>
                  </a:lnTo>
                  <a:lnTo>
                    <a:pt x="157" y="15"/>
                  </a:lnTo>
                  <a:lnTo>
                    <a:pt x="16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766560" y="5420160"/>
              <a:ext cx="178560" cy="187560"/>
            </a:xfrm>
            <a:custGeom>
              <a:avLst/>
              <a:gdLst/>
              <a:ahLst/>
              <a:rect l="l" t="t" r="r" b="b"/>
              <a:pathLst>
                <a:path w="1349" h="1254">
                  <a:moveTo>
                    <a:pt x="1349" y="457"/>
                  </a:moveTo>
                  <a:lnTo>
                    <a:pt x="1273" y="514"/>
                  </a:lnTo>
                  <a:lnTo>
                    <a:pt x="1202" y="577"/>
                  </a:lnTo>
                  <a:lnTo>
                    <a:pt x="1182" y="623"/>
                  </a:lnTo>
                  <a:lnTo>
                    <a:pt x="1182" y="655"/>
                  </a:lnTo>
                  <a:lnTo>
                    <a:pt x="1178" y="669"/>
                  </a:lnTo>
                  <a:lnTo>
                    <a:pt x="1158" y="685"/>
                  </a:lnTo>
                  <a:lnTo>
                    <a:pt x="1132" y="709"/>
                  </a:lnTo>
                  <a:lnTo>
                    <a:pt x="1167" y="704"/>
                  </a:lnTo>
                  <a:lnTo>
                    <a:pt x="1171" y="713"/>
                  </a:lnTo>
                  <a:lnTo>
                    <a:pt x="1167" y="740"/>
                  </a:lnTo>
                  <a:lnTo>
                    <a:pt x="1148" y="755"/>
                  </a:lnTo>
                  <a:lnTo>
                    <a:pt x="1107" y="780"/>
                  </a:lnTo>
                  <a:lnTo>
                    <a:pt x="1065" y="791"/>
                  </a:lnTo>
                  <a:lnTo>
                    <a:pt x="1017" y="798"/>
                  </a:lnTo>
                  <a:lnTo>
                    <a:pt x="973" y="821"/>
                  </a:lnTo>
                  <a:lnTo>
                    <a:pt x="956" y="842"/>
                  </a:lnTo>
                  <a:lnTo>
                    <a:pt x="956" y="861"/>
                  </a:lnTo>
                  <a:lnTo>
                    <a:pt x="962" y="876"/>
                  </a:lnTo>
                  <a:lnTo>
                    <a:pt x="973" y="892"/>
                  </a:lnTo>
                  <a:lnTo>
                    <a:pt x="876" y="881"/>
                  </a:lnTo>
                  <a:lnTo>
                    <a:pt x="780" y="861"/>
                  </a:lnTo>
                  <a:lnTo>
                    <a:pt x="743" y="835"/>
                  </a:lnTo>
                  <a:lnTo>
                    <a:pt x="699" y="810"/>
                  </a:lnTo>
                  <a:lnTo>
                    <a:pt x="639" y="801"/>
                  </a:lnTo>
                  <a:lnTo>
                    <a:pt x="563" y="821"/>
                  </a:lnTo>
                  <a:lnTo>
                    <a:pt x="519" y="852"/>
                  </a:lnTo>
                  <a:lnTo>
                    <a:pt x="498" y="900"/>
                  </a:lnTo>
                  <a:lnTo>
                    <a:pt x="492" y="971"/>
                  </a:lnTo>
                  <a:lnTo>
                    <a:pt x="503" y="1047"/>
                  </a:lnTo>
                  <a:lnTo>
                    <a:pt x="525" y="1118"/>
                  </a:lnTo>
                  <a:lnTo>
                    <a:pt x="558" y="1169"/>
                  </a:lnTo>
                  <a:lnTo>
                    <a:pt x="620" y="1213"/>
                  </a:lnTo>
                  <a:lnTo>
                    <a:pt x="683" y="1221"/>
                  </a:lnTo>
                  <a:lnTo>
                    <a:pt x="738" y="1217"/>
                  </a:lnTo>
                  <a:lnTo>
                    <a:pt x="767" y="1208"/>
                  </a:lnTo>
                  <a:lnTo>
                    <a:pt x="734" y="1227"/>
                  </a:lnTo>
                  <a:lnTo>
                    <a:pt x="678" y="1248"/>
                  </a:lnTo>
                  <a:lnTo>
                    <a:pt x="624" y="1254"/>
                  </a:lnTo>
                  <a:lnTo>
                    <a:pt x="569" y="1245"/>
                  </a:lnTo>
                  <a:lnTo>
                    <a:pt x="534" y="1221"/>
                  </a:lnTo>
                  <a:lnTo>
                    <a:pt x="510" y="1199"/>
                  </a:lnTo>
                  <a:lnTo>
                    <a:pt x="486" y="1158"/>
                  </a:lnTo>
                  <a:lnTo>
                    <a:pt x="457" y="1188"/>
                  </a:lnTo>
                  <a:lnTo>
                    <a:pt x="452" y="1133"/>
                  </a:lnTo>
                  <a:lnTo>
                    <a:pt x="374" y="997"/>
                  </a:lnTo>
                  <a:lnTo>
                    <a:pt x="305" y="876"/>
                  </a:lnTo>
                  <a:lnTo>
                    <a:pt x="210" y="780"/>
                  </a:lnTo>
                  <a:lnTo>
                    <a:pt x="101" y="701"/>
                  </a:lnTo>
                  <a:lnTo>
                    <a:pt x="0" y="646"/>
                  </a:lnTo>
                  <a:lnTo>
                    <a:pt x="5" y="604"/>
                  </a:lnTo>
                  <a:lnTo>
                    <a:pt x="26" y="558"/>
                  </a:lnTo>
                  <a:lnTo>
                    <a:pt x="62" y="514"/>
                  </a:lnTo>
                  <a:lnTo>
                    <a:pt x="97" y="474"/>
                  </a:lnTo>
                  <a:lnTo>
                    <a:pt x="136" y="443"/>
                  </a:lnTo>
                  <a:lnTo>
                    <a:pt x="180" y="408"/>
                  </a:lnTo>
                  <a:lnTo>
                    <a:pt x="125" y="420"/>
                  </a:lnTo>
                  <a:lnTo>
                    <a:pt x="106" y="420"/>
                  </a:lnTo>
                  <a:lnTo>
                    <a:pt x="106" y="404"/>
                  </a:lnTo>
                  <a:lnTo>
                    <a:pt x="132" y="381"/>
                  </a:lnTo>
                  <a:lnTo>
                    <a:pt x="147" y="342"/>
                  </a:lnTo>
                  <a:lnTo>
                    <a:pt x="162" y="294"/>
                  </a:lnTo>
                  <a:lnTo>
                    <a:pt x="191" y="226"/>
                  </a:lnTo>
                  <a:lnTo>
                    <a:pt x="217" y="197"/>
                  </a:lnTo>
                  <a:lnTo>
                    <a:pt x="242" y="171"/>
                  </a:lnTo>
                  <a:lnTo>
                    <a:pt x="281" y="146"/>
                  </a:lnTo>
                  <a:lnTo>
                    <a:pt x="327" y="132"/>
                  </a:lnTo>
                  <a:lnTo>
                    <a:pt x="378" y="105"/>
                  </a:lnTo>
                  <a:lnTo>
                    <a:pt x="332" y="92"/>
                  </a:lnTo>
                  <a:lnTo>
                    <a:pt x="332" y="77"/>
                  </a:lnTo>
                  <a:lnTo>
                    <a:pt x="348" y="44"/>
                  </a:lnTo>
                  <a:lnTo>
                    <a:pt x="392" y="26"/>
                  </a:lnTo>
                  <a:lnTo>
                    <a:pt x="464" y="6"/>
                  </a:lnTo>
                  <a:lnTo>
                    <a:pt x="528" y="0"/>
                  </a:lnTo>
                  <a:lnTo>
                    <a:pt x="604" y="0"/>
                  </a:lnTo>
                  <a:lnTo>
                    <a:pt x="655" y="0"/>
                  </a:lnTo>
                  <a:lnTo>
                    <a:pt x="563" y="50"/>
                  </a:lnTo>
                  <a:lnTo>
                    <a:pt x="528" y="92"/>
                  </a:lnTo>
                  <a:lnTo>
                    <a:pt x="525" y="102"/>
                  </a:lnTo>
                  <a:lnTo>
                    <a:pt x="581" y="146"/>
                  </a:lnTo>
                  <a:lnTo>
                    <a:pt x="646" y="146"/>
                  </a:lnTo>
                  <a:lnTo>
                    <a:pt x="761" y="233"/>
                  </a:lnTo>
                  <a:lnTo>
                    <a:pt x="761" y="272"/>
                  </a:lnTo>
                  <a:lnTo>
                    <a:pt x="826" y="294"/>
                  </a:lnTo>
                  <a:lnTo>
                    <a:pt x="855" y="323"/>
                  </a:lnTo>
                  <a:lnTo>
                    <a:pt x="830" y="338"/>
                  </a:lnTo>
                  <a:lnTo>
                    <a:pt x="795" y="342"/>
                  </a:lnTo>
                  <a:lnTo>
                    <a:pt x="826" y="369"/>
                  </a:lnTo>
                  <a:lnTo>
                    <a:pt x="876" y="381"/>
                  </a:lnTo>
                  <a:lnTo>
                    <a:pt x="936" y="393"/>
                  </a:lnTo>
                  <a:lnTo>
                    <a:pt x="982" y="397"/>
                  </a:lnTo>
                  <a:lnTo>
                    <a:pt x="925" y="413"/>
                  </a:lnTo>
                  <a:lnTo>
                    <a:pt x="956" y="443"/>
                  </a:lnTo>
                  <a:lnTo>
                    <a:pt x="916" y="469"/>
                  </a:lnTo>
                  <a:lnTo>
                    <a:pt x="865" y="480"/>
                  </a:lnTo>
                  <a:lnTo>
                    <a:pt x="804" y="480"/>
                  </a:lnTo>
                  <a:lnTo>
                    <a:pt x="912" y="507"/>
                  </a:lnTo>
                  <a:lnTo>
                    <a:pt x="996" y="514"/>
                  </a:lnTo>
                  <a:lnTo>
                    <a:pt x="1077" y="507"/>
                  </a:lnTo>
                  <a:lnTo>
                    <a:pt x="1178" y="485"/>
                  </a:lnTo>
                  <a:lnTo>
                    <a:pt x="1289" y="464"/>
                  </a:lnTo>
                  <a:lnTo>
                    <a:pt x="1349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32440" y="5408280"/>
              <a:ext cx="155160" cy="104040"/>
            </a:xfrm>
            <a:custGeom>
              <a:avLst/>
              <a:gdLst/>
              <a:ahLst/>
              <a:rect l="l" t="t" r="r" b="b"/>
              <a:pathLst>
                <a:path w="1167" h="701">
                  <a:moveTo>
                    <a:pt x="553" y="468"/>
                  </a:moveTo>
                  <a:lnTo>
                    <a:pt x="539" y="495"/>
                  </a:lnTo>
                  <a:lnTo>
                    <a:pt x="546" y="507"/>
                  </a:lnTo>
                  <a:lnTo>
                    <a:pt x="567" y="524"/>
                  </a:lnTo>
                  <a:lnTo>
                    <a:pt x="629" y="542"/>
                  </a:lnTo>
                  <a:lnTo>
                    <a:pt x="704" y="544"/>
                  </a:lnTo>
                  <a:lnTo>
                    <a:pt x="800" y="551"/>
                  </a:lnTo>
                  <a:lnTo>
                    <a:pt x="840" y="551"/>
                  </a:lnTo>
                  <a:lnTo>
                    <a:pt x="655" y="678"/>
                  </a:lnTo>
                  <a:lnTo>
                    <a:pt x="750" y="701"/>
                  </a:lnTo>
                  <a:lnTo>
                    <a:pt x="840" y="701"/>
                  </a:lnTo>
                  <a:lnTo>
                    <a:pt x="931" y="698"/>
                  </a:lnTo>
                  <a:lnTo>
                    <a:pt x="1023" y="664"/>
                  </a:lnTo>
                  <a:lnTo>
                    <a:pt x="1086" y="629"/>
                  </a:lnTo>
                  <a:lnTo>
                    <a:pt x="1167" y="572"/>
                  </a:lnTo>
                  <a:lnTo>
                    <a:pt x="1144" y="542"/>
                  </a:lnTo>
                  <a:lnTo>
                    <a:pt x="1086" y="572"/>
                  </a:lnTo>
                  <a:lnTo>
                    <a:pt x="989" y="585"/>
                  </a:lnTo>
                  <a:lnTo>
                    <a:pt x="1012" y="544"/>
                  </a:lnTo>
                  <a:lnTo>
                    <a:pt x="1067" y="510"/>
                  </a:lnTo>
                  <a:lnTo>
                    <a:pt x="1097" y="484"/>
                  </a:lnTo>
                  <a:lnTo>
                    <a:pt x="1023" y="480"/>
                  </a:lnTo>
                  <a:lnTo>
                    <a:pt x="844" y="480"/>
                  </a:lnTo>
                  <a:lnTo>
                    <a:pt x="915" y="456"/>
                  </a:lnTo>
                  <a:lnTo>
                    <a:pt x="1001" y="434"/>
                  </a:lnTo>
                  <a:lnTo>
                    <a:pt x="1040" y="414"/>
                  </a:lnTo>
                  <a:lnTo>
                    <a:pt x="980" y="374"/>
                  </a:lnTo>
                  <a:lnTo>
                    <a:pt x="920" y="353"/>
                  </a:lnTo>
                  <a:lnTo>
                    <a:pt x="830" y="353"/>
                  </a:lnTo>
                  <a:lnTo>
                    <a:pt x="827" y="323"/>
                  </a:lnTo>
                  <a:lnTo>
                    <a:pt x="827" y="288"/>
                  </a:lnTo>
                  <a:lnTo>
                    <a:pt x="754" y="242"/>
                  </a:lnTo>
                  <a:lnTo>
                    <a:pt x="655" y="192"/>
                  </a:lnTo>
                  <a:lnTo>
                    <a:pt x="535" y="124"/>
                  </a:lnTo>
                  <a:lnTo>
                    <a:pt x="414" y="46"/>
                  </a:lnTo>
                  <a:lnTo>
                    <a:pt x="311" y="7"/>
                  </a:lnTo>
                  <a:lnTo>
                    <a:pt x="240" y="0"/>
                  </a:lnTo>
                  <a:lnTo>
                    <a:pt x="168" y="16"/>
                  </a:lnTo>
                  <a:lnTo>
                    <a:pt x="113" y="46"/>
                  </a:lnTo>
                  <a:lnTo>
                    <a:pt x="47" y="93"/>
                  </a:lnTo>
                  <a:lnTo>
                    <a:pt x="0" y="203"/>
                  </a:lnTo>
                  <a:lnTo>
                    <a:pt x="71" y="179"/>
                  </a:lnTo>
                  <a:lnTo>
                    <a:pt x="131" y="179"/>
                  </a:lnTo>
                  <a:lnTo>
                    <a:pt x="185" y="183"/>
                  </a:lnTo>
                  <a:lnTo>
                    <a:pt x="221" y="214"/>
                  </a:lnTo>
                  <a:lnTo>
                    <a:pt x="185" y="228"/>
                  </a:lnTo>
                  <a:lnTo>
                    <a:pt x="272" y="300"/>
                  </a:lnTo>
                  <a:lnTo>
                    <a:pt x="321" y="309"/>
                  </a:lnTo>
                  <a:lnTo>
                    <a:pt x="372" y="320"/>
                  </a:lnTo>
                  <a:lnTo>
                    <a:pt x="422" y="313"/>
                  </a:lnTo>
                  <a:lnTo>
                    <a:pt x="410" y="328"/>
                  </a:lnTo>
                  <a:lnTo>
                    <a:pt x="387" y="353"/>
                  </a:lnTo>
                  <a:lnTo>
                    <a:pt x="348" y="369"/>
                  </a:lnTo>
                  <a:lnTo>
                    <a:pt x="378" y="374"/>
                  </a:lnTo>
                  <a:lnTo>
                    <a:pt x="422" y="399"/>
                  </a:lnTo>
                  <a:lnTo>
                    <a:pt x="443" y="420"/>
                  </a:lnTo>
                  <a:lnTo>
                    <a:pt x="493" y="425"/>
                  </a:lnTo>
                  <a:lnTo>
                    <a:pt x="574" y="429"/>
                  </a:lnTo>
                  <a:lnTo>
                    <a:pt x="645" y="425"/>
                  </a:lnTo>
                  <a:lnTo>
                    <a:pt x="609" y="449"/>
                  </a:lnTo>
                  <a:lnTo>
                    <a:pt x="553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902640" y="5425200"/>
              <a:ext cx="99720" cy="72720"/>
            </a:xfrm>
            <a:custGeom>
              <a:avLst/>
              <a:gdLst/>
              <a:ahLst/>
              <a:rect l="l" t="t" r="r" b="b"/>
              <a:pathLst>
                <a:path w="756" h="481">
                  <a:moveTo>
                    <a:pt x="0" y="0"/>
                  </a:moveTo>
                  <a:lnTo>
                    <a:pt x="106" y="55"/>
                  </a:lnTo>
                  <a:lnTo>
                    <a:pt x="238" y="94"/>
                  </a:lnTo>
                  <a:lnTo>
                    <a:pt x="385" y="145"/>
                  </a:lnTo>
                  <a:lnTo>
                    <a:pt x="484" y="193"/>
                  </a:lnTo>
                  <a:lnTo>
                    <a:pt x="569" y="261"/>
                  </a:lnTo>
                  <a:lnTo>
                    <a:pt x="609" y="314"/>
                  </a:lnTo>
                  <a:lnTo>
                    <a:pt x="659" y="360"/>
                  </a:lnTo>
                  <a:lnTo>
                    <a:pt x="715" y="387"/>
                  </a:lnTo>
                  <a:lnTo>
                    <a:pt x="756" y="399"/>
                  </a:lnTo>
                  <a:lnTo>
                    <a:pt x="726" y="415"/>
                  </a:lnTo>
                  <a:lnTo>
                    <a:pt x="697" y="447"/>
                  </a:lnTo>
                  <a:lnTo>
                    <a:pt x="659" y="461"/>
                  </a:lnTo>
                  <a:lnTo>
                    <a:pt x="598" y="481"/>
                  </a:lnTo>
                  <a:lnTo>
                    <a:pt x="620" y="452"/>
                  </a:lnTo>
                  <a:lnTo>
                    <a:pt x="659" y="436"/>
                  </a:lnTo>
                  <a:lnTo>
                    <a:pt x="699" y="395"/>
                  </a:lnTo>
                  <a:lnTo>
                    <a:pt x="639" y="371"/>
                  </a:lnTo>
                  <a:lnTo>
                    <a:pt x="590" y="327"/>
                  </a:lnTo>
                  <a:lnTo>
                    <a:pt x="558" y="285"/>
                  </a:lnTo>
                  <a:lnTo>
                    <a:pt x="505" y="230"/>
                  </a:lnTo>
                  <a:lnTo>
                    <a:pt x="413" y="168"/>
                  </a:lnTo>
                  <a:lnTo>
                    <a:pt x="323" y="129"/>
                  </a:lnTo>
                  <a:lnTo>
                    <a:pt x="187" y="94"/>
                  </a:lnTo>
                  <a:lnTo>
                    <a:pt x="8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52520" y="5417640"/>
              <a:ext cx="86040" cy="94320"/>
            </a:xfrm>
            <a:custGeom>
              <a:avLst/>
              <a:gdLst/>
              <a:ahLst/>
              <a:rect l="l" t="t" r="r" b="b"/>
              <a:pathLst>
                <a:path w="650" h="634">
                  <a:moveTo>
                    <a:pt x="650" y="20"/>
                  </a:moveTo>
                  <a:lnTo>
                    <a:pt x="541" y="0"/>
                  </a:lnTo>
                  <a:lnTo>
                    <a:pt x="449" y="0"/>
                  </a:lnTo>
                  <a:lnTo>
                    <a:pt x="378" y="30"/>
                  </a:lnTo>
                  <a:lnTo>
                    <a:pt x="329" y="76"/>
                  </a:lnTo>
                  <a:lnTo>
                    <a:pt x="299" y="136"/>
                  </a:lnTo>
                  <a:lnTo>
                    <a:pt x="268" y="182"/>
                  </a:lnTo>
                  <a:lnTo>
                    <a:pt x="221" y="246"/>
                  </a:lnTo>
                  <a:lnTo>
                    <a:pt x="189" y="302"/>
                  </a:lnTo>
                  <a:lnTo>
                    <a:pt x="158" y="353"/>
                  </a:lnTo>
                  <a:lnTo>
                    <a:pt x="147" y="391"/>
                  </a:lnTo>
                  <a:lnTo>
                    <a:pt x="127" y="433"/>
                  </a:lnTo>
                  <a:lnTo>
                    <a:pt x="92" y="489"/>
                  </a:lnTo>
                  <a:lnTo>
                    <a:pt x="53" y="534"/>
                  </a:lnTo>
                  <a:lnTo>
                    <a:pt x="27" y="562"/>
                  </a:lnTo>
                  <a:lnTo>
                    <a:pt x="11" y="611"/>
                  </a:lnTo>
                  <a:lnTo>
                    <a:pt x="0" y="631"/>
                  </a:lnTo>
                  <a:lnTo>
                    <a:pt x="22" y="634"/>
                  </a:lnTo>
                  <a:lnTo>
                    <a:pt x="27" y="588"/>
                  </a:lnTo>
                  <a:lnTo>
                    <a:pt x="46" y="562"/>
                  </a:lnTo>
                  <a:lnTo>
                    <a:pt x="81" y="514"/>
                  </a:lnTo>
                  <a:lnTo>
                    <a:pt x="117" y="468"/>
                  </a:lnTo>
                  <a:lnTo>
                    <a:pt x="147" y="413"/>
                  </a:lnTo>
                  <a:lnTo>
                    <a:pt x="171" y="362"/>
                  </a:lnTo>
                  <a:lnTo>
                    <a:pt x="207" y="286"/>
                  </a:lnTo>
                  <a:lnTo>
                    <a:pt x="248" y="237"/>
                  </a:lnTo>
                  <a:lnTo>
                    <a:pt x="292" y="166"/>
                  </a:lnTo>
                  <a:lnTo>
                    <a:pt x="329" y="101"/>
                  </a:lnTo>
                  <a:lnTo>
                    <a:pt x="382" y="53"/>
                  </a:lnTo>
                  <a:lnTo>
                    <a:pt x="440" y="15"/>
                  </a:lnTo>
                  <a:lnTo>
                    <a:pt x="479" y="15"/>
                  </a:lnTo>
                  <a:lnTo>
                    <a:pt x="549" y="30"/>
                  </a:lnTo>
                  <a:lnTo>
                    <a:pt x="65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80320" y="5547960"/>
              <a:ext cx="86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85720" y="5547960"/>
              <a:ext cx="126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92200" y="5547960"/>
              <a:ext cx="1476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02640" y="5561280"/>
              <a:ext cx="10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913440" y="5577840"/>
              <a:ext cx="504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69880" y="5605560"/>
              <a:ext cx="65880" cy="119520"/>
            </a:xfrm>
            <a:custGeom>
              <a:avLst/>
              <a:gdLst/>
              <a:ahLst/>
              <a:rect l="l" t="t" r="r" b="b"/>
              <a:pathLst>
                <a:path w="502" h="805">
                  <a:moveTo>
                    <a:pt x="0" y="0"/>
                  </a:moveTo>
                  <a:lnTo>
                    <a:pt x="0" y="166"/>
                  </a:lnTo>
                  <a:lnTo>
                    <a:pt x="154" y="362"/>
                  </a:lnTo>
                  <a:lnTo>
                    <a:pt x="154" y="468"/>
                  </a:lnTo>
                  <a:lnTo>
                    <a:pt x="85" y="563"/>
                  </a:lnTo>
                  <a:lnTo>
                    <a:pt x="115" y="640"/>
                  </a:lnTo>
                  <a:lnTo>
                    <a:pt x="181" y="680"/>
                  </a:lnTo>
                  <a:lnTo>
                    <a:pt x="242" y="805"/>
                  </a:lnTo>
                  <a:lnTo>
                    <a:pt x="271" y="703"/>
                  </a:lnTo>
                  <a:lnTo>
                    <a:pt x="281" y="640"/>
                  </a:lnTo>
                  <a:lnTo>
                    <a:pt x="281" y="569"/>
                  </a:lnTo>
                  <a:lnTo>
                    <a:pt x="271" y="502"/>
                  </a:lnTo>
                  <a:lnTo>
                    <a:pt x="262" y="449"/>
                  </a:lnTo>
                  <a:lnTo>
                    <a:pt x="232" y="392"/>
                  </a:lnTo>
                  <a:lnTo>
                    <a:pt x="242" y="352"/>
                  </a:lnTo>
                  <a:lnTo>
                    <a:pt x="328" y="352"/>
                  </a:lnTo>
                  <a:lnTo>
                    <a:pt x="502" y="348"/>
                  </a:lnTo>
                  <a:lnTo>
                    <a:pt x="403" y="315"/>
                  </a:lnTo>
                  <a:lnTo>
                    <a:pt x="95" y="126"/>
                  </a:lnTo>
                  <a:lnTo>
                    <a:pt x="51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37840" y="5550480"/>
              <a:ext cx="29520" cy="35640"/>
            </a:xfrm>
            <a:custGeom>
              <a:avLst/>
              <a:gdLst/>
              <a:ahLst/>
              <a:rect l="l" t="t" r="r" b="b"/>
              <a:pathLst>
                <a:path w="223" h="245">
                  <a:moveTo>
                    <a:pt x="7" y="75"/>
                  </a:moveTo>
                  <a:lnTo>
                    <a:pt x="20" y="33"/>
                  </a:lnTo>
                  <a:lnTo>
                    <a:pt x="50" y="5"/>
                  </a:lnTo>
                  <a:lnTo>
                    <a:pt x="86" y="0"/>
                  </a:lnTo>
                  <a:lnTo>
                    <a:pt x="145" y="0"/>
                  </a:lnTo>
                  <a:lnTo>
                    <a:pt x="223" y="33"/>
                  </a:lnTo>
                  <a:lnTo>
                    <a:pt x="223" y="75"/>
                  </a:lnTo>
                  <a:lnTo>
                    <a:pt x="161" y="123"/>
                  </a:lnTo>
                  <a:lnTo>
                    <a:pt x="152" y="146"/>
                  </a:lnTo>
                  <a:lnTo>
                    <a:pt x="156" y="176"/>
                  </a:lnTo>
                  <a:lnTo>
                    <a:pt x="167" y="185"/>
                  </a:lnTo>
                  <a:lnTo>
                    <a:pt x="196" y="205"/>
                  </a:lnTo>
                  <a:lnTo>
                    <a:pt x="205" y="220"/>
                  </a:lnTo>
                  <a:lnTo>
                    <a:pt x="211" y="240"/>
                  </a:lnTo>
                  <a:lnTo>
                    <a:pt x="211" y="245"/>
                  </a:lnTo>
                  <a:lnTo>
                    <a:pt x="179" y="233"/>
                  </a:lnTo>
                  <a:lnTo>
                    <a:pt x="133" y="224"/>
                  </a:lnTo>
                  <a:lnTo>
                    <a:pt x="97" y="220"/>
                  </a:lnTo>
                  <a:lnTo>
                    <a:pt x="66" y="196"/>
                  </a:lnTo>
                  <a:lnTo>
                    <a:pt x="59" y="180"/>
                  </a:lnTo>
                  <a:lnTo>
                    <a:pt x="73" y="146"/>
                  </a:lnTo>
                  <a:lnTo>
                    <a:pt x="86" y="119"/>
                  </a:lnTo>
                  <a:lnTo>
                    <a:pt x="110" y="95"/>
                  </a:lnTo>
                  <a:lnTo>
                    <a:pt x="128" y="65"/>
                  </a:lnTo>
                  <a:lnTo>
                    <a:pt x="97" y="56"/>
                  </a:lnTo>
                  <a:lnTo>
                    <a:pt x="57" y="56"/>
                  </a:lnTo>
                  <a:lnTo>
                    <a:pt x="31" y="65"/>
                  </a:lnTo>
                  <a:lnTo>
                    <a:pt x="20" y="84"/>
                  </a:lnTo>
                  <a:lnTo>
                    <a:pt x="11" y="119"/>
                  </a:lnTo>
                  <a:lnTo>
                    <a:pt x="11" y="171"/>
                  </a:lnTo>
                  <a:lnTo>
                    <a:pt x="0" y="123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47120" y="5763240"/>
              <a:ext cx="331200" cy="294120"/>
            </a:xfrm>
            <a:custGeom>
              <a:avLst/>
              <a:gdLst/>
              <a:ahLst/>
              <a:rect l="l" t="t" r="r" b="b"/>
              <a:pathLst>
                <a:path w="2488" h="1973">
                  <a:moveTo>
                    <a:pt x="489" y="0"/>
                  </a:moveTo>
                  <a:lnTo>
                    <a:pt x="372" y="0"/>
                  </a:lnTo>
                  <a:lnTo>
                    <a:pt x="317" y="37"/>
                  </a:lnTo>
                  <a:lnTo>
                    <a:pt x="257" y="48"/>
                  </a:lnTo>
                  <a:lnTo>
                    <a:pt x="187" y="48"/>
                  </a:lnTo>
                  <a:lnTo>
                    <a:pt x="148" y="122"/>
                  </a:lnTo>
                  <a:lnTo>
                    <a:pt x="116" y="201"/>
                  </a:lnTo>
                  <a:lnTo>
                    <a:pt x="56" y="279"/>
                  </a:lnTo>
                  <a:lnTo>
                    <a:pt x="0" y="254"/>
                  </a:lnTo>
                  <a:lnTo>
                    <a:pt x="70" y="327"/>
                  </a:lnTo>
                  <a:lnTo>
                    <a:pt x="95" y="388"/>
                  </a:lnTo>
                  <a:lnTo>
                    <a:pt x="108" y="479"/>
                  </a:lnTo>
                  <a:lnTo>
                    <a:pt x="108" y="564"/>
                  </a:lnTo>
                  <a:lnTo>
                    <a:pt x="108" y="619"/>
                  </a:lnTo>
                  <a:lnTo>
                    <a:pt x="132" y="680"/>
                  </a:lnTo>
                  <a:lnTo>
                    <a:pt x="132" y="788"/>
                  </a:lnTo>
                  <a:lnTo>
                    <a:pt x="125" y="1005"/>
                  </a:lnTo>
                  <a:lnTo>
                    <a:pt x="139" y="1190"/>
                  </a:lnTo>
                  <a:lnTo>
                    <a:pt x="157" y="1423"/>
                  </a:lnTo>
                  <a:lnTo>
                    <a:pt x="180" y="1586"/>
                  </a:lnTo>
                  <a:lnTo>
                    <a:pt x="209" y="1755"/>
                  </a:lnTo>
                  <a:lnTo>
                    <a:pt x="209" y="1817"/>
                  </a:lnTo>
                  <a:lnTo>
                    <a:pt x="187" y="1865"/>
                  </a:lnTo>
                  <a:lnTo>
                    <a:pt x="180" y="1881"/>
                  </a:lnTo>
                  <a:lnTo>
                    <a:pt x="108" y="1865"/>
                  </a:lnTo>
                  <a:lnTo>
                    <a:pt x="240" y="1973"/>
                  </a:lnTo>
                  <a:lnTo>
                    <a:pt x="326" y="1881"/>
                  </a:lnTo>
                  <a:lnTo>
                    <a:pt x="356" y="1872"/>
                  </a:lnTo>
                  <a:lnTo>
                    <a:pt x="425" y="1902"/>
                  </a:lnTo>
                  <a:lnTo>
                    <a:pt x="480" y="1966"/>
                  </a:lnTo>
                  <a:lnTo>
                    <a:pt x="519" y="1902"/>
                  </a:lnTo>
                  <a:lnTo>
                    <a:pt x="611" y="1902"/>
                  </a:lnTo>
                  <a:lnTo>
                    <a:pt x="736" y="1911"/>
                  </a:lnTo>
                  <a:lnTo>
                    <a:pt x="967" y="1911"/>
                  </a:lnTo>
                  <a:lnTo>
                    <a:pt x="1246" y="1881"/>
                  </a:lnTo>
                  <a:lnTo>
                    <a:pt x="1477" y="1832"/>
                  </a:lnTo>
                  <a:lnTo>
                    <a:pt x="1655" y="1810"/>
                  </a:lnTo>
                  <a:lnTo>
                    <a:pt x="1361" y="1832"/>
                  </a:lnTo>
                  <a:lnTo>
                    <a:pt x="959" y="1872"/>
                  </a:lnTo>
                  <a:lnTo>
                    <a:pt x="1123" y="1796"/>
                  </a:lnTo>
                  <a:lnTo>
                    <a:pt x="1286" y="1733"/>
                  </a:lnTo>
                  <a:lnTo>
                    <a:pt x="1517" y="1701"/>
                  </a:lnTo>
                  <a:lnTo>
                    <a:pt x="1806" y="1648"/>
                  </a:lnTo>
                  <a:lnTo>
                    <a:pt x="1949" y="1623"/>
                  </a:lnTo>
                  <a:lnTo>
                    <a:pt x="2055" y="1602"/>
                  </a:lnTo>
                  <a:lnTo>
                    <a:pt x="2117" y="1531"/>
                  </a:lnTo>
                  <a:lnTo>
                    <a:pt x="2181" y="1507"/>
                  </a:lnTo>
                  <a:lnTo>
                    <a:pt x="2257" y="1531"/>
                  </a:lnTo>
                  <a:lnTo>
                    <a:pt x="2398" y="1602"/>
                  </a:lnTo>
                  <a:lnTo>
                    <a:pt x="2474" y="1540"/>
                  </a:lnTo>
                  <a:lnTo>
                    <a:pt x="2488" y="1438"/>
                  </a:lnTo>
                  <a:lnTo>
                    <a:pt x="2481" y="1323"/>
                  </a:lnTo>
                  <a:lnTo>
                    <a:pt x="2442" y="1224"/>
                  </a:lnTo>
                  <a:lnTo>
                    <a:pt x="2380" y="1113"/>
                  </a:lnTo>
                  <a:lnTo>
                    <a:pt x="2294" y="1037"/>
                  </a:lnTo>
                  <a:lnTo>
                    <a:pt x="2356" y="1206"/>
                  </a:lnTo>
                  <a:lnTo>
                    <a:pt x="2027" y="1276"/>
                  </a:lnTo>
                  <a:lnTo>
                    <a:pt x="1941" y="1206"/>
                  </a:lnTo>
                  <a:lnTo>
                    <a:pt x="1941" y="1300"/>
                  </a:lnTo>
                  <a:lnTo>
                    <a:pt x="1591" y="1337"/>
                  </a:lnTo>
                  <a:lnTo>
                    <a:pt x="1524" y="1291"/>
                  </a:lnTo>
                  <a:lnTo>
                    <a:pt x="1462" y="1224"/>
                  </a:lnTo>
                  <a:lnTo>
                    <a:pt x="1430" y="1138"/>
                  </a:lnTo>
                  <a:lnTo>
                    <a:pt x="1407" y="1199"/>
                  </a:lnTo>
                  <a:lnTo>
                    <a:pt x="1398" y="1270"/>
                  </a:lnTo>
                  <a:lnTo>
                    <a:pt x="1407" y="1300"/>
                  </a:lnTo>
                  <a:lnTo>
                    <a:pt x="1268" y="1245"/>
                  </a:lnTo>
                  <a:lnTo>
                    <a:pt x="1231" y="1300"/>
                  </a:lnTo>
                  <a:lnTo>
                    <a:pt x="1206" y="1369"/>
                  </a:lnTo>
                  <a:lnTo>
                    <a:pt x="1197" y="1454"/>
                  </a:lnTo>
                  <a:lnTo>
                    <a:pt x="1206" y="1540"/>
                  </a:lnTo>
                  <a:lnTo>
                    <a:pt x="1231" y="1623"/>
                  </a:lnTo>
                  <a:lnTo>
                    <a:pt x="1176" y="1546"/>
                  </a:lnTo>
                  <a:lnTo>
                    <a:pt x="1151" y="1438"/>
                  </a:lnTo>
                  <a:lnTo>
                    <a:pt x="1143" y="1337"/>
                  </a:lnTo>
                  <a:lnTo>
                    <a:pt x="1160" y="1276"/>
                  </a:lnTo>
                  <a:lnTo>
                    <a:pt x="1185" y="1190"/>
                  </a:lnTo>
                  <a:lnTo>
                    <a:pt x="1213" y="1120"/>
                  </a:lnTo>
                  <a:lnTo>
                    <a:pt x="1143" y="1175"/>
                  </a:lnTo>
                  <a:lnTo>
                    <a:pt x="1100" y="1224"/>
                  </a:lnTo>
                  <a:lnTo>
                    <a:pt x="1066" y="1261"/>
                  </a:lnTo>
                  <a:lnTo>
                    <a:pt x="1035" y="1291"/>
                  </a:lnTo>
                  <a:lnTo>
                    <a:pt x="1020" y="1330"/>
                  </a:lnTo>
                  <a:lnTo>
                    <a:pt x="842" y="1245"/>
                  </a:lnTo>
                  <a:lnTo>
                    <a:pt x="842" y="991"/>
                  </a:lnTo>
                  <a:lnTo>
                    <a:pt x="642" y="1120"/>
                  </a:lnTo>
                  <a:lnTo>
                    <a:pt x="587" y="1021"/>
                  </a:lnTo>
                  <a:lnTo>
                    <a:pt x="587" y="973"/>
                  </a:lnTo>
                  <a:lnTo>
                    <a:pt x="611" y="911"/>
                  </a:lnTo>
                  <a:lnTo>
                    <a:pt x="651" y="874"/>
                  </a:lnTo>
                  <a:lnTo>
                    <a:pt x="704" y="828"/>
                  </a:lnTo>
                  <a:lnTo>
                    <a:pt x="789" y="797"/>
                  </a:lnTo>
                  <a:lnTo>
                    <a:pt x="826" y="779"/>
                  </a:lnTo>
                  <a:lnTo>
                    <a:pt x="411" y="327"/>
                  </a:lnTo>
                  <a:lnTo>
                    <a:pt x="681" y="327"/>
                  </a:lnTo>
                  <a:lnTo>
                    <a:pt x="681" y="302"/>
                  </a:lnTo>
                  <a:lnTo>
                    <a:pt x="657" y="232"/>
                  </a:lnTo>
                  <a:lnTo>
                    <a:pt x="605" y="118"/>
                  </a:lnTo>
                  <a:lnTo>
                    <a:pt x="543" y="30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31720" y="5664240"/>
              <a:ext cx="271080" cy="317880"/>
            </a:xfrm>
            <a:custGeom>
              <a:avLst/>
              <a:gdLst/>
              <a:ahLst/>
              <a:rect l="l" t="t" r="r" b="b"/>
              <a:pathLst>
                <a:path w="2039" h="2133">
                  <a:moveTo>
                    <a:pt x="218" y="0"/>
                  </a:moveTo>
                  <a:lnTo>
                    <a:pt x="310" y="116"/>
                  </a:lnTo>
                  <a:lnTo>
                    <a:pt x="380" y="208"/>
                  </a:lnTo>
                  <a:lnTo>
                    <a:pt x="402" y="270"/>
                  </a:lnTo>
                  <a:lnTo>
                    <a:pt x="402" y="325"/>
                  </a:lnTo>
                  <a:lnTo>
                    <a:pt x="380" y="371"/>
                  </a:lnTo>
                  <a:lnTo>
                    <a:pt x="365" y="424"/>
                  </a:lnTo>
                  <a:lnTo>
                    <a:pt x="402" y="479"/>
                  </a:lnTo>
                  <a:lnTo>
                    <a:pt x="402" y="532"/>
                  </a:lnTo>
                  <a:lnTo>
                    <a:pt x="372" y="532"/>
                  </a:lnTo>
                  <a:lnTo>
                    <a:pt x="365" y="615"/>
                  </a:lnTo>
                  <a:lnTo>
                    <a:pt x="380" y="811"/>
                  </a:lnTo>
                  <a:lnTo>
                    <a:pt x="359" y="991"/>
                  </a:lnTo>
                  <a:lnTo>
                    <a:pt x="334" y="1151"/>
                  </a:lnTo>
                  <a:lnTo>
                    <a:pt x="380" y="1321"/>
                  </a:lnTo>
                  <a:lnTo>
                    <a:pt x="326" y="1430"/>
                  </a:lnTo>
                  <a:lnTo>
                    <a:pt x="402" y="1584"/>
                  </a:lnTo>
                  <a:lnTo>
                    <a:pt x="598" y="1591"/>
                  </a:lnTo>
                  <a:lnTo>
                    <a:pt x="681" y="1669"/>
                  </a:lnTo>
                  <a:lnTo>
                    <a:pt x="741" y="1661"/>
                  </a:lnTo>
                  <a:lnTo>
                    <a:pt x="836" y="1623"/>
                  </a:lnTo>
                  <a:lnTo>
                    <a:pt x="943" y="1544"/>
                  </a:lnTo>
                  <a:lnTo>
                    <a:pt x="976" y="1507"/>
                  </a:lnTo>
                  <a:lnTo>
                    <a:pt x="958" y="1452"/>
                  </a:lnTo>
                  <a:lnTo>
                    <a:pt x="928" y="1415"/>
                  </a:lnTo>
                  <a:lnTo>
                    <a:pt x="859" y="1381"/>
                  </a:lnTo>
                  <a:lnTo>
                    <a:pt x="958" y="1415"/>
                  </a:lnTo>
                  <a:lnTo>
                    <a:pt x="1022" y="1476"/>
                  </a:lnTo>
                  <a:lnTo>
                    <a:pt x="1154" y="1468"/>
                  </a:lnTo>
                  <a:lnTo>
                    <a:pt x="1277" y="1492"/>
                  </a:lnTo>
                  <a:lnTo>
                    <a:pt x="1501" y="1544"/>
                  </a:lnTo>
                  <a:lnTo>
                    <a:pt x="1253" y="1507"/>
                  </a:lnTo>
                  <a:lnTo>
                    <a:pt x="1191" y="1538"/>
                  </a:lnTo>
                  <a:lnTo>
                    <a:pt x="1129" y="1600"/>
                  </a:lnTo>
                  <a:lnTo>
                    <a:pt x="1083" y="1678"/>
                  </a:lnTo>
                  <a:lnTo>
                    <a:pt x="1360" y="1701"/>
                  </a:lnTo>
                  <a:lnTo>
                    <a:pt x="1569" y="1701"/>
                  </a:lnTo>
                  <a:lnTo>
                    <a:pt x="1781" y="1669"/>
                  </a:lnTo>
                  <a:lnTo>
                    <a:pt x="1927" y="1648"/>
                  </a:lnTo>
                  <a:lnTo>
                    <a:pt x="2011" y="1777"/>
                  </a:lnTo>
                  <a:lnTo>
                    <a:pt x="2039" y="1870"/>
                  </a:lnTo>
                  <a:lnTo>
                    <a:pt x="2039" y="1971"/>
                  </a:lnTo>
                  <a:lnTo>
                    <a:pt x="2026" y="2072"/>
                  </a:lnTo>
                  <a:lnTo>
                    <a:pt x="2002" y="2133"/>
                  </a:lnTo>
                  <a:lnTo>
                    <a:pt x="2017" y="2033"/>
                  </a:lnTo>
                  <a:lnTo>
                    <a:pt x="2026" y="1940"/>
                  </a:lnTo>
                  <a:lnTo>
                    <a:pt x="2017" y="1854"/>
                  </a:lnTo>
                  <a:lnTo>
                    <a:pt x="1987" y="1777"/>
                  </a:lnTo>
                  <a:lnTo>
                    <a:pt x="1908" y="1661"/>
                  </a:lnTo>
                  <a:lnTo>
                    <a:pt x="1686" y="1709"/>
                  </a:lnTo>
                  <a:lnTo>
                    <a:pt x="1470" y="1722"/>
                  </a:lnTo>
                  <a:lnTo>
                    <a:pt x="1168" y="1747"/>
                  </a:lnTo>
                  <a:lnTo>
                    <a:pt x="914" y="1733"/>
                  </a:lnTo>
                  <a:lnTo>
                    <a:pt x="783" y="1701"/>
                  </a:lnTo>
                  <a:lnTo>
                    <a:pt x="635" y="1694"/>
                  </a:lnTo>
                  <a:lnTo>
                    <a:pt x="557" y="1733"/>
                  </a:lnTo>
                  <a:lnTo>
                    <a:pt x="518" y="1637"/>
                  </a:lnTo>
                  <a:lnTo>
                    <a:pt x="420" y="1623"/>
                  </a:lnTo>
                  <a:lnTo>
                    <a:pt x="341" y="1648"/>
                  </a:lnTo>
                  <a:lnTo>
                    <a:pt x="326" y="1529"/>
                  </a:lnTo>
                  <a:lnTo>
                    <a:pt x="264" y="1538"/>
                  </a:lnTo>
                  <a:lnTo>
                    <a:pt x="9" y="1685"/>
                  </a:lnTo>
                  <a:lnTo>
                    <a:pt x="0" y="1648"/>
                  </a:lnTo>
                  <a:lnTo>
                    <a:pt x="24" y="1584"/>
                  </a:lnTo>
                  <a:lnTo>
                    <a:pt x="92" y="1553"/>
                  </a:lnTo>
                  <a:lnTo>
                    <a:pt x="303" y="1501"/>
                  </a:lnTo>
                  <a:lnTo>
                    <a:pt x="288" y="1378"/>
                  </a:lnTo>
                  <a:lnTo>
                    <a:pt x="334" y="1291"/>
                  </a:lnTo>
                  <a:lnTo>
                    <a:pt x="255" y="952"/>
                  </a:lnTo>
                  <a:lnTo>
                    <a:pt x="119" y="604"/>
                  </a:lnTo>
                  <a:lnTo>
                    <a:pt x="239" y="887"/>
                  </a:lnTo>
                  <a:lnTo>
                    <a:pt x="303" y="1065"/>
                  </a:lnTo>
                  <a:lnTo>
                    <a:pt x="317" y="802"/>
                  </a:lnTo>
                  <a:lnTo>
                    <a:pt x="310" y="615"/>
                  </a:lnTo>
                  <a:lnTo>
                    <a:pt x="255" y="445"/>
                  </a:lnTo>
                  <a:lnTo>
                    <a:pt x="185" y="263"/>
                  </a:lnTo>
                  <a:lnTo>
                    <a:pt x="110" y="122"/>
                  </a:lnTo>
                  <a:lnTo>
                    <a:pt x="209" y="292"/>
                  </a:lnTo>
                  <a:lnTo>
                    <a:pt x="294" y="494"/>
                  </a:lnTo>
                  <a:lnTo>
                    <a:pt x="380" y="348"/>
                  </a:lnTo>
                  <a:lnTo>
                    <a:pt x="387" y="300"/>
                  </a:lnTo>
                  <a:lnTo>
                    <a:pt x="380" y="246"/>
                  </a:lnTo>
                  <a:lnTo>
                    <a:pt x="341" y="19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82480" y="5715360"/>
              <a:ext cx="58680" cy="194760"/>
            </a:xfrm>
            <a:custGeom>
              <a:avLst/>
              <a:gdLst/>
              <a:ahLst/>
              <a:rect l="l" t="t" r="r" b="b"/>
              <a:pathLst>
                <a:path w="440" h="1300">
                  <a:moveTo>
                    <a:pt x="138" y="109"/>
                  </a:moveTo>
                  <a:lnTo>
                    <a:pt x="115" y="177"/>
                  </a:lnTo>
                  <a:lnTo>
                    <a:pt x="124" y="339"/>
                  </a:lnTo>
                  <a:lnTo>
                    <a:pt x="138" y="524"/>
                  </a:lnTo>
                  <a:lnTo>
                    <a:pt x="177" y="717"/>
                  </a:lnTo>
                  <a:lnTo>
                    <a:pt x="249" y="874"/>
                  </a:lnTo>
                  <a:lnTo>
                    <a:pt x="308" y="943"/>
                  </a:lnTo>
                  <a:lnTo>
                    <a:pt x="262" y="1012"/>
                  </a:lnTo>
                  <a:lnTo>
                    <a:pt x="440" y="1033"/>
                  </a:lnTo>
                  <a:lnTo>
                    <a:pt x="249" y="1074"/>
                  </a:lnTo>
                  <a:lnTo>
                    <a:pt x="233" y="1153"/>
                  </a:lnTo>
                  <a:lnTo>
                    <a:pt x="233" y="1243"/>
                  </a:lnTo>
                  <a:lnTo>
                    <a:pt x="249" y="1300"/>
                  </a:lnTo>
                  <a:lnTo>
                    <a:pt x="0" y="1236"/>
                  </a:lnTo>
                  <a:lnTo>
                    <a:pt x="53" y="1104"/>
                  </a:lnTo>
                  <a:lnTo>
                    <a:pt x="78" y="943"/>
                  </a:lnTo>
                  <a:lnTo>
                    <a:pt x="115" y="671"/>
                  </a:lnTo>
                  <a:lnTo>
                    <a:pt x="115" y="425"/>
                  </a:lnTo>
                  <a:lnTo>
                    <a:pt x="92" y="170"/>
                  </a:lnTo>
                  <a:lnTo>
                    <a:pt x="124" y="109"/>
                  </a:lnTo>
                  <a:lnTo>
                    <a:pt x="154" y="0"/>
                  </a:lnTo>
                  <a:lnTo>
                    <a:pt x="13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38000" y="5884200"/>
              <a:ext cx="63720" cy="34560"/>
            </a:xfrm>
            <a:custGeom>
              <a:avLst/>
              <a:gdLst/>
              <a:ahLst/>
              <a:rect l="l" t="t" r="r" b="b"/>
              <a:pathLst>
                <a:path w="485" h="233">
                  <a:moveTo>
                    <a:pt x="30" y="77"/>
                  </a:moveTo>
                  <a:lnTo>
                    <a:pt x="224" y="92"/>
                  </a:lnTo>
                  <a:lnTo>
                    <a:pt x="355" y="99"/>
                  </a:lnTo>
                  <a:lnTo>
                    <a:pt x="408" y="46"/>
                  </a:lnTo>
                  <a:lnTo>
                    <a:pt x="485" y="0"/>
                  </a:lnTo>
                  <a:lnTo>
                    <a:pt x="408" y="62"/>
                  </a:lnTo>
                  <a:lnTo>
                    <a:pt x="360" y="133"/>
                  </a:lnTo>
                  <a:lnTo>
                    <a:pt x="355" y="179"/>
                  </a:lnTo>
                  <a:lnTo>
                    <a:pt x="0" y="233"/>
                  </a:lnTo>
                  <a:lnTo>
                    <a:pt x="14" y="193"/>
                  </a:lnTo>
                  <a:lnTo>
                    <a:pt x="61" y="133"/>
                  </a:lnTo>
                  <a:lnTo>
                    <a:pt x="113" y="99"/>
                  </a:lnTo>
                  <a:lnTo>
                    <a:pt x="3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50800" y="5690520"/>
              <a:ext cx="18720" cy="129960"/>
            </a:xfrm>
            <a:custGeom>
              <a:avLst/>
              <a:gdLst/>
              <a:ahLst/>
              <a:rect l="l" t="t" r="r" b="b"/>
              <a:pathLst>
                <a:path w="148" h="875">
                  <a:moveTo>
                    <a:pt x="0" y="0"/>
                  </a:moveTo>
                  <a:lnTo>
                    <a:pt x="69" y="201"/>
                  </a:lnTo>
                  <a:lnTo>
                    <a:pt x="99" y="394"/>
                  </a:lnTo>
                  <a:lnTo>
                    <a:pt x="124" y="625"/>
                  </a:lnTo>
                  <a:lnTo>
                    <a:pt x="133" y="796"/>
                  </a:lnTo>
                  <a:lnTo>
                    <a:pt x="148" y="875"/>
                  </a:lnTo>
                  <a:lnTo>
                    <a:pt x="140" y="688"/>
                  </a:lnTo>
                  <a:lnTo>
                    <a:pt x="124" y="462"/>
                  </a:lnTo>
                  <a:lnTo>
                    <a:pt x="99" y="323"/>
                  </a:lnTo>
                  <a:lnTo>
                    <a:pt x="87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099920" y="5915160"/>
              <a:ext cx="101880" cy="63360"/>
            </a:xfrm>
            <a:custGeom>
              <a:avLst/>
              <a:gdLst/>
              <a:ahLst/>
              <a:rect l="l" t="t" r="r" b="b"/>
              <a:pathLst>
                <a:path w="770" h="428">
                  <a:moveTo>
                    <a:pt x="16" y="400"/>
                  </a:moveTo>
                  <a:lnTo>
                    <a:pt x="108" y="408"/>
                  </a:lnTo>
                  <a:lnTo>
                    <a:pt x="205" y="412"/>
                  </a:lnTo>
                  <a:lnTo>
                    <a:pt x="280" y="415"/>
                  </a:lnTo>
                  <a:lnTo>
                    <a:pt x="326" y="403"/>
                  </a:lnTo>
                  <a:lnTo>
                    <a:pt x="343" y="382"/>
                  </a:lnTo>
                  <a:lnTo>
                    <a:pt x="363" y="362"/>
                  </a:lnTo>
                  <a:lnTo>
                    <a:pt x="396" y="343"/>
                  </a:lnTo>
                  <a:lnTo>
                    <a:pt x="359" y="338"/>
                  </a:lnTo>
                  <a:lnTo>
                    <a:pt x="442" y="331"/>
                  </a:lnTo>
                  <a:lnTo>
                    <a:pt x="477" y="311"/>
                  </a:lnTo>
                  <a:lnTo>
                    <a:pt x="499" y="279"/>
                  </a:lnTo>
                  <a:lnTo>
                    <a:pt x="456" y="246"/>
                  </a:lnTo>
                  <a:lnTo>
                    <a:pt x="534" y="259"/>
                  </a:lnTo>
                  <a:lnTo>
                    <a:pt x="587" y="274"/>
                  </a:lnTo>
                  <a:lnTo>
                    <a:pt x="607" y="262"/>
                  </a:lnTo>
                  <a:lnTo>
                    <a:pt x="631" y="235"/>
                  </a:lnTo>
                  <a:lnTo>
                    <a:pt x="659" y="151"/>
                  </a:lnTo>
                  <a:lnTo>
                    <a:pt x="583" y="160"/>
                  </a:lnTo>
                  <a:lnTo>
                    <a:pt x="555" y="138"/>
                  </a:lnTo>
                  <a:lnTo>
                    <a:pt x="555" y="105"/>
                  </a:lnTo>
                  <a:lnTo>
                    <a:pt x="613" y="136"/>
                  </a:lnTo>
                  <a:lnTo>
                    <a:pt x="688" y="136"/>
                  </a:lnTo>
                  <a:lnTo>
                    <a:pt x="741" y="127"/>
                  </a:lnTo>
                  <a:lnTo>
                    <a:pt x="752" y="108"/>
                  </a:lnTo>
                  <a:lnTo>
                    <a:pt x="758" y="76"/>
                  </a:lnTo>
                  <a:lnTo>
                    <a:pt x="750" y="52"/>
                  </a:lnTo>
                  <a:lnTo>
                    <a:pt x="730" y="43"/>
                  </a:lnTo>
                  <a:lnTo>
                    <a:pt x="677" y="28"/>
                  </a:lnTo>
                  <a:lnTo>
                    <a:pt x="624" y="24"/>
                  </a:lnTo>
                  <a:lnTo>
                    <a:pt x="647" y="0"/>
                  </a:lnTo>
                  <a:lnTo>
                    <a:pt x="746" y="39"/>
                  </a:lnTo>
                  <a:lnTo>
                    <a:pt x="770" y="64"/>
                  </a:lnTo>
                  <a:lnTo>
                    <a:pt x="770" y="92"/>
                  </a:lnTo>
                  <a:lnTo>
                    <a:pt x="752" y="131"/>
                  </a:lnTo>
                  <a:lnTo>
                    <a:pt x="737" y="149"/>
                  </a:lnTo>
                  <a:lnTo>
                    <a:pt x="677" y="156"/>
                  </a:lnTo>
                  <a:lnTo>
                    <a:pt x="633" y="255"/>
                  </a:lnTo>
                  <a:lnTo>
                    <a:pt x="610" y="283"/>
                  </a:lnTo>
                  <a:lnTo>
                    <a:pt x="578" y="294"/>
                  </a:lnTo>
                  <a:lnTo>
                    <a:pt x="546" y="288"/>
                  </a:lnTo>
                  <a:lnTo>
                    <a:pt x="517" y="318"/>
                  </a:lnTo>
                  <a:lnTo>
                    <a:pt x="486" y="331"/>
                  </a:lnTo>
                  <a:lnTo>
                    <a:pt x="431" y="343"/>
                  </a:lnTo>
                  <a:lnTo>
                    <a:pt x="403" y="366"/>
                  </a:lnTo>
                  <a:lnTo>
                    <a:pt x="368" y="400"/>
                  </a:lnTo>
                  <a:lnTo>
                    <a:pt x="336" y="412"/>
                  </a:lnTo>
                  <a:lnTo>
                    <a:pt x="299" y="428"/>
                  </a:lnTo>
                  <a:lnTo>
                    <a:pt x="227" y="428"/>
                  </a:lnTo>
                  <a:lnTo>
                    <a:pt x="93" y="419"/>
                  </a:lnTo>
                  <a:lnTo>
                    <a:pt x="0" y="408"/>
                  </a:lnTo>
                  <a:lnTo>
                    <a:pt x="4" y="396"/>
                  </a:lnTo>
                  <a:lnTo>
                    <a:pt x="16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097760" y="5859000"/>
              <a:ext cx="36000" cy="27360"/>
            </a:xfrm>
            <a:custGeom>
              <a:avLst/>
              <a:gdLst/>
              <a:ahLst/>
              <a:rect l="l" t="t" r="r" b="b"/>
              <a:pathLst>
                <a:path w="268" h="182">
                  <a:moveTo>
                    <a:pt x="77" y="0"/>
                  </a:moveTo>
                  <a:lnTo>
                    <a:pt x="62" y="18"/>
                  </a:lnTo>
                  <a:lnTo>
                    <a:pt x="46" y="48"/>
                  </a:lnTo>
                  <a:lnTo>
                    <a:pt x="39" y="72"/>
                  </a:lnTo>
                  <a:lnTo>
                    <a:pt x="44" y="81"/>
                  </a:lnTo>
                  <a:lnTo>
                    <a:pt x="62" y="86"/>
                  </a:lnTo>
                  <a:lnTo>
                    <a:pt x="110" y="104"/>
                  </a:lnTo>
                  <a:lnTo>
                    <a:pt x="164" y="110"/>
                  </a:lnTo>
                  <a:lnTo>
                    <a:pt x="203" y="104"/>
                  </a:lnTo>
                  <a:lnTo>
                    <a:pt x="226" y="88"/>
                  </a:lnTo>
                  <a:lnTo>
                    <a:pt x="244" y="71"/>
                  </a:lnTo>
                  <a:lnTo>
                    <a:pt x="252" y="57"/>
                  </a:lnTo>
                  <a:lnTo>
                    <a:pt x="252" y="35"/>
                  </a:lnTo>
                  <a:lnTo>
                    <a:pt x="231" y="20"/>
                  </a:lnTo>
                  <a:lnTo>
                    <a:pt x="145" y="9"/>
                  </a:lnTo>
                  <a:lnTo>
                    <a:pt x="231" y="14"/>
                  </a:lnTo>
                  <a:lnTo>
                    <a:pt x="263" y="25"/>
                  </a:lnTo>
                  <a:lnTo>
                    <a:pt x="268" y="46"/>
                  </a:lnTo>
                  <a:lnTo>
                    <a:pt x="259" y="72"/>
                  </a:lnTo>
                  <a:lnTo>
                    <a:pt x="244" y="97"/>
                  </a:lnTo>
                  <a:lnTo>
                    <a:pt x="213" y="129"/>
                  </a:lnTo>
                  <a:lnTo>
                    <a:pt x="178" y="152"/>
                  </a:lnTo>
                  <a:lnTo>
                    <a:pt x="132" y="171"/>
                  </a:lnTo>
                  <a:lnTo>
                    <a:pt x="72" y="171"/>
                  </a:lnTo>
                  <a:lnTo>
                    <a:pt x="30" y="171"/>
                  </a:lnTo>
                  <a:lnTo>
                    <a:pt x="7" y="182"/>
                  </a:lnTo>
                  <a:lnTo>
                    <a:pt x="0" y="127"/>
                  </a:lnTo>
                  <a:lnTo>
                    <a:pt x="33" y="37"/>
                  </a:lnTo>
                  <a:lnTo>
                    <a:pt x="57" y="1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126560" y="5850720"/>
              <a:ext cx="37080" cy="58320"/>
            </a:xfrm>
            <a:custGeom>
              <a:avLst/>
              <a:gdLst/>
              <a:ahLst/>
              <a:rect l="l" t="t" r="r" b="b"/>
              <a:pathLst>
                <a:path w="281" h="394">
                  <a:moveTo>
                    <a:pt x="0" y="74"/>
                  </a:moveTo>
                  <a:lnTo>
                    <a:pt x="37" y="36"/>
                  </a:lnTo>
                  <a:lnTo>
                    <a:pt x="69" y="0"/>
                  </a:lnTo>
                  <a:lnTo>
                    <a:pt x="88" y="3"/>
                  </a:lnTo>
                  <a:lnTo>
                    <a:pt x="132" y="23"/>
                  </a:lnTo>
                  <a:lnTo>
                    <a:pt x="196" y="40"/>
                  </a:lnTo>
                  <a:lnTo>
                    <a:pt x="244" y="49"/>
                  </a:lnTo>
                  <a:lnTo>
                    <a:pt x="244" y="60"/>
                  </a:lnTo>
                  <a:lnTo>
                    <a:pt x="226" y="95"/>
                  </a:lnTo>
                  <a:lnTo>
                    <a:pt x="196" y="122"/>
                  </a:lnTo>
                  <a:lnTo>
                    <a:pt x="247" y="148"/>
                  </a:lnTo>
                  <a:lnTo>
                    <a:pt x="281" y="183"/>
                  </a:lnTo>
                  <a:lnTo>
                    <a:pt x="281" y="229"/>
                  </a:lnTo>
                  <a:lnTo>
                    <a:pt x="244" y="258"/>
                  </a:lnTo>
                  <a:lnTo>
                    <a:pt x="256" y="196"/>
                  </a:lnTo>
                  <a:lnTo>
                    <a:pt x="242" y="168"/>
                  </a:lnTo>
                  <a:lnTo>
                    <a:pt x="196" y="141"/>
                  </a:lnTo>
                  <a:lnTo>
                    <a:pt x="141" y="148"/>
                  </a:lnTo>
                  <a:lnTo>
                    <a:pt x="106" y="175"/>
                  </a:lnTo>
                  <a:lnTo>
                    <a:pt x="64" y="231"/>
                  </a:lnTo>
                  <a:lnTo>
                    <a:pt x="35" y="293"/>
                  </a:lnTo>
                  <a:lnTo>
                    <a:pt x="27" y="339"/>
                  </a:lnTo>
                  <a:lnTo>
                    <a:pt x="37" y="364"/>
                  </a:lnTo>
                  <a:lnTo>
                    <a:pt x="62" y="376"/>
                  </a:lnTo>
                  <a:lnTo>
                    <a:pt x="86" y="374"/>
                  </a:lnTo>
                  <a:lnTo>
                    <a:pt x="126" y="359"/>
                  </a:lnTo>
                  <a:lnTo>
                    <a:pt x="99" y="385"/>
                  </a:lnTo>
                  <a:lnTo>
                    <a:pt x="42" y="394"/>
                  </a:lnTo>
                  <a:lnTo>
                    <a:pt x="14" y="381"/>
                  </a:lnTo>
                  <a:lnTo>
                    <a:pt x="5" y="344"/>
                  </a:lnTo>
                  <a:lnTo>
                    <a:pt x="27" y="275"/>
                  </a:lnTo>
                  <a:lnTo>
                    <a:pt x="69" y="196"/>
                  </a:lnTo>
                  <a:lnTo>
                    <a:pt x="115" y="148"/>
                  </a:lnTo>
                  <a:lnTo>
                    <a:pt x="172" y="122"/>
                  </a:lnTo>
                  <a:lnTo>
                    <a:pt x="207" y="88"/>
                  </a:lnTo>
                  <a:lnTo>
                    <a:pt x="226" y="60"/>
                  </a:lnTo>
                  <a:lnTo>
                    <a:pt x="168" y="49"/>
                  </a:lnTo>
                  <a:lnTo>
                    <a:pt x="122" y="34"/>
                  </a:lnTo>
                  <a:lnTo>
                    <a:pt x="95" y="18"/>
                  </a:lnTo>
                  <a:lnTo>
                    <a:pt x="76" y="14"/>
                  </a:lnTo>
                  <a:lnTo>
                    <a:pt x="58" y="30"/>
                  </a:lnTo>
                  <a:lnTo>
                    <a:pt x="32" y="56"/>
                  </a:lnTo>
                  <a:lnTo>
                    <a:pt x="16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138440" y="5884200"/>
              <a:ext cx="47520" cy="40320"/>
            </a:xfrm>
            <a:custGeom>
              <a:avLst/>
              <a:gdLst/>
              <a:ahLst/>
              <a:rect l="l" t="t" r="r" b="b"/>
              <a:pathLst>
                <a:path w="366" h="275">
                  <a:moveTo>
                    <a:pt x="198" y="0"/>
                  </a:moveTo>
                  <a:lnTo>
                    <a:pt x="242" y="0"/>
                  </a:lnTo>
                  <a:lnTo>
                    <a:pt x="282" y="15"/>
                  </a:lnTo>
                  <a:lnTo>
                    <a:pt x="295" y="42"/>
                  </a:lnTo>
                  <a:lnTo>
                    <a:pt x="300" y="75"/>
                  </a:lnTo>
                  <a:lnTo>
                    <a:pt x="295" y="99"/>
                  </a:lnTo>
                  <a:lnTo>
                    <a:pt x="335" y="117"/>
                  </a:lnTo>
                  <a:lnTo>
                    <a:pt x="355" y="142"/>
                  </a:lnTo>
                  <a:lnTo>
                    <a:pt x="366" y="165"/>
                  </a:lnTo>
                  <a:lnTo>
                    <a:pt x="366" y="191"/>
                  </a:lnTo>
                  <a:lnTo>
                    <a:pt x="359" y="216"/>
                  </a:lnTo>
                  <a:lnTo>
                    <a:pt x="341" y="235"/>
                  </a:lnTo>
                  <a:lnTo>
                    <a:pt x="320" y="246"/>
                  </a:lnTo>
                  <a:lnTo>
                    <a:pt x="348" y="211"/>
                  </a:lnTo>
                  <a:lnTo>
                    <a:pt x="348" y="181"/>
                  </a:lnTo>
                  <a:lnTo>
                    <a:pt x="335" y="151"/>
                  </a:lnTo>
                  <a:lnTo>
                    <a:pt x="309" y="128"/>
                  </a:lnTo>
                  <a:lnTo>
                    <a:pt x="288" y="123"/>
                  </a:lnTo>
                  <a:lnTo>
                    <a:pt x="282" y="126"/>
                  </a:lnTo>
                  <a:lnTo>
                    <a:pt x="251" y="160"/>
                  </a:lnTo>
                  <a:lnTo>
                    <a:pt x="232" y="187"/>
                  </a:lnTo>
                  <a:lnTo>
                    <a:pt x="258" y="222"/>
                  </a:lnTo>
                  <a:lnTo>
                    <a:pt x="286" y="244"/>
                  </a:lnTo>
                  <a:lnTo>
                    <a:pt x="306" y="250"/>
                  </a:lnTo>
                  <a:lnTo>
                    <a:pt x="272" y="275"/>
                  </a:lnTo>
                  <a:lnTo>
                    <a:pt x="230" y="273"/>
                  </a:lnTo>
                  <a:lnTo>
                    <a:pt x="201" y="255"/>
                  </a:lnTo>
                  <a:lnTo>
                    <a:pt x="187" y="235"/>
                  </a:lnTo>
                  <a:lnTo>
                    <a:pt x="186" y="218"/>
                  </a:lnTo>
                  <a:lnTo>
                    <a:pt x="129" y="250"/>
                  </a:lnTo>
                  <a:lnTo>
                    <a:pt x="87" y="262"/>
                  </a:lnTo>
                  <a:lnTo>
                    <a:pt x="45" y="262"/>
                  </a:lnTo>
                  <a:lnTo>
                    <a:pt x="16" y="259"/>
                  </a:lnTo>
                  <a:lnTo>
                    <a:pt x="5" y="244"/>
                  </a:lnTo>
                  <a:lnTo>
                    <a:pt x="0" y="222"/>
                  </a:lnTo>
                  <a:lnTo>
                    <a:pt x="5" y="193"/>
                  </a:lnTo>
                  <a:lnTo>
                    <a:pt x="21" y="172"/>
                  </a:lnTo>
                  <a:lnTo>
                    <a:pt x="41" y="147"/>
                  </a:lnTo>
                  <a:lnTo>
                    <a:pt x="80" y="99"/>
                  </a:lnTo>
                  <a:lnTo>
                    <a:pt x="140" y="48"/>
                  </a:lnTo>
                  <a:lnTo>
                    <a:pt x="80" y="112"/>
                  </a:lnTo>
                  <a:lnTo>
                    <a:pt x="53" y="154"/>
                  </a:lnTo>
                  <a:lnTo>
                    <a:pt x="43" y="191"/>
                  </a:lnTo>
                  <a:lnTo>
                    <a:pt x="53" y="222"/>
                  </a:lnTo>
                  <a:lnTo>
                    <a:pt x="85" y="246"/>
                  </a:lnTo>
                  <a:lnTo>
                    <a:pt x="113" y="239"/>
                  </a:lnTo>
                  <a:lnTo>
                    <a:pt x="173" y="207"/>
                  </a:lnTo>
                  <a:lnTo>
                    <a:pt x="232" y="158"/>
                  </a:lnTo>
                  <a:lnTo>
                    <a:pt x="272" y="112"/>
                  </a:lnTo>
                  <a:lnTo>
                    <a:pt x="282" y="75"/>
                  </a:lnTo>
                  <a:lnTo>
                    <a:pt x="282" y="40"/>
                  </a:lnTo>
                  <a:lnTo>
                    <a:pt x="272" y="20"/>
                  </a:lnTo>
                  <a:lnTo>
                    <a:pt x="240" y="15"/>
                  </a:lnTo>
                  <a:lnTo>
                    <a:pt x="212" y="9"/>
                  </a:lnTo>
                  <a:lnTo>
                    <a:pt x="187" y="15"/>
                  </a:lnTo>
                  <a:lnTo>
                    <a:pt x="161" y="3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676200" y="5831640"/>
              <a:ext cx="16560" cy="190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0" y="0"/>
                  </a:moveTo>
                  <a:lnTo>
                    <a:pt x="108" y="50"/>
                  </a:lnTo>
                  <a:lnTo>
                    <a:pt x="130" y="99"/>
                  </a:lnTo>
                  <a:lnTo>
                    <a:pt x="57" y="122"/>
                  </a:lnTo>
                  <a:lnTo>
                    <a:pt x="82" y="81"/>
                  </a:lnTo>
                  <a:lnTo>
                    <a:pt x="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669360" y="5769360"/>
              <a:ext cx="93600" cy="282240"/>
            </a:xfrm>
            <a:custGeom>
              <a:avLst/>
              <a:gdLst/>
              <a:ahLst/>
              <a:rect l="l" t="t" r="r" b="b"/>
              <a:pathLst>
                <a:path w="706" h="1890">
                  <a:moveTo>
                    <a:pt x="131" y="625"/>
                  </a:moveTo>
                  <a:lnTo>
                    <a:pt x="251" y="973"/>
                  </a:lnTo>
                  <a:lnTo>
                    <a:pt x="355" y="1372"/>
                  </a:lnTo>
                  <a:lnTo>
                    <a:pt x="148" y="1215"/>
                  </a:lnTo>
                  <a:lnTo>
                    <a:pt x="0" y="1086"/>
                  </a:lnTo>
                  <a:lnTo>
                    <a:pt x="260" y="1345"/>
                  </a:lnTo>
                  <a:lnTo>
                    <a:pt x="465" y="1501"/>
                  </a:lnTo>
                  <a:lnTo>
                    <a:pt x="601" y="1580"/>
                  </a:lnTo>
                  <a:lnTo>
                    <a:pt x="609" y="1890"/>
                  </a:lnTo>
                  <a:lnTo>
                    <a:pt x="706" y="1817"/>
                  </a:lnTo>
                  <a:lnTo>
                    <a:pt x="706" y="1613"/>
                  </a:lnTo>
                  <a:lnTo>
                    <a:pt x="567" y="1459"/>
                  </a:lnTo>
                  <a:lnTo>
                    <a:pt x="465" y="1095"/>
                  </a:lnTo>
                  <a:lnTo>
                    <a:pt x="299" y="567"/>
                  </a:lnTo>
                  <a:lnTo>
                    <a:pt x="179" y="251"/>
                  </a:lnTo>
                  <a:lnTo>
                    <a:pt x="49" y="0"/>
                  </a:lnTo>
                  <a:lnTo>
                    <a:pt x="187" y="298"/>
                  </a:lnTo>
                  <a:lnTo>
                    <a:pt x="341" y="754"/>
                  </a:lnTo>
                  <a:lnTo>
                    <a:pt x="456" y="1190"/>
                  </a:lnTo>
                  <a:lnTo>
                    <a:pt x="513" y="1428"/>
                  </a:lnTo>
                  <a:lnTo>
                    <a:pt x="398" y="1379"/>
                  </a:lnTo>
                  <a:lnTo>
                    <a:pt x="284" y="1004"/>
                  </a:lnTo>
                  <a:lnTo>
                    <a:pt x="187" y="745"/>
                  </a:lnTo>
                  <a:lnTo>
                    <a:pt x="131" y="6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688800" y="5739480"/>
              <a:ext cx="59400" cy="126360"/>
            </a:xfrm>
            <a:custGeom>
              <a:avLst/>
              <a:gdLst/>
              <a:ahLst/>
              <a:rect l="l" t="t" r="r" b="b"/>
              <a:pathLst>
                <a:path w="446" h="844">
                  <a:moveTo>
                    <a:pt x="0" y="0"/>
                  </a:moveTo>
                  <a:lnTo>
                    <a:pt x="145" y="115"/>
                  </a:lnTo>
                  <a:lnTo>
                    <a:pt x="281" y="242"/>
                  </a:lnTo>
                  <a:lnTo>
                    <a:pt x="380" y="356"/>
                  </a:lnTo>
                  <a:lnTo>
                    <a:pt x="437" y="429"/>
                  </a:lnTo>
                  <a:lnTo>
                    <a:pt x="446" y="482"/>
                  </a:lnTo>
                  <a:lnTo>
                    <a:pt x="437" y="519"/>
                  </a:lnTo>
                  <a:lnTo>
                    <a:pt x="338" y="738"/>
                  </a:lnTo>
                  <a:lnTo>
                    <a:pt x="299" y="796"/>
                  </a:lnTo>
                  <a:lnTo>
                    <a:pt x="244" y="844"/>
                  </a:lnTo>
                  <a:lnTo>
                    <a:pt x="308" y="772"/>
                  </a:lnTo>
                  <a:lnTo>
                    <a:pt x="347" y="690"/>
                  </a:lnTo>
                  <a:lnTo>
                    <a:pt x="412" y="519"/>
                  </a:lnTo>
                  <a:lnTo>
                    <a:pt x="412" y="447"/>
                  </a:lnTo>
                  <a:lnTo>
                    <a:pt x="380" y="383"/>
                  </a:lnTo>
                  <a:lnTo>
                    <a:pt x="259" y="236"/>
                  </a:lnTo>
                  <a:lnTo>
                    <a:pt x="103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31280" y="5821920"/>
              <a:ext cx="25560" cy="132480"/>
            </a:xfrm>
            <a:custGeom>
              <a:avLst/>
              <a:gdLst/>
              <a:ahLst/>
              <a:rect l="l" t="t" r="r" b="b"/>
              <a:pathLst>
                <a:path w="192" h="885">
                  <a:moveTo>
                    <a:pt x="63" y="99"/>
                  </a:moveTo>
                  <a:lnTo>
                    <a:pt x="111" y="163"/>
                  </a:lnTo>
                  <a:lnTo>
                    <a:pt x="95" y="220"/>
                  </a:lnTo>
                  <a:lnTo>
                    <a:pt x="120" y="253"/>
                  </a:lnTo>
                  <a:lnTo>
                    <a:pt x="95" y="366"/>
                  </a:lnTo>
                  <a:lnTo>
                    <a:pt x="63" y="576"/>
                  </a:lnTo>
                  <a:lnTo>
                    <a:pt x="0" y="804"/>
                  </a:lnTo>
                  <a:lnTo>
                    <a:pt x="21" y="885"/>
                  </a:lnTo>
                  <a:lnTo>
                    <a:pt x="85" y="624"/>
                  </a:lnTo>
                  <a:lnTo>
                    <a:pt x="129" y="341"/>
                  </a:lnTo>
                  <a:lnTo>
                    <a:pt x="160" y="260"/>
                  </a:lnTo>
                  <a:lnTo>
                    <a:pt x="192" y="220"/>
                  </a:lnTo>
                  <a:lnTo>
                    <a:pt x="144" y="228"/>
                  </a:lnTo>
                  <a:lnTo>
                    <a:pt x="136" y="163"/>
                  </a:lnTo>
                  <a:lnTo>
                    <a:pt x="102" y="0"/>
                  </a:lnTo>
                  <a:lnTo>
                    <a:pt x="6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6760" y="5813640"/>
              <a:ext cx="474840" cy="350280"/>
            </a:xfrm>
            <a:custGeom>
              <a:avLst/>
              <a:gdLst/>
              <a:ahLst/>
              <a:rect l="l" t="t" r="r" b="b"/>
              <a:pathLst>
                <a:path w="3568" h="2346">
                  <a:moveTo>
                    <a:pt x="1057" y="311"/>
                  </a:moveTo>
                  <a:lnTo>
                    <a:pt x="1046" y="327"/>
                  </a:lnTo>
                  <a:lnTo>
                    <a:pt x="1039" y="399"/>
                  </a:lnTo>
                  <a:lnTo>
                    <a:pt x="1013" y="456"/>
                  </a:lnTo>
                  <a:lnTo>
                    <a:pt x="973" y="498"/>
                  </a:lnTo>
                  <a:lnTo>
                    <a:pt x="901" y="528"/>
                  </a:lnTo>
                  <a:lnTo>
                    <a:pt x="834" y="546"/>
                  </a:lnTo>
                  <a:lnTo>
                    <a:pt x="753" y="528"/>
                  </a:lnTo>
                  <a:lnTo>
                    <a:pt x="624" y="504"/>
                  </a:lnTo>
                  <a:lnTo>
                    <a:pt x="534" y="498"/>
                  </a:lnTo>
                  <a:lnTo>
                    <a:pt x="446" y="511"/>
                  </a:lnTo>
                  <a:lnTo>
                    <a:pt x="389" y="521"/>
                  </a:lnTo>
                  <a:lnTo>
                    <a:pt x="356" y="424"/>
                  </a:lnTo>
                  <a:lnTo>
                    <a:pt x="301" y="293"/>
                  </a:lnTo>
                  <a:lnTo>
                    <a:pt x="219" y="172"/>
                  </a:lnTo>
                  <a:lnTo>
                    <a:pt x="131" y="91"/>
                  </a:lnTo>
                  <a:lnTo>
                    <a:pt x="0" y="0"/>
                  </a:lnTo>
                  <a:lnTo>
                    <a:pt x="163" y="157"/>
                  </a:lnTo>
                  <a:lnTo>
                    <a:pt x="260" y="293"/>
                  </a:lnTo>
                  <a:lnTo>
                    <a:pt x="316" y="440"/>
                  </a:lnTo>
                  <a:lnTo>
                    <a:pt x="350" y="555"/>
                  </a:lnTo>
                  <a:lnTo>
                    <a:pt x="373" y="700"/>
                  </a:lnTo>
                  <a:lnTo>
                    <a:pt x="380" y="814"/>
                  </a:lnTo>
                  <a:lnTo>
                    <a:pt x="253" y="756"/>
                  </a:lnTo>
                  <a:lnTo>
                    <a:pt x="398" y="878"/>
                  </a:lnTo>
                  <a:lnTo>
                    <a:pt x="497" y="1032"/>
                  </a:lnTo>
                  <a:lnTo>
                    <a:pt x="567" y="1185"/>
                  </a:lnTo>
                  <a:lnTo>
                    <a:pt x="675" y="1471"/>
                  </a:lnTo>
                  <a:lnTo>
                    <a:pt x="753" y="1713"/>
                  </a:lnTo>
                  <a:lnTo>
                    <a:pt x="795" y="1827"/>
                  </a:lnTo>
                  <a:lnTo>
                    <a:pt x="850" y="1844"/>
                  </a:lnTo>
                  <a:lnTo>
                    <a:pt x="850" y="1924"/>
                  </a:lnTo>
                  <a:lnTo>
                    <a:pt x="947" y="1996"/>
                  </a:lnTo>
                  <a:lnTo>
                    <a:pt x="1007" y="2126"/>
                  </a:lnTo>
                  <a:lnTo>
                    <a:pt x="1184" y="2291"/>
                  </a:lnTo>
                  <a:lnTo>
                    <a:pt x="1378" y="2306"/>
                  </a:lnTo>
                  <a:lnTo>
                    <a:pt x="1404" y="2346"/>
                  </a:lnTo>
                  <a:lnTo>
                    <a:pt x="1727" y="2346"/>
                  </a:lnTo>
                  <a:lnTo>
                    <a:pt x="1775" y="2306"/>
                  </a:lnTo>
                  <a:lnTo>
                    <a:pt x="1938" y="2346"/>
                  </a:lnTo>
                  <a:lnTo>
                    <a:pt x="2846" y="2282"/>
                  </a:lnTo>
                  <a:lnTo>
                    <a:pt x="2888" y="2321"/>
                  </a:lnTo>
                  <a:lnTo>
                    <a:pt x="2984" y="2306"/>
                  </a:lnTo>
                  <a:lnTo>
                    <a:pt x="3252" y="2150"/>
                  </a:lnTo>
                  <a:lnTo>
                    <a:pt x="3552" y="1996"/>
                  </a:lnTo>
                  <a:lnTo>
                    <a:pt x="3568" y="1835"/>
                  </a:lnTo>
                  <a:lnTo>
                    <a:pt x="3527" y="1641"/>
                  </a:lnTo>
                  <a:lnTo>
                    <a:pt x="3534" y="1821"/>
                  </a:lnTo>
                  <a:lnTo>
                    <a:pt x="3520" y="1908"/>
                  </a:lnTo>
                  <a:lnTo>
                    <a:pt x="2791" y="1920"/>
                  </a:lnTo>
                  <a:lnTo>
                    <a:pt x="2692" y="1731"/>
                  </a:lnTo>
                  <a:lnTo>
                    <a:pt x="2692" y="1641"/>
                  </a:lnTo>
                  <a:lnTo>
                    <a:pt x="2757" y="1658"/>
                  </a:lnTo>
                  <a:lnTo>
                    <a:pt x="2683" y="1607"/>
                  </a:lnTo>
                  <a:lnTo>
                    <a:pt x="2653" y="1625"/>
                  </a:lnTo>
                  <a:lnTo>
                    <a:pt x="2538" y="1974"/>
                  </a:lnTo>
                  <a:lnTo>
                    <a:pt x="2432" y="1884"/>
                  </a:lnTo>
                  <a:lnTo>
                    <a:pt x="2344" y="1893"/>
                  </a:lnTo>
                  <a:lnTo>
                    <a:pt x="2384" y="1680"/>
                  </a:lnTo>
                  <a:lnTo>
                    <a:pt x="2296" y="1600"/>
                  </a:lnTo>
                  <a:lnTo>
                    <a:pt x="2068" y="1996"/>
                  </a:lnTo>
                  <a:lnTo>
                    <a:pt x="2077" y="1796"/>
                  </a:lnTo>
                  <a:lnTo>
                    <a:pt x="2141" y="1689"/>
                  </a:lnTo>
                  <a:lnTo>
                    <a:pt x="2149" y="1772"/>
                  </a:lnTo>
                  <a:lnTo>
                    <a:pt x="2189" y="1664"/>
                  </a:lnTo>
                  <a:lnTo>
                    <a:pt x="2141" y="1616"/>
                  </a:lnTo>
                  <a:lnTo>
                    <a:pt x="2061" y="1664"/>
                  </a:lnTo>
                  <a:lnTo>
                    <a:pt x="1899" y="1989"/>
                  </a:lnTo>
                  <a:lnTo>
                    <a:pt x="1798" y="1920"/>
                  </a:lnTo>
                  <a:lnTo>
                    <a:pt x="1962" y="1634"/>
                  </a:lnTo>
                  <a:lnTo>
                    <a:pt x="1987" y="1357"/>
                  </a:lnTo>
                  <a:lnTo>
                    <a:pt x="1859" y="1607"/>
                  </a:lnTo>
                  <a:lnTo>
                    <a:pt x="1263" y="952"/>
                  </a:lnTo>
                  <a:lnTo>
                    <a:pt x="1362" y="797"/>
                  </a:lnTo>
                  <a:lnTo>
                    <a:pt x="1160" y="480"/>
                  </a:lnTo>
                  <a:lnTo>
                    <a:pt x="1057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49800" y="5994000"/>
              <a:ext cx="132840" cy="119520"/>
            </a:xfrm>
            <a:custGeom>
              <a:avLst/>
              <a:gdLst/>
              <a:ahLst/>
              <a:rect l="l" t="t" r="r" b="b"/>
              <a:pathLst>
                <a:path w="1006" h="800">
                  <a:moveTo>
                    <a:pt x="132" y="261"/>
                  </a:moveTo>
                  <a:lnTo>
                    <a:pt x="162" y="327"/>
                  </a:lnTo>
                  <a:lnTo>
                    <a:pt x="182" y="408"/>
                  </a:lnTo>
                  <a:lnTo>
                    <a:pt x="182" y="481"/>
                  </a:lnTo>
                  <a:lnTo>
                    <a:pt x="178" y="574"/>
                  </a:lnTo>
                  <a:lnTo>
                    <a:pt x="160" y="637"/>
                  </a:lnTo>
                  <a:lnTo>
                    <a:pt x="147" y="676"/>
                  </a:lnTo>
                  <a:lnTo>
                    <a:pt x="136" y="696"/>
                  </a:lnTo>
                  <a:lnTo>
                    <a:pt x="7" y="698"/>
                  </a:lnTo>
                  <a:lnTo>
                    <a:pt x="0" y="791"/>
                  </a:lnTo>
                  <a:lnTo>
                    <a:pt x="77" y="768"/>
                  </a:lnTo>
                  <a:lnTo>
                    <a:pt x="118" y="775"/>
                  </a:lnTo>
                  <a:lnTo>
                    <a:pt x="153" y="800"/>
                  </a:lnTo>
                  <a:lnTo>
                    <a:pt x="176" y="703"/>
                  </a:lnTo>
                  <a:lnTo>
                    <a:pt x="399" y="676"/>
                  </a:lnTo>
                  <a:lnTo>
                    <a:pt x="609" y="634"/>
                  </a:lnTo>
                  <a:lnTo>
                    <a:pt x="743" y="593"/>
                  </a:lnTo>
                  <a:lnTo>
                    <a:pt x="865" y="551"/>
                  </a:lnTo>
                  <a:lnTo>
                    <a:pt x="927" y="525"/>
                  </a:lnTo>
                  <a:lnTo>
                    <a:pt x="964" y="461"/>
                  </a:lnTo>
                  <a:lnTo>
                    <a:pt x="957" y="431"/>
                  </a:lnTo>
                  <a:lnTo>
                    <a:pt x="1006" y="392"/>
                  </a:lnTo>
                  <a:lnTo>
                    <a:pt x="1006" y="346"/>
                  </a:lnTo>
                  <a:lnTo>
                    <a:pt x="989" y="305"/>
                  </a:lnTo>
                  <a:lnTo>
                    <a:pt x="808" y="235"/>
                  </a:lnTo>
                  <a:lnTo>
                    <a:pt x="982" y="307"/>
                  </a:lnTo>
                  <a:lnTo>
                    <a:pt x="995" y="355"/>
                  </a:lnTo>
                  <a:lnTo>
                    <a:pt x="978" y="392"/>
                  </a:lnTo>
                  <a:lnTo>
                    <a:pt x="934" y="426"/>
                  </a:lnTo>
                  <a:lnTo>
                    <a:pt x="844" y="415"/>
                  </a:lnTo>
                  <a:lnTo>
                    <a:pt x="883" y="470"/>
                  </a:lnTo>
                  <a:lnTo>
                    <a:pt x="865" y="527"/>
                  </a:lnTo>
                  <a:lnTo>
                    <a:pt x="664" y="606"/>
                  </a:lnTo>
                  <a:lnTo>
                    <a:pt x="521" y="643"/>
                  </a:lnTo>
                  <a:lnTo>
                    <a:pt x="386" y="666"/>
                  </a:lnTo>
                  <a:lnTo>
                    <a:pt x="261" y="674"/>
                  </a:lnTo>
                  <a:lnTo>
                    <a:pt x="415" y="637"/>
                  </a:lnTo>
                  <a:lnTo>
                    <a:pt x="582" y="577"/>
                  </a:lnTo>
                  <a:lnTo>
                    <a:pt x="701" y="529"/>
                  </a:lnTo>
                  <a:lnTo>
                    <a:pt x="738" y="503"/>
                  </a:lnTo>
                  <a:lnTo>
                    <a:pt x="738" y="475"/>
                  </a:lnTo>
                  <a:lnTo>
                    <a:pt x="718" y="448"/>
                  </a:lnTo>
                  <a:lnTo>
                    <a:pt x="683" y="424"/>
                  </a:lnTo>
                  <a:lnTo>
                    <a:pt x="672" y="395"/>
                  </a:lnTo>
                  <a:lnTo>
                    <a:pt x="701" y="382"/>
                  </a:lnTo>
                  <a:lnTo>
                    <a:pt x="738" y="334"/>
                  </a:lnTo>
                  <a:lnTo>
                    <a:pt x="727" y="290"/>
                  </a:lnTo>
                  <a:lnTo>
                    <a:pt x="708" y="263"/>
                  </a:lnTo>
                  <a:lnTo>
                    <a:pt x="678" y="239"/>
                  </a:lnTo>
                  <a:lnTo>
                    <a:pt x="718" y="200"/>
                  </a:lnTo>
                  <a:lnTo>
                    <a:pt x="734" y="136"/>
                  </a:lnTo>
                  <a:lnTo>
                    <a:pt x="716" y="92"/>
                  </a:lnTo>
                  <a:lnTo>
                    <a:pt x="696" y="78"/>
                  </a:lnTo>
                  <a:lnTo>
                    <a:pt x="678" y="65"/>
                  </a:lnTo>
                  <a:lnTo>
                    <a:pt x="667" y="28"/>
                  </a:lnTo>
                  <a:lnTo>
                    <a:pt x="630" y="6"/>
                  </a:lnTo>
                  <a:lnTo>
                    <a:pt x="602" y="0"/>
                  </a:lnTo>
                  <a:lnTo>
                    <a:pt x="582" y="0"/>
                  </a:lnTo>
                  <a:lnTo>
                    <a:pt x="473" y="50"/>
                  </a:lnTo>
                  <a:lnTo>
                    <a:pt x="303" y="177"/>
                  </a:lnTo>
                  <a:lnTo>
                    <a:pt x="206" y="239"/>
                  </a:lnTo>
                  <a:lnTo>
                    <a:pt x="132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042320" y="5989320"/>
              <a:ext cx="39240" cy="50040"/>
            </a:xfrm>
            <a:custGeom>
              <a:avLst/>
              <a:gdLst/>
              <a:ahLst/>
              <a:rect l="l" t="t" r="r" b="b"/>
              <a:pathLst>
                <a:path w="299" h="342">
                  <a:moveTo>
                    <a:pt x="185" y="78"/>
                  </a:moveTo>
                  <a:lnTo>
                    <a:pt x="245" y="136"/>
                  </a:lnTo>
                  <a:lnTo>
                    <a:pt x="273" y="192"/>
                  </a:lnTo>
                  <a:lnTo>
                    <a:pt x="273" y="219"/>
                  </a:lnTo>
                  <a:lnTo>
                    <a:pt x="295" y="245"/>
                  </a:lnTo>
                  <a:lnTo>
                    <a:pt x="299" y="293"/>
                  </a:lnTo>
                  <a:lnTo>
                    <a:pt x="295" y="327"/>
                  </a:lnTo>
                  <a:lnTo>
                    <a:pt x="277" y="342"/>
                  </a:lnTo>
                  <a:lnTo>
                    <a:pt x="261" y="335"/>
                  </a:lnTo>
                  <a:lnTo>
                    <a:pt x="277" y="316"/>
                  </a:lnTo>
                  <a:lnTo>
                    <a:pt x="277" y="272"/>
                  </a:lnTo>
                  <a:lnTo>
                    <a:pt x="261" y="243"/>
                  </a:lnTo>
                  <a:lnTo>
                    <a:pt x="236" y="219"/>
                  </a:lnTo>
                  <a:lnTo>
                    <a:pt x="38" y="102"/>
                  </a:lnTo>
                  <a:lnTo>
                    <a:pt x="252" y="210"/>
                  </a:lnTo>
                  <a:lnTo>
                    <a:pt x="240" y="164"/>
                  </a:lnTo>
                  <a:lnTo>
                    <a:pt x="206" y="122"/>
                  </a:lnTo>
                  <a:lnTo>
                    <a:pt x="152" y="81"/>
                  </a:lnTo>
                  <a:lnTo>
                    <a:pt x="68" y="32"/>
                  </a:lnTo>
                  <a:lnTo>
                    <a:pt x="0" y="0"/>
                  </a:lnTo>
                  <a:lnTo>
                    <a:pt x="123" y="43"/>
                  </a:lnTo>
                  <a:lnTo>
                    <a:pt x="18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21520" y="5757480"/>
              <a:ext cx="686520" cy="501840"/>
            </a:xfrm>
            <a:custGeom>
              <a:avLst/>
              <a:gdLst/>
              <a:ahLst/>
              <a:rect l="l" t="t" r="r" b="b"/>
              <a:pathLst>
                <a:path w="5155" h="3356">
                  <a:moveTo>
                    <a:pt x="1664" y="25"/>
                  </a:moveTo>
                  <a:lnTo>
                    <a:pt x="1547" y="176"/>
                  </a:lnTo>
                  <a:lnTo>
                    <a:pt x="1734" y="338"/>
                  </a:lnTo>
                  <a:lnTo>
                    <a:pt x="2048" y="737"/>
                  </a:lnTo>
                  <a:lnTo>
                    <a:pt x="2244" y="1073"/>
                  </a:lnTo>
                  <a:lnTo>
                    <a:pt x="2349" y="1235"/>
                  </a:lnTo>
                  <a:lnTo>
                    <a:pt x="1999" y="748"/>
                  </a:lnTo>
                  <a:lnTo>
                    <a:pt x="1734" y="479"/>
                  </a:lnTo>
                  <a:lnTo>
                    <a:pt x="1453" y="255"/>
                  </a:lnTo>
                  <a:lnTo>
                    <a:pt x="1363" y="223"/>
                  </a:lnTo>
                  <a:lnTo>
                    <a:pt x="1107" y="444"/>
                  </a:lnTo>
                  <a:lnTo>
                    <a:pt x="877" y="712"/>
                  </a:lnTo>
                  <a:lnTo>
                    <a:pt x="677" y="1004"/>
                  </a:lnTo>
                  <a:lnTo>
                    <a:pt x="620" y="1141"/>
                  </a:lnTo>
                  <a:lnTo>
                    <a:pt x="805" y="1562"/>
                  </a:lnTo>
                  <a:lnTo>
                    <a:pt x="980" y="1807"/>
                  </a:lnTo>
                  <a:lnTo>
                    <a:pt x="1153" y="1947"/>
                  </a:lnTo>
                  <a:lnTo>
                    <a:pt x="1317" y="2040"/>
                  </a:lnTo>
                  <a:lnTo>
                    <a:pt x="1453" y="1703"/>
                  </a:lnTo>
                  <a:lnTo>
                    <a:pt x="1628" y="1493"/>
                  </a:lnTo>
                  <a:lnTo>
                    <a:pt x="1767" y="1318"/>
                  </a:lnTo>
                  <a:lnTo>
                    <a:pt x="1999" y="1165"/>
                  </a:lnTo>
                  <a:lnTo>
                    <a:pt x="1780" y="1364"/>
                  </a:lnTo>
                  <a:lnTo>
                    <a:pt x="1653" y="1597"/>
                  </a:lnTo>
                  <a:lnTo>
                    <a:pt x="1593" y="1747"/>
                  </a:lnTo>
                  <a:lnTo>
                    <a:pt x="2176" y="1961"/>
                  </a:lnTo>
                  <a:lnTo>
                    <a:pt x="2709" y="2226"/>
                  </a:lnTo>
                  <a:lnTo>
                    <a:pt x="2709" y="2261"/>
                  </a:lnTo>
                  <a:lnTo>
                    <a:pt x="2244" y="2159"/>
                  </a:lnTo>
                  <a:lnTo>
                    <a:pt x="1861" y="2226"/>
                  </a:lnTo>
                  <a:lnTo>
                    <a:pt x="2105" y="2319"/>
                  </a:lnTo>
                  <a:lnTo>
                    <a:pt x="2349" y="2353"/>
                  </a:lnTo>
                  <a:lnTo>
                    <a:pt x="2607" y="2389"/>
                  </a:lnTo>
                  <a:lnTo>
                    <a:pt x="2723" y="2332"/>
                  </a:lnTo>
                  <a:lnTo>
                    <a:pt x="2409" y="2622"/>
                  </a:lnTo>
                  <a:lnTo>
                    <a:pt x="2840" y="2819"/>
                  </a:lnTo>
                  <a:lnTo>
                    <a:pt x="2896" y="2600"/>
                  </a:lnTo>
                  <a:lnTo>
                    <a:pt x="2919" y="2773"/>
                  </a:lnTo>
                  <a:lnTo>
                    <a:pt x="2919" y="2925"/>
                  </a:lnTo>
                  <a:lnTo>
                    <a:pt x="3223" y="3031"/>
                  </a:lnTo>
                  <a:lnTo>
                    <a:pt x="3270" y="2811"/>
                  </a:lnTo>
                  <a:lnTo>
                    <a:pt x="3318" y="2787"/>
                  </a:lnTo>
                  <a:lnTo>
                    <a:pt x="3352" y="2819"/>
                  </a:lnTo>
                  <a:lnTo>
                    <a:pt x="3362" y="2868"/>
                  </a:lnTo>
                  <a:lnTo>
                    <a:pt x="3456" y="3008"/>
                  </a:lnTo>
                  <a:lnTo>
                    <a:pt x="4048" y="3008"/>
                  </a:lnTo>
                  <a:lnTo>
                    <a:pt x="4655" y="2998"/>
                  </a:lnTo>
                  <a:lnTo>
                    <a:pt x="5052" y="2973"/>
                  </a:lnTo>
                  <a:lnTo>
                    <a:pt x="4763" y="2632"/>
                  </a:lnTo>
                  <a:lnTo>
                    <a:pt x="4809" y="2622"/>
                  </a:lnTo>
                  <a:lnTo>
                    <a:pt x="5143" y="2960"/>
                  </a:lnTo>
                  <a:lnTo>
                    <a:pt x="5155" y="3019"/>
                  </a:lnTo>
                  <a:lnTo>
                    <a:pt x="5109" y="3112"/>
                  </a:lnTo>
                  <a:lnTo>
                    <a:pt x="5017" y="3356"/>
                  </a:lnTo>
                  <a:lnTo>
                    <a:pt x="0" y="3356"/>
                  </a:lnTo>
                  <a:lnTo>
                    <a:pt x="152" y="2319"/>
                  </a:lnTo>
                  <a:lnTo>
                    <a:pt x="293" y="1655"/>
                  </a:lnTo>
                  <a:lnTo>
                    <a:pt x="466" y="1189"/>
                  </a:lnTo>
                  <a:lnTo>
                    <a:pt x="641" y="875"/>
                  </a:lnTo>
                  <a:lnTo>
                    <a:pt x="864" y="559"/>
                  </a:lnTo>
                  <a:lnTo>
                    <a:pt x="1118" y="304"/>
                  </a:lnTo>
                  <a:lnTo>
                    <a:pt x="1351" y="140"/>
                  </a:lnTo>
                  <a:lnTo>
                    <a:pt x="1488" y="140"/>
                  </a:lnTo>
                  <a:lnTo>
                    <a:pt x="1605" y="0"/>
                  </a:lnTo>
                  <a:lnTo>
                    <a:pt x="166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67040" y="6014520"/>
              <a:ext cx="125640" cy="81000"/>
            </a:xfrm>
            <a:custGeom>
              <a:avLst/>
              <a:gdLst/>
              <a:ahLst/>
              <a:rect l="l" t="t" r="r" b="b"/>
              <a:pathLst>
                <a:path w="945" h="547">
                  <a:moveTo>
                    <a:pt x="0" y="0"/>
                  </a:moveTo>
                  <a:lnTo>
                    <a:pt x="386" y="141"/>
                  </a:lnTo>
                  <a:lnTo>
                    <a:pt x="687" y="314"/>
                  </a:lnTo>
                  <a:lnTo>
                    <a:pt x="945" y="547"/>
                  </a:lnTo>
                  <a:lnTo>
                    <a:pt x="945" y="512"/>
                  </a:lnTo>
                  <a:lnTo>
                    <a:pt x="733" y="314"/>
                  </a:lnTo>
                  <a:lnTo>
                    <a:pt x="535" y="176"/>
                  </a:lnTo>
                  <a:lnTo>
                    <a:pt x="327" y="81"/>
                  </a:lnTo>
                  <a:lnTo>
                    <a:pt x="15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57000" y="6107760"/>
              <a:ext cx="42480" cy="107640"/>
            </a:xfrm>
            <a:custGeom>
              <a:avLst/>
              <a:gdLst/>
              <a:ahLst/>
              <a:rect l="l" t="t" r="r" b="b"/>
              <a:pathLst>
                <a:path w="319" h="718">
                  <a:moveTo>
                    <a:pt x="77" y="0"/>
                  </a:moveTo>
                  <a:lnTo>
                    <a:pt x="292" y="187"/>
                  </a:lnTo>
                  <a:lnTo>
                    <a:pt x="312" y="252"/>
                  </a:lnTo>
                  <a:lnTo>
                    <a:pt x="288" y="310"/>
                  </a:lnTo>
                  <a:lnTo>
                    <a:pt x="319" y="384"/>
                  </a:lnTo>
                  <a:lnTo>
                    <a:pt x="319" y="422"/>
                  </a:lnTo>
                  <a:lnTo>
                    <a:pt x="250" y="496"/>
                  </a:lnTo>
                  <a:lnTo>
                    <a:pt x="244" y="565"/>
                  </a:lnTo>
                  <a:lnTo>
                    <a:pt x="189" y="619"/>
                  </a:lnTo>
                  <a:lnTo>
                    <a:pt x="88" y="708"/>
                  </a:lnTo>
                  <a:lnTo>
                    <a:pt x="15" y="718"/>
                  </a:lnTo>
                  <a:lnTo>
                    <a:pt x="88" y="688"/>
                  </a:lnTo>
                  <a:lnTo>
                    <a:pt x="176" y="600"/>
                  </a:lnTo>
                  <a:lnTo>
                    <a:pt x="220" y="476"/>
                  </a:lnTo>
                  <a:lnTo>
                    <a:pt x="163" y="422"/>
                  </a:lnTo>
                  <a:lnTo>
                    <a:pt x="237" y="453"/>
                  </a:lnTo>
                  <a:lnTo>
                    <a:pt x="281" y="391"/>
                  </a:lnTo>
                  <a:lnTo>
                    <a:pt x="268" y="351"/>
                  </a:lnTo>
                  <a:lnTo>
                    <a:pt x="237" y="284"/>
                  </a:lnTo>
                  <a:lnTo>
                    <a:pt x="70" y="136"/>
                  </a:lnTo>
                  <a:lnTo>
                    <a:pt x="268" y="273"/>
                  </a:lnTo>
                  <a:lnTo>
                    <a:pt x="276" y="235"/>
                  </a:lnTo>
                  <a:lnTo>
                    <a:pt x="257" y="187"/>
                  </a:lnTo>
                  <a:lnTo>
                    <a:pt x="121" y="70"/>
                  </a:lnTo>
                  <a:lnTo>
                    <a:pt x="57" y="10"/>
                  </a:lnTo>
                  <a:lnTo>
                    <a:pt x="0" y="0"/>
                  </a:lnTo>
                  <a:lnTo>
                    <a:pt x="5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99760" y="6167520"/>
              <a:ext cx="78480" cy="57240"/>
            </a:xfrm>
            <a:custGeom>
              <a:avLst/>
              <a:gdLst/>
              <a:ahLst/>
              <a:rect l="l" t="t" r="r" b="b"/>
              <a:pathLst>
                <a:path w="596" h="385">
                  <a:moveTo>
                    <a:pt x="20" y="348"/>
                  </a:moveTo>
                  <a:lnTo>
                    <a:pt x="165" y="358"/>
                  </a:lnTo>
                  <a:lnTo>
                    <a:pt x="330" y="355"/>
                  </a:lnTo>
                  <a:lnTo>
                    <a:pt x="422" y="330"/>
                  </a:lnTo>
                  <a:lnTo>
                    <a:pt x="462" y="297"/>
                  </a:lnTo>
                  <a:lnTo>
                    <a:pt x="497" y="229"/>
                  </a:lnTo>
                  <a:lnTo>
                    <a:pt x="503" y="168"/>
                  </a:lnTo>
                  <a:lnTo>
                    <a:pt x="479" y="123"/>
                  </a:lnTo>
                  <a:lnTo>
                    <a:pt x="529" y="76"/>
                  </a:lnTo>
                  <a:lnTo>
                    <a:pt x="529" y="0"/>
                  </a:lnTo>
                  <a:lnTo>
                    <a:pt x="547" y="76"/>
                  </a:lnTo>
                  <a:lnTo>
                    <a:pt x="510" y="137"/>
                  </a:lnTo>
                  <a:lnTo>
                    <a:pt x="521" y="180"/>
                  </a:lnTo>
                  <a:lnTo>
                    <a:pt x="510" y="249"/>
                  </a:lnTo>
                  <a:lnTo>
                    <a:pt x="596" y="216"/>
                  </a:lnTo>
                  <a:lnTo>
                    <a:pt x="534" y="297"/>
                  </a:lnTo>
                  <a:lnTo>
                    <a:pt x="462" y="330"/>
                  </a:lnTo>
                  <a:lnTo>
                    <a:pt x="349" y="372"/>
                  </a:lnTo>
                  <a:lnTo>
                    <a:pt x="229" y="378"/>
                  </a:lnTo>
                  <a:lnTo>
                    <a:pt x="125" y="385"/>
                  </a:lnTo>
                  <a:lnTo>
                    <a:pt x="0" y="372"/>
                  </a:lnTo>
                  <a:lnTo>
                    <a:pt x="20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4440" y="6194880"/>
              <a:ext cx="230040" cy="64440"/>
            </a:xfrm>
            <a:custGeom>
              <a:avLst/>
              <a:gdLst/>
              <a:ahLst/>
              <a:rect l="l" t="t" r="r" b="b"/>
              <a:pathLst>
                <a:path w="1731" h="431">
                  <a:moveTo>
                    <a:pt x="0" y="431"/>
                  </a:moveTo>
                  <a:lnTo>
                    <a:pt x="1731" y="0"/>
                  </a:lnTo>
                  <a:lnTo>
                    <a:pt x="1731" y="57"/>
                  </a:lnTo>
                  <a:lnTo>
                    <a:pt x="295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5520" y="6158880"/>
              <a:ext cx="228600" cy="36000"/>
            </a:xfrm>
            <a:custGeom>
              <a:avLst/>
              <a:gdLst/>
              <a:ahLst/>
              <a:rect l="l" t="t" r="r" b="b"/>
              <a:pathLst>
                <a:path w="1719" h="242">
                  <a:moveTo>
                    <a:pt x="1719" y="242"/>
                  </a:moveTo>
                  <a:lnTo>
                    <a:pt x="596" y="0"/>
                  </a:lnTo>
                  <a:lnTo>
                    <a:pt x="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72120" y="6076440"/>
              <a:ext cx="255240" cy="41400"/>
            </a:xfrm>
            <a:custGeom>
              <a:avLst/>
              <a:gdLst/>
              <a:ahLst/>
              <a:rect l="l" t="t" r="r" b="b"/>
              <a:pathLst>
                <a:path w="1914" h="281">
                  <a:moveTo>
                    <a:pt x="0" y="253"/>
                  </a:moveTo>
                  <a:lnTo>
                    <a:pt x="1914" y="0"/>
                  </a:lnTo>
                  <a:lnTo>
                    <a:pt x="1914" y="25"/>
                  </a:lnTo>
                  <a:lnTo>
                    <a:pt x="24" y="281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081920" y="6046920"/>
              <a:ext cx="145800" cy="29520"/>
            </a:xfrm>
            <a:custGeom>
              <a:avLst/>
              <a:gdLst/>
              <a:ahLst/>
              <a:rect l="l" t="t" r="r" b="b"/>
              <a:pathLst>
                <a:path w="1095" h="200">
                  <a:moveTo>
                    <a:pt x="1095" y="200"/>
                  </a:moveTo>
                  <a:lnTo>
                    <a:pt x="234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077240" y="5958360"/>
              <a:ext cx="219240" cy="64440"/>
            </a:xfrm>
            <a:custGeom>
              <a:avLst/>
              <a:gdLst/>
              <a:ahLst/>
              <a:rect l="l" t="t" r="r" b="b"/>
              <a:pathLst>
                <a:path w="1655" h="433">
                  <a:moveTo>
                    <a:pt x="0" y="360"/>
                  </a:moveTo>
                  <a:lnTo>
                    <a:pt x="1097" y="433"/>
                  </a:lnTo>
                  <a:lnTo>
                    <a:pt x="1655" y="90"/>
                  </a:lnTo>
                  <a:lnTo>
                    <a:pt x="6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0240" y="5579280"/>
              <a:ext cx="42480" cy="5760"/>
            </a:xfrm>
            <a:custGeom>
              <a:avLst/>
              <a:gdLst/>
              <a:ahLst/>
              <a:rect l="l" t="t" r="r" b="b"/>
              <a:pathLst>
                <a:path w="321" h="44">
                  <a:moveTo>
                    <a:pt x="0" y="44"/>
                  </a:moveTo>
                  <a:lnTo>
                    <a:pt x="21" y="21"/>
                  </a:lnTo>
                  <a:lnTo>
                    <a:pt x="68" y="4"/>
                  </a:lnTo>
                  <a:lnTo>
                    <a:pt x="105" y="0"/>
                  </a:lnTo>
                  <a:lnTo>
                    <a:pt x="160" y="4"/>
                  </a:lnTo>
                  <a:lnTo>
                    <a:pt x="259" y="13"/>
                  </a:lnTo>
                  <a:lnTo>
                    <a:pt x="32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83480" y="5568480"/>
              <a:ext cx="32760" cy="3240"/>
            </a:xfrm>
            <a:custGeom>
              <a:avLst/>
              <a:gdLst/>
              <a:ahLst/>
              <a:rect l="l" t="t" r="r" b="b"/>
              <a:pathLst>
                <a:path w="244" h="23">
                  <a:moveTo>
                    <a:pt x="0" y="23"/>
                  </a:moveTo>
                  <a:lnTo>
                    <a:pt x="32" y="11"/>
                  </a:lnTo>
                  <a:lnTo>
                    <a:pt x="81" y="0"/>
                  </a:lnTo>
                  <a:lnTo>
                    <a:pt x="125" y="0"/>
                  </a:lnTo>
                  <a:lnTo>
                    <a:pt x="24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190280" y="5941440"/>
              <a:ext cx="18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62320" y="5249520"/>
              <a:ext cx="441720" cy="164520"/>
            </a:xfrm>
            <a:custGeom>
              <a:avLst/>
              <a:gdLst/>
              <a:ahLst/>
              <a:rect l="l" t="t" r="r" b="b"/>
              <a:pathLst>
                <a:path w="3312" h="1109">
                  <a:moveTo>
                    <a:pt x="0" y="1109"/>
                  </a:moveTo>
                  <a:lnTo>
                    <a:pt x="0" y="0"/>
                  </a:lnTo>
                  <a:lnTo>
                    <a:pt x="33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325640" y="5346000"/>
              <a:ext cx="720" cy="5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59160" y="5878080"/>
              <a:ext cx="139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163640" y="5878080"/>
              <a:ext cx="162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74360" y="5185800"/>
              <a:ext cx="37080" cy="61920"/>
            </a:xfrm>
            <a:custGeom>
              <a:avLst/>
              <a:gdLst/>
              <a:ahLst/>
              <a:rect l="l" t="t" r="r" b="b"/>
              <a:pathLst>
                <a:path w="277" h="422">
                  <a:moveTo>
                    <a:pt x="0" y="422"/>
                  </a:moveTo>
                  <a:lnTo>
                    <a:pt x="277" y="422"/>
                  </a:lnTo>
                  <a:lnTo>
                    <a:pt x="252" y="0"/>
                  </a:lnTo>
                  <a:lnTo>
                    <a:pt x="24" y="0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41240" y="5878080"/>
              <a:ext cx="58680" cy="22680"/>
            </a:xfrm>
            <a:custGeom>
              <a:avLst/>
              <a:gdLst/>
              <a:ahLst/>
              <a:rect l="l" t="t" r="r" b="b"/>
              <a:pathLst>
                <a:path w="443" h="145">
                  <a:moveTo>
                    <a:pt x="5" y="0"/>
                  </a:moveTo>
                  <a:lnTo>
                    <a:pt x="0" y="112"/>
                  </a:lnTo>
                  <a:lnTo>
                    <a:pt x="81" y="128"/>
                  </a:lnTo>
                  <a:lnTo>
                    <a:pt x="245" y="143"/>
                  </a:lnTo>
                  <a:lnTo>
                    <a:pt x="332" y="145"/>
                  </a:lnTo>
                  <a:lnTo>
                    <a:pt x="399" y="77"/>
                  </a:lnTo>
                  <a:lnTo>
                    <a:pt x="443" y="48"/>
                  </a:lnTo>
                  <a:lnTo>
                    <a:pt x="4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57000" y="5337720"/>
              <a:ext cx="272520" cy="312840"/>
            </a:xfrm>
            <a:custGeom>
              <a:avLst/>
              <a:gdLst/>
              <a:ahLst/>
              <a:rect l="l" t="t" r="r" b="b"/>
              <a:pathLst>
                <a:path w="2046" h="2093">
                  <a:moveTo>
                    <a:pt x="172" y="1683"/>
                  </a:moveTo>
                  <a:lnTo>
                    <a:pt x="222" y="1745"/>
                  </a:lnTo>
                  <a:lnTo>
                    <a:pt x="279" y="1800"/>
                  </a:lnTo>
                  <a:lnTo>
                    <a:pt x="338" y="1853"/>
                  </a:lnTo>
                  <a:lnTo>
                    <a:pt x="402" y="1902"/>
                  </a:lnTo>
                  <a:lnTo>
                    <a:pt x="465" y="1946"/>
                  </a:lnTo>
                  <a:lnTo>
                    <a:pt x="534" y="1983"/>
                  </a:lnTo>
                  <a:lnTo>
                    <a:pt x="608" y="2015"/>
                  </a:lnTo>
                  <a:lnTo>
                    <a:pt x="681" y="2042"/>
                  </a:lnTo>
                  <a:lnTo>
                    <a:pt x="758" y="2061"/>
                  </a:lnTo>
                  <a:lnTo>
                    <a:pt x="835" y="2079"/>
                  </a:lnTo>
                  <a:lnTo>
                    <a:pt x="912" y="2088"/>
                  </a:lnTo>
                  <a:lnTo>
                    <a:pt x="993" y="2093"/>
                  </a:lnTo>
                  <a:lnTo>
                    <a:pt x="1071" y="2088"/>
                  </a:lnTo>
                  <a:lnTo>
                    <a:pt x="1149" y="2079"/>
                  </a:lnTo>
                  <a:lnTo>
                    <a:pt x="1226" y="2066"/>
                  </a:lnTo>
                  <a:lnTo>
                    <a:pt x="1303" y="2045"/>
                  </a:lnTo>
                  <a:lnTo>
                    <a:pt x="1378" y="2020"/>
                  </a:lnTo>
                  <a:lnTo>
                    <a:pt x="1450" y="1989"/>
                  </a:lnTo>
                  <a:lnTo>
                    <a:pt x="1521" y="1952"/>
                  </a:lnTo>
                  <a:lnTo>
                    <a:pt x="1589" y="1911"/>
                  </a:lnTo>
                  <a:lnTo>
                    <a:pt x="1652" y="1862"/>
                  </a:lnTo>
                  <a:lnTo>
                    <a:pt x="1712" y="1814"/>
                  </a:lnTo>
                  <a:lnTo>
                    <a:pt x="1767" y="1757"/>
                  </a:lnTo>
                  <a:lnTo>
                    <a:pt x="1820" y="1697"/>
                  </a:lnTo>
                  <a:lnTo>
                    <a:pt x="1866" y="1634"/>
                  </a:lnTo>
                  <a:lnTo>
                    <a:pt x="1908" y="1568"/>
                  </a:lnTo>
                  <a:lnTo>
                    <a:pt x="1943" y="1497"/>
                  </a:lnTo>
                  <a:lnTo>
                    <a:pt x="1975" y="1425"/>
                  </a:lnTo>
                  <a:lnTo>
                    <a:pt x="2002" y="1350"/>
                  </a:lnTo>
                  <a:lnTo>
                    <a:pt x="2019" y="1273"/>
                  </a:lnTo>
                  <a:lnTo>
                    <a:pt x="2035" y="1194"/>
                  </a:lnTo>
                  <a:lnTo>
                    <a:pt x="2044" y="1118"/>
                  </a:lnTo>
                  <a:lnTo>
                    <a:pt x="2046" y="1038"/>
                  </a:lnTo>
                  <a:lnTo>
                    <a:pt x="2042" y="961"/>
                  </a:lnTo>
                  <a:lnTo>
                    <a:pt x="2033" y="880"/>
                  </a:lnTo>
                  <a:lnTo>
                    <a:pt x="2017" y="805"/>
                  </a:lnTo>
                  <a:lnTo>
                    <a:pt x="1995" y="728"/>
                  </a:lnTo>
                  <a:lnTo>
                    <a:pt x="1968" y="653"/>
                  </a:lnTo>
                  <a:lnTo>
                    <a:pt x="1938" y="581"/>
                  </a:lnTo>
                  <a:lnTo>
                    <a:pt x="1899" y="512"/>
                  </a:lnTo>
                  <a:lnTo>
                    <a:pt x="1857" y="447"/>
                  </a:lnTo>
                  <a:lnTo>
                    <a:pt x="1811" y="383"/>
                  </a:lnTo>
                  <a:lnTo>
                    <a:pt x="1758" y="323"/>
                  </a:lnTo>
                  <a:lnTo>
                    <a:pt x="1701" y="269"/>
                  </a:lnTo>
                  <a:lnTo>
                    <a:pt x="1639" y="219"/>
                  </a:lnTo>
                  <a:lnTo>
                    <a:pt x="1576" y="175"/>
                  </a:lnTo>
                  <a:lnTo>
                    <a:pt x="1507" y="132"/>
                  </a:lnTo>
                  <a:lnTo>
                    <a:pt x="1437" y="95"/>
                  </a:lnTo>
                  <a:lnTo>
                    <a:pt x="1364" y="64"/>
                  </a:lnTo>
                  <a:lnTo>
                    <a:pt x="1290" y="40"/>
                  </a:lnTo>
                  <a:lnTo>
                    <a:pt x="1216" y="23"/>
                  </a:lnTo>
                  <a:lnTo>
                    <a:pt x="1136" y="7"/>
                  </a:lnTo>
                  <a:lnTo>
                    <a:pt x="1057" y="3"/>
                  </a:lnTo>
                  <a:lnTo>
                    <a:pt x="978" y="0"/>
                  </a:lnTo>
                  <a:lnTo>
                    <a:pt x="898" y="3"/>
                  </a:lnTo>
                  <a:lnTo>
                    <a:pt x="822" y="16"/>
                  </a:lnTo>
                  <a:lnTo>
                    <a:pt x="743" y="32"/>
                  </a:lnTo>
                  <a:lnTo>
                    <a:pt x="668" y="53"/>
                  </a:lnTo>
                  <a:lnTo>
                    <a:pt x="596" y="82"/>
                  </a:lnTo>
                  <a:lnTo>
                    <a:pt x="523" y="115"/>
                  </a:lnTo>
                  <a:lnTo>
                    <a:pt x="455" y="152"/>
                  </a:lnTo>
                  <a:lnTo>
                    <a:pt x="389" y="198"/>
                  </a:lnTo>
                  <a:lnTo>
                    <a:pt x="327" y="247"/>
                  </a:lnTo>
                  <a:lnTo>
                    <a:pt x="268" y="297"/>
                  </a:lnTo>
                  <a:lnTo>
                    <a:pt x="213" y="357"/>
                  </a:lnTo>
                  <a:lnTo>
                    <a:pt x="165" y="415"/>
                  </a:lnTo>
                  <a:lnTo>
                    <a:pt x="121" y="482"/>
                  </a:lnTo>
                  <a:lnTo>
                    <a:pt x="79" y="550"/>
                  </a:lnTo>
                  <a:lnTo>
                    <a:pt x="43" y="623"/>
                  </a:lnTo>
                  <a:lnTo>
                    <a:pt x="15" y="696"/>
                  </a:lnTo>
                  <a:lnTo>
                    <a:pt x="0" y="7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90200" y="5336640"/>
              <a:ext cx="42480" cy="304560"/>
            </a:xfrm>
            <a:custGeom>
              <a:avLst/>
              <a:gdLst/>
              <a:ahLst/>
              <a:rect l="l" t="t" r="r" b="b"/>
              <a:pathLst>
                <a:path w="323" h="2035">
                  <a:moveTo>
                    <a:pt x="0" y="0"/>
                  </a:moveTo>
                  <a:lnTo>
                    <a:pt x="0" y="1048"/>
                  </a:lnTo>
                  <a:lnTo>
                    <a:pt x="323" y="20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73200" y="5493240"/>
              <a:ext cx="117000" cy="120600"/>
            </a:xfrm>
            <a:custGeom>
              <a:avLst/>
              <a:gdLst/>
              <a:ahLst/>
              <a:rect l="l" t="t" r="r" b="b"/>
              <a:pathLst>
                <a:path w="883" h="802">
                  <a:moveTo>
                    <a:pt x="217" y="802"/>
                  </a:moveTo>
                  <a:lnTo>
                    <a:pt x="883" y="0"/>
                  </a:lnTo>
                  <a:lnTo>
                    <a:pt x="0" y="1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82920" y="5472720"/>
              <a:ext cx="1072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59160" y="5713200"/>
              <a:ext cx="27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59160" y="5732280"/>
              <a:ext cx="27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59160" y="5751360"/>
              <a:ext cx="27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59160" y="5770440"/>
              <a:ext cx="27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59160" y="5790960"/>
              <a:ext cx="27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453440" y="5946120"/>
              <a:ext cx="36000" cy="37080"/>
            </a:xfrm>
            <a:custGeom>
              <a:avLst/>
              <a:gdLst/>
              <a:ahLst/>
              <a:rect l="l" t="t" r="r" b="b"/>
              <a:pathLst>
                <a:path w="270" h="245">
                  <a:moveTo>
                    <a:pt x="7" y="70"/>
                  </a:moveTo>
                  <a:lnTo>
                    <a:pt x="0" y="109"/>
                  </a:lnTo>
                  <a:lnTo>
                    <a:pt x="5" y="147"/>
                  </a:lnTo>
                  <a:lnTo>
                    <a:pt x="18" y="182"/>
                  </a:lnTo>
                  <a:lnTo>
                    <a:pt x="35" y="208"/>
                  </a:lnTo>
                  <a:lnTo>
                    <a:pt x="70" y="233"/>
                  </a:lnTo>
                  <a:lnTo>
                    <a:pt x="125" y="245"/>
                  </a:lnTo>
                  <a:lnTo>
                    <a:pt x="171" y="243"/>
                  </a:lnTo>
                  <a:lnTo>
                    <a:pt x="215" y="230"/>
                  </a:lnTo>
                  <a:lnTo>
                    <a:pt x="251" y="203"/>
                  </a:lnTo>
                  <a:lnTo>
                    <a:pt x="266" y="153"/>
                  </a:lnTo>
                  <a:lnTo>
                    <a:pt x="270" y="100"/>
                  </a:lnTo>
                  <a:lnTo>
                    <a:pt x="261" y="56"/>
                  </a:lnTo>
                  <a:lnTo>
                    <a:pt x="242" y="26"/>
                  </a:lnTo>
                  <a:lnTo>
                    <a:pt x="218" y="0"/>
                  </a:lnTo>
                  <a:lnTo>
                    <a:pt x="249" y="39"/>
                  </a:lnTo>
                  <a:lnTo>
                    <a:pt x="264" y="94"/>
                  </a:lnTo>
                  <a:lnTo>
                    <a:pt x="264" y="131"/>
                  </a:lnTo>
                  <a:lnTo>
                    <a:pt x="255" y="173"/>
                  </a:lnTo>
                  <a:lnTo>
                    <a:pt x="240" y="199"/>
                  </a:lnTo>
                  <a:lnTo>
                    <a:pt x="207" y="226"/>
                  </a:lnTo>
                  <a:lnTo>
                    <a:pt x="167" y="239"/>
                  </a:lnTo>
                  <a:lnTo>
                    <a:pt x="128" y="241"/>
                  </a:lnTo>
                  <a:lnTo>
                    <a:pt x="75" y="230"/>
                  </a:lnTo>
                  <a:lnTo>
                    <a:pt x="42" y="206"/>
                  </a:lnTo>
                  <a:lnTo>
                    <a:pt x="21" y="178"/>
                  </a:lnTo>
                  <a:lnTo>
                    <a:pt x="9" y="145"/>
                  </a:lnTo>
                  <a:lnTo>
                    <a:pt x="5" y="109"/>
                  </a:lnTo>
                  <a:lnTo>
                    <a:pt x="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456680" y="5943960"/>
              <a:ext cx="10440" cy="68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0" y="53"/>
                  </a:moveTo>
                  <a:lnTo>
                    <a:pt x="24" y="21"/>
                  </a:lnTo>
                  <a:lnTo>
                    <a:pt x="75" y="0"/>
                  </a:lnTo>
                  <a:lnTo>
                    <a:pt x="33" y="21"/>
                  </a:lnTo>
                  <a:lnTo>
                    <a:pt x="13" y="3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456680" y="5946120"/>
              <a:ext cx="30600" cy="33480"/>
            </a:xfrm>
            <a:custGeom>
              <a:avLst/>
              <a:gdLst/>
              <a:ahLst/>
              <a:rect l="l" t="t" r="r" b="b"/>
              <a:pathLst>
                <a:path w="232" h="224">
                  <a:moveTo>
                    <a:pt x="2" y="63"/>
                  </a:moveTo>
                  <a:lnTo>
                    <a:pt x="42" y="46"/>
                  </a:lnTo>
                  <a:lnTo>
                    <a:pt x="97" y="39"/>
                  </a:lnTo>
                  <a:lnTo>
                    <a:pt x="145" y="52"/>
                  </a:lnTo>
                  <a:lnTo>
                    <a:pt x="176" y="77"/>
                  </a:lnTo>
                  <a:lnTo>
                    <a:pt x="191" y="105"/>
                  </a:lnTo>
                  <a:lnTo>
                    <a:pt x="193" y="143"/>
                  </a:lnTo>
                  <a:lnTo>
                    <a:pt x="214" y="86"/>
                  </a:lnTo>
                  <a:lnTo>
                    <a:pt x="218" y="116"/>
                  </a:lnTo>
                  <a:lnTo>
                    <a:pt x="218" y="143"/>
                  </a:lnTo>
                  <a:lnTo>
                    <a:pt x="209" y="158"/>
                  </a:lnTo>
                  <a:lnTo>
                    <a:pt x="196" y="178"/>
                  </a:lnTo>
                  <a:lnTo>
                    <a:pt x="174" y="195"/>
                  </a:lnTo>
                  <a:lnTo>
                    <a:pt x="147" y="208"/>
                  </a:lnTo>
                  <a:lnTo>
                    <a:pt x="119" y="217"/>
                  </a:lnTo>
                  <a:lnTo>
                    <a:pt x="94" y="217"/>
                  </a:lnTo>
                  <a:lnTo>
                    <a:pt x="59" y="208"/>
                  </a:lnTo>
                  <a:lnTo>
                    <a:pt x="42" y="197"/>
                  </a:lnTo>
                  <a:lnTo>
                    <a:pt x="18" y="180"/>
                  </a:lnTo>
                  <a:lnTo>
                    <a:pt x="0" y="153"/>
                  </a:lnTo>
                  <a:lnTo>
                    <a:pt x="33" y="195"/>
                  </a:lnTo>
                  <a:lnTo>
                    <a:pt x="55" y="213"/>
                  </a:lnTo>
                  <a:lnTo>
                    <a:pt x="92" y="224"/>
                  </a:lnTo>
                  <a:lnTo>
                    <a:pt x="145" y="217"/>
                  </a:lnTo>
                  <a:lnTo>
                    <a:pt x="187" y="204"/>
                  </a:lnTo>
                  <a:lnTo>
                    <a:pt x="218" y="169"/>
                  </a:lnTo>
                  <a:lnTo>
                    <a:pt x="232" y="123"/>
                  </a:lnTo>
                  <a:lnTo>
                    <a:pt x="229" y="83"/>
                  </a:lnTo>
                  <a:lnTo>
                    <a:pt x="209" y="46"/>
                  </a:lnTo>
                  <a:lnTo>
                    <a:pt x="170" y="10"/>
                  </a:lnTo>
                  <a:lnTo>
                    <a:pt x="133" y="0"/>
                  </a:lnTo>
                  <a:lnTo>
                    <a:pt x="94" y="0"/>
                  </a:lnTo>
                  <a:lnTo>
                    <a:pt x="55" y="8"/>
                  </a:lnTo>
                  <a:lnTo>
                    <a:pt x="24" y="3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642960" y="5237280"/>
            <a:ext cx="1600200" cy="990360"/>
            <a:chOff x="642960" y="5237280"/>
            <a:chExt cx="1600200" cy="990360"/>
          </a:xfrm>
        </p:grpSpPr>
        <p:sp>
          <p:nvSpPr>
            <p:cNvPr id="1580" name=""/>
            <p:cNvSpPr/>
            <p:nvPr/>
          </p:nvSpPr>
          <p:spPr>
            <a:xfrm>
              <a:off x="1039680" y="5570640"/>
              <a:ext cx="247680" cy="253800"/>
            </a:xfrm>
            <a:custGeom>
              <a:avLst/>
              <a:gdLst/>
              <a:ahLst/>
              <a:rect l="l" t="t" r="r" b="b"/>
              <a:pathLst>
                <a:path w="2602" h="3140">
                  <a:moveTo>
                    <a:pt x="0" y="815"/>
                  </a:moveTo>
                  <a:lnTo>
                    <a:pt x="592" y="0"/>
                  </a:lnTo>
                  <a:lnTo>
                    <a:pt x="981" y="713"/>
                  </a:lnTo>
                  <a:lnTo>
                    <a:pt x="2167" y="311"/>
                  </a:lnTo>
                  <a:lnTo>
                    <a:pt x="1414" y="1620"/>
                  </a:lnTo>
                  <a:lnTo>
                    <a:pt x="2602" y="1877"/>
                  </a:lnTo>
                  <a:lnTo>
                    <a:pt x="2116" y="3140"/>
                  </a:lnTo>
                  <a:lnTo>
                    <a:pt x="1457" y="3032"/>
                  </a:lnTo>
                  <a:lnTo>
                    <a:pt x="1368" y="1977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42960" y="5538960"/>
              <a:ext cx="631800" cy="460080"/>
            </a:xfrm>
            <a:custGeom>
              <a:avLst/>
              <a:gdLst/>
              <a:ahLst/>
              <a:rect l="l" t="t" r="r" b="b"/>
              <a:pathLst>
                <a:path w="6647" h="5703">
                  <a:moveTo>
                    <a:pt x="3230" y="0"/>
                  </a:moveTo>
                  <a:lnTo>
                    <a:pt x="1928" y="1056"/>
                  </a:lnTo>
                  <a:lnTo>
                    <a:pt x="1102" y="2223"/>
                  </a:lnTo>
                  <a:lnTo>
                    <a:pt x="395" y="3592"/>
                  </a:lnTo>
                  <a:lnTo>
                    <a:pt x="0" y="5097"/>
                  </a:lnTo>
                  <a:lnTo>
                    <a:pt x="993" y="5601"/>
                  </a:lnTo>
                  <a:lnTo>
                    <a:pt x="2408" y="5703"/>
                  </a:lnTo>
                  <a:lnTo>
                    <a:pt x="3812" y="5403"/>
                  </a:lnTo>
                  <a:lnTo>
                    <a:pt x="3897" y="3941"/>
                  </a:lnTo>
                  <a:lnTo>
                    <a:pt x="4216" y="3025"/>
                  </a:lnTo>
                  <a:lnTo>
                    <a:pt x="5861" y="3890"/>
                  </a:lnTo>
                  <a:lnTo>
                    <a:pt x="5945" y="3177"/>
                  </a:lnTo>
                  <a:lnTo>
                    <a:pt x="6647" y="2223"/>
                  </a:lnTo>
                  <a:lnTo>
                    <a:pt x="5471" y="1871"/>
                  </a:lnTo>
                  <a:lnTo>
                    <a:pt x="4333" y="1161"/>
                  </a:lnTo>
                  <a:lnTo>
                    <a:pt x="4405" y="905"/>
                  </a:lnTo>
                  <a:lnTo>
                    <a:pt x="3778" y="252"/>
                  </a:lnTo>
                  <a:lnTo>
                    <a:pt x="32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2920" y="5637240"/>
              <a:ext cx="233640" cy="293760"/>
            </a:xfrm>
            <a:custGeom>
              <a:avLst/>
              <a:gdLst/>
              <a:ahLst/>
              <a:rect l="l" t="t" r="r" b="b"/>
              <a:pathLst>
                <a:path w="2435" h="3638">
                  <a:moveTo>
                    <a:pt x="668" y="0"/>
                  </a:moveTo>
                  <a:lnTo>
                    <a:pt x="942" y="1062"/>
                  </a:lnTo>
                  <a:lnTo>
                    <a:pt x="2435" y="1910"/>
                  </a:lnTo>
                  <a:lnTo>
                    <a:pt x="2205" y="2380"/>
                  </a:lnTo>
                  <a:lnTo>
                    <a:pt x="1970" y="2267"/>
                  </a:lnTo>
                  <a:lnTo>
                    <a:pt x="1416" y="3638"/>
                  </a:lnTo>
                  <a:lnTo>
                    <a:pt x="1031" y="3029"/>
                  </a:lnTo>
                  <a:lnTo>
                    <a:pt x="1694" y="2128"/>
                  </a:lnTo>
                  <a:lnTo>
                    <a:pt x="632" y="1713"/>
                  </a:lnTo>
                  <a:lnTo>
                    <a:pt x="0" y="856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87400" y="5237280"/>
              <a:ext cx="458640" cy="333360"/>
            </a:xfrm>
            <a:custGeom>
              <a:avLst/>
              <a:gdLst/>
              <a:ahLst/>
              <a:rect l="l" t="t" r="r" b="b"/>
              <a:pathLst>
                <a:path w="4830" h="4136">
                  <a:moveTo>
                    <a:pt x="3612" y="393"/>
                  </a:moveTo>
                  <a:lnTo>
                    <a:pt x="3181" y="141"/>
                  </a:lnTo>
                  <a:lnTo>
                    <a:pt x="1493" y="804"/>
                  </a:lnTo>
                  <a:lnTo>
                    <a:pt x="388" y="2067"/>
                  </a:lnTo>
                  <a:lnTo>
                    <a:pt x="0" y="3034"/>
                  </a:lnTo>
                  <a:lnTo>
                    <a:pt x="1334" y="4136"/>
                  </a:lnTo>
                  <a:lnTo>
                    <a:pt x="2157" y="4136"/>
                  </a:lnTo>
                  <a:lnTo>
                    <a:pt x="3693" y="955"/>
                  </a:lnTo>
                  <a:lnTo>
                    <a:pt x="4281" y="506"/>
                  </a:lnTo>
                  <a:lnTo>
                    <a:pt x="4515" y="653"/>
                  </a:lnTo>
                  <a:lnTo>
                    <a:pt x="4561" y="1010"/>
                  </a:lnTo>
                  <a:lnTo>
                    <a:pt x="4830" y="653"/>
                  </a:lnTo>
                  <a:lnTo>
                    <a:pt x="4670" y="94"/>
                  </a:lnTo>
                  <a:lnTo>
                    <a:pt x="4162" y="0"/>
                  </a:lnTo>
                  <a:lnTo>
                    <a:pt x="3654" y="452"/>
                  </a:lnTo>
                  <a:lnTo>
                    <a:pt x="3612" y="39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020600" y="5319720"/>
              <a:ext cx="316080" cy="312840"/>
            </a:xfrm>
            <a:custGeom>
              <a:avLst/>
              <a:gdLst/>
              <a:ahLst/>
              <a:rect l="l" t="t" r="r" b="b"/>
              <a:pathLst>
                <a:path w="3308" h="3890">
                  <a:moveTo>
                    <a:pt x="2199" y="0"/>
                  </a:moveTo>
                  <a:lnTo>
                    <a:pt x="1495" y="545"/>
                  </a:lnTo>
                  <a:lnTo>
                    <a:pt x="667" y="2116"/>
                  </a:lnTo>
                  <a:lnTo>
                    <a:pt x="472" y="3177"/>
                  </a:lnTo>
                  <a:lnTo>
                    <a:pt x="395" y="2624"/>
                  </a:lnTo>
                  <a:lnTo>
                    <a:pt x="472" y="1263"/>
                  </a:lnTo>
                  <a:lnTo>
                    <a:pt x="39" y="2426"/>
                  </a:lnTo>
                  <a:lnTo>
                    <a:pt x="0" y="3177"/>
                  </a:lnTo>
                  <a:lnTo>
                    <a:pt x="516" y="3634"/>
                  </a:lnTo>
                  <a:lnTo>
                    <a:pt x="744" y="3277"/>
                  </a:lnTo>
                  <a:lnTo>
                    <a:pt x="1020" y="3890"/>
                  </a:lnTo>
                  <a:lnTo>
                    <a:pt x="1842" y="3378"/>
                  </a:lnTo>
                  <a:lnTo>
                    <a:pt x="2671" y="2523"/>
                  </a:lnTo>
                  <a:lnTo>
                    <a:pt x="2796" y="2116"/>
                  </a:lnTo>
                  <a:lnTo>
                    <a:pt x="3308" y="2024"/>
                  </a:lnTo>
                  <a:lnTo>
                    <a:pt x="2796" y="1461"/>
                  </a:lnTo>
                  <a:lnTo>
                    <a:pt x="2796" y="797"/>
                  </a:lnTo>
                  <a:lnTo>
                    <a:pt x="2280" y="0"/>
                  </a:lnTo>
                  <a:lnTo>
                    <a:pt x="2199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246320" y="5684760"/>
              <a:ext cx="215640" cy="179640"/>
            </a:xfrm>
            <a:custGeom>
              <a:avLst/>
              <a:gdLst/>
              <a:ahLst/>
              <a:rect l="l" t="t" r="r" b="b"/>
              <a:pathLst>
                <a:path w="2277" h="2227">
                  <a:moveTo>
                    <a:pt x="435" y="520"/>
                  </a:moveTo>
                  <a:lnTo>
                    <a:pt x="624" y="520"/>
                  </a:lnTo>
                  <a:lnTo>
                    <a:pt x="1174" y="0"/>
                  </a:lnTo>
                  <a:lnTo>
                    <a:pt x="1846" y="260"/>
                  </a:lnTo>
                  <a:lnTo>
                    <a:pt x="2160" y="1117"/>
                  </a:lnTo>
                  <a:lnTo>
                    <a:pt x="2277" y="2082"/>
                  </a:lnTo>
                  <a:lnTo>
                    <a:pt x="981" y="2227"/>
                  </a:lnTo>
                  <a:lnTo>
                    <a:pt x="0" y="2036"/>
                  </a:lnTo>
                  <a:lnTo>
                    <a:pt x="435" y="52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61960" y="5253120"/>
              <a:ext cx="341280" cy="420480"/>
            </a:xfrm>
            <a:custGeom>
              <a:avLst/>
              <a:gdLst/>
              <a:ahLst/>
              <a:rect l="l" t="t" r="r" b="b"/>
              <a:pathLst>
                <a:path w="3585" h="5209">
                  <a:moveTo>
                    <a:pt x="1541" y="51"/>
                  </a:moveTo>
                  <a:lnTo>
                    <a:pt x="672" y="1923"/>
                  </a:lnTo>
                  <a:lnTo>
                    <a:pt x="0" y="2889"/>
                  </a:lnTo>
                  <a:lnTo>
                    <a:pt x="156" y="3036"/>
                  </a:lnTo>
                  <a:lnTo>
                    <a:pt x="912" y="2633"/>
                  </a:lnTo>
                  <a:lnTo>
                    <a:pt x="1105" y="2889"/>
                  </a:lnTo>
                  <a:lnTo>
                    <a:pt x="1071" y="4046"/>
                  </a:lnTo>
                  <a:lnTo>
                    <a:pt x="1777" y="5209"/>
                  </a:lnTo>
                  <a:lnTo>
                    <a:pt x="2561" y="3689"/>
                  </a:lnTo>
                  <a:lnTo>
                    <a:pt x="3585" y="2427"/>
                  </a:lnTo>
                  <a:lnTo>
                    <a:pt x="3195" y="1872"/>
                  </a:lnTo>
                  <a:lnTo>
                    <a:pt x="3195" y="1218"/>
                  </a:lnTo>
                  <a:lnTo>
                    <a:pt x="2994" y="861"/>
                  </a:lnTo>
                  <a:lnTo>
                    <a:pt x="1805" y="0"/>
                  </a:lnTo>
                  <a:lnTo>
                    <a:pt x="1625" y="51"/>
                  </a:lnTo>
                  <a:lnTo>
                    <a:pt x="1541" y="51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043000" y="5595840"/>
              <a:ext cx="187560" cy="174600"/>
            </a:xfrm>
            <a:custGeom>
              <a:avLst/>
              <a:gdLst/>
              <a:ahLst/>
              <a:rect l="l" t="t" r="r" b="b"/>
              <a:pathLst>
                <a:path w="1968" h="2166">
                  <a:moveTo>
                    <a:pt x="1339" y="0"/>
                  </a:moveTo>
                  <a:lnTo>
                    <a:pt x="866" y="906"/>
                  </a:lnTo>
                  <a:lnTo>
                    <a:pt x="0" y="1818"/>
                  </a:lnTo>
                  <a:lnTo>
                    <a:pt x="668" y="1566"/>
                  </a:lnTo>
                  <a:lnTo>
                    <a:pt x="1339" y="2166"/>
                  </a:lnTo>
                  <a:lnTo>
                    <a:pt x="1490" y="2065"/>
                  </a:lnTo>
                  <a:lnTo>
                    <a:pt x="1419" y="1515"/>
                  </a:lnTo>
                  <a:lnTo>
                    <a:pt x="1730" y="1666"/>
                  </a:lnTo>
                  <a:lnTo>
                    <a:pt x="1968" y="1163"/>
                  </a:lnTo>
                  <a:lnTo>
                    <a:pt x="1885" y="0"/>
                  </a:lnTo>
                  <a:lnTo>
                    <a:pt x="1339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2280" y="5970600"/>
              <a:ext cx="98280" cy="228600"/>
            </a:xfrm>
            <a:custGeom>
              <a:avLst/>
              <a:gdLst/>
              <a:ahLst/>
              <a:rect l="l" t="t" r="r" b="b"/>
              <a:pathLst>
                <a:path w="1034" h="2832">
                  <a:moveTo>
                    <a:pt x="0" y="0"/>
                  </a:moveTo>
                  <a:lnTo>
                    <a:pt x="41" y="1264"/>
                  </a:lnTo>
                  <a:lnTo>
                    <a:pt x="634" y="2381"/>
                  </a:lnTo>
                  <a:lnTo>
                    <a:pt x="1034" y="2832"/>
                  </a:lnTo>
                  <a:lnTo>
                    <a:pt x="991" y="1574"/>
                  </a:lnTo>
                  <a:lnTo>
                    <a:pt x="1034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82720" y="5986440"/>
              <a:ext cx="182520" cy="173160"/>
            </a:xfrm>
            <a:custGeom>
              <a:avLst/>
              <a:gdLst/>
              <a:ahLst/>
              <a:rect l="l" t="t" r="r" b="b"/>
              <a:pathLst>
                <a:path w="1928" h="2128">
                  <a:moveTo>
                    <a:pt x="0" y="256"/>
                  </a:moveTo>
                  <a:lnTo>
                    <a:pt x="780" y="1474"/>
                  </a:lnTo>
                  <a:lnTo>
                    <a:pt x="1928" y="2128"/>
                  </a:lnTo>
                  <a:lnTo>
                    <a:pt x="902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79480" y="5253120"/>
              <a:ext cx="357120" cy="334800"/>
            </a:xfrm>
            <a:custGeom>
              <a:avLst/>
              <a:gdLst/>
              <a:ahLst/>
              <a:rect l="l" t="t" r="r" b="b"/>
              <a:pathLst>
                <a:path w="3745" h="4150">
                  <a:moveTo>
                    <a:pt x="3745" y="161"/>
                  </a:moveTo>
                  <a:lnTo>
                    <a:pt x="3430" y="0"/>
                  </a:lnTo>
                  <a:lnTo>
                    <a:pt x="2834" y="105"/>
                  </a:lnTo>
                  <a:lnTo>
                    <a:pt x="1775" y="509"/>
                  </a:lnTo>
                  <a:lnTo>
                    <a:pt x="868" y="1268"/>
                  </a:lnTo>
                  <a:lnTo>
                    <a:pt x="243" y="2276"/>
                  </a:lnTo>
                  <a:lnTo>
                    <a:pt x="0" y="2989"/>
                  </a:lnTo>
                  <a:lnTo>
                    <a:pt x="204" y="3187"/>
                  </a:lnTo>
                  <a:lnTo>
                    <a:pt x="204" y="3392"/>
                  </a:lnTo>
                  <a:lnTo>
                    <a:pt x="320" y="3439"/>
                  </a:lnTo>
                  <a:lnTo>
                    <a:pt x="402" y="3338"/>
                  </a:lnTo>
                  <a:lnTo>
                    <a:pt x="525" y="3392"/>
                  </a:lnTo>
                  <a:lnTo>
                    <a:pt x="525" y="3540"/>
                  </a:lnTo>
                  <a:lnTo>
                    <a:pt x="756" y="3695"/>
                  </a:lnTo>
                  <a:lnTo>
                    <a:pt x="1065" y="3850"/>
                  </a:lnTo>
                  <a:lnTo>
                    <a:pt x="1540" y="4150"/>
                  </a:lnTo>
                  <a:lnTo>
                    <a:pt x="1737" y="3241"/>
                  </a:lnTo>
                  <a:lnTo>
                    <a:pt x="2057" y="2276"/>
                  </a:lnTo>
                  <a:lnTo>
                    <a:pt x="1818" y="3493"/>
                  </a:lnTo>
                  <a:lnTo>
                    <a:pt x="1851" y="3941"/>
                  </a:lnTo>
                  <a:lnTo>
                    <a:pt x="2057" y="4150"/>
                  </a:lnTo>
                  <a:lnTo>
                    <a:pt x="2283" y="3140"/>
                  </a:lnTo>
                  <a:lnTo>
                    <a:pt x="3190" y="1423"/>
                  </a:lnTo>
                  <a:lnTo>
                    <a:pt x="3745" y="1012"/>
                  </a:lnTo>
                  <a:lnTo>
                    <a:pt x="3707" y="912"/>
                  </a:lnTo>
                  <a:lnTo>
                    <a:pt x="3272" y="1117"/>
                  </a:lnTo>
                  <a:lnTo>
                    <a:pt x="2674" y="1772"/>
                  </a:lnTo>
                  <a:lnTo>
                    <a:pt x="2170" y="2839"/>
                  </a:lnTo>
                  <a:lnTo>
                    <a:pt x="1968" y="3850"/>
                  </a:lnTo>
                  <a:lnTo>
                    <a:pt x="2057" y="2683"/>
                  </a:lnTo>
                  <a:lnTo>
                    <a:pt x="2249" y="1772"/>
                  </a:lnTo>
                  <a:lnTo>
                    <a:pt x="2368" y="1574"/>
                  </a:lnTo>
                  <a:lnTo>
                    <a:pt x="2249" y="1621"/>
                  </a:lnTo>
                  <a:lnTo>
                    <a:pt x="1851" y="2124"/>
                  </a:lnTo>
                  <a:lnTo>
                    <a:pt x="1581" y="3036"/>
                  </a:lnTo>
                  <a:lnTo>
                    <a:pt x="1503" y="3850"/>
                  </a:lnTo>
                  <a:lnTo>
                    <a:pt x="1146" y="3695"/>
                  </a:lnTo>
                  <a:lnTo>
                    <a:pt x="756" y="3288"/>
                  </a:lnTo>
                  <a:lnTo>
                    <a:pt x="756" y="2784"/>
                  </a:lnTo>
                  <a:lnTo>
                    <a:pt x="596" y="3288"/>
                  </a:lnTo>
                  <a:lnTo>
                    <a:pt x="479" y="3187"/>
                  </a:lnTo>
                  <a:lnTo>
                    <a:pt x="553" y="2737"/>
                  </a:lnTo>
                  <a:lnTo>
                    <a:pt x="320" y="3091"/>
                  </a:lnTo>
                  <a:lnTo>
                    <a:pt x="204" y="2784"/>
                  </a:lnTo>
                  <a:lnTo>
                    <a:pt x="553" y="2124"/>
                  </a:lnTo>
                  <a:lnTo>
                    <a:pt x="1388" y="1067"/>
                  </a:lnTo>
                  <a:lnTo>
                    <a:pt x="2485" y="357"/>
                  </a:lnTo>
                  <a:lnTo>
                    <a:pt x="3349" y="161"/>
                  </a:lnTo>
                  <a:lnTo>
                    <a:pt x="3659" y="257"/>
                  </a:lnTo>
                  <a:lnTo>
                    <a:pt x="3745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36600" y="5241960"/>
              <a:ext cx="115920" cy="73080"/>
            </a:xfrm>
            <a:custGeom>
              <a:avLst/>
              <a:gdLst/>
              <a:ahLst/>
              <a:rect l="l" t="t" r="r" b="b"/>
              <a:pathLst>
                <a:path w="1210" h="905">
                  <a:moveTo>
                    <a:pt x="0" y="448"/>
                  </a:moveTo>
                  <a:lnTo>
                    <a:pt x="276" y="196"/>
                  </a:lnTo>
                  <a:lnTo>
                    <a:pt x="548" y="44"/>
                  </a:lnTo>
                  <a:lnTo>
                    <a:pt x="943" y="0"/>
                  </a:lnTo>
                  <a:lnTo>
                    <a:pt x="1171" y="250"/>
                  </a:lnTo>
                  <a:lnTo>
                    <a:pt x="1210" y="654"/>
                  </a:lnTo>
                  <a:lnTo>
                    <a:pt x="1062" y="905"/>
                  </a:lnTo>
                  <a:lnTo>
                    <a:pt x="1098" y="502"/>
                  </a:lnTo>
                  <a:lnTo>
                    <a:pt x="1032" y="250"/>
                  </a:lnTo>
                  <a:lnTo>
                    <a:pt x="663" y="196"/>
                  </a:lnTo>
                  <a:lnTo>
                    <a:pt x="276" y="306"/>
                  </a:lnTo>
                  <a:lnTo>
                    <a:pt x="79" y="557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252440" y="5281560"/>
              <a:ext cx="74520" cy="33480"/>
            </a:xfrm>
            <a:custGeom>
              <a:avLst/>
              <a:gdLst/>
              <a:ahLst/>
              <a:rect l="l" t="t" r="r" b="b"/>
              <a:pathLst>
                <a:path w="788" h="403">
                  <a:moveTo>
                    <a:pt x="0" y="403"/>
                  </a:moveTo>
                  <a:lnTo>
                    <a:pt x="280" y="101"/>
                  </a:lnTo>
                  <a:lnTo>
                    <a:pt x="508" y="0"/>
                  </a:lnTo>
                  <a:lnTo>
                    <a:pt x="746" y="101"/>
                  </a:lnTo>
                  <a:lnTo>
                    <a:pt x="788" y="252"/>
                  </a:lnTo>
                  <a:lnTo>
                    <a:pt x="713" y="403"/>
                  </a:lnTo>
                  <a:lnTo>
                    <a:pt x="629" y="206"/>
                  </a:lnTo>
                  <a:lnTo>
                    <a:pt x="393" y="206"/>
                  </a:lnTo>
                  <a:lnTo>
                    <a:pt x="121" y="403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241280" y="5322960"/>
              <a:ext cx="50760" cy="69840"/>
            </a:xfrm>
            <a:custGeom>
              <a:avLst/>
              <a:gdLst/>
              <a:ahLst/>
              <a:rect l="l" t="t" r="r" b="b"/>
              <a:pathLst>
                <a:path w="555" h="857">
                  <a:moveTo>
                    <a:pt x="0" y="0"/>
                  </a:moveTo>
                  <a:lnTo>
                    <a:pt x="306" y="407"/>
                  </a:lnTo>
                  <a:lnTo>
                    <a:pt x="555" y="857"/>
                  </a:lnTo>
                  <a:lnTo>
                    <a:pt x="352" y="609"/>
                  </a:lnTo>
                  <a:lnTo>
                    <a:pt x="119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241280" y="5396040"/>
              <a:ext cx="22320" cy="41040"/>
            </a:xfrm>
            <a:custGeom>
              <a:avLst/>
              <a:gdLst/>
              <a:ahLst/>
              <a:rect l="l" t="t" r="r" b="b"/>
              <a:pathLst>
                <a:path w="240" h="504">
                  <a:moveTo>
                    <a:pt x="0" y="0"/>
                  </a:moveTo>
                  <a:lnTo>
                    <a:pt x="151" y="54"/>
                  </a:lnTo>
                  <a:lnTo>
                    <a:pt x="240" y="352"/>
                  </a:lnTo>
                  <a:lnTo>
                    <a:pt x="151" y="504"/>
                  </a:lnTo>
                  <a:lnTo>
                    <a:pt x="0" y="403"/>
                  </a:lnTo>
                  <a:lnTo>
                    <a:pt x="43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270080" y="5400720"/>
              <a:ext cx="15840" cy="33480"/>
            </a:xfrm>
            <a:custGeom>
              <a:avLst/>
              <a:gdLst/>
              <a:ahLst/>
              <a:rect l="l" t="t" r="r" b="b"/>
              <a:pathLst>
                <a:path w="170" h="404">
                  <a:moveTo>
                    <a:pt x="0" y="0"/>
                  </a:moveTo>
                  <a:lnTo>
                    <a:pt x="170" y="97"/>
                  </a:lnTo>
                  <a:lnTo>
                    <a:pt x="170" y="404"/>
                  </a:lnTo>
                  <a:lnTo>
                    <a:pt x="46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78000" y="5437080"/>
              <a:ext cx="66600" cy="68400"/>
            </a:xfrm>
            <a:custGeom>
              <a:avLst/>
              <a:gdLst/>
              <a:ahLst/>
              <a:rect l="l" t="t" r="r" b="b"/>
              <a:pathLst>
                <a:path w="701" h="864">
                  <a:moveTo>
                    <a:pt x="113" y="0"/>
                  </a:moveTo>
                  <a:lnTo>
                    <a:pt x="311" y="311"/>
                  </a:lnTo>
                  <a:lnTo>
                    <a:pt x="546" y="508"/>
                  </a:lnTo>
                  <a:lnTo>
                    <a:pt x="701" y="609"/>
                  </a:lnTo>
                  <a:lnTo>
                    <a:pt x="663" y="713"/>
                  </a:lnTo>
                  <a:lnTo>
                    <a:pt x="433" y="815"/>
                  </a:lnTo>
                  <a:lnTo>
                    <a:pt x="31" y="864"/>
                  </a:lnTo>
                  <a:lnTo>
                    <a:pt x="0" y="760"/>
                  </a:lnTo>
                  <a:lnTo>
                    <a:pt x="433" y="713"/>
                  </a:lnTo>
                  <a:lnTo>
                    <a:pt x="508" y="609"/>
                  </a:lnTo>
                  <a:lnTo>
                    <a:pt x="311" y="461"/>
                  </a:lnTo>
                  <a:lnTo>
                    <a:pt x="113" y="20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181160" y="5473800"/>
              <a:ext cx="100080" cy="57240"/>
            </a:xfrm>
            <a:custGeom>
              <a:avLst/>
              <a:gdLst/>
              <a:ahLst/>
              <a:rect l="l" t="t" r="r" b="b"/>
              <a:pathLst>
                <a:path w="1056" h="702">
                  <a:moveTo>
                    <a:pt x="475" y="0"/>
                  </a:moveTo>
                  <a:lnTo>
                    <a:pt x="0" y="198"/>
                  </a:lnTo>
                  <a:lnTo>
                    <a:pt x="35" y="403"/>
                  </a:lnTo>
                  <a:lnTo>
                    <a:pt x="229" y="299"/>
                  </a:lnTo>
                  <a:lnTo>
                    <a:pt x="475" y="504"/>
                  </a:lnTo>
                  <a:lnTo>
                    <a:pt x="745" y="655"/>
                  </a:lnTo>
                  <a:lnTo>
                    <a:pt x="866" y="702"/>
                  </a:lnTo>
                  <a:lnTo>
                    <a:pt x="1056" y="601"/>
                  </a:lnTo>
                  <a:lnTo>
                    <a:pt x="669" y="450"/>
                  </a:lnTo>
                  <a:lnTo>
                    <a:pt x="435" y="252"/>
                  </a:lnTo>
                  <a:lnTo>
                    <a:pt x="590" y="148"/>
                  </a:lnTo>
                  <a:lnTo>
                    <a:pt x="504" y="47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135080" y="5515200"/>
              <a:ext cx="160200" cy="179280"/>
            </a:xfrm>
            <a:custGeom>
              <a:avLst/>
              <a:gdLst/>
              <a:ahLst/>
              <a:rect l="l" t="t" r="r" b="b"/>
              <a:pathLst>
                <a:path w="1692" h="2220">
                  <a:moveTo>
                    <a:pt x="1583" y="0"/>
                  </a:moveTo>
                  <a:lnTo>
                    <a:pt x="1305" y="403"/>
                  </a:lnTo>
                  <a:lnTo>
                    <a:pt x="870" y="859"/>
                  </a:lnTo>
                  <a:lnTo>
                    <a:pt x="481" y="1208"/>
                  </a:lnTo>
                  <a:lnTo>
                    <a:pt x="0" y="1460"/>
                  </a:lnTo>
                  <a:lnTo>
                    <a:pt x="50" y="1611"/>
                  </a:lnTo>
                  <a:lnTo>
                    <a:pt x="1033" y="1312"/>
                  </a:lnTo>
                  <a:lnTo>
                    <a:pt x="598" y="2022"/>
                  </a:lnTo>
                  <a:lnTo>
                    <a:pt x="481" y="2174"/>
                  </a:lnTo>
                  <a:lnTo>
                    <a:pt x="554" y="2220"/>
                  </a:lnTo>
                  <a:lnTo>
                    <a:pt x="796" y="2119"/>
                  </a:lnTo>
                  <a:lnTo>
                    <a:pt x="1305" y="1208"/>
                  </a:lnTo>
                  <a:lnTo>
                    <a:pt x="1226" y="1107"/>
                  </a:lnTo>
                  <a:lnTo>
                    <a:pt x="554" y="1312"/>
                  </a:lnTo>
                  <a:lnTo>
                    <a:pt x="985" y="956"/>
                  </a:lnTo>
                  <a:lnTo>
                    <a:pt x="1506" y="347"/>
                  </a:lnTo>
                  <a:lnTo>
                    <a:pt x="1692" y="0"/>
                  </a:lnTo>
                  <a:lnTo>
                    <a:pt x="15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60560" y="5583240"/>
              <a:ext cx="60120" cy="57240"/>
            </a:xfrm>
            <a:custGeom>
              <a:avLst/>
              <a:gdLst/>
              <a:ahLst/>
              <a:rect l="l" t="t" r="r" b="b"/>
              <a:pathLst>
                <a:path w="627" h="705">
                  <a:moveTo>
                    <a:pt x="627" y="601"/>
                  </a:moveTo>
                  <a:lnTo>
                    <a:pt x="546" y="0"/>
                  </a:lnTo>
                  <a:lnTo>
                    <a:pt x="312" y="50"/>
                  </a:lnTo>
                  <a:lnTo>
                    <a:pt x="0" y="705"/>
                  </a:lnTo>
                  <a:lnTo>
                    <a:pt x="387" y="198"/>
                  </a:lnTo>
                  <a:lnTo>
                    <a:pt x="627" y="6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85760" y="5648400"/>
              <a:ext cx="158760" cy="66600"/>
            </a:xfrm>
            <a:custGeom>
              <a:avLst/>
              <a:gdLst/>
              <a:ahLst/>
              <a:rect l="l" t="t" r="r" b="b"/>
              <a:pathLst>
                <a:path w="1654" h="815">
                  <a:moveTo>
                    <a:pt x="0" y="0"/>
                  </a:moveTo>
                  <a:lnTo>
                    <a:pt x="353" y="357"/>
                  </a:lnTo>
                  <a:lnTo>
                    <a:pt x="908" y="609"/>
                  </a:lnTo>
                  <a:lnTo>
                    <a:pt x="1654" y="815"/>
                  </a:lnTo>
                  <a:lnTo>
                    <a:pt x="1179" y="815"/>
                  </a:lnTo>
                  <a:lnTo>
                    <a:pt x="504" y="609"/>
                  </a:lnTo>
                  <a:lnTo>
                    <a:pt x="0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192320" y="5718240"/>
              <a:ext cx="107640" cy="142920"/>
            </a:xfrm>
            <a:custGeom>
              <a:avLst/>
              <a:gdLst/>
              <a:ahLst/>
              <a:rect l="l" t="t" r="r" b="b"/>
              <a:pathLst>
                <a:path w="1136" h="1772">
                  <a:moveTo>
                    <a:pt x="815" y="97"/>
                  </a:moveTo>
                  <a:lnTo>
                    <a:pt x="387" y="659"/>
                  </a:lnTo>
                  <a:lnTo>
                    <a:pt x="77" y="1256"/>
                  </a:lnTo>
                  <a:lnTo>
                    <a:pt x="0" y="1621"/>
                  </a:lnTo>
                  <a:lnTo>
                    <a:pt x="241" y="1772"/>
                  </a:lnTo>
                  <a:lnTo>
                    <a:pt x="198" y="1466"/>
                  </a:lnTo>
                  <a:lnTo>
                    <a:pt x="387" y="1466"/>
                  </a:lnTo>
                  <a:lnTo>
                    <a:pt x="509" y="1419"/>
                  </a:lnTo>
                  <a:lnTo>
                    <a:pt x="473" y="1314"/>
                  </a:lnTo>
                  <a:lnTo>
                    <a:pt x="241" y="1369"/>
                  </a:lnTo>
                  <a:lnTo>
                    <a:pt x="552" y="748"/>
                  </a:lnTo>
                  <a:lnTo>
                    <a:pt x="908" y="257"/>
                  </a:lnTo>
                  <a:lnTo>
                    <a:pt x="585" y="1062"/>
                  </a:lnTo>
                  <a:lnTo>
                    <a:pt x="552" y="1566"/>
                  </a:lnTo>
                  <a:lnTo>
                    <a:pt x="585" y="1772"/>
                  </a:lnTo>
                  <a:lnTo>
                    <a:pt x="707" y="1718"/>
                  </a:lnTo>
                  <a:lnTo>
                    <a:pt x="707" y="1256"/>
                  </a:lnTo>
                  <a:lnTo>
                    <a:pt x="1136" y="151"/>
                  </a:lnTo>
                  <a:lnTo>
                    <a:pt x="1064" y="0"/>
                  </a:lnTo>
                  <a:lnTo>
                    <a:pt x="939" y="151"/>
                  </a:lnTo>
                  <a:lnTo>
                    <a:pt x="861" y="97"/>
                  </a:lnTo>
                  <a:lnTo>
                    <a:pt x="81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6200" y="5811840"/>
              <a:ext cx="436320" cy="208080"/>
            </a:xfrm>
            <a:custGeom>
              <a:avLst/>
              <a:gdLst/>
              <a:ahLst/>
              <a:rect l="l" t="t" r="r" b="b"/>
              <a:pathLst>
                <a:path w="4592" h="2572">
                  <a:moveTo>
                    <a:pt x="4525" y="93"/>
                  </a:moveTo>
                  <a:lnTo>
                    <a:pt x="3971" y="1363"/>
                  </a:lnTo>
                  <a:lnTo>
                    <a:pt x="3929" y="1258"/>
                  </a:lnTo>
                  <a:lnTo>
                    <a:pt x="4088" y="206"/>
                  </a:lnTo>
                  <a:lnTo>
                    <a:pt x="4169" y="51"/>
                  </a:lnTo>
                  <a:lnTo>
                    <a:pt x="4088" y="0"/>
                  </a:lnTo>
                  <a:lnTo>
                    <a:pt x="3882" y="206"/>
                  </a:lnTo>
                  <a:lnTo>
                    <a:pt x="3731" y="1409"/>
                  </a:lnTo>
                  <a:lnTo>
                    <a:pt x="3731" y="2127"/>
                  </a:lnTo>
                  <a:lnTo>
                    <a:pt x="3102" y="2269"/>
                  </a:lnTo>
                  <a:lnTo>
                    <a:pt x="1808" y="2320"/>
                  </a:lnTo>
                  <a:lnTo>
                    <a:pt x="582" y="2068"/>
                  </a:lnTo>
                  <a:lnTo>
                    <a:pt x="159" y="1711"/>
                  </a:lnTo>
                  <a:lnTo>
                    <a:pt x="67" y="1615"/>
                  </a:lnTo>
                  <a:lnTo>
                    <a:pt x="0" y="1665"/>
                  </a:lnTo>
                  <a:lnTo>
                    <a:pt x="32" y="1917"/>
                  </a:lnTo>
                  <a:lnTo>
                    <a:pt x="469" y="2127"/>
                  </a:lnTo>
                  <a:lnTo>
                    <a:pt x="1249" y="2475"/>
                  </a:lnTo>
                  <a:lnTo>
                    <a:pt x="2199" y="2572"/>
                  </a:lnTo>
                  <a:lnTo>
                    <a:pt x="2993" y="2521"/>
                  </a:lnTo>
                  <a:lnTo>
                    <a:pt x="3731" y="2269"/>
                  </a:lnTo>
                  <a:lnTo>
                    <a:pt x="3769" y="2421"/>
                  </a:lnTo>
                  <a:lnTo>
                    <a:pt x="3856" y="2223"/>
                  </a:lnTo>
                  <a:lnTo>
                    <a:pt x="3856" y="1561"/>
                  </a:lnTo>
                  <a:lnTo>
                    <a:pt x="4049" y="1665"/>
                  </a:lnTo>
                  <a:lnTo>
                    <a:pt x="4126" y="1212"/>
                  </a:lnTo>
                  <a:lnTo>
                    <a:pt x="4592" y="206"/>
                  </a:lnTo>
                  <a:lnTo>
                    <a:pt x="452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4080" y="5645160"/>
              <a:ext cx="220680" cy="322200"/>
            </a:xfrm>
            <a:custGeom>
              <a:avLst/>
              <a:gdLst/>
              <a:ahLst/>
              <a:rect l="l" t="t" r="r" b="b"/>
              <a:pathLst>
                <a:path w="2314" h="3995">
                  <a:moveTo>
                    <a:pt x="2314" y="1826"/>
                  </a:moveTo>
                  <a:lnTo>
                    <a:pt x="1538" y="1473"/>
                  </a:lnTo>
                  <a:lnTo>
                    <a:pt x="980" y="1116"/>
                  </a:lnTo>
                  <a:lnTo>
                    <a:pt x="782" y="663"/>
                  </a:lnTo>
                  <a:lnTo>
                    <a:pt x="744" y="105"/>
                  </a:lnTo>
                  <a:lnTo>
                    <a:pt x="585" y="0"/>
                  </a:lnTo>
                  <a:lnTo>
                    <a:pt x="512" y="214"/>
                  </a:lnTo>
                  <a:lnTo>
                    <a:pt x="702" y="815"/>
                  </a:lnTo>
                  <a:lnTo>
                    <a:pt x="1100" y="1318"/>
                  </a:lnTo>
                  <a:lnTo>
                    <a:pt x="2159" y="1880"/>
                  </a:lnTo>
                  <a:lnTo>
                    <a:pt x="1965" y="2129"/>
                  </a:lnTo>
                  <a:lnTo>
                    <a:pt x="1256" y="1880"/>
                  </a:lnTo>
                  <a:lnTo>
                    <a:pt x="468" y="1218"/>
                  </a:lnTo>
                  <a:lnTo>
                    <a:pt x="165" y="609"/>
                  </a:lnTo>
                  <a:lnTo>
                    <a:pt x="0" y="508"/>
                  </a:lnTo>
                  <a:lnTo>
                    <a:pt x="353" y="1218"/>
                  </a:lnTo>
                  <a:lnTo>
                    <a:pt x="865" y="1880"/>
                  </a:lnTo>
                  <a:lnTo>
                    <a:pt x="1924" y="2229"/>
                  </a:lnTo>
                  <a:lnTo>
                    <a:pt x="1377" y="3387"/>
                  </a:lnTo>
                  <a:lnTo>
                    <a:pt x="1647" y="3588"/>
                  </a:lnTo>
                  <a:lnTo>
                    <a:pt x="1609" y="3995"/>
                  </a:lnTo>
                  <a:lnTo>
                    <a:pt x="2032" y="3836"/>
                  </a:lnTo>
                  <a:lnTo>
                    <a:pt x="2032" y="2284"/>
                  </a:lnTo>
                  <a:lnTo>
                    <a:pt x="2233" y="2284"/>
                  </a:lnTo>
                  <a:lnTo>
                    <a:pt x="2314" y="1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5280" y="5694480"/>
              <a:ext cx="114120" cy="247680"/>
            </a:xfrm>
            <a:custGeom>
              <a:avLst/>
              <a:gdLst/>
              <a:ahLst/>
              <a:rect l="l" t="t" r="r" b="b"/>
              <a:pathLst>
                <a:path w="1217" h="3084">
                  <a:moveTo>
                    <a:pt x="1052" y="0"/>
                  </a:moveTo>
                  <a:lnTo>
                    <a:pt x="1217" y="105"/>
                  </a:lnTo>
                  <a:lnTo>
                    <a:pt x="385" y="1520"/>
                  </a:lnTo>
                  <a:lnTo>
                    <a:pt x="0" y="3084"/>
                  </a:lnTo>
                  <a:lnTo>
                    <a:pt x="385" y="1469"/>
                  </a:lnTo>
                  <a:lnTo>
                    <a:pt x="936" y="30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0480" y="5986440"/>
              <a:ext cx="135000" cy="241200"/>
            </a:xfrm>
            <a:custGeom>
              <a:avLst/>
              <a:gdLst/>
              <a:ahLst/>
              <a:rect l="l" t="t" r="r" b="b"/>
              <a:pathLst>
                <a:path w="1419" h="2984">
                  <a:moveTo>
                    <a:pt x="0" y="0"/>
                  </a:moveTo>
                  <a:lnTo>
                    <a:pt x="81" y="1116"/>
                  </a:lnTo>
                  <a:lnTo>
                    <a:pt x="466" y="2078"/>
                  </a:lnTo>
                  <a:lnTo>
                    <a:pt x="945" y="2677"/>
                  </a:lnTo>
                  <a:lnTo>
                    <a:pt x="1218" y="2984"/>
                  </a:lnTo>
                  <a:lnTo>
                    <a:pt x="1419" y="2883"/>
                  </a:lnTo>
                  <a:lnTo>
                    <a:pt x="1260" y="2532"/>
                  </a:lnTo>
                  <a:lnTo>
                    <a:pt x="1151" y="1668"/>
                  </a:lnTo>
                  <a:lnTo>
                    <a:pt x="1105" y="907"/>
                  </a:lnTo>
                  <a:lnTo>
                    <a:pt x="1179" y="403"/>
                  </a:lnTo>
                  <a:lnTo>
                    <a:pt x="1021" y="352"/>
                  </a:lnTo>
                  <a:lnTo>
                    <a:pt x="986" y="1218"/>
                  </a:lnTo>
                  <a:lnTo>
                    <a:pt x="1105" y="2381"/>
                  </a:lnTo>
                  <a:lnTo>
                    <a:pt x="1021" y="2532"/>
                  </a:lnTo>
                  <a:lnTo>
                    <a:pt x="749" y="2284"/>
                  </a:lnTo>
                  <a:lnTo>
                    <a:pt x="395" y="1620"/>
                  </a:lnTo>
                  <a:lnTo>
                    <a:pt x="198" y="807"/>
                  </a:lnTo>
                  <a:lnTo>
                    <a:pt x="198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79480" y="5999040"/>
              <a:ext cx="206280" cy="189000"/>
            </a:xfrm>
            <a:custGeom>
              <a:avLst/>
              <a:gdLst/>
              <a:ahLst/>
              <a:rect l="l" t="t" r="r" b="b"/>
              <a:pathLst>
                <a:path w="2170" h="2330">
                  <a:moveTo>
                    <a:pt x="0" y="252"/>
                  </a:moveTo>
                  <a:lnTo>
                    <a:pt x="1112" y="1978"/>
                  </a:lnTo>
                  <a:lnTo>
                    <a:pt x="987" y="1571"/>
                  </a:lnTo>
                  <a:lnTo>
                    <a:pt x="1581" y="2069"/>
                  </a:lnTo>
                  <a:lnTo>
                    <a:pt x="2098" y="2330"/>
                  </a:lnTo>
                  <a:lnTo>
                    <a:pt x="2170" y="2230"/>
                  </a:lnTo>
                  <a:lnTo>
                    <a:pt x="1968" y="2069"/>
                  </a:lnTo>
                  <a:lnTo>
                    <a:pt x="2124" y="1873"/>
                  </a:lnTo>
                  <a:lnTo>
                    <a:pt x="1968" y="1823"/>
                  </a:lnTo>
                  <a:lnTo>
                    <a:pt x="1818" y="1873"/>
                  </a:lnTo>
                  <a:lnTo>
                    <a:pt x="1620" y="1469"/>
                  </a:lnTo>
                  <a:lnTo>
                    <a:pt x="1112" y="0"/>
                  </a:lnTo>
                  <a:lnTo>
                    <a:pt x="987" y="0"/>
                  </a:lnTo>
                  <a:lnTo>
                    <a:pt x="1146" y="656"/>
                  </a:lnTo>
                  <a:lnTo>
                    <a:pt x="1775" y="1927"/>
                  </a:lnTo>
                  <a:lnTo>
                    <a:pt x="717" y="1217"/>
                  </a:lnTo>
                  <a:lnTo>
                    <a:pt x="525" y="861"/>
                  </a:lnTo>
                  <a:lnTo>
                    <a:pt x="204" y="201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274760" y="5848560"/>
              <a:ext cx="112680" cy="28440"/>
            </a:xfrm>
            <a:custGeom>
              <a:avLst/>
              <a:gdLst/>
              <a:ahLst/>
              <a:rect l="l" t="t" r="r" b="b"/>
              <a:pathLst>
                <a:path w="1186" h="352">
                  <a:moveTo>
                    <a:pt x="0" y="46"/>
                  </a:moveTo>
                  <a:lnTo>
                    <a:pt x="321" y="202"/>
                  </a:lnTo>
                  <a:lnTo>
                    <a:pt x="988" y="151"/>
                  </a:lnTo>
                  <a:lnTo>
                    <a:pt x="1186" y="0"/>
                  </a:lnTo>
                  <a:lnTo>
                    <a:pt x="1109" y="202"/>
                  </a:lnTo>
                  <a:lnTo>
                    <a:pt x="644" y="352"/>
                  </a:lnTo>
                  <a:lnTo>
                    <a:pt x="203" y="302"/>
                  </a:lnTo>
                  <a:lnTo>
                    <a:pt x="0" y="15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287360" y="5694480"/>
              <a:ext cx="152280" cy="135000"/>
            </a:xfrm>
            <a:custGeom>
              <a:avLst/>
              <a:gdLst/>
              <a:ahLst/>
              <a:rect l="l" t="t" r="r" b="b"/>
              <a:pathLst>
                <a:path w="1604" h="1675">
                  <a:moveTo>
                    <a:pt x="580" y="0"/>
                  </a:moveTo>
                  <a:lnTo>
                    <a:pt x="193" y="357"/>
                  </a:lnTo>
                  <a:lnTo>
                    <a:pt x="0" y="864"/>
                  </a:lnTo>
                  <a:lnTo>
                    <a:pt x="155" y="1116"/>
                  </a:lnTo>
                  <a:lnTo>
                    <a:pt x="310" y="1054"/>
                  </a:lnTo>
                  <a:lnTo>
                    <a:pt x="277" y="1469"/>
                  </a:lnTo>
                  <a:lnTo>
                    <a:pt x="390" y="1620"/>
                  </a:lnTo>
                  <a:lnTo>
                    <a:pt x="619" y="1368"/>
                  </a:lnTo>
                  <a:lnTo>
                    <a:pt x="906" y="1159"/>
                  </a:lnTo>
                  <a:lnTo>
                    <a:pt x="1143" y="1620"/>
                  </a:lnTo>
                  <a:lnTo>
                    <a:pt x="1143" y="1520"/>
                  </a:lnTo>
                  <a:lnTo>
                    <a:pt x="983" y="1116"/>
                  </a:lnTo>
                  <a:lnTo>
                    <a:pt x="785" y="1054"/>
                  </a:lnTo>
                  <a:lnTo>
                    <a:pt x="441" y="1217"/>
                  </a:lnTo>
                  <a:lnTo>
                    <a:pt x="471" y="1054"/>
                  </a:lnTo>
                  <a:lnTo>
                    <a:pt x="937" y="609"/>
                  </a:lnTo>
                  <a:lnTo>
                    <a:pt x="1251" y="907"/>
                  </a:lnTo>
                  <a:lnTo>
                    <a:pt x="1566" y="1411"/>
                  </a:lnTo>
                  <a:lnTo>
                    <a:pt x="1604" y="1675"/>
                  </a:lnTo>
                  <a:lnTo>
                    <a:pt x="1566" y="1159"/>
                  </a:lnTo>
                  <a:lnTo>
                    <a:pt x="1293" y="655"/>
                  </a:lnTo>
                  <a:lnTo>
                    <a:pt x="860" y="403"/>
                  </a:lnTo>
                  <a:lnTo>
                    <a:pt x="507" y="815"/>
                  </a:lnTo>
                  <a:lnTo>
                    <a:pt x="277" y="965"/>
                  </a:lnTo>
                  <a:lnTo>
                    <a:pt x="193" y="815"/>
                  </a:lnTo>
                  <a:lnTo>
                    <a:pt x="580" y="206"/>
                  </a:lnTo>
                  <a:lnTo>
                    <a:pt x="739" y="10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353960" y="5691240"/>
              <a:ext cx="111240" cy="174600"/>
            </a:xfrm>
            <a:custGeom>
              <a:avLst/>
              <a:gdLst/>
              <a:ahLst/>
              <a:rect l="l" t="t" r="r" b="b"/>
              <a:pathLst>
                <a:path w="1175" h="2175">
                  <a:moveTo>
                    <a:pt x="0" y="46"/>
                  </a:moveTo>
                  <a:lnTo>
                    <a:pt x="32" y="197"/>
                  </a:lnTo>
                  <a:lnTo>
                    <a:pt x="586" y="352"/>
                  </a:lnTo>
                  <a:lnTo>
                    <a:pt x="896" y="1100"/>
                  </a:lnTo>
                  <a:lnTo>
                    <a:pt x="944" y="2124"/>
                  </a:lnTo>
                  <a:lnTo>
                    <a:pt x="1094" y="2175"/>
                  </a:lnTo>
                  <a:lnTo>
                    <a:pt x="1175" y="1858"/>
                  </a:lnTo>
                  <a:lnTo>
                    <a:pt x="1094" y="1818"/>
                  </a:lnTo>
                  <a:lnTo>
                    <a:pt x="1056" y="1317"/>
                  </a:lnTo>
                  <a:lnTo>
                    <a:pt x="863" y="655"/>
                  </a:lnTo>
                  <a:lnTo>
                    <a:pt x="667" y="252"/>
                  </a:lnTo>
                  <a:lnTo>
                    <a:pt x="32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7280" y="5329440"/>
              <a:ext cx="247680" cy="352440"/>
            </a:xfrm>
            <a:custGeom>
              <a:avLst/>
              <a:gdLst/>
              <a:ahLst/>
              <a:rect l="l" t="t" r="r" b="b"/>
              <a:pathLst>
                <a:path w="2598" h="4356">
                  <a:moveTo>
                    <a:pt x="629" y="1020"/>
                  </a:moveTo>
                  <a:lnTo>
                    <a:pt x="474" y="465"/>
                  </a:lnTo>
                  <a:lnTo>
                    <a:pt x="319" y="364"/>
                  </a:lnTo>
                  <a:lnTo>
                    <a:pt x="117" y="562"/>
                  </a:lnTo>
                  <a:lnTo>
                    <a:pt x="387" y="1369"/>
                  </a:lnTo>
                  <a:lnTo>
                    <a:pt x="474" y="1272"/>
                  </a:lnTo>
                  <a:lnTo>
                    <a:pt x="194" y="663"/>
                  </a:lnTo>
                  <a:lnTo>
                    <a:pt x="354" y="512"/>
                  </a:lnTo>
                  <a:lnTo>
                    <a:pt x="593" y="1166"/>
                  </a:lnTo>
                  <a:lnTo>
                    <a:pt x="159" y="1725"/>
                  </a:lnTo>
                  <a:lnTo>
                    <a:pt x="0" y="2031"/>
                  </a:lnTo>
                  <a:lnTo>
                    <a:pt x="117" y="2229"/>
                  </a:lnTo>
                  <a:lnTo>
                    <a:pt x="438" y="2229"/>
                  </a:lnTo>
                  <a:lnTo>
                    <a:pt x="940" y="1881"/>
                  </a:lnTo>
                  <a:lnTo>
                    <a:pt x="1184" y="2031"/>
                  </a:lnTo>
                  <a:lnTo>
                    <a:pt x="1141" y="2434"/>
                  </a:lnTo>
                  <a:lnTo>
                    <a:pt x="1184" y="2943"/>
                  </a:lnTo>
                  <a:lnTo>
                    <a:pt x="1264" y="3444"/>
                  </a:lnTo>
                  <a:lnTo>
                    <a:pt x="1613" y="3999"/>
                  </a:lnTo>
                  <a:lnTo>
                    <a:pt x="1808" y="4356"/>
                  </a:lnTo>
                  <a:lnTo>
                    <a:pt x="1574" y="3743"/>
                  </a:lnTo>
                  <a:lnTo>
                    <a:pt x="1335" y="3088"/>
                  </a:lnTo>
                  <a:lnTo>
                    <a:pt x="1335" y="2283"/>
                  </a:lnTo>
                  <a:lnTo>
                    <a:pt x="1411" y="1977"/>
                  </a:lnTo>
                  <a:lnTo>
                    <a:pt x="1847" y="1779"/>
                  </a:lnTo>
                  <a:lnTo>
                    <a:pt x="2289" y="1423"/>
                  </a:lnTo>
                  <a:lnTo>
                    <a:pt x="2598" y="1527"/>
                  </a:lnTo>
                  <a:lnTo>
                    <a:pt x="2482" y="1166"/>
                  </a:lnTo>
                  <a:lnTo>
                    <a:pt x="1764" y="1217"/>
                  </a:lnTo>
                  <a:lnTo>
                    <a:pt x="1931" y="1369"/>
                  </a:lnTo>
                  <a:lnTo>
                    <a:pt x="2200" y="1369"/>
                  </a:lnTo>
                  <a:lnTo>
                    <a:pt x="1808" y="1675"/>
                  </a:lnTo>
                  <a:lnTo>
                    <a:pt x="1302" y="1881"/>
                  </a:lnTo>
                  <a:lnTo>
                    <a:pt x="986" y="1826"/>
                  </a:lnTo>
                  <a:lnTo>
                    <a:pt x="1335" y="1629"/>
                  </a:lnTo>
                  <a:lnTo>
                    <a:pt x="1302" y="1369"/>
                  </a:lnTo>
                  <a:lnTo>
                    <a:pt x="1536" y="1272"/>
                  </a:lnTo>
                  <a:lnTo>
                    <a:pt x="1264" y="760"/>
                  </a:lnTo>
                  <a:lnTo>
                    <a:pt x="1931" y="465"/>
                  </a:lnTo>
                  <a:lnTo>
                    <a:pt x="1141" y="713"/>
                  </a:lnTo>
                  <a:lnTo>
                    <a:pt x="1302" y="1272"/>
                  </a:lnTo>
                  <a:lnTo>
                    <a:pt x="1024" y="1318"/>
                  </a:lnTo>
                  <a:lnTo>
                    <a:pt x="1184" y="1527"/>
                  </a:lnTo>
                  <a:lnTo>
                    <a:pt x="438" y="2078"/>
                  </a:lnTo>
                  <a:lnTo>
                    <a:pt x="194" y="2078"/>
                  </a:lnTo>
                  <a:lnTo>
                    <a:pt x="159" y="2031"/>
                  </a:lnTo>
                  <a:lnTo>
                    <a:pt x="387" y="1570"/>
                  </a:lnTo>
                  <a:lnTo>
                    <a:pt x="756" y="1166"/>
                  </a:lnTo>
                  <a:lnTo>
                    <a:pt x="1067" y="1318"/>
                  </a:lnTo>
                  <a:lnTo>
                    <a:pt x="1067" y="1217"/>
                  </a:lnTo>
                  <a:lnTo>
                    <a:pt x="865" y="1166"/>
                  </a:lnTo>
                  <a:lnTo>
                    <a:pt x="667" y="465"/>
                  </a:lnTo>
                  <a:lnTo>
                    <a:pt x="940" y="213"/>
                  </a:lnTo>
                  <a:lnTo>
                    <a:pt x="1067" y="616"/>
                  </a:lnTo>
                  <a:lnTo>
                    <a:pt x="1141" y="562"/>
                  </a:lnTo>
                  <a:lnTo>
                    <a:pt x="940" y="0"/>
                  </a:lnTo>
                  <a:lnTo>
                    <a:pt x="547" y="364"/>
                  </a:lnTo>
                  <a:lnTo>
                    <a:pt x="667" y="1066"/>
                  </a:lnTo>
                  <a:lnTo>
                    <a:pt x="629" y="10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562040" y="5256360"/>
              <a:ext cx="209520" cy="112680"/>
            </a:xfrm>
            <a:custGeom>
              <a:avLst/>
              <a:gdLst/>
              <a:ahLst/>
              <a:rect l="l" t="t" r="r" b="b"/>
              <a:pathLst>
                <a:path w="2210" h="1372">
                  <a:moveTo>
                    <a:pt x="0" y="961"/>
                  </a:moveTo>
                  <a:lnTo>
                    <a:pt x="282" y="407"/>
                  </a:lnTo>
                  <a:lnTo>
                    <a:pt x="518" y="54"/>
                  </a:lnTo>
                  <a:lnTo>
                    <a:pt x="713" y="0"/>
                  </a:lnTo>
                  <a:lnTo>
                    <a:pt x="988" y="110"/>
                  </a:lnTo>
                  <a:lnTo>
                    <a:pt x="1352" y="361"/>
                  </a:lnTo>
                  <a:lnTo>
                    <a:pt x="1810" y="155"/>
                  </a:lnTo>
                  <a:lnTo>
                    <a:pt x="1969" y="206"/>
                  </a:lnTo>
                  <a:lnTo>
                    <a:pt x="1856" y="407"/>
                  </a:lnTo>
                  <a:lnTo>
                    <a:pt x="2129" y="306"/>
                  </a:lnTo>
                  <a:lnTo>
                    <a:pt x="2210" y="458"/>
                  </a:lnTo>
                  <a:lnTo>
                    <a:pt x="2058" y="764"/>
                  </a:lnTo>
                  <a:lnTo>
                    <a:pt x="2058" y="1016"/>
                  </a:lnTo>
                  <a:lnTo>
                    <a:pt x="1701" y="1066"/>
                  </a:lnTo>
                  <a:lnTo>
                    <a:pt x="1387" y="1271"/>
                  </a:lnTo>
                  <a:lnTo>
                    <a:pt x="1503" y="1120"/>
                  </a:lnTo>
                  <a:lnTo>
                    <a:pt x="1105" y="1372"/>
                  </a:lnTo>
                  <a:lnTo>
                    <a:pt x="1352" y="810"/>
                  </a:lnTo>
                  <a:lnTo>
                    <a:pt x="1222" y="810"/>
                  </a:lnTo>
                  <a:lnTo>
                    <a:pt x="988" y="1271"/>
                  </a:lnTo>
                  <a:lnTo>
                    <a:pt x="865" y="1167"/>
                  </a:lnTo>
                  <a:lnTo>
                    <a:pt x="1034" y="810"/>
                  </a:lnTo>
                  <a:lnTo>
                    <a:pt x="1222" y="512"/>
                  </a:lnTo>
                  <a:lnTo>
                    <a:pt x="1070" y="252"/>
                  </a:lnTo>
                  <a:lnTo>
                    <a:pt x="836" y="206"/>
                  </a:lnTo>
                  <a:lnTo>
                    <a:pt x="596" y="206"/>
                  </a:lnTo>
                  <a:lnTo>
                    <a:pt x="282" y="655"/>
                  </a:lnTo>
                  <a:lnTo>
                    <a:pt x="89" y="1016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712880" y="5351400"/>
              <a:ext cx="44280" cy="41400"/>
            </a:xfrm>
            <a:custGeom>
              <a:avLst/>
              <a:gdLst/>
              <a:ahLst/>
              <a:rect l="l" t="t" r="r" b="b"/>
              <a:pathLst>
                <a:path w="480" h="500">
                  <a:moveTo>
                    <a:pt x="0" y="403"/>
                  </a:moveTo>
                  <a:lnTo>
                    <a:pt x="391" y="0"/>
                  </a:lnTo>
                  <a:lnTo>
                    <a:pt x="391" y="50"/>
                  </a:lnTo>
                  <a:lnTo>
                    <a:pt x="480" y="104"/>
                  </a:lnTo>
                  <a:lnTo>
                    <a:pt x="232" y="403"/>
                  </a:lnTo>
                  <a:lnTo>
                    <a:pt x="324" y="500"/>
                  </a:lnTo>
                  <a:lnTo>
                    <a:pt x="42" y="403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760400" y="5338800"/>
              <a:ext cx="49320" cy="111240"/>
            </a:xfrm>
            <a:custGeom>
              <a:avLst/>
              <a:gdLst/>
              <a:ahLst/>
              <a:rect l="l" t="t" r="r" b="b"/>
              <a:pathLst>
                <a:path w="522" h="1368">
                  <a:moveTo>
                    <a:pt x="0" y="50"/>
                  </a:moveTo>
                  <a:lnTo>
                    <a:pt x="124" y="705"/>
                  </a:lnTo>
                  <a:lnTo>
                    <a:pt x="0" y="957"/>
                  </a:lnTo>
                  <a:lnTo>
                    <a:pt x="522" y="1368"/>
                  </a:lnTo>
                  <a:lnTo>
                    <a:pt x="89" y="856"/>
                  </a:lnTo>
                  <a:lnTo>
                    <a:pt x="282" y="554"/>
                  </a:lnTo>
                  <a:lnTo>
                    <a:pt x="165" y="50"/>
                  </a:lnTo>
                  <a:lnTo>
                    <a:pt x="124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41600" y="5453280"/>
              <a:ext cx="182520" cy="220320"/>
            </a:xfrm>
            <a:custGeom>
              <a:avLst/>
              <a:gdLst/>
              <a:ahLst/>
              <a:rect l="l" t="t" r="r" b="b"/>
              <a:pathLst>
                <a:path w="1924" h="2724">
                  <a:moveTo>
                    <a:pt x="1730" y="0"/>
                  </a:moveTo>
                  <a:lnTo>
                    <a:pt x="939" y="954"/>
                  </a:lnTo>
                  <a:lnTo>
                    <a:pt x="319" y="1917"/>
                  </a:lnTo>
                  <a:lnTo>
                    <a:pt x="0" y="2724"/>
                  </a:lnTo>
                  <a:lnTo>
                    <a:pt x="702" y="1517"/>
                  </a:lnTo>
                  <a:lnTo>
                    <a:pt x="1339" y="606"/>
                  </a:lnTo>
                  <a:lnTo>
                    <a:pt x="1924" y="43"/>
                  </a:lnTo>
                  <a:lnTo>
                    <a:pt x="17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068560" y="5538960"/>
              <a:ext cx="174600" cy="244440"/>
            </a:xfrm>
            <a:custGeom>
              <a:avLst/>
              <a:gdLst/>
              <a:ahLst/>
              <a:rect l="l" t="t" r="r" b="b"/>
              <a:pathLst>
                <a:path w="1842" h="3033">
                  <a:moveTo>
                    <a:pt x="709" y="54"/>
                  </a:moveTo>
                  <a:lnTo>
                    <a:pt x="1065" y="357"/>
                  </a:lnTo>
                  <a:lnTo>
                    <a:pt x="667" y="1719"/>
                  </a:lnTo>
                  <a:lnTo>
                    <a:pt x="0" y="2328"/>
                  </a:lnTo>
                  <a:lnTo>
                    <a:pt x="233" y="2282"/>
                  </a:lnTo>
                  <a:lnTo>
                    <a:pt x="667" y="2534"/>
                  </a:lnTo>
                  <a:lnTo>
                    <a:pt x="978" y="2984"/>
                  </a:lnTo>
                  <a:lnTo>
                    <a:pt x="1221" y="3033"/>
                  </a:lnTo>
                  <a:lnTo>
                    <a:pt x="1380" y="2936"/>
                  </a:lnTo>
                  <a:lnTo>
                    <a:pt x="1292" y="2378"/>
                  </a:lnTo>
                  <a:lnTo>
                    <a:pt x="1490" y="2534"/>
                  </a:lnTo>
                  <a:lnTo>
                    <a:pt x="1729" y="2328"/>
                  </a:lnTo>
                  <a:lnTo>
                    <a:pt x="1842" y="1719"/>
                  </a:lnTo>
                  <a:lnTo>
                    <a:pt x="1691" y="1064"/>
                  </a:lnTo>
                  <a:lnTo>
                    <a:pt x="1729" y="1770"/>
                  </a:lnTo>
                  <a:lnTo>
                    <a:pt x="1614" y="2282"/>
                  </a:lnTo>
                  <a:lnTo>
                    <a:pt x="1451" y="2378"/>
                  </a:lnTo>
                  <a:lnTo>
                    <a:pt x="1065" y="2123"/>
                  </a:lnTo>
                  <a:lnTo>
                    <a:pt x="1179" y="2684"/>
                  </a:lnTo>
                  <a:lnTo>
                    <a:pt x="1179" y="2936"/>
                  </a:lnTo>
                  <a:lnTo>
                    <a:pt x="1024" y="2882"/>
                  </a:lnTo>
                  <a:lnTo>
                    <a:pt x="746" y="2378"/>
                  </a:lnTo>
                  <a:lnTo>
                    <a:pt x="314" y="2177"/>
                  </a:lnTo>
                  <a:lnTo>
                    <a:pt x="709" y="1816"/>
                  </a:lnTo>
                  <a:lnTo>
                    <a:pt x="1292" y="754"/>
                  </a:lnTo>
                  <a:lnTo>
                    <a:pt x="1065" y="653"/>
                  </a:lnTo>
                  <a:lnTo>
                    <a:pt x="1179" y="357"/>
                  </a:lnTo>
                  <a:lnTo>
                    <a:pt x="822" y="0"/>
                  </a:lnTo>
                  <a:lnTo>
                    <a:pt x="70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427040" y="5453280"/>
              <a:ext cx="754200" cy="763560"/>
              <a:chOff x="1427040" y="5453280"/>
              <a:chExt cx="754200" cy="76356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27040" y="5453280"/>
                <a:ext cx="699480" cy="763560"/>
              </a:xfrm>
              <a:custGeom>
                <a:avLst/>
                <a:gdLst/>
                <a:ahLst/>
                <a:rect l="l" t="t" r="r" b="b"/>
                <a:pathLst>
                  <a:path w="7353" h="9443">
                    <a:moveTo>
                      <a:pt x="4290" y="0"/>
                    </a:moveTo>
                    <a:lnTo>
                      <a:pt x="5395" y="43"/>
                    </a:lnTo>
                    <a:lnTo>
                      <a:pt x="6447" y="354"/>
                    </a:lnTo>
                    <a:lnTo>
                      <a:pt x="7353" y="702"/>
                    </a:lnTo>
                    <a:lnTo>
                      <a:pt x="7353" y="1615"/>
                    </a:lnTo>
                    <a:lnTo>
                      <a:pt x="6926" y="2829"/>
                    </a:lnTo>
                    <a:lnTo>
                      <a:pt x="6447" y="3282"/>
                    </a:lnTo>
                    <a:lnTo>
                      <a:pt x="6418" y="3689"/>
                    </a:lnTo>
                    <a:lnTo>
                      <a:pt x="5229" y="4043"/>
                    </a:lnTo>
                    <a:lnTo>
                      <a:pt x="5464" y="4399"/>
                    </a:lnTo>
                    <a:lnTo>
                      <a:pt x="5116" y="4504"/>
                    </a:lnTo>
                    <a:lnTo>
                      <a:pt x="6531" y="6765"/>
                    </a:lnTo>
                    <a:lnTo>
                      <a:pt x="7353" y="6513"/>
                    </a:lnTo>
                    <a:lnTo>
                      <a:pt x="6447" y="8692"/>
                    </a:lnTo>
                    <a:lnTo>
                      <a:pt x="5553" y="9443"/>
                    </a:lnTo>
                    <a:lnTo>
                      <a:pt x="4843" y="8834"/>
                    </a:lnTo>
                    <a:lnTo>
                      <a:pt x="4298" y="8386"/>
                    </a:lnTo>
                    <a:lnTo>
                      <a:pt x="2832" y="8834"/>
                    </a:lnTo>
                    <a:lnTo>
                      <a:pt x="2082" y="8944"/>
                    </a:lnTo>
                    <a:lnTo>
                      <a:pt x="2082" y="8743"/>
                    </a:lnTo>
                    <a:lnTo>
                      <a:pt x="2676" y="8282"/>
                    </a:lnTo>
                    <a:lnTo>
                      <a:pt x="2607" y="7730"/>
                    </a:lnTo>
                    <a:lnTo>
                      <a:pt x="2800" y="7681"/>
                    </a:lnTo>
                    <a:lnTo>
                      <a:pt x="2518" y="6820"/>
                    </a:lnTo>
                    <a:lnTo>
                      <a:pt x="2211" y="6110"/>
                    </a:lnTo>
                    <a:lnTo>
                      <a:pt x="1502" y="6203"/>
                    </a:lnTo>
                    <a:lnTo>
                      <a:pt x="1342" y="5407"/>
                    </a:lnTo>
                    <a:lnTo>
                      <a:pt x="1342" y="4848"/>
                    </a:lnTo>
                    <a:lnTo>
                      <a:pt x="512" y="5054"/>
                    </a:lnTo>
                    <a:lnTo>
                      <a:pt x="512" y="4092"/>
                    </a:lnTo>
                    <a:lnTo>
                      <a:pt x="318" y="3379"/>
                    </a:lnTo>
                    <a:lnTo>
                      <a:pt x="0" y="2930"/>
                    </a:lnTo>
                    <a:lnTo>
                      <a:pt x="594" y="2724"/>
                    </a:lnTo>
                    <a:lnTo>
                      <a:pt x="1145" y="2271"/>
                    </a:lnTo>
                    <a:lnTo>
                      <a:pt x="1502" y="1917"/>
                    </a:lnTo>
                    <a:lnTo>
                      <a:pt x="1620" y="3081"/>
                    </a:lnTo>
                    <a:lnTo>
                      <a:pt x="1459" y="4295"/>
                    </a:lnTo>
                    <a:lnTo>
                      <a:pt x="1812" y="4450"/>
                    </a:lnTo>
                    <a:lnTo>
                      <a:pt x="2246" y="4344"/>
                    </a:lnTo>
                    <a:lnTo>
                      <a:pt x="2249" y="2829"/>
                    </a:lnTo>
                    <a:lnTo>
                      <a:pt x="2363" y="2724"/>
                    </a:lnTo>
                    <a:lnTo>
                      <a:pt x="3152" y="2976"/>
                    </a:lnTo>
                    <a:lnTo>
                      <a:pt x="2568" y="3030"/>
                    </a:lnTo>
                    <a:lnTo>
                      <a:pt x="2635" y="3433"/>
                    </a:lnTo>
                    <a:lnTo>
                      <a:pt x="2800" y="4092"/>
                    </a:lnTo>
                    <a:lnTo>
                      <a:pt x="3580" y="3840"/>
                    </a:lnTo>
                    <a:lnTo>
                      <a:pt x="3382" y="2724"/>
                    </a:lnTo>
                    <a:lnTo>
                      <a:pt x="3382" y="2019"/>
                    </a:lnTo>
                    <a:lnTo>
                      <a:pt x="3542" y="1210"/>
                    </a:lnTo>
                    <a:lnTo>
                      <a:pt x="3898" y="509"/>
                    </a:lnTo>
                    <a:lnTo>
                      <a:pt x="42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852560" y="5735880"/>
                <a:ext cx="328680" cy="310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9" name="" descr=""/>
          <p:cNvPicPr/>
          <p:nvPr/>
        </p:nvPicPr>
        <p:blipFill>
          <a:blip r:embed="rId1"/>
          <a:stretch/>
        </p:blipFill>
        <p:spPr>
          <a:xfrm>
            <a:off x="7848720" y="1255680"/>
            <a:ext cx="844560" cy="84456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3595680" y="4903920"/>
            <a:ext cx="1698480" cy="1356840"/>
            <a:chOff x="3595680" y="4903920"/>
            <a:chExt cx="1698480" cy="1356840"/>
          </a:xfrm>
        </p:grpSpPr>
        <p:sp>
          <p:nvSpPr>
            <p:cNvPr id="1621" name=""/>
            <p:cNvSpPr/>
            <p:nvPr/>
          </p:nvSpPr>
          <p:spPr>
            <a:xfrm>
              <a:off x="4846320" y="5648760"/>
              <a:ext cx="148680" cy="604080"/>
            </a:xfrm>
            <a:custGeom>
              <a:avLst/>
              <a:gdLst/>
              <a:ahLst/>
              <a:rect l="l" t="t" r="r" b="b"/>
              <a:pathLst>
                <a:path w="1222" h="5353">
                  <a:moveTo>
                    <a:pt x="936" y="0"/>
                  </a:moveTo>
                  <a:lnTo>
                    <a:pt x="1222" y="5353"/>
                  </a:lnTo>
                  <a:lnTo>
                    <a:pt x="0" y="5353"/>
                  </a:lnTo>
                  <a:lnTo>
                    <a:pt x="180" y="1644"/>
                  </a:lnTo>
                  <a:lnTo>
                    <a:pt x="358" y="761"/>
                  </a:lnTo>
                  <a:lnTo>
                    <a:pt x="759" y="156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49480" y="5657040"/>
              <a:ext cx="196560" cy="595800"/>
            </a:xfrm>
            <a:custGeom>
              <a:avLst/>
              <a:gdLst/>
              <a:ahLst/>
              <a:rect l="l" t="t" r="r" b="b"/>
              <a:pathLst>
                <a:path w="1613" h="5280">
                  <a:moveTo>
                    <a:pt x="0" y="5280"/>
                  </a:moveTo>
                  <a:lnTo>
                    <a:pt x="318" y="0"/>
                  </a:lnTo>
                  <a:lnTo>
                    <a:pt x="657" y="533"/>
                  </a:lnTo>
                  <a:lnTo>
                    <a:pt x="862" y="1325"/>
                  </a:lnTo>
                  <a:lnTo>
                    <a:pt x="1613" y="5280"/>
                  </a:lnTo>
                  <a:lnTo>
                    <a:pt x="0" y="528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618720" y="5042880"/>
              <a:ext cx="1624320" cy="1207440"/>
            </a:xfrm>
            <a:custGeom>
              <a:avLst/>
              <a:gdLst/>
              <a:ahLst/>
              <a:rect l="l" t="t" r="r" b="b"/>
              <a:pathLst>
                <a:path w="13348" h="10692">
                  <a:moveTo>
                    <a:pt x="3520" y="10692"/>
                  </a:moveTo>
                  <a:lnTo>
                    <a:pt x="3211" y="9017"/>
                  </a:lnTo>
                  <a:lnTo>
                    <a:pt x="2703" y="6699"/>
                  </a:lnTo>
                  <a:lnTo>
                    <a:pt x="2475" y="5763"/>
                  </a:lnTo>
                  <a:lnTo>
                    <a:pt x="1634" y="4579"/>
                  </a:lnTo>
                  <a:lnTo>
                    <a:pt x="651" y="2905"/>
                  </a:lnTo>
                  <a:lnTo>
                    <a:pt x="0" y="1045"/>
                  </a:lnTo>
                  <a:lnTo>
                    <a:pt x="0" y="546"/>
                  </a:lnTo>
                  <a:lnTo>
                    <a:pt x="87" y="399"/>
                  </a:lnTo>
                  <a:lnTo>
                    <a:pt x="283" y="189"/>
                  </a:lnTo>
                  <a:lnTo>
                    <a:pt x="589" y="47"/>
                  </a:lnTo>
                  <a:lnTo>
                    <a:pt x="1216" y="0"/>
                  </a:lnTo>
                  <a:lnTo>
                    <a:pt x="1554" y="148"/>
                  </a:lnTo>
                  <a:lnTo>
                    <a:pt x="1910" y="438"/>
                  </a:lnTo>
                  <a:lnTo>
                    <a:pt x="2422" y="1404"/>
                  </a:lnTo>
                  <a:lnTo>
                    <a:pt x="2198" y="1722"/>
                  </a:lnTo>
                  <a:lnTo>
                    <a:pt x="2284" y="1932"/>
                  </a:lnTo>
                  <a:lnTo>
                    <a:pt x="3015" y="2301"/>
                  </a:lnTo>
                  <a:lnTo>
                    <a:pt x="3185" y="2511"/>
                  </a:lnTo>
                  <a:lnTo>
                    <a:pt x="3464" y="2974"/>
                  </a:lnTo>
                  <a:lnTo>
                    <a:pt x="4029" y="3188"/>
                  </a:lnTo>
                  <a:lnTo>
                    <a:pt x="4222" y="3299"/>
                  </a:lnTo>
                  <a:lnTo>
                    <a:pt x="4424" y="3262"/>
                  </a:lnTo>
                  <a:lnTo>
                    <a:pt x="4787" y="3401"/>
                  </a:lnTo>
                  <a:lnTo>
                    <a:pt x="5013" y="3477"/>
                  </a:lnTo>
                  <a:lnTo>
                    <a:pt x="5318" y="3401"/>
                  </a:lnTo>
                  <a:lnTo>
                    <a:pt x="5525" y="3007"/>
                  </a:lnTo>
                  <a:lnTo>
                    <a:pt x="5659" y="2905"/>
                  </a:lnTo>
                  <a:lnTo>
                    <a:pt x="7799" y="2974"/>
                  </a:lnTo>
                  <a:lnTo>
                    <a:pt x="8026" y="3188"/>
                  </a:lnTo>
                  <a:lnTo>
                    <a:pt x="8197" y="3477"/>
                  </a:lnTo>
                  <a:lnTo>
                    <a:pt x="8446" y="3440"/>
                  </a:lnTo>
                  <a:lnTo>
                    <a:pt x="8757" y="3299"/>
                  </a:lnTo>
                  <a:lnTo>
                    <a:pt x="8898" y="3368"/>
                  </a:lnTo>
                  <a:lnTo>
                    <a:pt x="9011" y="3223"/>
                  </a:lnTo>
                  <a:lnTo>
                    <a:pt x="9346" y="3119"/>
                  </a:lnTo>
                  <a:lnTo>
                    <a:pt x="9606" y="3080"/>
                  </a:lnTo>
                  <a:lnTo>
                    <a:pt x="9883" y="2684"/>
                  </a:lnTo>
                  <a:lnTo>
                    <a:pt x="10362" y="2366"/>
                  </a:lnTo>
                  <a:lnTo>
                    <a:pt x="10671" y="2052"/>
                  </a:lnTo>
                  <a:lnTo>
                    <a:pt x="10957" y="1932"/>
                  </a:lnTo>
                  <a:lnTo>
                    <a:pt x="11005" y="1544"/>
                  </a:lnTo>
                  <a:lnTo>
                    <a:pt x="11374" y="832"/>
                  </a:lnTo>
                  <a:lnTo>
                    <a:pt x="11766" y="546"/>
                  </a:lnTo>
                  <a:lnTo>
                    <a:pt x="12163" y="325"/>
                  </a:lnTo>
                  <a:lnTo>
                    <a:pt x="12898" y="258"/>
                  </a:lnTo>
                  <a:lnTo>
                    <a:pt x="13177" y="298"/>
                  </a:lnTo>
                  <a:lnTo>
                    <a:pt x="13348" y="511"/>
                  </a:lnTo>
                  <a:lnTo>
                    <a:pt x="13348" y="1221"/>
                  </a:lnTo>
                  <a:lnTo>
                    <a:pt x="11973" y="3864"/>
                  </a:lnTo>
                  <a:lnTo>
                    <a:pt x="11183" y="4941"/>
                  </a:lnTo>
                  <a:lnTo>
                    <a:pt x="10219" y="6335"/>
                  </a:lnTo>
                  <a:lnTo>
                    <a:pt x="10104" y="9731"/>
                  </a:lnTo>
                  <a:lnTo>
                    <a:pt x="10023" y="10340"/>
                  </a:lnTo>
                  <a:lnTo>
                    <a:pt x="9940" y="10692"/>
                  </a:lnTo>
                  <a:lnTo>
                    <a:pt x="3520" y="10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334400" y="5466240"/>
              <a:ext cx="311400" cy="786600"/>
            </a:xfrm>
            <a:custGeom>
              <a:avLst/>
              <a:gdLst/>
              <a:ahLst/>
              <a:rect l="l" t="t" r="r" b="b"/>
              <a:pathLst>
                <a:path w="2558" h="6970">
                  <a:moveTo>
                    <a:pt x="2558" y="6970"/>
                  </a:moveTo>
                  <a:lnTo>
                    <a:pt x="2334" y="6670"/>
                  </a:lnTo>
                  <a:lnTo>
                    <a:pt x="2268" y="6525"/>
                  </a:lnTo>
                  <a:lnTo>
                    <a:pt x="1870" y="4973"/>
                  </a:lnTo>
                  <a:lnTo>
                    <a:pt x="1747" y="3283"/>
                  </a:lnTo>
                  <a:lnTo>
                    <a:pt x="1580" y="2393"/>
                  </a:lnTo>
                  <a:lnTo>
                    <a:pt x="1228" y="1741"/>
                  </a:lnTo>
                  <a:lnTo>
                    <a:pt x="1187" y="1292"/>
                  </a:lnTo>
                  <a:lnTo>
                    <a:pt x="1507" y="842"/>
                  </a:lnTo>
                  <a:lnTo>
                    <a:pt x="1507" y="729"/>
                  </a:lnTo>
                  <a:lnTo>
                    <a:pt x="1929" y="485"/>
                  </a:lnTo>
                  <a:lnTo>
                    <a:pt x="2111" y="97"/>
                  </a:lnTo>
                  <a:lnTo>
                    <a:pt x="2000" y="0"/>
                  </a:lnTo>
                  <a:lnTo>
                    <a:pt x="1929" y="0"/>
                  </a:lnTo>
                  <a:lnTo>
                    <a:pt x="1629" y="303"/>
                  </a:lnTo>
                  <a:lnTo>
                    <a:pt x="1468" y="729"/>
                  </a:lnTo>
                  <a:lnTo>
                    <a:pt x="1112" y="729"/>
                  </a:lnTo>
                  <a:lnTo>
                    <a:pt x="654" y="802"/>
                  </a:lnTo>
                  <a:lnTo>
                    <a:pt x="509" y="694"/>
                  </a:lnTo>
                  <a:lnTo>
                    <a:pt x="433" y="582"/>
                  </a:lnTo>
                  <a:lnTo>
                    <a:pt x="378" y="323"/>
                  </a:lnTo>
                  <a:lnTo>
                    <a:pt x="246" y="206"/>
                  </a:lnTo>
                  <a:lnTo>
                    <a:pt x="0" y="393"/>
                  </a:lnTo>
                  <a:lnTo>
                    <a:pt x="283" y="771"/>
                  </a:lnTo>
                  <a:lnTo>
                    <a:pt x="562" y="861"/>
                  </a:lnTo>
                  <a:lnTo>
                    <a:pt x="931" y="1312"/>
                  </a:lnTo>
                  <a:lnTo>
                    <a:pt x="744" y="2272"/>
                  </a:lnTo>
                  <a:lnTo>
                    <a:pt x="744" y="3538"/>
                  </a:lnTo>
                  <a:lnTo>
                    <a:pt x="982" y="5610"/>
                  </a:lnTo>
                  <a:lnTo>
                    <a:pt x="1004" y="6594"/>
                  </a:lnTo>
                  <a:lnTo>
                    <a:pt x="931" y="6970"/>
                  </a:lnTo>
                  <a:lnTo>
                    <a:pt x="2558" y="69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407480" y="5548680"/>
              <a:ext cx="100800" cy="704160"/>
            </a:xfrm>
            <a:custGeom>
              <a:avLst/>
              <a:gdLst/>
              <a:ahLst/>
              <a:rect l="l" t="t" r="r" b="b"/>
              <a:pathLst>
                <a:path w="835" h="6241">
                  <a:moveTo>
                    <a:pt x="538" y="0"/>
                  </a:moveTo>
                  <a:lnTo>
                    <a:pt x="443" y="132"/>
                  </a:lnTo>
                  <a:lnTo>
                    <a:pt x="485" y="297"/>
                  </a:lnTo>
                  <a:lnTo>
                    <a:pt x="485" y="464"/>
                  </a:lnTo>
                  <a:lnTo>
                    <a:pt x="575" y="563"/>
                  </a:lnTo>
                  <a:lnTo>
                    <a:pt x="611" y="743"/>
                  </a:lnTo>
                  <a:lnTo>
                    <a:pt x="667" y="1125"/>
                  </a:lnTo>
                  <a:lnTo>
                    <a:pt x="835" y="1451"/>
                  </a:lnTo>
                  <a:lnTo>
                    <a:pt x="611" y="1148"/>
                  </a:lnTo>
                  <a:lnTo>
                    <a:pt x="538" y="1125"/>
                  </a:lnTo>
                  <a:lnTo>
                    <a:pt x="443" y="1125"/>
                  </a:lnTo>
                  <a:lnTo>
                    <a:pt x="371" y="1192"/>
                  </a:lnTo>
                  <a:lnTo>
                    <a:pt x="289" y="1475"/>
                  </a:lnTo>
                  <a:lnTo>
                    <a:pt x="279" y="1851"/>
                  </a:lnTo>
                  <a:lnTo>
                    <a:pt x="556" y="4292"/>
                  </a:lnTo>
                  <a:lnTo>
                    <a:pt x="632" y="5272"/>
                  </a:lnTo>
                  <a:lnTo>
                    <a:pt x="676" y="6052"/>
                  </a:lnTo>
                  <a:lnTo>
                    <a:pt x="727" y="6241"/>
                  </a:lnTo>
                  <a:lnTo>
                    <a:pt x="289" y="6241"/>
                  </a:lnTo>
                  <a:lnTo>
                    <a:pt x="353" y="5674"/>
                  </a:lnTo>
                  <a:lnTo>
                    <a:pt x="335" y="5185"/>
                  </a:lnTo>
                  <a:lnTo>
                    <a:pt x="289" y="4620"/>
                  </a:lnTo>
                  <a:lnTo>
                    <a:pt x="206" y="4222"/>
                  </a:lnTo>
                  <a:lnTo>
                    <a:pt x="109" y="3428"/>
                  </a:lnTo>
                  <a:lnTo>
                    <a:pt x="74" y="2626"/>
                  </a:lnTo>
                  <a:lnTo>
                    <a:pt x="74" y="1962"/>
                  </a:lnTo>
                  <a:lnTo>
                    <a:pt x="109" y="1451"/>
                  </a:lnTo>
                  <a:lnTo>
                    <a:pt x="224" y="961"/>
                  </a:lnTo>
                  <a:lnTo>
                    <a:pt x="316" y="600"/>
                  </a:lnTo>
                  <a:lnTo>
                    <a:pt x="289" y="512"/>
                  </a:lnTo>
                  <a:lnTo>
                    <a:pt x="190" y="418"/>
                  </a:lnTo>
                  <a:lnTo>
                    <a:pt x="0" y="113"/>
                  </a:lnTo>
                  <a:lnTo>
                    <a:pt x="241" y="18"/>
                  </a:lnTo>
                  <a:lnTo>
                    <a:pt x="425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96200" y="5081760"/>
              <a:ext cx="375840" cy="134280"/>
            </a:xfrm>
            <a:custGeom>
              <a:avLst/>
              <a:gdLst/>
              <a:ahLst/>
              <a:rect l="l" t="t" r="r" b="b"/>
              <a:pathLst>
                <a:path w="3087" h="1192">
                  <a:moveTo>
                    <a:pt x="3087" y="0"/>
                  </a:moveTo>
                  <a:lnTo>
                    <a:pt x="1941" y="0"/>
                  </a:lnTo>
                  <a:lnTo>
                    <a:pt x="934" y="172"/>
                  </a:lnTo>
                  <a:lnTo>
                    <a:pt x="0" y="641"/>
                  </a:lnTo>
                  <a:lnTo>
                    <a:pt x="125" y="1141"/>
                  </a:lnTo>
                  <a:lnTo>
                    <a:pt x="1960" y="1192"/>
                  </a:lnTo>
                  <a:lnTo>
                    <a:pt x="2547" y="507"/>
                  </a:lnTo>
                  <a:lnTo>
                    <a:pt x="2686" y="378"/>
                  </a:lnTo>
                  <a:lnTo>
                    <a:pt x="3087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06640" y="5049000"/>
              <a:ext cx="484560" cy="235440"/>
            </a:xfrm>
            <a:custGeom>
              <a:avLst/>
              <a:gdLst/>
              <a:ahLst/>
              <a:rect l="l" t="t" r="r" b="b"/>
              <a:pathLst>
                <a:path w="3991" h="2091">
                  <a:moveTo>
                    <a:pt x="3892" y="2058"/>
                  </a:moveTo>
                  <a:lnTo>
                    <a:pt x="3583" y="1779"/>
                  </a:lnTo>
                  <a:lnTo>
                    <a:pt x="3258" y="1539"/>
                  </a:lnTo>
                  <a:lnTo>
                    <a:pt x="3166" y="1379"/>
                  </a:lnTo>
                  <a:lnTo>
                    <a:pt x="2949" y="1280"/>
                  </a:lnTo>
                  <a:lnTo>
                    <a:pt x="1707" y="1280"/>
                  </a:lnTo>
                  <a:lnTo>
                    <a:pt x="901" y="1418"/>
                  </a:lnTo>
                  <a:lnTo>
                    <a:pt x="408" y="460"/>
                  </a:lnTo>
                  <a:lnTo>
                    <a:pt x="257" y="284"/>
                  </a:lnTo>
                  <a:lnTo>
                    <a:pt x="0" y="93"/>
                  </a:lnTo>
                  <a:lnTo>
                    <a:pt x="275" y="0"/>
                  </a:lnTo>
                  <a:lnTo>
                    <a:pt x="839" y="0"/>
                  </a:lnTo>
                  <a:lnTo>
                    <a:pt x="2788" y="424"/>
                  </a:lnTo>
                  <a:lnTo>
                    <a:pt x="3597" y="424"/>
                  </a:lnTo>
                  <a:lnTo>
                    <a:pt x="3511" y="1086"/>
                  </a:lnTo>
                  <a:lnTo>
                    <a:pt x="3991" y="2091"/>
                  </a:lnTo>
                  <a:lnTo>
                    <a:pt x="3892" y="2058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3960" y="4961520"/>
              <a:ext cx="416520" cy="545400"/>
            </a:xfrm>
            <a:custGeom>
              <a:avLst/>
              <a:gdLst/>
              <a:ahLst/>
              <a:rect l="l" t="t" r="r" b="b"/>
              <a:pathLst>
                <a:path w="3423" h="4835">
                  <a:moveTo>
                    <a:pt x="1743" y="4740"/>
                  </a:moveTo>
                  <a:lnTo>
                    <a:pt x="1505" y="4668"/>
                  </a:lnTo>
                  <a:lnTo>
                    <a:pt x="1259" y="4632"/>
                  </a:lnTo>
                  <a:lnTo>
                    <a:pt x="1136" y="4472"/>
                  </a:lnTo>
                  <a:lnTo>
                    <a:pt x="670" y="4103"/>
                  </a:lnTo>
                  <a:lnTo>
                    <a:pt x="582" y="3859"/>
                  </a:lnTo>
                  <a:lnTo>
                    <a:pt x="582" y="3061"/>
                  </a:lnTo>
                  <a:lnTo>
                    <a:pt x="274" y="2554"/>
                  </a:lnTo>
                  <a:lnTo>
                    <a:pt x="0" y="1868"/>
                  </a:lnTo>
                  <a:lnTo>
                    <a:pt x="120" y="1607"/>
                  </a:lnTo>
                  <a:lnTo>
                    <a:pt x="929" y="404"/>
                  </a:lnTo>
                  <a:lnTo>
                    <a:pt x="2637" y="0"/>
                  </a:lnTo>
                  <a:lnTo>
                    <a:pt x="3158" y="323"/>
                  </a:lnTo>
                  <a:lnTo>
                    <a:pt x="3423" y="1328"/>
                  </a:lnTo>
                  <a:lnTo>
                    <a:pt x="3197" y="2661"/>
                  </a:lnTo>
                  <a:lnTo>
                    <a:pt x="2755" y="3629"/>
                  </a:lnTo>
                  <a:lnTo>
                    <a:pt x="2665" y="4044"/>
                  </a:lnTo>
                  <a:lnTo>
                    <a:pt x="2543" y="4443"/>
                  </a:lnTo>
                  <a:lnTo>
                    <a:pt x="2294" y="4632"/>
                  </a:lnTo>
                  <a:lnTo>
                    <a:pt x="2013" y="4835"/>
                  </a:lnTo>
                  <a:lnTo>
                    <a:pt x="1743" y="474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18480" y="4903920"/>
              <a:ext cx="376560" cy="245520"/>
            </a:xfrm>
            <a:custGeom>
              <a:avLst/>
              <a:gdLst/>
              <a:ahLst/>
              <a:rect l="l" t="t" r="r" b="b"/>
              <a:pathLst>
                <a:path w="3094" h="2172">
                  <a:moveTo>
                    <a:pt x="3094" y="567"/>
                  </a:moveTo>
                  <a:lnTo>
                    <a:pt x="3094" y="395"/>
                  </a:lnTo>
                  <a:lnTo>
                    <a:pt x="2940" y="201"/>
                  </a:lnTo>
                  <a:lnTo>
                    <a:pt x="2659" y="35"/>
                  </a:lnTo>
                  <a:lnTo>
                    <a:pt x="2261" y="0"/>
                  </a:lnTo>
                  <a:lnTo>
                    <a:pt x="1649" y="53"/>
                  </a:lnTo>
                  <a:lnTo>
                    <a:pt x="1308" y="149"/>
                  </a:lnTo>
                  <a:lnTo>
                    <a:pt x="997" y="300"/>
                  </a:lnTo>
                  <a:lnTo>
                    <a:pt x="672" y="544"/>
                  </a:lnTo>
                  <a:lnTo>
                    <a:pt x="374" y="1019"/>
                  </a:lnTo>
                  <a:lnTo>
                    <a:pt x="262" y="1469"/>
                  </a:lnTo>
                  <a:lnTo>
                    <a:pt x="0" y="2019"/>
                  </a:lnTo>
                  <a:lnTo>
                    <a:pt x="0" y="2137"/>
                  </a:lnTo>
                  <a:lnTo>
                    <a:pt x="130" y="2172"/>
                  </a:lnTo>
                  <a:lnTo>
                    <a:pt x="580" y="1849"/>
                  </a:lnTo>
                  <a:lnTo>
                    <a:pt x="1015" y="1042"/>
                  </a:lnTo>
                  <a:lnTo>
                    <a:pt x="1297" y="1003"/>
                  </a:lnTo>
                  <a:lnTo>
                    <a:pt x="2037" y="715"/>
                  </a:lnTo>
                  <a:lnTo>
                    <a:pt x="1995" y="872"/>
                  </a:lnTo>
                  <a:lnTo>
                    <a:pt x="2571" y="507"/>
                  </a:lnTo>
                  <a:lnTo>
                    <a:pt x="2989" y="507"/>
                  </a:lnTo>
                  <a:lnTo>
                    <a:pt x="3094" y="567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392720" y="5143320"/>
              <a:ext cx="53280" cy="14040"/>
            </a:xfrm>
            <a:custGeom>
              <a:avLst/>
              <a:gdLst/>
              <a:ahLst/>
              <a:rect l="l" t="t" r="r" b="b"/>
              <a:pathLst>
                <a:path w="440" h="131">
                  <a:moveTo>
                    <a:pt x="0" y="58"/>
                  </a:moveTo>
                  <a:lnTo>
                    <a:pt x="85" y="131"/>
                  </a:lnTo>
                  <a:lnTo>
                    <a:pt x="338" y="131"/>
                  </a:lnTo>
                  <a:lnTo>
                    <a:pt x="384" y="111"/>
                  </a:lnTo>
                  <a:lnTo>
                    <a:pt x="440" y="11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533120" y="5165640"/>
              <a:ext cx="52200" cy="13320"/>
            </a:xfrm>
            <a:custGeom>
              <a:avLst/>
              <a:gdLst/>
              <a:ahLst/>
              <a:rect l="l" t="t" r="r" b="b"/>
              <a:pathLst>
                <a:path w="434" h="117">
                  <a:moveTo>
                    <a:pt x="0" y="55"/>
                  </a:moveTo>
                  <a:lnTo>
                    <a:pt x="88" y="117"/>
                  </a:lnTo>
                  <a:lnTo>
                    <a:pt x="434" y="117"/>
                  </a:lnTo>
                  <a:lnTo>
                    <a:pt x="314" y="0"/>
                  </a:lnTo>
                  <a:lnTo>
                    <a:pt x="88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408200" y="5272200"/>
              <a:ext cx="126360" cy="34200"/>
            </a:xfrm>
            <a:custGeom>
              <a:avLst/>
              <a:gdLst/>
              <a:ahLst/>
              <a:rect l="l" t="t" r="r" b="b"/>
              <a:pathLst>
                <a:path w="1040" h="303">
                  <a:moveTo>
                    <a:pt x="58" y="0"/>
                  </a:moveTo>
                  <a:lnTo>
                    <a:pt x="548" y="112"/>
                  </a:lnTo>
                  <a:lnTo>
                    <a:pt x="1029" y="112"/>
                  </a:lnTo>
                  <a:lnTo>
                    <a:pt x="1040" y="172"/>
                  </a:lnTo>
                  <a:lnTo>
                    <a:pt x="846" y="303"/>
                  </a:lnTo>
                  <a:lnTo>
                    <a:pt x="548" y="303"/>
                  </a:lnTo>
                  <a:lnTo>
                    <a:pt x="145" y="191"/>
                  </a:lnTo>
                  <a:lnTo>
                    <a:pt x="0" y="6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38880" y="5106960"/>
              <a:ext cx="70920" cy="43200"/>
            </a:xfrm>
            <a:custGeom>
              <a:avLst/>
              <a:gdLst/>
              <a:ahLst/>
              <a:rect l="l" t="t" r="r" b="b"/>
              <a:pathLst>
                <a:path w="586" h="386">
                  <a:moveTo>
                    <a:pt x="0" y="0"/>
                  </a:moveTo>
                  <a:lnTo>
                    <a:pt x="103" y="209"/>
                  </a:lnTo>
                  <a:lnTo>
                    <a:pt x="586" y="386"/>
                  </a:lnTo>
                  <a:lnTo>
                    <a:pt x="520" y="185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74360" y="5097240"/>
              <a:ext cx="100800" cy="23040"/>
            </a:xfrm>
            <a:custGeom>
              <a:avLst/>
              <a:gdLst/>
              <a:ahLst/>
              <a:rect l="l" t="t" r="r" b="b"/>
              <a:pathLst>
                <a:path w="838" h="214">
                  <a:moveTo>
                    <a:pt x="838" y="67"/>
                  </a:moveTo>
                  <a:lnTo>
                    <a:pt x="532" y="214"/>
                  </a:lnTo>
                  <a:lnTo>
                    <a:pt x="202" y="152"/>
                  </a:lnTo>
                  <a:lnTo>
                    <a:pt x="0" y="214"/>
                  </a:lnTo>
                  <a:lnTo>
                    <a:pt x="156" y="51"/>
                  </a:lnTo>
                  <a:lnTo>
                    <a:pt x="308" y="0"/>
                  </a:lnTo>
                  <a:lnTo>
                    <a:pt x="448" y="67"/>
                  </a:lnTo>
                  <a:lnTo>
                    <a:pt x="769" y="25"/>
                  </a:lnTo>
                  <a:lnTo>
                    <a:pt x="83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5880" y="5144040"/>
              <a:ext cx="32760" cy="9000"/>
            </a:xfrm>
            <a:custGeom>
              <a:avLst/>
              <a:gdLst/>
              <a:ahLst/>
              <a:rect l="l" t="t" r="r" b="b"/>
              <a:pathLst>
                <a:path w="268" h="78">
                  <a:moveTo>
                    <a:pt x="0" y="78"/>
                  </a:moveTo>
                  <a:lnTo>
                    <a:pt x="121" y="0"/>
                  </a:lnTo>
                  <a:lnTo>
                    <a:pt x="268" y="0"/>
                  </a:lnTo>
                  <a:lnTo>
                    <a:pt x="186" y="57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08200" y="5148360"/>
              <a:ext cx="20520" cy="1080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23" y="0"/>
                  </a:moveTo>
                  <a:lnTo>
                    <a:pt x="49" y="33"/>
                  </a:lnTo>
                  <a:lnTo>
                    <a:pt x="132" y="33"/>
                  </a:lnTo>
                  <a:lnTo>
                    <a:pt x="163" y="0"/>
                  </a:lnTo>
                  <a:lnTo>
                    <a:pt x="163" y="76"/>
                  </a:lnTo>
                  <a:lnTo>
                    <a:pt x="150" y="96"/>
                  </a:lnTo>
                  <a:lnTo>
                    <a:pt x="37" y="96"/>
                  </a:lnTo>
                  <a:lnTo>
                    <a:pt x="0" y="56"/>
                  </a:lnTo>
                  <a:lnTo>
                    <a:pt x="0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91640" y="5153040"/>
              <a:ext cx="10800" cy="612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0" y="0"/>
                  </a:moveTo>
                  <a:lnTo>
                    <a:pt x="73" y="63"/>
                  </a:lnTo>
                  <a:lnTo>
                    <a:pt x="88" y="6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421880" y="5144040"/>
              <a:ext cx="28800" cy="15120"/>
            </a:xfrm>
            <a:custGeom>
              <a:avLst/>
              <a:gdLst/>
              <a:ahLst/>
              <a:rect l="l" t="t" r="r" b="b"/>
              <a:pathLst>
                <a:path w="242" h="141">
                  <a:moveTo>
                    <a:pt x="0" y="0"/>
                  </a:moveTo>
                  <a:lnTo>
                    <a:pt x="57" y="57"/>
                  </a:lnTo>
                  <a:lnTo>
                    <a:pt x="57" y="78"/>
                  </a:lnTo>
                  <a:lnTo>
                    <a:pt x="125" y="78"/>
                  </a:lnTo>
                  <a:lnTo>
                    <a:pt x="242" y="141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440600" y="5133960"/>
              <a:ext cx="29880" cy="24840"/>
            </a:xfrm>
            <a:custGeom>
              <a:avLst/>
              <a:gdLst/>
              <a:ahLst/>
              <a:rect l="l" t="t" r="r" b="b"/>
              <a:pathLst>
                <a:path w="246" h="224">
                  <a:moveTo>
                    <a:pt x="0" y="0"/>
                  </a:moveTo>
                  <a:lnTo>
                    <a:pt x="174" y="224"/>
                  </a:lnTo>
                  <a:lnTo>
                    <a:pt x="246" y="83"/>
                  </a:lnTo>
                  <a:lnTo>
                    <a:pt x="134" y="20"/>
                  </a:lnTo>
                  <a:lnTo>
                    <a:pt x="1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1480" y="5167440"/>
              <a:ext cx="27360" cy="1512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48" y="0"/>
                  </a:moveTo>
                  <a:lnTo>
                    <a:pt x="92" y="99"/>
                  </a:lnTo>
                  <a:lnTo>
                    <a:pt x="227" y="53"/>
                  </a:lnTo>
                  <a:lnTo>
                    <a:pt x="160" y="119"/>
                  </a:lnTo>
                  <a:lnTo>
                    <a:pt x="114" y="136"/>
                  </a:lnTo>
                  <a:lnTo>
                    <a:pt x="79" y="136"/>
                  </a:lnTo>
                  <a:lnTo>
                    <a:pt x="0" y="7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555440" y="5167440"/>
              <a:ext cx="37080" cy="15120"/>
            </a:xfrm>
            <a:custGeom>
              <a:avLst/>
              <a:gdLst/>
              <a:ahLst/>
              <a:rect l="l" t="t" r="r" b="b"/>
              <a:pathLst>
                <a:path w="305" h="136">
                  <a:moveTo>
                    <a:pt x="33" y="20"/>
                  </a:moveTo>
                  <a:lnTo>
                    <a:pt x="116" y="20"/>
                  </a:lnTo>
                  <a:lnTo>
                    <a:pt x="257" y="136"/>
                  </a:lnTo>
                  <a:lnTo>
                    <a:pt x="305" y="136"/>
                  </a:lnTo>
                  <a:lnTo>
                    <a:pt x="196" y="0"/>
                  </a:lnTo>
                  <a:lnTo>
                    <a:pt x="0" y="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523040" y="5150160"/>
              <a:ext cx="25200" cy="32400"/>
            </a:xfrm>
            <a:custGeom>
              <a:avLst/>
              <a:gdLst/>
              <a:ahLst/>
              <a:rect l="l" t="t" r="r" b="b"/>
              <a:pathLst>
                <a:path w="211" h="288">
                  <a:moveTo>
                    <a:pt x="211" y="152"/>
                  </a:moveTo>
                  <a:lnTo>
                    <a:pt x="66" y="226"/>
                  </a:lnTo>
                  <a:lnTo>
                    <a:pt x="36" y="205"/>
                  </a:lnTo>
                  <a:lnTo>
                    <a:pt x="0" y="288"/>
                  </a:lnTo>
                  <a:lnTo>
                    <a:pt x="0" y="84"/>
                  </a:lnTo>
                  <a:lnTo>
                    <a:pt x="53" y="152"/>
                  </a:lnTo>
                  <a:lnTo>
                    <a:pt x="80" y="44"/>
                  </a:lnTo>
                  <a:lnTo>
                    <a:pt x="163" y="0"/>
                  </a:lnTo>
                  <a:lnTo>
                    <a:pt x="101" y="152"/>
                  </a:lnTo>
                  <a:lnTo>
                    <a:pt x="21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570920" y="51829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71480" y="5148360"/>
              <a:ext cx="205200" cy="168840"/>
            </a:xfrm>
            <a:custGeom>
              <a:avLst/>
              <a:gdLst/>
              <a:ahLst/>
              <a:rect l="l" t="t" r="r" b="b"/>
              <a:pathLst>
                <a:path w="1686" h="1494">
                  <a:moveTo>
                    <a:pt x="1200" y="0"/>
                  </a:moveTo>
                  <a:lnTo>
                    <a:pt x="1128" y="184"/>
                  </a:lnTo>
                  <a:lnTo>
                    <a:pt x="1128" y="408"/>
                  </a:lnTo>
                  <a:lnTo>
                    <a:pt x="1200" y="738"/>
                  </a:lnTo>
                  <a:lnTo>
                    <a:pt x="1200" y="795"/>
                  </a:lnTo>
                  <a:lnTo>
                    <a:pt x="1103" y="867"/>
                  </a:lnTo>
                  <a:lnTo>
                    <a:pt x="971" y="867"/>
                  </a:lnTo>
                  <a:lnTo>
                    <a:pt x="741" y="738"/>
                  </a:lnTo>
                  <a:lnTo>
                    <a:pt x="653" y="738"/>
                  </a:lnTo>
                  <a:lnTo>
                    <a:pt x="582" y="655"/>
                  </a:lnTo>
                  <a:lnTo>
                    <a:pt x="209" y="782"/>
                  </a:lnTo>
                  <a:lnTo>
                    <a:pt x="58" y="895"/>
                  </a:lnTo>
                  <a:lnTo>
                    <a:pt x="0" y="1123"/>
                  </a:lnTo>
                  <a:lnTo>
                    <a:pt x="99" y="1458"/>
                  </a:lnTo>
                  <a:lnTo>
                    <a:pt x="99" y="1169"/>
                  </a:lnTo>
                  <a:lnTo>
                    <a:pt x="167" y="879"/>
                  </a:lnTo>
                  <a:lnTo>
                    <a:pt x="354" y="751"/>
                  </a:lnTo>
                  <a:lnTo>
                    <a:pt x="552" y="715"/>
                  </a:lnTo>
                  <a:lnTo>
                    <a:pt x="589" y="715"/>
                  </a:lnTo>
                  <a:lnTo>
                    <a:pt x="653" y="817"/>
                  </a:lnTo>
                  <a:lnTo>
                    <a:pt x="813" y="867"/>
                  </a:lnTo>
                  <a:lnTo>
                    <a:pt x="925" y="942"/>
                  </a:lnTo>
                  <a:lnTo>
                    <a:pt x="1086" y="942"/>
                  </a:lnTo>
                  <a:lnTo>
                    <a:pt x="1234" y="867"/>
                  </a:lnTo>
                  <a:lnTo>
                    <a:pt x="1347" y="867"/>
                  </a:lnTo>
                  <a:lnTo>
                    <a:pt x="1374" y="795"/>
                  </a:lnTo>
                  <a:lnTo>
                    <a:pt x="1605" y="1026"/>
                  </a:lnTo>
                  <a:lnTo>
                    <a:pt x="1653" y="1206"/>
                  </a:lnTo>
                  <a:lnTo>
                    <a:pt x="1653" y="1360"/>
                  </a:lnTo>
                  <a:lnTo>
                    <a:pt x="1605" y="1494"/>
                  </a:lnTo>
                  <a:lnTo>
                    <a:pt x="1686" y="1316"/>
                  </a:lnTo>
                  <a:lnTo>
                    <a:pt x="1686" y="1206"/>
                  </a:lnTo>
                  <a:lnTo>
                    <a:pt x="1672" y="1072"/>
                  </a:lnTo>
                  <a:lnTo>
                    <a:pt x="1624" y="879"/>
                  </a:lnTo>
                  <a:lnTo>
                    <a:pt x="1686" y="867"/>
                  </a:lnTo>
                  <a:lnTo>
                    <a:pt x="1525" y="844"/>
                  </a:lnTo>
                  <a:lnTo>
                    <a:pt x="1312" y="694"/>
                  </a:lnTo>
                  <a:lnTo>
                    <a:pt x="1218" y="507"/>
                  </a:lnTo>
                  <a:lnTo>
                    <a:pt x="1185" y="263"/>
                  </a:lnTo>
                  <a:lnTo>
                    <a:pt x="1185" y="138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5600" y="5271480"/>
              <a:ext cx="161280" cy="43920"/>
            </a:xfrm>
            <a:custGeom>
              <a:avLst/>
              <a:gdLst/>
              <a:ahLst/>
              <a:rect l="l" t="t" r="r" b="b"/>
              <a:pathLst>
                <a:path w="1327" h="394">
                  <a:moveTo>
                    <a:pt x="0" y="0"/>
                  </a:moveTo>
                  <a:lnTo>
                    <a:pt x="178" y="25"/>
                  </a:lnTo>
                  <a:lnTo>
                    <a:pt x="709" y="150"/>
                  </a:lnTo>
                  <a:lnTo>
                    <a:pt x="218" y="67"/>
                  </a:lnTo>
                  <a:lnTo>
                    <a:pt x="178" y="85"/>
                  </a:lnTo>
                  <a:lnTo>
                    <a:pt x="178" y="122"/>
                  </a:lnTo>
                  <a:lnTo>
                    <a:pt x="384" y="247"/>
                  </a:lnTo>
                  <a:lnTo>
                    <a:pt x="842" y="330"/>
                  </a:lnTo>
                  <a:lnTo>
                    <a:pt x="969" y="330"/>
                  </a:lnTo>
                  <a:lnTo>
                    <a:pt x="1101" y="232"/>
                  </a:lnTo>
                  <a:lnTo>
                    <a:pt x="1149" y="150"/>
                  </a:lnTo>
                  <a:lnTo>
                    <a:pt x="1327" y="150"/>
                  </a:lnTo>
                  <a:lnTo>
                    <a:pt x="1066" y="355"/>
                  </a:lnTo>
                  <a:lnTo>
                    <a:pt x="754" y="394"/>
                  </a:lnTo>
                  <a:lnTo>
                    <a:pt x="326" y="355"/>
                  </a:lnTo>
                  <a:lnTo>
                    <a:pt x="101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486320" y="5288400"/>
              <a:ext cx="49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48080" y="5188320"/>
              <a:ext cx="68760" cy="43920"/>
            </a:xfrm>
            <a:custGeom>
              <a:avLst/>
              <a:gdLst/>
              <a:ahLst/>
              <a:rect l="l" t="t" r="r" b="b"/>
              <a:pathLst>
                <a:path w="569" h="392">
                  <a:moveTo>
                    <a:pt x="0" y="0"/>
                  </a:moveTo>
                  <a:lnTo>
                    <a:pt x="64" y="150"/>
                  </a:lnTo>
                  <a:lnTo>
                    <a:pt x="193" y="268"/>
                  </a:lnTo>
                  <a:lnTo>
                    <a:pt x="569" y="369"/>
                  </a:lnTo>
                  <a:lnTo>
                    <a:pt x="498" y="392"/>
                  </a:lnTo>
                  <a:lnTo>
                    <a:pt x="145" y="286"/>
                  </a:lnTo>
                  <a:lnTo>
                    <a:pt x="28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49880" y="4906440"/>
              <a:ext cx="333000" cy="326880"/>
            </a:xfrm>
            <a:custGeom>
              <a:avLst/>
              <a:gdLst/>
              <a:ahLst/>
              <a:rect l="l" t="t" r="r" b="b"/>
              <a:pathLst>
                <a:path w="2740" h="2899">
                  <a:moveTo>
                    <a:pt x="1995" y="726"/>
                  </a:moveTo>
                  <a:lnTo>
                    <a:pt x="1835" y="763"/>
                  </a:lnTo>
                  <a:lnTo>
                    <a:pt x="1707" y="726"/>
                  </a:lnTo>
                  <a:lnTo>
                    <a:pt x="1529" y="657"/>
                  </a:lnTo>
                  <a:lnTo>
                    <a:pt x="1416" y="657"/>
                  </a:lnTo>
                  <a:lnTo>
                    <a:pt x="1285" y="694"/>
                  </a:lnTo>
                  <a:lnTo>
                    <a:pt x="1153" y="851"/>
                  </a:lnTo>
                  <a:lnTo>
                    <a:pt x="960" y="952"/>
                  </a:lnTo>
                  <a:lnTo>
                    <a:pt x="706" y="1012"/>
                  </a:lnTo>
                  <a:lnTo>
                    <a:pt x="510" y="1012"/>
                  </a:lnTo>
                  <a:lnTo>
                    <a:pt x="706" y="952"/>
                  </a:lnTo>
                  <a:lnTo>
                    <a:pt x="883" y="805"/>
                  </a:lnTo>
                  <a:lnTo>
                    <a:pt x="558" y="929"/>
                  </a:lnTo>
                  <a:lnTo>
                    <a:pt x="217" y="1012"/>
                  </a:lnTo>
                  <a:lnTo>
                    <a:pt x="404" y="866"/>
                  </a:lnTo>
                  <a:lnTo>
                    <a:pt x="217" y="851"/>
                  </a:lnTo>
                  <a:lnTo>
                    <a:pt x="391" y="763"/>
                  </a:lnTo>
                  <a:lnTo>
                    <a:pt x="37" y="763"/>
                  </a:lnTo>
                  <a:lnTo>
                    <a:pt x="257" y="530"/>
                  </a:lnTo>
                  <a:lnTo>
                    <a:pt x="0" y="431"/>
                  </a:lnTo>
                  <a:lnTo>
                    <a:pt x="301" y="271"/>
                  </a:lnTo>
                  <a:lnTo>
                    <a:pt x="97" y="271"/>
                  </a:lnTo>
                  <a:lnTo>
                    <a:pt x="391" y="82"/>
                  </a:lnTo>
                  <a:lnTo>
                    <a:pt x="835" y="0"/>
                  </a:lnTo>
                  <a:lnTo>
                    <a:pt x="1222" y="0"/>
                  </a:lnTo>
                  <a:lnTo>
                    <a:pt x="764" y="60"/>
                  </a:lnTo>
                  <a:lnTo>
                    <a:pt x="1040" y="126"/>
                  </a:lnTo>
                  <a:lnTo>
                    <a:pt x="650" y="108"/>
                  </a:lnTo>
                  <a:lnTo>
                    <a:pt x="391" y="205"/>
                  </a:lnTo>
                  <a:lnTo>
                    <a:pt x="718" y="271"/>
                  </a:lnTo>
                  <a:lnTo>
                    <a:pt x="437" y="332"/>
                  </a:lnTo>
                  <a:lnTo>
                    <a:pt x="734" y="355"/>
                  </a:lnTo>
                  <a:lnTo>
                    <a:pt x="1057" y="470"/>
                  </a:lnTo>
                  <a:lnTo>
                    <a:pt x="706" y="431"/>
                  </a:lnTo>
                  <a:lnTo>
                    <a:pt x="391" y="493"/>
                  </a:lnTo>
                  <a:lnTo>
                    <a:pt x="524" y="576"/>
                  </a:lnTo>
                  <a:lnTo>
                    <a:pt x="281" y="675"/>
                  </a:lnTo>
                  <a:lnTo>
                    <a:pt x="598" y="675"/>
                  </a:lnTo>
                  <a:lnTo>
                    <a:pt x="487" y="805"/>
                  </a:lnTo>
                  <a:lnTo>
                    <a:pt x="734" y="805"/>
                  </a:lnTo>
                  <a:lnTo>
                    <a:pt x="1040" y="675"/>
                  </a:lnTo>
                  <a:lnTo>
                    <a:pt x="995" y="805"/>
                  </a:lnTo>
                  <a:lnTo>
                    <a:pt x="1222" y="643"/>
                  </a:lnTo>
                  <a:lnTo>
                    <a:pt x="1333" y="530"/>
                  </a:lnTo>
                  <a:lnTo>
                    <a:pt x="1464" y="470"/>
                  </a:lnTo>
                  <a:lnTo>
                    <a:pt x="1252" y="413"/>
                  </a:lnTo>
                  <a:lnTo>
                    <a:pt x="1481" y="413"/>
                  </a:lnTo>
                  <a:lnTo>
                    <a:pt x="1690" y="451"/>
                  </a:lnTo>
                  <a:lnTo>
                    <a:pt x="1591" y="367"/>
                  </a:lnTo>
                  <a:lnTo>
                    <a:pt x="1751" y="392"/>
                  </a:lnTo>
                  <a:lnTo>
                    <a:pt x="1938" y="493"/>
                  </a:lnTo>
                  <a:lnTo>
                    <a:pt x="1806" y="332"/>
                  </a:lnTo>
                  <a:lnTo>
                    <a:pt x="1981" y="367"/>
                  </a:lnTo>
                  <a:lnTo>
                    <a:pt x="1868" y="231"/>
                  </a:lnTo>
                  <a:lnTo>
                    <a:pt x="1610" y="42"/>
                  </a:lnTo>
                  <a:lnTo>
                    <a:pt x="1916" y="205"/>
                  </a:lnTo>
                  <a:lnTo>
                    <a:pt x="2066" y="392"/>
                  </a:lnTo>
                  <a:lnTo>
                    <a:pt x="2066" y="596"/>
                  </a:lnTo>
                  <a:lnTo>
                    <a:pt x="2498" y="901"/>
                  </a:lnTo>
                  <a:lnTo>
                    <a:pt x="2696" y="1346"/>
                  </a:lnTo>
                  <a:lnTo>
                    <a:pt x="2740" y="1710"/>
                  </a:lnTo>
                  <a:lnTo>
                    <a:pt x="2566" y="2312"/>
                  </a:lnTo>
                  <a:lnTo>
                    <a:pt x="2424" y="2618"/>
                  </a:lnTo>
                  <a:lnTo>
                    <a:pt x="2340" y="2723"/>
                  </a:lnTo>
                  <a:lnTo>
                    <a:pt x="2287" y="2899"/>
                  </a:lnTo>
                  <a:lnTo>
                    <a:pt x="2320" y="2466"/>
                  </a:lnTo>
                  <a:lnTo>
                    <a:pt x="2354" y="2332"/>
                  </a:lnTo>
                  <a:lnTo>
                    <a:pt x="2340" y="2224"/>
                  </a:lnTo>
                  <a:lnTo>
                    <a:pt x="2354" y="1607"/>
                  </a:lnTo>
                  <a:lnTo>
                    <a:pt x="2287" y="1238"/>
                  </a:lnTo>
                  <a:lnTo>
                    <a:pt x="2017" y="781"/>
                  </a:lnTo>
                  <a:lnTo>
                    <a:pt x="1995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217400" y="4941720"/>
              <a:ext cx="146880" cy="313200"/>
            </a:xfrm>
            <a:custGeom>
              <a:avLst/>
              <a:gdLst/>
              <a:ahLst/>
              <a:rect l="l" t="t" r="r" b="b"/>
              <a:pathLst>
                <a:path w="1202" h="2779">
                  <a:moveTo>
                    <a:pt x="1202" y="590"/>
                  </a:moveTo>
                  <a:lnTo>
                    <a:pt x="1026" y="701"/>
                  </a:lnTo>
                  <a:lnTo>
                    <a:pt x="1202" y="415"/>
                  </a:lnTo>
                  <a:lnTo>
                    <a:pt x="874" y="590"/>
                  </a:lnTo>
                  <a:lnTo>
                    <a:pt x="943" y="452"/>
                  </a:lnTo>
                  <a:lnTo>
                    <a:pt x="521" y="618"/>
                  </a:lnTo>
                  <a:lnTo>
                    <a:pt x="710" y="252"/>
                  </a:lnTo>
                  <a:lnTo>
                    <a:pt x="1026" y="0"/>
                  </a:lnTo>
                  <a:lnTo>
                    <a:pt x="676" y="203"/>
                  </a:lnTo>
                  <a:lnTo>
                    <a:pt x="358" y="701"/>
                  </a:lnTo>
                  <a:lnTo>
                    <a:pt x="270" y="1197"/>
                  </a:lnTo>
                  <a:lnTo>
                    <a:pt x="12" y="1709"/>
                  </a:lnTo>
                  <a:lnTo>
                    <a:pt x="309" y="1171"/>
                  </a:lnTo>
                  <a:lnTo>
                    <a:pt x="437" y="756"/>
                  </a:lnTo>
                  <a:lnTo>
                    <a:pt x="768" y="618"/>
                  </a:lnTo>
                  <a:lnTo>
                    <a:pt x="501" y="946"/>
                  </a:lnTo>
                  <a:lnTo>
                    <a:pt x="676" y="883"/>
                  </a:lnTo>
                  <a:lnTo>
                    <a:pt x="338" y="1278"/>
                  </a:lnTo>
                  <a:lnTo>
                    <a:pt x="470" y="1234"/>
                  </a:lnTo>
                  <a:lnTo>
                    <a:pt x="404" y="1374"/>
                  </a:lnTo>
                  <a:lnTo>
                    <a:pt x="501" y="1374"/>
                  </a:lnTo>
                  <a:lnTo>
                    <a:pt x="94" y="1810"/>
                  </a:lnTo>
                  <a:lnTo>
                    <a:pt x="0" y="1792"/>
                  </a:lnTo>
                  <a:lnTo>
                    <a:pt x="65" y="2034"/>
                  </a:lnTo>
                  <a:lnTo>
                    <a:pt x="338" y="2704"/>
                  </a:lnTo>
                  <a:lnTo>
                    <a:pt x="470" y="2779"/>
                  </a:lnTo>
                  <a:lnTo>
                    <a:pt x="196" y="2075"/>
                  </a:lnTo>
                  <a:lnTo>
                    <a:pt x="288" y="1870"/>
                  </a:lnTo>
                  <a:lnTo>
                    <a:pt x="422" y="1849"/>
                  </a:lnTo>
                  <a:lnTo>
                    <a:pt x="338" y="2001"/>
                  </a:lnTo>
                  <a:lnTo>
                    <a:pt x="338" y="2183"/>
                  </a:lnTo>
                  <a:lnTo>
                    <a:pt x="376" y="2001"/>
                  </a:lnTo>
                  <a:lnTo>
                    <a:pt x="501" y="1893"/>
                  </a:lnTo>
                  <a:lnTo>
                    <a:pt x="547" y="2001"/>
                  </a:lnTo>
                  <a:lnTo>
                    <a:pt x="437" y="2155"/>
                  </a:lnTo>
                  <a:lnTo>
                    <a:pt x="437" y="2333"/>
                  </a:lnTo>
                  <a:lnTo>
                    <a:pt x="547" y="2425"/>
                  </a:lnTo>
                  <a:lnTo>
                    <a:pt x="501" y="2264"/>
                  </a:lnTo>
                  <a:lnTo>
                    <a:pt x="582" y="2034"/>
                  </a:lnTo>
                  <a:lnTo>
                    <a:pt x="676" y="2204"/>
                  </a:lnTo>
                  <a:lnTo>
                    <a:pt x="851" y="1810"/>
                  </a:lnTo>
                  <a:lnTo>
                    <a:pt x="920" y="1005"/>
                  </a:lnTo>
                  <a:lnTo>
                    <a:pt x="1033" y="756"/>
                  </a:lnTo>
                  <a:lnTo>
                    <a:pt x="1202" y="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61320" y="5247000"/>
              <a:ext cx="131400" cy="242640"/>
            </a:xfrm>
            <a:custGeom>
              <a:avLst/>
              <a:gdLst/>
              <a:ahLst/>
              <a:rect l="l" t="t" r="r" b="b"/>
              <a:pathLst>
                <a:path w="1081" h="2154">
                  <a:moveTo>
                    <a:pt x="112" y="75"/>
                  </a:moveTo>
                  <a:lnTo>
                    <a:pt x="260" y="75"/>
                  </a:lnTo>
                  <a:lnTo>
                    <a:pt x="410" y="449"/>
                  </a:lnTo>
                  <a:lnTo>
                    <a:pt x="496" y="530"/>
                  </a:lnTo>
                  <a:lnTo>
                    <a:pt x="466" y="339"/>
                  </a:lnTo>
                  <a:lnTo>
                    <a:pt x="723" y="1020"/>
                  </a:lnTo>
                  <a:lnTo>
                    <a:pt x="905" y="1227"/>
                  </a:lnTo>
                  <a:lnTo>
                    <a:pt x="712" y="1091"/>
                  </a:lnTo>
                  <a:lnTo>
                    <a:pt x="925" y="1457"/>
                  </a:lnTo>
                  <a:lnTo>
                    <a:pt x="668" y="1091"/>
                  </a:lnTo>
                  <a:lnTo>
                    <a:pt x="422" y="547"/>
                  </a:lnTo>
                  <a:lnTo>
                    <a:pt x="422" y="1354"/>
                  </a:lnTo>
                  <a:lnTo>
                    <a:pt x="493" y="1580"/>
                  </a:lnTo>
                  <a:lnTo>
                    <a:pt x="940" y="1978"/>
                  </a:lnTo>
                  <a:lnTo>
                    <a:pt x="1081" y="2154"/>
                  </a:lnTo>
                  <a:lnTo>
                    <a:pt x="466" y="1662"/>
                  </a:lnTo>
                  <a:lnTo>
                    <a:pt x="338" y="1413"/>
                  </a:lnTo>
                  <a:lnTo>
                    <a:pt x="338" y="591"/>
                  </a:lnTo>
                  <a:lnTo>
                    <a:pt x="189" y="381"/>
                  </a:lnTo>
                  <a:lnTo>
                    <a:pt x="0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89840" y="5377680"/>
              <a:ext cx="142920" cy="45000"/>
            </a:xfrm>
            <a:custGeom>
              <a:avLst/>
              <a:gdLst/>
              <a:ahLst/>
              <a:rect l="l" t="t" r="r" b="b"/>
              <a:pathLst>
                <a:path w="1174" h="394">
                  <a:moveTo>
                    <a:pt x="0" y="0"/>
                  </a:moveTo>
                  <a:lnTo>
                    <a:pt x="224" y="230"/>
                  </a:lnTo>
                  <a:lnTo>
                    <a:pt x="415" y="292"/>
                  </a:lnTo>
                  <a:lnTo>
                    <a:pt x="741" y="292"/>
                  </a:lnTo>
                  <a:lnTo>
                    <a:pt x="1160" y="131"/>
                  </a:lnTo>
                  <a:lnTo>
                    <a:pt x="1174" y="143"/>
                  </a:lnTo>
                  <a:lnTo>
                    <a:pt x="800" y="394"/>
                  </a:lnTo>
                  <a:lnTo>
                    <a:pt x="384" y="394"/>
                  </a:lnTo>
                  <a:lnTo>
                    <a:pt x="147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345920" y="5236920"/>
              <a:ext cx="15120" cy="2520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128" y="0"/>
                  </a:moveTo>
                  <a:lnTo>
                    <a:pt x="48" y="97"/>
                  </a:lnTo>
                  <a:lnTo>
                    <a:pt x="20" y="219"/>
                  </a:lnTo>
                  <a:lnTo>
                    <a:pt x="0" y="97"/>
                  </a:lnTo>
                  <a:lnTo>
                    <a:pt x="20" y="35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70400" y="5201640"/>
              <a:ext cx="267480" cy="351360"/>
            </a:xfrm>
            <a:custGeom>
              <a:avLst/>
              <a:gdLst/>
              <a:ahLst/>
              <a:rect l="l" t="t" r="r" b="b"/>
              <a:pathLst>
                <a:path w="2199" h="3111">
                  <a:moveTo>
                    <a:pt x="0" y="1792"/>
                  </a:moveTo>
                  <a:lnTo>
                    <a:pt x="367" y="2037"/>
                  </a:lnTo>
                  <a:lnTo>
                    <a:pt x="754" y="2103"/>
                  </a:lnTo>
                  <a:lnTo>
                    <a:pt x="1070" y="2080"/>
                  </a:lnTo>
                  <a:lnTo>
                    <a:pt x="1490" y="1879"/>
                  </a:lnTo>
                  <a:lnTo>
                    <a:pt x="1637" y="1612"/>
                  </a:lnTo>
                  <a:lnTo>
                    <a:pt x="1618" y="1461"/>
                  </a:lnTo>
                  <a:lnTo>
                    <a:pt x="1422" y="1612"/>
                  </a:lnTo>
                  <a:lnTo>
                    <a:pt x="1666" y="1312"/>
                  </a:lnTo>
                  <a:lnTo>
                    <a:pt x="1861" y="969"/>
                  </a:lnTo>
                  <a:lnTo>
                    <a:pt x="1973" y="681"/>
                  </a:lnTo>
                  <a:lnTo>
                    <a:pt x="1973" y="778"/>
                  </a:lnTo>
                  <a:lnTo>
                    <a:pt x="2057" y="556"/>
                  </a:lnTo>
                  <a:lnTo>
                    <a:pt x="2151" y="0"/>
                  </a:lnTo>
                  <a:lnTo>
                    <a:pt x="2199" y="37"/>
                  </a:lnTo>
                  <a:lnTo>
                    <a:pt x="2140" y="494"/>
                  </a:lnTo>
                  <a:lnTo>
                    <a:pt x="1994" y="1048"/>
                  </a:lnTo>
                  <a:lnTo>
                    <a:pt x="1769" y="1417"/>
                  </a:lnTo>
                  <a:lnTo>
                    <a:pt x="1666" y="1693"/>
                  </a:lnTo>
                  <a:lnTo>
                    <a:pt x="1747" y="1935"/>
                  </a:lnTo>
                  <a:lnTo>
                    <a:pt x="1604" y="2265"/>
                  </a:lnTo>
                  <a:lnTo>
                    <a:pt x="1325" y="2406"/>
                  </a:lnTo>
                  <a:lnTo>
                    <a:pt x="1441" y="2265"/>
                  </a:lnTo>
                  <a:lnTo>
                    <a:pt x="1441" y="2020"/>
                  </a:lnTo>
                  <a:lnTo>
                    <a:pt x="1247" y="2228"/>
                  </a:lnTo>
                  <a:lnTo>
                    <a:pt x="1116" y="2509"/>
                  </a:lnTo>
                  <a:lnTo>
                    <a:pt x="1259" y="2474"/>
                  </a:lnTo>
                  <a:lnTo>
                    <a:pt x="1070" y="2656"/>
                  </a:lnTo>
                  <a:lnTo>
                    <a:pt x="802" y="3111"/>
                  </a:lnTo>
                  <a:lnTo>
                    <a:pt x="692" y="2942"/>
                  </a:lnTo>
                  <a:lnTo>
                    <a:pt x="692" y="2777"/>
                  </a:lnTo>
                  <a:lnTo>
                    <a:pt x="468" y="2597"/>
                  </a:lnTo>
                  <a:lnTo>
                    <a:pt x="643" y="2617"/>
                  </a:lnTo>
                  <a:lnTo>
                    <a:pt x="673" y="2391"/>
                  </a:lnTo>
                  <a:lnTo>
                    <a:pt x="802" y="2244"/>
                  </a:lnTo>
                  <a:lnTo>
                    <a:pt x="389" y="2147"/>
                  </a:lnTo>
                  <a:lnTo>
                    <a:pt x="13" y="1854"/>
                  </a:lnTo>
                  <a:lnTo>
                    <a:pt x="0" y="17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49880" y="5123160"/>
              <a:ext cx="134280" cy="102600"/>
            </a:xfrm>
            <a:custGeom>
              <a:avLst/>
              <a:gdLst/>
              <a:ahLst/>
              <a:rect l="l" t="t" r="r" b="b"/>
              <a:pathLst>
                <a:path w="1107" h="908">
                  <a:moveTo>
                    <a:pt x="0" y="527"/>
                  </a:moveTo>
                  <a:lnTo>
                    <a:pt x="17" y="424"/>
                  </a:lnTo>
                  <a:lnTo>
                    <a:pt x="148" y="99"/>
                  </a:lnTo>
                  <a:lnTo>
                    <a:pt x="257" y="0"/>
                  </a:lnTo>
                  <a:lnTo>
                    <a:pt x="391" y="0"/>
                  </a:lnTo>
                  <a:lnTo>
                    <a:pt x="718" y="13"/>
                  </a:lnTo>
                  <a:lnTo>
                    <a:pt x="971" y="84"/>
                  </a:lnTo>
                  <a:lnTo>
                    <a:pt x="1057" y="158"/>
                  </a:lnTo>
                  <a:lnTo>
                    <a:pt x="1089" y="260"/>
                  </a:lnTo>
                  <a:lnTo>
                    <a:pt x="1107" y="365"/>
                  </a:lnTo>
                  <a:lnTo>
                    <a:pt x="1075" y="465"/>
                  </a:lnTo>
                  <a:lnTo>
                    <a:pt x="995" y="635"/>
                  </a:lnTo>
                  <a:lnTo>
                    <a:pt x="861" y="802"/>
                  </a:lnTo>
                  <a:lnTo>
                    <a:pt x="749" y="9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67600" y="5133240"/>
              <a:ext cx="166320" cy="113760"/>
            </a:xfrm>
            <a:custGeom>
              <a:avLst/>
              <a:gdLst/>
              <a:ahLst/>
              <a:rect l="l" t="t" r="r" b="b"/>
              <a:pathLst>
                <a:path w="1369" h="1010">
                  <a:moveTo>
                    <a:pt x="0" y="0"/>
                  </a:moveTo>
                  <a:lnTo>
                    <a:pt x="209" y="35"/>
                  </a:lnTo>
                  <a:lnTo>
                    <a:pt x="475" y="74"/>
                  </a:lnTo>
                  <a:lnTo>
                    <a:pt x="719" y="74"/>
                  </a:lnTo>
                  <a:lnTo>
                    <a:pt x="1095" y="116"/>
                  </a:lnTo>
                  <a:lnTo>
                    <a:pt x="1288" y="176"/>
                  </a:lnTo>
                  <a:lnTo>
                    <a:pt x="1349" y="239"/>
                  </a:lnTo>
                  <a:lnTo>
                    <a:pt x="1369" y="327"/>
                  </a:lnTo>
                  <a:lnTo>
                    <a:pt x="1316" y="881"/>
                  </a:lnTo>
                  <a:lnTo>
                    <a:pt x="1208" y="960"/>
                  </a:lnTo>
                  <a:lnTo>
                    <a:pt x="1075" y="1010"/>
                  </a:lnTo>
                  <a:lnTo>
                    <a:pt x="864" y="10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84160" y="5157360"/>
              <a:ext cx="28800" cy="12600"/>
            </a:xfrm>
            <a:custGeom>
              <a:avLst/>
              <a:gdLst/>
              <a:ahLst/>
              <a:rect l="l" t="t" r="r" b="b"/>
              <a:pathLst>
                <a:path w="242" h="108">
                  <a:moveTo>
                    <a:pt x="0" y="88"/>
                  </a:moveTo>
                  <a:lnTo>
                    <a:pt x="62" y="88"/>
                  </a:lnTo>
                  <a:lnTo>
                    <a:pt x="178" y="88"/>
                  </a:lnTo>
                  <a:lnTo>
                    <a:pt x="242" y="108"/>
                  </a:lnTo>
                  <a:lnTo>
                    <a:pt x="242" y="20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321800" y="5120280"/>
              <a:ext cx="45360" cy="46800"/>
            </a:xfrm>
            <a:custGeom>
              <a:avLst/>
              <a:gdLst/>
              <a:ahLst/>
              <a:rect l="l" t="t" r="r" b="b"/>
              <a:pathLst>
                <a:path w="378" h="413">
                  <a:moveTo>
                    <a:pt x="23" y="0"/>
                  </a:moveTo>
                  <a:lnTo>
                    <a:pt x="283" y="204"/>
                  </a:lnTo>
                  <a:lnTo>
                    <a:pt x="378" y="84"/>
                  </a:lnTo>
                  <a:lnTo>
                    <a:pt x="351" y="204"/>
                  </a:lnTo>
                  <a:lnTo>
                    <a:pt x="247" y="413"/>
                  </a:lnTo>
                  <a:lnTo>
                    <a:pt x="230" y="222"/>
                  </a:lnTo>
                  <a:lnTo>
                    <a:pt x="0" y="3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27080" y="5080680"/>
              <a:ext cx="435960" cy="183960"/>
            </a:xfrm>
            <a:custGeom>
              <a:avLst/>
              <a:gdLst/>
              <a:ahLst/>
              <a:rect l="l" t="t" r="r" b="b"/>
              <a:pathLst>
                <a:path w="3585" h="1629">
                  <a:moveTo>
                    <a:pt x="3585" y="44"/>
                  </a:moveTo>
                  <a:lnTo>
                    <a:pt x="2562" y="44"/>
                  </a:lnTo>
                  <a:lnTo>
                    <a:pt x="1587" y="207"/>
                  </a:lnTo>
                  <a:lnTo>
                    <a:pt x="897" y="534"/>
                  </a:lnTo>
                  <a:lnTo>
                    <a:pt x="743" y="719"/>
                  </a:lnTo>
                  <a:lnTo>
                    <a:pt x="768" y="903"/>
                  </a:lnTo>
                  <a:lnTo>
                    <a:pt x="1097" y="1030"/>
                  </a:lnTo>
                  <a:lnTo>
                    <a:pt x="1750" y="1053"/>
                  </a:lnTo>
                  <a:lnTo>
                    <a:pt x="2776" y="820"/>
                  </a:lnTo>
                  <a:lnTo>
                    <a:pt x="3129" y="534"/>
                  </a:lnTo>
                  <a:lnTo>
                    <a:pt x="2836" y="1073"/>
                  </a:lnTo>
                  <a:lnTo>
                    <a:pt x="2728" y="1398"/>
                  </a:lnTo>
                  <a:lnTo>
                    <a:pt x="2776" y="1587"/>
                  </a:lnTo>
                  <a:lnTo>
                    <a:pt x="2644" y="1587"/>
                  </a:lnTo>
                  <a:lnTo>
                    <a:pt x="2611" y="1629"/>
                  </a:lnTo>
                  <a:lnTo>
                    <a:pt x="2354" y="1470"/>
                  </a:lnTo>
                  <a:lnTo>
                    <a:pt x="1702" y="1354"/>
                  </a:lnTo>
                  <a:lnTo>
                    <a:pt x="967" y="1341"/>
                  </a:lnTo>
                  <a:lnTo>
                    <a:pt x="475" y="1398"/>
                  </a:lnTo>
                  <a:lnTo>
                    <a:pt x="0" y="1587"/>
                  </a:lnTo>
                  <a:lnTo>
                    <a:pt x="53" y="1099"/>
                  </a:lnTo>
                  <a:lnTo>
                    <a:pt x="385" y="389"/>
                  </a:lnTo>
                  <a:lnTo>
                    <a:pt x="1389" y="191"/>
                  </a:lnTo>
                  <a:lnTo>
                    <a:pt x="2497" y="0"/>
                  </a:lnTo>
                  <a:lnTo>
                    <a:pt x="3468" y="0"/>
                  </a:lnTo>
                  <a:lnTo>
                    <a:pt x="35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018760" y="5066280"/>
              <a:ext cx="223560" cy="65880"/>
            </a:xfrm>
            <a:custGeom>
              <a:avLst/>
              <a:gdLst/>
              <a:ahLst/>
              <a:rect l="l" t="t" r="r" b="b"/>
              <a:pathLst>
                <a:path w="1840" h="576">
                  <a:moveTo>
                    <a:pt x="0" y="576"/>
                  </a:moveTo>
                  <a:lnTo>
                    <a:pt x="595" y="217"/>
                  </a:lnTo>
                  <a:lnTo>
                    <a:pt x="1381" y="106"/>
                  </a:lnTo>
                  <a:lnTo>
                    <a:pt x="1840" y="141"/>
                  </a:lnTo>
                  <a:lnTo>
                    <a:pt x="1579" y="42"/>
                  </a:lnTo>
                  <a:lnTo>
                    <a:pt x="1014" y="0"/>
                  </a:lnTo>
                  <a:lnTo>
                    <a:pt x="564" y="66"/>
                  </a:lnTo>
                  <a:lnTo>
                    <a:pt x="26" y="39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82360" y="5082480"/>
              <a:ext cx="773640" cy="1174680"/>
            </a:xfrm>
            <a:custGeom>
              <a:avLst/>
              <a:gdLst/>
              <a:ahLst/>
              <a:rect l="l" t="t" r="r" b="b"/>
              <a:pathLst>
                <a:path w="6356" h="10404">
                  <a:moveTo>
                    <a:pt x="6153" y="0"/>
                  </a:moveTo>
                  <a:lnTo>
                    <a:pt x="5874" y="398"/>
                  </a:lnTo>
                  <a:lnTo>
                    <a:pt x="5286" y="866"/>
                  </a:lnTo>
                  <a:lnTo>
                    <a:pt x="5931" y="435"/>
                  </a:lnTo>
                  <a:lnTo>
                    <a:pt x="6097" y="283"/>
                  </a:lnTo>
                  <a:lnTo>
                    <a:pt x="6125" y="643"/>
                  </a:lnTo>
                  <a:lnTo>
                    <a:pt x="5874" y="1107"/>
                  </a:lnTo>
                  <a:lnTo>
                    <a:pt x="5169" y="1509"/>
                  </a:lnTo>
                  <a:lnTo>
                    <a:pt x="5874" y="1254"/>
                  </a:lnTo>
                  <a:lnTo>
                    <a:pt x="5419" y="2045"/>
                  </a:lnTo>
                  <a:lnTo>
                    <a:pt x="4969" y="2437"/>
                  </a:lnTo>
                  <a:lnTo>
                    <a:pt x="4350" y="2582"/>
                  </a:lnTo>
                  <a:lnTo>
                    <a:pt x="4463" y="3803"/>
                  </a:lnTo>
                  <a:lnTo>
                    <a:pt x="4380" y="4202"/>
                  </a:lnTo>
                  <a:lnTo>
                    <a:pt x="4175" y="4382"/>
                  </a:lnTo>
                  <a:lnTo>
                    <a:pt x="4211" y="3735"/>
                  </a:lnTo>
                  <a:lnTo>
                    <a:pt x="4131" y="3054"/>
                  </a:lnTo>
                  <a:lnTo>
                    <a:pt x="4037" y="2474"/>
                  </a:lnTo>
                  <a:lnTo>
                    <a:pt x="3896" y="2944"/>
                  </a:lnTo>
                  <a:lnTo>
                    <a:pt x="3695" y="3160"/>
                  </a:lnTo>
                  <a:lnTo>
                    <a:pt x="3695" y="4091"/>
                  </a:lnTo>
                  <a:lnTo>
                    <a:pt x="3506" y="4525"/>
                  </a:lnTo>
                  <a:lnTo>
                    <a:pt x="3354" y="4449"/>
                  </a:lnTo>
                  <a:lnTo>
                    <a:pt x="3224" y="4126"/>
                  </a:lnTo>
                  <a:lnTo>
                    <a:pt x="3052" y="3665"/>
                  </a:lnTo>
                  <a:lnTo>
                    <a:pt x="3224" y="4479"/>
                  </a:lnTo>
                  <a:lnTo>
                    <a:pt x="3338" y="4957"/>
                  </a:lnTo>
                  <a:lnTo>
                    <a:pt x="3224" y="5344"/>
                  </a:lnTo>
                  <a:lnTo>
                    <a:pt x="3052" y="5417"/>
                  </a:lnTo>
                  <a:lnTo>
                    <a:pt x="2912" y="5283"/>
                  </a:lnTo>
                  <a:lnTo>
                    <a:pt x="2881" y="4845"/>
                  </a:lnTo>
                  <a:lnTo>
                    <a:pt x="2596" y="4126"/>
                  </a:lnTo>
                  <a:lnTo>
                    <a:pt x="2517" y="3448"/>
                  </a:lnTo>
                  <a:lnTo>
                    <a:pt x="2547" y="4159"/>
                  </a:lnTo>
                  <a:lnTo>
                    <a:pt x="2771" y="4845"/>
                  </a:lnTo>
                  <a:lnTo>
                    <a:pt x="2771" y="5240"/>
                  </a:lnTo>
                  <a:lnTo>
                    <a:pt x="2372" y="4126"/>
                  </a:lnTo>
                  <a:lnTo>
                    <a:pt x="2572" y="4806"/>
                  </a:lnTo>
                  <a:lnTo>
                    <a:pt x="2596" y="5168"/>
                  </a:lnTo>
                  <a:lnTo>
                    <a:pt x="2238" y="4449"/>
                  </a:lnTo>
                  <a:lnTo>
                    <a:pt x="2088" y="3878"/>
                  </a:lnTo>
                  <a:lnTo>
                    <a:pt x="2204" y="4733"/>
                  </a:lnTo>
                  <a:lnTo>
                    <a:pt x="2204" y="5417"/>
                  </a:lnTo>
                  <a:lnTo>
                    <a:pt x="2121" y="5489"/>
                  </a:lnTo>
                  <a:lnTo>
                    <a:pt x="2009" y="5489"/>
                  </a:lnTo>
                  <a:lnTo>
                    <a:pt x="1870" y="5133"/>
                  </a:lnTo>
                  <a:lnTo>
                    <a:pt x="1703" y="4126"/>
                  </a:lnTo>
                  <a:lnTo>
                    <a:pt x="1666" y="3448"/>
                  </a:lnTo>
                  <a:lnTo>
                    <a:pt x="1816" y="3054"/>
                  </a:lnTo>
                  <a:lnTo>
                    <a:pt x="2238" y="2762"/>
                  </a:lnTo>
                  <a:lnTo>
                    <a:pt x="1758" y="3013"/>
                  </a:lnTo>
                  <a:lnTo>
                    <a:pt x="1587" y="3406"/>
                  </a:lnTo>
                  <a:lnTo>
                    <a:pt x="1470" y="3373"/>
                  </a:lnTo>
                  <a:lnTo>
                    <a:pt x="1470" y="4479"/>
                  </a:lnTo>
                  <a:lnTo>
                    <a:pt x="1187" y="5814"/>
                  </a:lnTo>
                  <a:lnTo>
                    <a:pt x="1528" y="4629"/>
                  </a:lnTo>
                  <a:lnTo>
                    <a:pt x="1724" y="4880"/>
                  </a:lnTo>
                  <a:lnTo>
                    <a:pt x="1839" y="5344"/>
                  </a:lnTo>
                  <a:lnTo>
                    <a:pt x="1782" y="5781"/>
                  </a:lnTo>
                  <a:lnTo>
                    <a:pt x="1639" y="6028"/>
                  </a:lnTo>
                  <a:lnTo>
                    <a:pt x="1587" y="5703"/>
                  </a:lnTo>
                  <a:lnTo>
                    <a:pt x="1639" y="5417"/>
                  </a:lnTo>
                  <a:lnTo>
                    <a:pt x="1383" y="5885"/>
                  </a:lnTo>
                  <a:lnTo>
                    <a:pt x="737" y="8106"/>
                  </a:lnTo>
                  <a:lnTo>
                    <a:pt x="599" y="6535"/>
                  </a:lnTo>
                  <a:lnTo>
                    <a:pt x="431" y="5746"/>
                  </a:lnTo>
                  <a:lnTo>
                    <a:pt x="57" y="5203"/>
                  </a:lnTo>
                  <a:lnTo>
                    <a:pt x="0" y="4880"/>
                  </a:lnTo>
                  <a:lnTo>
                    <a:pt x="57" y="5283"/>
                  </a:lnTo>
                  <a:lnTo>
                    <a:pt x="341" y="5849"/>
                  </a:lnTo>
                  <a:lnTo>
                    <a:pt x="482" y="6708"/>
                  </a:lnTo>
                  <a:lnTo>
                    <a:pt x="627" y="8394"/>
                  </a:lnTo>
                  <a:lnTo>
                    <a:pt x="1074" y="9977"/>
                  </a:lnTo>
                  <a:lnTo>
                    <a:pt x="790" y="8326"/>
                  </a:lnTo>
                  <a:lnTo>
                    <a:pt x="968" y="7746"/>
                  </a:lnTo>
                  <a:lnTo>
                    <a:pt x="1383" y="7038"/>
                  </a:lnTo>
                  <a:lnTo>
                    <a:pt x="1976" y="6674"/>
                  </a:lnTo>
                  <a:lnTo>
                    <a:pt x="2148" y="6748"/>
                  </a:lnTo>
                  <a:lnTo>
                    <a:pt x="1870" y="7647"/>
                  </a:lnTo>
                  <a:lnTo>
                    <a:pt x="1528" y="8326"/>
                  </a:lnTo>
                  <a:lnTo>
                    <a:pt x="1130" y="8935"/>
                  </a:lnTo>
                  <a:lnTo>
                    <a:pt x="1839" y="8246"/>
                  </a:lnTo>
                  <a:lnTo>
                    <a:pt x="2372" y="7386"/>
                  </a:lnTo>
                  <a:lnTo>
                    <a:pt x="2710" y="6280"/>
                  </a:lnTo>
                  <a:lnTo>
                    <a:pt x="2824" y="5781"/>
                  </a:lnTo>
                  <a:lnTo>
                    <a:pt x="2912" y="6674"/>
                  </a:lnTo>
                  <a:lnTo>
                    <a:pt x="2743" y="7785"/>
                  </a:lnTo>
                  <a:lnTo>
                    <a:pt x="2372" y="8532"/>
                  </a:lnTo>
                  <a:lnTo>
                    <a:pt x="1899" y="9042"/>
                  </a:lnTo>
                  <a:lnTo>
                    <a:pt x="1442" y="9398"/>
                  </a:lnTo>
                  <a:lnTo>
                    <a:pt x="1130" y="10077"/>
                  </a:lnTo>
                  <a:lnTo>
                    <a:pt x="1356" y="10404"/>
                  </a:lnTo>
                  <a:lnTo>
                    <a:pt x="1917" y="10404"/>
                  </a:lnTo>
                  <a:lnTo>
                    <a:pt x="2572" y="9864"/>
                  </a:lnTo>
                  <a:lnTo>
                    <a:pt x="2912" y="9470"/>
                  </a:lnTo>
                  <a:lnTo>
                    <a:pt x="2994" y="9364"/>
                  </a:lnTo>
                  <a:lnTo>
                    <a:pt x="2881" y="10009"/>
                  </a:lnTo>
                  <a:lnTo>
                    <a:pt x="2743" y="10404"/>
                  </a:lnTo>
                  <a:lnTo>
                    <a:pt x="3052" y="10404"/>
                  </a:lnTo>
                  <a:lnTo>
                    <a:pt x="3105" y="9572"/>
                  </a:lnTo>
                  <a:lnTo>
                    <a:pt x="3132" y="8287"/>
                  </a:lnTo>
                  <a:lnTo>
                    <a:pt x="3244" y="6603"/>
                  </a:lnTo>
                  <a:lnTo>
                    <a:pt x="3389" y="5885"/>
                  </a:lnTo>
                  <a:lnTo>
                    <a:pt x="3730" y="5344"/>
                  </a:lnTo>
                  <a:lnTo>
                    <a:pt x="4292" y="4668"/>
                  </a:lnTo>
                  <a:lnTo>
                    <a:pt x="4689" y="4023"/>
                  </a:lnTo>
                  <a:lnTo>
                    <a:pt x="5724" y="2837"/>
                  </a:lnTo>
                  <a:lnTo>
                    <a:pt x="5844" y="2261"/>
                  </a:lnTo>
                  <a:lnTo>
                    <a:pt x="6356" y="968"/>
                  </a:lnTo>
                  <a:lnTo>
                    <a:pt x="6356" y="360"/>
                  </a:lnTo>
                  <a:lnTo>
                    <a:pt x="6245" y="0"/>
                  </a:lnTo>
                  <a:lnTo>
                    <a:pt x="6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44520" y="5269320"/>
              <a:ext cx="97920" cy="149040"/>
            </a:xfrm>
            <a:custGeom>
              <a:avLst/>
              <a:gdLst/>
              <a:ahLst/>
              <a:rect l="l" t="t" r="r" b="b"/>
              <a:pathLst>
                <a:path w="813" h="1318">
                  <a:moveTo>
                    <a:pt x="813" y="0"/>
                  </a:moveTo>
                  <a:lnTo>
                    <a:pt x="671" y="138"/>
                  </a:lnTo>
                  <a:lnTo>
                    <a:pt x="512" y="248"/>
                  </a:lnTo>
                  <a:lnTo>
                    <a:pt x="512" y="465"/>
                  </a:lnTo>
                  <a:lnTo>
                    <a:pt x="336" y="709"/>
                  </a:lnTo>
                  <a:lnTo>
                    <a:pt x="336" y="1000"/>
                  </a:lnTo>
                  <a:lnTo>
                    <a:pt x="537" y="1318"/>
                  </a:lnTo>
                  <a:lnTo>
                    <a:pt x="255" y="899"/>
                  </a:lnTo>
                  <a:lnTo>
                    <a:pt x="255" y="498"/>
                  </a:lnTo>
                  <a:lnTo>
                    <a:pt x="0" y="648"/>
                  </a:lnTo>
                  <a:lnTo>
                    <a:pt x="385" y="173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76640" y="5241600"/>
              <a:ext cx="28080" cy="119880"/>
            </a:xfrm>
            <a:custGeom>
              <a:avLst/>
              <a:gdLst/>
              <a:ahLst/>
              <a:rect l="l" t="t" r="r" b="b"/>
              <a:pathLst>
                <a:path w="228" h="1070">
                  <a:moveTo>
                    <a:pt x="147" y="0"/>
                  </a:moveTo>
                  <a:lnTo>
                    <a:pt x="67" y="209"/>
                  </a:lnTo>
                  <a:lnTo>
                    <a:pt x="67" y="536"/>
                  </a:lnTo>
                  <a:lnTo>
                    <a:pt x="228" y="1070"/>
                  </a:lnTo>
                  <a:lnTo>
                    <a:pt x="0" y="536"/>
                  </a:lnTo>
                  <a:lnTo>
                    <a:pt x="0" y="20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009040" y="5168160"/>
              <a:ext cx="164160" cy="60480"/>
            </a:xfrm>
            <a:custGeom>
              <a:avLst/>
              <a:gdLst/>
              <a:ahLst/>
              <a:rect l="l" t="t" r="r" b="b"/>
              <a:pathLst>
                <a:path w="1358" h="536">
                  <a:moveTo>
                    <a:pt x="1358" y="0"/>
                  </a:moveTo>
                  <a:lnTo>
                    <a:pt x="1071" y="212"/>
                  </a:lnTo>
                  <a:lnTo>
                    <a:pt x="680" y="351"/>
                  </a:lnTo>
                  <a:lnTo>
                    <a:pt x="0" y="536"/>
                  </a:lnTo>
                  <a:lnTo>
                    <a:pt x="570" y="498"/>
                  </a:lnTo>
                  <a:lnTo>
                    <a:pt x="1323" y="536"/>
                  </a:lnTo>
                  <a:lnTo>
                    <a:pt x="966" y="463"/>
                  </a:lnTo>
                  <a:lnTo>
                    <a:pt x="570" y="435"/>
                  </a:lnTo>
                  <a:lnTo>
                    <a:pt x="1044" y="248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741200" y="5349600"/>
              <a:ext cx="78480" cy="178920"/>
            </a:xfrm>
            <a:custGeom>
              <a:avLst/>
              <a:gdLst/>
              <a:ahLst/>
              <a:rect l="l" t="t" r="r" b="b"/>
              <a:pathLst>
                <a:path w="650" h="1587">
                  <a:moveTo>
                    <a:pt x="196" y="1587"/>
                  </a:moveTo>
                  <a:lnTo>
                    <a:pt x="0" y="872"/>
                  </a:lnTo>
                  <a:lnTo>
                    <a:pt x="27" y="609"/>
                  </a:lnTo>
                  <a:lnTo>
                    <a:pt x="117" y="363"/>
                  </a:lnTo>
                  <a:lnTo>
                    <a:pt x="360" y="363"/>
                  </a:lnTo>
                  <a:lnTo>
                    <a:pt x="650" y="0"/>
                  </a:lnTo>
                  <a:lnTo>
                    <a:pt x="341" y="536"/>
                  </a:lnTo>
                  <a:lnTo>
                    <a:pt x="134" y="649"/>
                  </a:lnTo>
                  <a:lnTo>
                    <a:pt x="117" y="872"/>
                  </a:lnTo>
                  <a:lnTo>
                    <a:pt x="117" y="1119"/>
                  </a:lnTo>
                  <a:lnTo>
                    <a:pt x="196" y="1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40560" y="5361480"/>
              <a:ext cx="54360" cy="110160"/>
            </a:xfrm>
            <a:custGeom>
              <a:avLst/>
              <a:gdLst/>
              <a:ahLst/>
              <a:rect l="l" t="t" r="r" b="b"/>
              <a:pathLst>
                <a:path w="453" h="974">
                  <a:moveTo>
                    <a:pt x="33" y="974"/>
                  </a:moveTo>
                  <a:lnTo>
                    <a:pt x="0" y="649"/>
                  </a:lnTo>
                  <a:lnTo>
                    <a:pt x="58" y="253"/>
                  </a:lnTo>
                  <a:lnTo>
                    <a:pt x="81" y="0"/>
                  </a:lnTo>
                  <a:lnTo>
                    <a:pt x="141" y="393"/>
                  </a:lnTo>
                  <a:lnTo>
                    <a:pt x="453" y="870"/>
                  </a:lnTo>
                  <a:lnTo>
                    <a:pt x="81" y="470"/>
                  </a:lnTo>
                  <a:lnTo>
                    <a:pt x="33" y="9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82480" y="5386680"/>
              <a:ext cx="325080" cy="673560"/>
            </a:xfrm>
            <a:custGeom>
              <a:avLst/>
              <a:gdLst/>
              <a:ahLst/>
              <a:rect l="l" t="t" r="r" b="b"/>
              <a:pathLst>
                <a:path w="2668" h="5970">
                  <a:moveTo>
                    <a:pt x="2140" y="1472"/>
                  </a:moveTo>
                  <a:lnTo>
                    <a:pt x="1967" y="1622"/>
                  </a:lnTo>
                  <a:lnTo>
                    <a:pt x="2127" y="1721"/>
                  </a:lnTo>
                  <a:lnTo>
                    <a:pt x="2109" y="1866"/>
                  </a:lnTo>
                  <a:lnTo>
                    <a:pt x="2257" y="1933"/>
                  </a:lnTo>
                  <a:lnTo>
                    <a:pt x="2305" y="2013"/>
                  </a:lnTo>
                  <a:lnTo>
                    <a:pt x="2458" y="1993"/>
                  </a:lnTo>
                  <a:lnTo>
                    <a:pt x="2668" y="1688"/>
                  </a:lnTo>
                  <a:lnTo>
                    <a:pt x="2469" y="2013"/>
                  </a:lnTo>
                  <a:lnTo>
                    <a:pt x="2469" y="2184"/>
                  </a:lnTo>
                  <a:lnTo>
                    <a:pt x="2305" y="2184"/>
                  </a:lnTo>
                  <a:lnTo>
                    <a:pt x="2140" y="2329"/>
                  </a:lnTo>
                  <a:lnTo>
                    <a:pt x="1980" y="2973"/>
                  </a:lnTo>
                  <a:lnTo>
                    <a:pt x="1946" y="3867"/>
                  </a:lnTo>
                  <a:lnTo>
                    <a:pt x="1967" y="4471"/>
                  </a:lnTo>
                  <a:lnTo>
                    <a:pt x="2026" y="5307"/>
                  </a:lnTo>
                  <a:lnTo>
                    <a:pt x="2109" y="5970"/>
                  </a:lnTo>
                  <a:lnTo>
                    <a:pt x="1946" y="4936"/>
                  </a:lnTo>
                  <a:lnTo>
                    <a:pt x="1896" y="4138"/>
                  </a:lnTo>
                  <a:lnTo>
                    <a:pt x="1916" y="3261"/>
                  </a:lnTo>
                  <a:lnTo>
                    <a:pt x="1980" y="2703"/>
                  </a:lnTo>
                  <a:lnTo>
                    <a:pt x="2096" y="2226"/>
                  </a:lnTo>
                  <a:lnTo>
                    <a:pt x="2140" y="1993"/>
                  </a:lnTo>
                  <a:lnTo>
                    <a:pt x="1896" y="1850"/>
                  </a:lnTo>
                  <a:lnTo>
                    <a:pt x="1690" y="1584"/>
                  </a:lnTo>
                  <a:lnTo>
                    <a:pt x="1490" y="1511"/>
                  </a:lnTo>
                  <a:lnTo>
                    <a:pt x="1187" y="1224"/>
                  </a:lnTo>
                  <a:lnTo>
                    <a:pt x="984" y="1460"/>
                  </a:lnTo>
                  <a:lnTo>
                    <a:pt x="984" y="1705"/>
                  </a:lnTo>
                  <a:lnTo>
                    <a:pt x="1490" y="2158"/>
                  </a:lnTo>
                  <a:lnTo>
                    <a:pt x="1868" y="2366"/>
                  </a:lnTo>
                  <a:lnTo>
                    <a:pt x="1441" y="2226"/>
                  </a:lnTo>
                  <a:lnTo>
                    <a:pt x="855" y="1705"/>
                  </a:lnTo>
                  <a:lnTo>
                    <a:pt x="542" y="1055"/>
                  </a:lnTo>
                  <a:lnTo>
                    <a:pt x="242" y="519"/>
                  </a:lnTo>
                  <a:lnTo>
                    <a:pt x="0" y="328"/>
                  </a:lnTo>
                  <a:lnTo>
                    <a:pt x="316" y="432"/>
                  </a:lnTo>
                  <a:lnTo>
                    <a:pt x="494" y="432"/>
                  </a:lnTo>
                  <a:lnTo>
                    <a:pt x="705" y="328"/>
                  </a:lnTo>
                  <a:lnTo>
                    <a:pt x="906" y="0"/>
                  </a:lnTo>
                  <a:lnTo>
                    <a:pt x="705" y="432"/>
                  </a:lnTo>
                  <a:lnTo>
                    <a:pt x="659" y="936"/>
                  </a:lnTo>
                  <a:lnTo>
                    <a:pt x="804" y="1395"/>
                  </a:lnTo>
                  <a:lnTo>
                    <a:pt x="1068" y="1077"/>
                  </a:lnTo>
                  <a:lnTo>
                    <a:pt x="1464" y="870"/>
                  </a:lnTo>
                  <a:lnTo>
                    <a:pt x="1672" y="870"/>
                  </a:lnTo>
                  <a:lnTo>
                    <a:pt x="1787" y="912"/>
                  </a:lnTo>
                  <a:lnTo>
                    <a:pt x="2013" y="951"/>
                  </a:lnTo>
                  <a:lnTo>
                    <a:pt x="1753" y="951"/>
                  </a:lnTo>
                  <a:lnTo>
                    <a:pt x="1558" y="951"/>
                  </a:lnTo>
                  <a:lnTo>
                    <a:pt x="1672" y="1055"/>
                  </a:lnTo>
                  <a:lnTo>
                    <a:pt x="1720" y="1310"/>
                  </a:lnTo>
                  <a:lnTo>
                    <a:pt x="1787" y="1460"/>
                  </a:lnTo>
                  <a:lnTo>
                    <a:pt x="1672" y="1310"/>
                  </a:lnTo>
                  <a:lnTo>
                    <a:pt x="1607" y="1101"/>
                  </a:lnTo>
                  <a:lnTo>
                    <a:pt x="1510" y="1039"/>
                  </a:lnTo>
                  <a:lnTo>
                    <a:pt x="1411" y="1101"/>
                  </a:lnTo>
                  <a:lnTo>
                    <a:pt x="1393" y="1224"/>
                  </a:lnTo>
                  <a:lnTo>
                    <a:pt x="1558" y="1460"/>
                  </a:lnTo>
                  <a:lnTo>
                    <a:pt x="1806" y="1560"/>
                  </a:lnTo>
                  <a:lnTo>
                    <a:pt x="2061" y="1472"/>
                  </a:lnTo>
                  <a:lnTo>
                    <a:pt x="2140" y="1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73720" y="5469120"/>
              <a:ext cx="168120" cy="209160"/>
            </a:xfrm>
            <a:custGeom>
              <a:avLst/>
              <a:gdLst/>
              <a:ahLst/>
              <a:rect l="l" t="t" r="r" b="b"/>
              <a:pathLst>
                <a:path w="1387" h="1862">
                  <a:moveTo>
                    <a:pt x="427" y="170"/>
                  </a:moveTo>
                  <a:lnTo>
                    <a:pt x="556" y="108"/>
                  </a:lnTo>
                  <a:lnTo>
                    <a:pt x="640" y="108"/>
                  </a:lnTo>
                  <a:lnTo>
                    <a:pt x="475" y="314"/>
                  </a:lnTo>
                  <a:lnTo>
                    <a:pt x="348" y="705"/>
                  </a:lnTo>
                  <a:lnTo>
                    <a:pt x="0" y="705"/>
                  </a:lnTo>
                  <a:lnTo>
                    <a:pt x="314" y="747"/>
                  </a:lnTo>
                  <a:lnTo>
                    <a:pt x="381" y="786"/>
                  </a:lnTo>
                  <a:lnTo>
                    <a:pt x="291" y="980"/>
                  </a:lnTo>
                  <a:lnTo>
                    <a:pt x="397" y="980"/>
                  </a:lnTo>
                  <a:lnTo>
                    <a:pt x="462" y="1081"/>
                  </a:lnTo>
                  <a:lnTo>
                    <a:pt x="330" y="1501"/>
                  </a:lnTo>
                  <a:lnTo>
                    <a:pt x="348" y="1641"/>
                  </a:lnTo>
                  <a:lnTo>
                    <a:pt x="280" y="1862"/>
                  </a:lnTo>
                  <a:lnTo>
                    <a:pt x="445" y="1558"/>
                  </a:lnTo>
                  <a:lnTo>
                    <a:pt x="772" y="558"/>
                  </a:lnTo>
                  <a:lnTo>
                    <a:pt x="1003" y="211"/>
                  </a:lnTo>
                  <a:lnTo>
                    <a:pt x="1178" y="438"/>
                  </a:lnTo>
                  <a:lnTo>
                    <a:pt x="1387" y="747"/>
                  </a:lnTo>
                  <a:lnTo>
                    <a:pt x="1192" y="314"/>
                  </a:lnTo>
                  <a:lnTo>
                    <a:pt x="1031" y="64"/>
                  </a:lnTo>
                  <a:lnTo>
                    <a:pt x="897" y="0"/>
                  </a:lnTo>
                  <a:lnTo>
                    <a:pt x="851" y="253"/>
                  </a:lnTo>
                  <a:lnTo>
                    <a:pt x="676" y="499"/>
                  </a:lnTo>
                  <a:lnTo>
                    <a:pt x="462" y="643"/>
                  </a:lnTo>
                  <a:lnTo>
                    <a:pt x="427" y="585"/>
                  </a:lnTo>
                  <a:lnTo>
                    <a:pt x="541" y="314"/>
                  </a:lnTo>
                  <a:lnTo>
                    <a:pt x="816" y="0"/>
                  </a:lnTo>
                  <a:lnTo>
                    <a:pt x="620" y="42"/>
                  </a:lnTo>
                  <a:lnTo>
                    <a:pt x="427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85680" y="5393160"/>
              <a:ext cx="59040" cy="159840"/>
            </a:xfrm>
            <a:custGeom>
              <a:avLst/>
              <a:gdLst/>
              <a:ahLst/>
              <a:rect l="l" t="t" r="r" b="b"/>
              <a:pathLst>
                <a:path w="490" h="1415">
                  <a:moveTo>
                    <a:pt x="0" y="0"/>
                  </a:moveTo>
                  <a:lnTo>
                    <a:pt x="112" y="110"/>
                  </a:lnTo>
                  <a:lnTo>
                    <a:pt x="259" y="567"/>
                  </a:lnTo>
                  <a:lnTo>
                    <a:pt x="468" y="1415"/>
                  </a:lnTo>
                  <a:lnTo>
                    <a:pt x="363" y="649"/>
                  </a:lnTo>
                  <a:lnTo>
                    <a:pt x="382" y="483"/>
                  </a:lnTo>
                  <a:lnTo>
                    <a:pt x="490" y="375"/>
                  </a:lnTo>
                  <a:lnTo>
                    <a:pt x="363" y="294"/>
                  </a:lnTo>
                  <a:lnTo>
                    <a:pt x="232" y="294"/>
                  </a:lnTo>
                  <a:lnTo>
                    <a:pt x="11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37800" y="5545080"/>
              <a:ext cx="72720" cy="249840"/>
            </a:xfrm>
            <a:custGeom>
              <a:avLst/>
              <a:gdLst/>
              <a:ahLst/>
              <a:rect l="l" t="t" r="r" b="b"/>
              <a:pathLst>
                <a:path w="602" h="2222">
                  <a:moveTo>
                    <a:pt x="0" y="1851"/>
                  </a:moveTo>
                  <a:lnTo>
                    <a:pt x="176" y="1370"/>
                  </a:lnTo>
                  <a:lnTo>
                    <a:pt x="422" y="640"/>
                  </a:lnTo>
                  <a:lnTo>
                    <a:pt x="602" y="0"/>
                  </a:lnTo>
                  <a:lnTo>
                    <a:pt x="523" y="789"/>
                  </a:lnTo>
                  <a:lnTo>
                    <a:pt x="44" y="222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288680" y="5630760"/>
              <a:ext cx="148680" cy="425160"/>
            </a:xfrm>
            <a:custGeom>
              <a:avLst/>
              <a:gdLst/>
              <a:ahLst/>
              <a:rect l="l" t="t" r="r" b="b"/>
              <a:pathLst>
                <a:path w="1231" h="3770">
                  <a:moveTo>
                    <a:pt x="203" y="26"/>
                  </a:moveTo>
                  <a:lnTo>
                    <a:pt x="99" y="26"/>
                  </a:lnTo>
                  <a:lnTo>
                    <a:pt x="41" y="151"/>
                  </a:lnTo>
                  <a:lnTo>
                    <a:pt x="53" y="337"/>
                  </a:lnTo>
                  <a:lnTo>
                    <a:pt x="230" y="692"/>
                  </a:lnTo>
                  <a:lnTo>
                    <a:pt x="322" y="1022"/>
                  </a:lnTo>
                  <a:lnTo>
                    <a:pt x="449" y="1459"/>
                  </a:lnTo>
                  <a:lnTo>
                    <a:pt x="297" y="1213"/>
                  </a:lnTo>
                  <a:lnTo>
                    <a:pt x="322" y="1525"/>
                  </a:lnTo>
                  <a:lnTo>
                    <a:pt x="449" y="1898"/>
                  </a:lnTo>
                  <a:lnTo>
                    <a:pt x="728" y="2313"/>
                  </a:lnTo>
                  <a:lnTo>
                    <a:pt x="1102" y="2707"/>
                  </a:lnTo>
                  <a:lnTo>
                    <a:pt x="1132" y="2857"/>
                  </a:lnTo>
                  <a:lnTo>
                    <a:pt x="954" y="2753"/>
                  </a:lnTo>
                  <a:lnTo>
                    <a:pt x="842" y="2753"/>
                  </a:lnTo>
                  <a:lnTo>
                    <a:pt x="772" y="2892"/>
                  </a:lnTo>
                  <a:lnTo>
                    <a:pt x="758" y="3081"/>
                  </a:lnTo>
                  <a:lnTo>
                    <a:pt x="869" y="3309"/>
                  </a:lnTo>
                  <a:lnTo>
                    <a:pt x="1231" y="3770"/>
                  </a:lnTo>
                  <a:lnTo>
                    <a:pt x="758" y="3500"/>
                  </a:lnTo>
                  <a:lnTo>
                    <a:pt x="613" y="3206"/>
                  </a:lnTo>
                  <a:lnTo>
                    <a:pt x="613" y="2520"/>
                  </a:lnTo>
                  <a:lnTo>
                    <a:pt x="191" y="1646"/>
                  </a:lnTo>
                  <a:lnTo>
                    <a:pt x="119" y="1250"/>
                  </a:lnTo>
                  <a:lnTo>
                    <a:pt x="168" y="960"/>
                  </a:lnTo>
                  <a:lnTo>
                    <a:pt x="150" y="729"/>
                  </a:lnTo>
                  <a:lnTo>
                    <a:pt x="53" y="455"/>
                  </a:lnTo>
                  <a:lnTo>
                    <a:pt x="0" y="231"/>
                  </a:lnTo>
                  <a:lnTo>
                    <a:pt x="18" y="125"/>
                  </a:lnTo>
                  <a:lnTo>
                    <a:pt x="69" y="26"/>
                  </a:lnTo>
                  <a:lnTo>
                    <a:pt x="168" y="0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01840" y="5432040"/>
              <a:ext cx="353160" cy="828720"/>
            </a:xfrm>
            <a:custGeom>
              <a:avLst/>
              <a:gdLst/>
              <a:ahLst/>
              <a:rect l="l" t="t" r="r" b="b"/>
              <a:pathLst>
                <a:path w="2903" h="7344">
                  <a:moveTo>
                    <a:pt x="249" y="0"/>
                  </a:moveTo>
                  <a:lnTo>
                    <a:pt x="611" y="815"/>
                  </a:lnTo>
                  <a:lnTo>
                    <a:pt x="918" y="1916"/>
                  </a:lnTo>
                  <a:lnTo>
                    <a:pt x="1222" y="3446"/>
                  </a:lnTo>
                  <a:lnTo>
                    <a:pt x="1706" y="4685"/>
                  </a:lnTo>
                  <a:lnTo>
                    <a:pt x="2839" y="6709"/>
                  </a:lnTo>
                  <a:lnTo>
                    <a:pt x="2820" y="5678"/>
                  </a:lnTo>
                  <a:lnTo>
                    <a:pt x="2903" y="6423"/>
                  </a:lnTo>
                  <a:lnTo>
                    <a:pt x="2903" y="6999"/>
                  </a:lnTo>
                  <a:lnTo>
                    <a:pt x="2820" y="7344"/>
                  </a:lnTo>
                  <a:lnTo>
                    <a:pt x="2145" y="6390"/>
                  </a:lnTo>
                  <a:lnTo>
                    <a:pt x="1534" y="5786"/>
                  </a:lnTo>
                  <a:lnTo>
                    <a:pt x="692" y="3720"/>
                  </a:lnTo>
                  <a:lnTo>
                    <a:pt x="0" y="2628"/>
                  </a:lnTo>
                  <a:lnTo>
                    <a:pt x="752" y="3760"/>
                  </a:lnTo>
                  <a:lnTo>
                    <a:pt x="1589" y="5540"/>
                  </a:lnTo>
                  <a:lnTo>
                    <a:pt x="2257" y="6390"/>
                  </a:lnTo>
                  <a:lnTo>
                    <a:pt x="2677" y="6814"/>
                  </a:lnTo>
                  <a:lnTo>
                    <a:pt x="2707" y="6674"/>
                  </a:lnTo>
                  <a:lnTo>
                    <a:pt x="1840" y="5357"/>
                  </a:lnTo>
                  <a:lnTo>
                    <a:pt x="1250" y="3834"/>
                  </a:lnTo>
                  <a:lnTo>
                    <a:pt x="611" y="1565"/>
                  </a:lnTo>
                  <a:lnTo>
                    <a:pt x="249" y="17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9320" y="5326560"/>
              <a:ext cx="127440" cy="366480"/>
            </a:xfrm>
            <a:custGeom>
              <a:avLst/>
              <a:gdLst/>
              <a:ahLst/>
              <a:rect l="l" t="t" r="r" b="b"/>
              <a:pathLst>
                <a:path w="1046" h="3250">
                  <a:moveTo>
                    <a:pt x="1046" y="822"/>
                  </a:moveTo>
                  <a:lnTo>
                    <a:pt x="855" y="719"/>
                  </a:lnTo>
                  <a:lnTo>
                    <a:pt x="648" y="719"/>
                  </a:lnTo>
                  <a:lnTo>
                    <a:pt x="648" y="934"/>
                  </a:lnTo>
                  <a:lnTo>
                    <a:pt x="242" y="3250"/>
                  </a:lnTo>
                  <a:lnTo>
                    <a:pt x="505" y="1353"/>
                  </a:lnTo>
                  <a:lnTo>
                    <a:pt x="505" y="956"/>
                  </a:lnTo>
                  <a:lnTo>
                    <a:pt x="396" y="736"/>
                  </a:lnTo>
                  <a:lnTo>
                    <a:pt x="396" y="1318"/>
                  </a:lnTo>
                  <a:lnTo>
                    <a:pt x="88" y="2630"/>
                  </a:lnTo>
                  <a:lnTo>
                    <a:pt x="313" y="1246"/>
                  </a:lnTo>
                  <a:lnTo>
                    <a:pt x="313" y="784"/>
                  </a:lnTo>
                  <a:lnTo>
                    <a:pt x="132" y="1111"/>
                  </a:lnTo>
                  <a:lnTo>
                    <a:pt x="132" y="472"/>
                  </a:lnTo>
                  <a:lnTo>
                    <a:pt x="0" y="0"/>
                  </a:lnTo>
                  <a:lnTo>
                    <a:pt x="277" y="272"/>
                  </a:lnTo>
                  <a:lnTo>
                    <a:pt x="365" y="495"/>
                  </a:lnTo>
                  <a:lnTo>
                    <a:pt x="873" y="670"/>
                  </a:lnTo>
                  <a:lnTo>
                    <a:pt x="1046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835800" y="5259600"/>
              <a:ext cx="171000" cy="415800"/>
            </a:xfrm>
            <a:custGeom>
              <a:avLst/>
              <a:gdLst/>
              <a:ahLst/>
              <a:rect l="l" t="t" r="r" b="b"/>
              <a:pathLst>
                <a:path w="1409" h="3684">
                  <a:moveTo>
                    <a:pt x="463" y="0"/>
                  </a:moveTo>
                  <a:lnTo>
                    <a:pt x="619" y="175"/>
                  </a:lnTo>
                  <a:lnTo>
                    <a:pt x="720" y="593"/>
                  </a:lnTo>
                  <a:lnTo>
                    <a:pt x="706" y="1088"/>
                  </a:lnTo>
                  <a:lnTo>
                    <a:pt x="514" y="1487"/>
                  </a:lnTo>
                  <a:lnTo>
                    <a:pt x="94" y="2061"/>
                  </a:lnTo>
                  <a:lnTo>
                    <a:pt x="0" y="2216"/>
                  </a:lnTo>
                  <a:lnTo>
                    <a:pt x="496" y="1980"/>
                  </a:lnTo>
                  <a:lnTo>
                    <a:pt x="881" y="1621"/>
                  </a:lnTo>
                  <a:lnTo>
                    <a:pt x="738" y="2283"/>
                  </a:lnTo>
                  <a:lnTo>
                    <a:pt x="443" y="2946"/>
                  </a:lnTo>
                  <a:lnTo>
                    <a:pt x="367" y="3412"/>
                  </a:lnTo>
                  <a:lnTo>
                    <a:pt x="634" y="3684"/>
                  </a:lnTo>
                  <a:lnTo>
                    <a:pt x="706" y="2993"/>
                  </a:lnTo>
                  <a:lnTo>
                    <a:pt x="892" y="2546"/>
                  </a:lnTo>
                  <a:lnTo>
                    <a:pt x="1268" y="2109"/>
                  </a:lnTo>
                  <a:lnTo>
                    <a:pt x="1409" y="1510"/>
                  </a:lnTo>
                  <a:lnTo>
                    <a:pt x="1409" y="931"/>
                  </a:lnTo>
                  <a:lnTo>
                    <a:pt x="1268" y="434"/>
                  </a:lnTo>
                  <a:lnTo>
                    <a:pt x="1052" y="191"/>
                  </a:lnTo>
                  <a:lnTo>
                    <a:pt x="795" y="88"/>
                  </a:lnTo>
                  <a:lnTo>
                    <a:pt x="547" y="44"/>
                  </a:lnTo>
                  <a:lnTo>
                    <a:pt x="4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07200" y="5108760"/>
              <a:ext cx="346320" cy="709560"/>
            </a:xfrm>
            <a:custGeom>
              <a:avLst/>
              <a:gdLst/>
              <a:ahLst/>
              <a:rect l="l" t="t" r="r" b="b"/>
              <a:pathLst>
                <a:path w="2847" h="6291">
                  <a:moveTo>
                    <a:pt x="99" y="0"/>
                  </a:moveTo>
                  <a:lnTo>
                    <a:pt x="99" y="470"/>
                  </a:lnTo>
                  <a:lnTo>
                    <a:pt x="606" y="1473"/>
                  </a:lnTo>
                  <a:lnTo>
                    <a:pt x="869" y="1641"/>
                  </a:lnTo>
                  <a:lnTo>
                    <a:pt x="1012" y="1980"/>
                  </a:lnTo>
                  <a:lnTo>
                    <a:pt x="1513" y="2112"/>
                  </a:lnTo>
                  <a:lnTo>
                    <a:pt x="1302" y="2354"/>
                  </a:lnTo>
                  <a:lnTo>
                    <a:pt x="1302" y="2716"/>
                  </a:lnTo>
                  <a:lnTo>
                    <a:pt x="1706" y="2960"/>
                  </a:lnTo>
                  <a:lnTo>
                    <a:pt x="2019" y="2976"/>
                  </a:lnTo>
                  <a:lnTo>
                    <a:pt x="1568" y="3043"/>
                  </a:lnTo>
                  <a:lnTo>
                    <a:pt x="1399" y="2976"/>
                  </a:lnTo>
                  <a:lnTo>
                    <a:pt x="1531" y="3334"/>
                  </a:lnTo>
                  <a:lnTo>
                    <a:pt x="1695" y="3507"/>
                  </a:lnTo>
                  <a:lnTo>
                    <a:pt x="1934" y="3507"/>
                  </a:lnTo>
                  <a:lnTo>
                    <a:pt x="1775" y="3751"/>
                  </a:lnTo>
                  <a:lnTo>
                    <a:pt x="1865" y="4046"/>
                  </a:lnTo>
                  <a:lnTo>
                    <a:pt x="2128" y="4136"/>
                  </a:lnTo>
                  <a:lnTo>
                    <a:pt x="2301" y="4578"/>
                  </a:lnTo>
                  <a:lnTo>
                    <a:pt x="2679" y="5023"/>
                  </a:lnTo>
                  <a:lnTo>
                    <a:pt x="2847" y="6291"/>
                  </a:lnTo>
                  <a:lnTo>
                    <a:pt x="2596" y="5426"/>
                  </a:lnTo>
                  <a:lnTo>
                    <a:pt x="2148" y="4806"/>
                  </a:lnTo>
                  <a:lnTo>
                    <a:pt x="1513" y="3778"/>
                  </a:lnTo>
                  <a:lnTo>
                    <a:pt x="673" y="2404"/>
                  </a:lnTo>
                  <a:lnTo>
                    <a:pt x="175" y="1042"/>
                  </a:lnTo>
                  <a:lnTo>
                    <a:pt x="0" y="359"/>
                  </a:lnTo>
                  <a:lnTo>
                    <a:pt x="45" y="9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78120" y="5055480"/>
              <a:ext cx="602280" cy="274320"/>
            </a:xfrm>
            <a:custGeom>
              <a:avLst/>
              <a:gdLst/>
              <a:ahLst/>
              <a:rect l="l" t="t" r="r" b="b"/>
              <a:pathLst>
                <a:path w="4954" h="2428">
                  <a:moveTo>
                    <a:pt x="1192" y="2428"/>
                  </a:moveTo>
                  <a:lnTo>
                    <a:pt x="1545" y="1955"/>
                  </a:lnTo>
                  <a:lnTo>
                    <a:pt x="1789" y="1821"/>
                  </a:lnTo>
                  <a:lnTo>
                    <a:pt x="1789" y="1622"/>
                  </a:lnTo>
                  <a:lnTo>
                    <a:pt x="2264" y="1450"/>
                  </a:lnTo>
                  <a:lnTo>
                    <a:pt x="2765" y="1319"/>
                  </a:lnTo>
                  <a:lnTo>
                    <a:pt x="3433" y="1268"/>
                  </a:lnTo>
                  <a:lnTo>
                    <a:pt x="3827" y="1268"/>
                  </a:lnTo>
                  <a:lnTo>
                    <a:pt x="4237" y="1378"/>
                  </a:lnTo>
                  <a:lnTo>
                    <a:pt x="4397" y="1644"/>
                  </a:lnTo>
                  <a:lnTo>
                    <a:pt x="4620" y="1754"/>
                  </a:lnTo>
                  <a:lnTo>
                    <a:pt x="4954" y="2026"/>
                  </a:lnTo>
                  <a:lnTo>
                    <a:pt x="4659" y="1738"/>
                  </a:lnTo>
                  <a:lnTo>
                    <a:pt x="4341" y="1490"/>
                  </a:lnTo>
                  <a:lnTo>
                    <a:pt x="4270" y="1319"/>
                  </a:lnTo>
                  <a:lnTo>
                    <a:pt x="4341" y="1002"/>
                  </a:lnTo>
                  <a:lnTo>
                    <a:pt x="3949" y="1182"/>
                  </a:lnTo>
                  <a:lnTo>
                    <a:pt x="3712" y="1182"/>
                  </a:lnTo>
                  <a:lnTo>
                    <a:pt x="2848" y="1044"/>
                  </a:lnTo>
                  <a:lnTo>
                    <a:pt x="2345" y="1044"/>
                  </a:lnTo>
                  <a:lnTo>
                    <a:pt x="1980" y="956"/>
                  </a:lnTo>
                  <a:lnTo>
                    <a:pt x="1861" y="871"/>
                  </a:lnTo>
                  <a:lnTo>
                    <a:pt x="1648" y="539"/>
                  </a:lnTo>
                  <a:lnTo>
                    <a:pt x="1351" y="244"/>
                  </a:lnTo>
                  <a:lnTo>
                    <a:pt x="963" y="0"/>
                  </a:lnTo>
                  <a:lnTo>
                    <a:pt x="1337" y="292"/>
                  </a:lnTo>
                  <a:lnTo>
                    <a:pt x="1436" y="493"/>
                  </a:lnTo>
                  <a:lnTo>
                    <a:pt x="1459" y="782"/>
                  </a:lnTo>
                  <a:lnTo>
                    <a:pt x="1416" y="938"/>
                  </a:lnTo>
                  <a:lnTo>
                    <a:pt x="1372" y="975"/>
                  </a:lnTo>
                  <a:lnTo>
                    <a:pt x="1264" y="975"/>
                  </a:lnTo>
                  <a:lnTo>
                    <a:pt x="1141" y="894"/>
                  </a:lnTo>
                  <a:lnTo>
                    <a:pt x="948" y="800"/>
                  </a:lnTo>
                  <a:lnTo>
                    <a:pt x="719" y="1024"/>
                  </a:lnTo>
                  <a:lnTo>
                    <a:pt x="1090" y="1205"/>
                  </a:lnTo>
                  <a:lnTo>
                    <a:pt x="1192" y="1358"/>
                  </a:lnTo>
                  <a:lnTo>
                    <a:pt x="864" y="1220"/>
                  </a:lnTo>
                  <a:lnTo>
                    <a:pt x="475" y="1139"/>
                  </a:lnTo>
                  <a:lnTo>
                    <a:pt x="0" y="1090"/>
                  </a:lnTo>
                  <a:lnTo>
                    <a:pt x="588" y="1182"/>
                  </a:lnTo>
                  <a:lnTo>
                    <a:pt x="948" y="1334"/>
                  </a:lnTo>
                  <a:lnTo>
                    <a:pt x="1072" y="1450"/>
                  </a:lnTo>
                  <a:lnTo>
                    <a:pt x="826" y="1538"/>
                  </a:lnTo>
                  <a:lnTo>
                    <a:pt x="512" y="1510"/>
                  </a:lnTo>
                  <a:lnTo>
                    <a:pt x="209" y="1378"/>
                  </a:lnTo>
                  <a:lnTo>
                    <a:pt x="512" y="1565"/>
                  </a:lnTo>
                  <a:lnTo>
                    <a:pt x="754" y="1574"/>
                  </a:lnTo>
                  <a:lnTo>
                    <a:pt x="998" y="1538"/>
                  </a:lnTo>
                  <a:lnTo>
                    <a:pt x="1192" y="1490"/>
                  </a:lnTo>
                  <a:lnTo>
                    <a:pt x="1436" y="1464"/>
                  </a:lnTo>
                  <a:lnTo>
                    <a:pt x="1630" y="1510"/>
                  </a:lnTo>
                  <a:lnTo>
                    <a:pt x="1683" y="1574"/>
                  </a:lnTo>
                  <a:lnTo>
                    <a:pt x="1400" y="1807"/>
                  </a:lnTo>
                  <a:lnTo>
                    <a:pt x="1224" y="1998"/>
                  </a:lnTo>
                  <a:lnTo>
                    <a:pt x="1477" y="1895"/>
                  </a:lnTo>
                  <a:lnTo>
                    <a:pt x="1192" y="2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21600" y="5096160"/>
              <a:ext cx="108720" cy="57600"/>
            </a:xfrm>
            <a:custGeom>
              <a:avLst/>
              <a:gdLst/>
              <a:ahLst/>
              <a:rect l="l" t="t" r="r" b="b"/>
              <a:pathLst>
                <a:path w="897" h="511">
                  <a:moveTo>
                    <a:pt x="897" y="511"/>
                  </a:moveTo>
                  <a:lnTo>
                    <a:pt x="468" y="179"/>
                  </a:lnTo>
                  <a:lnTo>
                    <a:pt x="0" y="0"/>
                  </a:lnTo>
                  <a:lnTo>
                    <a:pt x="226" y="0"/>
                  </a:lnTo>
                  <a:lnTo>
                    <a:pt x="578" y="133"/>
                  </a:lnTo>
                  <a:lnTo>
                    <a:pt x="897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43920" y="5038200"/>
              <a:ext cx="601560" cy="63000"/>
            </a:xfrm>
            <a:custGeom>
              <a:avLst/>
              <a:gdLst/>
              <a:ahLst/>
              <a:rect l="l" t="t" r="r" b="b"/>
              <a:pathLst>
                <a:path w="4938" h="557">
                  <a:moveTo>
                    <a:pt x="0" y="334"/>
                  </a:moveTo>
                  <a:lnTo>
                    <a:pt x="369" y="152"/>
                  </a:lnTo>
                  <a:lnTo>
                    <a:pt x="967" y="106"/>
                  </a:lnTo>
                  <a:lnTo>
                    <a:pt x="1369" y="223"/>
                  </a:lnTo>
                  <a:lnTo>
                    <a:pt x="1651" y="133"/>
                  </a:lnTo>
                  <a:lnTo>
                    <a:pt x="2149" y="152"/>
                  </a:lnTo>
                  <a:lnTo>
                    <a:pt x="3308" y="396"/>
                  </a:lnTo>
                  <a:lnTo>
                    <a:pt x="4094" y="557"/>
                  </a:lnTo>
                  <a:lnTo>
                    <a:pt x="4841" y="557"/>
                  </a:lnTo>
                  <a:lnTo>
                    <a:pt x="4938" y="491"/>
                  </a:lnTo>
                  <a:lnTo>
                    <a:pt x="4481" y="512"/>
                  </a:lnTo>
                  <a:lnTo>
                    <a:pt x="3839" y="444"/>
                  </a:lnTo>
                  <a:lnTo>
                    <a:pt x="2191" y="60"/>
                  </a:lnTo>
                  <a:lnTo>
                    <a:pt x="1738" y="41"/>
                  </a:lnTo>
                  <a:lnTo>
                    <a:pt x="1312" y="106"/>
                  </a:lnTo>
                  <a:lnTo>
                    <a:pt x="899" y="0"/>
                  </a:lnTo>
                  <a:lnTo>
                    <a:pt x="244" y="13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49920" y="5802480"/>
              <a:ext cx="358200" cy="453960"/>
            </a:xfrm>
            <a:custGeom>
              <a:avLst/>
              <a:gdLst/>
              <a:ahLst/>
              <a:rect l="l" t="t" r="r" b="b"/>
              <a:pathLst>
                <a:path w="2945" h="4020">
                  <a:moveTo>
                    <a:pt x="2945" y="4020"/>
                  </a:moveTo>
                  <a:lnTo>
                    <a:pt x="1507" y="2609"/>
                  </a:lnTo>
                  <a:lnTo>
                    <a:pt x="905" y="1888"/>
                  </a:lnTo>
                  <a:lnTo>
                    <a:pt x="428" y="1134"/>
                  </a:lnTo>
                  <a:lnTo>
                    <a:pt x="0" y="0"/>
                  </a:lnTo>
                  <a:lnTo>
                    <a:pt x="59" y="463"/>
                  </a:lnTo>
                  <a:lnTo>
                    <a:pt x="391" y="2289"/>
                  </a:lnTo>
                  <a:lnTo>
                    <a:pt x="501" y="2694"/>
                  </a:lnTo>
                  <a:lnTo>
                    <a:pt x="716" y="4020"/>
                  </a:lnTo>
                  <a:lnTo>
                    <a:pt x="1331" y="4020"/>
                  </a:lnTo>
                  <a:lnTo>
                    <a:pt x="1034" y="3417"/>
                  </a:lnTo>
                  <a:lnTo>
                    <a:pt x="1068" y="3729"/>
                  </a:lnTo>
                  <a:lnTo>
                    <a:pt x="840" y="3368"/>
                  </a:lnTo>
                  <a:lnTo>
                    <a:pt x="695" y="2674"/>
                  </a:lnTo>
                  <a:lnTo>
                    <a:pt x="695" y="2107"/>
                  </a:lnTo>
                  <a:lnTo>
                    <a:pt x="888" y="2107"/>
                  </a:lnTo>
                  <a:lnTo>
                    <a:pt x="1417" y="2738"/>
                  </a:lnTo>
                  <a:lnTo>
                    <a:pt x="2844" y="4020"/>
                  </a:lnTo>
                  <a:lnTo>
                    <a:pt x="2945" y="40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957480" y="5735520"/>
              <a:ext cx="201240" cy="221040"/>
            </a:xfrm>
            <a:custGeom>
              <a:avLst/>
              <a:gdLst/>
              <a:ahLst/>
              <a:rect l="l" t="t" r="r" b="b"/>
              <a:pathLst>
                <a:path w="1657" h="1957">
                  <a:moveTo>
                    <a:pt x="126" y="90"/>
                  </a:moveTo>
                  <a:lnTo>
                    <a:pt x="332" y="290"/>
                  </a:lnTo>
                  <a:lnTo>
                    <a:pt x="565" y="316"/>
                  </a:lnTo>
                  <a:lnTo>
                    <a:pt x="705" y="270"/>
                  </a:lnTo>
                  <a:lnTo>
                    <a:pt x="781" y="111"/>
                  </a:lnTo>
                  <a:lnTo>
                    <a:pt x="975" y="334"/>
                  </a:lnTo>
                  <a:lnTo>
                    <a:pt x="1024" y="720"/>
                  </a:lnTo>
                  <a:lnTo>
                    <a:pt x="1256" y="1279"/>
                  </a:lnTo>
                  <a:lnTo>
                    <a:pt x="1657" y="1957"/>
                  </a:lnTo>
                  <a:lnTo>
                    <a:pt x="1203" y="1388"/>
                  </a:lnTo>
                  <a:lnTo>
                    <a:pt x="919" y="966"/>
                  </a:lnTo>
                  <a:lnTo>
                    <a:pt x="636" y="763"/>
                  </a:lnTo>
                  <a:lnTo>
                    <a:pt x="410" y="606"/>
                  </a:lnTo>
                  <a:lnTo>
                    <a:pt x="286" y="355"/>
                  </a:lnTo>
                  <a:lnTo>
                    <a:pt x="0" y="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48400" y="5692320"/>
              <a:ext cx="166320" cy="564120"/>
            </a:xfrm>
            <a:custGeom>
              <a:avLst/>
              <a:gdLst/>
              <a:ahLst/>
              <a:rect l="l" t="t" r="r" b="b"/>
              <a:pathLst>
                <a:path w="1369" h="4998">
                  <a:moveTo>
                    <a:pt x="310" y="0"/>
                  </a:moveTo>
                  <a:lnTo>
                    <a:pt x="0" y="4998"/>
                  </a:lnTo>
                  <a:lnTo>
                    <a:pt x="1369" y="4998"/>
                  </a:lnTo>
                  <a:lnTo>
                    <a:pt x="1191" y="3652"/>
                  </a:lnTo>
                  <a:lnTo>
                    <a:pt x="892" y="2231"/>
                  </a:lnTo>
                  <a:lnTo>
                    <a:pt x="677" y="901"/>
                  </a:lnTo>
                  <a:lnTo>
                    <a:pt x="486" y="224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78360" y="5684760"/>
              <a:ext cx="122400" cy="571680"/>
            </a:xfrm>
            <a:custGeom>
              <a:avLst/>
              <a:gdLst/>
              <a:ahLst/>
              <a:rect l="l" t="t" r="r" b="b"/>
              <a:pathLst>
                <a:path w="1005" h="5067">
                  <a:moveTo>
                    <a:pt x="725" y="0"/>
                  </a:moveTo>
                  <a:lnTo>
                    <a:pt x="1005" y="5067"/>
                  </a:lnTo>
                  <a:lnTo>
                    <a:pt x="0" y="5067"/>
                  </a:lnTo>
                  <a:lnTo>
                    <a:pt x="66" y="2436"/>
                  </a:lnTo>
                  <a:lnTo>
                    <a:pt x="178" y="1174"/>
                  </a:lnTo>
                  <a:lnTo>
                    <a:pt x="277" y="627"/>
                  </a:lnTo>
                  <a:lnTo>
                    <a:pt x="440" y="32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3595680" y="6259320"/>
              <a:ext cx="1698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7365960" y="2965320"/>
            <a:ext cx="1193400" cy="1309320"/>
            <a:chOff x="7365960" y="2965320"/>
            <a:chExt cx="1193400" cy="1309320"/>
          </a:xfrm>
        </p:grpSpPr>
        <p:sp>
          <p:nvSpPr>
            <p:cNvPr id="1684" name=""/>
            <p:cNvSpPr/>
            <p:nvPr/>
          </p:nvSpPr>
          <p:spPr>
            <a:xfrm>
              <a:off x="7753680" y="3772440"/>
              <a:ext cx="408960" cy="423360"/>
            </a:xfrm>
            <a:custGeom>
              <a:avLst/>
              <a:gdLst/>
              <a:ahLst/>
              <a:rect l="l" t="t" r="r" b="b"/>
              <a:pathLst>
                <a:path w="2746" h="3859">
                  <a:moveTo>
                    <a:pt x="164" y="86"/>
                  </a:moveTo>
                  <a:lnTo>
                    <a:pt x="28" y="387"/>
                  </a:lnTo>
                  <a:lnTo>
                    <a:pt x="0" y="846"/>
                  </a:lnTo>
                  <a:lnTo>
                    <a:pt x="28" y="1492"/>
                  </a:lnTo>
                  <a:lnTo>
                    <a:pt x="265" y="2036"/>
                  </a:lnTo>
                  <a:lnTo>
                    <a:pt x="1158" y="3859"/>
                  </a:lnTo>
                  <a:lnTo>
                    <a:pt x="2119" y="3177"/>
                  </a:lnTo>
                  <a:lnTo>
                    <a:pt x="2481" y="2285"/>
                  </a:lnTo>
                  <a:lnTo>
                    <a:pt x="2682" y="1354"/>
                  </a:lnTo>
                  <a:lnTo>
                    <a:pt x="2746" y="549"/>
                  </a:lnTo>
                  <a:lnTo>
                    <a:pt x="2573" y="0"/>
                  </a:lnTo>
                  <a:lnTo>
                    <a:pt x="164" y="86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94400" y="3818880"/>
              <a:ext cx="1141200" cy="455760"/>
            </a:xfrm>
            <a:custGeom>
              <a:avLst/>
              <a:gdLst/>
              <a:ahLst/>
              <a:rect l="l" t="t" r="r" b="b"/>
              <a:pathLst>
                <a:path w="7681" h="4152">
                  <a:moveTo>
                    <a:pt x="0" y="4152"/>
                  </a:moveTo>
                  <a:lnTo>
                    <a:pt x="7681" y="4152"/>
                  </a:lnTo>
                  <a:lnTo>
                    <a:pt x="7472" y="2748"/>
                  </a:lnTo>
                  <a:lnTo>
                    <a:pt x="7186" y="1643"/>
                  </a:lnTo>
                  <a:lnTo>
                    <a:pt x="6817" y="890"/>
                  </a:lnTo>
                  <a:lnTo>
                    <a:pt x="5955" y="293"/>
                  </a:lnTo>
                  <a:lnTo>
                    <a:pt x="5199" y="44"/>
                  </a:lnTo>
                  <a:lnTo>
                    <a:pt x="5127" y="1183"/>
                  </a:lnTo>
                  <a:lnTo>
                    <a:pt x="4832" y="2195"/>
                  </a:lnTo>
                  <a:lnTo>
                    <a:pt x="4408" y="3094"/>
                  </a:lnTo>
                  <a:lnTo>
                    <a:pt x="4336" y="2324"/>
                  </a:lnTo>
                  <a:lnTo>
                    <a:pt x="4202" y="1736"/>
                  </a:lnTo>
                  <a:lnTo>
                    <a:pt x="4136" y="1478"/>
                  </a:lnTo>
                  <a:lnTo>
                    <a:pt x="4265" y="1098"/>
                  </a:lnTo>
                  <a:lnTo>
                    <a:pt x="4537" y="761"/>
                  </a:lnTo>
                  <a:lnTo>
                    <a:pt x="4437" y="329"/>
                  </a:lnTo>
                  <a:lnTo>
                    <a:pt x="3437" y="293"/>
                  </a:lnTo>
                  <a:lnTo>
                    <a:pt x="3180" y="715"/>
                  </a:lnTo>
                  <a:lnTo>
                    <a:pt x="3610" y="1478"/>
                  </a:lnTo>
                  <a:lnTo>
                    <a:pt x="3373" y="1856"/>
                  </a:lnTo>
                  <a:lnTo>
                    <a:pt x="3410" y="2195"/>
                  </a:lnTo>
                  <a:lnTo>
                    <a:pt x="3209" y="2704"/>
                  </a:lnTo>
                  <a:lnTo>
                    <a:pt x="2720" y="1902"/>
                  </a:lnTo>
                  <a:lnTo>
                    <a:pt x="2446" y="1063"/>
                  </a:lnTo>
                  <a:lnTo>
                    <a:pt x="2380" y="0"/>
                  </a:lnTo>
                  <a:lnTo>
                    <a:pt x="1058" y="588"/>
                  </a:lnTo>
                  <a:lnTo>
                    <a:pt x="597" y="890"/>
                  </a:lnTo>
                  <a:lnTo>
                    <a:pt x="194" y="2153"/>
                  </a:lnTo>
                  <a:lnTo>
                    <a:pt x="0" y="3601"/>
                  </a:lnTo>
                  <a:lnTo>
                    <a:pt x="0" y="4152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469280" y="3008880"/>
              <a:ext cx="923760" cy="852120"/>
            </a:xfrm>
            <a:custGeom>
              <a:avLst/>
              <a:gdLst/>
              <a:ahLst/>
              <a:rect l="l" t="t" r="r" b="b"/>
              <a:pathLst>
                <a:path w="6211" h="7755">
                  <a:moveTo>
                    <a:pt x="2242" y="294"/>
                  </a:moveTo>
                  <a:lnTo>
                    <a:pt x="1747" y="934"/>
                  </a:lnTo>
                  <a:lnTo>
                    <a:pt x="1021" y="2280"/>
                  </a:lnTo>
                  <a:lnTo>
                    <a:pt x="454" y="2202"/>
                  </a:lnTo>
                  <a:lnTo>
                    <a:pt x="187" y="2419"/>
                  </a:lnTo>
                  <a:lnTo>
                    <a:pt x="0" y="3057"/>
                  </a:lnTo>
                  <a:lnTo>
                    <a:pt x="159" y="3601"/>
                  </a:lnTo>
                  <a:lnTo>
                    <a:pt x="359" y="3896"/>
                  </a:lnTo>
                  <a:lnTo>
                    <a:pt x="791" y="3982"/>
                  </a:lnTo>
                  <a:lnTo>
                    <a:pt x="1115" y="3982"/>
                  </a:lnTo>
                  <a:lnTo>
                    <a:pt x="1115" y="5173"/>
                  </a:lnTo>
                  <a:lnTo>
                    <a:pt x="1279" y="5854"/>
                  </a:lnTo>
                  <a:lnTo>
                    <a:pt x="1552" y="6478"/>
                  </a:lnTo>
                  <a:lnTo>
                    <a:pt x="1875" y="6909"/>
                  </a:lnTo>
                  <a:lnTo>
                    <a:pt x="2609" y="7541"/>
                  </a:lnTo>
                  <a:lnTo>
                    <a:pt x="3140" y="7755"/>
                  </a:lnTo>
                  <a:lnTo>
                    <a:pt x="3631" y="7704"/>
                  </a:lnTo>
                  <a:lnTo>
                    <a:pt x="4097" y="7627"/>
                  </a:lnTo>
                  <a:lnTo>
                    <a:pt x="4486" y="7375"/>
                  </a:lnTo>
                  <a:lnTo>
                    <a:pt x="4760" y="6988"/>
                  </a:lnTo>
                  <a:lnTo>
                    <a:pt x="5055" y="6269"/>
                  </a:lnTo>
                  <a:lnTo>
                    <a:pt x="5219" y="5632"/>
                  </a:lnTo>
                  <a:lnTo>
                    <a:pt x="5254" y="4913"/>
                  </a:lnTo>
                  <a:lnTo>
                    <a:pt x="5219" y="4067"/>
                  </a:lnTo>
                  <a:lnTo>
                    <a:pt x="5725" y="3852"/>
                  </a:lnTo>
                  <a:lnTo>
                    <a:pt x="6049" y="3516"/>
                  </a:lnTo>
                  <a:lnTo>
                    <a:pt x="6211" y="3177"/>
                  </a:lnTo>
                  <a:lnTo>
                    <a:pt x="6211" y="2711"/>
                  </a:lnTo>
                  <a:lnTo>
                    <a:pt x="6083" y="2419"/>
                  </a:lnTo>
                  <a:lnTo>
                    <a:pt x="5846" y="2246"/>
                  </a:lnTo>
                  <a:lnTo>
                    <a:pt x="5624" y="2202"/>
                  </a:lnTo>
                  <a:lnTo>
                    <a:pt x="5286" y="2280"/>
                  </a:lnTo>
                  <a:lnTo>
                    <a:pt x="5118" y="2454"/>
                  </a:lnTo>
                  <a:lnTo>
                    <a:pt x="4622" y="1096"/>
                  </a:lnTo>
                  <a:lnTo>
                    <a:pt x="4062" y="342"/>
                  </a:lnTo>
                  <a:lnTo>
                    <a:pt x="3603" y="88"/>
                  </a:lnTo>
                  <a:lnTo>
                    <a:pt x="3140" y="0"/>
                  </a:lnTo>
                  <a:lnTo>
                    <a:pt x="2545" y="171"/>
                  </a:lnTo>
                  <a:lnTo>
                    <a:pt x="2242" y="2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839000" y="3185640"/>
              <a:ext cx="243720" cy="103680"/>
            </a:xfrm>
            <a:custGeom>
              <a:avLst/>
              <a:gdLst/>
              <a:ahLst/>
              <a:rect l="l" t="t" r="r" b="b"/>
              <a:pathLst>
                <a:path w="1645" h="941">
                  <a:moveTo>
                    <a:pt x="817" y="219"/>
                  </a:moveTo>
                  <a:lnTo>
                    <a:pt x="658" y="95"/>
                  </a:lnTo>
                  <a:lnTo>
                    <a:pt x="487" y="45"/>
                  </a:lnTo>
                  <a:lnTo>
                    <a:pt x="257" y="45"/>
                  </a:lnTo>
                  <a:lnTo>
                    <a:pt x="127" y="131"/>
                  </a:lnTo>
                  <a:lnTo>
                    <a:pt x="26" y="339"/>
                  </a:lnTo>
                  <a:lnTo>
                    <a:pt x="0" y="597"/>
                  </a:lnTo>
                  <a:lnTo>
                    <a:pt x="127" y="849"/>
                  </a:lnTo>
                  <a:lnTo>
                    <a:pt x="358" y="941"/>
                  </a:lnTo>
                  <a:lnTo>
                    <a:pt x="560" y="941"/>
                  </a:lnTo>
                  <a:lnTo>
                    <a:pt x="725" y="849"/>
                  </a:lnTo>
                  <a:lnTo>
                    <a:pt x="918" y="597"/>
                  </a:lnTo>
                  <a:lnTo>
                    <a:pt x="1022" y="814"/>
                  </a:lnTo>
                  <a:lnTo>
                    <a:pt x="1250" y="897"/>
                  </a:lnTo>
                  <a:lnTo>
                    <a:pt x="1487" y="814"/>
                  </a:lnTo>
                  <a:lnTo>
                    <a:pt x="1615" y="641"/>
                  </a:lnTo>
                  <a:lnTo>
                    <a:pt x="1645" y="425"/>
                  </a:lnTo>
                  <a:lnTo>
                    <a:pt x="1580" y="219"/>
                  </a:lnTo>
                  <a:lnTo>
                    <a:pt x="1450" y="45"/>
                  </a:lnTo>
                  <a:lnTo>
                    <a:pt x="1250" y="0"/>
                  </a:lnTo>
                  <a:lnTo>
                    <a:pt x="1057" y="45"/>
                  </a:lnTo>
                  <a:lnTo>
                    <a:pt x="946" y="95"/>
                  </a:lnTo>
                  <a:lnTo>
                    <a:pt x="817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84280" y="3488760"/>
              <a:ext cx="318600" cy="167400"/>
            </a:xfrm>
            <a:custGeom>
              <a:avLst/>
              <a:gdLst/>
              <a:ahLst/>
              <a:rect l="l" t="t" r="r" b="b"/>
              <a:pathLst>
                <a:path w="2150" h="1529">
                  <a:moveTo>
                    <a:pt x="0" y="0"/>
                  </a:moveTo>
                  <a:lnTo>
                    <a:pt x="660" y="431"/>
                  </a:lnTo>
                  <a:lnTo>
                    <a:pt x="991" y="551"/>
                  </a:lnTo>
                  <a:lnTo>
                    <a:pt x="1314" y="551"/>
                  </a:lnTo>
                  <a:lnTo>
                    <a:pt x="1552" y="472"/>
                  </a:lnTo>
                  <a:lnTo>
                    <a:pt x="2150" y="129"/>
                  </a:lnTo>
                  <a:lnTo>
                    <a:pt x="1983" y="500"/>
                  </a:lnTo>
                  <a:lnTo>
                    <a:pt x="1682" y="1270"/>
                  </a:lnTo>
                  <a:lnTo>
                    <a:pt x="1489" y="1492"/>
                  </a:lnTo>
                  <a:lnTo>
                    <a:pt x="1185" y="1529"/>
                  </a:lnTo>
                  <a:lnTo>
                    <a:pt x="791" y="1443"/>
                  </a:lnTo>
                  <a:lnTo>
                    <a:pt x="590" y="1235"/>
                  </a:lnTo>
                  <a:lnTo>
                    <a:pt x="394" y="8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3720" y="3227760"/>
              <a:ext cx="648000" cy="641160"/>
            </a:xfrm>
            <a:custGeom>
              <a:avLst/>
              <a:gdLst/>
              <a:ahLst/>
              <a:rect l="l" t="t" r="r" b="b"/>
              <a:pathLst>
                <a:path w="4364" h="5835">
                  <a:moveTo>
                    <a:pt x="498" y="83"/>
                  </a:moveTo>
                  <a:lnTo>
                    <a:pt x="302" y="1134"/>
                  </a:lnTo>
                  <a:lnTo>
                    <a:pt x="231" y="2054"/>
                  </a:lnTo>
                  <a:lnTo>
                    <a:pt x="201" y="3110"/>
                  </a:lnTo>
                  <a:lnTo>
                    <a:pt x="330" y="3862"/>
                  </a:lnTo>
                  <a:lnTo>
                    <a:pt x="662" y="4572"/>
                  </a:lnTo>
                  <a:lnTo>
                    <a:pt x="1215" y="5160"/>
                  </a:lnTo>
                  <a:lnTo>
                    <a:pt x="1805" y="5540"/>
                  </a:lnTo>
                  <a:lnTo>
                    <a:pt x="2200" y="5626"/>
                  </a:lnTo>
                  <a:lnTo>
                    <a:pt x="2624" y="5626"/>
                  </a:lnTo>
                  <a:lnTo>
                    <a:pt x="3086" y="5499"/>
                  </a:lnTo>
                  <a:lnTo>
                    <a:pt x="3479" y="5203"/>
                  </a:lnTo>
                  <a:lnTo>
                    <a:pt x="3767" y="4786"/>
                  </a:lnTo>
                  <a:lnTo>
                    <a:pt x="4042" y="4069"/>
                  </a:lnTo>
                  <a:lnTo>
                    <a:pt x="4134" y="3273"/>
                  </a:lnTo>
                  <a:lnTo>
                    <a:pt x="4134" y="2519"/>
                  </a:lnTo>
                  <a:lnTo>
                    <a:pt x="4042" y="1717"/>
                  </a:lnTo>
                  <a:lnTo>
                    <a:pt x="3899" y="798"/>
                  </a:lnTo>
                  <a:lnTo>
                    <a:pt x="3741" y="0"/>
                  </a:lnTo>
                  <a:lnTo>
                    <a:pt x="3970" y="427"/>
                  </a:lnTo>
                  <a:lnTo>
                    <a:pt x="4264" y="1974"/>
                  </a:lnTo>
                  <a:lnTo>
                    <a:pt x="4364" y="3317"/>
                  </a:lnTo>
                  <a:lnTo>
                    <a:pt x="4200" y="4156"/>
                  </a:lnTo>
                  <a:lnTo>
                    <a:pt x="3970" y="4830"/>
                  </a:lnTo>
                  <a:lnTo>
                    <a:pt x="3608" y="5332"/>
                  </a:lnTo>
                  <a:lnTo>
                    <a:pt x="3279" y="5626"/>
                  </a:lnTo>
                  <a:lnTo>
                    <a:pt x="2884" y="5793"/>
                  </a:lnTo>
                  <a:lnTo>
                    <a:pt x="2589" y="5835"/>
                  </a:lnTo>
                  <a:lnTo>
                    <a:pt x="2172" y="5835"/>
                  </a:lnTo>
                  <a:lnTo>
                    <a:pt x="1770" y="5750"/>
                  </a:lnTo>
                  <a:lnTo>
                    <a:pt x="1215" y="5411"/>
                  </a:lnTo>
                  <a:lnTo>
                    <a:pt x="726" y="4954"/>
                  </a:lnTo>
                  <a:lnTo>
                    <a:pt x="396" y="4451"/>
                  </a:lnTo>
                  <a:lnTo>
                    <a:pt x="136" y="3862"/>
                  </a:lnTo>
                  <a:lnTo>
                    <a:pt x="36" y="3317"/>
                  </a:lnTo>
                  <a:lnTo>
                    <a:pt x="0" y="2684"/>
                  </a:lnTo>
                  <a:lnTo>
                    <a:pt x="73" y="1761"/>
                  </a:lnTo>
                  <a:lnTo>
                    <a:pt x="166" y="884"/>
                  </a:lnTo>
                  <a:lnTo>
                    <a:pt x="302" y="168"/>
                  </a:lnTo>
                  <a:lnTo>
                    <a:pt x="49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3800" y="2965320"/>
              <a:ext cx="959760" cy="493560"/>
            </a:xfrm>
            <a:custGeom>
              <a:avLst/>
              <a:gdLst/>
              <a:ahLst/>
              <a:rect l="l" t="t" r="r" b="b"/>
              <a:pathLst>
                <a:path w="6456" h="4493">
                  <a:moveTo>
                    <a:pt x="1509" y="3158"/>
                  </a:moveTo>
                  <a:lnTo>
                    <a:pt x="1665" y="2310"/>
                  </a:lnTo>
                  <a:lnTo>
                    <a:pt x="1933" y="1514"/>
                  </a:lnTo>
                  <a:lnTo>
                    <a:pt x="2322" y="970"/>
                  </a:lnTo>
                  <a:lnTo>
                    <a:pt x="2624" y="675"/>
                  </a:lnTo>
                  <a:lnTo>
                    <a:pt x="2975" y="553"/>
                  </a:lnTo>
                  <a:lnTo>
                    <a:pt x="3380" y="553"/>
                  </a:lnTo>
                  <a:lnTo>
                    <a:pt x="3867" y="675"/>
                  </a:lnTo>
                  <a:lnTo>
                    <a:pt x="4155" y="926"/>
                  </a:lnTo>
                  <a:lnTo>
                    <a:pt x="4421" y="1300"/>
                  </a:lnTo>
                  <a:lnTo>
                    <a:pt x="4653" y="1800"/>
                  </a:lnTo>
                  <a:lnTo>
                    <a:pt x="4975" y="2778"/>
                  </a:lnTo>
                  <a:lnTo>
                    <a:pt x="5112" y="3108"/>
                  </a:lnTo>
                  <a:lnTo>
                    <a:pt x="5213" y="3610"/>
                  </a:lnTo>
                  <a:lnTo>
                    <a:pt x="5312" y="3027"/>
                  </a:lnTo>
                  <a:lnTo>
                    <a:pt x="5536" y="2727"/>
                  </a:lnTo>
                  <a:lnTo>
                    <a:pt x="5893" y="2727"/>
                  </a:lnTo>
                  <a:lnTo>
                    <a:pt x="6133" y="2943"/>
                  </a:lnTo>
                  <a:lnTo>
                    <a:pt x="6159" y="3108"/>
                  </a:lnTo>
                  <a:lnTo>
                    <a:pt x="6197" y="3610"/>
                  </a:lnTo>
                  <a:lnTo>
                    <a:pt x="6098" y="3912"/>
                  </a:lnTo>
                  <a:lnTo>
                    <a:pt x="5832" y="4112"/>
                  </a:lnTo>
                  <a:lnTo>
                    <a:pt x="5342" y="4327"/>
                  </a:lnTo>
                  <a:lnTo>
                    <a:pt x="5377" y="4493"/>
                  </a:lnTo>
                  <a:lnTo>
                    <a:pt x="5868" y="4369"/>
                  </a:lnTo>
                  <a:lnTo>
                    <a:pt x="6133" y="4112"/>
                  </a:lnTo>
                  <a:lnTo>
                    <a:pt x="6355" y="3774"/>
                  </a:lnTo>
                  <a:lnTo>
                    <a:pt x="6456" y="3402"/>
                  </a:lnTo>
                  <a:lnTo>
                    <a:pt x="6391" y="2985"/>
                  </a:lnTo>
                  <a:lnTo>
                    <a:pt x="6197" y="2727"/>
                  </a:lnTo>
                  <a:lnTo>
                    <a:pt x="5893" y="2563"/>
                  </a:lnTo>
                  <a:lnTo>
                    <a:pt x="5637" y="2563"/>
                  </a:lnTo>
                  <a:lnTo>
                    <a:pt x="5377" y="2649"/>
                  </a:lnTo>
                  <a:lnTo>
                    <a:pt x="5342" y="2310"/>
                  </a:lnTo>
                  <a:lnTo>
                    <a:pt x="5250" y="1895"/>
                  </a:lnTo>
                  <a:lnTo>
                    <a:pt x="5010" y="1392"/>
                  </a:lnTo>
                  <a:lnTo>
                    <a:pt x="4817" y="1134"/>
                  </a:lnTo>
                  <a:lnTo>
                    <a:pt x="4586" y="1049"/>
                  </a:lnTo>
                  <a:lnTo>
                    <a:pt x="4494" y="719"/>
                  </a:lnTo>
                  <a:lnTo>
                    <a:pt x="4192" y="339"/>
                  </a:lnTo>
                  <a:lnTo>
                    <a:pt x="3839" y="88"/>
                  </a:lnTo>
                  <a:lnTo>
                    <a:pt x="3443" y="0"/>
                  </a:lnTo>
                  <a:lnTo>
                    <a:pt x="2975" y="44"/>
                  </a:lnTo>
                  <a:lnTo>
                    <a:pt x="2558" y="131"/>
                  </a:lnTo>
                  <a:lnTo>
                    <a:pt x="2156" y="466"/>
                  </a:lnTo>
                  <a:lnTo>
                    <a:pt x="1933" y="846"/>
                  </a:lnTo>
                  <a:lnTo>
                    <a:pt x="1804" y="1178"/>
                  </a:lnTo>
                  <a:lnTo>
                    <a:pt x="1602" y="1300"/>
                  </a:lnTo>
                  <a:lnTo>
                    <a:pt x="1373" y="1514"/>
                  </a:lnTo>
                  <a:lnTo>
                    <a:pt x="1215" y="1936"/>
                  </a:lnTo>
                  <a:lnTo>
                    <a:pt x="1041" y="2563"/>
                  </a:lnTo>
                  <a:lnTo>
                    <a:pt x="624" y="2478"/>
                  </a:lnTo>
                  <a:lnTo>
                    <a:pt x="351" y="2563"/>
                  </a:lnTo>
                  <a:lnTo>
                    <a:pt x="100" y="2899"/>
                  </a:lnTo>
                  <a:lnTo>
                    <a:pt x="0" y="3229"/>
                  </a:lnTo>
                  <a:lnTo>
                    <a:pt x="0" y="3739"/>
                  </a:lnTo>
                  <a:lnTo>
                    <a:pt x="194" y="4112"/>
                  </a:lnTo>
                  <a:lnTo>
                    <a:pt x="459" y="4369"/>
                  </a:lnTo>
                  <a:lnTo>
                    <a:pt x="791" y="4449"/>
                  </a:lnTo>
                  <a:lnTo>
                    <a:pt x="1114" y="4449"/>
                  </a:lnTo>
                  <a:lnTo>
                    <a:pt x="1278" y="4413"/>
                  </a:lnTo>
                  <a:lnTo>
                    <a:pt x="1278" y="4205"/>
                  </a:lnTo>
                  <a:lnTo>
                    <a:pt x="817" y="4283"/>
                  </a:lnTo>
                  <a:lnTo>
                    <a:pt x="424" y="4112"/>
                  </a:lnTo>
                  <a:lnTo>
                    <a:pt x="229" y="3703"/>
                  </a:lnTo>
                  <a:lnTo>
                    <a:pt x="229" y="3324"/>
                  </a:lnTo>
                  <a:lnTo>
                    <a:pt x="321" y="2899"/>
                  </a:lnTo>
                  <a:lnTo>
                    <a:pt x="487" y="2683"/>
                  </a:lnTo>
                  <a:lnTo>
                    <a:pt x="754" y="2683"/>
                  </a:lnTo>
                  <a:lnTo>
                    <a:pt x="1114" y="2822"/>
                  </a:lnTo>
                  <a:lnTo>
                    <a:pt x="1373" y="3158"/>
                  </a:lnTo>
                  <a:lnTo>
                    <a:pt x="1509" y="3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488360" y="3315600"/>
              <a:ext cx="169920" cy="82440"/>
            </a:xfrm>
            <a:custGeom>
              <a:avLst/>
              <a:gdLst/>
              <a:ahLst/>
              <a:rect l="l" t="t" r="r" b="b"/>
              <a:pathLst>
                <a:path w="1144" h="754">
                  <a:moveTo>
                    <a:pt x="28" y="0"/>
                  </a:moveTo>
                  <a:lnTo>
                    <a:pt x="332" y="0"/>
                  </a:lnTo>
                  <a:lnTo>
                    <a:pt x="623" y="131"/>
                  </a:lnTo>
                  <a:lnTo>
                    <a:pt x="1144" y="510"/>
                  </a:lnTo>
                  <a:lnTo>
                    <a:pt x="1049" y="754"/>
                  </a:lnTo>
                  <a:lnTo>
                    <a:pt x="496" y="295"/>
                  </a:lnTo>
                  <a:lnTo>
                    <a:pt x="258" y="209"/>
                  </a:lnTo>
                  <a:lnTo>
                    <a:pt x="0" y="17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237520" y="3301560"/>
              <a:ext cx="147240" cy="110520"/>
            </a:xfrm>
            <a:custGeom>
              <a:avLst/>
              <a:gdLst/>
              <a:ahLst/>
              <a:rect l="l" t="t" r="r" b="b"/>
              <a:pathLst>
                <a:path w="984" h="1011">
                  <a:moveTo>
                    <a:pt x="0" y="639"/>
                  </a:moveTo>
                  <a:lnTo>
                    <a:pt x="230" y="380"/>
                  </a:lnTo>
                  <a:lnTo>
                    <a:pt x="455" y="165"/>
                  </a:lnTo>
                  <a:lnTo>
                    <a:pt x="684" y="44"/>
                  </a:lnTo>
                  <a:lnTo>
                    <a:pt x="949" y="0"/>
                  </a:lnTo>
                  <a:lnTo>
                    <a:pt x="984" y="165"/>
                  </a:lnTo>
                  <a:lnTo>
                    <a:pt x="684" y="260"/>
                  </a:lnTo>
                  <a:lnTo>
                    <a:pt x="424" y="465"/>
                  </a:lnTo>
                  <a:lnTo>
                    <a:pt x="193" y="710"/>
                  </a:lnTo>
                  <a:lnTo>
                    <a:pt x="0" y="101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25960" y="3427200"/>
              <a:ext cx="443520" cy="132480"/>
            </a:xfrm>
            <a:custGeom>
              <a:avLst/>
              <a:gdLst/>
              <a:ahLst/>
              <a:rect l="l" t="t" r="r" b="b"/>
              <a:pathLst>
                <a:path w="2984" h="1212">
                  <a:moveTo>
                    <a:pt x="358" y="43"/>
                  </a:moveTo>
                  <a:lnTo>
                    <a:pt x="266" y="0"/>
                  </a:lnTo>
                  <a:lnTo>
                    <a:pt x="136" y="244"/>
                  </a:lnTo>
                  <a:lnTo>
                    <a:pt x="0" y="668"/>
                  </a:lnTo>
                  <a:lnTo>
                    <a:pt x="100" y="790"/>
                  </a:lnTo>
                  <a:lnTo>
                    <a:pt x="231" y="623"/>
                  </a:lnTo>
                  <a:lnTo>
                    <a:pt x="294" y="581"/>
                  </a:lnTo>
                  <a:lnTo>
                    <a:pt x="588" y="790"/>
                  </a:lnTo>
                  <a:lnTo>
                    <a:pt x="949" y="1047"/>
                  </a:lnTo>
                  <a:lnTo>
                    <a:pt x="1206" y="1168"/>
                  </a:lnTo>
                  <a:lnTo>
                    <a:pt x="1481" y="1212"/>
                  </a:lnTo>
                  <a:lnTo>
                    <a:pt x="1804" y="1168"/>
                  </a:lnTo>
                  <a:lnTo>
                    <a:pt x="2070" y="1047"/>
                  </a:lnTo>
                  <a:lnTo>
                    <a:pt x="2322" y="874"/>
                  </a:lnTo>
                  <a:lnTo>
                    <a:pt x="2626" y="623"/>
                  </a:lnTo>
                  <a:lnTo>
                    <a:pt x="2820" y="452"/>
                  </a:lnTo>
                  <a:lnTo>
                    <a:pt x="2917" y="709"/>
                  </a:lnTo>
                  <a:lnTo>
                    <a:pt x="2984" y="668"/>
                  </a:lnTo>
                  <a:lnTo>
                    <a:pt x="2883" y="244"/>
                  </a:lnTo>
                  <a:lnTo>
                    <a:pt x="2725" y="208"/>
                  </a:lnTo>
                  <a:lnTo>
                    <a:pt x="2725" y="380"/>
                  </a:lnTo>
                  <a:lnTo>
                    <a:pt x="2359" y="709"/>
                  </a:lnTo>
                  <a:lnTo>
                    <a:pt x="2070" y="874"/>
                  </a:lnTo>
                  <a:lnTo>
                    <a:pt x="1833" y="997"/>
                  </a:lnTo>
                  <a:lnTo>
                    <a:pt x="1573" y="1047"/>
                  </a:lnTo>
                  <a:lnTo>
                    <a:pt x="1316" y="997"/>
                  </a:lnTo>
                  <a:lnTo>
                    <a:pt x="985" y="832"/>
                  </a:lnTo>
                  <a:lnTo>
                    <a:pt x="524" y="502"/>
                  </a:lnTo>
                  <a:lnTo>
                    <a:pt x="358" y="329"/>
                  </a:lnTo>
                  <a:lnTo>
                    <a:pt x="35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60520" y="3486960"/>
              <a:ext cx="365040" cy="178200"/>
            </a:xfrm>
            <a:custGeom>
              <a:avLst/>
              <a:gdLst/>
              <a:ahLst/>
              <a:rect l="l" t="t" r="r" b="b"/>
              <a:pathLst>
                <a:path w="2456" h="1628">
                  <a:moveTo>
                    <a:pt x="221" y="77"/>
                  </a:moveTo>
                  <a:lnTo>
                    <a:pt x="459" y="501"/>
                  </a:lnTo>
                  <a:lnTo>
                    <a:pt x="718" y="917"/>
                  </a:lnTo>
                  <a:lnTo>
                    <a:pt x="883" y="1211"/>
                  </a:lnTo>
                  <a:lnTo>
                    <a:pt x="975" y="1335"/>
                  </a:lnTo>
                  <a:lnTo>
                    <a:pt x="1114" y="1427"/>
                  </a:lnTo>
                  <a:lnTo>
                    <a:pt x="1342" y="1427"/>
                  </a:lnTo>
                  <a:lnTo>
                    <a:pt x="1573" y="1376"/>
                  </a:lnTo>
                  <a:lnTo>
                    <a:pt x="1775" y="1211"/>
                  </a:lnTo>
                  <a:lnTo>
                    <a:pt x="1867" y="1005"/>
                  </a:lnTo>
                  <a:lnTo>
                    <a:pt x="1997" y="666"/>
                  </a:lnTo>
                  <a:lnTo>
                    <a:pt x="2091" y="413"/>
                  </a:lnTo>
                  <a:lnTo>
                    <a:pt x="2227" y="163"/>
                  </a:lnTo>
                  <a:lnTo>
                    <a:pt x="2456" y="0"/>
                  </a:lnTo>
                  <a:lnTo>
                    <a:pt x="2227" y="451"/>
                  </a:lnTo>
                  <a:lnTo>
                    <a:pt x="2091" y="881"/>
                  </a:lnTo>
                  <a:lnTo>
                    <a:pt x="1934" y="1255"/>
                  </a:lnTo>
                  <a:lnTo>
                    <a:pt x="1803" y="1462"/>
                  </a:lnTo>
                  <a:lnTo>
                    <a:pt x="1639" y="1591"/>
                  </a:lnTo>
                  <a:lnTo>
                    <a:pt x="1316" y="1628"/>
                  </a:lnTo>
                  <a:lnTo>
                    <a:pt x="975" y="1550"/>
                  </a:lnTo>
                  <a:lnTo>
                    <a:pt x="754" y="1376"/>
                  </a:lnTo>
                  <a:lnTo>
                    <a:pt x="560" y="1090"/>
                  </a:lnTo>
                  <a:lnTo>
                    <a:pt x="357" y="666"/>
                  </a:lnTo>
                  <a:lnTo>
                    <a:pt x="193" y="286"/>
                  </a:lnTo>
                  <a:lnTo>
                    <a:pt x="0" y="0"/>
                  </a:lnTo>
                  <a:lnTo>
                    <a:pt x="22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84280" y="3251520"/>
              <a:ext cx="292320" cy="183600"/>
            </a:xfrm>
            <a:custGeom>
              <a:avLst/>
              <a:gdLst/>
              <a:ahLst/>
              <a:rect l="l" t="t" r="r" b="b"/>
              <a:pathLst>
                <a:path w="1971" h="1678">
                  <a:moveTo>
                    <a:pt x="1286" y="0"/>
                  </a:moveTo>
                  <a:lnTo>
                    <a:pt x="1314" y="217"/>
                  </a:lnTo>
                  <a:lnTo>
                    <a:pt x="1482" y="503"/>
                  </a:lnTo>
                  <a:lnTo>
                    <a:pt x="1618" y="674"/>
                  </a:lnTo>
                  <a:lnTo>
                    <a:pt x="1869" y="924"/>
                  </a:lnTo>
                  <a:lnTo>
                    <a:pt x="1971" y="1098"/>
                  </a:lnTo>
                  <a:lnTo>
                    <a:pt x="1971" y="1307"/>
                  </a:lnTo>
                  <a:lnTo>
                    <a:pt x="1840" y="1551"/>
                  </a:lnTo>
                  <a:lnTo>
                    <a:pt x="1682" y="1678"/>
                  </a:lnTo>
                  <a:lnTo>
                    <a:pt x="1482" y="1678"/>
                  </a:lnTo>
                  <a:lnTo>
                    <a:pt x="1121" y="1551"/>
                  </a:lnTo>
                  <a:lnTo>
                    <a:pt x="791" y="1470"/>
                  </a:lnTo>
                  <a:lnTo>
                    <a:pt x="561" y="1470"/>
                  </a:lnTo>
                  <a:lnTo>
                    <a:pt x="235" y="1470"/>
                  </a:lnTo>
                  <a:lnTo>
                    <a:pt x="64" y="1384"/>
                  </a:lnTo>
                  <a:lnTo>
                    <a:pt x="0" y="1219"/>
                  </a:lnTo>
                  <a:lnTo>
                    <a:pt x="136" y="1047"/>
                  </a:lnTo>
                  <a:lnTo>
                    <a:pt x="274" y="924"/>
                  </a:lnTo>
                  <a:lnTo>
                    <a:pt x="172" y="1134"/>
                  </a:lnTo>
                  <a:lnTo>
                    <a:pt x="200" y="1263"/>
                  </a:lnTo>
                  <a:lnTo>
                    <a:pt x="337" y="1342"/>
                  </a:lnTo>
                  <a:lnTo>
                    <a:pt x="597" y="1307"/>
                  </a:lnTo>
                  <a:lnTo>
                    <a:pt x="855" y="1342"/>
                  </a:lnTo>
                  <a:lnTo>
                    <a:pt x="1159" y="1470"/>
                  </a:lnTo>
                  <a:lnTo>
                    <a:pt x="1416" y="1507"/>
                  </a:lnTo>
                  <a:lnTo>
                    <a:pt x="1646" y="1470"/>
                  </a:lnTo>
                  <a:lnTo>
                    <a:pt x="1805" y="1384"/>
                  </a:lnTo>
                  <a:lnTo>
                    <a:pt x="1869" y="1219"/>
                  </a:lnTo>
                  <a:lnTo>
                    <a:pt x="1840" y="1005"/>
                  </a:lnTo>
                  <a:lnTo>
                    <a:pt x="1710" y="839"/>
                  </a:lnTo>
                  <a:lnTo>
                    <a:pt x="1482" y="624"/>
                  </a:lnTo>
                  <a:lnTo>
                    <a:pt x="1314" y="380"/>
                  </a:lnTo>
                  <a:lnTo>
                    <a:pt x="1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57880" y="3375360"/>
              <a:ext cx="57960" cy="46440"/>
            </a:xfrm>
            <a:custGeom>
              <a:avLst/>
              <a:gdLst/>
              <a:ahLst/>
              <a:rect l="l" t="t" r="r" b="b"/>
              <a:pathLst>
                <a:path w="398" h="417">
                  <a:moveTo>
                    <a:pt x="94" y="250"/>
                  </a:moveTo>
                  <a:lnTo>
                    <a:pt x="202" y="208"/>
                  </a:lnTo>
                  <a:lnTo>
                    <a:pt x="294" y="173"/>
                  </a:lnTo>
                  <a:lnTo>
                    <a:pt x="332" y="85"/>
                  </a:lnTo>
                  <a:lnTo>
                    <a:pt x="360" y="0"/>
                  </a:lnTo>
                  <a:lnTo>
                    <a:pt x="398" y="173"/>
                  </a:lnTo>
                  <a:lnTo>
                    <a:pt x="332" y="293"/>
                  </a:lnTo>
                  <a:lnTo>
                    <a:pt x="202" y="336"/>
                  </a:lnTo>
                  <a:lnTo>
                    <a:pt x="0" y="417"/>
                  </a:lnTo>
                  <a:lnTo>
                    <a:pt x="9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834320" y="3182040"/>
              <a:ext cx="135360" cy="110520"/>
            </a:xfrm>
            <a:custGeom>
              <a:avLst/>
              <a:gdLst/>
              <a:ahLst/>
              <a:rect l="l" t="t" r="r" b="b"/>
              <a:pathLst>
                <a:path w="914" h="1011">
                  <a:moveTo>
                    <a:pt x="848" y="336"/>
                  </a:moveTo>
                  <a:lnTo>
                    <a:pt x="784" y="209"/>
                  </a:lnTo>
                  <a:lnTo>
                    <a:pt x="591" y="85"/>
                  </a:lnTo>
                  <a:lnTo>
                    <a:pt x="417" y="85"/>
                  </a:lnTo>
                  <a:lnTo>
                    <a:pt x="195" y="129"/>
                  </a:lnTo>
                  <a:lnTo>
                    <a:pt x="66" y="336"/>
                  </a:lnTo>
                  <a:lnTo>
                    <a:pt x="66" y="545"/>
                  </a:lnTo>
                  <a:lnTo>
                    <a:pt x="129" y="804"/>
                  </a:lnTo>
                  <a:lnTo>
                    <a:pt x="288" y="883"/>
                  </a:lnTo>
                  <a:lnTo>
                    <a:pt x="553" y="925"/>
                  </a:lnTo>
                  <a:lnTo>
                    <a:pt x="721" y="883"/>
                  </a:lnTo>
                  <a:lnTo>
                    <a:pt x="848" y="753"/>
                  </a:lnTo>
                  <a:lnTo>
                    <a:pt x="914" y="631"/>
                  </a:lnTo>
                  <a:lnTo>
                    <a:pt x="848" y="883"/>
                  </a:lnTo>
                  <a:lnTo>
                    <a:pt x="654" y="1011"/>
                  </a:lnTo>
                  <a:lnTo>
                    <a:pt x="389" y="1011"/>
                  </a:lnTo>
                  <a:lnTo>
                    <a:pt x="158" y="925"/>
                  </a:lnTo>
                  <a:lnTo>
                    <a:pt x="37" y="753"/>
                  </a:lnTo>
                  <a:lnTo>
                    <a:pt x="0" y="545"/>
                  </a:lnTo>
                  <a:lnTo>
                    <a:pt x="0" y="336"/>
                  </a:lnTo>
                  <a:lnTo>
                    <a:pt x="129" y="85"/>
                  </a:lnTo>
                  <a:lnTo>
                    <a:pt x="354" y="0"/>
                  </a:lnTo>
                  <a:lnTo>
                    <a:pt x="591" y="0"/>
                  </a:lnTo>
                  <a:lnTo>
                    <a:pt x="756" y="85"/>
                  </a:lnTo>
                  <a:lnTo>
                    <a:pt x="914" y="301"/>
                  </a:lnTo>
                  <a:lnTo>
                    <a:pt x="914" y="504"/>
                  </a:lnTo>
                  <a:lnTo>
                    <a:pt x="84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960320" y="3182040"/>
              <a:ext cx="127080" cy="105840"/>
            </a:xfrm>
            <a:custGeom>
              <a:avLst/>
              <a:gdLst/>
              <a:ahLst/>
              <a:rect l="l" t="t" r="r" b="b"/>
              <a:pathLst>
                <a:path w="857" h="969">
                  <a:moveTo>
                    <a:pt x="0" y="301"/>
                  </a:moveTo>
                  <a:lnTo>
                    <a:pt x="101" y="172"/>
                  </a:lnTo>
                  <a:lnTo>
                    <a:pt x="260" y="85"/>
                  </a:lnTo>
                  <a:lnTo>
                    <a:pt x="525" y="85"/>
                  </a:lnTo>
                  <a:lnTo>
                    <a:pt x="684" y="209"/>
                  </a:lnTo>
                  <a:lnTo>
                    <a:pt x="749" y="421"/>
                  </a:lnTo>
                  <a:lnTo>
                    <a:pt x="749" y="631"/>
                  </a:lnTo>
                  <a:lnTo>
                    <a:pt x="620" y="804"/>
                  </a:lnTo>
                  <a:lnTo>
                    <a:pt x="433" y="883"/>
                  </a:lnTo>
                  <a:lnTo>
                    <a:pt x="297" y="883"/>
                  </a:lnTo>
                  <a:lnTo>
                    <a:pt x="129" y="804"/>
                  </a:lnTo>
                  <a:lnTo>
                    <a:pt x="168" y="883"/>
                  </a:lnTo>
                  <a:lnTo>
                    <a:pt x="360" y="969"/>
                  </a:lnTo>
                  <a:lnTo>
                    <a:pt x="525" y="969"/>
                  </a:lnTo>
                  <a:lnTo>
                    <a:pt x="749" y="848"/>
                  </a:lnTo>
                  <a:lnTo>
                    <a:pt x="822" y="631"/>
                  </a:lnTo>
                  <a:lnTo>
                    <a:pt x="857" y="373"/>
                  </a:lnTo>
                  <a:lnTo>
                    <a:pt x="749" y="172"/>
                  </a:lnTo>
                  <a:lnTo>
                    <a:pt x="620" y="43"/>
                  </a:lnTo>
                  <a:lnTo>
                    <a:pt x="461" y="0"/>
                  </a:lnTo>
                  <a:lnTo>
                    <a:pt x="260" y="0"/>
                  </a:lnTo>
                  <a:lnTo>
                    <a:pt x="66" y="8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02000" y="3222360"/>
              <a:ext cx="23400" cy="19080"/>
            </a:xfrm>
            <a:custGeom>
              <a:avLst/>
              <a:gdLst/>
              <a:ahLst/>
              <a:rect l="l" t="t" r="r" b="b"/>
              <a:pathLst>
                <a:path w="166" h="172">
                  <a:moveTo>
                    <a:pt x="64" y="0"/>
                  </a:moveTo>
                  <a:lnTo>
                    <a:pt x="27" y="0"/>
                  </a:lnTo>
                  <a:lnTo>
                    <a:pt x="0" y="92"/>
                  </a:lnTo>
                  <a:lnTo>
                    <a:pt x="27" y="131"/>
                  </a:lnTo>
                  <a:lnTo>
                    <a:pt x="99" y="172"/>
                  </a:lnTo>
                  <a:lnTo>
                    <a:pt x="166" y="131"/>
                  </a:lnTo>
                  <a:lnTo>
                    <a:pt x="166" y="4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989120" y="3222360"/>
              <a:ext cx="24480" cy="19080"/>
            </a:xfrm>
            <a:custGeom>
              <a:avLst/>
              <a:gdLst/>
              <a:ahLst/>
              <a:rect l="l" t="t" r="r" b="b"/>
              <a:pathLst>
                <a:path w="164" h="172">
                  <a:moveTo>
                    <a:pt x="129" y="0"/>
                  </a:moveTo>
                  <a:lnTo>
                    <a:pt x="35" y="0"/>
                  </a:lnTo>
                  <a:lnTo>
                    <a:pt x="0" y="92"/>
                  </a:lnTo>
                  <a:lnTo>
                    <a:pt x="64" y="172"/>
                  </a:lnTo>
                  <a:lnTo>
                    <a:pt x="129" y="172"/>
                  </a:lnTo>
                  <a:lnTo>
                    <a:pt x="164" y="9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814160" y="3098520"/>
              <a:ext cx="117360" cy="69120"/>
            </a:xfrm>
            <a:custGeom>
              <a:avLst/>
              <a:gdLst/>
              <a:ahLst/>
              <a:rect l="l" t="t" r="r" b="b"/>
              <a:pathLst>
                <a:path w="791" h="631">
                  <a:moveTo>
                    <a:pt x="137" y="631"/>
                  </a:moveTo>
                  <a:lnTo>
                    <a:pt x="266" y="460"/>
                  </a:lnTo>
                  <a:lnTo>
                    <a:pt x="425" y="338"/>
                  </a:lnTo>
                  <a:lnTo>
                    <a:pt x="591" y="294"/>
                  </a:lnTo>
                  <a:lnTo>
                    <a:pt x="728" y="253"/>
                  </a:lnTo>
                  <a:lnTo>
                    <a:pt x="791" y="172"/>
                  </a:lnTo>
                  <a:lnTo>
                    <a:pt x="757" y="0"/>
                  </a:lnTo>
                  <a:lnTo>
                    <a:pt x="591" y="0"/>
                  </a:lnTo>
                  <a:lnTo>
                    <a:pt x="361" y="80"/>
                  </a:lnTo>
                  <a:lnTo>
                    <a:pt x="174" y="253"/>
                  </a:lnTo>
                  <a:lnTo>
                    <a:pt x="74" y="380"/>
                  </a:lnTo>
                  <a:lnTo>
                    <a:pt x="0" y="580"/>
                  </a:lnTo>
                  <a:lnTo>
                    <a:pt x="35" y="631"/>
                  </a:lnTo>
                  <a:lnTo>
                    <a:pt x="137" y="6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60320" y="3094920"/>
              <a:ext cx="111600" cy="72720"/>
            </a:xfrm>
            <a:custGeom>
              <a:avLst/>
              <a:gdLst/>
              <a:ahLst/>
              <a:rect l="l" t="t" r="r" b="b"/>
              <a:pathLst>
                <a:path w="756" h="666">
                  <a:moveTo>
                    <a:pt x="629" y="659"/>
                  </a:moveTo>
                  <a:lnTo>
                    <a:pt x="505" y="488"/>
                  </a:lnTo>
                  <a:lnTo>
                    <a:pt x="354" y="358"/>
                  </a:lnTo>
                  <a:lnTo>
                    <a:pt x="189" y="301"/>
                  </a:lnTo>
                  <a:lnTo>
                    <a:pt x="57" y="253"/>
                  </a:lnTo>
                  <a:lnTo>
                    <a:pt x="0" y="171"/>
                  </a:lnTo>
                  <a:lnTo>
                    <a:pt x="46" y="0"/>
                  </a:lnTo>
                  <a:lnTo>
                    <a:pt x="205" y="7"/>
                  </a:lnTo>
                  <a:lnTo>
                    <a:pt x="433" y="101"/>
                  </a:lnTo>
                  <a:lnTo>
                    <a:pt x="620" y="279"/>
                  </a:lnTo>
                  <a:lnTo>
                    <a:pt x="705" y="415"/>
                  </a:lnTo>
                  <a:lnTo>
                    <a:pt x="756" y="624"/>
                  </a:lnTo>
                  <a:lnTo>
                    <a:pt x="728" y="666"/>
                  </a:lnTo>
                  <a:lnTo>
                    <a:pt x="629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22520" y="3725640"/>
              <a:ext cx="101880" cy="32400"/>
            </a:xfrm>
            <a:custGeom>
              <a:avLst/>
              <a:gdLst/>
              <a:ahLst/>
              <a:rect l="l" t="t" r="r" b="b"/>
              <a:pathLst>
                <a:path w="690" h="293">
                  <a:moveTo>
                    <a:pt x="63" y="0"/>
                  </a:moveTo>
                  <a:lnTo>
                    <a:pt x="193" y="78"/>
                  </a:lnTo>
                  <a:lnTo>
                    <a:pt x="323" y="127"/>
                  </a:lnTo>
                  <a:lnTo>
                    <a:pt x="517" y="78"/>
                  </a:lnTo>
                  <a:lnTo>
                    <a:pt x="690" y="0"/>
                  </a:lnTo>
                  <a:lnTo>
                    <a:pt x="617" y="164"/>
                  </a:lnTo>
                  <a:lnTo>
                    <a:pt x="488" y="249"/>
                  </a:lnTo>
                  <a:lnTo>
                    <a:pt x="323" y="293"/>
                  </a:lnTo>
                  <a:lnTo>
                    <a:pt x="193" y="249"/>
                  </a:lnTo>
                  <a:lnTo>
                    <a:pt x="0" y="7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824600" y="3854880"/>
              <a:ext cx="97560" cy="136800"/>
            </a:xfrm>
            <a:custGeom>
              <a:avLst/>
              <a:gdLst/>
              <a:ahLst/>
              <a:rect l="l" t="t" r="r" b="b"/>
              <a:pathLst>
                <a:path w="654" h="1248">
                  <a:moveTo>
                    <a:pt x="654" y="123"/>
                  </a:moveTo>
                  <a:lnTo>
                    <a:pt x="480" y="294"/>
                  </a:lnTo>
                  <a:lnTo>
                    <a:pt x="323" y="668"/>
                  </a:lnTo>
                  <a:lnTo>
                    <a:pt x="129" y="1248"/>
                  </a:lnTo>
                  <a:lnTo>
                    <a:pt x="0" y="1178"/>
                  </a:lnTo>
                  <a:lnTo>
                    <a:pt x="192" y="459"/>
                  </a:lnTo>
                  <a:lnTo>
                    <a:pt x="287" y="167"/>
                  </a:lnTo>
                  <a:lnTo>
                    <a:pt x="452" y="0"/>
                  </a:lnTo>
                  <a:lnTo>
                    <a:pt x="654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34120" y="3854880"/>
              <a:ext cx="72360" cy="136800"/>
            </a:xfrm>
            <a:custGeom>
              <a:avLst/>
              <a:gdLst/>
              <a:ahLst/>
              <a:rect l="l" t="t" r="r" b="b"/>
              <a:pathLst>
                <a:path w="490" h="1248">
                  <a:moveTo>
                    <a:pt x="0" y="38"/>
                  </a:moveTo>
                  <a:lnTo>
                    <a:pt x="95" y="250"/>
                  </a:lnTo>
                  <a:lnTo>
                    <a:pt x="224" y="711"/>
                  </a:lnTo>
                  <a:lnTo>
                    <a:pt x="325" y="1248"/>
                  </a:lnTo>
                  <a:lnTo>
                    <a:pt x="490" y="1213"/>
                  </a:lnTo>
                  <a:lnTo>
                    <a:pt x="423" y="747"/>
                  </a:lnTo>
                  <a:lnTo>
                    <a:pt x="325" y="332"/>
                  </a:lnTo>
                  <a:lnTo>
                    <a:pt x="18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858080" y="3882960"/>
              <a:ext cx="212760" cy="258120"/>
            </a:xfrm>
            <a:custGeom>
              <a:avLst/>
              <a:gdLst/>
              <a:ahLst/>
              <a:rect l="l" t="t" r="r" b="b"/>
              <a:pathLst>
                <a:path w="1439" h="2356">
                  <a:moveTo>
                    <a:pt x="231" y="82"/>
                  </a:moveTo>
                  <a:lnTo>
                    <a:pt x="496" y="712"/>
                  </a:lnTo>
                  <a:lnTo>
                    <a:pt x="950" y="712"/>
                  </a:lnTo>
                  <a:lnTo>
                    <a:pt x="1310" y="0"/>
                  </a:lnTo>
                  <a:lnTo>
                    <a:pt x="1439" y="209"/>
                  </a:lnTo>
                  <a:lnTo>
                    <a:pt x="1215" y="627"/>
                  </a:lnTo>
                  <a:lnTo>
                    <a:pt x="1215" y="878"/>
                  </a:lnTo>
                  <a:lnTo>
                    <a:pt x="1123" y="998"/>
                  </a:lnTo>
                  <a:lnTo>
                    <a:pt x="1246" y="1378"/>
                  </a:lnTo>
                  <a:lnTo>
                    <a:pt x="1246" y="1803"/>
                  </a:lnTo>
                  <a:lnTo>
                    <a:pt x="1411" y="2139"/>
                  </a:lnTo>
                  <a:lnTo>
                    <a:pt x="1246" y="2356"/>
                  </a:lnTo>
                  <a:lnTo>
                    <a:pt x="1123" y="1803"/>
                  </a:lnTo>
                  <a:lnTo>
                    <a:pt x="1050" y="1215"/>
                  </a:lnTo>
                  <a:lnTo>
                    <a:pt x="950" y="963"/>
                  </a:lnTo>
                  <a:lnTo>
                    <a:pt x="858" y="963"/>
                  </a:lnTo>
                  <a:lnTo>
                    <a:pt x="858" y="1300"/>
                  </a:lnTo>
                  <a:lnTo>
                    <a:pt x="727" y="1593"/>
                  </a:lnTo>
                  <a:lnTo>
                    <a:pt x="598" y="1422"/>
                  </a:lnTo>
                  <a:lnTo>
                    <a:pt x="727" y="963"/>
                  </a:lnTo>
                  <a:lnTo>
                    <a:pt x="563" y="963"/>
                  </a:lnTo>
                  <a:lnTo>
                    <a:pt x="433" y="1258"/>
                  </a:lnTo>
                  <a:lnTo>
                    <a:pt x="360" y="1761"/>
                  </a:lnTo>
                  <a:lnTo>
                    <a:pt x="231" y="2224"/>
                  </a:lnTo>
                  <a:lnTo>
                    <a:pt x="196" y="2305"/>
                  </a:lnTo>
                  <a:lnTo>
                    <a:pt x="0" y="2224"/>
                  </a:lnTo>
                  <a:lnTo>
                    <a:pt x="130" y="1803"/>
                  </a:lnTo>
                  <a:lnTo>
                    <a:pt x="231" y="1343"/>
                  </a:lnTo>
                  <a:lnTo>
                    <a:pt x="259" y="1049"/>
                  </a:lnTo>
                  <a:lnTo>
                    <a:pt x="323" y="834"/>
                  </a:lnTo>
                  <a:lnTo>
                    <a:pt x="259" y="627"/>
                  </a:lnTo>
                  <a:lnTo>
                    <a:pt x="66" y="295"/>
                  </a:lnTo>
                  <a:lnTo>
                    <a:pt x="23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736760" y="3780360"/>
              <a:ext cx="442080" cy="489240"/>
            </a:xfrm>
            <a:custGeom>
              <a:avLst/>
              <a:gdLst/>
              <a:ahLst/>
              <a:rect l="l" t="t" r="r" b="b"/>
              <a:pathLst>
                <a:path w="2978" h="4454">
                  <a:moveTo>
                    <a:pt x="352" y="216"/>
                  </a:moveTo>
                  <a:lnTo>
                    <a:pt x="251" y="509"/>
                  </a:lnTo>
                  <a:lnTo>
                    <a:pt x="251" y="931"/>
                  </a:lnTo>
                  <a:lnTo>
                    <a:pt x="352" y="1685"/>
                  </a:lnTo>
                  <a:lnTo>
                    <a:pt x="590" y="2274"/>
                  </a:lnTo>
                  <a:lnTo>
                    <a:pt x="877" y="2812"/>
                  </a:lnTo>
                  <a:lnTo>
                    <a:pt x="1171" y="3409"/>
                  </a:lnTo>
                  <a:lnTo>
                    <a:pt x="1437" y="3902"/>
                  </a:lnTo>
                  <a:lnTo>
                    <a:pt x="1501" y="4117"/>
                  </a:lnTo>
                  <a:lnTo>
                    <a:pt x="1761" y="3695"/>
                  </a:lnTo>
                  <a:lnTo>
                    <a:pt x="2222" y="2777"/>
                  </a:lnTo>
                  <a:lnTo>
                    <a:pt x="2554" y="1980"/>
                  </a:lnTo>
                  <a:lnTo>
                    <a:pt x="2681" y="1307"/>
                  </a:lnTo>
                  <a:lnTo>
                    <a:pt x="2681" y="762"/>
                  </a:lnTo>
                  <a:lnTo>
                    <a:pt x="2681" y="345"/>
                  </a:lnTo>
                  <a:lnTo>
                    <a:pt x="2940" y="129"/>
                  </a:lnTo>
                  <a:lnTo>
                    <a:pt x="2978" y="681"/>
                  </a:lnTo>
                  <a:lnTo>
                    <a:pt x="2912" y="1349"/>
                  </a:lnTo>
                  <a:lnTo>
                    <a:pt x="2811" y="2024"/>
                  </a:lnTo>
                  <a:lnTo>
                    <a:pt x="2615" y="2524"/>
                  </a:lnTo>
                  <a:lnTo>
                    <a:pt x="2358" y="3193"/>
                  </a:lnTo>
                  <a:lnTo>
                    <a:pt x="2026" y="3738"/>
                  </a:lnTo>
                  <a:lnTo>
                    <a:pt x="1697" y="4204"/>
                  </a:lnTo>
                  <a:lnTo>
                    <a:pt x="1475" y="4454"/>
                  </a:lnTo>
                  <a:lnTo>
                    <a:pt x="1134" y="3782"/>
                  </a:lnTo>
                  <a:lnTo>
                    <a:pt x="782" y="3236"/>
                  </a:lnTo>
                  <a:lnTo>
                    <a:pt x="380" y="2474"/>
                  </a:lnTo>
                  <a:lnTo>
                    <a:pt x="159" y="1929"/>
                  </a:lnTo>
                  <a:lnTo>
                    <a:pt x="64" y="1392"/>
                  </a:lnTo>
                  <a:lnTo>
                    <a:pt x="0" y="804"/>
                  </a:lnTo>
                  <a:lnTo>
                    <a:pt x="64" y="301"/>
                  </a:lnTo>
                  <a:lnTo>
                    <a:pt x="159" y="0"/>
                  </a:lnTo>
                  <a:lnTo>
                    <a:pt x="352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491600" y="3794400"/>
              <a:ext cx="268560" cy="111240"/>
            </a:xfrm>
            <a:custGeom>
              <a:avLst/>
              <a:gdLst/>
              <a:ahLst/>
              <a:rect l="l" t="t" r="r" b="b"/>
              <a:pathLst>
                <a:path w="1807" h="1011">
                  <a:moveTo>
                    <a:pt x="1740" y="380"/>
                  </a:moveTo>
                  <a:lnTo>
                    <a:pt x="1215" y="552"/>
                  </a:lnTo>
                  <a:lnTo>
                    <a:pt x="857" y="719"/>
                  </a:lnTo>
                  <a:lnTo>
                    <a:pt x="129" y="1011"/>
                  </a:lnTo>
                  <a:lnTo>
                    <a:pt x="37" y="970"/>
                  </a:lnTo>
                  <a:lnTo>
                    <a:pt x="0" y="846"/>
                  </a:lnTo>
                  <a:lnTo>
                    <a:pt x="202" y="675"/>
                  </a:lnTo>
                  <a:lnTo>
                    <a:pt x="921" y="380"/>
                  </a:lnTo>
                  <a:lnTo>
                    <a:pt x="1383" y="130"/>
                  </a:lnTo>
                  <a:lnTo>
                    <a:pt x="1807" y="0"/>
                  </a:lnTo>
                  <a:lnTo>
                    <a:pt x="174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163720" y="3804120"/>
              <a:ext cx="240120" cy="110520"/>
            </a:xfrm>
            <a:custGeom>
              <a:avLst/>
              <a:gdLst/>
              <a:ahLst/>
              <a:rect l="l" t="t" r="r" b="b"/>
              <a:pathLst>
                <a:path w="1611" h="1010">
                  <a:moveTo>
                    <a:pt x="0" y="293"/>
                  </a:moveTo>
                  <a:lnTo>
                    <a:pt x="297" y="379"/>
                  </a:lnTo>
                  <a:lnTo>
                    <a:pt x="726" y="588"/>
                  </a:lnTo>
                  <a:lnTo>
                    <a:pt x="1318" y="959"/>
                  </a:lnTo>
                  <a:lnTo>
                    <a:pt x="1512" y="1010"/>
                  </a:lnTo>
                  <a:lnTo>
                    <a:pt x="1611" y="883"/>
                  </a:lnTo>
                  <a:lnTo>
                    <a:pt x="1445" y="667"/>
                  </a:lnTo>
                  <a:lnTo>
                    <a:pt x="986" y="337"/>
                  </a:lnTo>
                  <a:lnTo>
                    <a:pt x="404" y="85"/>
                  </a:lnTo>
                  <a:lnTo>
                    <a:pt x="0" y="0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65960" y="3924360"/>
              <a:ext cx="125640" cy="349560"/>
            </a:xfrm>
            <a:custGeom>
              <a:avLst/>
              <a:gdLst/>
              <a:ahLst/>
              <a:rect l="l" t="t" r="r" b="b"/>
              <a:pathLst>
                <a:path w="848" h="3191">
                  <a:moveTo>
                    <a:pt x="848" y="121"/>
                  </a:moveTo>
                  <a:lnTo>
                    <a:pt x="820" y="0"/>
                  </a:lnTo>
                  <a:lnTo>
                    <a:pt x="626" y="0"/>
                  </a:lnTo>
                  <a:lnTo>
                    <a:pt x="497" y="121"/>
                  </a:lnTo>
                  <a:lnTo>
                    <a:pt x="129" y="1886"/>
                  </a:lnTo>
                  <a:lnTo>
                    <a:pt x="29" y="2725"/>
                  </a:lnTo>
                  <a:lnTo>
                    <a:pt x="0" y="3191"/>
                  </a:lnTo>
                  <a:lnTo>
                    <a:pt x="361" y="3191"/>
                  </a:lnTo>
                  <a:lnTo>
                    <a:pt x="361" y="2526"/>
                  </a:lnTo>
                  <a:lnTo>
                    <a:pt x="461" y="1547"/>
                  </a:lnTo>
                  <a:lnTo>
                    <a:pt x="785" y="336"/>
                  </a:lnTo>
                  <a:lnTo>
                    <a:pt x="84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422920" y="3937680"/>
              <a:ext cx="136440" cy="336240"/>
            </a:xfrm>
            <a:custGeom>
              <a:avLst/>
              <a:gdLst/>
              <a:ahLst/>
              <a:rect l="l" t="t" r="r" b="b"/>
              <a:pathLst>
                <a:path w="918" h="3070">
                  <a:moveTo>
                    <a:pt x="0" y="130"/>
                  </a:moveTo>
                  <a:lnTo>
                    <a:pt x="257" y="1096"/>
                  </a:lnTo>
                  <a:lnTo>
                    <a:pt x="450" y="2230"/>
                  </a:lnTo>
                  <a:lnTo>
                    <a:pt x="524" y="3070"/>
                  </a:lnTo>
                  <a:lnTo>
                    <a:pt x="918" y="3070"/>
                  </a:lnTo>
                  <a:lnTo>
                    <a:pt x="817" y="2145"/>
                  </a:lnTo>
                  <a:lnTo>
                    <a:pt x="624" y="1264"/>
                  </a:lnTo>
                  <a:lnTo>
                    <a:pt x="387" y="501"/>
                  </a:lnTo>
                  <a:lnTo>
                    <a:pt x="194" y="51"/>
                  </a:lnTo>
                  <a:lnTo>
                    <a:pt x="61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479520" y="1206360"/>
            <a:ext cx="2676600" cy="1708200"/>
            <a:chOff x="479520" y="1206360"/>
            <a:chExt cx="2676600" cy="1708200"/>
          </a:xfrm>
        </p:grpSpPr>
        <p:sp>
          <p:nvSpPr>
            <p:cNvPr id="1713" name=""/>
            <p:cNvSpPr/>
            <p:nvPr/>
          </p:nvSpPr>
          <p:spPr>
            <a:xfrm>
              <a:off x="2040120" y="1206360"/>
              <a:ext cx="11160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renciar lanç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4" name=""/>
            <p:cNvCxnSpPr>
              <a:stCxn id="1713" idx="2"/>
              <a:endCxn id="1715" idx="3"/>
            </p:cNvCxnSpPr>
            <p:nvPr/>
          </p:nvCxnSpPr>
          <p:spPr>
            <a:xfrm rot="5400000">
              <a:off x="1890000" y="1562040"/>
              <a:ext cx="610560" cy="8071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  <p:grpSp>
          <p:nvGrpSpPr>
            <p:cNvPr id="1716" name=""/>
            <p:cNvGrpSpPr/>
            <p:nvPr/>
          </p:nvGrpSpPr>
          <p:grpSpPr>
            <a:xfrm>
              <a:off x="479520" y="1623960"/>
              <a:ext cx="1303200" cy="1290600"/>
              <a:chOff x="479520" y="1623960"/>
              <a:chExt cx="1303200" cy="1290600"/>
            </a:xfrm>
          </p:grpSpPr>
          <p:sp>
            <p:nvSpPr>
              <p:cNvPr id="1715" name=""/>
              <p:cNvSpPr/>
              <p:nvPr/>
            </p:nvSpPr>
            <p:spPr>
              <a:xfrm>
                <a:off x="479520" y="1623960"/>
                <a:ext cx="1303200" cy="1290600"/>
              </a:xfrm>
              <a:prstGeom prst="rect">
                <a:avLst/>
              </a:prstGeom>
              <a:solidFill>
                <a:srgbClr val="ffff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nçar produ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82400" y="1711440"/>
                <a:ext cx="184320" cy="133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82400" y="2038320"/>
                <a:ext cx="184320" cy="133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82400" y="2367000"/>
                <a:ext cx="184320" cy="133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82400" y="2695680"/>
                <a:ext cx="184320" cy="133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1" name=""/>
          <p:cNvGrpSpPr/>
          <p:nvPr/>
        </p:nvGrpSpPr>
        <p:grpSpPr>
          <a:xfrm>
            <a:off x="4200480" y="1054080"/>
            <a:ext cx="1609920" cy="1428480"/>
            <a:chOff x="4200480" y="1054080"/>
            <a:chExt cx="1609920" cy="1428480"/>
          </a:xfrm>
        </p:grpSpPr>
        <p:sp>
          <p:nvSpPr>
            <p:cNvPr id="1722" name=""/>
            <p:cNvSpPr/>
            <p:nvPr/>
          </p:nvSpPr>
          <p:spPr>
            <a:xfrm>
              <a:off x="4200480" y="1162800"/>
              <a:ext cx="1546920" cy="1319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62760" y="1054080"/>
              <a:ext cx="1547640" cy="1319760"/>
            </a:xfrm>
            <a:prstGeom prst="rect">
              <a:avLst/>
            </a:prstGeom>
            <a:solidFill>
              <a:srgbClr val="00ea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68880" y="1279800"/>
              <a:ext cx="153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268880" y="1495800"/>
              <a:ext cx="153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268880" y="1713600"/>
              <a:ext cx="153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68880" y="1939320"/>
              <a:ext cx="153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268880" y="2156400"/>
              <a:ext cx="153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48668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70448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2768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5160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36868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593320" y="1060920"/>
              <a:ext cx="720" cy="130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3480" y="1262880"/>
              <a:ext cx="1420200" cy="953640"/>
            </a:xfrm>
            <a:custGeom>
              <a:avLst/>
              <a:gdLst/>
              <a:ahLst/>
              <a:rect l="l" t="t" r="r" b="b"/>
              <a:pathLst>
                <a:path w="12933" h="8684">
                  <a:moveTo>
                    <a:pt x="0" y="6507"/>
                  </a:moveTo>
                  <a:lnTo>
                    <a:pt x="0" y="4954"/>
                  </a:lnTo>
                  <a:lnTo>
                    <a:pt x="2131" y="6888"/>
                  </a:lnTo>
                  <a:lnTo>
                    <a:pt x="5185" y="2420"/>
                  </a:lnTo>
                  <a:lnTo>
                    <a:pt x="8230" y="5026"/>
                  </a:lnTo>
                  <a:lnTo>
                    <a:pt x="11191" y="1240"/>
                  </a:lnTo>
                  <a:lnTo>
                    <a:pt x="10466" y="804"/>
                  </a:lnTo>
                  <a:lnTo>
                    <a:pt x="12933" y="0"/>
                  </a:lnTo>
                  <a:lnTo>
                    <a:pt x="12933" y="2359"/>
                  </a:lnTo>
                  <a:lnTo>
                    <a:pt x="12256" y="1926"/>
                  </a:lnTo>
                  <a:lnTo>
                    <a:pt x="8471" y="6764"/>
                  </a:lnTo>
                  <a:lnTo>
                    <a:pt x="5432" y="4161"/>
                  </a:lnTo>
                  <a:lnTo>
                    <a:pt x="2371" y="8684"/>
                  </a:lnTo>
                  <a:lnTo>
                    <a:pt x="0" y="6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63480" y="1188360"/>
              <a:ext cx="1420200" cy="951840"/>
            </a:xfrm>
            <a:custGeom>
              <a:avLst/>
              <a:gdLst/>
              <a:ahLst/>
              <a:rect l="l" t="t" r="r" b="b"/>
              <a:pathLst>
                <a:path w="12933" h="8676">
                  <a:moveTo>
                    <a:pt x="0" y="6503"/>
                  </a:moveTo>
                  <a:lnTo>
                    <a:pt x="0" y="4950"/>
                  </a:lnTo>
                  <a:lnTo>
                    <a:pt x="2131" y="6882"/>
                  </a:lnTo>
                  <a:lnTo>
                    <a:pt x="5185" y="2421"/>
                  </a:lnTo>
                  <a:lnTo>
                    <a:pt x="8230" y="5022"/>
                  </a:lnTo>
                  <a:lnTo>
                    <a:pt x="11191" y="1249"/>
                  </a:lnTo>
                  <a:lnTo>
                    <a:pt x="10466" y="806"/>
                  </a:lnTo>
                  <a:lnTo>
                    <a:pt x="12933" y="0"/>
                  </a:lnTo>
                  <a:lnTo>
                    <a:pt x="12933" y="2351"/>
                  </a:lnTo>
                  <a:lnTo>
                    <a:pt x="12256" y="1923"/>
                  </a:lnTo>
                  <a:lnTo>
                    <a:pt x="8471" y="6760"/>
                  </a:lnTo>
                  <a:lnTo>
                    <a:pt x="5432" y="4156"/>
                  </a:lnTo>
                  <a:lnTo>
                    <a:pt x="2371" y="8676"/>
                  </a:lnTo>
                  <a:lnTo>
                    <a:pt x="0" y="65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ar que a definição dos processos de negócio de: venda, distribuição, atendimento ao cliente, e assistência técnica, está integrada a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quando um produto é lançado e as atividades que dão apoio ao lan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ionar as campanhas de marketing no contexto de desenvolvimento de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r o processo de logística com o de desenvolvimento de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r o momento e o conteúdo de um plano de fim de vida, a ser utilizado na fase de descontinuar o produto d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r o processo de marketing com o de desenvolvimento de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as atividades de acompanhamento inicial do produto n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de atualizar o plano de fim de vid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46000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criado dentro da fase de projeto detal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do durante todo o desenvolvimento e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congelado nest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ionado na macro-fase de pós desenvolvimento, no capítulo 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1"/>
          <a:stretch/>
        </p:blipFill>
        <p:spPr>
          <a:xfrm>
            <a:off x="5172120" y="3929040"/>
            <a:ext cx="329544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2" name=""/>
          <p:cNvSpPr/>
          <p:nvPr/>
        </p:nvSpPr>
        <p:spPr>
          <a:xfrm>
            <a:off x="1646280" y="3586320"/>
            <a:ext cx="3368520" cy="1890720"/>
          </a:xfrm>
          <a:custGeom>
            <a:avLst/>
            <a:gdLst/>
            <a:ahLst/>
            <a:rect l="l" t="t" r="r" b="b"/>
            <a:pathLst>
              <a:path w="2122" h="1191">
                <a:moveTo>
                  <a:pt x="70" y="0"/>
                </a:moveTo>
                <a:cubicBezTo>
                  <a:pt x="35" y="128"/>
                  <a:pt x="0" y="257"/>
                  <a:pt x="106" y="405"/>
                </a:cubicBezTo>
                <a:cubicBezTo>
                  <a:pt x="212" y="553"/>
                  <a:pt x="435" y="767"/>
                  <a:pt x="709" y="891"/>
                </a:cubicBezTo>
                <a:cubicBezTo>
                  <a:pt x="983" y="1015"/>
                  <a:pt x="1518" y="1113"/>
                  <a:pt x="1753" y="1152"/>
                </a:cubicBezTo>
                <a:cubicBezTo>
                  <a:pt x="1988" y="1191"/>
                  <a:pt x="2055" y="1158"/>
                  <a:pt x="2122" y="11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Macro-fase de pós-desenvolvi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29520" y="844560"/>
            <a:ext cx="9114480" cy="6001200"/>
            <a:chOff x="29520" y="844560"/>
            <a:chExt cx="9114480" cy="6001200"/>
          </a:xfrm>
        </p:grpSpPr>
        <p:sp>
          <p:nvSpPr>
            <p:cNvPr id="1745" name=""/>
            <p:cNvSpPr/>
            <p:nvPr/>
          </p:nvSpPr>
          <p:spPr>
            <a:xfrm>
              <a:off x="7864560" y="4824360"/>
              <a:ext cx="1279440" cy="68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vida de um produto junto ao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52360" y="844560"/>
              <a:ext cx="4648320" cy="1335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1840" y="1838520"/>
              <a:ext cx="3120840" cy="1376280"/>
            </a:xfrm>
            <a:custGeom>
              <a:avLst/>
              <a:gdLst/>
              <a:ahLst/>
              <a:rect l="l" t="t" r="r" b="b"/>
              <a:pathLst>
                <a:path w="1966" h="867">
                  <a:moveTo>
                    <a:pt x="0" y="867"/>
                  </a:moveTo>
                  <a:lnTo>
                    <a:pt x="61" y="15"/>
                  </a:lnTo>
                  <a:lnTo>
                    <a:pt x="1966" y="0"/>
                  </a:lnTo>
                  <a:lnTo>
                    <a:pt x="1067" y="867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27800" y="862200"/>
              <a:ext cx="3535200" cy="1063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ceber o produto de volta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utiliz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manufatur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cic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scart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914480" y="2008080"/>
              <a:ext cx="7107120" cy="1231920"/>
            </a:xfrm>
            <a:custGeom>
              <a:avLst/>
              <a:gdLst/>
              <a:ahLst/>
              <a:rect l="l" t="t" r="r" b="b"/>
              <a:pathLst>
                <a:path w="4477" h="776">
                  <a:moveTo>
                    <a:pt x="0" y="753"/>
                  </a:moveTo>
                  <a:lnTo>
                    <a:pt x="967" y="0"/>
                  </a:lnTo>
                  <a:lnTo>
                    <a:pt x="1789" y="0"/>
                  </a:lnTo>
                  <a:lnTo>
                    <a:pt x="4477" y="776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08040" y="6271920"/>
              <a:ext cx="11034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ibe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a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61360" y="6271920"/>
              <a:ext cx="7221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im da v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520" y="6270120"/>
              <a:ext cx="691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íci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a idé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710320" y="6270120"/>
              <a:ext cx="976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inal da produç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4" name=""/>
            <p:cNvGrpSpPr/>
            <p:nvPr/>
          </p:nvGrpSpPr>
          <p:grpSpPr>
            <a:xfrm>
              <a:off x="168120" y="3184560"/>
              <a:ext cx="7805880" cy="3098520"/>
              <a:chOff x="168120" y="3184560"/>
              <a:chExt cx="7805880" cy="3098520"/>
            </a:xfrm>
          </p:grpSpPr>
          <p:sp>
            <p:nvSpPr>
              <p:cNvPr id="1755" name=""/>
              <p:cNvSpPr/>
              <p:nvPr/>
            </p:nvSpPr>
            <p:spPr>
              <a:xfrm>
                <a:off x="1928880" y="3184560"/>
                <a:ext cx="4211640" cy="30117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140520" y="3184560"/>
                <a:ext cx="1733400" cy="30117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08080" y="3184560"/>
                <a:ext cx="1720800" cy="30117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68120" y="6100200"/>
                <a:ext cx="165240" cy="169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851120" y="6100200"/>
                <a:ext cx="166680" cy="169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227160" y="6195960"/>
                <a:ext cx="768024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91200" y="6114960"/>
                <a:ext cx="166680" cy="168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807320" y="6111720"/>
                <a:ext cx="166680" cy="169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289080" y="970200"/>
              <a:ext cx="4581360" cy="1089000"/>
              <a:chOff x="289080" y="970200"/>
              <a:chExt cx="4581360" cy="1089000"/>
            </a:xfrm>
          </p:grpSpPr>
          <p:sp>
            <p:nvSpPr>
              <p:cNvPr id="1764" name=""/>
              <p:cNvSpPr/>
              <p:nvPr/>
            </p:nvSpPr>
            <p:spPr>
              <a:xfrm>
                <a:off x="1359000" y="1123920"/>
                <a:ext cx="2143080" cy="216000"/>
              </a:xfrm>
              <a:custGeom>
                <a:avLst/>
                <a:gdLst>
                  <a:gd name="textAreaLeft" fmla="*/ 0 w 2143080"/>
                  <a:gd name="textAreaRight" fmla="*/ 2143440 w 2143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921" y="0"/>
                    </a:lnTo>
                    <a:lnTo>
                      <a:pt x="21600" y="10800"/>
                    </a:lnTo>
                    <a:lnTo>
                      <a:pt x="20921" y="21600"/>
                    </a:lnTo>
                    <a:lnTo>
                      <a:pt x="0" y="21600"/>
                    </a:lnTo>
                    <a:lnTo>
                      <a:pt x="679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envolvi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489480" y="1125720"/>
                <a:ext cx="1371600" cy="21564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642" y="0"/>
                    </a:lnTo>
                    <a:lnTo>
                      <a:pt x="21600" y="10800"/>
                    </a:lnTo>
                    <a:lnTo>
                      <a:pt x="20642" y="21600"/>
                    </a:lnTo>
                    <a:lnTo>
                      <a:pt x="0" y="21600"/>
                    </a:lnTo>
                    <a:lnTo>
                      <a:pt x="958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ó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51400" y="1185840"/>
                <a:ext cx="1350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67" name=""/>
              <p:cNvCxnSpPr>
                <a:stCxn id="1765" idx="0"/>
                <a:endCxn id="1768" idx="0"/>
              </p:cNvCxnSpPr>
              <p:nvPr/>
            </p:nvCxnSpPr>
            <p:spPr>
              <a:xfrm rot="5400000">
                <a:off x="2474280" y="-541440"/>
                <a:ext cx="3600" cy="3337560"/>
              </a:xfrm>
              <a:prstGeom prst="bentConnector3">
                <a:avLst>
                  <a:gd name="adj1" fmla="val -4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8" name=""/>
              <p:cNvSpPr/>
              <p:nvPr/>
            </p:nvSpPr>
            <p:spPr>
              <a:xfrm>
                <a:off x="289080" y="1128240"/>
                <a:ext cx="1098360" cy="2138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447" y="0"/>
                    </a:lnTo>
                    <a:lnTo>
                      <a:pt x="21600" y="10800"/>
                    </a:lnTo>
                    <a:lnTo>
                      <a:pt x="2044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97000" y="1393920"/>
                <a:ext cx="689040" cy="571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48" y="0"/>
                    </a:lnTo>
                    <a:lnTo>
                      <a:pt x="21600" y="10800"/>
                    </a:lnTo>
                    <a:lnTo>
                      <a:pt x="19548" y="21600"/>
                    </a:lnTo>
                    <a:lnTo>
                      <a:pt x="0" y="21600"/>
                    </a:lnTo>
                    <a:lnTo>
                      <a:pt x="2052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0" name=""/>
              <p:cNvGrpSpPr/>
              <p:nvPr/>
            </p:nvGrpSpPr>
            <p:grpSpPr>
              <a:xfrm>
                <a:off x="3387960" y="1379520"/>
                <a:ext cx="1482480" cy="679680"/>
                <a:chOff x="3387960" y="1379520"/>
                <a:chExt cx="1482480" cy="67968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3387960" y="1379520"/>
                  <a:ext cx="649080" cy="604800"/>
                </a:xfrm>
                <a:custGeom>
                  <a:avLst/>
                  <a:gdLst>
                    <a:gd name="textAreaLeft" fmla="*/ 0 w 649080"/>
                    <a:gd name="textAreaRight" fmla="*/ 649440 w 649080"/>
                    <a:gd name="textAreaTop" fmla="*/ 0 h 604800"/>
                    <a:gd name="textAreaBottom" fmla="*/ 605160 h 60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037040" y="1379520"/>
                  <a:ext cx="655560" cy="604800"/>
                </a:xfrm>
                <a:custGeom>
                  <a:avLst/>
                  <a:gdLst>
                    <a:gd name="textAreaLeft" fmla="*/ 0 w 655560"/>
                    <a:gd name="textAreaRight" fmla="*/ 655920 w 655560"/>
                    <a:gd name="textAreaTop" fmla="*/ 0 h 604800"/>
                    <a:gd name="textAreaBottom" fmla="*/ 605160 h 60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432240" y="1425600"/>
                  <a:ext cx="654120" cy="604800"/>
                </a:xfrm>
                <a:custGeom>
                  <a:avLst/>
                  <a:gdLst>
                    <a:gd name="textAreaLeft" fmla="*/ 0 w 654120"/>
                    <a:gd name="textAreaRight" fmla="*/ 654480 w 654120"/>
                    <a:gd name="textAreaTop" fmla="*/ 0 h 604800"/>
                    <a:gd name="textAreaBottom" fmla="*/ 605160 h 60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095720" y="1425600"/>
                  <a:ext cx="655560" cy="604800"/>
                </a:xfrm>
                <a:custGeom>
                  <a:avLst/>
                  <a:gdLst>
                    <a:gd name="textAreaLeft" fmla="*/ 0 w 655560"/>
                    <a:gd name="textAreaRight" fmla="*/ 655920 w 655560"/>
                    <a:gd name="textAreaTop" fmla="*/ 0 h 604800"/>
                    <a:gd name="textAreaBottom" fmla="*/ 605160 h 60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001" y="0"/>
                      </a:lnTo>
                      <a:lnTo>
                        <a:pt x="21600" y="10800"/>
                      </a:lnTo>
                      <a:lnTo>
                        <a:pt x="19001" y="21600"/>
                      </a:lnTo>
                      <a:lnTo>
                        <a:pt x="0" y="21600"/>
                      </a:lnTo>
                      <a:lnTo>
                        <a:pt x="2599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78520" y="1454040"/>
                  <a:ext cx="691920" cy="605160"/>
                </a:xfrm>
                <a:custGeom>
                  <a:avLst/>
                  <a:gdLst>
                    <a:gd name="textAreaLeft" fmla="*/ 0 w 691920"/>
                    <a:gd name="textAreaRight" fmla="*/ 692280 w 691920"/>
                    <a:gd name="textAreaTop" fmla="*/ 0 h 605160"/>
                    <a:gd name="textAreaBottom" fmla="*/ 605520 h 605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602" y="0"/>
                      </a:lnTo>
                      <a:lnTo>
                        <a:pt x="21600" y="10800"/>
                      </a:lnTo>
                      <a:lnTo>
                        <a:pt x="19602" y="21600"/>
                      </a:lnTo>
                      <a:lnTo>
                        <a:pt x="0" y="21600"/>
                      </a:lnTo>
                      <a:lnTo>
                        <a:pt x="1998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3483000" y="1454040"/>
                  <a:ext cx="722520" cy="6051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605160"/>
                    <a:gd name="textAreaBottom" fmla="*/ 605520 h 605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39" y="0"/>
                      </a:lnTo>
                      <a:lnTo>
                        <a:pt x="21600" y="10800"/>
                      </a:lnTo>
                      <a:lnTo>
                        <a:pt x="19739" y="21600"/>
                      </a:lnTo>
                      <a:lnTo>
                        <a:pt x="0" y="21600"/>
                      </a:lnTo>
                      <a:lnTo>
                        <a:pt x="1861" y="108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447920" y="1371600"/>
                <a:ext cx="1861560" cy="295200"/>
                <a:chOff x="1447920" y="1371600"/>
                <a:chExt cx="1861560" cy="295200"/>
              </a:xfrm>
            </p:grpSpPr>
            <p:sp>
              <p:nvSpPr>
                <p:cNvPr id="1778" name=""/>
                <p:cNvSpPr/>
                <p:nvPr/>
              </p:nvSpPr>
              <p:spPr>
                <a:xfrm flipV="1">
                  <a:off x="1447920" y="1371600"/>
                  <a:ext cx="369360" cy="2952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295200"/>
                    <a:gd name="textAreaBottom" fmla="*/ 295200 h 29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V="1">
                  <a:off x="1820520" y="1371600"/>
                  <a:ext cx="369360" cy="2952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295200"/>
                    <a:gd name="textAreaBottom" fmla="*/ 295200 h 29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V="1">
                  <a:off x="2194200" y="1371600"/>
                  <a:ext cx="369360" cy="2952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295200"/>
                    <a:gd name="textAreaBottom" fmla="*/ 295200 h 29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2566800" y="1371600"/>
                  <a:ext cx="369360" cy="2952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295200"/>
                    <a:gd name="textAreaBottom" fmla="*/ 295200 h 29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V="1">
                  <a:off x="2940120" y="1371600"/>
                  <a:ext cx="369360" cy="2952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295200"/>
                    <a:gd name="textAreaBottom" fmla="*/ 295200 h 29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1527120" y="1480680"/>
                <a:ext cx="1860480" cy="297000"/>
                <a:chOff x="1527120" y="1480680"/>
                <a:chExt cx="1860480" cy="297000"/>
              </a:xfrm>
            </p:grpSpPr>
            <p:sp>
              <p:nvSpPr>
                <p:cNvPr id="1784" name=""/>
                <p:cNvSpPr/>
                <p:nvPr/>
              </p:nvSpPr>
              <p:spPr>
                <a:xfrm flipV="1">
                  <a:off x="1527120" y="1480320"/>
                  <a:ext cx="369000" cy="29700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V="1">
                  <a:off x="1899360" y="1480320"/>
                  <a:ext cx="369000" cy="29700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2273040" y="1480320"/>
                  <a:ext cx="369000" cy="29700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V="1">
                  <a:off x="2645280" y="1480320"/>
                  <a:ext cx="369000" cy="29700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3018600" y="1480320"/>
                  <a:ext cx="369000" cy="29700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1604880" y="1591920"/>
                <a:ext cx="1861920" cy="297000"/>
                <a:chOff x="1604880" y="1591920"/>
                <a:chExt cx="1861920" cy="297000"/>
              </a:xfrm>
            </p:grpSpPr>
            <p:sp>
              <p:nvSpPr>
                <p:cNvPr id="1790" name=""/>
                <p:cNvSpPr/>
                <p:nvPr/>
              </p:nvSpPr>
              <p:spPr>
                <a:xfrm flipV="1">
                  <a:off x="1604880" y="1591560"/>
                  <a:ext cx="369360" cy="2970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>
                  <a:off x="1977480" y="1591560"/>
                  <a:ext cx="369360" cy="2970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V="1">
                  <a:off x="2351160" y="1591560"/>
                  <a:ext cx="369360" cy="2970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2724120" y="1591560"/>
                  <a:ext cx="369360" cy="2970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3097440" y="1591560"/>
                  <a:ext cx="369360" cy="29700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-36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11" y="0"/>
                      </a:lnTo>
                      <a:lnTo>
                        <a:pt x="21600" y="10800"/>
                      </a:lnTo>
                      <a:lnTo>
                        <a:pt x="18911" y="21600"/>
                      </a:lnTo>
                      <a:lnTo>
                        <a:pt x="0" y="21600"/>
                      </a:lnTo>
                      <a:lnTo>
                        <a:pt x="2689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1009800" y="1400400"/>
                <a:ext cx="491760" cy="488880"/>
                <a:chOff x="1009800" y="1400400"/>
                <a:chExt cx="491760" cy="48888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1009800" y="1400400"/>
                  <a:ext cx="334440" cy="26676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266760"/>
                    <a:gd name="textAreaBottom" fmla="*/ 266760 h 26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088640" y="1511280"/>
                  <a:ext cx="334440" cy="26712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167480" y="1622160"/>
                  <a:ext cx="334080" cy="26712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22" y="0"/>
                      </a:lnTo>
                      <a:lnTo>
                        <a:pt x="21600" y="10800"/>
                      </a:lnTo>
                      <a:lnTo>
                        <a:pt x="19522" y="21600"/>
                      </a:lnTo>
                      <a:lnTo>
                        <a:pt x="0" y="21600"/>
                      </a:lnTo>
                      <a:lnTo>
                        <a:pt x="2078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9" name=""/>
            <p:cNvSpPr/>
            <p:nvPr/>
          </p:nvSpPr>
          <p:spPr>
            <a:xfrm>
              <a:off x="1938240" y="4446720"/>
              <a:ext cx="4186440" cy="1474560"/>
            </a:xfrm>
            <a:custGeom>
              <a:avLst/>
              <a:gdLst/>
              <a:ahLst/>
              <a:rect l="l" t="t" r="r" b="b"/>
              <a:pathLst>
                <a:path w="2826" h="1013">
                  <a:moveTo>
                    <a:pt x="0" y="1013"/>
                  </a:moveTo>
                  <a:cubicBezTo>
                    <a:pt x="97" y="993"/>
                    <a:pt x="195" y="973"/>
                    <a:pt x="300" y="929"/>
                  </a:cubicBezTo>
                  <a:cubicBezTo>
                    <a:pt x="405" y="885"/>
                    <a:pt x="519" y="824"/>
                    <a:pt x="630" y="752"/>
                  </a:cubicBezTo>
                  <a:cubicBezTo>
                    <a:pt x="741" y="680"/>
                    <a:pt x="860" y="605"/>
                    <a:pt x="968" y="499"/>
                  </a:cubicBezTo>
                  <a:cubicBezTo>
                    <a:pt x="1076" y="393"/>
                    <a:pt x="1194" y="189"/>
                    <a:pt x="1275" y="115"/>
                  </a:cubicBezTo>
                  <a:cubicBezTo>
                    <a:pt x="1356" y="41"/>
                    <a:pt x="1388" y="57"/>
                    <a:pt x="1452" y="53"/>
                  </a:cubicBezTo>
                  <a:cubicBezTo>
                    <a:pt x="1516" y="49"/>
                    <a:pt x="1586" y="94"/>
                    <a:pt x="1659" y="92"/>
                  </a:cubicBezTo>
                  <a:cubicBezTo>
                    <a:pt x="1732" y="90"/>
                    <a:pt x="1764" y="46"/>
                    <a:pt x="1889" y="38"/>
                  </a:cubicBezTo>
                  <a:cubicBezTo>
                    <a:pt x="2014" y="30"/>
                    <a:pt x="2284" y="0"/>
                    <a:pt x="2412" y="46"/>
                  </a:cubicBezTo>
                  <a:cubicBezTo>
                    <a:pt x="2540" y="92"/>
                    <a:pt x="2588" y="210"/>
                    <a:pt x="2657" y="314"/>
                  </a:cubicBezTo>
                  <a:cubicBezTo>
                    <a:pt x="2726" y="418"/>
                    <a:pt x="2796" y="607"/>
                    <a:pt x="2826" y="668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68200" y="6775560"/>
              <a:ext cx="7680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78880" y="6632280"/>
              <a:ext cx="212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Arial"/>
                </a:rPr>
                <a:t>Ciclo de vida d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126880" y="5321520"/>
              <a:ext cx="19231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Volume de ven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1941480" y="3529080"/>
              <a:ext cx="1695240" cy="250920"/>
              <a:chOff x="1941480" y="3529080"/>
              <a:chExt cx="1695240" cy="250920"/>
            </a:xfrm>
          </p:grpSpPr>
          <p:sp>
            <p:nvSpPr>
              <p:cNvPr id="1804" name=""/>
              <p:cNvSpPr/>
              <p:nvPr/>
            </p:nvSpPr>
            <p:spPr>
              <a:xfrm>
                <a:off x="1941480" y="3610080"/>
                <a:ext cx="14000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3341520" y="3529080"/>
                <a:ext cx="295200" cy="250920"/>
                <a:chOff x="3341520" y="3529080"/>
                <a:chExt cx="295200" cy="25092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3341520" y="3529080"/>
                  <a:ext cx="29520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3416040" y="3689280"/>
                  <a:ext cx="6876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3373560" y="363204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408480" y="3569760"/>
                  <a:ext cx="7308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452760" y="3563640"/>
                  <a:ext cx="11376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522600" y="3619440"/>
                  <a:ext cx="7740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494880" y="3676680"/>
                  <a:ext cx="106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3" name=""/>
            <p:cNvGrpSpPr/>
            <p:nvPr/>
          </p:nvGrpSpPr>
          <p:grpSpPr>
            <a:xfrm>
              <a:off x="2103480" y="3933720"/>
              <a:ext cx="2126880" cy="250920"/>
              <a:chOff x="2103480" y="3933720"/>
              <a:chExt cx="2126880" cy="250920"/>
            </a:xfrm>
          </p:grpSpPr>
          <p:sp>
            <p:nvSpPr>
              <p:cNvPr id="1814" name=""/>
              <p:cNvSpPr/>
              <p:nvPr/>
            </p:nvSpPr>
            <p:spPr>
              <a:xfrm>
                <a:off x="2103480" y="4014720"/>
                <a:ext cx="18932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3996720" y="3933720"/>
                <a:ext cx="233640" cy="250920"/>
                <a:chOff x="3996720" y="3933720"/>
                <a:chExt cx="233640" cy="2509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3996720" y="3933720"/>
                  <a:ext cx="23364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4055400" y="4093920"/>
                  <a:ext cx="5436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4021920" y="4036680"/>
                  <a:ext cx="6372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4049640" y="3974400"/>
                  <a:ext cx="5796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4084560" y="3968280"/>
                  <a:ext cx="9000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4140000" y="4024080"/>
                  <a:ext cx="6120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118040" y="4081320"/>
                  <a:ext cx="8424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3" name=""/>
            <p:cNvGrpSpPr/>
            <p:nvPr/>
          </p:nvGrpSpPr>
          <p:grpSpPr>
            <a:xfrm>
              <a:off x="5165640" y="3549600"/>
              <a:ext cx="1438200" cy="250920"/>
              <a:chOff x="5165640" y="3549600"/>
              <a:chExt cx="1438200" cy="250920"/>
            </a:xfrm>
          </p:grpSpPr>
          <p:sp>
            <p:nvSpPr>
              <p:cNvPr id="1824" name=""/>
              <p:cNvSpPr/>
              <p:nvPr/>
            </p:nvSpPr>
            <p:spPr>
              <a:xfrm>
                <a:off x="5165640" y="3630600"/>
                <a:ext cx="11876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6353280" y="3549600"/>
                <a:ext cx="250560" cy="250920"/>
                <a:chOff x="6353280" y="3549600"/>
                <a:chExt cx="250560" cy="25092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6353280" y="3549600"/>
                  <a:ext cx="25056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416280" y="370980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380280" y="3652560"/>
                  <a:ext cx="6804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410160" y="359028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447600" y="3584160"/>
                  <a:ext cx="9648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507000" y="3639960"/>
                  <a:ext cx="6552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483240" y="369720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6148440" y="4083120"/>
              <a:ext cx="2282760" cy="250920"/>
              <a:chOff x="6148440" y="4083120"/>
              <a:chExt cx="2282760" cy="250920"/>
            </a:xfrm>
          </p:grpSpPr>
          <p:sp>
            <p:nvSpPr>
              <p:cNvPr id="1834" name=""/>
              <p:cNvSpPr/>
              <p:nvPr/>
            </p:nvSpPr>
            <p:spPr>
              <a:xfrm>
                <a:off x="6148440" y="4164120"/>
                <a:ext cx="20318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8180280" y="4083120"/>
                <a:ext cx="250920" cy="250920"/>
                <a:chOff x="8180280" y="4083120"/>
                <a:chExt cx="250920" cy="2509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8180280" y="4083120"/>
                  <a:ext cx="25092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8243640" y="424332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8207280" y="4186080"/>
                  <a:ext cx="6840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8237160" y="412380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8274600" y="4117680"/>
                  <a:ext cx="9684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8334360" y="4173480"/>
                  <a:ext cx="6588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8310600" y="423072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3" name=""/>
            <p:cNvGrpSpPr/>
            <p:nvPr/>
          </p:nvGrpSpPr>
          <p:grpSpPr>
            <a:xfrm>
              <a:off x="6070680" y="3198960"/>
              <a:ext cx="1886040" cy="250560"/>
              <a:chOff x="6070680" y="3198960"/>
              <a:chExt cx="1886040" cy="250560"/>
            </a:xfrm>
          </p:grpSpPr>
          <p:sp>
            <p:nvSpPr>
              <p:cNvPr id="1844" name=""/>
              <p:cNvSpPr/>
              <p:nvPr/>
            </p:nvSpPr>
            <p:spPr>
              <a:xfrm>
                <a:off x="6070680" y="3279600"/>
                <a:ext cx="1635120" cy="885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"/>
              <p:cNvGrpSpPr/>
              <p:nvPr/>
            </p:nvGrpSpPr>
            <p:grpSpPr>
              <a:xfrm>
                <a:off x="7705800" y="3198960"/>
                <a:ext cx="250920" cy="250560"/>
                <a:chOff x="7705800" y="3198960"/>
                <a:chExt cx="250920" cy="25056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7705800" y="3198960"/>
                  <a:ext cx="250920" cy="25056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769160" y="335880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732800" y="3301560"/>
                  <a:ext cx="68400" cy="9396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762680" y="3239640"/>
                  <a:ext cx="61920" cy="6696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800120" y="3233520"/>
                  <a:ext cx="9684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859880" y="3289320"/>
                  <a:ext cx="65880" cy="6156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836120" y="334656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3" name=""/>
            <p:cNvGrpSpPr/>
            <p:nvPr/>
          </p:nvGrpSpPr>
          <p:grpSpPr>
            <a:xfrm>
              <a:off x="5856120" y="3854520"/>
              <a:ext cx="2867040" cy="250920"/>
              <a:chOff x="5856120" y="3854520"/>
              <a:chExt cx="2867040" cy="250920"/>
            </a:xfrm>
          </p:grpSpPr>
          <p:sp>
            <p:nvSpPr>
              <p:cNvPr id="1854" name=""/>
              <p:cNvSpPr/>
              <p:nvPr/>
            </p:nvSpPr>
            <p:spPr>
              <a:xfrm>
                <a:off x="5856120" y="3935520"/>
                <a:ext cx="261612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5" name=""/>
              <p:cNvGrpSpPr/>
              <p:nvPr/>
            </p:nvGrpSpPr>
            <p:grpSpPr>
              <a:xfrm>
                <a:off x="8472240" y="3854520"/>
                <a:ext cx="250920" cy="250920"/>
                <a:chOff x="8472240" y="3854520"/>
                <a:chExt cx="250920" cy="25092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8472240" y="3854520"/>
                  <a:ext cx="25092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8535600" y="401472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8499240" y="3957480"/>
                  <a:ext cx="6840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529120" y="389520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8566560" y="3889080"/>
                  <a:ext cx="9684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8626320" y="3944880"/>
                  <a:ext cx="6588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8602560" y="400212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3" name=""/>
            <p:cNvGrpSpPr/>
            <p:nvPr/>
          </p:nvGrpSpPr>
          <p:grpSpPr>
            <a:xfrm>
              <a:off x="4510080" y="4159440"/>
              <a:ext cx="1438200" cy="250560"/>
              <a:chOff x="4510080" y="4159440"/>
              <a:chExt cx="1438200" cy="250560"/>
            </a:xfrm>
          </p:grpSpPr>
          <p:sp>
            <p:nvSpPr>
              <p:cNvPr id="1864" name=""/>
              <p:cNvSpPr/>
              <p:nvPr/>
            </p:nvSpPr>
            <p:spPr>
              <a:xfrm>
                <a:off x="4510080" y="4240080"/>
                <a:ext cx="1187640" cy="885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5" name=""/>
              <p:cNvGrpSpPr/>
              <p:nvPr/>
            </p:nvGrpSpPr>
            <p:grpSpPr>
              <a:xfrm>
                <a:off x="5697720" y="4159440"/>
                <a:ext cx="250560" cy="250560"/>
                <a:chOff x="5697720" y="4159440"/>
                <a:chExt cx="250560" cy="25056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5697720" y="4159440"/>
                  <a:ext cx="250560" cy="25056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760720" y="431928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724720" y="4262040"/>
                  <a:ext cx="68040" cy="9396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5754600" y="4200120"/>
                  <a:ext cx="61920" cy="6696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792040" y="4194000"/>
                  <a:ext cx="9648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851440" y="4249800"/>
                  <a:ext cx="65520" cy="6156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827680" y="430704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3" name=""/>
            <p:cNvSpPr/>
            <p:nvPr/>
          </p:nvSpPr>
          <p:spPr>
            <a:xfrm>
              <a:off x="5653080" y="1435320"/>
              <a:ext cx="1076400" cy="1888920"/>
            </a:xfrm>
            <a:custGeom>
              <a:avLst/>
              <a:gdLst/>
              <a:ahLst/>
              <a:rect l="l" t="t" r="r" b="b"/>
              <a:pathLst>
                <a:path w="678" h="1190">
                  <a:moveTo>
                    <a:pt x="128" y="1184"/>
                  </a:moveTo>
                  <a:lnTo>
                    <a:pt x="678" y="69"/>
                  </a:lnTo>
                  <a:lnTo>
                    <a:pt x="26" y="0"/>
                  </a:lnTo>
                  <a:lnTo>
                    <a:pt x="0" y="1190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4" name=""/>
            <p:cNvGrpSpPr/>
            <p:nvPr/>
          </p:nvGrpSpPr>
          <p:grpSpPr>
            <a:xfrm>
              <a:off x="5700600" y="863640"/>
              <a:ext cx="1068480" cy="1068480"/>
              <a:chOff x="5700600" y="863640"/>
              <a:chExt cx="1068480" cy="1068480"/>
            </a:xfrm>
          </p:grpSpPr>
          <p:sp>
            <p:nvSpPr>
              <p:cNvPr id="1875" name=""/>
              <p:cNvSpPr/>
              <p:nvPr/>
            </p:nvSpPr>
            <p:spPr>
              <a:xfrm>
                <a:off x="5700600" y="863640"/>
                <a:ext cx="1068480" cy="10684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276" y="569"/>
                    </a:moveTo>
                    <a:lnTo>
                      <a:pt x="263" y="569"/>
                    </a:lnTo>
                    <a:lnTo>
                      <a:pt x="250" y="567"/>
                    </a:lnTo>
                    <a:lnTo>
                      <a:pt x="238" y="565"/>
                    </a:lnTo>
                    <a:lnTo>
                      <a:pt x="225" y="563"/>
                    </a:lnTo>
                    <a:lnTo>
                      <a:pt x="212" y="560"/>
                    </a:lnTo>
                    <a:lnTo>
                      <a:pt x="200" y="556"/>
                    </a:lnTo>
                    <a:lnTo>
                      <a:pt x="187" y="552"/>
                    </a:lnTo>
                    <a:lnTo>
                      <a:pt x="176" y="548"/>
                    </a:lnTo>
                    <a:lnTo>
                      <a:pt x="163" y="542"/>
                    </a:lnTo>
                    <a:lnTo>
                      <a:pt x="151" y="536"/>
                    </a:lnTo>
                    <a:lnTo>
                      <a:pt x="140" y="529"/>
                    </a:lnTo>
                    <a:lnTo>
                      <a:pt x="127" y="521"/>
                    </a:lnTo>
                    <a:lnTo>
                      <a:pt x="117" y="513"/>
                    </a:lnTo>
                    <a:lnTo>
                      <a:pt x="105" y="505"/>
                    </a:lnTo>
                    <a:lnTo>
                      <a:pt x="94" y="496"/>
                    </a:lnTo>
                    <a:lnTo>
                      <a:pt x="84" y="485"/>
                    </a:lnTo>
                    <a:lnTo>
                      <a:pt x="47" y="440"/>
                    </a:lnTo>
                    <a:lnTo>
                      <a:pt x="20" y="391"/>
                    </a:lnTo>
                    <a:lnTo>
                      <a:pt x="5" y="339"/>
                    </a:lnTo>
                    <a:lnTo>
                      <a:pt x="0" y="285"/>
                    </a:lnTo>
                    <a:lnTo>
                      <a:pt x="5" y="231"/>
                    </a:lnTo>
                    <a:lnTo>
                      <a:pt x="20" y="179"/>
                    </a:lnTo>
                    <a:lnTo>
                      <a:pt x="47" y="129"/>
                    </a:lnTo>
                    <a:lnTo>
                      <a:pt x="84" y="84"/>
                    </a:lnTo>
                    <a:lnTo>
                      <a:pt x="118" y="54"/>
                    </a:lnTo>
                    <a:lnTo>
                      <a:pt x="156" y="31"/>
                    </a:lnTo>
                    <a:lnTo>
                      <a:pt x="194" y="14"/>
                    </a:lnTo>
                    <a:lnTo>
                      <a:pt x="234" y="4"/>
                    </a:lnTo>
                    <a:lnTo>
                      <a:pt x="275" y="0"/>
                    </a:lnTo>
                    <a:lnTo>
                      <a:pt x="315" y="2"/>
                    </a:lnTo>
                    <a:lnTo>
                      <a:pt x="355" y="9"/>
                    </a:lnTo>
                    <a:lnTo>
                      <a:pt x="393" y="22"/>
                    </a:lnTo>
                    <a:lnTo>
                      <a:pt x="429" y="40"/>
                    </a:lnTo>
                    <a:lnTo>
                      <a:pt x="462" y="63"/>
                    </a:lnTo>
                    <a:lnTo>
                      <a:pt x="492" y="90"/>
                    </a:lnTo>
                    <a:lnTo>
                      <a:pt x="517" y="121"/>
                    </a:lnTo>
                    <a:lnTo>
                      <a:pt x="538" y="157"/>
                    </a:lnTo>
                    <a:lnTo>
                      <a:pt x="554" y="196"/>
                    </a:lnTo>
                    <a:lnTo>
                      <a:pt x="565" y="239"/>
                    </a:lnTo>
                    <a:lnTo>
                      <a:pt x="568" y="285"/>
                    </a:lnTo>
                    <a:lnTo>
                      <a:pt x="568" y="285"/>
                    </a:lnTo>
                    <a:lnTo>
                      <a:pt x="567" y="317"/>
                    </a:lnTo>
                    <a:lnTo>
                      <a:pt x="561" y="347"/>
                    </a:lnTo>
                    <a:lnTo>
                      <a:pt x="554" y="376"/>
                    </a:lnTo>
                    <a:lnTo>
                      <a:pt x="543" y="402"/>
                    </a:lnTo>
                    <a:lnTo>
                      <a:pt x="530" y="428"/>
                    </a:lnTo>
                    <a:lnTo>
                      <a:pt x="514" y="452"/>
                    </a:lnTo>
                    <a:lnTo>
                      <a:pt x="497" y="473"/>
                    </a:lnTo>
                    <a:lnTo>
                      <a:pt x="477" y="492"/>
                    </a:lnTo>
                    <a:lnTo>
                      <a:pt x="455" y="511"/>
                    </a:lnTo>
                    <a:lnTo>
                      <a:pt x="433" y="526"/>
                    </a:lnTo>
                    <a:lnTo>
                      <a:pt x="409" y="539"/>
                    </a:lnTo>
                    <a:lnTo>
                      <a:pt x="384" y="550"/>
                    </a:lnTo>
                    <a:lnTo>
                      <a:pt x="357" y="558"/>
                    </a:lnTo>
                    <a:lnTo>
                      <a:pt x="331" y="564"/>
                    </a:lnTo>
                    <a:lnTo>
                      <a:pt x="303" y="567"/>
                    </a:lnTo>
                    <a:lnTo>
                      <a:pt x="276" y="56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970600" y="1546200"/>
                <a:ext cx="249120" cy="206280"/>
              </a:xfrm>
              <a:custGeom>
                <a:avLst/>
                <a:gdLst/>
                <a:ahLst/>
                <a:rect l="l" t="t" r="r" b="b"/>
                <a:pathLst>
                  <a:path w="131" h="109">
                    <a:moveTo>
                      <a:pt x="3" y="90"/>
                    </a:moveTo>
                    <a:lnTo>
                      <a:pt x="6" y="98"/>
                    </a:lnTo>
                    <a:lnTo>
                      <a:pt x="12" y="104"/>
                    </a:lnTo>
                    <a:lnTo>
                      <a:pt x="19" y="107"/>
                    </a:lnTo>
                    <a:lnTo>
                      <a:pt x="27" y="109"/>
                    </a:lnTo>
                    <a:lnTo>
                      <a:pt x="27" y="109"/>
                    </a:lnTo>
                    <a:lnTo>
                      <a:pt x="27" y="109"/>
                    </a:lnTo>
                    <a:lnTo>
                      <a:pt x="131" y="109"/>
                    </a:lnTo>
                    <a:lnTo>
                      <a:pt x="131" y="0"/>
                    </a:lnTo>
                    <a:lnTo>
                      <a:pt x="31" y="0"/>
                    </a:lnTo>
                    <a:lnTo>
                      <a:pt x="20" y="15"/>
                    </a:lnTo>
                    <a:lnTo>
                      <a:pt x="10" y="31"/>
                    </a:lnTo>
                    <a:lnTo>
                      <a:pt x="3" y="49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1" y="80"/>
                    </a:lnTo>
                    <a:lnTo>
                      <a:pt x="2" y="86"/>
                    </a:lnTo>
                    <a:lnTo>
                      <a:pt x="3" y="9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816520" y="1303200"/>
                <a:ext cx="292320" cy="401760"/>
              </a:xfrm>
              <a:custGeom>
                <a:avLst/>
                <a:gdLst/>
                <a:ahLst/>
                <a:rect l="l" t="t" r="r" b="b"/>
                <a:pathLst>
                  <a:path w="154" h="213">
                    <a:moveTo>
                      <a:pt x="108" y="0"/>
                    </a:moveTo>
                    <a:lnTo>
                      <a:pt x="101" y="0"/>
                    </a:lnTo>
                    <a:lnTo>
                      <a:pt x="87" y="0"/>
                    </a:lnTo>
                    <a:lnTo>
                      <a:pt x="68" y="0"/>
                    </a:lnTo>
                    <a:lnTo>
                      <a:pt x="47" y="0"/>
                    </a:lnTo>
                    <a:lnTo>
                      <a:pt x="26" y="1"/>
                    </a:lnTo>
                    <a:lnTo>
                      <a:pt x="11" y="3"/>
                    </a:lnTo>
                    <a:lnTo>
                      <a:pt x="4" y="7"/>
                    </a:lnTo>
                    <a:lnTo>
                      <a:pt x="9" y="12"/>
                    </a:lnTo>
                    <a:lnTo>
                      <a:pt x="29" y="25"/>
                    </a:lnTo>
                    <a:lnTo>
                      <a:pt x="23" y="33"/>
                    </a:lnTo>
                    <a:lnTo>
                      <a:pt x="17" y="42"/>
                    </a:lnTo>
                    <a:lnTo>
                      <a:pt x="11" y="52"/>
                    </a:lnTo>
                    <a:lnTo>
                      <a:pt x="5" y="61"/>
                    </a:lnTo>
                    <a:lnTo>
                      <a:pt x="2" y="70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4" y="100"/>
                    </a:lnTo>
                    <a:lnTo>
                      <a:pt x="70" y="213"/>
                    </a:lnTo>
                    <a:lnTo>
                      <a:pt x="69" y="195"/>
                    </a:lnTo>
                    <a:lnTo>
                      <a:pt x="71" y="177"/>
                    </a:lnTo>
                    <a:lnTo>
                      <a:pt x="78" y="160"/>
                    </a:lnTo>
                    <a:lnTo>
                      <a:pt x="86" y="143"/>
                    </a:lnTo>
                    <a:lnTo>
                      <a:pt x="96" y="127"/>
                    </a:lnTo>
                    <a:lnTo>
                      <a:pt x="108" y="110"/>
                    </a:lnTo>
                    <a:lnTo>
                      <a:pt x="118" y="95"/>
                    </a:lnTo>
                    <a:lnTo>
                      <a:pt x="129" y="80"/>
                    </a:lnTo>
                    <a:lnTo>
                      <a:pt x="129" y="80"/>
                    </a:lnTo>
                    <a:lnTo>
                      <a:pt x="132" y="83"/>
                    </a:lnTo>
                    <a:lnTo>
                      <a:pt x="137" y="86"/>
                    </a:lnTo>
                    <a:lnTo>
                      <a:pt x="142" y="88"/>
                    </a:lnTo>
                    <a:lnTo>
                      <a:pt x="147" y="91"/>
                    </a:lnTo>
                    <a:lnTo>
                      <a:pt x="150" y="92"/>
                    </a:lnTo>
                    <a:lnTo>
                      <a:pt x="154" y="91"/>
                    </a:lnTo>
                    <a:lnTo>
                      <a:pt x="154" y="88"/>
                    </a:lnTo>
                    <a:lnTo>
                      <a:pt x="150" y="8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943600" y="1038240"/>
                <a:ext cx="264960" cy="28584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79" y="0"/>
                    </a:moveTo>
                    <a:lnTo>
                      <a:pt x="66" y="2"/>
                    </a:lnTo>
                    <a:lnTo>
                      <a:pt x="53" y="10"/>
                    </a:lnTo>
                    <a:lnTo>
                      <a:pt x="42" y="22"/>
                    </a:lnTo>
                    <a:lnTo>
                      <a:pt x="33" y="36"/>
                    </a:lnTo>
                    <a:lnTo>
                      <a:pt x="23" y="52"/>
                    </a:lnTo>
                    <a:lnTo>
                      <a:pt x="14" y="67"/>
                    </a:lnTo>
                    <a:lnTo>
                      <a:pt x="7" y="82"/>
                    </a:lnTo>
                    <a:lnTo>
                      <a:pt x="0" y="94"/>
                    </a:lnTo>
                    <a:lnTo>
                      <a:pt x="49" y="126"/>
                    </a:lnTo>
                    <a:lnTo>
                      <a:pt x="89" y="153"/>
                    </a:lnTo>
                    <a:lnTo>
                      <a:pt x="89" y="153"/>
                    </a:lnTo>
                    <a:lnTo>
                      <a:pt x="143" y="69"/>
                    </a:lnTo>
                    <a:lnTo>
                      <a:pt x="136" y="53"/>
                    </a:lnTo>
                    <a:lnTo>
                      <a:pt x="128" y="39"/>
                    </a:lnTo>
                    <a:lnTo>
                      <a:pt x="120" y="27"/>
                    </a:lnTo>
                    <a:lnTo>
                      <a:pt x="112" y="17"/>
                    </a:lnTo>
                    <a:lnTo>
                      <a:pt x="104" y="9"/>
                    </a:lnTo>
                    <a:lnTo>
                      <a:pt x="96" y="5"/>
                    </a:lnTo>
                    <a:lnTo>
                      <a:pt x="87" y="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102360" y="1011240"/>
                <a:ext cx="412920" cy="276120"/>
              </a:xfrm>
              <a:custGeom>
                <a:avLst/>
                <a:gdLst/>
                <a:ahLst/>
                <a:rect l="l" t="t" r="r" b="b"/>
                <a:pathLst>
                  <a:path w="221" h="145">
                    <a:moveTo>
                      <a:pt x="171" y="145"/>
                    </a:moveTo>
                    <a:lnTo>
                      <a:pt x="175" y="139"/>
                    </a:lnTo>
                    <a:lnTo>
                      <a:pt x="183" y="129"/>
                    </a:lnTo>
                    <a:lnTo>
                      <a:pt x="192" y="114"/>
                    </a:lnTo>
                    <a:lnTo>
                      <a:pt x="202" y="96"/>
                    </a:lnTo>
                    <a:lnTo>
                      <a:pt x="211" y="80"/>
                    </a:lnTo>
                    <a:lnTo>
                      <a:pt x="218" y="66"/>
                    </a:lnTo>
                    <a:lnTo>
                      <a:pt x="221" y="56"/>
                    </a:lnTo>
                    <a:lnTo>
                      <a:pt x="217" y="53"/>
                    </a:lnTo>
                    <a:lnTo>
                      <a:pt x="214" y="54"/>
                    </a:lnTo>
                    <a:lnTo>
                      <a:pt x="207" y="57"/>
                    </a:lnTo>
                    <a:lnTo>
                      <a:pt x="199" y="61"/>
                    </a:lnTo>
                    <a:lnTo>
                      <a:pt x="191" y="64"/>
                    </a:lnTo>
                    <a:lnTo>
                      <a:pt x="185" y="51"/>
                    </a:lnTo>
                    <a:lnTo>
                      <a:pt x="179" y="40"/>
                    </a:lnTo>
                    <a:lnTo>
                      <a:pt x="173" y="28"/>
                    </a:lnTo>
                    <a:lnTo>
                      <a:pt x="166" y="19"/>
                    </a:lnTo>
                    <a:lnTo>
                      <a:pt x="158" y="11"/>
                    </a:lnTo>
                    <a:lnTo>
                      <a:pt x="148" y="5"/>
                    </a:lnTo>
                    <a:lnTo>
                      <a:pt x="135" y="1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18" y="8"/>
                    </a:lnTo>
                    <a:lnTo>
                      <a:pt x="34" y="18"/>
                    </a:lnTo>
                    <a:lnTo>
                      <a:pt x="47" y="32"/>
                    </a:lnTo>
                    <a:lnTo>
                      <a:pt x="58" y="47"/>
                    </a:lnTo>
                    <a:lnTo>
                      <a:pt x="68" y="64"/>
                    </a:lnTo>
                    <a:lnTo>
                      <a:pt x="76" y="83"/>
                    </a:lnTo>
                    <a:lnTo>
                      <a:pt x="84" y="100"/>
                    </a:lnTo>
                    <a:lnTo>
                      <a:pt x="92" y="118"/>
                    </a:lnTo>
                    <a:lnTo>
                      <a:pt x="91" y="120"/>
                    </a:lnTo>
                    <a:lnTo>
                      <a:pt x="86" y="122"/>
                    </a:lnTo>
                    <a:lnTo>
                      <a:pt x="81" y="124"/>
                    </a:lnTo>
                    <a:lnTo>
                      <a:pt x="77" y="128"/>
                    </a:lnTo>
                    <a:lnTo>
                      <a:pt x="72" y="131"/>
                    </a:lnTo>
                    <a:lnTo>
                      <a:pt x="70" y="133"/>
                    </a:lnTo>
                    <a:lnTo>
                      <a:pt x="71" y="136"/>
                    </a:lnTo>
                    <a:lnTo>
                      <a:pt x="77" y="137"/>
                    </a:lnTo>
                    <a:lnTo>
                      <a:pt x="171" y="14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356520" y="1249200"/>
                <a:ext cx="280800" cy="265320"/>
              </a:xfrm>
              <a:custGeom>
                <a:avLst/>
                <a:gdLst/>
                <a:ahLst/>
                <a:rect l="l" t="t" r="r" b="b"/>
                <a:pathLst>
                  <a:path w="149" h="142">
                    <a:moveTo>
                      <a:pt x="149" y="96"/>
                    </a:moveTo>
                    <a:lnTo>
                      <a:pt x="147" y="83"/>
                    </a:lnTo>
                    <a:lnTo>
                      <a:pt x="142" y="70"/>
                    </a:lnTo>
                    <a:lnTo>
                      <a:pt x="135" y="58"/>
                    </a:lnTo>
                    <a:lnTo>
                      <a:pt x="126" y="45"/>
                    </a:lnTo>
                    <a:lnTo>
                      <a:pt x="117" y="32"/>
                    </a:lnTo>
                    <a:lnTo>
                      <a:pt x="107" y="21"/>
                    </a:lnTo>
                    <a:lnTo>
                      <a:pt x="99" y="10"/>
                    </a:lnTo>
                    <a:lnTo>
                      <a:pt x="92" y="0"/>
                    </a:lnTo>
                    <a:lnTo>
                      <a:pt x="42" y="29"/>
                    </a:lnTo>
                    <a:lnTo>
                      <a:pt x="0" y="53"/>
                    </a:lnTo>
                    <a:lnTo>
                      <a:pt x="53" y="142"/>
                    </a:lnTo>
                    <a:lnTo>
                      <a:pt x="53" y="142"/>
                    </a:lnTo>
                    <a:lnTo>
                      <a:pt x="64" y="142"/>
                    </a:lnTo>
                    <a:lnTo>
                      <a:pt x="74" y="142"/>
                    </a:lnTo>
                    <a:lnTo>
                      <a:pt x="84" y="142"/>
                    </a:lnTo>
                    <a:lnTo>
                      <a:pt x="95" y="142"/>
                    </a:lnTo>
                    <a:lnTo>
                      <a:pt x="104" y="141"/>
                    </a:lnTo>
                    <a:lnTo>
                      <a:pt x="113" y="138"/>
                    </a:lnTo>
                    <a:lnTo>
                      <a:pt x="122" y="134"/>
                    </a:lnTo>
                    <a:lnTo>
                      <a:pt x="132" y="128"/>
                    </a:lnTo>
                    <a:lnTo>
                      <a:pt x="140" y="120"/>
                    </a:lnTo>
                    <a:lnTo>
                      <a:pt x="145" y="112"/>
                    </a:lnTo>
                    <a:lnTo>
                      <a:pt x="148" y="104"/>
                    </a:lnTo>
                    <a:lnTo>
                      <a:pt x="149" y="9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256440" y="1492200"/>
                <a:ext cx="385560" cy="317520"/>
              </a:xfrm>
              <a:custGeom>
                <a:avLst/>
                <a:gdLst/>
                <a:ahLst/>
                <a:rect l="l" t="t" r="r" b="b"/>
                <a:pathLst>
                  <a:path w="204" h="170">
                    <a:moveTo>
                      <a:pt x="204" y="0"/>
                    </a:moveTo>
                    <a:lnTo>
                      <a:pt x="189" y="12"/>
                    </a:lnTo>
                    <a:lnTo>
                      <a:pt x="173" y="21"/>
                    </a:lnTo>
                    <a:lnTo>
                      <a:pt x="153" y="26"/>
                    </a:lnTo>
                    <a:lnTo>
                      <a:pt x="134" y="28"/>
                    </a:lnTo>
                    <a:lnTo>
                      <a:pt x="114" y="28"/>
                    </a:lnTo>
                    <a:lnTo>
                      <a:pt x="94" y="28"/>
                    </a:lnTo>
                    <a:lnTo>
                      <a:pt x="74" y="27"/>
                    </a:lnTo>
                    <a:lnTo>
                      <a:pt x="56" y="27"/>
                    </a:lnTo>
                    <a:lnTo>
                      <a:pt x="56" y="20"/>
                    </a:lnTo>
                    <a:lnTo>
                      <a:pt x="55" y="10"/>
                    </a:lnTo>
                    <a:lnTo>
                      <a:pt x="51" y="1"/>
                    </a:lnTo>
                    <a:lnTo>
                      <a:pt x="46" y="5"/>
                    </a:lnTo>
                    <a:lnTo>
                      <a:pt x="0" y="87"/>
                    </a:lnTo>
                    <a:lnTo>
                      <a:pt x="4" y="93"/>
                    </a:lnTo>
                    <a:lnTo>
                      <a:pt x="11" y="104"/>
                    </a:lnTo>
                    <a:lnTo>
                      <a:pt x="19" y="118"/>
                    </a:lnTo>
                    <a:lnTo>
                      <a:pt x="28" y="133"/>
                    </a:lnTo>
                    <a:lnTo>
                      <a:pt x="37" y="147"/>
                    </a:lnTo>
                    <a:lnTo>
                      <a:pt x="46" y="160"/>
                    </a:lnTo>
                    <a:lnTo>
                      <a:pt x="53" y="168"/>
                    </a:lnTo>
                    <a:lnTo>
                      <a:pt x="58" y="170"/>
                    </a:lnTo>
                    <a:lnTo>
                      <a:pt x="61" y="164"/>
                    </a:lnTo>
                    <a:lnTo>
                      <a:pt x="63" y="156"/>
                    </a:lnTo>
                    <a:lnTo>
                      <a:pt x="61" y="146"/>
                    </a:lnTo>
                    <a:lnTo>
                      <a:pt x="61" y="139"/>
                    </a:lnTo>
                    <a:lnTo>
                      <a:pt x="68" y="139"/>
                    </a:lnTo>
                    <a:lnTo>
                      <a:pt x="79" y="139"/>
                    </a:lnTo>
                    <a:lnTo>
                      <a:pt x="91" y="139"/>
                    </a:lnTo>
                    <a:lnTo>
                      <a:pt x="104" y="139"/>
                    </a:lnTo>
                    <a:lnTo>
                      <a:pt x="117" y="136"/>
                    </a:lnTo>
                    <a:lnTo>
                      <a:pt x="127" y="133"/>
                    </a:lnTo>
                    <a:lnTo>
                      <a:pt x="134" y="128"/>
                    </a:lnTo>
                    <a:lnTo>
                      <a:pt x="136" y="121"/>
                    </a:lnTo>
                    <a:lnTo>
                      <a:pt x="136" y="12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5767560" y="4394160"/>
              <a:ext cx="1304280" cy="250560"/>
              <a:chOff x="5767560" y="4394160"/>
              <a:chExt cx="1304280" cy="250560"/>
            </a:xfrm>
          </p:grpSpPr>
          <p:sp>
            <p:nvSpPr>
              <p:cNvPr id="1883" name=""/>
              <p:cNvSpPr/>
              <p:nvPr/>
            </p:nvSpPr>
            <p:spPr>
              <a:xfrm>
                <a:off x="5767560" y="4474800"/>
                <a:ext cx="107676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6844320" y="4394160"/>
                <a:ext cx="227520" cy="250560"/>
                <a:chOff x="6844320" y="4394160"/>
                <a:chExt cx="227520" cy="25056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6844320" y="4394160"/>
                  <a:ext cx="227520" cy="25056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901560" y="4554000"/>
                  <a:ext cx="529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868800" y="4496760"/>
                  <a:ext cx="61920" cy="9396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896160" y="4434840"/>
                  <a:ext cx="56160" cy="6696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930000" y="4428720"/>
                  <a:ext cx="8784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984000" y="4484520"/>
                  <a:ext cx="59760" cy="6156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962400" y="4541760"/>
                  <a:ext cx="8208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2" name=""/>
            <p:cNvSpPr/>
            <p:nvPr/>
          </p:nvSpPr>
          <p:spPr>
            <a:xfrm>
              <a:off x="1925640" y="2710080"/>
              <a:ext cx="42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69000" y="2500200"/>
              <a:ext cx="179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íodo de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14480" y="2479680"/>
              <a:ext cx="596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9240" y="2252880"/>
              <a:ext cx="661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íodo de assistência técnica / atendimento ao cliente /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ompanhar 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79640" y="3019320"/>
              <a:ext cx="57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8594640" y="2982600"/>
              <a:ext cx="0" cy="8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60120" y="2774880"/>
              <a:ext cx="216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ontinuar 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3992400" y="3254400"/>
              <a:ext cx="1886040" cy="250920"/>
              <a:chOff x="3992400" y="3254400"/>
              <a:chExt cx="1886040" cy="250920"/>
            </a:xfrm>
          </p:grpSpPr>
          <p:sp>
            <p:nvSpPr>
              <p:cNvPr id="1900" name=""/>
              <p:cNvSpPr/>
              <p:nvPr/>
            </p:nvSpPr>
            <p:spPr>
              <a:xfrm>
                <a:off x="3992400" y="3335400"/>
                <a:ext cx="163512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5627520" y="3254400"/>
                <a:ext cx="250920" cy="250920"/>
                <a:chOff x="5627520" y="3254400"/>
                <a:chExt cx="250920" cy="25092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5627520" y="3254400"/>
                  <a:ext cx="25092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690880" y="341460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654520" y="3357360"/>
                  <a:ext cx="6840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684400" y="329508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721840" y="3288960"/>
                  <a:ext cx="9684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781600" y="3344760"/>
                  <a:ext cx="6588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757840" y="340200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9" name=""/>
            <p:cNvSpPr/>
            <p:nvPr/>
          </p:nvSpPr>
          <p:spPr>
            <a:xfrm>
              <a:off x="5753160" y="5975280"/>
              <a:ext cx="382680" cy="88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658280" y="5975280"/>
              <a:ext cx="207720" cy="88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473720" y="5290920"/>
              <a:ext cx="1093680" cy="42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continuar a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516720" y="5184000"/>
              <a:ext cx="1104840" cy="63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nalizar suporte ao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510160" y="5641920"/>
              <a:ext cx="45252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559640" y="5653080"/>
              <a:ext cx="19368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643120" y="3451320"/>
              <a:ext cx="7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263680" y="3846600"/>
              <a:ext cx="7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95880" y="3774960"/>
              <a:ext cx="7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30200" y="4394160"/>
              <a:ext cx="1216080" cy="511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compra do produto pelo cli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2898720" y="3669840"/>
              <a:ext cx="612720" cy="68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173320" y="4394160"/>
              <a:ext cx="1314360" cy="511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1a devolução do produto pelo cli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870280" y="3254400"/>
              <a:ext cx="623880" cy="88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2876400" y="298944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1487520" y="3684600"/>
              <a:ext cx="47160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495600" y="2952720"/>
              <a:ext cx="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1600" y="3268800"/>
              <a:ext cx="10144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parar para retir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1389240" y="3277800"/>
              <a:ext cx="14587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7461000" y="4202280"/>
              <a:ext cx="67140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3746520" y="3433680"/>
              <a:ext cx="1438200" cy="250920"/>
              <a:chOff x="3746520" y="3433680"/>
              <a:chExt cx="1438200" cy="250920"/>
            </a:xfrm>
          </p:grpSpPr>
          <p:sp>
            <p:nvSpPr>
              <p:cNvPr id="1929" name=""/>
              <p:cNvSpPr/>
              <p:nvPr/>
            </p:nvSpPr>
            <p:spPr>
              <a:xfrm>
                <a:off x="3746520" y="3514680"/>
                <a:ext cx="11876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0" name=""/>
              <p:cNvGrpSpPr/>
              <p:nvPr/>
            </p:nvGrpSpPr>
            <p:grpSpPr>
              <a:xfrm>
                <a:off x="4934160" y="3433680"/>
                <a:ext cx="250560" cy="250920"/>
                <a:chOff x="4934160" y="3433680"/>
                <a:chExt cx="250560" cy="25092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4934160" y="3433680"/>
                  <a:ext cx="25056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997160" y="359388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961160" y="3536640"/>
                  <a:ext cx="6804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991040" y="347436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028480" y="3468240"/>
                  <a:ext cx="9648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087880" y="3524040"/>
                  <a:ext cx="6552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064120" y="358128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8" name=""/>
            <p:cNvGrpSpPr/>
            <p:nvPr/>
          </p:nvGrpSpPr>
          <p:grpSpPr>
            <a:xfrm>
              <a:off x="3936960" y="3768840"/>
              <a:ext cx="1438200" cy="250920"/>
              <a:chOff x="3936960" y="3768840"/>
              <a:chExt cx="1438200" cy="250920"/>
            </a:xfrm>
          </p:grpSpPr>
          <p:sp>
            <p:nvSpPr>
              <p:cNvPr id="1939" name=""/>
              <p:cNvSpPr/>
              <p:nvPr/>
            </p:nvSpPr>
            <p:spPr>
              <a:xfrm>
                <a:off x="3936960" y="3849840"/>
                <a:ext cx="1187640" cy="88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5124600" y="3768840"/>
                <a:ext cx="250560" cy="250920"/>
                <a:chOff x="5124600" y="3768840"/>
                <a:chExt cx="250560" cy="25092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5124600" y="3768840"/>
                  <a:ext cx="250560" cy="250920"/>
                </a:xfrm>
                <a:custGeom>
                  <a:avLst/>
                  <a:gdLst/>
                  <a:ahLst/>
                  <a:rect l="l" t="t" r="r" b="b"/>
                  <a:pathLst>
                    <a:path w="568" h="569">
                      <a:moveTo>
                        <a:pt x="276" y="569"/>
                      </a:moveTo>
                      <a:lnTo>
                        <a:pt x="263" y="569"/>
                      </a:lnTo>
                      <a:lnTo>
                        <a:pt x="250" y="567"/>
                      </a:lnTo>
                      <a:lnTo>
                        <a:pt x="238" y="565"/>
                      </a:lnTo>
                      <a:lnTo>
                        <a:pt x="225" y="563"/>
                      </a:lnTo>
                      <a:lnTo>
                        <a:pt x="212" y="560"/>
                      </a:lnTo>
                      <a:lnTo>
                        <a:pt x="200" y="556"/>
                      </a:lnTo>
                      <a:lnTo>
                        <a:pt x="187" y="552"/>
                      </a:lnTo>
                      <a:lnTo>
                        <a:pt x="176" y="548"/>
                      </a:lnTo>
                      <a:lnTo>
                        <a:pt x="163" y="542"/>
                      </a:lnTo>
                      <a:lnTo>
                        <a:pt x="151" y="536"/>
                      </a:lnTo>
                      <a:lnTo>
                        <a:pt x="140" y="529"/>
                      </a:lnTo>
                      <a:lnTo>
                        <a:pt x="127" y="521"/>
                      </a:lnTo>
                      <a:lnTo>
                        <a:pt x="117" y="513"/>
                      </a:lnTo>
                      <a:lnTo>
                        <a:pt x="105" y="505"/>
                      </a:lnTo>
                      <a:lnTo>
                        <a:pt x="94" y="496"/>
                      </a:lnTo>
                      <a:lnTo>
                        <a:pt x="84" y="485"/>
                      </a:lnTo>
                      <a:lnTo>
                        <a:pt x="47" y="440"/>
                      </a:lnTo>
                      <a:lnTo>
                        <a:pt x="20" y="391"/>
                      </a:lnTo>
                      <a:lnTo>
                        <a:pt x="5" y="339"/>
                      </a:lnTo>
                      <a:lnTo>
                        <a:pt x="0" y="285"/>
                      </a:lnTo>
                      <a:lnTo>
                        <a:pt x="5" y="231"/>
                      </a:lnTo>
                      <a:lnTo>
                        <a:pt x="20" y="179"/>
                      </a:lnTo>
                      <a:lnTo>
                        <a:pt x="47" y="129"/>
                      </a:lnTo>
                      <a:lnTo>
                        <a:pt x="84" y="84"/>
                      </a:lnTo>
                      <a:lnTo>
                        <a:pt x="118" y="54"/>
                      </a:lnTo>
                      <a:lnTo>
                        <a:pt x="156" y="31"/>
                      </a:lnTo>
                      <a:lnTo>
                        <a:pt x="194" y="14"/>
                      </a:lnTo>
                      <a:lnTo>
                        <a:pt x="234" y="4"/>
                      </a:lnTo>
                      <a:lnTo>
                        <a:pt x="275" y="0"/>
                      </a:lnTo>
                      <a:lnTo>
                        <a:pt x="315" y="2"/>
                      </a:lnTo>
                      <a:lnTo>
                        <a:pt x="355" y="9"/>
                      </a:lnTo>
                      <a:lnTo>
                        <a:pt x="393" y="22"/>
                      </a:lnTo>
                      <a:lnTo>
                        <a:pt x="429" y="40"/>
                      </a:lnTo>
                      <a:lnTo>
                        <a:pt x="462" y="63"/>
                      </a:lnTo>
                      <a:lnTo>
                        <a:pt x="492" y="90"/>
                      </a:lnTo>
                      <a:lnTo>
                        <a:pt x="517" y="121"/>
                      </a:lnTo>
                      <a:lnTo>
                        <a:pt x="538" y="157"/>
                      </a:lnTo>
                      <a:lnTo>
                        <a:pt x="554" y="196"/>
                      </a:lnTo>
                      <a:lnTo>
                        <a:pt x="565" y="239"/>
                      </a:lnTo>
                      <a:lnTo>
                        <a:pt x="568" y="285"/>
                      </a:lnTo>
                      <a:lnTo>
                        <a:pt x="568" y="285"/>
                      </a:lnTo>
                      <a:lnTo>
                        <a:pt x="567" y="317"/>
                      </a:lnTo>
                      <a:lnTo>
                        <a:pt x="561" y="347"/>
                      </a:lnTo>
                      <a:lnTo>
                        <a:pt x="554" y="376"/>
                      </a:lnTo>
                      <a:lnTo>
                        <a:pt x="543" y="402"/>
                      </a:lnTo>
                      <a:lnTo>
                        <a:pt x="530" y="428"/>
                      </a:lnTo>
                      <a:lnTo>
                        <a:pt x="514" y="452"/>
                      </a:lnTo>
                      <a:lnTo>
                        <a:pt x="497" y="473"/>
                      </a:lnTo>
                      <a:lnTo>
                        <a:pt x="477" y="492"/>
                      </a:lnTo>
                      <a:lnTo>
                        <a:pt x="455" y="511"/>
                      </a:lnTo>
                      <a:lnTo>
                        <a:pt x="433" y="526"/>
                      </a:lnTo>
                      <a:lnTo>
                        <a:pt x="409" y="539"/>
                      </a:lnTo>
                      <a:lnTo>
                        <a:pt x="384" y="550"/>
                      </a:lnTo>
                      <a:lnTo>
                        <a:pt x="357" y="558"/>
                      </a:lnTo>
                      <a:lnTo>
                        <a:pt x="331" y="564"/>
                      </a:lnTo>
                      <a:lnTo>
                        <a:pt x="303" y="567"/>
                      </a:lnTo>
                      <a:lnTo>
                        <a:pt x="276" y="56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5187600" y="3929040"/>
                  <a:ext cx="58320" cy="48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3" y="90"/>
                      </a:moveTo>
                      <a:lnTo>
                        <a:pt x="6" y="98"/>
                      </a:lnTo>
                      <a:lnTo>
                        <a:pt x="12" y="104"/>
                      </a:lnTo>
                      <a:lnTo>
                        <a:pt x="19" y="107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27" y="109"/>
                      </a:lnTo>
                      <a:lnTo>
                        <a:pt x="131" y="109"/>
                      </a:lnTo>
                      <a:lnTo>
                        <a:pt x="131" y="0"/>
                      </a:lnTo>
                      <a:lnTo>
                        <a:pt x="31" y="0"/>
                      </a:lnTo>
                      <a:lnTo>
                        <a:pt x="20" y="15"/>
                      </a:lnTo>
                      <a:lnTo>
                        <a:pt x="10" y="31"/>
                      </a:lnTo>
                      <a:lnTo>
                        <a:pt x="3" y="49"/>
                      </a:lnTo>
                      <a:lnTo>
                        <a:pt x="0" y="67"/>
                      </a:lnTo>
                      <a:lnTo>
                        <a:pt x="0" y="74"/>
                      </a:lnTo>
                      <a:lnTo>
                        <a:pt x="1" y="80"/>
                      </a:lnTo>
                      <a:lnTo>
                        <a:pt x="2" y="86"/>
                      </a:lnTo>
                      <a:lnTo>
                        <a:pt x="3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5151600" y="3871800"/>
                  <a:ext cx="68040" cy="94320"/>
                </a:xfrm>
                <a:custGeom>
                  <a:avLst/>
                  <a:gdLst/>
                  <a:ahLst/>
                  <a:rect l="l" t="t" r="r" b="b"/>
                  <a:pathLst>
                    <a:path w="154" h="213">
                      <a:moveTo>
                        <a:pt x="108" y="0"/>
                      </a:moveTo>
                      <a:lnTo>
                        <a:pt x="101" y="0"/>
                      </a:lnTo>
                      <a:lnTo>
                        <a:pt x="87" y="0"/>
                      </a:lnTo>
                      <a:lnTo>
                        <a:pt x="68" y="0"/>
                      </a:lnTo>
                      <a:lnTo>
                        <a:pt x="47" y="0"/>
                      </a:lnTo>
                      <a:lnTo>
                        <a:pt x="26" y="1"/>
                      </a:lnTo>
                      <a:lnTo>
                        <a:pt x="11" y="3"/>
                      </a:lnTo>
                      <a:lnTo>
                        <a:pt x="4" y="7"/>
                      </a:lnTo>
                      <a:lnTo>
                        <a:pt x="9" y="12"/>
                      </a:lnTo>
                      <a:lnTo>
                        <a:pt x="29" y="25"/>
                      </a:lnTo>
                      <a:lnTo>
                        <a:pt x="23" y="33"/>
                      </a:lnTo>
                      <a:lnTo>
                        <a:pt x="17" y="42"/>
                      </a:lnTo>
                      <a:lnTo>
                        <a:pt x="11" y="52"/>
                      </a:lnTo>
                      <a:lnTo>
                        <a:pt x="5" y="61"/>
                      </a:lnTo>
                      <a:lnTo>
                        <a:pt x="2" y="70"/>
                      </a:lnTo>
                      <a:lnTo>
                        <a:pt x="0" y="79"/>
                      </a:lnTo>
                      <a:lnTo>
                        <a:pt x="1" y="90"/>
                      </a:lnTo>
                      <a:lnTo>
                        <a:pt x="4" y="100"/>
                      </a:lnTo>
                      <a:lnTo>
                        <a:pt x="70" y="213"/>
                      </a:lnTo>
                      <a:lnTo>
                        <a:pt x="69" y="195"/>
                      </a:lnTo>
                      <a:lnTo>
                        <a:pt x="71" y="177"/>
                      </a:lnTo>
                      <a:lnTo>
                        <a:pt x="78" y="160"/>
                      </a:lnTo>
                      <a:lnTo>
                        <a:pt x="86" y="143"/>
                      </a:lnTo>
                      <a:lnTo>
                        <a:pt x="96" y="127"/>
                      </a:lnTo>
                      <a:lnTo>
                        <a:pt x="108" y="110"/>
                      </a:lnTo>
                      <a:lnTo>
                        <a:pt x="118" y="95"/>
                      </a:lnTo>
                      <a:lnTo>
                        <a:pt x="129" y="80"/>
                      </a:lnTo>
                      <a:lnTo>
                        <a:pt x="129" y="80"/>
                      </a:lnTo>
                      <a:lnTo>
                        <a:pt x="132" y="83"/>
                      </a:lnTo>
                      <a:lnTo>
                        <a:pt x="137" y="86"/>
                      </a:lnTo>
                      <a:lnTo>
                        <a:pt x="142" y="88"/>
                      </a:lnTo>
                      <a:lnTo>
                        <a:pt x="147" y="91"/>
                      </a:lnTo>
                      <a:lnTo>
                        <a:pt x="150" y="92"/>
                      </a:lnTo>
                      <a:lnTo>
                        <a:pt x="154" y="91"/>
                      </a:lnTo>
                      <a:lnTo>
                        <a:pt x="154" y="88"/>
                      </a:lnTo>
                      <a:lnTo>
                        <a:pt x="150" y="8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181480" y="3809520"/>
                  <a:ext cx="61920" cy="67320"/>
                </a:xfrm>
                <a:custGeom>
                  <a:avLst/>
                  <a:gdLst/>
                  <a:ahLst/>
                  <a:rect l="l" t="t" r="r" b="b"/>
                  <a:pathLst>
                    <a:path w="143" h="153">
                      <a:moveTo>
                        <a:pt x="79" y="0"/>
                      </a:moveTo>
                      <a:lnTo>
                        <a:pt x="66" y="2"/>
                      </a:lnTo>
                      <a:lnTo>
                        <a:pt x="53" y="10"/>
                      </a:lnTo>
                      <a:lnTo>
                        <a:pt x="42" y="22"/>
                      </a:lnTo>
                      <a:lnTo>
                        <a:pt x="33" y="36"/>
                      </a:lnTo>
                      <a:lnTo>
                        <a:pt x="23" y="52"/>
                      </a:lnTo>
                      <a:lnTo>
                        <a:pt x="14" y="67"/>
                      </a:lnTo>
                      <a:lnTo>
                        <a:pt x="7" y="82"/>
                      </a:lnTo>
                      <a:lnTo>
                        <a:pt x="0" y="94"/>
                      </a:lnTo>
                      <a:lnTo>
                        <a:pt x="49" y="126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143" y="69"/>
                      </a:lnTo>
                      <a:lnTo>
                        <a:pt x="136" y="53"/>
                      </a:lnTo>
                      <a:lnTo>
                        <a:pt x="128" y="39"/>
                      </a:lnTo>
                      <a:lnTo>
                        <a:pt x="120" y="27"/>
                      </a:lnTo>
                      <a:lnTo>
                        <a:pt x="112" y="17"/>
                      </a:lnTo>
                      <a:lnTo>
                        <a:pt x="104" y="9"/>
                      </a:lnTo>
                      <a:lnTo>
                        <a:pt x="96" y="5"/>
                      </a:lnTo>
                      <a:lnTo>
                        <a:pt x="87" y="1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5218920" y="3803400"/>
                  <a:ext cx="96480" cy="6444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171" y="145"/>
                      </a:moveTo>
                      <a:lnTo>
                        <a:pt x="175" y="139"/>
                      </a:lnTo>
                      <a:lnTo>
                        <a:pt x="183" y="129"/>
                      </a:lnTo>
                      <a:lnTo>
                        <a:pt x="192" y="114"/>
                      </a:lnTo>
                      <a:lnTo>
                        <a:pt x="202" y="96"/>
                      </a:lnTo>
                      <a:lnTo>
                        <a:pt x="211" y="80"/>
                      </a:lnTo>
                      <a:lnTo>
                        <a:pt x="218" y="66"/>
                      </a:lnTo>
                      <a:lnTo>
                        <a:pt x="221" y="56"/>
                      </a:lnTo>
                      <a:lnTo>
                        <a:pt x="217" y="53"/>
                      </a:lnTo>
                      <a:lnTo>
                        <a:pt x="214" y="54"/>
                      </a:lnTo>
                      <a:lnTo>
                        <a:pt x="207" y="57"/>
                      </a:lnTo>
                      <a:lnTo>
                        <a:pt x="199" y="61"/>
                      </a:lnTo>
                      <a:lnTo>
                        <a:pt x="191" y="64"/>
                      </a:lnTo>
                      <a:lnTo>
                        <a:pt x="185" y="51"/>
                      </a:lnTo>
                      <a:lnTo>
                        <a:pt x="179" y="40"/>
                      </a:lnTo>
                      <a:lnTo>
                        <a:pt x="173" y="28"/>
                      </a:lnTo>
                      <a:lnTo>
                        <a:pt x="166" y="19"/>
                      </a:lnTo>
                      <a:lnTo>
                        <a:pt x="158" y="11"/>
                      </a:lnTo>
                      <a:lnTo>
                        <a:pt x="148" y="5"/>
                      </a:lnTo>
                      <a:lnTo>
                        <a:pt x="135" y="1"/>
                      </a:lnTo>
                      <a:lnTo>
                        <a:pt x="119" y="0"/>
                      </a:lnTo>
                      <a:lnTo>
                        <a:pt x="0" y="0"/>
                      </a:lnTo>
                      <a:lnTo>
                        <a:pt x="18" y="8"/>
                      </a:lnTo>
                      <a:lnTo>
                        <a:pt x="34" y="18"/>
                      </a:lnTo>
                      <a:lnTo>
                        <a:pt x="47" y="32"/>
                      </a:lnTo>
                      <a:lnTo>
                        <a:pt x="58" y="47"/>
                      </a:lnTo>
                      <a:lnTo>
                        <a:pt x="68" y="64"/>
                      </a:lnTo>
                      <a:lnTo>
                        <a:pt x="76" y="83"/>
                      </a:lnTo>
                      <a:lnTo>
                        <a:pt x="84" y="100"/>
                      </a:lnTo>
                      <a:lnTo>
                        <a:pt x="92" y="118"/>
                      </a:lnTo>
                      <a:lnTo>
                        <a:pt x="91" y="120"/>
                      </a:lnTo>
                      <a:lnTo>
                        <a:pt x="86" y="122"/>
                      </a:lnTo>
                      <a:lnTo>
                        <a:pt x="81" y="124"/>
                      </a:lnTo>
                      <a:lnTo>
                        <a:pt x="77" y="128"/>
                      </a:lnTo>
                      <a:lnTo>
                        <a:pt x="72" y="131"/>
                      </a:lnTo>
                      <a:lnTo>
                        <a:pt x="70" y="133"/>
                      </a:lnTo>
                      <a:lnTo>
                        <a:pt x="71" y="136"/>
                      </a:lnTo>
                      <a:lnTo>
                        <a:pt x="77" y="137"/>
                      </a:lnTo>
                      <a:lnTo>
                        <a:pt x="171" y="1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278320" y="3859200"/>
                  <a:ext cx="65520" cy="61920"/>
                </a:xfrm>
                <a:custGeom>
                  <a:avLst/>
                  <a:gdLst/>
                  <a:ahLst/>
                  <a:rect l="l" t="t" r="r" b="b"/>
                  <a:pathLst>
                    <a:path w="149" h="142">
                      <a:moveTo>
                        <a:pt x="149" y="96"/>
                      </a:moveTo>
                      <a:lnTo>
                        <a:pt x="147" y="83"/>
                      </a:lnTo>
                      <a:lnTo>
                        <a:pt x="142" y="70"/>
                      </a:lnTo>
                      <a:lnTo>
                        <a:pt x="135" y="58"/>
                      </a:lnTo>
                      <a:lnTo>
                        <a:pt x="126" y="45"/>
                      </a:lnTo>
                      <a:lnTo>
                        <a:pt x="117" y="32"/>
                      </a:lnTo>
                      <a:lnTo>
                        <a:pt x="107" y="21"/>
                      </a:lnTo>
                      <a:lnTo>
                        <a:pt x="99" y="10"/>
                      </a:lnTo>
                      <a:lnTo>
                        <a:pt x="92" y="0"/>
                      </a:lnTo>
                      <a:lnTo>
                        <a:pt x="42" y="29"/>
                      </a:lnTo>
                      <a:lnTo>
                        <a:pt x="0" y="53"/>
                      </a:lnTo>
                      <a:lnTo>
                        <a:pt x="53" y="142"/>
                      </a:lnTo>
                      <a:lnTo>
                        <a:pt x="53" y="142"/>
                      </a:lnTo>
                      <a:lnTo>
                        <a:pt x="64" y="142"/>
                      </a:lnTo>
                      <a:lnTo>
                        <a:pt x="74" y="142"/>
                      </a:lnTo>
                      <a:lnTo>
                        <a:pt x="84" y="142"/>
                      </a:lnTo>
                      <a:lnTo>
                        <a:pt x="95" y="142"/>
                      </a:lnTo>
                      <a:lnTo>
                        <a:pt x="104" y="141"/>
                      </a:lnTo>
                      <a:lnTo>
                        <a:pt x="113" y="138"/>
                      </a:lnTo>
                      <a:lnTo>
                        <a:pt x="122" y="134"/>
                      </a:lnTo>
                      <a:lnTo>
                        <a:pt x="132" y="128"/>
                      </a:lnTo>
                      <a:lnTo>
                        <a:pt x="140" y="120"/>
                      </a:lnTo>
                      <a:lnTo>
                        <a:pt x="145" y="112"/>
                      </a:lnTo>
                      <a:lnTo>
                        <a:pt x="148" y="104"/>
                      </a:lnTo>
                      <a:lnTo>
                        <a:pt x="149" y="9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5254560" y="3916440"/>
                  <a:ext cx="903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170">
                      <a:moveTo>
                        <a:pt x="204" y="0"/>
                      </a:moveTo>
                      <a:lnTo>
                        <a:pt x="189" y="12"/>
                      </a:lnTo>
                      <a:lnTo>
                        <a:pt x="173" y="21"/>
                      </a:lnTo>
                      <a:lnTo>
                        <a:pt x="153" y="26"/>
                      </a:lnTo>
                      <a:lnTo>
                        <a:pt x="134" y="28"/>
                      </a:lnTo>
                      <a:lnTo>
                        <a:pt x="114" y="28"/>
                      </a:lnTo>
                      <a:lnTo>
                        <a:pt x="94" y="28"/>
                      </a:lnTo>
                      <a:lnTo>
                        <a:pt x="74" y="27"/>
                      </a:lnTo>
                      <a:lnTo>
                        <a:pt x="56" y="27"/>
                      </a:lnTo>
                      <a:lnTo>
                        <a:pt x="56" y="20"/>
                      </a:lnTo>
                      <a:lnTo>
                        <a:pt x="55" y="10"/>
                      </a:lnTo>
                      <a:lnTo>
                        <a:pt x="51" y="1"/>
                      </a:lnTo>
                      <a:lnTo>
                        <a:pt x="46" y="5"/>
                      </a:lnTo>
                      <a:lnTo>
                        <a:pt x="0" y="87"/>
                      </a:lnTo>
                      <a:lnTo>
                        <a:pt x="4" y="93"/>
                      </a:lnTo>
                      <a:lnTo>
                        <a:pt x="11" y="104"/>
                      </a:lnTo>
                      <a:lnTo>
                        <a:pt x="19" y="118"/>
                      </a:lnTo>
                      <a:lnTo>
                        <a:pt x="28" y="133"/>
                      </a:lnTo>
                      <a:lnTo>
                        <a:pt x="37" y="147"/>
                      </a:lnTo>
                      <a:lnTo>
                        <a:pt x="46" y="160"/>
                      </a:lnTo>
                      <a:lnTo>
                        <a:pt x="53" y="168"/>
                      </a:lnTo>
                      <a:lnTo>
                        <a:pt x="58" y="170"/>
                      </a:lnTo>
                      <a:lnTo>
                        <a:pt x="61" y="164"/>
                      </a:lnTo>
                      <a:lnTo>
                        <a:pt x="63" y="156"/>
                      </a:lnTo>
                      <a:lnTo>
                        <a:pt x="61" y="146"/>
                      </a:lnTo>
                      <a:lnTo>
                        <a:pt x="61" y="139"/>
                      </a:lnTo>
                      <a:lnTo>
                        <a:pt x="68" y="139"/>
                      </a:lnTo>
                      <a:lnTo>
                        <a:pt x="79" y="139"/>
                      </a:lnTo>
                      <a:lnTo>
                        <a:pt x="91" y="139"/>
                      </a:lnTo>
                      <a:lnTo>
                        <a:pt x="104" y="139"/>
                      </a:lnTo>
                      <a:lnTo>
                        <a:pt x="117" y="136"/>
                      </a:lnTo>
                      <a:lnTo>
                        <a:pt x="127" y="133"/>
                      </a:lnTo>
                      <a:lnTo>
                        <a:pt x="134" y="128"/>
                      </a:lnTo>
                      <a:lnTo>
                        <a:pt x="136" y="121"/>
                      </a:lnTo>
                      <a:lnTo>
                        <a:pt x="136" y="121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76320" y="98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monitorar viabilidade econômico-financeir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22320" y="1091520"/>
            <a:ext cx="8420040" cy="5729040"/>
            <a:chOff x="22320" y="1091520"/>
            <a:chExt cx="8420040" cy="5729040"/>
          </a:xfrm>
        </p:grpSpPr>
        <p:sp>
          <p:nvSpPr>
            <p:cNvPr id="1952" name=""/>
            <p:cNvSpPr/>
            <p:nvPr/>
          </p:nvSpPr>
          <p:spPr>
            <a:xfrm>
              <a:off x="1284120" y="1091520"/>
              <a:ext cx="692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mudanças nas condições do mercado, características técnicas do produto, indicadores de desempenho do projeto (prazos e cus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61080" y="1992960"/>
              <a:ext cx="23270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impacto dessas mudança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49440" y="1992960"/>
              <a:ext cx="23968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premissas financeira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2320" y="3181320"/>
              <a:ext cx="190152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o custo-alvo nos diversos níve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08320" y="3181320"/>
              <a:ext cx="209880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necessidades de invest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463840" y="3425040"/>
              <a:ext cx="197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receitas futu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026440" y="4621320"/>
              <a:ext cx="285588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 novo fluxo de caix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05880" y="5573880"/>
              <a:ext cx="389520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s novos indicadores financei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52280" y="6333480"/>
              <a:ext cx="249876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novas premissas e indic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519520" y="6333480"/>
              <a:ext cx="27766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possíveis desvios e impacto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2" name=""/>
            <p:cNvCxnSpPr>
              <a:stCxn id="1952" idx="3"/>
              <a:endCxn id="1953" idx="3"/>
            </p:cNvCxnSpPr>
            <p:nvPr/>
          </p:nvCxnSpPr>
          <p:spPr>
            <a:xfrm flipH="1">
              <a:off x="8102160" y="1334520"/>
              <a:ext cx="126000" cy="902520"/>
            </a:xfrm>
            <a:prstGeom prst="bentConnector3">
              <a:avLst>
                <a:gd name="adj1" fmla="val -17077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3" name=""/>
            <p:cNvCxnSpPr>
              <a:stCxn id="1953" idx="1"/>
              <a:endCxn id="1954" idx="3"/>
            </p:cNvCxnSpPr>
            <p:nvPr/>
          </p:nvCxnSpPr>
          <p:spPr>
            <a:xfrm flipH="1">
              <a:off x="3960000" y="2236320"/>
              <a:ext cx="1786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4" name=""/>
            <p:cNvCxnSpPr>
              <a:stCxn id="1952" idx="1"/>
              <a:endCxn id="1954" idx="1"/>
            </p:cNvCxnSpPr>
            <p:nvPr/>
          </p:nvCxnSpPr>
          <p:spPr>
            <a:xfrm flipH="1" flipV="1" rot="10800000">
              <a:off x="1269720" y="1333800"/>
              <a:ext cx="265680" cy="902520"/>
            </a:xfrm>
            <a:prstGeom prst="bentConnector3">
              <a:avLst>
                <a:gd name="adj1" fmla="val -8073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5" name=""/>
            <p:cNvCxnSpPr>
              <a:stCxn id="1954" idx="2"/>
              <a:endCxn id="1955" idx="0"/>
            </p:cNvCxnSpPr>
            <p:nvPr/>
          </p:nvCxnSpPr>
          <p:spPr>
            <a:xfrm flipH="1">
              <a:off x="972720" y="2509560"/>
              <a:ext cx="177552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6" name=""/>
            <p:cNvCxnSpPr>
              <a:stCxn id="1954" idx="2"/>
              <a:endCxn id="1957" idx="0"/>
            </p:cNvCxnSpPr>
            <p:nvPr/>
          </p:nvCxnSpPr>
          <p:spPr>
            <a:xfrm>
              <a:off x="2747880" y="2509920"/>
              <a:ext cx="707040" cy="886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7" name=""/>
            <p:cNvCxnSpPr>
              <a:stCxn id="1954" idx="2"/>
              <a:endCxn id="1956" idx="0"/>
            </p:cNvCxnSpPr>
            <p:nvPr/>
          </p:nvCxnSpPr>
          <p:spPr>
            <a:xfrm>
              <a:off x="2747880" y="2509560"/>
              <a:ext cx="331056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8" name=""/>
            <p:cNvCxnSpPr>
              <a:stCxn id="1956" idx="2"/>
              <a:endCxn id="1958" idx="3"/>
            </p:cNvCxnSpPr>
            <p:nvPr/>
          </p:nvCxnSpPr>
          <p:spPr>
            <a:xfrm rot="5400000">
              <a:off x="5081760" y="3767760"/>
              <a:ext cx="802440" cy="114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9" name=""/>
            <p:cNvCxnSpPr>
              <a:stCxn id="1955" idx="2"/>
              <a:endCxn id="1958" idx="1"/>
            </p:cNvCxnSpPr>
            <p:nvPr/>
          </p:nvCxnSpPr>
          <p:spPr>
            <a:xfrm flipH="1" rot="16200000">
              <a:off x="1084680" y="3828600"/>
              <a:ext cx="802440" cy="102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0" name=""/>
            <p:cNvCxnSpPr>
              <a:stCxn id="1957" idx="2"/>
              <a:endCxn id="1958" idx="0"/>
            </p:cNvCxnSpPr>
            <p:nvPr/>
          </p:nvCxnSpPr>
          <p:spPr>
            <a:xfrm>
              <a:off x="3453840" y="394164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1" name=""/>
            <p:cNvCxnSpPr>
              <a:stCxn id="1958" idx="2"/>
              <a:endCxn id="1959" idx="0"/>
            </p:cNvCxnSpPr>
            <p:nvPr/>
          </p:nvCxnSpPr>
          <p:spPr>
            <a:xfrm>
              <a:off x="3453840" y="489420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2" name=""/>
            <p:cNvCxnSpPr>
              <a:stCxn id="1959" idx="1"/>
              <a:endCxn id="1960" idx="1"/>
            </p:cNvCxnSpPr>
            <p:nvPr/>
          </p:nvCxnSpPr>
          <p:spPr>
            <a:xfrm flipV="1" rot="10800000">
              <a:off x="1037520" y="5694840"/>
              <a:ext cx="443520" cy="881640"/>
            </a:xfrm>
            <a:prstGeom prst="bentConnector3">
              <a:avLst>
                <a:gd name="adj1" fmla="val 14833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3" name=""/>
            <p:cNvCxnSpPr>
              <a:stCxn id="1960" idx="3"/>
              <a:endCxn id="1961" idx="1"/>
            </p:cNvCxnSpPr>
            <p:nvPr/>
          </p:nvCxnSpPr>
          <p:spPr>
            <a:xfrm>
              <a:off x="3565080" y="6576480"/>
              <a:ext cx="1940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articularidades do monitorar viabilidade econômico financeira na fase de lança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945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acompanhar os indicadores iniciais que garantam o plano de negócios e a análise de viabilidade, realizada e atualizada durante o desenvolv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lume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ket sha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amento contínuo no início do período de fornec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 de um período, o processo de “Gestão Financeira” da empresa (outro processo de negócio sob responsabilidade da área financeira) acompanha os resultados reais, contábeis e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rontar o monitoramento com o estudo de viabilidade econômico-financeira, para “calibrar” os padrões adotados pela empresa na fase de pre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melhora a capacidade da empresa prever o retorno nos desenvolviment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74760" y="1481400"/>
            <a:ext cx="8508960" cy="5191560"/>
            <a:chOff x="374760" y="1481400"/>
            <a:chExt cx="8508960" cy="5191560"/>
          </a:xfrm>
        </p:grpSpPr>
        <p:grpSp>
          <p:nvGrpSpPr>
            <p:cNvPr id="1980" name=""/>
            <p:cNvGrpSpPr/>
            <p:nvPr/>
          </p:nvGrpSpPr>
          <p:grpSpPr>
            <a:xfrm>
              <a:off x="374760" y="1481400"/>
              <a:ext cx="8508960" cy="973800"/>
              <a:chOff x="374760" y="1481400"/>
              <a:chExt cx="8508960" cy="973800"/>
            </a:xfrm>
          </p:grpSpPr>
          <p:sp>
            <p:nvSpPr>
              <p:cNvPr id="1981" name=""/>
              <p:cNvSpPr/>
              <p:nvPr/>
            </p:nvSpPr>
            <p:spPr>
              <a:xfrm>
                <a:off x="374760" y="1481400"/>
                <a:ext cx="15764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cumprimento das tarefas planejada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357280" y="1481400"/>
                <a:ext cx="213840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resultados obtidos segundo os critérios estabelec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03920" y="1481400"/>
                <a:ext cx="200952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demais critérios quantitativos e indicado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1680" y="1481400"/>
                <a:ext cx="15620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estudo da viabilidade econôm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85" name=""/>
            <p:cNvCxnSpPr>
              <a:stCxn id="1981" idx="2"/>
              <a:endCxn id="1986" idx="1"/>
            </p:cNvCxnSpPr>
            <p:nvPr/>
          </p:nvCxnSpPr>
          <p:spPr>
            <a:xfrm flipH="1" rot="16200000">
              <a:off x="1695240" y="1953720"/>
              <a:ext cx="1315080" cy="23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7" name=""/>
            <p:cNvCxnSpPr>
              <a:stCxn id="1984" idx="2"/>
              <a:endCxn id="1986" idx="3"/>
            </p:cNvCxnSpPr>
            <p:nvPr/>
          </p:nvCxnSpPr>
          <p:spPr>
            <a:xfrm rot="5400000">
              <a:off x="6252480" y="1951200"/>
              <a:ext cx="13150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8" name=""/>
            <p:cNvCxnSpPr>
              <a:stCxn id="1983" idx="2"/>
              <a:endCxn id="1986" idx="0"/>
            </p:cNvCxnSpPr>
            <p:nvPr/>
          </p:nvCxnSpPr>
          <p:spPr>
            <a:xfrm flipH="1">
              <a:off x="4630320" y="2486160"/>
              <a:ext cx="127872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9" name=""/>
            <p:cNvCxnSpPr>
              <a:stCxn id="1982" idx="2"/>
              <a:endCxn id="1986" idx="0"/>
            </p:cNvCxnSpPr>
            <p:nvPr/>
          </p:nvCxnSpPr>
          <p:spPr>
            <a:xfrm>
              <a:off x="3427560" y="2486160"/>
              <a:ext cx="120384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90" name=""/>
            <p:cNvGrpSpPr/>
            <p:nvPr/>
          </p:nvGrpSpPr>
          <p:grpSpPr>
            <a:xfrm>
              <a:off x="3413160" y="3556800"/>
              <a:ext cx="2432160" cy="3116160"/>
              <a:chOff x="3413160" y="3556800"/>
              <a:chExt cx="2432160" cy="3116160"/>
            </a:xfrm>
          </p:grpSpPr>
          <p:sp>
            <p:nvSpPr>
              <p:cNvPr id="1986" name=""/>
              <p:cNvSpPr/>
              <p:nvPr/>
            </p:nvSpPr>
            <p:spPr>
              <a:xfrm>
                <a:off x="3556080" y="3556800"/>
                <a:ext cx="21477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implementar ações corretiv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21080" y="4749480"/>
                <a:ext cx="2417760" cy="7304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se pode ser realizada a atividade de aprov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13160" y="6185880"/>
                <a:ext cx="24321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relatório para o time de avali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3" name=""/>
              <p:cNvCxnSpPr>
                <a:stCxn id="1986" idx="2"/>
                <a:endCxn id="1991" idx="0"/>
              </p:cNvCxnSpPr>
              <p:nvPr/>
            </p:nvCxnSpPr>
            <p:spPr>
              <a:xfrm>
                <a:off x="4630320" y="4073040"/>
                <a:ext cx="108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94" name=""/>
              <p:cNvCxnSpPr>
                <a:stCxn id="1991" idx="2"/>
                <a:endCxn id="1992" idx="0"/>
              </p:cNvCxnSpPr>
              <p:nvPr/>
            </p:nvCxnSpPr>
            <p:spPr>
              <a:xfrm flipH="1">
                <a:off x="4628880" y="5509800"/>
                <a:ext cx="216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95" name=""/>
          <p:cNvSpPr/>
          <p:nvPr/>
        </p:nvSpPr>
        <p:spPr>
          <a:xfrm>
            <a:off x="1763640" y="41497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32920" y="605484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608040" y="5267160"/>
            <a:ext cx="1371240" cy="687600"/>
            <a:chOff x="608040" y="5267160"/>
            <a:chExt cx="1371240" cy="687600"/>
          </a:xfrm>
        </p:grpSpPr>
        <p:grpSp>
          <p:nvGrpSpPr>
            <p:cNvPr id="1998" name=""/>
            <p:cNvGrpSpPr/>
            <p:nvPr/>
          </p:nvGrpSpPr>
          <p:grpSpPr>
            <a:xfrm>
              <a:off x="608040" y="5267160"/>
              <a:ext cx="1371240" cy="687600"/>
              <a:chOff x="608040" y="5267160"/>
              <a:chExt cx="1371240" cy="687600"/>
            </a:xfrm>
          </p:grpSpPr>
          <p:sp>
            <p:nvSpPr>
              <p:cNvPr id="1999" name=""/>
              <p:cNvSpPr/>
              <p:nvPr/>
            </p:nvSpPr>
            <p:spPr>
              <a:xfrm>
                <a:off x="918720" y="54576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932040" y="54644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920880" y="5503680"/>
                <a:ext cx="68400" cy="14076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939240" y="56145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993600" y="56826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001520" y="5501160"/>
                <a:ext cx="185400" cy="20592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156320" y="57121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174680" y="56444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77840" y="56995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067400" y="55206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076760" y="55951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014840" y="53024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019520" y="53935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105920" y="54000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29640" y="5488200"/>
                <a:ext cx="433440" cy="41040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063440" y="57164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013040" y="57740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4560" y="5375520"/>
                <a:ext cx="135720" cy="20268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812880" y="55864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828000" y="53236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19360" y="54306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866520" y="54424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044720" y="5369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083960" y="53730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057320" y="54248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537920" y="54554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577880" y="55688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636200" y="55706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3240" y="55695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64720" y="5453640"/>
                <a:ext cx="164880" cy="45288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693800" y="5544360"/>
                <a:ext cx="36360" cy="26028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486800" y="57434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635480" y="53193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649520" y="54079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695960" y="53956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636200" y="52887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29800" y="53330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723680" y="53204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288800" y="5408640"/>
                <a:ext cx="357840" cy="33912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472400" y="57070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306800" y="55094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293480" y="55519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370880" y="5458680"/>
                <a:ext cx="195120" cy="29088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463040" y="54180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540080" y="54781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01640" y="55357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422720" y="5453640"/>
                <a:ext cx="68040" cy="26028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419480" y="5453640"/>
                <a:ext cx="71640" cy="26280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354320" y="54450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358280" y="52761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383480" y="53787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426680" y="53679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411920" y="53730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404000" y="5388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423800" y="5385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06880" y="54136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370880" y="5309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16600" y="5332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361880" y="53593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51880" y="53442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415520" y="54324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360440" y="54950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360800" y="54712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378440" y="55130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386720" y="53636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423440" y="53593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808200" y="54111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16840" y="54406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835200" y="5430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857160" y="54295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855720" y="5488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811440" y="54813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841320" y="54644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29440" y="55101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88760" y="5321880"/>
                <a:ext cx="105120" cy="7308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50960" y="53218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858960" y="53694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8240" y="54662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0320" y="54342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760" y="54655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0320" y="54738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80480" y="54367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81560" y="54313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86960" y="5441760"/>
                <a:ext cx="792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360" y="54518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22600" y="53924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35200" y="53899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27200" y="5494320"/>
                <a:ext cx="29520" cy="6192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08040" y="5534280"/>
                <a:ext cx="348480" cy="42048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20720" y="55864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86240" y="58096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04240" y="57970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53200" y="57740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924840" y="58276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823320" y="5563800"/>
                <a:ext cx="25560" cy="23148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849960" y="5546880"/>
                <a:ext cx="143640" cy="26028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936000" y="574704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983160" y="57038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069920" y="5772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093680" y="58114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99800" y="57952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064160" y="57164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011600" y="57790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981360" y="52779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043280" y="53823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017720" y="53643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028160" y="53722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030320" y="53762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1035000" y="53910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020960" y="539424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929520" y="54493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914040" y="54932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979920" y="56671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02960" y="55044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04480" y="54950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073520" y="55926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174680" y="56314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1149480" y="56901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087200" y="57164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161000" y="57488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105920" y="53992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040760" y="53661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1083240" y="53694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085400" y="5378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042920" y="53542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085400" y="53586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062720" y="54061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078560" y="53668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050840" y="5369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087920" y="53730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056600" y="54237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062000" y="54295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355040" y="54432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362960" y="54788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320480" y="54867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289520" y="55087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331640" y="56019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289520" y="56419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295280" y="56289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311480" y="55375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322640" y="54601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385640" y="5430600"/>
                <a:ext cx="9720" cy="16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398240" y="54770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398240" y="54154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400760" y="54536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455840" y="54144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424880" y="5473800"/>
                <a:ext cx="68040" cy="24588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405440" y="5551200"/>
                <a:ext cx="187560" cy="19764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496160" y="54154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544040" y="54230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514160" y="54705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585080" y="55101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596600" y="56383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601640" y="57895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484280" y="5742720"/>
                <a:ext cx="145080" cy="12960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527480" y="57427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357560" y="5268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381680" y="53611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380240" y="53629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419480" y="53506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421280" y="53593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415880" y="53542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408320" y="53654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424880" y="53686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362240" y="53679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452600" y="53499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392840" y="53654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28120" y="53593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402200" y="53881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399320" y="54086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408680" y="54205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378800" y="53866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385640" y="53956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434600" y="53917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614960" y="55213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636920" y="53974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646280" y="54180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672560" y="5370480"/>
                <a:ext cx="54360" cy="5076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03160" y="53942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667880" y="544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685880" y="54324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00640" y="54399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643400" y="54223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679400" y="54680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681920" y="54781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16400" y="52905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54920" y="5267160"/>
                <a:ext cx="137160" cy="27900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719000" y="53236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30880" y="53668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737720" y="539568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77960" y="54813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733040" y="54406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59960" y="53578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74000" y="53506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91280" y="53449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717920" y="5382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803240" y="5553720"/>
                <a:ext cx="176040" cy="40032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776240" y="54543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847160" y="54986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705680" y="55526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1625040" y="55494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745640" y="55864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742400" y="58183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03080" y="58377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03080" y="57146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41960" y="55494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376200" y="1125360"/>
            <a:ext cx="8445600" cy="5732640"/>
            <a:chOff x="376200" y="1125360"/>
            <a:chExt cx="8445600" cy="5732640"/>
          </a:xfrm>
        </p:grpSpPr>
        <p:sp>
          <p:nvSpPr>
            <p:cNvPr id="2207" name=""/>
            <p:cNvSpPr/>
            <p:nvPr/>
          </p:nvSpPr>
          <p:spPr>
            <a:xfrm>
              <a:off x="3810240" y="2190600"/>
              <a:ext cx="3360600" cy="569880"/>
            </a:xfrm>
            <a:custGeom>
              <a:avLst/>
              <a:gdLst/>
              <a:ahLst/>
              <a:rect l="l" t="t" r="r" b="b"/>
              <a:pathLst>
                <a:path w="2117" h="359">
                  <a:moveTo>
                    <a:pt x="1047" y="15"/>
                  </a:moveTo>
                  <a:lnTo>
                    <a:pt x="0" y="359"/>
                  </a:lnTo>
                  <a:lnTo>
                    <a:pt x="2117" y="359"/>
                  </a:lnTo>
                  <a:lnTo>
                    <a:pt x="1496" y="0"/>
                  </a:lnTo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922760" y="3603600"/>
              <a:ext cx="1946160" cy="439920"/>
            </a:xfrm>
            <a:custGeom>
              <a:avLst/>
              <a:gdLst/>
              <a:ahLst/>
              <a:rect l="l" t="t" r="r" b="b"/>
              <a:pathLst>
                <a:path w="1226" h="277">
                  <a:moveTo>
                    <a:pt x="1174" y="0"/>
                  </a:moveTo>
                  <a:lnTo>
                    <a:pt x="1226" y="277"/>
                  </a:lnTo>
                  <a:lnTo>
                    <a:pt x="0" y="277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461200" y="3614760"/>
              <a:ext cx="3360600" cy="428760"/>
            </a:xfrm>
            <a:custGeom>
              <a:avLst/>
              <a:gdLst/>
              <a:ahLst/>
              <a:rect l="l" t="t" r="r" b="b"/>
              <a:pathLst>
                <a:path w="2117" h="270">
                  <a:moveTo>
                    <a:pt x="1055" y="0"/>
                  </a:moveTo>
                  <a:lnTo>
                    <a:pt x="0" y="255"/>
                  </a:lnTo>
                  <a:lnTo>
                    <a:pt x="2117" y="270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656160" y="4708440"/>
              <a:ext cx="2790720" cy="2149560"/>
            </a:xfrm>
            <a:custGeom>
              <a:avLst/>
              <a:gdLst/>
              <a:ahLst/>
              <a:rect l="l" t="t" r="r" b="b"/>
              <a:pathLst>
                <a:path w="1758" h="1354">
                  <a:moveTo>
                    <a:pt x="1758" y="15"/>
                  </a:moveTo>
                  <a:lnTo>
                    <a:pt x="1758" y="1354"/>
                  </a:lnTo>
                  <a:lnTo>
                    <a:pt x="0" y="1354"/>
                  </a:lnTo>
                  <a:lnTo>
                    <a:pt x="0" y="456"/>
                  </a:lnTo>
                  <a:lnTo>
                    <a:pt x="1152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4492800" y="1608120"/>
              <a:ext cx="2916360" cy="627120"/>
              <a:chOff x="4492800" y="1608120"/>
              <a:chExt cx="2916360" cy="627120"/>
            </a:xfrm>
          </p:grpSpPr>
          <p:sp>
            <p:nvSpPr>
              <p:cNvPr id="2212" name=""/>
              <p:cNvSpPr/>
              <p:nvPr/>
            </p:nvSpPr>
            <p:spPr>
              <a:xfrm>
                <a:off x="6242400" y="160812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367600" y="160812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492800" y="160812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4509720" y="1298520"/>
              <a:ext cx="283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do produto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3649320" y="2739960"/>
              <a:ext cx="3722760" cy="1239480"/>
              <a:chOff x="3649320" y="2739960"/>
              <a:chExt cx="3722760" cy="1239480"/>
            </a:xfrm>
          </p:grpSpPr>
          <p:grpSp>
            <p:nvGrpSpPr>
              <p:cNvPr id="2217" name=""/>
              <p:cNvGrpSpPr/>
              <p:nvPr/>
            </p:nvGrpSpPr>
            <p:grpSpPr>
              <a:xfrm>
                <a:off x="7017120" y="3126960"/>
                <a:ext cx="245160" cy="852480"/>
                <a:chOff x="7017120" y="3126960"/>
                <a:chExt cx="245160" cy="85248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7139160" y="312696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rot="2700000">
                  <a:off x="7044120" y="342360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0" name=""/>
              <p:cNvSpPr/>
              <p:nvPr/>
            </p:nvSpPr>
            <p:spPr>
              <a:xfrm>
                <a:off x="3769200" y="2739960"/>
                <a:ext cx="3602880" cy="387000"/>
              </a:xfrm>
              <a:custGeom>
                <a:avLst/>
                <a:gdLst>
                  <a:gd name="textAreaLeft" fmla="*/ 0 w 3602880"/>
                  <a:gd name="textAreaRight" fmla="*/ 3603240 w 360288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82" y="0"/>
                    </a:lnTo>
                    <a:lnTo>
                      <a:pt x="21600" y="10800"/>
                    </a:lnTo>
                    <a:lnTo>
                      <a:pt x="20582" y="21600"/>
                    </a:lnTo>
                    <a:lnTo>
                      <a:pt x="0" y="21600"/>
                    </a:lnTo>
                    <a:lnTo>
                      <a:pt x="1018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1" name=""/>
              <p:cNvGrpSpPr/>
              <p:nvPr/>
            </p:nvGrpSpPr>
            <p:grpSpPr>
              <a:xfrm>
                <a:off x="3649320" y="3121560"/>
                <a:ext cx="245160" cy="852480"/>
                <a:chOff x="3649320" y="3121560"/>
                <a:chExt cx="245160" cy="85248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3771360" y="312156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rot="2700000">
                  <a:off x="3676320" y="341820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4" name=""/>
            <p:cNvSpPr/>
            <p:nvPr/>
          </p:nvSpPr>
          <p:spPr>
            <a:xfrm>
              <a:off x="2352960" y="3995640"/>
              <a:ext cx="1533240" cy="73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finição de critérios para próximo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413680" y="3992400"/>
              <a:ext cx="1035000" cy="7369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-avaliaçã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62680" y="3800520"/>
              <a:ext cx="94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ité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882960" y="5897520"/>
              <a:ext cx="185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8" name="" descr=""/>
            <p:cNvPicPr/>
            <p:nvPr/>
          </p:nvPicPr>
          <p:blipFill>
            <a:blip r:embed="rId1"/>
            <a:stretch/>
          </p:blipFill>
          <p:spPr>
            <a:xfrm>
              <a:off x="6131160" y="5346720"/>
              <a:ext cx="658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964840" y="5029200"/>
              <a:ext cx="967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ó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4257720" y="5110200"/>
              <a:ext cx="1371240" cy="686880"/>
              <a:chOff x="4257720" y="5110200"/>
              <a:chExt cx="1371240" cy="686880"/>
            </a:xfrm>
          </p:grpSpPr>
          <p:grpSp>
            <p:nvGrpSpPr>
              <p:cNvPr id="2231" name=""/>
              <p:cNvGrpSpPr/>
              <p:nvPr/>
            </p:nvGrpSpPr>
            <p:grpSpPr>
              <a:xfrm>
                <a:off x="4257720" y="5110200"/>
                <a:ext cx="1371240" cy="686880"/>
                <a:chOff x="4257720" y="5110200"/>
                <a:chExt cx="1371240" cy="68688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4568400" y="5300640"/>
                  <a:ext cx="293760" cy="29160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4581720" y="5307480"/>
                  <a:ext cx="133200" cy="14472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4570560" y="5346360"/>
                  <a:ext cx="68400" cy="14040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4588920" y="5457600"/>
                  <a:ext cx="48960" cy="7524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4643280" y="5525280"/>
                  <a:ext cx="101880" cy="8460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4651200" y="5343840"/>
                  <a:ext cx="185400" cy="20556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806000" y="5555160"/>
                  <a:ext cx="46800" cy="3708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4824360" y="548712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727520" y="5542200"/>
                  <a:ext cx="80280" cy="6588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717080" y="536328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4726440" y="543780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4664520" y="5145480"/>
                  <a:ext cx="95400" cy="21276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4669200" y="523620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4755600" y="524304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4279320" y="5331240"/>
                  <a:ext cx="433440" cy="41004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4713120" y="5559120"/>
                  <a:ext cx="66960" cy="134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4662720" y="5617080"/>
                  <a:ext cx="100080" cy="810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4404240" y="5218560"/>
                  <a:ext cx="135720" cy="202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4462560" y="5429520"/>
                  <a:ext cx="30240" cy="204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4477680" y="5166720"/>
                  <a:ext cx="75600" cy="9900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469040" y="5273640"/>
                  <a:ext cx="20160" cy="1008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4516200" y="5285520"/>
                  <a:ext cx="15120" cy="1152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4694400" y="521244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733640" y="5216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707000" y="5267520"/>
                  <a:ext cx="28080" cy="756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187600" y="5298120"/>
                  <a:ext cx="391680" cy="44244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227560" y="5411880"/>
                  <a:ext cx="115200" cy="2304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285880" y="5413320"/>
                  <a:ext cx="236520" cy="33156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362920" y="5412600"/>
                  <a:ext cx="41760" cy="15084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14400" y="5296320"/>
                  <a:ext cx="164880" cy="45252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343480" y="5387040"/>
                  <a:ext cx="36360" cy="25992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136480" y="5586480"/>
                  <a:ext cx="109440" cy="11412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285160" y="5162400"/>
                  <a:ext cx="149760" cy="22788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299200" y="525060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345640" y="5238720"/>
                  <a:ext cx="18360" cy="828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285880" y="5131800"/>
                  <a:ext cx="119880" cy="4716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379480" y="5176080"/>
                  <a:ext cx="58320" cy="6588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373360" y="5163480"/>
                  <a:ext cx="64080" cy="67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938480" y="5251320"/>
                  <a:ext cx="357840" cy="338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122080" y="5549760"/>
                  <a:ext cx="33120" cy="2952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956480" y="5352480"/>
                  <a:ext cx="18360" cy="10404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943160" y="5394600"/>
                  <a:ext cx="83160" cy="15840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20560" y="530136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112720" y="5261040"/>
                  <a:ext cx="70560" cy="65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189760" y="5321160"/>
                  <a:ext cx="66600" cy="16776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251320" y="5378760"/>
                  <a:ext cx="45360" cy="6408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072400" y="5296320"/>
                  <a:ext cx="68040" cy="25992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069160" y="5296320"/>
                  <a:ext cx="71640" cy="26244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004000" y="5288040"/>
                  <a:ext cx="47520" cy="1083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007960" y="5119200"/>
                  <a:ext cx="107280" cy="17280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033160" y="5221800"/>
                  <a:ext cx="18360" cy="133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076360" y="5211000"/>
                  <a:ext cx="19800" cy="1512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061600" y="5216040"/>
                  <a:ext cx="10440" cy="2520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053680" y="523116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073480" y="522864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056560" y="5256720"/>
                  <a:ext cx="27720" cy="720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020560" y="5152320"/>
                  <a:ext cx="29520" cy="4464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066280" y="517536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011560" y="5202360"/>
                  <a:ext cx="8280" cy="684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101560" y="518724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065200" y="52754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010120" y="5338080"/>
                  <a:ext cx="14400" cy="3528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010480" y="531432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028120" y="535572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036400" y="5206680"/>
                  <a:ext cx="20520" cy="972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073120" y="5202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57880" y="5253840"/>
                  <a:ext cx="45000" cy="3708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466520" y="5283720"/>
                  <a:ext cx="18360" cy="468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484880" y="5273640"/>
                  <a:ext cx="5040" cy="1008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506840" y="5272560"/>
                  <a:ext cx="33480" cy="5508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4505400" y="53312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461120" y="53244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491000" y="530748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479120" y="5353200"/>
                  <a:ext cx="24840" cy="133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438440" y="5164920"/>
                  <a:ext cx="105120" cy="7272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400640" y="5164920"/>
                  <a:ext cx="115200" cy="14400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508640" y="5212440"/>
                  <a:ext cx="46800" cy="16704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417920" y="5309280"/>
                  <a:ext cx="87480" cy="11088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410000" y="5277240"/>
                  <a:ext cx="14400" cy="3276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411440" y="530856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410000" y="5316840"/>
                  <a:ext cx="11880" cy="2016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430160" y="5279400"/>
                  <a:ext cx="57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431240" y="5274360"/>
                  <a:ext cx="8640" cy="35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436640" y="5284440"/>
                  <a:ext cx="7920" cy="27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442040" y="5294880"/>
                  <a:ext cx="576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72280" y="5235480"/>
                  <a:ext cx="60840" cy="1764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84880" y="5232960"/>
                  <a:ext cx="40320" cy="1440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376880" y="5337360"/>
                  <a:ext cx="29520" cy="6156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257720" y="5376960"/>
                  <a:ext cx="348480" cy="4201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70400" y="5429520"/>
                  <a:ext cx="107640" cy="22464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35920" y="5652360"/>
                  <a:ext cx="17280" cy="4968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53920" y="5639760"/>
                  <a:ext cx="41760" cy="6336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502880" y="5617080"/>
                  <a:ext cx="257760" cy="10512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574520" y="5670360"/>
                  <a:ext cx="29520" cy="1512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473000" y="5406480"/>
                  <a:ext cx="25560" cy="2311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499640" y="5389560"/>
                  <a:ext cx="143640" cy="25992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585680" y="5589720"/>
                  <a:ext cx="64800" cy="6156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632840" y="5546520"/>
                  <a:ext cx="81360" cy="7452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719600" y="5615280"/>
                  <a:ext cx="48240" cy="4392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743360" y="5654160"/>
                  <a:ext cx="19080" cy="3708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749480" y="5637960"/>
                  <a:ext cx="30240" cy="5508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713840" y="5559120"/>
                  <a:ext cx="33480" cy="6084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661280" y="5621760"/>
                  <a:ext cx="39600" cy="262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631040" y="5121000"/>
                  <a:ext cx="133560" cy="20916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692960" y="5225400"/>
                  <a:ext cx="67320" cy="12456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667400" y="5207400"/>
                  <a:ext cx="7920" cy="2268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677840" y="5215320"/>
                  <a:ext cx="360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680000" y="5219280"/>
                  <a:ext cx="50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684680" y="5233680"/>
                  <a:ext cx="32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670640" y="523692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79200" y="5292360"/>
                  <a:ext cx="235800" cy="15912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63720" y="5336280"/>
                  <a:ext cx="93960" cy="18144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600" y="5510160"/>
                  <a:ext cx="26280" cy="4248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52640" y="5347440"/>
                  <a:ext cx="193320" cy="22788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54160" y="5338080"/>
                  <a:ext cx="14400" cy="1490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23200" y="5435640"/>
                  <a:ext cx="11520" cy="151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824360" y="5474520"/>
                  <a:ext cx="21600" cy="532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799160" y="5532840"/>
                  <a:ext cx="75960" cy="5688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736880" y="5559120"/>
                  <a:ext cx="108000" cy="4896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810680" y="5591520"/>
                  <a:ext cx="248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755600" y="524232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690440" y="520920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4732920" y="521244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4735080" y="52218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692600" y="519732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4735080" y="5201640"/>
                  <a:ext cx="19800" cy="648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4712400" y="524916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4728240" y="520992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4700520" y="52124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737600" y="521604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4706280" y="5266800"/>
                  <a:ext cx="28440" cy="324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711680" y="5272560"/>
                  <a:ext cx="19080" cy="432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004720" y="528624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012640" y="5321880"/>
                  <a:ext cx="34920" cy="5580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970160" y="5329440"/>
                  <a:ext cx="141840" cy="25920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939200" y="5351760"/>
                  <a:ext cx="56880" cy="18468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4981320" y="5445000"/>
                  <a:ext cx="6480" cy="4572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939200" y="5484600"/>
                  <a:ext cx="34920" cy="7200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944960" y="5472000"/>
                  <a:ext cx="10440" cy="3456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4961160" y="5380560"/>
                  <a:ext cx="8280" cy="3276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972320" y="5303160"/>
                  <a:ext cx="44280" cy="7524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035320" y="527364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047920" y="5320080"/>
                  <a:ext cx="81360" cy="6444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047920" y="5258520"/>
                  <a:ext cx="23760" cy="3708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050440" y="5296320"/>
                  <a:ext cx="57600" cy="2520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105520" y="5257440"/>
                  <a:ext cx="32400" cy="4644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074560" y="5316840"/>
                  <a:ext cx="68040" cy="2455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055120" y="5393880"/>
                  <a:ext cx="187560" cy="19728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145840" y="5258520"/>
                  <a:ext cx="36360" cy="2088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193720" y="5266080"/>
                  <a:ext cx="57240" cy="11448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163840" y="5313240"/>
                  <a:ext cx="30960" cy="5580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234760" y="5353200"/>
                  <a:ext cx="59400" cy="1227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246280" y="5481360"/>
                  <a:ext cx="64080" cy="532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251320" y="5632200"/>
                  <a:ext cx="98640" cy="4716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133960" y="5585760"/>
                  <a:ext cx="145080" cy="12924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177160" y="5585760"/>
                  <a:ext cx="69480" cy="5760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007240" y="5111640"/>
                  <a:ext cx="109440" cy="13032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031360" y="5204160"/>
                  <a:ext cx="34920" cy="828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029920" y="5205600"/>
                  <a:ext cx="26280" cy="1764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069160" y="5193720"/>
                  <a:ext cx="27000" cy="828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070960" y="520236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065560" y="519732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058000" y="5208120"/>
                  <a:ext cx="3600" cy="2448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074560" y="521172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011920" y="5211000"/>
                  <a:ext cx="13680" cy="1764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102280" y="5193000"/>
                  <a:ext cx="10440" cy="3024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042520" y="5208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077800" y="520236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051880" y="5231160"/>
                  <a:ext cx="30960" cy="2124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049000" y="5251320"/>
                  <a:ext cx="42840" cy="936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058360" y="5263560"/>
                  <a:ext cx="23760" cy="1008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028480" y="5229720"/>
                  <a:ext cx="75600" cy="6408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035320" y="5238720"/>
                  <a:ext cx="15120" cy="2952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084280" y="523476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264640" y="5364360"/>
                  <a:ext cx="54360" cy="3024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286600" y="5240520"/>
                  <a:ext cx="34920" cy="4644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295960" y="526104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322240" y="521352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352840" y="523692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317560" y="5288040"/>
                  <a:ext cx="32400" cy="2448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335560" y="527544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350320" y="528300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293080" y="5265000"/>
                  <a:ext cx="33480" cy="8784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329080" y="5310720"/>
                  <a:ext cx="30960" cy="756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331600" y="532116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266080" y="5133600"/>
                  <a:ext cx="141840" cy="1090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304600" y="5110200"/>
                  <a:ext cx="137160" cy="27864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368680" y="516672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380560" y="5209920"/>
                  <a:ext cx="31680" cy="3204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387400" y="523872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327640" y="5324400"/>
                  <a:ext cx="70920" cy="67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382720" y="5283720"/>
                  <a:ext cx="5760" cy="3600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309640" y="5200920"/>
                  <a:ext cx="62280" cy="1908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323680" y="5193720"/>
                  <a:ext cx="46440" cy="118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340960" y="518796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367600" y="522540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452920" y="5396400"/>
                  <a:ext cx="176040" cy="39996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425920" y="529740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496840" y="5341320"/>
                  <a:ext cx="52920" cy="5220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355360" y="5395680"/>
                  <a:ext cx="54720" cy="25848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2" name=""/>
              <p:cNvSpPr/>
              <p:nvPr/>
            </p:nvSpPr>
            <p:spPr>
              <a:xfrm>
                <a:off x="5274720" y="5392080"/>
                <a:ext cx="90000" cy="25848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395320" y="5429520"/>
                <a:ext cx="119880" cy="22284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392080" y="5661000"/>
                <a:ext cx="67320" cy="810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252760" y="5680440"/>
                <a:ext cx="174960" cy="6408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252760" y="5557680"/>
                <a:ext cx="75600" cy="7704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291640" y="5392080"/>
                <a:ext cx="12960" cy="820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5748480" y="5597640"/>
              <a:ext cx="404640" cy="188640"/>
            </a:xfrm>
            <a:prstGeom prst="rightArrow">
              <a:avLst>
                <a:gd name="adj1" fmla="val 50000"/>
                <a:gd name="adj2" fmla="val 53626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213520" y="2778120"/>
              <a:ext cx="725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853000" y="2930400"/>
              <a:ext cx="939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61480" y="3030480"/>
              <a:ext cx="812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2" name=""/>
            <p:cNvGrpSpPr/>
            <p:nvPr/>
          </p:nvGrpSpPr>
          <p:grpSpPr>
            <a:xfrm>
              <a:off x="4400640" y="4070520"/>
              <a:ext cx="519120" cy="599760"/>
              <a:chOff x="4400640" y="4070520"/>
              <a:chExt cx="519120" cy="599760"/>
            </a:xfrm>
          </p:grpSpPr>
          <p:sp>
            <p:nvSpPr>
              <p:cNvPr id="2443" name=""/>
              <p:cNvSpPr/>
              <p:nvPr/>
            </p:nvSpPr>
            <p:spPr>
              <a:xfrm>
                <a:off x="4400640" y="4070520"/>
                <a:ext cx="519120" cy="59976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57880" y="4169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57880" y="4219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57880" y="4269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457880" y="4318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57880" y="4368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457880" y="4418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457880" y="4468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457880" y="4518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457880" y="4567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3962520" y="4275000"/>
              <a:ext cx="405000" cy="189000"/>
            </a:xfrm>
            <a:prstGeom prst="rightArrow">
              <a:avLst>
                <a:gd name="adj1" fmla="val 50000"/>
                <a:gd name="adj2" fmla="val 53571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953240" y="4275000"/>
              <a:ext cx="404640" cy="189000"/>
            </a:xfrm>
            <a:prstGeom prst="rightArrow">
              <a:avLst>
                <a:gd name="adj1" fmla="val 50000"/>
                <a:gd name="adj2" fmla="val 53524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476280" y="1406520"/>
              <a:ext cx="3576600" cy="1274760"/>
              <a:chOff x="476280" y="1406520"/>
              <a:chExt cx="3576600" cy="1274760"/>
            </a:xfrm>
          </p:grpSpPr>
          <p:sp>
            <p:nvSpPr>
              <p:cNvPr id="2456" name=""/>
              <p:cNvSpPr/>
              <p:nvPr/>
            </p:nvSpPr>
            <p:spPr>
              <a:xfrm>
                <a:off x="476280" y="1406520"/>
                <a:ext cx="3576600" cy="1274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280" y="1406520"/>
                <a:ext cx="3567960" cy="120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8" name=""/>
            <p:cNvSpPr/>
            <p:nvPr/>
          </p:nvSpPr>
          <p:spPr>
            <a:xfrm>
              <a:off x="838080" y="1125360"/>
              <a:ext cx="253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o de refe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376200" y="3573360"/>
              <a:ext cx="1544400" cy="1673280"/>
              <a:chOff x="376200" y="3573360"/>
              <a:chExt cx="1544400" cy="1673280"/>
            </a:xfrm>
          </p:grpSpPr>
          <p:sp>
            <p:nvSpPr>
              <p:cNvPr id="2460" name=""/>
              <p:cNvSpPr/>
              <p:nvPr/>
            </p:nvSpPr>
            <p:spPr>
              <a:xfrm>
                <a:off x="376200" y="3573360"/>
                <a:ext cx="1544400" cy="1673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1" name=""/>
              <p:cNvGrpSpPr/>
              <p:nvPr/>
            </p:nvGrpSpPr>
            <p:grpSpPr>
              <a:xfrm>
                <a:off x="501480" y="3681360"/>
                <a:ext cx="519120" cy="600120"/>
                <a:chOff x="501480" y="3681360"/>
                <a:chExt cx="519120" cy="600120"/>
              </a:xfrm>
            </p:grpSpPr>
            <p:sp>
              <p:nvSpPr>
                <p:cNvPr id="2462" name=""/>
                <p:cNvSpPr/>
                <p:nvPr/>
              </p:nvSpPr>
              <p:spPr>
                <a:xfrm>
                  <a:off x="501480" y="368136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558720" y="37807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58720" y="38304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58720" y="38800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558720" y="39297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58720" y="39798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58720" y="40294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558720" y="40791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558720" y="4129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58720" y="41785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707760" y="3940200"/>
                <a:ext cx="519120" cy="600120"/>
                <a:chOff x="707760" y="3940200"/>
                <a:chExt cx="519120" cy="60012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707760" y="394020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65000" y="40395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765000" y="40892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765000" y="41389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765000" y="41886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765000" y="42386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765000" y="42883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65000" y="43380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765000" y="43880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765000" y="44373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3" name=""/>
              <p:cNvGrpSpPr/>
              <p:nvPr/>
            </p:nvGrpSpPr>
            <p:grpSpPr>
              <a:xfrm>
                <a:off x="914400" y="4199040"/>
                <a:ext cx="519120" cy="600120"/>
                <a:chOff x="914400" y="4199040"/>
                <a:chExt cx="519120" cy="60012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914400" y="419904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971640" y="42984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971640" y="43480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971640" y="43977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971640" y="44474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971640" y="44974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971640" y="45471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971640" y="45968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971640" y="4646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971640" y="4696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4" name=""/>
              <p:cNvGrpSpPr/>
              <p:nvPr/>
            </p:nvGrpSpPr>
            <p:grpSpPr>
              <a:xfrm>
                <a:off x="1120680" y="4457520"/>
                <a:ext cx="519120" cy="600120"/>
                <a:chOff x="1120680" y="4457520"/>
                <a:chExt cx="519120" cy="60012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1120680" y="445752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1177920" y="4556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1177920" y="46065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1177920" y="46562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1177920" y="47059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1177920" y="47559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1177920" y="48056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1177920" y="48553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1177920" y="49053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1177920" y="49546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5" name=""/>
            <p:cNvSpPr/>
            <p:nvPr/>
          </p:nvSpPr>
          <p:spPr>
            <a:xfrm rot="5400000">
              <a:off x="1898640" y="425592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 rot="5400000">
              <a:off x="4052880" y="184140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14000" y="2249640"/>
              <a:ext cx="1187640" cy="137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675000" y="2286000"/>
              <a:ext cx="118728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924120" y="2262240"/>
              <a:ext cx="122400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1160280" y="2249640"/>
              <a:ext cx="1176120" cy="15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352520" y="2262240"/>
              <a:ext cx="1222560" cy="157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00200" y="2262240"/>
              <a:ext cx="1224000" cy="161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51080" y="5211720"/>
              <a:ext cx="2012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tálogo” de crité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268200" y="1492560"/>
            <a:ext cx="8615520" cy="5074560"/>
            <a:chOff x="268200" y="1492560"/>
            <a:chExt cx="8615520" cy="5074560"/>
          </a:xfrm>
        </p:grpSpPr>
        <p:sp>
          <p:nvSpPr>
            <p:cNvPr id="2516" name=""/>
            <p:cNvSpPr/>
            <p:nvPr/>
          </p:nvSpPr>
          <p:spPr>
            <a:xfrm>
              <a:off x="268200" y="1492560"/>
              <a:ext cx="21938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o relatório da auto-avaliação e discuti-lo com o time de desenvolv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22680" y="1492560"/>
              <a:ext cx="23875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evidências dos resultados e término das atividades planej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370480" y="1492560"/>
              <a:ext cx="16891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portfólio de produtos e proje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321680" y="1492560"/>
              <a:ext cx="15620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estudo de viabilidade econôm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0" name=""/>
            <p:cNvCxnSpPr>
              <a:stCxn id="2516" idx="2"/>
              <a:endCxn id="2521" idx="1"/>
            </p:cNvCxnSpPr>
            <p:nvPr/>
          </p:nvCxnSpPr>
          <p:spPr>
            <a:xfrm flipH="1" rot="16200000">
              <a:off x="1801440" y="2059920"/>
              <a:ext cx="130428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2" name=""/>
            <p:cNvCxnSpPr>
              <a:stCxn id="2519" idx="2"/>
              <a:endCxn id="2521" idx="3"/>
            </p:cNvCxnSpPr>
            <p:nvPr/>
          </p:nvCxnSpPr>
          <p:spPr>
            <a:xfrm rot="5400000">
              <a:off x="6257880" y="1956600"/>
              <a:ext cx="13042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3" name=""/>
            <p:cNvCxnSpPr>
              <a:stCxn id="2518" idx="2"/>
              <a:endCxn id="2521" idx="0"/>
            </p:cNvCxnSpPr>
            <p:nvPr/>
          </p:nvCxnSpPr>
          <p:spPr>
            <a:xfrm flipH="1">
              <a:off x="4629960" y="2496600"/>
              <a:ext cx="158508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4" name=""/>
            <p:cNvCxnSpPr>
              <a:stCxn id="2517" idx="2"/>
              <a:endCxn id="2521" idx="0"/>
            </p:cNvCxnSpPr>
            <p:nvPr/>
          </p:nvCxnSpPr>
          <p:spPr>
            <a:xfrm>
              <a:off x="3916440" y="2496600"/>
              <a:ext cx="71496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1" name=""/>
            <p:cNvSpPr/>
            <p:nvPr/>
          </p:nvSpPr>
          <p:spPr>
            <a:xfrm>
              <a:off x="3556080" y="3435120"/>
              <a:ext cx="214776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critérios de avaliação e tomar a deci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429240" y="4977000"/>
              <a:ext cx="19576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relató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6" name=""/>
            <p:cNvCxnSpPr>
              <a:stCxn id="2521" idx="2"/>
              <a:endCxn id="2525" idx="0"/>
            </p:cNvCxnSpPr>
            <p:nvPr/>
          </p:nvCxnSpPr>
          <p:spPr>
            <a:xfrm>
              <a:off x="4630320" y="4195800"/>
              <a:ext cx="2778840" cy="75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7" name=""/>
            <p:cNvSpPr/>
            <p:nvPr/>
          </p:nvSpPr>
          <p:spPr>
            <a:xfrm>
              <a:off x="2766960" y="558180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ções corre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8" name=""/>
            <p:cNvCxnSpPr>
              <a:stCxn id="2521" idx="2"/>
              <a:endCxn id="2527" idx="0"/>
            </p:cNvCxnSpPr>
            <p:nvPr/>
          </p:nvCxnSpPr>
          <p:spPr>
            <a:xfrm flipH="1">
              <a:off x="4019040" y="4195800"/>
              <a:ext cx="61200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9" name=""/>
            <p:cNvCxnSpPr>
              <a:stCxn id="2521" idx="2"/>
            </p:cNvCxnSpPr>
            <p:nvPr/>
          </p:nvCxnSpPr>
          <p:spPr>
            <a:xfrm flipH="1">
              <a:off x="1669680" y="4195440"/>
              <a:ext cx="2961360" cy="15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0" name=""/>
            <p:cNvCxnSpPr>
              <a:stCxn id="2521" idx="2"/>
            </p:cNvCxnSpPr>
            <p:nvPr/>
          </p:nvCxnSpPr>
          <p:spPr>
            <a:xfrm flipH="1">
              <a:off x="299520" y="4195800"/>
              <a:ext cx="4331520" cy="13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1" name=""/>
            <p:cNvSpPr/>
            <p:nvPr/>
          </p:nvSpPr>
          <p:spPr>
            <a:xfrm>
              <a:off x="1733760" y="4730760"/>
              <a:ext cx="10058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713240" y="5216400"/>
              <a:ext cx="10180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g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54080" y="4870440"/>
              <a:ext cx="134712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direcion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05400" y="4356000"/>
              <a:ext cx="9172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766960" y="628992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ris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985000" y="56358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lhorar processo de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83200" y="63234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ustar critérios próxima f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8" name=""/>
            <p:cNvCxnSpPr>
              <a:stCxn id="2525" idx="2"/>
              <a:endCxn id="2536" idx="0"/>
            </p:cNvCxnSpPr>
            <p:nvPr/>
          </p:nvCxnSpPr>
          <p:spPr>
            <a:xfrm>
              <a:off x="7408440" y="5249880"/>
              <a:ext cx="10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9" name=""/>
            <p:cNvCxnSpPr>
              <a:stCxn id="2536" idx="2"/>
              <a:endCxn id="2537" idx="0"/>
            </p:cNvCxnSpPr>
            <p:nvPr/>
          </p:nvCxnSpPr>
          <p:spPr>
            <a:xfrm flipH="1">
              <a:off x="7407000" y="5908680"/>
              <a:ext cx="2160" cy="386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0" name=""/>
            <p:cNvCxnSpPr>
              <a:stCxn id="2527" idx="2"/>
              <a:endCxn id="2535" idx="0"/>
            </p:cNvCxnSpPr>
            <p:nvPr/>
          </p:nvCxnSpPr>
          <p:spPr>
            <a:xfrm>
              <a:off x="4019040" y="5854320"/>
              <a:ext cx="1080" cy="407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41" name=""/>
          <p:cNvSpPr/>
          <p:nvPr/>
        </p:nvSpPr>
        <p:spPr>
          <a:xfrm>
            <a:off x="1080" y="4437000"/>
            <a:ext cx="1854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250920" y="3789360"/>
            <a:ext cx="1371240" cy="686880"/>
            <a:chOff x="250920" y="3789360"/>
            <a:chExt cx="1371240" cy="686880"/>
          </a:xfrm>
        </p:grpSpPr>
        <p:grpSp>
          <p:nvGrpSpPr>
            <p:cNvPr id="2543" name=""/>
            <p:cNvGrpSpPr/>
            <p:nvPr/>
          </p:nvGrpSpPr>
          <p:grpSpPr>
            <a:xfrm>
              <a:off x="250920" y="3789360"/>
              <a:ext cx="1371240" cy="686880"/>
              <a:chOff x="250920" y="3789360"/>
              <a:chExt cx="1371240" cy="686880"/>
            </a:xfrm>
          </p:grpSpPr>
          <p:sp>
            <p:nvSpPr>
              <p:cNvPr id="2544" name=""/>
              <p:cNvSpPr/>
              <p:nvPr/>
            </p:nvSpPr>
            <p:spPr>
              <a:xfrm>
                <a:off x="561600" y="3979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4920" y="3986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63760" y="4025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82120" y="4136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36480" y="4204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44400" y="4023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9200" y="4234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817560" y="4166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20720" y="4221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10280" y="4042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19640" y="4116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7720" y="3824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2400" y="3915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48800" y="3922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72520" y="4010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06320" y="4238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5920" y="4296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7440" y="3897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55760" y="4108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70880" y="3845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62240" y="3952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9400" y="3964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87600" y="3891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26840" y="3895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00200" y="3946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180800" y="3977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220760" y="4091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279080" y="4092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356120" y="4091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07600" y="3975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336680" y="4066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129680" y="4265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278360" y="3841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292400" y="3929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338840" y="3917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279080" y="3810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372680" y="3855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366560" y="3842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931680" y="3930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115280" y="4228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949680" y="4031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936360" y="4073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013760" y="3980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105920" y="3940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182960" y="4000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244520" y="4057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065600" y="3975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62360" y="3975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997200" y="3967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001160" y="3798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026360" y="3900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069560" y="3890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054800" y="3895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046880" y="3910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066680" y="3907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049760" y="3935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013760" y="3831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059480" y="3854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004760" y="3881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094760" y="3866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058400" y="3954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003320" y="4017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003680" y="3993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021320" y="4034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029600" y="3885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066320" y="388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51080" y="3933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59720" y="3962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78080" y="3952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00040" y="3951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98600" y="4010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54320" y="4003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84200" y="3986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72320" y="4032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31640" y="3844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93840" y="3844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01840" y="3891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11120" y="3988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03200" y="3956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04640" y="3987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03200" y="3996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23360" y="3958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24440" y="3953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29840" y="3963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35240" y="3974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65480" y="3914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78080" y="3912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0080" y="4016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50920" y="4056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63600" y="4108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29120" y="4331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47120" y="4318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496080" y="4296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67720" y="4349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66200" y="4085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92840" y="4068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78880" y="4268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6040" y="4225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12800" y="4294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36560" y="4333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42680" y="4317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07040" y="4238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54480" y="4300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4240" y="3800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6160" y="3904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0600" y="3886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71040" y="3894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3200" y="3898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77880" y="3912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63840" y="3916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72400" y="3971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56920" y="4015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2800" y="4189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45840" y="4026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47360" y="4017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16400" y="4114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817560" y="4153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360" y="4212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30080" y="4238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803880" y="4270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48800" y="3921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83640" y="3888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26120" y="3891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8280" y="3900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5800" y="3876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28280" y="3880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05600" y="3928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21440" y="3889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3720" y="389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30800" y="3895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9480" y="3945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4880" y="3951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997920" y="3965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005840" y="4001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963360" y="4008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932400" y="4030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974520" y="4124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932400" y="4163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938160" y="4151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954360" y="4059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965520" y="3982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028520" y="3952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041120" y="3999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041120" y="3937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043640" y="3975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098720" y="3936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067760" y="3996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048320" y="4073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139040" y="3937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186920" y="3945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157040" y="3992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227960" y="4032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239480" y="4160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244520" y="4311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127160" y="4264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170360" y="4264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000440" y="3790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024560" y="3883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023120" y="3884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062360" y="3872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064160" y="3881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058760" y="3876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051200" y="3887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067760" y="3890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005120" y="3890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095480" y="3872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035720" y="3887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071000" y="3881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045080" y="3910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042200" y="3930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051560" y="3942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021680" y="3908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028520" y="3917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077480" y="3913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257840" y="4043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279800" y="3919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289160" y="3940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315440" y="3892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346040" y="3916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310760" y="3967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328760" y="3954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343520" y="3962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286280" y="3944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322280" y="3989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324800" y="4000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259280" y="3812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297800" y="3789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361880" y="3845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373760" y="3889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380600" y="3917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320840" y="4003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375920" y="3962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302840" y="3880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316880" y="3872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334160" y="3867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360800" y="3904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446120" y="4075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419120" y="3976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490040" y="4020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48560" y="4074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4" name=""/>
            <p:cNvSpPr/>
            <p:nvPr/>
          </p:nvSpPr>
          <p:spPr>
            <a:xfrm>
              <a:off x="1267920" y="4071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388520" y="4108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385280" y="4340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245960" y="4359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245960" y="4236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284840" y="4071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7380360" y="3716280"/>
            <a:ext cx="1274760" cy="720360"/>
            <a:chOff x="7380360" y="3716280"/>
            <a:chExt cx="1274760" cy="720360"/>
          </a:xfrm>
        </p:grpSpPr>
        <p:sp>
          <p:nvSpPr>
            <p:cNvPr id="2751" name=""/>
            <p:cNvSpPr/>
            <p:nvPr/>
          </p:nvSpPr>
          <p:spPr>
            <a:xfrm>
              <a:off x="7722000" y="42084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946280" y="42152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381440" y="39193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98840" y="39517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182800" y="42426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154720" y="39931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418600" y="39535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745040" y="38761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897320" y="41659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896600" y="41774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930800" y="38786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971120" y="39474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971120" y="39488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999200" y="39186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961400" y="39560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930800" y="38786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925400" y="42843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971120" y="43538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926120" y="43606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830000" y="42181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91480" y="42548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214120" y="37209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231400" y="38282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346600" y="39214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268120" y="39646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65960" y="39592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48680" y="38800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492680" y="37461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484040" y="37958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712640" y="38955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997400" y="41490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948800" y="41580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930800" y="37684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979040" y="38192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048880" y="38412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958880" y="38268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029440" y="38437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962120" y="38224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031600" y="38433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944840" y="37256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040960" y="38437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982280" y="38275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214480" y="38325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246880" y="38833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231400" y="39020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259120" y="39297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269560" y="39639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69560" y="39506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60920" y="37400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361000" y="38167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355600" y="38736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372880" y="38876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44000" y="37407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206560" y="38314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207280" y="37162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88720" y="39218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89000" y="40968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65960" y="41688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526240" y="39891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23120" y="40186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979040" y="42418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99680" y="38116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07240" y="38844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99320" y="38851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692480" y="39240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697880" y="39603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702920" y="39780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457760" y="38998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483320" y="37440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494480" y="37558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9600" y="38458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588080" y="38797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599600" y="39175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717680" y="39153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380360" y="39438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80360" y="40363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744320" y="42386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26760" y="42163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19200" y="42710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936560" y="43588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970040" y="43520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265960" y="39632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329320" y="38876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325000" y="38883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320680" y="38941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>
              <a:off x="8315640" y="39038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8308080" y="39117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8300880" y="39247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345880" y="39214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7719480" y="38937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625160" y="38818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633800" y="38869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643160" y="38934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654680" y="39016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993800" y="37252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39440" y="37252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934040" y="38005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929000" y="37994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961400" y="38523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962120" y="38833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990200" y="38646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013960" y="38354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039880" y="38437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960680" y="38134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957800" y="38167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978680" y="38250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071560" y="38502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084880" y="38545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956000" y="38073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076960" y="38502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025480" y="38764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962480" y="38664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38764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747920" y="39452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743600" y="40312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55480" y="40323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929000" y="38764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921800" y="41742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956000" y="41544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959600" y="39488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999200" y="39330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997400" y="41490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008920" y="40298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066520" y="39049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039160" y="39222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7740000" y="42084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961400" y="42296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063640" y="42141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962480" y="42890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7021080" y="448632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882" name=""/>
          <p:cNvGrpSpPr/>
          <p:nvPr/>
        </p:nvGrpSpPr>
        <p:grpSpPr>
          <a:xfrm>
            <a:off x="271440" y="1120680"/>
            <a:ext cx="8872560" cy="5737320"/>
            <a:chOff x="271440" y="1120680"/>
            <a:chExt cx="8872560" cy="5737320"/>
          </a:xfrm>
        </p:grpSpPr>
        <p:sp>
          <p:nvSpPr>
            <p:cNvPr id="2883" name=""/>
            <p:cNvSpPr/>
            <p:nvPr/>
          </p:nvSpPr>
          <p:spPr>
            <a:xfrm>
              <a:off x="3705480" y="2185920"/>
              <a:ext cx="3360600" cy="569880"/>
            </a:xfrm>
            <a:custGeom>
              <a:avLst/>
              <a:gdLst/>
              <a:ahLst/>
              <a:rect l="l" t="t" r="r" b="b"/>
              <a:pathLst>
                <a:path w="2117" h="359">
                  <a:moveTo>
                    <a:pt x="1047" y="15"/>
                  </a:moveTo>
                  <a:lnTo>
                    <a:pt x="0" y="359"/>
                  </a:lnTo>
                  <a:lnTo>
                    <a:pt x="2117" y="359"/>
                  </a:lnTo>
                  <a:lnTo>
                    <a:pt x="1496" y="0"/>
                  </a:lnTo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818000" y="3598920"/>
              <a:ext cx="1946160" cy="439920"/>
            </a:xfrm>
            <a:custGeom>
              <a:avLst/>
              <a:gdLst/>
              <a:ahLst/>
              <a:rect l="l" t="t" r="r" b="b"/>
              <a:pathLst>
                <a:path w="1226" h="277">
                  <a:moveTo>
                    <a:pt x="1174" y="0"/>
                  </a:moveTo>
                  <a:lnTo>
                    <a:pt x="1226" y="277"/>
                  </a:lnTo>
                  <a:lnTo>
                    <a:pt x="0" y="277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356440" y="3610080"/>
              <a:ext cx="3360600" cy="428760"/>
            </a:xfrm>
            <a:custGeom>
              <a:avLst/>
              <a:gdLst/>
              <a:ahLst/>
              <a:rect l="l" t="t" r="r" b="b"/>
              <a:pathLst>
                <a:path w="2117" h="270">
                  <a:moveTo>
                    <a:pt x="1055" y="0"/>
                  </a:moveTo>
                  <a:lnTo>
                    <a:pt x="0" y="255"/>
                  </a:lnTo>
                  <a:lnTo>
                    <a:pt x="2117" y="270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342120" y="4680000"/>
              <a:ext cx="2801880" cy="2173320"/>
            </a:xfrm>
            <a:custGeom>
              <a:avLst/>
              <a:gdLst/>
              <a:ahLst/>
              <a:rect l="l" t="t" r="r" b="b"/>
              <a:pathLst>
                <a:path w="1765" h="1369">
                  <a:moveTo>
                    <a:pt x="0" y="30"/>
                  </a:moveTo>
                  <a:lnTo>
                    <a:pt x="0" y="1369"/>
                  </a:lnTo>
                  <a:lnTo>
                    <a:pt x="1765" y="1369"/>
                  </a:lnTo>
                  <a:lnTo>
                    <a:pt x="1765" y="224"/>
                  </a:lnTo>
                  <a:lnTo>
                    <a:pt x="1488" y="0"/>
                  </a:lnTo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551400" y="4703760"/>
              <a:ext cx="2790720" cy="2149560"/>
            </a:xfrm>
            <a:custGeom>
              <a:avLst/>
              <a:gdLst/>
              <a:ahLst/>
              <a:rect l="l" t="t" r="r" b="b"/>
              <a:pathLst>
                <a:path w="1758" h="1354">
                  <a:moveTo>
                    <a:pt x="1758" y="15"/>
                  </a:moveTo>
                  <a:lnTo>
                    <a:pt x="1758" y="1354"/>
                  </a:lnTo>
                  <a:lnTo>
                    <a:pt x="0" y="1354"/>
                  </a:lnTo>
                  <a:lnTo>
                    <a:pt x="0" y="456"/>
                  </a:lnTo>
                  <a:lnTo>
                    <a:pt x="1152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388040" y="1603440"/>
              <a:ext cx="2916360" cy="627120"/>
              <a:chOff x="4388040" y="1603440"/>
              <a:chExt cx="2916360" cy="627120"/>
            </a:xfrm>
          </p:grpSpPr>
          <p:sp>
            <p:nvSpPr>
              <p:cNvPr id="2889" name=""/>
              <p:cNvSpPr/>
              <p:nvPr/>
            </p:nvSpPr>
            <p:spPr>
              <a:xfrm>
                <a:off x="6137640" y="160344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62840" y="160344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388040" y="1603440"/>
                <a:ext cx="1166760" cy="6271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2" name=""/>
            <p:cNvSpPr/>
            <p:nvPr/>
          </p:nvSpPr>
          <p:spPr>
            <a:xfrm>
              <a:off x="4404960" y="1293840"/>
              <a:ext cx="283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to do produto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3" name=""/>
            <p:cNvGrpSpPr/>
            <p:nvPr/>
          </p:nvGrpSpPr>
          <p:grpSpPr>
            <a:xfrm>
              <a:off x="3544560" y="2735280"/>
              <a:ext cx="3722760" cy="1239480"/>
              <a:chOff x="3544560" y="2735280"/>
              <a:chExt cx="3722760" cy="1239480"/>
            </a:xfrm>
          </p:grpSpPr>
          <p:grpSp>
            <p:nvGrpSpPr>
              <p:cNvPr id="2894" name=""/>
              <p:cNvGrpSpPr/>
              <p:nvPr/>
            </p:nvGrpSpPr>
            <p:grpSpPr>
              <a:xfrm>
                <a:off x="6912360" y="3122280"/>
                <a:ext cx="245160" cy="852480"/>
                <a:chOff x="6912360" y="3122280"/>
                <a:chExt cx="245160" cy="85248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7034400" y="312228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2700000">
                  <a:off x="6939360" y="341892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7" name=""/>
              <p:cNvSpPr/>
              <p:nvPr/>
            </p:nvSpPr>
            <p:spPr>
              <a:xfrm>
                <a:off x="3664440" y="2735280"/>
                <a:ext cx="3602880" cy="387000"/>
              </a:xfrm>
              <a:custGeom>
                <a:avLst/>
                <a:gdLst>
                  <a:gd name="textAreaLeft" fmla="*/ 0 w 3602880"/>
                  <a:gd name="textAreaRight" fmla="*/ 3603240 w 360288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82" y="0"/>
                    </a:lnTo>
                    <a:lnTo>
                      <a:pt x="21600" y="10800"/>
                    </a:lnTo>
                    <a:lnTo>
                      <a:pt x="20582" y="21600"/>
                    </a:lnTo>
                    <a:lnTo>
                      <a:pt x="0" y="21600"/>
                    </a:lnTo>
                    <a:lnTo>
                      <a:pt x="1018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8" name=""/>
              <p:cNvGrpSpPr/>
              <p:nvPr/>
            </p:nvGrpSpPr>
            <p:grpSpPr>
              <a:xfrm>
                <a:off x="3544560" y="3116880"/>
                <a:ext cx="245160" cy="852480"/>
                <a:chOff x="3544560" y="3116880"/>
                <a:chExt cx="245160" cy="85248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3666600" y="3116880"/>
                  <a:ext cx="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2700000">
                  <a:off x="3571560" y="3413520"/>
                  <a:ext cx="190800" cy="155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1" name=""/>
            <p:cNvSpPr/>
            <p:nvPr/>
          </p:nvSpPr>
          <p:spPr>
            <a:xfrm>
              <a:off x="2248200" y="3990960"/>
              <a:ext cx="1533240" cy="73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finição de critérios para próximo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50400" y="3990960"/>
              <a:ext cx="1533240" cy="730440"/>
            </a:xfrm>
            <a:prstGeom prst="rect">
              <a:avLst/>
            </a:prstGeom>
            <a:solidFill>
              <a:srgbClr val="ffccff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finição de critérios para próximo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343920" y="3987720"/>
              <a:ext cx="904680" cy="736920"/>
            </a:xfrm>
            <a:prstGeom prst="rect">
              <a:avLst/>
            </a:pr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308920" y="3987720"/>
              <a:ext cx="1035000" cy="7369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-avaliaçã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057920" y="3795840"/>
              <a:ext cx="94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ité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6" name=""/>
            <p:cNvGrpSpPr/>
            <p:nvPr/>
          </p:nvGrpSpPr>
          <p:grpSpPr>
            <a:xfrm>
              <a:off x="7134480" y="4834080"/>
              <a:ext cx="1371240" cy="686880"/>
              <a:chOff x="7134480" y="4834080"/>
              <a:chExt cx="1371240" cy="686880"/>
            </a:xfrm>
          </p:grpSpPr>
          <p:grpSp>
            <p:nvGrpSpPr>
              <p:cNvPr id="2907" name=""/>
              <p:cNvGrpSpPr/>
              <p:nvPr/>
            </p:nvGrpSpPr>
            <p:grpSpPr>
              <a:xfrm>
                <a:off x="7134480" y="4834080"/>
                <a:ext cx="1371240" cy="686880"/>
                <a:chOff x="7134480" y="4834080"/>
                <a:chExt cx="1371240" cy="68688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7445160" y="5024520"/>
                  <a:ext cx="293760" cy="29160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458480" y="5031360"/>
                  <a:ext cx="133200" cy="14472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7447320" y="5070240"/>
                  <a:ext cx="68400" cy="14040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465680" y="5181480"/>
                  <a:ext cx="48960" cy="7524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520040" y="5249160"/>
                  <a:ext cx="101880" cy="8460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527960" y="5067720"/>
                  <a:ext cx="185400" cy="20556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682760" y="5279040"/>
                  <a:ext cx="46800" cy="3708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701120" y="521100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604280" y="5266080"/>
                  <a:ext cx="80280" cy="6588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593840" y="508716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603200" y="51616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541280" y="4869360"/>
                  <a:ext cx="95400" cy="21276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545960" y="496008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632360" y="496692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156080" y="5055120"/>
                  <a:ext cx="433440" cy="41004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589880" y="5283000"/>
                  <a:ext cx="66960" cy="134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539480" y="5340960"/>
                  <a:ext cx="100080" cy="810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281000" y="4942440"/>
                  <a:ext cx="135720" cy="202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39320" y="5153400"/>
                  <a:ext cx="30240" cy="204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54440" y="4890600"/>
                  <a:ext cx="75600" cy="9900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45800" y="4997520"/>
                  <a:ext cx="20160" cy="1008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92960" y="5009400"/>
                  <a:ext cx="15120" cy="1152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571160" y="493632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610400" y="49399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583760" y="4991400"/>
                  <a:ext cx="28080" cy="756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8064360" y="5022000"/>
                  <a:ext cx="391680" cy="44244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8104320" y="5135760"/>
                  <a:ext cx="115200" cy="2304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8162640" y="5137200"/>
                  <a:ext cx="236520" cy="33156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8239680" y="5136480"/>
                  <a:ext cx="41760" cy="15084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8291160" y="5020200"/>
                  <a:ext cx="164880" cy="45252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8220240" y="5110920"/>
                  <a:ext cx="36360" cy="25992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8013240" y="5310360"/>
                  <a:ext cx="109440" cy="11412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8161920" y="4886280"/>
                  <a:ext cx="149760" cy="22788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8175960" y="497448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8222400" y="4962600"/>
                  <a:ext cx="18360" cy="828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8162640" y="4855680"/>
                  <a:ext cx="119880" cy="4716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8256240" y="4899960"/>
                  <a:ext cx="58320" cy="6588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8250120" y="4887360"/>
                  <a:ext cx="64080" cy="67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815240" y="4975200"/>
                  <a:ext cx="357840" cy="338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998840" y="5273640"/>
                  <a:ext cx="33120" cy="2952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833240" y="5076360"/>
                  <a:ext cx="18360" cy="10404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819920" y="5118480"/>
                  <a:ext cx="83160" cy="15840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897320" y="502524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989480" y="4984920"/>
                  <a:ext cx="70560" cy="65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8066520" y="5045040"/>
                  <a:ext cx="66600" cy="16776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8128080" y="5102640"/>
                  <a:ext cx="45360" cy="6408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949160" y="5020200"/>
                  <a:ext cx="68040" cy="25992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945920" y="5020200"/>
                  <a:ext cx="71640" cy="26244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880760" y="5011920"/>
                  <a:ext cx="47520" cy="1083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884720" y="4843080"/>
                  <a:ext cx="107280" cy="17280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909920" y="4945680"/>
                  <a:ext cx="18360" cy="133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953120" y="4934880"/>
                  <a:ext cx="19800" cy="1512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938360" y="4939920"/>
                  <a:ext cx="10440" cy="2520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930440" y="495504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950240" y="495252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933320" y="4980600"/>
                  <a:ext cx="27720" cy="720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897320" y="4876200"/>
                  <a:ext cx="29520" cy="4464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943040" y="489924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888320" y="4926240"/>
                  <a:ext cx="8280" cy="684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978320" y="491112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941960" y="49993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886880" y="5061960"/>
                  <a:ext cx="14400" cy="3528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887240" y="50382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904880" y="507960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913160" y="4930560"/>
                  <a:ext cx="20520" cy="972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949880" y="49262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334640" y="4977720"/>
                  <a:ext cx="45000" cy="3708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343280" y="5007600"/>
                  <a:ext cx="18360" cy="468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361640" y="4997520"/>
                  <a:ext cx="5040" cy="1008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383600" y="4996440"/>
                  <a:ext cx="33480" cy="5508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382160" y="505512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337880" y="50482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367760" y="503136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355880" y="5077080"/>
                  <a:ext cx="24840" cy="133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315200" y="4888800"/>
                  <a:ext cx="105120" cy="7272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277400" y="4888800"/>
                  <a:ext cx="115200" cy="14400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385400" y="4936320"/>
                  <a:ext cx="46800" cy="16704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294680" y="5033160"/>
                  <a:ext cx="87480" cy="11088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286760" y="5001120"/>
                  <a:ext cx="14400" cy="3276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288200" y="503244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286760" y="5040720"/>
                  <a:ext cx="11880" cy="2016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306920" y="5003280"/>
                  <a:ext cx="57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308000" y="4998240"/>
                  <a:ext cx="8640" cy="35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313400" y="5008320"/>
                  <a:ext cx="7920" cy="27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318800" y="5018760"/>
                  <a:ext cx="576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349040" y="4959360"/>
                  <a:ext cx="60840" cy="1764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361640" y="4956840"/>
                  <a:ext cx="40320" cy="1440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253640" y="5061240"/>
                  <a:ext cx="29520" cy="6156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134480" y="5100840"/>
                  <a:ext cx="348480" cy="4201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247160" y="5153400"/>
                  <a:ext cx="107640" cy="22464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312680" y="5376240"/>
                  <a:ext cx="17280" cy="4968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330680" y="5363640"/>
                  <a:ext cx="41760" cy="6336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379640" y="5340960"/>
                  <a:ext cx="257760" cy="10512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51280" y="5394240"/>
                  <a:ext cx="29520" cy="1512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349760" y="5130360"/>
                  <a:ext cx="25560" cy="2311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376400" y="5113440"/>
                  <a:ext cx="143640" cy="25992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62440" y="5313600"/>
                  <a:ext cx="64800" cy="6156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509600" y="5270400"/>
                  <a:ext cx="81360" cy="7452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596360" y="5339160"/>
                  <a:ext cx="48240" cy="4392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620120" y="5378040"/>
                  <a:ext cx="19080" cy="3708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626240" y="5361840"/>
                  <a:ext cx="30240" cy="5508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590600" y="5283000"/>
                  <a:ext cx="33480" cy="6084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538040" y="5345640"/>
                  <a:ext cx="39600" cy="262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507800" y="4844880"/>
                  <a:ext cx="133560" cy="20916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569720" y="4949280"/>
                  <a:ext cx="67320" cy="12456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544160" y="4931280"/>
                  <a:ext cx="7920" cy="2268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554600" y="4939200"/>
                  <a:ext cx="360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556760" y="4943160"/>
                  <a:ext cx="50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561440" y="4957560"/>
                  <a:ext cx="32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547400" y="496080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55960" y="5016240"/>
                  <a:ext cx="235800" cy="15912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40480" y="5060160"/>
                  <a:ext cx="93960" cy="18144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506360" y="5234040"/>
                  <a:ext cx="26280" cy="4248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529400" y="5071320"/>
                  <a:ext cx="193320" cy="22788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30920" y="5061960"/>
                  <a:ext cx="14400" cy="1490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599960" y="5159520"/>
                  <a:ext cx="11520" cy="151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701120" y="5198400"/>
                  <a:ext cx="21600" cy="532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75920" y="5256720"/>
                  <a:ext cx="75960" cy="5688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3640" y="5283000"/>
                  <a:ext cx="108000" cy="4896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87440" y="5315400"/>
                  <a:ext cx="248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32360" y="496620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567200" y="493308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09680" y="493632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1840" y="494568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569360" y="492120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1840" y="4925520"/>
                  <a:ext cx="19800" cy="648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589160" y="497304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05000" y="493380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577280" y="4936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4360" y="493992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583040" y="4990680"/>
                  <a:ext cx="28440" cy="324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588440" y="4996440"/>
                  <a:ext cx="19080" cy="432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881480" y="501012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889400" y="5045760"/>
                  <a:ext cx="34920" cy="5580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846920" y="5053320"/>
                  <a:ext cx="141840" cy="25920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815960" y="5075640"/>
                  <a:ext cx="56880" cy="18468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858080" y="5168880"/>
                  <a:ext cx="6480" cy="4572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815960" y="5208480"/>
                  <a:ext cx="34920" cy="7200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821720" y="5195880"/>
                  <a:ext cx="10440" cy="3456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837920" y="5104440"/>
                  <a:ext cx="8280" cy="3276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849080" y="5027040"/>
                  <a:ext cx="44280" cy="7524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912080" y="499752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924680" y="5043960"/>
                  <a:ext cx="81360" cy="6444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924680" y="4982400"/>
                  <a:ext cx="23760" cy="3708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927200" y="5020200"/>
                  <a:ext cx="57600" cy="2520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982280" y="4981320"/>
                  <a:ext cx="32400" cy="4644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951320" y="5040720"/>
                  <a:ext cx="68040" cy="2455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931880" y="5117760"/>
                  <a:ext cx="187560" cy="19728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8022600" y="4982400"/>
                  <a:ext cx="36360" cy="2088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8070480" y="4989960"/>
                  <a:ext cx="57240" cy="11448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8040600" y="5037120"/>
                  <a:ext cx="30960" cy="5580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8111520" y="5077080"/>
                  <a:ext cx="59400" cy="1227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8123040" y="5205240"/>
                  <a:ext cx="64080" cy="532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8128080" y="5356080"/>
                  <a:ext cx="98640" cy="4716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8010720" y="5309640"/>
                  <a:ext cx="145080" cy="12924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8053920" y="5309640"/>
                  <a:ext cx="69480" cy="5760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884000" y="4835520"/>
                  <a:ext cx="109440" cy="13032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908120" y="4928040"/>
                  <a:ext cx="34920" cy="828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906680" y="4929480"/>
                  <a:ext cx="26280" cy="1764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945920" y="4917600"/>
                  <a:ext cx="27000" cy="828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947720" y="492624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942320" y="492120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934760" y="4932000"/>
                  <a:ext cx="3600" cy="2448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951320" y="493560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888680" y="4934880"/>
                  <a:ext cx="13680" cy="1764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979040" y="4916880"/>
                  <a:ext cx="10440" cy="3024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919280" y="493200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954560" y="492624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928640" y="4955040"/>
                  <a:ext cx="30960" cy="2124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925760" y="4975200"/>
                  <a:ext cx="42840" cy="936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7935120" y="4987440"/>
                  <a:ext cx="23760" cy="1008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7905240" y="4953600"/>
                  <a:ext cx="75600" cy="6408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7912080" y="4962600"/>
                  <a:ext cx="15120" cy="2952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961040" y="495864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8141400" y="5088240"/>
                  <a:ext cx="54360" cy="3024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8163360" y="4964400"/>
                  <a:ext cx="34920" cy="4644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8172720" y="498492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8199000" y="493740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8229600" y="496080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8194320" y="5011920"/>
                  <a:ext cx="32400" cy="2448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8212320" y="499932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8227080" y="500688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8169840" y="4988880"/>
                  <a:ext cx="33480" cy="8784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8205840" y="5034600"/>
                  <a:ext cx="30960" cy="756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8208360" y="504504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8142840" y="4857480"/>
                  <a:ext cx="141840" cy="1090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8181360" y="4834080"/>
                  <a:ext cx="137160" cy="27864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8245440" y="489060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8257320" y="4933800"/>
                  <a:ext cx="31680" cy="3204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8264160" y="496260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8204400" y="5048280"/>
                  <a:ext cx="70920" cy="67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8259480" y="5007600"/>
                  <a:ext cx="5760" cy="3600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8186400" y="4924800"/>
                  <a:ext cx="62280" cy="1908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8200440" y="4917600"/>
                  <a:ext cx="46440" cy="118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8217720" y="491184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8244360" y="494928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329680" y="5120280"/>
                  <a:ext cx="176040" cy="39996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8302680" y="502128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8373600" y="5065200"/>
                  <a:ext cx="52920" cy="5220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8232120" y="5119560"/>
                  <a:ext cx="54720" cy="25848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8" name=""/>
              <p:cNvSpPr/>
              <p:nvPr/>
            </p:nvSpPr>
            <p:spPr>
              <a:xfrm>
                <a:off x="8151480" y="5115960"/>
                <a:ext cx="90000" cy="25848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8272080" y="5153400"/>
                <a:ext cx="119880" cy="22284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8268840" y="5384880"/>
                <a:ext cx="67320" cy="810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8129520" y="5404320"/>
                <a:ext cx="174960" cy="6408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8129520" y="5281560"/>
                <a:ext cx="75600" cy="7704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8168400" y="5115960"/>
                <a:ext cx="12960" cy="820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4" name=""/>
            <p:cNvSpPr/>
            <p:nvPr/>
          </p:nvSpPr>
          <p:spPr>
            <a:xfrm>
              <a:off x="3778200" y="5892840"/>
              <a:ext cx="185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340680" y="4714920"/>
              <a:ext cx="0" cy="18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6" name="" descr=""/>
            <p:cNvPicPr/>
            <p:nvPr/>
          </p:nvPicPr>
          <p:blipFill>
            <a:blip r:embed="rId1"/>
            <a:stretch/>
          </p:blipFill>
          <p:spPr>
            <a:xfrm>
              <a:off x="6026400" y="5342040"/>
              <a:ext cx="658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"/>
            <p:cNvSpPr/>
            <p:nvPr/>
          </p:nvSpPr>
          <p:spPr>
            <a:xfrm>
              <a:off x="5860080" y="5024520"/>
              <a:ext cx="967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ó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8" name=""/>
            <p:cNvGrpSpPr/>
            <p:nvPr/>
          </p:nvGrpSpPr>
          <p:grpSpPr>
            <a:xfrm>
              <a:off x="7197840" y="5813640"/>
              <a:ext cx="1274760" cy="720360"/>
              <a:chOff x="7197840" y="5813640"/>
              <a:chExt cx="1274760" cy="720360"/>
            </a:xfrm>
          </p:grpSpPr>
          <p:sp>
            <p:nvSpPr>
              <p:cNvPr id="3119" name=""/>
              <p:cNvSpPr/>
              <p:nvPr/>
            </p:nvSpPr>
            <p:spPr>
              <a:xfrm>
                <a:off x="7539480" y="6305760"/>
                <a:ext cx="567000" cy="133200"/>
              </a:xfrm>
              <a:custGeom>
                <a:avLst/>
                <a:gdLst/>
                <a:ahLst/>
                <a:rect l="l" t="t" r="r" b="b"/>
                <a:pathLst>
                  <a:path w="7426" h="2003">
                    <a:moveTo>
                      <a:pt x="0" y="0"/>
                    </a:moveTo>
                    <a:lnTo>
                      <a:pt x="7426" y="0"/>
                    </a:lnTo>
                    <a:lnTo>
                      <a:pt x="6050" y="2003"/>
                    </a:lnTo>
                    <a:lnTo>
                      <a:pt x="0" y="20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763760" y="6312600"/>
                <a:ext cx="345960" cy="41040"/>
              </a:xfrm>
              <a:custGeom>
                <a:avLst/>
                <a:gdLst/>
                <a:ahLst/>
                <a:rect l="l" t="t" r="r" b="b"/>
                <a:pathLst>
                  <a:path w="4520" h="620">
                    <a:moveTo>
                      <a:pt x="541" y="620"/>
                    </a:moveTo>
                    <a:lnTo>
                      <a:pt x="0" y="0"/>
                    </a:lnTo>
                    <a:lnTo>
                      <a:pt x="3269" y="0"/>
                    </a:lnTo>
                    <a:lnTo>
                      <a:pt x="4520" y="362"/>
                    </a:lnTo>
                    <a:lnTo>
                      <a:pt x="4520" y="620"/>
                    </a:lnTo>
                    <a:lnTo>
                      <a:pt x="541" y="6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198920" y="6016680"/>
                <a:ext cx="504720" cy="516240"/>
              </a:xfrm>
              <a:custGeom>
                <a:avLst/>
                <a:gdLst/>
                <a:ahLst/>
                <a:rect l="l" t="t" r="r" b="b"/>
                <a:pathLst>
                  <a:path w="6609" h="7730">
                    <a:moveTo>
                      <a:pt x="0" y="1307"/>
                    </a:moveTo>
                    <a:lnTo>
                      <a:pt x="0" y="4054"/>
                    </a:lnTo>
                    <a:lnTo>
                      <a:pt x="524" y="4182"/>
                    </a:lnTo>
                    <a:lnTo>
                      <a:pt x="1012" y="4509"/>
                    </a:lnTo>
                    <a:lnTo>
                      <a:pt x="1421" y="4893"/>
                    </a:lnTo>
                    <a:lnTo>
                      <a:pt x="1881" y="5439"/>
                    </a:lnTo>
                    <a:lnTo>
                      <a:pt x="2204" y="6144"/>
                    </a:lnTo>
                    <a:lnTo>
                      <a:pt x="2513" y="7020"/>
                    </a:lnTo>
                    <a:lnTo>
                      <a:pt x="2737" y="7730"/>
                    </a:lnTo>
                    <a:lnTo>
                      <a:pt x="5123" y="7730"/>
                    </a:lnTo>
                    <a:lnTo>
                      <a:pt x="6609" y="6091"/>
                    </a:lnTo>
                    <a:lnTo>
                      <a:pt x="6609" y="5746"/>
                    </a:lnTo>
                    <a:lnTo>
                      <a:pt x="6480" y="5508"/>
                    </a:lnTo>
                    <a:lnTo>
                      <a:pt x="6185" y="5344"/>
                    </a:lnTo>
                    <a:lnTo>
                      <a:pt x="5416" y="5031"/>
                    </a:lnTo>
                    <a:lnTo>
                      <a:pt x="5365" y="4985"/>
                    </a:lnTo>
                    <a:lnTo>
                      <a:pt x="4911" y="4906"/>
                    </a:lnTo>
                    <a:lnTo>
                      <a:pt x="4746" y="4856"/>
                    </a:lnTo>
                    <a:lnTo>
                      <a:pt x="4581" y="3272"/>
                    </a:lnTo>
                    <a:lnTo>
                      <a:pt x="4468" y="2742"/>
                    </a:lnTo>
                    <a:lnTo>
                      <a:pt x="4434" y="2490"/>
                    </a:lnTo>
                    <a:lnTo>
                      <a:pt x="4212" y="2017"/>
                    </a:lnTo>
                    <a:lnTo>
                      <a:pt x="4117" y="1909"/>
                    </a:lnTo>
                    <a:lnTo>
                      <a:pt x="3959" y="1760"/>
                    </a:lnTo>
                    <a:lnTo>
                      <a:pt x="3610" y="1580"/>
                    </a:lnTo>
                    <a:lnTo>
                      <a:pt x="3115" y="1199"/>
                    </a:lnTo>
                    <a:lnTo>
                      <a:pt x="2333" y="417"/>
                    </a:lnTo>
                    <a:lnTo>
                      <a:pt x="1748" y="125"/>
                    </a:lnTo>
                    <a:lnTo>
                      <a:pt x="1222" y="0"/>
                    </a:lnTo>
                    <a:lnTo>
                      <a:pt x="894" y="399"/>
                    </a:lnTo>
                    <a:lnTo>
                      <a:pt x="599" y="582"/>
                    </a:lnTo>
                    <a:lnTo>
                      <a:pt x="146" y="1142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816320" y="6049080"/>
                <a:ext cx="649080" cy="482760"/>
              </a:xfrm>
              <a:custGeom>
                <a:avLst/>
                <a:gdLst/>
                <a:ahLst/>
                <a:rect l="l" t="t" r="r" b="b"/>
                <a:pathLst>
                  <a:path w="8500" h="7234">
                    <a:moveTo>
                      <a:pt x="1999" y="4964"/>
                    </a:moveTo>
                    <a:lnTo>
                      <a:pt x="2075" y="4850"/>
                    </a:lnTo>
                    <a:lnTo>
                      <a:pt x="2430" y="4721"/>
                    </a:lnTo>
                    <a:lnTo>
                      <a:pt x="2665" y="4593"/>
                    </a:lnTo>
                    <a:lnTo>
                      <a:pt x="2915" y="4406"/>
                    </a:lnTo>
                    <a:lnTo>
                      <a:pt x="3339" y="4350"/>
                    </a:lnTo>
                    <a:lnTo>
                      <a:pt x="3412" y="3980"/>
                    </a:lnTo>
                    <a:lnTo>
                      <a:pt x="3507" y="3739"/>
                    </a:lnTo>
                    <a:lnTo>
                      <a:pt x="3658" y="2910"/>
                    </a:lnTo>
                    <a:lnTo>
                      <a:pt x="3788" y="2312"/>
                    </a:lnTo>
                    <a:lnTo>
                      <a:pt x="3954" y="1906"/>
                    </a:lnTo>
                    <a:lnTo>
                      <a:pt x="4137" y="1651"/>
                    </a:lnTo>
                    <a:lnTo>
                      <a:pt x="4454" y="1540"/>
                    </a:lnTo>
                    <a:lnTo>
                      <a:pt x="4641" y="1356"/>
                    </a:lnTo>
                    <a:lnTo>
                      <a:pt x="4710" y="1277"/>
                    </a:lnTo>
                    <a:lnTo>
                      <a:pt x="4710" y="1116"/>
                    </a:lnTo>
                    <a:lnTo>
                      <a:pt x="4803" y="876"/>
                    </a:lnTo>
                    <a:lnTo>
                      <a:pt x="5123" y="449"/>
                    </a:lnTo>
                    <a:lnTo>
                      <a:pt x="5717" y="76"/>
                    </a:lnTo>
                    <a:lnTo>
                      <a:pt x="6158" y="0"/>
                    </a:lnTo>
                    <a:lnTo>
                      <a:pt x="6737" y="466"/>
                    </a:lnTo>
                    <a:lnTo>
                      <a:pt x="6999" y="648"/>
                    </a:lnTo>
                    <a:lnTo>
                      <a:pt x="7329" y="1042"/>
                    </a:lnTo>
                    <a:lnTo>
                      <a:pt x="7679" y="1589"/>
                    </a:lnTo>
                    <a:lnTo>
                      <a:pt x="8016" y="2312"/>
                    </a:lnTo>
                    <a:lnTo>
                      <a:pt x="8389" y="3147"/>
                    </a:lnTo>
                    <a:lnTo>
                      <a:pt x="8500" y="3499"/>
                    </a:lnTo>
                    <a:lnTo>
                      <a:pt x="7772" y="3776"/>
                    </a:lnTo>
                    <a:lnTo>
                      <a:pt x="7128" y="4350"/>
                    </a:lnTo>
                    <a:lnTo>
                      <a:pt x="6807" y="4795"/>
                    </a:lnTo>
                    <a:lnTo>
                      <a:pt x="6495" y="5330"/>
                    </a:lnTo>
                    <a:lnTo>
                      <a:pt x="6289" y="5980"/>
                    </a:lnTo>
                    <a:lnTo>
                      <a:pt x="6091" y="7234"/>
                    </a:lnTo>
                    <a:lnTo>
                      <a:pt x="0" y="7234"/>
                    </a:lnTo>
                    <a:lnTo>
                      <a:pt x="1355" y="5533"/>
                    </a:lnTo>
                    <a:lnTo>
                      <a:pt x="1999" y="49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000280" y="6339960"/>
                <a:ext cx="70560" cy="98640"/>
              </a:xfrm>
              <a:custGeom>
                <a:avLst/>
                <a:gdLst/>
                <a:ahLst/>
                <a:rect l="l" t="t" r="r" b="b"/>
                <a:pathLst>
                  <a:path w="927" h="1480">
                    <a:moveTo>
                      <a:pt x="394" y="113"/>
                    </a:moveTo>
                    <a:lnTo>
                      <a:pt x="670" y="386"/>
                    </a:lnTo>
                    <a:lnTo>
                      <a:pt x="670" y="540"/>
                    </a:lnTo>
                    <a:lnTo>
                      <a:pt x="0" y="851"/>
                    </a:lnTo>
                    <a:lnTo>
                      <a:pt x="112" y="1480"/>
                    </a:lnTo>
                    <a:lnTo>
                      <a:pt x="670" y="1245"/>
                    </a:lnTo>
                    <a:lnTo>
                      <a:pt x="778" y="962"/>
                    </a:lnTo>
                    <a:lnTo>
                      <a:pt x="855" y="243"/>
                    </a:lnTo>
                    <a:lnTo>
                      <a:pt x="927" y="0"/>
                    </a:lnTo>
                    <a:lnTo>
                      <a:pt x="479" y="56"/>
                    </a:lnTo>
                    <a:lnTo>
                      <a:pt x="394" y="113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72200" y="6090480"/>
                <a:ext cx="500400" cy="441720"/>
              </a:xfrm>
              <a:custGeom>
                <a:avLst/>
                <a:gdLst/>
                <a:ahLst/>
                <a:rect l="l" t="t" r="r" b="b"/>
                <a:pathLst>
                  <a:path w="6551" h="6616">
                    <a:moveTo>
                      <a:pt x="6551" y="2921"/>
                    </a:moveTo>
                    <a:lnTo>
                      <a:pt x="6133" y="3048"/>
                    </a:lnTo>
                    <a:lnTo>
                      <a:pt x="5692" y="3252"/>
                    </a:lnTo>
                    <a:lnTo>
                      <a:pt x="5378" y="3432"/>
                    </a:lnTo>
                    <a:lnTo>
                      <a:pt x="5048" y="3801"/>
                    </a:lnTo>
                    <a:lnTo>
                      <a:pt x="4712" y="4252"/>
                    </a:lnTo>
                    <a:lnTo>
                      <a:pt x="4470" y="4694"/>
                    </a:lnTo>
                    <a:lnTo>
                      <a:pt x="3396" y="6547"/>
                    </a:lnTo>
                    <a:lnTo>
                      <a:pt x="2278" y="6616"/>
                    </a:lnTo>
                    <a:lnTo>
                      <a:pt x="0" y="6616"/>
                    </a:lnTo>
                    <a:lnTo>
                      <a:pt x="108" y="6197"/>
                    </a:lnTo>
                    <a:lnTo>
                      <a:pt x="367" y="6485"/>
                    </a:lnTo>
                    <a:lnTo>
                      <a:pt x="606" y="6524"/>
                    </a:lnTo>
                    <a:lnTo>
                      <a:pt x="457" y="6322"/>
                    </a:lnTo>
                    <a:lnTo>
                      <a:pt x="457" y="5971"/>
                    </a:lnTo>
                    <a:lnTo>
                      <a:pt x="870" y="5599"/>
                    </a:lnTo>
                    <a:lnTo>
                      <a:pt x="1145" y="6227"/>
                    </a:lnTo>
                    <a:lnTo>
                      <a:pt x="1332" y="6524"/>
                    </a:lnTo>
                    <a:lnTo>
                      <a:pt x="1909" y="6098"/>
                    </a:lnTo>
                    <a:lnTo>
                      <a:pt x="2466" y="5252"/>
                    </a:lnTo>
                    <a:lnTo>
                      <a:pt x="1481" y="5671"/>
                    </a:lnTo>
                    <a:lnTo>
                      <a:pt x="2134" y="4837"/>
                    </a:lnTo>
                    <a:lnTo>
                      <a:pt x="1462" y="4936"/>
                    </a:lnTo>
                    <a:lnTo>
                      <a:pt x="1446" y="4751"/>
                    </a:lnTo>
                    <a:lnTo>
                      <a:pt x="2206" y="4103"/>
                    </a:lnTo>
                    <a:lnTo>
                      <a:pt x="2241" y="4435"/>
                    </a:lnTo>
                    <a:lnTo>
                      <a:pt x="2448" y="4498"/>
                    </a:lnTo>
                    <a:lnTo>
                      <a:pt x="3188" y="3956"/>
                    </a:lnTo>
                    <a:lnTo>
                      <a:pt x="3465" y="3342"/>
                    </a:lnTo>
                    <a:lnTo>
                      <a:pt x="3558" y="2377"/>
                    </a:lnTo>
                    <a:lnTo>
                      <a:pt x="3211" y="1477"/>
                    </a:lnTo>
                    <a:lnTo>
                      <a:pt x="4212" y="2342"/>
                    </a:lnTo>
                    <a:lnTo>
                      <a:pt x="5378" y="2694"/>
                    </a:lnTo>
                    <a:lnTo>
                      <a:pt x="5766" y="2960"/>
                    </a:lnTo>
                    <a:lnTo>
                      <a:pt x="6254" y="2881"/>
                    </a:lnTo>
                    <a:lnTo>
                      <a:pt x="6087" y="2248"/>
                    </a:lnTo>
                    <a:lnTo>
                      <a:pt x="5582" y="971"/>
                    </a:lnTo>
                    <a:lnTo>
                      <a:pt x="5140" y="258"/>
                    </a:lnTo>
                    <a:lnTo>
                      <a:pt x="4894" y="0"/>
                    </a:lnTo>
                    <a:lnTo>
                      <a:pt x="5250" y="327"/>
                    </a:lnTo>
                    <a:lnTo>
                      <a:pt x="5634" y="940"/>
                    </a:lnTo>
                    <a:lnTo>
                      <a:pt x="6030" y="1810"/>
                    </a:lnTo>
                    <a:lnTo>
                      <a:pt x="6344" y="2513"/>
                    </a:lnTo>
                    <a:lnTo>
                      <a:pt x="6551" y="292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236080" y="6050880"/>
                <a:ext cx="60120" cy="57600"/>
              </a:xfrm>
              <a:custGeom>
                <a:avLst/>
                <a:gdLst/>
                <a:ahLst/>
                <a:rect l="l" t="t" r="r" b="b"/>
                <a:pathLst>
                  <a:path w="791" h="867">
                    <a:moveTo>
                      <a:pt x="197" y="120"/>
                    </a:moveTo>
                    <a:lnTo>
                      <a:pt x="307" y="199"/>
                    </a:lnTo>
                    <a:lnTo>
                      <a:pt x="386" y="512"/>
                    </a:lnTo>
                    <a:lnTo>
                      <a:pt x="346" y="625"/>
                    </a:lnTo>
                    <a:lnTo>
                      <a:pt x="0" y="867"/>
                    </a:lnTo>
                    <a:lnTo>
                      <a:pt x="791" y="535"/>
                    </a:lnTo>
                    <a:lnTo>
                      <a:pt x="791" y="298"/>
                    </a:lnTo>
                    <a:lnTo>
                      <a:pt x="573" y="0"/>
                    </a:lnTo>
                    <a:lnTo>
                      <a:pt x="346" y="39"/>
                    </a:lnTo>
                    <a:lnTo>
                      <a:pt x="197" y="12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562520" y="5973480"/>
                <a:ext cx="531720" cy="353160"/>
              </a:xfrm>
              <a:custGeom>
                <a:avLst/>
                <a:gdLst/>
                <a:ahLst/>
                <a:rect l="l" t="t" r="r" b="b"/>
                <a:pathLst>
                  <a:path w="6960" h="5288">
                    <a:moveTo>
                      <a:pt x="2583" y="0"/>
                    </a:moveTo>
                    <a:lnTo>
                      <a:pt x="2425" y="32"/>
                    </a:lnTo>
                    <a:lnTo>
                      <a:pt x="2146" y="173"/>
                    </a:lnTo>
                    <a:lnTo>
                      <a:pt x="1372" y="233"/>
                    </a:lnTo>
                    <a:lnTo>
                      <a:pt x="592" y="498"/>
                    </a:lnTo>
                    <a:lnTo>
                      <a:pt x="229" y="706"/>
                    </a:lnTo>
                    <a:lnTo>
                      <a:pt x="141" y="876"/>
                    </a:lnTo>
                    <a:lnTo>
                      <a:pt x="93" y="1047"/>
                    </a:lnTo>
                    <a:lnTo>
                      <a:pt x="141" y="1374"/>
                    </a:lnTo>
                    <a:lnTo>
                      <a:pt x="229" y="1625"/>
                    </a:lnTo>
                    <a:lnTo>
                      <a:pt x="141" y="2183"/>
                    </a:lnTo>
                    <a:lnTo>
                      <a:pt x="102" y="2308"/>
                    </a:lnTo>
                    <a:lnTo>
                      <a:pt x="32" y="2356"/>
                    </a:lnTo>
                    <a:lnTo>
                      <a:pt x="0" y="2444"/>
                    </a:lnTo>
                    <a:lnTo>
                      <a:pt x="12" y="2620"/>
                    </a:lnTo>
                    <a:lnTo>
                      <a:pt x="155" y="3086"/>
                    </a:lnTo>
                    <a:lnTo>
                      <a:pt x="155" y="3277"/>
                    </a:lnTo>
                    <a:lnTo>
                      <a:pt x="141" y="3525"/>
                    </a:lnTo>
                    <a:lnTo>
                      <a:pt x="126" y="3655"/>
                    </a:lnTo>
                    <a:lnTo>
                      <a:pt x="32" y="3928"/>
                    </a:lnTo>
                    <a:lnTo>
                      <a:pt x="44" y="4198"/>
                    </a:lnTo>
                    <a:lnTo>
                      <a:pt x="556" y="4862"/>
                    </a:lnTo>
                    <a:lnTo>
                      <a:pt x="888" y="4980"/>
                    </a:lnTo>
                    <a:lnTo>
                      <a:pt x="1003" y="5053"/>
                    </a:lnTo>
                    <a:lnTo>
                      <a:pt x="1361" y="5022"/>
                    </a:lnTo>
                    <a:lnTo>
                      <a:pt x="1671" y="5148"/>
                    </a:lnTo>
                    <a:lnTo>
                      <a:pt x="2062" y="5288"/>
                    </a:lnTo>
                    <a:lnTo>
                      <a:pt x="2704" y="4862"/>
                    </a:lnTo>
                    <a:lnTo>
                      <a:pt x="6835" y="4837"/>
                    </a:lnTo>
                    <a:lnTo>
                      <a:pt x="6960" y="4152"/>
                    </a:lnTo>
                    <a:lnTo>
                      <a:pt x="6621" y="4119"/>
                    </a:lnTo>
                    <a:lnTo>
                      <a:pt x="6446" y="3917"/>
                    </a:lnTo>
                    <a:lnTo>
                      <a:pt x="6333" y="3853"/>
                    </a:lnTo>
                    <a:lnTo>
                      <a:pt x="6151" y="3536"/>
                    </a:lnTo>
                    <a:lnTo>
                      <a:pt x="6022" y="3011"/>
                    </a:lnTo>
                    <a:lnTo>
                      <a:pt x="5955" y="2780"/>
                    </a:lnTo>
                    <a:lnTo>
                      <a:pt x="5912" y="2483"/>
                    </a:lnTo>
                    <a:lnTo>
                      <a:pt x="5773" y="2420"/>
                    </a:lnTo>
                    <a:lnTo>
                      <a:pt x="5745" y="2229"/>
                    </a:lnTo>
                    <a:lnTo>
                      <a:pt x="5773" y="1812"/>
                    </a:lnTo>
                    <a:lnTo>
                      <a:pt x="5745" y="1515"/>
                    </a:lnTo>
                    <a:lnTo>
                      <a:pt x="5710" y="1314"/>
                    </a:lnTo>
                    <a:lnTo>
                      <a:pt x="5660" y="1097"/>
                    </a:lnTo>
                    <a:lnTo>
                      <a:pt x="5584" y="998"/>
                    </a:lnTo>
                    <a:lnTo>
                      <a:pt x="5521" y="966"/>
                    </a:lnTo>
                    <a:lnTo>
                      <a:pt x="5424" y="936"/>
                    </a:lnTo>
                    <a:lnTo>
                      <a:pt x="4848" y="717"/>
                    </a:lnTo>
                    <a:lnTo>
                      <a:pt x="4240" y="438"/>
                    </a:lnTo>
                    <a:lnTo>
                      <a:pt x="3850" y="267"/>
                    </a:lnTo>
                    <a:lnTo>
                      <a:pt x="258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14800" y="626328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904" h="929">
                    <a:moveTo>
                      <a:pt x="626" y="0"/>
                    </a:moveTo>
                    <a:lnTo>
                      <a:pt x="904" y="74"/>
                    </a:lnTo>
                    <a:lnTo>
                      <a:pt x="720" y="221"/>
                    </a:lnTo>
                    <a:lnTo>
                      <a:pt x="477" y="584"/>
                    </a:lnTo>
                    <a:lnTo>
                      <a:pt x="293" y="929"/>
                    </a:lnTo>
                    <a:lnTo>
                      <a:pt x="0" y="843"/>
                    </a:lnTo>
                    <a:lnTo>
                      <a:pt x="26" y="558"/>
                    </a:lnTo>
                    <a:lnTo>
                      <a:pt x="132" y="378"/>
                    </a:lnTo>
                    <a:lnTo>
                      <a:pt x="277" y="228"/>
                    </a:lnTo>
                    <a:lnTo>
                      <a:pt x="487" y="74"/>
                    </a:lnTo>
                    <a:lnTo>
                      <a:pt x="6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14080" y="62748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21" h="763">
                    <a:moveTo>
                      <a:pt x="402" y="0"/>
                    </a:moveTo>
                    <a:lnTo>
                      <a:pt x="249" y="172"/>
                    </a:lnTo>
                    <a:lnTo>
                      <a:pt x="152" y="366"/>
                    </a:lnTo>
                    <a:lnTo>
                      <a:pt x="327" y="378"/>
                    </a:lnTo>
                    <a:lnTo>
                      <a:pt x="521" y="212"/>
                    </a:lnTo>
                    <a:lnTo>
                      <a:pt x="378" y="535"/>
                    </a:lnTo>
                    <a:lnTo>
                      <a:pt x="327" y="763"/>
                    </a:lnTo>
                    <a:lnTo>
                      <a:pt x="0" y="763"/>
                    </a:lnTo>
                    <a:lnTo>
                      <a:pt x="11" y="574"/>
                    </a:lnTo>
                    <a:lnTo>
                      <a:pt x="77" y="322"/>
                    </a:lnTo>
                    <a:lnTo>
                      <a:pt x="207" y="172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48280" y="5976000"/>
                <a:ext cx="114840" cy="259560"/>
              </a:xfrm>
              <a:custGeom>
                <a:avLst/>
                <a:gdLst/>
                <a:ahLst/>
                <a:rect l="l" t="t" r="r" b="b"/>
                <a:pathLst>
                  <a:path w="1500" h="3892">
                    <a:moveTo>
                      <a:pt x="143" y="0"/>
                    </a:moveTo>
                    <a:lnTo>
                      <a:pt x="1500" y="561"/>
                    </a:lnTo>
                    <a:lnTo>
                      <a:pt x="1500" y="1046"/>
                    </a:lnTo>
                    <a:lnTo>
                      <a:pt x="1426" y="1553"/>
                    </a:lnTo>
                    <a:lnTo>
                      <a:pt x="1336" y="2078"/>
                    </a:lnTo>
                    <a:lnTo>
                      <a:pt x="1193" y="2760"/>
                    </a:lnTo>
                    <a:lnTo>
                      <a:pt x="1053" y="3259"/>
                    </a:lnTo>
                    <a:lnTo>
                      <a:pt x="815" y="3892"/>
                    </a:lnTo>
                    <a:lnTo>
                      <a:pt x="774" y="3293"/>
                    </a:lnTo>
                    <a:lnTo>
                      <a:pt x="642" y="2523"/>
                    </a:lnTo>
                    <a:lnTo>
                      <a:pt x="560" y="2041"/>
                    </a:lnTo>
                    <a:lnTo>
                      <a:pt x="488" y="1659"/>
                    </a:lnTo>
                    <a:lnTo>
                      <a:pt x="338" y="1336"/>
                    </a:lnTo>
                    <a:lnTo>
                      <a:pt x="172" y="995"/>
                    </a:lnTo>
                    <a:lnTo>
                      <a:pt x="43" y="705"/>
                    </a:lnTo>
                    <a:lnTo>
                      <a:pt x="0" y="497"/>
                    </a:lnTo>
                    <a:lnTo>
                      <a:pt x="0" y="301"/>
                    </a:lnTo>
                    <a:lnTo>
                      <a:pt x="66" y="12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88600" y="6044760"/>
                <a:ext cx="37080" cy="192240"/>
              </a:xfrm>
              <a:custGeom>
                <a:avLst/>
                <a:gdLst/>
                <a:ahLst/>
                <a:rect l="l" t="t" r="r" b="b"/>
                <a:pathLst>
                  <a:path w="486" h="2874">
                    <a:moveTo>
                      <a:pt x="194" y="0"/>
                    </a:moveTo>
                    <a:lnTo>
                      <a:pt x="51" y="126"/>
                    </a:lnTo>
                    <a:lnTo>
                      <a:pt x="139" y="455"/>
                    </a:lnTo>
                    <a:lnTo>
                      <a:pt x="0" y="806"/>
                    </a:lnTo>
                    <a:lnTo>
                      <a:pt x="81" y="1235"/>
                    </a:lnTo>
                    <a:lnTo>
                      <a:pt x="178" y="1853"/>
                    </a:lnTo>
                    <a:lnTo>
                      <a:pt x="265" y="2463"/>
                    </a:lnTo>
                    <a:lnTo>
                      <a:pt x="328" y="2874"/>
                    </a:lnTo>
                    <a:lnTo>
                      <a:pt x="486" y="2371"/>
                    </a:lnTo>
                    <a:lnTo>
                      <a:pt x="459" y="1973"/>
                    </a:lnTo>
                    <a:lnTo>
                      <a:pt x="440" y="1265"/>
                    </a:lnTo>
                    <a:lnTo>
                      <a:pt x="436" y="857"/>
                    </a:lnTo>
                    <a:lnTo>
                      <a:pt x="401" y="622"/>
                    </a:lnTo>
                    <a:lnTo>
                      <a:pt x="365" y="477"/>
                    </a:lnTo>
                    <a:lnTo>
                      <a:pt x="440" y="248"/>
                    </a:lnTo>
                    <a:lnTo>
                      <a:pt x="355" y="24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788600" y="6046200"/>
                <a:ext cx="35280" cy="157320"/>
              </a:xfrm>
              <a:custGeom>
                <a:avLst/>
                <a:gdLst/>
                <a:ahLst/>
                <a:rect l="l" t="t" r="r" b="b"/>
                <a:pathLst>
                  <a:path w="459" h="2362">
                    <a:moveTo>
                      <a:pt x="365" y="94"/>
                    </a:moveTo>
                    <a:lnTo>
                      <a:pt x="288" y="79"/>
                    </a:lnTo>
                    <a:lnTo>
                      <a:pt x="207" y="169"/>
                    </a:lnTo>
                    <a:lnTo>
                      <a:pt x="247" y="433"/>
                    </a:lnTo>
                    <a:lnTo>
                      <a:pt x="288" y="433"/>
                    </a:lnTo>
                    <a:lnTo>
                      <a:pt x="385" y="272"/>
                    </a:lnTo>
                    <a:lnTo>
                      <a:pt x="355" y="523"/>
                    </a:lnTo>
                    <a:lnTo>
                      <a:pt x="440" y="875"/>
                    </a:lnTo>
                    <a:lnTo>
                      <a:pt x="436" y="1701"/>
                    </a:lnTo>
                    <a:lnTo>
                      <a:pt x="459" y="2362"/>
                    </a:lnTo>
                    <a:lnTo>
                      <a:pt x="401" y="2000"/>
                    </a:lnTo>
                    <a:lnTo>
                      <a:pt x="365" y="1542"/>
                    </a:lnTo>
                    <a:lnTo>
                      <a:pt x="355" y="1097"/>
                    </a:lnTo>
                    <a:lnTo>
                      <a:pt x="339" y="848"/>
                    </a:lnTo>
                    <a:lnTo>
                      <a:pt x="265" y="613"/>
                    </a:lnTo>
                    <a:lnTo>
                      <a:pt x="247" y="940"/>
                    </a:lnTo>
                    <a:lnTo>
                      <a:pt x="178" y="1009"/>
                    </a:lnTo>
                    <a:lnTo>
                      <a:pt x="139" y="940"/>
                    </a:lnTo>
                    <a:lnTo>
                      <a:pt x="207" y="606"/>
                    </a:lnTo>
                    <a:lnTo>
                      <a:pt x="104" y="769"/>
                    </a:lnTo>
                    <a:lnTo>
                      <a:pt x="51" y="1085"/>
                    </a:lnTo>
                    <a:lnTo>
                      <a:pt x="0" y="797"/>
                    </a:lnTo>
                    <a:lnTo>
                      <a:pt x="139" y="446"/>
                    </a:lnTo>
                    <a:lnTo>
                      <a:pt x="69" y="117"/>
                    </a:lnTo>
                    <a:lnTo>
                      <a:pt x="171" y="0"/>
                    </a:lnTo>
                    <a:lnTo>
                      <a:pt x="339" y="15"/>
                    </a:lnTo>
                    <a:lnTo>
                      <a:pt x="365" y="9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816680" y="6015960"/>
                <a:ext cx="46800" cy="182520"/>
              </a:xfrm>
              <a:custGeom>
                <a:avLst/>
                <a:gdLst/>
                <a:ahLst/>
                <a:rect l="l" t="t" r="r" b="b"/>
                <a:pathLst>
                  <a:path w="620" h="2734">
                    <a:moveTo>
                      <a:pt x="94" y="1255"/>
                    </a:moveTo>
                    <a:lnTo>
                      <a:pt x="266" y="953"/>
                    </a:lnTo>
                    <a:lnTo>
                      <a:pt x="394" y="758"/>
                    </a:lnTo>
                    <a:lnTo>
                      <a:pt x="354" y="1204"/>
                    </a:lnTo>
                    <a:lnTo>
                      <a:pt x="266" y="1709"/>
                    </a:lnTo>
                    <a:lnTo>
                      <a:pt x="106" y="2410"/>
                    </a:lnTo>
                    <a:lnTo>
                      <a:pt x="130" y="2734"/>
                    </a:lnTo>
                    <a:lnTo>
                      <a:pt x="369" y="1831"/>
                    </a:lnTo>
                    <a:lnTo>
                      <a:pt x="525" y="1125"/>
                    </a:lnTo>
                    <a:lnTo>
                      <a:pt x="589" y="703"/>
                    </a:lnTo>
                    <a:lnTo>
                      <a:pt x="620" y="224"/>
                    </a:lnTo>
                    <a:lnTo>
                      <a:pt x="608" y="0"/>
                    </a:lnTo>
                    <a:lnTo>
                      <a:pt x="477" y="105"/>
                    </a:lnTo>
                    <a:lnTo>
                      <a:pt x="477" y="277"/>
                    </a:lnTo>
                    <a:lnTo>
                      <a:pt x="428" y="540"/>
                    </a:lnTo>
                    <a:lnTo>
                      <a:pt x="233" y="899"/>
                    </a:lnTo>
                    <a:lnTo>
                      <a:pt x="75" y="639"/>
                    </a:lnTo>
                    <a:lnTo>
                      <a:pt x="0" y="945"/>
                    </a:lnTo>
                    <a:lnTo>
                      <a:pt x="71" y="1140"/>
                    </a:lnTo>
                    <a:lnTo>
                      <a:pt x="94" y="125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778880" y="6053400"/>
                <a:ext cx="20520" cy="42120"/>
              </a:xfrm>
              <a:custGeom>
                <a:avLst/>
                <a:gdLst/>
                <a:ahLst/>
                <a:rect l="l" t="t" r="r" b="b"/>
                <a:pathLst>
                  <a:path w="268" h="627">
                    <a:moveTo>
                      <a:pt x="108" y="627"/>
                    </a:moveTo>
                    <a:lnTo>
                      <a:pt x="0" y="249"/>
                    </a:lnTo>
                    <a:lnTo>
                      <a:pt x="159" y="0"/>
                    </a:lnTo>
                    <a:lnTo>
                      <a:pt x="268" y="329"/>
                    </a:lnTo>
                    <a:lnTo>
                      <a:pt x="198" y="512"/>
                    </a:lnTo>
                    <a:lnTo>
                      <a:pt x="108" y="6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748280" y="5976000"/>
                <a:ext cx="16200" cy="59760"/>
              </a:xfrm>
              <a:custGeom>
                <a:avLst/>
                <a:gdLst/>
                <a:ahLst/>
                <a:rect l="l" t="t" r="r" b="b"/>
                <a:pathLst>
                  <a:path w="211" h="900">
                    <a:moveTo>
                      <a:pt x="211" y="549"/>
                    </a:moveTo>
                    <a:lnTo>
                      <a:pt x="161" y="681"/>
                    </a:lnTo>
                    <a:lnTo>
                      <a:pt x="132" y="780"/>
                    </a:lnTo>
                    <a:lnTo>
                      <a:pt x="119" y="900"/>
                    </a:lnTo>
                    <a:lnTo>
                      <a:pt x="50" y="705"/>
                    </a:lnTo>
                    <a:lnTo>
                      <a:pt x="0" y="561"/>
                    </a:lnTo>
                    <a:lnTo>
                      <a:pt x="0" y="354"/>
                    </a:lnTo>
                    <a:lnTo>
                      <a:pt x="43" y="209"/>
                    </a:lnTo>
                    <a:lnTo>
                      <a:pt x="96" y="66"/>
                    </a:lnTo>
                    <a:lnTo>
                      <a:pt x="143" y="0"/>
                    </a:lnTo>
                    <a:lnTo>
                      <a:pt x="182" y="323"/>
                    </a:lnTo>
                    <a:lnTo>
                      <a:pt x="211" y="54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742880" y="6381720"/>
                <a:ext cx="259560" cy="128160"/>
              </a:xfrm>
              <a:custGeom>
                <a:avLst/>
                <a:gdLst/>
                <a:ahLst/>
                <a:rect l="l" t="t" r="r" b="b"/>
                <a:pathLst>
                  <a:path w="3405" h="1922">
                    <a:moveTo>
                      <a:pt x="2938" y="0"/>
                    </a:moveTo>
                    <a:lnTo>
                      <a:pt x="2852" y="59"/>
                    </a:lnTo>
                    <a:lnTo>
                      <a:pt x="2017" y="375"/>
                    </a:lnTo>
                    <a:lnTo>
                      <a:pt x="1040" y="587"/>
                    </a:lnTo>
                    <a:lnTo>
                      <a:pt x="581" y="949"/>
                    </a:lnTo>
                    <a:lnTo>
                      <a:pt x="565" y="1028"/>
                    </a:lnTo>
                    <a:lnTo>
                      <a:pt x="191" y="1074"/>
                    </a:lnTo>
                    <a:lnTo>
                      <a:pt x="0" y="1173"/>
                    </a:lnTo>
                    <a:lnTo>
                      <a:pt x="0" y="1274"/>
                    </a:lnTo>
                    <a:lnTo>
                      <a:pt x="1980" y="1922"/>
                    </a:lnTo>
                    <a:lnTo>
                      <a:pt x="2246" y="1371"/>
                    </a:lnTo>
                    <a:lnTo>
                      <a:pt x="3405" y="501"/>
                    </a:lnTo>
                    <a:lnTo>
                      <a:pt x="3331" y="241"/>
                    </a:lnTo>
                    <a:lnTo>
                      <a:pt x="3094" y="0"/>
                    </a:lnTo>
                    <a:lnTo>
                      <a:pt x="2938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788600" y="6451200"/>
                <a:ext cx="23040" cy="11160"/>
              </a:xfrm>
              <a:custGeom>
                <a:avLst/>
                <a:gdLst/>
                <a:ahLst/>
                <a:rect l="l" t="t" r="r" b="b"/>
                <a:pathLst>
                  <a:path w="308" h="163">
                    <a:moveTo>
                      <a:pt x="34" y="51"/>
                    </a:moveTo>
                    <a:lnTo>
                      <a:pt x="0" y="81"/>
                    </a:lnTo>
                    <a:lnTo>
                      <a:pt x="4" y="123"/>
                    </a:lnTo>
                    <a:lnTo>
                      <a:pt x="31" y="143"/>
                    </a:lnTo>
                    <a:lnTo>
                      <a:pt x="244" y="163"/>
                    </a:lnTo>
                    <a:lnTo>
                      <a:pt x="297" y="132"/>
                    </a:lnTo>
                    <a:lnTo>
                      <a:pt x="308" y="77"/>
                    </a:lnTo>
                    <a:lnTo>
                      <a:pt x="279" y="18"/>
                    </a:lnTo>
                    <a:lnTo>
                      <a:pt x="226" y="0"/>
                    </a:lnTo>
                    <a:lnTo>
                      <a:pt x="34" y="5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743600" y="645804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19" h="145">
                    <a:moveTo>
                      <a:pt x="0" y="111"/>
                    </a:moveTo>
                    <a:lnTo>
                      <a:pt x="13" y="40"/>
                    </a:lnTo>
                    <a:lnTo>
                      <a:pt x="109" y="0"/>
                    </a:lnTo>
                    <a:lnTo>
                      <a:pt x="209" y="0"/>
                    </a:lnTo>
                    <a:lnTo>
                      <a:pt x="294" y="33"/>
                    </a:lnTo>
                    <a:lnTo>
                      <a:pt x="319" y="99"/>
                    </a:lnTo>
                    <a:lnTo>
                      <a:pt x="308" y="134"/>
                    </a:lnTo>
                    <a:lnTo>
                      <a:pt x="282" y="145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647480" y="6315480"/>
                <a:ext cx="135000" cy="79560"/>
              </a:xfrm>
              <a:custGeom>
                <a:avLst/>
                <a:gdLst/>
                <a:ahLst/>
                <a:rect l="l" t="t" r="r" b="b"/>
                <a:pathLst>
                  <a:path w="1763" h="1187">
                    <a:moveTo>
                      <a:pt x="0" y="653"/>
                    </a:moveTo>
                    <a:lnTo>
                      <a:pt x="115" y="226"/>
                    </a:lnTo>
                    <a:lnTo>
                      <a:pt x="569" y="0"/>
                    </a:lnTo>
                    <a:lnTo>
                      <a:pt x="827" y="131"/>
                    </a:lnTo>
                    <a:lnTo>
                      <a:pt x="1193" y="157"/>
                    </a:lnTo>
                    <a:lnTo>
                      <a:pt x="1268" y="226"/>
                    </a:lnTo>
                    <a:lnTo>
                      <a:pt x="1290" y="291"/>
                    </a:lnTo>
                    <a:lnTo>
                      <a:pt x="1464" y="376"/>
                    </a:lnTo>
                    <a:lnTo>
                      <a:pt x="1572" y="458"/>
                    </a:lnTo>
                    <a:lnTo>
                      <a:pt x="1624" y="466"/>
                    </a:lnTo>
                    <a:lnTo>
                      <a:pt x="1763" y="553"/>
                    </a:lnTo>
                    <a:lnTo>
                      <a:pt x="1756" y="629"/>
                    </a:lnTo>
                    <a:lnTo>
                      <a:pt x="1585" y="783"/>
                    </a:lnTo>
                    <a:lnTo>
                      <a:pt x="1597" y="911"/>
                    </a:lnTo>
                    <a:lnTo>
                      <a:pt x="1657" y="917"/>
                    </a:lnTo>
                    <a:lnTo>
                      <a:pt x="1659" y="1035"/>
                    </a:lnTo>
                    <a:lnTo>
                      <a:pt x="1488" y="1176"/>
                    </a:lnTo>
                    <a:lnTo>
                      <a:pt x="1027" y="1187"/>
                    </a:lnTo>
                    <a:lnTo>
                      <a:pt x="0" y="653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608960" y="635220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1351" h="980">
                    <a:moveTo>
                      <a:pt x="0" y="393"/>
                    </a:moveTo>
                    <a:lnTo>
                      <a:pt x="4" y="296"/>
                    </a:lnTo>
                    <a:lnTo>
                      <a:pt x="16" y="176"/>
                    </a:lnTo>
                    <a:lnTo>
                      <a:pt x="66" y="17"/>
                    </a:lnTo>
                    <a:lnTo>
                      <a:pt x="389" y="5"/>
                    </a:lnTo>
                    <a:lnTo>
                      <a:pt x="514" y="0"/>
                    </a:lnTo>
                    <a:lnTo>
                      <a:pt x="837" y="31"/>
                    </a:lnTo>
                    <a:lnTo>
                      <a:pt x="998" y="81"/>
                    </a:lnTo>
                    <a:lnTo>
                      <a:pt x="1095" y="145"/>
                    </a:lnTo>
                    <a:lnTo>
                      <a:pt x="1249" y="259"/>
                    </a:lnTo>
                    <a:lnTo>
                      <a:pt x="1330" y="409"/>
                    </a:lnTo>
                    <a:lnTo>
                      <a:pt x="1351" y="563"/>
                    </a:lnTo>
                    <a:lnTo>
                      <a:pt x="1351" y="708"/>
                    </a:lnTo>
                    <a:lnTo>
                      <a:pt x="1330" y="846"/>
                    </a:lnTo>
                    <a:lnTo>
                      <a:pt x="1270" y="980"/>
                    </a:lnTo>
                    <a:lnTo>
                      <a:pt x="1240" y="773"/>
                    </a:lnTo>
                    <a:lnTo>
                      <a:pt x="1185" y="628"/>
                    </a:lnTo>
                    <a:lnTo>
                      <a:pt x="1072" y="487"/>
                    </a:lnTo>
                    <a:lnTo>
                      <a:pt x="945" y="369"/>
                    </a:lnTo>
                    <a:lnTo>
                      <a:pt x="756" y="316"/>
                    </a:lnTo>
                    <a:lnTo>
                      <a:pt x="589" y="294"/>
                    </a:lnTo>
                    <a:lnTo>
                      <a:pt x="362" y="296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031600" y="5818320"/>
                <a:ext cx="298800" cy="215640"/>
              </a:xfrm>
              <a:custGeom>
                <a:avLst/>
                <a:gdLst/>
                <a:ahLst/>
                <a:rect l="l" t="t" r="r" b="b"/>
                <a:pathLst>
                  <a:path w="3911" h="3232">
                    <a:moveTo>
                      <a:pt x="426" y="1795"/>
                    </a:moveTo>
                    <a:lnTo>
                      <a:pt x="180" y="1718"/>
                    </a:lnTo>
                    <a:lnTo>
                      <a:pt x="37" y="1609"/>
                    </a:lnTo>
                    <a:lnTo>
                      <a:pt x="0" y="1478"/>
                    </a:lnTo>
                    <a:lnTo>
                      <a:pt x="26" y="1333"/>
                    </a:lnTo>
                    <a:lnTo>
                      <a:pt x="37" y="1160"/>
                    </a:lnTo>
                    <a:lnTo>
                      <a:pt x="120" y="995"/>
                    </a:lnTo>
                    <a:lnTo>
                      <a:pt x="237" y="905"/>
                    </a:lnTo>
                    <a:lnTo>
                      <a:pt x="346" y="850"/>
                    </a:lnTo>
                    <a:lnTo>
                      <a:pt x="386" y="749"/>
                    </a:lnTo>
                    <a:lnTo>
                      <a:pt x="459" y="689"/>
                    </a:lnTo>
                    <a:lnTo>
                      <a:pt x="614" y="659"/>
                    </a:lnTo>
                    <a:lnTo>
                      <a:pt x="777" y="433"/>
                    </a:lnTo>
                    <a:lnTo>
                      <a:pt x="1035" y="292"/>
                    </a:lnTo>
                    <a:lnTo>
                      <a:pt x="1300" y="268"/>
                    </a:lnTo>
                    <a:lnTo>
                      <a:pt x="1515" y="90"/>
                    </a:lnTo>
                    <a:lnTo>
                      <a:pt x="1707" y="57"/>
                    </a:lnTo>
                    <a:lnTo>
                      <a:pt x="1914" y="65"/>
                    </a:lnTo>
                    <a:lnTo>
                      <a:pt x="2221" y="0"/>
                    </a:lnTo>
                    <a:lnTo>
                      <a:pt x="2474" y="39"/>
                    </a:lnTo>
                    <a:lnTo>
                      <a:pt x="2624" y="79"/>
                    </a:lnTo>
                    <a:lnTo>
                      <a:pt x="2795" y="90"/>
                    </a:lnTo>
                    <a:lnTo>
                      <a:pt x="2933" y="178"/>
                    </a:lnTo>
                    <a:lnTo>
                      <a:pt x="3048" y="281"/>
                    </a:lnTo>
                    <a:lnTo>
                      <a:pt x="3254" y="332"/>
                    </a:lnTo>
                    <a:lnTo>
                      <a:pt x="3440" y="468"/>
                    </a:lnTo>
                    <a:lnTo>
                      <a:pt x="3659" y="714"/>
                    </a:lnTo>
                    <a:lnTo>
                      <a:pt x="3788" y="943"/>
                    </a:lnTo>
                    <a:lnTo>
                      <a:pt x="3880" y="1259"/>
                    </a:lnTo>
                    <a:lnTo>
                      <a:pt x="3911" y="1609"/>
                    </a:lnTo>
                    <a:lnTo>
                      <a:pt x="3850" y="1936"/>
                    </a:lnTo>
                    <a:lnTo>
                      <a:pt x="3647" y="2254"/>
                    </a:lnTo>
                    <a:lnTo>
                      <a:pt x="3331" y="2704"/>
                    </a:lnTo>
                    <a:lnTo>
                      <a:pt x="2819" y="3232"/>
                    </a:lnTo>
                    <a:lnTo>
                      <a:pt x="1349" y="2428"/>
                    </a:lnTo>
                    <a:lnTo>
                      <a:pt x="426" y="179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048880" y="5925600"/>
                <a:ext cx="191880" cy="189720"/>
              </a:xfrm>
              <a:custGeom>
                <a:avLst/>
                <a:gdLst/>
                <a:ahLst/>
                <a:rect l="l" t="t" r="r" b="b"/>
                <a:pathLst>
                  <a:path w="2514" h="2843">
                    <a:moveTo>
                      <a:pt x="1734" y="570"/>
                    </a:moveTo>
                    <a:lnTo>
                      <a:pt x="1644" y="621"/>
                    </a:lnTo>
                    <a:lnTo>
                      <a:pt x="1556" y="744"/>
                    </a:lnTo>
                    <a:lnTo>
                      <a:pt x="1262" y="645"/>
                    </a:lnTo>
                    <a:lnTo>
                      <a:pt x="840" y="232"/>
                    </a:lnTo>
                    <a:lnTo>
                      <a:pt x="524" y="146"/>
                    </a:lnTo>
                    <a:lnTo>
                      <a:pt x="409" y="0"/>
                    </a:lnTo>
                    <a:lnTo>
                      <a:pt x="330" y="41"/>
                    </a:lnTo>
                    <a:lnTo>
                      <a:pt x="242" y="159"/>
                    </a:lnTo>
                    <a:lnTo>
                      <a:pt x="156" y="645"/>
                    </a:lnTo>
                    <a:lnTo>
                      <a:pt x="178" y="744"/>
                    </a:lnTo>
                    <a:lnTo>
                      <a:pt x="242" y="854"/>
                    </a:lnTo>
                    <a:lnTo>
                      <a:pt x="264" y="984"/>
                    </a:lnTo>
                    <a:lnTo>
                      <a:pt x="264" y="1125"/>
                    </a:lnTo>
                    <a:lnTo>
                      <a:pt x="229" y="1252"/>
                    </a:lnTo>
                    <a:lnTo>
                      <a:pt x="0" y="1713"/>
                    </a:lnTo>
                    <a:lnTo>
                      <a:pt x="24" y="1790"/>
                    </a:lnTo>
                    <a:lnTo>
                      <a:pt x="303" y="1773"/>
                    </a:lnTo>
                    <a:lnTo>
                      <a:pt x="384" y="1979"/>
                    </a:lnTo>
                    <a:lnTo>
                      <a:pt x="460" y="2003"/>
                    </a:lnTo>
                    <a:lnTo>
                      <a:pt x="547" y="2170"/>
                    </a:lnTo>
                    <a:lnTo>
                      <a:pt x="483" y="2267"/>
                    </a:lnTo>
                    <a:lnTo>
                      <a:pt x="483" y="2298"/>
                    </a:lnTo>
                    <a:lnTo>
                      <a:pt x="596" y="2419"/>
                    </a:lnTo>
                    <a:lnTo>
                      <a:pt x="596" y="2504"/>
                    </a:lnTo>
                    <a:lnTo>
                      <a:pt x="561" y="2579"/>
                    </a:lnTo>
                    <a:lnTo>
                      <a:pt x="572" y="2698"/>
                    </a:lnTo>
                    <a:lnTo>
                      <a:pt x="622" y="2735"/>
                    </a:lnTo>
                    <a:lnTo>
                      <a:pt x="723" y="2764"/>
                    </a:lnTo>
                    <a:lnTo>
                      <a:pt x="1402" y="2698"/>
                    </a:lnTo>
                    <a:lnTo>
                      <a:pt x="1684" y="2843"/>
                    </a:lnTo>
                    <a:lnTo>
                      <a:pt x="1824" y="2612"/>
                    </a:lnTo>
                    <a:lnTo>
                      <a:pt x="1963" y="2483"/>
                    </a:lnTo>
                    <a:lnTo>
                      <a:pt x="2209" y="2232"/>
                    </a:lnTo>
                    <a:lnTo>
                      <a:pt x="2514" y="1979"/>
                    </a:lnTo>
                    <a:lnTo>
                      <a:pt x="2260" y="1162"/>
                    </a:lnTo>
                    <a:lnTo>
                      <a:pt x="2165" y="667"/>
                    </a:lnTo>
                    <a:lnTo>
                      <a:pt x="1951" y="524"/>
                    </a:lnTo>
                    <a:lnTo>
                      <a:pt x="1734" y="57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164080" y="6018840"/>
                <a:ext cx="24840" cy="21600"/>
              </a:xfrm>
              <a:custGeom>
                <a:avLst/>
                <a:gdLst/>
                <a:ahLst/>
                <a:rect l="l" t="t" r="r" b="b"/>
                <a:pathLst>
                  <a:path w="334" h="330">
                    <a:moveTo>
                      <a:pt x="230" y="0"/>
                    </a:moveTo>
                    <a:lnTo>
                      <a:pt x="155" y="20"/>
                    </a:lnTo>
                    <a:lnTo>
                      <a:pt x="65" y="47"/>
                    </a:lnTo>
                    <a:lnTo>
                      <a:pt x="0" y="130"/>
                    </a:lnTo>
                    <a:lnTo>
                      <a:pt x="0" y="231"/>
                    </a:lnTo>
                    <a:lnTo>
                      <a:pt x="52" y="321"/>
                    </a:lnTo>
                    <a:lnTo>
                      <a:pt x="155" y="330"/>
                    </a:lnTo>
                    <a:lnTo>
                      <a:pt x="281" y="291"/>
                    </a:lnTo>
                    <a:lnTo>
                      <a:pt x="334" y="215"/>
                    </a:lnTo>
                    <a:lnTo>
                      <a:pt x="334" y="104"/>
                    </a:lnTo>
                    <a:lnTo>
                      <a:pt x="291" y="47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085600" y="60620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79" h="227">
                    <a:moveTo>
                      <a:pt x="0" y="137"/>
                    </a:moveTo>
                    <a:lnTo>
                      <a:pt x="0" y="227"/>
                    </a:lnTo>
                    <a:lnTo>
                      <a:pt x="168" y="130"/>
                    </a:lnTo>
                    <a:lnTo>
                      <a:pt x="179" y="0"/>
                    </a:lnTo>
                    <a:lnTo>
                      <a:pt x="51" y="84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8083440" y="6056640"/>
                <a:ext cx="18360" cy="14400"/>
              </a:xfrm>
              <a:custGeom>
                <a:avLst/>
                <a:gdLst/>
                <a:ahLst/>
                <a:rect l="l" t="t" r="r" b="b"/>
                <a:pathLst>
                  <a:path w="242" h="213">
                    <a:moveTo>
                      <a:pt x="0" y="51"/>
                    </a:moveTo>
                    <a:lnTo>
                      <a:pt x="64" y="213"/>
                    </a:lnTo>
                    <a:lnTo>
                      <a:pt x="203" y="152"/>
                    </a:lnTo>
                    <a:lnTo>
                      <a:pt x="242" y="39"/>
                    </a:lnTo>
                    <a:lnTo>
                      <a:pt x="124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8066160" y="59774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70" h="242">
                    <a:moveTo>
                      <a:pt x="136" y="40"/>
                    </a:moveTo>
                    <a:lnTo>
                      <a:pt x="270" y="242"/>
                    </a:lnTo>
                    <a:lnTo>
                      <a:pt x="28" y="102"/>
                    </a:lnTo>
                    <a:lnTo>
                      <a:pt x="0" y="28"/>
                    </a:lnTo>
                    <a:lnTo>
                      <a:pt x="55" y="0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310160" y="5843520"/>
                <a:ext cx="249840" cy="149400"/>
              </a:xfrm>
              <a:custGeom>
                <a:avLst/>
                <a:gdLst/>
                <a:ahLst/>
                <a:rect l="l" t="t" r="r" b="b"/>
                <a:pathLst>
                  <a:path w="3274" h="2237">
                    <a:moveTo>
                      <a:pt x="19" y="2140"/>
                    </a:moveTo>
                    <a:lnTo>
                      <a:pt x="35" y="1930"/>
                    </a:lnTo>
                    <a:lnTo>
                      <a:pt x="0" y="1342"/>
                    </a:lnTo>
                    <a:lnTo>
                      <a:pt x="61" y="1035"/>
                    </a:lnTo>
                    <a:lnTo>
                      <a:pt x="229" y="760"/>
                    </a:lnTo>
                    <a:lnTo>
                      <a:pt x="397" y="468"/>
                    </a:lnTo>
                    <a:lnTo>
                      <a:pt x="740" y="226"/>
                    </a:lnTo>
                    <a:lnTo>
                      <a:pt x="1169" y="77"/>
                    </a:lnTo>
                    <a:lnTo>
                      <a:pt x="1511" y="7"/>
                    </a:lnTo>
                    <a:lnTo>
                      <a:pt x="1894" y="0"/>
                    </a:lnTo>
                    <a:lnTo>
                      <a:pt x="2338" y="127"/>
                    </a:lnTo>
                    <a:lnTo>
                      <a:pt x="2654" y="296"/>
                    </a:lnTo>
                    <a:lnTo>
                      <a:pt x="2922" y="487"/>
                    </a:lnTo>
                    <a:lnTo>
                      <a:pt x="3103" y="549"/>
                    </a:lnTo>
                    <a:lnTo>
                      <a:pt x="3252" y="694"/>
                    </a:lnTo>
                    <a:lnTo>
                      <a:pt x="3274" y="844"/>
                    </a:lnTo>
                    <a:lnTo>
                      <a:pt x="3223" y="945"/>
                    </a:lnTo>
                    <a:lnTo>
                      <a:pt x="3078" y="973"/>
                    </a:lnTo>
                    <a:lnTo>
                      <a:pt x="136" y="2237"/>
                    </a:lnTo>
                    <a:lnTo>
                      <a:pt x="19" y="214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301520" y="5893200"/>
                <a:ext cx="267480" cy="206640"/>
              </a:xfrm>
              <a:custGeom>
                <a:avLst/>
                <a:gdLst/>
                <a:ahLst/>
                <a:rect l="l" t="t" r="r" b="b"/>
                <a:pathLst>
                  <a:path w="3504" h="3096">
                    <a:moveTo>
                      <a:pt x="0" y="1865"/>
                    </a:moveTo>
                    <a:lnTo>
                      <a:pt x="345" y="1955"/>
                    </a:lnTo>
                    <a:lnTo>
                      <a:pt x="710" y="2087"/>
                    </a:lnTo>
                    <a:lnTo>
                      <a:pt x="1097" y="2344"/>
                    </a:lnTo>
                    <a:lnTo>
                      <a:pt x="1365" y="2591"/>
                    </a:lnTo>
                    <a:lnTo>
                      <a:pt x="1696" y="2953"/>
                    </a:lnTo>
                    <a:lnTo>
                      <a:pt x="2865" y="3096"/>
                    </a:lnTo>
                    <a:lnTo>
                      <a:pt x="2921" y="3023"/>
                    </a:lnTo>
                    <a:lnTo>
                      <a:pt x="2921" y="2889"/>
                    </a:lnTo>
                    <a:lnTo>
                      <a:pt x="2949" y="2817"/>
                    </a:lnTo>
                    <a:lnTo>
                      <a:pt x="3024" y="2740"/>
                    </a:lnTo>
                    <a:lnTo>
                      <a:pt x="3017" y="2600"/>
                    </a:lnTo>
                    <a:lnTo>
                      <a:pt x="2826" y="2469"/>
                    </a:lnTo>
                    <a:lnTo>
                      <a:pt x="3032" y="2419"/>
                    </a:lnTo>
                    <a:lnTo>
                      <a:pt x="3098" y="2213"/>
                    </a:lnTo>
                    <a:lnTo>
                      <a:pt x="3173" y="2167"/>
                    </a:lnTo>
                    <a:lnTo>
                      <a:pt x="3362" y="2177"/>
                    </a:lnTo>
                    <a:lnTo>
                      <a:pt x="3472" y="2158"/>
                    </a:lnTo>
                    <a:lnTo>
                      <a:pt x="3504" y="2118"/>
                    </a:lnTo>
                    <a:lnTo>
                      <a:pt x="3494" y="2068"/>
                    </a:lnTo>
                    <a:lnTo>
                      <a:pt x="3223" y="1378"/>
                    </a:lnTo>
                    <a:lnTo>
                      <a:pt x="3248" y="1303"/>
                    </a:lnTo>
                    <a:lnTo>
                      <a:pt x="3310" y="1222"/>
                    </a:lnTo>
                    <a:lnTo>
                      <a:pt x="3278" y="826"/>
                    </a:lnTo>
                    <a:lnTo>
                      <a:pt x="3239" y="538"/>
                    </a:lnTo>
                    <a:lnTo>
                      <a:pt x="3149" y="242"/>
                    </a:lnTo>
                    <a:lnTo>
                      <a:pt x="2296" y="0"/>
                    </a:lnTo>
                    <a:lnTo>
                      <a:pt x="83" y="1630"/>
                    </a:lnTo>
                    <a:lnTo>
                      <a:pt x="0" y="186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530120" y="599292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122" y="0"/>
                    </a:moveTo>
                    <a:lnTo>
                      <a:pt x="71" y="129"/>
                    </a:lnTo>
                    <a:lnTo>
                      <a:pt x="0" y="2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814880" y="624636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9" h="744">
                    <a:moveTo>
                      <a:pt x="0" y="80"/>
                    </a:moveTo>
                    <a:lnTo>
                      <a:pt x="42" y="0"/>
                    </a:lnTo>
                    <a:lnTo>
                      <a:pt x="814" y="300"/>
                    </a:lnTo>
                    <a:lnTo>
                      <a:pt x="1517" y="616"/>
                    </a:lnTo>
                    <a:lnTo>
                      <a:pt x="1699" y="744"/>
                    </a:lnTo>
                    <a:lnTo>
                      <a:pt x="1460" y="708"/>
                    </a:lnTo>
                    <a:lnTo>
                      <a:pt x="206" y="157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766280" y="6255360"/>
                <a:ext cx="152640" cy="82080"/>
              </a:xfrm>
              <a:custGeom>
                <a:avLst/>
                <a:gdLst/>
                <a:ahLst/>
                <a:rect l="l" t="t" r="r" b="b"/>
                <a:pathLst>
                  <a:path w="2003" h="1230">
                    <a:moveTo>
                      <a:pt x="80" y="253"/>
                    </a:moveTo>
                    <a:lnTo>
                      <a:pt x="278" y="218"/>
                    </a:lnTo>
                    <a:lnTo>
                      <a:pt x="477" y="195"/>
                    </a:lnTo>
                    <a:lnTo>
                      <a:pt x="945" y="11"/>
                    </a:lnTo>
                    <a:lnTo>
                      <a:pt x="1262" y="11"/>
                    </a:lnTo>
                    <a:lnTo>
                      <a:pt x="1646" y="0"/>
                    </a:lnTo>
                    <a:lnTo>
                      <a:pt x="2003" y="345"/>
                    </a:lnTo>
                    <a:lnTo>
                      <a:pt x="1973" y="393"/>
                    </a:lnTo>
                    <a:lnTo>
                      <a:pt x="1941" y="380"/>
                    </a:lnTo>
                    <a:lnTo>
                      <a:pt x="1927" y="472"/>
                    </a:lnTo>
                    <a:lnTo>
                      <a:pt x="1869" y="534"/>
                    </a:lnTo>
                    <a:lnTo>
                      <a:pt x="1578" y="725"/>
                    </a:lnTo>
                    <a:lnTo>
                      <a:pt x="1491" y="861"/>
                    </a:lnTo>
                    <a:lnTo>
                      <a:pt x="1297" y="991"/>
                    </a:lnTo>
                    <a:lnTo>
                      <a:pt x="1229" y="1112"/>
                    </a:lnTo>
                    <a:lnTo>
                      <a:pt x="926" y="1221"/>
                    </a:lnTo>
                    <a:lnTo>
                      <a:pt x="848" y="1230"/>
                    </a:lnTo>
                    <a:lnTo>
                      <a:pt x="539" y="1158"/>
                    </a:lnTo>
                    <a:lnTo>
                      <a:pt x="34" y="855"/>
                    </a:lnTo>
                    <a:lnTo>
                      <a:pt x="0" y="419"/>
                    </a:lnTo>
                    <a:lnTo>
                      <a:pt x="80" y="253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748280" y="5865840"/>
                <a:ext cx="173880" cy="180000"/>
              </a:xfrm>
              <a:custGeom>
                <a:avLst/>
                <a:gdLst/>
                <a:ahLst/>
                <a:rect l="l" t="t" r="r" b="b"/>
                <a:pathLst>
                  <a:path w="2284" h="2689">
                    <a:moveTo>
                      <a:pt x="166" y="357"/>
                    </a:moveTo>
                    <a:lnTo>
                      <a:pt x="55" y="468"/>
                    </a:lnTo>
                    <a:lnTo>
                      <a:pt x="0" y="597"/>
                    </a:lnTo>
                    <a:lnTo>
                      <a:pt x="0" y="740"/>
                    </a:lnTo>
                    <a:lnTo>
                      <a:pt x="14" y="869"/>
                    </a:lnTo>
                    <a:lnTo>
                      <a:pt x="75" y="1095"/>
                    </a:lnTo>
                    <a:lnTo>
                      <a:pt x="187" y="1190"/>
                    </a:lnTo>
                    <a:lnTo>
                      <a:pt x="148" y="1552"/>
                    </a:lnTo>
                    <a:lnTo>
                      <a:pt x="172" y="1731"/>
                    </a:lnTo>
                    <a:lnTo>
                      <a:pt x="247" y="2225"/>
                    </a:lnTo>
                    <a:lnTo>
                      <a:pt x="326" y="2329"/>
                    </a:lnTo>
                    <a:lnTo>
                      <a:pt x="479" y="2513"/>
                    </a:lnTo>
                    <a:lnTo>
                      <a:pt x="715" y="2689"/>
                    </a:lnTo>
                    <a:lnTo>
                      <a:pt x="1117" y="2548"/>
                    </a:lnTo>
                    <a:lnTo>
                      <a:pt x="1238" y="2467"/>
                    </a:lnTo>
                    <a:lnTo>
                      <a:pt x="1399" y="2357"/>
                    </a:lnTo>
                    <a:lnTo>
                      <a:pt x="1473" y="2252"/>
                    </a:lnTo>
                    <a:lnTo>
                      <a:pt x="1567" y="2201"/>
                    </a:lnTo>
                    <a:lnTo>
                      <a:pt x="1858" y="1681"/>
                    </a:lnTo>
                    <a:lnTo>
                      <a:pt x="1971" y="1690"/>
                    </a:lnTo>
                    <a:lnTo>
                      <a:pt x="2040" y="1607"/>
                    </a:lnTo>
                    <a:lnTo>
                      <a:pt x="2157" y="1439"/>
                    </a:lnTo>
                    <a:lnTo>
                      <a:pt x="2199" y="1298"/>
                    </a:lnTo>
                    <a:lnTo>
                      <a:pt x="2199" y="1190"/>
                    </a:lnTo>
                    <a:lnTo>
                      <a:pt x="2284" y="423"/>
                    </a:lnTo>
                    <a:lnTo>
                      <a:pt x="987" y="0"/>
                    </a:lnTo>
                    <a:lnTo>
                      <a:pt x="341" y="263"/>
                    </a:lnTo>
                    <a:lnTo>
                      <a:pt x="166" y="35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796520" y="59166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6" h="592">
                    <a:moveTo>
                      <a:pt x="0" y="0"/>
                    </a:moveTo>
                    <a:lnTo>
                      <a:pt x="230" y="592"/>
                    </a:lnTo>
                    <a:lnTo>
                      <a:pt x="351" y="521"/>
                    </a:lnTo>
                    <a:lnTo>
                      <a:pt x="424" y="449"/>
                    </a:lnTo>
                    <a:lnTo>
                      <a:pt x="481" y="357"/>
                    </a:lnTo>
                    <a:lnTo>
                      <a:pt x="516" y="246"/>
                    </a:lnTo>
                    <a:lnTo>
                      <a:pt x="445" y="145"/>
                    </a:lnTo>
                    <a:lnTo>
                      <a:pt x="288" y="46"/>
                    </a:lnTo>
                    <a:lnTo>
                      <a:pt x="13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866360" y="5938560"/>
                <a:ext cx="30240" cy="31320"/>
              </a:xfrm>
              <a:custGeom>
                <a:avLst/>
                <a:gdLst/>
                <a:ahLst/>
                <a:rect l="l" t="t" r="r" b="b"/>
                <a:pathLst>
                  <a:path w="404" h="473">
                    <a:moveTo>
                      <a:pt x="0" y="0"/>
                    </a:moveTo>
                    <a:lnTo>
                      <a:pt x="231" y="473"/>
                    </a:lnTo>
                    <a:lnTo>
                      <a:pt x="303" y="376"/>
                    </a:lnTo>
                    <a:lnTo>
                      <a:pt x="393" y="242"/>
                    </a:lnTo>
                    <a:lnTo>
                      <a:pt x="404" y="146"/>
                    </a:lnTo>
                    <a:lnTo>
                      <a:pt x="171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776360" y="5924160"/>
                <a:ext cx="15480" cy="29160"/>
              </a:xfrm>
              <a:custGeom>
                <a:avLst/>
                <a:gdLst/>
                <a:ahLst/>
                <a:rect l="l" t="t" r="r" b="b"/>
                <a:pathLst>
                  <a:path w="210" h="443">
                    <a:moveTo>
                      <a:pt x="39" y="0"/>
                    </a:moveTo>
                    <a:lnTo>
                      <a:pt x="210" y="443"/>
                    </a:lnTo>
                    <a:lnTo>
                      <a:pt x="97" y="374"/>
                    </a:lnTo>
                    <a:lnTo>
                      <a:pt x="39" y="302"/>
                    </a:lnTo>
                    <a:lnTo>
                      <a:pt x="10" y="226"/>
                    </a:lnTo>
                    <a:lnTo>
                      <a:pt x="0" y="9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846920" y="5941080"/>
                <a:ext cx="22320" cy="32040"/>
              </a:xfrm>
              <a:custGeom>
                <a:avLst/>
                <a:gdLst/>
                <a:ahLst/>
                <a:rect l="l" t="t" r="r" b="b"/>
                <a:pathLst>
                  <a:path w="292" h="480">
                    <a:moveTo>
                      <a:pt x="32" y="0"/>
                    </a:moveTo>
                    <a:lnTo>
                      <a:pt x="292" y="480"/>
                    </a:lnTo>
                    <a:lnTo>
                      <a:pt x="131" y="432"/>
                    </a:lnTo>
                    <a:lnTo>
                      <a:pt x="32" y="386"/>
                    </a:lnTo>
                    <a:lnTo>
                      <a:pt x="0" y="22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779600" y="5919840"/>
                <a:ext cx="16920" cy="34920"/>
              </a:xfrm>
              <a:custGeom>
                <a:avLst/>
                <a:gdLst/>
                <a:ahLst/>
                <a:rect l="l" t="t" r="r" b="b"/>
                <a:pathLst>
                  <a:path w="222" h="523">
                    <a:moveTo>
                      <a:pt x="0" y="119"/>
                    </a:moveTo>
                    <a:lnTo>
                      <a:pt x="150" y="493"/>
                    </a:lnTo>
                    <a:lnTo>
                      <a:pt x="222" y="523"/>
                    </a:lnTo>
                    <a:lnTo>
                      <a:pt x="17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849080" y="5940720"/>
                <a:ext cx="21960" cy="32760"/>
              </a:xfrm>
              <a:custGeom>
                <a:avLst/>
                <a:gdLst/>
                <a:ahLst/>
                <a:rect l="l" t="t" r="r" b="b"/>
                <a:pathLst>
                  <a:path w="288" h="498">
                    <a:moveTo>
                      <a:pt x="0" y="35"/>
                    </a:moveTo>
                    <a:lnTo>
                      <a:pt x="224" y="498"/>
                    </a:lnTo>
                    <a:lnTo>
                      <a:pt x="288" y="477"/>
                    </a:lnTo>
                    <a:lnTo>
                      <a:pt x="3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762320" y="5823000"/>
                <a:ext cx="186840" cy="123840"/>
              </a:xfrm>
              <a:custGeom>
                <a:avLst/>
                <a:gdLst/>
                <a:ahLst/>
                <a:rect l="l" t="t" r="r" b="b"/>
                <a:pathLst>
                  <a:path w="2454" h="1848">
                    <a:moveTo>
                      <a:pt x="226" y="1063"/>
                    </a:moveTo>
                    <a:lnTo>
                      <a:pt x="323" y="1046"/>
                    </a:lnTo>
                    <a:lnTo>
                      <a:pt x="672" y="790"/>
                    </a:lnTo>
                    <a:lnTo>
                      <a:pt x="943" y="817"/>
                    </a:lnTo>
                    <a:lnTo>
                      <a:pt x="1804" y="960"/>
                    </a:lnTo>
                    <a:lnTo>
                      <a:pt x="2092" y="1063"/>
                    </a:lnTo>
                    <a:lnTo>
                      <a:pt x="1965" y="1735"/>
                    </a:lnTo>
                    <a:lnTo>
                      <a:pt x="2037" y="1848"/>
                    </a:lnTo>
                    <a:lnTo>
                      <a:pt x="2297" y="1666"/>
                    </a:lnTo>
                    <a:lnTo>
                      <a:pt x="2357" y="1544"/>
                    </a:lnTo>
                    <a:lnTo>
                      <a:pt x="2419" y="1364"/>
                    </a:lnTo>
                    <a:lnTo>
                      <a:pt x="2454" y="1248"/>
                    </a:lnTo>
                    <a:lnTo>
                      <a:pt x="2444" y="1122"/>
                    </a:lnTo>
                    <a:lnTo>
                      <a:pt x="2403" y="1059"/>
                    </a:lnTo>
                    <a:lnTo>
                      <a:pt x="2223" y="1009"/>
                    </a:lnTo>
                    <a:lnTo>
                      <a:pt x="2025" y="380"/>
                    </a:lnTo>
                    <a:lnTo>
                      <a:pt x="1848" y="173"/>
                    </a:lnTo>
                    <a:lnTo>
                      <a:pt x="1472" y="11"/>
                    </a:lnTo>
                    <a:lnTo>
                      <a:pt x="1264" y="0"/>
                    </a:lnTo>
                    <a:lnTo>
                      <a:pt x="1004" y="27"/>
                    </a:lnTo>
                    <a:lnTo>
                      <a:pt x="760" y="76"/>
                    </a:lnTo>
                    <a:lnTo>
                      <a:pt x="554" y="207"/>
                    </a:lnTo>
                    <a:lnTo>
                      <a:pt x="202" y="633"/>
                    </a:lnTo>
                    <a:lnTo>
                      <a:pt x="0" y="982"/>
                    </a:lnTo>
                    <a:lnTo>
                      <a:pt x="88" y="1035"/>
                    </a:lnTo>
                    <a:lnTo>
                      <a:pt x="127" y="1162"/>
                    </a:lnTo>
                    <a:lnTo>
                      <a:pt x="226" y="1063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858440" y="5941080"/>
                <a:ext cx="13320" cy="8280"/>
              </a:xfrm>
              <a:custGeom>
                <a:avLst/>
                <a:gdLst/>
                <a:ahLst/>
                <a:rect l="l" t="t" r="r" b="b"/>
                <a:pathLst>
                  <a:path w="171" h="132">
                    <a:moveTo>
                      <a:pt x="0" y="51"/>
                    </a:moveTo>
                    <a:lnTo>
                      <a:pt x="72" y="132"/>
                    </a:lnTo>
                    <a:lnTo>
                      <a:pt x="171" y="40"/>
                    </a:lnTo>
                    <a:lnTo>
                      <a:pt x="102" y="0"/>
                    </a:lnTo>
                    <a:lnTo>
                      <a:pt x="17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799760" y="59248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251" h="148">
                    <a:moveTo>
                      <a:pt x="0" y="46"/>
                    </a:moveTo>
                    <a:lnTo>
                      <a:pt x="83" y="127"/>
                    </a:lnTo>
                    <a:lnTo>
                      <a:pt x="182" y="148"/>
                    </a:lnTo>
                    <a:lnTo>
                      <a:pt x="251" y="35"/>
                    </a:lnTo>
                    <a:lnTo>
                      <a:pt x="140" y="0"/>
                    </a:lnTo>
                    <a:lnTo>
                      <a:pt x="24" y="1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8031960" y="5929920"/>
                <a:ext cx="44280" cy="62280"/>
              </a:xfrm>
              <a:custGeom>
                <a:avLst/>
                <a:gdLst/>
                <a:ahLst/>
                <a:rect l="l" t="t" r="r" b="b"/>
                <a:pathLst>
                  <a:path w="585" h="936">
                    <a:moveTo>
                      <a:pt x="532" y="0"/>
                    </a:moveTo>
                    <a:lnTo>
                      <a:pt x="464" y="79"/>
                    </a:lnTo>
                    <a:lnTo>
                      <a:pt x="407" y="22"/>
                    </a:lnTo>
                    <a:lnTo>
                      <a:pt x="315" y="22"/>
                    </a:lnTo>
                    <a:lnTo>
                      <a:pt x="137" y="129"/>
                    </a:lnTo>
                    <a:lnTo>
                      <a:pt x="18" y="277"/>
                    </a:lnTo>
                    <a:lnTo>
                      <a:pt x="0" y="398"/>
                    </a:lnTo>
                    <a:lnTo>
                      <a:pt x="18" y="532"/>
                    </a:lnTo>
                    <a:lnTo>
                      <a:pt x="62" y="592"/>
                    </a:lnTo>
                    <a:lnTo>
                      <a:pt x="112" y="620"/>
                    </a:lnTo>
                    <a:lnTo>
                      <a:pt x="62" y="562"/>
                    </a:lnTo>
                    <a:lnTo>
                      <a:pt x="53" y="484"/>
                    </a:lnTo>
                    <a:lnTo>
                      <a:pt x="77" y="407"/>
                    </a:lnTo>
                    <a:lnTo>
                      <a:pt x="143" y="301"/>
                    </a:lnTo>
                    <a:lnTo>
                      <a:pt x="222" y="262"/>
                    </a:lnTo>
                    <a:lnTo>
                      <a:pt x="264" y="235"/>
                    </a:lnTo>
                    <a:lnTo>
                      <a:pt x="222" y="301"/>
                    </a:lnTo>
                    <a:lnTo>
                      <a:pt x="200" y="407"/>
                    </a:lnTo>
                    <a:lnTo>
                      <a:pt x="213" y="484"/>
                    </a:lnTo>
                    <a:lnTo>
                      <a:pt x="235" y="558"/>
                    </a:lnTo>
                    <a:lnTo>
                      <a:pt x="283" y="613"/>
                    </a:lnTo>
                    <a:lnTo>
                      <a:pt x="350" y="659"/>
                    </a:lnTo>
                    <a:lnTo>
                      <a:pt x="350" y="688"/>
                    </a:lnTo>
                    <a:lnTo>
                      <a:pt x="378" y="735"/>
                    </a:lnTo>
                    <a:lnTo>
                      <a:pt x="435" y="776"/>
                    </a:lnTo>
                    <a:lnTo>
                      <a:pt x="486" y="936"/>
                    </a:lnTo>
                    <a:lnTo>
                      <a:pt x="479" y="754"/>
                    </a:lnTo>
                    <a:lnTo>
                      <a:pt x="506" y="730"/>
                    </a:lnTo>
                    <a:lnTo>
                      <a:pt x="585" y="747"/>
                    </a:lnTo>
                    <a:lnTo>
                      <a:pt x="474" y="688"/>
                    </a:lnTo>
                    <a:lnTo>
                      <a:pt x="382" y="652"/>
                    </a:lnTo>
                    <a:lnTo>
                      <a:pt x="389" y="507"/>
                    </a:lnTo>
                    <a:lnTo>
                      <a:pt x="455" y="228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8064360" y="5980680"/>
                <a:ext cx="23760" cy="27720"/>
              </a:xfrm>
              <a:custGeom>
                <a:avLst/>
                <a:gdLst/>
                <a:ahLst/>
                <a:rect l="l" t="t" r="r" b="b"/>
                <a:pathLst>
                  <a:path w="310" h="417">
                    <a:moveTo>
                      <a:pt x="0" y="0"/>
                    </a:moveTo>
                    <a:lnTo>
                      <a:pt x="126" y="96"/>
                    </a:lnTo>
                    <a:lnTo>
                      <a:pt x="310" y="202"/>
                    </a:lnTo>
                    <a:lnTo>
                      <a:pt x="297" y="237"/>
                    </a:lnTo>
                    <a:lnTo>
                      <a:pt x="310" y="248"/>
                    </a:lnTo>
                    <a:lnTo>
                      <a:pt x="126" y="417"/>
                    </a:lnTo>
                    <a:lnTo>
                      <a:pt x="115" y="387"/>
                    </a:lnTo>
                    <a:lnTo>
                      <a:pt x="163" y="302"/>
                    </a:lnTo>
                    <a:lnTo>
                      <a:pt x="143" y="242"/>
                    </a:lnTo>
                    <a:lnTo>
                      <a:pt x="27" y="248"/>
                    </a:lnTo>
                    <a:lnTo>
                      <a:pt x="80" y="202"/>
                    </a:lnTo>
                    <a:lnTo>
                      <a:pt x="108" y="173"/>
                    </a:lnTo>
                    <a:lnTo>
                      <a:pt x="55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8048880" y="5999400"/>
                <a:ext cx="30960" cy="56520"/>
              </a:xfrm>
              <a:custGeom>
                <a:avLst/>
                <a:gdLst/>
                <a:ahLst/>
                <a:rect l="l" t="t" r="r" b="b"/>
                <a:pathLst>
                  <a:path w="409" h="848">
                    <a:moveTo>
                      <a:pt x="264" y="0"/>
                    </a:moveTo>
                    <a:lnTo>
                      <a:pt x="252" y="55"/>
                    </a:lnTo>
                    <a:lnTo>
                      <a:pt x="202" y="200"/>
                    </a:lnTo>
                    <a:lnTo>
                      <a:pt x="97" y="401"/>
                    </a:lnTo>
                    <a:lnTo>
                      <a:pt x="0" y="606"/>
                    </a:lnTo>
                    <a:lnTo>
                      <a:pt x="0" y="661"/>
                    </a:lnTo>
                    <a:lnTo>
                      <a:pt x="61" y="696"/>
                    </a:lnTo>
                    <a:lnTo>
                      <a:pt x="220" y="719"/>
                    </a:lnTo>
                    <a:lnTo>
                      <a:pt x="317" y="740"/>
                    </a:lnTo>
                    <a:lnTo>
                      <a:pt x="338" y="753"/>
                    </a:lnTo>
                    <a:lnTo>
                      <a:pt x="354" y="809"/>
                    </a:lnTo>
                    <a:lnTo>
                      <a:pt x="365" y="848"/>
                    </a:lnTo>
                    <a:lnTo>
                      <a:pt x="354" y="740"/>
                    </a:lnTo>
                    <a:lnTo>
                      <a:pt x="328" y="696"/>
                    </a:lnTo>
                    <a:lnTo>
                      <a:pt x="354" y="666"/>
                    </a:lnTo>
                    <a:lnTo>
                      <a:pt x="409" y="633"/>
                    </a:lnTo>
                    <a:lnTo>
                      <a:pt x="391" y="615"/>
                    </a:lnTo>
                    <a:lnTo>
                      <a:pt x="338" y="615"/>
                    </a:lnTo>
                    <a:lnTo>
                      <a:pt x="202" y="641"/>
                    </a:lnTo>
                    <a:lnTo>
                      <a:pt x="97" y="666"/>
                    </a:lnTo>
                    <a:lnTo>
                      <a:pt x="35" y="661"/>
                    </a:lnTo>
                    <a:lnTo>
                      <a:pt x="13" y="626"/>
                    </a:lnTo>
                    <a:lnTo>
                      <a:pt x="13" y="590"/>
                    </a:lnTo>
                    <a:lnTo>
                      <a:pt x="218" y="200"/>
                    </a:lnTo>
                    <a:lnTo>
                      <a:pt x="233" y="12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8076600" y="6027120"/>
                <a:ext cx="34560" cy="45360"/>
              </a:xfrm>
              <a:custGeom>
                <a:avLst/>
                <a:gdLst/>
                <a:ahLst/>
                <a:rect l="l" t="t" r="r" b="b"/>
                <a:pathLst>
                  <a:path w="452" h="679">
                    <a:moveTo>
                      <a:pt x="0" y="0"/>
                    </a:moveTo>
                    <a:lnTo>
                      <a:pt x="28" y="101"/>
                    </a:lnTo>
                    <a:lnTo>
                      <a:pt x="72" y="180"/>
                    </a:lnTo>
                    <a:lnTo>
                      <a:pt x="154" y="277"/>
                    </a:lnTo>
                    <a:lnTo>
                      <a:pt x="283" y="338"/>
                    </a:lnTo>
                    <a:lnTo>
                      <a:pt x="404" y="433"/>
                    </a:lnTo>
                    <a:lnTo>
                      <a:pt x="424" y="484"/>
                    </a:lnTo>
                    <a:lnTo>
                      <a:pt x="452" y="679"/>
                    </a:lnTo>
                    <a:lnTo>
                      <a:pt x="404" y="574"/>
                    </a:lnTo>
                    <a:lnTo>
                      <a:pt x="283" y="463"/>
                    </a:lnTo>
                    <a:lnTo>
                      <a:pt x="184" y="457"/>
                    </a:lnTo>
                    <a:lnTo>
                      <a:pt x="53" y="495"/>
                    </a:lnTo>
                    <a:lnTo>
                      <a:pt x="0" y="457"/>
                    </a:lnTo>
                    <a:lnTo>
                      <a:pt x="72" y="413"/>
                    </a:lnTo>
                    <a:lnTo>
                      <a:pt x="166" y="403"/>
                    </a:lnTo>
                    <a:lnTo>
                      <a:pt x="256" y="394"/>
                    </a:lnTo>
                    <a:lnTo>
                      <a:pt x="120" y="281"/>
                    </a:lnTo>
                    <a:lnTo>
                      <a:pt x="53" y="1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8087040" y="60613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182" h="170">
                    <a:moveTo>
                      <a:pt x="182" y="0"/>
                    </a:moveTo>
                    <a:lnTo>
                      <a:pt x="123" y="85"/>
                    </a:lnTo>
                    <a:lnTo>
                      <a:pt x="62" y="111"/>
                    </a:lnTo>
                    <a:lnTo>
                      <a:pt x="0" y="146"/>
                    </a:lnTo>
                    <a:lnTo>
                      <a:pt x="0" y="170"/>
                    </a:lnTo>
                    <a:lnTo>
                      <a:pt x="92" y="115"/>
                    </a:lnTo>
                    <a:lnTo>
                      <a:pt x="147" y="99"/>
                    </a:lnTo>
                    <a:lnTo>
                      <a:pt x="173" y="3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8087040" y="6048000"/>
                <a:ext cx="102960" cy="77400"/>
              </a:xfrm>
              <a:custGeom>
                <a:avLst/>
                <a:gdLst/>
                <a:ahLst/>
                <a:rect l="l" t="t" r="r" b="b"/>
                <a:pathLst>
                  <a:path w="1349" h="1162">
                    <a:moveTo>
                      <a:pt x="0" y="465"/>
                    </a:moveTo>
                    <a:lnTo>
                      <a:pt x="97" y="579"/>
                    </a:lnTo>
                    <a:lnTo>
                      <a:pt x="117" y="634"/>
                    </a:lnTo>
                    <a:lnTo>
                      <a:pt x="117" y="664"/>
                    </a:lnTo>
                    <a:lnTo>
                      <a:pt x="92" y="724"/>
                    </a:lnTo>
                    <a:lnTo>
                      <a:pt x="81" y="770"/>
                    </a:lnTo>
                    <a:lnTo>
                      <a:pt x="81" y="827"/>
                    </a:lnTo>
                    <a:lnTo>
                      <a:pt x="97" y="880"/>
                    </a:lnTo>
                    <a:lnTo>
                      <a:pt x="120" y="899"/>
                    </a:lnTo>
                    <a:lnTo>
                      <a:pt x="198" y="860"/>
                    </a:lnTo>
                    <a:lnTo>
                      <a:pt x="268" y="814"/>
                    </a:lnTo>
                    <a:lnTo>
                      <a:pt x="327" y="728"/>
                    </a:lnTo>
                    <a:lnTo>
                      <a:pt x="345" y="634"/>
                    </a:lnTo>
                    <a:lnTo>
                      <a:pt x="345" y="564"/>
                    </a:lnTo>
                    <a:lnTo>
                      <a:pt x="394" y="814"/>
                    </a:lnTo>
                    <a:lnTo>
                      <a:pt x="505" y="786"/>
                    </a:lnTo>
                    <a:lnTo>
                      <a:pt x="646" y="724"/>
                    </a:lnTo>
                    <a:lnTo>
                      <a:pt x="730" y="643"/>
                    </a:lnTo>
                    <a:lnTo>
                      <a:pt x="802" y="568"/>
                    </a:lnTo>
                    <a:lnTo>
                      <a:pt x="897" y="454"/>
                    </a:lnTo>
                    <a:lnTo>
                      <a:pt x="958" y="408"/>
                    </a:lnTo>
                    <a:lnTo>
                      <a:pt x="1051" y="368"/>
                    </a:lnTo>
                    <a:lnTo>
                      <a:pt x="1125" y="309"/>
                    </a:lnTo>
                    <a:lnTo>
                      <a:pt x="1176" y="238"/>
                    </a:lnTo>
                    <a:lnTo>
                      <a:pt x="1224" y="152"/>
                    </a:lnTo>
                    <a:lnTo>
                      <a:pt x="1257" y="0"/>
                    </a:lnTo>
                    <a:lnTo>
                      <a:pt x="1242" y="223"/>
                    </a:lnTo>
                    <a:lnTo>
                      <a:pt x="1219" y="376"/>
                    </a:lnTo>
                    <a:lnTo>
                      <a:pt x="1164" y="482"/>
                    </a:lnTo>
                    <a:lnTo>
                      <a:pt x="1120" y="568"/>
                    </a:lnTo>
                    <a:lnTo>
                      <a:pt x="1120" y="634"/>
                    </a:lnTo>
                    <a:lnTo>
                      <a:pt x="1153" y="705"/>
                    </a:lnTo>
                    <a:lnTo>
                      <a:pt x="1196" y="790"/>
                    </a:lnTo>
                    <a:lnTo>
                      <a:pt x="1219" y="851"/>
                    </a:lnTo>
                    <a:lnTo>
                      <a:pt x="1226" y="920"/>
                    </a:lnTo>
                    <a:lnTo>
                      <a:pt x="1349" y="746"/>
                    </a:lnTo>
                    <a:lnTo>
                      <a:pt x="1219" y="992"/>
                    </a:lnTo>
                    <a:lnTo>
                      <a:pt x="1160" y="1132"/>
                    </a:lnTo>
                    <a:lnTo>
                      <a:pt x="1160" y="1162"/>
                    </a:lnTo>
                    <a:lnTo>
                      <a:pt x="1090" y="1091"/>
                    </a:lnTo>
                    <a:lnTo>
                      <a:pt x="1000" y="987"/>
                    </a:lnTo>
                    <a:lnTo>
                      <a:pt x="922" y="959"/>
                    </a:lnTo>
                    <a:lnTo>
                      <a:pt x="844" y="926"/>
                    </a:lnTo>
                    <a:lnTo>
                      <a:pt x="712" y="926"/>
                    </a:lnTo>
                    <a:lnTo>
                      <a:pt x="277" y="1021"/>
                    </a:lnTo>
                    <a:lnTo>
                      <a:pt x="173" y="1012"/>
                    </a:lnTo>
                    <a:lnTo>
                      <a:pt x="112" y="986"/>
                    </a:lnTo>
                    <a:lnTo>
                      <a:pt x="48" y="920"/>
                    </a:lnTo>
                    <a:lnTo>
                      <a:pt x="30" y="851"/>
                    </a:lnTo>
                    <a:lnTo>
                      <a:pt x="35" y="786"/>
                    </a:lnTo>
                    <a:lnTo>
                      <a:pt x="62" y="724"/>
                    </a:lnTo>
                    <a:lnTo>
                      <a:pt x="81" y="664"/>
                    </a:lnTo>
                    <a:lnTo>
                      <a:pt x="81" y="610"/>
                    </a:lnTo>
                    <a:lnTo>
                      <a:pt x="48" y="548"/>
                    </a:lnTo>
                    <a:lnTo>
                      <a:pt x="0" y="4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8078400" y="5837400"/>
                <a:ext cx="254880" cy="276120"/>
              </a:xfrm>
              <a:custGeom>
                <a:avLst/>
                <a:gdLst/>
                <a:ahLst/>
                <a:rect l="l" t="t" r="r" b="b"/>
                <a:pathLst>
                  <a:path w="3329" h="4141">
                    <a:moveTo>
                      <a:pt x="64" y="1229"/>
                    </a:moveTo>
                    <a:lnTo>
                      <a:pt x="103" y="1344"/>
                    </a:lnTo>
                    <a:lnTo>
                      <a:pt x="174" y="1418"/>
                    </a:lnTo>
                    <a:lnTo>
                      <a:pt x="271" y="1457"/>
                    </a:lnTo>
                    <a:lnTo>
                      <a:pt x="462" y="1480"/>
                    </a:lnTo>
                    <a:lnTo>
                      <a:pt x="618" y="1457"/>
                    </a:lnTo>
                    <a:lnTo>
                      <a:pt x="774" y="1395"/>
                    </a:lnTo>
                    <a:lnTo>
                      <a:pt x="521" y="1406"/>
                    </a:lnTo>
                    <a:lnTo>
                      <a:pt x="361" y="1367"/>
                    </a:lnTo>
                    <a:lnTo>
                      <a:pt x="271" y="1291"/>
                    </a:lnTo>
                    <a:lnTo>
                      <a:pt x="214" y="1199"/>
                    </a:lnTo>
                    <a:lnTo>
                      <a:pt x="361" y="1261"/>
                    </a:lnTo>
                    <a:lnTo>
                      <a:pt x="488" y="1280"/>
                    </a:lnTo>
                    <a:lnTo>
                      <a:pt x="679" y="1261"/>
                    </a:lnTo>
                    <a:lnTo>
                      <a:pt x="850" y="1206"/>
                    </a:lnTo>
                    <a:lnTo>
                      <a:pt x="1030" y="1081"/>
                    </a:lnTo>
                    <a:lnTo>
                      <a:pt x="926" y="1241"/>
                    </a:lnTo>
                    <a:lnTo>
                      <a:pt x="1104" y="1137"/>
                    </a:lnTo>
                    <a:lnTo>
                      <a:pt x="1263" y="1081"/>
                    </a:lnTo>
                    <a:lnTo>
                      <a:pt x="1413" y="1081"/>
                    </a:lnTo>
                    <a:lnTo>
                      <a:pt x="1572" y="1137"/>
                    </a:lnTo>
                    <a:lnTo>
                      <a:pt x="1401" y="1137"/>
                    </a:lnTo>
                    <a:lnTo>
                      <a:pt x="1275" y="1160"/>
                    </a:lnTo>
                    <a:lnTo>
                      <a:pt x="1168" y="1229"/>
                    </a:lnTo>
                    <a:lnTo>
                      <a:pt x="1327" y="1241"/>
                    </a:lnTo>
                    <a:lnTo>
                      <a:pt x="1539" y="1199"/>
                    </a:lnTo>
                    <a:lnTo>
                      <a:pt x="1685" y="1137"/>
                    </a:lnTo>
                    <a:lnTo>
                      <a:pt x="1611" y="1229"/>
                    </a:lnTo>
                    <a:lnTo>
                      <a:pt x="1389" y="1375"/>
                    </a:lnTo>
                    <a:lnTo>
                      <a:pt x="1203" y="1430"/>
                    </a:lnTo>
                    <a:lnTo>
                      <a:pt x="1039" y="1443"/>
                    </a:lnTo>
                    <a:lnTo>
                      <a:pt x="1113" y="1344"/>
                    </a:lnTo>
                    <a:lnTo>
                      <a:pt x="926" y="1367"/>
                    </a:lnTo>
                    <a:lnTo>
                      <a:pt x="745" y="1480"/>
                    </a:lnTo>
                    <a:lnTo>
                      <a:pt x="850" y="1517"/>
                    </a:lnTo>
                    <a:lnTo>
                      <a:pt x="754" y="1591"/>
                    </a:lnTo>
                    <a:lnTo>
                      <a:pt x="906" y="1591"/>
                    </a:lnTo>
                    <a:lnTo>
                      <a:pt x="1141" y="1526"/>
                    </a:lnTo>
                    <a:lnTo>
                      <a:pt x="1275" y="1465"/>
                    </a:lnTo>
                    <a:lnTo>
                      <a:pt x="1141" y="1639"/>
                    </a:lnTo>
                    <a:lnTo>
                      <a:pt x="1214" y="1702"/>
                    </a:lnTo>
                    <a:lnTo>
                      <a:pt x="1401" y="1711"/>
                    </a:lnTo>
                    <a:lnTo>
                      <a:pt x="1636" y="1687"/>
                    </a:lnTo>
                    <a:lnTo>
                      <a:pt x="1807" y="1711"/>
                    </a:lnTo>
                    <a:lnTo>
                      <a:pt x="1947" y="1784"/>
                    </a:lnTo>
                    <a:lnTo>
                      <a:pt x="2066" y="1905"/>
                    </a:lnTo>
                    <a:lnTo>
                      <a:pt x="2145" y="2019"/>
                    </a:lnTo>
                    <a:lnTo>
                      <a:pt x="1967" y="1905"/>
                    </a:lnTo>
                    <a:lnTo>
                      <a:pt x="2095" y="2045"/>
                    </a:lnTo>
                    <a:lnTo>
                      <a:pt x="2153" y="2215"/>
                    </a:lnTo>
                    <a:lnTo>
                      <a:pt x="2153" y="2379"/>
                    </a:lnTo>
                    <a:lnTo>
                      <a:pt x="2125" y="2511"/>
                    </a:lnTo>
                    <a:lnTo>
                      <a:pt x="2084" y="2340"/>
                    </a:lnTo>
                    <a:lnTo>
                      <a:pt x="2066" y="2599"/>
                    </a:lnTo>
                    <a:lnTo>
                      <a:pt x="2003" y="2817"/>
                    </a:lnTo>
                    <a:lnTo>
                      <a:pt x="2145" y="2573"/>
                    </a:lnTo>
                    <a:lnTo>
                      <a:pt x="2153" y="2698"/>
                    </a:lnTo>
                    <a:lnTo>
                      <a:pt x="2215" y="2502"/>
                    </a:lnTo>
                    <a:lnTo>
                      <a:pt x="2247" y="2315"/>
                    </a:lnTo>
                    <a:lnTo>
                      <a:pt x="2330" y="2416"/>
                    </a:lnTo>
                    <a:lnTo>
                      <a:pt x="2365" y="2259"/>
                    </a:lnTo>
                    <a:lnTo>
                      <a:pt x="2365" y="2085"/>
                    </a:lnTo>
                    <a:lnTo>
                      <a:pt x="2316" y="1978"/>
                    </a:lnTo>
                    <a:lnTo>
                      <a:pt x="2215" y="1824"/>
                    </a:lnTo>
                    <a:lnTo>
                      <a:pt x="2406" y="1942"/>
                    </a:lnTo>
                    <a:lnTo>
                      <a:pt x="2391" y="1817"/>
                    </a:lnTo>
                    <a:lnTo>
                      <a:pt x="2567" y="1944"/>
                    </a:lnTo>
                    <a:lnTo>
                      <a:pt x="2624" y="2109"/>
                    </a:lnTo>
                    <a:lnTo>
                      <a:pt x="2674" y="1920"/>
                    </a:lnTo>
                    <a:lnTo>
                      <a:pt x="2635" y="1711"/>
                    </a:lnTo>
                    <a:lnTo>
                      <a:pt x="2778" y="1839"/>
                    </a:lnTo>
                    <a:lnTo>
                      <a:pt x="2881" y="1874"/>
                    </a:lnTo>
                    <a:lnTo>
                      <a:pt x="2960" y="1748"/>
                    </a:lnTo>
                    <a:lnTo>
                      <a:pt x="3006" y="1540"/>
                    </a:lnTo>
                    <a:lnTo>
                      <a:pt x="3035" y="1663"/>
                    </a:lnTo>
                    <a:lnTo>
                      <a:pt x="3142" y="1526"/>
                    </a:lnTo>
                    <a:lnTo>
                      <a:pt x="3178" y="1344"/>
                    </a:lnTo>
                    <a:lnTo>
                      <a:pt x="3237" y="1206"/>
                    </a:lnTo>
                    <a:lnTo>
                      <a:pt x="3237" y="1045"/>
                    </a:lnTo>
                    <a:lnTo>
                      <a:pt x="3204" y="839"/>
                    </a:lnTo>
                    <a:lnTo>
                      <a:pt x="3112" y="581"/>
                    </a:lnTo>
                    <a:lnTo>
                      <a:pt x="2925" y="305"/>
                    </a:lnTo>
                    <a:lnTo>
                      <a:pt x="2669" y="72"/>
                    </a:lnTo>
                    <a:lnTo>
                      <a:pt x="2503" y="0"/>
                    </a:lnTo>
                    <a:lnTo>
                      <a:pt x="2778" y="109"/>
                    </a:lnTo>
                    <a:lnTo>
                      <a:pt x="3112" y="491"/>
                    </a:lnTo>
                    <a:lnTo>
                      <a:pt x="3266" y="867"/>
                    </a:lnTo>
                    <a:lnTo>
                      <a:pt x="3319" y="1241"/>
                    </a:lnTo>
                    <a:lnTo>
                      <a:pt x="3319" y="1591"/>
                    </a:lnTo>
                    <a:lnTo>
                      <a:pt x="3266" y="1893"/>
                    </a:lnTo>
                    <a:lnTo>
                      <a:pt x="3197" y="2121"/>
                    </a:lnTo>
                    <a:lnTo>
                      <a:pt x="3096" y="2315"/>
                    </a:lnTo>
                    <a:lnTo>
                      <a:pt x="2971" y="2502"/>
                    </a:lnTo>
                    <a:lnTo>
                      <a:pt x="2863" y="2599"/>
                    </a:lnTo>
                    <a:lnTo>
                      <a:pt x="2807" y="2713"/>
                    </a:lnTo>
                    <a:lnTo>
                      <a:pt x="2784" y="2817"/>
                    </a:lnTo>
                    <a:lnTo>
                      <a:pt x="2784" y="2928"/>
                    </a:lnTo>
                    <a:lnTo>
                      <a:pt x="2807" y="3050"/>
                    </a:lnTo>
                    <a:lnTo>
                      <a:pt x="2846" y="3120"/>
                    </a:lnTo>
                    <a:lnTo>
                      <a:pt x="3006" y="3124"/>
                    </a:lnTo>
                    <a:lnTo>
                      <a:pt x="3112" y="3256"/>
                    </a:lnTo>
                    <a:lnTo>
                      <a:pt x="3142" y="3428"/>
                    </a:lnTo>
                    <a:lnTo>
                      <a:pt x="3290" y="3562"/>
                    </a:lnTo>
                    <a:lnTo>
                      <a:pt x="3329" y="3663"/>
                    </a:lnTo>
                    <a:lnTo>
                      <a:pt x="3096" y="3670"/>
                    </a:lnTo>
                    <a:lnTo>
                      <a:pt x="2710" y="3812"/>
                    </a:lnTo>
                    <a:lnTo>
                      <a:pt x="2255" y="3981"/>
                    </a:lnTo>
                    <a:lnTo>
                      <a:pt x="1912" y="4141"/>
                    </a:lnTo>
                    <a:lnTo>
                      <a:pt x="2381" y="3894"/>
                    </a:lnTo>
                    <a:lnTo>
                      <a:pt x="2710" y="3733"/>
                    </a:lnTo>
                    <a:lnTo>
                      <a:pt x="2778" y="3663"/>
                    </a:lnTo>
                    <a:lnTo>
                      <a:pt x="2750" y="3491"/>
                    </a:lnTo>
                    <a:lnTo>
                      <a:pt x="2653" y="3327"/>
                    </a:lnTo>
                    <a:lnTo>
                      <a:pt x="2549" y="3256"/>
                    </a:lnTo>
                    <a:lnTo>
                      <a:pt x="2187" y="3352"/>
                    </a:lnTo>
                    <a:lnTo>
                      <a:pt x="1848" y="3537"/>
                    </a:lnTo>
                    <a:lnTo>
                      <a:pt x="1560" y="3830"/>
                    </a:lnTo>
                    <a:lnTo>
                      <a:pt x="1795" y="3537"/>
                    </a:lnTo>
                    <a:lnTo>
                      <a:pt x="2084" y="3289"/>
                    </a:lnTo>
                    <a:lnTo>
                      <a:pt x="1980" y="3111"/>
                    </a:lnTo>
                    <a:lnTo>
                      <a:pt x="1894" y="2949"/>
                    </a:lnTo>
                    <a:lnTo>
                      <a:pt x="1857" y="2778"/>
                    </a:lnTo>
                    <a:lnTo>
                      <a:pt x="1830" y="2573"/>
                    </a:lnTo>
                    <a:lnTo>
                      <a:pt x="1772" y="2722"/>
                    </a:lnTo>
                    <a:lnTo>
                      <a:pt x="1685" y="2873"/>
                    </a:lnTo>
                    <a:lnTo>
                      <a:pt x="1646" y="2979"/>
                    </a:lnTo>
                    <a:lnTo>
                      <a:pt x="1624" y="3094"/>
                    </a:lnTo>
                    <a:lnTo>
                      <a:pt x="1545" y="3168"/>
                    </a:lnTo>
                    <a:lnTo>
                      <a:pt x="1503" y="3181"/>
                    </a:lnTo>
                    <a:lnTo>
                      <a:pt x="1389" y="3181"/>
                    </a:lnTo>
                    <a:lnTo>
                      <a:pt x="1350" y="3181"/>
                    </a:lnTo>
                    <a:lnTo>
                      <a:pt x="1309" y="3054"/>
                    </a:lnTo>
                    <a:lnTo>
                      <a:pt x="1203" y="3050"/>
                    </a:lnTo>
                    <a:lnTo>
                      <a:pt x="1350" y="3034"/>
                    </a:lnTo>
                    <a:lnTo>
                      <a:pt x="1429" y="2972"/>
                    </a:lnTo>
                    <a:lnTo>
                      <a:pt x="1452" y="2893"/>
                    </a:lnTo>
                    <a:lnTo>
                      <a:pt x="1452" y="2817"/>
                    </a:lnTo>
                    <a:lnTo>
                      <a:pt x="1401" y="2748"/>
                    </a:lnTo>
                    <a:lnTo>
                      <a:pt x="1309" y="2722"/>
                    </a:lnTo>
                    <a:lnTo>
                      <a:pt x="1429" y="2733"/>
                    </a:lnTo>
                    <a:lnTo>
                      <a:pt x="1475" y="2760"/>
                    </a:lnTo>
                    <a:lnTo>
                      <a:pt x="1585" y="2698"/>
                    </a:lnTo>
                    <a:lnTo>
                      <a:pt x="1659" y="2573"/>
                    </a:lnTo>
                    <a:lnTo>
                      <a:pt x="1723" y="2416"/>
                    </a:lnTo>
                    <a:lnTo>
                      <a:pt x="1747" y="2259"/>
                    </a:lnTo>
                    <a:lnTo>
                      <a:pt x="1747" y="2133"/>
                    </a:lnTo>
                    <a:lnTo>
                      <a:pt x="1723" y="2019"/>
                    </a:lnTo>
                    <a:lnTo>
                      <a:pt x="1646" y="1920"/>
                    </a:lnTo>
                    <a:lnTo>
                      <a:pt x="1560" y="1874"/>
                    </a:lnTo>
                    <a:lnTo>
                      <a:pt x="1475" y="1874"/>
                    </a:lnTo>
                    <a:lnTo>
                      <a:pt x="1334" y="1891"/>
                    </a:lnTo>
                    <a:lnTo>
                      <a:pt x="1214" y="1858"/>
                    </a:lnTo>
                    <a:lnTo>
                      <a:pt x="1066" y="1784"/>
                    </a:lnTo>
                    <a:lnTo>
                      <a:pt x="976" y="1711"/>
                    </a:lnTo>
                    <a:lnTo>
                      <a:pt x="1090" y="1920"/>
                    </a:lnTo>
                    <a:lnTo>
                      <a:pt x="1182" y="2006"/>
                    </a:lnTo>
                    <a:lnTo>
                      <a:pt x="1327" y="2059"/>
                    </a:lnTo>
                    <a:lnTo>
                      <a:pt x="1182" y="2094"/>
                    </a:lnTo>
                    <a:lnTo>
                      <a:pt x="1077" y="2085"/>
                    </a:lnTo>
                    <a:lnTo>
                      <a:pt x="1113" y="2195"/>
                    </a:lnTo>
                    <a:lnTo>
                      <a:pt x="1168" y="2269"/>
                    </a:lnTo>
                    <a:lnTo>
                      <a:pt x="1228" y="2305"/>
                    </a:lnTo>
                    <a:lnTo>
                      <a:pt x="1113" y="2305"/>
                    </a:lnTo>
                    <a:lnTo>
                      <a:pt x="945" y="2305"/>
                    </a:lnTo>
                    <a:lnTo>
                      <a:pt x="844" y="2241"/>
                    </a:lnTo>
                    <a:lnTo>
                      <a:pt x="776" y="2144"/>
                    </a:lnTo>
                    <a:lnTo>
                      <a:pt x="774" y="2094"/>
                    </a:lnTo>
                    <a:lnTo>
                      <a:pt x="645" y="2038"/>
                    </a:lnTo>
                    <a:lnTo>
                      <a:pt x="548" y="1944"/>
                    </a:lnTo>
                    <a:lnTo>
                      <a:pt x="502" y="1824"/>
                    </a:lnTo>
                    <a:lnTo>
                      <a:pt x="470" y="1711"/>
                    </a:lnTo>
                    <a:lnTo>
                      <a:pt x="350" y="1678"/>
                    </a:lnTo>
                    <a:lnTo>
                      <a:pt x="299" y="1628"/>
                    </a:lnTo>
                    <a:lnTo>
                      <a:pt x="231" y="1566"/>
                    </a:lnTo>
                    <a:lnTo>
                      <a:pt x="121" y="1526"/>
                    </a:lnTo>
                    <a:lnTo>
                      <a:pt x="36" y="1443"/>
                    </a:lnTo>
                    <a:lnTo>
                      <a:pt x="0" y="1344"/>
                    </a:lnTo>
                    <a:lnTo>
                      <a:pt x="0" y="1261"/>
                    </a:lnTo>
                    <a:lnTo>
                      <a:pt x="64" y="1160"/>
                    </a:lnTo>
                    <a:lnTo>
                      <a:pt x="64" y="1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8178480" y="591408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1056" h="495">
                    <a:moveTo>
                      <a:pt x="41" y="274"/>
                    </a:moveTo>
                    <a:lnTo>
                      <a:pt x="166" y="286"/>
                    </a:lnTo>
                    <a:lnTo>
                      <a:pt x="327" y="251"/>
                    </a:lnTo>
                    <a:lnTo>
                      <a:pt x="438" y="177"/>
                    </a:lnTo>
                    <a:lnTo>
                      <a:pt x="560" y="80"/>
                    </a:lnTo>
                    <a:lnTo>
                      <a:pt x="650" y="0"/>
                    </a:lnTo>
                    <a:lnTo>
                      <a:pt x="585" y="136"/>
                    </a:lnTo>
                    <a:lnTo>
                      <a:pt x="477" y="262"/>
                    </a:lnTo>
                    <a:lnTo>
                      <a:pt x="658" y="200"/>
                    </a:lnTo>
                    <a:lnTo>
                      <a:pt x="800" y="200"/>
                    </a:lnTo>
                    <a:lnTo>
                      <a:pt x="922" y="231"/>
                    </a:lnTo>
                    <a:lnTo>
                      <a:pt x="996" y="313"/>
                    </a:lnTo>
                    <a:lnTo>
                      <a:pt x="1056" y="409"/>
                    </a:lnTo>
                    <a:lnTo>
                      <a:pt x="970" y="348"/>
                    </a:lnTo>
                    <a:lnTo>
                      <a:pt x="878" y="321"/>
                    </a:lnTo>
                    <a:lnTo>
                      <a:pt x="775" y="321"/>
                    </a:lnTo>
                    <a:lnTo>
                      <a:pt x="671" y="348"/>
                    </a:lnTo>
                    <a:lnTo>
                      <a:pt x="800" y="409"/>
                    </a:lnTo>
                    <a:lnTo>
                      <a:pt x="618" y="396"/>
                    </a:lnTo>
                    <a:lnTo>
                      <a:pt x="486" y="447"/>
                    </a:lnTo>
                    <a:lnTo>
                      <a:pt x="350" y="484"/>
                    </a:lnTo>
                    <a:lnTo>
                      <a:pt x="201" y="495"/>
                    </a:lnTo>
                    <a:lnTo>
                      <a:pt x="65" y="458"/>
                    </a:lnTo>
                    <a:lnTo>
                      <a:pt x="0" y="396"/>
                    </a:lnTo>
                    <a:lnTo>
                      <a:pt x="150" y="396"/>
                    </a:lnTo>
                    <a:lnTo>
                      <a:pt x="315" y="336"/>
                    </a:lnTo>
                    <a:lnTo>
                      <a:pt x="166" y="336"/>
                    </a:lnTo>
                    <a:lnTo>
                      <a:pt x="65" y="299"/>
                    </a:lnTo>
                    <a:lnTo>
                      <a:pt x="41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8173080" y="5970960"/>
                <a:ext cx="29880" cy="40320"/>
              </a:xfrm>
              <a:custGeom>
                <a:avLst/>
                <a:gdLst/>
                <a:ahLst/>
                <a:rect l="l" t="t" r="r" b="b"/>
                <a:pathLst>
                  <a:path w="387" h="613">
                    <a:moveTo>
                      <a:pt x="67" y="60"/>
                    </a:moveTo>
                    <a:lnTo>
                      <a:pt x="152" y="0"/>
                    </a:lnTo>
                    <a:lnTo>
                      <a:pt x="266" y="0"/>
                    </a:lnTo>
                    <a:lnTo>
                      <a:pt x="348" y="46"/>
                    </a:lnTo>
                    <a:lnTo>
                      <a:pt x="387" y="152"/>
                    </a:lnTo>
                    <a:lnTo>
                      <a:pt x="335" y="86"/>
                    </a:lnTo>
                    <a:lnTo>
                      <a:pt x="266" y="60"/>
                    </a:lnTo>
                    <a:lnTo>
                      <a:pt x="164" y="152"/>
                    </a:lnTo>
                    <a:lnTo>
                      <a:pt x="266" y="270"/>
                    </a:lnTo>
                    <a:lnTo>
                      <a:pt x="266" y="429"/>
                    </a:lnTo>
                    <a:lnTo>
                      <a:pt x="90" y="528"/>
                    </a:lnTo>
                    <a:lnTo>
                      <a:pt x="38" y="613"/>
                    </a:lnTo>
                    <a:lnTo>
                      <a:pt x="0" y="613"/>
                    </a:lnTo>
                    <a:lnTo>
                      <a:pt x="14" y="440"/>
                    </a:lnTo>
                    <a:lnTo>
                      <a:pt x="113" y="367"/>
                    </a:lnTo>
                    <a:lnTo>
                      <a:pt x="113" y="306"/>
                    </a:lnTo>
                    <a:lnTo>
                      <a:pt x="38" y="260"/>
                    </a:lnTo>
                    <a:lnTo>
                      <a:pt x="72" y="152"/>
                    </a:lnTo>
                    <a:lnTo>
                      <a:pt x="0" y="71"/>
                    </a:lnTo>
                    <a:lnTo>
                      <a:pt x="6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8190360" y="5985000"/>
                <a:ext cx="12600" cy="28080"/>
              </a:xfrm>
              <a:custGeom>
                <a:avLst/>
                <a:gdLst/>
                <a:ahLst/>
                <a:rect l="l" t="t" r="r" b="b"/>
                <a:pathLst>
                  <a:path w="165" h="424">
                    <a:moveTo>
                      <a:pt x="152" y="0"/>
                    </a:moveTo>
                    <a:lnTo>
                      <a:pt x="152" y="120"/>
                    </a:lnTo>
                    <a:lnTo>
                      <a:pt x="101" y="240"/>
                    </a:lnTo>
                    <a:lnTo>
                      <a:pt x="0" y="362"/>
                    </a:lnTo>
                    <a:lnTo>
                      <a:pt x="0" y="424"/>
                    </a:lnTo>
                    <a:lnTo>
                      <a:pt x="66" y="401"/>
                    </a:lnTo>
                    <a:lnTo>
                      <a:pt x="165" y="129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8061480" y="5838120"/>
                <a:ext cx="174600" cy="82080"/>
              </a:xfrm>
              <a:custGeom>
                <a:avLst/>
                <a:gdLst/>
                <a:ahLst/>
                <a:rect l="l" t="t" r="r" b="b"/>
                <a:pathLst>
                  <a:path w="2291" h="1231">
                    <a:moveTo>
                      <a:pt x="231" y="1231"/>
                    </a:moveTo>
                    <a:lnTo>
                      <a:pt x="124" y="1231"/>
                    </a:lnTo>
                    <a:lnTo>
                      <a:pt x="46" y="1170"/>
                    </a:lnTo>
                    <a:lnTo>
                      <a:pt x="0" y="1071"/>
                    </a:lnTo>
                    <a:lnTo>
                      <a:pt x="0" y="984"/>
                    </a:lnTo>
                    <a:lnTo>
                      <a:pt x="23" y="880"/>
                    </a:lnTo>
                    <a:lnTo>
                      <a:pt x="69" y="829"/>
                    </a:lnTo>
                    <a:lnTo>
                      <a:pt x="132" y="728"/>
                    </a:lnTo>
                    <a:lnTo>
                      <a:pt x="205" y="580"/>
                    </a:lnTo>
                    <a:lnTo>
                      <a:pt x="185" y="682"/>
                    </a:lnTo>
                    <a:lnTo>
                      <a:pt x="124" y="804"/>
                    </a:lnTo>
                    <a:lnTo>
                      <a:pt x="124" y="892"/>
                    </a:lnTo>
                    <a:lnTo>
                      <a:pt x="157" y="974"/>
                    </a:lnTo>
                    <a:lnTo>
                      <a:pt x="221" y="1035"/>
                    </a:lnTo>
                    <a:lnTo>
                      <a:pt x="221" y="912"/>
                    </a:lnTo>
                    <a:lnTo>
                      <a:pt x="304" y="937"/>
                    </a:lnTo>
                    <a:lnTo>
                      <a:pt x="284" y="840"/>
                    </a:lnTo>
                    <a:lnTo>
                      <a:pt x="295" y="728"/>
                    </a:lnTo>
                    <a:lnTo>
                      <a:pt x="352" y="668"/>
                    </a:lnTo>
                    <a:lnTo>
                      <a:pt x="405" y="596"/>
                    </a:lnTo>
                    <a:lnTo>
                      <a:pt x="462" y="513"/>
                    </a:lnTo>
                    <a:lnTo>
                      <a:pt x="521" y="456"/>
                    </a:lnTo>
                    <a:lnTo>
                      <a:pt x="631" y="414"/>
                    </a:lnTo>
                    <a:lnTo>
                      <a:pt x="779" y="380"/>
                    </a:lnTo>
                    <a:lnTo>
                      <a:pt x="950" y="286"/>
                    </a:lnTo>
                    <a:lnTo>
                      <a:pt x="1007" y="179"/>
                    </a:lnTo>
                    <a:lnTo>
                      <a:pt x="985" y="310"/>
                    </a:lnTo>
                    <a:lnTo>
                      <a:pt x="943" y="361"/>
                    </a:lnTo>
                    <a:lnTo>
                      <a:pt x="825" y="481"/>
                    </a:lnTo>
                    <a:lnTo>
                      <a:pt x="1005" y="396"/>
                    </a:lnTo>
                    <a:lnTo>
                      <a:pt x="1097" y="373"/>
                    </a:lnTo>
                    <a:lnTo>
                      <a:pt x="1176" y="276"/>
                    </a:lnTo>
                    <a:lnTo>
                      <a:pt x="1236" y="135"/>
                    </a:lnTo>
                    <a:lnTo>
                      <a:pt x="1236" y="225"/>
                    </a:lnTo>
                    <a:lnTo>
                      <a:pt x="1201" y="373"/>
                    </a:lnTo>
                    <a:lnTo>
                      <a:pt x="1372" y="246"/>
                    </a:lnTo>
                    <a:lnTo>
                      <a:pt x="1468" y="218"/>
                    </a:lnTo>
                    <a:lnTo>
                      <a:pt x="1581" y="232"/>
                    </a:lnTo>
                    <a:lnTo>
                      <a:pt x="1683" y="225"/>
                    </a:lnTo>
                    <a:lnTo>
                      <a:pt x="1776" y="179"/>
                    </a:lnTo>
                    <a:lnTo>
                      <a:pt x="1890" y="80"/>
                    </a:lnTo>
                    <a:lnTo>
                      <a:pt x="1978" y="51"/>
                    </a:lnTo>
                    <a:lnTo>
                      <a:pt x="2088" y="0"/>
                    </a:lnTo>
                    <a:lnTo>
                      <a:pt x="1941" y="87"/>
                    </a:lnTo>
                    <a:lnTo>
                      <a:pt x="2061" y="99"/>
                    </a:lnTo>
                    <a:lnTo>
                      <a:pt x="2291" y="51"/>
                    </a:lnTo>
                    <a:lnTo>
                      <a:pt x="2150" y="150"/>
                    </a:lnTo>
                    <a:lnTo>
                      <a:pt x="1994" y="200"/>
                    </a:lnTo>
                    <a:lnTo>
                      <a:pt x="1855" y="186"/>
                    </a:lnTo>
                    <a:lnTo>
                      <a:pt x="1776" y="225"/>
                    </a:lnTo>
                    <a:lnTo>
                      <a:pt x="1713" y="286"/>
                    </a:lnTo>
                    <a:lnTo>
                      <a:pt x="1683" y="361"/>
                    </a:lnTo>
                    <a:lnTo>
                      <a:pt x="1581" y="421"/>
                    </a:lnTo>
                    <a:lnTo>
                      <a:pt x="1434" y="451"/>
                    </a:lnTo>
                    <a:lnTo>
                      <a:pt x="1321" y="481"/>
                    </a:lnTo>
                    <a:lnTo>
                      <a:pt x="1247" y="571"/>
                    </a:lnTo>
                    <a:lnTo>
                      <a:pt x="1201" y="657"/>
                    </a:lnTo>
                    <a:lnTo>
                      <a:pt x="1183" y="717"/>
                    </a:lnTo>
                    <a:lnTo>
                      <a:pt x="1183" y="557"/>
                    </a:lnTo>
                    <a:lnTo>
                      <a:pt x="1207" y="475"/>
                    </a:lnTo>
                    <a:lnTo>
                      <a:pt x="1069" y="481"/>
                    </a:lnTo>
                    <a:lnTo>
                      <a:pt x="910" y="557"/>
                    </a:lnTo>
                    <a:lnTo>
                      <a:pt x="849" y="633"/>
                    </a:lnTo>
                    <a:lnTo>
                      <a:pt x="809" y="754"/>
                    </a:lnTo>
                    <a:lnTo>
                      <a:pt x="752" y="633"/>
                    </a:lnTo>
                    <a:lnTo>
                      <a:pt x="680" y="717"/>
                    </a:lnTo>
                    <a:lnTo>
                      <a:pt x="631" y="880"/>
                    </a:lnTo>
                    <a:lnTo>
                      <a:pt x="592" y="790"/>
                    </a:lnTo>
                    <a:lnTo>
                      <a:pt x="616" y="682"/>
                    </a:lnTo>
                    <a:lnTo>
                      <a:pt x="680" y="633"/>
                    </a:lnTo>
                    <a:lnTo>
                      <a:pt x="701" y="557"/>
                    </a:lnTo>
                    <a:lnTo>
                      <a:pt x="655" y="528"/>
                    </a:lnTo>
                    <a:lnTo>
                      <a:pt x="548" y="580"/>
                    </a:lnTo>
                    <a:lnTo>
                      <a:pt x="502" y="645"/>
                    </a:lnTo>
                    <a:lnTo>
                      <a:pt x="521" y="717"/>
                    </a:lnTo>
                    <a:lnTo>
                      <a:pt x="491" y="880"/>
                    </a:lnTo>
                    <a:lnTo>
                      <a:pt x="456" y="954"/>
                    </a:lnTo>
                    <a:lnTo>
                      <a:pt x="456" y="1025"/>
                    </a:lnTo>
                    <a:lnTo>
                      <a:pt x="456" y="1048"/>
                    </a:lnTo>
                    <a:lnTo>
                      <a:pt x="385" y="1000"/>
                    </a:lnTo>
                    <a:lnTo>
                      <a:pt x="387" y="1127"/>
                    </a:lnTo>
                    <a:lnTo>
                      <a:pt x="284" y="1048"/>
                    </a:lnTo>
                    <a:lnTo>
                      <a:pt x="284" y="1196"/>
                    </a:lnTo>
                    <a:lnTo>
                      <a:pt x="231" y="1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8024040" y="592884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217" h="276">
                    <a:moveTo>
                      <a:pt x="0" y="0"/>
                    </a:moveTo>
                    <a:lnTo>
                      <a:pt x="51" y="117"/>
                    </a:lnTo>
                    <a:lnTo>
                      <a:pt x="125" y="165"/>
                    </a:lnTo>
                    <a:lnTo>
                      <a:pt x="217" y="191"/>
                    </a:lnTo>
                    <a:lnTo>
                      <a:pt x="153" y="276"/>
                    </a:lnTo>
                    <a:lnTo>
                      <a:pt x="72" y="239"/>
                    </a:lnTo>
                    <a:lnTo>
                      <a:pt x="8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024760" y="5813640"/>
                <a:ext cx="235800" cy="127440"/>
              </a:xfrm>
              <a:custGeom>
                <a:avLst/>
                <a:gdLst/>
                <a:ahLst/>
                <a:rect l="l" t="t" r="r" b="b"/>
                <a:pathLst>
                  <a:path w="3089" h="1908">
                    <a:moveTo>
                      <a:pt x="267" y="1860"/>
                    </a:moveTo>
                    <a:lnTo>
                      <a:pt x="145" y="1812"/>
                    </a:lnTo>
                    <a:lnTo>
                      <a:pt x="55" y="1722"/>
                    </a:lnTo>
                    <a:lnTo>
                      <a:pt x="16" y="1584"/>
                    </a:lnTo>
                    <a:lnTo>
                      <a:pt x="0" y="1492"/>
                    </a:lnTo>
                    <a:lnTo>
                      <a:pt x="27" y="1429"/>
                    </a:lnTo>
                    <a:lnTo>
                      <a:pt x="78" y="1374"/>
                    </a:lnTo>
                    <a:lnTo>
                      <a:pt x="64" y="1302"/>
                    </a:lnTo>
                    <a:lnTo>
                      <a:pt x="87" y="1155"/>
                    </a:lnTo>
                    <a:lnTo>
                      <a:pt x="152" y="1058"/>
                    </a:lnTo>
                    <a:lnTo>
                      <a:pt x="249" y="985"/>
                    </a:lnTo>
                    <a:lnTo>
                      <a:pt x="359" y="936"/>
                    </a:lnTo>
                    <a:lnTo>
                      <a:pt x="420" y="846"/>
                    </a:lnTo>
                    <a:lnTo>
                      <a:pt x="523" y="745"/>
                    </a:lnTo>
                    <a:lnTo>
                      <a:pt x="609" y="738"/>
                    </a:lnTo>
                    <a:lnTo>
                      <a:pt x="514" y="800"/>
                    </a:lnTo>
                    <a:lnTo>
                      <a:pt x="460" y="860"/>
                    </a:lnTo>
                    <a:lnTo>
                      <a:pt x="460" y="886"/>
                    </a:lnTo>
                    <a:lnTo>
                      <a:pt x="560" y="860"/>
                    </a:lnTo>
                    <a:lnTo>
                      <a:pt x="671" y="745"/>
                    </a:lnTo>
                    <a:lnTo>
                      <a:pt x="733" y="641"/>
                    </a:lnTo>
                    <a:lnTo>
                      <a:pt x="816" y="489"/>
                    </a:lnTo>
                    <a:lnTo>
                      <a:pt x="922" y="416"/>
                    </a:lnTo>
                    <a:lnTo>
                      <a:pt x="1040" y="339"/>
                    </a:lnTo>
                    <a:lnTo>
                      <a:pt x="1196" y="319"/>
                    </a:lnTo>
                    <a:lnTo>
                      <a:pt x="1326" y="302"/>
                    </a:lnTo>
                    <a:lnTo>
                      <a:pt x="1387" y="293"/>
                    </a:lnTo>
                    <a:lnTo>
                      <a:pt x="1453" y="183"/>
                    </a:lnTo>
                    <a:lnTo>
                      <a:pt x="1546" y="106"/>
                    </a:lnTo>
                    <a:lnTo>
                      <a:pt x="1724" y="42"/>
                    </a:lnTo>
                    <a:lnTo>
                      <a:pt x="1862" y="62"/>
                    </a:lnTo>
                    <a:lnTo>
                      <a:pt x="1945" y="81"/>
                    </a:lnTo>
                    <a:lnTo>
                      <a:pt x="2058" y="0"/>
                    </a:lnTo>
                    <a:lnTo>
                      <a:pt x="2344" y="0"/>
                    </a:lnTo>
                    <a:lnTo>
                      <a:pt x="2526" y="27"/>
                    </a:lnTo>
                    <a:lnTo>
                      <a:pt x="2655" y="67"/>
                    </a:lnTo>
                    <a:lnTo>
                      <a:pt x="2734" y="132"/>
                    </a:lnTo>
                    <a:lnTo>
                      <a:pt x="2873" y="132"/>
                    </a:lnTo>
                    <a:lnTo>
                      <a:pt x="3013" y="196"/>
                    </a:lnTo>
                    <a:lnTo>
                      <a:pt x="3089" y="293"/>
                    </a:lnTo>
                    <a:lnTo>
                      <a:pt x="3013" y="231"/>
                    </a:lnTo>
                    <a:lnTo>
                      <a:pt x="2895" y="173"/>
                    </a:lnTo>
                    <a:lnTo>
                      <a:pt x="2774" y="183"/>
                    </a:lnTo>
                    <a:lnTo>
                      <a:pt x="2577" y="132"/>
                    </a:lnTo>
                    <a:lnTo>
                      <a:pt x="2367" y="132"/>
                    </a:lnTo>
                    <a:lnTo>
                      <a:pt x="2190" y="173"/>
                    </a:lnTo>
                    <a:lnTo>
                      <a:pt x="2017" y="245"/>
                    </a:lnTo>
                    <a:lnTo>
                      <a:pt x="1922" y="319"/>
                    </a:lnTo>
                    <a:lnTo>
                      <a:pt x="1862" y="330"/>
                    </a:lnTo>
                    <a:lnTo>
                      <a:pt x="1890" y="157"/>
                    </a:lnTo>
                    <a:lnTo>
                      <a:pt x="1763" y="132"/>
                    </a:lnTo>
                    <a:lnTo>
                      <a:pt x="1653" y="207"/>
                    </a:lnTo>
                    <a:lnTo>
                      <a:pt x="1592" y="330"/>
                    </a:lnTo>
                    <a:lnTo>
                      <a:pt x="1339" y="339"/>
                    </a:lnTo>
                    <a:lnTo>
                      <a:pt x="1093" y="416"/>
                    </a:lnTo>
                    <a:lnTo>
                      <a:pt x="882" y="583"/>
                    </a:lnTo>
                    <a:lnTo>
                      <a:pt x="772" y="779"/>
                    </a:lnTo>
                    <a:lnTo>
                      <a:pt x="647" y="860"/>
                    </a:lnTo>
                    <a:lnTo>
                      <a:pt x="477" y="936"/>
                    </a:lnTo>
                    <a:lnTo>
                      <a:pt x="317" y="985"/>
                    </a:lnTo>
                    <a:lnTo>
                      <a:pt x="227" y="1082"/>
                    </a:lnTo>
                    <a:lnTo>
                      <a:pt x="209" y="1245"/>
                    </a:lnTo>
                    <a:lnTo>
                      <a:pt x="267" y="1390"/>
                    </a:lnTo>
                    <a:lnTo>
                      <a:pt x="359" y="1471"/>
                    </a:lnTo>
                    <a:lnTo>
                      <a:pt x="460" y="1535"/>
                    </a:lnTo>
                    <a:lnTo>
                      <a:pt x="278" y="1499"/>
                    </a:lnTo>
                    <a:lnTo>
                      <a:pt x="145" y="1429"/>
                    </a:lnTo>
                    <a:lnTo>
                      <a:pt x="124" y="1554"/>
                    </a:lnTo>
                    <a:lnTo>
                      <a:pt x="209" y="1676"/>
                    </a:lnTo>
                    <a:lnTo>
                      <a:pt x="359" y="1730"/>
                    </a:lnTo>
                    <a:lnTo>
                      <a:pt x="477" y="1730"/>
                    </a:lnTo>
                    <a:lnTo>
                      <a:pt x="647" y="1710"/>
                    </a:lnTo>
                    <a:lnTo>
                      <a:pt x="574" y="1835"/>
                    </a:lnTo>
                    <a:lnTo>
                      <a:pt x="449" y="1908"/>
                    </a:lnTo>
                    <a:lnTo>
                      <a:pt x="267" y="18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8206200" y="601920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309" h="976">
                    <a:moveTo>
                      <a:pt x="186" y="0"/>
                    </a:moveTo>
                    <a:lnTo>
                      <a:pt x="186" y="187"/>
                    </a:lnTo>
                    <a:lnTo>
                      <a:pt x="147" y="459"/>
                    </a:lnTo>
                    <a:lnTo>
                      <a:pt x="101" y="666"/>
                    </a:lnTo>
                    <a:lnTo>
                      <a:pt x="0" y="976"/>
                    </a:lnTo>
                    <a:lnTo>
                      <a:pt x="136" y="831"/>
                    </a:lnTo>
                    <a:lnTo>
                      <a:pt x="241" y="605"/>
                    </a:lnTo>
                    <a:lnTo>
                      <a:pt x="288" y="446"/>
                    </a:lnTo>
                    <a:lnTo>
                      <a:pt x="309" y="29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8106480" y="6194160"/>
                <a:ext cx="341640" cy="338760"/>
              </a:xfrm>
              <a:custGeom>
                <a:avLst/>
                <a:gdLst/>
                <a:ahLst/>
                <a:rect l="l" t="t" r="r" b="b"/>
                <a:pathLst>
                  <a:path w="4469" h="5071">
                    <a:moveTo>
                      <a:pt x="4469" y="1452"/>
                    </a:moveTo>
                    <a:lnTo>
                      <a:pt x="3878" y="1759"/>
                    </a:lnTo>
                    <a:lnTo>
                      <a:pt x="3544" y="2040"/>
                    </a:lnTo>
                    <a:lnTo>
                      <a:pt x="3228" y="2346"/>
                    </a:lnTo>
                    <a:lnTo>
                      <a:pt x="2956" y="2784"/>
                    </a:lnTo>
                    <a:lnTo>
                      <a:pt x="2733" y="3276"/>
                    </a:lnTo>
                    <a:lnTo>
                      <a:pt x="2578" y="3865"/>
                    </a:lnTo>
                    <a:lnTo>
                      <a:pt x="2483" y="4482"/>
                    </a:lnTo>
                    <a:lnTo>
                      <a:pt x="2421" y="5071"/>
                    </a:lnTo>
                    <a:lnTo>
                      <a:pt x="0" y="5071"/>
                    </a:lnTo>
                    <a:lnTo>
                      <a:pt x="282" y="4821"/>
                    </a:lnTo>
                    <a:lnTo>
                      <a:pt x="499" y="4544"/>
                    </a:lnTo>
                    <a:lnTo>
                      <a:pt x="657" y="4297"/>
                    </a:lnTo>
                    <a:lnTo>
                      <a:pt x="900" y="4080"/>
                    </a:lnTo>
                    <a:lnTo>
                      <a:pt x="1182" y="3924"/>
                    </a:lnTo>
                    <a:lnTo>
                      <a:pt x="1525" y="3087"/>
                    </a:lnTo>
                    <a:lnTo>
                      <a:pt x="1089" y="3243"/>
                    </a:lnTo>
                    <a:lnTo>
                      <a:pt x="99" y="3801"/>
                    </a:lnTo>
                    <a:lnTo>
                      <a:pt x="900" y="3214"/>
                    </a:lnTo>
                    <a:lnTo>
                      <a:pt x="1525" y="2784"/>
                    </a:lnTo>
                    <a:lnTo>
                      <a:pt x="1835" y="2443"/>
                    </a:lnTo>
                    <a:lnTo>
                      <a:pt x="2055" y="2100"/>
                    </a:lnTo>
                    <a:lnTo>
                      <a:pt x="2209" y="1698"/>
                    </a:lnTo>
                    <a:lnTo>
                      <a:pt x="2306" y="1362"/>
                    </a:lnTo>
                    <a:lnTo>
                      <a:pt x="2145" y="894"/>
                    </a:lnTo>
                    <a:lnTo>
                      <a:pt x="1771" y="307"/>
                    </a:lnTo>
                    <a:lnTo>
                      <a:pt x="1459" y="0"/>
                    </a:lnTo>
                    <a:lnTo>
                      <a:pt x="1894" y="341"/>
                    </a:lnTo>
                    <a:lnTo>
                      <a:pt x="2306" y="894"/>
                    </a:lnTo>
                    <a:lnTo>
                      <a:pt x="2456" y="1298"/>
                    </a:lnTo>
                    <a:lnTo>
                      <a:pt x="2610" y="1698"/>
                    </a:lnTo>
                    <a:lnTo>
                      <a:pt x="2707" y="2135"/>
                    </a:lnTo>
                    <a:lnTo>
                      <a:pt x="3076" y="1913"/>
                    </a:lnTo>
                    <a:lnTo>
                      <a:pt x="2578" y="2346"/>
                    </a:lnTo>
                    <a:lnTo>
                      <a:pt x="2209" y="2784"/>
                    </a:lnTo>
                    <a:lnTo>
                      <a:pt x="2020" y="3119"/>
                    </a:lnTo>
                    <a:lnTo>
                      <a:pt x="1894" y="3463"/>
                    </a:lnTo>
                    <a:lnTo>
                      <a:pt x="1802" y="3801"/>
                    </a:lnTo>
                    <a:lnTo>
                      <a:pt x="1617" y="4177"/>
                    </a:lnTo>
                    <a:lnTo>
                      <a:pt x="1459" y="4423"/>
                    </a:lnTo>
                    <a:lnTo>
                      <a:pt x="1432" y="4669"/>
                    </a:lnTo>
                    <a:lnTo>
                      <a:pt x="1432" y="4857"/>
                    </a:lnTo>
                    <a:lnTo>
                      <a:pt x="1556" y="4509"/>
                    </a:lnTo>
                    <a:lnTo>
                      <a:pt x="1736" y="4177"/>
                    </a:lnTo>
                    <a:lnTo>
                      <a:pt x="1958" y="3865"/>
                    </a:lnTo>
                    <a:lnTo>
                      <a:pt x="2055" y="3619"/>
                    </a:lnTo>
                    <a:lnTo>
                      <a:pt x="2270" y="3340"/>
                    </a:lnTo>
                    <a:lnTo>
                      <a:pt x="2639" y="3054"/>
                    </a:lnTo>
                    <a:lnTo>
                      <a:pt x="2920" y="2658"/>
                    </a:lnTo>
                    <a:lnTo>
                      <a:pt x="3228" y="2226"/>
                    </a:lnTo>
                    <a:lnTo>
                      <a:pt x="3602" y="1883"/>
                    </a:lnTo>
                    <a:lnTo>
                      <a:pt x="3943" y="1637"/>
                    </a:lnTo>
                    <a:lnTo>
                      <a:pt x="4469" y="1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8083440" y="6266160"/>
                <a:ext cx="134280" cy="142560"/>
              </a:xfrm>
              <a:custGeom>
                <a:avLst/>
                <a:gdLst/>
                <a:ahLst/>
                <a:rect l="l" t="t" r="r" b="b"/>
                <a:pathLst>
                  <a:path w="1765" h="2135">
                    <a:moveTo>
                      <a:pt x="1710" y="0"/>
                    </a:moveTo>
                    <a:lnTo>
                      <a:pt x="1765" y="61"/>
                    </a:lnTo>
                    <a:lnTo>
                      <a:pt x="1425" y="744"/>
                    </a:lnTo>
                    <a:lnTo>
                      <a:pt x="994" y="1147"/>
                    </a:lnTo>
                    <a:lnTo>
                      <a:pt x="743" y="1579"/>
                    </a:lnTo>
                    <a:lnTo>
                      <a:pt x="0" y="2135"/>
                    </a:lnTo>
                    <a:lnTo>
                      <a:pt x="306" y="1482"/>
                    </a:lnTo>
                    <a:lnTo>
                      <a:pt x="1020" y="645"/>
                    </a:lnTo>
                    <a:lnTo>
                      <a:pt x="1579" y="248"/>
                    </a:lnTo>
                    <a:lnTo>
                      <a:pt x="17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343720" y="6086520"/>
                <a:ext cx="109080" cy="162720"/>
              </a:xfrm>
              <a:custGeom>
                <a:avLst/>
                <a:gdLst/>
                <a:ahLst/>
                <a:rect l="l" t="t" r="r" b="b"/>
                <a:pathLst>
                  <a:path w="1430" h="2441">
                    <a:moveTo>
                      <a:pt x="0" y="0"/>
                    </a:moveTo>
                    <a:lnTo>
                      <a:pt x="374" y="373"/>
                    </a:lnTo>
                    <a:lnTo>
                      <a:pt x="745" y="929"/>
                    </a:lnTo>
                    <a:lnTo>
                      <a:pt x="1430" y="2441"/>
                    </a:lnTo>
                    <a:lnTo>
                      <a:pt x="718" y="961"/>
                    </a:lnTo>
                    <a:lnTo>
                      <a:pt x="347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040600" y="6116040"/>
                <a:ext cx="174600" cy="322560"/>
              </a:xfrm>
              <a:custGeom>
                <a:avLst/>
                <a:gdLst/>
                <a:ahLst/>
                <a:rect l="l" t="t" r="r" b="b"/>
                <a:pathLst>
                  <a:path w="2285" h="4830">
                    <a:moveTo>
                      <a:pt x="2285" y="0"/>
                    </a:moveTo>
                    <a:lnTo>
                      <a:pt x="1736" y="296"/>
                    </a:lnTo>
                    <a:lnTo>
                      <a:pt x="1471" y="507"/>
                    </a:lnTo>
                    <a:lnTo>
                      <a:pt x="1198" y="646"/>
                    </a:lnTo>
                    <a:lnTo>
                      <a:pt x="862" y="1140"/>
                    </a:lnTo>
                    <a:lnTo>
                      <a:pt x="688" y="1755"/>
                    </a:lnTo>
                    <a:lnTo>
                      <a:pt x="620" y="2283"/>
                    </a:lnTo>
                    <a:lnTo>
                      <a:pt x="559" y="2690"/>
                    </a:lnTo>
                    <a:lnTo>
                      <a:pt x="446" y="3017"/>
                    </a:lnTo>
                    <a:lnTo>
                      <a:pt x="365" y="3412"/>
                    </a:lnTo>
                    <a:lnTo>
                      <a:pt x="286" y="3753"/>
                    </a:lnTo>
                    <a:lnTo>
                      <a:pt x="270" y="4021"/>
                    </a:lnTo>
                    <a:lnTo>
                      <a:pt x="224" y="4254"/>
                    </a:lnTo>
                    <a:lnTo>
                      <a:pt x="207" y="4383"/>
                    </a:lnTo>
                    <a:lnTo>
                      <a:pt x="132" y="4577"/>
                    </a:lnTo>
                    <a:lnTo>
                      <a:pt x="0" y="4830"/>
                    </a:lnTo>
                    <a:lnTo>
                      <a:pt x="240" y="4421"/>
                    </a:lnTo>
                    <a:lnTo>
                      <a:pt x="381" y="4104"/>
                    </a:lnTo>
                    <a:lnTo>
                      <a:pt x="574" y="3689"/>
                    </a:lnTo>
                    <a:lnTo>
                      <a:pt x="688" y="3368"/>
                    </a:lnTo>
                    <a:lnTo>
                      <a:pt x="780" y="2986"/>
                    </a:lnTo>
                    <a:lnTo>
                      <a:pt x="826" y="2430"/>
                    </a:lnTo>
                    <a:lnTo>
                      <a:pt x="766" y="3006"/>
                    </a:lnTo>
                    <a:lnTo>
                      <a:pt x="574" y="3592"/>
                    </a:lnTo>
                    <a:lnTo>
                      <a:pt x="305" y="4083"/>
                    </a:lnTo>
                    <a:lnTo>
                      <a:pt x="365" y="3592"/>
                    </a:lnTo>
                    <a:lnTo>
                      <a:pt x="497" y="3006"/>
                    </a:lnTo>
                    <a:lnTo>
                      <a:pt x="607" y="2718"/>
                    </a:lnTo>
                    <a:lnTo>
                      <a:pt x="730" y="1920"/>
                    </a:lnTo>
                    <a:lnTo>
                      <a:pt x="862" y="1377"/>
                    </a:lnTo>
                    <a:lnTo>
                      <a:pt x="1022" y="973"/>
                    </a:lnTo>
                    <a:lnTo>
                      <a:pt x="1229" y="692"/>
                    </a:lnTo>
                    <a:lnTo>
                      <a:pt x="1532" y="523"/>
                    </a:lnTo>
                    <a:lnTo>
                      <a:pt x="1833" y="268"/>
                    </a:lnTo>
                    <a:lnTo>
                      <a:pt x="22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796520" y="633924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3654" h="2924">
                    <a:moveTo>
                      <a:pt x="3236" y="1418"/>
                    </a:moveTo>
                    <a:lnTo>
                      <a:pt x="3179" y="1729"/>
                    </a:lnTo>
                    <a:lnTo>
                      <a:pt x="3291" y="2195"/>
                    </a:lnTo>
                    <a:lnTo>
                      <a:pt x="3543" y="2562"/>
                    </a:lnTo>
                    <a:lnTo>
                      <a:pt x="3654" y="2845"/>
                    </a:lnTo>
                    <a:lnTo>
                      <a:pt x="3432" y="2654"/>
                    </a:lnTo>
                    <a:lnTo>
                      <a:pt x="3261" y="2237"/>
                    </a:lnTo>
                    <a:lnTo>
                      <a:pt x="3192" y="1925"/>
                    </a:lnTo>
                    <a:lnTo>
                      <a:pt x="2796" y="2272"/>
                    </a:lnTo>
                    <a:lnTo>
                      <a:pt x="2796" y="2592"/>
                    </a:lnTo>
                    <a:lnTo>
                      <a:pt x="3015" y="2924"/>
                    </a:lnTo>
                    <a:lnTo>
                      <a:pt x="2777" y="2668"/>
                    </a:lnTo>
                    <a:lnTo>
                      <a:pt x="2715" y="2527"/>
                    </a:lnTo>
                    <a:lnTo>
                      <a:pt x="2683" y="2356"/>
                    </a:lnTo>
                    <a:lnTo>
                      <a:pt x="2683" y="2237"/>
                    </a:lnTo>
                    <a:lnTo>
                      <a:pt x="2733" y="2114"/>
                    </a:lnTo>
                    <a:lnTo>
                      <a:pt x="2937" y="1815"/>
                    </a:lnTo>
                    <a:lnTo>
                      <a:pt x="2983" y="1775"/>
                    </a:lnTo>
                    <a:lnTo>
                      <a:pt x="3131" y="1753"/>
                    </a:lnTo>
                    <a:lnTo>
                      <a:pt x="3131" y="1683"/>
                    </a:lnTo>
                    <a:lnTo>
                      <a:pt x="2904" y="1608"/>
                    </a:lnTo>
                    <a:lnTo>
                      <a:pt x="2808" y="1619"/>
                    </a:lnTo>
                    <a:lnTo>
                      <a:pt x="2427" y="2068"/>
                    </a:lnTo>
                    <a:lnTo>
                      <a:pt x="2505" y="1826"/>
                    </a:lnTo>
                    <a:lnTo>
                      <a:pt x="2268" y="1826"/>
                    </a:lnTo>
                    <a:lnTo>
                      <a:pt x="1579" y="2045"/>
                    </a:lnTo>
                    <a:lnTo>
                      <a:pt x="1401" y="2356"/>
                    </a:lnTo>
                    <a:lnTo>
                      <a:pt x="1309" y="2578"/>
                    </a:lnTo>
                    <a:lnTo>
                      <a:pt x="1296" y="2832"/>
                    </a:lnTo>
                    <a:lnTo>
                      <a:pt x="1265" y="2608"/>
                    </a:lnTo>
                    <a:lnTo>
                      <a:pt x="1276" y="2452"/>
                    </a:lnTo>
                    <a:lnTo>
                      <a:pt x="1447" y="2015"/>
                    </a:lnTo>
                    <a:lnTo>
                      <a:pt x="1039" y="1889"/>
                    </a:lnTo>
                    <a:lnTo>
                      <a:pt x="797" y="1859"/>
                    </a:lnTo>
                    <a:lnTo>
                      <a:pt x="493" y="1909"/>
                    </a:lnTo>
                    <a:lnTo>
                      <a:pt x="219" y="1925"/>
                    </a:lnTo>
                    <a:lnTo>
                      <a:pt x="0" y="1874"/>
                    </a:lnTo>
                    <a:lnTo>
                      <a:pt x="255" y="1889"/>
                    </a:lnTo>
                    <a:lnTo>
                      <a:pt x="529" y="1859"/>
                    </a:lnTo>
                    <a:lnTo>
                      <a:pt x="828" y="1799"/>
                    </a:lnTo>
                    <a:lnTo>
                      <a:pt x="973" y="1775"/>
                    </a:lnTo>
                    <a:lnTo>
                      <a:pt x="1199" y="1826"/>
                    </a:lnTo>
                    <a:lnTo>
                      <a:pt x="1436" y="1826"/>
                    </a:lnTo>
                    <a:lnTo>
                      <a:pt x="1639" y="1753"/>
                    </a:lnTo>
                    <a:lnTo>
                      <a:pt x="1821" y="1619"/>
                    </a:lnTo>
                    <a:lnTo>
                      <a:pt x="1982" y="1481"/>
                    </a:lnTo>
                    <a:lnTo>
                      <a:pt x="2091" y="1367"/>
                    </a:lnTo>
                    <a:lnTo>
                      <a:pt x="2224" y="1176"/>
                    </a:lnTo>
                    <a:lnTo>
                      <a:pt x="2224" y="1257"/>
                    </a:lnTo>
                    <a:lnTo>
                      <a:pt x="2634" y="1107"/>
                    </a:lnTo>
                    <a:lnTo>
                      <a:pt x="2591" y="955"/>
                    </a:lnTo>
                    <a:lnTo>
                      <a:pt x="2476" y="777"/>
                    </a:lnTo>
                    <a:lnTo>
                      <a:pt x="2314" y="648"/>
                    </a:lnTo>
                    <a:lnTo>
                      <a:pt x="2188" y="648"/>
                    </a:lnTo>
                    <a:lnTo>
                      <a:pt x="2268" y="527"/>
                    </a:lnTo>
                    <a:lnTo>
                      <a:pt x="2556" y="393"/>
                    </a:lnTo>
                    <a:lnTo>
                      <a:pt x="2746" y="316"/>
                    </a:lnTo>
                    <a:lnTo>
                      <a:pt x="2983" y="141"/>
                    </a:lnTo>
                    <a:lnTo>
                      <a:pt x="3131" y="30"/>
                    </a:lnTo>
                    <a:lnTo>
                      <a:pt x="3592" y="0"/>
                    </a:lnTo>
                    <a:lnTo>
                      <a:pt x="3573" y="30"/>
                    </a:lnTo>
                    <a:lnTo>
                      <a:pt x="3140" y="74"/>
                    </a:lnTo>
                    <a:lnTo>
                      <a:pt x="2886" y="316"/>
                    </a:lnTo>
                    <a:lnTo>
                      <a:pt x="2591" y="461"/>
                    </a:lnTo>
                    <a:lnTo>
                      <a:pt x="2492" y="478"/>
                    </a:lnTo>
                    <a:lnTo>
                      <a:pt x="2314" y="558"/>
                    </a:lnTo>
                    <a:lnTo>
                      <a:pt x="2476" y="635"/>
                    </a:lnTo>
                    <a:lnTo>
                      <a:pt x="2634" y="777"/>
                    </a:lnTo>
                    <a:lnTo>
                      <a:pt x="2733" y="916"/>
                    </a:lnTo>
                    <a:lnTo>
                      <a:pt x="2796" y="1107"/>
                    </a:lnTo>
                    <a:lnTo>
                      <a:pt x="2832" y="1386"/>
                    </a:lnTo>
                    <a:lnTo>
                      <a:pt x="3370" y="1176"/>
                    </a:lnTo>
                    <a:lnTo>
                      <a:pt x="3236" y="1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517160" y="590904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620" h="1156">
                    <a:moveTo>
                      <a:pt x="519" y="950"/>
                    </a:moveTo>
                    <a:lnTo>
                      <a:pt x="620" y="971"/>
                    </a:lnTo>
                    <a:lnTo>
                      <a:pt x="620" y="1059"/>
                    </a:lnTo>
                    <a:lnTo>
                      <a:pt x="547" y="1088"/>
                    </a:lnTo>
                    <a:lnTo>
                      <a:pt x="341" y="1098"/>
                    </a:lnTo>
                    <a:lnTo>
                      <a:pt x="242" y="1059"/>
                    </a:lnTo>
                    <a:lnTo>
                      <a:pt x="169" y="1075"/>
                    </a:lnTo>
                    <a:lnTo>
                      <a:pt x="0" y="1156"/>
                    </a:lnTo>
                    <a:lnTo>
                      <a:pt x="116" y="1015"/>
                    </a:lnTo>
                    <a:lnTo>
                      <a:pt x="305" y="909"/>
                    </a:lnTo>
                    <a:lnTo>
                      <a:pt x="429" y="978"/>
                    </a:lnTo>
                    <a:lnTo>
                      <a:pt x="464" y="964"/>
                    </a:lnTo>
                    <a:lnTo>
                      <a:pt x="452" y="782"/>
                    </a:lnTo>
                    <a:lnTo>
                      <a:pt x="429" y="540"/>
                    </a:lnTo>
                    <a:lnTo>
                      <a:pt x="393" y="293"/>
                    </a:lnTo>
                    <a:lnTo>
                      <a:pt x="305" y="24"/>
                    </a:lnTo>
                    <a:lnTo>
                      <a:pt x="351" y="0"/>
                    </a:lnTo>
                    <a:lnTo>
                      <a:pt x="413" y="202"/>
                    </a:lnTo>
                    <a:lnTo>
                      <a:pt x="464" y="540"/>
                    </a:lnTo>
                    <a:lnTo>
                      <a:pt x="489" y="941"/>
                    </a:lnTo>
                    <a:lnTo>
                      <a:pt x="519" y="9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524720" y="5981760"/>
                <a:ext cx="23040" cy="34920"/>
              </a:xfrm>
              <a:custGeom>
                <a:avLst/>
                <a:gdLst/>
                <a:ahLst/>
                <a:rect l="l" t="t" r="r" b="b"/>
                <a:pathLst>
                  <a:path w="298" h="529">
                    <a:moveTo>
                      <a:pt x="298" y="0"/>
                    </a:moveTo>
                    <a:lnTo>
                      <a:pt x="263" y="99"/>
                    </a:lnTo>
                    <a:lnTo>
                      <a:pt x="37" y="169"/>
                    </a:lnTo>
                    <a:lnTo>
                      <a:pt x="77" y="266"/>
                    </a:lnTo>
                    <a:lnTo>
                      <a:pt x="167" y="344"/>
                    </a:lnTo>
                    <a:lnTo>
                      <a:pt x="0" y="494"/>
                    </a:lnTo>
                    <a:lnTo>
                      <a:pt x="7" y="529"/>
                    </a:lnTo>
                    <a:lnTo>
                      <a:pt x="107" y="501"/>
                    </a:lnTo>
                    <a:lnTo>
                      <a:pt x="206" y="400"/>
                    </a:lnTo>
                    <a:lnTo>
                      <a:pt x="206" y="330"/>
                    </a:lnTo>
                    <a:lnTo>
                      <a:pt x="99" y="213"/>
                    </a:lnTo>
                    <a:lnTo>
                      <a:pt x="198" y="160"/>
                    </a:lnTo>
                    <a:lnTo>
                      <a:pt x="173" y="213"/>
                    </a:lnTo>
                    <a:lnTo>
                      <a:pt x="263" y="160"/>
                    </a:lnTo>
                    <a:lnTo>
                      <a:pt x="294" y="83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516800" y="598248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721" h="1164">
                    <a:moveTo>
                      <a:pt x="433" y="0"/>
                    </a:moveTo>
                    <a:lnTo>
                      <a:pt x="440" y="73"/>
                    </a:lnTo>
                    <a:lnTo>
                      <a:pt x="721" y="779"/>
                    </a:lnTo>
                    <a:lnTo>
                      <a:pt x="679" y="846"/>
                    </a:lnTo>
                    <a:lnTo>
                      <a:pt x="599" y="878"/>
                    </a:lnTo>
                    <a:lnTo>
                      <a:pt x="373" y="864"/>
                    </a:lnTo>
                    <a:lnTo>
                      <a:pt x="295" y="899"/>
                    </a:lnTo>
                    <a:lnTo>
                      <a:pt x="242" y="1095"/>
                    </a:lnTo>
                    <a:lnTo>
                      <a:pt x="0" y="1164"/>
                    </a:lnTo>
                    <a:lnTo>
                      <a:pt x="11" y="1084"/>
                    </a:lnTo>
                    <a:lnTo>
                      <a:pt x="76" y="1095"/>
                    </a:lnTo>
                    <a:lnTo>
                      <a:pt x="217" y="1065"/>
                    </a:lnTo>
                    <a:lnTo>
                      <a:pt x="265" y="882"/>
                    </a:lnTo>
                    <a:lnTo>
                      <a:pt x="202" y="832"/>
                    </a:lnTo>
                    <a:lnTo>
                      <a:pt x="217" y="814"/>
                    </a:lnTo>
                    <a:lnTo>
                      <a:pt x="362" y="779"/>
                    </a:lnTo>
                    <a:lnTo>
                      <a:pt x="518" y="814"/>
                    </a:lnTo>
                    <a:lnTo>
                      <a:pt x="606" y="802"/>
                    </a:lnTo>
                    <a:lnTo>
                      <a:pt x="679" y="756"/>
                    </a:lnTo>
                    <a:lnTo>
                      <a:pt x="449" y="194"/>
                    </a:lnTo>
                    <a:lnTo>
                      <a:pt x="373" y="9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509960" y="6021360"/>
                <a:ext cx="25560" cy="52200"/>
              </a:xfrm>
              <a:custGeom>
                <a:avLst/>
                <a:gdLst/>
                <a:ahLst/>
                <a:rect l="l" t="t" r="r" b="b"/>
                <a:pathLst>
                  <a:path w="339" h="788">
                    <a:moveTo>
                      <a:pt x="339" y="0"/>
                    </a:moveTo>
                    <a:lnTo>
                      <a:pt x="319" y="120"/>
                    </a:lnTo>
                    <a:lnTo>
                      <a:pt x="288" y="209"/>
                    </a:lnTo>
                    <a:lnTo>
                      <a:pt x="233" y="283"/>
                    </a:lnTo>
                    <a:lnTo>
                      <a:pt x="152" y="382"/>
                    </a:lnTo>
                    <a:lnTo>
                      <a:pt x="97" y="428"/>
                    </a:lnTo>
                    <a:lnTo>
                      <a:pt x="72" y="391"/>
                    </a:lnTo>
                    <a:lnTo>
                      <a:pt x="42" y="583"/>
                    </a:lnTo>
                    <a:lnTo>
                      <a:pt x="0" y="788"/>
                    </a:lnTo>
                    <a:lnTo>
                      <a:pt x="97" y="599"/>
                    </a:lnTo>
                    <a:lnTo>
                      <a:pt x="127" y="463"/>
                    </a:lnTo>
                    <a:lnTo>
                      <a:pt x="266" y="329"/>
                    </a:lnTo>
                    <a:lnTo>
                      <a:pt x="319" y="221"/>
                    </a:lnTo>
                    <a:lnTo>
                      <a:pt x="339" y="101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515360" y="605772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216" h="137">
                    <a:moveTo>
                      <a:pt x="49" y="0"/>
                    </a:moveTo>
                    <a:lnTo>
                      <a:pt x="216" y="117"/>
                    </a:lnTo>
                    <a:lnTo>
                      <a:pt x="216" y="137"/>
                    </a:lnTo>
                    <a:lnTo>
                      <a:pt x="0" y="61"/>
                    </a:lnTo>
                    <a:lnTo>
                      <a:pt x="0" y="6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520400" y="607536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59" h="136">
                    <a:moveTo>
                      <a:pt x="152" y="0"/>
                    </a:moveTo>
                    <a:lnTo>
                      <a:pt x="0" y="31"/>
                    </a:lnTo>
                    <a:lnTo>
                      <a:pt x="0" y="97"/>
                    </a:lnTo>
                    <a:lnTo>
                      <a:pt x="67" y="136"/>
                    </a:lnTo>
                    <a:lnTo>
                      <a:pt x="159" y="3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275240" y="5997240"/>
                <a:ext cx="249120" cy="125640"/>
              </a:xfrm>
              <a:custGeom>
                <a:avLst/>
                <a:gdLst/>
                <a:ahLst/>
                <a:rect l="l" t="t" r="r" b="b"/>
                <a:pathLst>
                  <a:path w="3264" h="1881">
                    <a:moveTo>
                      <a:pt x="3264" y="1419"/>
                    </a:moveTo>
                    <a:lnTo>
                      <a:pt x="3264" y="1489"/>
                    </a:lnTo>
                    <a:lnTo>
                      <a:pt x="3204" y="1586"/>
                    </a:lnTo>
                    <a:lnTo>
                      <a:pt x="3082" y="1626"/>
                    </a:lnTo>
                    <a:lnTo>
                      <a:pt x="2943" y="1617"/>
                    </a:lnTo>
                    <a:lnTo>
                      <a:pt x="2679" y="1593"/>
                    </a:lnTo>
                    <a:lnTo>
                      <a:pt x="2515" y="1617"/>
                    </a:lnTo>
                    <a:lnTo>
                      <a:pt x="2400" y="1687"/>
                    </a:lnTo>
                    <a:lnTo>
                      <a:pt x="2646" y="1881"/>
                    </a:lnTo>
                    <a:lnTo>
                      <a:pt x="2086" y="1531"/>
                    </a:lnTo>
                    <a:lnTo>
                      <a:pt x="1563" y="1226"/>
                    </a:lnTo>
                    <a:lnTo>
                      <a:pt x="1058" y="920"/>
                    </a:lnTo>
                    <a:lnTo>
                      <a:pt x="602" y="775"/>
                    </a:lnTo>
                    <a:lnTo>
                      <a:pt x="390" y="718"/>
                    </a:lnTo>
                    <a:lnTo>
                      <a:pt x="752" y="800"/>
                    </a:lnTo>
                    <a:lnTo>
                      <a:pt x="1183" y="920"/>
                    </a:lnTo>
                    <a:lnTo>
                      <a:pt x="1533" y="1139"/>
                    </a:lnTo>
                    <a:lnTo>
                      <a:pt x="1381" y="839"/>
                    </a:lnTo>
                    <a:lnTo>
                      <a:pt x="1067" y="593"/>
                    </a:lnTo>
                    <a:lnTo>
                      <a:pt x="655" y="410"/>
                    </a:lnTo>
                    <a:lnTo>
                      <a:pt x="231" y="316"/>
                    </a:lnTo>
                    <a:lnTo>
                      <a:pt x="0" y="551"/>
                    </a:lnTo>
                    <a:lnTo>
                      <a:pt x="196" y="270"/>
                    </a:lnTo>
                    <a:lnTo>
                      <a:pt x="602" y="351"/>
                    </a:lnTo>
                    <a:lnTo>
                      <a:pt x="1026" y="496"/>
                    </a:lnTo>
                    <a:lnTo>
                      <a:pt x="1446" y="751"/>
                    </a:lnTo>
                    <a:lnTo>
                      <a:pt x="1734" y="1012"/>
                    </a:lnTo>
                    <a:lnTo>
                      <a:pt x="1957" y="1270"/>
                    </a:lnTo>
                    <a:lnTo>
                      <a:pt x="1673" y="775"/>
                    </a:lnTo>
                    <a:lnTo>
                      <a:pt x="1914" y="1067"/>
                    </a:lnTo>
                    <a:lnTo>
                      <a:pt x="1914" y="839"/>
                    </a:lnTo>
                    <a:lnTo>
                      <a:pt x="1807" y="661"/>
                    </a:lnTo>
                    <a:lnTo>
                      <a:pt x="1807" y="551"/>
                    </a:lnTo>
                    <a:lnTo>
                      <a:pt x="1673" y="399"/>
                    </a:lnTo>
                    <a:lnTo>
                      <a:pt x="1600" y="242"/>
                    </a:lnTo>
                    <a:lnTo>
                      <a:pt x="1543" y="53"/>
                    </a:lnTo>
                    <a:lnTo>
                      <a:pt x="1591" y="0"/>
                    </a:lnTo>
                    <a:lnTo>
                      <a:pt x="1607" y="138"/>
                    </a:lnTo>
                    <a:lnTo>
                      <a:pt x="1683" y="316"/>
                    </a:lnTo>
                    <a:lnTo>
                      <a:pt x="1778" y="424"/>
                    </a:lnTo>
                    <a:lnTo>
                      <a:pt x="1866" y="535"/>
                    </a:lnTo>
                    <a:lnTo>
                      <a:pt x="1914" y="558"/>
                    </a:lnTo>
                    <a:lnTo>
                      <a:pt x="1987" y="551"/>
                    </a:lnTo>
                    <a:lnTo>
                      <a:pt x="2066" y="480"/>
                    </a:lnTo>
                    <a:lnTo>
                      <a:pt x="2086" y="602"/>
                    </a:lnTo>
                    <a:lnTo>
                      <a:pt x="2061" y="718"/>
                    </a:lnTo>
                    <a:lnTo>
                      <a:pt x="2013" y="782"/>
                    </a:lnTo>
                    <a:lnTo>
                      <a:pt x="1965" y="800"/>
                    </a:lnTo>
                    <a:lnTo>
                      <a:pt x="2031" y="984"/>
                    </a:lnTo>
                    <a:lnTo>
                      <a:pt x="2086" y="1160"/>
                    </a:lnTo>
                    <a:lnTo>
                      <a:pt x="2255" y="1067"/>
                    </a:lnTo>
                    <a:lnTo>
                      <a:pt x="2156" y="839"/>
                    </a:lnTo>
                    <a:lnTo>
                      <a:pt x="2280" y="1035"/>
                    </a:lnTo>
                    <a:lnTo>
                      <a:pt x="2365" y="1052"/>
                    </a:lnTo>
                    <a:lnTo>
                      <a:pt x="2495" y="1052"/>
                    </a:lnTo>
                    <a:lnTo>
                      <a:pt x="2635" y="1234"/>
                    </a:lnTo>
                    <a:lnTo>
                      <a:pt x="2741" y="1300"/>
                    </a:lnTo>
                    <a:lnTo>
                      <a:pt x="2852" y="1277"/>
                    </a:lnTo>
                    <a:lnTo>
                      <a:pt x="3068" y="1173"/>
                    </a:lnTo>
                    <a:lnTo>
                      <a:pt x="3082" y="1347"/>
                    </a:lnTo>
                    <a:lnTo>
                      <a:pt x="3140" y="1507"/>
                    </a:lnTo>
                    <a:lnTo>
                      <a:pt x="3204" y="1507"/>
                    </a:lnTo>
                    <a:lnTo>
                      <a:pt x="3248" y="1467"/>
                    </a:lnTo>
                    <a:lnTo>
                      <a:pt x="3264" y="1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300800" y="5841360"/>
                <a:ext cx="261000" cy="176040"/>
              </a:xfrm>
              <a:custGeom>
                <a:avLst/>
                <a:gdLst/>
                <a:ahLst/>
                <a:rect l="l" t="t" r="r" b="b"/>
                <a:pathLst>
                  <a:path w="3415" h="2637">
                    <a:moveTo>
                      <a:pt x="3195" y="1078"/>
                    </a:moveTo>
                    <a:lnTo>
                      <a:pt x="3340" y="1037"/>
                    </a:lnTo>
                    <a:lnTo>
                      <a:pt x="3415" y="882"/>
                    </a:lnTo>
                    <a:lnTo>
                      <a:pt x="3380" y="721"/>
                    </a:lnTo>
                    <a:lnTo>
                      <a:pt x="3198" y="547"/>
                    </a:lnTo>
                    <a:lnTo>
                      <a:pt x="3009" y="477"/>
                    </a:lnTo>
                    <a:lnTo>
                      <a:pt x="2778" y="299"/>
                    </a:lnTo>
                    <a:lnTo>
                      <a:pt x="2418" y="119"/>
                    </a:lnTo>
                    <a:lnTo>
                      <a:pt x="1996" y="0"/>
                    </a:lnTo>
                    <a:lnTo>
                      <a:pt x="1457" y="46"/>
                    </a:lnTo>
                    <a:lnTo>
                      <a:pt x="1033" y="167"/>
                    </a:lnTo>
                    <a:lnTo>
                      <a:pt x="798" y="279"/>
                    </a:lnTo>
                    <a:lnTo>
                      <a:pt x="514" y="444"/>
                    </a:lnTo>
                    <a:lnTo>
                      <a:pt x="145" y="1078"/>
                    </a:lnTo>
                    <a:lnTo>
                      <a:pt x="81" y="1490"/>
                    </a:lnTo>
                    <a:lnTo>
                      <a:pt x="145" y="1963"/>
                    </a:lnTo>
                    <a:lnTo>
                      <a:pt x="90" y="2228"/>
                    </a:lnTo>
                    <a:lnTo>
                      <a:pt x="0" y="2637"/>
                    </a:lnTo>
                    <a:lnTo>
                      <a:pt x="97" y="2439"/>
                    </a:lnTo>
                    <a:lnTo>
                      <a:pt x="288" y="2415"/>
                    </a:lnTo>
                    <a:lnTo>
                      <a:pt x="479" y="1756"/>
                    </a:lnTo>
                    <a:lnTo>
                      <a:pt x="212" y="2101"/>
                    </a:lnTo>
                    <a:lnTo>
                      <a:pt x="127" y="1426"/>
                    </a:lnTo>
                    <a:lnTo>
                      <a:pt x="196" y="1068"/>
                    </a:lnTo>
                    <a:lnTo>
                      <a:pt x="535" y="497"/>
                    </a:lnTo>
                    <a:lnTo>
                      <a:pt x="873" y="255"/>
                    </a:lnTo>
                    <a:lnTo>
                      <a:pt x="1395" y="75"/>
                    </a:lnTo>
                    <a:lnTo>
                      <a:pt x="1923" y="52"/>
                    </a:lnTo>
                    <a:lnTo>
                      <a:pt x="2503" y="218"/>
                    </a:lnTo>
                    <a:lnTo>
                      <a:pt x="2863" y="419"/>
                    </a:lnTo>
                    <a:lnTo>
                      <a:pt x="3024" y="547"/>
                    </a:lnTo>
                    <a:lnTo>
                      <a:pt x="3226" y="617"/>
                    </a:lnTo>
                    <a:lnTo>
                      <a:pt x="3352" y="753"/>
                    </a:lnTo>
                    <a:lnTo>
                      <a:pt x="3358" y="882"/>
                    </a:lnTo>
                    <a:lnTo>
                      <a:pt x="3306" y="949"/>
                    </a:lnTo>
                    <a:lnTo>
                      <a:pt x="3151" y="1037"/>
                    </a:lnTo>
                    <a:lnTo>
                      <a:pt x="3195" y="10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311960" y="5853240"/>
                <a:ext cx="242640" cy="178200"/>
              </a:xfrm>
              <a:custGeom>
                <a:avLst/>
                <a:gdLst/>
                <a:ahLst/>
                <a:rect l="l" t="t" r="r" b="b"/>
                <a:pathLst>
                  <a:path w="3177" h="2674">
                    <a:moveTo>
                      <a:pt x="3039" y="881"/>
                    </a:moveTo>
                    <a:lnTo>
                      <a:pt x="3177" y="784"/>
                    </a:lnTo>
                    <a:lnTo>
                      <a:pt x="3172" y="664"/>
                    </a:lnTo>
                    <a:lnTo>
                      <a:pt x="3039" y="494"/>
                    </a:lnTo>
                    <a:lnTo>
                      <a:pt x="3011" y="565"/>
                    </a:lnTo>
                    <a:lnTo>
                      <a:pt x="2886" y="472"/>
                    </a:lnTo>
                    <a:lnTo>
                      <a:pt x="2421" y="420"/>
                    </a:lnTo>
                    <a:lnTo>
                      <a:pt x="2220" y="420"/>
                    </a:lnTo>
                    <a:lnTo>
                      <a:pt x="2567" y="355"/>
                    </a:lnTo>
                    <a:lnTo>
                      <a:pt x="2580" y="296"/>
                    </a:lnTo>
                    <a:lnTo>
                      <a:pt x="2255" y="136"/>
                    </a:lnTo>
                    <a:lnTo>
                      <a:pt x="1840" y="0"/>
                    </a:lnTo>
                    <a:lnTo>
                      <a:pt x="1312" y="7"/>
                    </a:lnTo>
                    <a:lnTo>
                      <a:pt x="826" y="166"/>
                    </a:lnTo>
                    <a:lnTo>
                      <a:pt x="510" y="408"/>
                    </a:lnTo>
                    <a:lnTo>
                      <a:pt x="309" y="733"/>
                    </a:lnTo>
                    <a:lnTo>
                      <a:pt x="233" y="975"/>
                    </a:lnTo>
                    <a:lnTo>
                      <a:pt x="233" y="1230"/>
                    </a:lnTo>
                    <a:lnTo>
                      <a:pt x="279" y="1464"/>
                    </a:lnTo>
                    <a:lnTo>
                      <a:pt x="279" y="1658"/>
                    </a:lnTo>
                    <a:lnTo>
                      <a:pt x="0" y="2257"/>
                    </a:lnTo>
                    <a:lnTo>
                      <a:pt x="275" y="2271"/>
                    </a:lnTo>
                    <a:lnTo>
                      <a:pt x="528" y="2456"/>
                    </a:lnTo>
                    <a:lnTo>
                      <a:pt x="756" y="2674"/>
                    </a:lnTo>
                    <a:lnTo>
                      <a:pt x="877" y="2557"/>
                    </a:lnTo>
                    <a:lnTo>
                      <a:pt x="952" y="2364"/>
                    </a:lnTo>
                    <a:lnTo>
                      <a:pt x="1123" y="2225"/>
                    </a:lnTo>
                    <a:lnTo>
                      <a:pt x="1114" y="1980"/>
                    </a:lnTo>
                    <a:lnTo>
                      <a:pt x="1183" y="1769"/>
                    </a:lnTo>
                    <a:lnTo>
                      <a:pt x="1319" y="1694"/>
                    </a:lnTo>
                    <a:lnTo>
                      <a:pt x="1437" y="1709"/>
                    </a:lnTo>
                    <a:lnTo>
                      <a:pt x="1497" y="1780"/>
                    </a:lnTo>
                    <a:lnTo>
                      <a:pt x="1554" y="1914"/>
                    </a:lnTo>
                    <a:lnTo>
                      <a:pt x="1875" y="2034"/>
                    </a:lnTo>
                    <a:lnTo>
                      <a:pt x="2009" y="1780"/>
                    </a:lnTo>
                    <a:lnTo>
                      <a:pt x="2525" y="1549"/>
                    </a:lnTo>
                    <a:lnTo>
                      <a:pt x="2516" y="1367"/>
                    </a:lnTo>
                    <a:lnTo>
                      <a:pt x="2421" y="1230"/>
                    </a:lnTo>
                    <a:lnTo>
                      <a:pt x="2490" y="1167"/>
                    </a:lnTo>
                    <a:lnTo>
                      <a:pt x="2455" y="832"/>
                    </a:lnTo>
                    <a:lnTo>
                      <a:pt x="2615" y="814"/>
                    </a:lnTo>
                    <a:lnTo>
                      <a:pt x="2824" y="832"/>
                    </a:lnTo>
                    <a:lnTo>
                      <a:pt x="3006" y="870"/>
                    </a:lnTo>
                    <a:lnTo>
                      <a:pt x="3039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507080" y="5943240"/>
                <a:ext cx="8280" cy="40320"/>
              </a:xfrm>
              <a:custGeom>
                <a:avLst/>
                <a:gdLst/>
                <a:ahLst/>
                <a:rect l="l" t="t" r="r" b="b"/>
                <a:pathLst>
                  <a:path w="111" h="609">
                    <a:moveTo>
                      <a:pt x="53" y="609"/>
                    </a:moveTo>
                    <a:lnTo>
                      <a:pt x="0" y="459"/>
                    </a:lnTo>
                    <a:lnTo>
                      <a:pt x="39" y="307"/>
                    </a:lnTo>
                    <a:lnTo>
                      <a:pt x="0" y="0"/>
                    </a:lnTo>
                    <a:lnTo>
                      <a:pt x="111" y="466"/>
                    </a:lnTo>
                    <a:lnTo>
                      <a:pt x="105" y="563"/>
                    </a:lnTo>
                    <a:lnTo>
                      <a:pt x="53" y="6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405560" y="597708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43" h="655">
                    <a:moveTo>
                      <a:pt x="266" y="172"/>
                    </a:moveTo>
                    <a:lnTo>
                      <a:pt x="343" y="60"/>
                    </a:lnTo>
                    <a:lnTo>
                      <a:pt x="275" y="0"/>
                    </a:lnTo>
                    <a:lnTo>
                      <a:pt x="132" y="0"/>
                    </a:lnTo>
                    <a:lnTo>
                      <a:pt x="28" y="113"/>
                    </a:lnTo>
                    <a:lnTo>
                      <a:pt x="0" y="327"/>
                    </a:lnTo>
                    <a:lnTo>
                      <a:pt x="79" y="106"/>
                    </a:lnTo>
                    <a:lnTo>
                      <a:pt x="196" y="83"/>
                    </a:lnTo>
                    <a:lnTo>
                      <a:pt x="108" y="277"/>
                    </a:lnTo>
                    <a:lnTo>
                      <a:pt x="108" y="429"/>
                    </a:lnTo>
                    <a:lnTo>
                      <a:pt x="60" y="417"/>
                    </a:lnTo>
                    <a:lnTo>
                      <a:pt x="23" y="387"/>
                    </a:lnTo>
                    <a:lnTo>
                      <a:pt x="60" y="523"/>
                    </a:lnTo>
                    <a:lnTo>
                      <a:pt x="132" y="655"/>
                    </a:lnTo>
                    <a:lnTo>
                      <a:pt x="119" y="539"/>
                    </a:lnTo>
                    <a:lnTo>
                      <a:pt x="189" y="484"/>
                    </a:lnTo>
                    <a:lnTo>
                      <a:pt x="297" y="558"/>
                    </a:lnTo>
                    <a:lnTo>
                      <a:pt x="316" y="523"/>
                    </a:lnTo>
                    <a:lnTo>
                      <a:pt x="297" y="473"/>
                    </a:lnTo>
                    <a:lnTo>
                      <a:pt x="332" y="387"/>
                    </a:lnTo>
                    <a:lnTo>
                      <a:pt x="314" y="304"/>
                    </a:lnTo>
                    <a:lnTo>
                      <a:pt x="240" y="297"/>
                    </a:lnTo>
                    <a:lnTo>
                      <a:pt x="224" y="207"/>
                    </a:lnTo>
                    <a:lnTo>
                      <a:pt x="26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417080" y="601488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43" h="175">
                    <a:moveTo>
                      <a:pt x="0" y="90"/>
                    </a:moveTo>
                    <a:lnTo>
                      <a:pt x="86" y="0"/>
                    </a:lnTo>
                    <a:lnTo>
                      <a:pt x="143" y="20"/>
                    </a:lnTo>
                    <a:lnTo>
                      <a:pt x="104" y="175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535160" y="6012720"/>
                <a:ext cx="15480" cy="11520"/>
              </a:xfrm>
              <a:custGeom>
                <a:avLst/>
                <a:gdLst/>
                <a:ahLst/>
                <a:rect l="l" t="t" r="r" b="b"/>
                <a:pathLst>
                  <a:path w="207" h="175">
                    <a:moveTo>
                      <a:pt x="11" y="132"/>
                    </a:moveTo>
                    <a:lnTo>
                      <a:pt x="207" y="175"/>
                    </a:lnTo>
                    <a:lnTo>
                      <a:pt x="0" y="0"/>
                    </a:lnTo>
                    <a:lnTo>
                      <a:pt x="1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197840" y="6041160"/>
                <a:ext cx="72360" cy="73080"/>
              </a:xfrm>
              <a:custGeom>
                <a:avLst/>
                <a:gdLst/>
                <a:ahLst/>
                <a:rect l="l" t="t" r="r" b="b"/>
                <a:pathLst>
                  <a:path w="947" h="1096">
                    <a:moveTo>
                      <a:pt x="947" y="0"/>
                    </a:moveTo>
                    <a:lnTo>
                      <a:pt x="628" y="164"/>
                    </a:lnTo>
                    <a:lnTo>
                      <a:pt x="167" y="643"/>
                    </a:lnTo>
                    <a:lnTo>
                      <a:pt x="0" y="883"/>
                    </a:lnTo>
                    <a:lnTo>
                      <a:pt x="0" y="1096"/>
                    </a:lnTo>
                    <a:lnTo>
                      <a:pt x="270" y="672"/>
                    </a:lnTo>
                    <a:lnTo>
                      <a:pt x="628" y="235"/>
                    </a:lnTo>
                    <a:lnTo>
                      <a:pt x="9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197840" y="6133680"/>
                <a:ext cx="769320" cy="399600"/>
              </a:xfrm>
              <a:custGeom>
                <a:avLst/>
                <a:gdLst/>
                <a:ahLst/>
                <a:rect l="l" t="t" r="r" b="b"/>
                <a:pathLst>
                  <a:path w="10071" h="5987">
                    <a:moveTo>
                      <a:pt x="3078" y="337"/>
                    </a:moveTo>
                    <a:lnTo>
                      <a:pt x="2554" y="961"/>
                    </a:lnTo>
                    <a:lnTo>
                      <a:pt x="2043" y="1895"/>
                    </a:lnTo>
                    <a:lnTo>
                      <a:pt x="989" y="2609"/>
                    </a:lnTo>
                    <a:lnTo>
                      <a:pt x="508" y="2393"/>
                    </a:lnTo>
                    <a:lnTo>
                      <a:pt x="0" y="2301"/>
                    </a:lnTo>
                    <a:lnTo>
                      <a:pt x="413" y="2423"/>
                    </a:lnTo>
                    <a:lnTo>
                      <a:pt x="796" y="2635"/>
                    </a:lnTo>
                    <a:lnTo>
                      <a:pt x="1109" y="2900"/>
                    </a:lnTo>
                    <a:lnTo>
                      <a:pt x="1446" y="3279"/>
                    </a:lnTo>
                    <a:lnTo>
                      <a:pt x="1758" y="3760"/>
                    </a:lnTo>
                    <a:lnTo>
                      <a:pt x="2119" y="4719"/>
                    </a:lnTo>
                    <a:lnTo>
                      <a:pt x="2336" y="5343"/>
                    </a:lnTo>
                    <a:lnTo>
                      <a:pt x="2457" y="5987"/>
                    </a:lnTo>
                    <a:lnTo>
                      <a:pt x="3945" y="5987"/>
                    </a:lnTo>
                    <a:lnTo>
                      <a:pt x="2982" y="4482"/>
                    </a:lnTo>
                    <a:lnTo>
                      <a:pt x="2527" y="3187"/>
                    </a:lnTo>
                    <a:lnTo>
                      <a:pt x="2578" y="2444"/>
                    </a:lnTo>
                    <a:lnTo>
                      <a:pt x="2624" y="3158"/>
                    </a:lnTo>
                    <a:lnTo>
                      <a:pt x="3052" y="4288"/>
                    </a:lnTo>
                    <a:lnTo>
                      <a:pt x="3991" y="5701"/>
                    </a:lnTo>
                    <a:lnTo>
                      <a:pt x="4281" y="5750"/>
                    </a:lnTo>
                    <a:lnTo>
                      <a:pt x="4378" y="5987"/>
                    </a:lnTo>
                    <a:lnTo>
                      <a:pt x="8152" y="5987"/>
                    </a:lnTo>
                    <a:lnTo>
                      <a:pt x="8322" y="5892"/>
                    </a:lnTo>
                    <a:lnTo>
                      <a:pt x="8722" y="5701"/>
                    </a:lnTo>
                    <a:lnTo>
                      <a:pt x="9113" y="5674"/>
                    </a:lnTo>
                    <a:lnTo>
                      <a:pt x="9135" y="5604"/>
                    </a:lnTo>
                    <a:lnTo>
                      <a:pt x="8843" y="5534"/>
                    </a:lnTo>
                    <a:lnTo>
                      <a:pt x="8530" y="5358"/>
                    </a:lnTo>
                    <a:lnTo>
                      <a:pt x="8242" y="5173"/>
                    </a:lnTo>
                    <a:lnTo>
                      <a:pt x="7839" y="5097"/>
                    </a:lnTo>
                    <a:lnTo>
                      <a:pt x="7546" y="5002"/>
                    </a:lnTo>
                    <a:lnTo>
                      <a:pt x="7168" y="4956"/>
                    </a:lnTo>
                    <a:lnTo>
                      <a:pt x="7168" y="4885"/>
                    </a:lnTo>
                    <a:lnTo>
                      <a:pt x="7452" y="4811"/>
                    </a:lnTo>
                    <a:lnTo>
                      <a:pt x="7767" y="4811"/>
                    </a:lnTo>
                    <a:lnTo>
                      <a:pt x="8080" y="4719"/>
                    </a:lnTo>
                    <a:lnTo>
                      <a:pt x="8652" y="4624"/>
                    </a:lnTo>
                    <a:lnTo>
                      <a:pt x="8992" y="4530"/>
                    </a:lnTo>
                    <a:lnTo>
                      <a:pt x="8821" y="4530"/>
                    </a:lnTo>
                    <a:lnTo>
                      <a:pt x="8627" y="4602"/>
                    </a:lnTo>
                    <a:lnTo>
                      <a:pt x="8339" y="4644"/>
                    </a:lnTo>
                    <a:lnTo>
                      <a:pt x="8030" y="4666"/>
                    </a:lnTo>
                    <a:lnTo>
                      <a:pt x="7818" y="4736"/>
                    </a:lnTo>
                    <a:lnTo>
                      <a:pt x="7818" y="4644"/>
                    </a:lnTo>
                    <a:lnTo>
                      <a:pt x="7931" y="4530"/>
                    </a:lnTo>
                    <a:lnTo>
                      <a:pt x="8201" y="4339"/>
                    </a:lnTo>
                    <a:lnTo>
                      <a:pt x="9234" y="4069"/>
                    </a:lnTo>
                    <a:lnTo>
                      <a:pt x="10071" y="3735"/>
                    </a:lnTo>
                    <a:lnTo>
                      <a:pt x="9159" y="4069"/>
                    </a:lnTo>
                    <a:lnTo>
                      <a:pt x="8516" y="4165"/>
                    </a:lnTo>
                    <a:lnTo>
                      <a:pt x="8272" y="4218"/>
                    </a:lnTo>
                    <a:lnTo>
                      <a:pt x="6778" y="4218"/>
                    </a:lnTo>
                    <a:lnTo>
                      <a:pt x="7117" y="4023"/>
                    </a:lnTo>
                    <a:lnTo>
                      <a:pt x="7382" y="3976"/>
                    </a:lnTo>
                    <a:lnTo>
                      <a:pt x="7594" y="3877"/>
                    </a:lnTo>
                    <a:lnTo>
                      <a:pt x="7670" y="3827"/>
                    </a:lnTo>
                    <a:lnTo>
                      <a:pt x="7670" y="3710"/>
                    </a:lnTo>
                    <a:lnTo>
                      <a:pt x="7643" y="3664"/>
                    </a:lnTo>
                    <a:lnTo>
                      <a:pt x="7522" y="3640"/>
                    </a:lnTo>
                    <a:lnTo>
                      <a:pt x="7474" y="3735"/>
                    </a:lnTo>
                    <a:lnTo>
                      <a:pt x="7353" y="3785"/>
                    </a:lnTo>
                    <a:lnTo>
                      <a:pt x="6832" y="3735"/>
                    </a:lnTo>
                    <a:lnTo>
                      <a:pt x="6685" y="3594"/>
                    </a:lnTo>
                    <a:lnTo>
                      <a:pt x="6731" y="3804"/>
                    </a:lnTo>
                    <a:lnTo>
                      <a:pt x="6731" y="3976"/>
                    </a:lnTo>
                    <a:lnTo>
                      <a:pt x="6661" y="4218"/>
                    </a:lnTo>
                    <a:lnTo>
                      <a:pt x="6661" y="3976"/>
                    </a:lnTo>
                    <a:lnTo>
                      <a:pt x="6441" y="3710"/>
                    </a:lnTo>
                    <a:lnTo>
                      <a:pt x="6589" y="4023"/>
                    </a:lnTo>
                    <a:lnTo>
                      <a:pt x="6589" y="4311"/>
                    </a:lnTo>
                    <a:lnTo>
                      <a:pt x="5434" y="5026"/>
                    </a:lnTo>
                    <a:lnTo>
                      <a:pt x="5265" y="4574"/>
                    </a:lnTo>
                    <a:lnTo>
                      <a:pt x="5265" y="3877"/>
                    </a:lnTo>
                    <a:lnTo>
                      <a:pt x="5602" y="3710"/>
                    </a:lnTo>
                    <a:lnTo>
                      <a:pt x="6107" y="3594"/>
                    </a:lnTo>
                    <a:lnTo>
                      <a:pt x="5773" y="3521"/>
                    </a:lnTo>
                    <a:lnTo>
                      <a:pt x="6056" y="3279"/>
                    </a:lnTo>
                    <a:lnTo>
                      <a:pt x="5173" y="3760"/>
                    </a:lnTo>
                    <a:lnTo>
                      <a:pt x="4810" y="3187"/>
                    </a:lnTo>
                    <a:lnTo>
                      <a:pt x="4666" y="1754"/>
                    </a:lnTo>
                    <a:lnTo>
                      <a:pt x="4500" y="790"/>
                    </a:lnTo>
                    <a:lnTo>
                      <a:pt x="4256" y="242"/>
                    </a:lnTo>
                    <a:lnTo>
                      <a:pt x="3964" y="0"/>
                    </a:lnTo>
                    <a:lnTo>
                      <a:pt x="4187" y="242"/>
                    </a:lnTo>
                    <a:lnTo>
                      <a:pt x="4424" y="693"/>
                    </a:lnTo>
                    <a:lnTo>
                      <a:pt x="4544" y="1271"/>
                    </a:lnTo>
                    <a:lnTo>
                      <a:pt x="4620" y="2181"/>
                    </a:lnTo>
                    <a:lnTo>
                      <a:pt x="4712" y="3140"/>
                    </a:lnTo>
                    <a:lnTo>
                      <a:pt x="3611" y="1531"/>
                    </a:lnTo>
                    <a:lnTo>
                      <a:pt x="4019" y="2469"/>
                    </a:lnTo>
                    <a:lnTo>
                      <a:pt x="4782" y="3543"/>
                    </a:lnTo>
                    <a:lnTo>
                      <a:pt x="4782" y="3947"/>
                    </a:lnTo>
                    <a:lnTo>
                      <a:pt x="4544" y="4549"/>
                    </a:lnTo>
                    <a:lnTo>
                      <a:pt x="5047" y="3947"/>
                    </a:lnTo>
                    <a:lnTo>
                      <a:pt x="5148" y="4288"/>
                    </a:lnTo>
                    <a:lnTo>
                      <a:pt x="5148" y="4574"/>
                    </a:lnTo>
                    <a:lnTo>
                      <a:pt x="4666" y="5125"/>
                    </a:lnTo>
                    <a:lnTo>
                      <a:pt x="4208" y="4736"/>
                    </a:lnTo>
                    <a:lnTo>
                      <a:pt x="3964" y="4908"/>
                    </a:lnTo>
                    <a:lnTo>
                      <a:pt x="3899" y="4811"/>
                    </a:lnTo>
                    <a:lnTo>
                      <a:pt x="4019" y="4359"/>
                    </a:lnTo>
                    <a:lnTo>
                      <a:pt x="3991" y="4189"/>
                    </a:lnTo>
                    <a:lnTo>
                      <a:pt x="2744" y="2589"/>
                    </a:lnTo>
                    <a:lnTo>
                      <a:pt x="2716" y="2324"/>
                    </a:lnTo>
                    <a:lnTo>
                      <a:pt x="2716" y="1824"/>
                    </a:lnTo>
                    <a:lnTo>
                      <a:pt x="2767" y="1339"/>
                    </a:lnTo>
                    <a:lnTo>
                      <a:pt x="2883" y="840"/>
                    </a:lnTo>
                    <a:lnTo>
                      <a:pt x="3078" y="482"/>
                    </a:lnTo>
                    <a:lnTo>
                      <a:pt x="3345" y="173"/>
                    </a:lnTo>
                    <a:lnTo>
                      <a:pt x="3078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561800" y="633600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016" h="665">
                    <a:moveTo>
                      <a:pt x="6" y="0"/>
                    </a:moveTo>
                    <a:lnTo>
                      <a:pt x="218" y="118"/>
                    </a:lnTo>
                    <a:lnTo>
                      <a:pt x="705" y="173"/>
                    </a:lnTo>
                    <a:lnTo>
                      <a:pt x="705" y="228"/>
                    </a:lnTo>
                    <a:lnTo>
                      <a:pt x="1016" y="240"/>
                    </a:lnTo>
                    <a:lnTo>
                      <a:pt x="697" y="275"/>
                    </a:lnTo>
                    <a:lnTo>
                      <a:pt x="653" y="446"/>
                    </a:lnTo>
                    <a:lnTo>
                      <a:pt x="626" y="662"/>
                    </a:lnTo>
                    <a:lnTo>
                      <a:pt x="596" y="665"/>
                    </a:lnTo>
                    <a:lnTo>
                      <a:pt x="615" y="406"/>
                    </a:lnTo>
                    <a:lnTo>
                      <a:pt x="653" y="235"/>
                    </a:lnTo>
                    <a:lnTo>
                      <a:pt x="218" y="178"/>
                    </a:lnTo>
                    <a:lnTo>
                      <a:pt x="0" y="9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644240" y="6313680"/>
                <a:ext cx="139320" cy="70920"/>
              </a:xfrm>
              <a:custGeom>
                <a:avLst/>
                <a:gdLst/>
                <a:ahLst/>
                <a:rect l="l" t="t" r="r" b="b"/>
                <a:pathLst>
                  <a:path w="1821" h="1066">
                    <a:moveTo>
                      <a:pt x="0" y="706"/>
                    </a:moveTo>
                    <a:lnTo>
                      <a:pt x="137" y="242"/>
                    </a:lnTo>
                    <a:lnTo>
                      <a:pt x="597" y="0"/>
                    </a:lnTo>
                    <a:lnTo>
                      <a:pt x="906" y="137"/>
                    </a:lnTo>
                    <a:lnTo>
                      <a:pt x="1268" y="176"/>
                    </a:lnTo>
                    <a:lnTo>
                      <a:pt x="1330" y="227"/>
                    </a:lnTo>
                    <a:lnTo>
                      <a:pt x="1341" y="317"/>
                    </a:lnTo>
                    <a:lnTo>
                      <a:pt x="1504" y="360"/>
                    </a:lnTo>
                    <a:lnTo>
                      <a:pt x="1634" y="459"/>
                    </a:lnTo>
                    <a:lnTo>
                      <a:pt x="1708" y="488"/>
                    </a:lnTo>
                    <a:lnTo>
                      <a:pt x="1819" y="579"/>
                    </a:lnTo>
                    <a:lnTo>
                      <a:pt x="1821" y="655"/>
                    </a:lnTo>
                    <a:lnTo>
                      <a:pt x="1763" y="706"/>
                    </a:lnTo>
                    <a:lnTo>
                      <a:pt x="1634" y="822"/>
                    </a:lnTo>
                    <a:lnTo>
                      <a:pt x="1637" y="910"/>
                    </a:lnTo>
                    <a:lnTo>
                      <a:pt x="1612" y="800"/>
                    </a:lnTo>
                    <a:lnTo>
                      <a:pt x="1785" y="640"/>
                    </a:lnTo>
                    <a:lnTo>
                      <a:pt x="1785" y="584"/>
                    </a:lnTo>
                    <a:lnTo>
                      <a:pt x="1637" y="499"/>
                    </a:lnTo>
                    <a:lnTo>
                      <a:pt x="1577" y="512"/>
                    </a:lnTo>
                    <a:lnTo>
                      <a:pt x="1504" y="503"/>
                    </a:lnTo>
                    <a:lnTo>
                      <a:pt x="1370" y="579"/>
                    </a:lnTo>
                    <a:lnTo>
                      <a:pt x="1543" y="448"/>
                    </a:lnTo>
                    <a:lnTo>
                      <a:pt x="1471" y="383"/>
                    </a:lnTo>
                    <a:lnTo>
                      <a:pt x="1341" y="356"/>
                    </a:lnTo>
                    <a:lnTo>
                      <a:pt x="1341" y="409"/>
                    </a:lnTo>
                    <a:lnTo>
                      <a:pt x="1394" y="503"/>
                    </a:lnTo>
                    <a:lnTo>
                      <a:pt x="1319" y="413"/>
                    </a:lnTo>
                    <a:lnTo>
                      <a:pt x="1268" y="247"/>
                    </a:lnTo>
                    <a:lnTo>
                      <a:pt x="1205" y="192"/>
                    </a:lnTo>
                    <a:lnTo>
                      <a:pt x="885" y="176"/>
                    </a:lnTo>
                    <a:lnTo>
                      <a:pt x="641" y="47"/>
                    </a:lnTo>
                    <a:lnTo>
                      <a:pt x="161" y="264"/>
                    </a:lnTo>
                    <a:lnTo>
                      <a:pt x="90" y="552"/>
                    </a:lnTo>
                    <a:lnTo>
                      <a:pt x="321" y="574"/>
                    </a:lnTo>
                    <a:lnTo>
                      <a:pt x="590" y="655"/>
                    </a:lnTo>
                    <a:lnTo>
                      <a:pt x="791" y="822"/>
                    </a:lnTo>
                    <a:lnTo>
                      <a:pt x="1053" y="719"/>
                    </a:lnTo>
                    <a:lnTo>
                      <a:pt x="873" y="930"/>
                    </a:lnTo>
                    <a:lnTo>
                      <a:pt x="873" y="1066"/>
                    </a:lnTo>
                    <a:lnTo>
                      <a:pt x="786" y="851"/>
                    </a:lnTo>
                    <a:lnTo>
                      <a:pt x="597" y="699"/>
                    </a:lnTo>
                    <a:lnTo>
                      <a:pt x="403" y="633"/>
                    </a:lnTo>
                    <a:lnTo>
                      <a:pt x="173" y="614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636680" y="6368400"/>
                <a:ext cx="68400" cy="30600"/>
              </a:xfrm>
              <a:custGeom>
                <a:avLst/>
                <a:gdLst/>
                <a:ahLst/>
                <a:rect l="l" t="t" r="r" b="b"/>
                <a:pathLst>
                  <a:path w="895" h="462">
                    <a:moveTo>
                      <a:pt x="0" y="69"/>
                    </a:moveTo>
                    <a:lnTo>
                      <a:pt x="363" y="91"/>
                    </a:lnTo>
                    <a:lnTo>
                      <a:pt x="593" y="177"/>
                    </a:lnTo>
                    <a:lnTo>
                      <a:pt x="764" y="313"/>
                    </a:lnTo>
                    <a:lnTo>
                      <a:pt x="844" y="462"/>
                    </a:lnTo>
                    <a:lnTo>
                      <a:pt x="895" y="421"/>
                    </a:lnTo>
                    <a:lnTo>
                      <a:pt x="791" y="262"/>
                    </a:lnTo>
                    <a:lnTo>
                      <a:pt x="642" y="126"/>
                    </a:lnTo>
                    <a:lnTo>
                      <a:pt x="427" y="20"/>
                    </a:lnTo>
                    <a:lnTo>
                      <a:pt x="180" y="0"/>
                    </a:lnTo>
                    <a:lnTo>
                      <a:pt x="13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754040" y="6456240"/>
                <a:ext cx="15480" cy="1224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0" y="20"/>
                    </a:moveTo>
                    <a:lnTo>
                      <a:pt x="95" y="22"/>
                    </a:lnTo>
                    <a:lnTo>
                      <a:pt x="146" y="62"/>
                    </a:lnTo>
                    <a:lnTo>
                      <a:pt x="169" y="97"/>
                    </a:lnTo>
                    <a:lnTo>
                      <a:pt x="169" y="133"/>
                    </a:lnTo>
                    <a:lnTo>
                      <a:pt x="146" y="182"/>
                    </a:lnTo>
                    <a:lnTo>
                      <a:pt x="181" y="167"/>
                    </a:lnTo>
                    <a:lnTo>
                      <a:pt x="203" y="121"/>
                    </a:lnTo>
                    <a:lnTo>
                      <a:pt x="194" y="86"/>
                    </a:lnTo>
                    <a:lnTo>
                      <a:pt x="165" y="38"/>
                    </a:lnTo>
                    <a:lnTo>
                      <a:pt x="130" y="20"/>
                    </a:lnTo>
                    <a:lnTo>
                      <a:pt x="4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787520" y="6449400"/>
                <a:ext cx="27360" cy="13320"/>
              </a:xfrm>
              <a:custGeom>
                <a:avLst/>
                <a:gdLst/>
                <a:ahLst/>
                <a:rect l="l" t="t" r="r" b="b"/>
                <a:pathLst>
                  <a:path w="360" h="197">
                    <a:moveTo>
                      <a:pt x="245" y="26"/>
                    </a:moveTo>
                    <a:lnTo>
                      <a:pt x="286" y="51"/>
                    </a:lnTo>
                    <a:lnTo>
                      <a:pt x="309" y="100"/>
                    </a:lnTo>
                    <a:lnTo>
                      <a:pt x="296" y="138"/>
                    </a:lnTo>
                    <a:lnTo>
                      <a:pt x="261" y="177"/>
                    </a:lnTo>
                    <a:lnTo>
                      <a:pt x="63" y="166"/>
                    </a:lnTo>
                    <a:lnTo>
                      <a:pt x="28" y="150"/>
                    </a:lnTo>
                    <a:lnTo>
                      <a:pt x="24" y="104"/>
                    </a:lnTo>
                    <a:lnTo>
                      <a:pt x="28" y="100"/>
                    </a:lnTo>
                    <a:lnTo>
                      <a:pt x="0" y="104"/>
                    </a:lnTo>
                    <a:lnTo>
                      <a:pt x="0" y="138"/>
                    </a:lnTo>
                    <a:lnTo>
                      <a:pt x="39" y="186"/>
                    </a:lnTo>
                    <a:lnTo>
                      <a:pt x="296" y="197"/>
                    </a:lnTo>
                    <a:lnTo>
                      <a:pt x="349" y="150"/>
                    </a:lnTo>
                    <a:lnTo>
                      <a:pt x="360" y="87"/>
                    </a:lnTo>
                    <a:lnTo>
                      <a:pt x="325" y="26"/>
                    </a:lnTo>
                    <a:lnTo>
                      <a:pt x="274" y="0"/>
                    </a:lnTo>
                    <a:lnTo>
                      <a:pt x="24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083440" y="6060600"/>
                <a:ext cx="468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146800" y="5985000"/>
                <a:ext cx="216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142480" y="5985720"/>
                <a:ext cx="36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138160" y="5991480"/>
                <a:ext cx="108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>
                <a:off x="8133120" y="6001200"/>
                <a:ext cx="36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>
                <a:off x="8125560" y="6009120"/>
                <a:ext cx="2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H="1">
                <a:off x="8118360" y="60220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163360" y="601884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226" h="341">
                    <a:moveTo>
                      <a:pt x="191" y="0"/>
                    </a:moveTo>
                    <a:lnTo>
                      <a:pt x="155" y="0"/>
                    </a:lnTo>
                    <a:lnTo>
                      <a:pt x="125" y="5"/>
                    </a:lnTo>
                    <a:lnTo>
                      <a:pt x="104" y="14"/>
                    </a:lnTo>
                    <a:lnTo>
                      <a:pt x="70" y="31"/>
                    </a:lnTo>
                    <a:lnTo>
                      <a:pt x="46" y="47"/>
                    </a:lnTo>
                    <a:lnTo>
                      <a:pt x="28" y="70"/>
                    </a:lnTo>
                    <a:lnTo>
                      <a:pt x="12" y="104"/>
                    </a:lnTo>
                    <a:lnTo>
                      <a:pt x="0" y="130"/>
                    </a:lnTo>
                    <a:lnTo>
                      <a:pt x="0" y="160"/>
                    </a:lnTo>
                    <a:lnTo>
                      <a:pt x="0" y="192"/>
                    </a:lnTo>
                    <a:lnTo>
                      <a:pt x="0" y="215"/>
                    </a:lnTo>
                    <a:lnTo>
                      <a:pt x="12" y="249"/>
                    </a:lnTo>
                    <a:lnTo>
                      <a:pt x="33" y="273"/>
                    </a:lnTo>
                    <a:lnTo>
                      <a:pt x="51" y="301"/>
                    </a:lnTo>
                    <a:lnTo>
                      <a:pt x="74" y="321"/>
                    </a:lnTo>
                    <a:lnTo>
                      <a:pt x="104" y="337"/>
                    </a:lnTo>
                    <a:lnTo>
                      <a:pt x="129" y="341"/>
                    </a:lnTo>
                    <a:lnTo>
                      <a:pt x="164" y="341"/>
                    </a:lnTo>
                    <a:lnTo>
                      <a:pt x="196" y="341"/>
                    </a:lnTo>
                    <a:lnTo>
                      <a:pt x="226" y="3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7536960" y="5991120"/>
                <a:ext cx="2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442640" y="5979240"/>
                <a:ext cx="126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451280" y="5984280"/>
                <a:ext cx="13680" cy="32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460640" y="5990760"/>
                <a:ext cx="1332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472160" y="5999040"/>
                <a:ext cx="93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811280" y="5822640"/>
                <a:ext cx="137880" cy="144720"/>
              </a:xfrm>
              <a:custGeom>
                <a:avLst/>
                <a:gdLst/>
                <a:ahLst/>
                <a:rect l="l" t="t" r="r" b="b"/>
                <a:pathLst>
                  <a:path w="1810" h="2171">
                    <a:moveTo>
                      <a:pt x="1367" y="1125"/>
                    </a:moveTo>
                    <a:lnTo>
                      <a:pt x="1215" y="1136"/>
                    </a:lnTo>
                    <a:lnTo>
                      <a:pt x="1090" y="1113"/>
                    </a:lnTo>
                    <a:lnTo>
                      <a:pt x="1033" y="1060"/>
                    </a:lnTo>
                    <a:lnTo>
                      <a:pt x="1120" y="1095"/>
                    </a:lnTo>
                    <a:lnTo>
                      <a:pt x="1206" y="1073"/>
                    </a:lnTo>
                    <a:lnTo>
                      <a:pt x="1265" y="1062"/>
                    </a:lnTo>
                    <a:lnTo>
                      <a:pt x="1145" y="1037"/>
                    </a:lnTo>
                    <a:lnTo>
                      <a:pt x="1044" y="998"/>
                    </a:lnTo>
                    <a:lnTo>
                      <a:pt x="973" y="998"/>
                    </a:lnTo>
                    <a:lnTo>
                      <a:pt x="890" y="1020"/>
                    </a:lnTo>
                    <a:lnTo>
                      <a:pt x="813" y="1023"/>
                    </a:lnTo>
                    <a:lnTo>
                      <a:pt x="740" y="1035"/>
                    </a:lnTo>
                    <a:lnTo>
                      <a:pt x="606" y="998"/>
                    </a:lnTo>
                    <a:lnTo>
                      <a:pt x="556" y="981"/>
                    </a:lnTo>
                    <a:lnTo>
                      <a:pt x="424" y="910"/>
                    </a:lnTo>
                    <a:lnTo>
                      <a:pt x="338" y="878"/>
                    </a:lnTo>
                    <a:lnTo>
                      <a:pt x="263" y="853"/>
                    </a:lnTo>
                    <a:lnTo>
                      <a:pt x="122" y="840"/>
                    </a:lnTo>
                    <a:lnTo>
                      <a:pt x="0" y="829"/>
                    </a:lnTo>
                    <a:lnTo>
                      <a:pt x="178" y="813"/>
                    </a:lnTo>
                    <a:lnTo>
                      <a:pt x="345" y="820"/>
                    </a:lnTo>
                    <a:lnTo>
                      <a:pt x="470" y="840"/>
                    </a:lnTo>
                    <a:lnTo>
                      <a:pt x="574" y="866"/>
                    </a:lnTo>
                    <a:lnTo>
                      <a:pt x="648" y="840"/>
                    </a:lnTo>
                    <a:lnTo>
                      <a:pt x="848" y="820"/>
                    </a:lnTo>
                    <a:lnTo>
                      <a:pt x="986" y="829"/>
                    </a:lnTo>
                    <a:lnTo>
                      <a:pt x="878" y="779"/>
                    </a:lnTo>
                    <a:lnTo>
                      <a:pt x="756" y="746"/>
                    </a:lnTo>
                    <a:lnTo>
                      <a:pt x="648" y="746"/>
                    </a:lnTo>
                    <a:lnTo>
                      <a:pt x="534" y="721"/>
                    </a:lnTo>
                    <a:lnTo>
                      <a:pt x="435" y="689"/>
                    </a:lnTo>
                    <a:lnTo>
                      <a:pt x="597" y="721"/>
                    </a:lnTo>
                    <a:lnTo>
                      <a:pt x="705" y="708"/>
                    </a:lnTo>
                    <a:lnTo>
                      <a:pt x="813" y="703"/>
                    </a:lnTo>
                    <a:lnTo>
                      <a:pt x="908" y="703"/>
                    </a:lnTo>
                    <a:lnTo>
                      <a:pt x="779" y="629"/>
                    </a:lnTo>
                    <a:lnTo>
                      <a:pt x="648" y="587"/>
                    </a:lnTo>
                    <a:lnTo>
                      <a:pt x="779" y="606"/>
                    </a:lnTo>
                    <a:lnTo>
                      <a:pt x="890" y="613"/>
                    </a:lnTo>
                    <a:lnTo>
                      <a:pt x="1019" y="647"/>
                    </a:lnTo>
                    <a:lnTo>
                      <a:pt x="883" y="548"/>
                    </a:lnTo>
                    <a:lnTo>
                      <a:pt x="756" y="479"/>
                    </a:lnTo>
                    <a:lnTo>
                      <a:pt x="899" y="509"/>
                    </a:lnTo>
                    <a:lnTo>
                      <a:pt x="1061" y="548"/>
                    </a:lnTo>
                    <a:lnTo>
                      <a:pt x="986" y="465"/>
                    </a:lnTo>
                    <a:lnTo>
                      <a:pt x="864" y="394"/>
                    </a:lnTo>
                    <a:lnTo>
                      <a:pt x="1039" y="444"/>
                    </a:lnTo>
                    <a:lnTo>
                      <a:pt x="1129" y="479"/>
                    </a:lnTo>
                    <a:lnTo>
                      <a:pt x="1083" y="387"/>
                    </a:lnTo>
                    <a:lnTo>
                      <a:pt x="962" y="281"/>
                    </a:lnTo>
                    <a:lnTo>
                      <a:pt x="1090" y="317"/>
                    </a:lnTo>
                    <a:lnTo>
                      <a:pt x="1235" y="419"/>
                    </a:lnTo>
                    <a:lnTo>
                      <a:pt x="1206" y="320"/>
                    </a:lnTo>
                    <a:lnTo>
                      <a:pt x="1129" y="262"/>
                    </a:lnTo>
                    <a:lnTo>
                      <a:pt x="1256" y="330"/>
                    </a:lnTo>
                    <a:lnTo>
                      <a:pt x="1109" y="191"/>
                    </a:lnTo>
                    <a:lnTo>
                      <a:pt x="899" y="101"/>
                    </a:lnTo>
                    <a:lnTo>
                      <a:pt x="727" y="27"/>
                    </a:lnTo>
                    <a:lnTo>
                      <a:pt x="516" y="0"/>
                    </a:lnTo>
                    <a:lnTo>
                      <a:pt x="793" y="0"/>
                    </a:lnTo>
                    <a:lnTo>
                      <a:pt x="1085" y="75"/>
                    </a:lnTo>
                    <a:lnTo>
                      <a:pt x="1332" y="216"/>
                    </a:lnTo>
                    <a:lnTo>
                      <a:pt x="1519" y="444"/>
                    </a:lnTo>
                    <a:lnTo>
                      <a:pt x="1609" y="613"/>
                    </a:lnTo>
                    <a:lnTo>
                      <a:pt x="1639" y="779"/>
                    </a:lnTo>
                    <a:lnTo>
                      <a:pt x="1623" y="981"/>
                    </a:lnTo>
                    <a:lnTo>
                      <a:pt x="1613" y="1011"/>
                    </a:lnTo>
                    <a:lnTo>
                      <a:pt x="1725" y="1011"/>
                    </a:lnTo>
                    <a:lnTo>
                      <a:pt x="1810" y="1113"/>
                    </a:lnTo>
                    <a:lnTo>
                      <a:pt x="1810" y="1290"/>
                    </a:lnTo>
                    <a:lnTo>
                      <a:pt x="1784" y="1130"/>
                    </a:lnTo>
                    <a:lnTo>
                      <a:pt x="1740" y="1095"/>
                    </a:lnTo>
                    <a:lnTo>
                      <a:pt x="1669" y="1095"/>
                    </a:lnTo>
                    <a:lnTo>
                      <a:pt x="1716" y="1194"/>
                    </a:lnTo>
                    <a:lnTo>
                      <a:pt x="1694" y="1314"/>
                    </a:lnTo>
                    <a:lnTo>
                      <a:pt x="1630" y="1422"/>
                    </a:lnTo>
                    <a:lnTo>
                      <a:pt x="1609" y="1266"/>
                    </a:lnTo>
                    <a:lnTo>
                      <a:pt x="1542" y="1152"/>
                    </a:lnTo>
                    <a:lnTo>
                      <a:pt x="1542" y="1360"/>
                    </a:lnTo>
                    <a:lnTo>
                      <a:pt x="1519" y="1497"/>
                    </a:lnTo>
                    <a:lnTo>
                      <a:pt x="1473" y="1304"/>
                    </a:lnTo>
                    <a:lnTo>
                      <a:pt x="1448" y="1447"/>
                    </a:lnTo>
                    <a:lnTo>
                      <a:pt x="1388" y="1629"/>
                    </a:lnTo>
                    <a:lnTo>
                      <a:pt x="1448" y="1609"/>
                    </a:lnTo>
                    <a:lnTo>
                      <a:pt x="1428" y="1776"/>
                    </a:lnTo>
                    <a:lnTo>
                      <a:pt x="1519" y="1567"/>
                    </a:lnTo>
                    <a:lnTo>
                      <a:pt x="1510" y="1730"/>
                    </a:lnTo>
                    <a:lnTo>
                      <a:pt x="1613" y="1510"/>
                    </a:lnTo>
                    <a:lnTo>
                      <a:pt x="1573" y="1710"/>
                    </a:lnTo>
                    <a:lnTo>
                      <a:pt x="1669" y="1625"/>
                    </a:lnTo>
                    <a:lnTo>
                      <a:pt x="1795" y="1371"/>
                    </a:lnTo>
                    <a:lnTo>
                      <a:pt x="1694" y="1653"/>
                    </a:lnTo>
                    <a:lnTo>
                      <a:pt x="1600" y="1752"/>
                    </a:lnTo>
                    <a:lnTo>
                      <a:pt x="1422" y="1883"/>
                    </a:lnTo>
                    <a:lnTo>
                      <a:pt x="1316" y="1922"/>
                    </a:lnTo>
                    <a:lnTo>
                      <a:pt x="1204" y="2068"/>
                    </a:lnTo>
                    <a:lnTo>
                      <a:pt x="1109" y="2171"/>
                    </a:lnTo>
                    <a:lnTo>
                      <a:pt x="1226" y="1922"/>
                    </a:lnTo>
                    <a:lnTo>
                      <a:pt x="1235" y="1653"/>
                    </a:lnTo>
                    <a:lnTo>
                      <a:pt x="1250" y="1482"/>
                    </a:lnTo>
                    <a:lnTo>
                      <a:pt x="1307" y="1302"/>
                    </a:lnTo>
                    <a:lnTo>
                      <a:pt x="1402" y="1136"/>
                    </a:lnTo>
                    <a:lnTo>
                      <a:pt x="1367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756920" y="5822640"/>
                <a:ext cx="117720" cy="106200"/>
              </a:xfrm>
              <a:custGeom>
                <a:avLst/>
                <a:gdLst/>
                <a:ahLst/>
                <a:rect l="l" t="t" r="r" b="b"/>
                <a:pathLst>
                  <a:path w="1547" h="1598">
                    <a:moveTo>
                      <a:pt x="1038" y="25"/>
                    </a:moveTo>
                    <a:lnTo>
                      <a:pt x="877" y="75"/>
                    </a:lnTo>
                    <a:lnTo>
                      <a:pt x="669" y="163"/>
                    </a:lnTo>
                    <a:lnTo>
                      <a:pt x="491" y="284"/>
                    </a:lnTo>
                    <a:lnTo>
                      <a:pt x="369" y="422"/>
                    </a:lnTo>
                    <a:lnTo>
                      <a:pt x="268" y="606"/>
                    </a:lnTo>
                    <a:lnTo>
                      <a:pt x="183" y="746"/>
                    </a:lnTo>
                    <a:lnTo>
                      <a:pt x="106" y="884"/>
                    </a:lnTo>
                    <a:lnTo>
                      <a:pt x="0" y="1060"/>
                    </a:lnTo>
                    <a:lnTo>
                      <a:pt x="77" y="1023"/>
                    </a:lnTo>
                    <a:lnTo>
                      <a:pt x="157" y="1062"/>
                    </a:lnTo>
                    <a:lnTo>
                      <a:pt x="146" y="1176"/>
                    </a:lnTo>
                    <a:lnTo>
                      <a:pt x="159" y="1262"/>
                    </a:lnTo>
                    <a:lnTo>
                      <a:pt x="159" y="1360"/>
                    </a:lnTo>
                    <a:lnTo>
                      <a:pt x="97" y="1389"/>
                    </a:lnTo>
                    <a:lnTo>
                      <a:pt x="49" y="1348"/>
                    </a:lnTo>
                    <a:lnTo>
                      <a:pt x="25" y="1389"/>
                    </a:lnTo>
                    <a:lnTo>
                      <a:pt x="27" y="1583"/>
                    </a:lnTo>
                    <a:lnTo>
                      <a:pt x="62" y="1598"/>
                    </a:lnTo>
                    <a:lnTo>
                      <a:pt x="111" y="1429"/>
                    </a:lnTo>
                    <a:lnTo>
                      <a:pt x="168" y="1436"/>
                    </a:lnTo>
                    <a:lnTo>
                      <a:pt x="168" y="1567"/>
                    </a:lnTo>
                    <a:lnTo>
                      <a:pt x="304" y="1145"/>
                    </a:lnTo>
                    <a:lnTo>
                      <a:pt x="319" y="1020"/>
                    </a:lnTo>
                    <a:lnTo>
                      <a:pt x="194" y="1130"/>
                    </a:lnTo>
                    <a:lnTo>
                      <a:pt x="176" y="1035"/>
                    </a:lnTo>
                    <a:lnTo>
                      <a:pt x="106" y="991"/>
                    </a:lnTo>
                    <a:lnTo>
                      <a:pt x="198" y="878"/>
                    </a:lnTo>
                    <a:lnTo>
                      <a:pt x="231" y="840"/>
                    </a:lnTo>
                    <a:lnTo>
                      <a:pt x="662" y="829"/>
                    </a:lnTo>
                    <a:lnTo>
                      <a:pt x="231" y="941"/>
                    </a:lnTo>
                    <a:lnTo>
                      <a:pt x="207" y="1011"/>
                    </a:lnTo>
                    <a:lnTo>
                      <a:pt x="434" y="977"/>
                    </a:lnTo>
                    <a:lnTo>
                      <a:pt x="355" y="1062"/>
                    </a:lnTo>
                    <a:lnTo>
                      <a:pt x="515" y="991"/>
                    </a:lnTo>
                    <a:lnTo>
                      <a:pt x="743" y="829"/>
                    </a:lnTo>
                    <a:lnTo>
                      <a:pt x="963" y="820"/>
                    </a:lnTo>
                    <a:lnTo>
                      <a:pt x="917" y="746"/>
                    </a:lnTo>
                    <a:lnTo>
                      <a:pt x="921" y="719"/>
                    </a:lnTo>
                    <a:lnTo>
                      <a:pt x="1053" y="680"/>
                    </a:lnTo>
                    <a:lnTo>
                      <a:pt x="978" y="636"/>
                    </a:lnTo>
                    <a:lnTo>
                      <a:pt x="985" y="574"/>
                    </a:lnTo>
                    <a:lnTo>
                      <a:pt x="1082" y="519"/>
                    </a:lnTo>
                    <a:lnTo>
                      <a:pt x="1038" y="465"/>
                    </a:lnTo>
                    <a:lnTo>
                      <a:pt x="1053" y="394"/>
                    </a:lnTo>
                    <a:lnTo>
                      <a:pt x="978" y="336"/>
                    </a:lnTo>
                    <a:lnTo>
                      <a:pt x="886" y="330"/>
                    </a:lnTo>
                    <a:lnTo>
                      <a:pt x="1014" y="284"/>
                    </a:lnTo>
                    <a:lnTo>
                      <a:pt x="1167" y="281"/>
                    </a:lnTo>
                    <a:lnTo>
                      <a:pt x="1093" y="233"/>
                    </a:lnTo>
                    <a:lnTo>
                      <a:pt x="1167" y="198"/>
                    </a:lnTo>
                    <a:lnTo>
                      <a:pt x="985" y="161"/>
                    </a:lnTo>
                    <a:lnTo>
                      <a:pt x="814" y="161"/>
                    </a:lnTo>
                    <a:lnTo>
                      <a:pt x="662" y="191"/>
                    </a:lnTo>
                    <a:lnTo>
                      <a:pt x="886" y="101"/>
                    </a:lnTo>
                    <a:lnTo>
                      <a:pt x="1110" y="41"/>
                    </a:lnTo>
                    <a:lnTo>
                      <a:pt x="1289" y="25"/>
                    </a:lnTo>
                    <a:lnTo>
                      <a:pt x="1547" y="25"/>
                    </a:lnTo>
                    <a:lnTo>
                      <a:pt x="1466" y="0"/>
                    </a:lnTo>
                    <a:lnTo>
                      <a:pt x="1185" y="0"/>
                    </a:lnTo>
                    <a:lnTo>
                      <a:pt x="103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51520" y="589788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34" h="334">
                    <a:moveTo>
                      <a:pt x="132" y="6"/>
                    </a:moveTo>
                    <a:lnTo>
                      <a:pt x="134" y="68"/>
                    </a:lnTo>
                    <a:lnTo>
                      <a:pt x="86" y="112"/>
                    </a:lnTo>
                    <a:lnTo>
                      <a:pt x="49" y="195"/>
                    </a:lnTo>
                    <a:lnTo>
                      <a:pt x="37" y="273"/>
                    </a:lnTo>
                    <a:lnTo>
                      <a:pt x="17" y="334"/>
                    </a:lnTo>
                    <a:lnTo>
                      <a:pt x="0" y="329"/>
                    </a:lnTo>
                    <a:lnTo>
                      <a:pt x="3" y="218"/>
                    </a:lnTo>
                    <a:lnTo>
                      <a:pt x="28" y="128"/>
                    </a:lnTo>
                    <a:lnTo>
                      <a:pt x="63" y="36"/>
                    </a:lnTo>
                    <a:lnTo>
                      <a:pt x="99" y="0"/>
                    </a:lnTo>
                    <a:lnTo>
                      <a:pt x="1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746480" y="5896800"/>
                <a:ext cx="44280" cy="135000"/>
              </a:xfrm>
              <a:custGeom>
                <a:avLst/>
                <a:gdLst/>
                <a:ahLst/>
                <a:rect l="l" t="t" r="r" b="b"/>
                <a:pathLst>
                  <a:path w="583" h="2024">
                    <a:moveTo>
                      <a:pt x="90" y="0"/>
                    </a:moveTo>
                    <a:lnTo>
                      <a:pt x="40" y="85"/>
                    </a:lnTo>
                    <a:lnTo>
                      <a:pt x="18" y="191"/>
                    </a:lnTo>
                    <a:lnTo>
                      <a:pt x="18" y="281"/>
                    </a:lnTo>
                    <a:lnTo>
                      <a:pt x="49" y="397"/>
                    </a:lnTo>
                    <a:lnTo>
                      <a:pt x="79" y="485"/>
                    </a:lnTo>
                    <a:lnTo>
                      <a:pt x="111" y="606"/>
                    </a:lnTo>
                    <a:lnTo>
                      <a:pt x="139" y="663"/>
                    </a:lnTo>
                    <a:lnTo>
                      <a:pt x="205" y="692"/>
                    </a:lnTo>
                    <a:lnTo>
                      <a:pt x="245" y="676"/>
                    </a:lnTo>
                    <a:lnTo>
                      <a:pt x="317" y="316"/>
                    </a:lnTo>
                    <a:lnTo>
                      <a:pt x="356" y="258"/>
                    </a:lnTo>
                    <a:lnTo>
                      <a:pt x="302" y="546"/>
                    </a:lnTo>
                    <a:lnTo>
                      <a:pt x="211" y="1001"/>
                    </a:lnTo>
                    <a:lnTo>
                      <a:pt x="211" y="1093"/>
                    </a:lnTo>
                    <a:lnTo>
                      <a:pt x="356" y="1549"/>
                    </a:lnTo>
                    <a:lnTo>
                      <a:pt x="583" y="1823"/>
                    </a:lnTo>
                    <a:lnTo>
                      <a:pt x="489" y="1793"/>
                    </a:lnTo>
                    <a:lnTo>
                      <a:pt x="317" y="1570"/>
                    </a:lnTo>
                    <a:lnTo>
                      <a:pt x="220" y="1390"/>
                    </a:lnTo>
                    <a:lnTo>
                      <a:pt x="293" y="1803"/>
                    </a:lnTo>
                    <a:lnTo>
                      <a:pt x="471" y="2024"/>
                    </a:lnTo>
                    <a:lnTo>
                      <a:pt x="245" y="1768"/>
                    </a:lnTo>
                    <a:lnTo>
                      <a:pt x="194" y="1616"/>
                    </a:lnTo>
                    <a:lnTo>
                      <a:pt x="172" y="1441"/>
                    </a:lnTo>
                    <a:lnTo>
                      <a:pt x="183" y="1282"/>
                    </a:lnTo>
                    <a:lnTo>
                      <a:pt x="159" y="1231"/>
                    </a:lnTo>
                    <a:lnTo>
                      <a:pt x="139" y="1129"/>
                    </a:lnTo>
                    <a:lnTo>
                      <a:pt x="161" y="1015"/>
                    </a:lnTo>
                    <a:lnTo>
                      <a:pt x="205" y="738"/>
                    </a:lnTo>
                    <a:lnTo>
                      <a:pt x="134" y="692"/>
                    </a:lnTo>
                    <a:lnTo>
                      <a:pt x="79" y="627"/>
                    </a:lnTo>
                    <a:lnTo>
                      <a:pt x="62" y="477"/>
                    </a:lnTo>
                    <a:lnTo>
                      <a:pt x="0" y="300"/>
                    </a:lnTo>
                    <a:lnTo>
                      <a:pt x="0" y="201"/>
                    </a:lnTo>
                    <a:lnTo>
                      <a:pt x="38" y="85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778880" y="5949720"/>
                <a:ext cx="126360" cy="99360"/>
              </a:xfrm>
              <a:custGeom>
                <a:avLst/>
                <a:gdLst/>
                <a:ahLst/>
                <a:rect l="l" t="t" r="r" b="b"/>
                <a:pathLst>
                  <a:path w="1657" h="1485">
                    <a:moveTo>
                      <a:pt x="272" y="727"/>
                    </a:moveTo>
                    <a:lnTo>
                      <a:pt x="244" y="745"/>
                    </a:lnTo>
                    <a:lnTo>
                      <a:pt x="351" y="844"/>
                    </a:lnTo>
                    <a:lnTo>
                      <a:pt x="300" y="929"/>
                    </a:lnTo>
                    <a:lnTo>
                      <a:pt x="198" y="1000"/>
                    </a:lnTo>
                    <a:lnTo>
                      <a:pt x="62" y="1000"/>
                    </a:lnTo>
                    <a:lnTo>
                      <a:pt x="129" y="1077"/>
                    </a:lnTo>
                    <a:lnTo>
                      <a:pt x="292" y="1192"/>
                    </a:lnTo>
                    <a:lnTo>
                      <a:pt x="156" y="1226"/>
                    </a:lnTo>
                    <a:lnTo>
                      <a:pt x="0" y="1171"/>
                    </a:lnTo>
                    <a:lnTo>
                      <a:pt x="132" y="1321"/>
                    </a:lnTo>
                    <a:lnTo>
                      <a:pt x="277" y="1485"/>
                    </a:lnTo>
                    <a:lnTo>
                      <a:pt x="438" y="1485"/>
                    </a:lnTo>
                    <a:lnTo>
                      <a:pt x="634" y="1402"/>
                    </a:lnTo>
                    <a:lnTo>
                      <a:pt x="767" y="1272"/>
                    </a:lnTo>
                    <a:lnTo>
                      <a:pt x="670" y="1303"/>
                    </a:lnTo>
                    <a:lnTo>
                      <a:pt x="560" y="1206"/>
                    </a:lnTo>
                    <a:lnTo>
                      <a:pt x="731" y="1182"/>
                    </a:lnTo>
                    <a:lnTo>
                      <a:pt x="892" y="1125"/>
                    </a:lnTo>
                    <a:lnTo>
                      <a:pt x="835" y="1226"/>
                    </a:lnTo>
                    <a:lnTo>
                      <a:pt x="996" y="1116"/>
                    </a:lnTo>
                    <a:lnTo>
                      <a:pt x="1028" y="1070"/>
                    </a:lnTo>
                    <a:lnTo>
                      <a:pt x="1162" y="975"/>
                    </a:lnTo>
                    <a:lnTo>
                      <a:pt x="1215" y="874"/>
                    </a:lnTo>
                    <a:lnTo>
                      <a:pt x="1637" y="134"/>
                    </a:lnTo>
                    <a:lnTo>
                      <a:pt x="1657" y="0"/>
                    </a:lnTo>
                    <a:lnTo>
                      <a:pt x="1162" y="922"/>
                    </a:lnTo>
                    <a:lnTo>
                      <a:pt x="1070" y="984"/>
                    </a:lnTo>
                    <a:lnTo>
                      <a:pt x="920" y="1019"/>
                    </a:lnTo>
                    <a:lnTo>
                      <a:pt x="846" y="1109"/>
                    </a:lnTo>
                    <a:lnTo>
                      <a:pt x="721" y="1141"/>
                    </a:lnTo>
                    <a:lnTo>
                      <a:pt x="634" y="1125"/>
                    </a:lnTo>
                    <a:lnTo>
                      <a:pt x="593" y="1077"/>
                    </a:lnTo>
                    <a:lnTo>
                      <a:pt x="560" y="975"/>
                    </a:lnTo>
                    <a:lnTo>
                      <a:pt x="549" y="890"/>
                    </a:lnTo>
                    <a:lnTo>
                      <a:pt x="650" y="855"/>
                    </a:lnTo>
                    <a:lnTo>
                      <a:pt x="634" y="835"/>
                    </a:lnTo>
                    <a:lnTo>
                      <a:pt x="525" y="844"/>
                    </a:lnTo>
                    <a:lnTo>
                      <a:pt x="394" y="800"/>
                    </a:lnTo>
                    <a:lnTo>
                      <a:pt x="303" y="745"/>
                    </a:lnTo>
                    <a:lnTo>
                      <a:pt x="272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779600" y="5980680"/>
                <a:ext cx="71280" cy="28800"/>
              </a:xfrm>
              <a:custGeom>
                <a:avLst/>
                <a:gdLst/>
                <a:ahLst/>
                <a:rect l="l" t="t" r="r" b="b"/>
                <a:pathLst>
                  <a:path w="934" h="431">
                    <a:moveTo>
                      <a:pt x="152" y="83"/>
                    </a:moveTo>
                    <a:lnTo>
                      <a:pt x="152" y="0"/>
                    </a:lnTo>
                    <a:lnTo>
                      <a:pt x="77" y="0"/>
                    </a:lnTo>
                    <a:lnTo>
                      <a:pt x="0" y="64"/>
                    </a:lnTo>
                    <a:lnTo>
                      <a:pt x="33" y="219"/>
                    </a:lnTo>
                    <a:lnTo>
                      <a:pt x="152" y="114"/>
                    </a:lnTo>
                    <a:lnTo>
                      <a:pt x="418" y="205"/>
                    </a:lnTo>
                    <a:lnTo>
                      <a:pt x="485" y="259"/>
                    </a:lnTo>
                    <a:lnTo>
                      <a:pt x="611" y="259"/>
                    </a:lnTo>
                    <a:lnTo>
                      <a:pt x="844" y="316"/>
                    </a:lnTo>
                    <a:lnTo>
                      <a:pt x="842" y="387"/>
                    </a:lnTo>
                    <a:lnTo>
                      <a:pt x="888" y="431"/>
                    </a:lnTo>
                    <a:lnTo>
                      <a:pt x="934" y="367"/>
                    </a:lnTo>
                    <a:lnTo>
                      <a:pt x="881" y="254"/>
                    </a:lnTo>
                    <a:lnTo>
                      <a:pt x="844" y="265"/>
                    </a:lnTo>
                    <a:lnTo>
                      <a:pt x="620" y="219"/>
                    </a:lnTo>
                    <a:lnTo>
                      <a:pt x="521" y="228"/>
                    </a:lnTo>
                    <a:lnTo>
                      <a:pt x="482" y="171"/>
                    </a:lnTo>
                    <a:lnTo>
                      <a:pt x="194" y="99"/>
                    </a:lnTo>
                    <a:lnTo>
                      <a:pt x="15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807680" y="596196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472" h="465">
                    <a:moveTo>
                      <a:pt x="28" y="113"/>
                    </a:moveTo>
                    <a:lnTo>
                      <a:pt x="64" y="96"/>
                    </a:lnTo>
                    <a:lnTo>
                      <a:pt x="154" y="195"/>
                    </a:lnTo>
                    <a:lnTo>
                      <a:pt x="248" y="206"/>
                    </a:lnTo>
                    <a:lnTo>
                      <a:pt x="302" y="159"/>
                    </a:lnTo>
                    <a:lnTo>
                      <a:pt x="309" y="0"/>
                    </a:lnTo>
                    <a:lnTo>
                      <a:pt x="345" y="168"/>
                    </a:lnTo>
                    <a:lnTo>
                      <a:pt x="391" y="242"/>
                    </a:lnTo>
                    <a:lnTo>
                      <a:pt x="472" y="242"/>
                    </a:lnTo>
                    <a:lnTo>
                      <a:pt x="470" y="263"/>
                    </a:lnTo>
                    <a:lnTo>
                      <a:pt x="345" y="270"/>
                    </a:lnTo>
                    <a:lnTo>
                      <a:pt x="224" y="292"/>
                    </a:lnTo>
                    <a:lnTo>
                      <a:pt x="217" y="410"/>
                    </a:lnTo>
                    <a:lnTo>
                      <a:pt x="154" y="401"/>
                    </a:lnTo>
                    <a:lnTo>
                      <a:pt x="149" y="465"/>
                    </a:lnTo>
                    <a:lnTo>
                      <a:pt x="110" y="391"/>
                    </a:lnTo>
                    <a:lnTo>
                      <a:pt x="173" y="270"/>
                    </a:lnTo>
                    <a:lnTo>
                      <a:pt x="92" y="175"/>
                    </a:lnTo>
                    <a:lnTo>
                      <a:pt x="11" y="175"/>
                    </a:lnTo>
                    <a:lnTo>
                      <a:pt x="0" y="145"/>
                    </a:lnTo>
                    <a:lnTo>
                      <a:pt x="2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831440" y="5932800"/>
                <a:ext cx="70200" cy="42480"/>
              </a:xfrm>
              <a:custGeom>
                <a:avLst/>
                <a:gdLst/>
                <a:ahLst/>
                <a:rect l="l" t="t" r="r" b="b"/>
                <a:pathLst>
                  <a:path w="924" h="640">
                    <a:moveTo>
                      <a:pt x="36" y="71"/>
                    </a:moveTo>
                    <a:lnTo>
                      <a:pt x="92" y="92"/>
                    </a:lnTo>
                    <a:lnTo>
                      <a:pt x="75" y="177"/>
                    </a:lnTo>
                    <a:lnTo>
                      <a:pt x="29" y="334"/>
                    </a:lnTo>
                    <a:lnTo>
                      <a:pt x="0" y="517"/>
                    </a:lnTo>
                    <a:lnTo>
                      <a:pt x="25" y="613"/>
                    </a:lnTo>
                    <a:lnTo>
                      <a:pt x="42" y="431"/>
                    </a:lnTo>
                    <a:lnTo>
                      <a:pt x="92" y="304"/>
                    </a:lnTo>
                    <a:lnTo>
                      <a:pt x="132" y="517"/>
                    </a:lnTo>
                    <a:lnTo>
                      <a:pt x="128" y="594"/>
                    </a:lnTo>
                    <a:lnTo>
                      <a:pt x="178" y="535"/>
                    </a:lnTo>
                    <a:lnTo>
                      <a:pt x="477" y="640"/>
                    </a:lnTo>
                    <a:lnTo>
                      <a:pt x="601" y="620"/>
                    </a:lnTo>
                    <a:lnTo>
                      <a:pt x="694" y="565"/>
                    </a:lnTo>
                    <a:lnTo>
                      <a:pt x="756" y="480"/>
                    </a:lnTo>
                    <a:lnTo>
                      <a:pt x="811" y="408"/>
                    </a:lnTo>
                    <a:lnTo>
                      <a:pt x="680" y="565"/>
                    </a:lnTo>
                    <a:lnTo>
                      <a:pt x="601" y="594"/>
                    </a:lnTo>
                    <a:lnTo>
                      <a:pt x="500" y="604"/>
                    </a:lnTo>
                    <a:lnTo>
                      <a:pt x="424" y="594"/>
                    </a:lnTo>
                    <a:lnTo>
                      <a:pt x="334" y="558"/>
                    </a:lnTo>
                    <a:lnTo>
                      <a:pt x="246" y="466"/>
                    </a:lnTo>
                    <a:lnTo>
                      <a:pt x="253" y="359"/>
                    </a:lnTo>
                    <a:lnTo>
                      <a:pt x="394" y="480"/>
                    </a:lnTo>
                    <a:lnTo>
                      <a:pt x="420" y="414"/>
                    </a:lnTo>
                    <a:lnTo>
                      <a:pt x="299" y="238"/>
                    </a:lnTo>
                    <a:lnTo>
                      <a:pt x="299" y="141"/>
                    </a:lnTo>
                    <a:lnTo>
                      <a:pt x="429" y="133"/>
                    </a:lnTo>
                    <a:lnTo>
                      <a:pt x="477" y="157"/>
                    </a:lnTo>
                    <a:lnTo>
                      <a:pt x="429" y="258"/>
                    </a:lnTo>
                    <a:lnTo>
                      <a:pt x="530" y="293"/>
                    </a:lnTo>
                    <a:lnTo>
                      <a:pt x="659" y="293"/>
                    </a:lnTo>
                    <a:lnTo>
                      <a:pt x="671" y="271"/>
                    </a:lnTo>
                    <a:lnTo>
                      <a:pt x="552" y="141"/>
                    </a:lnTo>
                    <a:lnTo>
                      <a:pt x="694" y="166"/>
                    </a:lnTo>
                    <a:lnTo>
                      <a:pt x="842" y="238"/>
                    </a:lnTo>
                    <a:lnTo>
                      <a:pt x="827" y="348"/>
                    </a:lnTo>
                    <a:lnTo>
                      <a:pt x="866" y="286"/>
                    </a:lnTo>
                    <a:lnTo>
                      <a:pt x="912" y="274"/>
                    </a:lnTo>
                    <a:lnTo>
                      <a:pt x="924" y="223"/>
                    </a:lnTo>
                    <a:lnTo>
                      <a:pt x="650" y="104"/>
                    </a:lnTo>
                    <a:lnTo>
                      <a:pt x="585" y="36"/>
                    </a:lnTo>
                    <a:lnTo>
                      <a:pt x="369" y="0"/>
                    </a:lnTo>
                    <a:lnTo>
                      <a:pt x="223" y="5"/>
                    </a:lnTo>
                    <a:lnTo>
                      <a:pt x="189" y="58"/>
                    </a:lnTo>
                    <a:lnTo>
                      <a:pt x="46" y="11"/>
                    </a:lnTo>
                    <a:lnTo>
                      <a:pt x="3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857360" y="5941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4" h="90">
                    <a:moveTo>
                      <a:pt x="0" y="0"/>
                    </a:moveTo>
                    <a:lnTo>
                      <a:pt x="18" y="90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778160" y="5910840"/>
                <a:ext cx="58320" cy="21600"/>
              </a:xfrm>
              <a:custGeom>
                <a:avLst/>
                <a:gdLst/>
                <a:ahLst/>
                <a:rect l="l" t="t" r="r" b="b"/>
                <a:pathLst>
                  <a:path w="774" h="328">
                    <a:moveTo>
                      <a:pt x="759" y="328"/>
                    </a:moveTo>
                    <a:lnTo>
                      <a:pt x="774" y="293"/>
                    </a:lnTo>
                    <a:lnTo>
                      <a:pt x="678" y="185"/>
                    </a:lnTo>
                    <a:lnTo>
                      <a:pt x="443" y="46"/>
                    </a:lnTo>
                    <a:lnTo>
                      <a:pt x="270" y="64"/>
                    </a:lnTo>
                    <a:lnTo>
                      <a:pt x="173" y="23"/>
                    </a:lnTo>
                    <a:lnTo>
                      <a:pt x="18" y="0"/>
                    </a:lnTo>
                    <a:lnTo>
                      <a:pt x="0" y="23"/>
                    </a:lnTo>
                    <a:lnTo>
                      <a:pt x="51" y="64"/>
                    </a:lnTo>
                    <a:lnTo>
                      <a:pt x="245" y="104"/>
                    </a:lnTo>
                    <a:lnTo>
                      <a:pt x="337" y="127"/>
                    </a:lnTo>
                    <a:lnTo>
                      <a:pt x="452" y="134"/>
                    </a:lnTo>
                    <a:lnTo>
                      <a:pt x="607" y="219"/>
                    </a:lnTo>
                    <a:lnTo>
                      <a:pt x="706" y="300"/>
                    </a:lnTo>
                    <a:lnTo>
                      <a:pt x="735" y="328"/>
                    </a:lnTo>
                    <a:lnTo>
                      <a:pt x="759" y="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775280" y="5914080"/>
                <a:ext cx="61560" cy="43560"/>
              </a:xfrm>
              <a:custGeom>
                <a:avLst/>
                <a:gdLst/>
                <a:ahLst/>
                <a:rect l="l" t="t" r="r" b="b"/>
                <a:pathLst>
                  <a:path w="807" h="655">
                    <a:moveTo>
                      <a:pt x="132" y="32"/>
                    </a:moveTo>
                    <a:lnTo>
                      <a:pt x="88" y="93"/>
                    </a:lnTo>
                    <a:lnTo>
                      <a:pt x="51" y="227"/>
                    </a:lnTo>
                    <a:lnTo>
                      <a:pt x="37" y="359"/>
                    </a:lnTo>
                    <a:lnTo>
                      <a:pt x="77" y="466"/>
                    </a:lnTo>
                    <a:lnTo>
                      <a:pt x="132" y="535"/>
                    </a:lnTo>
                    <a:lnTo>
                      <a:pt x="249" y="595"/>
                    </a:lnTo>
                    <a:lnTo>
                      <a:pt x="383" y="634"/>
                    </a:lnTo>
                    <a:lnTo>
                      <a:pt x="501" y="625"/>
                    </a:lnTo>
                    <a:lnTo>
                      <a:pt x="581" y="595"/>
                    </a:lnTo>
                    <a:lnTo>
                      <a:pt x="651" y="551"/>
                    </a:lnTo>
                    <a:lnTo>
                      <a:pt x="708" y="480"/>
                    </a:lnTo>
                    <a:lnTo>
                      <a:pt x="761" y="392"/>
                    </a:lnTo>
                    <a:lnTo>
                      <a:pt x="409" y="480"/>
                    </a:lnTo>
                    <a:lnTo>
                      <a:pt x="480" y="381"/>
                    </a:lnTo>
                    <a:lnTo>
                      <a:pt x="576" y="359"/>
                    </a:lnTo>
                    <a:lnTo>
                      <a:pt x="736" y="359"/>
                    </a:lnTo>
                    <a:lnTo>
                      <a:pt x="807" y="288"/>
                    </a:lnTo>
                    <a:lnTo>
                      <a:pt x="807" y="359"/>
                    </a:lnTo>
                    <a:lnTo>
                      <a:pt x="708" y="530"/>
                    </a:lnTo>
                    <a:lnTo>
                      <a:pt x="611" y="611"/>
                    </a:lnTo>
                    <a:lnTo>
                      <a:pt x="491" y="636"/>
                    </a:lnTo>
                    <a:lnTo>
                      <a:pt x="383" y="655"/>
                    </a:lnTo>
                    <a:lnTo>
                      <a:pt x="222" y="611"/>
                    </a:lnTo>
                    <a:lnTo>
                      <a:pt x="88" y="530"/>
                    </a:lnTo>
                    <a:lnTo>
                      <a:pt x="26" y="434"/>
                    </a:lnTo>
                    <a:lnTo>
                      <a:pt x="0" y="282"/>
                    </a:lnTo>
                    <a:lnTo>
                      <a:pt x="26" y="117"/>
                    </a:lnTo>
                    <a:lnTo>
                      <a:pt x="95" y="0"/>
                    </a:lnTo>
                    <a:lnTo>
                      <a:pt x="13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796160" y="592236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412" h="189">
                    <a:moveTo>
                      <a:pt x="15" y="110"/>
                    </a:moveTo>
                    <a:lnTo>
                      <a:pt x="0" y="50"/>
                    </a:lnTo>
                    <a:lnTo>
                      <a:pt x="34" y="0"/>
                    </a:lnTo>
                    <a:lnTo>
                      <a:pt x="207" y="0"/>
                    </a:lnTo>
                    <a:lnTo>
                      <a:pt x="393" y="99"/>
                    </a:lnTo>
                    <a:lnTo>
                      <a:pt x="412" y="160"/>
                    </a:lnTo>
                    <a:lnTo>
                      <a:pt x="378" y="189"/>
                    </a:lnTo>
                    <a:lnTo>
                      <a:pt x="165" y="185"/>
                    </a:lnTo>
                    <a:lnTo>
                      <a:pt x="200" y="154"/>
                    </a:lnTo>
                    <a:lnTo>
                      <a:pt x="154" y="119"/>
                    </a:lnTo>
                    <a:lnTo>
                      <a:pt x="165" y="84"/>
                    </a:lnTo>
                    <a:lnTo>
                      <a:pt x="200" y="84"/>
                    </a:lnTo>
                    <a:lnTo>
                      <a:pt x="165" y="50"/>
                    </a:lnTo>
                    <a:lnTo>
                      <a:pt x="55" y="68"/>
                    </a:lnTo>
                    <a:lnTo>
                      <a:pt x="15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889040" y="594756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0" y="492"/>
                    </a:moveTo>
                    <a:lnTo>
                      <a:pt x="64" y="514"/>
                    </a:lnTo>
                    <a:lnTo>
                      <a:pt x="136" y="485"/>
                    </a:lnTo>
                    <a:lnTo>
                      <a:pt x="231" y="371"/>
                    </a:lnTo>
                    <a:lnTo>
                      <a:pt x="297" y="243"/>
                    </a:lnTo>
                    <a:lnTo>
                      <a:pt x="369" y="95"/>
                    </a:lnTo>
                    <a:lnTo>
                      <a:pt x="374" y="12"/>
                    </a:lnTo>
                    <a:lnTo>
                      <a:pt x="359" y="0"/>
                    </a:lnTo>
                    <a:lnTo>
                      <a:pt x="334" y="100"/>
                    </a:lnTo>
                    <a:lnTo>
                      <a:pt x="255" y="277"/>
                    </a:lnTo>
                    <a:lnTo>
                      <a:pt x="168" y="426"/>
                    </a:lnTo>
                    <a:lnTo>
                      <a:pt x="110" y="452"/>
                    </a:lnTo>
                    <a:lnTo>
                      <a:pt x="64" y="381"/>
                    </a:lnTo>
                    <a:lnTo>
                      <a:pt x="0" y="452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02360" y="595188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85" h="233">
                    <a:moveTo>
                      <a:pt x="0" y="134"/>
                    </a:moveTo>
                    <a:lnTo>
                      <a:pt x="14" y="233"/>
                    </a:lnTo>
                    <a:lnTo>
                      <a:pt x="85" y="122"/>
                    </a:lnTo>
                    <a:lnTo>
                      <a:pt x="82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773480" y="5904720"/>
                <a:ext cx="7200" cy="20520"/>
              </a:xfrm>
              <a:custGeom>
                <a:avLst/>
                <a:gdLst/>
                <a:ahLst/>
                <a:rect l="l" t="t" r="r" b="b"/>
                <a:pathLst>
                  <a:path w="103" h="311">
                    <a:moveTo>
                      <a:pt x="103" y="180"/>
                    </a:moveTo>
                    <a:lnTo>
                      <a:pt x="33" y="0"/>
                    </a:lnTo>
                    <a:lnTo>
                      <a:pt x="0" y="57"/>
                    </a:lnTo>
                    <a:lnTo>
                      <a:pt x="52" y="311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94440" y="594756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31" h="149">
                    <a:moveTo>
                      <a:pt x="51" y="51"/>
                    </a:moveTo>
                    <a:lnTo>
                      <a:pt x="231" y="0"/>
                    </a:lnTo>
                    <a:lnTo>
                      <a:pt x="222" y="35"/>
                    </a:lnTo>
                    <a:lnTo>
                      <a:pt x="0" y="149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42960" y="5973840"/>
                <a:ext cx="12240" cy="25920"/>
              </a:xfrm>
              <a:custGeom>
                <a:avLst/>
                <a:gdLst/>
                <a:ahLst/>
                <a:rect l="l" t="t" r="r" b="b"/>
                <a:pathLst>
                  <a:path w="161" h="392">
                    <a:moveTo>
                      <a:pt x="0" y="76"/>
                    </a:moveTo>
                    <a:lnTo>
                      <a:pt x="13" y="0"/>
                    </a:lnTo>
                    <a:lnTo>
                      <a:pt x="161" y="216"/>
                    </a:lnTo>
                    <a:lnTo>
                      <a:pt x="117" y="392"/>
                    </a:lnTo>
                    <a:lnTo>
                      <a:pt x="57" y="277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79960" y="596376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376" h="258">
                    <a:moveTo>
                      <a:pt x="376" y="0"/>
                    </a:moveTo>
                    <a:lnTo>
                      <a:pt x="257" y="159"/>
                    </a:lnTo>
                    <a:lnTo>
                      <a:pt x="83" y="207"/>
                    </a:lnTo>
                    <a:lnTo>
                      <a:pt x="0" y="258"/>
                    </a:lnTo>
                    <a:lnTo>
                      <a:pt x="145" y="85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575480" y="5973840"/>
                <a:ext cx="177120" cy="106200"/>
              </a:xfrm>
              <a:custGeom>
                <a:avLst/>
                <a:gdLst/>
                <a:ahLst/>
                <a:rect l="l" t="t" r="r" b="b"/>
                <a:pathLst>
                  <a:path w="2322" h="1591">
                    <a:moveTo>
                      <a:pt x="337" y="1464"/>
                    </a:moveTo>
                    <a:lnTo>
                      <a:pt x="92" y="1187"/>
                    </a:lnTo>
                    <a:lnTo>
                      <a:pt x="16" y="929"/>
                    </a:lnTo>
                    <a:lnTo>
                      <a:pt x="0" y="784"/>
                    </a:lnTo>
                    <a:lnTo>
                      <a:pt x="142" y="613"/>
                    </a:lnTo>
                    <a:lnTo>
                      <a:pt x="491" y="447"/>
                    </a:lnTo>
                    <a:lnTo>
                      <a:pt x="1063" y="251"/>
                    </a:lnTo>
                    <a:lnTo>
                      <a:pt x="1584" y="157"/>
                    </a:lnTo>
                    <a:lnTo>
                      <a:pt x="2021" y="117"/>
                    </a:lnTo>
                    <a:lnTo>
                      <a:pt x="2322" y="0"/>
                    </a:lnTo>
                    <a:lnTo>
                      <a:pt x="2166" y="117"/>
                    </a:lnTo>
                    <a:lnTo>
                      <a:pt x="2036" y="297"/>
                    </a:lnTo>
                    <a:lnTo>
                      <a:pt x="1975" y="583"/>
                    </a:lnTo>
                    <a:lnTo>
                      <a:pt x="1959" y="807"/>
                    </a:lnTo>
                    <a:lnTo>
                      <a:pt x="1959" y="1099"/>
                    </a:lnTo>
                    <a:lnTo>
                      <a:pt x="1944" y="1307"/>
                    </a:lnTo>
                    <a:lnTo>
                      <a:pt x="1849" y="1591"/>
                    </a:lnTo>
                    <a:lnTo>
                      <a:pt x="1819" y="1561"/>
                    </a:lnTo>
                    <a:lnTo>
                      <a:pt x="1898" y="1337"/>
                    </a:lnTo>
                    <a:lnTo>
                      <a:pt x="1929" y="1136"/>
                    </a:lnTo>
                    <a:lnTo>
                      <a:pt x="1929" y="807"/>
                    </a:lnTo>
                    <a:lnTo>
                      <a:pt x="1944" y="508"/>
                    </a:lnTo>
                    <a:lnTo>
                      <a:pt x="1863" y="383"/>
                    </a:lnTo>
                    <a:lnTo>
                      <a:pt x="1692" y="297"/>
                    </a:lnTo>
                    <a:lnTo>
                      <a:pt x="1439" y="251"/>
                    </a:lnTo>
                    <a:lnTo>
                      <a:pt x="1263" y="238"/>
                    </a:lnTo>
                    <a:lnTo>
                      <a:pt x="1074" y="266"/>
                    </a:lnTo>
                    <a:lnTo>
                      <a:pt x="474" y="457"/>
                    </a:lnTo>
                    <a:lnTo>
                      <a:pt x="127" y="688"/>
                    </a:lnTo>
                    <a:lnTo>
                      <a:pt x="81" y="869"/>
                    </a:lnTo>
                    <a:lnTo>
                      <a:pt x="81" y="1040"/>
                    </a:lnTo>
                    <a:lnTo>
                      <a:pt x="142" y="1211"/>
                    </a:lnTo>
                    <a:lnTo>
                      <a:pt x="337" y="1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565400" y="6042600"/>
                <a:ext cx="214920" cy="275400"/>
              </a:xfrm>
              <a:custGeom>
                <a:avLst/>
                <a:gdLst/>
                <a:ahLst/>
                <a:rect l="l" t="t" r="r" b="b"/>
                <a:pathLst>
                  <a:path w="2817" h="4129">
                    <a:moveTo>
                      <a:pt x="61" y="0"/>
                    </a:moveTo>
                    <a:lnTo>
                      <a:pt x="79" y="122"/>
                    </a:lnTo>
                    <a:lnTo>
                      <a:pt x="156" y="299"/>
                    </a:lnTo>
                    <a:lnTo>
                      <a:pt x="285" y="470"/>
                    </a:lnTo>
                    <a:lnTo>
                      <a:pt x="470" y="662"/>
                    </a:lnTo>
                    <a:lnTo>
                      <a:pt x="802" y="910"/>
                    </a:lnTo>
                    <a:lnTo>
                      <a:pt x="1350" y="1369"/>
                    </a:lnTo>
                    <a:lnTo>
                      <a:pt x="1138" y="829"/>
                    </a:lnTo>
                    <a:lnTo>
                      <a:pt x="1454" y="1305"/>
                    </a:lnTo>
                    <a:lnTo>
                      <a:pt x="1677" y="1664"/>
                    </a:lnTo>
                    <a:lnTo>
                      <a:pt x="1868" y="1950"/>
                    </a:lnTo>
                    <a:lnTo>
                      <a:pt x="2037" y="2215"/>
                    </a:lnTo>
                    <a:lnTo>
                      <a:pt x="2180" y="2361"/>
                    </a:lnTo>
                    <a:lnTo>
                      <a:pt x="2475" y="2672"/>
                    </a:lnTo>
                    <a:lnTo>
                      <a:pt x="2242" y="2056"/>
                    </a:lnTo>
                    <a:lnTo>
                      <a:pt x="2009" y="1492"/>
                    </a:lnTo>
                    <a:lnTo>
                      <a:pt x="1772" y="959"/>
                    </a:lnTo>
                    <a:lnTo>
                      <a:pt x="1624" y="583"/>
                    </a:lnTo>
                    <a:lnTo>
                      <a:pt x="1595" y="470"/>
                    </a:lnTo>
                    <a:lnTo>
                      <a:pt x="1646" y="427"/>
                    </a:lnTo>
                    <a:lnTo>
                      <a:pt x="1989" y="535"/>
                    </a:lnTo>
                    <a:lnTo>
                      <a:pt x="2307" y="726"/>
                    </a:lnTo>
                    <a:lnTo>
                      <a:pt x="2463" y="851"/>
                    </a:lnTo>
                    <a:lnTo>
                      <a:pt x="2162" y="669"/>
                    </a:lnTo>
                    <a:lnTo>
                      <a:pt x="1835" y="548"/>
                    </a:lnTo>
                    <a:lnTo>
                      <a:pt x="1657" y="486"/>
                    </a:lnTo>
                    <a:lnTo>
                      <a:pt x="2009" y="1291"/>
                    </a:lnTo>
                    <a:lnTo>
                      <a:pt x="2364" y="2150"/>
                    </a:lnTo>
                    <a:lnTo>
                      <a:pt x="2635" y="2879"/>
                    </a:lnTo>
                    <a:lnTo>
                      <a:pt x="2817" y="3350"/>
                    </a:lnTo>
                    <a:lnTo>
                      <a:pt x="2560" y="3350"/>
                    </a:lnTo>
                    <a:lnTo>
                      <a:pt x="2261" y="3534"/>
                    </a:lnTo>
                    <a:lnTo>
                      <a:pt x="2055" y="3758"/>
                    </a:lnTo>
                    <a:lnTo>
                      <a:pt x="1989" y="3930"/>
                    </a:lnTo>
                    <a:lnTo>
                      <a:pt x="1945" y="4129"/>
                    </a:lnTo>
                    <a:lnTo>
                      <a:pt x="1945" y="3899"/>
                    </a:lnTo>
                    <a:lnTo>
                      <a:pt x="2009" y="3695"/>
                    </a:lnTo>
                    <a:lnTo>
                      <a:pt x="2147" y="3559"/>
                    </a:lnTo>
                    <a:lnTo>
                      <a:pt x="2429" y="3332"/>
                    </a:lnTo>
                    <a:lnTo>
                      <a:pt x="2136" y="3255"/>
                    </a:lnTo>
                    <a:lnTo>
                      <a:pt x="2085" y="3317"/>
                    </a:lnTo>
                    <a:lnTo>
                      <a:pt x="2009" y="3271"/>
                    </a:lnTo>
                    <a:lnTo>
                      <a:pt x="1989" y="3064"/>
                    </a:lnTo>
                    <a:lnTo>
                      <a:pt x="1835" y="3015"/>
                    </a:lnTo>
                    <a:lnTo>
                      <a:pt x="1200" y="3368"/>
                    </a:lnTo>
                    <a:lnTo>
                      <a:pt x="1138" y="3633"/>
                    </a:lnTo>
                    <a:lnTo>
                      <a:pt x="1565" y="3396"/>
                    </a:lnTo>
                    <a:lnTo>
                      <a:pt x="1090" y="3695"/>
                    </a:lnTo>
                    <a:lnTo>
                      <a:pt x="912" y="3899"/>
                    </a:lnTo>
                    <a:lnTo>
                      <a:pt x="1009" y="3984"/>
                    </a:lnTo>
                    <a:lnTo>
                      <a:pt x="1406" y="3608"/>
                    </a:lnTo>
                    <a:lnTo>
                      <a:pt x="1360" y="3804"/>
                    </a:lnTo>
                    <a:lnTo>
                      <a:pt x="1565" y="4071"/>
                    </a:lnTo>
                    <a:lnTo>
                      <a:pt x="936" y="4044"/>
                    </a:lnTo>
                    <a:lnTo>
                      <a:pt x="741" y="3949"/>
                    </a:lnTo>
                    <a:lnTo>
                      <a:pt x="600" y="3984"/>
                    </a:lnTo>
                    <a:lnTo>
                      <a:pt x="218" y="3758"/>
                    </a:lnTo>
                    <a:lnTo>
                      <a:pt x="33" y="3462"/>
                    </a:lnTo>
                    <a:lnTo>
                      <a:pt x="0" y="3130"/>
                    </a:lnTo>
                    <a:lnTo>
                      <a:pt x="79" y="3176"/>
                    </a:lnTo>
                    <a:lnTo>
                      <a:pt x="268" y="2965"/>
                    </a:lnTo>
                    <a:lnTo>
                      <a:pt x="448" y="2923"/>
                    </a:lnTo>
                    <a:lnTo>
                      <a:pt x="378" y="3086"/>
                    </a:lnTo>
                    <a:lnTo>
                      <a:pt x="378" y="3281"/>
                    </a:lnTo>
                    <a:lnTo>
                      <a:pt x="901" y="3050"/>
                    </a:lnTo>
                    <a:lnTo>
                      <a:pt x="1026" y="3064"/>
                    </a:lnTo>
                    <a:lnTo>
                      <a:pt x="681" y="3306"/>
                    </a:lnTo>
                    <a:lnTo>
                      <a:pt x="681" y="3462"/>
                    </a:lnTo>
                    <a:lnTo>
                      <a:pt x="1189" y="3189"/>
                    </a:lnTo>
                    <a:lnTo>
                      <a:pt x="1360" y="3189"/>
                    </a:lnTo>
                    <a:lnTo>
                      <a:pt x="1578" y="3064"/>
                    </a:lnTo>
                    <a:lnTo>
                      <a:pt x="1486" y="2907"/>
                    </a:lnTo>
                    <a:lnTo>
                      <a:pt x="1263" y="2767"/>
                    </a:lnTo>
                    <a:lnTo>
                      <a:pt x="1026" y="2688"/>
                    </a:lnTo>
                    <a:lnTo>
                      <a:pt x="802" y="2672"/>
                    </a:lnTo>
                    <a:lnTo>
                      <a:pt x="912" y="2612"/>
                    </a:lnTo>
                    <a:lnTo>
                      <a:pt x="741" y="2563"/>
                    </a:lnTo>
                    <a:lnTo>
                      <a:pt x="518" y="2612"/>
                    </a:lnTo>
                    <a:lnTo>
                      <a:pt x="331" y="2688"/>
                    </a:lnTo>
                    <a:lnTo>
                      <a:pt x="79" y="2855"/>
                    </a:lnTo>
                    <a:lnTo>
                      <a:pt x="393" y="2626"/>
                    </a:lnTo>
                    <a:lnTo>
                      <a:pt x="710" y="2517"/>
                    </a:lnTo>
                    <a:lnTo>
                      <a:pt x="947" y="2481"/>
                    </a:lnTo>
                    <a:lnTo>
                      <a:pt x="1122" y="2481"/>
                    </a:lnTo>
                    <a:lnTo>
                      <a:pt x="1360" y="2330"/>
                    </a:lnTo>
                    <a:lnTo>
                      <a:pt x="1350" y="2215"/>
                    </a:lnTo>
                    <a:lnTo>
                      <a:pt x="539" y="2422"/>
                    </a:lnTo>
                    <a:lnTo>
                      <a:pt x="993" y="2169"/>
                    </a:lnTo>
                    <a:lnTo>
                      <a:pt x="1215" y="2169"/>
                    </a:lnTo>
                    <a:lnTo>
                      <a:pt x="1251" y="2119"/>
                    </a:lnTo>
                    <a:lnTo>
                      <a:pt x="1286" y="1980"/>
                    </a:lnTo>
                    <a:lnTo>
                      <a:pt x="1251" y="1747"/>
                    </a:lnTo>
                    <a:lnTo>
                      <a:pt x="1138" y="1556"/>
                    </a:lnTo>
                    <a:lnTo>
                      <a:pt x="963" y="1337"/>
                    </a:lnTo>
                    <a:lnTo>
                      <a:pt x="730" y="1088"/>
                    </a:lnTo>
                    <a:lnTo>
                      <a:pt x="507" y="882"/>
                    </a:lnTo>
                    <a:lnTo>
                      <a:pt x="378" y="741"/>
                    </a:lnTo>
                    <a:lnTo>
                      <a:pt x="378" y="882"/>
                    </a:lnTo>
                    <a:lnTo>
                      <a:pt x="463" y="1042"/>
                    </a:lnTo>
                    <a:lnTo>
                      <a:pt x="741" y="1358"/>
                    </a:lnTo>
                    <a:lnTo>
                      <a:pt x="463" y="1165"/>
                    </a:lnTo>
                    <a:lnTo>
                      <a:pt x="207" y="1042"/>
                    </a:lnTo>
                    <a:lnTo>
                      <a:pt x="156" y="1007"/>
                    </a:lnTo>
                    <a:lnTo>
                      <a:pt x="79" y="1270"/>
                    </a:lnTo>
                    <a:lnTo>
                      <a:pt x="94" y="814"/>
                    </a:lnTo>
                    <a:lnTo>
                      <a:pt x="110" y="438"/>
                    </a:lnTo>
                    <a:lnTo>
                      <a:pt x="50" y="12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561080" y="6128640"/>
                <a:ext cx="67680" cy="105480"/>
              </a:xfrm>
              <a:custGeom>
                <a:avLst/>
                <a:gdLst/>
                <a:ahLst/>
                <a:rect l="l" t="t" r="r" b="b"/>
                <a:pathLst>
                  <a:path w="884" h="1588">
                    <a:moveTo>
                      <a:pt x="42" y="0"/>
                    </a:moveTo>
                    <a:lnTo>
                      <a:pt x="10" y="105"/>
                    </a:lnTo>
                    <a:lnTo>
                      <a:pt x="10" y="215"/>
                    </a:lnTo>
                    <a:lnTo>
                      <a:pt x="107" y="360"/>
                    </a:lnTo>
                    <a:lnTo>
                      <a:pt x="342" y="498"/>
                    </a:lnTo>
                    <a:lnTo>
                      <a:pt x="884" y="671"/>
                    </a:lnTo>
                    <a:lnTo>
                      <a:pt x="642" y="828"/>
                    </a:lnTo>
                    <a:lnTo>
                      <a:pt x="423" y="1019"/>
                    </a:lnTo>
                    <a:lnTo>
                      <a:pt x="167" y="1272"/>
                    </a:lnTo>
                    <a:lnTo>
                      <a:pt x="42" y="1588"/>
                    </a:lnTo>
                    <a:lnTo>
                      <a:pt x="136" y="1247"/>
                    </a:lnTo>
                    <a:lnTo>
                      <a:pt x="167" y="945"/>
                    </a:lnTo>
                    <a:lnTo>
                      <a:pt x="183" y="1190"/>
                    </a:lnTo>
                    <a:lnTo>
                      <a:pt x="423" y="909"/>
                    </a:lnTo>
                    <a:lnTo>
                      <a:pt x="520" y="814"/>
                    </a:lnTo>
                    <a:lnTo>
                      <a:pt x="199" y="659"/>
                    </a:lnTo>
                    <a:lnTo>
                      <a:pt x="167" y="828"/>
                    </a:lnTo>
                    <a:lnTo>
                      <a:pt x="118" y="671"/>
                    </a:lnTo>
                    <a:lnTo>
                      <a:pt x="22" y="426"/>
                    </a:lnTo>
                    <a:lnTo>
                      <a:pt x="0" y="235"/>
                    </a:lnTo>
                    <a:lnTo>
                      <a:pt x="0" y="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572960" y="6129720"/>
                <a:ext cx="93240" cy="52200"/>
              </a:xfrm>
              <a:custGeom>
                <a:avLst/>
                <a:gdLst/>
                <a:ahLst/>
                <a:rect l="l" t="t" r="r" b="b"/>
                <a:pathLst>
                  <a:path w="1220" h="786">
                    <a:moveTo>
                      <a:pt x="62" y="18"/>
                    </a:moveTo>
                    <a:lnTo>
                      <a:pt x="223" y="0"/>
                    </a:lnTo>
                    <a:lnTo>
                      <a:pt x="491" y="91"/>
                    </a:lnTo>
                    <a:lnTo>
                      <a:pt x="733" y="251"/>
                    </a:lnTo>
                    <a:lnTo>
                      <a:pt x="1028" y="502"/>
                    </a:lnTo>
                    <a:lnTo>
                      <a:pt x="1220" y="739"/>
                    </a:lnTo>
                    <a:lnTo>
                      <a:pt x="1169" y="786"/>
                    </a:lnTo>
                    <a:lnTo>
                      <a:pt x="996" y="629"/>
                    </a:lnTo>
                    <a:lnTo>
                      <a:pt x="793" y="484"/>
                    </a:lnTo>
                    <a:lnTo>
                      <a:pt x="572" y="376"/>
                    </a:lnTo>
                    <a:lnTo>
                      <a:pt x="376" y="262"/>
                    </a:lnTo>
                    <a:lnTo>
                      <a:pt x="0" y="18"/>
                    </a:lnTo>
                    <a:lnTo>
                      <a:pt x="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46480" y="5973840"/>
                <a:ext cx="119520" cy="296640"/>
              </a:xfrm>
              <a:custGeom>
                <a:avLst/>
                <a:gdLst/>
                <a:ahLst/>
                <a:rect l="l" t="t" r="r" b="b"/>
                <a:pathLst>
                  <a:path w="1568" h="4437">
                    <a:moveTo>
                      <a:pt x="161" y="83"/>
                    </a:moveTo>
                    <a:lnTo>
                      <a:pt x="99" y="205"/>
                    </a:lnTo>
                    <a:lnTo>
                      <a:pt x="49" y="383"/>
                    </a:lnTo>
                    <a:lnTo>
                      <a:pt x="49" y="583"/>
                    </a:lnTo>
                    <a:lnTo>
                      <a:pt x="99" y="774"/>
                    </a:lnTo>
                    <a:lnTo>
                      <a:pt x="257" y="1090"/>
                    </a:lnTo>
                    <a:lnTo>
                      <a:pt x="431" y="1400"/>
                    </a:lnTo>
                    <a:lnTo>
                      <a:pt x="543" y="1767"/>
                    </a:lnTo>
                    <a:lnTo>
                      <a:pt x="637" y="2172"/>
                    </a:lnTo>
                    <a:lnTo>
                      <a:pt x="719" y="2690"/>
                    </a:lnTo>
                    <a:lnTo>
                      <a:pt x="826" y="3398"/>
                    </a:lnTo>
                    <a:lnTo>
                      <a:pt x="877" y="3846"/>
                    </a:lnTo>
                    <a:lnTo>
                      <a:pt x="1057" y="3270"/>
                    </a:lnTo>
                    <a:lnTo>
                      <a:pt x="1192" y="2743"/>
                    </a:lnTo>
                    <a:lnTo>
                      <a:pt x="1347" y="2033"/>
                    </a:lnTo>
                    <a:lnTo>
                      <a:pt x="1444" y="1496"/>
                    </a:lnTo>
                    <a:lnTo>
                      <a:pt x="1471" y="1148"/>
                    </a:lnTo>
                    <a:lnTo>
                      <a:pt x="1490" y="830"/>
                    </a:lnTo>
                    <a:lnTo>
                      <a:pt x="1506" y="664"/>
                    </a:lnTo>
                    <a:lnTo>
                      <a:pt x="1568" y="567"/>
                    </a:lnTo>
                    <a:lnTo>
                      <a:pt x="1554" y="1169"/>
                    </a:lnTo>
                    <a:lnTo>
                      <a:pt x="1444" y="1908"/>
                    </a:lnTo>
                    <a:lnTo>
                      <a:pt x="1301" y="2582"/>
                    </a:lnTo>
                    <a:lnTo>
                      <a:pt x="1154" y="3195"/>
                    </a:lnTo>
                    <a:lnTo>
                      <a:pt x="971" y="3778"/>
                    </a:lnTo>
                    <a:lnTo>
                      <a:pt x="730" y="4394"/>
                    </a:lnTo>
                    <a:lnTo>
                      <a:pt x="637" y="4437"/>
                    </a:lnTo>
                    <a:lnTo>
                      <a:pt x="826" y="3917"/>
                    </a:lnTo>
                    <a:lnTo>
                      <a:pt x="683" y="2848"/>
                    </a:lnTo>
                    <a:lnTo>
                      <a:pt x="559" y="2015"/>
                    </a:lnTo>
                    <a:lnTo>
                      <a:pt x="402" y="1512"/>
                    </a:lnTo>
                    <a:lnTo>
                      <a:pt x="183" y="1090"/>
                    </a:lnTo>
                    <a:lnTo>
                      <a:pt x="49" y="784"/>
                    </a:lnTo>
                    <a:lnTo>
                      <a:pt x="0" y="602"/>
                    </a:lnTo>
                    <a:lnTo>
                      <a:pt x="0" y="394"/>
                    </a:lnTo>
                    <a:lnTo>
                      <a:pt x="49" y="189"/>
                    </a:lnTo>
                    <a:lnTo>
                      <a:pt x="161" y="0"/>
                    </a:lnTo>
                    <a:lnTo>
                      <a:pt x="16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39280" y="6271560"/>
                <a:ext cx="120960" cy="67320"/>
              </a:xfrm>
              <a:custGeom>
                <a:avLst/>
                <a:gdLst/>
                <a:ahLst/>
                <a:rect l="l" t="t" r="r" b="b"/>
                <a:pathLst>
                  <a:path w="1582" h="1002">
                    <a:moveTo>
                      <a:pt x="457" y="0"/>
                    </a:moveTo>
                    <a:lnTo>
                      <a:pt x="321" y="103"/>
                    </a:lnTo>
                    <a:lnTo>
                      <a:pt x="191" y="235"/>
                    </a:lnTo>
                    <a:lnTo>
                      <a:pt x="81" y="363"/>
                    </a:lnTo>
                    <a:lnTo>
                      <a:pt x="20" y="529"/>
                    </a:lnTo>
                    <a:lnTo>
                      <a:pt x="0" y="765"/>
                    </a:lnTo>
                    <a:lnTo>
                      <a:pt x="68" y="718"/>
                    </a:lnTo>
                    <a:lnTo>
                      <a:pt x="1174" y="1002"/>
                    </a:lnTo>
                    <a:lnTo>
                      <a:pt x="1296" y="988"/>
                    </a:lnTo>
                    <a:lnTo>
                      <a:pt x="1582" y="857"/>
                    </a:lnTo>
                    <a:lnTo>
                      <a:pt x="1246" y="975"/>
                    </a:lnTo>
                    <a:lnTo>
                      <a:pt x="1187" y="940"/>
                    </a:lnTo>
                    <a:lnTo>
                      <a:pt x="969" y="889"/>
                    </a:lnTo>
                    <a:lnTo>
                      <a:pt x="855" y="698"/>
                    </a:lnTo>
                    <a:lnTo>
                      <a:pt x="775" y="640"/>
                    </a:lnTo>
                    <a:lnTo>
                      <a:pt x="523" y="564"/>
                    </a:lnTo>
                    <a:lnTo>
                      <a:pt x="429" y="468"/>
                    </a:lnTo>
                    <a:lnTo>
                      <a:pt x="397" y="373"/>
                    </a:lnTo>
                    <a:lnTo>
                      <a:pt x="383" y="248"/>
                    </a:lnTo>
                    <a:lnTo>
                      <a:pt x="383" y="128"/>
                    </a:lnTo>
                    <a:lnTo>
                      <a:pt x="4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773480" y="6251760"/>
                <a:ext cx="139680" cy="26640"/>
              </a:xfrm>
              <a:custGeom>
                <a:avLst/>
                <a:gdLst/>
                <a:ahLst/>
                <a:rect l="l" t="t" r="r" b="b"/>
                <a:pathLst>
                  <a:path w="1828" h="404">
                    <a:moveTo>
                      <a:pt x="57" y="281"/>
                    </a:moveTo>
                    <a:lnTo>
                      <a:pt x="281" y="250"/>
                    </a:lnTo>
                    <a:lnTo>
                      <a:pt x="862" y="31"/>
                    </a:lnTo>
                    <a:lnTo>
                      <a:pt x="1115" y="46"/>
                    </a:lnTo>
                    <a:lnTo>
                      <a:pt x="1528" y="0"/>
                    </a:lnTo>
                    <a:lnTo>
                      <a:pt x="1587" y="31"/>
                    </a:lnTo>
                    <a:lnTo>
                      <a:pt x="1767" y="301"/>
                    </a:lnTo>
                    <a:lnTo>
                      <a:pt x="1560" y="88"/>
                    </a:lnTo>
                    <a:lnTo>
                      <a:pt x="1479" y="88"/>
                    </a:lnTo>
                    <a:lnTo>
                      <a:pt x="1053" y="88"/>
                    </a:lnTo>
                    <a:lnTo>
                      <a:pt x="1198" y="151"/>
                    </a:lnTo>
                    <a:lnTo>
                      <a:pt x="1440" y="202"/>
                    </a:lnTo>
                    <a:lnTo>
                      <a:pt x="1828" y="404"/>
                    </a:lnTo>
                    <a:lnTo>
                      <a:pt x="1355" y="238"/>
                    </a:lnTo>
                    <a:lnTo>
                      <a:pt x="892" y="112"/>
                    </a:lnTo>
                    <a:lnTo>
                      <a:pt x="798" y="112"/>
                    </a:lnTo>
                    <a:lnTo>
                      <a:pt x="339" y="281"/>
                    </a:lnTo>
                    <a:lnTo>
                      <a:pt x="0" y="332"/>
                    </a:lnTo>
                    <a:lnTo>
                      <a:pt x="57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777080" y="6046200"/>
                <a:ext cx="50040" cy="161280"/>
              </a:xfrm>
              <a:custGeom>
                <a:avLst/>
                <a:gdLst/>
                <a:ahLst/>
                <a:rect l="l" t="t" r="r" b="b"/>
                <a:pathLst>
                  <a:path w="655" h="2417">
                    <a:moveTo>
                      <a:pt x="0" y="325"/>
                    </a:moveTo>
                    <a:lnTo>
                      <a:pt x="60" y="218"/>
                    </a:lnTo>
                    <a:lnTo>
                      <a:pt x="157" y="112"/>
                    </a:lnTo>
                    <a:lnTo>
                      <a:pt x="281" y="0"/>
                    </a:lnTo>
                    <a:lnTo>
                      <a:pt x="378" y="24"/>
                    </a:lnTo>
                    <a:lnTo>
                      <a:pt x="235" y="121"/>
                    </a:lnTo>
                    <a:lnTo>
                      <a:pt x="328" y="437"/>
                    </a:lnTo>
                    <a:lnTo>
                      <a:pt x="500" y="468"/>
                    </a:lnTo>
                    <a:lnTo>
                      <a:pt x="539" y="250"/>
                    </a:lnTo>
                    <a:lnTo>
                      <a:pt x="539" y="136"/>
                    </a:lnTo>
                    <a:lnTo>
                      <a:pt x="500" y="24"/>
                    </a:lnTo>
                    <a:lnTo>
                      <a:pt x="585" y="136"/>
                    </a:lnTo>
                    <a:lnTo>
                      <a:pt x="585" y="312"/>
                    </a:lnTo>
                    <a:lnTo>
                      <a:pt x="550" y="486"/>
                    </a:lnTo>
                    <a:lnTo>
                      <a:pt x="618" y="749"/>
                    </a:lnTo>
                    <a:lnTo>
                      <a:pt x="645" y="1242"/>
                    </a:lnTo>
                    <a:lnTo>
                      <a:pt x="629" y="1823"/>
                    </a:lnTo>
                    <a:lnTo>
                      <a:pt x="655" y="2342"/>
                    </a:lnTo>
                    <a:lnTo>
                      <a:pt x="629" y="2417"/>
                    </a:lnTo>
                    <a:lnTo>
                      <a:pt x="569" y="1885"/>
                    </a:lnTo>
                    <a:lnTo>
                      <a:pt x="569" y="1332"/>
                    </a:lnTo>
                    <a:lnTo>
                      <a:pt x="569" y="894"/>
                    </a:lnTo>
                    <a:lnTo>
                      <a:pt x="519" y="620"/>
                    </a:lnTo>
                    <a:lnTo>
                      <a:pt x="458" y="534"/>
                    </a:lnTo>
                    <a:lnTo>
                      <a:pt x="328" y="468"/>
                    </a:lnTo>
                    <a:lnTo>
                      <a:pt x="157" y="802"/>
                    </a:lnTo>
                    <a:lnTo>
                      <a:pt x="126" y="703"/>
                    </a:lnTo>
                    <a:lnTo>
                      <a:pt x="262" y="453"/>
                    </a:lnTo>
                    <a:lnTo>
                      <a:pt x="187" y="182"/>
                    </a:lnTo>
                    <a:lnTo>
                      <a:pt x="106" y="281"/>
                    </a:lnTo>
                    <a:lnTo>
                      <a:pt x="29" y="437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816680" y="6030360"/>
                <a:ext cx="44280" cy="61200"/>
              </a:xfrm>
              <a:custGeom>
                <a:avLst/>
                <a:gdLst/>
                <a:ahLst/>
                <a:rect l="l" t="t" r="r" b="b"/>
                <a:pathLst>
                  <a:path w="585" h="919">
                    <a:moveTo>
                      <a:pt x="0" y="251"/>
                    </a:moveTo>
                    <a:lnTo>
                      <a:pt x="191" y="396"/>
                    </a:lnTo>
                    <a:lnTo>
                      <a:pt x="233" y="664"/>
                    </a:lnTo>
                    <a:lnTo>
                      <a:pt x="426" y="300"/>
                    </a:lnTo>
                    <a:lnTo>
                      <a:pt x="585" y="0"/>
                    </a:lnTo>
                    <a:lnTo>
                      <a:pt x="534" y="242"/>
                    </a:lnTo>
                    <a:lnTo>
                      <a:pt x="174" y="919"/>
                    </a:lnTo>
                    <a:lnTo>
                      <a:pt x="198" y="761"/>
                    </a:lnTo>
                    <a:lnTo>
                      <a:pt x="50" y="508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814880" y="624636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416" h="166">
                    <a:moveTo>
                      <a:pt x="218" y="166"/>
                    </a:moveTo>
                    <a:lnTo>
                      <a:pt x="0" y="80"/>
                    </a:lnTo>
                    <a:lnTo>
                      <a:pt x="42" y="0"/>
                    </a:lnTo>
                    <a:lnTo>
                      <a:pt x="416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826400" y="6127200"/>
                <a:ext cx="266760" cy="203040"/>
              </a:xfrm>
              <a:custGeom>
                <a:avLst/>
                <a:gdLst/>
                <a:ahLst/>
                <a:rect l="l" t="t" r="r" b="b"/>
                <a:pathLst>
                  <a:path w="3494" h="3036">
                    <a:moveTo>
                      <a:pt x="1119" y="2271"/>
                    </a:moveTo>
                    <a:lnTo>
                      <a:pt x="1130" y="2336"/>
                    </a:lnTo>
                    <a:lnTo>
                      <a:pt x="1101" y="2414"/>
                    </a:lnTo>
                    <a:lnTo>
                      <a:pt x="1054" y="2433"/>
                    </a:lnTo>
                    <a:lnTo>
                      <a:pt x="284" y="2338"/>
                    </a:lnTo>
                    <a:lnTo>
                      <a:pt x="292" y="2407"/>
                    </a:lnTo>
                    <a:lnTo>
                      <a:pt x="404" y="2387"/>
                    </a:lnTo>
                    <a:lnTo>
                      <a:pt x="852" y="2442"/>
                    </a:lnTo>
                    <a:lnTo>
                      <a:pt x="771" y="2609"/>
                    </a:lnTo>
                    <a:lnTo>
                      <a:pt x="428" y="2668"/>
                    </a:lnTo>
                    <a:lnTo>
                      <a:pt x="158" y="2552"/>
                    </a:lnTo>
                    <a:lnTo>
                      <a:pt x="68" y="2568"/>
                    </a:lnTo>
                    <a:lnTo>
                      <a:pt x="151" y="2638"/>
                    </a:lnTo>
                    <a:lnTo>
                      <a:pt x="446" y="2679"/>
                    </a:lnTo>
                    <a:lnTo>
                      <a:pt x="752" y="2656"/>
                    </a:lnTo>
                    <a:lnTo>
                      <a:pt x="670" y="2780"/>
                    </a:lnTo>
                    <a:lnTo>
                      <a:pt x="481" y="2895"/>
                    </a:lnTo>
                    <a:lnTo>
                      <a:pt x="158" y="2910"/>
                    </a:lnTo>
                    <a:lnTo>
                      <a:pt x="0" y="2895"/>
                    </a:lnTo>
                    <a:lnTo>
                      <a:pt x="268" y="2954"/>
                    </a:lnTo>
                    <a:lnTo>
                      <a:pt x="455" y="2932"/>
                    </a:lnTo>
                    <a:lnTo>
                      <a:pt x="418" y="3036"/>
                    </a:lnTo>
                    <a:lnTo>
                      <a:pt x="455" y="3025"/>
                    </a:lnTo>
                    <a:lnTo>
                      <a:pt x="525" y="2910"/>
                    </a:lnTo>
                    <a:lnTo>
                      <a:pt x="697" y="2789"/>
                    </a:lnTo>
                    <a:lnTo>
                      <a:pt x="784" y="2668"/>
                    </a:lnTo>
                    <a:lnTo>
                      <a:pt x="3327" y="2668"/>
                    </a:lnTo>
                    <a:lnTo>
                      <a:pt x="3390" y="2495"/>
                    </a:lnTo>
                    <a:lnTo>
                      <a:pt x="3424" y="2200"/>
                    </a:lnTo>
                    <a:lnTo>
                      <a:pt x="3454" y="1985"/>
                    </a:lnTo>
                    <a:lnTo>
                      <a:pt x="2977" y="1849"/>
                    </a:lnTo>
                    <a:lnTo>
                      <a:pt x="3041" y="1780"/>
                    </a:lnTo>
                    <a:lnTo>
                      <a:pt x="3109" y="1833"/>
                    </a:lnTo>
                    <a:lnTo>
                      <a:pt x="3494" y="1886"/>
                    </a:lnTo>
                    <a:lnTo>
                      <a:pt x="3494" y="1844"/>
                    </a:lnTo>
                    <a:lnTo>
                      <a:pt x="3159" y="1785"/>
                    </a:lnTo>
                    <a:lnTo>
                      <a:pt x="2995" y="1598"/>
                    </a:lnTo>
                    <a:lnTo>
                      <a:pt x="2813" y="1805"/>
                    </a:lnTo>
                    <a:lnTo>
                      <a:pt x="2479" y="2336"/>
                    </a:lnTo>
                    <a:lnTo>
                      <a:pt x="2345" y="2236"/>
                    </a:lnTo>
                    <a:lnTo>
                      <a:pt x="2472" y="1955"/>
                    </a:lnTo>
                    <a:lnTo>
                      <a:pt x="2714" y="1671"/>
                    </a:lnTo>
                    <a:lnTo>
                      <a:pt x="2868" y="1559"/>
                    </a:lnTo>
                    <a:lnTo>
                      <a:pt x="2742" y="1303"/>
                    </a:lnTo>
                    <a:lnTo>
                      <a:pt x="2582" y="745"/>
                    </a:lnTo>
                    <a:lnTo>
                      <a:pt x="2707" y="1328"/>
                    </a:lnTo>
                    <a:lnTo>
                      <a:pt x="2771" y="1535"/>
                    </a:lnTo>
                    <a:lnTo>
                      <a:pt x="2544" y="1550"/>
                    </a:lnTo>
                    <a:lnTo>
                      <a:pt x="2272" y="692"/>
                    </a:lnTo>
                    <a:lnTo>
                      <a:pt x="2424" y="552"/>
                    </a:lnTo>
                    <a:lnTo>
                      <a:pt x="1962" y="803"/>
                    </a:lnTo>
                    <a:lnTo>
                      <a:pt x="1962" y="735"/>
                    </a:lnTo>
                    <a:lnTo>
                      <a:pt x="2037" y="602"/>
                    </a:lnTo>
                    <a:lnTo>
                      <a:pt x="2345" y="369"/>
                    </a:lnTo>
                    <a:lnTo>
                      <a:pt x="2439" y="210"/>
                    </a:lnTo>
                    <a:lnTo>
                      <a:pt x="2540" y="614"/>
                    </a:lnTo>
                    <a:lnTo>
                      <a:pt x="2525" y="180"/>
                    </a:lnTo>
                    <a:lnTo>
                      <a:pt x="2403" y="90"/>
                    </a:lnTo>
                    <a:lnTo>
                      <a:pt x="2318" y="88"/>
                    </a:lnTo>
                    <a:lnTo>
                      <a:pt x="2311" y="0"/>
                    </a:lnTo>
                    <a:lnTo>
                      <a:pt x="2311" y="157"/>
                    </a:lnTo>
                    <a:lnTo>
                      <a:pt x="2340" y="297"/>
                    </a:lnTo>
                    <a:lnTo>
                      <a:pt x="2177" y="480"/>
                    </a:lnTo>
                    <a:lnTo>
                      <a:pt x="1905" y="563"/>
                    </a:lnTo>
                    <a:lnTo>
                      <a:pt x="1852" y="231"/>
                    </a:lnTo>
                    <a:lnTo>
                      <a:pt x="1742" y="552"/>
                    </a:lnTo>
                    <a:lnTo>
                      <a:pt x="1485" y="745"/>
                    </a:lnTo>
                    <a:lnTo>
                      <a:pt x="1220" y="818"/>
                    </a:lnTo>
                    <a:lnTo>
                      <a:pt x="944" y="871"/>
                    </a:lnTo>
                    <a:lnTo>
                      <a:pt x="1352" y="835"/>
                    </a:lnTo>
                    <a:lnTo>
                      <a:pt x="1589" y="783"/>
                    </a:lnTo>
                    <a:lnTo>
                      <a:pt x="1371" y="976"/>
                    </a:lnTo>
                    <a:lnTo>
                      <a:pt x="1169" y="1240"/>
                    </a:lnTo>
                    <a:lnTo>
                      <a:pt x="953" y="1621"/>
                    </a:lnTo>
                    <a:lnTo>
                      <a:pt x="842" y="1895"/>
                    </a:lnTo>
                    <a:lnTo>
                      <a:pt x="1087" y="2165"/>
                    </a:lnTo>
                    <a:lnTo>
                      <a:pt x="1191" y="2271"/>
                    </a:lnTo>
                    <a:lnTo>
                      <a:pt x="1172" y="2312"/>
                    </a:lnTo>
                    <a:lnTo>
                      <a:pt x="1331" y="2374"/>
                    </a:lnTo>
                    <a:lnTo>
                      <a:pt x="1415" y="1937"/>
                    </a:lnTo>
                    <a:lnTo>
                      <a:pt x="1589" y="1211"/>
                    </a:lnTo>
                    <a:lnTo>
                      <a:pt x="1698" y="930"/>
                    </a:lnTo>
                    <a:lnTo>
                      <a:pt x="1707" y="1134"/>
                    </a:lnTo>
                    <a:lnTo>
                      <a:pt x="1608" y="1510"/>
                    </a:lnTo>
                    <a:lnTo>
                      <a:pt x="1485" y="2137"/>
                    </a:lnTo>
                    <a:lnTo>
                      <a:pt x="1446" y="2433"/>
                    </a:lnTo>
                    <a:lnTo>
                      <a:pt x="1365" y="2396"/>
                    </a:lnTo>
                    <a:lnTo>
                      <a:pt x="1523" y="2517"/>
                    </a:lnTo>
                    <a:lnTo>
                      <a:pt x="1317" y="2483"/>
                    </a:lnTo>
                    <a:lnTo>
                      <a:pt x="1147" y="2407"/>
                    </a:lnTo>
                    <a:lnTo>
                      <a:pt x="1147" y="2324"/>
                    </a:lnTo>
                    <a:lnTo>
                      <a:pt x="1119" y="22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884000" y="6002280"/>
                <a:ext cx="121320" cy="163440"/>
              </a:xfrm>
              <a:custGeom>
                <a:avLst/>
                <a:gdLst/>
                <a:ahLst/>
                <a:rect l="l" t="t" r="r" b="b"/>
                <a:pathLst>
                  <a:path w="1593" h="2446">
                    <a:moveTo>
                      <a:pt x="0" y="0"/>
                    </a:moveTo>
                    <a:lnTo>
                      <a:pt x="406" y="122"/>
                    </a:lnTo>
                    <a:lnTo>
                      <a:pt x="969" y="385"/>
                    </a:lnTo>
                    <a:lnTo>
                      <a:pt x="1273" y="442"/>
                    </a:lnTo>
                    <a:lnTo>
                      <a:pt x="1294" y="537"/>
                    </a:lnTo>
                    <a:lnTo>
                      <a:pt x="1360" y="512"/>
                    </a:lnTo>
                    <a:lnTo>
                      <a:pt x="1457" y="673"/>
                    </a:lnTo>
                    <a:lnTo>
                      <a:pt x="1554" y="965"/>
                    </a:lnTo>
                    <a:lnTo>
                      <a:pt x="1593" y="1323"/>
                    </a:lnTo>
                    <a:lnTo>
                      <a:pt x="1593" y="1552"/>
                    </a:lnTo>
                    <a:lnTo>
                      <a:pt x="1538" y="1879"/>
                    </a:lnTo>
                    <a:lnTo>
                      <a:pt x="1432" y="2137"/>
                    </a:lnTo>
                    <a:lnTo>
                      <a:pt x="1273" y="2285"/>
                    </a:lnTo>
                    <a:lnTo>
                      <a:pt x="1100" y="2446"/>
                    </a:lnTo>
                    <a:lnTo>
                      <a:pt x="1266" y="2191"/>
                    </a:lnTo>
                    <a:lnTo>
                      <a:pt x="1432" y="1863"/>
                    </a:lnTo>
                    <a:lnTo>
                      <a:pt x="1513" y="1552"/>
                    </a:lnTo>
                    <a:lnTo>
                      <a:pt x="1531" y="1180"/>
                    </a:lnTo>
                    <a:lnTo>
                      <a:pt x="1503" y="910"/>
                    </a:lnTo>
                    <a:lnTo>
                      <a:pt x="1425" y="644"/>
                    </a:lnTo>
                    <a:lnTo>
                      <a:pt x="1335" y="567"/>
                    </a:lnTo>
                    <a:lnTo>
                      <a:pt x="1259" y="1238"/>
                    </a:lnTo>
                    <a:lnTo>
                      <a:pt x="1133" y="1904"/>
                    </a:lnTo>
                    <a:lnTo>
                      <a:pt x="1243" y="1226"/>
                    </a:lnTo>
                    <a:lnTo>
                      <a:pt x="1266" y="537"/>
                    </a:lnTo>
                    <a:lnTo>
                      <a:pt x="918" y="408"/>
                    </a:lnTo>
                    <a:lnTo>
                      <a:pt x="182" y="1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856640" y="6019560"/>
                <a:ext cx="77040" cy="237600"/>
              </a:xfrm>
              <a:custGeom>
                <a:avLst/>
                <a:gdLst/>
                <a:ahLst/>
                <a:rect l="l" t="t" r="r" b="b"/>
                <a:pathLst>
                  <a:path w="1005" h="3558">
                    <a:moveTo>
                      <a:pt x="479" y="0"/>
                    </a:moveTo>
                    <a:lnTo>
                      <a:pt x="611" y="380"/>
                    </a:lnTo>
                    <a:lnTo>
                      <a:pt x="717" y="888"/>
                    </a:lnTo>
                    <a:lnTo>
                      <a:pt x="965" y="791"/>
                    </a:lnTo>
                    <a:lnTo>
                      <a:pt x="1005" y="842"/>
                    </a:lnTo>
                    <a:lnTo>
                      <a:pt x="954" y="1274"/>
                    </a:lnTo>
                    <a:lnTo>
                      <a:pt x="837" y="1712"/>
                    </a:lnTo>
                    <a:lnTo>
                      <a:pt x="645" y="2285"/>
                    </a:lnTo>
                    <a:lnTo>
                      <a:pt x="456" y="2747"/>
                    </a:lnTo>
                    <a:lnTo>
                      <a:pt x="231" y="3288"/>
                    </a:lnTo>
                    <a:lnTo>
                      <a:pt x="71" y="3533"/>
                    </a:lnTo>
                    <a:lnTo>
                      <a:pt x="0" y="3558"/>
                    </a:lnTo>
                    <a:lnTo>
                      <a:pt x="184" y="3263"/>
                    </a:lnTo>
                    <a:lnTo>
                      <a:pt x="385" y="2782"/>
                    </a:lnTo>
                    <a:lnTo>
                      <a:pt x="550" y="2320"/>
                    </a:lnTo>
                    <a:lnTo>
                      <a:pt x="694" y="1916"/>
                    </a:lnTo>
                    <a:lnTo>
                      <a:pt x="827" y="1514"/>
                    </a:lnTo>
                    <a:lnTo>
                      <a:pt x="879" y="1193"/>
                    </a:lnTo>
                    <a:lnTo>
                      <a:pt x="924" y="896"/>
                    </a:lnTo>
                    <a:lnTo>
                      <a:pt x="420" y="1108"/>
                    </a:lnTo>
                    <a:lnTo>
                      <a:pt x="670" y="905"/>
                    </a:lnTo>
                    <a:lnTo>
                      <a:pt x="670" y="870"/>
                    </a:lnTo>
                    <a:lnTo>
                      <a:pt x="597" y="439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7557480" y="6305760"/>
                <a:ext cx="51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778880" y="6327000"/>
                <a:ext cx="243720" cy="26640"/>
              </a:xfrm>
              <a:custGeom>
                <a:avLst/>
                <a:gdLst/>
                <a:ahLst/>
                <a:rect l="l" t="t" r="r" b="b"/>
                <a:pathLst>
                  <a:path w="3188" h="401">
                    <a:moveTo>
                      <a:pt x="0" y="0"/>
                    </a:moveTo>
                    <a:lnTo>
                      <a:pt x="343" y="401"/>
                    </a:lnTo>
                    <a:lnTo>
                      <a:pt x="3188" y="4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881120" y="6311520"/>
                <a:ext cx="192960" cy="15480"/>
              </a:xfrm>
              <a:custGeom>
                <a:avLst/>
                <a:gdLst/>
                <a:ahLst/>
                <a:rect l="l" t="t" r="r" b="b"/>
                <a:pathLst>
                  <a:path w="2533" h="230">
                    <a:moveTo>
                      <a:pt x="0" y="0"/>
                    </a:moveTo>
                    <a:lnTo>
                      <a:pt x="1752" y="0"/>
                    </a:lnTo>
                    <a:lnTo>
                      <a:pt x="2533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779960" y="6386400"/>
                <a:ext cx="1764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8" name=""/>
            <p:cNvSpPr/>
            <p:nvPr/>
          </p:nvSpPr>
          <p:spPr>
            <a:xfrm>
              <a:off x="7635240" y="5232600"/>
              <a:ext cx="493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9" name=""/>
            <p:cNvGrpSpPr/>
            <p:nvPr/>
          </p:nvGrpSpPr>
          <p:grpSpPr>
            <a:xfrm>
              <a:off x="4152960" y="5105520"/>
              <a:ext cx="1371240" cy="686880"/>
              <a:chOff x="4152960" y="5105520"/>
              <a:chExt cx="1371240" cy="686880"/>
            </a:xfrm>
          </p:grpSpPr>
          <p:grpSp>
            <p:nvGrpSpPr>
              <p:cNvPr id="3250" name=""/>
              <p:cNvGrpSpPr/>
              <p:nvPr/>
            </p:nvGrpSpPr>
            <p:grpSpPr>
              <a:xfrm>
                <a:off x="4152960" y="5105520"/>
                <a:ext cx="1371240" cy="686880"/>
                <a:chOff x="4152960" y="5105520"/>
                <a:chExt cx="1371240" cy="68688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4463640" y="5295960"/>
                  <a:ext cx="293760" cy="291600"/>
                </a:xfrm>
                <a:custGeom>
                  <a:avLst/>
                  <a:gdLst/>
                  <a:ahLst/>
                  <a:rect l="l" t="t" r="r" b="b"/>
                  <a:pathLst>
                    <a:path w="3542" h="2755">
                      <a:moveTo>
                        <a:pt x="3542" y="2755"/>
                      </a:moveTo>
                      <a:lnTo>
                        <a:pt x="3452" y="2648"/>
                      </a:lnTo>
                      <a:lnTo>
                        <a:pt x="3415" y="2476"/>
                      </a:lnTo>
                      <a:lnTo>
                        <a:pt x="3307" y="2404"/>
                      </a:lnTo>
                      <a:lnTo>
                        <a:pt x="3290" y="2296"/>
                      </a:lnTo>
                      <a:lnTo>
                        <a:pt x="3355" y="2222"/>
                      </a:lnTo>
                      <a:lnTo>
                        <a:pt x="3355" y="2141"/>
                      </a:lnTo>
                      <a:lnTo>
                        <a:pt x="3314" y="2052"/>
                      </a:lnTo>
                      <a:lnTo>
                        <a:pt x="3248" y="1954"/>
                      </a:lnTo>
                      <a:lnTo>
                        <a:pt x="3248" y="1791"/>
                      </a:lnTo>
                      <a:lnTo>
                        <a:pt x="3307" y="1724"/>
                      </a:lnTo>
                      <a:lnTo>
                        <a:pt x="3299" y="1652"/>
                      </a:lnTo>
                      <a:lnTo>
                        <a:pt x="3233" y="1604"/>
                      </a:lnTo>
                      <a:lnTo>
                        <a:pt x="3200" y="1503"/>
                      </a:lnTo>
                      <a:lnTo>
                        <a:pt x="3209" y="1417"/>
                      </a:lnTo>
                      <a:lnTo>
                        <a:pt x="3191" y="1286"/>
                      </a:lnTo>
                      <a:lnTo>
                        <a:pt x="3166" y="1114"/>
                      </a:lnTo>
                      <a:lnTo>
                        <a:pt x="3166" y="910"/>
                      </a:lnTo>
                      <a:lnTo>
                        <a:pt x="3166" y="754"/>
                      </a:lnTo>
                      <a:lnTo>
                        <a:pt x="3161" y="592"/>
                      </a:lnTo>
                      <a:lnTo>
                        <a:pt x="3125" y="451"/>
                      </a:lnTo>
                      <a:lnTo>
                        <a:pt x="3092" y="360"/>
                      </a:lnTo>
                      <a:lnTo>
                        <a:pt x="2712" y="171"/>
                      </a:lnTo>
                      <a:lnTo>
                        <a:pt x="2492" y="110"/>
                      </a:lnTo>
                      <a:lnTo>
                        <a:pt x="2279" y="68"/>
                      </a:lnTo>
                      <a:lnTo>
                        <a:pt x="2044" y="0"/>
                      </a:lnTo>
                      <a:lnTo>
                        <a:pt x="890" y="27"/>
                      </a:lnTo>
                      <a:lnTo>
                        <a:pt x="556" y="85"/>
                      </a:lnTo>
                      <a:lnTo>
                        <a:pt x="222" y="205"/>
                      </a:lnTo>
                      <a:lnTo>
                        <a:pt x="123" y="264"/>
                      </a:lnTo>
                      <a:lnTo>
                        <a:pt x="40" y="461"/>
                      </a:lnTo>
                      <a:lnTo>
                        <a:pt x="40" y="1145"/>
                      </a:lnTo>
                      <a:lnTo>
                        <a:pt x="0" y="1235"/>
                      </a:lnTo>
                      <a:lnTo>
                        <a:pt x="540" y="2755"/>
                      </a:lnTo>
                      <a:lnTo>
                        <a:pt x="3542" y="27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4476960" y="5302800"/>
                  <a:ext cx="133200" cy="144720"/>
                </a:xfrm>
                <a:custGeom>
                  <a:avLst/>
                  <a:gdLst/>
                  <a:ahLst/>
                  <a:rect l="l" t="t" r="r" b="b"/>
                  <a:pathLst>
                    <a:path w="1609" h="1365">
                      <a:moveTo>
                        <a:pt x="1609" y="1365"/>
                      </a:moveTo>
                      <a:lnTo>
                        <a:pt x="1148" y="499"/>
                      </a:lnTo>
                      <a:lnTo>
                        <a:pt x="1019" y="323"/>
                      </a:lnTo>
                      <a:lnTo>
                        <a:pt x="763" y="187"/>
                      </a:lnTo>
                      <a:lnTo>
                        <a:pt x="493" y="121"/>
                      </a:lnTo>
                      <a:lnTo>
                        <a:pt x="279" y="130"/>
                      </a:lnTo>
                      <a:lnTo>
                        <a:pt x="0" y="169"/>
                      </a:lnTo>
                      <a:lnTo>
                        <a:pt x="67" y="121"/>
                      </a:lnTo>
                      <a:lnTo>
                        <a:pt x="353" y="31"/>
                      </a:lnTo>
                      <a:lnTo>
                        <a:pt x="650" y="0"/>
                      </a:lnTo>
                      <a:lnTo>
                        <a:pt x="862" y="31"/>
                      </a:lnTo>
                      <a:lnTo>
                        <a:pt x="1102" y="255"/>
                      </a:lnTo>
                      <a:lnTo>
                        <a:pt x="1264" y="547"/>
                      </a:lnTo>
                      <a:lnTo>
                        <a:pt x="1346" y="767"/>
                      </a:lnTo>
                      <a:lnTo>
                        <a:pt x="1609" y="136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4465800" y="5341680"/>
                  <a:ext cx="68400" cy="140400"/>
                </a:xfrm>
                <a:custGeom>
                  <a:avLst/>
                  <a:gdLst/>
                  <a:ahLst/>
                  <a:rect l="l" t="t" r="r" b="b"/>
                  <a:pathLst>
                    <a:path w="829" h="1330">
                      <a:moveTo>
                        <a:pt x="548" y="586"/>
                      </a:moveTo>
                      <a:lnTo>
                        <a:pt x="484" y="464"/>
                      </a:lnTo>
                      <a:lnTo>
                        <a:pt x="394" y="360"/>
                      </a:lnTo>
                      <a:lnTo>
                        <a:pt x="304" y="286"/>
                      </a:lnTo>
                      <a:lnTo>
                        <a:pt x="205" y="235"/>
                      </a:lnTo>
                      <a:lnTo>
                        <a:pt x="156" y="226"/>
                      </a:lnTo>
                      <a:lnTo>
                        <a:pt x="221" y="374"/>
                      </a:lnTo>
                      <a:lnTo>
                        <a:pt x="359" y="554"/>
                      </a:lnTo>
                      <a:lnTo>
                        <a:pt x="516" y="694"/>
                      </a:lnTo>
                      <a:lnTo>
                        <a:pt x="714" y="835"/>
                      </a:lnTo>
                      <a:lnTo>
                        <a:pt x="745" y="851"/>
                      </a:lnTo>
                      <a:lnTo>
                        <a:pt x="829" y="1100"/>
                      </a:lnTo>
                      <a:lnTo>
                        <a:pt x="756" y="1158"/>
                      </a:lnTo>
                      <a:lnTo>
                        <a:pt x="809" y="1330"/>
                      </a:lnTo>
                      <a:lnTo>
                        <a:pt x="631" y="1305"/>
                      </a:lnTo>
                      <a:lnTo>
                        <a:pt x="703" y="1275"/>
                      </a:lnTo>
                      <a:lnTo>
                        <a:pt x="590" y="1127"/>
                      </a:lnTo>
                      <a:lnTo>
                        <a:pt x="304" y="1013"/>
                      </a:lnTo>
                      <a:lnTo>
                        <a:pt x="128" y="888"/>
                      </a:lnTo>
                      <a:lnTo>
                        <a:pt x="82" y="851"/>
                      </a:lnTo>
                      <a:lnTo>
                        <a:pt x="106" y="923"/>
                      </a:lnTo>
                      <a:lnTo>
                        <a:pt x="179" y="1028"/>
                      </a:lnTo>
                      <a:lnTo>
                        <a:pt x="39" y="906"/>
                      </a:lnTo>
                      <a:lnTo>
                        <a:pt x="7" y="791"/>
                      </a:lnTo>
                      <a:lnTo>
                        <a:pt x="0" y="743"/>
                      </a:lnTo>
                      <a:lnTo>
                        <a:pt x="48" y="586"/>
                      </a:lnTo>
                      <a:lnTo>
                        <a:pt x="64" y="0"/>
                      </a:lnTo>
                      <a:lnTo>
                        <a:pt x="286" y="148"/>
                      </a:lnTo>
                      <a:lnTo>
                        <a:pt x="431" y="307"/>
                      </a:lnTo>
                      <a:lnTo>
                        <a:pt x="509" y="448"/>
                      </a:lnTo>
                      <a:lnTo>
                        <a:pt x="548" y="586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4484160" y="5452920"/>
                  <a:ext cx="48960" cy="75240"/>
                </a:xfrm>
                <a:custGeom>
                  <a:avLst/>
                  <a:gdLst/>
                  <a:ahLst/>
                  <a:rect l="l" t="t" r="r" b="b"/>
                  <a:pathLst>
                    <a:path w="593" h="716">
                      <a:moveTo>
                        <a:pt x="19" y="0"/>
                      </a:moveTo>
                      <a:lnTo>
                        <a:pt x="132" y="54"/>
                      </a:lnTo>
                      <a:lnTo>
                        <a:pt x="190" y="187"/>
                      </a:lnTo>
                      <a:lnTo>
                        <a:pt x="331" y="268"/>
                      </a:lnTo>
                      <a:lnTo>
                        <a:pt x="222" y="259"/>
                      </a:lnTo>
                      <a:lnTo>
                        <a:pt x="289" y="310"/>
                      </a:lnTo>
                      <a:lnTo>
                        <a:pt x="455" y="358"/>
                      </a:lnTo>
                      <a:lnTo>
                        <a:pt x="534" y="448"/>
                      </a:lnTo>
                      <a:lnTo>
                        <a:pt x="492" y="538"/>
                      </a:lnTo>
                      <a:lnTo>
                        <a:pt x="388" y="473"/>
                      </a:lnTo>
                      <a:lnTo>
                        <a:pt x="354" y="529"/>
                      </a:lnTo>
                      <a:lnTo>
                        <a:pt x="503" y="587"/>
                      </a:lnTo>
                      <a:lnTo>
                        <a:pt x="593" y="554"/>
                      </a:lnTo>
                      <a:lnTo>
                        <a:pt x="518" y="716"/>
                      </a:lnTo>
                      <a:lnTo>
                        <a:pt x="275" y="554"/>
                      </a:lnTo>
                      <a:lnTo>
                        <a:pt x="0" y="2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4538520" y="5520600"/>
                  <a:ext cx="101880" cy="84600"/>
                </a:xfrm>
                <a:custGeom>
                  <a:avLst/>
                  <a:gdLst/>
                  <a:ahLst/>
                  <a:rect l="l" t="t" r="r" b="b"/>
                  <a:pathLst>
                    <a:path w="1232" h="800">
                      <a:moveTo>
                        <a:pt x="141" y="141"/>
                      </a:moveTo>
                      <a:lnTo>
                        <a:pt x="188" y="171"/>
                      </a:lnTo>
                      <a:lnTo>
                        <a:pt x="215" y="0"/>
                      </a:lnTo>
                      <a:lnTo>
                        <a:pt x="282" y="254"/>
                      </a:lnTo>
                      <a:lnTo>
                        <a:pt x="248" y="325"/>
                      </a:lnTo>
                      <a:lnTo>
                        <a:pt x="575" y="435"/>
                      </a:lnTo>
                      <a:lnTo>
                        <a:pt x="764" y="595"/>
                      </a:lnTo>
                      <a:lnTo>
                        <a:pt x="1174" y="595"/>
                      </a:lnTo>
                      <a:lnTo>
                        <a:pt x="1232" y="717"/>
                      </a:lnTo>
                      <a:lnTo>
                        <a:pt x="764" y="800"/>
                      </a:lnTo>
                      <a:lnTo>
                        <a:pt x="0" y="341"/>
                      </a:lnTo>
                      <a:lnTo>
                        <a:pt x="141" y="1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4546440" y="5339160"/>
                  <a:ext cx="185400" cy="205560"/>
                </a:xfrm>
                <a:custGeom>
                  <a:avLst/>
                  <a:gdLst/>
                  <a:ahLst/>
                  <a:rect l="l" t="t" r="r" b="b"/>
                  <a:pathLst>
                    <a:path w="2241" h="1943">
                      <a:moveTo>
                        <a:pt x="1241" y="0"/>
                      </a:moveTo>
                      <a:lnTo>
                        <a:pt x="1308" y="277"/>
                      </a:lnTo>
                      <a:lnTo>
                        <a:pt x="1314" y="623"/>
                      </a:lnTo>
                      <a:lnTo>
                        <a:pt x="1250" y="1053"/>
                      </a:lnTo>
                      <a:lnTo>
                        <a:pt x="1133" y="1404"/>
                      </a:lnTo>
                      <a:lnTo>
                        <a:pt x="1232" y="1496"/>
                      </a:lnTo>
                      <a:lnTo>
                        <a:pt x="1035" y="1559"/>
                      </a:lnTo>
                      <a:lnTo>
                        <a:pt x="674" y="1519"/>
                      </a:lnTo>
                      <a:lnTo>
                        <a:pt x="248" y="1528"/>
                      </a:lnTo>
                      <a:lnTo>
                        <a:pt x="0" y="1544"/>
                      </a:lnTo>
                      <a:lnTo>
                        <a:pt x="149" y="1722"/>
                      </a:lnTo>
                      <a:lnTo>
                        <a:pt x="1133" y="1803"/>
                      </a:lnTo>
                      <a:lnTo>
                        <a:pt x="1815" y="1943"/>
                      </a:lnTo>
                      <a:lnTo>
                        <a:pt x="1898" y="1886"/>
                      </a:lnTo>
                      <a:lnTo>
                        <a:pt x="1802" y="1812"/>
                      </a:lnTo>
                      <a:lnTo>
                        <a:pt x="1872" y="1748"/>
                      </a:lnTo>
                      <a:lnTo>
                        <a:pt x="2013" y="1722"/>
                      </a:lnTo>
                      <a:lnTo>
                        <a:pt x="2241" y="1739"/>
                      </a:lnTo>
                      <a:lnTo>
                        <a:pt x="2064" y="1634"/>
                      </a:lnTo>
                      <a:lnTo>
                        <a:pt x="1956" y="1501"/>
                      </a:lnTo>
                      <a:lnTo>
                        <a:pt x="1965" y="1404"/>
                      </a:lnTo>
                      <a:lnTo>
                        <a:pt x="2151" y="1307"/>
                      </a:lnTo>
                      <a:lnTo>
                        <a:pt x="2202" y="1168"/>
                      </a:lnTo>
                      <a:lnTo>
                        <a:pt x="2103" y="1215"/>
                      </a:lnTo>
                      <a:lnTo>
                        <a:pt x="1995" y="1210"/>
                      </a:lnTo>
                      <a:lnTo>
                        <a:pt x="1971" y="1168"/>
                      </a:lnTo>
                      <a:lnTo>
                        <a:pt x="2064" y="1075"/>
                      </a:lnTo>
                      <a:lnTo>
                        <a:pt x="1979" y="1071"/>
                      </a:lnTo>
                      <a:lnTo>
                        <a:pt x="1988" y="972"/>
                      </a:lnTo>
                      <a:lnTo>
                        <a:pt x="2028" y="832"/>
                      </a:lnTo>
                      <a:lnTo>
                        <a:pt x="2120" y="876"/>
                      </a:lnTo>
                      <a:lnTo>
                        <a:pt x="2151" y="963"/>
                      </a:lnTo>
                      <a:lnTo>
                        <a:pt x="2186" y="840"/>
                      </a:lnTo>
                      <a:lnTo>
                        <a:pt x="2145" y="537"/>
                      </a:lnTo>
                      <a:lnTo>
                        <a:pt x="2168" y="311"/>
                      </a:lnTo>
                      <a:lnTo>
                        <a:pt x="2094" y="645"/>
                      </a:lnTo>
                      <a:lnTo>
                        <a:pt x="1979" y="816"/>
                      </a:lnTo>
                      <a:lnTo>
                        <a:pt x="1760" y="1134"/>
                      </a:lnTo>
                      <a:lnTo>
                        <a:pt x="1608" y="1282"/>
                      </a:lnTo>
                      <a:lnTo>
                        <a:pt x="1398" y="1422"/>
                      </a:lnTo>
                      <a:lnTo>
                        <a:pt x="1331" y="1429"/>
                      </a:lnTo>
                      <a:lnTo>
                        <a:pt x="1398" y="1307"/>
                      </a:lnTo>
                      <a:lnTo>
                        <a:pt x="1430" y="1111"/>
                      </a:lnTo>
                      <a:lnTo>
                        <a:pt x="1446" y="800"/>
                      </a:lnTo>
                      <a:lnTo>
                        <a:pt x="1430" y="521"/>
                      </a:lnTo>
                      <a:lnTo>
                        <a:pt x="1398" y="269"/>
                      </a:lnTo>
                      <a:lnTo>
                        <a:pt x="1349" y="113"/>
                      </a:lnTo>
                      <a:lnTo>
                        <a:pt x="1241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4701240" y="5550480"/>
                  <a:ext cx="46800" cy="37080"/>
                </a:xfrm>
                <a:custGeom>
                  <a:avLst/>
                  <a:gdLst/>
                  <a:ahLst/>
                  <a:rect l="l" t="t" r="r" b="b"/>
                  <a:pathLst>
                    <a:path w="567" h="351">
                      <a:moveTo>
                        <a:pt x="129" y="0"/>
                      </a:moveTo>
                      <a:lnTo>
                        <a:pt x="198" y="72"/>
                      </a:lnTo>
                      <a:lnTo>
                        <a:pt x="173" y="162"/>
                      </a:lnTo>
                      <a:lnTo>
                        <a:pt x="237" y="114"/>
                      </a:lnTo>
                      <a:lnTo>
                        <a:pt x="261" y="251"/>
                      </a:lnTo>
                      <a:lnTo>
                        <a:pt x="355" y="169"/>
                      </a:lnTo>
                      <a:lnTo>
                        <a:pt x="426" y="219"/>
                      </a:lnTo>
                      <a:lnTo>
                        <a:pt x="375" y="268"/>
                      </a:lnTo>
                      <a:lnTo>
                        <a:pt x="417" y="327"/>
                      </a:lnTo>
                      <a:lnTo>
                        <a:pt x="507" y="309"/>
                      </a:lnTo>
                      <a:lnTo>
                        <a:pt x="567" y="351"/>
                      </a:lnTo>
                      <a:lnTo>
                        <a:pt x="204" y="351"/>
                      </a:lnTo>
                      <a:lnTo>
                        <a:pt x="0" y="196"/>
                      </a:lnTo>
                      <a:lnTo>
                        <a:pt x="23" y="37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4719600" y="548244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156" h="200">
                      <a:moveTo>
                        <a:pt x="0" y="79"/>
                      </a:moveTo>
                      <a:lnTo>
                        <a:pt x="81" y="79"/>
                      </a:lnTo>
                      <a:lnTo>
                        <a:pt x="74" y="137"/>
                      </a:lnTo>
                      <a:lnTo>
                        <a:pt x="18" y="128"/>
                      </a:lnTo>
                      <a:lnTo>
                        <a:pt x="127" y="200"/>
                      </a:lnTo>
                      <a:lnTo>
                        <a:pt x="156" y="0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4622760" y="5537520"/>
                  <a:ext cx="80280" cy="65880"/>
                </a:xfrm>
                <a:custGeom>
                  <a:avLst/>
                  <a:gdLst/>
                  <a:ahLst/>
                  <a:rect l="l" t="t" r="r" b="b"/>
                  <a:pathLst>
                    <a:path w="966" h="621">
                      <a:moveTo>
                        <a:pt x="0" y="237"/>
                      </a:moveTo>
                      <a:lnTo>
                        <a:pt x="70" y="310"/>
                      </a:lnTo>
                      <a:lnTo>
                        <a:pt x="138" y="432"/>
                      </a:lnTo>
                      <a:lnTo>
                        <a:pt x="171" y="545"/>
                      </a:lnTo>
                      <a:lnTo>
                        <a:pt x="303" y="621"/>
                      </a:lnTo>
                      <a:lnTo>
                        <a:pt x="484" y="596"/>
                      </a:lnTo>
                      <a:lnTo>
                        <a:pt x="681" y="561"/>
                      </a:lnTo>
                      <a:lnTo>
                        <a:pt x="966" y="450"/>
                      </a:lnTo>
                      <a:lnTo>
                        <a:pt x="966" y="220"/>
                      </a:lnTo>
                      <a:lnTo>
                        <a:pt x="910" y="81"/>
                      </a:lnTo>
                      <a:lnTo>
                        <a:pt x="562" y="0"/>
                      </a:lnTo>
                      <a:lnTo>
                        <a:pt x="244" y="160"/>
                      </a:lnTo>
                      <a:lnTo>
                        <a:pt x="0" y="2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4612320" y="535860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125" h="113">
                      <a:moveTo>
                        <a:pt x="90" y="0"/>
                      </a:moveTo>
                      <a:lnTo>
                        <a:pt x="33" y="14"/>
                      </a:lnTo>
                      <a:lnTo>
                        <a:pt x="0" y="69"/>
                      </a:lnTo>
                      <a:lnTo>
                        <a:pt x="42" y="113"/>
                      </a:lnTo>
                      <a:lnTo>
                        <a:pt x="99" y="113"/>
                      </a:lnTo>
                      <a:lnTo>
                        <a:pt x="125" y="78"/>
                      </a:lnTo>
                      <a:lnTo>
                        <a:pt x="125" y="3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621680" y="543312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88" h="94">
                      <a:moveTo>
                        <a:pt x="82" y="21"/>
                      </a:moveTo>
                      <a:lnTo>
                        <a:pt x="55" y="0"/>
                      </a:lnTo>
                      <a:lnTo>
                        <a:pt x="7" y="12"/>
                      </a:lnTo>
                      <a:lnTo>
                        <a:pt x="0" y="69"/>
                      </a:lnTo>
                      <a:lnTo>
                        <a:pt x="42" y="94"/>
                      </a:lnTo>
                      <a:lnTo>
                        <a:pt x="88" y="69"/>
                      </a:lnTo>
                      <a:lnTo>
                        <a:pt x="82" y="21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4559760" y="5140800"/>
                  <a:ext cx="95400" cy="212760"/>
                </a:xfrm>
                <a:custGeom>
                  <a:avLst/>
                  <a:gdLst/>
                  <a:ahLst/>
                  <a:rect l="l" t="t" r="r" b="b"/>
                  <a:pathLst>
                    <a:path w="1157" h="2007">
                      <a:moveTo>
                        <a:pt x="35" y="1688"/>
                      </a:moveTo>
                      <a:lnTo>
                        <a:pt x="95" y="1780"/>
                      </a:lnTo>
                      <a:lnTo>
                        <a:pt x="251" y="1881"/>
                      </a:lnTo>
                      <a:lnTo>
                        <a:pt x="411" y="1937"/>
                      </a:lnTo>
                      <a:lnTo>
                        <a:pt x="596" y="1976"/>
                      </a:lnTo>
                      <a:lnTo>
                        <a:pt x="789" y="2007"/>
                      </a:lnTo>
                      <a:lnTo>
                        <a:pt x="895" y="1971"/>
                      </a:lnTo>
                      <a:lnTo>
                        <a:pt x="945" y="1911"/>
                      </a:lnTo>
                      <a:lnTo>
                        <a:pt x="956" y="1766"/>
                      </a:lnTo>
                      <a:lnTo>
                        <a:pt x="915" y="1577"/>
                      </a:lnTo>
                      <a:lnTo>
                        <a:pt x="875" y="1422"/>
                      </a:lnTo>
                      <a:lnTo>
                        <a:pt x="961" y="1317"/>
                      </a:lnTo>
                      <a:lnTo>
                        <a:pt x="1055" y="1143"/>
                      </a:lnTo>
                      <a:lnTo>
                        <a:pt x="1093" y="1009"/>
                      </a:lnTo>
                      <a:lnTo>
                        <a:pt x="1148" y="772"/>
                      </a:lnTo>
                      <a:lnTo>
                        <a:pt x="1157" y="648"/>
                      </a:lnTo>
                      <a:lnTo>
                        <a:pt x="1157" y="480"/>
                      </a:lnTo>
                      <a:lnTo>
                        <a:pt x="1125" y="231"/>
                      </a:lnTo>
                      <a:lnTo>
                        <a:pt x="994" y="14"/>
                      </a:lnTo>
                      <a:lnTo>
                        <a:pt x="411" y="0"/>
                      </a:lnTo>
                      <a:lnTo>
                        <a:pt x="129" y="378"/>
                      </a:lnTo>
                      <a:lnTo>
                        <a:pt x="0" y="576"/>
                      </a:lnTo>
                      <a:lnTo>
                        <a:pt x="5" y="733"/>
                      </a:lnTo>
                      <a:lnTo>
                        <a:pt x="69" y="1056"/>
                      </a:lnTo>
                      <a:lnTo>
                        <a:pt x="23" y="1568"/>
                      </a:lnTo>
                      <a:lnTo>
                        <a:pt x="35" y="168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4564440" y="523152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29" h="233">
                      <a:moveTo>
                        <a:pt x="33" y="12"/>
                      </a:moveTo>
                      <a:lnTo>
                        <a:pt x="67" y="0"/>
                      </a:lnTo>
                      <a:lnTo>
                        <a:pt x="101" y="25"/>
                      </a:lnTo>
                      <a:lnTo>
                        <a:pt x="129" y="79"/>
                      </a:lnTo>
                      <a:lnTo>
                        <a:pt x="123" y="194"/>
                      </a:lnTo>
                      <a:lnTo>
                        <a:pt x="81" y="233"/>
                      </a:lnTo>
                      <a:lnTo>
                        <a:pt x="0" y="194"/>
                      </a:lnTo>
                      <a:lnTo>
                        <a:pt x="0" y="95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4650840" y="523836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44" h="123">
                      <a:moveTo>
                        <a:pt x="24" y="0"/>
                      </a:moveTo>
                      <a:lnTo>
                        <a:pt x="0" y="123"/>
                      </a:lnTo>
                      <a:lnTo>
                        <a:pt x="28" y="121"/>
                      </a:lnTo>
                      <a:lnTo>
                        <a:pt x="44" y="88"/>
                      </a:lnTo>
                      <a:lnTo>
                        <a:pt x="39" y="4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4174560" y="5326560"/>
                  <a:ext cx="433440" cy="410040"/>
                </a:xfrm>
                <a:custGeom>
                  <a:avLst/>
                  <a:gdLst/>
                  <a:ahLst/>
                  <a:rect l="l" t="t" r="r" b="b"/>
                  <a:pathLst>
                    <a:path w="5233" h="3878">
                      <a:moveTo>
                        <a:pt x="4452" y="3024"/>
                      </a:moveTo>
                      <a:lnTo>
                        <a:pt x="4030" y="2787"/>
                      </a:lnTo>
                      <a:lnTo>
                        <a:pt x="3672" y="2893"/>
                      </a:lnTo>
                      <a:lnTo>
                        <a:pt x="3525" y="2812"/>
                      </a:lnTo>
                      <a:lnTo>
                        <a:pt x="3052" y="2393"/>
                      </a:lnTo>
                      <a:lnTo>
                        <a:pt x="2947" y="3010"/>
                      </a:lnTo>
                      <a:lnTo>
                        <a:pt x="3131" y="3089"/>
                      </a:lnTo>
                      <a:lnTo>
                        <a:pt x="3356" y="2999"/>
                      </a:lnTo>
                      <a:lnTo>
                        <a:pt x="3608" y="3076"/>
                      </a:lnTo>
                      <a:lnTo>
                        <a:pt x="3790" y="3063"/>
                      </a:lnTo>
                      <a:lnTo>
                        <a:pt x="4318" y="3052"/>
                      </a:lnTo>
                      <a:lnTo>
                        <a:pt x="4468" y="3234"/>
                      </a:lnTo>
                      <a:lnTo>
                        <a:pt x="4410" y="3612"/>
                      </a:lnTo>
                      <a:lnTo>
                        <a:pt x="4336" y="3681"/>
                      </a:lnTo>
                      <a:lnTo>
                        <a:pt x="3845" y="3681"/>
                      </a:lnTo>
                      <a:lnTo>
                        <a:pt x="1901" y="3878"/>
                      </a:lnTo>
                      <a:lnTo>
                        <a:pt x="11" y="3654"/>
                      </a:lnTo>
                      <a:lnTo>
                        <a:pt x="0" y="1987"/>
                      </a:lnTo>
                      <a:lnTo>
                        <a:pt x="103" y="1510"/>
                      </a:lnTo>
                      <a:lnTo>
                        <a:pt x="304" y="1037"/>
                      </a:lnTo>
                      <a:lnTo>
                        <a:pt x="408" y="892"/>
                      </a:lnTo>
                      <a:lnTo>
                        <a:pt x="685" y="590"/>
                      </a:lnTo>
                      <a:lnTo>
                        <a:pt x="975" y="394"/>
                      </a:lnTo>
                      <a:lnTo>
                        <a:pt x="1213" y="248"/>
                      </a:lnTo>
                      <a:lnTo>
                        <a:pt x="1466" y="145"/>
                      </a:lnTo>
                      <a:lnTo>
                        <a:pt x="1572" y="0"/>
                      </a:lnTo>
                      <a:lnTo>
                        <a:pt x="2604" y="343"/>
                      </a:lnTo>
                      <a:lnTo>
                        <a:pt x="2747" y="514"/>
                      </a:lnTo>
                      <a:lnTo>
                        <a:pt x="2947" y="643"/>
                      </a:lnTo>
                      <a:lnTo>
                        <a:pt x="3172" y="828"/>
                      </a:lnTo>
                      <a:lnTo>
                        <a:pt x="3474" y="1210"/>
                      </a:lnTo>
                      <a:lnTo>
                        <a:pt x="4307" y="1995"/>
                      </a:lnTo>
                      <a:lnTo>
                        <a:pt x="4491" y="2079"/>
                      </a:lnTo>
                      <a:lnTo>
                        <a:pt x="4544" y="2236"/>
                      </a:lnTo>
                      <a:lnTo>
                        <a:pt x="4956" y="2340"/>
                      </a:lnTo>
                      <a:lnTo>
                        <a:pt x="5140" y="2551"/>
                      </a:lnTo>
                      <a:lnTo>
                        <a:pt x="5233" y="2812"/>
                      </a:lnTo>
                      <a:lnTo>
                        <a:pt x="4452" y="3024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4608360" y="5554440"/>
                  <a:ext cx="66960" cy="134640"/>
                </a:xfrm>
                <a:custGeom>
                  <a:avLst/>
                  <a:gdLst/>
                  <a:ahLst/>
                  <a:rect l="l" t="t" r="r" b="b"/>
                  <a:pathLst>
                    <a:path w="803" h="1268">
                      <a:moveTo>
                        <a:pt x="0" y="23"/>
                      </a:moveTo>
                      <a:lnTo>
                        <a:pt x="0" y="44"/>
                      </a:lnTo>
                      <a:lnTo>
                        <a:pt x="12" y="69"/>
                      </a:lnTo>
                      <a:lnTo>
                        <a:pt x="708" y="1183"/>
                      </a:lnTo>
                      <a:lnTo>
                        <a:pt x="803" y="1268"/>
                      </a:lnTo>
                      <a:lnTo>
                        <a:pt x="759" y="1139"/>
                      </a:lnTo>
                      <a:lnTo>
                        <a:pt x="61" y="5"/>
                      </a:lnTo>
                      <a:lnTo>
                        <a:pt x="1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4557960" y="5612400"/>
                  <a:ext cx="100080" cy="81000"/>
                </a:xfrm>
                <a:custGeom>
                  <a:avLst/>
                  <a:gdLst/>
                  <a:ahLst/>
                  <a:rect l="l" t="t" r="r" b="b"/>
                  <a:pathLst>
                    <a:path w="1202" h="775">
                      <a:moveTo>
                        <a:pt x="0" y="289"/>
                      </a:moveTo>
                      <a:lnTo>
                        <a:pt x="63" y="132"/>
                      </a:lnTo>
                      <a:lnTo>
                        <a:pt x="182" y="66"/>
                      </a:lnTo>
                      <a:lnTo>
                        <a:pt x="287" y="81"/>
                      </a:lnTo>
                      <a:lnTo>
                        <a:pt x="487" y="118"/>
                      </a:lnTo>
                      <a:lnTo>
                        <a:pt x="607" y="28"/>
                      </a:lnTo>
                      <a:lnTo>
                        <a:pt x="709" y="0"/>
                      </a:lnTo>
                      <a:lnTo>
                        <a:pt x="1147" y="66"/>
                      </a:lnTo>
                      <a:lnTo>
                        <a:pt x="1188" y="171"/>
                      </a:lnTo>
                      <a:lnTo>
                        <a:pt x="1135" y="199"/>
                      </a:lnTo>
                      <a:lnTo>
                        <a:pt x="793" y="224"/>
                      </a:lnTo>
                      <a:lnTo>
                        <a:pt x="1162" y="382"/>
                      </a:lnTo>
                      <a:lnTo>
                        <a:pt x="1202" y="475"/>
                      </a:lnTo>
                      <a:lnTo>
                        <a:pt x="1174" y="552"/>
                      </a:lnTo>
                      <a:lnTo>
                        <a:pt x="1068" y="630"/>
                      </a:lnTo>
                      <a:lnTo>
                        <a:pt x="1029" y="738"/>
                      </a:lnTo>
                      <a:lnTo>
                        <a:pt x="709" y="775"/>
                      </a:lnTo>
                      <a:lnTo>
                        <a:pt x="130" y="71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4299480" y="5213880"/>
                  <a:ext cx="135720" cy="202320"/>
                </a:xfrm>
                <a:custGeom>
                  <a:avLst/>
                  <a:gdLst/>
                  <a:ahLst/>
                  <a:rect l="l" t="t" r="r" b="b"/>
                  <a:pathLst>
                    <a:path w="1639" h="1907">
                      <a:moveTo>
                        <a:pt x="0" y="538"/>
                      </a:moveTo>
                      <a:lnTo>
                        <a:pt x="53" y="850"/>
                      </a:lnTo>
                      <a:lnTo>
                        <a:pt x="73" y="949"/>
                      </a:lnTo>
                      <a:lnTo>
                        <a:pt x="127" y="1008"/>
                      </a:lnTo>
                      <a:lnTo>
                        <a:pt x="99" y="1109"/>
                      </a:lnTo>
                      <a:lnTo>
                        <a:pt x="154" y="1217"/>
                      </a:lnTo>
                      <a:lnTo>
                        <a:pt x="207" y="1305"/>
                      </a:lnTo>
                      <a:lnTo>
                        <a:pt x="272" y="1409"/>
                      </a:lnTo>
                      <a:lnTo>
                        <a:pt x="495" y="1599"/>
                      </a:lnTo>
                      <a:lnTo>
                        <a:pt x="784" y="1907"/>
                      </a:lnTo>
                      <a:lnTo>
                        <a:pt x="822" y="1859"/>
                      </a:lnTo>
                      <a:lnTo>
                        <a:pt x="881" y="1736"/>
                      </a:lnTo>
                      <a:lnTo>
                        <a:pt x="905" y="1598"/>
                      </a:lnTo>
                      <a:lnTo>
                        <a:pt x="1030" y="1630"/>
                      </a:lnTo>
                      <a:lnTo>
                        <a:pt x="1155" y="1617"/>
                      </a:lnTo>
                      <a:lnTo>
                        <a:pt x="1213" y="1584"/>
                      </a:lnTo>
                      <a:lnTo>
                        <a:pt x="1270" y="1522"/>
                      </a:lnTo>
                      <a:lnTo>
                        <a:pt x="1429" y="1179"/>
                      </a:lnTo>
                      <a:lnTo>
                        <a:pt x="1510" y="1077"/>
                      </a:lnTo>
                      <a:lnTo>
                        <a:pt x="1572" y="905"/>
                      </a:lnTo>
                      <a:lnTo>
                        <a:pt x="1586" y="718"/>
                      </a:lnTo>
                      <a:lnTo>
                        <a:pt x="1618" y="632"/>
                      </a:lnTo>
                      <a:lnTo>
                        <a:pt x="1635" y="575"/>
                      </a:lnTo>
                      <a:lnTo>
                        <a:pt x="1639" y="261"/>
                      </a:lnTo>
                      <a:lnTo>
                        <a:pt x="1609" y="118"/>
                      </a:lnTo>
                      <a:lnTo>
                        <a:pt x="1540" y="0"/>
                      </a:lnTo>
                      <a:lnTo>
                        <a:pt x="207" y="155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4357800" y="5424840"/>
                  <a:ext cx="30240" cy="204120"/>
                </a:xfrm>
                <a:custGeom>
                  <a:avLst/>
                  <a:gdLst/>
                  <a:ahLst/>
                  <a:rect l="l" t="t" r="r" b="b"/>
                  <a:pathLst>
                    <a:path w="369" h="1920">
                      <a:moveTo>
                        <a:pt x="92" y="0"/>
                      </a:moveTo>
                      <a:lnTo>
                        <a:pt x="40" y="52"/>
                      </a:lnTo>
                      <a:lnTo>
                        <a:pt x="0" y="142"/>
                      </a:lnTo>
                      <a:lnTo>
                        <a:pt x="27" y="313"/>
                      </a:lnTo>
                      <a:lnTo>
                        <a:pt x="14" y="973"/>
                      </a:lnTo>
                      <a:lnTo>
                        <a:pt x="40" y="1433"/>
                      </a:lnTo>
                      <a:lnTo>
                        <a:pt x="119" y="1920"/>
                      </a:lnTo>
                      <a:lnTo>
                        <a:pt x="200" y="1920"/>
                      </a:lnTo>
                      <a:lnTo>
                        <a:pt x="319" y="1920"/>
                      </a:lnTo>
                      <a:lnTo>
                        <a:pt x="369" y="1841"/>
                      </a:lnTo>
                      <a:lnTo>
                        <a:pt x="263" y="1498"/>
                      </a:lnTo>
                      <a:lnTo>
                        <a:pt x="212" y="1169"/>
                      </a:lnTo>
                      <a:lnTo>
                        <a:pt x="200" y="776"/>
                      </a:lnTo>
                      <a:lnTo>
                        <a:pt x="159" y="313"/>
                      </a:lnTo>
                      <a:lnTo>
                        <a:pt x="185" y="211"/>
                      </a:lnTo>
                      <a:lnTo>
                        <a:pt x="159" y="6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4372920" y="5162040"/>
                  <a:ext cx="75600" cy="99000"/>
                </a:xfrm>
                <a:custGeom>
                  <a:avLst/>
                  <a:gdLst/>
                  <a:ahLst/>
                  <a:rect l="l" t="t" r="r" b="b"/>
                  <a:pathLst>
                    <a:path w="914" h="936">
                      <a:moveTo>
                        <a:pt x="635" y="499"/>
                      </a:moveTo>
                      <a:lnTo>
                        <a:pt x="714" y="607"/>
                      </a:lnTo>
                      <a:lnTo>
                        <a:pt x="844" y="936"/>
                      </a:lnTo>
                      <a:lnTo>
                        <a:pt x="899" y="855"/>
                      </a:lnTo>
                      <a:lnTo>
                        <a:pt x="914" y="581"/>
                      </a:lnTo>
                      <a:lnTo>
                        <a:pt x="914" y="510"/>
                      </a:lnTo>
                      <a:lnTo>
                        <a:pt x="859" y="462"/>
                      </a:lnTo>
                      <a:lnTo>
                        <a:pt x="767" y="381"/>
                      </a:lnTo>
                      <a:lnTo>
                        <a:pt x="686" y="224"/>
                      </a:lnTo>
                      <a:lnTo>
                        <a:pt x="541" y="79"/>
                      </a:lnTo>
                      <a:lnTo>
                        <a:pt x="356" y="40"/>
                      </a:lnTo>
                      <a:lnTo>
                        <a:pt x="145" y="0"/>
                      </a:lnTo>
                      <a:lnTo>
                        <a:pt x="0" y="51"/>
                      </a:lnTo>
                      <a:lnTo>
                        <a:pt x="15" y="593"/>
                      </a:lnTo>
                      <a:lnTo>
                        <a:pt x="635" y="499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4364280" y="5268960"/>
                  <a:ext cx="20160" cy="10080"/>
                </a:xfrm>
                <a:custGeom>
                  <a:avLst/>
                  <a:gdLst/>
                  <a:ahLst/>
                  <a:rect l="l" t="t" r="r" b="b"/>
                  <a:pathLst>
                    <a:path w="251" h="93">
                      <a:moveTo>
                        <a:pt x="0" y="55"/>
                      </a:moveTo>
                      <a:lnTo>
                        <a:pt x="147" y="70"/>
                      </a:lnTo>
                      <a:lnTo>
                        <a:pt x="251" y="93"/>
                      </a:lnTo>
                      <a:lnTo>
                        <a:pt x="196" y="0"/>
                      </a:lnTo>
                      <a:lnTo>
                        <a:pt x="5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4411440" y="5280840"/>
                  <a:ext cx="15120" cy="11520"/>
                </a:xfrm>
                <a:custGeom>
                  <a:avLst/>
                  <a:gdLst/>
                  <a:ahLst/>
                  <a:rect l="l" t="t" r="r" b="b"/>
                  <a:pathLst>
                    <a:path w="183" h="119">
                      <a:moveTo>
                        <a:pt x="0" y="66"/>
                      </a:moveTo>
                      <a:lnTo>
                        <a:pt x="106" y="119"/>
                      </a:lnTo>
                      <a:lnTo>
                        <a:pt x="183" y="105"/>
                      </a:lnTo>
                      <a:lnTo>
                        <a:pt x="172" y="77"/>
                      </a:lnTo>
                      <a:lnTo>
                        <a:pt x="3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589640" y="520776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218" h="86">
                      <a:moveTo>
                        <a:pt x="0" y="14"/>
                      </a:moveTo>
                      <a:lnTo>
                        <a:pt x="62" y="60"/>
                      </a:lnTo>
                      <a:lnTo>
                        <a:pt x="97" y="86"/>
                      </a:lnTo>
                      <a:lnTo>
                        <a:pt x="181" y="86"/>
                      </a:lnTo>
                      <a:lnTo>
                        <a:pt x="218" y="58"/>
                      </a:lnTo>
                      <a:lnTo>
                        <a:pt x="177" y="9"/>
                      </a:lnTo>
                      <a:lnTo>
                        <a:pt x="103" y="0"/>
                      </a:lnTo>
                      <a:lnTo>
                        <a:pt x="20" y="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4628880" y="52113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0" y="48"/>
                      </a:moveTo>
                      <a:lnTo>
                        <a:pt x="50" y="7"/>
                      </a:lnTo>
                      <a:lnTo>
                        <a:pt x="130" y="0"/>
                      </a:lnTo>
                      <a:lnTo>
                        <a:pt x="216" y="35"/>
                      </a:lnTo>
                      <a:lnTo>
                        <a:pt x="163" y="66"/>
                      </a:lnTo>
                      <a:lnTo>
                        <a:pt x="121" y="81"/>
                      </a:lnTo>
                      <a:lnTo>
                        <a:pt x="75" y="83"/>
                      </a:lnTo>
                      <a:lnTo>
                        <a:pt x="18" y="6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4602240" y="5262840"/>
                  <a:ext cx="28080" cy="7560"/>
                </a:xfrm>
                <a:custGeom>
                  <a:avLst/>
                  <a:gdLst/>
                  <a:ahLst/>
                  <a:rect l="l" t="t" r="r" b="b"/>
                  <a:pathLst>
                    <a:path w="350" h="67">
                      <a:moveTo>
                        <a:pt x="0" y="4"/>
                      </a:moveTo>
                      <a:lnTo>
                        <a:pt x="82" y="50"/>
                      </a:lnTo>
                      <a:lnTo>
                        <a:pt x="203" y="67"/>
                      </a:lnTo>
                      <a:lnTo>
                        <a:pt x="260" y="65"/>
                      </a:lnTo>
                      <a:lnTo>
                        <a:pt x="299" y="46"/>
                      </a:lnTo>
                      <a:lnTo>
                        <a:pt x="332" y="21"/>
                      </a:lnTo>
                      <a:lnTo>
                        <a:pt x="350" y="0"/>
                      </a:lnTo>
                      <a:lnTo>
                        <a:pt x="249" y="6"/>
                      </a:lnTo>
                      <a:lnTo>
                        <a:pt x="194" y="14"/>
                      </a:lnTo>
                      <a:lnTo>
                        <a:pt x="10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5082840" y="5293440"/>
                  <a:ext cx="391680" cy="442440"/>
                </a:xfrm>
                <a:custGeom>
                  <a:avLst/>
                  <a:gdLst/>
                  <a:ahLst/>
                  <a:rect l="l" t="t" r="r" b="b"/>
                  <a:pathLst>
                    <a:path w="4729" h="4178">
                      <a:moveTo>
                        <a:pt x="602" y="3182"/>
                      </a:moveTo>
                      <a:lnTo>
                        <a:pt x="1411" y="2760"/>
                      </a:lnTo>
                      <a:lnTo>
                        <a:pt x="1677" y="2463"/>
                      </a:lnTo>
                      <a:lnTo>
                        <a:pt x="1928" y="3087"/>
                      </a:lnTo>
                      <a:lnTo>
                        <a:pt x="1940" y="3300"/>
                      </a:lnTo>
                      <a:lnTo>
                        <a:pt x="1846" y="3325"/>
                      </a:lnTo>
                      <a:lnTo>
                        <a:pt x="1640" y="3288"/>
                      </a:lnTo>
                      <a:lnTo>
                        <a:pt x="1486" y="3279"/>
                      </a:lnTo>
                      <a:lnTo>
                        <a:pt x="1398" y="3241"/>
                      </a:lnTo>
                      <a:lnTo>
                        <a:pt x="1218" y="3265"/>
                      </a:lnTo>
                      <a:lnTo>
                        <a:pt x="1050" y="3230"/>
                      </a:lnTo>
                      <a:lnTo>
                        <a:pt x="844" y="3168"/>
                      </a:lnTo>
                      <a:lnTo>
                        <a:pt x="672" y="3254"/>
                      </a:lnTo>
                      <a:lnTo>
                        <a:pt x="541" y="3491"/>
                      </a:lnTo>
                      <a:lnTo>
                        <a:pt x="640" y="3841"/>
                      </a:lnTo>
                      <a:lnTo>
                        <a:pt x="1070" y="3903"/>
                      </a:lnTo>
                      <a:lnTo>
                        <a:pt x="1640" y="4032"/>
                      </a:lnTo>
                      <a:lnTo>
                        <a:pt x="2013" y="4139"/>
                      </a:lnTo>
                      <a:lnTo>
                        <a:pt x="2919" y="4178"/>
                      </a:lnTo>
                      <a:lnTo>
                        <a:pt x="3270" y="4153"/>
                      </a:lnTo>
                      <a:lnTo>
                        <a:pt x="3620" y="4056"/>
                      </a:lnTo>
                      <a:lnTo>
                        <a:pt x="4667" y="2951"/>
                      </a:lnTo>
                      <a:lnTo>
                        <a:pt x="4729" y="1824"/>
                      </a:lnTo>
                      <a:lnTo>
                        <a:pt x="4584" y="1298"/>
                      </a:lnTo>
                      <a:lnTo>
                        <a:pt x="4425" y="1019"/>
                      </a:lnTo>
                      <a:lnTo>
                        <a:pt x="4138" y="639"/>
                      </a:lnTo>
                      <a:lnTo>
                        <a:pt x="3595" y="384"/>
                      </a:lnTo>
                      <a:lnTo>
                        <a:pt x="3450" y="422"/>
                      </a:lnTo>
                      <a:lnTo>
                        <a:pt x="3342" y="362"/>
                      </a:lnTo>
                      <a:lnTo>
                        <a:pt x="3256" y="194"/>
                      </a:lnTo>
                      <a:lnTo>
                        <a:pt x="3053" y="121"/>
                      </a:lnTo>
                      <a:lnTo>
                        <a:pt x="2872" y="0"/>
                      </a:lnTo>
                      <a:lnTo>
                        <a:pt x="2666" y="12"/>
                      </a:lnTo>
                      <a:lnTo>
                        <a:pt x="1709" y="602"/>
                      </a:lnTo>
                      <a:lnTo>
                        <a:pt x="1558" y="720"/>
                      </a:lnTo>
                      <a:lnTo>
                        <a:pt x="1460" y="817"/>
                      </a:lnTo>
                      <a:lnTo>
                        <a:pt x="1281" y="911"/>
                      </a:lnTo>
                      <a:lnTo>
                        <a:pt x="1070" y="1503"/>
                      </a:lnTo>
                      <a:lnTo>
                        <a:pt x="1064" y="1702"/>
                      </a:lnTo>
                      <a:lnTo>
                        <a:pt x="989" y="1979"/>
                      </a:lnTo>
                      <a:lnTo>
                        <a:pt x="808" y="2039"/>
                      </a:lnTo>
                      <a:lnTo>
                        <a:pt x="723" y="2136"/>
                      </a:lnTo>
                      <a:lnTo>
                        <a:pt x="699" y="2259"/>
                      </a:lnTo>
                      <a:lnTo>
                        <a:pt x="578" y="2377"/>
                      </a:lnTo>
                      <a:lnTo>
                        <a:pt x="240" y="2606"/>
                      </a:lnTo>
                      <a:lnTo>
                        <a:pt x="0" y="2917"/>
                      </a:lnTo>
                      <a:lnTo>
                        <a:pt x="277" y="3145"/>
                      </a:lnTo>
                      <a:lnTo>
                        <a:pt x="602" y="3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5122800" y="5407200"/>
                  <a:ext cx="115200" cy="230400"/>
                </a:xfrm>
                <a:custGeom>
                  <a:avLst/>
                  <a:gdLst/>
                  <a:ahLst/>
                  <a:rect l="l" t="t" r="r" b="b"/>
                  <a:pathLst>
                    <a:path w="1387" h="2184">
                      <a:moveTo>
                        <a:pt x="691" y="312"/>
                      </a:moveTo>
                      <a:lnTo>
                        <a:pt x="679" y="433"/>
                      </a:lnTo>
                      <a:lnTo>
                        <a:pt x="712" y="479"/>
                      </a:lnTo>
                      <a:lnTo>
                        <a:pt x="807" y="528"/>
                      </a:lnTo>
                      <a:lnTo>
                        <a:pt x="859" y="578"/>
                      </a:lnTo>
                      <a:lnTo>
                        <a:pt x="859" y="683"/>
                      </a:lnTo>
                      <a:lnTo>
                        <a:pt x="664" y="731"/>
                      </a:lnTo>
                      <a:lnTo>
                        <a:pt x="605" y="731"/>
                      </a:lnTo>
                      <a:lnTo>
                        <a:pt x="555" y="671"/>
                      </a:lnTo>
                      <a:lnTo>
                        <a:pt x="508" y="899"/>
                      </a:lnTo>
                      <a:lnTo>
                        <a:pt x="290" y="1031"/>
                      </a:lnTo>
                      <a:lnTo>
                        <a:pt x="664" y="899"/>
                      </a:lnTo>
                      <a:lnTo>
                        <a:pt x="749" y="899"/>
                      </a:lnTo>
                      <a:lnTo>
                        <a:pt x="712" y="945"/>
                      </a:lnTo>
                      <a:lnTo>
                        <a:pt x="447" y="1103"/>
                      </a:lnTo>
                      <a:lnTo>
                        <a:pt x="726" y="1103"/>
                      </a:lnTo>
                      <a:lnTo>
                        <a:pt x="737" y="1213"/>
                      </a:lnTo>
                      <a:lnTo>
                        <a:pt x="133" y="1273"/>
                      </a:lnTo>
                      <a:lnTo>
                        <a:pt x="0" y="1369"/>
                      </a:lnTo>
                      <a:lnTo>
                        <a:pt x="170" y="1426"/>
                      </a:lnTo>
                      <a:lnTo>
                        <a:pt x="279" y="1525"/>
                      </a:lnTo>
                      <a:lnTo>
                        <a:pt x="290" y="1593"/>
                      </a:lnTo>
                      <a:lnTo>
                        <a:pt x="181" y="1690"/>
                      </a:lnTo>
                      <a:lnTo>
                        <a:pt x="181" y="1810"/>
                      </a:lnTo>
                      <a:lnTo>
                        <a:pt x="242" y="1932"/>
                      </a:lnTo>
                      <a:lnTo>
                        <a:pt x="84" y="2075"/>
                      </a:lnTo>
                      <a:lnTo>
                        <a:pt x="218" y="2184"/>
                      </a:lnTo>
                      <a:lnTo>
                        <a:pt x="373" y="2098"/>
                      </a:lnTo>
                      <a:lnTo>
                        <a:pt x="472" y="2123"/>
                      </a:lnTo>
                      <a:lnTo>
                        <a:pt x="679" y="1964"/>
                      </a:lnTo>
                      <a:lnTo>
                        <a:pt x="989" y="1630"/>
                      </a:lnTo>
                      <a:lnTo>
                        <a:pt x="1207" y="1379"/>
                      </a:lnTo>
                      <a:lnTo>
                        <a:pt x="1350" y="1752"/>
                      </a:lnTo>
                      <a:lnTo>
                        <a:pt x="1387" y="1358"/>
                      </a:lnTo>
                      <a:lnTo>
                        <a:pt x="1387" y="1199"/>
                      </a:lnTo>
                      <a:lnTo>
                        <a:pt x="1242" y="1093"/>
                      </a:lnTo>
                      <a:lnTo>
                        <a:pt x="1122" y="923"/>
                      </a:lnTo>
                      <a:lnTo>
                        <a:pt x="1014" y="740"/>
                      </a:lnTo>
                      <a:lnTo>
                        <a:pt x="930" y="528"/>
                      </a:lnTo>
                      <a:lnTo>
                        <a:pt x="834" y="228"/>
                      </a:lnTo>
                      <a:lnTo>
                        <a:pt x="800" y="0"/>
                      </a:lnTo>
                      <a:lnTo>
                        <a:pt x="700" y="215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5181120" y="5408640"/>
                  <a:ext cx="236520" cy="331560"/>
                </a:xfrm>
                <a:custGeom>
                  <a:avLst/>
                  <a:gdLst/>
                  <a:ahLst/>
                  <a:rect l="l" t="t" r="r" b="b"/>
                  <a:pathLst>
                    <a:path w="2861" h="3124">
                      <a:moveTo>
                        <a:pt x="988" y="1321"/>
                      </a:moveTo>
                      <a:lnTo>
                        <a:pt x="1377" y="1443"/>
                      </a:lnTo>
                      <a:lnTo>
                        <a:pt x="1691" y="1504"/>
                      </a:lnTo>
                      <a:lnTo>
                        <a:pt x="1909" y="1095"/>
                      </a:lnTo>
                      <a:lnTo>
                        <a:pt x="1895" y="698"/>
                      </a:lnTo>
                      <a:lnTo>
                        <a:pt x="2146" y="231"/>
                      </a:lnTo>
                      <a:lnTo>
                        <a:pt x="2642" y="0"/>
                      </a:lnTo>
                      <a:lnTo>
                        <a:pt x="2232" y="399"/>
                      </a:lnTo>
                      <a:lnTo>
                        <a:pt x="2111" y="770"/>
                      </a:lnTo>
                      <a:lnTo>
                        <a:pt x="2111" y="1168"/>
                      </a:lnTo>
                      <a:lnTo>
                        <a:pt x="2350" y="985"/>
                      </a:lnTo>
                      <a:lnTo>
                        <a:pt x="2665" y="627"/>
                      </a:lnTo>
                      <a:lnTo>
                        <a:pt x="2861" y="420"/>
                      </a:lnTo>
                      <a:lnTo>
                        <a:pt x="2861" y="590"/>
                      </a:lnTo>
                      <a:lnTo>
                        <a:pt x="2642" y="1010"/>
                      </a:lnTo>
                      <a:lnTo>
                        <a:pt x="2280" y="1478"/>
                      </a:lnTo>
                      <a:lnTo>
                        <a:pt x="1981" y="1741"/>
                      </a:lnTo>
                      <a:lnTo>
                        <a:pt x="1773" y="1838"/>
                      </a:lnTo>
                      <a:lnTo>
                        <a:pt x="1773" y="1959"/>
                      </a:lnTo>
                      <a:lnTo>
                        <a:pt x="1918" y="2188"/>
                      </a:lnTo>
                      <a:lnTo>
                        <a:pt x="2063" y="2545"/>
                      </a:lnTo>
                      <a:lnTo>
                        <a:pt x="1955" y="2451"/>
                      </a:lnTo>
                      <a:lnTo>
                        <a:pt x="1836" y="2333"/>
                      </a:lnTo>
                      <a:lnTo>
                        <a:pt x="1665" y="2257"/>
                      </a:lnTo>
                      <a:lnTo>
                        <a:pt x="1508" y="2222"/>
                      </a:lnTo>
                      <a:lnTo>
                        <a:pt x="1388" y="2197"/>
                      </a:lnTo>
                      <a:lnTo>
                        <a:pt x="1460" y="2429"/>
                      </a:lnTo>
                      <a:lnTo>
                        <a:pt x="1691" y="2621"/>
                      </a:lnTo>
                      <a:lnTo>
                        <a:pt x="1872" y="2725"/>
                      </a:lnTo>
                      <a:lnTo>
                        <a:pt x="1785" y="2534"/>
                      </a:lnTo>
                      <a:lnTo>
                        <a:pt x="1981" y="2582"/>
                      </a:lnTo>
                      <a:lnTo>
                        <a:pt x="2052" y="2750"/>
                      </a:lnTo>
                      <a:lnTo>
                        <a:pt x="2025" y="2978"/>
                      </a:lnTo>
                      <a:lnTo>
                        <a:pt x="1895" y="3110"/>
                      </a:lnTo>
                      <a:lnTo>
                        <a:pt x="1665" y="3124"/>
                      </a:lnTo>
                      <a:lnTo>
                        <a:pt x="1425" y="3001"/>
                      </a:lnTo>
                      <a:lnTo>
                        <a:pt x="1326" y="2796"/>
                      </a:lnTo>
                      <a:lnTo>
                        <a:pt x="1181" y="2400"/>
                      </a:lnTo>
                      <a:lnTo>
                        <a:pt x="988" y="2284"/>
                      </a:lnTo>
                      <a:lnTo>
                        <a:pt x="485" y="2391"/>
                      </a:lnTo>
                      <a:lnTo>
                        <a:pt x="171" y="2568"/>
                      </a:lnTo>
                      <a:lnTo>
                        <a:pt x="134" y="2499"/>
                      </a:lnTo>
                      <a:lnTo>
                        <a:pt x="217" y="2319"/>
                      </a:lnTo>
                      <a:lnTo>
                        <a:pt x="0" y="2400"/>
                      </a:lnTo>
                      <a:lnTo>
                        <a:pt x="87" y="2271"/>
                      </a:lnTo>
                      <a:lnTo>
                        <a:pt x="362" y="2197"/>
                      </a:lnTo>
                      <a:lnTo>
                        <a:pt x="558" y="2222"/>
                      </a:lnTo>
                      <a:lnTo>
                        <a:pt x="676" y="2234"/>
                      </a:lnTo>
                      <a:lnTo>
                        <a:pt x="950" y="2174"/>
                      </a:lnTo>
                      <a:lnTo>
                        <a:pt x="988" y="132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5258160" y="5407920"/>
                  <a:ext cx="41760" cy="150840"/>
                </a:xfrm>
                <a:custGeom>
                  <a:avLst/>
                  <a:gdLst/>
                  <a:ahLst/>
                  <a:rect l="l" t="t" r="r" b="b"/>
                  <a:pathLst>
                    <a:path w="507" h="1428">
                      <a:moveTo>
                        <a:pt x="143" y="1404"/>
                      </a:moveTo>
                      <a:lnTo>
                        <a:pt x="180" y="1130"/>
                      </a:lnTo>
                      <a:lnTo>
                        <a:pt x="242" y="780"/>
                      </a:lnTo>
                      <a:lnTo>
                        <a:pt x="242" y="613"/>
                      </a:lnTo>
                      <a:lnTo>
                        <a:pt x="194" y="446"/>
                      </a:lnTo>
                      <a:lnTo>
                        <a:pt x="206" y="312"/>
                      </a:lnTo>
                      <a:lnTo>
                        <a:pt x="266" y="134"/>
                      </a:lnTo>
                      <a:lnTo>
                        <a:pt x="507" y="158"/>
                      </a:lnTo>
                      <a:lnTo>
                        <a:pt x="143" y="0"/>
                      </a:lnTo>
                      <a:lnTo>
                        <a:pt x="0" y="325"/>
                      </a:lnTo>
                      <a:lnTo>
                        <a:pt x="21" y="1428"/>
                      </a:lnTo>
                      <a:lnTo>
                        <a:pt x="143" y="1404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5309640" y="5291640"/>
                  <a:ext cx="164880" cy="452520"/>
                </a:xfrm>
                <a:custGeom>
                  <a:avLst/>
                  <a:gdLst/>
                  <a:ahLst/>
                  <a:rect l="l" t="t" r="r" b="b"/>
                  <a:pathLst>
                    <a:path w="1991" h="4272">
                      <a:moveTo>
                        <a:pt x="48" y="182"/>
                      </a:moveTo>
                      <a:lnTo>
                        <a:pt x="181" y="445"/>
                      </a:lnTo>
                      <a:lnTo>
                        <a:pt x="134" y="922"/>
                      </a:lnTo>
                      <a:lnTo>
                        <a:pt x="325" y="240"/>
                      </a:lnTo>
                      <a:lnTo>
                        <a:pt x="409" y="217"/>
                      </a:lnTo>
                      <a:lnTo>
                        <a:pt x="495" y="339"/>
                      </a:lnTo>
                      <a:lnTo>
                        <a:pt x="468" y="468"/>
                      </a:lnTo>
                      <a:lnTo>
                        <a:pt x="371" y="694"/>
                      </a:lnTo>
                      <a:lnTo>
                        <a:pt x="543" y="519"/>
                      </a:lnTo>
                      <a:lnTo>
                        <a:pt x="613" y="540"/>
                      </a:lnTo>
                      <a:lnTo>
                        <a:pt x="251" y="1092"/>
                      </a:lnTo>
                      <a:lnTo>
                        <a:pt x="903" y="481"/>
                      </a:lnTo>
                      <a:lnTo>
                        <a:pt x="1304" y="661"/>
                      </a:lnTo>
                      <a:lnTo>
                        <a:pt x="1387" y="936"/>
                      </a:lnTo>
                      <a:lnTo>
                        <a:pt x="1664" y="1189"/>
                      </a:lnTo>
                      <a:lnTo>
                        <a:pt x="1687" y="1452"/>
                      </a:lnTo>
                      <a:lnTo>
                        <a:pt x="1822" y="1659"/>
                      </a:lnTo>
                      <a:lnTo>
                        <a:pt x="1738" y="1909"/>
                      </a:lnTo>
                      <a:lnTo>
                        <a:pt x="1422" y="2038"/>
                      </a:lnTo>
                      <a:lnTo>
                        <a:pt x="1433" y="2138"/>
                      </a:lnTo>
                      <a:lnTo>
                        <a:pt x="1712" y="2366"/>
                      </a:lnTo>
                      <a:lnTo>
                        <a:pt x="1496" y="2388"/>
                      </a:lnTo>
                      <a:lnTo>
                        <a:pt x="1253" y="2280"/>
                      </a:lnTo>
                      <a:lnTo>
                        <a:pt x="1747" y="2748"/>
                      </a:lnTo>
                      <a:lnTo>
                        <a:pt x="1687" y="2806"/>
                      </a:lnTo>
                      <a:lnTo>
                        <a:pt x="1350" y="2748"/>
                      </a:lnTo>
                      <a:lnTo>
                        <a:pt x="1350" y="3061"/>
                      </a:lnTo>
                      <a:lnTo>
                        <a:pt x="1182" y="3252"/>
                      </a:lnTo>
                      <a:lnTo>
                        <a:pt x="1073" y="3156"/>
                      </a:lnTo>
                      <a:lnTo>
                        <a:pt x="806" y="3636"/>
                      </a:lnTo>
                      <a:lnTo>
                        <a:pt x="506" y="3898"/>
                      </a:lnTo>
                      <a:lnTo>
                        <a:pt x="387" y="4199"/>
                      </a:lnTo>
                      <a:lnTo>
                        <a:pt x="481" y="4272"/>
                      </a:lnTo>
                      <a:lnTo>
                        <a:pt x="1290" y="3995"/>
                      </a:lnTo>
                      <a:lnTo>
                        <a:pt x="1991" y="2833"/>
                      </a:lnTo>
                      <a:lnTo>
                        <a:pt x="1991" y="1821"/>
                      </a:lnTo>
                      <a:lnTo>
                        <a:pt x="1798" y="1199"/>
                      </a:lnTo>
                      <a:lnTo>
                        <a:pt x="1653" y="947"/>
                      </a:lnTo>
                      <a:lnTo>
                        <a:pt x="1521" y="828"/>
                      </a:lnTo>
                      <a:lnTo>
                        <a:pt x="1387" y="613"/>
                      </a:lnTo>
                      <a:lnTo>
                        <a:pt x="831" y="358"/>
                      </a:lnTo>
                      <a:lnTo>
                        <a:pt x="686" y="433"/>
                      </a:lnTo>
                      <a:lnTo>
                        <a:pt x="613" y="358"/>
                      </a:lnTo>
                      <a:lnTo>
                        <a:pt x="578" y="228"/>
                      </a:lnTo>
                      <a:lnTo>
                        <a:pt x="361" y="108"/>
                      </a:lnTo>
                      <a:lnTo>
                        <a:pt x="244" y="97"/>
                      </a:lnTo>
                      <a:lnTo>
                        <a:pt x="134" y="0"/>
                      </a:lnTo>
                      <a:lnTo>
                        <a:pt x="0" y="11"/>
                      </a:lnTo>
                      <a:lnTo>
                        <a:pt x="48" y="182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5238720" y="5382360"/>
                  <a:ext cx="36360" cy="259920"/>
                </a:xfrm>
                <a:custGeom>
                  <a:avLst/>
                  <a:gdLst/>
                  <a:ahLst/>
                  <a:rect l="l" t="t" r="r" b="b"/>
                  <a:pathLst>
                    <a:path w="434" h="2461">
                      <a:moveTo>
                        <a:pt x="276" y="0"/>
                      </a:moveTo>
                      <a:lnTo>
                        <a:pt x="166" y="72"/>
                      </a:lnTo>
                      <a:lnTo>
                        <a:pt x="106" y="204"/>
                      </a:lnTo>
                      <a:lnTo>
                        <a:pt x="96" y="326"/>
                      </a:lnTo>
                      <a:lnTo>
                        <a:pt x="106" y="688"/>
                      </a:lnTo>
                      <a:lnTo>
                        <a:pt x="72" y="962"/>
                      </a:lnTo>
                      <a:lnTo>
                        <a:pt x="37" y="1275"/>
                      </a:lnTo>
                      <a:lnTo>
                        <a:pt x="0" y="1504"/>
                      </a:lnTo>
                      <a:lnTo>
                        <a:pt x="0" y="1780"/>
                      </a:lnTo>
                      <a:lnTo>
                        <a:pt x="10" y="2029"/>
                      </a:lnTo>
                      <a:lnTo>
                        <a:pt x="145" y="2461"/>
                      </a:lnTo>
                      <a:lnTo>
                        <a:pt x="434" y="2391"/>
                      </a:lnTo>
                      <a:lnTo>
                        <a:pt x="311" y="1993"/>
                      </a:lnTo>
                      <a:lnTo>
                        <a:pt x="263" y="1684"/>
                      </a:lnTo>
                      <a:lnTo>
                        <a:pt x="287" y="1407"/>
                      </a:lnTo>
                      <a:lnTo>
                        <a:pt x="337" y="1130"/>
                      </a:lnTo>
                      <a:lnTo>
                        <a:pt x="397" y="879"/>
                      </a:lnTo>
                      <a:lnTo>
                        <a:pt x="397" y="734"/>
                      </a:lnTo>
                      <a:lnTo>
                        <a:pt x="360" y="602"/>
                      </a:lnTo>
                      <a:lnTo>
                        <a:pt x="311" y="519"/>
                      </a:lnTo>
                      <a:lnTo>
                        <a:pt x="325" y="194"/>
                      </a:lnTo>
                      <a:lnTo>
                        <a:pt x="337" y="12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5031720" y="5581800"/>
                  <a:ext cx="109440" cy="114120"/>
                </a:xfrm>
                <a:custGeom>
                  <a:avLst/>
                  <a:gdLst/>
                  <a:ahLst/>
                  <a:rect l="l" t="t" r="r" b="b"/>
                  <a:pathLst>
                    <a:path w="1314" h="1079">
                      <a:moveTo>
                        <a:pt x="374" y="0"/>
                      </a:moveTo>
                      <a:lnTo>
                        <a:pt x="300" y="35"/>
                      </a:lnTo>
                      <a:lnTo>
                        <a:pt x="300" y="97"/>
                      </a:lnTo>
                      <a:lnTo>
                        <a:pt x="194" y="143"/>
                      </a:lnTo>
                      <a:lnTo>
                        <a:pt x="167" y="192"/>
                      </a:lnTo>
                      <a:lnTo>
                        <a:pt x="129" y="335"/>
                      </a:lnTo>
                      <a:lnTo>
                        <a:pt x="24" y="395"/>
                      </a:lnTo>
                      <a:lnTo>
                        <a:pt x="0" y="613"/>
                      </a:lnTo>
                      <a:lnTo>
                        <a:pt x="59" y="830"/>
                      </a:lnTo>
                      <a:lnTo>
                        <a:pt x="290" y="934"/>
                      </a:lnTo>
                      <a:lnTo>
                        <a:pt x="662" y="1056"/>
                      </a:lnTo>
                      <a:lnTo>
                        <a:pt x="938" y="1068"/>
                      </a:lnTo>
                      <a:lnTo>
                        <a:pt x="1241" y="1079"/>
                      </a:lnTo>
                      <a:lnTo>
                        <a:pt x="1217" y="925"/>
                      </a:lnTo>
                      <a:lnTo>
                        <a:pt x="1217" y="817"/>
                      </a:lnTo>
                      <a:lnTo>
                        <a:pt x="1229" y="699"/>
                      </a:lnTo>
                      <a:lnTo>
                        <a:pt x="1314" y="529"/>
                      </a:lnTo>
                      <a:lnTo>
                        <a:pt x="1229" y="480"/>
                      </a:lnTo>
                      <a:lnTo>
                        <a:pt x="1156" y="408"/>
                      </a:lnTo>
                      <a:lnTo>
                        <a:pt x="1096" y="309"/>
                      </a:lnTo>
                      <a:lnTo>
                        <a:pt x="1024" y="226"/>
                      </a:lnTo>
                      <a:lnTo>
                        <a:pt x="950" y="167"/>
                      </a:lnTo>
                      <a:lnTo>
                        <a:pt x="879" y="143"/>
                      </a:lnTo>
                      <a:lnTo>
                        <a:pt x="769" y="167"/>
                      </a:lnTo>
                      <a:lnTo>
                        <a:pt x="637" y="204"/>
                      </a:lnTo>
                      <a:lnTo>
                        <a:pt x="588" y="180"/>
                      </a:lnTo>
                      <a:lnTo>
                        <a:pt x="528" y="59"/>
                      </a:lnTo>
                      <a:lnTo>
                        <a:pt x="470" y="26"/>
                      </a:lnTo>
                      <a:lnTo>
                        <a:pt x="374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5180400" y="5157720"/>
                  <a:ext cx="149760" cy="227880"/>
                </a:xfrm>
                <a:custGeom>
                  <a:avLst/>
                  <a:gdLst/>
                  <a:ahLst/>
                  <a:rect l="l" t="t" r="r" b="b"/>
                  <a:pathLst>
                    <a:path w="1808" h="2151">
                      <a:moveTo>
                        <a:pt x="1784" y="591"/>
                      </a:moveTo>
                      <a:lnTo>
                        <a:pt x="1808" y="681"/>
                      </a:lnTo>
                      <a:lnTo>
                        <a:pt x="1803" y="758"/>
                      </a:lnTo>
                      <a:lnTo>
                        <a:pt x="1773" y="877"/>
                      </a:lnTo>
                      <a:lnTo>
                        <a:pt x="1698" y="1052"/>
                      </a:lnTo>
                      <a:lnTo>
                        <a:pt x="1573" y="1178"/>
                      </a:lnTo>
                      <a:lnTo>
                        <a:pt x="1459" y="1701"/>
                      </a:lnTo>
                      <a:lnTo>
                        <a:pt x="1289" y="1884"/>
                      </a:lnTo>
                      <a:lnTo>
                        <a:pt x="1164" y="2022"/>
                      </a:lnTo>
                      <a:lnTo>
                        <a:pt x="1091" y="2133"/>
                      </a:lnTo>
                      <a:lnTo>
                        <a:pt x="1045" y="2151"/>
                      </a:lnTo>
                      <a:lnTo>
                        <a:pt x="835" y="1868"/>
                      </a:lnTo>
                      <a:lnTo>
                        <a:pt x="657" y="1890"/>
                      </a:lnTo>
                      <a:lnTo>
                        <a:pt x="569" y="1890"/>
                      </a:lnTo>
                      <a:lnTo>
                        <a:pt x="512" y="1852"/>
                      </a:lnTo>
                      <a:lnTo>
                        <a:pt x="477" y="1791"/>
                      </a:lnTo>
                      <a:lnTo>
                        <a:pt x="429" y="1628"/>
                      </a:lnTo>
                      <a:lnTo>
                        <a:pt x="289" y="1351"/>
                      </a:lnTo>
                      <a:lnTo>
                        <a:pt x="141" y="1169"/>
                      </a:lnTo>
                      <a:lnTo>
                        <a:pt x="107" y="1022"/>
                      </a:lnTo>
                      <a:lnTo>
                        <a:pt x="76" y="872"/>
                      </a:lnTo>
                      <a:lnTo>
                        <a:pt x="28" y="653"/>
                      </a:lnTo>
                      <a:lnTo>
                        <a:pt x="0" y="353"/>
                      </a:lnTo>
                      <a:lnTo>
                        <a:pt x="24" y="208"/>
                      </a:lnTo>
                      <a:lnTo>
                        <a:pt x="76" y="99"/>
                      </a:lnTo>
                      <a:lnTo>
                        <a:pt x="1324" y="0"/>
                      </a:lnTo>
                      <a:lnTo>
                        <a:pt x="1698" y="433"/>
                      </a:lnTo>
                      <a:lnTo>
                        <a:pt x="1784" y="59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5194440" y="524592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152" h="113">
                      <a:moveTo>
                        <a:pt x="0" y="83"/>
                      </a:moveTo>
                      <a:lnTo>
                        <a:pt x="49" y="113"/>
                      </a:lnTo>
                      <a:lnTo>
                        <a:pt x="152" y="79"/>
                      </a:lnTo>
                      <a:lnTo>
                        <a:pt x="152" y="0"/>
                      </a:lnTo>
                      <a:lnTo>
                        <a:pt x="33" y="1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5240880" y="5234040"/>
                  <a:ext cx="18360" cy="8280"/>
                </a:xfrm>
                <a:custGeom>
                  <a:avLst/>
                  <a:gdLst/>
                  <a:ahLst/>
                  <a:rect l="l" t="t" r="r" b="b"/>
                  <a:pathLst>
                    <a:path w="231" h="83">
                      <a:moveTo>
                        <a:pt x="27" y="83"/>
                      </a:moveTo>
                      <a:lnTo>
                        <a:pt x="130" y="74"/>
                      </a:lnTo>
                      <a:lnTo>
                        <a:pt x="231" y="47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27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5181120" y="5127120"/>
                  <a:ext cx="119880" cy="47160"/>
                </a:xfrm>
                <a:custGeom>
                  <a:avLst/>
                  <a:gdLst/>
                  <a:ahLst/>
                  <a:rect l="l" t="t" r="r" b="b"/>
                  <a:pathLst>
                    <a:path w="1451" h="452">
                      <a:moveTo>
                        <a:pt x="110" y="41"/>
                      </a:moveTo>
                      <a:lnTo>
                        <a:pt x="237" y="0"/>
                      </a:lnTo>
                      <a:lnTo>
                        <a:pt x="603" y="0"/>
                      </a:lnTo>
                      <a:lnTo>
                        <a:pt x="1255" y="165"/>
                      </a:lnTo>
                      <a:lnTo>
                        <a:pt x="1451" y="391"/>
                      </a:lnTo>
                      <a:lnTo>
                        <a:pt x="1134" y="318"/>
                      </a:lnTo>
                      <a:lnTo>
                        <a:pt x="981" y="360"/>
                      </a:lnTo>
                      <a:lnTo>
                        <a:pt x="846" y="424"/>
                      </a:lnTo>
                      <a:lnTo>
                        <a:pt x="647" y="452"/>
                      </a:lnTo>
                      <a:lnTo>
                        <a:pt x="426" y="444"/>
                      </a:lnTo>
                      <a:lnTo>
                        <a:pt x="218" y="391"/>
                      </a:lnTo>
                      <a:lnTo>
                        <a:pt x="68" y="318"/>
                      </a:lnTo>
                      <a:lnTo>
                        <a:pt x="16" y="251"/>
                      </a:lnTo>
                      <a:lnTo>
                        <a:pt x="0" y="186"/>
                      </a:lnTo>
                      <a:lnTo>
                        <a:pt x="4" y="129"/>
                      </a:lnTo>
                      <a:lnTo>
                        <a:pt x="110" y="4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274720" y="5171400"/>
                  <a:ext cx="58320" cy="65880"/>
                </a:xfrm>
                <a:custGeom>
                  <a:avLst/>
                  <a:gdLst/>
                  <a:ahLst/>
                  <a:rect l="l" t="t" r="r" b="b"/>
                  <a:pathLst>
                    <a:path w="700" h="629">
                      <a:moveTo>
                        <a:pt x="666" y="482"/>
                      </a:moveTo>
                      <a:lnTo>
                        <a:pt x="548" y="411"/>
                      </a:lnTo>
                      <a:lnTo>
                        <a:pt x="449" y="405"/>
                      </a:lnTo>
                      <a:lnTo>
                        <a:pt x="392" y="482"/>
                      </a:lnTo>
                      <a:lnTo>
                        <a:pt x="378" y="629"/>
                      </a:lnTo>
                      <a:lnTo>
                        <a:pt x="173" y="604"/>
                      </a:lnTo>
                      <a:lnTo>
                        <a:pt x="182" y="528"/>
                      </a:lnTo>
                      <a:lnTo>
                        <a:pt x="139" y="433"/>
                      </a:lnTo>
                      <a:lnTo>
                        <a:pt x="76" y="374"/>
                      </a:lnTo>
                      <a:lnTo>
                        <a:pt x="36" y="350"/>
                      </a:lnTo>
                      <a:lnTo>
                        <a:pt x="0" y="141"/>
                      </a:lnTo>
                      <a:lnTo>
                        <a:pt x="286" y="0"/>
                      </a:lnTo>
                      <a:lnTo>
                        <a:pt x="588" y="110"/>
                      </a:lnTo>
                      <a:lnTo>
                        <a:pt x="632" y="360"/>
                      </a:lnTo>
                      <a:lnTo>
                        <a:pt x="700" y="447"/>
                      </a:lnTo>
                      <a:lnTo>
                        <a:pt x="666" y="4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268600" y="5158800"/>
                  <a:ext cx="64080" cy="67320"/>
                </a:xfrm>
                <a:custGeom>
                  <a:avLst/>
                  <a:gdLst/>
                  <a:ahLst/>
                  <a:rect l="l" t="t" r="r" b="b"/>
                  <a:pathLst>
                    <a:path w="775" h="641">
                      <a:moveTo>
                        <a:pt x="747" y="575"/>
                      </a:moveTo>
                      <a:lnTo>
                        <a:pt x="701" y="518"/>
                      </a:lnTo>
                      <a:lnTo>
                        <a:pt x="643" y="461"/>
                      </a:lnTo>
                      <a:lnTo>
                        <a:pt x="608" y="397"/>
                      </a:lnTo>
                      <a:lnTo>
                        <a:pt x="617" y="309"/>
                      </a:lnTo>
                      <a:lnTo>
                        <a:pt x="586" y="261"/>
                      </a:lnTo>
                      <a:lnTo>
                        <a:pt x="530" y="230"/>
                      </a:lnTo>
                      <a:lnTo>
                        <a:pt x="496" y="226"/>
                      </a:lnTo>
                      <a:lnTo>
                        <a:pt x="440" y="230"/>
                      </a:lnTo>
                      <a:lnTo>
                        <a:pt x="488" y="316"/>
                      </a:lnTo>
                      <a:lnTo>
                        <a:pt x="571" y="397"/>
                      </a:lnTo>
                      <a:lnTo>
                        <a:pt x="440" y="316"/>
                      </a:lnTo>
                      <a:lnTo>
                        <a:pt x="343" y="274"/>
                      </a:lnTo>
                      <a:lnTo>
                        <a:pt x="242" y="283"/>
                      </a:lnTo>
                      <a:lnTo>
                        <a:pt x="161" y="288"/>
                      </a:lnTo>
                      <a:lnTo>
                        <a:pt x="118" y="300"/>
                      </a:lnTo>
                      <a:lnTo>
                        <a:pt x="152" y="371"/>
                      </a:lnTo>
                      <a:lnTo>
                        <a:pt x="320" y="378"/>
                      </a:lnTo>
                      <a:lnTo>
                        <a:pt x="454" y="447"/>
                      </a:lnTo>
                      <a:lnTo>
                        <a:pt x="336" y="447"/>
                      </a:lnTo>
                      <a:lnTo>
                        <a:pt x="384" y="518"/>
                      </a:lnTo>
                      <a:lnTo>
                        <a:pt x="413" y="602"/>
                      </a:lnTo>
                      <a:lnTo>
                        <a:pt x="378" y="641"/>
                      </a:lnTo>
                      <a:lnTo>
                        <a:pt x="274" y="586"/>
                      </a:lnTo>
                      <a:lnTo>
                        <a:pt x="182" y="542"/>
                      </a:lnTo>
                      <a:lnTo>
                        <a:pt x="161" y="503"/>
                      </a:lnTo>
                      <a:lnTo>
                        <a:pt x="90" y="480"/>
                      </a:lnTo>
                      <a:lnTo>
                        <a:pt x="57" y="378"/>
                      </a:lnTo>
                      <a:lnTo>
                        <a:pt x="48" y="239"/>
                      </a:lnTo>
                      <a:lnTo>
                        <a:pt x="23" y="191"/>
                      </a:lnTo>
                      <a:lnTo>
                        <a:pt x="39" y="136"/>
                      </a:lnTo>
                      <a:lnTo>
                        <a:pt x="0" y="127"/>
                      </a:lnTo>
                      <a:lnTo>
                        <a:pt x="48" y="78"/>
                      </a:lnTo>
                      <a:lnTo>
                        <a:pt x="175" y="63"/>
                      </a:lnTo>
                      <a:lnTo>
                        <a:pt x="343" y="85"/>
                      </a:lnTo>
                      <a:lnTo>
                        <a:pt x="518" y="0"/>
                      </a:lnTo>
                      <a:lnTo>
                        <a:pt x="622" y="94"/>
                      </a:lnTo>
                      <a:lnTo>
                        <a:pt x="678" y="182"/>
                      </a:lnTo>
                      <a:lnTo>
                        <a:pt x="692" y="274"/>
                      </a:lnTo>
                      <a:lnTo>
                        <a:pt x="701" y="406"/>
                      </a:lnTo>
                      <a:lnTo>
                        <a:pt x="705" y="489"/>
                      </a:lnTo>
                      <a:lnTo>
                        <a:pt x="775" y="595"/>
                      </a:lnTo>
                      <a:lnTo>
                        <a:pt x="747" y="57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4833720" y="5246640"/>
                  <a:ext cx="357840" cy="338760"/>
                </a:xfrm>
                <a:custGeom>
                  <a:avLst/>
                  <a:gdLst/>
                  <a:ahLst/>
                  <a:rect l="l" t="t" r="r" b="b"/>
                  <a:pathLst>
                    <a:path w="4318" h="3200">
                      <a:moveTo>
                        <a:pt x="4072" y="2092"/>
                      </a:moveTo>
                      <a:lnTo>
                        <a:pt x="4095" y="1897"/>
                      </a:lnTo>
                      <a:lnTo>
                        <a:pt x="4208" y="1706"/>
                      </a:lnTo>
                      <a:lnTo>
                        <a:pt x="4318" y="1345"/>
                      </a:lnTo>
                      <a:lnTo>
                        <a:pt x="4249" y="1246"/>
                      </a:lnTo>
                      <a:lnTo>
                        <a:pt x="4090" y="1246"/>
                      </a:lnTo>
                      <a:lnTo>
                        <a:pt x="3986" y="1086"/>
                      </a:lnTo>
                      <a:lnTo>
                        <a:pt x="3929" y="1035"/>
                      </a:lnTo>
                      <a:lnTo>
                        <a:pt x="3909" y="1035"/>
                      </a:lnTo>
                      <a:lnTo>
                        <a:pt x="3808" y="1057"/>
                      </a:lnTo>
                      <a:lnTo>
                        <a:pt x="3498" y="561"/>
                      </a:lnTo>
                      <a:lnTo>
                        <a:pt x="3329" y="459"/>
                      </a:lnTo>
                      <a:lnTo>
                        <a:pt x="3087" y="139"/>
                      </a:lnTo>
                      <a:lnTo>
                        <a:pt x="2935" y="99"/>
                      </a:lnTo>
                      <a:lnTo>
                        <a:pt x="2834" y="132"/>
                      </a:lnTo>
                      <a:lnTo>
                        <a:pt x="2723" y="113"/>
                      </a:lnTo>
                      <a:lnTo>
                        <a:pt x="2615" y="148"/>
                      </a:lnTo>
                      <a:lnTo>
                        <a:pt x="2327" y="180"/>
                      </a:lnTo>
                      <a:lnTo>
                        <a:pt x="2237" y="148"/>
                      </a:lnTo>
                      <a:lnTo>
                        <a:pt x="2126" y="189"/>
                      </a:lnTo>
                      <a:lnTo>
                        <a:pt x="2057" y="113"/>
                      </a:lnTo>
                      <a:lnTo>
                        <a:pt x="1973" y="31"/>
                      </a:lnTo>
                      <a:lnTo>
                        <a:pt x="1914" y="0"/>
                      </a:lnTo>
                      <a:lnTo>
                        <a:pt x="1232" y="249"/>
                      </a:lnTo>
                      <a:lnTo>
                        <a:pt x="1171" y="420"/>
                      </a:lnTo>
                      <a:lnTo>
                        <a:pt x="853" y="589"/>
                      </a:lnTo>
                      <a:lnTo>
                        <a:pt x="632" y="627"/>
                      </a:lnTo>
                      <a:lnTo>
                        <a:pt x="441" y="807"/>
                      </a:lnTo>
                      <a:lnTo>
                        <a:pt x="413" y="910"/>
                      </a:lnTo>
                      <a:lnTo>
                        <a:pt x="371" y="1015"/>
                      </a:lnTo>
                      <a:lnTo>
                        <a:pt x="259" y="1356"/>
                      </a:lnTo>
                      <a:lnTo>
                        <a:pt x="210" y="1624"/>
                      </a:lnTo>
                      <a:lnTo>
                        <a:pt x="270" y="1854"/>
                      </a:lnTo>
                      <a:lnTo>
                        <a:pt x="180" y="2075"/>
                      </a:lnTo>
                      <a:lnTo>
                        <a:pt x="90" y="2103"/>
                      </a:lnTo>
                      <a:lnTo>
                        <a:pt x="0" y="2193"/>
                      </a:lnTo>
                      <a:lnTo>
                        <a:pt x="191" y="2792"/>
                      </a:lnTo>
                      <a:lnTo>
                        <a:pt x="399" y="2861"/>
                      </a:lnTo>
                      <a:lnTo>
                        <a:pt x="761" y="2613"/>
                      </a:lnTo>
                      <a:lnTo>
                        <a:pt x="1042" y="1945"/>
                      </a:lnTo>
                      <a:lnTo>
                        <a:pt x="1211" y="2262"/>
                      </a:lnTo>
                      <a:lnTo>
                        <a:pt x="1303" y="2771"/>
                      </a:lnTo>
                      <a:lnTo>
                        <a:pt x="1232" y="2903"/>
                      </a:lnTo>
                      <a:lnTo>
                        <a:pt x="1204" y="3129"/>
                      </a:lnTo>
                      <a:lnTo>
                        <a:pt x="1261" y="3200"/>
                      </a:lnTo>
                      <a:lnTo>
                        <a:pt x="3408" y="2892"/>
                      </a:lnTo>
                      <a:lnTo>
                        <a:pt x="3355" y="1517"/>
                      </a:lnTo>
                      <a:lnTo>
                        <a:pt x="3569" y="1695"/>
                      </a:lnTo>
                      <a:lnTo>
                        <a:pt x="3707" y="1714"/>
                      </a:lnTo>
                      <a:lnTo>
                        <a:pt x="3777" y="1846"/>
                      </a:lnTo>
                      <a:lnTo>
                        <a:pt x="3938" y="1854"/>
                      </a:lnTo>
                      <a:lnTo>
                        <a:pt x="4028" y="1994"/>
                      </a:lnTo>
                      <a:lnTo>
                        <a:pt x="4072" y="20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5017320" y="5545080"/>
                  <a:ext cx="33120" cy="29520"/>
                </a:xfrm>
                <a:custGeom>
                  <a:avLst/>
                  <a:gdLst/>
                  <a:ahLst/>
                  <a:rect l="l" t="t" r="r" b="b"/>
                  <a:pathLst>
                    <a:path w="400" h="279">
                      <a:moveTo>
                        <a:pt x="279" y="0"/>
                      </a:moveTo>
                      <a:lnTo>
                        <a:pt x="130" y="0"/>
                      </a:lnTo>
                      <a:lnTo>
                        <a:pt x="8" y="83"/>
                      </a:lnTo>
                      <a:lnTo>
                        <a:pt x="0" y="242"/>
                      </a:lnTo>
                      <a:lnTo>
                        <a:pt x="40" y="279"/>
                      </a:lnTo>
                      <a:lnTo>
                        <a:pt x="391" y="210"/>
                      </a:lnTo>
                      <a:lnTo>
                        <a:pt x="400" y="162"/>
                      </a:lnTo>
                      <a:lnTo>
                        <a:pt x="349" y="30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851720" y="5347800"/>
                  <a:ext cx="18360" cy="104040"/>
                </a:xfrm>
                <a:custGeom>
                  <a:avLst/>
                  <a:gdLst/>
                  <a:ahLst/>
                  <a:rect l="l" t="t" r="r" b="b"/>
                  <a:pathLst>
                    <a:path w="231" h="977">
                      <a:moveTo>
                        <a:pt x="183" y="0"/>
                      </a:moveTo>
                      <a:lnTo>
                        <a:pt x="183" y="283"/>
                      </a:lnTo>
                      <a:lnTo>
                        <a:pt x="231" y="659"/>
                      </a:lnTo>
                      <a:lnTo>
                        <a:pt x="90" y="648"/>
                      </a:lnTo>
                      <a:lnTo>
                        <a:pt x="210" y="856"/>
                      </a:lnTo>
                      <a:lnTo>
                        <a:pt x="148" y="977"/>
                      </a:lnTo>
                      <a:lnTo>
                        <a:pt x="0" y="687"/>
                      </a:lnTo>
                      <a:lnTo>
                        <a:pt x="0" y="560"/>
                      </a:lnTo>
                      <a:lnTo>
                        <a:pt x="130" y="129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4838400" y="5389920"/>
                  <a:ext cx="83160" cy="158400"/>
                </a:xfrm>
                <a:custGeom>
                  <a:avLst/>
                  <a:gdLst/>
                  <a:ahLst/>
                  <a:rect l="l" t="t" r="r" b="b"/>
                  <a:pathLst>
                    <a:path w="1008" h="1494">
                      <a:moveTo>
                        <a:pt x="0" y="778"/>
                      </a:moveTo>
                      <a:lnTo>
                        <a:pt x="28" y="837"/>
                      </a:lnTo>
                      <a:lnTo>
                        <a:pt x="28" y="975"/>
                      </a:lnTo>
                      <a:lnTo>
                        <a:pt x="99" y="1156"/>
                      </a:lnTo>
                      <a:lnTo>
                        <a:pt x="159" y="1048"/>
                      </a:lnTo>
                      <a:lnTo>
                        <a:pt x="281" y="1305"/>
                      </a:lnTo>
                      <a:lnTo>
                        <a:pt x="120" y="1378"/>
                      </a:lnTo>
                      <a:lnTo>
                        <a:pt x="342" y="1494"/>
                      </a:lnTo>
                      <a:lnTo>
                        <a:pt x="648" y="1385"/>
                      </a:lnTo>
                      <a:lnTo>
                        <a:pt x="839" y="1057"/>
                      </a:lnTo>
                      <a:lnTo>
                        <a:pt x="883" y="820"/>
                      </a:lnTo>
                      <a:lnTo>
                        <a:pt x="911" y="589"/>
                      </a:lnTo>
                      <a:lnTo>
                        <a:pt x="1008" y="310"/>
                      </a:lnTo>
                      <a:lnTo>
                        <a:pt x="869" y="30"/>
                      </a:lnTo>
                      <a:lnTo>
                        <a:pt x="812" y="0"/>
                      </a:lnTo>
                      <a:lnTo>
                        <a:pt x="710" y="279"/>
                      </a:lnTo>
                      <a:lnTo>
                        <a:pt x="779" y="350"/>
                      </a:lnTo>
                      <a:lnTo>
                        <a:pt x="890" y="400"/>
                      </a:lnTo>
                      <a:lnTo>
                        <a:pt x="770" y="679"/>
                      </a:lnTo>
                      <a:lnTo>
                        <a:pt x="770" y="848"/>
                      </a:lnTo>
                      <a:lnTo>
                        <a:pt x="648" y="1026"/>
                      </a:lnTo>
                      <a:lnTo>
                        <a:pt x="438" y="1057"/>
                      </a:lnTo>
                      <a:lnTo>
                        <a:pt x="307" y="589"/>
                      </a:lnTo>
                      <a:lnTo>
                        <a:pt x="69" y="736"/>
                      </a:lnTo>
                      <a:lnTo>
                        <a:pt x="0" y="77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4915800" y="529668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2355" h="2742">
                      <a:moveTo>
                        <a:pt x="303" y="558"/>
                      </a:moveTo>
                      <a:lnTo>
                        <a:pt x="413" y="639"/>
                      </a:lnTo>
                      <a:lnTo>
                        <a:pt x="289" y="1119"/>
                      </a:lnTo>
                      <a:lnTo>
                        <a:pt x="289" y="1398"/>
                      </a:lnTo>
                      <a:lnTo>
                        <a:pt x="630" y="1476"/>
                      </a:lnTo>
                      <a:lnTo>
                        <a:pt x="604" y="411"/>
                      </a:lnTo>
                      <a:lnTo>
                        <a:pt x="630" y="208"/>
                      </a:lnTo>
                      <a:lnTo>
                        <a:pt x="503" y="150"/>
                      </a:lnTo>
                      <a:lnTo>
                        <a:pt x="382" y="231"/>
                      </a:lnTo>
                      <a:lnTo>
                        <a:pt x="360" y="208"/>
                      </a:lnTo>
                      <a:lnTo>
                        <a:pt x="450" y="143"/>
                      </a:lnTo>
                      <a:lnTo>
                        <a:pt x="503" y="72"/>
                      </a:lnTo>
                      <a:lnTo>
                        <a:pt x="833" y="0"/>
                      </a:lnTo>
                      <a:lnTo>
                        <a:pt x="991" y="84"/>
                      </a:lnTo>
                      <a:lnTo>
                        <a:pt x="943" y="121"/>
                      </a:lnTo>
                      <a:lnTo>
                        <a:pt x="833" y="112"/>
                      </a:lnTo>
                      <a:lnTo>
                        <a:pt x="782" y="252"/>
                      </a:lnTo>
                      <a:lnTo>
                        <a:pt x="1092" y="1558"/>
                      </a:lnTo>
                      <a:lnTo>
                        <a:pt x="1413" y="1747"/>
                      </a:lnTo>
                      <a:lnTo>
                        <a:pt x="1965" y="2035"/>
                      </a:lnTo>
                      <a:lnTo>
                        <a:pt x="1905" y="1875"/>
                      </a:lnTo>
                      <a:lnTo>
                        <a:pt x="2207" y="1993"/>
                      </a:lnTo>
                      <a:lnTo>
                        <a:pt x="2297" y="1773"/>
                      </a:lnTo>
                      <a:lnTo>
                        <a:pt x="2345" y="1785"/>
                      </a:lnTo>
                      <a:lnTo>
                        <a:pt x="2306" y="2145"/>
                      </a:lnTo>
                      <a:lnTo>
                        <a:pt x="2355" y="2343"/>
                      </a:lnTo>
                      <a:lnTo>
                        <a:pt x="2133" y="2393"/>
                      </a:lnTo>
                      <a:lnTo>
                        <a:pt x="1598" y="2356"/>
                      </a:lnTo>
                      <a:lnTo>
                        <a:pt x="1723" y="2272"/>
                      </a:lnTo>
                      <a:lnTo>
                        <a:pt x="1644" y="2126"/>
                      </a:lnTo>
                      <a:lnTo>
                        <a:pt x="1732" y="2085"/>
                      </a:lnTo>
                      <a:lnTo>
                        <a:pt x="1503" y="2015"/>
                      </a:lnTo>
                      <a:lnTo>
                        <a:pt x="1503" y="2165"/>
                      </a:lnTo>
                      <a:lnTo>
                        <a:pt x="1444" y="2334"/>
                      </a:lnTo>
                      <a:lnTo>
                        <a:pt x="1246" y="2405"/>
                      </a:lnTo>
                      <a:lnTo>
                        <a:pt x="1273" y="2384"/>
                      </a:lnTo>
                      <a:lnTo>
                        <a:pt x="1135" y="2043"/>
                      </a:lnTo>
                      <a:lnTo>
                        <a:pt x="863" y="1868"/>
                      </a:lnTo>
                      <a:lnTo>
                        <a:pt x="591" y="1826"/>
                      </a:lnTo>
                      <a:lnTo>
                        <a:pt x="663" y="1916"/>
                      </a:lnTo>
                      <a:lnTo>
                        <a:pt x="624" y="1936"/>
                      </a:lnTo>
                      <a:lnTo>
                        <a:pt x="773" y="1976"/>
                      </a:lnTo>
                      <a:lnTo>
                        <a:pt x="1054" y="2204"/>
                      </a:lnTo>
                      <a:lnTo>
                        <a:pt x="1171" y="2322"/>
                      </a:lnTo>
                      <a:lnTo>
                        <a:pt x="962" y="2315"/>
                      </a:lnTo>
                      <a:lnTo>
                        <a:pt x="734" y="2246"/>
                      </a:lnTo>
                      <a:lnTo>
                        <a:pt x="923" y="2405"/>
                      </a:lnTo>
                      <a:lnTo>
                        <a:pt x="743" y="2463"/>
                      </a:lnTo>
                      <a:lnTo>
                        <a:pt x="521" y="2601"/>
                      </a:lnTo>
                      <a:lnTo>
                        <a:pt x="851" y="2525"/>
                      </a:lnTo>
                      <a:lnTo>
                        <a:pt x="552" y="2742"/>
                      </a:lnTo>
                      <a:lnTo>
                        <a:pt x="250" y="2742"/>
                      </a:lnTo>
                      <a:lnTo>
                        <a:pt x="213" y="2652"/>
                      </a:lnTo>
                      <a:lnTo>
                        <a:pt x="303" y="2272"/>
                      </a:lnTo>
                      <a:lnTo>
                        <a:pt x="270" y="2114"/>
                      </a:lnTo>
                      <a:lnTo>
                        <a:pt x="0" y="1178"/>
                      </a:lnTo>
                      <a:lnTo>
                        <a:pt x="81" y="720"/>
                      </a:lnTo>
                      <a:lnTo>
                        <a:pt x="303" y="558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5007960" y="5256360"/>
                  <a:ext cx="70560" cy="65160"/>
                </a:xfrm>
                <a:custGeom>
                  <a:avLst/>
                  <a:gdLst/>
                  <a:ahLst/>
                  <a:rect l="l" t="t" r="r" b="b"/>
                  <a:pathLst>
                    <a:path w="851" h="616">
                      <a:moveTo>
                        <a:pt x="0" y="385"/>
                      </a:moveTo>
                      <a:lnTo>
                        <a:pt x="77" y="207"/>
                      </a:lnTo>
                      <a:lnTo>
                        <a:pt x="77" y="348"/>
                      </a:lnTo>
                      <a:lnTo>
                        <a:pt x="299" y="97"/>
                      </a:lnTo>
                      <a:lnTo>
                        <a:pt x="378" y="616"/>
                      </a:lnTo>
                      <a:lnTo>
                        <a:pt x="417" y="227"/>
                      </a:lnTo>
                      <a:lnTo>
                        <a:pt x="618" y="69"/>
                      </a:lnTo>
                      <a:lnTo>
                        <a:pt x="740" y="97"/>
                      </a:lnTo>
                      <a:lnTo>
                        <a:pt x="851" y="7"/>
                      </a:lnTo>
                      <a:lnTo>
                        <a:pt x="721" y="40"/>
                      </a:lnTo>
                      <a:lnTo>
                        <a:pt x="653" y="40"/>
                      </a:lnTo>
                      <a:lnTo>
                        <a:pt x="618" y="0"/>
                      </a:lnTo>
                      <a:lnTo>
                        <a:pt x="521" y="69"/>
                      </a:lnTo>
                      <a:lnTo>
                        <a:pt x="389" y="47"/>
                      </a:lnTo>
                      <a:lnTo>
                        <a:pt x="279" y="40"/>
                      </a:lnTo>
                      <a:lnTo>
                        <a:pt x="118" y="77"/>
                      </a:lnTo>
                      <a:lnTo>
                        <a:pt x="21" y="189"/>
                      </a:lnTo>
                      <a:lnTo>
                        <a:pt x="0" y="385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5085000" y="5316480"/>
                  <a:ext cx="66600" cy="167760"/>
                </a:xfrm>
                <a:custGeom>
                  <a:avLst/>
                  <a:gdLst/>
                  <a:ahLst/>
                  <a:rect l="l" t="t" r="r" b="b"/>
                  <a:pathLst>
                    <a:path w="811" h="1587">
                      <a:moveTo>
                        <a:pt x="481" y="171"/>
                      </a:moveTo>
                      <a:lnTo>
                        <a:pt x="481" y="429"/>
                      </a:lnTo>
                      <a:lnTo>
                        <a:pt x="380" y="600"/>
                      </a:lnTo>
                      <a:lnTo>
                        <a:pt x="239" y="429"/>
                      </a:lnTo>
                      <a:lnTo>
                        <a:pt x="128" y="259"/>
                      </a:lnTo>
                      <a:lnTo>
                        <a:pt x="239" y="860"/>
                      </a:lnTo>
                      <a:lnTo>
                        <a:pt x="207" y="1257"/>
                      </a:lnTo>
                      <a:lnTo>
                        <a:pt x="0" y="1556"/>
                      </a:lnTo>
                      <a:lnTo>
                        <a:pt x="170" y="1587"/>
                      </a:lnTo>
                      <a:lnTo>
                        <a:pt x="361" y="1483"/>
                      </a:lnTo>
                      <a:lnTo>
                        <a:pt x="318" y="840"/>
                      </a:lnTo>
                      <a:lnTo>
                        <a:pt x="509" y="1049"/>
                      </a:lnTo>
                      <a:lnTo>
                        <a:pt x="640" y="1049"/>
                      </a:lnTo>
                      <a:lnTo>
                        <a:pt x="541" y="939"/>
                      </a:lnTo>
                      <a:lnTo>
                        <a:pt x="521" y="770"/>
                      </a:lnTo>
                      <a:lnTo>
                        <a:pt x="582" y="600"/>
                      </a:lnTo>
                      <a:lnTo>
                        <a:pt x="659" y="489"/>
                      </a:lnTo>
                      <a:lnTo>
                        <a:pt x="721" y="392"/>
                      </a:lnTo>
                      <a:lnTo>
                        <a:pt x="762" y="528"/>
                      </a:lnTo>
                      <a:lnTo>
                        <a:pt x="811" y="400"/>
                      </a:lnTo>
                      <a:lnTo>
                        <a:pt x="780" y="293"/>
                      </a:lnTo>
                      <a:lnTo>
                        <a:pt x="721" y="150"/>
                      </a:lnTo>
                      <a:lnTo>
                        <a:pt x="548" y="0"/>
                      </a:lnTo>
                      <a:lnTo>
                        <a:pt x="481" y="171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5146560" y="5374080"/>
                  <a:ext cx="45360" cy="64080"/>
                </a:xfrm>
                <a:custGeom>
                  <a:avLst/>
                  <a:gdLst/>
                  <a:ahLst/>
                  <a:rect l="l" t="t" r="r" b="b"/>
                  <a:pathLst>
                    <a:path w="552" h="609">
                      <a:moveTo>
                        <a:pt x="152" y="0"/>
                      </a:moveTo>
                      <a:lnTo>
                        <a:pt x="31" y="152"/>
                      </a:lnTo>
                      <a:lnTo>
                        <a:pt x="132" y="293"/>
                      </a:lnTo>
                      <a:lnTo>
                        <a:pt x="373" y="133"/>
                      </a:lnTo>
                      <a:lnTo>
                        <a:pt x="453" y="293"/>
                      </a:lnTo>
                      <a:lnTo>
                        <a:pt x="0" y="609"/>
                      </a:lnTo>
                      <a:lnTo>
                        <a:pt x="420" y="541"/>
                      </a:lnTo>
                      <a:lnTo>
                        <a:pt x="552" y="133"/>
                      </a:lnTo>
                      <a:lnTo>
                        <a:pt x="453" y="42"/>
                      </a:lnTo>
                      <a:lnTo>
                        <a:pt x="299" y="62"/>
                      </a:lnTo>
                      <a:lnTo>
                        <a:pt x="193" y="23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4967640" y="5291640"/>
                  <a:ext cx="68040" cy="259920"/>
                </a:xfrm>
                <a:custGeom>
                  <a:avLst/>
                  <a:gdLst/>
                  <a:ahLst/>
                  <a:rect l="l" t="t" r="r" b="b"/>
                  <a:pathLst>
                    <a:path w="820" h="2453">
                      <a:moveTo>
                        <a:pt x="186" y="21"/>
                      </a:moveTo>
                      <a:lnTo>
                        <a:pt x="178" y="110"/>
                      </a:lnTo>
                      <a:lnTo>
                        <a:pt x="136" y="198"/>
                      </a:lnTo>
                      <a:lnTo>
                        <a:pt x="119" y="228"/>
                      </a:lnTo>
                      <a:lnTo>
                        <a:pt x="186" y="309"/>
                      </a:lnTo>
                      <a:lnTo>
                        <a:pt x="288" y="487"/>
                      </a:lnTo>
                      <a:lnTo>
                        <a:pt x="400" y="817"/>
                      </a:lnTo>
                      <a:lnTo>
                        <a:pt x="520" y="1245"/>
                      </a:lnTo>
                      <a:lnTo>
                        <a:pt x="693" y="1806"/>
                      </a:lnTo>
                      <a:lnTo>
                        <a:pt x="820" y="2125"/>
                      </a:lnTo>
                      <a:lnTo>
                        <a:pt x="672" y="2453"/>
                      </a:lnTo>
                      <a:lnTo>
                        <a:pt x="347" y="2204"/>
                      </a:lnTo>
                      <a:lnTo>
                        <a:pt x="68" y="708"/>
                      </a:lnTo>
                      <a:lnTo>
                        <a:pt x="46" y="440"/>
                      </a:lnTo>
                      <a:lnTo>
                        <a:pt x="68" y="270"/>
                      </a:lnTo>
                      <a:lnTo>
                        <a:pt x="68" y="228"/>
                      </a:lnTo>
                      <a:lnTo>
                        <a:pt x="0" y="141"/>
                      </a:lnTo>
                      <a:lnTo>
                        <a:pt x="6" y="0"/>
                      </a:lnTo>
                      <a:lnTo>
                        <a:pt x="149" y="11"/>
                      </a:lnTo>
                      <a:lnTo>
                        <a:pt x="186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4964400" y="5291640"/>
                  <a:ext cx="71640" cy="262440"/>
                </a:xfrm>
                <a:custGeom>
                  <a:avLst/>
                  <a:gdLst/>
                  <a:ahLst/>
                  <a:rect l="l" t="t" r="r" b="b"/>
                  <a:pathLst>
                    <a:path w="862" h="2474">
                      <a:moveTo>
                        <a:pt x="152" y="11"/>
                      </a:moveTo>
                      <a:lnTo>
                        <a:pt x="129" y="251"/>
                      </a:lnTo>
                      <a:lnTo>
                        <a:pt x="178" y="670"/>
                      </a:lnTo>
                      <a:lnTo>
                        <a:pt x="281" y="1141"/>
                      </a:lnTo>
                      <a:lnTo>
                        <a:pt x="461" y="1863"/>
                      </a:lnTo>
                      <a:lnTo>
                        <a:pt x="499" y="2174"/>
                      </a:lnTo>
                      <a:lnTo>
                        <a:pt x="691" y="2370"/>
                      </a:lnTo>
                      <a:lnTo>
                        <a:pt x="811" y="2112"/>
                      </a:lnTo>
                      <a:lnTo>
                        <a:pt x="629" y="1694"/>
                      </a:lnTo>
                      <a:lnTo>
                        <a:pt x="519" y="1257"/>
                      </a:lnTo>
                      <a:lnTo>
                        <a:pt x="422" y="876"/>
                      </a:lnTo>
                      <a:lnTo>
                        <a:pt x="288" y="468"/>
                      </a:lnTo>
                      <a:lnTo>
                        <a:pt x="211" y="309"/>
                      </a:lnTo>
                      <a:lnTo>
                        <a:pt x="170" y="228"/>
                      </a:lnTo>
                      <a:lnTo>
                        <a:pt x="288" y="389"/>
                      </a:lnTo>
                      <a:lnTo>
                        <a:pt x="409" y="738"/>
                      </a:lnTo>
                      <a:lnTo>
                        <a:pt x="562" y="1195"/>
                      </a:lnTo>
                      <a:lnTo>
                        <a:pt x="714" y="1705"/>
                      </a:lnTo>
                      <a:lnTo>
                        <a:pt x="783" y="1936"/>
                      </a:lnTo>
                      <a:lnTo>
                        <a:pt x="862" y="2112"/>
                      </a:lnTo>
                      <a:lnTo>
                        <a:pt x="721" y="2474"/>
                      </a:lnTo>
                      <a:lnTo>
                        <a:pt x="380" y="2193"/>
                      </a:lnTo>
                      <a:lnTo>
                        <a:pt x="251" y="1505"/>
                      </a:lnTo>
                      <a:lnTo>
                        <a:pt x="119" y="717"/>
                      </a:lnTo>
                      <a:lnTo>
                        <a:pt x="110" y="440"/>
                      </a:lnTo>
                      <a:lnTo>
                        <a:pt x="88" y="228"/>
                      </a:lnTo>
                      <a:lnTo>
                        <a:pt x="0" y="110"/>
                      </a:lnTo>
                      <a:lnTo>
                        <a:pt x="60" y="0"/>
                      </a:lnTo>
                      <a:lnTo>
                        <a:pt x="152" y="1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4899240" y="5283360"/>
                  <a:ext cx="47520" cy="108360"/>
                </a:xfrm>
                <a:custGeom>
                  <a:avLst/>
                  <a:gdLst/>
                  <a:ahLst/>
                  <a:rect l="l" t="t" r="r" b="b"/>
                  <a:pathLst>
                    <a:path w="578" h="1028">
                      <a:moveTo>
                        <a:pt x="42" y="938"/>
                      </a:moveTo>
                      <a:lnTo>
                        <a:pt x="37" y="775"/>
                      </a:lnTo>
                      <a:lnTo>
                        <a:pt x="0" y="360"/>
                      </a:lnTo>
                      <a:lnTo>
                        <a:pt x="37" y="276"/>
                      </a:lnTo>
                      <a:lnTo>
                        <a:pt x="293" y="0"/>
                      </a:lnTo>
                      <a:lnTo>
                        <a:pt x="523" y="48"/>
                      </a:lnTo>
                      <a:lnTo>
                        <a:pt x="578" y="184"/>
                      </a:lnTo>
                      <a:lnTo>
                        <a:pt x="528" y="247"/>
                      </a:lnTo>
                      <a:lnTo>
                        <a:pt x="563" y="465"/>
                      </a:lnTo>
                      <a:lnTo>
                        <a:pt x="486" y="487"/>
                      </a:lnTo>
                      <a:lnTo>
                        <a:pt x="464" y="705"/>
                      </a:lnTo>
                      <a:lnTo>
                        <a:pt x="406" y="805"/>
                      </a:lnTo>
                      <a:lnTo>
                        <a:pt x="358" y="874"/>
                      </a:lnTo>
                      <a:lnTo>
                        <a:pt x="305" y="938"/>
                      </a:lnTo>
                      <a:lnTo>
                        <a:pt x="263" y="1028"/>
                      </a:lnTo>
                      <a:lnTo>
                        <a:pt x="92" y="1001"/>
                      </a:lnTo>
                      <a:lnTo>
                        <a:pt x="42" y="938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903200" y="5114520"/>
                  <a:ext cx="107280" cy="172800"/>
                </a:xfrm>
                <a:custGeom>
                  <a:avLst/>
                  <a:gdLst/>
                  <a:ahLst/>
                  <a:rect l="l" t="t" r="r" b="b"/>
                  <a:pathLst>
                    <a:path w="1289" h="1630">
                      <a:moveTo>
                        <a:pt x="37" y="717"/>
                      </a:moveTo>
                      <a:lnTo>
                        <a:pt x="0" y="784"/>
                      </a:lnTo>
                      <a:lnTo>
                        <a:pt x="0" y="915"/>
                      </a:lnTo>
                      <a:lnTo>
                        <a:pt x="85" y="1036"/>
                      </a:lnTo>
                      <a:lnTo>
                        <a:pt x="200" y="1120"/>
                      </a:lnTo>
                      <a:lnTo>
                        <a:pt x="235" y="1120"/>
                      </a:lnTo>
                      <a:lnTo>
                        <a:pt x="298" y="1263"/>
                      </a:lnTo>
                      <a:lnTo>
                        <a:pt x="348" y="1395"/>
                      </a:lnTo>
                      <a:lnTo>
                        <a:pt x="447" y="1508"/>
                      </a:lnTo>
                      <a:lnTo>
                        <a:pt x="555" y="1572"/>
                      </a:lnTo>
                      <a:lnTo>
                        <a:pt x="705" y="1621"/>
                      </a:lnTo>
                      <a:lnTo>
                        <a:pt x="855" y="1630"/>
                      </a:lnTo>
                      <a:lnTo>
                        <a:pt x="947" y="1579"/>
                      </a:lnTo>
                      <a:lnTo>
                        <a:pt x="1019" y="1494"/>
                      </a:lnTo>
                      <a:lnTo>
                        <a:pt x="1090" y="1374"/>
                      </a:lnTo>
                      <a:lnTo>
                        <a:pt x="1118" y="1263"/>
                      </a:lnTo>
                      <a:lnTo>
                        <a:pt x="1140" y="1056"/>
                      </a:lnTo>
                      <a:lnTo>
                        <a:pt x="1203" y="1001"/>
                      </a:lnTo>
                      <a:lnTo>
                        <a:pt x="1284" y="889"/>
                      </a:lnTo>
                      <a:lnTo>
                        <a:pt x="1289" y="768"/>
                      </a:lnTo>
                      <a:lnTo>
                        <a:pt x="1274" y="662"/>
                      </a:lnTo>
                      <a:lnTo>
                        <a:pt x="1261" y="627"/>
                      </a:lnTo>
                      <a:lnTo>
                        <a:pt x="1203" y="595"/>
                      </a:lnTo>
                      <a:lnTo>
                        <a:pt x="1118" y="325"/>
                      </a:lnTo>
                      <a:lnTo>
                        <a:pt x="1012" y="94"/>
                      </a:lnTo>
                      <a:lnTo>
                        <a:pt x="692" y="0"/>
                      </a:lnTo>
                      <a:lnTo>
                        <a:pt x="270" y="85"/>
                      </a:lnTo>
                      <a:lnTo>
                        <a:pt x="85" y="247"/>
                      </a:lnTo>
                      <a:lnTo>
                        <a:pt x="41" y="429"/>
                      </a:lnTo>
                      <a:lnTo>
                        <a:pt x="41" y="657"/>
                      </a:lnTo>
                      <a:lnTo>
                        <a:pt x="37" y="717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4928400" y="5217120"/>
                  <a:ext cx="18360" cy="13320"/>
                </a:xfrm>
                <a:custGeom>
                  <a:avLst/>
                  <a:gdLst/>
                  <a:ahLst/>
                  <a:rect l="l" t="t" r="r" b="b"/>
                  <a:pathLst>
                    <a:path w="223" h="120">
                      <a:moveTo>
                        <a:pt x="223" y="6"/>
                      </a:moveTo>
                      <a:lnTo>
                        <a:pt x="223" y="41"/>
                      </a:lnTo>
                      <a:lnTo>
                        <a:pt x="140" y="108"/>
                      </a:lnTo>
                      <a:lnTo>
                        <a:pt x="57" y="120"/>
                      </a:lnTo>
                      <a:lnTo>
                        <a:pt x="0" y="78"/>
                      </a:lnTo>
                      <a:lnTo>
                        <a:pt x="16" y="0"/>
                      </a:lnTo>
                      <a:lnTo>
                        <a:pt x="92" y="28"/>
                      </a:lnTo>
                      <a:lnTo>
                        <a:pt x="140" y="35"/>
                      </a:lnTo>
                      <a:lnTo>
                        <a:pt x="223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4971600" y="5206320"/>
                  <a:ext cx="19800" cy="15120"/>
                </a:xfrm>
                <a:custGeom>
                  <a:avLst/>
                  <a:gdLst/>
                  <a:ahLst/>
                  <a:rect l="l" t="t" r="r" b="b"/>
                  <a:pathLst>
                    <a:path w="245" h="141">
                      <a:moveTo>
                        <a:pt x="0" y="85"/>
                      </a:moveTo>
                      <a:lnTo>
                        <a:pt x="18" y="112"/>
                      </a:lnTo>
                      <a:lnTo>
                        <a:pt x="117" y="141"/>
                      </a:lnTo>
                      <a:lnTo>
                        <a:pt x="212" y="134"/>
                      </a:lnTo>
                      <a:lnTo>
                        <a:pt x="245" y="79"/>
                      </a:lnTo>
                      <a:lnTo>
                        <a:pt x="238" y="0"/>
                      </a:lnTo>
                      <a:lnTo>
                        <a:pt x="179" y="42"/>
                      </a:lnTo>
                      <a:lnTo>
                        <a:pt x="139" y="79"/>
                      </a:lnTo>
                      <a:lnTo>
                        <a:pt x="83" y="9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4956840" y="5211360"/>
                  <a:ext cx="10440" cy="25200"/>
                </a:xfrm>
                <a:custGeom>
                  <a:avLst/>
                  <a:gdLst/>
                  <a:ahLst/>
                  <a:rect l="l" t="t" r="r" b="b"/>
                  <a:pathLst>
                    <a:path w="120" h="235">
                      <a:moveTo>
                        <a:pt x="57" y="37"/>
                      </a:moveTo>
                      <a:lnTo>
                        <a:pt x="37" y="0"/>
                      </a:lnTo>
                      <a:lnTo>
                        <a:pt x="13" y="16"/>
                      </a:lnTo>
                      <a:lnTo>
                        <a:pt x="22" y="141"/>
                      </a:lnTo>
                      <a:lnTo>
                        <a:pt x="0" y="169"/>
                      </a:lnTo>
                      <a:lnTo>
                        <a:pt x="13" y="220"/>
                      </a:lnTo>
                      <a:lnTo>
                        <a:pt x="64" y="235"/>
                      </a:lnTo>
                      <a:lnTo>
                        <a:pt x="108" y="220"/>
                      </a:lnTo>
                      <a:lnTo>
                        <a:pt x="120" y="178"/>
                      </a:lnTo>
                      <a:lnTo>
                        <a:pt x="112" y="148"/>
                      </a:lnTo>
                      <a:lnTo>
                        <a:pt x="78" y="121"/>
                      </a:lnTo>
                      <a:lnTo>
                        <a:pt x="57" y="3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4948920" y="522648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25" y="42"/>
                      </a:lnTo>
                      <a:lnTo>
                        <a:pt x="51" y="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4968720" y="522396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48" h="36">
                      <a:moveTo>
                        <a:pt x="0" y="6"/>
                      </a:moveTo>
                      <a:lnTo>
                        <a:pt x="21" y="36"/>
                      </a:lnTo>
                      <a:lnTo>
                        <a:pt x="48" y="6"/>
                      </a:lnTo>
                      <a:lnTo>
                        <a:pt x="2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4951800" y="5252040"/>
                  <a:ext cx="27720" cy="7200"/>
                </a:xfrm>
                <a:custGeom>
                  <a:avLst/>
                  <a:gdLst/>
                  <a:ahLst/>
                  <a:rect l="l" t="t" r="r" b="b"/>
                  <a:pathLst>
                    <a:path w="343" h="70">
                      <a:moveTo>
                        <a:pt x="0" y="44"/>
                      </a:moveTo>
                      <a:lnTo>
                        <a:pt x="128" y="70"/>
                      </a:lnTo>
                      <a:lnTo>
                        <a:pt x="235" y="55"/>
                      </a:lnTo>
                      <a:lnTo>
                        <a:pt x="322" y="21"/>
                      </a:lnTo>
                      <a:lnTo>
                        <a:pt x="343" y="7"/>
                      </a:lnTo>
                      <a:lnTo>
                        <a:pt x="297" y="0"/>
                      </a:lnTo>
                      <a:lnTo>
                        <a:pt x="214" y="21"/>
                      </a:lnTo>
                      <a:lnTo>
                        <a:pt x="135" y="26"/>
                      </a:lnTo>
                      <a:lnTo>
                        <a:pt x="20" y="2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4915800" y="5147640"/>
                  <a:ext cx="29520" cy="44640"/>
                </a:xfrm>
                <a:custGeom>
                  <a:avLst/>
                  <a:gdLst/>
                  <a:ahLst/>
                  <a:rect l="l" t="t" r="r" b="b"/>
                  <a:pathLst>
                    <a:path w="363" h="429">
                      <a:moveTo>
                        <a:pt x="226" y="35"/>
                      </a:moveTo>
                      <a:lnTo>
                        <a:pt x="158" y="99"/>
                      </a:lnTo>
                      <a:lnTo>
                        <a:pt x="127" y="182"/>
                      </a:lnTo>
                      <a:lnTo>
                        <a:pt x="127" y="266"/>
                      </a:lnTo>
                      <a:lnTo>
                        <a:pt x="149" y="337"/>
                      </a:lnTo>
                      <a:lnTo>
                        <a:pt x="363" y="394"/>
                      </a:lnTo>
                      <a:lnTo>
                        <a:pt x="185" y="389"/>
                      </a:lnTo>
                      <a:lnTo>
                        <a:pt x="63" y="429"/>
                      </a:lnTo>
                      <a:lnTo>
                        <a:pt x="79" y="380"/>
                      </a:lnTo>
                      <a:lnTo>
                        <a:pt x="33" y="323"/>
                      </a:lnTo>
                      <a:lnTo>
                        <a:pt x="6" y="231"/>
                      </a:lnTo>
                      <a:lnTo>
                        <a:pt x="0" y="134"/>
                      </a:lnTo>
                      <a:lnTo>
                        <a:pt x="19" y="62"/>
                      </a:lnTo>
                      <a:lnTo>
                        <a:pt x="68" y="14"/>
                      </a:lnTo>
                      <a:lnTo>
                        <a:pt x="136" y="0"/>
                      </a:lnTo>
                      <a:lnTo>
                        <a:pt x="192" y="7"/>
                      </a:lnTo>
                      <a:lnTo>
                        <a:pt x="226" y="3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4961520" y="517068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314" h="154">
                      <a:moveTo>
                        <a:pt x="70" y="115"/>
                      </a:moveTo>
                      <a:lnTo>
                        <a:pt x="226" y="34"/>
                      </a:lnTo>
                      <a:lnTo>
                        <a:pt x="314" y="30"/>
                      </a:lnTo>
                      <a:lnTo>
                        <a:pt x="249" y="0"/>
                      </a:lnTo>
                      <a:lnTo>
                        <a:pt x="176" y="30"/>
                      </a:lnTo>
                      <a:lnTo>
                        <a:pt x="0" y="154"/>
                      </a:lnTo>
                      <a:lnTo>
                        <a:pt x="70" y="115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4906800" y="5197680"/>
                  <a:ext cx="8280" cy="6840"/>
                </a:xfrm>
                <a:custGeom>
                  <a:avLst/>
                  <a:gdLst/>
                  <a:ahLst/>
                  <a:rect l="l" t="t" r="r" b="b"/>
                  <a:pathLst>
                    <a:path w="105" h="60">
                      <a:moveTo>
                        <a:pt x="0" y="44"/>
                      </a:moveTo>
                      <a:lnTo>
                        <a:pt x="96" y="60"/>
                      </a:lnTo>
                      <a:lnTo>
                        <a:pt x="105" y="31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4996800" y="518256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99" h="111">
                      <a:moveTo>
                        <a:pt x="0" y="111"/>
                      </a:moveTo>
                      <a:lnTo>
                        <a:pt x="19" y="111"/>
                      </a:lnTo>
                      <a:lnTo>
                        <a:pt x="99" y="35"/>
                      </a:lnTo>
                      <a:lnTo>
                        <a:pt x="90" y="0"/>
                      </a:lnTo>
                      <a:lnTo>
                        <a:pt x="55" y="0"/>
                      </a:lnTo>
                      <a:lnTo>
                        <a:pt x="7" y="39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4960440" y="52707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154" h="84">
                      <a:moveTo>
                        <a:pt x="27" y="7"/>
                      </a:moveTo>
                      <a:lnTo>
                        <a:pt x="0" y="49"/>
                      </a:lnTo>
                      <a:lnTo>
                        <a:pt x="32" y="84"/>
                      </a:lnTo>
                      <a:lnTo>
                        <a:pt x="140" y="69"/>
                      </a:lnTo>
                      <a:lnTo>
                        <a:pt x="154" y="27"/>
                      </a:lnTo>
                      <a:lnTo>
                        <a:pt x="127" y="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4905360" y="5333400"/>
                  <a:ext cx="14400" cy="35280"/>
                </a:xfrm>
                <a:custGeom>
                  <a:avLst/>
                  <a:gdLst/>
                  <a:ahLst/>
                  <a:rect l="l" t="t" r="r" b="b"/>
                  <a:pathLst>
                    <a:path w="172" h="336">
                      <a:moveTo>
                        <a:pt x="7" y="42"/>
                      </a:moveTo>
                      <a:lnTo>
                        <a:pt x="51" y="211"/>
                      </a:lnTo>
                      <a:lnTo>
                        <a:pt x="73" y="336"/>
                      </a:lnTo>
                      <a:lnTo>
                        <a:pt x="156" y="336"/>
                      </a:lnTo>
                      <a:lnTo>
                        <a:pt x="172" y="279"/>
                      </a:lnTo>
                      <a:lnTo>
                        <a:pt x="99" y="231"/>
                      </a:lnTo>
                      <a:lnTo>
                        <a:pt x="73" y="147"/>
                      </a:lnTo>
                      <a:lnTo>
                        <a:pt x="78" y="7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4905720" y="530964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4" h="122">
                      <a:moveTo>
                        <a:pt x="0" y="106"/>
                      </a:moveTo>
                      <a:lnTo>
                        <a:pt x="13" y="122"/>
                      </a:lnTo>
                      <a:lnTo>
                        <a:pt x="57" y="78"/>
                      </a:lnTo>
                      <a:lnTo>
                        <a:pt x="114" y="97"/>
                      </a:lnTo>
                      <a:lnTo>
                        <a:pt x="140" y="53"/>
                      </a:lnTo>
                      <a:lnTo>
                        <a:pt x="264" y="106"/>
                      </a:lnTo>
                      <a:lnTo>
                        <a:pt x="127" y="0"/>
                      </a:lnTo>
                      <a:lnTo>
                        <a:pt x="101" y="14"/>
                      </a:lnTo>
                      <a:lnTo>
                        <a:pt x="32" y="64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4923360" y="535104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44"/>
                      </a:moveTo>
                      <a:lnTo>
                        <a:pt x="41" y="85"/>
                      </a:lnTo>
                      <a:lnTo>
                        <a:pt x="63" y="147"/>
                      </a:lnTo>
                      <a:lnTo>
                        <a:pt x="106" y="92"/>
                      </a:lnTo>
                      <a:lnTo>
                        <a:pt x="99" y="35"/>
                      </a:lnTo>
                      <a:lnTo>
                        <a:pt x="63" y="9"/>
                      </a:lnTo>
                      <a:lnTo>
                        <a:pt x="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4931640" y="5202000"/>
                  <a:ext cx="20520" cy="9720"/>
                </a:xfrm>
                <a:custGeom>
                  <a:avLst/>
                  <a:gdLst/>
                  <a:ahLst/>
                  <a:rect l="l" t="t" r="r" b="b"/>
                  <a:pathLst>
                    <a:path w="244" h="94">
                      <a:moveTo>
                        <a:pt x="0" y="34"/>
                      </a:moveTo>
                      <a:lnTo>
                        <a:pt x="45" y="81"/>
                      </a:lnTo>
                      <a:lnTo>
                        <a:pt x="89" y="94"/>
                      </a:lnTo>
                      <a:lnTo>
                        <a:pt x="114" y="94"/>
                      </a:lnTo>
                      <a:lnTo>
                        <a:pt x="167" y="94"/>
                      </a:lnTo>
                      <a:lnTo>
                        <a:pt x="244" y="43"/>
                      </a:lnTo>
                      <a:lnTo>
                        <a:pt x="204" y="0"/>
                      </a:lnTo>
                      <a:lnTo>
                        <a:pt x="123" y="9"/>
                      </a:lnTo>
                      <a:lnTo>
                        <a:pt x="45" y="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4968360" y="519768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221" h="85">
                      <a:moveTo>
                        <a:pt x="0" y="70"/>
                      </a:moveTo>
                      <a:lnTo>
                        <a:pt x="44" y="7"/>
                      </a:lnTo>
                      <a:lnTo>
                        <a:pt x="129" y="0"/>
                      </a:lnTo>
                      <a:lnTo>
                        <a:pt x="221" y="7"/>
                      </a:lnTo>
                      <a:lnTo>
                        <a:pt x="216" y="26"/>
                      </a:lnTo>
                      <a:lnTo>
                        <a:pt x="185" y="57"/>
                      </a:lnTo>
                      <a:lnTo>
                        <a:pt x="115" y="85"/>
                      </a:lnTo>
                      <a:lnTo>
                        <a:pt x="51" y="85"/>
                      </a:lnTo>
                      <a:lnTo>
                        <a:pt x="9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4353120" y="5249160"/>
                  <a:ext cx="45000" cy="3708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53" y="229"/>
                      </a:moveTo>
                      <a:lnTo>
                        <a:pt x="126" y="174"/>
                      </a:lnTo>
                      <a:lnTo>
                        <a:pt x="163" y="161"/>
                      </a:lnTo>
                      <a:lnTo>
                        <a:pt x="313" y="161"/>
                      </a:lnTo>
                      <a:lnTo>
                        <a:pt x="387" y="167"/>
                      </a:lnTo>
                      <a:lnTo>
                        <a:pt x="194" y="94"/>
                      </a:lnTo>
                      <a:lnTo>
                        <a:pt x="60" y="94"/>
                      </a:lnTo>
                      <a:lnTo>
                        <a:pt x="9" y="82"/>
                      </a:lnTo>
                      <a:lnTo>
                        <a:pt x="0" y="75"/>
                      </a:lnTo>
                      <a:lnTo>
                        <a:pt x="145" y="0"/>
                      </a:lnTo>
                      <a:lnTo>
                        <a:pt x="224" y="13"/>
                      </a:lnTo>
                      <a:lnTo>
                        <a:pt x="313" y="64"/>
                      </a:lnTo>
                      <a:lnTo>
                        <a:pt x="415" y="108"/>
                      </a:lnTo>
                      <a:lnTo>
                        <a:pt x="498" y="130"/>
                      </a:lnTo>
                      <a:lnTo>
                        <a:pt x="546" y="198"/>
                      </a:lnTo>
                      <a:lnTo>
                        <a:pt x="521" y="255"/>
                      </a:lnTo>
                      <a:lnTo>
                        <a:pt x="484" y="255"/>
                      </a:lnTo>
                      <a:lnTo>
                        <a:pt x="431" y="322"/>
                      </a:lnTo>
                      <a:lnTo>
                        <a:pt x="376" y="329"/>
                      </a:lnTo>
                      <a:lnTo>
                        <a:pt x="286" y="352"/>
                      </a:lnTo>
                      <a:lnTo>
                        <a:pt x="365" y="280"/>
                      </a:lnTo>
                      <a:lnTo>
                        <a:pt x="401" y="235"/>
                      </a:lnTo>
                      <a:lnTo>
                        <a:pt x="401" y="218"/>
                      </a:lnTo>
                      <a:lnTo>
                        <a:pt x="365" y="209"/>
                      </a:lnTo>
                      <a:lnTo>
                        <a:pt x="304" y="191"/>
                      </a:lnTo>
                      <a:lnTo>
                        <a:pt x="286" y="235"/>
                      </a:lnTo>
                      <a:lnTo>
                        <a:pt x="282" y="205"/>
                      </a:lnTo>
                      <a:lnTo>
                        <a:pt x="256" y="205"/>
                      </a:lnTo>
                      <a:lnTo>
                        <a:pt x="253" y="225"/>
                      </a:lnTo>
                      <a:lnTo>
                        <a:pt x="277" y="244"/>
                      </a:lnTo>
                      <a:lnTo>
                        <a:pt x="268" y="266"/>
                      </a:lnTo>
                      <a:lnTo>
                        <a:pt x="84" y="244"/>
                      </a:lnTo>
                      <a:lnTo>
                        <a:pt x="53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4361760" y="5279040"/>
                  <a:ext cx="18360" cy="4680"/>
                </a:xfrm>
                <a:custGeom>
                  <a:avLst/>
                  <a:gdLst/>
                  <a:ahLst/>
                  <a:rect l="l" t="t" r="r" b="b"/>
                  <a:pathLst>
                    <a:path w="224" h="49">
                      <a:moveTo>
                        <a:pt x="0" y="0"/>
                      </a:moveTo>
                      <a:lnTo>
                        <a:pt x="40" y="33"/>
                      </a:lnTo>
                      <a:lnTo>
                        <a:pt x="139" y="49"/>
                      </a:lnTo>
                      <a:lnTo>
                        <a:pt x="224" y="3"/>
                      </a:lnTo>
                      <a:lnTo>
                        <a:pt x="132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4380120" y="5268960"/>
                  <a:ext cx="5040" cy="1008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0" y="0"/>
                      </a:moveTo>
                      <a:lnTo>
                        <a:pt x="53" y="98"/>
                      </a:lnTo>
                      <a:lnTo>
                        <a:pt x="64" y="81"/>
                      </a:lnTo>
                      <a:lnTo>
                        <a:pt x="3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4402080" y="5267880"/>
                  <a:ext cx="33480" cy="55080"/>
                </a:xfrm>
                <a:custGeom>
                  <a:avLst/>
                  <a:gdLst/>
                  <a:ahLst/>
                  <a:rect l="l" t="t" r="r" b="b"/>
                  <a:pathLst>
                    <a:path w="406" h="514">
                      <a:moveTo>
                        <a:pt x="0" y="10"/>
                      </a:moveTo>
                      <a:lnTo>
                        <a:pt x="0" y="63"/>
                      </a:lnTo>
                      <a:lnTo>
                        <a:pt x="28" y="99"/>
                      </a:lnTo>
                      <a:lnTo>
                        <a:pt x="12" y="388"/>
                      </a:lnTo>
                      <a:lnTo>
                        <a:pt x="35" y="514"/>
                      </a:lnTo>
                      <a:lnTo>
                        <a:pt x="28" y="380"/>
                      </a:lnTo>
                      <a:lnTo>
                        <a:pt x="39" y="213"/>
                      </a:lnTo>
                      <a:lnTo>
                        <a:pt x="146" y="288"/>
                      </a:lnTo>
                      <a:lnTo>
                        <a:pt x="105" y="201"/>
                      </a:lnTo>
                      <a:lnTo>
                        <a:pt x="197" y="235"/>
                      </a:lnTo>
                      <a:lnTo>
                        <a:pt x="275" y="222"/>
                      </a:lnTo>
                      <a:lnTo>
                        <a:pt x="202" y="201"/>
                      </a:lnTo>
                      <a:lnTo>
                        <a:pt x="202" y="178"/>
                      </a:lnTo>
                      <a:lnTo>
                        <a:pt x="233" y="160"/>
                      </a:lnTo>
                      <a:lnTo>
                        <a:pt x="294" y="208"/>
                      </a:lnTo>
                      <a:lnTo>
                        <a:pt x="328" y="189"/>
                      </a:lnTo>
                      <a:lnTo>
                        <a:pt x="250" y="114"/>
                      </a:lnTo>
                      <a:lnTo>
                        <a:pt x="202" y="85"/>
                      </a:lnTo>
                      <a:lnTo>
                        <a:pt x="202" y="65"/>
                      </a:lnTo>
                      <a:lnTo>
                        <a:pt x="321" y="90"/>
                      </a:lnTo>
                      <a:lnTo>
                        <a:pt x="356" y="132"/>
                      </a:lnTo>
                      <a:lnTo>
                        <a:pt x="344" y="164"/>
                      </a:lnTo>
                      <a:lnTo>
                        <a:pt x="406" y="141"/>
                      </a:lnTo>
                      <a:lnTo>
                        <a:pt x="406" y="54"/>
                      </a:lnTo>
                      <a:lnTo>
                        <a:pt x="365" y="17"/>
                      </a:lnTo>
                      <a:lnTo>
                        <a:pt x="270" y="17"/>
                      </a:lnTo>
                      <a:lnTo>
                        <a:pt x="79" y="0"/>
                      </a:lnTo>
                      <a:lnTo>
                        <a:pt x="3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400640" y="532656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44" h="62">
                      <a:moveTo>
                        <a:pt x="0" y="46"/>
                      </a:moveTo>
                      <a:lnTo>
                        <a:pt x="28" y="62"/>
                      </a:lnTo>
                      <a:lnTo>
                        <a:pt x="44" y="49"/>
                      </a:lnTo>
                      <a:lnTo>
                        <a:pt x="35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4356360" y="53197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647" h="347">
                      <a:moveTo>
                        <a:pt x="509" y="114"/>
                      </a:moveTo>
                      <a:lnTo>
                        <a:pt x="466" y="117"/>
                      </a:lnTo>
                      <a:lnTo>
                        <a:pt x="374" y="29"/>
                      </a:lnTo>
                      <a:lnTo>
                        <a:pt x="311" y="0"/>
                      </a:lnTo>
                      <a:lnTo>
                        <a:pt x="219" y="31"/>
                      </a:lnTo>
                      <a:lnTo>
                        <a:pt x="219" y="57"/>
                      </a:lnTo>
                      <a:lnTo>
                        <a:pt x="258" y="64"/>
                      </a:lnTo>
                      <a:lnTo>
                        <a:pt x="120" y="105"/>
                      </a:lnTo>
                      <a:lnTo>
                        <a:pt x="0" y="181"/>
                      </a:lnTo>
                      <a:lnTo>
                        <a:pt x="23" y="225"/>
                      </a:lnTo>
                      <a:lnTo>
                        <a:pt x="95" y="220"/>
                      </a:lnTo>
                      <a:lnTo>
                        <a:pt x="157" y="237"/>
                      </a:lnTo>
                      <a:lnTo>
                        <a:pt x="240" y="193"/>
                      </a:lnTo>
                      <a:lnTo>
                        <a:pt x="357" y="211"/>
                      </a:lnTo>
                      <a:lnTo>
                        <a:pt x="461" y="200"/>
                      </a:lnTo>
                      <a:lnTo>
                        <a:pt x="521" y="257"/>
                      </a:lnTo>
                      <a:lnTo>
                        <a:pt x="567" y="279"/>
                      </a:lnTo>
                      <a:lnTo>
                        <a:pt x="620" y="347"/>
                      </a:lnTo>
                      <a:lnTo>
                        <a:pt x="647" y="334"/>
                      </a:lnTo>
                      <a:lnTo>
                        <a:pt x="643" y="225"/>
                      </a:lnTo>
                      <a:lnTo>
                        <a:pt x="567" y="105"/>
                      </a:lnTo>
                      <a:lnTo>
                        <a:pt x="50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4386240" y="53028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72" h="86">
                      <a:moveTo>
                        <a:pt x="0" y="55"/>
                      </a:moveTo>
                      <a:lnTo>
                        <a:pt x="37" y="86"/>
                      </a:lnTo>
                      <a:lnTo>
                        <a:pt x="72" y="24"/>
                      </a:lnTo>
                      <a:lnTo>
                        <a:pt x="6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4374360" y="5348520"/>
                  <a:ext cx="24840" cy="13320"/>
                </a:xfrm>
                <a:custGeom>
                  <a:avLst/>
                  <a:gdLst/>
                  <a:ahLst/>
                  <a:rect l="l" t="t" r="r" b="b"/>
                  <a:pathLst>
                    <a:path w="302" h="129">
                      <a:moveTo>
                        <a:pt x="0" y="26"/>
                      </a:moveTo>
                      <a:lnTo>
                        <a:pt x="48" y="0"/>
                      </a:lnTo>
                      <a:lnTo>
                        <a:pt x="302" y="42"/>
                      </a:lnTo>
                      <a:lnTo>
                        <a:pt x="279" y="129"/>
                      </a:lnTo>
                      <a:lnTo>
                        <a:pt x="228" y="98"/>
                      </a:lnTo>
                      <a:lnTo>
                        <a:pt x="30" y="9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4333680" y="5160240"/>
                  <a:ext cx="105120" cy="72720"/>
                </a:xfrm>
                <a:custGeom>
                  <a:avLst/>
                  <a:gdLst/>
                  <a:ahLst/>
                  <a:rect l="l" t="t" r="r" b="b"/>
                  <a:pathLst>
                    <a:path w="1275" h="682">
                      <a:moveTo>
                        <a:pt x="934" y="170"/>
                      </a:moveTo>
                      <a:lnTo>
                        <a:pt x="1037" y="159"/>
                      </a:lnTo>
                      <a:lnTo>
                        <a:pt x="1037" y="136"/>
                      </a:lnTo>
                      <a:lnTo>
                        <a:pt x="970" y="92"/>
                      </a:lnTo>
                      <a:lnTo>
                        <a:pt x="834" y="42"/>
                      </a:lnTo>
                      <a:lnTo>
                        <a:pt x="730" y="25"/>
                      </a:lnTo>
                      <a:lnTo>
                        <a:pt x="431" y="7"/>
                      </a:lnTo>
                      <a:lnTo>
                        <a:pt x="652" y="0"/>
                      </a:lnTo>
                      <a:lnTo>
                        <a:pt x="868" y="18"/>
                      </a:lnTo>
                      <a:lnTo>
                        <a:pt x="1037" y="73"/>
                      </a:lnTo>
                      <a:lnTo>
                        <a:pt x="1157" y="154"/>
                      </a:lnTo>
                      <a:lnTo>
                        <a:pt x="1249" y="251"/>
                      </a:lnTo>
                      <a:lnTo>
                        <a:pt x="1275" y="325"/>
                      </a:lnTo>
                      <a:lnTo>
                        <a:pt x="1275" y="387"/>
                      </a:lnTo>
                      <a:lnTo>
                        <a:pt x="1217" y="449"/>
                      </a:lnTo>
                      <a:lnTo>
                        <a:pt x="1104" y="530"/>
                      </a:lnTo>
                      <a:lnTo>
                        <a:pt x="943" y="578"/>
                      </a:lnTo>
                      <a:lnTo>
                        <a:pt x="730" y="631"/>
                      </a:lnTo>
                      <a:lnTo>
                        <a:pt x="315" y="664"/>
                      </a:lnTo>
                      <a:lnTo>
                        <a:pt x="0" y="682"/>
                      </a:lnTo>
                      <a:lnTo>
                        <a:pt x="703" y="504"/>
                      </a:lnTo>
                      <a:lnTo>
                        <a:pt x="864" y="449"/>
                      </a:lnTo>
                      <a:lnTo>
                        <a:pt x="952" y="407"/>
                      </a:lnTo>
                      <a:lnTo>
                        <a:pt x="975" y="387"/>
                      </a:lnTo>
                      <a:lnTo>
                        <a:pt x="970" y="374"/>
                      </a:lnTo>
                      <a:lnTo>
                        <a:pt x="917" y="367"/>
                      </a:lnTo>
                      <a:lnTo>
                        <a:pt x="1074" y="325"/>
                      </a:lnTo>
                      <a:lnTo>
                        <a:pt x="1086" y="304"/>
                      </a:lnTo>
                      <a:lnTo>
                        <a:pt x="1157" y="306"/>
                      </a:lnTo>
                      <a:lnTo>
                        <a:pt x="1161" y="284"/>
                      </a:lnTo>
                      <a:lnTo>
                        <a:pt x="1136" y="271"/>
                      </a:lnTo>
                      <a:lnTo>
                        <a:pt x="1018" y="242"/>
                      </a:lnTo>
                      <a:lnTo>
                        <a:pt x="1123" y="242"/>
                      </a:lnTo>
                      <a:lnTo>
                        <a:pt x="1123" y="216"/>
                      </a:lnTo>
                      <a:lnTo>
                        <a:pt x="1044" y="189"/>
                      </a:lnTo>
                      <a:lnTo>
                        <a:pt x="934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4295880" y="5160240"/>
                  <a:ext cx="115200" cy="144000"/>
                </a:xfrm>
                <a:custGeom>
                  <a:avLst/>
                  <a:gdLst/>
                  <a:ahLst/>
                  <a:rect l="l" t="t" r="r" b="b"/>
                  <a:pathLst>
                    <a:path w="1400" h="1354">
                      <a:moveTo>
                        <a:pt x="585" y="668"/>
                      </a:moveTo>
                      <a:lnTo>
                        <a:pt x="486" y="811"/>
                      </a:lnTo>
                      <a:lnTo>
                        <a:pt x="468" y="885"/>
                      </a:lnTo>
                      <a:lnTo>
                        <a:pt x="413" y="947"/>
                      </a:lnTo>
                      <a:lnTo>
                        <a:pt x="352" y="1130"/>
                      </a:lnTo>
                      <a:lnTo>
                        <a:pt x="277" y="1118"/>
                      </a:lnTo>
                      <a:lnTo>
                        <a:pt x="233" y="1002"/>
                      </a:lnTo>
                      <a:lnTo>
                        <a:pt x="171" y="975"/>
                      </a:lnTo>
                      <a:lnTo>
                        <a:pt x="110" y="991"/>
                      </a:lnTo>
                      <a:lnTo>
                        <a:pt x="67" y="1064"/>
                      </a:lnTo>
                      <a:lnTo>
                        <a:pt x="97" y="1354"/>
                      </a:lnTo>
                      <a:lnTo>
                        <a:pt x="46" y="1263"/>
                      </a:lnTo>
                      <a:lnTo>
                        <a:pt x="0" y="730"/>
                      </a:lnTo>
                      <a:lnTo>
                        <a:pt x="40" y="627"/>
                      </a:lnTo>
                      <a:lnTo>
                        <a:pt x="110" y="438"/>
                      </a:lnTo>
                      <a:lnTo>
                        <a:pt x="270" y="242"/>
                      </a:lnTo>
                      <a:lnTo>
                        <a:pt x="486" y="71"/>
                      </a:lnTo>
                      <a:lnTo>
                        <a:pt x="754" y="11"/>
                      </a:lnTo>
                      <a:lnTo>
                        <a:pt x="976" y="0"/>
                      </a:lnTo>
                      <a:lnTo>
                        <a:pt x="1095" y="55"/>
                      </a:lnTo>
                      <a:lnTo>
                        <a:pt x="1160" y="124"/>
                      </a:lnTo>
                      <a:lnTo>
                        <a:pt x="1286" y="165"/>
                      </a:lnTo>
                      <a:lnTo>
                        <a:pt x="1240" y="165"/>
                      </a:lnTo>
                      <a:lnTo>
                        <a:pt x="1240" y="189"/>
                      </a:lnTo>
                      <a:lnTo>
                        <a:pt x="1342" y="223"/>
                      </a:lnTo>
                      <a:lnTo>
                        <a:pt x="1270" y="251"/>
                      </a:lnTo>
                      <a:lnTo>
                        <a:pt x="1277" y="271"/>
                      </a:lnTo>
                      <a:lnTo>
                        <a:pt x="1314" y="290"/>
                      </a:lnTo>
                      <a:lnTo>
                        <a:pt x="1229" y="318"/>
                      </a:lnTo>
                      <a:lnTo>
                        <a:pt x="1277" y="365"/>
                      </a:lnTo>
                      <a:lnTo>
                        <a:pt x="1125" y="403"/>
                      </a:lnTo>
                      <a:lnTo>
                        <a:pt x="1125" y="413"/>
                      </a:lnTo>
                      <a:lnTo>
                        <a:pt x="1266" y="424"/>
                      </a:lnTo>
                      <a:lnTo>
                        <a:pt x="1116" y="470"/>
                      </a:lnTo>
                      <a:lnTo>
                        <a:pt x="1400" y="438"/>
                      </a:lnTo>
                      <a:lnTo>
                        <a:pt x="1383" y="530"/>
                      </a:lnTo>
                      <a:lnTo>
                        <a:pt x="864" y="631"/>
                      </a:lnTo>
                      <a:lnTo>
                        <a:pt x="585" y="6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4403880" y="5207760"/>
                  <a:ext cx="46800" cy="167040"/>
                </a:xfrm>
                <a:custGeom>
                  <a:avLst/>
                  <a:gdLst/>
                  <a:ahLst/>
                  <a:rect l="l" t="t" r="r" b="b"/>
                  <a:pathLst>
                    <a:path w="567" h="1578">
                      <a:moveTo>
                        <a:pt x="320" y="150"/>
                      </a:moveTo>
                      <a:lnTo>
                        <a:pt x="358" y="245"/>
                      </a:lnTo>
                      <a:lnTo>
                        <a:pt x="358" y="635"/>
                      </a:lnTo>
                      <a:lnTo>
                        <a:pt x="304" y="761"/>
                      </a:lnTo>
                      <a:lnTo>
                        <a:pt x="304" y="904"/>
                      </a:lnTo>
                      <a:lnTo>
                        <a:pt x="239" y="1119"/>
                      </a:lnTo>
                      <a:lnTo>
                        <a:pt x="147" y="1255"/>
                      </a:lnTo>
                      <a:lnTo>
                        <a:pt x="0" y="1578"/>
                      </a:lnTo>
                      <a:lnTo>
                        <a:pt x="90" y="1471"/>
                      </a:lnTo>
                      <a:lnTo>
                        <a:pt x="198" y="1211"/>
                      </a:lnTo>
                      <a:lnTo>
                        <a:pt x="270" y="1105"/>
                      </a:lnTo>
                      <a:lnTo>
                        <a:pt x="341" y="941"/>
                      </a:lnTo>
                      <a:lnTo>
                        <a:pt x="341" y="794"/>
                      </a:lnTo>
                      <a:lnTo>
                        <a:pt x="484" y="704"/>
                      </a:lnTo>
                      <a:lnTo>
                        <a:pt x="567" y="455"/>
                      </a:lnTo>
                      <a:lnTo>
                        <a:pt x="567" y="261"/>
                      </a:lnTo>
                      <a:lnTo>
                        <a:pt x="558" y="121"/>
                      </a:lnTo>
                      <a:lnTo>
                        <a:pt x="532" y="42"/>
                      </a:lnTo>
                      <a:lnTo>
                        <a:pt x="468" y="0"/>
                      </a:lnTo>
                      <a:lnTo>
                        <a:pt x="521" y="60"/>
                      </a:lnTo>
                      <a:lnTo>
                        <a:pt x="532" y="110"/>
                      </a:lnTo>
                      <a:lnTo>
                        <a:pt x="521" y="139"/>
                      </a:lnTo>
                      <a:lnTo>
                        <a:pt x="444" y="90"/>
                      </a:lnTo>
                      <a:lnTo>
                        <a:pt x="437" y="97"/>
                      </a:lnTo>
                      <a:lnTo>
                        <a:pt x="488" y="178"/>
                      </a:lnTo>
                      <a:lnTo>
                        <a:pt x="505" y="305"/>
                      </a:lnTo>
                      <a:lnTo>
                        <a:pt x="505" y="429"/>
                      </a:lnTo>
                      <a:lnTo>
                        <a:pt x="468" y="275"/>
                      </a:lnTo>
                      <a:lnTo>
                        <a:pt x="345" y="110"/>
                      </a:lnTo>
                      <a:lnTo>
                        <a:pt x="320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313160" y="5304600"/>
                  <a:ext cx="87480" cy="110880"/>
                </a:xfrm>
                <a:custGeom>
                  <a:avLst/>
                  <a:gdLst/>
                  <a:ahLst/>
                  <a:rect l="l" t="t" r="r" b="b"/>
                  <a:pathLst>
                    <a:path w="1057" h="1050">
                      <a:moveTo>
                        <a:pt x="90" y="0"/>
                      </a:moveTo>
                      <a:lnTo>
                        <a:pt x="68" y="195"/>
                      </a:lnTo>
                      <a:lnTo>
                        <a:pt x="72" y="281"/>
                      </a:lnTo>
                      <a:lnTo>
                        <a:pt x="105" y="356"/>
                      </a:lnTo>
                      <a:lnTo>
                        <a:pt x="158" y="424"/>
                      </a:lnTo>
                      <a:lnTo>
                        <a:pt x="259" y="506"/>
                      </a:lnTo>
                      <a:lnTo>
                        <a:pt x="558" y="651"/>
                      </a:lnTo>
                      <a:lnTo>
                        <a:pt x="842" y="758"/>
                      </a:lnTo>
                      <a:lnTo>
                        <a:pt x="925" y="762"/>
                      </a:lnTo>
                      <a:lnTo>
                        <a:pt x="995" y="758"/>
                      </a:lnTo>
                      <a:lnTo>
                        <a:pt x="1057" y="730"/>
                      </a:lnTo>
                      <a:lnTo>
                        <a:pt x="1006" y="767"/>
                      </a:lnTo>
                      <a:lnTo>
                        <a:pt x="944" y="783"/>
                      </a:lnTo>
                      <a:lnTo>
                        <a:pt x="863" y="785"/>
                      </a:lnTo>
                      <a:lnTo>
                        <a:pt x="753" y="767"/>
                      </a:lnTo>
                      <a:lnTo>
                        <a:pt x="753" y="817"/>
                      </a:lnTo>
                      <a:lnTo>
                        <a:pt x="738" y="882"/>
                      </a:lnTo>
                      <a:lnTo>
                        <a:pt x="661" y="1009"/>
                      </a:lnTo>
                      <a:lnTo>
                        <a:pt x="704" y="901"/>
                      </a:lnTo>
                      <a:lnTo>
                        <a:pt x="709" y="824"/>
                      </a:lnTo>
                      <a:lnTo>
                        <a:pt x="624" y="861"/>
                      </a:lnTo>
                      <a:lnTo>
                        <a:pt x="624" y="978"/>
                      </a:lnTo>
                      <a:lnTo>
                        <a:pt x="598" y="1013"/>
                      </a:lnTo>
                      <a:lnTo>
                        <a:pt x="624" y="1050"/>
                      </a:lnTo>
                      <a:lnTo>
                        <a:pt x="591" y="1050"/>
                      </a:lnTo>
                      <a:lnTo>
                        <a:pt x="506" y="1009"/>
                      </a:lnTo>
                      <a:lnTo>
                        <a:pt x="328" y="843"/>
                      </a:lnTo>
                      <a:lnTo>
                        <a:pt x="215" y="721"/>
                      </a:lnTo>
                      <a:lnTo>
                        <a:pt x="98" y="567"/>
                      </a:lnTo>
                      <a:lnTo>
                        <a:pt x="0" y="370"/>
                      </a:lnTo>
                      <a:lnTo>
                        <a:pt x="107" y="541"/>
                      </a:lnTo>
                      <a:lnTo>
                        <a:pt x="204" y="633"/>
                      </a:lnTo>
                      <a:lnTo>
                        <a:pt x="81" y="411"/>
                      </a:lnTo>
                      <a:lnTo>
                        <a:pt x="52" y="288"/>
                      </a:lnTo>
                      <a:lnTo>
                        <a:pt x="52" y="213"/>
                      </a:lnTo>
                      <a:lnTo>
                        <a:pt x="68" y="91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305240" y="5272560"/>
                  <a:ext cx="14400" cy="32760"/>
                </a:xfrm>
                <a:custGeom>
                  <a:avLst/>
                  <a:gdLst/>
                  <a:ahLst/>
                  <a:rect l="l" t="t" r="r" b="b"/>
                  <a:pathLst>
                    <a:path w="180" h="312">
                      <a:moveTo>
                        <a:pt x="37" y="0"/>
                      </a:moveTo>
                      <a:lnTo>
                        <a:pt x="88" y="7"/>
                      </a:lnTo>
                      <a:lnTo>
                        <a:pt x="175" y="62"/>
                      </a:lnTo>
                      <a:lnTo>
                        <a:pt x="180" y="164"/>
                      </a:lnTo>
                      <a:lnTo>
                        <a:pt x="146" y="147"/>
                      </a:lnTo>
                      <a:lnTo>
                        <a:pt x="136" y="134"/>
                      </a:lnTo>
                      <a:lnTo>
                        <a:pt x="94" y="171"/>
                      </a:lnTo>
                      <a:lnTo>
                        <a:pt x="94" y="185"/>
                      </a:lnTo>
                      <a:lnTo>
                        <a:pt x="125" y="204"/>
                      </a:lnTo>
                      <a:lnTo>
                        <a:pt x="155" y="301"/>
                      </a:lnTo>
                      <a:lnTo>
                        <a:pt x="132" y="312"/>
                      </a:lnTo>
                      <a:lnTo>
                        <a:pt x="100" y="257"/>
                      </a:lnTo>
                      <a:lnTo>
                        <a:pt x="19" y="233"/>
                      </a:lnTo>
                      <a:lnTo>
                        <a:pt x="0" y="111"/>
                      </a:lnTo>
                      <a:lnTo>
                        <a:pt x="19" y="95"/>
                      </a:lnTo>
                      <a:lnTo>
                        <a:pt x="105" y="53"/>
                      </a:lnTo>
                      <a:lnTo>
                        <a:pt x="81" y="2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4306680" y="530388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0" y="0"/>
                      </a:moveTo>
                      <a:lnTo>
                        <a:pt x="69" y="17"/>
                      </a:lnTo>
                      <a:lnTo>
                        <a:pt x="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4305240" y="5312160"/>
                  <a:ext cx="11880" cy="20160"/>
                </a:xfrm>
                <a:custGeom>
                  <a:avLst/>
                  <a:gdLst/>
                  <a:ahLst/>
                  <a:rect l="l" t="t" r="r" b="b"/>
                  <a:pathLst>
                    <a:path w="143" h="195">
                      <a:moveTo>
                        <a:pt x="0" y="0"/>
                      </a:moveTo>
                      <a:lnTo>
                        <a:pt x="26" y="23"/>
                      </a:lnTo>
                      <a:lnTo>
                        <a:pt x="67" y="37"/>
                      </a:lnTo>
                      <a:lnTo>
                        <a:pt x="143" y="18"/>
                      </a:lnTo>
                      <a:lnTo>
                        <a:pt x="114" y="85"/>
                      </a:lnTo>
                      <a:lnTo>
                        <a:pt x="61" y="103"/>
                      </a:lnTo>
                      <a:lnTo>
                        <a:pt x="33" y="195"/>
                      </a:lnTo>
                      <a:lnTo>
                        <a:pt x="6" y="140"/>
                      </a:lnTo>
                      <a:lnTo>
                        <a:pt x="6" y="112"/>
                      </a:lnTo>
                      <a:lnTo>
                        <a:pt x="33" y="85"/>
                      </a:lnTo>
                      <a:lnTo>
                        <a:pt x="15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4325400" y="5274720"/>
                  <a:ext cx="576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4326480" y="5269680"/>
                  <a:ext cx="8640" cy="35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4331880" y="5279760"/>
                  <a:ext cx="7920" cy="27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337280" y="5290200"/>
                  <a:ext cx="576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367520" y="5230800"/>
                  <a:ext cx="60840" cy="17640"/>
                </a:xfrm>
                <a:custGeom>
                  <a:avLst/>
                  <a:gdLst/>
                  <a:ahLst/>
                  <a:rect l="l" t="t" r="r" b="b"/>
                  <a:pathLst>
                    <a:path w="743" h="165">
                      <a:moveTo>
                        <a:pt x="0" y="0"/>
                      </a:moveTo>
                      <a:lnTo>
                        <a:pt x="116" y="18"/>
                      </a:lnTo>
                      <a:lnTo>
                        <a:pt x="351" y="101"/>
                      </a:lnTo>
                      <a:lnTo>
                        <a:pt x="519" y="138"/>
                      </a:lnTo>
                      <a:lnTo>
                        <a:pt x="743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380120" y="5228280"/>
                  <a:ext cx="40320" cy="14400"/>
                </a:xfrm>
                <a:custGeom>
                  <a:avLst/>
                  <a:gdLst/>
                  <a:ahLst/>
                  <a:rect l="l" t="t" r="r" b="b"/>
                  <a:pathLst>
                    <a:path w="491" h="134">
                      <a:moveTo>
                        <a:pt x="0" y="0"/>
                      </a:moveTo>
                      <a:lnTo>
                        <a:pt x="82" y="28"/>
                      </a:lnTo>
                      <a:lnTo>
                        <a:pt x="260" y="88"/>
                      </a:lnTo>
                      <a:lnTo>
                        <a:pt x="491" y="1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272120" y="5332680"/>
                  <a:ext cx="29520" cy="61560"/>
                </a:xfrm>
                <a:custGeom>
                  <a:avLst/>
                  <a:gdLst/>
                  <a:ahLst/>
                  <a:rect l="l" t="t" r="r" b="b"/>
                  <a:pathLst>
                    <a:path w="365" h="579">
                      <a:moveTo>
                        <a:pt x="365" y="0"/>
                      </a:moveTo>
                      <a:lnTo>
                        <a:pt x="277" y="129"/>
                      </a:lnTo>
                      <a:lnTo>
                        <a:pt x="277" y="265"/>
                      </a:lnTo>
                      <a:lnTo>
                        <a:pt x="350" y="579"/>
                      </a:lnTo>
                      <a:lnTo>
                        <a:pt x="224" y="290"/>
                      </a:lnTo>
                      <a:lnTo>
                        <a:pt x="224" y="199"/>
                      </a:lnTo>
                      <a:lnTo>
                        <a:pt x="0" y="199"/>
                      </a:lnTo>
                      <a:lnTo>
                        <a:pt x="187" y="76"/>
                      </a:lnTo>
                      <a:lnTo>
                        <a:pt x="277" y="76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152960" y="5372280"/>
                  <a:ext cx="348480" cy="420120"/>
                </a:xfrm>
                <a:custGeom>
                  <a:avLst/>
                  <a:gdLst/>
                  <a:ahLst/>
                  <a:rect l="l" t="t" r="r" b="b"/>
                  <a:pathLst>
                    <a:path w="4215" h="3969">
                      <a:moveTo>
                        <a:pt x="1158" y="0"/>
                      </a:moveTo>
                      <a:lnTo>
                        <a:pt x="897" y="255"/>
                      </a:lnTo>
                      <a:lnTo>
                        <a:pt x="743" y="466"/>
                      </a:lnTo>
                      <a:lnTo>
                        <a:pt x="743" y="706"/>
                      </a:lnTo>
                      <a:lnTo>
                        <a:pt x="920" y="591"/>
                      </a:lnTo>
                      <a:lnTo>
                        <a:pt x="920" y="756"/>
                      </a:lnTo>
                      <a:lnTo>
                        <a:pt x="1314" y="1684"/>
                      </a:lnTo>
                      <a:lnTo>
                        <a:pt x="1224" y="1582"/>
                      </a:lnTo>
                      <a:lnTo>
                        <a:pt x="1134" y="1582"/>
                      </a:lnTo>
                      <a:lnTo>
                        <a:pt x="1072" y="1610"/>
                      </a:lnTo>
                      <a:lnTo>
                        <a:pt x="1031" y="1644"/>
                      </a:lnTo>
                      <a:lnTo>
                        <a:pt x="1174" y="1960"/>
                      </a:lnTo>
                      <a:lnTo>
                        <a:pt x="1448" y="2451"/>
                      </a:lnTo>
                      <a:lnTo>
                        <a:pt x="1868" y="2890"/>
                      </a:lnTo>
                      <a:lnTo>
                        <a:pt x="2031" y="3026"/>
                      </a:lnTo>
                      <a:lnTo>
                        <a:pt x="2031" y="3116"/>
                      </a:lnTo>
                      <a:lnTo>
                        <a:pt x="1930" y="3239"/>
                      </a:lnTo>
                      <a:lnTo>
                        <a:pt x="1930" y="3380"/>
                      </a:lnTo>
                      <a:lnTo>
                        <a:pt x="2129" y="3343"/>
                      </a:lnTo>
                      <a:lnTo>
                        <a:pt x="2158" y="3295"/>
                      </a:lnTo>
                      <a:lnTo>
                        <a:pt x="2145" y="3228"/>
                      </a:lnTo>
                      <a:lnTo>
                        <a:pt x="2094" y="3191"/>
                      </a:lnTo>
                      <a:lnTo>
                        <a:pt x="2296" y="3239"/>
                      </a:lnTo>
                      <a:lnTo>
                        <a:pt x="2435" y="3228"/>
                      </a:lnTo>
                      <a:lnTo>
                        <a:pt x="2575" y="3178"/>
                      </a:lnTo>
                      <a:lnTo>
                        <a:pt x="2712" y="3065"/>
                      </a:lnTo>
                      <a:lnTo>
                        <a:pt x="2815" y="2967"/>
                      </a:lnTo>
                      <a:lnTo>
                        <a:pt x="2749" y="3076"/>
                      </a:lnTo>
                      <a:lnTo>
                        <a:pt x="2700" y="3166"/>
                      </a:lnTo>
                      <a:lnTo>
                        <a:pt x="2903" y="3191"/>
                      </a:lnTo>
                      <a:lnTo>
                        <a:pt x="3154" y="3203"/>
                      </a:lnTo>
                      <a:lnTo>
                        <a:pt x="3357" y="3154"/>
                      </a:lnTo>
                      <a:lnTo>
                        <a:pt x="3433" y="2855"/>
                      </a:lnTo>
                      <a:lnTo>
                        <a:pt x="3468" y="2855"/>
                      </a:lnTo>
                      <a:lnTo>
                        <a:pt x="3494" y="2890"/>
                      </a:lnTo>
                      <a:lnTo>
                        <a:pt x="3521" y="2991"/>
                      </a:lnTo>
                      <a:lnTo>
                        <a:pt x="3535" y="3076"/>
                      </a:lnTo>
                      <a:lnTo>
                        <a:pt x="4203" y="3039"/>
                      </a:lnTo>
                      <a:lnTo>
                        <a:pt x="4215" y="3116"/>
                      </a:lnTo>
                      <a:lnTo>
                        <a:pt x="4215" y="3178"/>
                      </a:lnTo>
                      <a:lnTo>
                        <a:pt x="4189" y="3254"/>
                      </a:lnTo>
                      <a:lnTo>
                        <a:pt x="4037" y="3265"/>
                      </a:lnTo>
                      <a:lnTo>
                        <a:pt x="3913" y="3343"/>
                      </a:lnTo>
                      <a:lnTo>
                        <a:pt x="3683" y="3390"/>
                      </a:lnTo>
                      <a:lnTo>
                        <a:pt x="3481" y="3380"/>
                      </a:lnTo>
                      <a:lnTo>
                        <a:pt x="3281" y="3441"/>
                      </a:lnTo>
                      <a:lnTo>
                        <a:pt x="3105" y="3481"/>
                      </a:lnTo>
                      <a:lnTo>
                        <a:pt x="2852" y="3492"/>
                      </a:lnTo>
                      <a:lnTo>
                        <a:pt x="2547" y="3457"/>
                      </a:lnTo>
                      <a:lnTo>
                        <a:pt x="2320" y="3481"/>
                      </a:lnTo>
                      <a:lnTo>
                        <a:pt x="2129" y="3542"/>
                      </a:lnTo>
                      <a:lnTo>
                        <a:pt x="1990" y="3620"/>
                      </a:lnTo>
                      <a:lnTo>
                        <a:pt x="1615" y="3516"/>
                      </a:lnTo>
                      <a:lnTo>
                        <a:pt x="681" y="3969"/>
                      </a:lnTo>
                      <a:lnTo>
                        <a:pt x="0" y="3969"/>
                      </a:lnTo>
                      <a:lnTo>
                        <a:pt x="176" y="1723"/>
                      </a:lnTo>
                      <a:lnTo>
                        <a:pt x="328" y="1244"/>
                      </a:lnTo>
                      <a:lnTo>
                        <a:pt x="266" y="1558"/>
                      </a:lnTo>
                      <a:lnTo>
                        <a:pt x="418" y="2059"/>
                      </a:lnTo>
                      <a:lnTo>
                        <a:pt x="418" y="2500"/>
                      </a:lnTo>
                      <a:lnTo>
                        <a:pt x="591" y="2977"/>
                      </a:lnTo>
                      <a:lnTo>
                        <a:pt x="681" y="2977"/>
                      </a:lnTo>
                      <a:lnTo>
                        <a:pt x="907" y="2488"/>
                      </a:lnTo>
                      <a:lnTo>
                        <a:pt x="602" y="1886"/>
                      </a:lnTo>
                      <a:lnTo>
                        <a:pt x="556" y="1697"/>
                      </a:lnTo>
                      <a:lnTo>
                        <a:pt x="528" y="1497"/>
                      </a:lnTo>
                      <a:lnTo>
                        <a:pt x="556" y="1281"/>
                      </a:lnTo>
                      <a:lnTo>
                        <a:pt x="681" y="780"/>
                      </a:lnTo>
                      <a:lnTo>
                        <a:pt x="618" y="729"/>
                      </a:lnTo>
                      <a:lnTo>
                        <a:pt x="577" y="665"/>
                      </a:lnTo>
                      <a:lnTo>
                        <a:pt x="567" y="618"/>
                      </a:lnTo>
                      <a:lnTo>
                        <a:pt x="441" y="905"/>
                      </a:lnTo>
                      <a:lnTo>
                        <a:pt x="540" y="591"/>
                      </a:lnTo>
                      <a:lnTo>
                        <a:pt x="591" y="517"/>
                      </a:lnTo>
                      <a:lnTo>
                        <a:pt x="769" y="317"/>
                      </a:lnTo>
                      <a:lnTo>
                        <a:pt x="943" y="139"/>
                      </a:lnTo>
                      <a:lnTo>
                        <a:pt x="11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265640" y="5424840"/>
                  <a:ext cx="107640" cy="224640"/>
                </a:xfrm>
                <a:custGeom>
                  <a:avLst/>
                  <a:gdLst/>
                  <a:ahLst/>
                  <a:rect l="l" t="t" r="r" b="b"/>
                  <a:pathLst>
                    <a:path w="1300" h="2125">
                      <a:moveTo>
                        <a:pt x="0" y="140"/>
                      </a:moveTo>
                      <a:lnTo>
                        <a:pt x="378" y="378"/>
                      </a:lnTo>
                      <a:lnTo>
                        <a:pt x="641" y="829"/>
                      </a:lnTo>
                      <a:lnTo>
                        <a:pt x="641" y="1020"/>
                      </a:lnTo>
                      <a:lnTo>
                        <a:pt x="984" y="1318"/>
                      </a:lnTo>
                      <a:lnTo>
                        <a:pt x="1111" y="1556"/>
                      </a:lnTo>
                      <a:lnTo>
                        <a:pt x="1083" y="967"/>
                      </a:lnTo>
                      <a:lnTo>
                        <a:pt x="1083" y="589"/>
                      </a:lnTo>
                      <a:lnTo>
                        <a:pt x="1111" y="327"/>
                      </a:lnTo>
                      <a:lnTo>
                        <a:pt x="1072" y="266"/>
                      </a:lnTo>
                      <a:lnTo>
                        <a:pt x="984" y="378"/>
                      </a:lnTo>
                      <a:lnTo>
                        <a:pt x="906" y="424"/>
                      </a:lnTo>
                      <a:lnTo>
                        <a:pt x="998" y="327"/>
                      </a:lnTo>
                      <a:lnTo>
                        <a:pt x="1072" y="165"/>
                      </a:lnTo>
                      <a:lnTo>
                        <a:pt x="1160" y="27"/>
                      </a:lnTo>
                      <a:lnTo>
                        <a:pt x="1212" y="0"/>
                      </a:lnTo>
                      <a:lnTo>
                        <a:pt x="1160" y="80"/>
                      </a:lnTo>
                      <a:lnTo>
                        <a:pt x="1224" y="304"/>
                      </a:lnTo>
                      <a:lnTo>
                        <a:pt x="1160" y="304"/>
                      </a:lnTo>
                      <a:lnTo>
                        <a:pt x="1146" y="516"/>
                      </a:lnTo>
                      <a:lnTo>
                        <a:pt x="1184" y="1120"/>
                      </a:lnTo>
                      <a:lnTo>
                        <a:pt x="1247" y="1723"/>
                      </a:lnTo>
                      <a:lnTo>
                        <a:pt x="1300" y="1910"/>
                      </a:lnTo>
                      <a:lnTo>
                        <a:pt x="1035" y="2059"/>
                      </a:lnTo>
                      <a:lnTo>
                        <a:pt x="1146" y="1961"/>
                      </a:lnTo>
                      <a:lnTo>
                        <a:pt x="1095" y="1881"/>
                      </a:lnTo>
                      <a:lnTo>
                        <a:pt x="971" y="1910"/>
                      </a:lnTo>
                      <a:lnTo>
                        <a:pt x="694" y="2099"/>
                      </a:lnTo>
                      <a:lnTo>
                        <a:pt x="606" y="2125"/>
                      </a:lnTo>
                      <a:lnTo>
                        <a:pt x="593" y="2086"/>
                      </a:lnTo>
                      <a:lnTo>
                        <a:pt x="756" y="1934"/>
                      </a:lnTo>
                      <a:lnTo>
                        <a:pt x="1095" y="1821"/>
                      </a:lnTo>
                      <a:lnTo>
                        <a:pt x="1045" y="1685"/>
                      </a:lnTo>
                      <a:lnTo>
                        <a:pt x="1045" y="1547"/>
                      </a:lnTo>
                      <a:lnTo>
                        <a:pt x="998" y="1470"/>
                      </a:lnTo>
                      <a:lnTo>
                        <a:pt x="606" y="1169"/>
                      </a:lnTo>
                      <a:lnTo>
                        <a:pt x="138" y="841"/>
                      </a:lnTo>
                      <a:lnTo>
                        <a:pt x="657" y="1154"/>
                      </a:lnTo>
                      <a:lnTo>
                        <a:pt x="390" y="463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331160" y="5647680"/>
                  <a:ext cx="17280" cy="49680"/>
                </a:xfrm>
                <a:custGeom>
                  <a:avLst/>
                  <a:gdLst/>
                  <a:ahLst/>
                  <a:rect l="l" t="t" r="r" b="b"/>
                  <a:pathLst>
                    <a:path w="203" h="466">
                      <a:moveTo>
                        <a:pt x="203" y="0"/>
                      </a:moveTo>
                      <a:lnTo>
                        <a:pt x="111" y="51"/>
                      </a:lnTo>
                      <a:lnTo>
                        <a:pt x="0" y="403"/>
                      </a:lnTo>
                      <a:lnTo>
                        <a:pt x="99" y="466"/>
                      </a:lnTo>
                      <a:lnTo>
                        <a:pt x="203" y="378"/>
                      </a:lnTo>
                      <a:lnTo>
                        <a:pt x="203" y="136"/>
                      </a:lnTo>
                      <a:lnTo>
                        <a:pt x="152" y="136"/>
                      </a:lnTo>
                      <a:lnTo>
                        <a:pt x="152" y="76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349160" y="5635080"/>
                  <a:ext cx="41760" cy="63360"/>
                </a:xfrm>
                <a:custGeom>
                  <a:avLst/>
                  <a:gdLst/>
                  <a:ahLst/>
                  <a:rect l="l" t="t" r="r" b="b"/>
                  <a:pathLst>
                    <a:path w="506" h="599">
                      <a:moveTo>
                        <a:pt x="138" y="162"/>
                      </a:moveTo>
                      <a:lnTo>
                        <a:pt x="317" y="0"/>
                      </a:lnTo>
                      <a:lnTo>
                        <a:pt x="506" y="72"/>
                      </a:lnTo>
                      <a:lnTo>
                        <a:pt x="506" y="173"/>
                      </a:lnTo>
                      <a:lnTo>
                        <a:pt x="391" y="325"/>
                      </a:lnTo>
                      <a:lnTo>
                        <a:pt x="0" y="599"/>
                      </a:lnTo>
                      <a:lnTo>
                        <a:pt x="279" y="364"/>
                      </a:lnTo>
                      <a:lnTo>
                        <a:pt x="317" y="274"/>
                      </a:lnTo>
                      <a:lnTo>
                        <a:pt x="329" y="198"/>
                      </a:lnTo>
                      <a:lnTo>
                        <a:pt x="317" y="138"/>
                      </a:lnTo>
                      <a:lnTo>
                        <a:pt x="279" y="112"/>
                      </a:lnTo>
                      <a:lnTo>
                        <a:pt x="230" y="112"/>
                      </a:lnTo>
                      <a:lnTo>
                        <a:pt x="138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398120" y="5612400"/>
                  <a:ext cx="257760" cy="105120"/>
                </a:xfrm>
                <a:custGeom>
                  <a:avLst/>
                  <a:gdLst/>
                  <a:ahLst/>
                  <a:rect l="l" t="t" r="r" b="b"/>
                  <a:pathLst>
                    <a:path w="3106" h="992">
                      <a:moveTo>
                        <a:pt x="0" y="215"/>
                      </a:moveTo>
                      <a:lnTo>
                        <a:pt x="430" y="377"/>
                      </a:lnTo>
                      <a:lnTo>
                        <a:pt x="540" y="268"/>
                      </a:lnTo>
                      <a:lnTo>
                        <a:pt x="770" y="268"/>
                      </a:lnTo>
                      <a:lnTo>
                        <a:pt x="896" y="364"/>
                      </a:lnTo>
                      <a:lnTo>
                        <a:pt x="1010" y="327"/>
                      </a:lnTo>
                      <a:lnTo>
                        <a:pt x="1603" y="314"/>
                      </a:lnTo>
                      <a:lnTo>
                        <a:pt x="2017" y="226"/>
                      </a:lnTo>
                      <a:lnTo>
                        <a:pt x="2589" y="0"/>
                      </a:lnTo>
                      <a:lnTo>
                        <a:pt x="2663" y="49"/>
                      </a:lnTo>
                      <a:lnTo>
                        <a:pt x="2676" y="100"/>
                      </a:lnTo>
                      <a:lnTo>
                        <a:pt x="2614" y="162"/>
                      </a:lnTo>
                      <a:lnTo>
                        <a:pt x="2689" y="238"/>
                      </a:lnTo>
                      <a:lnTo>
                        <a:pt x="2713" y="302"/>
                      </a:lnTo>
                      <a:lnTo>
                        <a:pt x="2689" y="377"/>
                      </a:lnTo>
                      <a:lnTo>
                        <a:pt x="3091" y="413"/>
                      </a:lnTo>
                      <a:lnTo>
                        <a:pt x="3106" y="439"/>
                      </a:lnTo>
                      <a:lnTo>
                        <a:pt x="2689" y="461"/>
                      </a:lnTo>
                      <a:lnTo>
                        <a:pt x="2689" y="500"/>
                      </a:lnTo>
                      <a:lnTo>
                        <a:pt x="2713" y="540"/>
                      </a:lnTo>
                      <a:lnTo>
                        <a:pt x="3078" y="553"/>
                      </a:lnTo>
                      <a:lnTo>
                        <a:pt x="3043" y="602"/>
                      </a:lnTo>
                      <a:lnTo>
                        <a:pt x="2737" y="665"/>
                      </a:lnTo>
                      <a:lnTo>
                        <a:pt x="2737" y="715"/>
                      </a:lnTo>
                      <a:lnTo>
                        <a:pt x="2953" y="715"/>
                      </a:lnTo>
                      <a:lnTo>
                        <a:pt x="2977" y="680"/>
                      </a:lnTo>
                      <a:lnTo>
                        <a:pt x="2965" y="740"/>
                      </a:lnTo>
                      <a:lnTo>
                        <a:pt x="2589" y="791"/>
                      </a:lnTo>
                      <a:lnTo>
                        <a:pt x="2160" y="814"/>
                      </a:lnTo>
                      <a:lnTo>
                        <a:pt x="1992" y="814"/>
                      </a:lnTo>
                      <a:lnTo>
                        <a:pt x="1753" y="854"/>
                      </a:lnTo>
                      <a:lnTo>
                        <a:pt x="1676" y="992"/>
                      </a:lnTo>
                      <a:lnTo>
                        <a:pt x="1314" y="992"/>
                      </a:lnTo>
                      <a:lnTo>
                        <a:pt x="1641" y="953"/>
                      </a:lnTo>
                      <a:lnTo>
                        <a:pt x="1692" y="867"/>
                      </a:lnTo>
                      <a:lnTo>
                        <a:pt x="1715" y="752"/>
                      </a:lnTo>
                      <a:lnTo>
                        <a:pt x="1715" y="641"/>
                      </a:lnTo>
                      <a:lnTo>
                        <a:pt x="1676" y="489"/>
                      </a:lnTo>
                      <a:lnTo>
                        <a:pt x="1630" y="364"/>
                      </a:lnTo>
                      <a:lnTo>
                        <a:pt x="1010" y="377"/>
                      </a:lnTo>
                      <a:lnTo>
                        <a:pt x="881" y="401"/>
                      </a:lnTo>
                      <a:lnTo>
                        <a:pt x="669" y="314"/>
                      </a:lnTo>
                      <a:lnTo>
                        <a:pt x="468" y="473"/>
                      </a:lnTo>
                      <a:lnTo>
                        <a:pt x="415" y="401"/>
                      </a:lnTo>
                      <a:lnTo>
                        <a:pt x="0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469760" y="5665680"/>
                  <a:ext cx="29520" cy="15120"/>
                </a:xfrm>
                <a:custGeom>
                  <a:avLst/>
                  <a:gdLst/>
                  <a:ahLst/>
                  <a:rect l="l" t="t" r="r" b="b"/>
                  <a:pathLst>
                    <a:path w="366" h="150">
                      <a:moveTo>
                        <a:pt x="366" y="114"/>
                      </a:moveTo>
                      <a:lnTo>
                        <a:pt x="200" y="0"/>
                      </a:lnTo>
                      <a:lnTo>
                        <a:pt x="0" y="40"/>
                      </a:lnTo>
                      <a:lnTo>
                        <a:pt x="38" y="93"/>
                      </a:lnTo>
                      <a:lnTo>
                        <a:pt x="302" y="150"/>
                      </a:lnTo>
                      <a:lnTo>
                        <a:pt x="3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368240" y="5401800"/>
                  <a:ext cx="25560" cy="231120"/>
                </a:xfrm>
                <a:custGeom>
                  <a:avLst/>
                  <a:gdLst/>
                  <a:ahLst/>
                  <a:rect l="l" t="t" r="r" b="b"/>
                  <a:pathLst>
                    <a:path w="315" h="2186">
                      <a:moveTo>
                        <a:pt x="175" y="2133"/>
                      </a:moveTo>
                      <a:lnTo>
                        <a:pt x="214" y="2085"/>
                      </a:lnTo>
                      <a:lnTo>
                        <a:pt x="214" y="1958"/>
                      </a:lnTo>
                      <a:lnTo>
                        <a:pt x="124" y="1633"/>
                      </a:lnTo>
                      <a:lnTo>
                        <a:pt x="62" y="1180"/>
                      </a:lnTo>
                      <a:lnTo>
                        <a:pt x="49" y="796"/>
                      </a:lnTo>
                      <a:lnTo>
                        <a:pt x="21" y="540"/>
                      </a:lnTo>
                      <a:lnTo>
                        <a:pt x="49" y="466"/>
                      </a:lnTo>
                      <a:lnTo>
                        <a:pt x="49" y="325"/>
                      </a:lnTo>
                      <a:lnTo>
                        <a:pt x="0" y="213"/>
                      </a:lnTo>
                      <a:lnTo>
                        <a:pt x="73" y="277"/>
                      </a:lnTo>
                      <a:lnTo>
                        <a:pt x="99" y="213"/>
                      </a:lnTo>
                      <a:lnTo>
                        <a:pt x="111" y="127"/>
                      </a:lnTo>
                      <a:lnTo>
                        <a:pt x="111" y="0"/>
                      </a:lnTo>
                      <a:lnTo>
                        <a:pt x="124" y="104"/>
                      </a:lnTo>
                      <a:lnTo>
                        <a:pt x="136" y="213"/>
                      </a:lnTo>
                      <a:lnTo>
                        <a:pt x="111" y="341"/>
                      </a:lnTo>
                      <a:lnTo>
                        <a:pt x="73" y="466"/>
                      </a:lnTo>
                      <a:lnTo>
                        <a:pt x="49" y="551"/>
                      </a:lnTo>
                      <a:lnTo>
                        <a:pt x="111" y="1292"/>
                      </a:lnTo>
                      <a:lnTo>
                        <a:pt x="185" y="1732"/>
                      </a:lnTo>
                      <a:lnTo>
                        <a:pt x="262" y="1958"/>
                      </a:lnTo>
                      <a:lnTo>
                        <a:pt x="315" y="2186"/>
                      </a:lnTo>
                      <a:lnTo>
                        <a:pt x="175" y="2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4394880" y="5384880"/>
                  <a:ext cx="143640" cy="259920"/>
                </a:xfrm>
                <a:custGeom>
                  <a:avLst/>
                  <a:gdLst/>
                  <a:ahLst/>
                  <a:rect l="l" t="t" r="r" b="b"/>
                  <a:pathLst>
                    <a:path w="1731" h="2462">
                      <a:moveTo>
                        <a:pt x="152" y="0"/>
                      </a:moveTo>
                      <a:lnTo>
                        <a:pt x="379" y="203"/>
                      </a:lnTo>
                      <a:lnTo>
                        <a:pt x="440" y="376"/>
                      </a:lnTo>
                      <a:lnTo>
                        <a:pt x="480" y="541"/>
                      </a:lnTo>
                      <a:lnTo>
                        <a:pt x="480" y="800"/>
                      </a:lnTo>
                      <a:lnTo>
                        <a:pt x="368" y="1646"/>
                      </a:lnTo>
                      <a:lnTo>
                        <a:pt x="267" y="1747"/>
                      </a:lnTo>
                      <a:lnTo>
                        <a:pt x="0" y="1784"/>
                      </a:lnTo>
                      <a:lnTo>
                        <a:pt x="368" y="1772"/>
                      </a:lnTo>
                      <a:lnTo>
                        <a:pt x="254" y="2450"/>
                      </a:lnTo>
                      <a:lnTo>
                        <a:pt x="278" y="2462"/>
                      </a:lnTo>
                      <a:lnTo>
                        <a:pt x="406" y="1881"/>
                      </a:lnTo>
                      <a:lnTo>
                        <a:pt x="883" y="2273"/>
                      </a:lnTo>
                      <a:lnTo>
                        <a:pt x="996" y="2273"/>
                      </a:lnTo>
                      <a:lnTo>
                        <a:pt x="1174" y="2185"/>
                      </a:lnTo>
                      <a:lnTo>
                        <a:pt x="1363" y="2035"/>
                      </a:lnTo>
                      <a:lnTo>
                        <a:pt x="1500" y="1895"/>
                      </a:lnTo>
                      <a:lnTo>
                        <a:pt x="1603" y="1759"/>
                      </a:lnTo>
                      <a:lnTo>
                        <a:pt x="1462" y="1881"/>
                      </a:lnTo>
                      <a:lnTo>
                        <a:pt x="1363" y="1809"/>
                      </a:lnTo>
                      <a:lnTo>
                        <a:pt x="1480" y="1734"/>
                      </a:lnTo>
                      <a:lnTo>
                        <a:pt x="1238" y="1809"/>
                      </a:lnTo>
                      <a:lnTo>
                        <a:pt x="950" y="1846"/>
                      </a:lnTo>
                      <a:lnTo>
                        <a:pt x="669" y="1846"/>
                      </a:lnTo>
                      <a:lnTo>
                        <a:pt x="555" y="1846"/>
                      </a:lnTo>
                      <a:lnTo>
                        <a:pt x="469" y="1784"/>
                      </a:lnTo>
                      <a:lnTo>
                        <a:pt x="647" y="1708"/>
                      </a:lnTo>
                      <a:lnTo>
                        <a:pt x="1012" y="1708"/>
                      </a:lnTo>
                      <a:lnTo>
                        <a:pt x="1300" y="1545"/>
                      </a:lnTo>
                      <a:lnTo>
                        <a:pt x="1012" y="1631"/>
                      </a:lnTo>
                      <a:lnTo>
                        <a:pt x="647" y="1631"/>
                      </a:lnTo>
                      <a:lnTo>
                        <a:pt x="440" y="1685"/>
                      </a:lnTo>
                      <a:lnTo>
                        <a:pt x="440" y="1496"/>
                      </a:lnTo>
                      <a:lnTo>
                        <a:pt x="987" y="1409"/>
                      </a:lnTo>
                      <a:lnTo>
                        <a:pt x="781" y="892"/>
                      </a:lnTo>
                      <a:lnTo>
                        <a:pt x="555" y="592"/>
                      </a:lnTo>
                      <a:lnTo>
                        <a:pt x="555" y="415"/>
                      </a:lnTo>
                      <a:lnTo>
                        <a:pt x="1570" y="1444"/>
                      </a:lnTo>
                      <a:lnTo>
                        <a:pt x="1731" y="1519"/>
                      </a:lnTo>
                      <a:lnTo>
                        <a:pt x="1642" y="1332"/>
                      </a:lnTo>
                      <a:lnTo>
                        <a:pt x="733" y="477"/>
                      </a:lnTo>
                      <a:lnTo>
                        <a:pt x="620" y="267"/>
                      </a:lnTo>
                      <a:lnTo>
                        <a:pt x="304" y="51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480920" y="5585040"/>
                  <a:ext cx="64800" cy="61560"/>
                </a:xfrm>
                <a:custGeom>
                  <a:avLst/>
                  <a:gdLst/>
                  <a:ahLst/>
                  <a:rect l="l" t="t" r="r" b="b"/>
                  <a:pathLst>
                    <a:path w="783" h="580">
                      <a:moveTo>
                        <a:pt x="0" y="442"/>
                      </a:moveTo>
                      <a:lnTo>
                        <a:pt x="317" y="378"/>
                      </a:lnTo>
                      <a:lnTo>
                        <a:pt x="670" y="580"/>
                      </a:lnTo>
                      <a:lnTo>
                        <a:pt x="783" y="540"/>
                      </a:lnTo>
                      <a:lnTo>
                        <a:pt x="504" y="378"/>
                      </a:lnTo>
                      <a:lnTo>
                        <a:pt x="619" y="166"/>
                      </a:lnTo>
                      <a:lnTo>
                        <a:pt x="619" y="0"/>
                      </a:lnTo>
                      <a:lnTo>
                        <a:pt x="402" y="265"/>
                      </a:lnTo>
                      <a:lnTo>
                        <a:pt x="216" y="362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528080" y="5541840"/>
                  <a:ext cx="81360" cy="74520"/>
                </a:xfrm>
                <a:custGeom>
                  <a:avLst/>
                  <a:gdLst/>
                  <a:ahLst/>
                  <a:rect l="l" t="t" r="r" b="b"/>
                  <a:pathLst>
                    <a:path w="984" h="703">
                      <a:moveTo>
                        <a:pt x="189" y="314"/>
                      </a:moveTo>
                      <a:lnTo>
                        <a:pt x="367" y="212"/>
                      </a:lnTo>
                      <a:lnTo>
                        <a:pt x="744" y="364"/>
                      </a:lnTo>
                      <a:lnTo>
                        <a:pt x="744" y="500"/>
                      </a:lnTo>
                      <a:lnTo>
                        <a:pt x="442" y="579"/>
                      </a:lnTo>
                      <a:lnTo>
                        <a:pt x="809" y="567"/>
                      </a:lnTo>
                      <a:lnTo>
                        <a:pt x="984" y="703"/>
                      </a:lnTo>
                      <a:lnTo>
                        <a:pt x="870" y="450"/>
                      </a:lnTo>
                      <a:lnTo>
                        <a:pt x="707" y="265"/>
                      </a:lnTo>
                      <a:lnTo>
                        <a:pt x="343" y="164"/>
                      </a:lnTo>
                      <a:lnTo>
                        <a:pt x="202" y="0"/>
                      </a:lnTo>
                      <a:lnTo>
                        <a:pt x="0" y="164"/>
                      </a:lnTo>
                      <a:lnTo>
                        <a:pt x="178" y="63"/>
                      </a:lnTo>
                      <a:lnTo>
                        <a:pt x="239" y="149"/>
                      </a:lnTo>
                      <a:lnTo>
                        <a:pt x="189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614840" y="5610600"/>
                  <a:ext cx="48240" cy="43920"/>
                </a:xfrm>
                <a:custGeom>
                  <a:avLst/>
                  <a:gdLst/>
                  <a:ahLst/>
                  <a:rect l="l" t="t" r="r" b="b"/>
                  <a:pathLst>
                    <a:path w="581" h="415">
                      <a:moveTo>
                        <a:pt x="22" y="0"/>
                      </a:moveTo>
                      <a:lnTo>
                        <a:pt x="464" y="37"/>
                      </a:lnTo>
                      <a:lnTo>
                        <a:pt x="581" y="240"/>
                      </a:lnTo>
                      <a:lnTo>
                        <a:pt x="581" y="288"/>
                      </a:lnTo>
                      <a:lnTo>
                        <a:pt x="492" y="316"/>
                      </a:lnTo>
                      <a:lnTo>
                        <a:pt x="363" y="240"/>
                      </a:lnTo>
                      <a:lnTo>
                        <a:pt x="187" y="240"/>
                      </a:lnTo>
                      <a:lnTo>
                        <a:pt x="477" y="351"/>
                      </a:lnTo>
                      <a:lnTo>
                        <a:pt x="492" y="415"/>
                      </a:lnTo>
                      <a:lnTo>
                        <a:pt x="453" y="367"/>
                      </a:lnTo>
                      <a:lnTo>
                        <a:pt x="22" y="229"/>
                      </a:lnTo>
                      <a:lnTo>
                        <a:pt x="0" y="192"/>
                      </a:lnTo>
                      <a:lnTo>
                        <a:pt x="464" y="176"/>
                      </a:lnTo>
                      <a:lnTo>
                        <a:pt x="453" y="7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4638600" y="5649480"/>
                  <a:ext cx="19080" cy="37080"/>
                </a:xfrm>
                <a:custGeom>
                  <a:avLst/>
                  <a:gdLst/>
                  <a:ahLst/>
                  <a:rect l="l" t="t" r="r" b="b"/>
                  <a:pathLst>
                    <a:path w="228" h="352">
                      <a:moveTo>
                        <a:pt x="186" y="99"/>
                      </a:moveTo>
                      <a:lnTo>
                        <a:pt x="186" y="163"/>
                      </a:lnTo>
                      <a:lnTo>
                        <a:pt x="96" y="210"/>
                      </a:lnTo>
                      <a:lnTo>
                        <a:pt x="0" y="275"/>
                      </a:lnTo>
                      <a:lnTo>
                        <a:pt x="72" y="352"/>
                      </a:lnTo>
                      <a:lnTo>
                        <a:pt x="125" y="249"/>
                      </a:lnTo>
                      <a:lnTo>
                        <a:pt x="228" y="187"/>
                      </a:lnTo>
                      <a:lnTo>
                        <a:pt x="228" y="74"/>
                      </a:lnTo>
                      <a:lnTo>
                        <a:pt x="186" y="0"/>
                      </a:lnTo>
                      <a:lnTo>
                        <a:pt x="186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644720" y="5633280"/>
                  <a:ext cx="30240" cy="55080"/>
                </a:xfrm>
                <a:custGeom>
                  <a:avLst/>
                  <a:gdLst/>
                  <a:ahLst/>
                  <a:rect l="l" t="t" r="r" b="b"/>
                  <a:pathLst>
                    <a:path w="369" h="514">
                      <a:moveTo>
                        <a:pt x="129" y="71"/>
                      </a:moveTo>
                      <a:lnTo>
                        <a:pt x="325" y="396"/>
                      </a:lnTo>
                      <a:lnTo>
                        <a:pt x="369" y="514"/>
                      </a:lnTo>
                      <a:lnTo>
                        <a:pt x="269" y="4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4609080" y="5554440"/>
                  <a:ext cx="33480" cy="60840"/>
                </a:xfrm>
                <a:custGeom>
                  <a:avLst/>
                  <a:gdLst/>
                  <a:ahLst/>
                  <a:rect l="l" t="t" r="r" b="b"/>
                  <a:pathLst>
                    <a:path w="413" h="576">
                      <a:moveTo>
                        <a:pt x="319" y="558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59" y="5"/>
                      </a:lnTo>
                      <a:lnTo>
                        <a:pt x="413" y="57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4556520" y="5617080"/>
                  <a:ext cx="39600" cy="26280"/>
                </a:xfrm>
                <a:custGeom>
                  <a:avLst/>
                  <a:gdLst/>
                  <a:ahLst/>
                  <a:rect l="l" t="t" r="r" b="b"/>
                  <a:pathLst>
                    <a:path w="477" h="244">
                      <a:moveTo>
                        <a:pt x="67" y="181"/>
                      </a:moveTo>
                      <a:lnTo>
                        <a:pt x="99" y="82"/>
                      </a:lnTo>
                      <a:lnTo>
                        <a:pt x="180" y="34"/>
                      </a:lnTo>
                      <a:lnTo>
                        <a:pt x="279" y="34"/>
                      </a:lnTo>
                      <a:lnTo>
                        <a:pt x="427" y="62"/>
                      </a:lnTo>
                      <a:lnTo>
                        <a:pt x="477" y="34"/>
                      </a:lnTo>
                      <a:lnTo>
                        <a:pt x="310" y="0"/>
                      </a:lnTo>
                      <a:lnTo>
                        <a:pt x="198" y="0"/>
                      </a:lnTo>
                      <a:lnTo>
                        <a:pt x="99" y="34"/>
                      </a:lnTo>
                      <a:lnTo>
                        <a:pt x="51" y="99"/>
                      </a:lnTo>
                      <a:lnTo>
                        <a:pt x="0" y="244"/>
                      </a:lnTo>
                      <a:lnTo>
                        <a:pt x="67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4526280" y="5116320"/>
                  <a:ext cx="133560" cy="209160"/>
                </a:xfrm>
                <a:custGeom>
                  <a:avLst/>
                  <a:gdLst/>
                  <a:ahLst/>
                  <a:rect l="l" t="t" r="r" b="b"/>
                  <a:pathLst>
                    <a:path w="1617" h="1969">
                      <a:moveTo>
                        <a:pt x="1578" y="822"/>
                      </a:moveTo>
                      <a:lnTo>
                        <a:pt x="1615" y="694"/>
                      </a:lnTo>
                      <a:lnTo>
                        <a:pt x="1617" y="512"/>
                      </a:lnTo>
                      <a:lnTo>
                        <a:pt x="1573" y="350"/>
                      </a:lnTo>
                      <a:lnTo>
                        <a:pt x="1506" y="233"/>
                      </a:lnTo>
                      <a:lnTo>
                        <a:pt x="1413" y="123"/>
                      </a:lnTo>
                      <a:lnTo>
                        <a:pt x="1275" y="48"/>
                      </a:lnTo>
                      <a:lnTo>
                        <a:pt x="980" y="0"/>
                      </a:lnTo>
                      <a:lnTo>
                        <a:pt x="710" y="73"/>
                      </a:lnTo>
                      <a:lnTo>
                        <a:pt x="565" y="198"/>
                      </a:lnTo>
                      <a:lnTo>
                        <a:pt x="439" y="417"/>
                      </a:lnTo>
                      <a:lnTo>
                        <a:pt x="404" y="631"/>
                      </a:lnTo>
                      <a:lnTo>
                        <a:pt x="351" y="818"/>
                      </a:lnTo>
                      <a:lnTo>
                        <a:pt x="356" y="910"/>
                      </a:lnTo>
                      <a:lnTo>
                        <a:pt x="404" y="1026"/>
                      </a:lnTo>
                      <a:lnTo>
                        <a:pt x="393" y="1095"/>
                      </a:lnTo>
                      <a:lnTo>
                        <a:pt x="268" y="1185"/>
                      </a:lnTo>
                      <a:lnTo>
                        <a:pt x="171" y="1270"/>
                      </a:lnTo>
                      <a:lnTo>
                        <a:pt x="106" y="1411"/>
                      </a:lnTo>
                      <a:lnTo>
                        <a:pt x="106" y="1484"/>
                      </a:lnTo>
                      <a:lnTo>
                        <a:pt x="116" y="1554"/>
                      </a:lnTo>
                      <a:lnTo>
                        <a:pt x="130" y="1597"/>
                      </a:lnTo>
                      <a:lnTo>
                        <a:pt x="112" y="1653"/>
                      </a:lnTo>
                      <a:lnTo>
                        <a:pt x="0" y="1754"/>
                      </a:lnTo>
                      <a:lnTo>
                        <a:pt x="160" y="1712"/>
                      </a:lnTo>
                      <a:lnTo>
                        <a:pt x="347" y="1657"/>
                      </a:lnTo>
                      <a:lnTo>
                        <a:pt x="415" y="1861"/>
                      </a:lnTo>
                      <a:lnTo>
                        <a:pt x="479" y="1969"/>
                      </a:lnTo>
                      <a:lnTo>
                        <a:pt x="450" y="1872"/>
                      </a:lnTo>
                      <a:lnTo>
                        <a:pt x="450" y="1800"/>
                      </a:lnTo>
                      <a:lnTo>
                        <a:pt x="468" y="1758"/>
                      </a:lnTo>
                      <a:lnTo>
                        <a:pt x="505" y="1754"/>
                      </a:lnTo>
                      <a:lnTo>
                        <a:pt x="565" y="1769"/>
                      </a:lnTo>
                      <a:lnTo>
                        <a:pt x="628" y="1826"/>
                      </a:lnTo>
                      <a:lnTo>
                        <a:pt x="685" y="1904"/>
                      </a:lnTo>
                      <a:lnTo>
                        <a:pt x="639" y="1754"/>
                      </a:lnTo>
                      <a:lnTo>
                        <a:pt x="618" y="1641"/>
                      </a:lnTo>
                      <a:lnTo>
                        <a:pt x="604" y="1507"/>
                      </a:lnTo>
                      <a:lnTo>
                        <a:pt x="611" y="1411"/>
                      </a:lnTo>
                      <a:lnTo>
                        <a:pt x="674" y="1507"/>
                      </a:lnTo>
                      <a:lnTo>
                        <a:pt x="765" y="1593"/>
                      </a:lnTo>
                      <a:lnTo>
                        <a:pt x="870" y="1666"/>
                      </a:lnTo>
                      <a:lnTo>
                        <a:pt x="980" y="1703"/>
                      </a:lnTo>
                      <a:lnTo>
                        <a:pt x="888" y="1666"/>
                      </a:lnTo>
                      <a:lnTo>
                        <a:pt x="802" y="1613"/>
                      </a:lnTo>
                      <a:lnTo>
                        <a:pt x="717" y="1533"/>
                      </a:lnTo>
                      <a:lnTo>
                        <a:pt x="671" y="1466"/>
                      </a:lnTo>
                      <a:lnTo>
                        <a:pt x="632" y="1399"/>
                      </a:lnTo>
                      <a:lnTo>
                        <a:pt x="618" y="1339"/>
                      </a:lnTo>
                      <a:lnTo>
                        <a:pt x="611" y="1261"/>
                      </a:lnTo>
                      <a:lnTo>
                        <a:pt x="598" y="1180"/>
                      </a:lnTo>
                      <a:lnTo>
                        <a:pt x="591" y="1042"/>
                      </a:lnTo>
                      <a:lnTo>
                        <a:pt x="584" y="1237"/>
                      </a:lnTo>
                      <a:lnTo>
                        <a:pt x="569" y="1261"/>
                      </a:lnTo>
                      <a:lnTo>
                        <a:pt x="538" y="1277"/>
                      </a:lnTo>
                      <a:lnTo>
                        <a:pt x="499" y="1261"/>
                      </a:lnTo>
                      <a:lnTo>
                        <a:pt x="479" y="1217"/>
                      </a:lnTo>
                      <a:lnTo>
                        <a:pt x="479" y="1167"/>
                      </a:lnTo>
                      <a:lnTo>
                        <a:pt x="494" y="1114"/>
                      </a:lnTo>
                      <a:lnTo>
                        <a:pt x="523" y="1072"/>
                      </a:lnTo>
                      <a:lnTo>
                        <a:pt x="487" y="1092"/>
                      </a:lnTo>
                      <a:lnTo>
                        <a:pt x="429" y="963"/>
                      </a:lnTo>
                      <a:lnTo>
                        <a:pt x="411" y="910"/>
                      </a:lnTo>
                      <a:lnTo>
                        <a:pt x="404" y="853"/>
                      </a:lnTo>
                      <a:lnTo>
                        <a:pt x="411" y="804"/>
                      </a:lnTo>
                      <a:lnTo>
                        <a:pt x="436" y="776"/>
                      </a:lnTo>
                      <a:lnTo>
                        <a:pt x="461" y="751"/>
                      </a:lnTo>
                      <a:lnTo>
                        <a:pt x="487" y="751"/>
                      </a:lnTo>
                      <a:lnTo>
                        <a:pt x="514" y="767"/>
                      </a:lnTo>
                      <a:lnTo>
                        <a:pt x="538" y="804"/>
                      </a:lnTo>
                      <a:lnTo>
                        <a:pt x="565" y="890"/>
                      </a:lnTo>
                      <a:lnTo>
                        <a:pt x="574" y="782"/>
                      </a:lnTo>
                      <a:lnTo>
                        <a:pt x="622" y="687"/>
                      </a:lnTo>
                      <a:lnTo>
                        <a:pt x="697" y="549"/>
                      </a:lnTo>
                      <a:lnTo>
                        <a:pt x="741" y="435"/>
                      </a:lnTo>
                      <a:lnTo>
                        <a:pt x="798" y="354"/>
                      </a:lnTo>
                      <a:lnTo>
                        <a:pt x="888" y="304"/>
                      </a:lnTo>
                      <a:lnTo>
                        <a:pt x="1038" y="286"/>
                      </a:lnTo>
                      <a:lnTo>
                        <a:pt x="1195" y="304"/>
                      </a:lnTo>
                      <a:lnTo>
                        <a:pt x="1393" y="343"/>
                      </a:lnTo>
                      <a:lnTo>
                        <a:pt x="1470" y="406"/>
                      </a:lnTo>
                      <a:lnTo>
                        <a:pt x="1520" y="519"/>
                      </a:lnTo>
                      <a:lnTo>
                        <a:pt x="1549" y="641"/>
                      </a:lnTo>
                      <a:lnTo>
                        <a:pt x="1569" y="883"/>
                      </a:lnTo>
                      <a:lnTo>
                        <a:pt x="1578" y="8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4588200" y="5220720"/>
                  <a:ext cx="67320" cy="124560"/>
                </a:xfrm>
                <a:custGeom>
                  <a:avLst/>
                  <a:gdLst/>
                  <a:ahLst/>
                  <a:rect l="l" t="t" r="r" b="b"/>
                  <a:pathLst>
                    <a:path w="817" h="1173">
                      <a:moveTo>
                        <a:pt x="817" y="0"/>
                      </a:moveTo>
                      <a:lnTo>
                        <a:pt x="786" y="103"/>
                      </a:lnTo>
                      <a:lnTo>
                        <a:pt x="718" y="359"/>
                      </a:lnTo>
                      <a:lnTo>
                        <a:pt x="634" y="514"/>
                      </a:lnTo>
                      <a:lnTo>
                        <a:pt x="569" y="608"/>
                      </a:lnTo>
                      <a:lnTo>
                        <a:pt x="481" y="703"/>
                      </a:lnTo>
                      <a:lnTo>
                        <a:pt x="417" y="723"/>
                      </a:lnTo>
                      <a:lnTo>
                        <a:pt x="305" y="732"/>
                      </a:lnTo>
                      <a:lnTo>
                        <a:pt x="187" y="707"/>
                      </a:lnTo>
                      <a:lnTo>
                        <a:pt x="94" y="661"/>
                      </a:lnTo>
                      <a:lnTo>
                        <a:pt x="0" y="596"/>
                      </a:lnTo>
                      <a:lnTo>
                        <a:pt x="57" y="692"/>
                      </a:lnTo>
                      <a:lnTo>
                        <a:pt x="136" y="758"/>
                      </a:lnTo>
                      <a:lnTo>
                        <a:pt x="206" y="800"/>
                      </a:lnTo>
                      <a:lnTo>
                        <a:pt x="300" y="825"/>
                      </a:lnTo>
                      <a:lnTo>
                        <a:pt x="380" y="825"/>
                      </a:lnTo>
                      <a:lnTo>
                        <a:pt x="329" y="1173"/>
                      </a:lnTo>
                      <a:lnTo>
                        <a:pt x="376" y="1064"/>
                      </a:lnTo>
                      <a:lnTo>
                        <a:pt x="443" y="795"/>
                      </a:lnTo>
                      <a:lnTo>
                        <a:pt x="477" y="747"/>
                      </a:lnTo>
                      <a:lnTo>
                        <a:pt x="527" y="820"/>
                      </a:lnTo>
                      <a:lnTo>
                        <a:pt x="574" y="940"/>
                      </a:lnTo>
                      <a:lnTo>
                        <a:pt x="551" y="800"/>
                      </a:lnTo>
                      <a:lnTo>
                        <a:pt x="503" y="707"/>
                      </a:lnTo>
                      <a:lnTo>
                        <a:pt x="579" y="617"/>
                      </a:lnTo>
                      <a:lnTo>
                        <a:pt x="668" y="493"/>
                      </a:lnTo>
                      <a:lnTo>
                        <a:pt x="720" y="373"/>
                      </a:lnTo>
                      <a:lnTo>
                        <a:pt x="754" y="286"/>
                      </a:lnTo>
                      <a:lnTo>
                        <a:pt x="793" y="115"/>
                      </a:lnTo>
                      <a:lnTo>
                        <a:pt x="8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562640" y="5202720"/>
                  <a:ext cx="7920" cy="22680"/>
                </a:xfrm>
                <a:custGeom>
                  <a:avLst/>
                  <a:gdLst/>
                  <a:ahLst/>
                  <a:rect l="l" t="t" r="r" b="b"/>
                  <a:pathLst>
                    <a:path w="99" h="215">
                      <a:moveTo>
                        <a:pt x="11" y="0"/>
                      </a:moveTo>
                      <a:lnTo>
                        <a:pt x="48" y="7"/>
                      </a:lnTo>
                      <a:lnTo>
                        <a:pt x="91" y="60"/>
                      </a:lnTo>
                      <a:lnTo>
                        <a:pt x="99" y="111"/>
                      </a:lnTo>
                      <a:lnTo>
                        <a:pt x="94" y="145"/>
                      </a:lnTo>
                      <a:lnTo>
                        <a:pt x="60" y="162"/>
                      </a:lnTo>
                      <a:lnTo>
                        <a:pt x="55" y="180"/>
                      </a:lnTo>
                      <a:lnTo>
                        <a:pt x="73" y="215"/>
                      </a:lnTo>
                      <a:lnTo>
                        <a:pt x="22" y="169"/>
                      </a:lnTo>
                      <a:lnTo>
                        <a:pt x="22" y="145"/>
                      </a:lnTo>
                      <a:lnTo>
                        <a:pt x="36" y="123"/>
                      </a:lnTo>
                      <a:lnTo>
                        <a:pt x="55" y="106"/>
                      </a:lnTo>
                      <a:lnTo>
                        <a:pt x="84" y="92"/>
                      </a:lnTo>
                      <a:lnTo>
                        <a:pt x="73" y="65"/>
                      </a:lnTo>
                      <a:lnTo>
                        <a:pt x="60" y="42"/>
                      </a:lnTo>
                      <a:lnTo>
                        <a:pt x="36" y="28"/>
                      </a:lnTo>
                      <a:lnTo>
                        <a:pt x="11" y="60"/>
                      </a:lnTo>
                      <a:lnTo>
                        <a:pt x="11" y="79"/>
                      </a:lnTo>
                      <a:lnTo>
                        <a:pt x="0" y="53"/>
                      </a:lnTo>
                      <a:lnTo>
                        <a:pt x="0" y="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4573080" y="5210640"/>
                  <a:ext cx="360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4575240" y="5214600"/>
                  <a:ext cx="50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4579920" y="5229000"/>
                  <a:ext cx="32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4565880" y="523224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33" y="0"/>
                      </a:moveTo>
                      <a:lnTo>
                        <a:pt x="59" y="28"/>
                      </a:lnTo>
                      <a:lnTo>
                        <a:pt x="72" y="63"/>
                      </a:lnTo>
                      <a:lnTo>
                        <a:pt x="77" y="112"/>
                      </a:lnTo>
                      <a:lnTo>
                        <a:pt x="72" y="145"/>
                      </a:lnTo>
                      <a:lnTo>
                        <a:pt x="54" y="158"/>
                      </a:lnTo>
                      <a:lnTo>
                        <a:pt x="33" y="162"/>
                      </a:lnTo>
                      <a:lnTo>
                        <a:pt x="8" y="158"/>
                      </a:lnTo>
                      <a:lnTo>
                        <a:pt x="0" y="116"/>
                      </a:lnTo>
                      <a:lnTo>
                        <a:pt x="44" y="123"/>
                      </a:lnTo>
                      <a:lnTo>
                        <a:pt x="51" y="88"/>
                      </a:lnTo>
                      <a:lnTo>
                        <a:pt x="59" y="63"/>
                      </a:lnTo>
                      <a:lnTo>
                        <a:pt x="54" y="3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4474440" y="5287680"/>
                  <a:ext cx="235800" cy="159120"/>
                </a:xfrm>
                <a:custGeom>
                  <a:avLst/>
                  <a:gdLst/>
                  <a:ahLst/>
                  <a:rect l="l" t="t" r="r" b="b"/>
                  <a:pathLst>
                    <a:path w="2847" h="1510">
                      <a:moveTo>
                        <a:pt x="1072" y="246"/>
                      </a:moveTo>
                      <a:lnTo>
                        <a:pt x="1129" y="369"/>
                      </a:lnTo>
                      <a:lnTo>
                        <a:pt x="1228" y="441"/>
                      </a:lnTo>
                      <a:lnTo>
                        <a:pt x="1369" y="516"/>
                      </a:lnTo>
                      <a:lnTo>
                        <a:pt x="1558" y="567"/>
                      </a:lnTo>
                      <a:lnTo>
                        <a:pt x="1798" y="606"/>
                      </a:lnTo>
                      <a:lnTo>
                        <a:pt x="1903" y="576"/>
                      </a:lnTo>
                      <a:lnTo>
                        <a:pt x="1945" y="507"/>
                      </a:lnTo>
                      <a:lnTo>
                        <a:pt x="1969" y="408"/>
                      </a:lnTo>
                      <a:lnTo>
                        <a:pt x="1969" y="345"/>
                      </a:lnTo>
                      <a:lnTo>
                        <a:pt x="1929" y="239"/>
                      </a:lnTo>
                      <a:lnTo>
                        <a:pt x="1890" y="171"/>
                      </a:lnTo>
                      <a:lnTo>
                        <a:pt x="1839" y="120"/>
                      </a:lnTo>
                      <a:lnTo>
                        <a:pt x="1903" y="32"/>
                      </a:lnTo>
                      <a:lnTo>
                        <a:pt x="1945" y="0"/>
                      </a:lnTo>
                      <a:lnTo>
                        <a:pt x="2160" y="113"/>
                      </a:lnTo>
                      <a:lnTo>
                        <a:pt x="2400" y="162"/>
                      </a:lnTo>
                      <a:lnTo>
                        <a:pt x="2630" y="252"/>
                      </a:lnTo>
                      <a:lnTo>
                        <a:pt x="2847" y="378"/>
                      </a:lnTo>
                      <a:lnTo>
                        <a:pt x="2556" y="252"/>
                      </a:lnTo>
                      <a:lnTo>
                        <a:pt x="2342" y="191"/>
                      </a:lnTo>
                      <a:lnTo>
                        <a:pt x="2202" y="171"/>
                      </a:lnTo>
                      <a:lnTo>
                        <a:pt x="2052" y="171"/>
                      </a:lnTo>
                      <a:lnTo>
                        <a:pt x="1987" y="215"/>
                      </a:lnTo>
                      <a:lnTo>
                        <a:pt x="2004" y="387"/>
                      </a:lnTo>
                      <a:lnTo>
                        <a:pt x="1987" y="484"/>
                      </a:lnTo>
                      <a:lnTo>
                        <a:pt x="1953" y="590"/>
                      </a:lnTo>
                      <a:lnTo>
                        <a:pt x="1903" y="655"/>
                      </a:lnTo>
                      <a:lnTo>
                        <a:pt x="1789" y="760"/>
                      </a:lnTo>
                      <a:lnTo>
                        <a:pt x="1789" y="707"/>
                      </a:lnTo>
                      <a:lnTo>
                        <a:pt x="1749" y="673"/>
                      </a:lnTo>
                      <a:lnTo>
                        <a:pt x="1708" y="687"/>
                      </a:lnTo>
                      <a:lnTo>
                        <a:pt x="1696" y="738"/>
                      </a:lnTo>
                      <a:lnTo>
                        <a:pt x="1720" y="770"/>
                      </a:lnTo>
                      <a:lnTo>
                        <a:pt x="1756" y="779"/>
                      </a:lnTo>
                      <a:lnTo>
                        <a:pt x="1731" y="813"/>
                      </a:lnTo>
                      <a:lnTo>
                        <a:pt x="1674" y="802"/>
                      </a:lnTo>
                      <a:lnTo>
                        <a:pt x="1648" y="760"/>
                      </a:lnTo>
                      <a:lnTo>
                        <a:pt x="1659" y="707"/>
                      </a:lnTo>
                      <a:lnTo>
                        <a:pt x="1681" y="666"/>
                      </a:lnTo>
                      <a:lnTo>
                        <a:pt x="1720" y="648"/>
                      </a:lnTo>
                      <a:lnTo>
                        <a:pt x="1780" y="624"/>
                      </a:lnTo>
                      <a:lnTo>
                        <a:pt x="1433" y="567"/>
                      </a:lnTo>
                      <a:lnTo>
                        <a:pt x="1235" y="500"/>
                      </a:lnTo>
                      <a:lnTo>
                        <a:pt x="1353" y="795"/>
                      </a:lnTo>
                      <a:lnTo>
                        <a:pt x="1549" y="1289"/>
                      </a:lnTo>
                      <a:lnTo>
                        <a:pt x="1648" y="1510"/>
                      </a:lnTo>
                      <a:lnTo>
                        <a:pt x="1358" y="903"/>
                      </a:lnTo>
                      <a:lnTo>
                        <a:pt x="1201" y="576"/>
                      </a:lnTo>
                      <a:lnTo>
                        <a:pt x="1046" y="378"/>
                      </a:lnTo>
                      <a:lnTo>
                        <a:pt x="896" y="239"/>
                      </a:lnTo>
                      <a:lnTo>
                        <a:pt x="774" y="156"/>
                      </a:lnTo>
                      <a:lnTo>
                        <a:pt x="668" y="147"/>
                      </a:lnTo>
                      <a:lnTo>
                        <a:pt x="525" y="162"/>
                      </a:lnTo>
                      <a:lnTo>
                        <a:pt x="106" y="270"/>
                      </a:lnTo>
                      <a:lnTo>
                        <a:pt x="0" y="345"/>
                      </a:lnTo>
                      <a:lnTo>
                        <a:pt x="106" y="239"/>
                      </a:lnTo>
                      <a:lnTo>
                        <a:pt x="493" y="94"/>
                      </a:lnTo>
                      <a:lnTo>
                        <a:pt x="749" y="90"/>
                      </a:lnTo>
                      <a:lnTo>
                        <a:pt x="995" y="15"/>
                      </a:lnTo>
                      <a:lnTo>
                        <a:pt x="1072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4458960" y="5331600"/>
                  <a:ext cx="93960" cy="181440"/>
                </a:xfrm>
                <a:custGeom>
                  <a:avLst/>
                  <a:gdLst/>
                  <a:ahLst/>
                  <a:rect l="l" t="t" r="r" b="b"/>
                  <a:pathLst>
                    <a:path w="1134" h="1714">
                      <a:moveTo>
                        <a:pt x="159" y="0"/>
                      </a:moveTo>
                      <a:lnTo>
                        <a:pt x="264" y="31"/>
                      </a:lnTo>
                      <a:lnTo>
                        <a:pt x="365" y="113"/>
                      </a:lnTo>
                      <a:lnTo>
                        <a:pt x="447" y="229"/>
                      </a:lnTo>
                      <a:lnTo>
                        <a:pt x="521" y="367"/>
                      </a:lnTo>
                      <a:lnTo>
                        <a:pt x="570" y="484"/>
                      </a:lnTo>
                      <a:lnTo>
                        <a:pt x="611" y="591"/>
                      </a:lnTo>
                      <a:lnTo>
                        <a:pt x="491" y="409"/>
                      </a:lnTo>
                      <a:lnTo>
                        <a:pt x="387" y="288"/>
                      </a:lnTo>
                      <a:lnTo>
                        <a:pt x="264" y="205"/>
                      </a:lnTo>
                      <a:lnTo>
                        <a:pt x="167" y="157"/>
                      </a:lnTo>
                      <a:lnTo>
                        <a:pt x="167" y="319"/>
                      </a:lnTo>
                      <a:lnTo>
                        <a:pt x="222" y="499"/>
                      </a:lnTo>
                      <a:lnTo>
                        <a:pt x="312" y="646"/>
                      </a:lnTo>
                      <a:lnTo>
                        <a:pt x="413" y="754"/>
                      </a:lnTo>
                      <a:lnTo>
                        <a:pt x="598" y="886"/>
                      </a:lnTo>
                      <a:lnTo>
                        <a:pt x="768" y="998"/>
                      </a:lnTo>
                      <a:lnTo>
                        <a:pt x="860" y="1049"/>
                      </a:lnTo>
                      <a:lnTo>
                        <a:pt x="818" y="925"/>
                      </a:lnTo>
                      <a:lnTo>
                        <a:pt x="923" y="1132"/>
                      </a:lnTo>
                      <a:lnTo>
                        <a:pt x="976" y="1301"/>
                      </a:lnTo>
                      <a:lnTo>
                        <a:pt x="1007" y="1508"/>
                      </a:lnTo>
                      <a:lnTo>
                        <a:pt x="1081" y="1631"/>
                      </a:lnTo>
                      <a:lnTo>
                        <a:pt x="1134" y="1714"/>
                      </a:lnTo>
                      <a:lnTo>
                        <a:pt x="959" y="1559"/>
                      </a:lnTo>
                      <a:lnTo>
                        <a:pt x="959" y="1642"/>
                      </a:lnTo>
                      <a:lnTo>
                        <a:pt x="877" y="1665"/>
                      </a:lnTo>
                      <a:lnTo>
                        <a:pt x="918" y="1609"/>
                      </a:lnTo>
                      <a:lnTo>
                        <a:pt x="908" y="1534"/>
                      </a:lnTo>
                      <a:lnTo>
                        <a:pt x="703" y="1402"/>
                      </a:lnTo>
                      <a:lnTo>
                        <a:pt x="877" y="1411"/>
                      </a:lnTo>
                      <a:lnTo>
                        <a:pt x="736" y="1204"/>
                      </a:lnTo>
                      <a:lnTo>
                        <a:pt x="853" y="1195"/>
                      </a:lnTo>
                      <a:lnTo>
                        <a:pt x="869" y="1147"/>
                      </a:lnTo>
                      <a:lnTo>
                        <a:pt x="703" y="1141"/>
                      </a:lnTo>
                      <a:lnTo>
                        <a:pt x="494" y="1077"/>
                      </a:lnTo>
                      <a:lnTo>
                        <a:pt x="249" y="967"/>
                      </a:lnTo>
                      <a:lnTo>
                        <a:pt x="99" y="860"/>
                      </a:lnTo>
                      <a:lnTo>
                        <a:pt x="84" y="886"/>
                      </a:lnTo>
                      <a:lnTo>
                        <a:pt x="143" y="985"/>
                      </a:lnTo>
                      <a:lnTo>
                        <a:pt x="240" y="1077"/>
                      </a:lnTo>
                      <a:lnTo>
                        <a:pt x="339" y="1132"/>
                      </a:lnTo>
                      <a:lnTo>
                        <a:pt x="413" y="1338"/>
                      </a:lnTo>
                      <a:lnTo>
                        <a:pt x="644" y="1402"/>
                      </a:lnTo>
                      <a:lnTo>
                        <a:pt x="482" y="1386"/>
                      </a:lnTo>
                      <a:lnTo>
                        <a:pt x="556" y="1460"/>
                      </a:lnTo>
                      <a:lnTo>
                        <a:pt x="763" y="1508"/>
                      </a:lnTo>
                      <a:lnTo>
                        <a:pt x="853" y="1582"/>
                      </a:lnTo>
                      <a:lnTo>
                        <a:pt x="826" y="1631"/>
                      </a:lnTo>
                      <a:lnTo>
                        <a:pt x="694" y="1591"/>
                      </a:lnTo>
                      <a:lnTo>
                        <a:pt x="598" y="1600"/>
                      </a:lnTo>
                      <a:lnTo>
                        <a:pt x="51" y="1107"/>
                      </a:lnTo>
                      <a:lnTo>
                        <a:pt x="21" y="943"/>
                      </a:lnTo>
                      <a:lnTo>
                        <a:pt x="9" y="826"/>
                      </a:lnTo>
                      <a:lnTo>
                        <a:pt x="51" y="770"/>
                      </a:lnTo>
                      <a:lnTo>
                        <a:pt x="21" y="642"/>
                      </a:lnTo>
                      <a:lnTo>
                        <a:pt x="0" y="443"/>
                      </a:lnTo>
                      <a:lnTo>
                        <a:pt x="25" y="279"/>
                      </a:lnTo>
                      <a:lnTo>
                        <a:pt x="77" y="132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4524840" y="5505480"/>
                  <a:ext cx="26280" cy="42480"/>
                </a:xfrm>
                <a:custGeom>
                  <a:avLst/>
                  <a:gdLst/>
                  <a:ahLst/>
                  <a:rect l="l" t="t" r="r" b="b"/>
                  <a:pathLst>
                    <a:path w="318" h="399">
                      <a:moveTo>
                        <a:pt x="0" y="138"/>
                      </a:moveTo>
                      <a:lnTo>
                        <a:pt x="87" y="23"/>
                      </a:lnTo>
                      <a:lnTo>
                        <a:pt x="168" y="0"/>
                      </a:lnTo>
                      <a:lnTo>
                        <a:pt x="221" y="72"/>
                      </a:lnTo>
                      <a:lnTo>
                        <a:pt x="221" y="336"/>
                      </a:lnTo>
                      <a:lnTo>
                        <a:pt x="285" y="106"/>
                      </a:lnTo>
                      <a:lnTo>
                        <a:pt x="318" y="196"/>
                      </a:lnTo>
                      <a:lnTo>
                        <a:pt x="318" y="295"/>
                      </a:lnTo>
                      <a:lnTo>
                        <a:pt x="246" y="399"/>
                      </a:lnTo>
                      <a:lnTo>
                        <a:pt x="186" y="399"/>
                      </a:lnTo>
                      <a:lnTo>
                        <a:pt x="39" y="261"/>
                      </a:lnTo>
                      <a:lnTo>
                        <a:pt x="0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4547880" y="5342760"/>
                  <a:ext cx="193320" cy="227880"/>
                </a:xfrm>
                <a:custGeom>
                  <a:avLst/>
                  <a:gdLst/>
                  <a:ahLst/>
                  <a:rect l="l" t="t" r="r" b="b"/>
                  <a:pathLst>
                    <a:path w="2335" h="2151">
                      <a:moveTo>
                        <a:pt x="87" y="1633"/>
                      </a:moveTo>
                      <a:lnTo>
                        <a:pt x="112" y="1705"/>
                      </a:lnTo>
                      <a:lnTo>
                        <a:pt x="123" y="1896"/>
                      </a:lnTo>
                      <a:lnTo>
                        <a:pt x="0" y="1953"/>
                      </a:lnTo>
                      <a:lnTo>
                        <a:pt x="39" y="1978"/>
                      </a:lnTo>
                      <a:lnTo>
                        <a:pt x="182" y="1953"/>
                      </a:lnTo>
                      <a:lnTo>
                        <a:pt x="742" y="2068"/>
                      </a:lnTo>
                      <a:lnTo>
                        <a:pt x="732" y="2032"/>
                      </a:lnTo>
                      <a:lnTo>
                        <a:pt x="732" y="2011"/>
                      </a:lnTo>
                      <a:lnTo>
                        <a:pt x="758" y="1997"/>
                      </a:lnTo>
                      <a:lnTo>
                        <a:pt x="791" y="2002"/>
                      </a:lnTo>
                      <a:lnTo>
                        <a:pt x="806" y="2032"/>
                      </a:lnTo>
                      <a:lnTo>
                        <a:pt x="830" y="2061"/>
                      </a:lnTo>
                      <a:lnTo>
                        <a:pt x="883" y="2068"/>
                      </a:lnTo>
                      <a:lnTo>
                        <a:pt x="958" y="2127"/>
                      </a:lnTo>
                      <a:lnTo>
                        <a:pt x="938" y="2068"/>
                      </a:lnTo>
                      <a:lnTo>
                        <a:pt x="1180" y="2011"/>
                      </a:lnTo>
                      <a:lnTo>
                        <a:pt x="1477" y="1845"/>
                      </a:lnTo>
                      <a:lnTo>
                        <a:pt x="1807" y="1930"/>
                      </a:lnTo>
                      <a:lnTo>
                        <a:pt x="1872" y="2061"/>
                      </a:lnTo>
                      <a:lnTo>
                        <a:pt x="1872" y="2142"/>
                      </a:lnTo>
                      <a:lnTo>
                        <a:pt x="1883" y="2151"/>
                      </a:lnTo>
                      <a:lnTo>
                        <a:pt x="1897" y="2061"/>
                      </a:lnTo>
                      <a:lnTo>
                        <a:pt x="1823" y="1912"/>
                      </a:lnTo>
                      <a:lnTo>
                        <a:pt x="1666" y="1815"/>
                      </a:lnTo>
                      <a:lnTo>
                        <a:pt x="1731" y="1714"/>
                      </a:lnTo>
                      <a:lnTo>
                        <a:pt x="1855" y="1668"/>
                      </a:lnTo>
                      <a:lnTo>
                        <a:pt x="2003" y="1642"/>
                      </a:lnTo>
                      <a:lnTo>
                        <a:pt x="2189" y="1674"/>
                      </a:lnTo>
                      <a:lnTo>
                        <a:pt x="2226" y="1705"/>
                      </a:lnTo>
                      <a:lnTo>
                        <a:pt x="2235" y="1804"/>
                      </a:lnTo>
                      <a:lnTo>
                        <a:pt x="2285" y="1887"/>
                      </a:lnTo>
                      <a:lnTo>
                        <a:pt x="2335" y="1771"/>
                      </a:lnTo>
                      <a:lnTo>
                        <a:pt x="2309" y="1700"/>
                      </a:lnTo>
                      <a:lnTo>
                        <a:pt x="2219" y="1608"/>
                      </a:lnTo>
                      <a:lnTo>
                        <a:pt x="2102" y="1510"/>
                      </a:lnTo>
                      <a:lnTo>
                        <a:pt x="2010" y="1402"/>
                      </a:lnTo>
                      <a:lnTo>
                        <a:pt x="1929" y="1439"/>
                      </a:lnTo>
                      <a:lnTo>
                        <a:pt x="1883" y="1559"/>
                      </a:lnTo>
                      <a:lnTo>
                        <a:pt x="1839" y="1536"/>
                      </a:lnTo>
                      <a:lnTo>
                        <a:pt x="1883" y="1428"/>
                      </a:lnTo>
                      <a:lnTo>
                        <a:pt x="1929" y="1338"/>
                      </a:lnTo>
                      <a:lnTo>
                        <a:pt x="2138" y="1255"/>
                      </a:lnTo>
                      <a:lnTo>
                        <a:pt x="2235" y="1165"/>
                      </a:lnTo>
                      <a:lnTo>
                        <a:pt x="2189" y="1041"/>
                      </a:lnTo>
                      <a:lnTo>
                        <a:pt x="2169" y="1142"/>
                      </a:lnTo>
                      <a:lnTo>
                        <a:pt x="2063" y="1206"/>
                      </a:lnTo>
                      <a:lnTo>
                        <a:pt x="1962" y="1232"/>
                      </a:lnTo>
                      <a:lnTo>
                        <a:pt x="1883" y="1239"/>
                      </a:lnTo>
                      <a:lnTo>
                        <a:pt x="1855" y="1213"/>
                      </a:lnTo>
                      <a:lnTo>
                        <a:pt x="1872" y="1181"/>
                      </a:lnTo>
                      <a:lnTo>
                        <a:pt x="2039" y="1066"/>
                      </a:lnTo>
                      <a:lnTo>
                        <a:pt x="2169" y="943"/>
                      </a:lnTo>
                      <a:lnTo>
                        <a:pt x="2197" y="1001"/>
                      </a:lnTo>
                      <a:lnTo>
                        <a:pt x="2201" y="868"/>
                      </a:lnTo>
                      <a:lnTo>
                        <a:pt x="2180" y="720"/>
                      </a:lnTo>
                      <a:lnTo>
                        <a:pt x="2169" y="565"/>
                      </a:lnTo>
                      <a:lnTo>
                        <a:pt x="2180" y="337"/>
                      </a:lnTo>
                      <a:lnTo>
                        <a:pt x="2153" y="114"/>
                      </a:lnTo>
                      <a:lnTo>
                        <a:pt x="2111" y="0"/>
                      </a:lnTo>
                      <a:lnTo>
                        <a:pt x="2144" y="182"/>
                      </a:lnTo>
                      <a:lnTo>
                        <a:pt x="2144" y="400"/>
                      </a:lnTo>
                      <a:lnTo>
                        <a:pt x="2111" y="582"/>
                      </a:lnTo>
                      <a:lnTo>
                        <a:pt x="1982" y="868"/>
                      </a:lnTo>
                      <a:lnTo>
                        <a:pt x="2088" y="706"/>
                      </a:lnTo>
                      <a:lnTo>
                        <a:pt x="2127" y="771"/>
                      </a:lnTo>
                      <a:lnTo>
                        <a:pt x="2144" y="861"/>
                      </a:lnTo>
                      <a:lnTo>
                        <a:pt x="2120" y="936"/>
                      </a:lnTo>
                      <a:lnTo>
                        <a:pt x="2003" y="1041"/>
                      </a:lnTo>
                      <a:lnTo>
                        <a:pt x="1865" y="1125"/>
                      </a:lnTo>
                      <a:lnTo>
                        <a:pt x="1872" y="1050"/>
                      </a:lnTo>
                      <a:lnTo>
                        <a:pt x="1673" y="1273"/>
                      </a:lnTo>
                      <a:lnTo>
                        <a:pt x="1402" y="1476"/>
                      </a:lnTo>
                      <a:lnTo>
                        <a:pt x="1169" y="1584"/>
                      </a:lnTo>
                      <a:lnTo>
                        <a:pt x="965" y="1633"/>
                      </a:lnTo>
                      <a:lnTo>
                        <a:pt x="615" y="1600"/>
                      </a:lnTo>
                      <a:lnTo>
                        <a:pt x="410" y="1608"/>
                      </a:lnTo>
                      <a:lnTo>
                        <a:pt x="195" y="1626"/>
                      </a:lnTo>
                      <a:lnTo>
                        <a:pt x="87" y="16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4649400" y="5333400"/>
                  <a:ext cx="14400" cy="149040"/>
                </a:xfrm>
                <a:custGeom>
                  <a:avLst/>
                  <a:gdLst/>
                  <a:ahLst/>
                  <a:rect l="l" t="t" r="r" b="b"/>
                  <a:pathLst>
                    <a:path w="180" h="1411">
                      <a:moveTo>
                        <a:pt x="0" y="33"/>
                      </a:moveTo>
                      <a:lnTo>
                        <a:pt x="99" y="263"/>
                      </a:lnTo>
                      <a:lnTo>
                        <a:pt x="129" y="483"/>
                      </a:lnTo>
                      <a:lnTo>
                        <a:pt x="124" y="802"/>
                      </a:lnTo>
                      <a:lnTo>
                        <a:pt x="81" y="1075"/>
                      </a:lnTo>
                      <a:lnTo>
                        <a:pt x="9" y="1411"/>
                      </a:lnTo>
                      <a:lnTo>
                        <a:pt x="90" y="1386"/>
                      </a:lnTo>
                      <a:lnTo>
                        <a:pt x="140" y="1303"/>
                      </a:lnTo>
                      <a:lnTo>
                        <a:pt x="171" y="1140"/>
                      </a:lnTo>
                      <a:lnTo>
                        <a:pt x="180" y="886"/>
                      </a:lnTo>
                      <a:lnTo>
                        <a:pt x="171" y="556"/>
                      </a:lnTo>
                      <a:lnTo>
                        <a:pt x="145" y="344"/>
                      </a:lnTo>
                      <a:lnTo>
                        <a:pt x="105" y="180"/>
                      </a:lnTo>
                      <a:lnTo>
                        <a:pt x="39" y="22"/>
                      </a:lnTo>
                      <a:lnTo>
                        <a:pt x="9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4618440" y="5430960"/>
                  <a:ext cx="11520" cy="15120"/>
                </a:xfrm>
                <a:custGeom>
                  <a:avLst/>
                  <a:gdLst/>
                  <a:ahLst/>
                  <a:rect l="l" t="t" r="r" b="b"/>
                  <a:pathLst>
                    <a:path w="141" h="141">
                      <a:moveTo>
                        <a:pt x="101" y="7"/>
                      </a:moveTo>
                      <a:lnTo>
                        <a:pt x="66" y="7"/>
                      </a:lnTo>
                      <a:lnTo>
                        <a:pt x="42" y="31"/>
                      </a:lnTo>
                      <a:lnTo>
                        <a:pt x="51" y="62"/>
                      </a:lnTo>
                      <a:lnTo>
                        <a:pt x="77" y="88"/>
                      </a:lnTo>
                      <a:lnTo>
                        <a:pt x="110" y="72"/>
                      </a:lnTo>
                      <a:lnTo>
                        <a:pt x="123" y="49"/>
                      </a:lnTo>
                      <a:lnTo>
                        <a:pt x="123" y="31"/>
                      </a:lnTo>
                      <a:lnTo>
                        <a:pt x="141" y="62"/>
                      </a:lnTo>
                      <a:lnTo>
                        <a:pt x="123" y="113"/>
                      </a:lnTo>
                      <a:lnTo>
                        <a:pt x="77" y="141"/>
                      </a:lnTo>
                      <a:lnTo>
                        <a:pt x="18" y="106"/>
                      </a:lnTo>
                      <a:lnTo>
                        <a:pt x="0" y="49"/>
                      </a:lnTo>
                      <a:lnTo>
                        <a:pt x="42" y="7"/>
                      </a:lnTo>
                      <a:lnTo>
                        <a:pt x="66" y="0"/>
                      </a:lnTo>
                      <a:lnTo>
                        <a:pt x="10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4719600" y="5469840"/>
                  <a:ext cx="21600" cy="53280"/>
                </a:xfrm>
                <a:custGeom>
                  <a:avLst/>
                  <a:gdLst/>
                  <a:ahLst/>
                  <a:rect l="l" t="t" r="r" b="b"/>
                  <a:pathLst>
                    <a:path w="265" h="505">
                      <a:moveTo>
                        <a:pt x="215" y="0"/>
                      </a:moveTo>
                      <a:lnTo>
                        <a:pt x="215" y="71"/>
                      </a:lnTo>
                      <a:lnTo>
                        <a:pt x="0" y="193"/>
                      </a:lnTo>
                      <a:lnTo>
                        <a:pt x="131" y="152"/>
                      </a:lnTo>
                      <a:lnTo>
                        <a:pt x="131" y="277"/>
                      </a:lnTo>
                      <a:lnTo>
                        <a:pt x="57" y="258"/>
                      </a:lnTo>
                      <a:lnTo>
                        <a:pt x="239" y="431"/>
                      </a:lnTo>
                      <a:lnTo>
                        <a:pt x="265" y="505"/>
                      </a:lnTo>
                      <a:lnTo>
                        <a:pt x="255" y="405"/>
                      </a:lnTo>
                      <a:lnTo>
                        <a:pt x="180" y="308"/>
                      </a:lnTo>
                      <a:lnTo>
                        <a:pt x="180" y="143"/>
                      </a:lnTo>
                      <a:lnTo>
                        <a:pt x="233" y="92"/>
                      </a:lnTo>
                      <a:lnTo>
                        <a:pt x="233" y="51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4694400" y="5528160"/>
                  <a:ext cx="75960" cy="56880"/>
                </a:xfrm>
                <a:custGeom>
                  <a:avLst/>
                  <a:gdLst/>
                  <a:ahLst/>
                  <a:rect l="l" t="t" r="r" b="b"/>
                  <a:pathLst>
                    <a:path w="918" h="541">
                      <a:moveTo>
                        <a:pt x="529" y="181"/>
                      </a:moveTo>
                      <a:lnTo>
                        <a:pt x="520" y="211"/>
                      </a:lnTo>
                      <a:lnTo>
                        <a:pt x="470" y="211"/>
                      </a:lnTo>
                      <a:lnTo>
                        <a:pt x="379" y="55"/>
                      </a:lnTo>
                      <a:lnTo>
                        <a:pt x="217" y="0"/>
                      </a:lnTo>
                      <a:lnTo>
                        <a:pt x="35" y="55"/>
                      </a:lnTo>
                      <a:lnTo>
                        <a:pt x="0" y="123"/>
                      </a:lnTo>
                      <a:lnTo>
                        <a:pt x="65" y="186"/>
                      </a:lnTo>
                      <a:lnTo>
                        <a:pt x="123" y="294"/>
                      </a:lnTo>
                      <a:lnTo>
                        <a:pt x="245" y="172"/>
                      </a:lnTo>
                      <a:lnTo>
                        <a:pt x="373" y="195"/>
                      </a:lnTo>
                      <a:lnTo>
                        <a:pt x="553" y="283"/>
                      </a:lnTo>
                      <a:lnTo>
                        <a:pt x="613" y="319"/>
                      </a:lnTo>
                      <a:lnTo>
                        <a:pt x="619" y="411"/>
                      </a:lnTo>
                      <a:lnTo>
                        <a:pt x="529" y="474"/>
                      </a:lnTo>
                      <a:lnTo>
                        <a:pt x="619" y="541"/>
                      </a:lnTo>
                      <a:lnTo>
                        <a:pt x="918" y="541"/>
                      </a:lnTo>
                      <a:lnTo>
                        <a:pt x="793" y="424"/>
                      </a:lnTo>
                      <a:lnTo>
                        <a:pt x="727" y="424"/>
                      </a:lnTo>
                      <a:lnTo>
                        <a:pt x="660" y="253"/>
                      </a:lnTo>
                      <a:lnTo>
                        <a:pt x="577" y="204"/>
                      </a:lnTo>
                      <a:lnTo>
                        <a:pt x="529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632120" y="5554440"/>
                  <a:ext cx="108000" cy="48960"/>
                </a:xfrm>
                <a:custGeom>
                  <a:avLst/>
                  <a:gdLst/>
                  <a:ahLst/>
                  <a:rect l="l" t="t" r="r" b="b"/>
                  <a:pathLst>
                    <a:path w="1305" h="464">
                      <a:moveTo>
                        <a:pt x="1248" y="185"/>
                      </a:moveTo>
                      <a:lnTo>
                        <a:pt x="1184" y="130"/>
                      </a:lnTo>
                      <a:lnTo>
                        <a:pt x="1149" y="53"/>
                      </a:lnTo>
                      <a:lnTo>
                        <a:pt x="1066" y="71"/>
                      </a:lnTo>
                      <a:lnTo>
                        <a:pt x="1033" y="242"/>
                      </a:lnTo>
                      <a:lnTo>
                        <a:pt x="1089" y="293"/>
                      </a:lnTo>
                      <a:lnTo>
                        <a:pt x="944" y="293"/>
                      </a:lnTo>
                      <a:lnTo>
                        <a:pt x="826" y="341"/>
                      </a:lnTo>
                      <a:lnTo>
                        <a:pt x="497" y="433"/>
                      </a:lnTo>
                      <a:lnTo>
                        <a:pt x="308" y="464"/>
                      </a:lnTo>
                      <a:lnTo>
                        <a:pt x="149" y="464"/>
                      </a:lnTo>
                      <a:lnTo>
                        <a:pt x="50" y="433"/>
                      </a:lnTo>
                      <a:lnTo>
                        <a:pt x="0" y="350"/>
                      </a:lnTo>
                      <a:lnTo>
                        <a:pt x="50" y="350"/>
                      </a:lnTo>
                      <a:lnTo>
                        <a:pt x="200" y="415"/>
                      </a:lnTo>
                      <a:lnTo>
                        <a:pt x="349" y="424"/>
                      </a:lnTo>
                      <a:lnTo>
                        <a:pt x="547" y="392"/>
                      </a:lnTo>
                      <a:lnTo>
                        <a:pt x="769" y="311"/>
                      </a:lnTo>
                      <a:lnTo>
                        <a:pt x="826" y="286"/>
                      </a:lnTo>
                      <a:lnTo>
                        <a:pt x="769" y="176"/>
                      </a:lnTo>
                      <a:lnTo>
                        <a:pt x="695" y="110"/>
                      </a:lnTo>
                      <a:lnTo>
                        <a:pt x="605" y="14"/>
                      </a:lnTo>
                      <a:lnTo>
                        <a:pt x="769" y="46"/>
                      </a:lnTo>
                      <a:lnTo>
                        <a:pt x="810" y="110"/>
                      </a:lnTo>
                      <a:lnTo>
                        <a:pt x="870" y="64"/>
                      </a:lnTo>
                      <a:lnTo>
                        <a:pt x="870" y="130"/>
                      </a:lnTo>
                      <a:lnTo>
                        <a:pt x="1033" y="0"/>
                      </a:lnTo>
                      <a:lnTo>
                        <a:pt x="1257" y="46"/>
                      </a:lnTo>
                      <a:lnTo>
                        <a:pt x="1305" y="145"/>
                      </a:lnTo>
                      <a:lnTo>
                        <a:pt x="1248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705920" y="5586840"/>
                  <a:ext cx="248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4650840" y="523764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32" y="0"/>
                      </a:moveTo>
                      <a:lnTo>
                        <a:pt x="50" y="42"/>
                      </a:lnTo>
                      <a:lnTo>
                        <a:pt x="50" y="83"/>
                      </a:lnTo>
                      <a:lnTo>
                        <a:pt x="32" y="118"/>
                      </a:lnTo>
                      <a:lnTo>
                        <a:pt x="14" y="123"/>
                      </a:lnTo>
                      <a:lnTo>
                        <a:pt x="0" y="123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2" y="83"/>
                      </a:lnTo>
                      <a:lnTo>
                        <a:pt x="39" y="48"/>
                      </a:lnTo>
                      <a:lnTo>
                        <a:pt x="19" y="1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4585680" y="520452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1" h="142">
                      <a:moveTo>
                        <a:pt x="0" y="49"/>
                      </a:moveTo>
                      <a:lnTo>
                        <a:pt x="48" y="39"/>
                      </a:lnTo>
                      <a:lnTo>
                        <a:pt x="14" y="26"/>
                      </a:lnTo>
                      <a:lnTo>
                        <a:pt x="55" y="0"/>
                      </a:lnTo>
                      <a:lnTo>
                        <a:pt x="117" y="1"/>
                      </a:lnTo>
                      <a:lnTo>
                        <a:pt x="179" y="1"/>
                      </a:lnTo>
                      <a:lnTo>
                        <a:pt x="255" y="37"/>
                      </a:lnTo>
                      <a:lnTo>
                        <a:pt x="218" y="37"/>
                      </a:lnTo>
                      <a:lnTo>
                        <a:pt x="267" y="83"/>
                      </a:lnTo>
                      <a:lnTo>
                        <a:pt x="278" y="54"/>
                      </a:lnTo>
                      <a:lnTo>
                        <a:pt x="311" y="107"/>
                      </a:lnTo>
                      <a:lnTo>
                        <a:pt x="273" y="142"/>
                      </a:lnTo>
                      <a:lnTo>
                        <a:pt x="276" y="109"/>
                      </a:lnTo>
                      <a:lnTo>
                        <a:pt x="223" y="122"/>
                      </a:lnTo>
                      <a:lnTo>
                        <a:pt x="188" y="120"/>
                      </a:lnTo>
                      <a:lnTo>
                        <a:pt x="240" y="109"/>
                      </a:lnTo>
                      <a:lnTo>
                        <a:pt x="253" y="92"/>
                      </a:lnTo>
                      <a:lnTo>
                        <a:pt x="235" y="61"/>
                      </a:lnTo>
                      <a:lnTo>
                        <a:pt x="191" y="39"/>
                      </a:lnTo>
                      <a:lnTo>
                        <a:pt x="156" y="37"/>
                      </a:lnTo>
                      <a:lnTo>
                        <a:pt x="101" y="41"/>
                      </a:lnTo>
                      <a:lnTo>
                        <a:pt x="60" y="46"/>
                      </a:lnTo>
                      <a:lnTo>
                        <a:pt x="95" y="81"/>
                      </a:lnTo>
                      <a:lnTo>
                        <a:pt x="140" y="109"/>
                      </a:lnTo>
                      <a:lnTo>
                        <a:pt x="122" y="122"/>
                      </a:lnTo>
                      <a:lnTo>
                        <a:pt x="106" y="104"/>
                      </a:lnTo>
                      <a:lnTo>
                        <a:pt x="71" y="109"/>
                      </a:lnTo>
                      <a:lnTo>
                        <a:pt x="66" y="81"/>
                      </a:lnTo>
                      <a:lnTo>
                        <a:pt x="36" y="79"/>
                      </a:lnTo>
                      <a:lnTo>
                        <a:pt x="43" y="6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4628160" y="520776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263" h="121">
                      <a:moveTo>
                        <a:pt x="0" y="75"/>
                      </a:moveTo>
                      <a:lnTo>
                        <a:pt x="26" y="31"/>
                      </a:lnTo>
                      <a:lnTo>
                        <a:pt x="92" y="0"/>
                      </a:lnTo>
                      <a:lnTo>
                        <a:pt x="127" y="0"/>
                      </a:lnTo>
                      <a:lnTo>
                        <a:pt x="109" y="24"/>
                      </a:lnTo>
                      <a:lnTo>
                        <a:pt x="145" y="24"/>
                      </a:lnTo>
                      <a:lnTo>
                        <a:pt x="151" y="5"/>
                      </a:lnTo>
                      <a:lnTo>
                        <a:pt x="175" y="17"/>
                      </a:lnTo>
                      <a:lnTo>
                        <a:pt x="208" y="12"/>
                      </a:lnTo>
                      <a:lnTo>
                        <a:pt x="217" y="29"/>
                      </a:lnTo>
                      <a:lnTo>
                        <a:pt x="259" y="24"/>
                      </a:lnTo>
                      <a:lnTo>
                        <a:pt x="226" y="58"/>
                      </a:lnTo>
                      <a:lnTo>
                        <a:pt x="263" y="77"/>
                      </a:lnTo>
                      <a:lnTo>
                        <a:pt x="208" y="86"/>
                      </a:lnTo>
                      <a:lnTo>
                        <a:pt x="206" y="104"/>
                      </a:lnTo>
                      <a:lnTo>
                        <a:pt x="180" y="97"/>
                      </a:lnTo>
                      <a:lnTo>
                        <a:pt x="151" y="121"/>
                      </a:lnTo>
                      <a:lnTo>
                        <a:pt x="134" y="110"/>
                      </a:lnTo>
                      <a:lnTo>
                        <a:pt x="97" y="110"/>
                      </a:lnTo>
                      <a:lnTo>
                        <a:pt x="151" y="97"/>
                      </a:lnTo>
                      <a:lnTo>
                        <a:pt x="184" y="77"/>
                      </a:lnTo>
                      <a:lnTo>
                        <a:pt x="206" y="68"/>
                      </a:lnTo>
                      <a:lnTo>
                        <a:pt x="169" y="51"/>
                      </a:lnTo>
                      <a:lnTo>
                        <a:pt x="134" y="38"/>
                      </a:lnTo>
                      <a:lnTo>
                        <a:pt x="85" y="31"/>
                      </a:lnTo>
                      <a:lnTo>
                        <a:pt x="37" y="58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4630320" y="52171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14" y="0"/>
                      </a:moveTo>
                      <a:lnTo>
                        <a:pt x="51" y="17"/>
                      </a:lnTo>
                      <a:lnTo>
                        <a:pt x="0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4587840" y="5192640"/>
                  <a:ext cx="25560" cy="15120"/>
                </a:xfrm>
                <a:custGeom>
                  <a:avLst/>
                  <a:gdLst/>
                  <a:ahLst/>
                  <a:rect l="l" t="t" r="r" b="b"/>
                  <a:pathLst>
                    <a:path w="310" h="140">
                      <a:moveTo>
                        <a:pt x="0" y="28"/>
                      </a:moveTo>
                      <a:lnTo>
                        <a:pt x="93" y="0"/>
                      </a:lnTo>
                      <a:lnTo>
                        <a:pt x="238" y="57"/>
                      </a:lnTo>
                      <a:lnTo>
                        <a:pt x="310" y="140"/>
                      </a:lnTo>
                      <a:lnTo>
                        <a:pt x="244" y="74"/>
                      </a:lnTo>
                      <a:lnTo>
                        <a:pt x="145" y="28"/>
                      </a:lnTo>
                      <a:lnTo>
                        <a:pt x="81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4630320" y="5196960"/>
                  <a:ext cx="19800" cy="6480"/>
                </a:xfrm>
                <a:custGeom>
                  <a:avLst/>
                  <a:gdLst/>
                  <a:ahLst/>
                  <a:rect l="l" t="t" r="r" b="b"/>
                  <a:pathLst>
                    <a:path w="245" h="64">
                      <a:moveTo>
                        <a:pt x="0" y="64"/>
                      </a:moveTo>
                      <a:lnTo>
                        <a:pt x="86" y="31"/>
                      </a:lnTo>
                      <a:lnTo>
                        <a:pt x="157" y="18"/>
                      </a:lnTo>
                      <a:lnTo>
                        <a:pt x="218" y="18"/>
                      </a:lnTo>
                      <a:lnTo>
                        <a:pt x="245" y="35"/>
                      </a:lnTo>
                      <a:lnTo>
                        <a:pt x="229" y="0"/>
                      </a:lnTo>
                      <a:lnTo>
                        <a:pt x="168" y="0"/>
                      </a:lnTo>
                      <a:lnTo>
                        <a:pt x="69" y="18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607640" y="52444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207" h="103">
                      <a:moveTo>
                        <a:pt x="207" y="38"/>
                      </a:moveTo>
                      <a:lnTo>
                        <a:pt x="152" y="73"/>
                      </a:lnTo>
                      <a:lnTo>
                        <a:pt x="130" y="66"/>
                      </a:lnTo>
                      <a:lnTo>
                        <a:pt x="101" y="38"/>
                      </a:lnTo>
                      <a:lnTo>
                        <a:pt x="58" y="29"/>
                      </a:ln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1" y="38"/>
                      </a:lnTo>
                      <a:lnTo>
                        <a:pt x="67" y="57"/>
                      </a:lnTo>
                      <a:lnTo>
                        <a:pt x="125" y="103"/>
                      </a:lnTo>
                      <a:lnTo>
                        <a:pt x="148" y="103"/>
                      </a:lnTo>
                      <a:lnTo>
                        <a:pt x="207" y="66"/>
                      </a:lnTo>
                      <a:lnTo>
                        <a:pt x="20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4623480" y="520524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57" h="172">
                      <a:moveTo>
                        <a:pt x="57" y="0"/>
                      </a:moveTo>
                      <a:lnTo>
                        <a:pt x="15" y="51"/>
                      </a:lnTo>
                      <a:lnTo>
                        <a:pt x="0" y="106"/>
                      </a:lnTo>
                      <a:lnTo>
                        <a:pt x="4" y="141"/>
                      </a:lnTo>
                      <a:lnTo>
                        <a:pt x="33" y="172"/>
                      </a:lnTo>
                      <a:lnTo>
                        <a:pt x="15" y="134"/>
                      </a:lnTo>
                      <a:lnTo>
                        <a:pt x="15" y="95"/>
                      </a:lnTo>
                      <a:lnTo>
                        <a:pt x="28" y="4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4595760" y="52077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1" h="74">
                      <a:moveTo>
                        <a:pt x="0" y="6"/>
                      </a:moveTo>
                      <a:lnTo>
                        <a:pt x="6" y="57"/>
                      </a:lnTo>
                      <a:lnTo>
                        <a:pt x="30" y="74"/>
                      </a:lnTo>
                      <a:lnTo>
                        <a:pt x="57" y="74"/>
                      </a:lnTo>
                      <a:lnTo>
                        <a:pt x="72" y="39"/>
                      </a:lnTo>
                      <a:lnTo>
                        <a:pt x="81" y="17"/>
                      </a:lnTo>
                      <a:lnTo>
                        <a:pt x="57" y="32"/>
                      </a:lnTo>
                      <a:lnTo>
                        <a:pt x="37" y="50"/>
                      </a:lnTo>
                      <a:lnTo>
                        <a:pt x="30" y="39"/>
                      </a:lnTo>
                      <a:lnTo>
                        <a:pt x="3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4632840" y="521136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0" y="12"/>
                      </a:moveTo>
                      <a:lnTo>
                        <a:pt x="5" y="64"/>
                      </a:lnTo>
                      <a:lnTo>
                        <a:pt x="64" y="64"/>
                      </a:lnTo>
                      <a:lnTo>
                        <a:pt x="89" y="35"/>
                      </a:lnTo>
                      <a:lnTo>
                        <a:pt x="92" y="0"/>
                      </a:lnTo>
                      <a:lnTo>
                        <a:pt x="55" y="0"/>
                      </a:lnTo>
                      <a:lnTo>
                        <a:pt x="64" y="31"/>
                      </a:lnTo>
                      <a:lnTo>
                        <a:pt x="41" y="42"/>
                      </a:lnTo>
                      <a:lnTo>
                        <a:pt x="27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4601520" y="5262120"/>
                  <a:ext cx="28440" cy="3240"/>
                </a:xfrm>
                <a:custGeom>
                  <a:avLst/>
                  <a:gdLst/>
                  <a:ahLst/>
                  <a:rect l="l" t="t" r="r" b="b"/>
                  <a:pathLst>
                    <a:path w="350" h="31">
                      <a:moveTo>
                        <a:pt x="0" y="5"/>
                      </a:moveTo>
                      <a:lnTo>
                        <a:pt x="111" y="0"/>
                      </a:lnTo>
                      <a:lnTo>
                        <a:pt x="198" y="14"/>
                      </a:lnTo>
                      <a:lnTo>
                        <a:pt x="251" y="5"/>
                      </a:lnTo>
                      <a:lnTo>
                        <a:pt x="350" y="14"/>
                      </a:lnTo>
                      <a:lnTo>
                        <a:pt x="276" y="24"/>
                      </a:lnTo>
                      <a:lnTo>
                        <a:pt x="198" y="31"/>
                      </a:lnTo>
                      <a:lnTo>
                        <a:pt x="46" y="1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4606920" y="5267880"/>
                  <a:ext cx="19080" cy="4320"/>
                </a:xfrm>
                <a:custGeom>
                  <a:avLst/>
                  <a:gdLst/>
                  <a:ahLst/>
                  <a:rect l="l" t="t" r="r" b="b"/>
                  <a:pathLst>
                    <a:path w="233" h="42">
                      <a:moveTo>
                        <a:pt x="0" y="0"/>
                      </a:moveTo>
                      <a:lnTo>
                        <a:pt x="60" y="35"/>
                      </a:lnTo>
                      <a:lnTo>
                        <a:pt x="159" y="42"/>
                      </a:lnTo>
                      <a:lnTo>
                        <a:pt x="233" y="7"/>
                      </a:lnTo>
                      <a:lnTo>
                        <a:pt x="164" y="24"/>
                      </a:lnTo>
                      <a:lnTo>
                        <a:pt x="77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4899960" y="52815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595" h="512">
                      <a:moveTo>
                        <a:pt x="97" y="215"/>
                      </a:moveTo>
                      <a:lnTo>
                        <a:pt x="120" y="122"/>
                      </a:lnTo>
                      <a:lnTo>
                        <a:pt x="305" y="0"/>
                      </a:lnTo>
                      <a:lnTo>
                        <a:pt x="498" y="68"/>
                      </a:lnTo>
                      <a:lnTo>
                        <a:pt x="395" y="68"/>
                      </a:lnTo>
                      <a:lnTo>
                        <a:pt x="514" y="209"/>
                      </a:lnTo>
                      <a:lnTo>
                        <a:pt x="569" y="191"/>
                      </a:lnTo>
                      <a:lnTo>
                        <a:pt x="525" y="96"/>
                      </a:lnTo>
                      <a:lnTo>
                        <a:pt x="595" y="209"/>
                      </a:lnTo>
                      <a:lnTo>
                        <a:pt x="551" y="261"/>
                      </a:lnTo>
                      <a:lnTo>
                        <a:pt x="595" y="503"/>
                      </a:lnTo>
                      <a:lnTo>
                        <a:pt x="533" y="512"/>
                      </a:lnTo>
                      <a:lnTo>
                        <a:pt x="464" y="494"/>
                      </a:lnTo>
                      <a:lnTo>
                        <a:pt x="542" y="486"/>
                      </a:lnTo>
                      <a:lnTo>
                        <a:pt x="475" y="329"/>
                      </a:lnTo>
                      <a:lnTo>
                        <a:pt x="351" y="200"/>
                      </a:lnTo>
                      <a:lnTo>
                        <a:pt x="489" y="311"/>
                      </a:lnTo>
                      <a:lnTo>
                        <a:pt x="542" y="424"/>
                      </a:lnTo>
                      <a:lnTo>
                        <a:pt x="510" y="244"/>
                      </a:lnTo>
                      <a:lnTo>
                        <a:pt x="305" y="41"/>
                      </a:lnTo>
                      <a:lnTo>
                        <a:pt x="261" y="122"/>
                      </a:lnTo>
                      <a:lnTo>
                        <a:pt x="305" y="173"/>
                      </a:lnTo>
                      <a:lnTo>
                        <a:pt x="228" y="173"/>
                      </a:lnTo>
                      <a:lnTo>
                        <a:pt x="323" y="306"/>
                      </a:lnTo>
                      <a:lnTo>
                        <a:pt x="191" y="209"/>
                      </a:lnTo>
                      <a:lnTo>
                        <a:pt x="0" y="373"/>
                      </a:lnTo>
                      <a:lnTo>
                        <a:pt x="17" y="253"/>
                      </a:lnTo>
                      <a:lnTo>
                        <a:pt x="9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4907880" y="5317200"/>
                  <a:ext cx="34920" cy="55800"/>
                </a:xfrm>
                <a:custGeom>
                  <a:avLst/>
                  <a:gdLst/>
                  <a:ahLst/>
                  <a:rect l="l" t="t" r="r" b="b"/>
                  <a:pathLst>
                    <a:path w="417" h="531">
                      <a:moveTo>
                        <a:pt x="351" y="198"/>
                      </a:moveTo>
                      <a:lnTo>
                        <a:pt x="307" y="183"/>
                      </a:lnTo>
                      <a:lnTo>
                        <a:pt x="254" y="114"/>
                      </a:lnTo>
                      <a:lnTo>
                        <a:pt x="208" y="114"/>
                      </a:lnTo>
                      <a:lnTo>
                        <a:pt x="146" y="62"/>
                      </a:lnTo>
                      <a:lnTo>
                        <a:pt x="146" y="104"/>
                      </a:lnTo>
                      <a:lnTo>
                        <a:pt x="94" y="114"/>
                      </a:lnTo>
                      <a:lnTo>
                        <a:pt x="44" y="53"/>
                      </a:lnTo>
                      <a:lnTo>
                        <a:pt x="72" y="132"/>
                      </a:lnTo>
                      <a:lnTo>
                        <a:pt x="0" y="132"/>
                      </a:lnTo>
                      <a:lnTo>
                        <a:pt x="87" y="189"/>
                      </a:lnTo>
                      <a:lnTo>
                        <a:pt x="78" y="270"/>
                      </a:lnTo>
                      <a:lnTo>
                        <a:pt x="131" y="383"/>
                      </a:lnTo>
                      <a:lnTo>
                        <a:pt x="131" y="305"/>
                      </a:lnTo>
                      <a:lnTo>
                        <a:pt x="164" y="279"/>
                      </a:lnTo>
                      <a:lnTo>
                        <a:pt x="182" y="321"/>
                      </a:lnTo>
                      <a:lnTo>
                        <a:pt x="219" y="288"/>
                      </a:lnTo>
                      <a:lnTo>
                        <a:pt x="272" y="288"/>
                      </a:lnTo>
                      <a:lnTo>
                        <a:pt x="340" y="347"/>
                      </a:lnTo>
                      <a:lnTo>
                        <a:pt x="332" y="436"/>
                      </a:lnTo>
                      <a:lnTo>
                        <a:pt x="291" y="531"/>
                      </a:lnTo>
                      <a:lnTo>
                        <a:pt x="383" y="383"/>
                      </a:lnTo>
                      <a:lnTo>
                        <a:pt x="413" y="288"/>
                      </a:lnTo>
                      <a:lnTo>
                        <a:pt x="417" y="156"/>
                      </a:lnTo>
                      <a:lnTo>
                        <a:pt x="383" y="156"/>
                      </a:lnTo>
                      <a:lnTo>
                        <a:pt x="323" y="42"/>
                      </a:lnTo>
                      <a:lnTo>
                        <a:pt x="261" y="0"/>
                      </a:lnTo>
                      <a:lnTo>
                        <a:pt x="314" y="77"/>
                      </a:lnTo>
                      <a:lnTo>
                        <a:pt x="351" y="148"/>
                      </a:lnTo>
                      <a:lnTo>
                        <a:pt x="35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4865400" y="5324760"/>
                  <a:ext cx="141840" cy="259200"/>
                </a:xfrm>
                <a:custGeom>
                  <a:avLst/>
                  <a:gdLst/>
                  <a:ahLst/>
                  <a:rect l="l" t="t" r="r" b="b"/>
                  <a:pathLst>
                    <a:path w="1712" h="2448">
                      <a:moveTo>
                        <a:pt x="420" y="0"/>
                      </a:moveTo>
                      <a:lnTo>
                        <a:pt x="499" y="424"/>
                      </a:lnTo>
                      <a:lnTo>
                        <a:pt x="522" y="451"/>
                      </a:lnTo>
                      <a:lnTo>
                        <a:pt x="561" y="468"/>
                      </a:lnTo>
                      <a:lnTo>
                        <a:pt x="534" y="495"/>
                      </a:lnTo>
                      <a:lnTo>
                        <a:pt x="483" y="486"/>
                      </a:lnTo>
                      <a:lnTo>
                        <a:pt x="475" y="550"/>
                      </a:lnTo>
                      <a:lnTo>
                        <a:pt x="499" y="599"/>
                      </a:lnTo>
                      <a:lnTo>
                        <a:pt x="540" y="615"/>
                      </a:lnTo>
                      <a:lnTo>
                        <a:pt x="589" y="606"/>
                      </a:lnTo>
                      <a:lnTo>
                        <a:pt x="611" y="479"/>
                      </a:lnTo>
                      <a:lnTo>
                        <a:pt x="663" y="479"/>
                      </a:lnTo>
                      <a:lnTo>
                        <a:pt x="711" y="451"/>
                      </a:lnTo>
                      <a:lnTo>
                        <a:pt x="743" y="398"/>
                      </a:lnTo>
                      <a:lnTo>
                        <a:pt x="743" y="461"/>
                      </a:lnTo>
                      <a:lnTo>
                        <a:pt x="771" y="451"/>
                      </a:lnTo>
                      <a:lnTo>
                        <a:pt x="824" y="424"/>
                      </a:lnTo>
                      <a:lnTo>
                        <a:pt x="798" y="461"/>
                      </a:lnTo>
                      <a:lnTo>
                        <a:pt x="743" y="530"/>
                      </a:lnTo>
                      <a:lnTo>
                        <a:pt x="699" y="650"/>
                      </a:lnTo>
                      <a:lnTo>
                        <a:pt x="909" y="415"/>
                      </a:lnTo>
                      <a:lnTo>
                        <a:pt x="945" y="444"/>
                      </a:lnTo>
                      <a:lnTo>
                        <a:pt x="815" y="798"/>
                      </a:lnTo>
                      <a:lnTo>
                        <a:pt x="824" y="1260"/>
                      </a:lnTo>
                      <a:lnTo>
                        <a:pt x="1172" y="1295"/>
                      </a:lnTo>
                      <a:lnTo>
                        <a:pt x="1331" y="1371"/>
                      </a:lnTo>
                      <a:lnTo>
                        <a:pt x="1417" y="1371"/>
                      </a:lnTo>
                      <a:lnTo>
                        <a:pt x="1460" y="1442"/>
                      </a:lnTo>
                      <a:lnTo>
                        <a:pt x="1172" y="1332"/>
                      </a:lnTo>
                      <a:lnTo>
                        <a:pt x="953" y="1314"/>
                      </a:lnTo>
                      <a:lnTo>
                        <a:pt x="1059" y="1380"/>
                      </a:lnTo>
                      <a:lnTo>
                        <a:pt x="953" y="1380"/>
                      </a:lnTo>
                      <a:lnTo>
                        <a:pt x="798" y="1362"/>
                      </a:lnTo>
                      <a:lnTo>
                        <a:pt x="909" y="1459"/>
                      </a:lnTo>
                      <a:lnTo>
                        <a:pt x="1296" y="1523"/>
                      </a:lnTo>
                      <a:lnTo>
                        <a:pt x="971" y="1493"/>
                      </a:lnTo>
                      <a:lnTo>
                        <a:pt x="1172" y="1611"/>
                      </a:lnTo>
                      <a:lnTo>
                        <a:pt x="1147" y="1636"/>
                      </a:lnTo>
                      <a:lnTo>
                        <a:pt x="875" y="1503"/>
                      </a:lnTo>
                      <a:lnTo>
                        <a:pt x="918" y="1636"/>
                      </a:lnTo>
                      <a:lnTo>
                        <a:pt x="1349" y="1747"/>
                      </a:lnTo>
                      <a:lnTo>
                        <a:pt x="1626" y="1921"/>
                      </a:lnTo>
                      <a:lnTo>
                        <a:pt x="1349" y="1867"/>
                      </a:lnTo>
                      <a:lnTo>
                        <a:pt x="1191" y="1765"/>
                      </a:lnTo>
                      <a:lnTo>
                        <a:pt x="953" y="1701"/>
                      </a:lnTo>
                      <a:lnTo>
                        <a:pt x="1068" y="1826"/>
                      </a:lnTo>
                      <a:lnTo>
                        <a:pt x="1712" y="2049"/>
                      </a:lnTo>
                      <a:lnTo>
                        <a:pt x="1068" y="1867"/>
                      </a:lnTo>
                      <a:lnTo>
                        <a:pt x="884" y="1736"/>
                      </a:lnTo>
                      <a:lnTo>
                        <a:pt x="895" y="1809"/>
                      </a:lnTo>
                      <a:lnTo>
                        <a:pt x="1068" y="1973"/>
                      </a:lnTo>
                      <a:lnTo>
                        <a:pt x="1321" y="2024"/>
                      </a:lnTo>
                      <a:lnTo>
                        <a:pt x="1460" y="2121"/>
                      </a:lnTo>
                      <a:lnTo>
                        <a:pt x="1259" y="2097"/>
                      </a:lnTo>
                      <a:lnTo>
                        <a:pt x="1008" y="1973"/>
                      </a:lnTo>
                      <a:lnTo>
                        <a:pt x="934" y="1982"/>
                      </a:lnTo>
                      <a:lnTo>
                        <a:pt x="971" y="2112"/>
                      </a:lnTo>
                      <a:lnTo>
                        <a:pt x="1033" y="2156"/>
                      </a:lnTo>
                      <a:lnTo>
                        <a:pt x="1349" y="2171"/>
                      </a:lnTo>
                      <a:lnTo>
                        <a:pt x="1024" y="2330"/>
                      </a:lnTo>
                      <a:lnTo>
                        <a:pt x="980" y="2314"/>
                      </a:lnTo>
                      <a:lnTo>
                        <a:pt x="909" y="2084"/>
                      </a:lnTo>
                      <a:lnTo>
                        <a:pt x="831" y="2339"/>
                      </a:lnTo>
                      <a:lnTo>
                        <a:pt x="849" y="2448"/>
                      </a:lnTo>
                      <a:lnTo>
                        <a:pt x="760" y="2354"/>
                      </a:lnTo>
                      <a:lnTo>
                        <a:pt x="895" y="2013"/>
                      </a:lnTo>
                      <a:lnTo>
                        <a:pt x="884" y="1921"/>
                      </a:lnTo>
                      <a:lnTo>
                        <a:pt x="824" y="1765"/>
                      </a:lnTo>
                      <a:lnTo>
                        <a:pt x="778" y="1563"/>
                      </a:lnTo>
                      <a:lnTo>
                        <a:pt x="674" y="1304"/>
                      </a:lnTo>
                      <a:lnTo>
                        <a:pt x="554" y="1523"/>
                      </a:lnTo>
                      <a:lnTo>
                        <a:pt x="554" y="1747"/>
                      </a:lnTo>
                      <a:lnTo>
                        <a:pt x="316" y="2033"/>
                      </a:lnTo>
                      <a:lnTo>
                        <a:pt x="0" y="2148"/>
                      </a:lnTo>
                      <a:lnTo>
                        <a:pt x="37" y="1973"/>
                      </a:lnTo>
                      <a:lnTo>
                        <a:pt x="217" y="1791"/>
                      </a:lnTo>
                      <a:lnTo>
                        <a:pt x="437" y="1685"/>
                      </a:lnTo>
                      <a:lnTo>
                        <a:pt x="534" y="1436"/>
                      </a:lnTo>
                      <a:lnTo>
                        <a:pt x="522" y="1314"/>
                      </a:lnTo>
                      <a:lnTo>
                        <a:pt x="611" y="1026"/>
                      </a:lnTo>
                      <a:lnTo>
                        <a:pt x="510" y="1000"/>
                      </a:lnTo>
                      <a:lnTo>
                        <a:pt x="420" y="938"/>
                      </a:lnTo>
                      <a:lnTo>
                        <a:pt x="522" y="650"/>
                      </a:lnTo>
                      <a:lnTo>
                        <a:pt x="475" y="627"/>
                      </a:lnTo>
                      <a:lnTo>
                        <a:pt x="448" y="541"/>
                      </a:lnTo>
                      <a:lnTo>
                        <a:pt x="448" y="433"/>
                      </a:lnTo>
                      <a:lnTo>
                        <a:pt x="420" y="53"/>
                      </a:lnTo>
                      <a:lnTo>
                        <a:pt x="4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4834440" y="5347080"/>
                  <a:ext cx="56880" cy="184680"/>
                </a:xfrm>
                <a:custGeom>
                  <a:avLst/>
                  <a:gdLst/>
                  <a:ahLst/>
                  <a:rect l="l" t="t" r="r" b="b"/>
                  <a:pathLst>
                    <a:path w="691" h="1748">
                      <a:moveTo>
                        <a:pt x="691" y="312"/>
                      </a:moveTo>
                      <a:lnTo>
                        <a:pt x="586" y="572"/>
                      </a:lnTo>
                      <a:lnTo>
                        <a:pt x="516" y="729"/>
                      </a:lnTo>
                      <a:lnTo>
                        <a:pt x="392" y="982"/>
                      </a:lnTo>
                      <a:lnTo>
                        <a:pt x="334" y="1017"/>
                      </a:lnTo>
                      <a:lnTo>
                        <a:pt x="351" y="1243"/>
                      </a:lnTo>
                      <a:lnTo>
                        <a:pt x="412" y="1527"/>
                      </a:lnTo>
                      <a:lnTo>
                        <a:pt x="472" y="1748"/>
                      </a:lnTo>
                      <a:lnTo>
                        <a:pt x="388" y="1485"/>
                      </a:lnTo>
                      <a:lnTo>
                        <a:pt x="334" y="1233"/>
                      </a:lnTo>
                      <a:lnTo>
                        <a:pt x="243" y="1171"/>
                      </a:lnTo>
                      <a:lnTo>
                        <a:pt x="254" y="1330"/>
                      </a:lnTo>
                      <a:lnTo>
                        <a:pt x="351" y="1591"/>
                      </a:lnTo>
                      <a:lnTo>
                        <a:pt x="239" y="1345"/>
                      </a:lnTo>
                      <a:lnTo>
                        <a:pt x="193" y="1153"/>
                      </a:lnTo>
                      <a:lnTo>
                        <a:pt x="87" y="1153"/>
                      </a:lnTo>
                      <a:lnTo>
                        <a:pt x="0" y="1227"/>
                      </a:lnTo>
                      <a:lnTo>
                        <a:pt x="87" y="1139"/>
                      </a:lnTo>
                      <a:lnTo>
                        <a:pt x="157" y="1112"/>
                      </a:lnTo>
                      <a:lnTo>
                        <a:pt x="219" y="895"/>
                      </a:lnTo>
                      <a:lnTo>
                        <a:pt x="219" y="782"/>
                      </a:lnTo>
                      <a:lnTo>
                        <a:pt x="175" y="721"/>
                      </a:lnTo>
                      <a:lnTo>
                        <a:pt x="175" y="644"/>
                      </a:lnTo>
                      <a:lnTo>
                        <a:pt x="279" y="235"/>
                      </a:lnTo>
                      <a:lnTo>
                        <a:pt x="388" y="0"/>
                      </a:lnTo>
                      <a:lnTo>
                        <a:pt x="307" y="341"/>
                      </a:lnTo>
                      <a:lnTo>
                        <a:pt x="219" y="685"/>
                      </a:lnTo>
                      <a:lnTo>
                        <a:pt x="307" y="798"/>
                      </a:lnTo>
                      <a:lnTo>
                        <a:pt x="366" y="914"/>
                      </a:lnTo>
                      <a:lnTo>
                        <a:pt x="606" y="462"/>
                      </a:lnTo>
                      <a:lnTo>
                        <a:pt x="691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876560" y="5440320"/>
                  <a:ext cx="6480" cy="45720"/>
                </a:xfrm>
                <a:custGeom>
                  <a:avLst/>
                  <a:gdLst/>
                  <a:ahLst/>
                  <a:rect l="l" t="t" r="r" b="b"/>
                  <a:pathLst>
                    <a:path w="83" h="431">
                      <a:moveTo>
                        <a:pt x="0" y="0"/>
                      </a:moveTo>
                      <a:lnTo>
                        <a:pt x="51" y="106"/>
                      </a:lnTo>
                      <a:lnTo>
                        <a:pt x="51" y="297"/>
                      </a:lnTo>
                      <a:lnTo>
                        <a:pt x="83" y="385"/>
                      </a:lnTo>
                      <a:lnTo>
                        <a:pt x="42" y="431"/>
                      </a:lnTo>
                      <a:lnTo>
                        <a:pt x="24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834440" y="5479920"/>
                  <a:ext cx="34920" cy="72000"/>
                </a:xfrm>
                <a:custGeom>
                  <a:avLst/>
                  <a:gdLst/>
                  <a:ahLst/>
                  <a:rect l="l" t="t" r="r" b="b"/>
                  <a:pathLst>
                    <a:path w="427" h="680">
                      <a:moveTo>
                        <a:pt x="0" y="0"/>
                      </a:moveTo>
                      <a:lnTo>
                        <a:pt x="175" y="532"/>
                      </a:lnTo>
                      <a:lnTo>
                        <a:pt x="307" y="543"/>
                      </a:lnTo>
                      <a:lnTo>
                        <a:pt x="427" y="629"/>
                      </a:lnTo>
                      <a:lnTo>
                        <a:pt x="366" y="680"/>
                      </a:lnTo>
                      <a:lnTo>
                        <a:pt x="175" y="611"/>
                      </a:lnTo>
                      <a:lnTo>
                        <a:pt x="81" y="3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4840200" y="5467320"/>
                  <a:ext cx="10440" cy="34560"/>
                </a:xfrm>
                <a:custGeom>
                  <a:avLst/>
                  <a:gdLst/>
                  <a:ahLst/>
                  <a:rect l="l" t="t" r="r" b="b"/>
                  <a:pathLst>
                    <a:path w="131" h="329">
                      <a:moveTo>
                        <a:pt x="131" y="14"/>
                      </a:moveTo>
                      <a:lnTo>
                        <a:pt x="43" y="329"/>
                      </a:lnTo>
                      <a:lnTo>
                        <a:pt x="0" y="226"/>
                      </a:lnTo>
                      <a:lnTo>
                        <a:pt x="112" y="0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4856400" y="5375880"/>
                  <a:ext cx="8280" cy="32760"/>
                </a:xfrm>
                <a:custGeom>
                  <a:avLst/>
                  <a:gdLst/>
                  <a:ahLst/>
                  <a:rect l="l" t="t" r="r" b="b"/>
                  <a:pathLst>
                    <a:path w="103" h="319">
                      <a:moveTo>
                        <a:pt x="71" y="0"/>
                      </a:moveTo>
                      <a:lnTo>
                        <a:pt x="71" y="171"/>
                      </a:lnTo>
                      <a:lnTo>
                        <a:pt x="103" y="319"/>
                      </a:lnTo>
                      <a:lnTo>
                        <a:pt x="0" y="2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4867560" y="5298480"/>
                  <a:ext cx="44280" cy="75240"/>
                </a:xfrm>
                <a:custGeom>
                  <a:avLst/>
                  <a:gdLst/>
                  <a:ahLst/>
                  <a:rect l="l" t="t" r="r" b="b"/>
                  <a:pathLst>
                    <a:path w="533" h="711">
                      <a:moveTo>
                        <a:pt x="0" y="393"/>
                      </a:moveTo>
                      <a:lnTo>
                        <a:pt x="60" y="393"/>
                      </a:lnTo>
                      <a:lnTo>
                        <a:pt x="174" y="520"/>
                      </a:lnTo>
                      <a:lnTo>
                        <a:pt x="254" y="711"/>
                      </a:lnTo>
                      <a:lnTo>
                        <a:pt x="189" y="503"/>
                      </a:lnTo>
                      <a:lnTo>
                        <a:pt x="93" y="329"/>
                      </a:lnTo>
                      <a:lnTo>
                        <a:pt x="51" y="305"/>
                      </a:lnTo>
                      <a:lnTo>
                        <a:pt x="227" y="164"/>
                      </a:lnTo>
                      <a:lnTo>
                        <a:pt x="427" y="141"/>
                      </a:lnTo>
                      <a:lnTo>
                        <a:pt x="533" y="0"/>
                      </a:lnTo>
                      <a:lnTo>
                        <a:pt x="306" y="35"/>
                      </a:lnTo>
                      <a:lnTo>
                        <a:pt x="189" y="153"/>
                      </a:lnTo>
                      <a:lnTo>
                        <a:pt x="21" y="305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4930560" y="526896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63" y="0"/>
                      </a:moveTo>
                      <a:lnTo>
                        <a:pt x="0" y="158"/>
                      </a:lnTo>
                      <a:lnTo>
                        <a:pt x="26" y="158"/>
                      </a:lnTo>
                      <a:lnTo>
                        <a:pt x="118" y="38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4943160" y="5315400"/>
                  <a:ext cx="81360" cy="64440"/>
                </a:xfrm>
                <a:custGeom>
                  <a:avLst/>
                  <a:gdLst/>
                  <a:ahLst/>
                  <a:rect l="l" t="t" r="r" b="b"/>
                  <a:pathLst>
                    <a:path w="985" h="611">
                      <a:moveTo>
                        <a:pt x="55" y="194"/>
                      </a:moveTo>
                      <a:lnTo>
                        <a:pt x="107" y="264"/>
                      </a:lnTo>
                      <a:lnTo>
                        <a:pt x="182" y="334"/>
                      </a:lnTo>
                      <a:lnTo>
                        <a:pt x="199" y="354"/>
                      </a:lnTo>
                      <a:lnTo>
                        <a:pt x="257" y="334"/>
                      </a:lnTo>
                      <a:lnTo>
                        <a:pt x="254" y="387"/>
                      </a:lnTo>
                      <a:lnTo>
                        <a:pt x="301" y="424"/>
                      </a:lnTo>
                      <a:lnTo>
                        <a:pt x="413" y="470"/>
                      </a:lnTo>
                      <a:lnTo>
                        <a:pt x="479" y="502"/>
                      </a:lnTo>
                      <a:lnTo>
                        <a:pt x="538" y="543"/>
                      </a:lnTo>
                      <a:lnTo>
                        <a:pt x="580" y="585"/>
                      </a:lnTo>
                      <a:lnTo>
                        <a:pt x="901" y="20"/>
                      </a:lnTo>
                      <a:lnTo>
                        <a:pt x="938" y="0"/>
                      </a:lnTo>
                      <a:lnTo>
                        <a:pt x="976" y="0"/>
                      </a:lnTo>
                      <a:lnTo>
                        <a:pt x="985" y="20"/>
                      </a:lnTo>
                      <a:lnTo>
                        <a:pt x="967" y="29"/>
                      </a:lnTo>
                      <a:lnTo>
                        <a:pt x="936" y="29"/>
                      </a:lnTo>
                      <a:lnTo>
                        <a:pt x="899" y="48"/>
                      </a:lnTo>
                      <a:lnTo>
                        <a:pt x="865" y="90"/>
                      </a:lnTo>
                      <a:lnTo>
                        <a:pt x="580" y="611"/>
                      </a:lnTo>
                      <a:lnTo>
                        <a:pt x="459" y="565"/>
                      </a:lnTo>
                      <a:lnTo>
                        <a:pt x="538" y="578"/>
                      </a:lnTo>
                      <a:lnTo>
                        <a:pt x="485" y="532"/>
                      </a:lnTo>
                      <a:lnTo>
                        <a:pt x="404" y="486"/>
                      </a:lnTo>
                      <a:lnTo>
                        <a:pt x="325" y="458"/>
                      </a:lnTo>
                      <a:lnTo>
                        <a:pt x="296" y="453"/>
                      </a:lnTo>
                      <a:lnTo>
                        <a:pt x="362" y="519"/>
                      </a:lnTo>
                      <a:lnTo>
                        <a:pt x="301" y="475"/>
                      </a:lnTo>
                      <a:lnTo>
                        <a:pt x="257" y="440"/>
                      </a:lnTo>
                      <a:lnTo>
                        <a:pt x="204" y="383"/>
                      </a:lnTo>
                      <a:lnTo>
                        <a:pt x="136" y="315"/>
                      </a:lnTo>
                      <a:lnTo>
                        <a:pt x="74" y="269"/>
                      </a:lnTo>
                      <a:lnTo>
                        <a:pt x="24" y="224"/>
                      </a:lnTo>
                      <a:lnTo>
                        <a:pt x="0" y="185"/>
                      </a:lnTo>
                      <a:lnTo>
                        <a:pt x="55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4943160" y="5253840"/>
                  <a:ext cx="23760" cy="37080"/>
                </a:xfrm>
                <a:custGeom>
                  <a:avLst/>
                  <a:gdLst/>
                  <a:ahLst/>
                  <a:rect l="l" t="t" r="r" b="b"/>
                  <a:pathLst>
                    <a:path w="281" h="354">
                      <a:moveTo>
                        <a:pt x="0" y="338"/>
                      </a:moveTo>
                      <a:lnTo>
                        <a:pt x="199" y="42"/>
                      </a:lnTo>
                      <a:lnTo>
                        <a:pt x="228" y="17"/>
                      </a:lnTo>
                      <a:lnTo>
                        <a:pt x="254" y="0"/>
                      </a:lnTo>
                      <a:lnTo>
                        <a:pt x="281" y="6"/>
                      </a:lnTo>
                      <a:lnTo>
                        <a:pt x="241" y="22"/>
                      </a:lnTo>
                      <a:lnTo>
                        <a:pt x="206" y="54"/>
                      </a:lnTo>
                      <a:lnTo>
                        <a:pt x="4" y="354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4945680" y="5291640"/>
                  <a:ext cx="57600" cy="25200"/>
                </a:xfrm>
                <a:custGeom>
                  <a:avLst/>
                  <a:gdLst/>
                  <a:ahLst/>
                  <a:rect l="l" t="t" r="r" b="b"/>
                  <a:pathLst>
                    <a:path w="696" h="242">
                      <a:moveTo>
                        <a:pt x="0" y="242"/>
                      </a:moveTo>
                      <a:lnTo>
                        <a:pt x="39" y="215"/>
                      </a:lnTo>
                      <a:lnTo>
                        <a:pt x="81" y="180"/>
                      </a:lnTo>
                      <a:lnTo>
                        <a:pt x="131" y="111"/>
                      </a:lnTo>
                      <a:lnTo>
                        <a:pt x="156" y="69"/>
                      </a:lnTo>
                      <a:lnTo>
                        <a:pt x="180" y="49"/>
                      </a:lnTo>
                      <a:lnTo>
                        <a:pt x="208" y="31"/>
                      </a:lnTo>
                      <a:lnTo>
                        <a:pt x="248" y="21"/>
                      </a:lnTo>
                      <a:lnTo>
                        <a:pt x="369" y="0"/>
                      </a:lnTo>
                      <a:lnTo>
                        <a:pt x="439" y="3"/>
                      </a:lnTo>
                      <a:lnTo>
                        <a:pt x="527" y="40"/>
                      </a:lnTo>
                      <a:lnTo>
                        <a:pt x="592" y="88"/>
                      </a:lnTo>
                      <a:lnTo>
                        <a:pt x="696" y="137"/>
                      </a:lnTo>
                      <a:lnTo>
                        <a:pt x="617" y="125"/>
                      </a:lnTo>
                      <a:lnTo>
                        <a:pt x="564" y="106"/>
                      </a:lnTo>
                      <a:lnTo>
                        <a:pt x="527" y="86"/>
                      </a:lnTo>
                      <a:lnTo>
                        <a:pt x="483" y="75"/>
                      </a:lnTo>
                      <a:lnTo>
                        <a:pt x="459" y="79"/>
                      </a:lnTo>
                      <a:lnTo>
                        <a:pt x="435" y="150"/>
                      </a:lnTo>
                      <a:lnTo>
                        <a:pt x="384" y="211"/>
                      </a:lnTo>
                      <a:lnTo>
                        <a:pt x="421" y="152"/>
                      </a:lnTo>
                      <a:lnTo>
                        <a:pt x="447" y="69"/>
                      </a:lnTo>
                      <a:lnTo>
                        <a:pt x="447" y="49"/>
                      </a:lnTo>
                      <a:lnTo>
                        <a:pt x="430" y="28"/>
                      </a:lnTo>
                      <a:lnTo>
                        <a:pt x="384" y="16"/>
                      </a:lnTo>
                      <a:lnTo>
                        <a:pt x="329" y="21"/>
                      </a:lnTo>
                      <a:lnTo>
                        <a:pt x="313" y="44"/>
                      </a:lnTo>
                      <a:lnTo>
                        <a:pt x="343" y="222"/>
                      </a:lnTo>
                      <a:lnTo>
                        <a:pt x="325" y="222"/>
                      </a:lnTo>
                      <a:lnTo>
                        <a:pt x="256" y="198"/>
                      </a:lnTo>
                      <a:lnTo>
                        <a:pt x="195" y="174"/>
                      </a:lnTo>
                      <a:lnTo>
                        <a:pt x="164" y="150"/>
                      </a:lnTo>
                      <a:lnTo>
                        <a:pt x="145" y="137"/>
                      </a:lnTo>
                      <a:lnTo>
                        <a:pt x="108" y="174"/>
                      </a:lnTo>
                      <a:lnTo>
                        <a:pt x="67" y="210"/>
                      </a:lnTo>
                      <a:lnTo>
                        <a:pt x="25" y="231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5000760" y="5252760"/>
                  <a:ext cx="32400" cy="46440"/>
                </a:xfrm>
                <a:custGeom>
                  <a:avLst/>
                  <a:gdLst/>
                  <a:ahLst/>
                  <a:rect l="l" t="t" r="r" b="b"/>
                  <a:pathLst>
                    <a:path w="385" h="439">
                      <a:moveTo>
                        <a:pt x="0" y="0"/>
                      </a:moveTo>
                      <a:lnTo>
                        <a:pt x="40" y="55"/>
                      </a:lnTo>
                      <a:lnTo>
                        <a:pt x="63" y="111"/>
                      </a:lnTo>
                      <a:lnTo>
                        <a:pt x="86" y="256"/>
                      </a:lnTo>
                      <a:lnTo>
                        <a:pt x="75" y="439"/>
                      </a:lnTo>
                      <a:lnTo>
                        <a:pt x="114" y="274"/>
                      </a:lnTo>
                      <a:lnTo>
                        <a:pt x="148" y="189"/>
                      </a:lnTo>
                      <a:lnTo>
                        <a:pt x="204" y="107"/>
                      </a:lnTo>
                      <a:lnTo>
                        <a:pt x="235" y="111"/>
                      </a:lnTo>
                      <a:lnTo>
                        <a:pt x="211" y="256"/>
                      </a:lnTo>
                      <a:lnTo>
                        <a:pt x="215" y="292"/>
                      </a:lnTo>
                      <a:lnTo>
                        <a:pt x="385" y="74"/>
                      </a:lnTo>
                      <a:lnTo>
                        <a:pt x="310" y="26"/>
                      </a:lnTo>
                      <a:lnTo>
                        <a:pt x="252" y="67"/>
                      </a:lnTo>
                      <a:lnTo>
                        <a:pt x="204" y="58"/>
                      </a:lnTo>
                      <a:lnTo>
                        <a:pt x="112" y="81"/>
                      </a:lnTo>
                      <a:lnTo>
                        <a:pt x="81" y="81"/>
                      </a:lnTo>
                      <a:lnTo>
                        <a:pt x="37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4969800" y="5312160"/>
                  <a:ext cx="68040" cy="245520"/>
                </a:xfrm>
                <a:custGeom>
                  <a:avLst/>
                  <a:gdLst/>
                  <a:ahLst/>
                  <a:rect l="l" t="t" r="r" b="b"/>
                  <a:pathLst>
                    <a:path w="819" h="2318">
                      <a:moveTo>
                        <a:pt x="102" y="23"/>
                      </a:moveTo>
                      <a:lnTo>
                        <a:pt x="196" y="140"/>
                      </a:lnTo>
                      <a:lnTo>
                        <a:pt x="275" y="327"/>
                      </a:lnTo>
                      <a:lnTo>
                        <a:pt x="424" y="714"/>
                      </a:lnTo>
                      <a:lnTo>
                        <a:pt x="579" y="1265"/>
                      </a:lnTo>
                      <a:lnTo>
                        <a:pt x="712" y="1680"/>
                      </a:lnTo>
                      <a:lnTo>
                        <a:pt x="819" y="1925"/>
                      </a:lnTo>
                      <a:lnTo>
                        <a:pt x="660" y="2318"/>
                      </a:lnTo>
                      <a:lnTo>
                        <a:pt x="526" y="2190"/>
                      </a:lnTo>
                      <a:lnTo>
                        <a:pt x="252" y="1992"/>
                      </a:lnTo>
                      <a:lnTo>
                        <a:pt x="35" y="546"/>
                      </a:lnTo>
                      <a:lnTo>
                        <a:pt x="0" y="274"/>
                      </a:lnTo>
                      <a:lnTo>
                        <a:pt x="17" y="103"/>
                      </a:lnTo>
                      <a:lnTo>
                        <a:pt x="35" y="41"/>
                      </a:lnTo>
                      <a:lnTo>
                        <a:pt x="35" y="0"/>
                      </a:lnTo>
                      <a:lnTo>
                        <a:pt x="60" y="41"/>
                      </a:lnTo>
                      <a:lnTo>
                        <a:pt x="53" y="134"/>
                      </a:lnTo>
                      <a:lnTo>
                        <a:pt x="60" y="292"/>
                      </a:lnTo>
                      <a:lnTo>
                        <a:pt x="77" y="465"/>
                      </a:lnTo>
                      <a:lnTo>
                        <a:pt x="116" y="707"/>
                      </a:lnTo>
                      <a:lnTo>
                        <a:pt x="284" y="1487"/>
                      </a:lnTo>
                      <a:lnTo>
                        <a:pt x="343" y="1953"/>
                      </a:lnTo>
                      <a:lnTo>
                        <a:pt x="360" y="2010"/>
                      </a:lnTo>
                      <a:lnTo>
                        <a:pt x="512" y="2142"/>
                      </a:lnTo>
                      <a:lnTo>
                        <a:pt x="642" y="2252"/>
                      </a:lnTo>
                      <a:lnTo>
                        <a:pt x="734" y="2019"/>
                      </a:lnTo>
                      <a:lnTo>
                        <a:pt x="778" y="1925"/>
                      </a:lnTo>
                      <a:lnTo>
                        <a:pt x="651" y="1604"/>
                      </a:lnTo>
                      <a:lnTo>
                        <a:pt x="561" y="1296"/>
                      </a:lnTo>
                      <a:lnTo>
                        <a:pt x="433" y="863"/>
                      </a:lnTo>
                      <a:lnTo>
                        <a:pt x="351" y="555"/>
                      </a:lnTo>
                      <a:lnTo>
                        <a:pt x="235" y="239"/>
                      </a:lnTo>
                      <a:lnTo>
                        <a:pt x="162" y="116"/>
                      </a:lnTo>
                      <a:lnTo>
                        <a:pt x="10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4950360" y="5389200"/>
                  <a:ext cx="187560" cy="197280"/>
                </a:xfrm>
                <a:custGeom>
                  <a:avLst/>
                  <a:gdLst/>
                  <a:ahLst/>
                  <a:rect l="l" t="t" r="r" b="b"/>
                  <a:pathLst>
                    <a:path w="2266" h="1862">
                      <a:moveTo>
                        <a:pt x="947" y="954"/>
                      </a:moveTo>
                      <a:lnTo>
                        <a:pt x="1211" y="1046"/>
                      </a:lnTo>
                      <a:lnTo>
                        <a:pt x="1455" y="1180"/>
                      </a:lnTo>
                      <a:lnTo>
                        <a:pt x="1630" y="1244"/>
                      </a:lnTo>
                      <a:lnTo>
                        <a:pt x="1747" y="1362"/>
                      </a:lnTo>
                      <a:lnTo>
                        <a:pt x="1925" y="1436"/>
                      </a:lnTo>
                      <a:lnTo>
                        <a:pt x="1914" y="1348"/>
                      </a:lnTo>
                      <a:lnTo>
                        <a:pt x="1764" y="1189"/>
                      </a:lnTo>
                      <a:lnTo>
                        <a:pt x="1582" y="1055"/>
                      </a:lnTo>
                      <a:lnTo>
                        <a:pt x="1854" y="1194"/>
                      </a:lnTo>
                      <a:lnTo>
                        <a:pt x="1905" y="908"/>
                      </a:lnTo>
                      <a:lnTo>
                        <a:pt x="1815" y="921"/>
                      </a:lnTo>
                      <a:lnTo>
                        <a:pt x="1747" y="908"/>
                      </a:lnTo>
                      <a:lnTo>
                        <a:pt x="1663" y="855"/>
                      </a:lnTo>
                      <a:lnTo>
                        <a:pt x="1738" y="839"/>
                      </a:lnTo>
                      <a:lnTo>
                        <a:pt x="1815" y="765"/>
                      </a:lnTo>
                      <a:lnTo>
                        <a:pt x="1863" y="682"/>
                      </a:lnTo>
                      <a:lnTo>
                        <a:pt x="1905" y="506"/>
                      </a:lnTo>
                      <a:lnTo>
                        <a:pt x="1914" y="273"/>
                      </a:lnTo>
                      <a:lnTo>
                        <a:pt x="1872" y="0"/>
                      </a:lnTo>
                      <a:lnTo>
                        <a:pt x="2048" y="168"/>
                      </a:lnTo>
                      <a:lnTo>
                        <a:pt x="2131" y="308"/>
                      </a:lnTo>
                      <a:lnTo>
                        <a:pt x="2110" y="325"/>
                      </a:lnTo>
                      <a:lnTo>
                        <a:pt x="1988" y="242"/>
                      </a:lnTo>
                      <a:lnTo>
                        <a:pt x="2013" y="541"/>
                      </a:lnTo>
                      <a:lnTo>
                        <a:pt x="2165" y="839"/>
                      </a:lnTo>
                      <a:lnTo>
                        <a:pt x="2206" y="1014"/>
                      </a:lnTo>
                      <a:lnTo>
                        <a:pt x="2149" y="1079"/>
                      </a:lnTo>
                      <a:lnTo>
                        <a:pt x="2156" y="1180"/>
                      </a:lnTo>
                      <a:lnTo>
                        <a:pt x="2266" y="1348"/>
                      </a:lnTo>
                      <a:lnTo>
                        <a:pt x="2266" y="1398"/>
                      </a:lnTo>
                      <a:lnTo>
                        <a:pt x="2215" y="1459"/>
                      </a:lnTo>
                      <a:lnTo>
                        <a:pt x="2013" y="1593"/>
                      </a:lnTo>
                      <a:lnTo>
                        <a:pt x="1896" y="1680"/>
                      </a:lnTo>
                      <a:lnTo>
                        <a:pt x="1738" y="1862"/>
                      </a:lnTo>
                      <a:lnTo>
                        <a:pt x="1496" y="1862"/>
                      </a:lnTo>
                      <a:lnTo>
                        <a:pt x="1444" y="1833"/>
                      </a:lnTo>
                      <a:lnTo>
                        <a:pt x="1356" y="1824"/>
                      </a:lnTo>
                      <a:lnTo>
                        <a:pt x="1305" y="1862"/>
                      </a:lnTo>
                      <a:lnTo>
                        <a:pt x="0" y="1862"/>
                      </a:lnTo>
                      <a:lnTo>
                        <a:pt x="169" y="1752"/>
                      </a:lnTo>
                      <a:lnTo>
                        <a:pt x="344" y="1662"/>
                      </a:lnTo>
                      <a:lnTo>
                        <a:pt x="542" y="1578"/>
                      </a:lnTo>
                      <a:lnTo>
                        <a:pt x="747" y="1512"/>
                      </a:lnTo>
                      <a:lnTo>
                        <a:pt x="830" y="1496"/>
                      </a:lnTo>
                      <a:lnTo>
                        <a:pt x="865" y="1545"/>
                      </a:lnTo>
                      <a:lnTo>
                        <a:pt x="837" y="1668"/>
                      </a:lnTo>
                      <a:lnTo>
                        <a:pt x="877" y="1721"/>
                      </a:lnTo>
                      <a:lnTo>
                        <a:pt x="1178" y="1680"/>
                      </a:lnTo>
                      <a:lnTo>
                        <a:pt x="1187" y="1653"/>
                      </a:lnTo>
                      <a:lnTo>
                        <a:pt x="1174" y="1629"/>
                      </a:lnTo>
                      <a:lnTo>
                        <a:pt x="947" y="1653"/>
                      </a:lnTo>
                      <a:lnTo>
                        <a:pt x="911" y="1635"/>
                      </a:lnTo>
                      <a:lnTo>
                        <a:pt x="906" y="1545"/>
                      </a:lnTo>
                      <a:lnTo>
                        <a:pt x="964" y="1503"/>
                      </a:lnTo>
                      <a:lnTo>
                        <a:pt x="994" y="1539"/>
                      </a:lnTo>
                      <a:lnTo>
                        <a:pt x="1037" y="1593"/>
                      </a:lnTo>
                      <a:lnTo>
                        <a:pt x="1103" y="1593"/>
                      </a:lnTo>
                      <a:lnTo>
                        <a:pt x="1139" y="1521"/>
                      </a:lnTo>
                      <a:lnTo>
                        <a:pt x="1019" y="1479"/>
                      </a:lnTo>
                      <a:lnTo>
                        <a:pt x="969" y="1470"/>
                      </a:lnTo>
                      <a:lnTo>
                        <a:pt x="1156" y="1459"/>
                      </a:lnTo>
                      <a:lnTo>
                        <a:pt x="1428" y="1452"/>
                      </a:lnTo>
                      <a:lnTo>
                        <a:pt x="1571" y="1459"/>
                      </a:lnTo>
                      <a:lnTo>
                        <a:pt x="1413" y="1398"/>
                      </a:lnTo>
                      <a:lnTo>
                        <a:pt x="1331" y="1319"/>
                      </a:lnTo>
                      <a:lnTo>
                        <a:pt x="1437" y="1353"/>
                      </a:lnTo>
                      <a:lnTo>
                        <a:pt x="1707" y="1459"/>
                      </a:lnTo>
                      <a:lnTo>
                        <a:pt x="1848" y="1479"/>
                      </a:lnTo>
                      <a:lnTo>
                        <a:pt x="1531" y="1256"/>
                      </a:lnTo>
                      <a:lnTo>
                        <a:pt x="1266" y="1106"/>
                      </a:lnTo>
                      <a:lnTo>
                        <a:pt x="1095" y="1064"/>
                      </a:lnTo>
                      <a:lnTo>
                        <a:pt x="1037" y="1002"/>
                      </a:lnTo>
                      <a:lnTo>
                        <a:pt x="947" y="9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5041080" y="5253840"/>
                  <a:ext cx="36360" cy="20880"/>
                </a:xfrm>
                <a:custGeom>
                  <a:avLst/>
                  <a:gdLst/>
                  <a:ahLst/>
                  <a:rect l="l" t="t" r="r" b="b"/>
                  <a:pathLst>
                    <a:path w="443" h="201">
                      <a:moveTo>
                        <a:pt x="0" y="69"/>
                      </a:moveTo>
                      <a:lnTo>
                        <a:pt x="0" y="201"/>
                      </a:lnTo>
                      <a:lnTo>
                        <a:pt x="236" y="46"/>
                      </a:lnTo>
                      <a:lnTo>
                        <a:pt x="261" y="69"/>
                      </a:lnTo>
                      <a:lnTo>
                        <a:pt x="351" y="78"/>
                      </a:lnTo>
                      <a:lnTo>
                        <a:pt x="443" y="19"/>
                      </a:lnTo>
                      <a:lnTo>
                        <a:pt x="342" y="51"/>
                      </a:lnTo>
                      <a:lnTo>
                        <a:pt x="287" y="46"/>
                      </a:lnTo>
                      <a:lnTo>
                        <a:pt x="236" y="0"/>
                      </a:lnTo>
                      <a:lnTo>
                        <a:pt x="134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5088960" y="5261400"/>
                  <a:ext cx="57240" cy="114480"/>
                </a:xfrm>
                <a:custGeom>
                  <a:avLst/>
                  <a:gdLst/>
                  <a:ahLst/>
                  <a:rect l="l" t="t" r="r" b="b"/>
                  <a:pathLst>
                    <a:path w="701" h="1079">
                      <a:moveTo>
                        <a:pt x="0" y="0"/>
                      </a:moveTo>
                      <a:lnTo>
                        <a:pt x="281" y="374"/>
                      </a:lnTo>
                      <a:lnTo>
                        <a:pt x="424" y="438"/>
                      </a:lnTo>
                      <a:lnTo>
                        <a:pt x="438" y="688"/>
                      </a:lnTo>
                      <a:lnTo>
                        <a:pt x="519" y="823"/>
                      </a:lnTo>
                      <a:lnTo>
                        <a:pt x="519" y="1079"/>
                      </a:lnTo>
                      <a:lnTo>
                        <a:pt x="551" y="1035"/>
                      </a:lnTo>
                      <a:lnTo>
                        <a:pt x="551" y="680"/>
                      </a:lnTo>
                      <a:lnTo>
                        <a:pt x="659" y="747"/>
                      </a:lnTo>
                      <a:lnTo>
                        <a:pt x="684" y="862"/>
                      </a:lnTo>
                      <a:lnTo>
                        <a:pt x="701" y="754"/>
                      </a:lnTo>
                      <a:lnTo>
                        <a:pt x="627" y="583"/>
                      </a:lnTo>
                      <a:lnTo>
                        <a:pt x="361" y="316"/>
                      </a:lnTo>
                      <a:lnTo>
                        <a:pt x="253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5059080" y="5308560"/>
                  <a:ext cx="30960" cy="55800"/>
                </a:xfrm>
                <a:custGeom>
                  <a:avLst/>
                  <a:gdLst/>
                  <a:ahLst/>
                  <a:rect l="l" t="t" r="r" b="b"/>
                  <a:pathLst>
                    <a:path w="378" h="533">
                      <a:moveTo>
                        <a:pt x="0" y="257"/>
                      </a:moveTo>
                      <a:lnTo>
                        <a:pt x="70" y="107"/>
                      </a:lnTo>
                      <a:lnTo>
                        <a:pt x="143" y="98"/>
                      </a:lnTo>
                      <a:lnTo>
                        <a:pt x="235" y="118"/>
                      </a:lnTo>
                      <a:lnTo>
                        <a:pt x="253" y="0"/>
                      </a:lnTo>
                      <a:lnTo>
                        <a:pt x="378" y="533"/>
                      </a:lnTo>
                      <a:lnTo>
                        <a:pt x="235" y="272"/>
                      </a:lnTo>
                      <a:lnTo>
                        <a:pt x="166" y="233"/>
                      </a:lnTo>
                      <a:lnTo>
                        <a:pt x="83" y="22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5130000" y="5348520"/>
                  <a:ext cx="59400" cy="122760"/>
                </a:xfrm>
                <a:custGeom>
                  <a:avLst/>
                  <a:gdLst/>
                  <a:ahLst/>
                  <a:rect l="l" t="t" r="r" b="b"/>
                  <a:pathLst>
                    <a:path w="717" h="1161">
                      <a:moveTo>
                        <a:pt x="261" y="0"/>
                      </a:moveTo>
                      <a:lnTo>
                        <a:pt x="252" y="99"/>
                      </a:lnTo>
                      <a:lnTo>
                        <a:pt x="177" y="240"/>
                      </a:lnTo>
                      <a:lnTo>
                        <a:pt x="76" y="390"/>
                      </a:lnTo>
                      <a:lnTo>
                        <a:pt x="34" y="509"/>
                      </a:lnTo>
                      <a:lnTo>
                        <a:pt x="34" y="572"/>
                      </a:lnTo>
                      <a:lnTo>
                        <a:pt x="67" y="656"/>
                      </a:lnTo>
                      <a:lnTo>
                        <a:pt x="94" y="724"/>
                      </a:lnTo>
                      <a:lnTo>
                        <a:pt x="0" y="724"/>
                      </a:lnTo>
                      <a:lnTo>
                        <a:pt x="127" y="763"/>
                      </a:lnTo>
                      <a:lnTo>
                        <a:pt x="177" y="889"/>
                      </a:lnTo>
                      <a:lnTo>
                        <a:pt x="325" y="889"/>
                      </a:lnTo>
                      <a:lnTo>
                        <a:pt x="496" y="1161"/>
                      </a:lnTo>
                      <a:lnTo>
                        <a:pt x="535" y="1091"/>
                      </a:lnTo>
                      <a:lnTo>
                        <a:pt x="535" y="970"/>
                      </a:lnTo>
                      <a:lnTo>
                        <a:pt x="643" y="774"/>
                      </a:lnTo>
                      <a:lnTo>
                        <a:pt x="717" y="473"/>
                      </a:lnTo>
                      <a:lnTo>
                        <a:pt x="616" y="756"/>
                      </a:lnTo>
                      <a:lnTo>
                        <a:pt x="560" y="733"/>
                      </a:lnTo>
                      <a:lnTo>
                        <a:pt x="595" y="673"/>
                      </a:lnTo>
                      <a:lnTo>
                        <a:pt x="217" y="839"/>
                      </a:lnTo>
                      <a:lnTo>
                        <a:pt x="210" y="763"/>
                      </a:lnTo>
                      <a:lnTo>
                        <a:pt x="127" y="708"/>
                      </a:lnTo>
                      <a:lnTo>
                        <a:pt x="337" y="524"/>
                      </a:lnTo>
                      <a:lnTo>
                        <a:pt x="184" y="608"/>
                      </a:lnTo>
                      <a:lnTo>
                        <a:pt x="153" y="524"/>
                      </a:lnTo>
                      <a:lnTo>
                        <a:pt x="159" y="422"/>
                      </a:lnTo>
                      <a:lnTo>
                        <a:pt x="201" y="341"/>
                      </a:lnTo>
                      <a:lnTo>
                        <a:pt x="344" y="168"/>
                      </a:lnTo>
                      <a:lnTo>
                        <a:pt x="360" y="99"/>
                      </a:lnTo>
                      <a:lnTo>
                        <a:pt x="344" y="58"/>
                      </a:lnTo>
                      <a:lnTo>
                        <a:pt x="293" y="58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5141520" y="5476680"/>
                  <a:ext cx="64080" cy="53280"/>
                </a:xfrm>
                <a:custGeom>
                  <a:avLst/>
                  <a:gdLst/>
                  <a:ahLst/>
                  <a:rect l="l" t="t" r="r" b="b"/>
                  <a:pathLst>
                    <a:path w="775" h="510">
                      <a:moveTo>
                        <a:pt x="0" y="510"/>
                      </a:moveTo>
                      <a:lnTo>
                        <a:pt x="92" y="353"/>
                      </a:lnTo>
                      <a:lnTo>
                        <a:pt x="472" y="182"/>
                      </a:lnTo>
                      <a:lnTo>
                        <a:pt x="672" y="182"/>
                      </a:lnTo>
                      <a:lnTo>
                        <a:pt x="775" y="118"/>
                      </a:lnTo>
                      <a:lnTo>
                        <a:pt x="540" y="118"/>
                      </a:lnTo>
                      <a:lnTo>
                        <a:pt x="393" y="171"/>
                      </a:lnTo>
                      <a:lnTo>
                        <a:pt x="327" y="143"/>
                      </a:lnTo>
                      <a:lnTo>
                        <a:pt x="342" y="0"/>
                      </a:lnTo>
                      <a:lnTo>
                        <a:pt x="261" y="14"/>
                      </a:lnTo>
                      <a:lnTo>
                        <a:pt x="261" y="171"/>
                      </a:lnTo>
                      <a:lnTo>
                        <a:pt x="197" y="251"/>
                      </a:lnTo>
                      <a:lnTo>
                        <a:pt x="105" y="261"/>
                      </a:lnTo>
                      <a:lnTo>
                        <a:pt x="12" y="393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5146560" y="5627520"/>
                  <a:ext cx="98640" cy="47160"/>
                </a:xfrm>
                <a:custGeom>
                  <a:avLst/>
                  <a:gdLst/>
                  <a:ahLst/>
                  <a:rect l="l" t="t" r="r" b="b"/>
                  <a:pathLst>
                    <a:path w="1191" h="446">
                      <a:moveTo>
                        <a:pt x="1191" y="174"/>
                      </a:moveTo>
                      <a:lnTo>
                        <a:pt x="841" y="283"/>
                      </a:lnTo>
                      <a:lnTo>
                        <a:pt x="622" y="446"/>
                      </a:lnTo>
                      <a:lnTo>
                        <a:pt x="609" y="374"/>
                      </a:lnTo>
                      <a:lnTo>
                        <a:pt x="912" y="176"/>
                      </a:lnTo>
                      <a:lnTo>
                        <a:pt x="877" y="137"/>
                      </a:lnTo>
                      <a:lnTo>
                        <a:pt x="708" y="149"/>
                      </a:lnTo>
                      <a:lnTo>
                        <a:pt x="490" y="213"/>
                      </a:lnTo>
                      <a:lnTo>
                        <a:pt x="512" y="108"/>
                      </a:lnTo>
                      <a:lnTo>
                        <a:pt x="313" y="96"/>
                      </a:lnTo>
                      <a:lnTo>
                        <a:pt x="205" y="55"/>
                      </a:lnTo>
                      <a:lnTo>
                        <a:pt x="69" y="24"/>
                      </a:ln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246" y="47"/>
                      </a:lnTo>
                      <a:lnTo>
                        <a:pt x="409" y="77"/>
                      </a:lnTo>
                      <a:lnTo>
                        <a:pt x="537" y="73"/>
                      </a:lnTo>
                      <a:lnTo>
                        <a:pt x="652" y="55"/>
                      </a:lnTo>
                      <a:lnTo>
                        <a:pt x="749" y="112"/>
                      </a:lnTo>
                      <a:lnTo>
                        <a:pt x="1028" y="96"/>
                      </a:lnTo>
                      <a:lnTo>
                        <a:pt x="1164" y="154"/>
                      </a:lnTo>
                      <a:lnTo>
                        <a:pt x="1191" y="1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5029200" y="5581080"/>
                  <a:ext cx="145080" cy="129240"/>
                </a:xfrm>
                <a:custGeom>
                  <a:avLst/>
                  <a:gdLst/>
                  <a:ahLst/>
                  <a:rect l="l" t="t" r="r" b="b"/>
                  <a:pathLst>
                    <a:path w="1754" h="1222">
                      <a:moveTo>
                        <a:pt x="1289" y="666"/>
                      </a:moveTo>
                      <a:lnTo>
                        <a:pt x="1258" y="826"/>
                      </a:lnTo>
                      <a:lnTo>
                        <a:pt x="1258" y="945"/>
                      </a:lnTo>
                      <a:lnTo>
                        <a:pt x="1289" y="1042"/>
                      </a:lnTo>
                      <a:lnTo>
                        <a:pt x="1311" y="1098"/>
                      </a:lnTo>
                      <a:lnTo>
                        <a:pt x="1754" y="1222"/>
                      </a:lnTo>
                      <a:lnTo>
                        <a:pt x="1293" y="1160"/>
                      </a:lnTo>
                      <a:lnTo>
                        <a:pt x="1251" y="1098"/>
                      </a:lnTo>
                      <a:lnTo>
                        <a:pt x="876" y="1092"/>
                      </a:lnTo>
                      <a:lnTo>
                        <a:pt x="576" y="1035"/>
                      </a:lnTo>
                      <a:lnTo>
                        <a:pt x="311" y="955"/>
                      </a:lnTo>
                      <a:lnTo>
                        <a:pt x="93" y="860"/>
                      </a:lnTo>
                      <a:lnTo>
                        <a:pt x="69" y="826"/>
                      </a:lnTo>
                      <a:lnTo>
                        <a:pt x="51" y="749"/>
                      </a:lnTo>
                      <a:lnTo>
                        <a:pt x="0" y="652"/>
                      </a:lnTo>
                      <a:lnTo>
                        <a:pt x="12" y="615"/>
                      </a:lnTo>
                      <a:lnTo>
                        <a:pt x="32" y="588"/>
                      </a:lnTo>
                      <a:lnTo>
                        <a:pt x="32" y="452"/>
                      </a:lnTo>
                      <a:lnTo>
                        <a:pt x="51" y="406"/>
                      </a:lnTo>
                      <a:lnTo>
                        <a:pt x="80" y="382"/>
                      </a:lnTo>
                      <a:lnTo>
                        <a:pt x="58" y="433"/>
                      </a:lnTo>
                      <a:lnTo>
                        <a:pt x="51" y="547"/>
                      </a:lnTo>
                      <a:lnTo>
                        <a:pt x="58" y="613"/>
                      </a:lnTo>
                      <a:lnTo>
                        <a:pt x="230" y="756"/>
                      </a:lnTo>
                      <a:lnTo>
                        <a:pt x="258" y="749"/>
                      </a:lnTo>
                      <a:lnTo>
                        <a:pt x="278" y="670"/>
                      </a:lnTo>
                      <a:lnTo>
                        <a:pt x="170" y="494"/>
                      </a:lnTo>
                      <a:lnTo>
                        <a:pt x="140" y="344"/>
                      </a:lnTo>
                      <a:lnTo>
                        <a:pt x="201" y="202"/>
                      </a:lnTo>
                      <a:lnTo>
                        <a:pt x="201" y="426"/>
                      </a:lnTo>
                      <a:lnTo>
                        <a:pt x="361" y="786"/>
                      </a:lnTo>
                      <a:lnTo>
                        <a:pt x="438" y="802"/>
                      </a:lnTo>
                      <a:lnTo>
                        <a:pt x="489" y="770"/>
                      </a:lnTo>
                      <a:lnTo>
                        <a:pt x="480" y="685"/>
                      </a:lnTo>
                      <a:lnTo>
                        <a:pt x="320" y="286"/>
                      </a:lnTo>
                      <a:lnTo>
                        <a:pt x="320" y="166"/>
                      </a:lnTo>
                      <a:lnTo>
                        <a:pt x="320" y="72"/>
                      </a:lnTo>
                      <a:lnTo>
                        <a:pt x="361" y="0"/>
                      </a:lnTo>
                      <a:lnTo>
                        <a:pt x="343" y="136"/>
                      </a:lnTo>
                      <a:lnTo>
                        <a:pt x="350" y="272"/>
                      </a:lnTo>
                      <a:lnTo>
                        <a:pt x="451" y="540"/>
                      </a:lnTo>
                      <a:lnTo>
                        <a:pt x="493" y="560"/>
                      </a:lnTo>
                      <a:lnTo>
                        <a:pt x="535" y="516"/>
                      </a:lnTo>
                      <a:lnTo>
                        <a:pt x="553" y="468"/>
                      </a:lnTo>
                      <a:lnTo>
                        <a:pt x="546" y="362"/>
                      </a:lnTo>
                      <a:lnTo>
                        <a:pt x="528" y="219"/>
                      </a:lnTo>
                      <a:lnTo>
                        <a:pt x="553" y="215"/>
                      </a:lnTo>
                      <a:lnTo>
                        <a:pt x="581" y="459"/>
                      </a:lnTo>
                      <a:lnTo>
                        <a:pt x="570" y="523"/>
                      </a:lnTo>
                      <a:lnTo>
                        <a:pt x="541" y="569"/>
                      </a:lnTo>
                      <a:lnTo>
                        <a:pt x="498" y="613"/>
                      </a:lnTo>
                      <a:lnTo>
                        <a:pt x="511" y="740"/>
                      </a:lnTo>
                      <a:lnTo>
                        <a:pt x="504" y="826"/>
                      </a:lnTo>
                      <a:lnTo>
                        <a:pt x="456" y="844"/>
                      </a:lnTo>
                      <a:lnTo>
                        <a:pt x="392" y="839"/>
                      </a:lnTo>
                      <a:lnTo>
                        <a:pt x="311" y="795"/>
                      </a:lnTo>
                      <a:lnTo>
                        <a:pt x="265" y="802"/>
                      </a:lnTo>
                      <a:lnTo>
                        <a:pt x="93" y="724"/>
                      </a:lnTo>
                      <a:lnTo>
                        <a:pt x="87" y="806"/>
                      </a:lnTo>
                      <a:lnTo>
                        <a:pt x="152" y="867"/>
                      </a:lnTo>
                      <a:lnTo>
                        <a:pt x="504" y="986"/>
                      </a:lnTo>
                      <a:lnTo>
                        <a:pt x="792" y="1048"/>
                      </a:lnTo>
                      <a:lnTo>
                        <a:pt x="1042" y="1058"/>
                      </a:lnTo>
                      <a:lnTo>
                        <a:pt x="1238" y="1058"/>
                      </a:lnTo>
                      <a:lnTo>
                        <a:pt x="1229" y="955"/>
                      </a:lnTo>
                      <a:lnTo>
                        <a:pt x="1238" y="826"/>
                      </a:lnTo>
                      <a:lnTo>
                        <a:pt x="1263" y="722"/>
                      </a:lnTo>
                      <a:lnTo>
                        <a:pt x="1289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5072400" y="5581080"/>
                  <a:ext cx="69480" cy="57600"/>
                </a:xfrm>
                <a:custGeom>
                  <a:avLst/>
                  <a:gdLst/>
                  <a:ahLst/>
                  <a:rect l="l" t="t" r="r" b="b"/>
                  <a:pathLst>
                    <a:path w="846" h="547">
                      <a:moveTo>
                        <a:pt x="0" y="30"/>
                      </a:moveTo>
                      <a:lnTo>
                        <a:pt x="45" y="94"/>
                      </a:lnTo>
                      <a:lnTo>
                        <a:pt x="101" y="210"/>
                      </a:lnTo>
                      <a:lnTo>
                        <a:pt x="36" y="219"/>
                      </a:lnTo>
                      <a:lnTo>
                        <a:pt x="36" y="237"/>
                      </a:lnTo>
                      <a:lnTo>
                        <a:pt x="174" y="246"/>
                      </a:lnTo>
                      <a:lnTo>
                        <a:pt x="322" y="254"/>
                      </a:lnTo>
                      <a:lnTo>
                        <a:pt x="248" y="233"/>
                      </a:lnTo>
                      <a:lnTo>
                        <a:pt x="394" y="178"/>
                      </a:lnTo>
                      <a:lnTo>
                        <a:pt x="472" y="189"/>
                      </a:lnTo>
                      <a:lnTo>
                        <a:pt x="598" y="297"/>
                      </a:lnTo>
                      <a:lnTo>
                        <a:pt x="675" y="422"/>
                      </a:lnTo>
                      <a:lnTo>
                        <a:pt x="767" y="512"/>
                      </a:lnTo>
                      <a:lnTo>
                        <a:pt x="820" y="547"/>
                      </a:lnTo>
                      <a:lnTo>
                        <a:pt x="846" y="523"/>
                      </a:lnTo>
                      <a:lnTo>
                        <a:pt x="758" y="468"/>
                      </a:lnTo>
                      <a:lnTo>
                        <a:pt x="679" y="392"/>
                      </a:lnTo>
                      <a:lnTo>
                        <a:pt x="611" y="286"/>
                      </a:lnTo>
                      <a:lnTo>
                        <a:pt x="534" y="184"/>
                      </a:lnTo>
                      <a:lnTo>
                        <a:pt x="394" y="136"/>
                      </a:lnTo>
                      <a:lnTo>
                        <a:pt x="317" y="154"/>
                      </a:lnTo>
                      <a:lnTo>
                        <a:pt x="223" y="189"/>
                      </a:lnTo>
                      <a:lnTo>
                        <a:pt x="161" y="184"/>
                      </a:lnTo>
                      <a:lnTo>
                        <a:pt x="244" y="90"/>
                      </a:lnTo>
                      <a:lnTo>
                        <a:pt x="283" y="30"/>
                      </a:lnTo>
                      <a:lnTo>
                        <a:pt x="275" y="0"/>
                      </a:lnTo>
                      <a:lnTo>
                        <a:pt x="223" y="79"/>
                      </a:lnTo>
                      <a:lnTo>
                        <a:pt x="119" y="154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4902480" y="5106960"/>
                  <a:ext cx="109440" cy="130320"/>
                </a:xfrm>
                <a:custGeom>
                  <a:avLst/>
                  <a:gdLst/>
                  <a:ahLst/>
                  <a:rect l="l" t="t" r="r" b="b"/>
                  <a:pathLst>
                    <a:path w="1323" h="1233">
                      <a:moveTo>
                        <a:pt x="680" y="329"/>
                      </a:moveTo>
                      <a:lnTo>
                        <a:pt x="759" y="233"/>
                      </a:lnTo>
                      <a:lnTo>
                        <a:pt x="833" y="191"/>
                      </a:lnTo>
                      <a:lnTo>
                        <a:pt x="918" y="186"/>
                      </a:lnTo>
                      <a:lnTo>
                        <a:pt x="1026" y="239"/>
                      </a:lnTo>
                      <a:lnTo>
                        <a:pt x="1086" y="329"/>
                      </a:lnTo>
                      <a:lnTo>
                        <a:pt x="1116" y="433"/>
                      </a:lnTo>
                      <a:lnTo>
                        <a:pt x="1128" y="539"/>
                      </a:lnTo>
                      <a:lnTo>
                        <a:pt x="1123" y="648"/>
                      </a:lnTo>
                      <a:lnTo>
                        <a:pt x="1112" y="753"/>
                      </a:lnTo>
                      <a:lnTo>
                        <a:pt x="1141" y="857"/>
                      </a:lnTo>
                      <a:lnTo>
                        <a:pt x="1165" y="744"/>
                      </a:lnTo>
                      <a:lnTo>
                        <a:pt x="1242" y="689"/>
                      </a:lnTo>
                      <a:lnTo>
                        <a:pt x="1291" y="728"/>
                      </a:lnTo>
                      <a:lnTo>
                        <a:pt x="1305" y="857"/>
                      </a:lnTo>
                      <a:lnTo>
                        <a:pt x="1296" y="960"/>
                      </a:lnTo>
                      <a:lnTo>
                        <a:pt x="1238" y="1046"/>
                      </a:lnTo>
                      <a:lnTo>
                        <a:pt x="1209" y="1083"/>
                      </a:lnTo>
                      <a:lnTo>
                        <a:pt x="1152" y="1127"/>
                      </a:lnTo>
                      <a:lnTo>
                        <a:pt x="1222" y="1101"/>
                      </a:lnTo>
                      <a:lnTo>
                        <a:pt x="1310" y="966"/>
                      </a:lnTo>
                      <a:lnTo>
                        <a:pt x="1323" y="834"/>
                      </a:lnTo>
                      <a:lnTo>
                        <a:pt x="1296" y="696"/>
                      </a:lnTo>
                      <a:lnTo>
                        <a:pt x="1242" y="666"/>
                      </a:lnTo>
                      <a:lnTo>
                        <a:pt x="1242" y="585"/>
                      </a:lnTo>
                      <a:lnTo>
                        <a:pt x="1183" y="323"/>
                      </a:lnTo>
                      <a:lnTo>
                        <a:pt x="1086" y="175"/>
                      </a:lnTo>
                      <a:lnTo>
                        <a:pt x="971" y="74"/>
                      </a:lnTo>
                      <a:lnTo>
                        <a:pt x="840" y="32"/>
                      </a:lnTo>
                      <a:lnTo>
                        <a:pt x="629" y="0"/>
                      </a:lnTo>
                      <a:lnTo>
                        <a:pt x="392" y="32"/>
                      </a:lnTo>
                      <a:lnTo>
                        <a:pt x="213" y="131"/>
                      </a:lnTo>
                      <a:lnTo>
                        <a:pt x="97" y="255"/>
                      </a:lnTo>
                      <a:lnTo>
                        <a:pt x="26" y="404"/>
                      </a:lnTo>
                      <a:lnTo>
                        <a:pt x="12" y="562"/>
                      </a:lnTo>
                      <a:lnTo>
                        <a:pt x="26" y="786"/>
                      </a:lnTo>
                      <a:lnTo>
                        <a:pt x="0" y="857"/>
                      </a:lnTo>
                      <a:lnTo>
                        <a:pt x="23" y="995"/>
                      </a:lnTo>
                      <a:lnTo>
                        <a:pt x="97" y="1113"/>
                      </a:lnTo>
                      <a:lnTo>
                        <a:pt x="198" y="1196"/>
                      </a:lnTo>
                      <a:lnTo>
                        <a:pt x="249" y="1201"/>
                      </a:lnTo>
                      <a:lnTo>
                        <a:pt x="279" y="1233"/>
                      </a:lnTo>
                      <a:lnTo>
                        <a:pt x="264" y="1152"/>
                      </a:lnTo>
                      <a:lnTo>
                        <a:pt x="213" y="1187"/>
                      </a:lnTo>
                      <a:lnTo>
                        <a:pt x="104" y="1106"/>
                      </a:lnTo>
                      <a:lnTo>
                        <a:pt x="33" y="973"/>
                      </a:lnTo>
                      <a:lnTo>
                        <a:pt x="26" y="868"/>
                      </a:lnTo>
                      <a:lnTo>
                        <a:pt x="49" y="843"/>
                      </a:lnTo>
                      <a:lnTo>
                        <a:pt x="121" y="857"/>
                      </a:lnTo>
                      <a:lnTo>
                        <a:pt x="213" y="936"/>
                      </a:lnTo>
                      <a:lnTo>
                        <a:pt x="194" y="830"/>
                      </a:lnTo>
                      <a:lnTo>
                        <a:pt x="167" y="771"/>
                      </a:lnTo>
                      <a:lnTo>
                        <a:pt x="130" y="668"/>
                      </a:lnTo>
                      <a:lnTo>
                        <a:pt x="108" y="551"/>
                      </a:lnTo>
                      <a:lnTo>
                        <a:pt x="108" y="459"/>
                      </a:lnTo>
                      <a:lnTo>
                        <a:pt x="130" y="382"/>
                      </a:lnTo>
                      <a:lnTo>
                        <a:pt x="171" y="323"/>
                      </a:lnTo>
                      <a:lnTo>
                        <a:pt x="227" y="281"/>
                      </a:lnTo>
                      <a:lnTo>
                        <a:pt x="286" y="265"/>
                      </a:lnTo>
                      <a:lnTo>
                        <a:pt x="354" y="281"/>
                      </a:lnTo>
                      <a:lnTo>
                        <a:pt x="420" y="318"/>
                      </a:lnTo>
                      <a:lnTo>
                        <a:pt x="466" y="355"/>
                      </a:lnTo>
                      <a:lnTo>
                        <a:pt x="521" y="369"/>
                      </a:lnTo>
                      <a:lnTo>
                        <a:pt x="607" y="362"/>
                      </a:lnTo>
                      <a:lnTo>
                        <a:pt x="655" y="345"/>
                      </a:lnTo>
                      <a:lnTo>
                        <a:pt x="680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926600" y="5199480"/>
                  <a:ext cx="34920" cy="8280"/>
                </a:xfrm>
                <a:custGeom>
                  <a:avLst/>
                  <a:gdLst/>
                  <a:ahLst/>
                  <a:rect l="l" t="t" r="r" b="b"/>
                  <a:pathLst>
                    <a:path w="424" h="83">
                      <a:moveTo>
                        <a:pt x="0" y="42"/>
                      </a:moveTo>
                      <a:lnTo>
                        <a:pt x="74" y="22"/>
                      </a:lnTo>
                      <a:lnTo>
                        <a:pt x="157" y="15"/>
                      </a:lnTo>
                      <a:lnTo>
                        <a:pt x="274" y="15"/>
                      </a:lnTo>
                      <a:lnTo>
                        <a:pt x="338" y="8"/>
                      </a:lnTo>
                      <a:lnTo>
                        <a:pt x="424" y="0"/>
                      </a:lnTo>
                      <a:lnTo>
                        <a:pt x="389" y="46"/>
                      </a:lnTo>
                      <a:lnTo>
                        <a:pt x="300" y="52"/>
                      </a:lnTo>
                      <a:lnTo>
                        <a:pt x="305" y="83"/>
                      </a:lnTo>
                      <a:lnTo>
                        <a:pt x="263" y="52"/>
                      </a:lnTo>
                      <a:lnTo>
                        <a:pt x="204" y="46"/>
                      </a:lnTo>
                      <a:lnTo>
                        <a:pt x="129" y="56"/>
                      </a:lnTo>
                      <a:lnTo>
                        <a:pt x="210" y="28"/>
                      </a:lnTo>
                      <a:lnTo>
                        <a:pt x="134" y="28"/>
                      </a:lnTo>
                      <a:lnTo>
                        <a:pt x="63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4925160" y="5200920"/>
                  <a:ext cx="26280" cy="17640"/>
                </a:xfrm>
                <a:custGeom>
                  <a:avLst/>
                  <a:gdLst/>
                  <a:ahLst/>
                  <a:rect l="l" t="t" r="r" b="b"/>
                  <a:pathLst>
                    <a:path w="318" h="161">
                      <a:moveTo>
                        <a:pt x="0" y="22"/>
                      </a:moveTo>
                      <a:lnTo>
                        <a:pt x="24" y="50"/>
                      </a:lnTo>
                      <a:lnTo>
                        <a:pt x="92" y="74"/>
                      </a:lnTo>
                      <a:lnTo>
                        <a:pt x="138" y="108"/>
                      </a:lnTo>
                      <a:lnTo>
                        <a:pt x="119" y="127"/>
                      </a:lnTo>
                      <a:lnTo>
                        <a:pt x="175" y="161"/>
                      </a:lnTo>
                      <a:lnTo>
                        <a:pt x="237" y="145"/>
                      </a:lnTo>
                      <a:lnTo>
                        <a:pt x="281" y="117"/>
                      </a:lnTo>
                      <a:lnTo>
                        <a:pt x="228" y="108"/>
                      </a:lnTo>
                      <a:lnTo>
                        <a:pt x="318" y="59"/>
                      </a:lnTo>
                      <a:lnTo>
                        <a:pt x="310" y="44"/>
                      </a:lnTo>
                      <a:lnTo>
                        <a:pt x="222" y="97"/>
                      </a:lnTo>
                      <a:lnTo>
                        <a:pt x="175" y="103"/>
                      </a:lnTo>
                      <a:lnTo>
                        <a:pt x="119" y="81"/>
                      </a:lnTo>
                      <a:lnTo>
                        <a:pt x="99" y="53"/>
                      </a:lnTo>
                      <a:lnTo>
                        <a:pt x="156" y="32"/>
                      </a:lnTo>
                      <a:lnTo>
                        <a:pt x="99" y="39"/>
                      </a:lnTo>
                      <a:lnTo>
                        <a:pt x="77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4964400" y="5189040"/>
                  <a:ext cx="27000" cy="8280"/>
                </a:xfrm>
                <a:custGeom>
                  <a:avLst/>
                  <a:gdLst/>
                  <a:ahLst/>
                  <a:rect l="l" t="t" r="r" b="b"/>
                  <a:pathLst>
                    <a:path w="327" h="85">
                      <a:moveTo>
                        <a:pt x="0" y="85"/>
                      </a:moveTo>
                      <a:lnTo>
                        <a:pt x="211" y="0"/>
                      </a:lnTo>
                      <a:lnTo>
                        <a:pt x="269" y="12"/>
                      </a:lnTo>
                      <a:lnTo>
                        <a:pt x="327" y="35"/>
                      </a:lnTo>
                      <a:lnTo>
                        <a:pt x="253" y="28"/>
                      </a:lnTo>
                      <a:lnTo>
                        <a:pt x="200" y="28"/>
                      </a:lnTo>
                      <a:lnTo>
                        <a:pt x="130" y="48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966200" y="519768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261" h="99">
                      <a:moveTo>
                        <a:pt x="0" y="53"/>
                      </a:moveTo>
                      <a:lnTo>
                        <a:pt x="70" y="2"/>
                      </a:lnTo>
                      <a:lnTo>
                        <a:pt x="166" y="0"/>
                      </a:lnTo>
                      <a:lnTo>
                        <a:pt x="261" y="11"/>
                      </a:lnTo>
                      <a:lnTo>
                        <a:pt x="224" y="57"/>
                      </a:lnTo>
                      <a:lnTo>
                        <a:pt x="166" y="85"/>
                      </a:lnTo>
                      <a:lnTo>
                        <a:pt x="116" y="99"/>
                      </a:lnTo>
                      <a:lnTo>
                        <a:pt x="42" y="88"/>
                      </a:lnTo>
                      <a:lnTo>
                        <a:pt x="116" y="88"/>
                      </a:lnTo>
                      <a:lnTo>
                        <a:pt x="193" y="57"/>
                      </a:lnTo>
                      <a:lnTo>
                        <a:pt x="240" y="15"/>
                      </a:lnTo>
                      <a:lnTo>
                        <a:pt x="153" y="11"/>
                      </a:lnTo>
                      <a:lnTo>
                        <a:pt x="83" y="15"/>
                      </a:lnTo>
                      <a:lnTo>
                        <a:pt x="3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960800" y="519264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73" y="11"/>
                      </a:moveTo>
                      <a:lnTo>
                        <a:pt x="248" y="25"/>
                      </a:lnTo>
                      <a:lnTo>
                        <a:pt x="158" y="25"/>
                      </a:lnTo>
                      <a:lnTo>
                        <a:pt x="122" y="63"/>
                      </a:lnTo>
                      <a:lnTo>
                        <a:pt x="74" y="94"/>
                      </a:lnTo>
                      <a:lnTo>
                        <a:pt x="55" y="133"/>
                      </a:lnTo>
                      <a:lnTo>
                        <a:pt x="55" y="186"/>
                      </a:lnTo>
                      <a:lnTo>
                        <a:pt x="74" y="281"/>
                      </a:lnTo>
                      <a:lnTo>
                        <a:pt x="43" y="191"/>
                      </a:lnTo>
                      <a:lnTo>
                        <a:pt x="37" y="142"/>
                      </a:lnTo>
                      <a:lnTo>
                        <a:pt x="34" y="105"/>
                      </a:lnTo>
                      <a:lnTo>
                        <a:pt x="0" y="63"/>
                      </a:lnTo>
                      <a:lnTo>
                        <a:pt x="140" y="21"/>
                      </a:lnTo>
                      <a:lnTo>
                        <a:pt x="204" y="0"/>
                      </a:lnTo>
                      <a:lnTo>
                        <a:pt x="17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4953240" y="5203440"/>
                  <a:ext cx="3600" cy="24480"/>
                </a:xfrm>
                <a:custGeom>
                  <a:avLst/>
                  <a:gdLst/>
                  <a:ahLst/>
                  <a:rect l="l" t="t" r="r" b="b"/>
                  <a:pathLst>
                    <a:path w="48" h="233">
                      <a:moveTo>
                        <a:pt x="0" y="10"/>
                      </a:moveTo>
                      <a:lnTo>
                        <a:pt x="22" y="90"/>
                      </a:lnTo>
                      <a:lnTo>
                        <a:pt x="27" y="153"/>
                      </a:lnTo>
                      <a:lnTo>
                        <a:pt x="39" y="233"/>
                      </a:lnTo>
                      <a:lnTo>
                        <a:pt x="48" y="149"/>
                      </a:lnTo>
                      <a:lnTo>
                        <a:pt x="41" y="85"/>
                      </a:lnTo>
                      <a:lnTo>
                        <a:pt x="35" y="32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969800" y="520704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71" h="55">
                      <a:moveTo>
                        <a:pt x="32" y="11"/>
                      </a:moveTo>
                      <a:lnTo>
                        <a:pt x="0" y="44"/>
                      </a:lnTo>
                      <a:lnTo>
                        <a:pt x="65" y="55"/>
                      </a:lnTo>
                      <a:lnTo>
                        <a:pt x="106" y="44"/>
                      </a:lnTo>
                      <a:lnTo>
                        <a:pt x="171" y="11"/>
                      </a:lnTo>
                      <a:lnTo>
                        <a:pt x="124" y="11"/>
                      </a:lnTo>
                      <a:lnTo>
                        <a:pt x="81" y="0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4907160" y="5206320"/>
                  <a:ext cx="13680" cy="17640"/>
                </a:xfrm>
                <a:custGeom>
                  <a:avLst/>
                  <a:gdLst/>
                  <a:ahLst/>
                  <a:rect l="l" t="t" r="r" b="b"/>
                  <a:pathLst>
                    <a:path w="174" h="170">
                      <a:moveTo>
                        <a:pt x="157" y="30"/>
                      </a:moveTo>
                      <a:lnTo>
                        <a:pt x="88" y="6"/>
                      </a:lnTo>
                      <a:lnTo>
                        <a:pt x="0" y="0"/>
                      </a:lnTo>
                      <a:lnTo>
                        <a:pt x="33" y="20"/>
                      </a:lnTo>
                      <a:lnTo>
                        <a:pt x="51" y="90"/>
                      </a:lnTo>
                      <a:lnTo>
                        <a:pt x="77" y="129"/>
                      </a:lnTo>
                      <a:lnTo>
                        <a:pt x="60" y="78"/>
                      </a:lnTo>
                      <a:lnTo>
                        <a:pt x="70" y="37"/>
                      </a:lnTo>
                      <a:lnTo>
                        <a:pt x="104" y="44"/>
                      </a:lnTo>
                      <a:lnTo>
                        <a:pt x="97" y="78"/>
                      </a:lnTo>
                      <a:lnTo>
                        <a:pt x="108" y="123"/>
                      </a:lnTo>
                      <a:lnTo>
                        <a:pt x="136" y="136"/>
                      </a:lnTo>
                      <a:lnTo>
                        <a:pt x="174" y="170"/>
                      </a:lnTo>
                      <a:lnTo>
                        <a:pt x="157" y="123"/>
                      </a:lnTo>
                      <a:lnTo>
                        <a:pt x="167" y="83"/>
                      </a:lnTo>
                      <a:lnTo>
                        <a:pt x="160" y="59"/>
                      </a:lnTo>
                      <a:lnTo>
                        <a:pt x="15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4997520" y="5188320"/>
                  <a:ext cx="10440" cy="30240"/>
                </a:xfrm>
                <a:custGeom>
                  <a:avLst/>
                  <a:gdLst/>
                  <a:ahLst/>
                  <a:rect l="l" t="t" r="r" b="b"/>
                  <a:pathLst>
                    <a:path w="129" h="292">
                      <a:moveTo>
                        <a:pt x="0" y="116"/>
                      </a:moveTo>
                      <a:lnTo>
                        <a:pt x="23" y="109"/>
                      </a:lnTo>
                      <a:lnTo>
                        <a:pt x="63" y="55"/>
                      </a:lnTo>
                      <a:lnTo>
                        <a:pt x="116" y="0"/>
                      </a:lnTo>
                      <a:lnTo>
                        <a:pt x="104" y="46"/>
                      </a:lnTo>
                      <a:lnTo>
                        <a:pt x="129" y="90"/>
                      </a:lnTo>
                      <a:lnTo>
                        <a:pt x="129" y="147"/>
                      </a:lnTo>
                      <a:lnTo>
                        <a:pt x="104" y="199"/>
                      </a:lnTo>
                      <a:lnTo>
                        <a:pt x="116" y="136"/>
                      </a:lnTo>
                      <a:lnTo>
                        <a:pt x="113" y="105"/>
                      </a:lnTo>
                      <a:lnTo>
                        <a:pt x="83" y="76"/>
                      </a:lnTo>
                      <a:lnTo>
                        <a:pt x="69" y="109"/>
                      </a:lnTo>
                      <a:lnTo>
                        <a:pt x="92" y="147"/>
                      </a:lnTo>
                      <a:lnTo>
                        <a:pt x="83" y="184"/>
                      </a:lnTo>
                      <a:lnTo>
                        <a:pt x="54" y="199"/>
                      </a:lnTo>
                      <a:lnTo>
                        <a:pt x="37" y="228"/>
                      </a:lnTo>
                      <a:lnTo>
                        <a:pt x="19" y="292"/>
                      </a:lnTo>
                      <a:lnTo>
                        <a:pt x="17" y="237"/>
                      </a:lnTo>
                      <a:lnTo>
                        <a:pt x="30" y="184"/>
                      </a:lnTo>
                      <a:lnTo>
                        <a:pt x="19" y="164"/>
                      </a:lnTo>
                      <a:lnTo>
                        <a:pt x="0" y="143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4937760" y="520344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9" h="63">
                      <a:moveTo>
                        <a:pt x="0" y="14"/>
                      </a:moveTo>
                      <a:lnTo>
                        <a:pt x="16" y="46"/>
                      </a:lnTo>
                      <a:lnTo>
                        <a:pt x="42" y="63"/>
                      </a:lnTo>
                      <a:lnTo>
                        <a:pt x="81" y="50"/>
                      </a:lnTo>
                      <a:lnTo>
                        <a:pt x="99" y="32"/>
                      </a:lnTo>
                      <a:lnTo>
                        <a:pt x="99" y="0"/>
                      </a:lnTo>
                      <a:lnTo>
                        <a:pt x="64" y="4"/>
                      </a:lnTo>
                      <a:lnTo>
                        <a:pt x="69" y="21"/>
                      </a:lnTo>
                      <a:lnTo>
                        <a:pt x="53" y="35"/>
                      </a:lnTo>
                      <a:lnTo>
                        <a:pt x="42" y="26"/>
                      </a:lnTo>
                      <a:lnTo>
                        <a:pt x="37" y="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4973040" y="519768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92" h="61">
                      <a:moveTo>
                        <a:pt x="0" y="17"/>
                      </a:moveTo>
                      <a:lnTo>
                        <a:pt x="9" y="55"/>
                      </a:lnTo>
                      <a:lnTo>
                        <a:pt x="42" y="61"/>
                      </a:lnTo>
                      <a:lnTo>
                        <a:pt x="74" y="51"/>
                      </a:lnTo>
                      <a:lnTo>
                        <a:pt x="92" y="31"/>
                      </a:lnTo>
                      <a:lnTo>
                        <a:pt x="86" y="0"/>
                      </a:lnTo>
                      <a:lnTo>
                        <a:pt x="64" y="0"/>
                      </a:lnTo>
                      <a:lnTo>
                        <a:pt x="60" y="33"/>
                      </a:lnTo>
                      <a:lnTo>
                        <a:pt x="37" y="33"/>
                      </a:lnTo>
                      <a:lnTo>
                        <a:pt x="27" y="1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4947120" y="5226480"/>
                  <a:ext cx="30960" cy="21240"/>
                </a:xfrm>
                <a:custGeom>
                  <a:avLst/>
                  <a:gdLst/>
                  <a:ahLst/>
                  <a:rect l="l" t="t" r="r" b="b"/>
                  <a:pathLst>
                    <a:path w="374" h="198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0" y="79"/>
                      </a:lnTo>
                      <a:lnTo>
                        <a:pt x="26" y="90"/>
                      </a:lnTo>
                      <a:lnTo>
                        <a:pt x="46" y="132"/>
                      </a:lnTo>
                      <a:lnTo>
                        <a:pt x="127" y="163"/>
                      </a:lnTo>
                      <a:lnTo>
                        <a:pt x="199" y="198"/>
                      </a:lnTo>
                      <a:lnTo>
                        <a:pt x="235" y="198"/>
                      </a:lnTo>
                      <a:lnTo>
                        <a:pt x="305" y="120"/>
                      </a:lnTo>
                      <a:lnTo>
                        <a:pt x="360" y="90"/>
                      </a:lnTo>
                      <a:lnTo>
                        <a:pt x="374" y="37"/>
                      </a:lnTo>
                      <a:lnTo>
                        <a:pt x="365" y="22"/>
                      </a:lnTo>
                      <a:lnTo>
                        <a:pt x="342" y="0"/>
                      </a:lnTo>
                      <a:lnTo>
                        <a:pt x="354" y="25"/>
                      </a:lnTo>
                      <a:lnTo>
                        <a:pt x="347" y="46"/>
                      </a:lnTo>
                      <a:lnTo>
                        <a:pt x="325" y="46"/>
                      </a:lnTo>
                      <a:lnTo>
                        <a:pt x="285" y="69"/>
                      </a:lnTo>
                      <a:lnTo>
                        <a:pt x="261" y="97"/>
                      </a:lnTo>
                      <a:lnTo>
                        <a:pt x="235" y="120"/>
                      </a:lnTo>
                      <a:lnTo>
                        <a:pt x="187" y="127"/>
                      </a:lnTo>
                      <a:lnTo>
                        <a:pt x="141" y="117"/>
                      </a:lnTo>
                      <a:lnTo>
                        <a:pt x="107" y="97"/>
                      </a:lnTo>
                      <a:lnTo>
                        <a:pt x="63" y="79"/>
                      </a:lnTo>
                      <a:lnTo>
                        <a:pt x="26" y="79"/>
                      </a:lnTo>
                      <a:lnTo>
                        <a:pt x="8" y="60"/>
                      </a:lnTo>
                      <a:lnTo>
                        <a:pt x="15" y="3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4944240" y="5246640"/>
                  <a:ext cx="42840" cy="9360"/>
                </a:xfrm>
                <a:custGeom>
                  <a:avLst/>
                  <a:gdLst/>
                  <a:ahLst/>
                  <a:rect l="l" t="t" r="r" b="b"/>
                  <a:pathLst>
                    <a:path w="520" h="90">
                      <a:moveTo>
                        <a:pt x="48" y="60"/>
                      </a:moveTo>
                      <a:lnTo>
                        <a:pt x="101" y="40"/>
                      </a:lnTo>
                      <a:lnTo>
                        <a:pt x="174" y="23"/>
                      </a:lnTo>
                      <a:lnTo>
                        <a:pt x="259" y="24"/>
                      </a:lnTo>
                      <a:lnTo>
                        <a:pt x="343" y="7"/>
                      </a:lnTo>
                      <a:lnTo>
                        <a:pt x="488" y="23"/>
                      </a:lnTo>
                      <a:lnTo>
                        <a:pt x="511" y="0"/>
                      </a:lnTo>
                      <a:lnTo>
                        <a:pt x="520" y="31"/>
                      </a:lnTo>
                      <a:lnTo>
                        <a:pt x="501" y="46"/>
                      </a:lnTo>
                      <a:lnTo>
                        <a:pt x="477" y="31"/>
                      </a:lnTo>
                      <a:lnTo>
                        <a:pt x="417" y="24"/>
                      </a:lnTo>
                      <a:lnTo>
                        <a:pt x="327" y="46"/>
                      </a:lnTo>
                      <a:lnTo>
                        <a:pt x="253" y="64"/>
                      </a:lnTo>
                      <a:lnTo>
                        <a:pt x="128" y="60"/>
                      </a:lnTo>
                      <a:lnTo>
                        <a:pt x="41" y="70"/>
                      </a:lnTo>
                      <a:lnTo>
                        <a:pt x="20" y="90"/>
                      </a:lnTo>
                      <a:lnTo>
                        <a:pt x="0" y="79"/>
                      </a:lnTo>
                      <a:lnTo>
                        <a:pt x="4" y="53"/>
                      </a:lnTo>
                      <a:lnTo>
                        <a:pt x="27" y="46"/>
                      </a:lnTo>
                      <a:lnTo>
                        <a:pt x="48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4953600" y="5258880"/>
                  <a:ext cx="23760" cy="10080"/>
                </a:xfrm>
                <a:custGeom>
                  <a:avLst/>
                  <a:gdLst/>
                  <a:ahLst/>
                  <a:rect l="l" t="t" r="r" b="b"/>
                  <a:pathLst>
                    <a:path w="286" h="94">
                      <a:moveTo>
                        <a:pt x="0" y="22"/>
                      </a:moveTo>
                      <a:lnTo>
                        <a:pt x="64" y="31"/>
                      </a:lnTo>
                      <a:lnTo>
                        <a:pt x="123" y="31"/>
                      </a:lnTo>
                      <a:lnTo>
                        <a:pt x="194" y="26"/>
                      </a:lnTo>
                      <a:lnTo>
                        <a:pt x="286" y="0"/>
                      </a:lnTo>
                      <a:lnTo>
                        <a:pt x="231" y="46"/>
                      </a:lnTo>
                      <a:lnTo>
                        <a:pt x="244" y="83"/>
                      </a:lnTo>
                      <a:lnTo>
                        <a:pt x="171" y="83"/>
                      </a:lnTo>
                      <a:lnTo>
                        <a:pt x="64" y="94"/>
                      </a:lnTo>
                      <a:lnTo>
                        <a:pt x="70" y="6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4923720" y="5225040"/>
                  <a:ext cx="75600" cy="64080"/>
                </a:xfrm>
                <a:custGeom>
                  <a:avLst/>
                  <a:gdLst/>
                  <a:ahLst/>
                  <a:rect l="l" t="t" r="r" b="b"/>
                  <a:pathLst>
                    <a:path w="911" h="609">
                      <a:moveTo>
                        <a:pt x="0" y="83"/>
                      </a:moveTo>
                      <a:lnTo>
                        <a:pt x="96" y="339"/>
                      </a:lnTo>
                      <a:lnTo>
                        <a:pt x="157" y="438"/>
                      </a:lnTo>
                      <a:lnTo>
                        <a:pt x="226" y="498"/>
                      </a:lnTo>
                      <a:lnTo>
                        <a:pt x="304" y="546"/>
                      </a:lnTo>
                      <a:lnTo>
                        <a:pt x="394" y="576"/>
                      </a:lnTo>
                      <a:lnTo>
                        <a:pt x="487" y="609"/>
                      </a:lnTo>
                      <a:lnTo>
                        <a:pt x="570" y="609"/>
                      </a:lnTo>
                      <a:lnTo>
                        <a:pt x="669" y="581"/>
                      </a:lnTo>
                      <a:lnTo>
                        <a:pt x="735" y="535"/>
                      </a:lnTo>
                      <a:lnTo>
                        <a:pt x="793" y="464"/>
                      </a:lnTo>
                      <a:lnTo>
                        <a:pt x="848" y="374"/>
                      </a:lnTo>
                      <a:lnTo>
                        <a:pt x="883" y="288"/>
                      </a:lnTo>
                      <a:lnTo>
                        <a:pt x="898" y="183"/>
                      </a:lnTo>
                      <a:lnTo>
                        <a:pt x="911" y="0"/>
                      </a:lnTo>
                      <a:lnTo>
                        <a:pt x="892" y="14"/>
                      </a:lnTo>
                      <a:lnTo>
                        <a:pt x="869" y="265"/>
                      </a:lnTo>
                      <a:lnTo>
                        <a:pt x="839" y="353"/>
                      </a:lnTo>
                      <a:lnTo>
                        <a:pt x="793" y="434"/>
                      </a:lnTo>
                      <a:lnTo>
                        <a:pt x="724" y="517"/>
                      </a:lnTo>
                      <a:lnTo>
                        <a:pt x="659" y="558"/>
                      </a:lnTo>
                      <a:lnTo>
                        <a:pt x="659" y="528"/>
                      </a:lnTo>
                      <a:lnTo>
                        <a:pt x="595" y="551"/>
                      </a:lnTo>
                      <a:lnTo>
                        <a:pt x="511" y="557"/>
                      </a:lnTo>
                      <a:lnTo>
                        <a:pt x="450" y="551"/>
                      </a:lnTo>
                      <a:lnTo>
                        <a:pt x="392" y="528"/>
                      </a:lnTo>
                      <a:lnTo>
                        <a:pt x="408" y="558"/>
                      </a:lnTo>
                      <a:lnTo>
                        <a:pt x="293" y="524"/>
                      </a:lnTo>
                      <a:lnTo>
                        <a:pt x="203" y="445"/>
                      </a:lnTo>
                      <a:lnTo>
                        <a:pt x="138" y="368"/>
                      </a:lnTo>
                      <a:lnTo>
                        <a:pt x="90" y="279"/>
                      </a:lnTo>
                      <a:lnTo>
                        <a:pt x="10" y="74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4930560" y="5234040"/>
                  <a:ext cx="15120" cy="29520"/>
                </a:xfrm>
                <a:custGeom>
                  <a:avLst/>
                  <a:gdLst/>
                  <a:ahLst/>
                  <a:rect l="l" t="t" r="r" b="b"/>
                  <a:pathLst>
                    <a:path w="187" h="278">
                      <a:moveTo>
                        <a:pt x="22" y="58"/>
                      </a:moveTo>
                      <a:lnTo>
                        <a:pt x="97" y="53"/>
                      </a:lnTo>
                      <a:lnTo>
                        <a:pt x="134" y="36"/>
                      </a:lnTo>
                      <a:lnTo>
                        <a:pt x="187" y="0"/>
                      </a:lnTo>
                      <a:lnTo>
                        <a:pt x="157" y="58"/>
                      </a:lnTo>
                      <a:lnTo>
                        <a:pt x="111" y="117"/>
                      </a:lnTo>
                      <a:lnTo>
                        <a:pt x="118" y="181"/>
                      </a:lnTo>
                      <a:lnTo>
                        <a:pt x="163" y="278"/>
                      </a:lnTo>
                      <a:lnTo>
                        <a:pt x="111" y="207"/>
                      </a:lnTo>
                      <a:lnTo>
                        <a:pt x="77" y="133"/>
                      </a:lnTo>
                      <a:lnTo>
                        <a:pt x="40" y="117"/>
                      </a:lnTo>
                      <a:lnTo>
                        <a:pt x="0" y="64"/>
                      </a:lnTo>
                      <a:lnTo>
                        <a:pt x="2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4979520" y="523008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56" h="222">
                      <a:moveTo>
                        <a:pt x="0" y="0"/>
                      </a:moveTo>
                      <a:lnTo>
                        <a:pt x="31" y="29"/>
                      </a:lnTo>
                      <a:lnTo>
                        <a:pt x="94" y="68"/>
                      </a:lnTo>
                      <a:lnTo>
                        <a:pt x="112" y="94"/>
                      </a:lnTo>
                      <a:lnTo>
                        <a:pt x="124" y="140"/>
                      </a:lnTo>
                      <a:lnTo>
                        <a:pt x="117" y="222"/>
                      </a:lnTo>
                      <a:lnTo>
                        <a:pt x="134" y="136"/>
                      </a:lnTo>
                      <a:lnTo>
                        <a:pt x="156" y="46"/>
                      </a:lnTo>
                      <a:lnTo>
                        <a:pt x="156" y="9"/>
                      </a:lnTo>
                      <a:lnTo>
                        <a:pt x="88" y="13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5159880" y="5359680"/>
                  <a:ext cx="54360" cy="30240"/>
                </a:xfrm>
                <a:custGeom>
                  <a:avLst/>
                  <a:gdLst/>
                  <a:ahLst/>
                  <a:rect l="l" t="t" r="r" b="b"/>
                  <a:pathLst>
                    <a:path w="652" h="291">
                      <a:moveTo>
                        <a:pt x="50" y="0"/>
                      </a:moveTo>
                      <a:lnTo>
                        <a:pt x="59" y="44"/>
                      </a:lnTo>
                      <a:lnTo>
                        <a:pt x="59" y="85"/>
                      </a:lnTo>
                      <a:lnTo>
                        <a:pt x="34" y="126"/>
                      </a:lnTo>
                      <a:lnTo>
                        <a:pt x="0" y="152"/>
                      </a:lnTo>
                      <a:lnTo>
                        <a:pt x="136" y="291"/>
                      </a:lnTo>
                      <a:lnTo>
                        <a:pt x="294" y="192"/>
                      </a:lnTo>
                      <a:lnTo>
                        <a:pt x="384" y="291"/>
                      </a:lnTo>
                      <a:lnTo>
                        <a:pt x="452" y="233"/>
                      </a:lnTo>
                      <a:lnTo>
                        <a:pt x="583" y="152"/>
                      </a:lnTo>
                      <a:lnTo>
                        <a:pt x="652" y="69"/>
                      </a:lnTo>
                      <a:lnTo>
                        <a:pt x="553" y="152"/>
                      </a:lnTo>
                      <a:lnTo>
                        <a:pt x="410" y="210"/>
                      </a:lnTo>
                      <a:lnTo>
                        <a:pt x="343" y="159"/>
                      </a:lnTo>
                      <a:lnTo>
                        <a:pt x="184" y="159"/>
                      </a:lnTo>
                      <a:lnTo>
                        <a:pt x="94" y="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5181840" y="5235840"/>
                  <a:ext cx="34920" cy="46440"/>
                </a:xfrm>
                <a:custGeom>
                  <a:avLst/>
                  <a:gdLst/>
                  <a:ahLst/>
                  <a:rect l="l" t="t" r="r" b="b"/>
                  <a:pathLst>
                    <a:path w="419" h="442">
                      <a:moveTo>
                        <a:pt x="36" y="0"/>
                      </a:moveTo>
                      <a:lnTo>
                        <a:pt x="134" y="35"/>
                      </a:lnTo>
                      <a:lnTo>
                        <a:pt x="260" y="13"/>
                      </a:lnTo>
                      <a:lnTo>
                        <a:pt x="382" y="42"/>
                      </a:lnTo>
                      <a:lnTo>
                        <a:pt x="396" y="0"/>
                      </a:lnTo>
                      <a:lnTo>
                        <a:pt x="419" y="92"/>
                      </a:lnTo>
                      <a:lnTo>
                        <a:pt x="419" y="189"/>
                      </a:lnTo>
                      <a:lnTo>
                        <a:pt x="403" y="334"/>
                      </a:lnTo>
                      <a:lnTo>
                        <a:pt x="373" y="442"/>
                      </a:lnTo>
                      <a:lnTo>
                        <a:pt x="396" y="316"/>
                      </a:lnTo>
                      <a:lnTo>
                        <a:pt x="396" y="260"/>
                      </a:lnTo>
                      <a:lnTo>
                        <a:pt x="290" y="327"/>
                      </a:lnTo>
                      <a:lnTo>
                        <a:pt x="269" y="327"/>
                      </a:lnTo>
                      <a:lnTo>
                        <a:pt x="260" y="308"/>
                      </a:lnTo>
                      <a:lnTo>
                        <a:pt x="359" y="202"/>
                      </a:lnTo>
                      <a:lnTo>
                        <a:pt x="352" y="145"/>
                      </a:lnTo>
                      <a:lnTo>
                        <a:pt x="246" y="214"/>
                      </a:lnTo>
                      <a:lnTo>
                        <a:pt x="274" y="165"/>
                      </a:lnTo>
                      <a:lnTo>
                        <a:pt x="260" y="154"/>
                      </a:lnTo>
                      <a:lnTo>
                        <a:pt x="253" y="110"/>
                      </a:lnTo>
                      <a:lnTo>
                        <a:pt x="218" y="110"/>
                      </a:lnTo>
                      <a:lnTo>
                        <a:pt x="154" y="175"/>
                      </a:lnTo>
                      <a:lnTo>
                        <a:pt x="134" y="175"/>
                      </a:lnTo>
                      <a:lnTo>
                        <a:pt x="134" y="141"/>
                      </a:lnTo>
                      <a:lnTo>
                        <a:pt x="163" y="103"/>
                      </a:lnTo>
                      <a:lnTo>
                        <a:pt x="62" y="79"/>
                      </a:lnTo>
                      <a:lnTo>
                        <a:pt x="62" y="117"/>
                      </a:lnTo>
                      <a:lnTo>
                        <a:pt x="90" y="161"/>
                      </a:lnTo>
                      <a:lnTo>
                        <a:pt x="29" y="117"/>
                      </a:lnTo>
                      <a:lnTo>
                        <a:pt x="0" y="55"/>
                      </a:lnTo>
                      <a:lnTo>
                        <a:pt x="7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5191200" y="525636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96" h="60">
                      <a:moveTo>
                        <a:pt x="13" y="0"/>
                      </a:moveTo>
                      <a:lnTo>
                        <a:pt x="96" y="35"/>
                      </a:lnTo>
                      <a:lnTo>
                        <a:pt x="96" y="57"/>
                      </a:lnTo>
                      <a:lnTo>
                        <a:pt x="72" y="60"/>
                      </a:lnTo>
                      <a:lnTo>
                        <a:pt x="4" y="29"/>
                      </a:lnTo>
                      <a:lnTo>
                        <a:pt x="0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5217480" y="520884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655" h="483">
                      <a:moveTo>
                        <a:pt x="0" y="132"/>
                      </a:moveTo>
                      <a:lnTo>
                        <a:pt x="41" y="279"/>
                      </a:lnTo>
                      <a:lnTo>
                        <a:pt x="103" y="351"/>
                      </a:lnTo>
                      <a:lnTo>
                        <a:pt x="103" y="473"/>
                      </a:lnTo>
                      <a:lnTo>
                        <a:pt x="161" y="362"/>
                      </a:lnTo>
                      <a:lnTo>
                        <a:pt x="364" y="483"/>
                      </a:lnTo>
                      <a:lnTo>
                        <a:pt x="521" y="376"/>
                      </a:lnTo>
                      <a:lnTo>
                        <a:pt x="352" y="376"/>
                      </a:lnTo>
                      <a:lnTo>
                        <a:pt x="297" y="356"/>
                      </a:lnTo>
                      <a:lnTo>
                        <a:pt x="224" y="356"/>
                      </a:lnTo>
                      <a:lnTo>
                        <a:pt x="217" y="332"/>
                      </a:lnTo>
                      <a:lnTo>
                        <a:pt x="329" y="314"/>
                      </a:lnTo>
                      <a:lnTo>
                        <a:pt x="329" y="259"/>
                      </a:lnTo>
                      <a:lnTo>
                        <a:pt x="391" y="224"/>
                      </a:lnTo>
                      <a:lnTo>
                        <a:pt x="323" y="224"/>
                      </a:lnTo>
                      <a:lnTo>
                        <a:pt x="308" y="208"/>
                      </a:lnTo>
                      <a:lnTo>
                        <a:pt x="426" y="160"/>
                      </a:lnTo>
                      <a:lnTo>
                        <a:pt x="479" y="107"/>
                      </a:lnTo>
                      <a:lnTo>
                        <a:pt x="631" y="169"/>
                      </a:lnTo>
                      <a:lnTo>
                        <a:pt x="655" y="160"/>
                      </a:lnTo>
                      <a:lnTo>
                        <a:pt x="527" y="0"/>
                      </a:lnTo>
                      <a:lnTo>
                        <a:pt x="479" y="0"/>
                      </a:lnTo>
                      <a:lnTo>
                        <a:pt x="290" y="99"/>
                      </a:lnTo>
                      <a:lnTo>
                        <a:pt x="140" y="187"/>
                      </a:lnTo>
                      <a:lnTo>
                        <a:pt x="134" y="238"/>
                      </a:lnTo>
                      <a:lnTo>
                        <a:pt x="90" y="245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5248080" y="523224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0" y="0"/>
                      </a:moveTo>
                      <a:lnTo>
                        <a:pt x="34" y="65"/>
                      </a:lnTo>
                      <a:lnTo>
                        <a:pt x="20" y="81"/>
                      </a:lnTo>
                      <a:lnTo>
                        <a:pt x="176" y="72"/>
                      </a:lnTo>
                      <a:lnTo>
                        <a:pt x="191" y="50"/>
                      </a:lnTo>
                      <a:lnTo>
                        <a:pt x="101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5212800" y="5283360"/>
                  <a:ext cx="32400" cy="24480"/>
                </a:xfrm>
                <a:custGeom>
                  <a:avLst/>
                  <a:gdLst/>
                  <a:ahLst/>
                  <a:rect l="l" t="t" r="r" b="b"/>
                  <a:pathLst>
                    <a:path w="396" h="226">
                      <a:moveTo>
                        <a:pt x="0" y="41"/>
                      </a:moveTo>
                      <a:lnTo>
                        <a:pt x="69" y="83"/>
                      </a:lnTo>
                      <a:lnTo>
                        <a:pt x="136" y="83"/>
                      </a:lnTo>
                      <a:lnTo>
                        <a:pt x="228" y="14"/>
                      </a:lnTo>
                      <a:lnTo>
                        <a:pt x="297" y="0"/>
                      </a:lnTo>
                      <a:lnTo>
                        <a:pt x="302" y="14"/>
                      </a:lnTo>
                      <a:lnTo>
                        <a:pt x="339" y="26"/>
                      </a:lnTo>
                      <a:lnTo>
                        <a:pt x="396" y="14"/>
                      </a:lnTo>
                      <a:lnTo>
                        <a:pt x="359" y="63"/>
                      </a:lnTo>
                      <a:lnTo>
                        <a:pt x="219" y="109"/>
                      </a:lnTo>
                      <a:lnTo>
                        <a:pt x="214" y="180"/>
                      </a:lnTo>
                      <a:lnTo>
                        <a:pt x="168" y="226"/>
                      </a:lnTo>
                      <a:lnTo>
                        <a:pt x="99" y="118"/>
                      </a:lnTo>
                      <a:lnTo>
                        <a:pt x="46" y="104"/>
                      </a:lnTo>
                      <a:lnTo>
                        <a:pt x="0" y="6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5230800" y="5270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155" h="58">
                      <a:moveTo>
                        <a:pt x="0" y="58"/>
                      </a:moveTo>
                      <a:lnTo>
                        <a:pt x="106" y="32"/>
                      </a:lnTo>
                      <a:lnTo>
                        <a:pt x="155" y="44"/>
                      </a:lnTo>
                      <a:lnTo>
                        <a:pt x="106" y="0"/>
                      </a:lnTo>
                      <a:lnTo>
                        <a:pt x="4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5245560" y="5278320"/>
                  <a:ext cx="27000" cy="48240"/>
                </a:xfrm>
                <a:custGeom>
                  <a:avLst/>
                  <a:gdLst/>
                  <a:ahLst/>
                  <a:rect l="l" t="t" r="r" b="b"/>
                  <a:pathLst>
                    <a:path w="323" h="453">
                      <a:moveTo>
                        <a:pt x="0" y="0"/>
                      </a:moveTo>
                      <a:lnTo>
                        <a:pt x="7" y="54"/>
                      </a:lnTo>
                      <a:lnTo>
                        <a:pt x="84" y="119"/>
                      </a:lnTo>
                      <a:lnTo>
                        <a:pt x="169" y="229"/>
                      </a:lnTo>
                      <a:lnTo>
                        <a:pt x="99" y="275"/>
                      </a:lnTo>
                      <a:lnTo>
                        <a:pt x="209" y="453"/>
                      </a:lnTo>
                      <a:lnTo>
                        <a:pt x="282" y="453"/>
                      </a:lnTo>
                      <a:lnTo>
                        <a:pt x="323" y="299"/>
                      </a:lnTo>
                      <a:lnTo>
                        <a:pt x="308" y="250"/>
                      </a:lnTo>
                      <a:lnTo>
                        <a:pt x="224" y="222"/>
                      </a:lnTo>
                      <a:lnTo>
                        <a:pt x="205" y="119"/>
                      </a:lnTo>
                      <a:lnTo>
                        <a:pt x="104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5188320" y="5260320"/>
                  <a:ext cx="33480" cy="87840"/>
                </a:xfrm>
                <a:custGeom>
                  <a:avLst/>
                  <a:gdLst/>
                  <a:ahLst/>
                  <a:rect l="l" t="t" r="r" b="b"/>
                  <a:pathLst>
                    <a:path w="411" h="827">
                      <a:moveTo>
                        <a:pt x="290" y="272"/>
                      </a:moveTo>
                      <a:lnTo>
                        <a:pt x="197" y="272"/>
                      </a:lnTo>
                      <a:lnTo>
                        <a:pt x="121" y="230"/>
                      </a:lnTo>
                      <a:lnTo>
                        <a:pt x="51" y="167"/>
                      </a:lnTo>
                      <a:lnTo>
                        <a:pt x="0" y="0"/>
                      </a:lnTo>
                      <a:lnTo>
                        <a:pt x="29" y="193"/>
                      </a:lnTo>
                      <a:lnTo>
                        <a:pt x="160" y="378"/>
                      </a:lnTo>
                      <a:lnTo>
                        <a:pt x="282" y="629"/>
                      </a:lnTo>
                      <a:lnTo>
                        <a:pt x="342" y="708"/>
                      </a:lnTo>
                      <a:lnTo>
                        <a:pt x="395" y="827"/>
                      </a:lnTo>
                      <a:lnTo>
                        <a:pt x="354" y="636"/>
                      </a:lnTo>
                      <a:lnTo>
                        <a:pt x="411" y="609"/>
                      </a:lnTo>
                      <a:lnTo>
                        <a:pt x="354" y="565"/>
                      </a:lnTo>
                      <a:lnTo>
                        <a:pt x="354" y="530"/>
                      </a:lnTo>
                      <a:lnTo>
                        <a:pt x="386" y="507"/>
                      </a:lnTo>
                      <a:lnTo>
                        <a:pt x="319" y="523"/>
                      </a:lnTo>
                      <a:lnTo>
                        <a:pt x="282" y="507"/>
                      </a:lnTo>
                      <a:lnTo>
                        <a:pt x="268" y="466"/>
                      </a:lnTo>
                      <a:lnTo>
                        <a:pt x="268" y="356"/>
                      </a:lnTo>
                      <a:lnTo>
                        <a:pt x="290" y="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5224320" y="5306040"/>
                  <a:ext cx="30960" cy="7560"/>
                </a:xfrm>
                <a:custGeom>
                  <a:avLst/>
                  <a:gdLst/>
                  <a:ahLst/>
                  <a:rect l="l" t="t" r="r" b="b"/>
                  <a:pathLst>
                    <a:path w="381" h="76">
                      <a:moveTo>
                        <a:pt x="0" y="76"/>
                      </a:moveTo>
                      <a:lnTo>
                        <a:pt x="175" y="40"/>
                      </a:lnTo>
                      <a:lnTo>
                        <a:pt x="260" y="0"/>
                      </a:lnTo>
                      <a:lnTo>
                        <a:pt x="313" y="0"/>
                      </a:lnTo>
                      <a:lnTo>
                        <a:pt x="381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5226840" y="531648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316" h="191">
                      <a:moveTo>
                        <a:pt x="0" y="79"/>
                      </a:moveTo>
                      <a:lnTo>
                        <a:pt x="242" y="26"/>
                      </a:lnTo>
                      <a:lnTo>
                        <a:pt x="295" y="0"/>
                      </a:lnTo>
                      <a:lnTo>
                        <a:pt x="303" y="19"/>
                      </a:lnTo>
                      <a:lnTo>
                        <a:pt x="219" y="64"/>
                      </a:lnTo>
                      <a:lnTo>
                        <a:pt x="235" y="112"/>
                      </a:lnTo>
                      <a:lnTo>
                        <a:pt x="316" y="191"/>
                      </a:lnTo>
                      <a:lnTo>
                        <a:pt x="228" y="162"/>
                      </a:lnTo>
                      <a:lnTo>
                        <a:pt x="150" y="162"/>
                      </a:lnTo>
                      <a:lnTo>
                        <a:pt x="72" y="182"/>
                      </a:lnTo>
                      <a:lnTo>
                        <a:pt x="46" y="191"/>
                      </a:lnTo>
                      <a:lnTo>
                        <a:pt x="60" y="156"/>
                      </a:lnTo>
                      <a:lnTo>
                        <a:pt x="24" y="9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5161320" y="5128920"/>
                  <a:ext cx="141840" cy="109080"/>
                </a:xfrm>
                <a:custGeom>
                  <a:avLst/>
                  <a:gdLst/>
                  <a:ahLst/>
                  <a:rect l="l" t="t" r="r" b="b"/>
                  <a:pathLst>
                    <a:path w="1704" h="1028">
                      <a:moveTo>
                        <a:pt x="159" y="340"/>
                      </a:moveTo>
                      <a:lnTo>
                        <a:pt x="122" y="404"/>
                      </a:lnTo>
                      <a:lnTo>
                        <a:pt x="0" y="551"/>
                      </a:lnTo>
                      <a:lnTo>
                        <a:pt x="0" y="609"/>
                      </a:lnTo>
                      <a:lnTo>
                        <a:pt x="76" y="749"/>
                      </a:lnTo>
                      <a:lnTo>
                        <a:pt x="48" y="874"/>
                      </a:lnTo>
                      <a:lnTo>
                        <a:pt x="111" y="978"/>
                      </a:lnTo>
                      <a:lnTo>
                        <a:pt x="245" y="987"/>
                      </a:lnTo>
                      <a:lnTo>
                        <a:pt x="286" y="1028"/>
                      </a:lnTo>
                      <a:lnTo>
                        <a:pt x="252" y="692"/>
                      </a:lnTo>
                      <a:lnTo>
                        <a:pt x="252" y="588"/>
                      </a:lnTo>
                      <a:lnTo>
                        <a:pt x="265" y="507"/>
                      </a:lnTo>
                      <a:lnTo>
                        <a:pt x="286" y="457"/>
                      </a:lnTo>
                      <a:lnTo>
                        <a:pt x="408" y="507"/>
                      </a:lnTo>
                      <a:lnTo>
                        <a:pt x="555" y="529"/>
                      </a:lnTo>
                      <a:lnTo>
                        <a:pt x="738" y="529"/>
                      </a:lnTo>
                      <a:lnTo>
                        <a:pt x="966" y="507"/>
                      </a:lnTo>
                      <a:lnTo>
                        <a:pt x="851" y="503"/>
                      </a:lnTo>
                      <a:lnTo>
                        <a:pt x="708" y="434"/>
                      </a:lnTo>
                      <a:lnTo>
                        <a:pt x="865" y="441"/>
                      </a:lnTo>
                      <a:lnTo>
                        <a:pt x="992" y="434"/>
                      </a:lnTo>
                      <a:lnTo>
                        <a:pt x="1162" y="397"/>
                      </a:lnTo>
                      <a:lnTo>
                        <a:pt x="1280" y="349"/>
                      </a:lnTo>
                      <a:lnTo>
                        <a:pt x="1441" y="334"/>
                      </a:lnTo>
                      <a:lnTo>
                        <a:pt x="1513" y="362"/>
                      </a:lnTo>
                      <a:lnTo>
                        <a:pt x="1586" y="397"/>
                      </a:lnTo>
                      <a:lnTo>
                        <a:pt x="1644" y="397"/>
                      </a:lnTo>
                      <a:lnTo>
                        <a:pt x="1704" y="362"/>
                      </a:lnTo>
                      <a:lnTo>
                        <a:pt x="1634" y="272"/>
                      </a:lnTo>
                      <a:lnTo>
                        <a:pt x="1526" y="286"/>
                      </a:lnTo>
                      <a:lnTo>
                        <a:pt x="1441" y="259"/>
                      </a:lnTo>
                      <a:lnTo>
                        <a:pt x="1358" y="250"/>
                      </a:lnTo>
                      <a:lnTo>
                        <a:pt x="1280" y="279"/>
                      </a:lnTo>
                      <a:lnTo>
                        <a:pt x="1139" y="340"/>
                      </a:lnTo>
                      <a:lnTo>
                        <a:pt x="1014" y="371"/>
                      </a:lnTo>
                      <a:lnTo>
                        <a:pt x="878" y="378"/>
                      </a:lnTo>
                      <a:lnTo>
                        <a:pt x="766" y="384"/>
                      </a:lnTo>
                      <a:lnTo>
                        <a:pt x="590" y="362"/>
                      </a:lnTo>
                      <a:lnTo>
                        <a:pt x="696" y="334"/>
                      </a:lnTo>
                      <a:lnTo>
                        <a:pt x="570" y="318"/>
                      </a:lnTo>
                      <a:lnTo>
                        <a:pt x="443" y="291"/>
                      </a:lnTo>
                      <a:lnTo>
                        <a:pt x="379" y="265"/>
                      </a:lnTo>
                      <a:lnTo>
                        <a:pt x="482" y="226"/>
                      </a:lnTo>
                      <a:lnTo>
                        <a:pt x="300" y="201"/>
                      </a:lnTo>
                      <a:lnTo>
                        <a:pt x="265" y="173"/>
                      </a:lnTo>
                      <a:lnTo>
                        <a:pt x="258" y="145"/>
                      </a:lnTo>
                      <a:lnTo>
                        <a:pt x="265" y="102"/>
                      </a:lnTo>
                      <a:lnTo>
                        <a:pt x="295" y="54"/>
                      </a:lnTo>
                      <a:lnTo>
                        <a:pt x="373" y="0"/>
                      </a:lnTo>
                      <a:lnTo>
                        <a:pt x="217" y="67"/>
                      </a:lnTo>
                      <a:lnTo>
                        <a:pt x="60" y="164"/>
                      </a:lnTo>
                      <a:lnTo>
                        <a:pt x="69" y="189"/>
                      </a:lnTo>
                      <a:lnTo>
                        <a:pt x="118" y="286"/>
                      </a:lnTo>
                      <a:lnTo>
                        <a:pt x="15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5199840" y="5105520"/>
                  <a:ext cx="137160" cy="278640"/>
                </a:xfrm>
                <a:custGeom>
                  <a:avLst/>
                  <a:gdLst/>
                  <a:ahLst/>
                  <a:rect l="l" t="t" r="r" b="b"/>
                  <a:pathLst>
                    <a:path w="1658" h="2635">
                      <a:moveTo>
                        <a:pt x="7" y="196"/>
                      </a:moveTo>
                      <a:lnTo>
                        <a:pt x="0" y="216"/>
                      </a:lnTo>
                      <a:lnTo>
                        <a:pt x="14" y="231"/>
                      </a:lnTo>
                      <a:lnTo>
                        <a:pt x="58" y="251"/>
                      </a:lnTo>
                      <a:lnTo>
                        <a:pt x="106" y="260"/>
                      </a:lnTo>
                      <a:lnTo>
                        <a:pt x="185" y="260"/>
                      </a:lnTo>
                      <a:lnTo>
                        <a:pt x="291" y="244"/>
                      </a:lnTo>
                      <a:lnTo>
                        <a:pt x="208" y="279"/>
                      </a:lnTo>
                      <a:lnTo>
                        <a:pt x="114" y="292"/>
                      </a:lnTo>
                      <a:lnTo>
                        <a:pt x="35" y="292"/>
                      </a:lnTo>
                      <a:lnTo>
                        <a:pt x="35" y="315"/>
                      </a:lnTo>
                      <a:lnTo>
                        <a:pt x="58" y="341"/>
                      </a:lnTo>
                      <a:lnTo>
                        <a:pt x="114" y="366"/>
                      </a:lnTo>
                      <a:lnTo>
                        <a:pt x="185" y="354"/>
                      </a:lnTo>
                      <a:lnTo>
                        <a:pt x="231" y="385"/>
                      </a:lnTo>
                      <a:lnTo>
                        <a:pt x="226" y="398"/>
                      </a:lnTo>
                      <a:lnTo>
                        <a:pt x="185" y="420"/>
                      </a:lnTo>
                      <a:lnTo>
                        <a:pt x="141" y="426"/>
                      </a:lnTo>
                      <a:lnTo>
                        <a:pt x="220" y="435"/>
                      </a:lnTo>
                      <a:lnTo>
                        <a:pt x="354" y="435"/>
                      </a:lnTo>
                      <a:lnTo>
                        <a:pt x="510" y="414"/>
                      </a:lnTo>
                      <a:lnTo>
                        <a:pt x="611" y="385"/>
                      </a:lnTo>
                      <a:lnTo>
                        <a:pt x="487" y="426"/>
                      </a:lnTo>
                      <a:lnTo>
                        <a:pt x="345" y="456"/>
                      </a:lnTo>
                      <a:lnTo>
                        <a:pt x="244" y="475"/>
                      </a:lnTo>
                      <a:lnTo>
                        <a:pt x="305" y="504"/>
                      </a:lnTo>
                      <a:lnTo>
                        <a:pt x="437" y="523"/>
                      </a:lnTo>
                      <a:lnTo>
                        <a:pt x="543" y="532"/>
                      </a:lnTo>
                      <a:lnTo>
                        <a:pt x="662" y="532"/>
                      </a:lnTo>
                      <a:lnTo>
                        <a:pt x="741" y="511"/>
                      </a:lnTo>
                      <a:lnTo>
                        <a:pt x="625" y="475"/>
                      </a:lnTo>
                      <a:lnTo>
                        <a:pt x="824" y="398"/>
                      </a:lnTo>
                      <a:lnTo>
                        <a:pt x="763" y="370"/>
                      </a:lnTo>
                      <a:lnTo>
                        <a:pt x="875" y="378"/>
                      </a:lnTo>
                      <a:lnTo>
                        <a:pt x="945" y="414"/>
                      </a:lnTo>
                      <a:lnTo>
                        <a:pt x="1029" y="470"/>
                      </a:lnTo>
                      <a:lnTo>
                        <a:pt x="1095" y="511"/>
                      </a:lnTo>
                      <a:lnTo>
                        <a:pt x="1142" y="622"/>
                      </a:lnTo>
                      <a:lnTo>
                        <a:pt x="1204" y="622"/>
                      </a:lnTo>
                      <a:lnTo>
                        <a:pt x="1257" y="609"/>
                      </a:lnTo>
                      <a:lnTo>
                        <a:pt x="1296" y="580"/>
                      </a:lnTo>
                      <a:lnTo>
                        <a:pt x="1331" y="537"/>
                      </a:lnTo>
                      <a:lnTo>
                        <a:pt x="1354" y="511"/>
                      </a:lnTo>
                      <a:lnTo>
                        <a:pt x="1361" y="559"/>
                      </a:lnTo>
                      <a:lnTo>
                        <a:pt x="1347" y="609"/>
                      </a:lnTo>
                      <a:lnTo>
                        <a:pt x="1310" y="651"/>
                      </a:lnTo>
                      <a:lnTo>
                        <a:pt x="1382" y="651"/>
                      </a:lnTo>
                      <a:lnTo>
                        <a:pt x="1446" y="638"/>
                      </a:lnTo>
                      <a:lnTo>
                        <a:pt x="1485" y="651"/>
                      </a:lnTo>
                      <a:lnTo>
                        <a:pt x="1508" y="684"/>
                      </a:lnTo>
                      <a:lnTo>
                        <a:pt x="1523" y="765"/>
                      </a:lnTo>
                      <a:lnTo>
                        <a:pt x="1517" y="936"/>
                      </a:lnTo>
                      <a:lnTo>
                        <a:pt x="1543" y="996"/>
                      </a:lnTo>
                      <a:lnTo>
                        <a:pt x="1580" y="1030"/>
                      </a:lnTo>
                      <a:lnTo>
                        <a:pt x="1591" y="1073"/>
                      </a:lnTo>
                      <a:lnTo>
                        <a:pt x="1559" y="1073"/>
                      </a:lnTo>
                      <a:lnTo>
                        <a:pt x="1469" y="1014"/>
                      </a:lnTo>
                      <a:lnTo>
                        <a:pt x="1354" y="1009"/>
                      </a:lnTo>
                      <a:lnTo>
                        <a:pt x="1287" y="1095"/>
                      </a:lnTo>
                      <a:lnTo>
                        <a:pt x="1268" y="1226"/>
                      </a:lnTo>
                      <a:lnTo>
                        <a:pt x="1340" y="1284"/>
                      </a:lnTo>
                      <a:lnTo>
                        <a:pt x="1319" y="1457"/>
                      </a:lnTo>
                      <a:lnTo>
                        <a:pt x="1361" y="1374"/>
                      </a:lnTo>
                      <a:lnTo>
                        <a:pt x="1460" y="1330"/>
                      </a:lnTo>
                      <a:lnTo>
                        <a:pt x="1422" y="1240"/>
                      </a:lnTo>
                      <a:lnTo>
                        <a:pt x="1340" y="1219"/>
                      </a:lnTo>
                      <a:lnTo>
                        <a:pt x="1409" y="1143"/>
                      </a:lnTo>
                      <a:lnTo>
                        <a:pt x="1508" y="1212"/>
                      </a:lnTo>
                      <a:lnTo>
                        <a:pt x="1479" y="1106"/>
                      </a:lnTo>
                      <a:lnTo>
                        <a:pt x="1517" y="1095"/>
                      </a:lnTo>
                      <a:lnTo>
                        <a:pt x="1422" y="1099"/>
                      </a:lnTo>
                      <a:lnTo>
                        <a:pt x="1303" y="1189"/>
                      </a:lnTo>
                      <a:lnTo>
                        <a:pt x="1319" y="1099"/>
                      </a:lnTo>
                      <a:lnTo>
                        <a:pt x="1367" y="1035"/>
                      </a:lnTo>
                      <a:lnTo>
                        <a:pt x="1460" y="1035"/>
                      </a:lnTo>
                      <a:lnTo>
                        <a:pt x="1559" y="1095"/>
                      </a:lnTo>
                      <a:lnTo>
                        <a:pt x="1564" y="1198"/>
                      </a:lnTo>
                      <a:lnTo>
                        <a:pt x="1543" y="1316"/>
                      </a:lnTo>
                      <a:lnTo>
                        <a:pt x="1469" y="1435"/>
                      </a:lnTo>
                      <a:lnTo>
                        <a:pt x="1446" y="1519"/>
                      </a:lnTo>
                      <a:lnTo>
                        <a:pt x="1361" y="1560"/>
                      </a:lnTo>
                      <a:lnTo>
                        <a:pt x="1296" y="1493"/>
                      </a:lnTo>
                      <a:lnTo>
                        <a:pt x="1220" y="1968"/>
                      </a:lnTo>
                      <a:lnTo>
                        <a:pt x="1163" y="2261"/>
                      </a:lnTo>
                      <a:lnTo>
                        <a:pt x="939" y="2501"/>
                      </a:lnTo>
                      <a:lnTo>
                        <a:pt x="851" y="2635"/>
                      </a:lnTo>
                      <a:lnTo>
                        <a:pt x="958" y="2492"/>
                      </a:lnTo>
                      <a:lnTo>
                        <a:pt x="1257" y="2174"/>
                      </a:lnTo>
                      <a:lnTo>
                        <a:pt x="1446" y="1827"/>
                      </a:lnTo>
                      <a:lnTo>
                        <a:pt x="1430" y="1807"/>
                      </a:lnTo>
                      <a:lnTo>
                        <a:pt x="1382" y="1811"/>
                      </a:lnTo>
                      <a:lnTo>
                        <a:pt x="1384" y="1730"/>
                      </a:lnTo>
                      <a:lnTo>
                        <a:pt x="1494" y="1701"/>
                      </a:lnTo>
                      <a:lnTo>
                        <a:pt x="1494" y="1624"/>
                      </a:lnTo>
                      <a:lnTo>
                        <a:pt x="1591" y="1592"/>
                      </a:lnTo>
                      <a:lnTo>
                        <a:pt x="1619" y="1457"/>
                      </a:lnTo>
                      <a:lnTo>
                        <a:pt x="1658" y="1394"/>
                      </a:lnTo>
                      <a:lnTo>
                        <a:pt x="1580" y="1350"/>
                      </a:lnTo>
                      <a:lnTo>
                        <a:pt x="1573" y="1306"/>
                      </a:lnTo>
                      <a:lnTo>
                        <a:pt x="1591" y="1240"/>
                      </a:lnTo>
                      <a:lnTo>
                        <a:pt x="1591" y="1154"/>
                      </a:lnTo>
                      <a:lnTo>
                        <a:pt x="1580" y="1122"/>
                      </a:lnTo>
                      <a:lnTo>
                        <a:pt x="1642" y="1143"/>
                      </a:lnTo>
                      <a:lnTo>
                        <a:pt x="1619" y="1057"/>
                      </a:lnTo>
                      <a:lnTo>
                        <a:pt x="1564" y="967"/>
                      </a:lnTo>
                      <a:lnTo>
                        <a:pt x="1550" y="897"/>
                      </a:lnTo>
                      <a:lnTo>
                        <a:pt x="1550" y="813"/>
                      </a:lnTo>
                      <a:lnTo>
                        <a:pt x="1543" y="741"/>
                      </a:lnTo>
                      <a:lnTo>
                        <a:pt x="1550" y="700"/>
                      </a:lnTo>
                      <a:lnTo>
                        <a:pt x="1501" y="580"/>
                      </a:lnTo>
                      <a:lnTo>
                        <a:pt x="1418" y="462"/>
                      </a:lnTo>
                      <a:lnTo>
                        <a:pt x="1326" y="389"/>
                      </a:lnTo>
                      <a:lnTo>
                        <a:pt x="1257" y="341"/>
                      </a:lnTo>
                      <a:lnTo>
                        <a:pt x="1227" y="225"/>
                      </a:lnTo>
                      <a:lnTo>
                        <a:pt x="1137" y="147"/>
                      </a:lnTo>
                      <a:lnTo>
                        <a:pt x="1044" y="119"/>
                      </a:lnTo>
                      <a:lnTo>
                        <a:pt x="909" y="40"/>
                      </a:lnTo>
                      <a:lnTo>
                        <a:pt x="747" y="0"/>
                      </a:lnTo>
                      <a:lnTo>
                        <a:pt x="584" y="4"/>
                      </a:lnTo>
                      <a:lnTo>
                        <a:pt x="427" y="36"/>
                      </a:lnTo>
                      <a:lnTo>
                        <a:pt x="298" y="97"/>
                      </a:lnTo>
                      <a:lnTo>
                        <a:pt x="127" y="161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5263920" y="516204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445" h="358">
                      <a:moveTo>
                        <a:pt x="141" y="27"/>
                      </a:moveTo>
                      <a:lnTo>
                        <a:pt x="69" y="48"/>
                      </a:lnTo>
                      <a:lnTo>
                        <a:pt x="0" y="113"/>
                      </a:lnTo>
                      <a:lnTo>
                        <a:pt x="84" y="113"/>
                      </a:lnTo>
                      <a:lnTo>
                        <a:pt x="42" y="209"/>
                      </a:lnTo>
                      <a:lnTo>
                        <a:pt x="93" y="233"/>
                      </a:lnTo>
                      <a:lnTo>
                        <a:pt x="127" y="358"/>
                      </a:lnTo>
                      <a:lnTo>
                        <a:pt x="115" y="222"/>
                      </a:lnTo>
                      <a:lnTo>
                        <a:pt x="163" y="180"/>
                      </a:lnTo>
                      <a:lnTo>
                        <a:pt x="240" y="161"/>
                      </a:lnTo>
                      <a:lnTo>
                        <a:pt x="316" y="161"/>
                      </a:lnTo>
                      <a:lnTo>
                        <a:pt x="385" y="173"/>
                      </a:lnTo>
                      <a:lnTo>
                        <a:pt x="445" y="209"/>
                      </a:lnTo>
                      <a:lnTo>
                        <a:pt x="374" y="161"/>
                      </a:lnTo>
                      <a:lnTo>
                        <a:pt x="268" y="134"/>
                      </a:lnTo>
                      <a:lnTo>
                        <a:pt x="189" y="134"/>
                      </a:lnTo>
                      <a:lnTo>
                        <a:pt x="99" y="161"/>
                      </a:lnTo>
                      <a:lnTo>
                        <a:pt x="106" y="119"/>
                      </a:lnTo>
                      <a:lnTo>
                        <a:pt x="150" y="90"/>
                      </a:lnTo>
                      <a:lnTo>
                        <a:pt x="62" y="90"/>
                      </a:lnTo>
                      <a:lnTo>
                        <a:pt x="99" y="64"/>
                      </a:lnTo>
                      <a:lnTo>
                        <a:pt x="163" y="33"/>
                      </a:lnTo>
                      <a:lnTo>
                        <a:pt x="219" y="42"/>
                      </a:lnTo>
                      <a:lnTo>
                        <a:pt x="316" y="64"/>
                      </a:lnTo>
                      <a:lnTo>
                        <a:pt x="247" y="20"/>
                      </a:lnTo>
                      <a:lnTo>
                        <a:pt x="163" y="0"/>
                      </a:lnTo>
                      <a:lnTo>
                        <a:pt x="1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5275800" y="5205240"/>
                  <a:ext cx="31680" cy="32040"/>
                </a:xfrm>
                <a:custGeom>
                  <a:avLst/>
                  <a:gdLst/>
                  <a:ahLst/>
                  <a:rect l="l" t="t" r="r" b="b"/>
                  <a:pathLst>
                    <a:path w="387" h="303">
                      <a:moveTo>
                        <a:pt x="22" y="18"/>
                      </a:moveTo>
                      <a:lnTo>
                        <a:pt x="115" y="0"/>
                      </a:lnTo>
                      <a:lnTo>
                        <a:pt x="191" y="18"/>
                      </a:lnTo>
                      <a:lnTo>
                        <a:pt x="244" y="53"/>
                      </a:lnTo>
                      <a:lnTo>
                        <a:pt x="281" y="92"/>
                      </a:lnTo>
                      <a:lnTo>
                        <a:pt x="288" y="138"/>
                      </a:lnTo>
                      <a:lnTo>
                        <a:pt x="281" y="156"/>
                      </a:lnTo>
                      <a:lnTo>
                        <a:pt x="255" y="152"/>
                      </a:lnTo>
                      <a:lnTo>
                        <a:pt x="219" y="130"/>
                      </a:lnTo>
                      <a:lnTo>
                        <a:pt x="175" y="92"/>
                      </a:lnTo>
                      <a:lnTo>
                        <a:pt x="127" y="87"/>
                      </a:lnTo>
                      <a:lnTo>
                        <a:pt x="172" y="152"/>
                      </a:lnTo>
                      <a:lnTo>
                        <a:pt x="191" y="207"/>
                      </a:lnTo>
                      <a:lnTo>
                        <a:pt x="182" y="260"/>
                      </a:lnTo>
                      <a:lnTo>
                        <a:pt x="360" y="290"/>
                      </a:lnTo>
                      <a:lnTo>
                        <a:pt x="387" y="303"/>
                      </a:lnTo>
                      <a:lnTo>
                        <a:pt x="147" y="276"/>
                      </a:lnTo>
                      <a:lnTo>
                        <a:pt x="163" y="239"/>
                      </a:lnTo>
                      <a:lnTo>
                        <a:pt x="156" y="191"/>
                      </a:lnTo>
                      <a:lnTo>
                        <a:pt x="121" y="130"/>
                      </a:lnTo>
                      <a:lnTo>
                        <a:pt x="83" y="87"/>
                      </a:lnTo>
                      <a:lnTo>
                        <a:pt x="16" y="53"/>
                      </a:lnTo>
                      <a:lnTo>
                        <a:pt x="0" y="9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5282640" y="523404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214" h="313">
                      <a:moveTo>
                        <a:pt x="89" y="0"/>
                      </a:moveTo>
                      <a:lnTo>
                        <a:pt x="0" y="179"/>
                      </a:lnTo>
                      <a:lnTo>
                        <a:pt x="9" y="313"/>
                      </a:lnTo>
                      <a:lnTo>
                        <a:pt x="214" y="65"/>
                      </a:lnTo>
                      <a:lnTo>
                        <a:pt x="214" y="14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5222880" y="5319720"/>
                  <a:ext cx="70920" cy="67680"/>
                </a:xfrm>
                <a:custGeom>
                  <a:avLst/>
                  <a:gdLst/>
                  <a:ahLst/>
                  <a:rect l="l" t="t" r="r" b="b"/>
                  <a:pathLst>
                    <a:path w="857" h="640">
                      <a:moveTo>
                        <a:pt x="857" y="0"/>
                      </a:moveTo>
                      <a:lnTo>
                        <a:pt x="749" y="53"/>
                      </a:lnTo>
                      <a:lnTo>
                        <a:pt x="648" y="198"/>
                      </a:lnTo>
                      <a:lnTo>
                        <a:pt x="514" y="187"/>
                      </a:lnTo>
                      <a:lnTo>
                        <a:pt x="470" y="260"/>
                      </a:lnTo>
                      <a:lnTo>
                        <a:pt x="415" y="297"/>
                      </a:lnTo>
                      <a:lnTo>
                        <a:pt x="276" y="288"/>
                      </a:lnTo>
                      <a:lnTo>
                        <a:pt x="186" y="321"/>
                      </a:lnTo>
                      <a:lnTo>
                        <a:pt x="118" y="345"/>
                      </a:lnTo>
                      <a:lnTo>
                        <a:pt x="48" y="345"/>
                      </a:lnTo>
                      <a:lnTo>
                        <a:pt x="0" y="317"/>
                      </a:lnTo>
                      <a:lnTo>
                        <a:pt x="48" y="359"/>
                      </a:lnTo>
                      <a:lnTo>
                        <a:pt x="105" y="366"/>
                      </a:lnTo>
                      <a:lnTo>
                        <a:pt x="223" y="366"/>
                      </a:lnTo>
                      <a:lnTo>
                        <a:pt x="294" y="391"/>
                      </a:lnTo>
                      <a:lnTo>
                        <a:pt x="382" y="514"/>
                      </a:lnTo>
                      <a:lnTo>
                        <a:pt x="507" y="611"/>
                      </a:lnTo>
                      <a:lnTo>
                        <a:pt x="527" y="640"/>
                      </a:lnTo>
                      <a:lnTo>
                        <a:pt x="564" y="615"/>
                      </a:lnTo>
                      <a:lnTo>
                        <a:pt x="555" y="550"/>
                      </a:lnTo>
                      <a:lnTo>
                        <a:pt x="544" y="461"/>
                      </a:lnTo>
                      <a:lnTo>
                        <a:pt x="555" y="380"/>
                      </a:lnTo>
                      <a:lnTo>
                        <a:pt x="569" y="327"/>
                      </a:lnTo>
                      <a:lnTo>
                        <a:pt x="630" y="267"/>
                      </a:lnTo>
                      <a:lnTo>
                        <a:pt x="685" y="226"/>
                      </a:lnTo>
                      <a:lnTo>
                        <a:pt x="738" y="132"/>
                      </a:lnTo>
                      <a:lnTo>
                        <a:pt x="800" y="57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5277960" y="5279040"/>
                  <a:ext cx="5760" cy="36000"/>
                </a:xfrm>
                <a:custGeom>
                  <a:avLst/>
                  <a:gdLst/>
                  <a:ahLst/>
                  <a:rect l="l" t="t" r="r" b="b"/>
                  <a:pathLst>
                    <a:path w="72" h="339">
                      <a:moveTo>
                        <a:pt x="56" y="0"/>
                      </a:moveTo>
                      <a:lnTo>
                        <a:pt x="0" y="339"/>
                      </a:lnTo>
                      <a:lnTo>
                        <a:pt x="72" y="1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5204880" y="5196240"/>
                  <a:ext cx="62280" cy="19080"/>
                </a:xfrm>
                <a:custGeom>
                  <a:avLst/>
                  <a:gdLst/>
                  <a:ahLst/>
                  <a:rect l="l" t="t" r="r" b="b"/>
                  <a:pathLst>
                    <a:path w="747" h="189">
                      <a:moveTo>
                        <a:pt x="0" y="189"/>
                      </a:moveTo>
                      <a:lnTo>
                        <a:pt x="38" y="145"/>
                      </a:lnTo>
                      <a:lnTo>
                        <a:pt x="95" y="117"/>
                      </a:lnTo>
                      <a:lnTo>
                        <a:pt x="189" y="97"/>
                      </a:lnTo>
                      <a:lnTo>
                        <a:pt x="341" y="78"/>
                      </a:lnTo>
                      <a:lnTo>
                        <a:pt x="460" y="39"/>
                      </a:lnTo>
                      <a:lnTo>
                        <a:pt x="581" y="0"/>
                      </a:lnTo>
                      <a:lnTo>
                        <a:pt x="664" y="0"/>
                      </a:lnTo>
                      <a:lnTo>
                        <a:pt x="715" y="29"/>
                      </a:lnTo>
                      <a:lnTo>
                        <a:pt x="747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5218920" y="5189040"/>
                  <a:ext cx="46440" cy="11880"/>
                </a:xfrm>
                <a:custGeom>
                  <a:avLst/>
                  <a:gdLst/>
                  <a:ahLst/>
                  <a:rect l="l" t="t" r="r" b="b"/>
                  <a:pathLst>
                    <a:path w="563" h="118">
                      <a:moveTo>
                        <a:pt x="0" y="118"/>
                      </a:moveTo>
                      <a:lnTo>
                        <a:pt x="134" y="94"/>
                      </a:lnTo>
                      <a:lnTo>
                        <a:pt x="266" y="41"/>
                      </a:lnTo>
                      <a:lnTo>
                        <a:pt x="362" y="4"/>
                      </a:lnTo>
                      <a:lnTo>
                        <a:pt x="436" y="0"/>
                      </a:lnTo>
                      <a:lnTo>
                        <a:pt x="496" y="17"/>
                      </a:lnTo>
                      <a:lnTo>
                        <a:pt x="563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5236200" y="51832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279" h="62">
                      <a:moveTo>
                        <a:pt x="0" y="62"/>
                      </a:moveTo>
                      <a:lnTo>
                        <a:pt x="161" y="7"/>
                      </a:lnTo>
                      <a:lnTo>
                        <a:pt x="223" y="0"/>
                      </a:lnTo>
                      <a:lnTo>
                        <a:pt x="279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5262840" y="522072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5" h="128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28"/>
                      </a:lnTo>
                      <a:lnTo>
                        <a:pt x="10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5348160" y="5391720"/>
                  <a:ext cx="176040" cy="399960"/>
                </a:xfrm>
                <a:custGeom>
                  <a:avLst/>
                  <a:gdLst/>
                  <a:ahLst/>
                  <a:rect l="l" t="t" r="r" b="b"/>
                  <a:pathLst>
                    <a:path w="2124" h="3774">
                      <a:moveTo>
                        <a:pt x="1483" y="509"/>
                      </a:moveTo>
                      <a:lnTo>
                        <a:pt x="1612" y="966"/>
                      </a:lnTo>
                      <a:lnTo>
                        <a:pt x="1929" y="1474"/>
                      </a:lnTo>
                      <a:lnTo>
                        <a:pt x="1810" y="2116"/>
                      </a:lnTo>
                      <a:lnTo>
                        <a:pt x="2124" y="3119"/>
                      </a:lnTo>
                      <a:lnTo>
                        <a:pt x="2124" y="3774"/>
                      </a:lnTo>
                      <a:lnTo>
                        <a:pt x="916" y="3766"/>
                      </a:lnTo>
                      <a:lnTo>
                        <a:pt x="0" y="3302"/>
                      </a:lnTo>
                      <a:lnTo>
                        <a:pt x="499" y="2990"/>
                      </a:lnTo>
                      <a:lnTo>
                        <a:pt x="510" y="2782"/>
                      </a:lnTo>
                      <a:lnTo>
                        <a:pt x="589" y="2443"/>
                      </a:lnTo>
                      <a:lnTo>
                        <a:pt x="589" y="2755"/>
                      </a:lnTo>
                      <a:lnTo>
                        <a:pt x="932" y="2375"/>
                      </a:lnTo>
                      <a:lnTo>
                        <a:pt x="995" y="2285"/>
                      </a:lnTo>
                      <a:lnTo>
                        <a:pt x="1024" y="2116"/>
                      </a:lnTo>
                      <a:lnTo>
                        <a:pt x="1063" y="1931"/>
                      </a:lnTo>
                      <a:lnTo>
                        <a:pt x="1301" y="1946"/>
                      </a:lnTo>
                      <a:lnTo>
                        <a:pt x="1377" y="1812"/>
                      </a:lnTo>
                      <a:lnTo>
                        <a:pt x="1206" y="1501"/>
                      </a:lnTo>
                      <a:lnTo>
                        <a:pt x="1377" y="1501"/>
                      </a:lnTo>
                      <a:lnTo>
                        <a:pt x="1377" y="1434"/>
                      </a:lnTo>
                      <a:lnTo>
                        <a:pt x="1232" y="1265"/>
                      </a:lnTo>
                      <a:lnTo>
                        <a:pt x="1246" y="1148"/>
                      </a:lnTo>
                      <a:lnTo>
                        <a:pt x="1457" y="966"/>
                      </a:lnTo>
                      <a:lnTo>
                        <a:pt x="1470" y="717"/>
                      </a:lnTo>
                      <a:lnTo>
                        <a:pt x="1351" y="496"/>
                      </a:lnTo>
                      <a:lnTo>
                        <a:pt x="1324" y="258"/>
                      </a:lnTo>
                      <a:lnTo>
                        <a:pt x="1206" y="0"/>
                      </a:lnTo>
                      <a:lnTo>
                        <a:pt x="1419" y="351"/>
                      </a:lnTo>
                      <a:lnTo>
                        <a:pt x="1483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5321160" y="529272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734" h="874">
                      <a:moveTo>
                        <a:pt x="38" y="65"/>
                      </a:moveTo>
                      <a:lnTo>
                        <a:pt x="156" y="301"/>
                      </a:lnTo>
                      <a:lnTo>
                        <a:pt x="0" y="874"/>
                      </a:lnTo>
                      <a:lnTo>
                        <a:pt x="220" y="222"/>
                      </a:lnTo>
                      <a:lnTo>
                        <a:pt x="220" y="158"/>
                      </a:lnTo>
                      <a:lnTo>
                        <a:pt x="195" y="106"/>
                      </a:lnTo>
                      <a:lnTo>
                        <a:pt x="328" y="158"/>
                      </a:lnTo>
                      <a:lnTo>
                        <a:pt x="420" y="250"/>
                      </a:lnTo>
                      <a:lnTo>
                        <a:pt x="446" y="367"/>
                      </a:lnTo>
                      <a:lnTo>
                        <a:pt x="378" y="547"/>
                      </a:lnTo>
                      <a:lnTo>
                        <a:pt x="486" y="404"/>
                      </a:lnTo>
                      <a:lnTo>
                        <a:pt x="576" y="433"/>
                      </a:lnTo>
                      <a:lnTo>
                        <a:pt x="290" y="874"/>
                      </a:lnTo>
                      <a:lnTo>
                        <a:pt x="734" y="378"/>
                      </a:lnTo>
                      <a:lnTo>
                        <a:pt x="681" y="325"/>
                      </a:lnTo>
                      <a:lnTo>
                        <a:pt x="617" y="367"/>
                      </a:lnTo>
                      <a:lnTo>
                        <a:pt x="499" y="339"/>
                      </a:lnTo>
                      <a:lnTo>
                        <a:pt x="472" y="235"/>
                      </a:lnTo>
                      <a:lnTo>
                        <a:pt x="393" y="158"/>
                      </a:lnTo>
                      <a:lnTo>
                        <a:pt x="248" y="79"/>
                      </a:lnTo>
                      <a:lnTo>
                        <a:pt x="156" y="79"/>
                      </a:lnTo>
                      <a:lnTo>
                        <a:pt x="0" y="0"/>
                      </a:lnTo>
                      <a:lnTo>
                        <a:pt x="38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5392080" y="5336640"/>
                  <a:ext cx="52920" cy="52200"/>
                </a:xfrm>
                <a:custGeom>
                  <a:avLst/>
                  <a:gdLst/>
                  <a:ahLst/>
                  <a:rect l="l" t="t" r="r" b="b"/>
                  <a:pathLst>
                    <a:path w="643" h="496">
                      <a:moveTo>
                        <a:pt x="0" y="0"/>
                      </a:moveTo>
                      <a:lnTo>
                        <a:pt x="198" y="94"/>
                      </a:lnTo>
                      <a:lnTo>
                        <a:pt x="420" y="168"/>
                      </a:lnTo>
                      <a:lnTo>
                        <a:pt x="643" y="496"/>
                      </a:lnTo>
                      <a:lnTo>
                        <a:pt x="500" y="442"/>
                      </a:lnTo>
                      <a:lnTo>
                        <a:pt x="408" y="2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5250600" y="5391000"/>
                  <a:ext cx="54720" cy="258480"/>
                </a:xfrm>
                <a:custGeom>
                  <a:avLst/>
                  <a:gdLst/>
                  <a:ahLst/>
                  <a:rect l="l" t="t" r="r" b="b"/>
                  <a:pathLst>
                    <a:path w="667" h="2442">
                      <a:moveTo>
                        <a:pt x="208" y="0"/>
                      </a:moveTo>
                      <a:lnTo>
                        <a:pt x="208" y="88"/>
                      </a:lnTo>
                      <a:lnTo>
                        <a:pt x="618" y="326"/>
                      </a:lnTo>
                      <a:lnTo>
                        <a:pt x="272" y="194"/>
                      </a:lnTo>
                      <a:lnTo>
                        <a:pt x="208" y="440"/>
                      </a:lnTo>
                      <a:lnTo>
                        <a:pt x="272" y="625"/>
                      </a:lnTo>
                      <a:lnTo>
                        <a:pt x="272" y="794"/>
                      </a:lnTo>
                      <a:lnTo>
                        <a:pt x="208" y="1190"/>
                      </a:lnTo>
                      <a:lnTo>
                        <a:pt x="153" y="1543"/>
                      </a:lnTo>
                      <a:lnTo>
                        <a:pt x="185" y="1734"/>
                      </a:lnTo>
                      <a:lnTo>
                        <a:pt x="314" y="1996"/>
                      </a:lnTo>
                      <a:lnTo>
                        <a:pt x="512" y="2218"/>
                      </a:lnTo>
                      <a:lnTo>
                        <a:pt x="667" y="2257"/>
                      </a:lnTo>
                      <a:lnTo>
                        <a:pt x="470" y="2242"/>
                      </a:lnTo>
                      <a:lnTo>
                        <a:pt x="404" y="2273"/>
                      </a:lnTo>
                      <a:lnTo>
                        <a:pt x="404" y="2442"/>
                      </a:lnTo>
                      <a:lnTo>
                        <a:pt x="272" y="2321"/>
                      </a:lnTo>
                      <a:lnTo>
                        <a:pt x="0" y="2400"/>
                      </a:lnTo>
                      <a:lnTo>
                        <a:pt x="245" y="2297"/>
                      </a:lnTo>
                      <a:lnTo>
                        <a:pt x="185" y="2089"/>
                      </a:lnTo>
                      <a:lnTo>
                        <a:pt x="129" y="1801"/>
                      </a:lnTo>
                      <a:lnTo>
                        <a:pt x="116" y="1501"/>
                      </a:lnTo>
                      <a:lnTo>
                        <a:pt x="143" y="1200"/>
                      </a:lnTo>
                      <a:lnTo>
                        <a:pt x="208" y="911"/>
                      </a:lnTo>
                      <a:lnTo>
                        <a:pt x="233" y="756"/>
                      </a:lnTo>
                      <a:lnTo>
                        <a:pt x="233" y="598"/>
                      </a:lnTo>
                      <a:lnTo>
                        <a:pt x="185" y="494"/>
                      </a:lnTo>
                      <a:lnTo>
                        <a:pt x="51" y="440"/>
                      </a:lnTo>
                      <a:lnTo>
                        <a:pt x="185" y="13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1" name=""/>
              <p:cNvSpPr/>
              <p:nvPr/>
            </p:nvSpPr>
            <p:spPr>
              <a:xfrm>
                <a:off x="5169960" y="5387400"/>
                <a:ext cx="90000" cy="258480"/>
              </a:xfrm>
              <a:custGeom>
                <a:avLst/>
                <a:gdLst/>
                <a:ahLst/>
                <a:rect l="l" t="t" r="r" b="b"/>
                <a:pathLst>
                  <a:path w="1088" h="2442">
                    <a:moveTo>
                      <a:pt x="1035" y="0"/>
                    </a:moveTo>
                    <a:lnTo>
                      <a:pt x="958" y="116"/>
                    </a:lnTo>
                    <a:lnTo>
                      <a:pt x="943" y="238"/>
                    </a:lnTo>
                    <a:lnTo>
                      <a:pt x="943" y="455"/>
                    </a:lnTo>
                    <a:lnTo>
                      <a:pt x="931" y="784"/>
                    </a:lnTo>
                    <a:lnTo>
                      <a:pt x="866" y="1292"/>
                    </a:lnTo>
                    <a:lnTo>
                      <a:pt x="838" y="1672"/>
                    </a:lnTo>
                    <a:lnTo>
                      <a:pt x="853" y="1894"/>
                    </a:lnTo>
                    <a:lnTo>
                      <a:pt x="890" y="2074"/>
                    </a:lnTo>
                    <a:lnTo>
                      <a:pt x="943" y="2207"/>
                    </a:lnTo>
                    <a:lnTo>
                      <a:pt x="1023" y="2338"/>
                    </a:lnTo>
                    <a:lnTo>
                      <a:pt x="1088" y="2378"/>
                    </a:lnTo>
                    <a:lnTo>
                      <a:pt x="980" y="2442"/>
                    </a:lnTo>
                    <a:lnTo>
                      <a:pt x="866" y="2442"/>
                    </a:lnTo>
                    <a:lnTo>
                      <a:pt x="866" y="2232"/>
                    </a:lnTo>
                    <a:lnTo>
                      <a:pt x="798" y="2052"/>
                    </a:lnTo>
                    <a:lnTo>
                      <a:pt x="576" y="1424"/>
                    </a:lnTo>
                    <a:lnTo>
                      <a:pt x="156" y="1488"/>
                    </a:lnTo>
                    <a:lnTo>
                      <a:pt x="75" y="1474"/>
                    </a:lnTo>
                    <a:lnTo>
                      <a:pt x="391" y="1345"/>
                    </a:lnTo>
                    <a:lnTo>
                      <a:pt x="341" y="1228"/>
                    </a:lnTo>
                    <a:lnTo>
                      <a:pt x="0" y="1228"/>
                    </a:lnTo>
                    <a:lnTo>
                      <a:pt x="260" y="1110"/>
                    </a:lnTo>
                    <a:lnTo>
                      <a:pt x="456" y="1096"/>
                    </a:lnTo>
                    <a:lnTo>
                      <a:pt x="417" y="849"/>
                    </a:lnTo>
                    <a:lnTo>
                      <a:pt x="798" y="1905"/>
                    </a:lnTo>
                    <a:lnTo>
                      <a:pt x="798" y="1608"/>
                    </a:lnTo>
                    <a:lnTo>
                      <a:pt x="838" y="1257"/>
                    </a:lnTo>
                    <a:lnTo>
                      <a:pt x="890" y="863"/>
                    </a:lnTo>
                    <a:lnTo>
                      <a:pt x="919" y="575"/>
                    </a:lnTo>
                    <a:lnTo>
                      <a:pt x="919" y="169"/>
                    </a:lnTo>
                    <a:lnTo>
                      <a:pt x="972" y="53"/>
                    </a:lnTo>
                    <a:lnTo>
                      <a:pt x="10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290560" y="5424840"/>
                <a:ext cx="119880" cy="222840"/>
              </a:xfrm>
              <a:custGeom>
                <a:avLst/>
                <a:gdLst/>
                <a:ahLst/>
                <a:rect l="l" t="t" r="r" b="b"/>
                <a:pathLst>
                  <a:path w="1444" h="2100">
                    <a:moveTo>
                      <a:pt x="198" y="1931"/>
                    </a:moveTo>
                    <a:lnTo>
                      <a:pt x="407" y="1995"/>
                    </a:lnTo>
                    <a:lnTo>
                      <a:pt x="589" y="2100"/>
                    </a:lnTo>
                    <a:lnTo>
                      <a:pt x="446" y="1931"/>
                    </a:lnTo>
                    <a:lnTo>
                      <a:pt x="343" y="1841"/>
                    </a:lnTo>
                    <a:lnTo>
                      <a:pt x="248" y="1826"/>
                    </a:lnTo>
                    <a:lnTo>
                      <a:pt x="211" y="1812"/>
                    </a:lnTo>
                    <a:lnTo>
                      <a:pt x="211" y="1632"/>
                    </a:lnTo>
                    <a:lnTo>
                      <a:pt x="264" y="1593"/>
                    </a:lnTo>
                    <a:lnTo>
                      <a:pt x="499" y="1498"/>
                    </a:lnTo>
                    <a:lnTo>
                      <a:pt x="776" y="1318"/>
                    </a:lnTo>
                    <a:lnTo>
                      <a:pt x="1025" y="1070"/>
                    </a:lnTo>
                    <a:lnTo>
                      <a:pt x="1444" y="495"/>
                    </a:lnTo>
                    <a:lnTo>
                      <a:pt x="1444" y="403"/>
                    </a:lnTo>
                    <a:lnTo>
                      <a:pt x="1092" y="834"/>
                    </a:lnTo>
                    <a:lnTo>
                      <a:pt x="710" y="1217"/>
                    </a:lnTo>
                    <a:lnTo>
                      <a:pt x="369" y="1448"/>
                    </a:lnTo>
                    <a:lnTo>
                      <a:pt x="578" y="1081"/>
                    </a:lnTo>
                    <a:lnTo>
                      <a:pt x="684" y="732"/>
                    </a:lnTo>
                    <a:lnTo>
                      <a:pt x="710" y="495"/>
                    </a:lnTo>
                    <a:lnTo>
                      <a:pt x="879" y="140"/>
                    </a:lnTo>
                    <a:lnTo>
                      <a:pt x="1117" y="0"/>
                    </a:lnTo>
                    <a:lnTo>
                      <a:pt x="855" y="127"/>
                    </a:lnTo>
                    <a:lnTo>
                      <a:pt x="644" y="442"/>
                    </a:lnTo>
                    <a:lnTo>
                      <a:pt x="644" y="769"/>
                    </a:lnTo>
                    <a:lnTo>
                      <a:pt x="525" y="1081"/>
                    </a:lnTo>
                    <a:lnTo>
                      <a:pt x="356" y="1371"/>
                    </a:lnTo>
                    <a:lnTo>
                      <a:pt x="184" y="1604"/>
                    </a:lnTo>
                    <a:lnTo>
                      <a:pt x="184" y="1826"/>
                    </a:lnTo>
                    <a:lnTo>
                      <a:pt x="0" y="1905"/>
                    </a:lnTo>
                    <a:lnTo>
                      <a:pt x="198" y="19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287320" y="5656320"/>
                <a:ext cx="67320" cy="81000"/>
              </a:xfrm>
              <a:custGeom>
                <a:avLst/>
                <a:gdLst/>
                <a:ahLst/>
                <a:rect l="l" t="t" r="r" b="b"/>
                <a:pathLst>
                  <a:path w="818" h="773">
                    <a:moveTo>
                      <a:pt x="671" y="0"/>
                    </a:moveTo>
                    <a:lnTo>
                      <a:pt x="776" y="184"/>
                    </a:lnTo>
                    <a:lnTo>
                      <a:pt x="818" y="419"/>
                    </a:lnTo>
                    <a:lnTo>
                      <a:pt x="818" y="564"/>
                    </a:lnTo>
                    <a:lnTo>
                      <a:pt x="739" y="758"/>
                    </a:lnTo>
                    <a:lnTo>
                      <a:pt x="606" y="773"/>
                    </a:lnTo>
                    <a:lnTo>
                      <a:pt x="369" y="654"/>
                    </a:lnTo>
                    <a:lnTo>
                      <a:pt x="226" y="498"/>
                    </a:lnTo>
                    <a:lnTo>
                      <a:pt x="0" y="14"/>
                    </a:lnTo>
                    <a:lnTo>
                      <a:pt x="161" y="290"/>
                    </a:lnTo>
                    <a:lnTo>
                      <a:pt x="435" y="512"/>
                    </a:lnTo>
                    <a:lnTo>
                      <a:pt x="739" y="588"/>
                    </a:lnTo>
                    <a:lnTo>
                      <a:pt x="752" y="474"/>
                    </a:lnTo>
                    <a:lnTo>
                      <a:pt x="712" y="327"/>
                    </a:lnTo>
                    <a:lnTo>
                      <a:pt x="620" y="235"/>
                    </a:lnTo>
                    <a:lnTo>
                      <a:pt x="477" y="184"/>
                    </a:lnTo>
                    <a:lnTo>
                      <a:pt x="620" y="147"/>
                    </a:lnTo>
                    <a:lnTo>
                      <a:pt x="671" y="65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148000" y="5675760"/>
                <a:ext cx="174960" cy="64080"/>
              </a:xfrm>
              <a:custGeom>
                <a:avLst/>
                <a:gdLst/>
                <a:ahLst/>
                <a:rect l="l" t="t" r="r" b="b"/>
                <a:pathLst>
                  <a:path w="2111" h="613">
                    <a:moveTo>
                      <a:pt x="2111" y="613"/>
                    </a:moveTo>
                    <a:lnTo>
                      <a:pt x="1718" y="602"/>
                    </a:lnTo>
                    <a:lnTo>
                      <a:pt x="1194" y="549"/>
                    </a:lnTo>
                    <a:lnTo>
                      <a:pt x="593" y="380"/>
                    </a:lnTo>
                    <a:lnTo>
                      <a:pt x="103" y="301"/>
                    </a:lnTo>
                    <a:lnTo>
                      <a:pt x="26" y="235"/>
                    </a:lnTo>
                    <a:lnTo>
                      <a:pt x="0" y="90"/>
                    </a:lnTo>
                    <a:lnTo>
                      <a:pt x="353" y="143"/>
                    </a:lnTo>
                    <a:lnTo>
                      <a:pt x="364" y="0"/>
                    </a:lnTo>
                    <a:lnTo>
                      <a:pt x="406" y="143"/>
                    </a:lnTo>
                    <a:lnTo>
                      <a:pt x="643" y="143"/>
                    </a:lnTo>
                    <a:lnTo>
                      <a:pt x="419" y="249"/>
                    </a:lnTo>
                    <a:lnTo>
                      <a:pt x="445" y="328"/>
                    </a:lnTo>
                    <a:lnTo>
                      <a:pt x="929" y="290"/>
                    </a:lnTo>
                    <a:lnTo>
                      <a:pt x="1243" y="301"/>
                    </a:lnTo>
                    <a:lnTo>
                      <a:pt x="1586" y="362"/>
                    </a:lnTo>
                    <a:lnTo>
                      <a:pt x="1773" y="433"/>
                    </a:lnTo>
                    <a:lnTo>
                      <a:pt x="1625" y="249"/>
                    </a:lnTo>
                    <a:lnTo>
                      <a:pt x="1494" y="169"/>
                    </a:lnTo>
                    <a:lnTo>
                      <a:pt x="1221" y="106"/>
                    </a:lnTo>
                    <a:lnTo>
                      <a:pt x="1549" y="106"/>
                    </a:lnTo>
                    <a:lnTo>
                      <a:pt x="1747" y="235"/>
                    </a:lnTo>
                    <a:lnTo>
                      <a:pt x="1821" y="393"/>
                    </a:lnTo>
                    <a:lnTo>
                      <a:pt x="1929" y="496"/>
                    </a:lnTo>
                    <a:lnTo>
                      <a:pt x="2019" y="574"/>
                    </a:lnTo>
                    <a:lnTo>
                      <a:pt x="2111" y="6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148000" y="5553000"/>
                <a:ext cx="75600" cy="77040"/>
              </a:xfrm>
              <a:custGeom>
                <a:avLst/>
                <a:gdLst/>
                <a:ahLst/>
                <a:rect l="l" t="t" r="r" b="b"/>
                <a:pathLst>
                  <a:path w="905" h="731">
                    <a:moveTo>
                      <a:pt x="168" y="731"/>
                    </a:moveTo>
                    <a:lnTo>
                      <a:pt x="301" y="612"/>
                    </a:lnTo>
                    <a:lnTo>
                      <a:pt x="301" y="563"/>
                    </a:lnTo>
                    <a:lnTo>
                      <a:pt x="263" y="512"/>
                    </a:lnTo>
                    <a:lnTo>
                      <a:pt x="143" y="457"/>
                    </a:lnTo>
                    <a:lnTo>
                      <a:pt x="26" y="417"/>
                    </a:lnTo>
                    <a:lnTo>
                      <a:pt x="0" y="393"/>
                    </a:lnTo>
                    <a:lnTo>
                      <a:pt x="0" y="340"/>
                    </a:lnTo>
                    <a:lnTo>
                      <a:pt x="26" y="312"/>
                    </a:lnTo>
                    <a:lnTo>
                      <a:pt x="103" y="275"/>
                    </a:lnTo>
                    <a:lnTo>
                      <a:pt x="118" y="312"/>
                    </a:lnTo>
                    <a:lnTo>
                      <a:pt x="158" y="351"/>
                    </a:lnTo>
                    <a:lnTo>
                      <a:pt x="301" y="379"/>
                    </a:lnTo>
                    <a:lnTo>
                      <a:pt x="285" y="287"/>
                    </a:lnTo>
                    <a:lnTo>
                      <a:pt x="221" y="208"/>
                    </a:lnTo>
                    <a:lnTo>
                      <a:pt x="143" y="129"/>
                    </a:lnTo>
                    <a:lnTo>
                      <a:pt x="13" y="54"/>
                    </a:lnTo>
                    <a:lnTo>
                      <a:pt x="90" y="39"/>
                    </a:lnTo>
                    <a:lnTo>
                      <a:pt x="237" y="79"/>
                    </a:lnTo>
                    <a:lnTo>
                      <a:pt x="364" y="158"/>
                    </a:lnTo>
                    <a:lnTo>
                      <a:pt x="472" y="298"/>
                    </a:lnTo>
                    <a:lnTo>
                      <a:pt x="617" y="235"/>
                    </a:lnTo>
                    <a:lnTo>
                      <a:pt x="461" y="158"/>
                    </a:lnTo>
                    <a:lnTo>
                      <a:pt x="433" y="118"/>
                    </a:lnTo>
                    <a:lnTo>
                      <a:pt x="461" y="79"/>
                    </a:lnTo>
                    <a:lnTo>
                      <a:pt x="562" y="39"/>
                    </a:lnTo>
                    <a:lnTo>
                      <a:pt x="747" y="0"/>
                    </a:lnTo>
                    <a:lnTo>
                      <a:pt x="905" y="0"/>
                    </a:lnTo>
                    <a:lnTo>
                      <a:pt x="823" y="158"/>
                    </a:lnTo>
                    <a:lnTo>
                      <a:pt x="643" y="362"/>
                    </a:lnTo>
                    <a:lnTo>
                      <a:pt x="445" y="549"/>
                    </a:lnTo>
                    <a:lnTo>
                      <a:pt x="301" y="667"/>
                    </a:lnTo>
                    <a:lnTo>
                      <a:pt x="168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186880" y="5387400"/>
                <a:ext cx="12960" cy="82080"/>
              </a:xfrm>
              <a:custGeom>
                <a:avLst/>
                <a:gdLst/>
                <a:ahLst/>
                <a:rect l="l" t="t" r="r" b="b"/>
                <a:pathLst>
                  <a:path w="157" h="771">
                    <a:moveTo>
                      <a:pt x="65" y="116"/>
                    </a:moveTo>
                    <a:lnTo>
                      <a:pt x="90" y="378"/>
                    </a:lnTo>
                    <a:lnTo>
                      <a:pt x="132" y="626"/>
                    </a:lnTo>
                    <a:lnTo>
                      <a:pt x="157" y="771"/>
                    </a:lnTo>
                    <a:lnTo>
                      <a:pt x="24" y="354"/>
                    </a:lnTo>
                    <a:lnTo>
                      <a:pt x="0" y="222"/>
                    </a:lnTo>
                    <a:lnTo>
                      <a:pt x="51" y="0"/>
                    </a:lnTo>
                    <a:lnTo>
                      <a:pt x="6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"/>
            <p:cNvSpPr/>
            <p:nvPr/>
          </p:nvSpPr>
          <p:spPr>
            <a:xfrm>
              <a:off x="6838560" y="6583320"/>
              <a:ext cx="19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de avali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643720" y="5592960"/>
              <a:ext cx="404640" cy="188640"/>
            </a:xfrm>
            <a:prstGeom prst="rightArrow">
              <a:avLst>
                <a:gd name="adj1" fmla="val 50000"/>
                <a:gd name="adj2" fmla="val 53626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634440" y="5592960"/>
              <a:ext cx="404640" cy="188640"/>
            </a:xfrm>
            <a:prstGeom prst="rightArrow">
              <a:avLst>
                <a:gd name="adj1" fmla="val 50000"/>
                <a:gd name="adj2" fmla="val 53626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108760" y="2773440"/>
              <a:ext cx="725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748240" y="2925720"/>
              <a:ext cx="939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056720" y="3025800"/>
              <a:ext cx="812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ate a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3" name=""/>
            <p:cNvGrpSpPr/>
            <p:nvPr/>
          </p:nvGrpSpPr>
          <p:grpSpPr>
            <a:xfrm>
              <a:off x="4295880" y="4065840"/>
              <a:ext cx="519120" cy="599760"/>
              <a:chOff x="4295880" y="4065840"/>
              <a:chExt cx="519120" cy="599760"/>
            </a:xfrm>
          </p:grpSpPr>
          <p:sp>
            <p:nvSpPr>
              <p:cNvPr id="3464" name=""/>
              <p:cNvSpPr/>
              <p:nvPr/>
            </p:nvSpPr>
            <p:spPr>
              <a:xfrm>
                <a:off x="4295880" y="4065840"/>
                <a:ext cx="519120" cy="59976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353120" y="4165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353120" y="4214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353120" y="4264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353120" y="4314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353120" y="4363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353120" y="4413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353120" y="4463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353120" y="4513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353120" y="45630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4" name=""/>
            <p:cNvSpPr/>
            <p:nvPr/>
          </p:nvSpPr>
          <p:spPr>
            <a:xfrm>
              <a:off x="3857760" y="4270320"/>
              <a:ext cx="405000" cy="189000"/>
            </a:xfrm>
            <a:prstGeom prst="rightArrow">
              <a:avLst>
                <a:gd name="adj1" fmla="val 50000"/>
                <a:gd name="adj2" fmla="val 53571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848480" y="4270320"/>
              <a:ext cx="404640" cy="189000"/>
            </a:xfrm>
            <a:prstGeom prst="rightArrow">
              <a:avLst>
                <a:gd name="adj1" fmla="val 50000"/>
                <a:gd name="adj2" fmla="val 53524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6" name=""/>
            <p:cNvGrpSpPr/>
            <p:nvPr/>
          </p:nvGrpSpPr>
          <p:grpSpPr>
            <a:xfrm>
              <a:off x="8579160" y="5251680"/>
              <a:ext cx="470880" cy="852120"/>
              <a:chOff x="8579160" y="5251680"/>
              <a:chExt cx="470880" cy="852120"/>
            </a:xfrm>
          </p:grpSpPr>
          <p:sp>
            <p:nvSpPr>
              <p:cNvPr id="3477" name=""/>
              <p:cNvSpPr/>
              <p:nvPr/>
            </p:nvSpPr>
            <p:spPr>
              <a:xfrm>
                <a:off x="8600400" y="541764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8579160" y="5408640"/>
                <a:ext cx="8820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4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5"/>
                    </a:lnTo>
                    <a:lnTo>
                      <a:pt x="107" y="76"/>
                    </a:lnTo>
                    <a:lnTo>
                      <a:pt x="114" y="90"/>
                    </a:lnTo>
                    <a:lnTo>
                      <a:pt x="121" y="105"/>
                    </a:lnTo>
                    <a:lnTo>
                      <a:pt x="129" y="121"/>
                    </a:lnTo>
                    <a:lnTo>
                      <a:pt x="133" y="136"/>
                    </a:lnTo>
                    <a:lnTo>
                      <a:pt x="139" y="150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9"/>
                    </a:lnTo>
                    <a:lnTo>
                      <a:pt x="215" y="510"/>
                    </a:lnTo>
                    <a:lnTo>
                      <a:pt x="233" y="556"/>
                    </a:lnTo>
                    <a:lnTo>
                      <a:pt x="243" y="556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8903520" y="5419440"/>
                <a:ext cx="128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8964000" y="5410440"/>
                <a:ext cx="8604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5"/>
                    </a:lnTo>
                    <a:lnTo>
                      <a:pt x="136" y="75"/>
                    </a:lnTo>
                    <a:lnTo>
                      <a:pt x="129" y="90"/>
                    </a:lnTo>
                    <a:lnTo>
                      <a:pt x="122" y="104"/>
                    </a:lnTo>
                    <a:lnTo>
                      <a:pt x="115" y="121"/>
                    </a:lnTo>
                    <a:lnTo>
                      <a:pt x="110" y="135"/>
                    </a:lnTo>
                    <a:lnTo>
                      <a:pt x="104" y="150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9"/>
                    </a:lnTo>
                    <a:lnTo>
                      <a:pt x="28" y="509"/>
                    </a:lnTo>
                    <a:lnTo>
                      <a:pt x="10" y="556"/>
                    </a:lnTo>
                    <a:lnTo>
                      <a:pt x="0" y="55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8600400" y="588312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8579160" y="5874120"/>
                <a:ext cx="88200" cy="197640"/>
              </a:xfrm>
              <a:custGeom>
                <a:avLst/>
                <a:gdLst/>
                <a:ahLst/>
                <a:rect l="l" t="t" r="r" b="b"/>
                <a:pathLst>
                  <a:path w="243" h="555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5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4"/>
                    </a:lnTo>
                    <a:lnTo>
                      <a:pt x="107" y="75"/>
                    </a:lnTo>
                    <a:lnTo>
                      <a:pt x="114" y="89"/>
                    </a:lnTo>
                    <a:lnTo>
                      <a:pt x="121" y="104"/>
                    </a:lnTo>
                    <a:lnTo>
                      <a:pt x="129" y="120"/>
                    </a:lnTo>
                    <a:lnTo>
                      <a:pt x="133" y="135"/>
                    </a:lnTo>
                    <a:lnTo>
                      <a:pt x="139" y="149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8"/>
                    </a:lnTo>
                    <a:lnTo>
                      <a:pt x="215" y="509"/>
                    </a:lnTo>
                    <a:lnTo>
                      <a:pt x="233" y="555"/>
                    </a:lnTo>
                    <a:lnTo>
                      <a:pt x="243" y="555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903520" y="5884560"/>
                <a:ext cx="128160" cy="1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8964000" y="5875920"/>
                <a:ext cx="86040" cy="198000"/>
              </a:xfrm>
              <a:custGeom>
                <a:avLst/>
                <a:gdLst/>
                <a:ahLst/>
                <a:rect l="l" t="t" r="r" b="b"/>
                <a:pathLst>
                  <a:path w="243" h="555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4"/>
                    </a:lnTo>
                    <a:lnTo>
                      <a:pt x="136" y="74"/>
                    </a:lnTo>
                    <a:lnTo>
                      <a:pt x="129" y="89"/>
                    </a:lnTo>
                    <a:lnTo>
                      <a:pt x="122" y="103"/>
                    </a:lnTo>
                    <a:lnTo>
                      <a:pt x="115" y="120"/>
                    </a:lnTo>
                    <a:lnTo>
                      <a:pt x="110" y="134"/>
                    </a:lnTo>
                    <a:lnTo>
                      <a:pt x="104" y="149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8"/>
                    </a:lnTo>
                    <a:lnTo>
                      <a:pt x="28" y="508"/>
                    </a:lnTo>
                    <a:lnTo>
                      <a:pt x="10" y="555"/>
                    </a:lnTo>
                    <a:lnTo>
                      <a:pt x="0" y="55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8600400" y="5649480"/>
                <a:ext cx="124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8579160" y="5640480"/>
                <a:ext cx="88200" cy="199440"/>
              </a:xfrm>
              <a:custGeom>
                <a:avLst/>
                <a:gdLst/>
                <a:ahLst/>
                <a:rect l="l" t="t" r="r" b="b"/>
                <a:pathLst>
                  <a:path w="243" h="557">
                    <a:moveTo>
                      <a:pt x="240" y="0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42" y="15"/>
                    </a:lnTo>
                    <a:lnTo>
                      <a:pt x="54" y="22"/>
                    </a:lnTo>
                    <a:lnTo>
                      <a:pt x="69" y="31"/>
                    </a:lnTo>
                    <a:lnTo>
                      <a:pt x="81" y="42"/>
                    </a:lnTo>
                    <a:lnTo>
                      <a:pt x="90" y="53"/>
                    </a:lnTo>
                    <a:lnTo>
                      <a:pt x="101" y="65"/>
                    </a:lnTo>
                    <a:lnTo>
                      <a:pt x="107" y="76"/>
                    </a:lnTo>
                    <a:lnTo>
                      <a:pt x="114" y="90"/>
                    </a:lnTo>
                    <a:lnTo>
                      <a:pt x="121" y="105"/>
                    </a:lnTo>
                    <a:lnTo>
                      <a:pt x="129" y="122"/>
                    </a:lnTo>
                    <a:lnTo>
                      <a:pt x="133" y="136"/>
                    </a:lnTo>
                    <a:lnTo>
                      <a:pt x="139" y="150"/>
                    </a:lnTo>
                    <a:lnTo>
                      <a:pt x="179" y="333"/>
                    </a:lnTo>
                    <a:lnTo>
                      <a:pt x="194" y="409"/>
                    </a:lnTo>
                    <a:lnTo>
                      <a:pt x="203" y="459"/>
                    </a:lnTo>
                    <a:lnTo>
                      <a:pt x="215" y="510"/>
                    </a:lnTo>
                    <a:lnTo>
                      <a:pt x="233" y="557"/>
                    </a:lnTo>
                    <a:lnTo>
                      <a:pt x="243" y="55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8903520" y="5651280"/>
                <a:ext cx="128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00000"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8964000" y="5642280"/>
                <a:ext cx="86040" cy="197640"/>
              </a:xfrm>
              <a:custGeom>
                <a:avLst/>
                <a:gdLst/>
                <a:ahLst/>
                <a:rect l="l" t="t" r="r" b="b"/>
                <a:pathLst>
                  <a:path w="243" h="556">
                    <a:moveTo>
                      <a:pt x="3" y="0"/>
                    </a:moveTo>
                    <a:lnTo>
                      <a:pt x="243" y="0"/>
                    </a:lnTo>
                    <a:lnTo>
                      <a:pt x="216" y="7"/>
                    </a:lnTo>
                    <a:lnTo>
                      <a:pt x="201" y="14"/>
                    </a:lnTo>
                    <a:lnTo>
                      <a:pt x="189" y="21"/>
                    </a:lnTo>
                    <a:lnTo>
                      <a:pt x="175" y="31"/>
                    </a:lnTo>
                    <a:lnTo>
                      <a:pt x="163" y="42"/>
                    </a:lnTo>
                    <a:lnTo>
                      <a:pt x="153" y="53"/>
                    </a:lnTo>
                    <a:lnTo>
                      <a:pt x="142" y="65"/>
                    </a:lnTo>
                    <a:lnTo>
                      <a:pt x="136" y="76"/>
                    </a:lnTo>
                    <a:lnTo>
                      <a:pt x="129" y="90"/>
                    </a:lnTo>
                    <a:lnTo>
                      <a:pt x="122" y="104"/>
                    </a:lnTo>
                    <a:lnTo>
                      <a:pt x="115" y="121"/>
                    </a:lnTo>
                    <a:lnTo>
                      <a:pt x="110" y="136"/>
                    </a:lnTo>
                    <a:lnTo>
                      <a:pt x="104" y="150"/>
                    </a:lnTo>
                    <a:lnTo>
                      <a:pt x="64" y="333"/>
                    </a:lnTo>
                    <a:lnTo>
                      <a:pt x="50" y="408"/>
                    </a:lnTo>
                    <a:lnTo>
                      <a:pt x="40" y="459"/>
                    </a:lnTo>
                    <a:lnTo>
                      <a:pt x="28" y="509"/>
                    </a:lnTo>
                    <a:lnTo>
                      <a:pt x="10" y="556"/>
                    </a:lnTo>
                    <a:lnTo>
                      <a:pt x="0" y="55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8724240" y="5251680"/>
                <a:ext cx="180360" cy="135720"/>
              </a:xfrm>
              <a:custGeom>
                <a:avLst/>
                <a:gdLst/>
                <a:ahLst/>
                <a:rect l="l" t="t" r="r" b="b"/>
                <a:pathLst>
                  <a:path w="500" h="377">
                    <a:moveTo>
                      <a:pt x="160" y="375"/>
                    </a:moveTo>
                    <a:lnTo>
                      <a:pt x="160" y="292"/>
                    </a:lnTo>
                    <a:lnTo>
                      <a:pt x="61" y="292"/>
                    </a:lnTo>
                    <a:lnTo>
                      <a:pt x="50" y="289"/>
                    </a:lnTo>
                    <a:lnTo>
                      <a:pt x="41" y="286"/>
                    </a:lnTo>
                    <a:lnTo>
                      <a:pt x="31" y="280"/>
                    </a:lnTo>
                    <a:lnTo>
                      <a:pt x="21" y="273"/>
                    </a:lnTo>
                    <a:lnTo>
                      <a:pt x="13" y="265"/>
                    </a:lnTo>
                    <a:lnTo>
                      <a:pt x="7" y="255"/>
                    </a:lnTo>
                    <a:lnTo>
                      <a:pt x="3" y="248"/>
                    </a:lnTo>
                    <a:lnTo>
                      <a:pt x="0" y="237"/>
                    </a:lnTo>
                    <a:lnTo>
                      <a:pt x="0" y="226"/>
                    </a:lnTo>
                    <a:lnTo>
                      <a:pt x="0" y="216"/>
                    </a:lnTo>
                    <a:lnTo>
                      <a:pt x="3" y="204"/>
                    </a:lnTo>
                    <a:lnTo>
                      <a:pt x="10" y="191"/>
                    </a:lnTo>
                    <a:lnTo>
                      <a:pt x="19" y="181"/>
                    </a:lnTo>
                    <a:lnTo>
                      <a:pt x="29" y="171"/>
                    </a:lnTo>
                    <a:lnTo>
                      <a:pt x="41" y="163"/>
                    </a:lnTo>
                    <a:lnTo>
                      <a:pt x="49" y="157"/>
                    </a:lnTo>
                    <a:lnTo>
                      <a:pt x="60" y="153"/>
                    </a:lnTo>
                    <a:lnTo>
                      <a:pt x="162" y="153"/>
                    </a:lnTo>
                    <a:lnTo>
                      <a:pt x="162" y="80"/>
                    </a:lnTo>
                    <a:lnTo>
                      <a:pt x="166" y="70"/>
                    </a:lnTo>
                    <a:lnTo>
                      <a:pt x="172" y="58"/>
                    </a:lnTo>
                    <a:lnTo>
                      <a:pt x="178" y="47"/>
                    </a:lnTo>
                    <a:lnTo>
                      <a:pt x="187" y="35"/>
                    </a:lnTo>
                    <a:lnTo>
                      <a:pt x="198" y="24"/>
                    </a:lnTo>
                    <a:lnTo>
                      <a:pt x="209" y="16"/>
                    </a:lnTo>
                    <a:lnTo>
                      <a:pt x="218" y="10"/>
                    </a:lnTo>
                    <a:lnTo>
                      <a:pt x="232" y="4"/>
                    </a:lnTo>
                    <a:lnTo>
                      <a:pt x="246" y="0"/>
                    </a:lnTo>
                    <a:lnTo>
                      <a:pt x="261" y="0"/>
                    </a:lnTo>
                    <a:lnTo>
                      <a:pt x="276" y="3"/>
                    </a:lnTo>
                    <a:lnTo>
                      <a:pt x="289" y="9"/>
                    </a:lnTo>
                    <a:lnTo>
                      <a:pt x="300" y="15"/>
                    </a:lnTo>
                    <a:lnTo>
                      <a:pt x="312" y="24"/>
                    </a:lnTo>
                    <a:lnTo>
                      <a:pt x="325" y="36"/>
                    </a:lnTo>
                    <a:lnTo>
                      <a:pt x="335" y="47"/>
                    </a:lnTo>
                    <a:lnTo>
                      <a:pt x="340" y="58"/>
                    </a:lnTo>
                    <a:lnTo>
                      <a:pt x="345" y="70"/>
                    </a:lnTo>
                    <a:lnTo>
                      <a:pt x="347" y="85"/>
                    </a:lnTo>
                    <a:lnTo>
                      <a:pt x="347" y="152"/>
                    </a:lnTo>
                    <a:lnTo>
                      <a:pt x="443" y="152"/>
                    </a:lnTo>
                    <a:lnTo>
                      <a:pt x="454" y="157"/>
                    </a:lnTo>
                    <a:lnTo>
                      <a:pt x="464" y="163"/>
                    </a:lnTo>
                    <a:lnTo>
                      <a:pt x="473" y="170"/>
                    </a:lnTo>
                    <a:lnTo>
                      <a:pt x="483" y="179"/>
                    </a:lnTo>
                    <a:lnTo>
                      <a:pt x="490" y="189"/>
                    </a:lnTo>
                    <a:lnTo>
                      <a:pt x="496" y="200"/>
                    </a:lnTo>
                    <a:lnTo>
                      <a:pt x="498" y="212"/>
                    </a:lnTo>
                    <a:lnTo>
                      <a:pt x="500" y="223"/>
                    </a:lnTo>
                    <a:lnTo>
                      <a:pt x="500" y="236"/>
                    </a:lnTo>
                    <a:lnTo>
                      <a:pt x="496" y="247"/>
                    </a:lnTo>
                    <a:lnTo>
                      <a:pt x="490" y="259"/>
                    </a:lnTo>
                    <a:lnTo>
                      <a:pt x="483" y="268"/>
                    </a:lnTo>
                    <a:lnTo>
                      <a:pt x="474" y="278"/>
                    </a:lnTo>
                    <a:lnTo>
                      <a:pt x="464" y="284"/>
                    </a:lnTo>
                    <a:lnTo>
                      <a:pt x="442" y="292"/>
                    </a:lnTo>
                    <a:lnTo>
                      <a:pt x="347" y="292"/>
                    </a:lnTo>
                    <a:lnTo>
                      <a:pt x="347" y="377"/>
                    </a:lnTo>
                    <a:lnTo>
                      <a:pt x="160" y="375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8791200" y="5308560"/>
                <a:ext cx="49680" cy="50400"/>
              </a:xfrm>
              <a:prstGeom prst="ellipse">
                <a:avLst/>
              </a:prstGeom>
              <a:solidFill>
                <a:srgbClr val="ffa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8661240" y="5376600"/>
                <a:ext cx="308160" cy="72720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8708400" y="5396400"/>
                <a:ext cx="213840" cy="1908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1" y="168"/>
                    </a:lnTo>
                    <a:lnTo>
                      <a:pt x="6" y="150"/>
                    </a:lnTo>
                    <a:lnTo>
                      <a:pt x="13" y="134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1"/>
                    </a:lnTo>
                    <a:lnTo>
                      <a:pt x="68" y="68"/>
                    </a:lnTo>
                    <a:lnTo>
                      <a:pt x="88" y="56"/>
                    </a:lnTo>
                    <a:lnTo>
                      <a:pt x="112" y="43"/>
                    </a:lnTo>
                    <a:lnTo>
                      <a:pt x="134" y="32"/>
                    </a:lnTo>
                    <a:lnTo>
                      <a:pt x="162" y="22"/>
                    </a:lnTo>
                    <a:lnTo>
                      <a:pt x="187" y="14"/>
                    </a:lnTo>
                    <a:lnTo>
                      <a:pt x="217" y="8"/>
                    </a:lnTo>
                    <a:lnTo>
                      <a:pt x="244" y="3"/>
                    </a:lnTo>
                    <a:lnTo>
                      <a:pt x="265" y="2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2"/>
                    </a:lnTo>
                    <a:lnTo>
                      <a:pt x="359" y="4"/>
                    </a:lnTo>
                    <a:lnTo>
                      <a:pt x="383" y="9"/>
                    </a:lnTo>
                    <a:lnTo>
                      <a:pt x="405" y="14"/>
                    </a:lnTo>
                    <a:lnTo>
                      <a:pt x="428" y="21"/>
                    </a:lnTo>
                    <a:lnTo>
                      <a:pt x="448" y="28"/>
                    </a:lnTo>
                    <a:lnTo>
                      <a:pt x="470" y="38"/>
                    </a:lnTo>
                    <a:lnTo>
                      <a:pt x="485" y="45"/>
                    </a:lnTo>
                    <a:lnTo>
                      <a:pt x="499" y="54"/>
                    </a:lnTo>
                    <a:lnTo>
                      <a:pt x="512" y="62"/>
                    </a:lnTo>
                    <a:lnTo>
                      <a:pt x="526" y="72"/>
                    </a:lnTo>
                    <a:lnTo>
                      <a:pt x="539" y="83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2" y="122"/>
                    </a:lnTo>
                    <a:lnTo>
                      <a:pt x="579" y="133"/>
                    </a:lnTo>
                    <a:lnTo>
                      <a:pt x="585" y="145"/>
                    </a:lnTo>
                    <a:lnTo>
                      <a:pt x="590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1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8708400" y="5405040"/>
                <a:ext cx="213840" cy="192600"/>
              </a:xfrm>
              <a:custGeom>
                <a:avLst/>
                <a:gdLst/>
                <a:ahLst/>
                <a:rect l="l" t="t" r="r" b="b"/>
                <a:pathLst>
                  <a:path w="595" h="539">
                    <a:moveTo>
                      <a:pt x="0" y="184"/>
                    </a:moveTo>
                    <a:lnTo>
                      <a:pt x="1" y="169"/>
                    </a:lnTo>
                    <a:lnTo>
                      <a:pt x="6" y="151"/>
                    </a:lnTo>
                    <a:lnTo>
                      <a:pt x="13" y="135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8" y="69"/>
                    </a:lnTo>
                    <a:lnTo>
                      <a:pt x="88" y="57"/>
                    </a:lnTo>
                    <a:lnTo>
                      <a:pt x="112" y="44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7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8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9" y="55"/>
                    </a:lnTo>
                    <a:lnTo>
                      <a:pt x="512" y="63"/>
                    </a:lnTo>
                    <a:lnTo>
                      <a:pt x="526" y="73"/>
                    </a:lnTo>
                    <a:lnTo>
                      <a:pt x="539" y="83"/>
                    </a:lnTo>
                    <a:lnTo>
                      <a:pt x="553" y="98"/>
                    </a:lnTo>
                    <a:lnTo>
                      <a:pt x="564" y="111"/>
                    </a:lnTo>
                    <a:lnTo>
                      <a:pt x="572" y="123"/>
                    </a:lnTo>
                    <a:lnTo>
                      <a:pt x="579" y="134"/>
                    </a:lnTo>
                    <a:lnTo>
                      <a:pt x="585" y="146"/>
                    </a:lnTo>
                    <a:lnTo>
                      <a:pt x="590" y="158"/>
                    </a:lnTo>
                    <a:lnTo>
                      <a:pt x="595" y="172"/>
                    </a:lnTo>
                    <a:lnTo>
                      <a:pt x="595" y="539"/>
                    </a:lnTo>
                    <a:lnTo>
                      <a:pt x="1" y="53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8723160" y="5414040"/>
                <a:ext cx="181440" cy="180000"/>
              </a:xfrm>
              <a:prstGeom prst="ellipse">
                <a:avLst/>
              </a:prstGeom>
              <a:solidFill>
                <a:srgbClr val="ff404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5" name=""/>
              <p:cNvGrpSpPr/>
              <p:nvPr/>
            </p:nvGrpSpPr>
            <p:grpSpPr>
              <a:xfrm>
                <a:off x="8825400" y="5432040"/>
                <a:ext cx="31680" cy="27720"/>
                <a:chOff x="8825400" y="5432040"/>
                <a:chExt cx="31680" cy="27720"/>
              </a:xfrm>
            </p:grpSpPr>
            <p:sp>
              <p:nvSpPr>
                <p:cNvPr id="3496" name=""/>
                <p:cNvSpPr/>
                <p:nvPr/>
              </p:nvSpPr>
              <p:spPr>
                <a:xfrm>
                  <a:off x="8825400" y="5432040"/>
                  <a:ext cx="19440" cy="19080"/>
                </a:xfrm>
                <a:prstGeom prst="ellipse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841600" y="5444280"/>
                  <a:ext cx="15480" cy="15480"/>
                </a:xfrm>
                <a:prstGeom prst="ellipse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8" name=""/>
              <p:cNvSpPr/>
              <p:nvPr/>
            </p:nvSpPr>
            <p:spPr>
              <a:xfrm>
                <a:off x="8701560" y="5638680"/>
                <a:ext cx="214200" cy="1908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1" y="168"/>
                    </a:lnTo>
                    <a:lnTo>
                      <a:pt x="6" y="150"/>
                    </a:lnTo>
                    <a:lnTo>
                      <a:pt x="13" y="135"/>
                    </a:lnTo>
                    <a:lnTo>
                      <a:pt x="23" y="119"/>
                    </a:lnTo>
                    <a:lnTo>
                      <a:pt x="31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9" y="69"/>
                    </a:lnTo>
                    <a:lnTo>
                      <a:pt x="88" y="57"/>
                    </a:lnTo>
                    <a:lnTo>
                      <a:pt x="112" y="43"/>
                    </a:lnTo>
                    <a:lnTo>
                      <a:pt x="135" y="32"/>
                    </a:lnTo>
                    <a:lnTo>
                      <a:pt x="162" y="23"/>
                    </a:lnTo>
                    <a:lnTo>
                      <a:pt x="189" y="14"/>
                    </a:lnTo>
                    <a:lnTo>
                      <a:pt x="218" y="8"/>
                    </a:lnTo>
                    <a:lnTo>
                      <a:pt x="244" y="4"/>
                    </a:lnTo>
                    <a:lnTo>
                      <a:pt x="266" y="2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2"/>
                    </a:lnTo>
                    <a:lnTo>
                      <a:pt x="360" y="5"/>
                    </a:lnTo>
                    <a:lnTo>
                      <a:pt x="384" y="10"/>
                    </a:lnTo>
                    <a:lnTo>
                      <a:pt x="405" y="14"/>
                    </a:lnTo>
                    <a:lnTo>
                      <a:pt x="428" y="22"/>
                    </a:lnTo>
                    <a:lnTo>
                      <a:pt x="449" y="29"/>
                    </a:lnTo>
                    <a:lnTo>
                      <a:pt x="470" y="38"/>
                    </a:lnTo>
                    <a:lnTo>
                      <a:pt x="486" y="46"/>
                    </a:lnTo>
                    <a:lnTo>
                      <a:pt x="499" y="54"/>
                    </a:lnTo>
                    <a:lnTo>
                      <a:pt x="512" y="63"/>
                    </a:lnTo>
                    <a:lnTo>
                      <a:pt x="527" y="72"/>
                    </a:lnTo>
                    <a:lnTo>
                      <a:pt x="540" y="83"/>
                    </a:lnTo>
                    <a:lnTo>
                      <a:pt x="553" y="97"/>
                    </a:lnTo>
                    <a:lnTo>
                      <a:pt x="564" y="111"/>
                    </a:lnTo>
                    <a:lnTo>
                      <a:pt x="572" y="123"/>
                    </a:lnTo>
                    <a:lnTo>
                      <a:pt x="580" y="133"/>
                    </a:lnTo>
                    <a:lnTo>
                      <a:pt x="586" y="145"/>
                    </a:lnTo>
                    <a:lnTo>
                      <a:pt x="590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1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8702640" y="5645880"/>
                <a:ext cx="213840" cy="19260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5"/>
                    </a:moveTo>
                    <a:lnTo>
                      <a:pt x="2" y="168"/>
                    </a:lnTo>
                    <a:lnTo>
                      <a:pt x="6" y="150"/>
                    </a:lnTo>
                    <a:lnTo>
                      <a:pt x="14" y="134"/>
                    </a:lnTo>
                    <a:lnTo>
                      <a:pt x="23" y="119"/>
                    </a:lnTo>
                    <a:lnTo>
                      <a:pt x="32" y="107"/>
                    </a:lnTo>
                    <a:lnTo>
                      <a:pt x="41" y="95"/>
                    </a:lnTo>
                    <a:lnTo>
                      <a:pt x="53" y="82"/>
                    </a:lnTo>
                    <a:lnTo>
                      <a:pt x="69" y="68"/>
                    </a:lnTo>
                    <a:lnTo>
                      <a:pt x="88" y="56"/>
                    </a:lnTo>
                    <a:lnTo>
                      <a:pt x="112" y="43"/>
                    </a:lnTo>
                    <a:lnTo>
                      <a:pt x="135" y="32"/>
                    </a:lnTo>
                    <a:lnTo>
                      <a:pt x="163" y="23"/>
                    </a:lnTo>
                    <a:lnTo>
                      <a:pt x="189" y="14"/>
                    </a:lnTo>
                    <a:lnTo>
                      <a:pt x="218" y="8"/>
                    </a:lnTo>
                    <a:lnTo>
                      <a:pt x="244" y="3"/>
                    </a:lnTo>
                    <a:lnTo>
                      <a:pt x="266" y="2"/>
                    </a:lnTo>
                    <a:lnTo>
                      <a:pt x="291" y="0"/>
                    </a:lnTo>
                    <a:lnTo>
                      <a:pt x="318" y="0"/>
                    </a:lnTo>
                    <a:lnTo>
                      <a:pt x="338" y="2"/>
                    </a:lnTo>
                    <a:lnTo>
                      <a:pt x="360" y="5"/>
                    </a:lnTo>
                    <a:lnTo>
                      <a:pt x="384" y="9"/>
                    </a:lnTo>
                    <a:lnTo>
                      <a:pt x="405" y="14"/>
                    </a:lnTo>
                    <a:lnTo>
                      <a:pt x="428" y="21"/>
                    </a:lnTo>
                    <a:lnTo>
                      <a:pt x="449" y="29"/>
                    </a:lnTo>
                    <a:lnTo>
                      <a:pt x="470" y="38"/>
                    </a:lnTo>
                    <a:lnTo>
                      <a:pt x="486" y="46"/>
                    </a:lnTo>
                    <a:lnTo>
                      <a:pt x="499" y="54"/>
                    </a:lnTo>
                    <a:lnTo>
                      <a:pt x="512" y="62"/>
                    </a:lnTo>
                    <a:lnTo>
                      <a:pt x="527" y="72"/>
                    </a:lnTo>
                    <a:lnTo>
                      <a:pt x="540" y="83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3" y="122"/>
                    </a:lnTo>
                    <a:lnTo>
                      <a:pt x="580" y="133"/>
                    </a:lnTo>
                    <a:lnTo>
                      <a:pt x="586" y="145"/>
                    </a:lnTo>
                    <a:lnTo>
                      <a:pt x="591" y="157"/>
                    </a:lnTo>
                    <a:lnTo>
                      <a:pt x="595" y="173"/>
                    </a:lnTo>
                    <a:lnTo>
                      <a:pt x="595" y="538"/>
                    </a:lnTo>
                    <a:lnTo>
                      <a:pt x="2" y="536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8717400" y="5654520"/>
                <a:ext cx="181440" cy="18180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1" name=""/>
              <p:cNvGrpSpPr/>
              <p:nvPr/>
            </p:nvGrpSpPr>
            <p:grpSpPr>
              <a:xfrm>
                <a:off x="8819280" y="5672520"/>
                <a:ext cx="32040" cy="27720"/>
                <a:chOff x="8819280" y="5672520"/>
                <a:chExt cx="32040" cy="27720"/>
              </a:xfrm>
            </p:grpSpPr>
            <p:sp>
              <p:nvSpPr>
                <p:cNvPr id="3502" name=""/>
                <p:cNvSpPr/>
                <p:nvPr/>
              </p:nvSpPr>
              <p:spPr>
                <a:xfrm>
                  <a:off x="8819280" y="5672520"/>
                  <a:ext cx="21600" cy="20880"/>
                </a:xfrm>
                <a:prstGeom prst="ellipse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8835120" y="5684760"/>
                  <a:ext cx="16200" cy="15480"/>
                </a:xfrm>
                <a:prstGeom prst="ellipse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4" name=""/>
              <p:cNvSpPr/>
              <p:nvPr/>
            </p:nvSpPr>
            <p:spPr>
              <a:xfrm>
                <a:off x="8706600" y="5868720"/>
                <a:ext cx="214200" cy="190800"/>
              </a:xfrm>
              <a:custGeom>
                <a:avLst/>
                <a:gdLst/>
                <a:ahLst/>
                <a:rect l="l" t="t" r="r" b="b"/>
                <a:pathLst>
                  <a:path w="595" h="537">
                    <a:moveTo>
                      <a:pt x="0" y="184"/>
                    </a:moveTo>
                    <a:lnTo>
                      <a:pt x="1" y="167"/>
                    </a:lnTo>
                    <a:lnTo>
                      <a:pt x="6" y="149"/>
                    </a:lnTo>
                    <a:lnTo>
                      <a:pt x="13" y="134"/>
                    </a:lnTo>
                    <a:lnTo>
                      <a:pt x="22" y="118"/>
                    </a:lnTo>
                    <a:lnTo>
                      <a:pt x="31" y="106"/>
                    </a:lnTo>
                    <a:lnTo>
                      <a:pt x="40" y="94"/>
                    </a:lnTo>
                    <a:lnTo>
                      <a:pt x="52" y="81"/>
                    </a:lnTo>
                    <a:lnTo>
                      <a:pt x="68" y="69"/>
                    </a:lnTo>
                    <a:lnTo>
                      <a:pt x="87" y="57"/>
                    </a:lnTo>
                    <a:lnTo>
                      <a:pt x="111" y="43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8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0" y="0"/>
                    </a:lnTo>
                    <a:lnTo>
                      <a:pt x="317" y="0"/>
                    </a:lnTo>
                    <a:lnTo>
                      <a:pt x="337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7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8" y="54"/>
                    </a:lnTo>
                    <a:lnTo>
                      <a:pt x="512" y="63"/>
                    </a:lnTo>
                    <a:lnTo>
                      <a:pt x="526" y="72"/>
                    </a:lnTo>
                    <a:lnTo>
                      <a:pt x="539" y="82"/>
                    </a:lnTo>
                    <a:lnTo>
                      <a:pt x="553" y="96"/>
                    </a:lnTo>
                    <a:lnTo>
                      <a:pt x="563" y="110"/>
                    </a:lnTo>
                    <a:lnTo>
                      <a:pt x="572" y="122"/>
                    </a:lnTo>
                    <a:lnTo>
                      <a:pt x="579" y="132"/>
                    </a:lnTo>
                    <a:lnTo>
                      <a:pt x="585" y="144"/>
                    </a:lnTo>
                    <a:lnTo>
                      <a:pt x="590" y="156"/>
                    </a:lnTo>
                    <a:lnTo>
                      <a:pt x="595" y="172"/>
                    </a:lnTo>
                    <a:lnTo>
                      <a:pt x="595" y="537"/>
                    </a:lnTo>
                    <a:lnTo>
                      <a:pt x="1" y="535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8708400" y="5874120"/>
                <a:ext cx="213840" cy="192240"/>
              </a:xfrm>
              <a:custGeom>
                <a:avLst/>
                <a:gdLst/>
                <a:ahLst/>
                <a:rect l="l" t="t" r="r" b="b"/>
                <a:pathLst>
                  <a:path w="595" h="538">
                    <a:moveTo>
                      <a:pt x="0" y="184"/>
                    </a:moveTo>
                    <a:lnTo>
                      <a:pt x="1" y="167"/>
                    </a:lnTo>
                    <a:lnTo>
                      <a:pt x="6" y="149"/>
                    </a:lnTo>
                    <a:lnTo>
                      <a:pt x="13" y="134"/>
                    </a:lnTo>
                    <a:lnTo>
                      <a:pt x="23" y="118"/>
                    </a:lnTo>
                    <a:lnTo>
                      <a:pt x="31" y="106"/>
                    </a:lnTo>
                    <a:lnTo>
                      <a:pt x="41" y="94"/>
                    </a:lnTo>
                    <a:lnTo>
                      <a:pt x="53" y="81"/>
                    </a:lnTo>
                    <a:lnTo>
                      <a:pt x="68" y="68"/>
                    </a:lnTo>
                    <a:lnTo>
                      <a:pt x="88" y="56"/>
                    </a:lnTo>
                    <a:lnTo>
                      <a:pt x="112" y="44"/>
                    </a:lnTo>
                    <a:lnTo>
                      <a:pt x="134" y="33"/>
                    </a:lnTo>
                    <a:lnTo>
                      <a:pt x="162" y="23"/>
                    </a:lnTo>
                    <a:lnTo>
                      <a:pt x="187" y="15"/>
                    </a:lnTo>
                    <a:lnTo>
                      <a:pt x="217" y="9"/>
                    </a:lnTo>
                    <a:lnTo>
                      <a:pt x="244" y="4"/>
                    </a:lnTo>
                    <a:lnTo>
                      <a:pt x="265" y="3"/>
                    </a:lnTo>
                    <a:lnTo>
                      <a:pt x="291" y="0"/>
                    </a:lnTo>
                    <a:lnTo>
                      <a:pt x="317" y="0"/>
                    </a:lnTo>
                    <a:lnTo>
                      <a:pt x="338" y="3"/>
                    </a:lnTo>
                    <a:lnTo>
                      <a:pt x="359" y="5"/>
                    </a:lnTo>
                    <a:lnTo>
                      <a:pt x="383" y="10"/>
                    </a:lnTo>
                    <a:lnTo>
                      <a:pt x="405" y="15"/>
                    </a:lnTo>
                    <a:lnTo>
                      <a:pt x="428" y="22"/>
                    </a:lnTo>
                    <a:lnTo>
                      <a:pt x="448" y="29"/>
                    </a:lnTo>
                    <a:lnTo>
                      <a:pt x="470" y="39"/>
                    </a:lnTo>
                    <a:lnTo>
                      <a:pt x="485" y="46"/>
                    </a:lnTo>
                    <a:lnTo>
                      <a:pt x="499" y="55"/>
                    </a:lnTo>
                    <a:lnTo>
                      <a:pt x="512" y="62"/>
                    </a:lnTo>
                    <a:lnTo>
                      <a:pt x="526" y="71"/>
                    </a:lnTo>
                    <a:lnTo>
                      <a:pt x="539" y="82"/>
                    </a:lnTo>
                    <a:lnTo>
                      <a:pt x="553" y="97"/>
                    </a:lnTo>
                    <a:lnTo>
                      <a:pt x="564" y="110"/>
                    </a:lnTo>
                    <a:lnTo>
                      <a:pt x="572" y="122"/>
                    </a:lnTo>
                    <a:lnTo>
                      <a:pt x="579" y="133"/>
                    </a:lnTo>
                    <a:lnTo>
                      <a:pt x="585" y="145"/>
                    </a:lnTo>
                    <a:lnTo>
                      <a:pt x="590" y="157"/>
                    </a:lnTo>
                    <a:lnTo>
                      <a:pt x="595" y="172"/>
                    </a:lnTo>
                    <a:lnTo>
                      <a:pt x="595" y="538"/>
                    </a:lnTo>
                    <a:lnTo>
                      <a:pt x="1" y="535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8723160" y="5883120"/>
                <a:ext cx="181440" cy="180000"/>
              </a:xfrm>
              <a:prstGeom prst="ellipse">
                <a:avLst/>
              </a:prstGeom>
              <a:solidFill>
                <a:srgbClr val="66ff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7" name=""/>
              <p:cNvGrpSpPr/>
              <p:nvPr/>
            </p:nvGrpSpPr>
            <p:grpSpPr>
              <a:xfrm>
                <a:off x="8825400" y="5900760"/>
                <a:ext cx="31680" cy="27720"/>
                <a:chOff x="8825400" y="5900760"/>
                <a:chExt cx="31680" cy="27720"/>
              </a:xfrm>
            </p:grpSpPr>
            <p:sp>
              <p:nvSpPr>
                <p:cNvPr id="3508" name=""/>
                <p:cNvSpPr/>
                <p:nvPr/>
              </p:nvSpPr>
              <p:spPr>
                <a:xfrm>
                  <a:off x="8825400" y="5900760"/>
                  <a:ext cx="19440" cy="19080"/>
                </a:xfrm>
                <a:prstGeom prst="ellipse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8841600" y="5913000"/>
                  <a:ext cx="15480" cy="15480"/>
                </a:xfrm>
                <a:prstGeom prst="ellipse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0" name=""/>
            <p:cNvGrpSpPr/>
            <p:nvPr/>
          </p:nvGrpSpPr>
          <p:grpSpPr>
            <a:xfrm>
              <a:off x="371520" y="1401840"/>
              <a:ext cx="3576600" cy="1274760"/>
              <a:chOff x="371520" y="1401840"/>
              <a:chExt cx="3576600" cy="1274760"/>
            </a:xfrm>
          </p:grpSpPr>
          <p:sp>
            <p:nvSpPr>
              <p:cNvPr id="3511" name=""/>
              <p:cNvSpPr/>
              <p:nvPr/>
            </p:nvSpPr>
            <p:spPr>
              <a:xfrm>
                <a:off x="371520" y="1401840"/>
                <a:ext cx="3576600" cy="1274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1401840"/>
                <a:ext cx="3567960" cy="120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13" name=""/>
            <p:cNvSpPr/>
            <p:nvPr/>
          </p:nvSpPr>
          <p:spPr>
            <a:xfrm>
              <a:off x="733320" y="1120680"/>
              <a:ext cx="253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o de refe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4" name=""/>
            <p:cNvGrpSpPr/>
            <p:nvPr/>
          </p:nvGrpSpPr>
          <p:grpSpPr>
            <a:xfrm>
              <a:off x="271440" y="3568680"/>
              <a:ext cx="1544400" cy="1673280"/>
              <a:chOff x="271440" y="3568680"/>
              <a:chExt cx="1544400" cy="1673280"/>
            </a:xfrm>
          </p:grpSpPr>
          <p:sp>
            <p:nvSpPr>
              <p:cNvPr id="3515" name=""/>
              <p:cNvSpPr/>
              <p:nvPr/>
            </p:nvSpPr>
            <p:spPr>
              <a:xfrm>
                <a:off x="271440" y="3568680"/>
                <a:ext cx="1544400" cy="1673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6" name=""/>
              <p:cNvGrpSpPr/>
              <p:nvPr/>
            </p:nvGrpSpPr>
            <p:grpSpPr>
              <a:xfrm>
                <a:off x="396720" y="3676680"/>
                <a:ext cx="519120" cy="600120"/>
                <a:chOff x="396720" y="3676680"/>
                <a:chExt cx="519120" cy="600120"/>
              </a:xfrm>
            </p:grpSpPr>
            <p:sp>
              <p:nvSpPr>
                <p:cNvPr id="3517" name=""/>
                <p:cNvSpPr/>
                <p:nvPr/>
              </p:nvSpPr>
              <p:spPr>
                <a:xfrm>
                  <a:off x="396720" y="367668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453960" y="37760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453960" y="38257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453960" y="38754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453960" y="39250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53960" y="39751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453960" y="40248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53960" y="40744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453960" y="41245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453960" y="41738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7" name=""/>
              <p:cNvGrpSpPr/>
              <p:nvPr/>
            </p:nvGrpSpPr>
            <p:grpSpPr>
              <a:xfrm>
                <a:off x="603000" y="3935520"/>
                <a:ext cx="519120" cy="600120"/>
                <a:chOff x="603000" y="3935520"/>
                <a:chExt cx="519120" cy="60012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603000" y="393552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660240" y="4034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660240" y="40845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660240" y="41342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660240" y="41839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660240" y="42339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660240" y="42836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660240" y="43333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60240" y="43833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660240" y="44326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8" name=""/>
              <p:cNvGrpSpPr/>
              <p:nvPr/>
            </p:nvGrpSpPr>
            <p:grpSpPr>
              <a:xfrm>
                <a:off x="809640" y="4194360"/>
                <a:ext cx="519120" cy="600120"/>
                <a:chOff x="809640" y="4194360"/>
                <a:chExt cx="519120" cy="600120"/>
              </a:xfrm>
            </p:grpSpPr>
            <p:sp>
              <p:nvSpPr>
                <p:cNvPr id="3539" name=""/>
                <p:cNvSpPr/>
                <p:nvPr/>
              </p:nvSpPr>
              <p:spPr>
                <a:xfrm>
                  <a:off x="809640" y="419436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866880" y="42937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866880" y="43434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866880" y="43930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866880" y="44427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866880" y="44928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866880" y="45424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866880" y="45921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866880" y="4642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866880" y="469152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9" name=""/>
              <p:cNvGrpSpPr/>
              <p:nvPr/>
            </p:nvGrpSpPr>
            <p:grpSpPr>
              <a:xfrm>
                <a:off x="1015920" y="4452840"/>
                <a:ext cx="519120" cy="600120"/>
                <a:chOff x="1015920" y="4452840"/>
                <a:chExt cx="519120" cy="600120"/>
              </a:xfrm>
            </p:grpSpPr>
            <p:sp>
              <p:nvSpPr>
                <p:cNvPr id="3550" name=""/>
                <p:cNvSpPr/>
                <p:nvPr/>
              </p:nvSpPr>
              <p:spPr>
                <a:xfrm>
                  <a:off x="1015920" y="4452840"/>
                  <a:ext cx="519120" cy="6001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1073160" y="45522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1073160" y="46018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1073160" y="46515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1073160" y="47012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1073160" y="47512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1073160" y="480096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1073160" y="485064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1073160" y="490068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1073160" y="4950000"/>
                  <a:ext cx="40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0" name=""/>
            <p:cNvSpPr/>
            <p:nvPr/>
          </p:nvSpPr>
          <p:spPr>
            <a:xfrm rot="5400000">
              <a:off x="1793880" y="425124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 rot="5400000">
              <a:off x="3948120" y="1836720"/>
              <a:ext cx="485640" cy="225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H="1">
              <a:off x="309240" y="2244960"/>
              <a:ext cx="1187640" cy="137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H="1">
              <a:off x="570240" y="2281320"/>
              <a:ext cx="118728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>
              <a:off x="819360" y="2257560"/>
              <a:ext cx="122400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>
              <a:off x="1055520" y="2244960"/>
              <a:ext cx="1176120" cy="15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H="1">
              <a:off x="1247760" y="2257560"/>
              <a:ext cx="1222560" cy="157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1495440" y="2257560"/>
              <a:ext cx="1224000" cy="161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6320" y="5207040"/>
              <a:ext cx="2012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tálogo” de crité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melh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não formalizar, estruturar e sistematizar, pode-se perder a memória e repetir erros do pas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es de registrar, difícil de analisar e ap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ar a todo 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formal para garantir documentação, logo após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um conjunto de taref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xistem sistemas que analisam, classificam e ajudam a recuperar informações não estrutu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(essencial) praticar a gestão do conhecimento, pois só sistemas não garan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lgumas melhores práticas da fase de lançamento de produt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lhar de forma integrada com a área de marketing (veja Quadro 10.4, sobre “Tarefas de marketing no desenvolvimento de produtos?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zar todas os conhecimentos explícitos, acumulados entre si, e “armazenar” no documento de fechamento do projeto (arquivo de projeto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morar os resultados iniciais com o time de desenvolvimento e todas as outras pessoas envolvidas em um  “evento interno de lançamento do produ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158760" y="909720"/>
            <a:ext cx="60912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 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itos e ferram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328680" y="3745080"/>
            <a:ext cx="7388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2136600" y="611280"/>
            <a:ext cx="6945480" cy="6167520"/>
          </a:xfrm>
          <a:custGeom>
            <a:avLst/>
            <a:gdLst/>
            <a:ahLst/>
            <a:rect l="l" t="t" r="r" b="b"/>
            <a:pathLst>
              <a:path w="4375" h="3885">
                <a:moveTo>
                  <a:pt x="0" y="1478"/>
                </a:moveTo>
                <a:lnTo>
                  <a:pt x="863" y="0"/>
                </a:lnTo>
                <a:lnTo>
                  <a:pt x="4375" y="0"/>
                </a:lnTo>
                <a:lnTo>
                  <a:pt x="4369" y="3885"/>
                </a:lnTo>
                <a:lnTo>
                  <a:pt x="906" y="3885"/>
                </a:lnTo>
                <a:lnTo>
                  <a:pt x="8" y="179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059280" y="1233360"/>
            <a:ext cx="1627200" cy="3872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224160" y="2181240"/>
            <a:ext cx="12337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3228840" y="1305000"/>
            <a:ext cx="1224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3228840" y="305748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3228840" y="414648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059280" y="5077440"/>
            <a:ext cx="1627200" cy="85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mente começam a acontecer antes desta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7743960" y="789120"/>
            <a:ext cx="12506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Lanç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781600" y="1455840"/>
            <a:ext cx="15192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7812000" y="2092320"/>
            <a:ext cx="11160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9" name=""/>
          <p:cNvCxnSpPr>
            <a:stCxn id="3588" idx="2"/>
            <a:endCxn id="3590" idx="3"/>
          </p:cNvCxnSpPr>
          <p:nvPr/>
        </p:nvCxnSpPr>
        <p:spPr>
          <a:xfrm rot="5400000">
            <a:off x="7483320" y="2269440"/>
            <a:ext cx="610560" cy="116424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3591" name=""/>
          <p:cNvSpPr/>
          <p:nvPr/>
        </p:nvSpPr>
        <p:spPr>
          <a:xfrm>
            <a:off x="7588080" y="4261680"/>
            <a:ext cx="1143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2" name=""/>
          <p:cNvCxnSpPr>
            <a:stCxn id="3590" idx="2"/>
            <a:endCxn id="3593" idx="0"/>
          </p:cNvCxnSpPr>
          <p:nvPr/>
        </p:nvCxnSpPr>
        <p:spPr>
          <a:xfrm rot="5400000">
            <a:off x="4547520" y="4089240"/>
            <a:ext cx="2278800" cy="17200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4" name=""/>
          <p:cNvCxnSpPr>
            <a:stCxn id="3587" idx="2"/>
            <a:endCxn id="3590" idx="0"/>
          </p:cNvCxnSpPr>
          <p:nvPr/>
        </p:nvCxnSpPr>
        <p:spPr>
          <a:xfrm>
            <a:off x="6541920" y="2122200"/>
            <a:ext cx="5760" cy="37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5" name=""/>
          <p:cNvCxnSpPr>
            <a:stCxn id="3588" idx="1"/>
            <a:endCxn id="3587" idx="3"/>
          </p:cNvCxnSpPr>
          <p:nvPr/>
        </p:nvCxnSpPr>
        <p:spPr>
          <a:xfrm rot="10800000">
            <a:off x="7309800" y="1783800"/>
            <a:ext cx="492840" cy="5306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3596" name=""/>
          <p:cNvCxnSpPr>
            <a:stCxn id="3586" idx="2"/>
            <a:endCxn id="3588" idx="0"/>
          </p:cNvCxnSpPr>
          <p:nvPr/>
        </p:nvCxnSpPr>
        <p:spPr>
          <a:xfrm>
            <a:off x="8369280" y="1242720"/>
            <a:ext cx="2160" cy="84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7" name=""/>
          <p:cNvCxnSpPr>
            <a:stCxn id="3586" idx="1"/>
            <a:endCxn id="3587" idx="0"/>
          </p:cNvCxnSpPr>
          <p:nvPr/>
        </p:nvCxnSpPr>
        <p:spPr>
          <a:xfrm flipV="1" rot="10800000">
            <a:off x="6541920" y="1010880"/>
            <a:ext cx="1192680" cy="435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8" name=""/>
          <p:cNvCxnSpPr>
            <a:stCxn id="3586" idx="1"/>
            <a:endCxn id="3580" idx="0"/>
          </p:cNvCxnSpPr>
          <p:nvPr/>
        </p:nvCxnSpPr>
        <p:spPr>
          <a:xfrm flipV="1" rot="10800000">
            <a:off x="3872880" y="1010160"/>
            <a:ext cx="3861360" cy="2228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99" name=""/>
          <p:cNvGrpSpPr/>
          <p:nvPr/>
        </p:nvGrpSpPr>
        <p:grpSpPr>
          <a:xfrm>
            <a:off x="5894280" y="2509920"/>
            <a:ext cx="1303200" cy="1290600"/>
            <a:chOff x="5894280" y="2509920"/>
            <a:chExt cx="1303200" cy="1290600"/>
          </a:xfrm>
        </p:grpSpPr>
        <p:sp>
          <p:nvSpPr>
            <p:cNvPr id="3590" name=""/>
            <p:cNvSpPr/>
            <p:nvPr/>
          </p:nvSpPr>
          <p:spPr>
            <a:xfrm>
              <a:off x="5894280" y="2509920"/>
              <a:ext cx="1303200" cy="12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nçar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897160" y="259740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897160" y="2924280"/>
              <a:ext cx="184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897160" y="325296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897160" y="358164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04" name=""/>
          <p:cNvCxnSpPr>
            <a:stCxn id="3582" idx="3"/>
            <a:endCxn id="3600" idx="1"/>
          </p:cNvCxnSpPr>
          <p:nvPr/>
        </p:nvCxnSpPr>
        <p:spPr>
          <a:xfrm>
            <a:off x="4462560" y="1633680"/>
            <a:ext cx="1435320" cy="1031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5" name=""/>
          <p:cNvCxnSpPr>
            <a:stCxn id="3581" idx="3"/>
            <a:endCxn id="3601" idx="1"/>
          </p:cNvCxnSpPr>
          <p:nvPr/>
        </p:nvCxnSpPr>
        <p:spPr>
          <a:xfrm>
            <a:off x="4466880" y="2509920"/>
            <a:ext cx="1430640" cy="481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6" name=""/>
          <p:cNvCxnSpPr>
            <a:stCxn id="3583" idx="3"/>
            <a:endCxn id="3602" idx="1"/>
          </p:cNvCxnSpPr>
          <p:nvPr/>
        </p:nvCxnSpPr>
        <p:spPr>
          <a:xfrm flipV="1">
            <a:off x="4462560" y="3319200"/>
            <a:ext cx="1435320" cy="173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7" name=""/>
          <p:cNvCxnSpPr>
            <a:stCxn id="3584" idx="3"/>
            <a:endCxn id="3603" idx="1"/>
          </p:cNvCxnSpPr>
          <p:nvPr/>
        </p:nvCxnSpPr>
        <p:spPr>
          <a:xfrm flipV="1">
            <a:off x="4462560" y="3647880"/>
            <a:ext cx="1435320" cy="933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8" name=""/>
          <p:cNvSpPr/>
          <p:nvPr/>
        </p:nvSpPr>
        <p:spPr>
          <a:xfrm>
            <a:off x="7588080" y="5664240"/>
            <a:ext cx="1405080" cy="106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4111560" y="6097680"/>
            <a:ext cx="1431720" cy="639720"/>
            <a:chOff x="4111560" y="6097680"/>
            <a:chExt cx="1431720" cy="639720"/>
          </a:xfrm>
        </p:grpSpPr>
        <p:sp>
          <p:nvSpPr>
            <p:cNvPr id="3610" name=""/>
            <p:cNvSpPr/>
            <p:nvPr/>
          </p:nvSpPr>
          <p:spPr>
            <a:xfrm>
              <a:off x="5084640" y="6105600"/>
              <a:ext cx="26064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1" name=""/>
            <p:cNvGrpSpPr/>
            <p:nvPr/>
          </p:nvGrpSpPr>
          <p:grpSpPr>
            <a:xfrm>
              <a:off x="4111560" y="6097680"/>
              <a:ext cx="1431720" cy="639720"/>
              <a:chOff x="4111560" y="6097680"/>
              <a:chExt cx="1431720" cy="639720"/>
            </a:xfrm>
          </p:grpSpPr>
          <p:grpSp>
            <p:nvGrpSpPr>
              <p:cNvPr id="3612" name=""/>
              <p:cNvGrpSpPr/>
              <p:nvPr/>
            </p:nvGrpSpPr>
            <p:grpSpPr>
              <a:xfrm>
                <a:off x="4111560" y="6097680"/>
                <a:ext cx="1431720" cy="639720"/>
                <a:chOff x="4111560" y="6097680"/>
                <a:chExt cx="1431720" cy="63972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4111560" y="6097680"/>
                  <a:ext cx="143172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5322960" y="6105240"/>
                  <a:ext cx="203400" cy="7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4" name=""/>
              <p:cNvSpPr/>
              <p:nvPr/>
            </p:nvSpPr>
            <p:spPr>
              <a:xfrm>
                <a:off x="5085000" y="6097680"/>
                <a:ext cx="26028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615" name=""/>
          <p:cNvCxnSpPr>
            <a:stCxn id="3593" idx="3"/>
            <a:endCxn id="3616" idx="1"/>
          </p:cNvCxnSpPr>
          <p:nvPr/>
        </p:nvCxnSpPr>
        <p:spPr>
          <a:xfrm flipV="1">
            <a:off x="5553000" y="5725440"/>
            <a:ext cx="564480" cy="700920"/>
          </a:xfrm>
          <a:prstGeom prst="bentConnector3">
            <a:avLst>
              <a:gd name="adj1" fmla="val 4984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7" name=""/>
          <p:cNvCxnSpPr>
            <a:stCxn id="3618" idx="3"/>
            <a:endCxn id="3608" idx="1"/>
          </p:cNvCxnSpPr>
          <p:nvPr/>
        </p:nvCxnSpPr>
        <p:spPr>
          <a:xfrm flipV="1">
            <a:off x="6950160" y="6205320"/>
            <a:ext cx="629280" cy="32760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19" name=""/>
          <p:cNvGrpSpPr/>
          <p:nvPr/>
        </p:nvGrpSpPr>
        <p:grpSpPr>
          <a:xfrm>
            <a:off x="6126120" y="5504040"/>
            <a:ext cx="839880" cy="1233000"/>
            <a:chOff x="6126120" y="5504040"/>
            <a:chExt cx="839880" cy="1233000"/>
          </a:xfrm>
        </p:grpSpPr>
        <p:sp>
          <p:nvSpPr>
            <p:cNvPr id="3616" name=""/>
            <p:cNvSpPr/>
            <p:nvPr/>
          </p:nvSpPr>
          <p:spPr>
            <a:xfrm>
              <a:off x="6126120" y="5504040"/>
              <a:ext cx="8398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aliar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153120" y="6310440"/>
              <a:ext cx="7873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ovar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0" name=""/>
            <p:cNvCxnSpPr>
              <a:stCxn id="3616" idx="2"/>
              <a:endCxn id="3618" idx="0"/>
            </p:cNvCxnSpPr>
            <p:nvPr/>
          </p:nvCxnSpPr>
          <p:spPr>
            <a:xfrm>
              <a:off x="6546600" y="5958000"/>
              <a:ext cx="1080" cy="34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621" name=""/>
          <p:cNvCxnSpPr>
            <a:stCxn id="3591" idx="2"/>
            <a:endCxn id="3614" idx="0"/>
          </p:cNvCxnSpPr>
          <p:nvPr/>
        </p:nvCxnSpPr>
        <p:spPr>
          <a:xfrm rot="5400000">
            <a:off x="6098040" y="4036320"/>
            <a:ext cx="1178640" cy="2945160"/>
          </a:xfrm>
          <a:prstGeom prst="bentConnector3">
            <a:avLst>
              <a:gd name="adj1" fmla="val 2963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2" name=""/>
          <p:cNvSpPr/>
          <p:nvPr/>
        </p:nvSpPr>
        <p:spPr>
          <a:xfrm>
            <a:off x="611280" y="2913840"/>
            <a:ext cx="1627200" cy="608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çamento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rot="10800000">
            <a:off x="1092240" y="3693960"/>
            <a:ext cx="665280" cy="154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rot="10800000">
            <a:off x="1092240" y="2646360"/>
            <a:ext cx="665280" cy="154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78000" y="1338120"/>
            <a:ext cx="2681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beração da Prod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s homolog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. de Produção Espec Proc. Manuten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pacitação de pess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0" y="3983040"/>
            <a:ext cx="3224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 Lanç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V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Distribu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Assistência Téc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Atendimento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144360" y="6213600"/>
            <a:ext cx="3224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. Proc: Especificação do Processo (de negóc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193680" y="1339560"/>
            <a:ext cx="88423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ística e distribuição na gestão da cadeia de suprimentos – quadro 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GED (gestão eletrônica de documentos) – quadro 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s se os processos de apoio não estiverem operacionais no lançamento – quadro 1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fas de marketing no desenvolvimento de produtos? – quadro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-360" y="33480"/>
            <a:ext cx="7388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ncipais resultados das fase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5409720" y="1490760"/>
            <a:ext cx="3240" cy="39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3886200" y="5138640"/>
            <a:ext cx="1884240" cy="127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specificaçõe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f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tótipo fun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 de fim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0" y="2811600"/>
            <a:ext cx="2279520" cy="1593720"/>
          </a:xfrm>
          <a:custGeom>
            <a:avLst/>
            <a:gdLst/>
            <a:ahLst/>
            <a:rect l="l" t="t" r="r" b="b"/>
            <a:pathLst>
              <a:path w="1436" h="1004">
                <a:moveTo>
                  <a:pt x="943" y="7"/>
                </a:moveTo>
                <a:lnTo>
                  <a:pt x="1436" y="0"/>
                </a:lnTo>
                <a:lnTo>
                  <a:pt x="1010" y="1004"/>
                </a:lnTo>
                <a:lnTo>
                  <a:pt x="0" y="1004"/>
                </a:lnTo>
                <a:lnTo>
                  <a:pt x="943" y="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1770120" y="5364000"/>
            <a:ext cx="1982880" cy="586080"/>
          </a:xfrm>
          <a:custGeom>
            <a:avLst/>
            <a:gdLst/>
            <a:ahLst/>
            <a:rect l="l" t="t" r="r" b="b"/>
            <a:pathLst>
              <a:path w="1249" h="369">
                <a:moveTo>
                  <a:pt x="572" y="0"/>
                </a:moveTo>
                <a:lnTo>
                  <a:pt x="1107" y="81"/>
                </a:lnTo>
                <a:lnTo>
                  <a:pt x="1249" y="369"/>
                </a:lnTo>
                <a:lnTo>
                  <a:pt x="0" y="369"/>
                </a:lnTo>
                <a:lnTo>
                  <a:pt x="321" y="103"/>
                </a:lnTo>
                <a:lnTo>
                  <a:pt x="5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265560" y="2525760"/>
            <a:ext cx="2077920" cy="249120"/>
          </a:xfrm>
          <a:custGeom>
            <a:avLst/>
            <a:gdLst/>
            <a:ahLst/>
            <a:rect l="l" t="t" r="r" b="b"/>
            <a:pathLst>
              <a:path w="1309" h="157">
                <a:moveTo>
                  <a:pt x="367" y="30"/>
                </a:moveTo>
                <a:lnTo>
                  <a:pt x="1003" y="0"/>
                </a:lnTo>
                <a:lnTo>
                  <a:pt x="1309" y="157"/>
                </a:lnTo>
                <a:lnTo>
                  <a:pt x="0" y="150"/>
                </a:lnTo>
                <a:lnTo>
                  <a:pt x="367" y="3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5708520" y="5334120"/>
            <a:ext cx="371520" cy="1422360"/>
          </a:xfrm>
          <a:custGeom>
            <a:avLst/>
            <a:gdLst/>
            <a:ahLst/>
            <a:rect l="l" t="t" r="r" b="b"/>
            <a:pathLst>
              <a:path w="234" h="896">
                <a:moveTo>
                  <a:pt x="0" y="0"/>
                </a:moveTo>
                <a:lnTo>
                  <a:pt x="234" y="118"/>
                </a:lnTo>
                <a:lnTo>
                  <a:pt x="219" y="896"/>
                </a:lnTo>
                <a:lnTo>
                  <a:pt x="8" y="1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1957320" y="588960"/>
            <a:ext cx="5708880" cy="298440"/>
          </a:xfrm>
          <a:custGeom>
            <a:avLst/>
            <a:gdLst>
              <a:gd name="textAreaLeft" fmla="*/ 0 w 5708880"/>
              <a:gd name="textAreaRight" fmla="*/ 5709240 w 5708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lnTo>
                  <a:pt x="379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4380480" y="942480"/>
            <a:ext cx="1043640" cy="520200"/>
          </a:xfrm>
          <a:custGeom>
            <a:avLst/>
            <a:gdLst>
              <a:gd name="textAreaLeft" fmla="*/ 0 w 1043640"/>
              <a:gd name="textAreaRight" fmla="*/ 1044000 w 10436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4" y="0"/>
                </a:lnTo>
                <a:lnTo>
                  <a:pt x="21600" y="10800"/>
                </a:lnTo>
                <a:lnTo>
                  <a:pt x="19544" y="21600"/>
                </a:lnTo>
                <a:lnTo>
                  <a:pt x="0" y="21600"/>
                </a:lnTo>
                <a:lnTo>
                  <a:pt x="2056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h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283200" y="942480"/>
            <a:ext cx="1074240" cy="520200"/>
          </a:xfrm>
          <a:custGeom>
            <a:avLst/>
            <a:gdLst>
              <a:gd name="textAreaLeft" fmla="*/ 0 w 1074240"/>
              <a:gd name="textAreaRight" fmla="*/ 1074600 w 10742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2" y="0"/>
                </a:lnTo>
                <a:lnTo>
                  <a:pt x="21600" y="10800"/>
                </a:lnTo>
                <a:lnTo>
                  <a:pt x="19672" y="21600"/>
                </a:lnTo>
                <a:lnTo>
                  <a:pt x="0" y="21600"/>
                </a:lnTo>
                <a:lnTo>
                  <a:pt x="1928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i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1955160" y="942480"/>
            <a:ext cx="1302840" cy="520200"/>
          </a:xfrm>
          <a:custGeom>
            <a:avLst/>
            <a:gdLst>
              <a:gd name="textAreaLeft" fmla="*/ 0 w 1302840"/>
              <a:gd name="textAreaRight" fmla="*/ 1303200 w 13028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lnTo>
                  <a:pt x="1854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566400" y="942480"/>
            <a:ext cx="1162080" cy="52020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0" y="0"/>
                </a:lnTo>
                <a:lnTo>
                  <a:pt x="21600" y="10800"/>
                </a:lnTo>
                <a:lnTo>
                  <a:pt x="19740" y="21600"/>
                </a:lnTo>
                <a:lnTo>
                  <a:pt x="0" y="21600"/>
                </a:lnTo>
                <a:lnTo>
                  <a:pt x="1860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5443560" y="942480"/>
            <a:ext cx="1102680" cy="520200"/>
          </a:xfrm>
          <a:custGeom>
            <a:avLst/>
            <a:gdLst>
              <a:gd name="textAreaLeft" fmla="*/ 0 w 1102680"/>
              <a:gd name="textAreaRight" fmla="*/ 1102680 w 11026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lnTo>
                  <a:pt x="1613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3193920" y="1490760"/>
            <a:ext cx="0" cy="36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4329000" y="14907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321600" y="1512720"/>
            <a:ext cx="0" cy="288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7696080" y="1490760"/>
            <a:ext cx="6480" cy="170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38640" y="963000"/>
            <a:ext cx="1270800" cy="520200"/>
          </a:xfrm>
          <a:custGeom>
            <a:avLst/>
            <a:gdLst>
              <a:gd name="textAreaLeft" fmla="*/ 0 w 1270800"/>
              <a:gd name="textAreaRight" fmla="*/ 1271160 w 127080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862280" y="1488960"/>
            <a:ext cx="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125400" y="4340520"/>
            <a:ext cx="2514600" cy="106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beração da 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cumentos de homolo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r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de Produç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 Pr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Manuten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pacitação de 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4491360" y="1601640"/>
            <a:ext cx="1799640" cy="42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ótip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6226200" y="218268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5466960" y="2403360"/>
            <a:ext cx="1920240" cy="63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pilot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duto cert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7594560" y="173844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6427800" y="3029040"/>
            <a:ext cx="2649600" cy="127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s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sistênc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ndiment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7315200" y="2068560"/>
            <a:ext cx="851040" cy="42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 lanç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606600" y="148860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66600" y="1762200"/>
            <a:ext cx="161604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ção do Produto n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226600" y="5049000"/>
            <a:ext cx="1338120" cy="42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ecif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823920" y="2158200"/>
            <a:ext cx="1046880" cy="42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1784520" y="5937840"/>
            <a:ext cx="2014200" cy="852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sitos com valores 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ções adicionais qualit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1436760" y="2421720"/>
            <a:ext cx="848880" cy="426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3560" y="4407840"/>
            <a:ext cx="1592280" cy="234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ce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çamen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290760" y="2790720"/>
            <a:ext cx="2049480" cy="1492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rquitetura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ernativas de Sol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sta SSCs princip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ificações iniciais dos SS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hos ini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 macro  proc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6064200" y="5505480"/>
            <a:ext cx="3059280" cy="127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ificações dos SS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M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hos finais com tolerâ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s de Proces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e embal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de suporte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5311800" y="211140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962520" y="5334120"/>
            <a:ext cx="1752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-360" y="33480"/>
            <a:ext cx="7388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ncipais resultados das fase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5409720" y="1490760"/>
            <a:ext cx="3240" cy="39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886200" y="5138640"/>
            <a:ext cx="1884240" cy="127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specificaçõe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f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tótipo fun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 de fim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708520" y="5334120"/>
            <a:ext cx="371520" cy="1422360"/>
          </a:xfrm>
          <a:custGeom>
            <a:avLst/>
            <a:gdLst/>
            <a:ahLst/>
            <a:rect l="l" t="t" r="r" b="b"/>
            <a:pathLst>
              <a:path w="234" h="896">
                <a:moveTo>
                  <a:pt x="0" y="0"/>
                </a:moveTo>
                <a:lnTo>
                  <a:pt x="234" y="118"/>
                </a:lnTo>
                <a:lnTo>
                  <a:pt x="219" y="896"/>
                </a:lnTo>
                <a:lnTo>
                  <a:pt x="8" y="1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1957320" y="588960"/>
            <a:ext cx="5708880" cy="298440"/>
          </a:xfrm>
          <a:custGeom>
            <a:avLst/>
            <a:gdLst>
              <a:gd name="textAreaLeft" fmla="*/ 0 w 5708880"/>
              <a:gd name="textAreaRight" fmla="*/ 5709240 w 5708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lnTo>
                  <a:pt x="379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4380480" y="942480"/>
            <a:ext cx="1043640" cy="520200"/>
          </a:xfrm>
          <a:custGeom>
            <a:avLst/>
            <a:gdLst>
              <a:gd name="textAreaLeft" fmla="*/ 0 w 1043640"/>
              <a:gd name="textAreaRight" fmla="*/ 1044000 w 10436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4" y="0"/>
                </a:lnTo>
                <a:lnTo>
                  <a:pt x="21600" y="10800"/>
                </a:lnTo>
                <a:lnTo>
                  <a:pt x="19544" y="21600"/>
                </a:lnTo>
                <a:lnTo>
                  <a:pt x="0" y="21600"/>
                </a:lnTo>
                <a:lnTo>
                  <a:pt x="2056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h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283200" y="942480"/>
            <a:ext cx="1074240" cy="520200"/>
          </a:xfrm>
          <a:custGeom>
            <a:avLst/>
            <a:gdLst>
              <a:gd name="textAreaLeft" fmla="*/ 0 w 1074240"/>
              <a:gd name="textAreaRight" fmla="*/ 1074600 w 10742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2" y="0"/>
                </a:lnTo>
                <a:lnTo>
                  <a:pt x="21600" y="10800"/>
                </a:lnTo>
                <a:lnTo>
                  <a:pt x="19672" y="21600"/>
                </a:lnTo>
                <a:lnTo>
                  <a:pt x="0" y="21600"/>
                </a:lnTo>
                <a:lnTo>
                  <a:pt x="1928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i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1955160" y="942480"/>
            <a:ext cx="1302840" cy="520200"/>
          </a:xfrm>
          <a:custGeom>
            <a:avLst/>
            <a:gdLst>
              <a:gd name="textAreaLeft" fmla="*/ 0 w 1302840"/>
              <a:gd name="textAreaRight" fmla="*/ 1303200 w 13028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lnTo>
                  <a:pt x="1854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6566400" y="942480"/>
            <a:ext cx="1162080" cy="52020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0" y="0"/>
                </a:lnTo>
                <a:lnTo>
                  <a:pt x="21600" y="10800"/>
                </a:lnTo>
                <a:lnTo>
                  <a:pt x="19740" y="21600"/>
                </a:lnTo>
                <a:lnTo>
                  <a:pt x="0" y="21600"/>
                </a:lnTo>
                <a:lnTo>
                  <a:pt x="1860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443560" y="942480"/>
            <a:ext cx="1102680" cy="520200"/>
          </a:xfrm>
          <a:custGeom>
            <a:avLst/>
            <a:gdLst>
              <a:gd name="textAreaLeft" fmla="*/ 0 w 1102680"/>
              <a:gd name="textAreaRight" fmla="*/ 1102680 w 11026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lnTo>
                  <a:pt x="1613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6321600" y="1512720"/>
            <a:ext cx="0" cy="78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701120" y="1490760"/>
            <a:ext cx="144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638640" y="963000"/>
            <a:ext cx="1270800" cy="520200"/>
          </a:xfrm>
          <a:custGeom>
            <a:avLst/>
            <a:gdLst>
              <a:gd name="textAreaLeft" fmla="*/ 0 w 1270800"/>
              <a:gd name="textAreaRight" fmla="*/ 1271160 w 127080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4491360" y="1601640"/>
            <a:ext cx="1799640" cy="42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ótip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6226200" y="218268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5466960" y="2403360"/>
            <a:ext cx="1920240" cy="63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pilot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duto cert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7594560" y="173844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7315200" y="2068560"/>
            <a:ext cx="851040" cy="42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 lanç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064200" y="5505480"/>
            <a:ext cx="3059280" cy="127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ificações dos SS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M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hos finais com tolerâ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s de Proces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e embal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de suporte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5311800" y="211140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3962520" y="5334120"/>
            <a:ext cx="1752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 rot="20738400">
            <a:off x="0" y="2532240"/>
            <a:ext cx="5106960" cy="266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figuração do produ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89" name=""/>
          <p:cNvSpPr/>
          <p:nvPr/>
        </p:nvSpPr>
        <p:spPr>
          <a:xfrm>
            <a:off x="3639960" y="4344840"/>
            <a:ext cx="16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o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7024680" y="4095720"/>
            <a:ext cx="17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o forne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2900520" y="4257720"/>
            <a:ext cx="857160" cy="34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4422600" y="3408480"/>
            <a:ext cx="2843280" cy="1185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71520" y="6156360"/>
            <a:ext cx="329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 do produto = especificaçã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5114880" y="1943280"/>
            <a:ext cx="571680" cy="571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7394400" y="1508040"/>
            <a:ext cx="571680" cy="571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7115040" y="1757520"/>
            <a:ext cx="1629000" cy="3171600"/>
          </a:xfrm>
          <a:custGeom>
            <a:avLst/>
            <a:gdLst/>
            <a:ahLst/>
            <a:rect l="l" t="t" r="r" b="b"/>
            <a:pathLst>
              <a:path w="1026" h="1998">
                <a:moveTo>
                  <a:pt x="189" y="108"/>
                </a:moveTo>
                <a:lnTo>
                  <a:pt x="0" y="1998"/>
                </a:lnTo>
                <a:lnTo>
                  <a:pt x="1026" y="1989"/>
                </a:lnTo>
                <a:lnTo>
                  <a:pt x="513" y="0"/>
                </a:lnTo>
              </a:path>
            </a:pathLst>
          </a:custGeom>
          <a:solidFill>
            <a:srgbClr val="ff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571920" y="2193840"/>
            <a:ext cx="2065320" cy="2921040"/>
          </a:xfrm>
          <a:custGeom>
            <a:avLst/>
            <a:gdLst/>
            <a:ahLst/>
            <a:rect l="l" t="t" r="r" b="b"/>
            <a:pathLst>
              <a:path w="1301" h="1840">
                <a:moveTo>
                  <a:pt x="977" y="108"/>
                </a:moveTo>
                <a:lnTo>
                  <a:pt x="0" y="1840"/>
                </a:lnTo>
                <a:lnTo>
                  <a:pt x="1053" y="1822"/>
                </a:lnTo>
                <a:lnTo>
                  <a:pt x="1301" y="0"/>
                </a:lnTo>
              </a:path>
            </a:pathLst>
          </a:custGeom>
          <a:solidFill>
            <a:srgbClr val="ff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óxima macro-fase: pós-desenvolvimen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699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3700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7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3708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3709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1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3712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4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3715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3716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7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8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9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0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1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2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3723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25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26" name=""/>
                <p:cNvCxnSpPr>
                  <a:stCxn id="3723" idx="0"/>
                  <a:endCxn id="3727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8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0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31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3732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3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6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7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8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3739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0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4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3745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0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3751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2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4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5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6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3757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8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9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0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3761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2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3763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4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5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6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3767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8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9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3770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1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2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3773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4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5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3776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7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8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3779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0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3782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3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4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3785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6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7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3788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9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0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3791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2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3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3794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5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6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3797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8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799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0" name=""/>
          <p:cNvGrpSpPr/>
          <p:nvPr/>
        </p:nvGrpSpPr>
        <p:grpSpPr>
          <a:xfrm>
            <a:off x="5516640" y="884880"/>
            <a:ext cx="3224880" cy="2640240"/>
            <a:chOff x="5516640" y="884880"/>
            <a:chExt cx="3224880" cy="2640240"/>
          </a:xfrm>
        </p:grpSpPr>
        <p:grpSp>
          <p:nvGrpSpPr>
            <p:cNvPr id="3801" name=""/>
            <p:cNvGrpSpPr/>
            <p:nvPr/>
          </p:nvGrpSpPr>
          <p:grpSpPr>
            <a:xfrm>
              <a:off x="6388920" y="1197720"/>
              <a:ext cx="2352600" cy="2327400"/>
              <a:chOff x="6388920" y="1197720"/>
              <a:chExt cx="2352600" cy="2327400"/>
            </a:xfrm>
          </p:grpSpPr>
          <p:grpSp>
            <p:nvGrpSpPr>
              <p:cNvPr id="3802" name=""/>
              <p:cNvGrpSpPr/>
              <p:nvPr/>
            </p:nvGrpSpPr>
            <p:grpSpPr>
              <a:xfrm>
                <a:off x="6388920" y="1234800"/>
                <a:ext cx="2316240" cy="2178000"/>
                <a:chOff x="6388920" y="1234800"/>
                <a:chExt cx="2316240" cy="2178000"/>
              </a:xfrm>
            </p:grpSpPr>
            <p:grpSp>
              <p:nvGrpSpPr>
                <p:cNvPr id="3803" name=""/>
                <p:cNvGrpSpPr/>
                <p:nvPr/>
              </p:nvGrpSpPr>
              <p:grpSpPr>
                <a:xfrm>
                  <a:off x="6388920" y="1234800"/>
                  <a:ext cx="2316240" cy="2178000"/>
                  <a:chOff x="6388920" y="1234800"/>
                  <a:chExt cx="2316240" cy="2178000"/>
                </a:xfrm>
              </p:grpSpPr>
              <p:sp>
                <p:nvSpPr>
                  <p:cNvPr id="3804" name=""/>
                  <p:cNvSpPr/>
                  <p:nvPr/>
                </p:nvSpPr>
                <p:spPr>
                  <a:xfrm rot="8852400">
                    <a:off x="7161840" y="2095560"/>
                    <a:ext cx="1374480" cy="10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 rot="8852400">
                    <a:off x="6609240" y="1542960"/>
                    <a:ext cx="1515960" cy="12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6" name=""/>
                <p:cNvGrpSpPr/>
                <p:nvPr/>
              </p:nvGrpSpPr>
              <p:grpSpPr>
                <a:xfrm>
                  <a:off x="6634440" y="1298160"/>
                  <a:ext cx="1863360" cy="2052000"/>
                  <a:chOff x="6634440" y="1298160"/>
                  <a:chExt cx="1863360" cy="2052000"/>
                </a:xfrm>
              </p:grpSpPr>
              <p:sp>
                <p:nvSpPr>
                  <p:cNvPr id="3807" name=""/>
                  <p:cNvSpPr/>
                  <p:nvPr/>
                </p:nvSpPr>
                <p:spPr>
                  <a:xfrm rot="8852400">
                    <a:off x="7460640" y="1370880"/>
                    <a:ext cx="39312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 rot="8852400">
                    <a:off x="6843240" y="2325960"/>
                    <a:ext cx="141120" cy="8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 rot="8852400">
                    <a:off x="7489080" y="2971800"/>
                    <a:ext cx="55872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 rot="8852400">
                    <a:off x="8177400" y="1877760"/>
                    <a:ext cx="178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1" name=""/>
              <p:cNvSpPr/>
              <p:nvPr/>
            </p:nvSpPr>
            <p:spPr>
              <a:xfrm rot="8852400">
                <a:off x="6710400" y="1492200"/>
                <a:ext cx="1581480" cy="1659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2" name=""/>
              <p:cNvGrpSpPr/>
              <p:nvPr/>
            </p:nvGrpSpPr>
            <p:grpSpPr>
              <a:xfrm>
                <a:off x="6516720" y="1276560"/>
                <a:ext cx="2224800" cy="2248560"/>
                <a:chOff x="6516720" y="1276560"/>
                <a:chExt cx="2224800" cy="2248560"/>
              </a:xfrm>
            </p:grpSpPr>
            <p:sp>
              <p:nvSpPr>
                <p:cNvPr id="3813" name=""/>
                <p:cNvSpPr/>
                <p:nvPr/>
              </p:nvSpPr>
              <p:spPr>
                <a:xfrm rot="8852400">
                  <a:off x="6856200" y="1589040"/>
                  <a:ext cx="1544400" cy="161892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 rot="8852400">
                  <a:off x="6838560" y="1571040"/>
                  <a:ext cx="1581120" cy="16592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rot="8852400">
                  <a:off x="6882120" y="1614600"/>
                  <a:ext cx="1493280" cy="1571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6" name=""/>
            <p:cNvGrpSpPr/>
            <p:nvPr/>
          </p:nvGrpSpPr>
          <p:grpSpPr>
            <a:xfrm>
              <a:off x="5516640" y="884880"/>
              <a:ext cx="1428840" cy="1438200"/>
              <a:chOff x="5516640" y="884880"/>
              <a:chExt cx="1428840" cy="1438200"/>
            </a:xfrm>
          </p:grpSpPr>
          <p:sp>
            <p:nvSpPr>
              <p:cNvPr id="3817" name=""/>
              <p:cNvSpPr/>
              <p:nvPr/>
            </p:nvSpPr>
            <p:spPr>
              <a:xfrm rot="8852400">
                <a:off x="5864400" y="997200"/>
                <a:ext cx="772920" cy="12132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rot="8852400">
                <a:off x="6657840" y="1802880"/>
                <a:ext cx="23832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rot="8852400">
                <a:off x="6635160" y="1771200"/>
                <a:ext cx="241200" cy="26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rot="8852400">
                <a:off x="6717600" y="1702080"/>
                <a:ext cx="146520" cy="3103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rot="8852400">
                <a:off x="6660000" y="1803600"/>
                <a:ext cx="23796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rot="8852400">
                <a:off x="6494760" y="1705680"/>
                <a:ext cx="238320" cy="24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3" name=""/>
              <p:cNvGrpSpPr/>
              <p:nvPr/>
            </p:nvGrpSpPr>
            <p:grpSpPr>
              <a:xfrm>
                <a:off x="6402240" y="1630440"/>
                <a:ext cx="358920" cy="351000"/>
                <a:chOff x="6402240" y="1630440"/>
                <a:chExt cx="358920" cy="351000"/>
              </a:xfrm>
            </p:grpSpPr>
            <p:grpSp>
              <p:nvGrpSpPr>
                <p:cNvPr id="3824" name=""/>
                <p:cNvGrpSpPr/>
                <p:nvPr/>
              </p:nvGrpSpPr>
              <p:grpSpPr>
                <a:xfrm>
                  <a:off x="6427080" y="1645560"/>
                  <a:ext cx="334080" cy="335880"/>
                  <a:chOff x="6427080" y="1645560"/>
                  <a:chExt cx="334080" cy="33588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 rot="8852400">
                    <a:off x="6475320" y="1690560"/>
                    <a:ext cx="23868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 rot="8852400">
                    <a:off x="6473880" y="169092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 rot="8852400">
                    <a:off x="6474240" y="1691640"/>
                    <a:ext cx="23868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8" name=""/>
                <p:cNvSpPr/>
                <p:nvPr/>
              </p:nvSpPr>
              <p:spPr>
                <a:xfrm rot="8852400">
                  <a:off x="6449040" y="1675440"/>
                  <a:ext cx="23940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9" name=""/>
              <p:cNvGrpSpPr/>
              <p:nvPr/>
            </p:nvGrpSpPr>
            <p:grpSpPr>
              <a:xfrm>
                <a:off x="6355080" y="1599480"/>
                <a:ext cx="358920" cy="351360"/>
                <a:chOff x="6355080" y="1599480"/>
                <a:chExt cx="358920" cy="351360"/>
              </a:xfrm>
            </p:grpSpPr>
            <p:grpSp>
              <p:nvGrpSpPr>
                <p:cNvPr id="3830" name=""/>
                <p:cNvGrpSpPr/>
                <p:nvPr/>
              </p:nvGrpSpPr>
              <p:grpSpPr>
                <a:xfrm>
                  <a:off x="6379920" y="1615320"/>
                  <a:ext cx="334080" cy="335520"/>
                  <a:chOff x="6379920" y="1615320"/>
                  <a:chExt cx="334080" cy="335520"/>
                </a:xfrm>
              </p:grpSpPr>
              <p:sp>
                <p:nvSpPr>
                  <p:cNvPr id="3831" name=""/>
                  <p:cNvSpPr/>
                  <p:nvPr/>
                </p:nvSpPr>
                <p:spPr>
                  <a:xfrm rot="8852400">
                    <a:off x="6427080" y="1660320"/>
                    <a:ext cx="23976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 rot="8852400">
                    <a:off x="6426720" y="166068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 rot="8852400">
                    <a:off x="6427440" y="1660680"/>
                    <a:ext cx="2383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4" name=""/>
                <p:cNvSpPr/>
                <p:nvPr/>
              </p:nvSpPr>
              <p:spPr>
                <a:xfrm rot="8852400">
                  <a:off x="6401880" y="1644480"/>
                  <a:ext cx="23904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5" name=""/>
              <p:cNvGrpSpPr/>
              <p:nvPr/>
            </p:nvGrpSpPr>
            <p:grpSpPr>
              <a:xfrm>
                <a:off x="6332400" y="1587600"/>
                <a:ext cx="335160" cy="336240"/>
                <a:chOff x="6332400" y="1587600"/>
                <a:chExt cx="335160" cy="336240"/>
              </a:xfrm>
            </p:grpSpPr>
            <p:sp>
              <p:nvSpPr>
                <p:cNvPr id="3836" name=""/>
                <p:cNvSpPr/>
                <p:nvPr/>
              </p:nvSpPr>
              <p:spPr>
                <a:xfrm rot="8852400">
                  <a:off x="6381000" y="1632600"/>
                  <a:ext cx="23940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rot="8852400">
                  <a:off x="6379560" y="1632600"/>
                  <a:ext cx="240840" cy="24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8" name=""/>
              <p:cNvGrpSpPr/>
              <p:nvPr/>
            </p:nvGrpSpPr>
            <p:grpSpPr>
              <a:xfrm>
                <a:off x="6307920" y="1572480"/>
                <a:ext cx="357840" cy="351360"/>
                <a:chOff x="6307920" y="1572480"/>
                <a:chExt cx="357840" cy="351360"/>
              </a:xfrm>
            </p:grpSpPr>
            <p:sp>
              <p:nvSpPr>
                <p:cNvPr id="3839" name=""/>
                <p:cNvSpPr/>
                <p:nvPr/>
              </p:nvSpPr>
              <p:spPr>
                <a:xfrm rot="8852400">
                  <a:off x="6378840" y="1633680"/>
                  <a:ext cx="23976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rot="8852400">
                  <a:off x="6354720" y="1617480"/>
                  <a:ext cx="23940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1" name=""/>
              <p:cNvGrpSpPr/>
              <p:nvPr/>
            </p:nvGrpSpPr>
            <p:grpSpPr>
              <a:xfrm>
                <a:off x="5664600" y="1173960"/>
                <a:ext cx="1187280" cy="852120"/>
                <a:chOff x="5664600" y="1173960"/>
                <a:chExt cx="1187280" cy="852120"/>
              </a:xfrm>
            </p:grpSpPr>
            <p:sp>
              <p:nvSpPr>
                <p:cNvPr id="3842" name=""/>
                <p:cNvSpPr/>
                <p:nvPr/>
              </p:nvSpPr>
              <p:spPr>
                <a:xfrm flipH="1" flipV="1">
                  <a:off x="5664600" y="1407240"/>
                  <a:ext cx="1044360" cy="61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H="1" flipV="1">
                  <a:off x="5780520" y="1173960"/>
                  <a:ext cx="1071360" cy="65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4" name=""/>
              <p:cNvGrpSpPr/>
              <p:nvPr/>
            </p:nvGrpSpPr>
            <p:grpSpPr>
              <a:xfrm>
                <a:off x="6265800" y="1548720"/>
                <a:ext cx="355320" cy="347760"/>
                <a:chOff x="6265800" y="1548720"/>
                <a:chExt cx="355320" cy="347760"/>
              </a:xfrm>
            </p:grpSpPr>
            <p:grpSp>
              <p:nvGrpSpPr>
                <p:cNvPr id="3845" name=""/>
                <p:cNvGrpSpPr/>
                <p:nvPr/>
              </p:nvGrpSpPr>
              <p:grpSpPr>
                <a:xfrm>
                  <a:off x="6287040" y="1560960"/>
                  <a:ext cx="334080" cy="335520"/>
                  <a:chOff x="6287040" y="1560960"/>
                  <a:chExt cx="334080" cy="335520"/>
                </a:xfrm>
              </p:grpSpPr>
              <p:sp>
                <p:nvSpPr>
                  <p:cNvPr id="3846" name=""/>
                  <p:cNvSpPr/>
                  <p:nvPr/>
                </p:nvSpPr>
                <p:spPr>
                  <a:xfrm rot="8852400">
                    <a:off x="6334920" y="1605600"/>
                    <a:ext cx="238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 rot="8852400">
                    <a:off x="6333840" y="1606320"/>
                    <a:ext cx="2401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8" name=""/>
                <p:cNvSpPr/>
                <p:nvPr/>
              </p:nvSpPr>
              <p:spPr>
                <a:xfrm rot="8852400">
                  <a:off x="6333840" y="1605960"/>
                  <a:ext cx="239040" cy="24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rot="8852400">
                  <a:off x="6312600" y="1593360"/>
                  <a:ext cx="23868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0" name=""/>
              <p:cNvSpPr/>
              <p:nvPr/>
            </p:nvSpPr>
            <p:spPr>
              <a:xfrm rot="8852400">
                <a:off x="5919840" y="1047960"/>
                <a:ext cx="476640" cy="89640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8852400">
                <a:off x="5569920" y="1137600"/>
                <a:ext cx="260280" cy="2746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3680" y="1339560"/>
            <a:ext cx="88423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ística e distribuição na gestão da cadeia de suprimentos – quadro 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GED (gestão eletrônica de documentos) – quadro 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s se os processos de apoio não estiverem operacionais no lançamento – quadro 1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fas de marketing no desenvolvimento de produtos? – quadro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57120" y="917640"/>
            <a:ext cx="8520120" cy="5864760"/>
            <a:chOff x="357120" y="917640"/>
            <a:chExt cx="8520120" cy="5864760"/>
          </a:xfrm>
        </p:grpSpPr>
        <p:grpSp>
          <p:nvGrpSpPr>
            <p:cNvPr id="262" name=""/>
            <p:cNvGrpSpPr/>
            <p:nvPr/>
          </p:nvGrpSpPr>
          <p:grpSpPr>
            <a:xfrm>
              <a:off x="6657840" y="2843280"/>
              <a:ext cx="1784160" cy="1568520"/>
              <a:chOff x="6657840" y="2843280"/>
              <a:chExt cx="1784160" cy="1568520"/>
            </a:xfrm>
          </p:grpSpPr>
          <p:sp>
            <p:nvSpPr>
              <p:cNvPr id="263" name=""/>
              <p:cNvSpPr/>
              <p:nvPr/>
            </p:nvSpPr>
            <p:spPr>
              <a:xfrm>
                <a:off x="6657840" y="2843280"/>
                <a:ext cx="1784160" cy="1568520"/>
              </a:xfrm>
              <a:custGeom>
                <a:avLst/>
                <a:gdLst/>
                <a:ahLst/>
                <a:rect l="l" t="t" r="r" b="b"/>
                <a:pathLst>
                  <a:path w="2247" h="1977">
                    <a:moveTo>
                      <a:pt x="2235" y="946"/>
                    </a:moveTo>
                    <a:lnTo>
                      <a:pt x="2243" y="884"/>
                    </a:lnTo>
                    <a:lnTo>
                      <a:pt x="2247" y="812"/>
                    </a:lnTo>
                    <a:lnTo>
                      <a:pt x="2243" y="742"/>
                    </a:lnTo>
                    <a:lnTo>
                      <a:pt x="2231" y="682"/>
                    </a:lnTo>
                    <a:lnTo>
                      <a:pt x="2225" y="669"/>
                    </a:lnTo>
                    <a:lnTo>
                      <a:pt x="2218" y="658"/>
                    </a:lnTo>
                    <a:lnTo>
                      <a:pt x="2210" y="647"/>
                    </a:lnTo>
                    <a:lnTo>
                      <a:pt x="2201" y="639"/>
                    </a:lnTo>
                    <a:lnTo>
                      <a:pt x="2190" y="634"/>
                    </a:lnTo>
                    <a:lnTo>
                      <a:pt x="2178" y="630"/>
                    </a:lnTo>
                    <a:lnTo>
                      <a:pt x="2164" y="630"/>
                    </a:lnTo>
                    <a:lnTo>
                      <a:pt x="2148" y="631"/>
                    </a:lnTo>
                    <a:lnTo>
                      <a:pt x="2147" y="632"/>
                    </a:lnTo>
                    <a:lnTo>
                      <a:pt x="2142" y="635"/>
                    </a:lnTo>
                    <a:lnTo>
                      <a:pt x="2134" y="641"/>
                    </a:lnTo>
                    <a:lnTo>
                      <a:pt x="2124" y="646"/>
                    </a:lnTo>
                    <a:lnTo>
                      <a:pt x="2110" y="656"/>
                    </a:lnTo>
                    <a:lnTo>
                      <a:pt x="2095" y="665"/>
                    </a:lnTo>
                    <a:lnTo>
                      <a:pt x="2076" y="676"/>
                    </a:lnTo>
                    <a:lnTo>
                      <a:pt x="2057" y="689"/>
                    </a:lnTo>
                    <a:lnTo>
                      <a:pt x="2035" y="704"/>
                    </a:lnTo>
                    <a:lnTo>
                      <a:pt x="2011" y="719"/>
                    </a:lnTo>
                    <a:lnTo>
                      <a:pt x="1985" y="736"/>
                    </a:lnTo>
                    <a:lnTo>
                      <a:pt x="1959" y="753"/>
                    </a:lnTo>
                    <a:lnTo>
                      <a:pt x="1930" y="772"/>
                    </a:lnTo>
                    <a:lnTo>
                      <a:pt x="1901" y="791"/>
                    </a:lnTo>
                    <a:lnTo>
                      <a:pt x="1870" y="812"/>
                    </a:lnTo>
                    <a:lnTo>
                      <a:pt x="1839" y="833"/>
                    </a:lnTo>
                    <a:lnTo>
                      <a:pt x="1807" y="855"/>
                    </a:lnTo>
                    <a:lnTo>
                      <a:pt x="1774" y="877"/>
                    </a:lnTo>
                    <a:lnTo>
                      <a:pt x="1741" y="900"/>
                    </a:lnTo>
                    <a:lnTo>
                      <a:pt x="1709" y="922"/>
                    </a:lnTo>
                    <a:lnTo>
                      <a:pt x="1675" y="946"/>
                    </a:lnTo>
                    <a:lnTo>
                      <a:pt x="1642" y="969"/>
                    </a:lnTo>
                    <a:lnTo>
                      <a:pt x="1608" y="992"/>
                    </a:lnTo>
                    <a:lnTo>
                      <a:pt x="1576" y="1015"/>
                    </a:lnTo>
                    <a:lnTo>
                      <a:pt x="1545" y="1038"/>
                    </a:lnTo>
                    <a:lnTo>
                      <a:pt x="1514" y="1061"/>
                    </a:lnTo>
                    <a:lnTo>
                      <a:pt x="1483" y="1084"/>
                    </a:lnTo>
                    <a:lnTo>
                      <a:pt x="1454" y="1106"/>
                    </a:lnTo>
                    <a:lnTo>
                      <a:pt x="1426" y="1128"/>
                    </a:lnTo>
                    <a:lnTo>
                      <a:pt x="1400" y="1150"/>
                    </a:lnTo>
                    <a:lnTo>
                      <a:pt x="1375" y="1171"/>
                    </a:lnTo>
                    <a:lnTo>
                      <a:pt x="1351" y="1190"/>
                    </a:lnTo>
                    <a:lnTo>
                      <a:pt x="1336" y="1203"/>
                    </a:lnTo>
                    <a:lnTo>
                      <a:pt x="1323" y="1217"/>
                    </a:lnTo>
                    <a:lnTo>
                      <a:pt x="1308" y="1229"/>
                    </a:lnTo>
                    <a:lnTo>
                      <a:pt x="1294" y="1242"/>
                    </a:lnTo>
                    <a:lnTo>
                      <a:pt x="1279" y="1256"/>
                    </a:lnTo>
                    <a:lnTo>
                      <a:pt x="1265" y="1268"/>
                    </a:lnTo>
                    <a:lnTo>
                      <a:pt x="1251" y="1282"/>
                    </a:lnTo>
                    <a:lnTo>
                      <a:pt x="1237" y="1295"/>
                    </a:lnTo>
                    <a:lnTo>
                      <a:pt x="1224" y="1309"/>
                    </a:lnTo>
                    <a:lnTo>
                      <a:pt x="1210" y="1323"/>
                    </a:lnTo>
                    <a:lnTo>
                      <a:pt x="1196" y="1335"/>
                    </a:lnTo>
                    <a:lnTo>
                      <a:pt x="1182" y="1349"/>
                    </a:lnTo>
                    <a:lnTo>
                      <a:pt x="1168" y="1363"/>
                    </a:lnTo>
                    <a:lnTo>
                      <a:pt x="1154" y="1376"/>
                    </a:lnTo>
                    <a:lnTo>
                      <a:pt x="1142" y="1389"/>
                    </a:lnTo>
                    <a:lnTo>
                      <a:pt x="1128" y="1403"/>
                    </a:lnTo>
                    <a:lnTo>
                      <a:pt x="1137" y="1365"/>
                    </a:lnTo>
                    <a:lnTo>
                      <a:pt x="1146" y="1328"/>
                    </a:lnTo>
                    <a:lnTo>
                      <a:pt x="1158" y="1291"/>
                    </a:lnTo>
                    <a:lnTo>
                      <a:pt x="1171" y="1256"/>
                    </a:lnTo>
                    <a:lnTo>
                      <a:pt x="1183" y="1219"/>
                    </a:lnTo>
                    <a:lnTo>
                      <a:pt x="1198" y="1184"/>
                    </a:lnTo>
                    <a:lnTo>
                      <a:pt x="1214" y="1149"/>
                    </a:lnTo>
                    <a:lnTo>
                      <a:pt x="1230" y="1114"/>
                    </a:lnTo>
                    <a:lnTo>
                      <a:pt x="1249" y="1081"/>
                    </a:lnTo>
                    <a:lnTo>
                      <a:pt x="1268" y="1047"/>
                    </a:lnTo>
                    <a:lnTo>
                      <a:pt x="1288" y="1014"/>
                    </a:lnTo>
                    <a:lnTo>
                      <a:pt x="1310" y="982"/>
                    </a:lnTo>
                    <a:lnTo>
                      <a:pt x="1333" y="950"/>
                    </a:lnTo>
                    <a:lnTo>
                      <a:pt x="1357" y="919"/>
                    </a:lnTo>
                    <a:lnTo>
                      <a:pt x="1384" y="889"/>
                    </a:lnTo>
                    <a:lnTo>
                      <a:pt x="1410" y="861"/>
                    </a:lnTo>
                    <a:lnTo>
                      <a:pt x="1447" y="823"/>
                    </a:lnTo>
                    <a:lnTo>
                      <a:pt x="1484" y="787"/>
                    </a:lnTo>
                    <a:lnTo>
                      <a:pt x="1522" y="751"/>
                    </a:lnTo>
                    <a:lnTo>
                      <a:pt x="1560" y="715"/>
                    </a:lnTo>
                    <a:lnTo>
                      <a:pt x="1598" y="681"/>
                    </a:lnTo>
                    <a:lnTo>
                      <a:pt x="1637" y="646"/>
                    </a:lnTo>
                    <a:lnTo>
                      <a:pt x="1675" y="613"/>
                    </a:lnTo>
                    <a:lnTo>
                      <a:pt x="1713" y="578"/>
                    </a:lnTo>
                    <a:lnTo>
                      <a:pt x="1751" y="544"/>
                    </a:lnTo>
                    <a:lnTo>
                      <a:pt x="1789" y="510"/>
                    </a:lnTo>
                    <a:lnTo>
                      <a:pt x="1827" y="476"/>
                    </a:lnTo>
                    <a:lnTo>
                      <a:pt x="1865" y="440"/>
                    </a:lnTo>
                    <a:lnTo>
                      <a:pt x="1902" y="404"/>
                    </a:lnTo>
                    <a:lnTo>
                      <a:pt x="1938" y="369"/>
                    </a:lnTo>
                    <a:lnTo>
                      <a:pt x="1974" y="331"/>
                    </a:lnTo>
                    <a:lnTo>
                      <a:pt x="2008" y="293"/>
                    </a:lnTo>
                    <a:lnTo>
                      <a:pt x="2031" y="241"/>
                    </a:lnTo>
                    <a:lnTo>
                      <a:pt x="2039" y="205"/>
                    </a:lnTo>
                    <a:lnTo>
                      <a:pt x="2039" y="169"/>
                    </a:lnTo>
                    <a:lnTo>
                      <a:pt x="2033" y="135"/>
                    </a:lnTo>
                    <a:lnTo>
                      <a:pt x="2018" y="103"/>
                    </a:lnTo>
                    <a:lnTo>
                      <a:pt x="2008" y="89"/>
                    </a:lnTo>
                    <a:lnTo>
                      <a:pt x="1997" y="76"/>
                    </a:lnTo>
                    <a:lnTo>
                      <a:pt x="1985" y="65"/>
                    </a:lnTo>
                    <a:lnTo>
                      <a:pt x="1973" y="54"/>
                    </a:lnTo>
                    <a:lnTo>
                      <a:pt x="1959" y="46"/>
                    </a:lnTo>
                    <a:lnTo>
                      <a:pt x="1945" y="39"/>
                    </a:lnTo>
                    <a:lnTo>
                      <a:pt x="1930" y="32"/>
                    </a:lnTo>
                    <a:lnTo>
                      <a:pt x="1915" y="28"/>
                    </a:lnTo>
                    <a:lnTo>
                      <a:pt x="1900" y="25"/>
                    </a:lnTo>
                    <a:lnTo>
                      <a:pt x="1884" y="24"/>
                    </a:lnTo>
                    <a:lnTo>
                      <a:pt x="1869" y="23"/>
                    </a:lnTo>
                    <a:lnTo>
                      <a:pt x="1853" y="25"/>
                    </a:lnTo>
                    <a:lnTo>
                      <a:pt x="1837" y="28"/>
                    </a:lnTo>
                    <a:lnTo>
                      <a:pt x="1822" y="33"/>
                    </a:lnTo>
                    <a:lnTo>
                      <a:pt x="1807" y="39"/>
                    </a:lnTo>
                    <a:lnTo>
                      <a:pt x="1792" y="47"/>
                    </a:lnTo>
                    <a:lnTo>
                      <a:pt x="1788" y="50"/>
                    </a:lnTo>
                    <a:lnTo>
                      <a:pt x="1777" y="54"/>
                    </a:lnTo>
                    <a:lnTo>
                      <a:pt x="1758" y="63"/>
                    </a:lnTo>
                    <a:lnTo>
                      <a:pt x="1735" y="75"/>
                    </a:lnTo>
                    <a:lnTo>
                      <a:pt x="1706" y="90"/>
                    </a:lnTo>
                    <a:lnTo>
                      <a:pt x="1674" y="107"/>
                    </a:lnTo>
                    <a:lnTo>
                      <a:pt x="1638" y="126"/>
                    </a:lnTo>
                    <a:lnTo>
                      <a:pt x="1600" y="146"/>
                    </a:lnTo>
                    <a:lnTo>
                      <a:pt x="1561" y="168"/>
                    </a:lnTo>
                    <a:lnTo>
                      <a:pt x="1520" y="191"/>
                    </a:lnTo>
                    <a:lnTo>
                      <a:pt x="1479" y="215"/>
                    </a:lnTo>
                    <a:lnTo>
                      <a:pt x="1440" y="240"/>
                    </a:lnTo>
                    <a:lnTo>
                      <a:pt x="1401" y="264"/>
                    </a:lnTo>
                    <a:lnTo>
                      <a:pt x="1365" y="288"/>
                    </a:lnTo>
                    <a:lnTo>
                      <a:pt x="1333" y="311"/>
                    </a:lnTo>
                    <a:lnTo>
                      <a:pt x="1304" y="334"/>
                    </a:lnTo>
                    <a:lnTo>
                      <a:pt x="1274" y="361"/>
                    </a:lnTo>
                    <a:lnTo>
                      <a:pt x="1245" y="387"/>
                    </a:lnTo>
                    <a:lnTo>
                      <a:pt x="1219" y="414"/>
                    </a:lnTo>
                    <a:lnTo>
                      <a:pt x="1192" y="442"/>
                    </a:lnTo>
                    <a:lnTo>
                      <a:pt x="1166" y="470"/>
                    </a:lnTo>
                    <a:lnTo>
                      <a:pt x="1142" y="499"/>
                    </a:lnTo>
                    <a:lnTo>
                      <a:pt x="1118" y="529"/>
                    </a:lnTo>
                    <a:lnTo>
                      <a:pt x="1093" y="558"/>
                    </a:lnTo>
                    <a:lnTo>
                      <a:pt x="1070" y="588"/>
                    </a:lnTo>
                    <a:lnTo>
                      <a:pt x="1046" y="618"/>
                    </a:lnTo>
                    <a:lnTo>
                      <a:pt x="1023" y="649"/>
                    </a:lnTo>
                    <a:lnTo>
                      <a:pt x="1000" y="679"/>
                    </a:lnTo>
                    <a:lnTo>
                      <a:pt x="976" y="709"/>
                    </a:lnTo>
                    <a:lnTo>
                      <a:pt x="953" y="740"/>
                    </a:lnTo>
                    <a:lnTo>
                      <a:pt x="929" y="771"/>
                    </a:lnTo>
                    <a:lnTo>
                      <a:pt x="903" y="801"/>
                    </a:lnTo>
                    <a:lnTo>
                      <a:pt x="884" y="825"/>
                    </a:lnTo>
                    <a:lnTo>
                      <a:pt x="864" y="849"/>
                    </a:lnTo>
                    <a:lnTo>
                      <a:pt x="844" y="872"/>
                    </a:lnTo>
                    <a:lnTo>
                      <a:pt x="825" y="896"/>
                    </a:lnTo>
                    <a:lnTo>
                      <a:pt x="806" y="921"/>
                    </a:lnTo>
                    <a:lnTo>
                      <a:pt x="787" y="945"/>
                    </a:lnTo>
                    <a:lnTo>
                      <a:pt x="768" y="969"/>
                    </a:lnTo>
                    <a:lnTo>
                      <a:pt x="750" y="992"/>
                    </a:lnTo>
                    <a:lnTo>
                      <a:pt x="731" y="1016"/>
                    </a:lnTo>
                    <a:lnTo>
                      <a:pt x="712" y="1040"/>
                    </a:lnTo>
                    <a:lnTo>
                      <a:pt x="693" y="1063"/>
                    </a:lnTo>
                    <a:lnTo>
                      <a:pt x="675" y="1088"/>
                    </a:lnTo>
                    <a:lnTo>
                      <a:pt x="657" y="1111"/>
                    </a:lnTo>
                    <a:lnTo>
                      <a:pt x="638" y="1135"/>
                    </a:lnTo>
                    <a:lnTo>
                      <a:pt x="620" y="1159"/>
                    </a:lnTo>
                    <a:lnTo>
                      <a:pt x="601" y="1182"/>
                    </a:lnTo>
                    <a:lnTo>
                      <a:pt x="605" y="1167"/>
                    </a:lnTo>
                    <a:lnTo>
                      <a:pt x="609" y="1151"/>
                    </a:lnTo>
                    <a:lnTo>
                      <a:pt x="613" y="1136"/>
                    </a:lnTo>
                    <a:lnTo>
                      <a:pt x="617" y="1121"/>
                    </a:lnTo>
                    <a:lnTo>
                      <a:pt x="638" y="1062"/>
                    </a:lnTo>
                    <a:lnTo>
                      <a:pt x="661" y="1006"/>
                    </a:lnTo>
                    <a:lnTo>
                      <a:pt x="685" y="949"/>
                    </a:lnTo>
                    <a:lnTo>
                      <a:pt x="712" y="893"/>
                    </a:lnTo>
                    <a:lnTo>
                      <a:pt x="739" y="839"/>
                    </a:lnTo>
                    <a:lnTo>
                      <a:pt x="769" y="785"/>
                    </a:lnTo>
                    <a:lnTo>
                      <a:pt x="801" y="732"/>
                    </a:lnTo>
                    <a:lnTo>
                      <a:pt x="832" y="679"/>
                    </a:lnTo>
                    <a:lnTo>
                      <a:pt x="865" y="627"/>
                    </a:lnTo>
                    <a:lnTo>
                      <a:pt x="900" y="576"/>
                    </a:lnTo>
                    <a:lnTo>
                      <a:pt x="935" y="525"/>
                    </a:lnTo>
                    <a:lnTo>
                      <a:pt x="971" y="475"/>
                    </a:lnTo>
                    <a:lnTo>
                      <a:pt x="1008" y="426"/>
                    </a:lnTo>
                    <a:lnTo>
                      <a:pt x="1046" y="377"/>
                    </a:lnTo>
                    <a:lnTo>
                      <a:pt x="1084" y="328"/>
                    </a:lnTo>
                    <a:lnTo>
                      <a:pt x="1122" y="281"/>
                    </a:lnTo>
                    <a:lnTo>
                      <a:pt x="1152" y="218"/>
                    </a:lnTo>
                    <a:lnTo>
                      <a:pt x="1156" y="205"/>
                    </a:lnTo>
                    <a:lnTo>
                      <a:pt x="1159" y="194"/>
                    </a:lnTo>
                    <a:lnTo>
                      <a:pt x="1160" y="181"/>
                    </a:lnTo>
                    <a:lnTo>
                      <a:pt x="1161" y="168"/>
                    </a:lnTo>
                    <a:lnTo>
                      <a:pt x="1159" y="135"/>
                    </a:lnTo>
                    <a:lnTo>
                      <a:pt x="1151" y="104"/>
                    </a:lnTo>
                    <a:lnTo>
                      <a:pt x="1136" y="76"/>
                    </a:lnTo>
                    <a:lnTo>
                      <a:pt x="1116" y="51"/>
                    </a:lnTo>
                    <a:lnTo>
                      <a:pt x="1093" y="30"/>
                    </a:lnTo>
                    <a:lnTo>
                      <a:pt x="1066" y="15"/>
                    </a:lnTo>
                    <a:lnTo>
                      <a:pt x="1035" y="5"/>
                    </a:lnTo>
                    <a:lnTo>
                      <a:pt x="1002" y="0"/>
                    </a:lnTo>
                    <a:lnTo>
                      <a:pt x="938" y="3"/>
                    </a:lnTo>
                    <a:lnTo>
                      <a:pt x="904" y="10"/>
                    </a:lnTo>
                    <a:lnTo>
                      <a:pt x="871" y="17"/>
                    </a:lnTo>
                    <a:lnTo>
                      <a:pt x="839" y="25"/>
                    </a:lnTo>
                    <a:lnTo>
                      <a:pt x="805" y="35"/>
                    </a:lnTo>
                    <a:lnTo>
                      <a:pt x="773" y="44"/>
                    </a:lnTo>
                    <a:lnTo>
                      <a:pt x="741" y="54"/>
                    </a:lnTo>
                    <a:lnTo>
                      <a:pt x="708" y="65"/>
                    </a:lnTo>
                    <a:lnTo>
                      <a:pt x="676" y="77"/>
                    </a:lnTo>
                    <a:lnTo>
                      <a:pt x="644" y="89"/>
                    </a:lnTo>
                    <a:lnTo>
                      <a:pt x="613" y="103"/>
                    </a:lnTo>
                    <a:lnTo>
                      <a:pt x="582" y="116"/>
                    </a:lnTo>
                    <a:lnTo>
                      <a:pt x="552" y="131"/>
                    </a:lnTo>
                    <a:lnTo>
                      <a:pt x="522" y="146"/>
                    </a:lnTo>
                    <a:lnTo>
                      <a:pt x="492" y="162"/>
                    </a:lnTo>
                    <a:lnTo>
                      <a:pt x="463" y="180"/>
                    </a:lnTo>
                    <a:lnTo>
                      <a:pt x="435" y="197"/>
                    </a:lnTo>
                    <a:lnTo>
                      <a:pt x="406" y="217"/>
                    </a:lnTo>
                    <a:lnTo>
                      <a:pt x="380" y="235"/>
                    </a:lnTo>
                    <a:lnTo>
                      <a:pt x="353" y="256"/>
                    </a:lnTo>
                    <a:lnTo>
                      <a:pt x="327" y="276"/>
                    </a:lnTo>
                    <a:lnTo>
                      <a:pt x="302" y="298"/>
                    </a:lnTo>
                    <a:lnTo>
                      <a:pt x="277" y="321"/>
                    </a:lnTo>
                    <a:lnTo>
                      <a:pt x="254" y="346"/>
                    </a:lnTo>
                    <a:lnTo>
                      <a:pt x="231" y="370"/>
                    </a:lnTo>
                    <a:lnTo>
                      <a:pt x="209" y="395"/>
                    </a:lnTo>
                    <a:lnTo>
                      <a:pt x="189" y="422"/>
                    </a:lnTo>
                    <a:lnTo>
                      <a:pt x="169" y="448"/>
                    </a:lnTo>
                    <a:lnTo>
                      <a:pt x="149" y="477"/>
                    </a:lnTo>
                    <a:lnTo>
                      <a:pt x="131" y="506"/>
                    </a:lnTo>
                    <a:lnTo>
                      <a:pt x="115" y="536"/>
                    </a:lnTo>
                    <a:lnTo>
                      <a:pt x="99" y="566"/>
                    </a:lnTo>
                    <a:lnTo>
                      <a:pt x="84" y="598"/>
                    </a:lnTo>
                    <a:lnTo>
                      <a:pt x="69" y="634"/>
                    </a:lnTo>
                    <a:lnTo>
                      <a:pt x="55" y="669"/>
                    </a:lnTo>
                    <a:lnTo>
                      <a:pt x="42" y="706"/>
                    </a:lnTo>
                    <a:lnTo>
                      <a:pt x="31" y="743"/>
                    </a:lnTo>
                    <a:lnTo>
                      <a:pt x="22" y="781"/>
                    </a:lnTo>
                    <a:lnTo>
                      <a:pt x="13" y="818"/>
                    </a:lnTo>
                    <a:lnTo>
                      <a:pt x="8" y="856"/>
                    </a:lnTo>
                    <a:lnTo>
                      <a:pt x="3" y="894"/>
                    </a:lnTo>
                    <a:lnTo>
                      <a:pt x="0" y="960"/>
                    </a:lnTo>
                    <a:lnTo>
                      <a:pt x="3" y="1025"/>
                    </a:lnTo>
                    <a:lnTo>
                      <a:pt x="11" y="1091"/>
                    </a:lnTo>
                    <a:lnTo>
                      <a:pt x="26" y="1157"/>
                    </a:lnTo>
                    <a:lnTo>
                      <a:pt x="31" y="1173"/>
                    </a:lnTo>
                    <a:lnTo>
                      <a:pt x="35" y="1189"/>
                    </a:lnTo>
                    <a:lnTo>
                      <a:pt x="42" y="1204"/>
                    </a:lnTo>
                    <a:lnTo>
                      <a:pt x="51" y="1218"/>
                    </a:lnTo>
                    <a:lnTo>
                      <a:pt x="61" y="1230"/>
                    </a:lnTo>
                    <a:lnTo>
                      <a:pt x="71" y="1242"/>
                    </a:lnTo>
                    <a:lnTo>
                      <a:pt x="83" y="1253"/>
                    </a:lnTo>
                    <a:lnTo>
                      <a:pt x="95" y="1263"/>
                    </a:lnTo>
                    <a:lnTo>
                      <a:pt x="109" y="1271"/>
                    </a:lnTo>
                    <a:lnTo>
                      <a:pt x="123" y="1278"/>
                    </a:lnTo>
                    <a:lnTo>
                      <a:pt x="138" y="1283"/>
                    </a:lnTo>
                    <a:lnTo>
                      <a:pt x="154" y="1287"/>
                    </a:lnTo>
                    <a:lnTo>
                      <a:pt x="169" y="1290"/>
                    </a:lnTo>
                    <a:lnTo>
                      <a:pt x="185" y="1291"/>
                    </a:lnTo>
                    <a:lnTo>
                      <a:pt x="202" y="1290"/>
                    </a:lnTo>
                    <a:lnTo>
                      <a:pt x="219" y="1288"/>
                    </a:lnTo>
                    <a:lnTo>
                      <a:pt x="224" y="1287"/>
                    </a:lnTo>
                    <a:lnTo>
                      <a:pt x="230" y="1286"/>
                    </a:lnTo>
                    <a:lnTo>
                      <a:pt x="235" y="1285"/>
                    </a:lnTo>
                    <a:lnTo>
                      <a:pt x="240" y="1282"/>
                    </a:lnTo>
                    <a:lnTo>
                      <a:pt x="245" y="1280"/>
                    </a:lnTo>
                    <a:lnTo>
                      <a:pt x="251" y="1279"/>
                    </a:lnTo>
                    <a:lnTo>
                      <a:pt x="255" y="1276"/>
                    </a:lnTo>
                    <a:lnTo>
                      <a:pt x="260" y="1274"/>
                    </a:lnTo>
                    <a:lnTo>
                      <a:pt x="259" y="1312"/>
                    </a:lnTo>
                    <a:lnTo>
                      <a:pt x="259" y="1351"/>
                    </a:lnTo>
                    <a:lnTo>
                      <a:pt x="260" y="1389"/>
                    </a:lnTo>
                    <a:lnTo>
                      <a:pt x="262" y="1429"/>
                    </a:lnTo>
                    <a:lnTo>
                      <a:pt x="267" y="1468"/>
                    </a:lnTo>
                    <a:lnTo>
                      <a:pt x="273" y="1507"/>
                    </a:lnTo>
                    <a:lnTo>
                      <a:pt x="280" y="1547"/>
                    </a:lnTo>
                    <a:lnTo>
                      <a:pt x="289" y="1586"/>
                    </a:lnTo>
                    <a:lnTo>
                      <a:pt x="293" y="1592"/>
                    </a:lnTo>
                    <a:lnTo>
                      <a:pt x="305" y="1608"/>
                    </a:lnTo>
                    <a:lnTo>
                      <a:pt x="322" y="1631"/>
                    </a:lnTo>
                    <a:lnTo>
                      <a:pt x="343" y="1657"/>
                    </a:lnTo>
                    <a:lnTo>
                      <a:pt x="368" y="1683"/>
                    </a:lnTo>
                    <a:lnTo>
                      <a:pt x="395" y="1706"/>
                    </a:lnTo>
                    <a:lnTo>
                      <a:pt x="420" y="1724"/>
                    </a:lnTo>
                    <a:lnTo>
                      <a:pt x="446" y="1730"/>
                    </a:lnTo>
                    <a:lnTo>
                      <a:pt x="450" y="1729"/>
                    </a:lnTo>
                    <a:lnTo>
                      <a:pt x="464" y="1728"/>
                    </a:lnTo>
                    <a:lnTo>
                      <a:pt x="484" y="1725"/>
                    </a:lnTo>
                    <a:lnTo>
                      <a:pt x="507" y="1719"/>
                    </a:lnTo>
                    <a:lnTo>
                      <a:pt x="532" y="1713"/>
                    </a:lnTo>
                    <a:lnTo>
                      <a:pt x="556" y="1704"/>
                    </a:lnTo>
                    <a:lnTo>
                      <a:pt x="577" y="1694"/>
                    </a:lnTo>
                    <a:lnTo>
                      <a:pt x="593" y="1681"/>
                    </a:lnTo>
                    <a:lnTo>
                      <a:pt x="613" y="1661"/>
                    </a:lnTo>
                    <a:lnTo>
                      <a:pt x="635" y="1642"/>
                    </a:lnTo>
                    <a:lnTo>
                      <a:pt x="657" y="1621"/>
                    </a:lnTo>
                    <a:lnTo>
                      <a:pt x="677" y="1601"/>
                    </a:lnTo>
                    <a:lnTo>
                      <a:pt x="698" y="1581"/>
                    </a:lnTo>
                    <a:lnTo>
                      <a:pt x="718" y="1559"/>
                    </a:lnTo>
                    <a:lnTo>
                      <a:pt x="737" y="1537"/>
                    </a:lnTo>
                    <a:lnTo>
                      <a:pt x="757" y="1515"/>
                    </a:lnTo>
                    <a:lnTo>
                      <a:pt x="775" y="1491"/>
                    </a:lnTo>
                    <a:lnTo>
                      <a:pt x="776" y="1490"/>
                    </a:lnTo>
                    <a:lnTo>
                      <a:pt x="776" y="1488"/>
                    </a:lnTo>
                    <a:lnTo>
                      <a:pt x="778" y="1488"/>
                    </a:lnTo>
                    <a:lnTo>
                      <a:pt x="778" y="1487"/>
                    </a:lnTo>
                    <a:lnTo>
                      <a:pt x="771" y="1558"/>
                    </a:lnTo>
                    <a:lnTo>
                      <a:pt x="766" y="1628"/>
                    </a:lnTo>
                    <a:lnTo>
                      <a:pt x="764" y="1699"/>
                    </a:lnTo>
                    <a:lnTo>
                      <a:pt x="764" y="1771"/>
                    </a:lnTo>
                    <a:lnTo>
                      <a:pt x="766" y="1787"/>
                    </a:lnTo>
                    <a:lnTo>
                      <a:pt x="774" y="1825"/>
                    </a:lnTo>
                    <a:lnTo>
                      <a:pt x="784" y="1869"/>
                    </a:lnTo>
                    <a:lnTo>
                      <a:pt x="797" y="1901"/>
                    </a:lnTo>
                    <a:lnTo>
                      <a:pt x="806" y="1915"/>
                    </a:lnTo>
                    <a:lnTo>
                      <a:pt x="818" y="1927"/>
                    </a:lnTo>
                    <a:lnTo>
                      <a:pt x="829" y="1939"/>
                    </a:lnTo>
                    <a:lnTo>
                      <a:pt x="842" y="1948"/>
                    </a:lnTo>
                    <a:lnTo>
                      <a:pt x="856" y="1956"/>
                    </a:lnTo>
                    <a:lnTo>
                      <a:pt x="870" y="1963"/>
                    </a:lnTo>
                    <a:lnTo>
                      <a:pt x="885" y="1969"/>
                    </a:lnTo>
                    <a:lnTo>
                      <a:pt x="900" y="1974"/>
                    </a:lnTo>
                    <a:lnTo>
                      <a:pt x="915" y="1976"/>
                    </a:lnTo>
                    <a:lnTo>
                      <a:pt x="931" y="1977"/>
                    </a:lnTo>
                    <a:lnTo>
                      <a:pt x="947" y="1977"/>
                    </a:lnTo>
                    <a:lnTo>
                      <a:pt x="962" y="1975"/>
                    </a:lnTo>
                    <a:lnTo>
                      <a:pt x="978" y="1971"/>
                    </a:lnTo>
                    <a:lnTo>
                      <a:pt x="993" y="1967"/>
                    </a:lnTo>
                    <a:lnTo>
                      <a:pt x="1008" y="1960"/>
                    </a:lnTo>
                    <a:lnTo>
                      <a:pt x="1023" y="1952"/>
                    </a:lnTo>
                    <a:lnTo>
                      <a:pt x="1028" y="1947"/>
                    </a:lnTo>
                    <a:lnTo>
                      <a:pt x="1039" y="1935"/>
                    </a:lnTo>
                    <a:lnTo>
                      <a:pt x="1059" y="1917"/>
                    </a:lnTo>
                    <a:lnTo>
                      <a:pt x="1084" y="1892"/>
                    </a:lnTo>
                    <a:lnTo>
                      <a:pt x="1114" y="1862"/>
                    </a:lnTo>
                    <a:lnTo>
                      <a:pt x="1150" y="1827"/>
                    </a:lnTo>
                    <a:lnTo>
                      <a:pt x="1189" y="1790"/>
                    </a:lnTo>
                    <a:lnTo>
                      <a:pt x="1230" y="1749"/>
                    </a:lnTo>
                    <a:lnTo>
                      <a:pt x="1274" y="1707"/>
                    </a:lnTo>
                    <a:lnTo>
                      <a:pt x="1319" y="1664"/>
                    </a:lnTo>
                    <a:lnTo>
                      <a:pt x="1365" y="1621"/>
                    </a:lnTo>
                    <a:lnTo>
                      <a:pt x="1410" y="1578"/>
                    </a:lnTo>
                    <a:lnTo>
                      <a:pt x="1454" y="1538"/>
                    </a:lnTo>
                    <a:lnTo>
                      <a:pt x="1497" y="1499"/>
                    </a:lnTo>
                    <a:lnTo>
                      <a:pt x="1535" y="1464"/>
                    </a:lnTo>
                    <a:lnTo>
                      <a:pt x="1570" y="1433"/>
                    </a:lnTo>
                    <a:lnTo>
                      <a:pt x="1561" y="1480"/>
                    </a:lnTo>
                    <a:lnTo>
                      <a:pt x="1553" y="1541"/>
                    </a:lnTo>
                    <a:lnTo>
                      <a:pt x="1545" y="1593"/>
                    </a:lnTo>
                    <a:lnTo>
                      <a:pt x="1543" y="1615"/>
                    </a:lnTo>
                    <a:lnTo>
                      <a:pt x="1543" y="1620"/>
                    </a:lnTo>
                    <a:lnTo>
                      <a:pt x="1543" y="1623"/>
                    </a:lnTo>
                    <a:lnTo>
                      <a:pt x="1543" y="1628"/>
                    </a:lnTo>
                    <a:lnTo>
                      <a:pt x="1543" y="1631"/>
                    </a:lnTo>
                    <a:lnTo>
                      <a:pt x="1547" y="1665"/>
                    </a:lnTo>
                    <a:lnTo>
                      <a:pt x="1558" y="1695"/>
                    </a:lnTo>
                    <a:lnTo>
                      <a:pt x="1573" y="1722"/>
                    </a:lnTo>
                    <a:lnTo>
                      <a:pt x="1593" y="1747"/>
                    </a:lnTo>
                    <a:lnTo>
                      <a:pt x="1619" y="1766"/>
                    </a:lnTo>
                    <a:lnTo>
                      <a:pt x="1646" y="1780"/>
                    </a:lnTo>
                    <a:lnTo>
                      <a:pt x="1678" y="1789"/>
                    </a:lnTo>
                    <a:lnTo>
                      <a:pt x="1711" y="1791"/>
                    </a:lnTo>
                    <a:lnTo>
                      <a:pt x="1713" y="1791"/>
                    </a:lnTo>
                    <a:lnTo>
                      <a:pt x="1720" y="1790"/>
                    </a:lnTo>
                    <a:lnTo>
                      <a:pt x="1731" y="1789"/>
                    </a:lnTo>
                    <a:lnTo>
                      <a:pt x="1746" y="1787"/>
                    </a:lnTo>
                    <a:lnTo>
                      <a:pt x="1763" y="1785"/>
                    </a:lnTo>
                    <a:lnTo>
                      <a:pt x="1782" y="1781"/>
                    </a:lnTo>
                    <a:lnTo>
                      <a:pt x="1804" y="1778"/>
                    </a:lnTo>
                    <a:lnTo>
                      <a:pt x="1827" y="1774"/>
                    </a:lnTo>
                    <a:lnTo>
                      <a:pt x="1850" y="1770"/>
                    </a:lnTo>
                    <a:lnTo>
                      <a:pt x="1876" y="1766"/>
                    </a:lnTo>
                    <a:lnTo>
                      <a:pt x="1900" y="1762"/>
                    </a:lnTo>
                    <a:lnTo>
                      <a:pt x="1923" y="1757"/>
                    </a:lnTo>
                    <a:lnTo>
                      <a:pt x="1946" y="1752"/>
                    </a:lnTo>
                    <a:lnTo>
                      <a:pt x="1967" y="1748"/>
                    </a:lnTo>
                    <a:lnTo>
                      <a:pt x="1986" y="1743"/>
                    </a:lnTo>
                    <a:lnTo>
                      <a:pt x="2003" y="1738"/>
                    </a:lnTo>
                    <a:lnTo>
                      <a:pt x="2034" y="1726"/>
                    </a:lnTo>
                    <a:lnTo>
                      <a:pt x="2060" y="1709"/>
                    </a:lnTo>
                    <a:lnTo>
                      <a:pt x="2083" y="1687"/>
                    </a:lnTo>
                    <a:lnTo>
                      <a:pt x="2102" y="1660"/>
                    </a:lnTo>
                    <a:lnTo>
                      <a:pt x="2113" y="1631"/>
                    </a:lnTo>
                    <a:lnTo>
                      <a:pt x="2120" y="1600"/>
                    </a:lnTo>
                    <a:lnTo>
                      <a:pt x="2121" y="1568"/>
                    </a:lnTo>
                    <a:lnTo>
                      <a:pt x="2114" y="1535"/>
                    </a:lnTo>
                    <a:lnTo>
                      <a:pt x="2109" y="1520"/>
                    </a:lnTo>
                    <a:lnTo>
                      <a:pt x="2103" y="1505"/>
                    </a:lnTo>
                    <a:lnTo>
                      <a:pt x="2095" y="1491"/>
                    </a:lnTo>
                    <a:lnTo>
                      <a:pt x="2086" y="1478"/>
                    </a:lnTo>
                    <a:lnTo>
                      <a:pt x="2075" y="1467"/>
                    </a:lnTo>
                    <a:lnTo>
                      <a:pt x="2064" y="1456"/>
                    </a:lnTo>
                    <a:lnTo>
                      <a:pt x="2052" y="1447"/>
                    </a:lnTo>
                    <a:lnTo>
                      <a:pt x="2039" y="1438"/>
                    </a:lnTo>
                    <a:lnTo>
                      <a:pt x="2026" y="1431"/>
                    </a:lnTo>
                    <a:lnTo>
                      <a:pt x="2012" y="1425"/>
                    </a:lnTo>
                    <a:lnTo>
                      <a:pt x="1997" y="1422"/>
                    </a:lnTo>
                    <a:lnTo>
                      <a:pt x="1982" y="1418"/>
                    </a:lnTo>
                    <a:lnTo>
                      <a:pt x="1966" y="1417"/>
                    </a:lnTo>
                    <a:lnTo>
                      <a:pt x="1951" y="1417"/>
                    </a:lnTo>
                    <a:lnTo>
                      <a:pt x="1935" y="1418"/>
                    </a:lnTo>
                    <a:lnTo>
                      <a:pt x="1918" y="1422"/>
                    </a:lnTo>
                    <a:lnTo>
                      <a:pt x="1932" y="1389"/>
                    </a:lnTo>
                    <a:lnTo>
                      <a:pt x="1946" y="1357"/>
                    </a:lnTo>
                    <a:lnTo>
                      <a:pt x="1960" y="1328"/>
                    </a:lnTo>
                    <a:lnTo>
                      <a:pt x="1975" y="1300"/>
                    </a:lnTo>
                    <a:lnTo>
                      <a:pt x="1990" y="1272"/>
                    </a:lnTo>
                    <a:lnTo>
                      <a:pt x="2006" y="1244"/>
                    </a:lnTo>
                    <a:lnTo>
                      <a:pt x="2022" y="1219"/>
                    </a:lnTo>
                    <a:lnTo>
                      <a:pt x="2039" y="1194"/>
                    </a:lnTo>
                    <a:lnTo>
                      <a:pt x="2058" y="1168"/>
                    </a:lnTo>
                    <a:lnTo>
                      <a:pt x="2076" y="1144"/>
                    </a:lnTo>
                    <a:lnTo>
                      <a:pt x="2097" y="1120"/>
                    </a:lnTo>
                    <a:lnTo>
                      <a:pt x="2118" y="1096"/>
                    </a:lnTo>
                    <a:lnTo>
                      <a:pt x="2140" y="1073"/>
                    </a:lnTo>
                    <a:lnTo>
                      <a:pt x="2162" y="1048"/>
                    </a:lnTo>
                    <a:lnTo>
                      <a:pt x="2186" y="1024"/>
                    </a:lnTo>
                    <a:lnTo>
                      <a:pt x="2211" y="999"/>
                    </a:lnTo>
                    <a:lnTo>
                      <a:pt x="2214" y="995"/>
                    </a:lnTo>
                    <a:lnTo>
                      <a:pt x="2220" y="986"/>
                    </a:lnTo>
                    <a:lnTo>
                      <a:pt x="2228" y="970"/>
                    </a:lnTo>
                    <a:lnTo>
                      <a:pt x="2235" y="946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19560" y="3254760"/>
                <a:ext cx="174600" cy="345960"/>
              </a:xfrm>
              <a:custGeom>
                <a:avLst/>
                <a:gdLst/>
                <a:ahLst/>
                <a:rect l="l" t="t" r="r" b="b"/>
                <a:pathLst>
                  <a:path w="220" h="437">
                    <a:moveTo>
                      <a:pt x="73" y="175"/>
                    </a:moveTo>
                    <a:lnTo>
                      <a:pt x="87" y="150"/>
                    </a:lnTo>
                    <a:lnTo>
                      <a:pt x="101" y="126"/>
                    </a:lnTo>
                    <a:lnTo>
                      <a:pt x="119" y="103"/>
                    </a:lnTo>
                    <a:lnTo>
                      <a:pt x="136" y="80"/>
                    </a:lnTo>
                    <a:lnTo>
                      <a:pt x="156" y="59"/>
                    </a:lnTo>
                    <a:lnTo>
                      <a:pt x="176" y="38"/>
                    </a:lnTo>
                    <a:lnTo>
                      <a:pt x="198" y="19"/>
                    </a:lnTo>
                    <a:lnTo>
                      <a:pt x="220" y="0"/>
                    </a:lnTo>
                    <a:lnTo>
                      <a:pt x="204" y="27"/>
                    </a:lnTo>
                    <a:lnTo>
                      <a:pt x="188" y="53"/>
                    </a:lnTo>
                    <a:lnTo>
                      <a:pt x="172" y="80"/>
                    </a:lnTo>
                    <a:lnTo>
                      <a:pt x="156" y="106"/>
                    </a:lnTo>
                    <a:lnTo>
                      <a:pt x="141" y="133"/>
                    </a:lnTo>
                    <a:lnTo>
                      <a:pt x="126" y="159"/>
                    </a:lnTo>
                    <a:lnTo>
                      <a:pt x="111" y="187"/>
                    </a:lnTo>
                    <a:lnTo>
                      <a:pt x="97" y="213"/>
                    </a:lnTo>
                    <a:lnTo>
                      <a:pt x="83" y="241"/>
                    </a:lnTo>
                    <a:lnTo>
                      <a:pt x="69" y="269"/>
                    </a:lnTo>
                    <a:lnTo>
                      <a:pt x="57" y="296"/>
                    </a:lnTo>
                    <a:lnTo>
                      <a:pt x="44" y="324"/>
                    </a:lnTo>
                    <a:lnTo>
                      <a:pt x="32" y="352"/>
                    </a:lnTo>
                    <a:lnTo>
                      <a:pt x="21" y="380"/>
                    </a:lnTo>
                    <a:lnTo>
                      <a:pt x="10" y="408"/>
                    </a:lnTo>
                    <a:lnTo>
                      <a:pt x="0" y="437"/>
                    </a:lnTo>
                    <a:lnTo>
                      <a:pt x="2" y="402"/>
                    </a:lnTo>
                    <a:lnTo>
                      <a:pt x="6" y="369"/>
                    </a:lnTo>
                    <a:lnTo>
                      <a:pt x="13" y="336"/>
                    </a:lnTo>
                    <a:lnTo>
                      <a:pt x="21" y="302"/>
                    </a:lnTo>
                    <a:lnTo>
                      <a:pt x="32" y="270"/>
                    </a:lnTo>
                    <a:lnTo>
                      <a:pt x="44" y="238"/>
                    </a:lnTo>
                    <a:lnTo>
                      <a:pt x="58" y="207"/>
                    </a:lnTo>
                    <a:lnTo>
                      <a:pt x="73" y="17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19840" y="2875320"/>
                <a:ext cx="1515960" cy="1395360"/>
              </a:xfrm>
              <a:custGeom>
                <a:avLst/>
                <a:gdLst/>
                <a:ahLst/>
                <a:rect l="l" t="t" r="r" b="b"/>
                <a:pathLst>
                  <a:path w="1909" h="1758">
                    <a:moveTo>
                      <a:pt x="1592" y="406"/>
                    </a:moveTo>
                    <a:lnTo>
                      <a:pt x="1676" y="418"/>
                    </a:lnTo>
                    <a:lnTo>
                      <a:pt x="1678" y="403"/>
                    </a:lnTo>
                    <a:lnTo>
                      <a:pt x="1681" y="388"/>
                    </a:lnTo>
                    <a:lnTo>
                      <a:pt x="1687" y="376"/>
                    </a:lnTo>
                    <a:lnTo>
                      <a:pt x="1695" y="362"/>
                    </a:lnTo>
                    <a:lnTo>
                      <a:pt x="1703" y="350"/>
                    </a:lnTo>
                    <a:lnTo>
                      <a:pt x="1713" y="339"/>
                    </a:lnTo>
                    <a:lnTo>
                      <a:pt x="1724" y="327"/>
                    </a:lnTo>
                    <a:lnTo>
                      <a:pt x="1735" y="317"/>
                    </a:lnTo>
                    <a:lnTo>
                      <a:pt x="1739" y="305"/>
                    </a:lnTo>
                    <a:lnTo>
                      <a:pt x="1746" y="294"/>
                    </a:lnTo>
                    <a:lnTo>
                      <a:pt x="1749" y="284"/>
                    </a:lnTo>
                    <a:lnTo>
                      <a:pt x="1740" y="273"/>
                    </a:lnTo>
                    <a:lnTo>
                      <a:pt x="1734" y="258"/>
                    </a:lnTo>
                    <a:lnTo>
                      <a:pt x="1733" y="247"/>
                    </a:lnTo>
                    <a:lnTo>
                      <a:pt x="1736" y="236"/>
                    </a:lnTo>
                    <a:lnTo>
                      <a:pt x="1746" y="228"/>
                    </a:lnTo>
                    <a:lnTo>
                      <a:pt x="1750" y="225"/>
                    </a:lnTo>
                    <a:lnTo>
                      <a:pt x="1756" y="223"/>
                    </a:lnTo>
                    <a:lnTo>
                      <a:pt x="1761" y="220"/>
                    </a:lnTo>
                    <a:lnTo>
                      <a:pt x="1766" y="218"/>
                    </a:lnTo>
                    <a:lnTo>
                      <a:pt x="1772" y="217"/>
                    </a:lnTo>
                    <a:lnTo>
                      <a:pt x="1779" y="217"/>
                    </a:lnTo>
                    <a:lnTo>
                      <a:pt x="1785" y="217"/>
                    </a:lnTo>
                    <a:lnTo>
                      <a:pt x="1791" y="218"/>
                    </a:lnTo>
                    <a:lnTo>
                      <a:pt x="1797" y="221"/>
                    </a:lnTo>
                    <a:lnTo>
                      <a:pt x="1806" y="224"/>
                    </a:lnTo>
                    <a:lnTo>
                      <a:pt x="1815" y="225"/>
                    </a:lnTo>
                    <a:lnTo>
                      <a:pt x="1824" y="226"/>
                    </a:lnTo>
                    <a:lnTo>
                      <a:pt x="1833" y="227"/>
                    </a:lnTo>
                    <a:lnTo>
                      <a:pt x="1841" y="231"/>
                    </a:lnTo>
                    <a:lnTo>
                      <a:pt x="1849" y="235"/>
                    </a:lnTo>
                    <a:lnTo>
                      <a:pt x="1856" y="242"/>
                    </a:lnTo>
                    <a:lnTo>
                      <a:pt x="1865" y="248"/>
                    </a:lnTo>
                    <a:lnTo>
                      <a:pt x="1874" y="256"/>
                    </a:lnTo>
                    <a:lnTo>
                      <a:pt x="1880" y="264"/>
                    </a:lnTo>
                    <a:lnTo>
                      <a:pt x="1886" y="273"/>
                    </a:lnTo>
                    <a:lnTo>
                      <a:pt x="1892" y="282"/>
                    </a:lnTo>
                    <a:lnTo>
                      <a:pt x="1897" y="292"/>
                    </a:lnTo>
                    <a:lnTo>
                      <a:pt x="1902" y="302"/>
                    </a:lnTo>
                    <a:lnTo>
                      <a:pt x="1907" y="311"/>
                    </a:lnTo>
                    <a:lnTo>
                      <a:pt x="1909" y="330"/>
                    </a:lnTo>
                    <a:lnTo>
                      <a:pt x="1907" y="347"/>
                    </a:lnTo>
                    <a:lnTo>
                      <a:pt x="1902" y="364"/>
                    </a:lnTo>
                    <a:lnTo>
                      <a:pt x="1893" y="380"/>
                    </a:lnTo>
                    <a:lnTo>
                      <a:pt x="1898" y="390"/>
                    </a:lnTo>
                    <a:lnTo>
                      <a:pt x="1902" y="400"/>
                    </a:lnTo>
                    <a:lnTo>
                      <a:pt x="1902" y="411"/>
                    </a:lnTo>
                    <a:lnTo>
                      <a:pt x="1897" y="421"/>
                    </a:lnTo>
                    <a:lnTo>
                      <a:pt x="1890" y="429"/>
                    </a:lnTo>
                    <a:lnTo>
                      <a:pt x="1882" y="433"/>
                    </a:lnTo>
                    <a:lnTo>
                      <a:pt x="1874" y="438"/>
                    </a:lnTo>
                    <a:lnTo>
                      <a:pt x="1864" y="440"/>
                    </a:lnTo>
                    <a:lnTo>
                      <a:pt x="1855" y="443"/>
                    </a:lnTo>
                    <a:lnTo>
                      <a:pt x="1847" y="446"/>
                    </a:lnTo>
                    <a:lnTo>
                      <a:pt x="1839" y="451"/>
                    </a:lnTo>
                    <a:lnTo>
                      <a:pt x="1833" y="459"/>
                    </a:lnTo>
                    <a:lnTo>
                      <a:pt x="1846" y="474"/>
                    </a:lnTo>
                    <a:lnTo>
                      <a:pt x="1856" y="490"/>
                    </a:lnTo>
                    <a:lnTo>
                      <a:pt x="1864" y="508"/>
                    </a:lnTo>
                    <a:lnTo>
                      <a:pt x="1871" y="526"/>
                    </a:lnTo>
                    <a:lnTo>
                      <a:pt x="1876" y="545"/>
                    </a:lnTo>
                    <a:lnTo>
                      <a:pt x="1879" y="565"/>
                    </a:lnTo>
                    <a:lnTo>
                      <a:pt x="1883" y="584"/>
                    </a:lnTo>
                    <a:lnTo>
                      <a:pt x="1886" y="604"/>
                    </a:lnTo>
                    <a:lnTo>
                      <a:pt x="1886" y="627"/>
                    </a:lnTo>
                    <a:lnTo>
                      <a:pt x="1884" y="648"/>
                    </a:lnTo>
                    <a:lnTo>
                      <a:pt x="1879" y="668"/>
                    </a:lnTo>
                    <a:lnTo>
                      <a:pt x="1874" y="689"/>
                    </a:lnTo>
                    <a:lnTo>
                      <a:pt x="1867" y="709"/>
                    </a:lnTo>
                    <a:lnTo>
                      <a:pt x="1857" y="727"/>
                    </a:lnTo>
                    <a:lnTo>
                      <a:pt x="1846" y="746"/>
                    </a:lnTo>
                    <a:lnTo>
                      <a:pt x="1834" y="763"/>
                    </a:lnTo>
                    <a:lnTo>
                      <a:pt x="1847" y="808"/>
                    </a:lnTo>
                    <a:lnTo>
                      <a:pt x="1849" y="856"/>
                    </a:lnTo>
                    <a:lnTo>
                      <a:pt x="1845" y="906"/>
                    </a:lnTo>
                    <a:lnTo>
                      <a:pt x="1837" y="952"/>
                    </a:lnTo>
                    <a:lnTo>
                      <a:pt x="1848" y="1001"/>
                    </a:lnTo>
                    <a:lnTo>
                      <a:pt x="1849" y="1052"/>
                    </a:lnTo>
                    <a:lnTo>
                      <a:pt x="1842" y="1103"/>
                    </a:lnTo>
                    <a:lnTo>
                      <a:pt x="1826" y="1150"/>
                    </a:lnTo>
                    <a:lnTo>
                      <a:pt x="1834" y="1167"/>
                    </a:lnTo>
                    <a:lnTo>
                      <a:pt x="1841" y="1186"/>
                    </a:lnTo>
                    <a:lnTo>
                      <a:pt x="1842" y="1204"/>
                    </a:lnTo>
                    <a:lnTo>
                      <a:pt x="1834" y="1221"/>
                    </a:lnTo>
                    <a:lnTo>
                      <a:pt x="1830" y="1225"/>
                    </a:lnTo>
                    <a:lnTo>
                      <a:pt x="1826" y="1229"/>
                    </a:lnTo>
                    <a:lnTo>
                      <a:pt x="1822" y="1234"/>
                    </a:lnTo>
                    <a:lnTo>
                      <a:pt x="1817" y="1239"/>
                    </a:lnTo>
                    <a:lnTo>
                      <a:pt x="1812" y="1242"/>
                    </a:lnTo>
                    <a:lnTo>
                      <a:pt x="1807" y="1246"/>
                    </a:lnTo>
                    <a:lnTo>
                      <a:pt x="1801" y="1247"/>
                    </a:lnTo>
                    <a:lnTo>
                      <a:pt x="1794" y="1247"/>
                    </a:lnTo>
                    <a:lnTo>
                      <a:pt x="1786" y="1234"/>
                    </a:lnTo>
                    <a:lnTo>
                      <a:pt x="1779" y="1220"/>
                    </a:lnTo>
                    <a:lnTo>
                      <a:pt x="1774" y="1206"/>
                    </a:lnTo>
                    <a:lnTo>
                      <a:pt x="1770" y="1191"/>
                    </a:lnTo>
                    <a:lnTo>
                      <a:pt x="1782" y="1137"/>
                    </a:lnTo>
                    <a:lnTo>
                      <a:pt x="1765" y="1112"/>
                    </a:lnTo>
                    <a:lnTo>
                      <a:pt x="1747" y="1087"/>
                    </a:lnTo>
                    <a:lnTo>
                      <a:pt x="1727" y="1061"/>
                    </a:lnTo>
                    <a:lnTo>
                      <a:pt x="1709" y="1036"/>
                    </a:lnTo>
                    <a:lnTo>
                      <a:pt x="1689" y="1011"/>
                    </a:lnTo>
                    <a:lnTo>
                      <a:pt x="1671" y="985"/>
                    </a:lnTo>
                    <a:lnTo>
                      <a:pt x="1652" y="959"/>
                    </a:lnTo>
                    <a:lnTo>
                      <a:pt x="1636" y="932"/>
                    </a:lnTo>
                    <a:lnTo>
                      <a:pt x="1622" y="973"/>
                    </a:lnTo>
                    <a:lnTo>
                      <a:pt x="1606" y="1011"/>
                    </a:lnTo>
                    <a:lnTo>
                      <a:pt x="1588" y="1050"/>
                    </a:lnTo>
                    <a:lnTo>
                      <a:pt x="1568" y="1087"/>
                    </a:lnTo>
                    <a:lnTo>
                      <a:pt x="1545" y="1122"/>
                    </a:lnTo>
                    <a:lnTo>
                      <a:pt x="1520" y="1158"/>
                    </a:lnTo>
                    <a:lnTo>
                      <a:pt x="1492" y="1191"/>
                    </a:lnTo>
                    <a:lnTo>
                      <a:pt x="1461" y="1224"/>
                    </a:lnTo>
                    <a:lnTo>
                      <a:pt x="1471" y="1256"/>
                    </a:lnTo>
                    <a:lnTo>
                      <a:pt x="1484" y="1287"/>
                    </a:lnTo>
                    <a:lnTo>
                      <a:pt x="1496" y="1319"/>
                    </a:lnTo>
                    <a:lnTo>
                      <a:pt x="1507" y="1352"/>
                    </a:lnTo>
                    <a:lnTo>
                      <a:pt x="1517" y="1384"/>
                    </a:lnTo>
                    <a:lnTo>
                      <a:pt x="1525" y="1416"/>
                    </a:lnTo>
                    <a:lnTo>
                      <a:pt x="1531" y="1451"/>
                    </a:lnTo>
                    <a:lnTo>
                      <a:pt x="1534" y="1486"/>
                    </a:lnTo>
                    <a:lnTo>
                      <a:pt x="1530" y="1493"/>
                    </a:lnTo>
                    <a:lnTo>
                      <a:pt x="1524" y="1497"/>
                    </a:lnTo>
                    <a:lnTo>
                      <a:pt x="1517" y="1498"/>
                    </a:lnTo>
                    <a:lnTo>
                      <a:pt x="1510" y="1498"/>
                    </a:lnTo>
                    <a:lnTo>
                      <a:pt x="1504" y="1499"/>
                    </a:lnTo>
                    <a:lnTo>
                      <a:pt x="1498" y="1501"/>
                    </a:lnTo>
                    <a:lnTo>
                      <a:pt x="1496" y="1505"/>
                    </a:lnTo>
                    <a:lnTo>
                      <a:pt x="1496" y="1513"/>
                    </a:lnTo>
                    <a:lnTo>
                      <a:pt x="1498" y="1529"/>
                    </a:lnTo>
                    <a:lnTo>
                      <a:pt x="1498" y="1546"/>
                    </a:lnTo>
                    <a:lnTo>
                      <a:pt x="1496" y="1564"/>
                    </a:lnTo>
                    <a:lnTo>
                      <a:pt x="1489" y="1582"/>
                    </a:lnTo>
                    <a:lnTo>
                      <a:pt x="1485" y="1589"/>
                    </a:lnTo>
                    <a:lnTo>
                      <a:pt x="1478" y="1595"/>
                    </a:lnTo>
                    <a:lnTo>
                      <a:pt x="1470" y="1599"/>
                    </a:lnTo>
                    <a:lnTo>
                      <a:pt x="1461" y="1602"/>
                    </a:lnTo>
                    <a:lnTo>
                      <a:pt x="1461" y="1608"/>
                    </a:lnTo>
                    <a:lnTo>
                      <a:pt x="1463" y="1617"/>
                    </a:lnTo>
                    <a:lnTo>
                      <a:pt x="1467" y="1623"/>
                    </a:lnTo>
                    <a:lnTo>
                      <a:pt x="1468" y="1630"/>
                    </a:lnTo>
                    <a:lnTo>
                      <a:pt x="1475" y="1632"/>
                    </a:lnTo>
                    <a:lnTo>
                      <a:pt x="1483" y="1634"/>
                    </a:lnTo>
                    <a:lnTo>
                      <a:pt x="1491" y="1637"/>
                    </a:lnTo>
                    <a:lnTo>
                      <a:pt x="1500" y="1640"/>
                    </a:lnTo>
                    <a:lnTo>
                      <a:pt x="1508" y="1643"/>
                    </a:lnTo>
                    <a:lnTo>
                      <a:pt x="1514" y="1645"/>
                    </a:lnTo>
                    <a:lnTo>
                      <a:pt x="1519" y="1649"/>
                    </a:lnTo>
                    <a:lnTo>
                      <a:pt x="1520" y="1651"/>
                    </a:lnTo>
                    <a:lnTo>
                      <a:pt x="1510" y="1659"/>
                    </a:lnTo>
                    <a:lnTo>
                      <a:pt x="1500" y="1665"/>
                    </a:lnTo>
                    <a:lnTo>
                      <a:pt x="1489" y="1670"/>
                    </a:lnTo>
                    <a:lnTo>
                      <a:pt x="1478" y="1674"/>
                    </a:lnTo>
                    <a:lnTo>
                      <a:pt x="1466" y="1676"/>
                    </a:lnTo>
                    <a:lnTo>
                      <a:pt x="1454" y="1680"/>
                    </a:lnTo>
                    <a:lnTo>
                      <a:pt x="1444" y="1683"/>
                    </a:lnTo>
                    <a:lnTo>
                      <a:pt x="1432" y="1687"/>
                    </a:lnTo>
                    <a:lnTo>
                      <a:pt x="1419" y="1685"/>
                    </a:lnTo>
                    <a:lnTo>
                      <a:pt x="1413" y="1679"/>
                    </a:lnTo>
                    <a:lnTo>
                      <a:pt x="1408" y="1670"/>
                    </a:lnTo>
                    <a:lnTo>
                      <a:pt x="1407" y="1659"/>
                    </a:lnTo>
                    <a:lnTo>
                      <a:pt x="1407" y="1648"/>
                    </a:lnTo>
                    <a:lnTo>
                      <a:pt x="1407" y="1636"/>
                    </a:lnTo>
                    <a:lnTo>
                      <a:pt x="1404" y="1626"/>
                    </a:lnTo>
                    <a:lnTo>
                      <a:pt x="1399" y="1618"/>
                    </a:lnTo>
                    <a:lnTo>
                      <a:pt x="1305" y="1660"/>
                    </a:lnTo>
                    <a:lnTo>
                      <a:pt x="1309" y="1668"/>
                    </a:lnTo>
                    <a:lnTo>
                      <a:pt x="1305" y="1678"/>
                    </a:lnTo>
                    <a:lnTo>
                      <a:pt x="1300" y="1686"/>
                    </a:lnTo>
                    <a:lnTo>
                      <a:pt x="1297" y="1696"/>
                    </a:lnTo>
                    <a:lnTo>
                      <a:pt x="1294" y="1711"/>
                    </a:lnTo>
                    <a:lnTo>
                      <a:pt x="1289" y="1727"/>
                    </a:lnTo>
                    <a:lnTo>
                      <a:pt x="1281" y="1739"/>
                    </a:lnTo>
                    <a:lnTo>
                      <a:pt x="1267" y="1746"/>
                    </a:lnTo>
                    <a:lnTo>
                      <a:pt x="1257" y="1748"/>
                    </a:lnTo>
                    <a:lnTo>
                      <a:pt x="1245" y="1750"/>
                    </a:lnTo>
                    <a:lnTo>
                      <a:pt x="1234" y="1754"/>
                    </a:lnTo>
                    <a:lnTo>
                      <a:pt x="1222" y="1757"/>
                    </a:lnTo>
                    <a:lnTo>
                      <a:pt x="1211" y="1758"/>
                    </a:lnTo>
                    <a:lnTo>
                      <a:pt x="1200" y="1758"/>
                    </a:lnTo>
                    <a:lnTo>
                      <a:pt x="1190" y="1756"/>
                    </a:lnTo>
                    <a:lnTo>
                      <a:pt x="1181" y="1750"/>
                    </a:lnTo>
                    <a:lnTo>
                      <a:pt x="1185" y="1741"/>
                    </a:lnTo>
                    <a:lnTo>
                      <a:pt x="1192" y="1733"/>
                    </a:lnTo>
                    <a:lnTo>
                      <a:pt x="1202" y="1726"/>
                    </a:lnTo>
                    <a:lnTo>
                      <a:pt x="1211" y="1719"/>
                    </a:lnTo>
                    <a:lnTo>
                      <a:pt x="1215" y="1709"/>
                    </a:lnTo>
                    <a:lnTo>
                      <a:pt x="1222" y="1698"/>
                    </a:lnTo>
                    <a:lnTo>
                      <a:pt x="1226" y="1688"/>
                    </a:lnTo>
                    <a:lnTo>
                      <a:pt x="1225" y="1675"/>
                    </a:lnTo>
                    <a:lnTo>
                      <a:pt x="1219" y="1674"/>
                    </a:lnTo>
                    <a:lnTo>
                      <a:pt x="1213" y="1673"/>
                    </a:lnTo>
                    <a:lnTo>
                      <a:pt x="1207" y="1672"/>
                    </a:lnTo>
                    <a:lnTo>
                      <a:pt x="1202" y="1671"/>
                    </a:lnTo>
                    <a:lnTo>
                      <a:pt x="1196" y="1670"/>
                    </a:lnTo>
                    <a:lnTo>
                      <a:pt x="1191" y="1667"/>
                    </a:lnTo>
                    <a:lnTo>
                      <a:pt x="1185" y="1664"/>
                    </a:lnTo>
                    <a:lnTo>
                      <a:pt x="1181" y="1660"/>
                    </a:lnTo>
                    <a:lnTo>
                      <a:pt x="1179" y="1655"/>
                    </a:lnTo>
                    <a:lnTo>
                      <a:pt x="1179" y="1646"/>
                    </a:lnTo>
                    <a:lnTo>
                      <a:pt x="1180" y="1637"/>
                    </a:lnTo>
                    <a:lnTo>
                      <a:pt x="1180" y="1627"/>
                    </a:lnTo>
                    <a:lnTo>
                      <a:pt x="1179" y="1619"/>
                    </a:lnTo>
                    <a:lnTo>
                      <a:pt x="1176" y="1613"/>
                    </a:lnTo>
                    <a:lnTo>
                      <a:pt x="1169" y="1611"/>
                    </a:lnTo>
                    <a:lnTo>
                      <a:pt x="1158" y="1612"/>
                    </a:lnTo>
                    <a:lnTo>
                      <a:pt x="1147" y="1411"/>
                    </a:lnTo>
                    <a:lnTo>
                      <a:pt x="1124" y="1417"/>
                    </a:lnTo>
                    <a:lnTo>
                      <a:pt x="1101" y="1422"/>
                    </a:lnTo>
                    <a:lnTo>
                      <a:pt x="1077" y="1425"/>
                    </a:lnTo>
                    <a:lnTo>
                      <a:pt x="1053" y="1429"/>
                    </a:lnTo>
                    <a:lnTo>
                      <a:pt x="1028" y="1432"/>
                    </a:lnTo>
                    <a:lnTo>
                      <a:pt x="1002" y="1435"/>
                    </a:lnTo>
                    <a:lnTo>
                      <a:pt x="977" y="1436"/>
                    </a:lnTo>
                    <a:lnTo>
                      <a:pt x="952" y="1437"/>
                    </a:lnTo>
                    <a:lnTo>
                      <a:pt x="926" y="1437"/>
                    </a:lnTo>
                    <a:lnTo>
                      <a:pt x="901" y="1436"/>
                    </a:lnTo>
                    <a:lnTo>
                      <a:pt x="875" y="1433"/>
                    </a:lnTo>
                    <a:lnTo>
                      <a:pt x="850" y="1431"/>
                    </a:lnTo>
                    <a:lnTo>
                      <a:pt x="826" y="1428"/>
                    </a:lnTo>
                    <a:lnTo>
                      <a:pt x="802" y="1423"/>
                    </a:lnTo>
                    <a:lnTo>
                      <a:pt x="779" y="1418"/>
                    </a:lnTo>
                    <a:lnTo>
                      <a:pt x="756" y="1411"/>
                    </a:lnTo>
                    <a:lnTo>
                      <a:pt x="757" y="1423"/>
                    </a:lnTo>
                    <a:lnTo>
                      <a:pt x="757" y="1436"/>
                    </a:lnTo>
                    <a:lnTo>
                      <a:pt x="753" y="1447"/>
                    </a:lnTo>
                    <a:lnTo>
                      <a:pt x="741" y="1453"/>
                    </a:lnTo>
                    <a:lnTo>
                      <a:pt x="733" y="1453"/>
                    </a:lnTo>
                    <a:lnTo>
                      <a:pt x="736" y="1469"/>
                    </a:lnTo>
                    <a:lnTo>
                      <a:pt x="741" y="1484"/>
                    </a:lnTo>
                    <a:lnTo>
                      <a:pt x="748" y="1500"/>
                    </a:lnTo>
                    <a:lnTo>
                      <a:pt x="753" y="1516"/>
                    </a:lnTo>
                    <a:lnTo>
                      <a:pt x="757" y="1534"/>
                    </a:lnTo>
                    <a:lnTo>
                      <a:pt x="759" y="1550"/>
                    </a:lnTo>
                    <a:lnTo>
                      <a:pt x="756" y="1567"/>
                    </a:lnTo>
                    <a:lnTo>
                      <a:pt x="748" y="1584"/>
                    </a:lnTo>
                    <a:lnTo>
                      <a:pt x="750" y="1605"/>
                    </a:lnTo>
                    <a:lnTo>
                      <a:pt x="754" y="1626"/>
                    </a:lnTo>
                    <a:lnTo>
                      <a:pt x="763" y="1645"/>
                    </a:lnTo>
                    <a:lnTo>
                      <a:pt x="773" y="1664"/>
                    </a:lnTo>
                    <a:lnTo>
                      <a:pt x="786" y="1681"/>
                    </a:lnTo>
                    <a:lnTo>
                      <a:pt x="801" y="1696"/>
                    </a:lnTo>
                    <a:lnTo>
                      <a:pt x="818" y="1708"/>
                    </a:lnTo>
                    <a:lnTo>
                      <a:pt x="837" y="1717"/>
                    </a:lnTo>
                    <a:lnTo>
                      <a:pt x="843" y="1721"/>
                    </a:lnTo>
                    <a:lnTo>
                      <a:pt x="847" y="1727"/>
                    </a:lnTo>
                    <a:lnTo>
                      <a:pt x="849" y="1734"/>
                    </a:lnTo>
                    <a:lnTo>
                      <a:pt x="848" y="1742"/>
                    </a:lnTo>
                    <a:lnTo>
                      <a:pt x="836" y="1744"/>
                    </a:lnTo>
                    <a:lnTo>
                      <a:pt x="825" y="1747"/>
                    </a:lnTo>
                    <a:lnTo>
                      <a:pt x="812" y="1749"/>
                    </a:lnTo>
                    <a:lnTo>
                      <a:pt x="801" y="1751"/>
                    </a:lnTo>
                    <a:lnTo>
                      <a:pt x="788" y="1752"/>
                    </a:lnTo>
                    <a:lnTo>
                      <a:pt x="776" y="1754"/>
                    </a:lnTo>
                    <a:lnTo>
                      <a:pt x="766" y="1752"/>
                    </a:lnTo>
                    <a:lnTo>
                      <a:pt x="756" y="1749"/>
                    </a:lnTo>
                    <a:lnTo>
                      <a:pt x="744" y="1719"/>
                    </a:lnTo>
                    <a:lnTo>
                      <a:pt x="728" y="1712"/>
                    </a:lnTo>
                    <a:lnTo>
                      <a:pt x="712" y="1704"/>
                    </a:lnTo>
                    <a:lnTo>
                      <a:pt x="697" y="1694"/>
                    </a:lnTo>
                    <a:lnTo>
                      <a:pt x="683" y="1682"/>
                    </a:lnTo>
                    <a:lnTo>
                      <a:pt x="668" y="1671"/>
                    </a:lnTo>
                    <a:lnTo>
                      <a:pt x="654" y="1659"/>
                    </a:lnTo>
                    <a:lnTo>
                      <a:pt x="639" y="1649"/>
                    </a:lnTo>
                    <a:lnTo>
                      <a:pt x="624" y="1638"/>
                    </a:lnTo>
                    <a:lnTo>
                      <a:pt x="610" y="1629"/>
                    </a:lnTo>
                    <a:lnTo>
                      <a:pt x="598" y="1621"/>
                    </a:lnTo>
                    <a:lnTo>
                      <a:pt x="585" y="1612"/>
                    </a:lnTo>
                    <a:lnTo>
                      <a:pt x="572" y="1603"/>
                    </a:lnTo>
                    <a:lnTo>
                      <a:pt x="560" y="1592"/>
                    </a:lnTo>
                    <a:lnTo>
                      <a:pt x="547" y="1582"/>
                    </a:lnTo>
                    <a:lnTo>
                      <a:pt x="534" y="1572"/>
                    </a:lnTo>
                    <a:lnTo>
                      <a:pt x="523" y="1559"/>
                    </a:lnTo>
                    <a:lnTo>
                      <a:pt x="516" y="1573"/>
                    </a:lnTo>
                    <a:lnTo>
                      <a:pt x="508" y="1588"/>
                    </a:lnTo>
                    <a:lnTo>
                      <a:pt x="499" y="1600"/>
                    </a:lnTo>
                    <a:lnTo>
                      <a:pt x="489" y="1614"/>
                    </a:lnTo>
                    <a:lnTo>
                      <a:pt x="479" y="1628"/>
                    </a:lnTo>
                    <a:lnTo>
                      <a:pt x="470" y="1642"/>
                    </a:lnTo>
                    <a:lnTo>
                      <a:pt x="462" y="1656"/>
                    </a:lnTo>
                    <a:lnTo>
                      <a:pt x="454" y="1671"/>
                    </a:lnTo>
                    <a:lnTo>
                      <a:pt x="457" y="1678"/>
                    </a:lnTo>
                    <a:lnTo>
                      <a:pt x="463" y="1683"/>
                    </a:lnTo>
                    <a:lnTo>
                      <a:pt x="471" y="1689"/>
                    </a:lnTo>
                    <a:lnTo>
                      <a:pt x="478" y="1695"/>
                    </a:lnTo>
                    <a:lnTo>
                      <a:pt x="484" y="1701"/>
                    </a:lnTo>
                    <a:lnTo>
                      <a:pt x="487" y="1706"/>
                    </a:lnTo>
                    <a:lnTo>
                      <a:pt x="486" y="1712"/>
                    </a:lnTo>
                    <a:lnTo>
                      <a:pt x="479" y="1719"/>
                    </a:lnTo>
                    <a:lnTo>
                      <a:pt x="470" y="1719"/>
                    </a:lnTo>
                    <a:lnTo>
                      <a:pt x="459" y="1720"/>
                    </a:lnTo>
                    <a:lnTo>
                      <a:pt x="448" y="1721"/>
                    </a:lnTo>
                    <a:lnTo>
                      <a:pt x="436" y="1723"/>
                    </a:lnTo>
                    <a:lnTo>
                      <a:pt x="426" y="1724"/>
                    </a:lnTo>
                    <a:lnTo>
                      <a:pt x="416" y="1723"/>
                    </a:lnTo>
                    <a:lnTo>
                      <a:pt x="405" y="1718"/>
                    </a:lnTo>
                    <a:lnTo>
                      <a:pt x="397" y="1711"/>
                    </a:lnTo>
                    <a:lnTo>
                      <a:pt x="398" y="1696"/>
                    </a:lnTo>
                    <a:lnTo>
                      <a:pt x="400" y="1681"/>
                    </a:lnTo>
                    <a:lnTo>
                      <a:pt x="402" y="1667"/>
                    </a:lnTo>
                    <a:lnTo>
                      <a:pt x="405" y="1653"/>
                    </a:lnTo>
                    <a:lnTo>
                      <a:pt x="395" y="1476"/>
                    </a:lnTo>
                    <a:lnTo>
                      <a:pt x="390" y="1456"/>
                    </a:lnTo>
                    <a:lnTo>
                      <a:pt x="390" y="1436"/>
                    </a:lnTo>
                    <a:lnTo>
                      <a:pt x="387" y="1417"/>
                    </a:lnTo>
                    <a:lnTo>
                      <a:pt x="374" y="1402"/>
                    </a:lnTo>
                    <a:lnTo>
                      <a:pt x="374" y="1386"/>
                    </a:lnTo>
                    <a:lnTo>
                      <a:pt x="370" y="1371"/>
                    </a:lnTo>
                    <a:lnTo>
                      <a:pt x="361" y="1357"/>
                    </a:lnTo>
                    <a:lnTo>
                      <a:pt x="351" y="1345"/>
                    </a:lnTo>
                    <a:lnTo>
                      <a:pt x="340" y="1333"/>
                    </a:lnTo>
                    <a:lnTo>
                      <a:pt x="328" y="1320"/>
                    </a:lnTo>
                    <a:lnTo>
                      <a:pt x="318" y="1309"/>
                    </a:lnTo>
                    <a:lnTo>
                      <a:pt x="308" y="1295"/>
                    </a:lnTo>
                    <a:lnTo>
                      <a:pt x="302" y="1282"/>
                    </a:lnTo>
                    <a:lnTo>
                      <a:pt x="298" y="1269"/>
                    </a:lnTo>
                    <a:lnTo>
                      <a:pt x="295" y="1255"/>
                    </a:lnTo>
                    <a:lnTo>
                      <a:pt x="290" y="1243"/>
                    </a:lnTo>
                    <a:lnTo>
                      <a:pt x="283" y="1244"/>
                    </a:lnTo>
                    <a:lnTo>
                      <a:pt x="274" y="1246"/>
                    </a:lnTo>
                    <a:lnTo>
                      <a:pt x="266" y="1248"/>
                    </a:lnTo>
                    <a:lnTo>
                      <a:pt x="258" y="1250"/>
                    </a:lnTo>
                    <a:lnTo>
                      <a:pt x="254" y="1270"/>
                    </a:lnTo>
                    <a:lnTo>
                      <a:pt x="249" y="1288"/>
                    </a:lnTo>
                    <a:lnTo>
                      <a:pt x="243" y="1307"/>
                    </a:lnTo>
                    <a:lnTo>
                      <a:pt x="236" y="1325"/>
                    </a:lnTo>
                    <a:lnTo>
                      <a:pt x="229" y="1342"/>
                    </a:lnTo>
                    <a:lnTo>
                      <a:pt x="221" y="1361"/>
                    </a:lnTo>
                    <a:lnTo>
                      <a:pt x="215" y="1379"/>
                    </a:lnTo>
                    <a:lnTo>
                      <a:pt x="209" y="1398"/>
                    </a:lnTo>
                    <a:lnTo>
                      <a:pt x="201" y="1411"/>
                    </a:lnTo>
                    <a:lnTo>
                      <a:pt x="198" y="1426"/>
                    </a:lnTo>
                    <a:lnTo>
                      <a:pt x="197" y="1443"/>
                    </a:lnTo>
                    <a:lnTo>
                      <a:pt x="197" y="1459"/>
                    </a:lnTo>
                    <a:lnTo>
                      <a:pt x="197" y="1474"/>
                    </a:lnTo>
                    <a:lnTo>
                      <a:pt x="193" y="1489"/>
                    </a:lnTo>
                    <a:lnTo>
                      <a:pt x="187" y="1502"/>
                    </a:lnTo>
                    <a:lnTo>
                      <a:pt x="176" y="1514"/>
                    </a:lnTo>
                    <a:lnTo>
                      <a:pt x="169" y="1511"/>
                    </a:lnTo>
                    <a:lnTo>
                      <a:pt x="162" y="1507"/>
                    </a:lnTo>
                    <a:lnTo>
                      <a:pt x="155" y="1502"/>
                    </a:lnTo>
                    <a:lnTo>
                      <a:pt x="149" y="1498"/>
                    </a:lnTo>
                    <a:lnTo>
                      <a:pt x="144" y="1492"/>
                    </a:lnTo>
                    <a:lnTo>
                      <a:pt x="140" y="1485"/>
                    </a:lnTo>
                    <a:lnTo>
                      <a:pt x="137" y="1478"/>
                    </a:lnTo>
                    <a:lnTo>
                      <a:pt x="136" y="1470"/>
                    </a:lnTo>
                    <a:lnTo>
                      <a:pt x="136" y="1458"/>
                    </a:lnTo>
                    <a:lnTo>
                      <a:pt x="137" y="1446"/>
                    </a:lnTo>
                    <a:lnTo>
                      <a:pt x="139" y="1435"/>
                    </a:lnTo>
                    <a:lnTo>
                      <a:pt x="144" y="1424"/>
                    </a:lnTo>
                    <a:lnTo>
                      <a:pt x="139" y="1399"/>
                    </a:lnTo>
                    <a:lnTo>
                      <a:pt x="134" y="1375"/>
                    </a:lnTo>
                    <a:lnTo>
                      <a:pt x="129" y="1350"/>
                    </a:lnTo>
                    <a:lnTo>
                      <a:pt x="123" y="1325"/>
                    </a:lnTo>
                    <a:lnTo>
                      <a:pt x="118" y="1301"/>
                    </a:lnTo>
                    <a:lnTo>
                      <a:pt x="115" y="1276"/>
                    </a:lnTo>
                    <a:lnTo>
                      <a:pt x="113" y="1250"/>
                    </a:lnTo>
                    <a:lnTo>
                      <a:pt x="113" y="1224"/>
                    </a:lnTo>
                    <a:lnTo>
                      <a:pt x="106" y="1218"/>
                    </a:lnTo>
                    <a:lnTo>
                      <a:pt x="99" y="1212"/>
                    </a:lnTo>
                    <a:lnTo>
                      <a:pt x="91" y="1208"/>
                    </a:lnTo>
                    <a:lnTo>
                      <a:pt x="83" y="1203"/>
                    </a:lnTo>
                    <a:lnTo>
                      <a:pt x="76" y="1198"/>
                    </a:lnTo>
                    <a:lnTo>
                      <a:pt x="69" y="1193"/>
                    </a:lnTo>
                    <a:lnTo>
                      <a:pt x="64" y="1187"/>
                    </a:lnTo>
                    <a:lnTo>
                      <a:pt x="60" y="1180"/>
                    </a:lnTo>
                    <a:lnTo>
                      <a:pt x="64" y="1142"/>
                    </a:lnTo>
                    <a:lnTo>
                      <a:pt x="69" y="1104"/>
                    </a:lnTo>
                    <a:lnTo>
                      <a:pt x="75" y="1066"/>
                    </a:lnTo>
                    <a:lnTo>
                      <a:pt x="80" y="1029"/>
                    </a:lnTo>
                    <a:lnTo>
                      <a:pt x="58" y="1008"/>
                    </a:lnTo>
                    <a:lnTo>
                      <a:pt x="40" y="985"/>
                    </a:lnTo>
                    <a:lnTo>
                      <a:pt x="25" y="962"/>
                    </a:lnTo>
                    <a:lnTo>
                      <a:pt x="12" y="936"/>
                    </a:lnTo>
                    <a:lnTo>
                      <a:pt x="4" y="909"/>
                    </a:lnTo>
                    <a:lnTo>
                      <a:pt x="0" y="882"/>
                    </a:lnTo>
                    <a:lnTo>
                      <a:pt x="0" y="853"/>
                    </a:lnTo>
                    <a:lnTo>
                      <a:pt x="5" y="823"/>
                    </a:lnTo>
                    <a:lnTo>
                      <a:pt x="12" y="800"/>
                    </a:lnTo>
                    <a:lnTo>
                      <a:pt x="20" y="777"/>
                    </a:lnTo>
                    <a:lnTo>
                      <a:pt x="30" y="754"/>
                    </a:lnTo>
                    <a:lnTo>
                      <a:pt x="40" y="732"/>
                    </a:lnTo>
                    <a:lnTo>
                      <a:pt x="51" y="710"/>
                    </a:lnTo>
                    <a:lnTo>
                      <a:pt x="64" y="689"/>
                    </a:lnTo>
                    <a:lnTo>
                      <a:pt x="79" y="668"/>
                    </a:lnTo>
                    <a:lnTo>
                      <a:pt x="95" y="649"/>
                    </a:lnTo>
                    <a:lnTo>
                      <a:pt x="88" y="644"/>
                    </a:lnTo>
                    <a:lnTo>
                      <a:pt x="81" y="643"/>
                    </a:lnTo>
                    <a:lnTo>
                      <a:pt x="75" y="641"/>
                    </a:lnTo>
                    <a:lnTo>
                      <a:pt x="69" y="637"/>
                    </a:lnTo>
                    <a:lnTo>
                      <a:pt x="63" y="634"/>
                    </a:lnTo>
                    <a:lnTo>
                      <a:pt x="57" y="632"/>
                    </a:lnTo>
                    <a:lnTo>
                      <a:pt x="50" y="628"/>
                    </a:lnTo>
                    <a:lnTo>
                      <a:pt x="45" y="626"/>
                    </a:lnTo>
                    <a:lnTo>
                      <a:pt x="39" y="621"/>
                    </a:lnTo>
                    <a:lnTo>
                      <a:pt x="35" y="617"/>
                    </a:lnTo>
                    <a:lnTo>
                      <a:pt x="33" y="611"/>
                    </a:lnTo>
                    <a:lnTo>
                      <a:pt x="34" y="604"/>
                    </a:lnTo>
                    <a:lnTo>
                      <a:pt x="53" y="583"/>
                    </a:lnTo>
                    <a:lnTo>
                      <a:pt x="66" y="560"/>
                    </a:lnTo>
                    <a:lnTo>
                      <a:pt x="79" y="536"/>
                    </a:lnTo>
                    <a:lnTo>
                      <a:pt x="91" y="512"/>
                    </a:lnTo>
                    <a:lnTo>
                      <a:pt x="103" y="489"/>
                    </a:lnTo>
                    <a:lnTo>
                      <a:pt x="119" y="467"/>
                    </a:lnTo>
                    <a:lnTo>
                      <a:pt x="139" y="448"/>
                    </a:lnTo>
                    <a:lnTo>
                      <a:pt x="164" y="433"/>
                    </a:lnTo>
                    <a:lnTo>
                      <a:pt x="172" y="431"/>
                    </a:lnTo>
                    <a:lnTo>
                      <a:pt x="179" y="431"/>
                    </a:lnTo>
                    <a:lnTo>
                      <a:pt x="185" y="431"/>
                    </a:lnTo>
                    <a:lnTo>
                      <a:pt x="190" y="431"/>
                    </a:lnTo>
                    <a:lnTo>
                      <a:pt x="193" y="432"/>
                    </a:lnTo>
                    <a:lnTo>
                      <a:pt x="197" y="431"/>
                    </a:lnTo>
                    <a:lnTo>
                      <a:pt x="199" y="430"/>
                    </a:lnTo>
                    <a:lnTo>
                      <a:pt x="202" y="426"/>
                    </a:lnTo>
                    <a:lnTo>
                      <a:pt x="215" y="425"/>
                    </a:lnTo>
                    <a:lnTo>
                      <a:pt x="227" y="426"/>
                    </a:lnTo>
                    <a:lnTo>
                      <a:pt x="238" y="428"/>
                    </a:lnTo>
                    <a:lnTo>
                      <a:pt x="249" y="431"/>
                    </a:lnTo>
                    <a:lnTo>
                      <a:pt x="258" y="436"/>
                    </a:lnTo>
                    <a:lnTo>
                      <a:pt x="267" y="441"/>
                    </a:lnTo>
                    <a:lnTo>
                      <a:pt x="276" y="448"/>
                    </a:lnTo>
                    <a:lnTo>
                      <a:pt x="283" y="456"/>
                    </a:lnTo>
                    <a:lnTo>
                      <a:pt x="288" y="443"/>
                    </a:lnTo>
                    <a:lnTo>
                      <a:pt x="292" y="430"/>
                    </a:lnTo>
                    <a:lnTo>
                      <a:pt x="298" y="416"/>
                    </a:lnTo>
                    <a:lnTo>
                      <a:pt x="304" y="403"/>
                    </a:lnTo>
                    <a:lnTo>
                      <a:pt x="310" y="390"/>
                    </a:lnTo>
                    <a:lnTo>
                      <a:pt x="317" y="376"/>
                    </a:lnTo>
                    <a:lnTo>
                      <a:pt x="325" y="362"/>
                    </a:lnTo>
                    <a:lnTo>
                      <a:pt x="334" y="347"/>
                    </a:lnTo>
                    <a:lnTo>
                      <a:pt x="352" y="316"/>
                    </a:lnTo>
                    <a:lnTo>
                      <a:pt x="370" y="289"/>
                    </a:lnTo>
                    <a:lnTo>
                      <a:pt x="387" y="267"/>
                    </a:lnTo>
                    <a:lnTo>
                      <a:pt x="404" y="247"/>
                    </a:lnTo>
                    <a:lnTo>
                      <a:pt x="421" y="227"/>
                    </a:lnTo>
                    <a:lnTo>
                      <a:pt x="441" y="209"/>
                    </a:lnTo>
                    <a:lnTo>
                      <a:pt x="462" y="188"/>
                    </a:lnTo>
                    <a:lnTo>
                      <a:pt x="487" y="166"/>
                    </a:lnTo>
                    <a:lnTo>
                      <a:pt x="504" y="151"/>
                    </a:lnTo>
                    <a:lnTo>
                      <a:pt x="523" y="137"/>
                    </a:lnTo>
                    <a:lnTo>
                      <a:pt x="542" y="123"/>
                    </a:lnTo>
                    <a:lnTo>
                      <a:pt x="562" y="111"/>
                    </a:lnTo>
                    <a:lnTo>
                      <a:pt x="583" y="98"/>
                    </a:lnTo>
                    <a:lnTo>
                      <a:pt x="603" y="87"/>
                    </a:lnTo>
                    <a:lnTo>
                      <a:pt x="624" y="76"/>
                    </a:lnTo>
                    <a:lnTo>
                      <a:pt x="646" y="66"/>
                    </a:lnTo>
                    <a:lnTo>
                      <a:pt x="668" y="57"/>
                    </a:lnTo>
                    <a:lnTo>
                      <a:pt x="691" y="47"/>
                    </a:lnTo>
                    <a:lnTo>
                      <a:pt x="714" y="39"/>
                    </a:lnTo>
                    <a:lnTo>
                      <a:pt x="738" y="31"/>
                    </a:lnTo>
                    <a:lnTo>
                      <a:pt x="761" y="26"/>
                    </a:lnTo>
                    <a:lnTo>
                      <a:pt x="786" y="19"/>
                    </a:lnTo>
                    <a:lnTo>
                      <a:pt x="810" y="14"/>
                    </a:lnTo>
                    <a:lnTo>
                      <a:pt x="834" y="9"/>
                    </a:lnTo>
                    <a:lnTo>
                      <a:pt x="858" y="6"/>
                    </a:lnTo>
                    <a:lnTo>
                      <a:pt x="882" y="4"/>
                    </a:lnTo>
                    <a:lnTo>
                      <a:pt x="907" y="1"/>
                    </a:lnTo>
                    <a:lnTo>
                      <a:pt x="931" y="0"/>
                    </a:lnTo>
                    <a:lnTo>
                      <a:pt x="955" y="0"/>
                    </a:lnTo>
                    <a:lnTo>
                      <a:pt x="979" y="1"/>
                    </a:lnTo>
                    <a:lnTo>
                      <a:pt x="1003" y="2"/>
                    </a:lnTo>
                    <a:lnTo>
                      <a:pt x="1028" y="5"/>
                    </a:lnTo>
                    <a:lnTo>
                      <a:pt x="1051" y="7"/>
                    </a:lnTo>
                    <a:lnTo>
                      <a:pt x="1075" y="11"/>
                    </a:lnTo>
                    <a:lnTo>
                      <a:pt x="1098" y="15"/>
                    </a:lnTo>
                    <a:lnTo>
                      <a:pt x="1121" y="21"/>
                    </a:lnTo>
                    <a:lnTo>
                      <a:pt x="1144" y="28"/>
                    </a:lnTo>
                    <a:lnTo>
                      <a:pt x="1167" y="35"/>
                    </a:lnTo>
                    <a:lnTo>
                      <a:pt x="1189" y="43"/>
                    </a:lnTo>
                    <a:lnTo>
                      <a:pt x="1211" y="52"/>
                    </a:lnTo>
                    <a:lnTo>
                      <a:pt x="1240" y="65"/>
                    </a:lnTo>
                    <a:lnTo>
                      <a:pt x="1268" y="79"/>
                    </a:lnTo>
                    <a:lnTo>
                      <a:pt x="1297" y="95"/>
                    </a:lnTo>
                    <a:lnTo>
                      <a:pt x="1325" y="112"/>
                    </a:lnTo>
                    <a:lnTo>
                      <a:pt x="1353" y="130"/>
                    </a:lnTo>
                    <a:lnTo>
                      <a:pt x="1380" y="150"/>
                    </a:lnTo>
                    <a:lnTo>
                      <a:pt x="1407" y="172"/>
                    </a:lnTo>
                    <a:lnTo>
                      <a:pt x="1432" y="194"/>
                    </a:lnTo>
                    <a:lnTo>
                      <a:pt x="1456" y="218"/>
                    </a:lnTo>
                    <a:lnTo>
                      <a:pt x="1481" y="242"/>
                    </a:lnTo>
                    <a:lnTo>
                      <a:pt x="1502" y="269"/>
                    </a:lnTo>
                    <a:lnTo>
                      <a:pt x="1524" y="294"/>
                    </a:lnTo>
                    <a:lnTo>
                      <a:pt x="1544" y="322"/>
                    </a:lnTo>
                    <a:lnTo>
                      <a:pt x="1561" y="349"/>
                    </a:lnTo>
                    <a:lnTo>
                      <a:pt x="1577" y="377"/>
                    </a:lnTo>
                    <a:lnTo>
                      <a:pt x="1592" y="4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43720" y="2887920"/>
                <a:ext cx="685800" cy="770040"/>
              </a:xfrm>
              <a:custGeom>
                <a:avLst/>
                <a:gdLst/>
                <a:ahLst/>
                <a:rect l="l" t="t" r="r" b="b"/>
                <a:pathLst>
                  <a:path w="866" h="971">
                    <a:moveTo>
                      <a:pt x="312" y="16"/>
                    </a:moveTo>
                    <a:lnTo>
                      <a:pt x="348" y="26"/>
                    </a:lnTo>
                    <a:lnTo>
                      <a:pt x="385" y="37"/>
                    </a:lnTo>
                    <a:lnTo>
                      <a:pt x="421" y="51"/>
                    </a:lnTo>
                    <a:lnTo>
                      <a:pt x="456" y="66"/>
                    </a:lnTo>
                    <a:lnTo>
                      <a:pt x="490" y="83"/>
                    </a:lnTo>
                    <a:lnTo>
                      <a:pt x="524" y="103"/>
                    </a:lnTo>
                    <a:lnTo>
                      <a:pt x="555" y="125"/>
                    </a:lnTo>
                    <a:lnTo>
                      <a:pt x="586" y="147"/>
                    </a:lnTo>
                    <a:lnTo>
                      <a:pt x="616" y="172"/>
                    </a:lnTo>
                    <a:lnTo>
                      <a:pt x="645" y="198"/>
                    </a:lnTo>
                    <a:lnTo>
                      <a:pt x="672" y="226"/>
                    </a:lnTo>
                    <a:lnTo>
                      <a:pt x="698" y="256"/>
                    </a:lnTo>
                    <a:lnTo>
                      <a:pt x="723" y="287"/>
                    </a:lnTo>
                    <a:lnTo>
                      <a:pt x="746" y="319"/>
                    </a:lnTo>
                    <a:lnTo>
                      <a:pt x="768" y="353"/>
                    </a:lnTo>
                    <a:lnTo>
                      <a:pt x="788" y="389"/>
                    </a:lnTo>
                    <a:lnTo>
                      <a:pt x="807" y="432"/>
                    </a:lnTo>
                    <a:lnTo>
                      <a:pt x="824" y="477"/>
                    </a:lnTo>
                    <a:lnTo>
                      <a:pt x="838" y="524"/>
                    </a:lnTo>
                    <a:lnTo>
                      <a:pt x="851" y="572"/>
                    </a:lnTo>
                    <a:lnTo>
                      <a:pt x="859" y="620"/>
                    </a:lnTo>
                    <a:lnTo>
                      <a:pt x="865" y="670"/>
                    </a:lnTo>
                    <a:lnTo>
                      <a:pt x="866" y="720"/>
                    </a:lnTo>
                    <a:lnTo>
                      <a:pt x="862" y="771"/>
                    </a:lnTo>
                    <a:lnTo>
                      <a:pt x="858" y="777"/>
                    </a:lnTo>
                    <a:lnTo>
                      <a:pt x="851" y="785"/>
                    </a:lnTo>
                    <a:lnTo>
                      <a:pt x="842" y="793"/>
                    </a:lnTo>
                    <a:lnTo>
                      <a:pt x="831" y="801"/>
                    </a:lnTo>
                    <a:lnTo>
                      <a:pt x="819" y="809"/>
                    </a:lnTo>
                    <a:lnTo>
                      <a:pt x="807" y="817"/>
                    </a:lnTo>
                    <a:lnTo>
                      <a:pt x="796" y="823"/>
                    </a:lnTo>
                    <a:lnTo>
                      <a:pt x="784" y="826"/>
                    </a:lnTo>
                    <a:lnTo>
                      <a:pt x="785" y="837"/>
                    </a:lnTo>
                    <a:lnTo>
                      <a:pt x="778" y="844"/>
                    </a:lnTo>
                    <a:lnTo>
                      <a:pt x="771" y="851"/>
                    </a:lnTo>
                    <a:lnTo>
                      <a:pt x="766" y="859"/>
                    </a:lnTo>
                    <a:lnTo>
                      <a:pt x="760" y="866"/>
                    </a:lnTo>
                    <a:lnTo>
                      <a:pt x="755" y="874"/>
                    </a:lnTo>
                    <a:lnTo>
                      <a:pt x="751" y="882"/>
                    </a:lnTo>
                    <a:lnTo>
                      <a:pt x="747" y="890"/>
                    </a:lnTo>
                    <a:lnTo>
                      <a:pt x="744" y="898"/>
                    </a:lnTo>
                    <a:lnTo>
                      <a:pt x="732" y="909"/>
                    </a:lnTo>
                    <a:lnTo>
                      <a:pt x="721" y="921"/>
                    </a:lnTo>
                    <a:lnTo>
                      <a:pt x="707" y="930"/>
                    </a:lnTo>
                    <a:lnTo>
                      <a:pt x="694" y="939"/>
                    </a:lnTo>
                    <a:lnTo>
                      <a:pt x="680" y="947"/>
                    </a:lnTo>
                    <a:lnTo>
                      <a:pt x="665" y="955"/>
                    </a:lnTo>
                    <a:lnTo>
                      <a:pt x="652" y="963"/>
                    </a:lnTo>
                    <a:lnTo>
                      <a:pt x="638" y="971"/>
                    </a:lnTo>
                    <a:lnTo>
                      <a:pt x="632" y="966"/>
                    </a:lnTo>
                    <a:lnTo>
                      <a:pt x="627" y="959"/>
                    </a:lnTo>
                    <a:lnTo>
                      <a:pt x="622" y="953"/>
                    </a:lnTo>
                    <a:lnTo>
                      <a:pt x="617" y="946"/>
                    </a:lnTo>
                    <a:lnTo>
                      <a:pt x="614" y="939"/>
                    </a:lnTo>
                    <a:lnTo>
                      <a:pt x="611" y="932"/>
                    </a:lnTo>
                    <a:lnTo>
                      <a:pt x="612" y="924"/>
                    </a:lnTo>
                    <a:lnTo>
                      <a:pt x="617" y="916"/>
                    </a:lnTo>
                    <a:lnTo>
                      <a:pt x="623" y="905"/>
                    </a:lnTo>
                    <a:lnTo>
                      <a:pt x="625" y="892"/>
                    </a:lnTo>
                    <a:lnTo>
                      <a:pt x="625" y="879"/>
                    </a:lnTo>
                    <a:lnTo>
                      <a:pt x="626" y="867"/>
                    </a:lnTo>
                    <a:lnTo>
                      <a:pt x="627" y="854"/>
                    </a:lnTo>
                    <a:lnTo>
                      <a:pt x="631" y="844"/>
                    </a:lnTo>
                    <a:lnTo>
                      <a:pt x="639" y="833"/>
                    </a:lnTo>
                    <a:lnTo>
                      <a:pt x="652" y="826"/>
                    </a:lnTo>
                    <a:lnTo>
                      <a:pt x="664" y="822"/>
                    </a:lnTo>
                    <a:lnTo>
                      <a:pt x="678" y="819"/>
                    </a:lnTo>
                    <a:lnTo>
                      <a:pt x="692" y="819"/>
                    </a:lnTo>
                    <a:lnTo>
                      <a:pt x="706" y="819"/>
                    </a:lnTo>
                    <a:lnTo>
                      <a:pt x="720" y="818"/>
                    </a:lnTo>
                    <a:lnTo>
                      <a:pt x="732" y="816"/>
                    </a:lnTo>
                    <a:lnTo>
                      <a:pt x="743" y="810"/>
                    </a:lnTo>
                    <a:lnTo>
                      <a:pt x="751" y="801"/>
                    </a:lnTo>
                    <a:lnTo>
                      <a:pt x="754" y="794"/>
                    </a:lnTo>
                    <a:lnTo>
                      <a:pt x="758" y="787"/>
                    </a:lnTo>
                    <a:lnTo>
                      <a:pt x="761" y="780"/>
                    </a:lnTo>
                    <a:lnTo>
                      <a:pt x="765" y="774"/>
                    </a:lnTo>
                    <a:lnTo>
                      <a:pt x="768" y="768"/>
                    </a:lnTo>
                    <a:lnTo>
                      <a:pt x="773" y="762"/>
                    </a:lnTo>
                    <a:lnTo>
                      <a:pt x="778" y="757"/>
                    </a:lnTo>
                    <a:lnTo>
                      <a:pt x="785" y="753"/>
                    </a:lnTo>
                    <a:lnTo>
                      <a:pt x="799" y="757"/>
                    </a:lnTo>
                    <a:lnTo>
                      <a:pt x="811" y="756"/>
                    </a:lnTo>
                    <a:lnTo>
                      <a:pt x="820" y="750"/>
                    </a:lnTo>
                    <a:lnTo>
                      <a:pt x="828" y="741"/>
                    </a:lnTo>
                    <a:lnTo>
                      <a:pt x="835" y="731"/>
                    </a:lnTo>
                    <a:lnTo>
                      <a:pt x="843" y="719"/>
                    </a:lnTo>
                    <a:lnTo>
                      <a:pt x="850" y="708"/>
                    </a:lnTo>
                    <a:lnTo>
                      <a:pt x="859" y="700"/>
                    </a:lnTo>
                    <a:lnTo>
                      <a:pt x="861" y="692"/>
                    </a:lnTo>
                    <a:lnTo>
                      <a:pt x="860" y="682"/>
                    </a:lnTo>
                    <a:lnTo>
                      <a:pt x="858" y="674"/>
                    </a:lnTo>
                    <a:lnTo>
                      <a:pt x="854" y="666"/>
                    </a:lnTo>
                    <a:lnTo>
                      <a:pt x="850" y="663"/>
                    </a:lnTo>
                    <a:lnTo>
                      <a:pt x="845" y="660"/>
                    </a:lnTo>
                    <a:lnTo>
                      <a:pt x="839" y="659"/>
                    </a:lnTo>
                    <a:lnTo>
                      <a:pt x="834" y="659"/>
                    </a:lnTo>
                    <a:lnTo>
                      <a:pt x="827" y="659"/>
                    </a:lnTo>
                    <a:lnTo>
                      <a:pt x="821" y="659"/>
                    </a:lnTo>
                    <a:lnTo>
                      <a:pt x="815" y="659"/>
                    </a:lnTo>
                    <a:lnTo>
                      <a:pt x="809" y="659"/>
                    </a:lnTo>
                    <a:lnTo>
                      <a:pt x="814" y="647"/>
                    </a:lnTo>
                    <a:lnTo>
                      <a:pt x="814" y="633"/>
                    </a:lnTo>
                    <a:lnTo>
                      <a:pt x="812" y="620"/>
                    </a:lnTo>
                    <a:lnTo>
                      <a:pt x="808" y="606"/>
                    </a:lnTo>
                    <a:lnTo>
                      <a:pt x="803" y="599"/>
                    </a:lnTo>
                    <a:lnTo>
                      <a:pt x="796" y="594"/>
                    </a:lnTo>
                    <a:lnTo>
                      <a:pt x="786" y="589"/>
                    </a:lnTo>
                    <a:lnTo>
                      <a:pt x="777" y="588"/>
                    </a:lnTo>
                    <a:lnTo>
                      <a:pt x="770" y="601"/>
                    </a:lnTo>
                    <a:lnTo>
                      <a:pt x="767" y="616"/>
                    </a:lnTo>
                    <a:lnTo>
                      <a:pt x="763" y="629"/>
                    </a:lnTo>
                    <a:lnTo>
                      <a:pt x="760" y="644"/>
                    </a:lnTo>
                    <a:lnTo>
                      <a:pt x="755" y="658"/>
                    </a:lnTo>
                    <a:lnTo>
                      <a:pt x="748" y="671"/>
                    </a:lnTo>
                    <a:lnTo>
                      <a:pt x="739" y="682"/>
                    </a:lnTo>
                    <a:lnTo>
                      <a:pt x="725" y="692"/>
                    </a:lnTo>
                    <a:lnTo>
                      <a:pt x="721" y="701"/>
                    </a:lnTo>
                    <a:lnTo>
                      <a:pt x="717" y="711"/>
                    </a:lnTo>
                    <a:lnTo>
                      <a:pt x="714" y="723"/>
                    </a:lnTo>
                    <a:lnTo>
                      <a:pt x="710" y="733"/>
                    </a:lnTo>
                    <a:lnTo>
                      <a:pt x="705" y="742"/>
                    </a:lnTo>
                    <a:lnTo>
                      <a:pt x="698" y="751"/>
                    </a:lnTo>
                    <a:lnTo>
                      <a:pt x="690" y="758"/>
                    </a:lnTo>
                    <a:lnTo>
                      <a:pt x="677" y="763"/>
                    </a:lnTo>
                    <a:lnTo>
                      <a:pt x="668" y="763"/>
                    </a:lnTo>
                    <a:lnTo>
                      <a:pt x="658" y="763"/>
                    </a:lnTo>
                    <a:lnTo>
                      <a:pt x="649" y="760"/>
                    </a:lnTo>
                    <a:lnTo>
                      <a:pt x="644" y="753"/>
                    </a:lnTo>
                    <a:lnTo>
                      <a:pt x="641" y="732"/>
                    </a:lnTo>
                    <a:lnTo>
                      <a:pt x="642" y="711"/>
                    </a:lnTo>
                    <a:lnTo>
                      <a:pt x="648" y="693"/>
                    </a:lnTo>
                    <a:lnTo>
                      <a:pt x="654" y="674"/>
                    </a:lnTo>
                    <a:lnTo>
                      <a:pt x="660" y="656"/>
                    </a:lnTo>
                    <a:lnTo>
                      <a:pt x="662" y="637"/>
                    </a:lnTo>
                    <a:lnTo>
                      <a:pt x="662" y="619"/>
                    </a:lnTo>
                    <a:lnTo>
                      <a:pt x="655" y="599"/>
                    </a:lnTo>
                    <a:lnTo>
                      <a:pt x="650" y="595"/>
                    </a:lnTo>
                    <a:lnTo>
                      <a:pt x="649" y="589"/>
                    </a:lnTo>
                    <a:lnTo>
                      <a:pt x="650" y="584"/>
                    </a:lnTo>
                    <a:lnTo>
                      <a:pt x="652" y="580"/>
                    </a:lnTo>
                    <a:lnTo>
                      <a:pt x="656" y="571"/>
                    </a:lnTo>
                    <a:lnTo>
                      <a:pt x="663" y="561"/>
                    </a:lnTo>
                    <a:lnTo>
                      <a:pt x="669" y="553"/>
                    </a:lnTo>
                    <a:lnTo>
                      <a:pt x="675" y="544"/>
                    </a:lnTo>
                    <a:lnTo>
                      <a:pt x="679" y="535"/>
                    </a:lnTo>
                    <a:lnTo>
                      <a:pt x="683" y="526"/>
                    </a:lnTo>
                    <a:lnTo>
                      <a:pt x="683" y="515"/>
                    </a:lnTo>
                    <a:lnTo>
                      <a:pt x="680" y="504"/>
                    </a:lnTo>
                    <a:lnTo>
                      <a:pt x="673" y="490"/>
                    </a:lnTo>
                    <a:lnTo>
                      <a:pt x="663" y="480"/>
                    </a:lnTo>
                    <a:lnTo>
                      <a:pt x="650" y="473"/>
                    </a:lnTo>
                    <a:lnTo>
                      <a:pt x="638" y="467"/>
                    </a:lnTo>
                    <a:lnTo>
                      <a:pt x="624" y="462"/>
                    </a:lnTo>
                    <a:lnTo>
                      <a:pt x="612" y="455"/>
                    </a:lnTo>
                    <a:lnTo>
                      <a:pt x="603" y="446"/>
                    </a:lnTo>
                    <a:lnTo>
                      <a:pt x="597" y="432"/>
                    </a:lnTo>
                    <a:lnTo>
                      <a:pt x="594" y="413"/>
                    </a:lnTo>
                    <a:lnTo>
                      <a:pt x="596" y="394"/>
                    </a:lnTo>
                    <a:lnTo>
                      <a:pt x="602" y="377"/>
                    </a:lnTo>
                    <a:lnTo>
                      <a:pt x="610" y="360"/>
                    </a:lnTo>
                    <a:lnTo>
                      <a:pt x="619" y="344"/>
                    </a:lnTo>
                    <a:lnTo>
                      <a:pt x="631" y="329"/>
                    </a:lnTo>
                    <a:lnTo>
                      <a:pt x="641" y="313"/>
                    </a:lnTo>
                    <a:lnTo>
                      <a:pt x="650" y="296"/>
                    </a:lnTo>
                    <a:lnTo>
                      <a:pt x="653" y="281"/>
                    </a:lnTo>
                    <a:lnTo>
                      <a:pt x="652" y="266"/>
                    </a:lnTo>
                    <a:lnTo>
                      <a:pt x="646" y="254"/>
                    </a:lnTo>
                    <a:lnTo>
                      <a:pt x="638" y="241"/>
                    </a:lnTo>
                    <a:lnTo>
                      <a:pt x="625" y="230"/>
                    </a:lnTo>
                    <a:lnTo>
                      <a:pt x="612" y="221"/>
                    </a:lnTo>
                    <a:lnTo>
                      <a:pt x="599" y="216"/>
                    </a:lnTo>
                    <a:lnTo>
                      <a:pt x="584" y="211"/>
                    </a:lnTo>
                    <a:lnTo>
                      <a:pt x="567" y="209"/>
                    </a:lnTo>
                    <a:lnTo>
                      <a:pt x="551" y="208"/>
                    </a:lnTo>
                    <a:lnTo>
                      <a:pt x="535" y="207"/>
                    </a:lnTo>
                    <a:lnTo>
                      <a:pt x="519" y="207"/>
                    </a:lnTo>
                    <a:lnTo>
                      <a:pt x="508" y="195"/>
                    </a:lnTo>
                    <a:lnTo>
                      <a:pt x="496" y="182"/>
                    </a:lnTo>
                    <a:lnTo>
                      <a:pt x="486" y="170"/>
                    </a:lnTo>
                    <a:lnTo>
                      <a:pt x="474" y="157"/>
                    </a:lnTo>
                    <a:lnTo>
                      <a:pt x="464" y="144"/>
                    </a:lnTo>
                    <a:lnTo>
                      <a:pt x="451" y="133"/>
                    </a:lnTo>
                    <a:lnTo>
                      <a:pt x="437" y="124"/>
                    </a:lnTo>
                    <a:lnTo>
                      <a:pt x="422" y="116"/>
                    </a:lnTo>
                    <a:lnTo>
                      <a:pt x="416" y="110"/>
                    </a:lnTo>
                    <a:lnTo>
                      <a:pt x="412" y="103"/>
                    </a:lnTo>
                    <a:lnTo>
                      <a:pt x="407" y="96"/>
                    </a:lnTo>
                    <a:lnTo>
                      <a:pt x="404" y="88"/>
                    </a:lnTo>
                    <a:lnTo>
                      <a:pt x="400" y="81"/>
                    </a:lnTo>
                    <a:lnTo>
                      <a:pt x="397" y="74"/>
                    </a:lnTo>
                    <a:lnTo>
                      <a:pt x="392" y="67"/>
                    </a:lnTo>
                    <a:lnTo>
                      <a:pt x="387" y="61"/>
                    </a:lnTo>
                    <a:lnTo>
                      <a:pt x="385" y="57"/>
                    </a:lnTo>
                    <a:lnTo>
                      <a:pt x="382" y="53"/>
                    </a:lnTo>
                    <a:lnTo>
                      <a:pt x="376" y="50"/>
                    </a:lnTo>
                    <a:lnTo>
                      <a:pt x="372" y="46"/>
                    </a:lnTo>
                    <a:lnTo>
                      <a:pt x="357" y="53"/>
                    </a:lnTo>
                    <a:lnTo>
                      <a:pt x="342" y="58"/>
                    </a:lnTo>
                    <a:lnTo>
                      <a:pt x="329" y="61"/>
                    </a:lnTo>
                    <a:lnTo>
                      <a:pt x="316" y="65"/>
                    </a:lnTo>
                    <a:lnTo>
                      <a:pt x="304" y="67"/>
                    </a:lnTo>
                    <a:lnTo>
                      <a:pt x="293" y="71"/>
                    </a:lnTo>
                    <a:lnTo>
                      <a:pt x="283" y="74"/>
                    </a:lnTo>
                    <a:lnTo>
                      <a:pt x="272" y="79"/>
                    </a:lnTo>
                    <a:lnTo>
                      <a:pt x="256" y="81"/>
                    </a:lnTo>
                    <a:lnTo>
                      <a:pt x="241" y="80"/>
                    </a:lnTo>
                    <a:lnTo>
                      <a:pt x="226" y="77"/>
                    </a:lnTo>
                    <a:lnTo>
                      <a:pt x="212" y="73"/>
                    </a:lnTo>
                    <a:lnTo>
                      <a:pt x="198" y="68"/>
                    </a:lnTo>
                    <a:lnTo>
                      <a:pt x="184" y="64"/>
                    </a:lnTo>
                    <a:lnTo>
                      <a:pt x="169" y="61"/>
                    </a:lnTo>
                    <a:lnTo>
                      <a:pt x="153" y="61"/>
                    </a:lnTo>
                    <a:lnTo>
                      <a:pt x="133" y="59"/>
                    </a:lnTo>
                    <a:lnTo>
                      <a:pt x="112" y="64"/>
                    </a:lnTo>
                    <a:lnTo>
                      <a:pt x="91" y="69"/>
                    </a:lnTo>
                    <a:lnTo>
                      <a:pt x="72" y="76"/>
                    </a:lnTo>
                    <a:lnTo>
                      <a:pt x="53" y="80"/>
                    </a:lnTo>
                    <a:lnTo>
                      <a:pt x="37" y="79"/>
                    </a:lnTo>
                    <a:lnTo>
                      <a:pt x="23" y="68"/>
                    </a:lnTo>
                    <a:lnTo>
                      <a:pt x="13" y="46"/>
                    </a:lnTo>
                    <a:lnTo>
                      <a:pt x="12" y="39"/>
                    </a:lnTo>
                    <a:lnTo>
                      <a:pt x="10" y="33"/>
                    </a:lnTo>
                    <a:lnTo>
                      <a:pt x="6" y="27"/>
                    </a:lnTo>
                    <a:lnTo>
                      <a:pt x="0" y="21"/>
                    </a:lnTo>
                    <a:lnTo>
                      <a:pt x="20" y="16"/>
                    </a:lnTo>
                    <a:lnTo>
                      <a:pt x="41" y="12"/>
                    </a:lnTo>
                    <a:lnTo>
                      <a:pt x="60" y="8"/>
                    </a:lnTo>
                    <a:lnTo>
                      <a:pt x="80" y="6"/>
                    </a:lnTo>
                    <a:lnTo>
                      <a:pt x="101" y="4"/>
                    </a:lnTo>
                    <a:lnTo>
                      <a:pt x="120" y="3"/>
                    </a:lnTo>
                    <a:lnTo>
                      <a:pt x="140" y="1"/>
                    </a:lnTo>
                    <a:lnTo>
                      <a:pt x="159" y="0"/>
                    </a:lnTo>
                    <a:lnTo>
                      <a:pt x="179" y="0"/>
                    </a:lnTo>
                    <a:lnTo>
                      <a:pt x="198" y="1"/>
                    </a:lnTo>
                    <a:lnTo>
                      <a:pt x="217" y="3"/>
                    </a:lnTo>
                    <a:lnTo>
                      <a:pt x="237" y="4"/>
                    </a:lnTo>
                    <a:lnTo>
                      <a:pt x="255" y="6"/>
                    </a:lnTo>
                    <a:lnTo>
                      <a:pt x="275" y="10"/>
                    </a:lnTo>
                    <a:lnTo>
                      <a:pt x="293" y="13"/>
                    </a:lnTo>
                    <a:lnTo>
                      <a:pt x="312" y="16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27800" y="2907000"/>
                <a:ext cx="777600" cy="896760"/>
              </a:xfrm>
              <a:custGeom>
                <a:avLst/>
                <a:gdLst/>
                <a:ahLst/>
                <a:rect l="l" t="t" r="r" b="b"/>
                <a:pathLst>
                  <a:path w="981" h="1129">
                    <a:moveTo>
                      <a:pt x="203" y="79"/>
                    </a:moveTo>
                    <a:lnTo>
                      <a:pt x="213" y="75"/>
                    </a:lnTo>
                    <a:lnTo>
                      <a:pt x="225" y="70"/>
                    </a:lnTo>
                    <a:lnTo>
                      <a:pt x="236" y="66"/>
                    </a:lnTo>
                    <a:lnTo>
                      <a:pt x="248" y="63"/>
                    </a:lnTo>
                    <a:lnTo>
                      <a:pt x="261" y="61"/>
                    </a:lnTo>
                    <a:lnTo>
                      <a:pt x="272" y="60"/>
                    </a:lnTo>
                    <a:lnTo>
                      <a:pt x="285" y="58"/>
                    </a:lnTo>
                    <a:lnTo>
                      <a:pt x="298" y="58"/>
                    </a:lnTo>
                    <a:lnTo>
                      <a:pt x="310" y="58"/>
                    </a:lnTo>
                    <a:lnTo>
                      <a:pt x="322" y="60"/>
                    </a:lnTo>
                    <a:lnTo>
                      <a:pt x="334" y="61"/>
                    </a:lnTo>
                    <a:lnTo>
                      <a:pt x="347" y="63"/>
                    </a:lnTo>
                    <a:lnTo>
                      <a:pt x="359" y="66"/>
                    </a:lnTo>
                    <a:lnTo>
                      <a:pt x="370" y="70"/>
                    </a:lnTo>
                    <a:lnTo>
                      <a:pt x="382" y="73"/>
                    </a:lnTo>
                    <a:lnTo>
                      <a:pt x="393" y="78"/>
                    </a:lnTo>
                    <a:lnTo>
                      <a:pt x="411" y="77"/>
                    </a:lnTo>
                    <a:lnTo>
                      <a:pt x="427" y="72"/>
                    </a:lnTo>
                    <a:lnTo>
                      <a:pt x="442" y="65"/>
                    </a:lnTo>
                    <a:lnTo>
                      <a:pt x="458" y="58"/>
                    </a:lnTo>
                    <a:lnTo>
                      <a:pt x="473" y="51"/>
                    </a:lnTo>
                    <a:lnTo>
                      <a:pt x="488" y="46"/>
                    </a:lnTo>
                    <a:lnTo>
                      <a:pt x="504" y="42"/>
                    </a:lnTo>
                    <a:lnTo>
                      <a:pt x="521" y="42"/>
                    </a:lnTo>
                    <a:lnTo>
                      <a:pt x="527" y="64"/>
                    </a:lnTo>
                    <a:lnTo>
                      <a:pt x="538" y="81"/>
                    </a:lnTo>
                    <a:lnTo>
                      <a:pt x="555" y="98"/>
                    </a:lnTo>
                    <a:lnTo>
                      <a:pt x="572" y="111"/>
                    </a:lnTo>
                    <a:lnTo>
                      <a:pt x="590" y="125"/>
                    </a:lnTo>
                    <a:lnTo>
                      <a:pt x="608" y="140"/>
                    </a:lnTo>
                    <a:lnTo>
                      <a:pt x="623" y="156"/>
                    </a:lnTo>
                    <a:lnTo>
                      <a:pt x="633" y="176"/>
                    </a:lnTo>
                    <a:lnTo>
                      <a:pt x="648" y="195"/>
                    </a:lnTo>
                    <a:lnTo>
                      <a:pt x="670" y="205"/>
                    </a:lnTo>
                    <a:lnTo>
                      <a:pt x="694" y="208"/>
                    </a:lnTo>
                    <a:lnTo>
                      <a:pt x="719" y="209"/>
                    </a:lnTo>
                    <a:lnTo>
                      <a:pt x="742" y="213"/>
                    </a:lnTo>
                    <a:lnTo>
                      <a:pt x="760" y="220"/>
                    </a:lnTo>
                    <a:lnTo>
                      <a:pt x="770" y="236"/>
                    </a:lnTo>
                    <a:lnTo>
                      <a:pt x="770" y="265"/>
                    </a:lnTo>
                    <a:lnTo>
                      <a:pt x="748" y="299"/>
                    </a:lnTo>
                    <a:lnTo>
                      <a:pt x="750" y="287"/>
                    </a:lnTo>
                    <a:lnTo>
                      <a:pt x="749" y="273"/>
                    </a:lnTo>
                    <a:lnTo>
                      <a:pt x="746" y="260"/>
                    </a:lnTo>
                    <a:lnTo>
                      <a:pt x="740" y="248"/>
                    </a:lnTo>
                    <a:lnTo>
                      <a:pt x="733" y="242"/>
                    </a:lnTo>
                    <a:lnTo>
                      <a:pt x="725" y="238"/>
                    </a:lnTo>
                    <a:lnTo>
                      <a:pt x="716" y="238"/>
                    </a:lnTo>
                    <a:lnTo>
                      <a:pt x="707" y="238"/>
                    </a:lnTo>
                    <a:lnTo>
                      <a:pt x="699" y="240"/>
                    </a:lnTo>
                    <a:lnTo>
                      <a:pt x="689" y="244"/>
                    </a:lnTo>
                    <a:lnTo>
                      <a:pt x="681" y="247"/>
                    </a:lnTo>
                    <a:lnTo>
                      <a:pt x="673" y="250"/>
                    </a:lnTo>
                    <a:lnTo>
                      <a:pt x="666" y="254"/>
                    </a:lnTo>
                    <a:lnTo>
                      <a:pt x="659" y="259"/>
                    </a:lnTo>
                    <a:lnTo>
                      <a:pt x="654" y="266"/>
                    </a:lnTo>
                    <a:lnTo>
                      <a:pt x="649" y="273"/>
                    </a:lnTo>
                    <a:lnTo>
                      <a:pt x="644" y="280"/>
                    </a:lnTo>
                    <a:lnTo>
                      <a:pt x="642" y="287"/>
                    </a:lnTo>
                    <a:lnTo>
                      <a:pt x="639" y="295"/>
                    </a:lnTo>
                    <a:lnTo>
                      <a:pt x="638" y="303"/>
                    </a:lnTo>
                    <a:lnTo>
                      <a:pt x="647" y="326"/>
                    </a:lnTo>
                    <a:lnTo>
                      <a:pt x="654" y="349"/>
                    </a:lnTo>
                    <a:lnTo>
                      <a:pt x="659" y="373"/>
                    </a:lnTo>
                    <a:lnTo>
                      <a:pt x="666" y="397"/>
                    </a:lnTo>
                    <a:lnTo>
                      <a:pt x="670" y="403"/>
                    </a:lnTo>
                    <a:lnTo>
                      <a:pt x="673" y="409"/>
                    </a:lnTo>
                    <a:lnTo>
                      <a:pt x="677" y="416"/>
                    </a:lnTo>
                    <a:lnTo>
                      <a:pt x="681" y="421"/>
                    </a:lnTo>
                    <a:lnTo>
                      <a:pt x="686" y="426"/>
                    </a:lnTo>
                    <a:lnTo>
                      <a:pt x="693" y="429"/>
                    </a:lnTo>
                    <a:lnTo>
                      <a:pt x="699" y="432"/>
                    </a:lnTo>
                    <a:lnTo>
                      <a:pt x="707" y="432"/>
                    </a:lnTo>
                    <a:lnTo>
                      <a:pt x="715" y="421"/>
                    </a:lnTo>
                    <a:lnTo>
                      <a:pt x="719" y="409"/>
                    </a:lnTo>
                    <a:lnTo>
                      <a:pt x="721" y="396"/>
                    </a:lnTo>
                    <a:lnTo>
                      <a:pt x="722" y="383"/>
                    </a:lnTo>
                    <a:lnTo>
                      <a:pt x="723" y="397"/>
                    </a:lnTo>
                    <a:lnTo>
                      <a:pt x="725" y="411"/>
                    </a:lnTo>
                    <a:lnTo>
                      <a:pt x="729" y="425"/>
                    </a:lnTo>
                    <a:lnTo>
                      <a:pt x="737" y="436"/>
                    </a:lnTo>
                    <a:lnTo>
                      <a:pt x="746" y="445"/>
                    </a:lnTo>
                    <a:lnTo>
                      <a:pt x="757" y="452"/>
                    </a:lnTo>
                    <a:lnTo>
                      <a:pt x="770" y="457"/>
                    </a:lnTo>
                    <a:lnTo>
                      <a:pt x="784" y="462"/>
                    </a:lnTo>
                    <a:lnTo>
                      <a:pt x="794" y="467"/>
                    </a:lnTo>
                    <a:lnTo>
                      <a:pt x="802" y="475"/>
                    </a:lnTo>
                    <a:lnTo>
                      <a:pt x="805" y="488"/>
                    </a:lnTo>
                    <a:lnTo>
                      <a:pt x="801" y="505"/>
                    </a:lnTo>
                    <a:lnTo>
                      <a:pt x="790" y="519"/>
                    </a:lnTo>
                    <a:lnTo>
                      <a:pt x="779" y="535"/>
                    </a:lnTo>
                    <a:lnTo>
                      <a:pt x="774" y="551"/>
                    </a:lnTo>
                    <a:lnTo>
                      <a:pt x="774" y="570"/>
                    </a:lnTo>
                    <a:lnTo>
                      <a:pt x="782" y="579"/>
                    </a:lnTo>
                    <a:lnTo>
                      <a:pt x="785" y="592"/>
                    </a:lnTo>
                    <a:lnTo>
                      <a:pt x="784" y="604"/>
                    </a:lnTo>
                    <a:lnTo>
                      <a:pt x="783" y="617"/>
                    </a:lnTo>
                    <a:lnTo>
                      <a:pt x="775" y="645"/>
                    </a:lnTo>
                    <a:lnTo>
                      <a:pt x="769" y="672"/>
                    </a:lnTo>
                    <a:lnTo>
                      <a:pt x="768" y="701"/>
                    </a:lnTo>
                    <a:lnTo>
                      <a:pt x="770" y="731"/>
                    </a:lnTo>
                    <a:lnTo>
                      <a:pt x="774" y="737"/>
                    </a:lnTo>
                    <a:lnTo>
                      <a:pt x="777" y="742"/>
                    </a:lnTo>
                    <a:lnTo>
                      <a:pt x="782" y="745"/>
                    </a:lnTo>
                    <a:lnTo>
                      <a:pt x="787" y="748"/>
                    </a:lnTo>
                    <a:lnTo>
                      <a:pt x="792" y="752"/>
                    </a:lnTo>
                    <a:lnTo>
                      <a:pt x="797" y="754"/>
                    </a:lnTo>
                    <a:lnTo>
                      <a:pt x="802" y="758"/>
                    </a:lnTo>
                    <a:lnTo>
                      <a:pt x="807" y="760"/>
                    </a:lnTo>
                    <a:lnTo>
                      <a:pt x="815" y="760"/>
                    </a:lnTo>
                    <a:lnTo>
                      <a:pt x="822" y="760"/>
                    </a:lnTo>
                    <a:lnTo>
                      <a:pt x="829" y="759"/>
                    </a:lnTo>
                    <a:lnTo>
                      <a:pt x="836" y="758"/>
                    </a:lnTo>
                    <a:lnTo>
                      <a:pt x="842" y="757"/>
                    </a:lnTo>
                    <a:lnTo>
                      <a:pt x="847" y="753"/>
                    </a:lnTo>
                    <a:lnTo>
                      <a:pt x="853" y="750"/>
                    </a:lnTo>
                    <a:lnTo>
                      <a:pt x="859" y="745"/>
                    </a:lnTo>
                    <a:lnTo>
                      <a:pt x="867" y="734"/>
                    </a:lnTo>
                    <a:lnTo>
                      <a:pt x="875" y="722"/>
                    </a:lnTo>
                    <a:lnTo>
                      <a:pt x="881" y="709"/>
                    </a:lnTo>
                    <a:lnTo>
                      <a:pt x="886" y="695"/>
                    </a:lnTo>
                    <a:lnTo>
                      <a:pt x="893" y="684"/>
                    </a:lnTo>
                    <a:lnTo>
                      <a:pt x="900" y="671"/>
                    </a:lnTo>
                    <a:lnTo>
                      <a:pt x="911" y="661"/>
                    </a:lnTo>
                    <a:lnTo>
                      <a:pt x="922" y="651"/>
                    </a:lnTo>
                    <a:lnTo>
                      <a:pt x="936" y="595"/>
                    </a:lnTo>
                    <a:lnTo>
                      <a:pt x="937" y="610"/>
                    </a:lnTo>
                    <a:lnTo>
                      <a:pt x="934" y="629"/>
                    </a:lnTo>
                    <a:lnTo>
                      <a:pt x="936" y="647"/>
                    </a:lnTo>
                    <a:lnTo>
                      <a:pt x="951" y="659"/>
                    </a:lnTo>
                    <a:lnTo>
                      <a:pt x="981" y="661"/>
                    </a:lnTo>
                    <a:lnTo>
                      <a:pt x="953" y="701"/>
                    </a:lnTo>
                    <a:lnTo>
                      <a:pt x="944" y="700"/>
                    </a:lnTo>
                    <a:lnTo>
                      <a:pt x="935" y="700"/>
                    </a:lnTo>
                    <a:lnTo>
                      <a:pt x="926" y="702"/>
                    </a:lnTo>
                    <a:lnTo>
                      <a:pt x="916" y="705"/>
                    </a:lnTo>
                    <a:lnTo>
                      <a:pt x="908" y="709"/>
                    </a:lnTo>
                    <a:lnTo>
                      <a:pt x="900" y="715"/>
                    </a:lnTo>
                    <a:lnTo>
                      <a:pt x="895" y="722"/>
                    </a:lnTo>
                    <a:lnTo>
                      <a:pt x="890" y="731"/>
                    </a:lnTo>
                    <a:lnTo>
                      <a:pt x="884" y="743"/>
                    </a:lnTo>
                    <a:lnTo>
                      <a:pt x="878" y="754"/>
                    </a:lnTo>
                    <a:lnTo>
                      <a:pt x="871" y="765"/>
                    </a:lnTo>
                    <a:lnTo>
                      <a:pt x="860" y="769"/>
                    </a:lnTo>
                    <a:lnTo>
                      <a:pt x="845" y="770"/>
                    </a:lnTo>
                    <a:lnTo>
                      <a:pt x="830" y="770"/>
                    </a:lnTo>
                    <a:lnTo>
                      <a:pt x="814" y="772"/>
                    </a:lnTo>
                    <a:lnTo>
                      <a:pt x="798" y="774"/>
                    </a:lnTo>
                    <a:lnTo>
                      <a:pt x="784" y="778"/>
                    </a:lnTo>
                    <a:lnTo>
                      <a:pt x="770" y="787"/>
                    </a:lnTo>
                    <a:lnTo>
                      <a:pt x="760" y="798"/>
                    </a:lnTo>
                    <a:lnTo>
                      <a:pt x="752" y="813"/>
                    </a:lnTo>
                    <a:lnTo>
                      <a:pt x="747" y="833"/>
                    </a:lnTo>
                    <a:lnTo>
                      <a:pt x="747" y="853"/>
                    </a:lnTo>
                    <a:lnTo>
                      <a:pt x="746" y="873"/>
                    </a:lnTo>
                    <a:lnTo>
                      <a:pt x="737" y="890"/>
                    </a:lnTo>
                    <a:lnTo>
                      <a:pt x="738" y="909"/>
                    </a:lnTo>
                    <a:lnTo>
                      <a:pt x="744" y="925"/>
                    </a:lnTo>
                    <a:lnTo>
                      <a:pt x="753" y="940"/>
                    </a:lnTo>
                    <a:lnTo>
                      <a:pt x="763" y="954"/>
                    </a:lnTo>
                    <a:lnTo>
                      <a:pt x="756" y="958"/>
                    </a:lnTo>
                    <a:lnTo>
                      <a:pt x="749" y="960"/>
                    </a:lnTo>
                    <a:lnTo>
                      <a:pt x="741" y="963"/>
                    </a:lnTo>
                    <a:lnTo>
                      <a:pt x="733" y="965"/>
                    </a:lnTo>
                    <a:lnTo>
                      <a:pt x="732" y="944"/>
                    </a:lnTo>
                    <a:lnTo>
                      <a:pt x="730" y="925"/>
                    </a:lnTo>
                    <a:lnTo>
                      <a:pt x="726" y="905"/>
                    </a:lnTo>
                    <a:lnTo>
                      <a:pt x="722" y="887"/>
                    </a:lnTo>
                    <a:lnTo>
                      <a:pt x="715" y="868"/>
                    </a:lnTo>
                    <a:lnTo>
                      <a:pt x="706" y="850"/>
                    </a:lnTo>
                    <a:lnTo>
                      <a:pt x="696" y="833"/>
                    </a:lnTo>
                    <a:lnTo>
                      <a:pt x="685" y="816"/>
                    </a:lnTo>
                    <a:lnTo>
                      <a:pt x="669" y="806"/>
                    </a:lnTo>
                    <a:lnTo>
                      <a:pt x="654" y="795"/>
                    </a:lnTo>
                    <a:lnTo>
                      <a:pt x="638" y="784"/>
                    </a:lnTo>
                    <a:lnTo>
                      <a:pt x="620" y="774"/>
                    </a:lnTo>
                    <a:lnTo>
                      <a:pt x="603" y="766"/>
                    </a:lnTo>
                    <a:lnTo>
                      <a:pt x="586" y="762"/>
                    </a:lnTo>
                    <a:lnTo>
                      <a:pt x="566" y="763"/>
                    </a:lnTo>
                    <a:lnTo>
                      <a:pt x="546" y="770"/>
                    </a:lnTo>
                    <a:lnTo>
                      <a:pt x="538" y="775"/>
                    </a:lnTo>
                    <a:lnTo>
                      <a:pt x="532" y="782"/>
                    </a:lnTo>
                    <a:lnTo>
                      <a:pt x="526" y="791"/>
                    </a:lnTo>
                    <a:lnTo>
                      <a:pt x="522" y="800"/>
                    </a:lnTo>
                    <a:lnTo>
                      <a:pt x="514" y="810"/>
                    </a:lnTo>
                    <a:lnTo>
                      <a:pt x="506" y="820"/>
                    </a:lnTo>
                    <a:lnTo>
                      <a:pt x="498" y="830"/>
                    </a:lnTo>
                    <a:lnTo>
                      <a:pt x="490" y="841"/>
                    </a:lnTo>
                    <a:lnTo>
                      <a:pt x="484" y="852"/>
                    </a:lnTo>
                    <a:lnTo>
                      <a:pt x="478" y="864"/>
                    </a:lnTo>
                    <a:lnTo>
                      <a:pt x="476" y="876"/>
                    </a:lnTo>
                    <a:lnTo>
                      <a:pt x="475" y="889"/>
                    </a:lnTo>
                    <a:lnTo>
                      <a:pt x="491" y="906"/>
                    </a:lnTo>
                    <a:lnTo>
                      <a:pt x="497" y="929"/>
                    </a:lnTo>
                    <a:lnTo>
                      <a:pt x="499" y="954"/>
                    </a:lnTo>
                    <a:lnTo>
                      <a:pt x="508" y="975"/>
                    </a:lnTo>
                    <a:lnTo>
                      <a:pt x="514" y="981"/>
                    </a:lnTo>
                    <a:lnTo>
                      <a:pt x="520" y="986"/>
                    </a:lnTo>
                    <a:lnTo>
                      <a:pt x="527" y="989"/>
                    </a:lnTo>
                    <a:lnTo>
                      <a:pt x="534" y="992"/>
                    </a:lnTo>
                    <a:lnTo>
                      <a:pt x="542" y="994"/>
                    </a:lnTo>
                    <a:lnTo>
                      <a:pt x="549" y="995"/>
                    </a:lnTo>
                    <a:lnTo>
                      <a:pt x="557" y="996"/>
                    </a:lnTo>
                    <a:lnTo>
                      <a:pt x="564" y="997"/>
                    </a:lnTo>
                    <a:lnTo>
                      <a:pt x="552" y="1004"/>
                    </a:lnTo>
                    <a:lnTo>
                      <a:pt x="541" y="1011"/>
                    </a:lnTo>
                    <a:lnTo>
                      <a:pt x="529" y="1017"/>
                    </a:lnTo>
                    <a:lnTo>
                      <a:pt x="518" y="1024"/>
                    </a:lnTo>
                    <a:lnTo>
                      <a:pt x="506" y="1030"/>
                    </a:lnTo>
                    <a:lnTo>
                      <a:pt x="495" y="1035"/>
                    </a:lnTo>
                    <a:lnTo>
                      <a:pt x="483" y="1041"/>
                    </a:lnTo>
                    <a:lnTo>
                      <a:pt x="472" y="1047"/>
                    </a:lnTo>
                    <a:lnTo>
                      <a:pt x="459" y="1053"/>
                    </a:lnTo>
                    <a:lnTo>
                      <a:pt x="447" y="1057"/>
                    </a:lnTo>
                    <a:lnTo>
                      <a:pt x="435" y="1063"/>
                    </a:lnTo>
                    <a:lnTo>
                      <a:pt x="423" y="1069"/>
                    </a:lnTo>
                    <a:lnTo>
                      <a:pt x="411" y="1073"/>
                    </a:lnTo>
                    <a:lnTo>
                      <a:pt x="399" y="1079"/>
                    </a:lnTo>
                    <a:lnTo>
                      <a:pt x="386" y="1084"/>
                    </a:lnTo>
                    <a:lnTo>
                      <a:pt x="375" y="1090"/>
                    </a:lnTo>
                    <a:lnTo>
                      <a:pt x="364" y="1091"/>
                    </a:lnTo>
                    <a:lnTo>
                      <a:pt x="354" y="1093"/>
                    </a:lnTo>
                    <a:lnTo>
                      <a:pt x="343" y="1094"/>
                    </a:lnTo>
                    <a:lnTo>
                      <a:pt x="332" y="1095"/>
                    </a:lnTo>
                    <a:lnTo>
                      <a:pt x="321" y="1098"/>
                    </a:lnTo>
                    <a:lnTo>
                      <a:pt x="310" y="1099"/>
                    </a:lnTo>
                    <a:lnTo>
                      <a:pt x="300" y="1099"/>
                    </a:lnTo>
                    <a:lnTo>
                      <a:pt x="291" y="1100"/>
                    </a:lnTo>
                    <a:lnTo>
                      <a:pt x="285" y="1094"/>
                    </a:lnTo>
                    <a:lnTo>
                      <a:pt x="278" y="1091"/>
                    </a:lnTo>
                    <a:lnTo>
                      <a:pt x="270" y="1087"/>
                    </a:lnTo>
                    <a:lnTo>
                      <a:pt x="262" y="1086"/>
                    </a:lnTo>
                    <a:lnTo>
                      <a:pt x="257" y="1079"/>
                    </a:lnTo>
                    <a:lnTo>
                      <a:pt x="251" y="1075"/>
                    </a:lnTo>
                    <a:lnTo>
                      <a:pt x="245" y="1070"/>
                    </a:lnTo>
                    <a:lnTo>
                      <a:pt x="238" y="1068"/>
                    </a:lnTo>
                    <a:lnTo>
                      <a:pt x="230" y="1065"/>
                    </a:lnTo>
                    <a:lnTo>
                      <a:pt x="221" y="1065"/>
                    </a:lnTo>
                    <a:lnTo>
                      <a:pt x="213" y="1066"/>
                    </a:lnTo>
                    <a:lnTo>
                      <a:pt x="205" y="1068"/>
                    </a:lnTo>
                    <a:lnTo>
                      <a:pt x="200" y="1070"/>
                    </a:lnTo>
                    <a:lnTo>
                      <a:pt x="194" y="1072"/>
                    </a:lnTo>
                    <a:lnTo>
                      <a:pt x="188" y="1076"/>
                    </a:lnTo>
                    <a:lnTo>
                      <a:pt x="183" y="1080"/>
                    </a:lnTo>
                    <a:lnTo>
                      <a:pt x="178" y="1085"/>
                    </a:lnTo>
                    <a:lnTo>
                      <a:pt x="174" y="1090"/>
                    </a:lnTo>
                    <a:lnTo>
                      <a:pt x="171" y="1094"/>
                    </a:lnTo>
                    <a:lnTo>
                      <a:pt x="167" y="1100"/>
                    </a:lnTo>
                    <a:lnTo>
                      <a:pt x="98" y="1129"/>
                    </a:lnTo>
                    <a:lnTo>
                      <a:pt x="84" y="1121"/>
                    </a:lnTo>
                    <a:lnTo>
                      <a:pt x="73" y="1109"/>
                    </a:lnTo>
                    <a:lnTo>
                      <a:pt x="64" y="1098"/>
                    </a:lnTo>
                    <a:lnTo>
                      <a:pt x="54" y="1084"/>
                    </a:lnTo>
                    <a:lnTo>
                      <a:pt x="45" y="1070"/>
                    </a:lnTo>
                    <a:lnTo>
                      <a:pt x="36" y="1056"/>
                    </a:lnTo>
                    <a:lnTo>
                      <a:pt x="26" y="1043"/>
                    </a:lnTo>
                    <a:lnTo>
                      <a:pt x="13" y="1032"/>
                    </a:lnTo>
                    <a:lnTo>
                      <a:pt x="20" y="1019"/>
                    </a:lnTo>
                    <a:lnTo>
                      <a:pt x="26" y="1007"/>
                    </a:lnTo>
                    <a:lnTo>
                      <a:pt x="29" y="992"/>
                    </a:lnTo>
                    <a:lnTo>
                      <a:pt x="31" y="978"/>
                    </a:lnTo>
                    <a:lnTo>
                      <a:pt x="35" y="963"/>
                    </a:lnTo>
                    <a:lnTo>
                      <a:pt x="39" y="949"/>
                    </a:lnTo>
                    <a:lnTo>
                      <a:pt x="46" y="935"/>
                    </a:lnTo>
                    <a:lnTo>
                      <a:pt x="56" y="924"/>
                    </a:lnTo>
                    <a:lnTo>
                      <a:pt x="58" y="913"/>
                    </a:lnTo>
                    <a:lnTo>
                      <a:pt x="57" y="903"/>
                    </a:lnTo>
                    <a:lnTo>
                      <a:pt x="51" y="894"/>
                    </a:lnTo>
                    <a:lnTo>
                      <a:pt x="41" y="889"/>
                    </a:lnTo>
                    <a:lnTo>
                      <a:pt x="31" y="884"/>
                    </a:lnTo>
                    <a:lnTo>
                      <a:pt x="23" y="879"/>
                    </a:lnTo>
                    <a:lnTo>
                      <a:pt x="18" y="872"/>
                    </a:lnTo>
                    <a:lnTo>
                      <a:pt x="15" y="861"/>
                    </a:lnTo>
                    <a:lnTo>
                      <a:pt x="24" y="852"/>
                    </a:lnTo>
                    <a:lnTo>
                      <a:pt x="34" y="842"/>
                    </a:lnTo>
                    <a:lnTo>
                      <a:pt x="42" y="831"/>
                    </a:lnTo>
                    <a:lnTo>
                      <a:pt x="49" y="820"/>
                    </a:lnTo>
                    <a:lnTo>
                      <a:pt x="54" y="810"/>
                    </a:lnTo>
                    <a:lnTo>
                      <a:pt x="57" y="797"/>
                    </a:lnTo>
                    <a:lnTo>
                      <a:pt x="57" y="785"/>
                    </a:lnTo>
                    <a:lnTo>
                      <a:pt x="53" y="773"/>
                    </a:lnTo>
                    <a:lnTo>
                      <a:pt x="49" y="768"/>
                    </a:lnTo>
                    <a:lnTo>
                      <a:pt x="44" y="765"/>
                    </a:lnTo>
                    <a:lnTo>
                      <a:pt x="39" y="761"/>
                    </a:lnTo>
                    <a:lnTo>
                      <a:pt x="34" y="760"/>
                    </a:lnTo>
                    <a:lnTo>
                      <a:pt x="28" y="760"/>
                    </a:lnTo>
                    <a:lnTo>
                      <a:pt x="22" y="761"/>
                    </a:lnTo>
                    <a:lnTo>
                      <a:pt x="16" y="762"/>
                    </a:lnTo>
                    <a:lnTo>
                      <a:pt x="11" y="765"/>
                    </a:lnTo>
                    <a:lnTo>
                      <a:pt x="0" y="770"/>
                    </a:lnTo>
                    <a:lnTo>
                      <a:pt x="3" y="761"/>
                    </a:lnTo>
                    <a:lnTo>
                      <a:pt x="9" y="750"/>
                    </a:lnTo>
                    <a:lnTo>
                      <a:pt x="19" y="739"/>
                    </a:lnTo>
                    <a:lnTo>
                      <a:pt x="31" y="732"/>
                    </a:lnTo>
                    <a:lnTo>
                      <a:pt x="44" y="731"/>
                    </a:lnTo>
                    <a:lnTo>
                      <a:pt x="58" y="730"/>
                    </a:lnTo>
                    <a:lnTo>
                      <a:pt x="72" y="728"/>
                    </a:lnTo>
                    <a:lnTo>
                      <a:pt x="84" y="725"/>
                    </a:lnTo>
                    <a:lnTo>
                      <a:pt x="96" y="721"/>
                    </a:lnTo>
                    <a:lnTo>
                      <a:pt x="107" y="715"/>
                    </a:lnTo>
                    <a:lnTo>
                      <a:pt x="115" y="705"/>
                    </a:lnTo>
                    <a:lnTo>
                      <a:pt x="122" y="692"/>
                    </a:lnTo>
                    <a:lnTo>
                      <a:pt x="125" y="685"/>
                    </a:lnTo>
                    <a:lnTo>
                      <a:pt x="127" y="677"/>
                    </a:lnTo>
                    <a:lnTo>
                      <a:pt x="129" y="670"/>
                    </a:lnTo>
                    <a:lnTo>
                      <a:pt x="133" y="663"/>
                    </a:lnTo>
                    <a:lnTo>
                      <a:pt x="137" y="656"/>
                    </a:lnTo>
                    <a:lnTo>
                      <a:pt x="143" y="651"/>
                    </a:lnTo>
                    <a:lnTo>
                      <a:pt x="149" y="646"/>
                    </a:lnTo>
                    <a:lnTo>
                      <a:pt x="157" y="643"/>
                    </a:lnTo>
                    <a:lnTo>
                      <a:pt x="167" y="644"/>
                    </a:lnTo>
                    <a:lnTo>
                      <a:pt x="178" y="644"/>
                    </a:lnTo>
                    <a:lnTo>
                      <a:pt x="188" y="643"/>
                    </a:lnTo>
                    <a:lnTo>
                      <a:pt x="197" y="639"/>
                    </a:lnTo>
                    <a:lnTo>
                      <a:pt x="207" y="636"/>
                    </a:lnTo>
                    <a:lnTo>
                      <a:pt x="216" y="629"/>
                    </a:lnTo>
                    <a:lnTo>
                      <a:pt x="224" y="622"/>
                    </a:lnTo>
                    <a:lnTo>
                      <a:pt x="231" y="613"/>
                    </a:lnTo>
                    <a:lnTo>
                      <a:pt x="240" y="611"/>
                    </a:lnTo>
                    <a:lnTo>
                      <a:pt x="246" y="615"/>
                    </a:lnTo>
                    <a:lnTo>
                      <a:pt x="251" y="619"/>
                    </a:lnTo>
                    <a:lnTo>
                      <a:pt x="256" y="625"/>
                    </a:lnTo>
                    <a:lnTo>
                      <a:pt x="261" y="632"/>
                    </a:lnTo>
                    <a:lnTo>
                      <a:pt x="265" y="638"/>
                    </a:lnTo>
                    <a:lnTo>
                      <a:pt x="271" y="641"/>
                    </a:lnTo>
                    <a:lnTo>
                      <a:pt x="279" y="643"/>
                    </a:lnTo>
                    <a:lnTo>
                      <a:pt x="285" y="645"/>
                    </a:lnTo>
                    <a:lnTo>
                      <a:pt x="289" y="645"/>
                    </a:lnTo>
                    <a:lnTo>
                      <a:pt x="295" y="644"/>
                    </a:lnTo>
                    <a:lnTo>
                      <a:pt x="300" y="641"/>
                    </a:lnTo>
                    <a:lnTo>
                      <a:pt x="304" y="638"/>
                    </a:lnTo>
                    <a:lnTo>
                      <a:pt x="308" y="634"/>
                    </a:lnTo>
                    <a:lnTo>
                      <a:pt x="311" y="630"/>
                    </a:lnTo>
                    <a:lnTo>
                      <a:pt x="315" y="625"/>
                    </a:lnTo>
                    <a:lnTo>
                      <a:pt x="314" y="617"/>
                    </a:lnTo>
                    <a:lnTo>
                      <a:pt x="311" y="610"/>
                    </a:lnTo>
                    <a:lnTo>
                      <a:pt x="308" y="603"/>
                    </a:lnTo>
                    <a:lnTo>
                      <a:pt x="304" y="598"/>
                    </a:lnTo>
                    <a:lnTo>
                      <a:pt x="299" y="591"/>
                    </a:lnTo>
                    <a:lnTo>
                      <a:pt x="293" y="586"/>
                    </a:lnTo>
                    <a:lnTo>
                      <a:pt x="287" y="581"/>
                    </a:lnTo>
                    <a:lnTo>
                      <a:pt x="280" y="577"/>
                    </a:lnTo>
                    <a:lnTo>
                      <a:pt x="280" y="569"/>
                    </a:lnTo>
                    <a:lnTo>
                      <a:pt x="285" y="560"/>
                    </a:lnTo>
                    <a:lnTo>
                      <a:pt x="287" y="550"/>
                    </a:lnTo>
                    <a:lnTo>
                      <a:pt x="285" y="541"/>
                    </a:lnTo>
                    <a:lnTo>
                      <a:pt x="278" y="532"/>
                    </a:lnTo>
                    <a:lnTo>
                      <a:pt x="270" y="526"/>
                    </a:lnTo>
                    <a:lnTo>
                      <a:pt x="260" y="523"/>
                    </a:lnTo>
                    <a:lnTo>
                      <a:pt x="250" y="520"/>
                    </a:lnTo>
                    <a:lnTo>
                      <a:pt x="240" y="518"/>
                    </a:lnTo>
                    <a:lnTo>
                      <a:pt x="231" y="515"/>
                    </a:lnTo>
                    <a:lnTo>
                      <a:pt x="223" y="509"/>
                    </a:lnTo>
                    <a:lnTo>
                      <a:pt x="217" y="500"/>
                    </a:lnTo>
                    <a:lnTo>
                      <a:pt x="209" y="482"/>
                    </a:lnTo>
                    <a:lnTo>
                      <a:pt x="202" y="465"/>
                    </a:lnTo>
                    <a:lnTo>
                      <a:pt x="195" y="448"/>
                    </a:lnTo>
                    <a:lnTo>
                      <a:pt x="188" y="431"/>
                    </a:lnTo>
                    <a:lnTo>
                      <a:pt x="179" y="414"/>
                    </a:lnTo>
                    <a:lnTo>
                      <a:pt x="170" y="399"/>
                    </a:lnTo>
                    <a:lnTo>
                      <a:pt x="157" y="386"/>
                    </a:lnTo>
                    <a:lnTo>
                      <a:pt x="142" y="373"/>
                    </a:lnTo>
                    <a:lnTo>
                      <a:pt x="136" y="372"/>
                    </a:lnTo>
                    <a:lnTo>
                      <a:pt x="130" y="372"/>
                    </a:lnTo>
                    <a:lnTo>
                      <a:pt x="126" y="373"/>
                    </a:lnTo>
                    <a:lnTo>
                      <a:pt x="120" y="375"/>
                    </a:lnTo>
                    <a:lnTo>
                      <a:pt x="117" y="378"/>
                    </a:lnTo>
                    <a:lnTo>
                      <a:pt x="112" y="381"/>
                    </a:lnTo>
                    <a:lnTo>
                      <a:pt x="109" y="384"/>
                    </a:lnTo>
                    <a:lnTo>
                      <a:pt x="105" y="389"/>
                    </a:lnTo>
                    <a:lnTo>
                      <a:pt x="102" y="406"/>
                    </a:lnTo>
                    <a:lnTo>
                      <a:pt x="99" y="424"/>
                    </a:lnTo>
                    <a:lnTo>
                      <a:pt x="96" y="440"/>
                    </a:lnTo>
                    <a:lnTo>
                      <a:pt x="87" y="455"/>
                    </a:lnTo>
                    <a:lnTo>
                      <a:pt x="79" y="455"/>
                    </a:lnTo>
                    <a:lnTo>
                      <a:pt x="72" y="458"/>
                    </a:lnTo>
                    <a:lnTo>
                      <a:pt x="65" y="464"/>
                    </a:lnTo>
                    <a:lnTo>
                      <a:pt x="56" y="470"/>
                    </a:lnTo>
                    <a:lnTo>
                      <a:pt x="59" y="449"/>
                    </a:lnTo>
                    <a:lnTo>
                      <a:pt x="58" y="428"/>
                    </a:lnTo>
                    <a:lnTo>
                      <a:pt x="50" y="409"/>
                    </a:lnTo>
                    <a:lnTo>
                      <a:pt x="38" y="391"/>
                    </a:lnTo>
                    <a:lnTo>
                      <a:pt x="42" y="382"/>
                    </a:lnTo>
                    <a:lnTo>
                      <a:pt x="46" y="372"/>
                    </a:lnTo>
                    <a:lnTo>
                      <a:pt x="51" y="363"/>
                    </a:lnTo>
                    <a:lnTo>
                      <a:pt x="58" y="353"/>
                    </a:lnTo>
                    <a:lnTo>
                      <a:pt x="65" y="345"/>
                    </a:lnTo>
                    <a:lnTo>
                      <a:pt x="74" y="338"/>
                    </a:lnTo>
                    <a:lnTo>
                      <a:pt x="83" y="334"/>
                    </a:lnTo>
                    <a:lnTo>
                      <a:pt x="94" y="330"/>
                    </a:lnTo>
                    <a:lnTo>
                      <a:pt x="105" y="331"/>
                    </a:lnTo>
                    <a:lnTo>
                      <a:pt x="118" y="334"/>
                    </a:lnTo>
                    <a:lnTo>
                      <a:pt x="129" y="335"/>
                    </a:lnTo>
                    <a:lnTo>
                      <a:pt x="141" y="335"/>
                    </a:lnTo>
                    <a:lnTo>
                      <a:pt x="151" y="334"/>
                    </a:lnTo>
                    <a:lnTo>
                      <a:pt x="162" y="329"/>
                    </a:lnTo>
                    <a:lnTo>
                      <a:pt x="171" y="321"/>
                    </a:lnTo>
                    <a:lnTo>
                      <a:pt x="178" y="310"/>
                    </a:lnTo>
                    <a:lnTo>
                      <a:pt x="178" y="293"/>
                    </a:lnTo>
                    <a:lnTo>
                      <a:pt x="180" y="277"/>
                    </a:lnTo>
                    <a:lnTo>
                      <a:pt x="185" y="263"/>
                    </a:lnTo>
                    <a:lnTo>
                      <a:pt x="190" y="248"/>
                    </a:lnTo>
                    <a:lnTo>
                      <a:pt x="196" y="235"/>
                    </a:lnTo>
                    <a:lnTo>
                      <a:pt x="201" y="221"/>
                    </a:lnTo>
                    <a:lnTo>
                      <a:pt x="203" y="206"/>
                    </a:lnTo>
                    <a:lnTo>
                      <a:pt x="203" y="190"/>
                    </a:lnTo>
                    <a:lnTo>
                      <a:pt x="197" y="179"/>
                    </a:lnTo>
                    <a:lnTo>
                      <a:pt x="189" y="175"/>
                    </a:lnTo>
                    <a:lnTo>
                      <a:pt x="180" y="174"/>
                    </a:lnTo>
                    <a:lnTo>
                      <a:pt x="171" y="174"/>
                    </a:lnTo>
                    <a:lnTo>
                      <a:pt x="163" y="175"/>
                    </a:lnTo>
                    <a:lnTo>
                      <a:pt x="155" y="172"/>
                    </a:lnTo>
                    <a:lnTo>
                      <a:pt x="149" y="168"/>
                    </a:lnTo>
                    <a:lnTo>
                      <a:pt x="145" y="157"/>
                    </a:lnTo>
                    <a:lnTo>
                      <a:pt x="141" y="153"/>
                    </a:lnTo>
                    <a:lnTo>
                      <a:pt x="136" y="149"/>
                    </a:lnTo>
                    <a:lnTo>
                      <a:pt x="130" y="147"/>
                    </a:lnTo>
                    <a:lnTo>
                      <a:pt x="125" y="146"/>
                    </a:lnTo>
                    <a:lnTo>
                      <a:pt x="118" y="145"/>
                    </a:lnTo>
                    <a:lnTo>
                      <a:pt x="111" y="145"/>
                    </a:lnTo>
                    <a:lnTo>
                      <a:pt x="105" y="145"/>
                    </a:lnTo>
                    <a:lnTo>
                      <a:pt x="98" y="145"/>
                    </a:lnTo>
                    <a:lnTo>
                      <a:pt x="98" y="126"/>
                    </a:lnTo>
                    <a:lnTo>
                      <a:pt x="103" y="110"/>
                    </a:lnTo>
                    <a:lnTo>
                      <a:pt x="105" y="94"/>
                    </a:lnTo>
                    <a:lnTo>
                      <a:pt x="99" y="78"/>
                    </a:lnTo>
                    <a:lnTo>
                      <a:pt x="94" y="70"/>
                    </a:lnTo>
                    <a:lnTo>
                      <a:pt x="86" y="63"/>
                    </a:lnTo>
                    <a:lnTo>
                      <a:pt x="77" y="57"/>
                    </a:lnTo>
                    <a:lnTo>
                      <a:pt x="69" y="51"/>
                    </a:lnTo>
                    <a:lnTo>
                      <a:pt x="61" y="47"/>
                    </a:lnTo>
                    <a:lnTo>
                      <a:pt x="53" y="41"/>
                    </a:lnTo>
                    <a:lnTo>
                      <a:pt x="46" y="35"/>
                    </a:lnTo>
                    <a:lnTo>
                      <a:pt x="41" y="28"/>
                    </a:lnTo>
                    <a:lnTo>
                      <a:pt x="51" y="25"/>
                    </a:lnTo>
                    <a:lnTo>
                      <a:pt x="61" y="22"/>
                    </a:lnTo>
                    <a:lnTo>
                      <a:pt x="72" y="17"/>
                    </a:lnTo>
                    <a:lnTo>
                      <a:pt x="82" y="13"/>
                    </a:lnTo>
                    <a:lnTo>
                      <a:pt x="92" y="9"/>
                    </a:lnTo>
                    <a:lnTo>
                      <a:pt x="103" y="5"/>
                    </a:lnTo>
                    <a:lnTo>
                      <a:pt x="113" y="2"/>
                    </a:lnTo>
                    <a:lnTo>
                      <a:pt x="125" y="0"/>
                    </a:lnTo>
                    <a:lnTo>
                      <a:pt x="130" y="11"/>
                    </a:lnTo>
                    <a:lnTo>
                      <a:pt x="136" y="24"/>
                    </a:lnTo>
                    <a:lnTo>
                      <a:pt x="144" y="38"/>
                    </a:lnTo>
                    <a:lnTo>
                      <a:pt x="152" y="49"/>
                    </a:lnTo>
                    <a:lnTo>
                      <a:pt x="163" y="61"/>
                    </a:lnTo>
                    <a:lnTo>
                      <a:pt x="174" y="70"/>
                    </a:lnTo>
                    <a:lnTo>
                      <a:pt x="188" y="77"/>
                    </a:lnTo>
                    <a:lnTo>
                      <a:pt x="203" y="79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29360" y="2938680"/>
                <a:ext cx="528480" cy="681120"/>
              </a:xfrm>
              <a:custGeom>
                <a:avLst/>
                <a:gdLst/>
                <a:ahLst/>
                <a:rect l="l" t="t" r="r" b="b"/>
                <a:pathLst>
                  <a:path w="664" h="858">
                    <a:moveTo>
                      <a:pt x="410" y="19"/>
                    </a:moveTo>
                    <a:lnTo>
                      <a:pt x="414" y="19"/>
                    </a:lnTo>
                    <a:lnTo>
                      <a:pt x="420" y="21"/>
                    </a:lnTo>
                    <a:lnTo>
                      <a:pt x="425" y="22"/>
                    </a:lnTo>
                    <a:lnTo>
                      <a:pt x="429" y="24"/>
                    </a:lnTo>
                    <a:lnTo>
                      <a:pt x="435" y="26"/>
                    </a:lnTo>
                    <a:lnTo>
                      <a:pt x="440" y="30"/>
                    </a:lnTo>
                    <a:lnTo>
                      <a:pt x="444" y="32"/>
                    </a:lnTo>
                    <a:lnTo>
                      <a:pt x="449" y="36"/>
                    </a:lnTo>
                    <a:lnTo>
                      <a:pt x="456" y="47"/>
                    </a:lnTo>
                    <a:lnTo>
                      <a:pt x="457" y="60"/>
                    </a:lnTo>
                    <a:lnTo>
                      <a:pt x="455" y="72"/>
                    </a:lnTo>
                    <a:lnTo>
                      <a:pt x="451" y="85"/>
                    </a:lnTo>
                    <a:lnTo>
                      <a:pt x="449" y="98"/>
                    </a:lnTo>
                    <a:lnTo>
                      <a:pt x="450" y="109"/>
                    </a:lnTo>
                    <a:lnTo>
                      <a:pt x="456" y="118"/>
                    </a:lnTo>
                    <a:lnTo>
                      <a:pt x="470" y="127"/>
                    </a:lnTo>
                    <a:lnTo>
                      <a:pt x="475" y="129"/>
                    </a:lnTo>
                    <a:lnTo>
                      <a:pt x="482" y="130"/>
                    </a:lnTo>
                    <a:lnTo>
                      <a:pt x="489" y="129"/>
                    </a:lnTo>
                    <a:lnTo>
                      <a:pt x="496" y="129"/>
                    </a:lnTo>
                    <a:lnTo>
                      <a:pt x="502" y="130"/>
                    </a:lnTo>
                    <a:lnTo>
                      <a:pt x="507" y="132"/>
                    </a:lnTo>
                    <a:lnTo>
                      <a:pt x="509" y="137"/>
                    </a:lnTo>
                    <a:lnTo>
                      <a:pt x="508" y="146"/>
                    </a:lnTo>
                    <a:lnTo>
                      <a:pt x="512" y="151"/>
                    </a:lnTo>
                    <a:lnTo>
                      <a:pt x="517" y="155"/>
                    </a:lnTo>
                    <a:lnTo>
                      <a:pt x="523" y="158"/>
                    </a:lnTo>
                    <a:lnTo>
                      <a:pt x="530" y="158"/>
                    </a:lnTo>
                    <a:lnTo>
                      <a:pt x="535" y="159"/>
                    </a:lnTo>
                    <a:lnTo>
                      <a:pt x="542" y="158"/>
                    </a:lnTo>
                    <a:lnTo>
                      <a:pt x="548" y="158"/>
                    </a:lnTo>
                    <a:lnTo>
                      <a:pt x="554" y="156"/>
                    </a:lnTo>
                    <a:lnTo>
                      <a:pt x="548" y="180"/>
                    </a:lnTo>
                    <a:lnTo>
                      <a:pt x="541" y="204"/>
                    </a:lnTo>
                    <a:lnTo>
                      <a:pt x="534" y="229"/>
                    </a:lnTo>
                    <a:lnTo>
                      <a:pt x="532" y="256"/>
                    </a:lnTo>
                    <a:lnTo>
                      <a:pt x="522" y="267"/>
                    </a:lnTo>
                    <a:lnTo>
                      <a:pt x="509" y="272"/>
                    </a:lnTo>
                    <a:lnTo>
                      <a:pt x="496" y="272"/>
                    </a:lnTo>
                    <a:lnTo>
                      <a:pt x="482" y="269"/>
                    </a:lnTo>
                    <a:lnTo>
                      <a:pt x="469" y="266"/>
                    </a:lnTo>
                    <a:lnTo>
                      <a:pt x="455" y="266"/>
                    </a:lnTo>
                    <a:lnTo>
                      <a:pt x="442" y="271"/>
                    </a:lnTo>
                    <a:lnTo>
                      <a:pt x="431" y="281"/>
                    </a:lnTo>
                    <a:lnTo>
                      <a:pt x="422" y="289"/>
                    </a:lnTo>
                    <a:lnTo>
                      <a:pt x="416" y="297"/>
                    </a:lnTo>
                    <a:lnTo>
                      <a:pt x="407" y="305"/>
                    </a:lnTo>
                    <a:lnTo>
                      <a:pt x="401" y="314"/>
                    </a:lnTo>
                    <a:lnTo>
                      <a:pt x="396" y="324"/>
                    </a:lnTo>
                    <a:lnTo>
                      <a:pt x="391" y="333"/>
                    </a:lnTo>
                    <a:lnTo>
                      <a:pt x="390" y="343"/>
                    </a:lnTo>
                    <a:lnTo>
                      <a:pt x="391" y="355"/>
                    </a:lnTo>
                    <a:lnTo>
                      <a:pt x="404" y="366"/>
                    </a:lnTo>
                    <a:lnTo>
                      <a:pt x="409" y="380"/>
                    </a:lnTo>
                    <a:lnTo>
                      <a:pt x="410" y="395"/>
                    </a:lnTo>
                    <a:lnTo>
                      <a:pt x="407" y="410"/>
                    </a:lnTo>
                    <a:lnTo>
                      <a:pt x="406" y="425"/>
                    </a:lnTo>
                    <a:lnTo>
                      <a:pt x="409" y="439"/>
                    </a:lnTo>
                    <a:lnTo>
                      <a:pt x="416" y="451"/>
                    </a:lnTo>
                    <a:lnTo>
                      <a:pt x="431" y="461"/>
                    </a:lnTo>
                    <a:lnTo>
                      <a:pt x="437" y="458"/>
                    </a:lnTo>
                    <a:lnTo>
                      <a:pt x="443" y="455"/>
                    </a:lnTo>
                    <a:lnTo>
                      <a:pt x="449" y="450"/>
                    </a:lnTo>
                    <a:lnTo>
                      <a:pt x="454" y="445"/>
                    </a:lnTo>
                    <a:lnTo>
                      <a:pt x="458" y="440"/>
                    </a:lnTo>
                    <a:lnTo>
                      <a:pt x="463" y="436"/>
                    </a:lnTo>
                    <a:lnTo>
                      <a:pt x="470" y="435"/>
                    </a:lnTo>
                    <a:lnTo>
                      <a:pt x="479" y="436"/>
                    </a:lnTo>
                    <a:lnTo>
                      <a:pt x="490" y="418"/>
                    </a:lnTo>
                    <a:lnTo>
                      <a:pt x="496" y="396"/>
                    </a:lnTo>
                    <a:lnTo>
                      <a:pt x="502" y="375"/>
                    </a:lnTo>
                    <a:lnTo>
                      <a:pt x="512" y="357"/>
                    </a:lnTo>
                    <a:lnTo>
                      <a:pt x="520" y="362"/>
                    </a:lnTo>
                    <a:lnTo>
                      <a:pt x="527" y="368"/>
                    </a:lnTo>
                    <a:lnTo>
                      <a:pt x="533" y="375"/>
                    </a:lnTo>
                    <a:lnTo>
                      <a:pt x="538" y="383"/>
                    </a:lnTo>
                    <a:lnTo>
                      <a:pt x="545" y="402"/>
                    </a:lnTo>
                    <a:lnTo>
                      <a:pt x="552" y="421"/>
                    </a:lnTo>
                    <a:lnTo>
                      <a:pt x="560" y="441"/>
                    </a:lnTo>
                    <a:lnTo>
                      <a:pt x="569" y="459"/>
                    </a:lnTo>
                    <a:lnTo>
                      <a:pt x="580" y="477"/>
                    </a:lnTo>
                    <a:lnTo>
                      <a:pt x="595" y="491"/>
                    </a:lnTo>
                    <a:lnTo>
                      <a:pt x="613" y="500"/>
                    </a:lnTo>
                    <a:lnTo>
                      <a:pt x="635" y="504"/>
                    </a:lnTo>
                    <a:lnTo>
                      <a:pt x="635" y="512"/>
                    </a:lnTo>
                    <a:lnTo>
                      <a:pt x="631" y="522"/>
                    </a:lnTo>
                    <a:lnTo>
                      <a:pt x="628" y="530"/>
                    </a:lnTo>
                    <a:lnTo>
                      <a:pt x="626" y="540"/>
                    </a:lnTo>
                    <a:lnTo>
                      <a:pt x="631" y="546"/>
                    </a:lnTo>
                    <a:lnTo>
                      <a:pt x="637" y="551"/>
                    </a:lnTo>
                    <a:lnTo>
                      <a:pt x="643" y="553"/>
                    </a:lnTo>
                    <a:lnTo>
                      <a:pt x="650" y="556"/>
                    </a:lnTo>
                    <a:lnTo>
                      <a:pt x="654" y="560"/>
                    </a:lnTo>
                    <a:lnTo>
                      <a:pt x="660" y="564"/>
                    </a:lnTo>
                    <a:lnTo>
                      <a:pt x="663" y="570"/>
                    </a:lnTo>
                    <a:lnTo>
                      <a:pt x="664" y="578"/>
                    </a:lnTo>
                    <a:lnTo>
                      <a:pt x="658" y="579"/>
                    </a:lnTo>
                    <a:lnTo>
                      <a:pt x="651" y="578"/>
                    </a:lnTo>
                    <a:lnTo>
                      <a:pt x="645" y="575"/>
                    </a:lnTo>
                    <a:lnTo>
                      <a:pt x="640" y="569"/>
                    </a:lnTo>
                    <a:lnTo>
                      <a:pt x="635" y="563"/>
                    </a:lnTo>
                    <a:lnTo>
                      <a:pt x="630" y="557"/>
                    </a:lnTo>
                    <a:lnTo>
                      <a:pt x="624" y="553"/>
                    </a:lnTo>
                    <a:lnTo>
                      <a:pt x="617" y="551"/>
                    </a:lnTo>
                    <a:lnTo>
                      <a:pt x="608" y="548"/>
                    </a:lnTo>
                    <a:lnTo>
                      <a:pt x="599" y="548"/>
                    </a:lnTo>
                    <a:lnTo>
                      <a:pt x="592" y="552"/>
                    </a:lnTo>
                    <a:lnTo>
                      <a:pt x="585" y="556"/>
                    </a:lnTo>
                    <a:lnTo>
                      <a:pt x="578" y="562"/>
                    </a:lnTo>
                    <a:lnTo>
                      <a:pt x="571" y="569"/>
                    </a:lnTo>
                    <a:lnTo>
                      <a:pt x="564" y="575"/>
                    </a:lnTo>
                    <a:lnTo>
                      <a:pt x="557" y="579"/>
                    </a:lnTo>
                    <a:lnTo>
                      <a:pt x="549" y="578"/>
                    </a:lnTo>
                    <a:lnTo>
                      <a:pt x="540" y="578"/>
                    </a:lnTo>
                    <a:lnTo>
                      <a:pt x="532" y="578"/>
                    </a:lnTo>
                    <a:lnTo>
                      <a:pt x="524" y="579"/>
                    </a:lnTo>
                    <a:lnTo>
                      <a:pt x="516" y="583"/>
                    </a:lnTo>
                    <a:lnTo>
                      <a:pt x="509" y="586"/>
                    </a:lnTo>
                    <a:lnTo>
                      <a:pt x="502" y="591"/>
                    </a:lnTo>
                    <a:lnTo>
                      <a:pt x="495" y="597"/>
                    </a:lnTo>
                    <a:lnTo>
                      <a:pt x="488" y="606"/>
                    </a:lnTo>
                    <a:lnTo>
                      <a:pt x="482" y="617"/>
                    </a:lnTo>
                    <a:lnTo>
                      <a:pt x="479" y="630"/>
                    </a:lnTo>
                    <a:lnTo>
                      <a:pt x="474" y="642"/>
                    </a:lnTo>
                    <a:lnTo>
                      <a:pt x="469" y="652"/>
                    </a:lnTo>
                    <a:lnTo>
                      <a:pt x="461" y="661"/>
                    </a:lnTo>
                    <a:lnTo>
                      <a:pt x="450" y="666"/>
                    </a:lnTo>
                    <a:lnTo>
                      <a:pt x="436" y="667"/>
                    </a:lnTo>
                    <a:lnTo>
                      <a:pt x="427" y="667"/>
                    </a:lnTo>
                    <a:lnTo>
                      <a:pt x="418" y="668"/>
                    </a:lnTo>
                    <a:lnTo>
                      <a:pt x="409" y="669"/>
                    </a:lnTo>
                    <a:lnTo>
                      <a:pt x="401" y="671"/>
                    </a:lnTo>
                    <a:lnTo>
                      <a:pt x="393" y="675"/>
                    </a:lnTo>
                    <a:lnTo>
                      <a:pt x="384" y="678"/>
                    </a:lnTo>
                    <a:lnTo>
                      <a:pt x="376" y="682"/>
                    </a:lnTo>
                    <a:lnTo>
                      <a:pt x="369" y="688"/>
                    </a:lnTo>
                    <a:lnTo>
                      <a:pt x="364" y="696"/>
                    </a:lnTo>
                    <a:lnTo>
                      <a:pt x="358" y="704"/>
                    </a:lnTo>
                    <a:lnTo>
                      <a:pt x="353" y="713"/>
                    </a:lnTo>
                    <a:lnTo>
                      <a:pt x="350" y="721"/>
                    </a:lnTo>
                    <a:lnTo>
                      <a:pt x="345" y="730"/>
                    </a:lnTo>
                    <a:lnTo>
                      <a:pt x="342" y="739"/>
                    </a:lnTo>
                    <a:lnTo>
                      <a:pt x="337" y="748"/>
                    </a:lnTo>
                    <a:lnTo>
                      <a:pt x="333" y="757"/>
                    </a:lnTo>
                    <a:lnTo>
                      <a:pt x="334" y="759"/>
                    </a:lnTo>
                    <a:lnTo>
                      <a:pt x="335" y="761"/>
                    </a:lnTo>
                    <a:lnTo>
                      <a:pt x="336" y="765"/>
                    </a:lnTo>
                    <a:lnTo>
                      <a:pt x="336" y="767"/>
                    </a:lnTo>
                    <a:lnTo>
                      <a:pt x="329" y="768"/>
                    </a:lnTo>
                    <a:lnTo>
                      <a:pt x="323" y="768"/>
                    </a:lnTo>
                    <a:lnTo>
                      <a:pt x="318" y="767"/>
                    </a:lnTo>
                    <a:lnTo>
                      <a:pt x="313" y="764"/>
                    </a:lnTo>
                    <a:lnTo>
                      <a:pt x="308" y="760"/>
                    </a:lnTo>
                    <a:lnTo>
                      <a:pt x="304" y="756"/>
                    </a:lnTo>
                    <a:lnTo>
                      <a:pt x="300" y="751"/>
                    </a:lnTo>
                    <a:lnTo>
                      <a:pt x="297" y="745"/>
                    </a:lnTo>
                    <a:lnTo>
                      <a:pt x="296" y="728"/>
                    </a:lnTo>
                    <a:lnTo>
                      <a:pt x="292" y="712"/>
                    </a:lnTo>
                    <a:lnTo>
                      <a:pt x="286" y="698"/>
                    </a:lnTo>
                    <a:lnTo>
                      <a:pt x="276" y="685"/>
                    </a:lnTo>
                    <a:lnTo>
                      <a:pt x="269" y="678"/>
                    </a:lnTo>
                    <a:lnTo>
                      <a:pt x="260" y="675"/>
                    </a:lnTo>
                    <a:lnTo>
                      <a:pt x="251" y="674"/>
                    </a:lnTo>
                    <a:lnTo>
                      <a:pt x="242" y="673"/>
                    </a:lnTo>
                    <a:lnTo>
                      <a:pt x="232" y="671"/>
                    </a:lnTo>
                    <a:lnTo>
                      <a:pt x="224" y="668"/>
                    </a:lnTo>
                    <a:lnTo>
                      <a:pt x="217" y="662"/>
                    </a:lnTo>
                    <a:lnTo>
                      <a:pt x="213" y="653"/>
                    </a:lnTo>
                    <a:lnTo>
                      <a:pt x="205" y="646"/>
                    </a:lnTo>
                    <a:lnTo>
                      <a:pt x="195" y="642"/>
                    </a:lnTo>
                    <a:lnTo>
                      <a:pt x="186" y="638"/>
                    </a:lnTo>
                    <a:lnTo>
                      <a:pt x="176" y="636"/>
                    </a:lnTo>
                    <a:lnTo>
                      <a:pt x="165" y="635"/>
                    </a:lnTo>
                    <a:lnTo>
                      <a:pt x="155" y="635"/>
                    </a:lnTo>
                    <a:lnTo>
                      <a:pt x="145" y="633"/>
                    </a:lnTo>
                    <a:lnTo>
                      <a:pt x="136" y="632"/>
                    </a:lnTo>
                    <a:lnTo>
                      <a:pt x="122" y="647"/>
                    </a:lnTo>
                    <a:lnTo>
                      <a:pt x="115" y="666"/>
                    </a:lnTo>
                    <a:lnTo>
                      <a:pt x="112" y="684"/>
                    </a:lnTo>
                    <a:lnTo>
                      <a:pt x="115" y="704"/>
                    </a:lnTo>
                    <a:lnTo>
                      <a:pt x="122" y="713"/>
                    </a:lnTo>
                    <a:lnTo>
                      <a:pt x="129" y="721"/>
                    </a:lnTo>
                    <a:lnTo>
                      <a:pt x="137" y="729"/>
                    </a:lnTo>
                    <a:lnTo>
                      <a:pt x="145" y="737"/>
                    </a:lnTo>
                    <a:lnTo>
                      <a:pt x="150" y="745"/>
                    </a:lnTo>
                    <a:lnTo>
                      <a:pt x="154" y="754"/>
                    </a:lnTo>
                    <a:lnTo>
                      <a:pt x="155" y="765"/>
                    </a:lnTo>
                    <a:lnTo>
                      <a:pt x="152" y="777"/>
                    </a:lnTo>
                    <a:lnTo>
                      <a:pt x="156" y="788"/>
                    </a:lnTo>
                    <a:lnTo>
                      <a:pt x="163" y="797"/>
                    </a:lnTo>
                    <a:lnTo>
                      <a:pt x="172" y="805"/>
                    </a:lnTo>
                    <a:lnTo>
                      <a:pt x="180" y="812"/>
                    </a:lnTo>
                    <a:lnTo>
                      <a:pt x="186" y="820"/>
                    </a:lnTo>
                    <a:lnTo>
                      <a:pt x="189" y="828"/>
                    </a:lnTo>
                    <a:lnTo>
                      <a:pt x="184" y="837"/>
                    </a:lnTo>
                    <a:lnTo>
                      <a:pt x="174" y="848"/>
                    </a:lnTo>
                    <a:lnTo>
                      <a:pt x="170" y="858"/>
                    </a:lnTo>
                    <a:lnTo>
                      <a:pt x="161" y="850"/>
                    </a:lnTo>
                    <a:lnTo>
                      <a:pt x="149" y="843"/>
                    </a:lnTo>
                    <a:lnTo>
                      <a:pt x="139" y="837"/>
                    </a:lnTo>
                    <a:lnTo>
                      <a:pt x="129" y="830"/>
                    </a:lnTo>
                    <a:lnTo>
                      <a:pt x="119" y="822"/>
                    </a:lnTo>
                    <a:lnTo>
                      <a:pt x="112" y="813"/>
                    </a:lnTo>
                    <a:lnTo>
                      <a:pt x="108" y="802"/>
                    </a:lnTo>
                    <a:lnTo>
                      <a:pt x="108" y="787"/>
                    </a:lnTo>
                    <a:lnTo>
                      <a:pt x="104" y="781"/>
                    </a:lnTo>
                    <a:lnTo>
                      <a:pt x="100" y="775"/>
                    </a:lnTo>
                    <a:lnTo>
                      <a:pt x="95" y="771"/>
                    </a:lnTo>
                    <a:lnTo>
                      <a:pt x="89" y="766"/>
                    </a:lnTo>
                    <a:lnTo>
                      <a:pt x="85" y="761"/>
                    </a:lnTo>
                    <a:lnTo>
                      <a:pt x="79" y="757"/>
                    </a:lnTo>
                    <a:lnTo>
                      <a:pt x="73" y="752"/>
                    </a:lnTo>
                    <a:lnTo>
                      <a:pt x="68" y="749"/>
                    </a:lnTo>
                    <a:lnTo>
                      <a:pt x="66" y="719"/>
                    </a:lnTo>
                    <a:lnTo>
                      <a:pt x="69" y="686"/>
                    </a:lnTo>
                    <a:lnTo>
                      <a:pt x="71" y="654"/>
                    </a:lnTo>
                    <a:lnTo>
                      <a:pt x="71" y="622"/>
                    </a:lnTo>
                    <a:lnTo>
                      <a:pt x="68" y="592"/>
                    </a:lnTo>
                    <a:lnTo>
                      <a:pt x="58" y="564"/>
                    </a:lnTo>
                    <a:lnTo>
                      <a:pt x="40" y="540"/>
                    </a:lnTo>
                    <a:lnTo>
                      <a:pt x="11" y="521"/>
                    </a:lnTo>
                    <a:lnTo>
                      <a:pt x="0" y="508"/>
                    </a:lnTo>
                    <a:lnTo>
                      <a:pt x="0" y="492"/>
                    </a:lnTo>
                    <a:lnTo>
                      <a:pt x="4" y="473"/>
                    </a:lnTo>
                    <a:lnTo>
                      <a:pt x="9" y="457"/>
                    </a:lnTo>
                    <a:lnTo>
                      <a:pt x="12" y="445"/>
                    </a:lnTo>
                    <a:lnTo>
                      <a:pt x="17" y="432"/>
                    </a:lnTo>
                    <a:lnTo>
                      <a:pt x="21" y="423"/>
                    </a:lnTo>
                    <a:lnTo>
                      <a:pt x="23" y="419"/>
                    </a:lnTo>
                    <a:lnTo>
                      <a:pt x="29" y="419"/>
                    </a:lnTo>
                    <a:lnTo>
                      <a:pt x="36" y="417"/>
                    </a:lnTo>
                    <a:lnTo>
                      <a:pt x="42" y="413"/>
                    </a:lnTo>
                    <a:lnTo>
                      <a:pt x="49" y="408"/>
                    </a:lnTo>
                    <a:lnTo>
                      <a:pt x="55" y="403"/>
                    </a:lnTo>
                    <a:lnTo>
                      <a:pt x="61" y="398"/>
                    </a:lnTo>
                    <a:lnTo>
                      <a:pt x="68" y="395"/>
                    </a:lnTo>
                    <a:lnTo>
                      <a:pt x="74" y="394"/>
                    </a:lnTo>
                    <a:lnTo>
                      <a:pt x="91" y="380"/>
                    </a:lnTo>
                    <a:lnTo>
                      <a:pt x="99" y="364"/>
                    </a:lnTo>
                    <a:lnTo>
                      <a:pt x="102" y="345"/>
                    </a:lnTo>
                    <a:lnTo>
                      <a:pt x="103" y="326"/>
                    </a:lnTo>
                    <a:lnTo>
                      <a:pt x="103" y="307"/>
                    </a:lnTo>
                    <a:lnTo>
                      <a:pt x="107" y="289"/>
                    </a:lnTo>
                    <a:lnTo>
                      <a:pt x="115" y="273"/>
                    </a:lnTo>
                    <a:lnTo>
                      <a:pt x="131" y="260"/>
                    </a:lnTo>
                    <a:lnTo>
                      <a:pt x="147" y="254"/>
                    </a:lnTo>
                    <a:lnTo>
                      <a:pt x="163" y="249"/>
                    </a:lnTo>
                    <a:lnTo>
                      <a:pt x="179" y="241"/>
                    </a:lnTo>
                    <a:lnTo>
                      <a:pt x="194" y="231"/>
                    </a:lnTo>
                    <a:lnTo>
                      <a:pt x="208" y="222"/>
                    </a:lnTo>
                    <a:lnTo>
                      <a:pt x="222" y="211"/>
                    </a:lnTo>
                    <a:lnTo>
                      <a:pt x="233" y="197"/>
                    </a:lnTo>
                    <a:lnTo>
                      <a:pt x="243" y="182"/>
                    </a:lnTo>
                    <a:lnTo>
                      <a:pt x="240" y="109"/>
                    </a:lnTo>
                    <a:lnTo>
                      <a:pt x="238" y="107"/>
                    </a:lnTo>
                    <a:lnTo>
                      <a:pt x="236" y="105"/>
                    </a:lnTo>
                    <a:lnTo>
                      <a:pt x="233" y="102"/>
                    </a:lnTo>
                    <a:lnTo>
                      <a:pt x="233" y="99"/>
                    </a:lnTo>
                    <a:lnTo>
                      <a:pt x="252" y="84"/>
                    </a:lnTo>
                    <a:lnTo>
                      <a:pt x="271" y="69"/>
                    </a:lnTo>
                    <a:lnTo>
                      <a:pt x="290" y="55"/>
                    </a:lnTo>
                    <a:lnTo>
                      <a:pt x="310" y="42"/>
                    </a:lnTo>
                    <a:lnTo>
                      <a:pt x="329" y="31"/>
                    </a:lnTo>
                    <a:lnTo>
                      <a:pt x="349" y="19"/>
                    </a:lnTo>
                    <a:lnTo>
                      <a:pt x="369" y="9"/>
                    </a:lnTo>
                    <a:lnTo>
                      <a:pt x="390" y="0"/>
                    </a:lnTo>
                    <a:lnTo>
                      <a:pt x="396" y="3"/>
                    </a:lnTo>
                    <a:lnTo>
                      <a:pt x="399" y="9"/>
                    </a:lnTo>
                    <a:lnTo>
                      <a:pt x="403" y="16"/>
                    </a:lnTo>
                    <a:lnTo>
                      <a:pt x="410" y="19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486560" y="3013200"/>
                <a:ext cx="164880" cy="263520"/>
              </a:xfrm>
              <a:custGeom>
                <a:avLst/>
                <a:gdLst/>
                <a:ahLst/>
                <a:rect l="l" t="t" r="r" b="b"/>
                <a:pathLst>
                  <a:path w="207" h="332">
                    <a:moveTo>
                      <a:pt x="162" y="20"/>
                    </a:moveTo>
                    <a:lnTo>
                      <a:pt x="200" y="68"/>
                    </a:lnTo>
                    <a:lnTo>
                      <a:pt x="199" y="103"/>
                    </a:lnTo>
                    <a:lnTo>
                      <a:pt x="204" y="137"/>
                    </a:lnTo>
                    <a:lnTo>
                      <a:pt x="207" y="171"/>
                    </a:lnTo>
                    <a:lnTo>
                      <a:pt x="204" y="204"/>
                    </a:lnTo>
                    <a:lnTo>
                      <a:pt x="199" y="215"/>
                    </a:lnTo>
                    <a:lnTo>
                      <a:pt x="192" y="223"/>
                    </a:lnTo>
                    <a:lnTo>
                      <a:pt x="184" y="228"/>
                    </a:lnTo>
                    <a:lnTo>
                      <a:pt x="176" y="233"/>
                    </a:lnTo>
                    <a:lnTo>
                      <a:pt x="167" y="238"/>
                    </a:lnTo>
                    <a:lnTo>
                      <a:pt x="158" y="243"/>
                    </a:lnTo>
                    <a:lnTo>
                      <a:pt x="151" y="251"/>
                    </a:lnTo>
                    <a:lnTo>
                      <a:pt x="145" y="261"/>
                    </a:lnTo>
                    <a:lnTo>
                      <a:pt x="143" y="271"/>
                    </a:lnTo>
                    <a:lnTo>
                      <a:pt x="140" y="280"/>
                    </a:lnTo>
                    <a:lnTo>
                      <a:pt x="138" y="291"/>
                    </a:lnTo>
                    <a:lnTo>
                      <a:pt x="135" y="300"/>
                    </a:lnTo>
                    <a:lnTo>
                      <a:pt x="130" y="309"/>
                    </a:lnTo>
                    <a:lnTo>
                      <a:pt x="124" y="317"/>
                    </a:lnTo>
                    <a:lnTo>
                      <a:pt x="117" y="325"/>
                    </a:lnTo>
                    <a:lnTo>
                      <a:pt x="109" y="332"/>
                    </a:lnTo>
                    <a:lnTo>
                      <a:pt x="93" y="326"/>
                    </a:lnTo>
                    <a:lnTo>
                      <a:pt x="80" y="317"/>
                    </a:lnTo>
                    <a:lnTo>
                      <a:pt x="71" y="304"/>
                    </a:lnTo>
                    <a:lnTo>
                      <a:pt x="64" y="291"/>
                    </a:lnTo>
                    <a:lnTo>
                      <a:pt x="59" y="276"/>
                    </a:lnTo>
                    <a:lnTo>
                      <a:pt x="53" y="261"/>
                    </a:lnTo>
                    <a:lnTo>
                      <a:pt x="47" y="245"/>
                    </a:lnTo>
                    <a:lnTo>
                      <a:pt x="40" y="231"/>
                    </a:lnTo>
                    <a:lnTo>
                      <a:pt x="41" y="210"/>
                    </a:lnTo>
                    <a:lnTo>
                      <a:pt x="37" y="192"/>
                    </a:lnTo>
                    <a:lnTo>
                      <a:pt x="29" y="174"/>
                    </a:lnTo>
                    <a:lnTo>
                      <a:pt x="18" y="158"/>
                    </a:lnTo>
                    <a:lnTo>
                      <a:pt x="9" y="142"/>
                    </a:lnTo>
                    <a:lnTo>
                      <a:pt x="2" y="125"/>
                    </a:lnTo>
                    <a:lnTo>
                      <a:pt x="0" y="106"/>
                    </a:lnTo>
                    <a:lnTo>
                      <a:pt x="6" y="86"/>
                    </a:lnTo>
                    <a:lnTo>
                      <a:pt x="16" y="68"/>
                    </a:lnTo>
                    <a:lnTo>
                      <a:pt x="30" y="52"/>
                    </a:lnTo>
                    <a:lnTo>
                      <a:pt x="44" y="37"/>
                    </a:lnTo>
                    <a:lnTo>
                      <a:pt x="60" y="24"/>
                    </a:lnTo>
                    <a:lnTo>
                      <a:pt x="77" y="14"/>
                    </a:lnTo>
                    <a:lnTo>
                      <a:pt x="95" y="6"/>
                    </a:lnTo>
                    <a:lnTo>
                      <a:pt x="115" y="1"/>
                    </a:lnTo>
                    <a:lnTo>
                      <a:pt x="135" y="0"/>
                    </a:lnTo>
                    <a:lnTo>
                      <a:pt x="139" y="8"/>
                    </a:lnTo>
                    <a:lnTo>
                      <a:pt x="147" y="13"/>
                    </a:lnTo>
                    <a:lnTo>
                      <a:pt x="155" y="15"/>
                    </a:lnTo>
                    <a:lnTo>
                      <a:pt x="16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11800" y="3030840"/>
                <a:ext cx="92160" cy="102960"/>
              </a:xfrm>
              <a:custGeom>
                <a:avLst/>
                <a:gdLst/>
                <a:ahLst/>
                <a:rect l="l" t="t" r="r" b="b"/>
                <a:pathLst>
                  <a:path w="115" h="130">
                    <a:moveTo>
                      <a:pt x="112" y="66"/>
                    </a:moveTo>
                    <a:lnTo>
                      <a:pt x="101" y="79"/>
                    </a:lnTo>
                    <a:lnTo>
                      <a:pt x="87" y="89"/>
                    </a:lnTo>
                    <a:lnTo>
                      <a:pt x="73" y="97"/>
                    </a:lnTo>
                    <a:lnTo>
                      <a:pt x="59" y="104"/>
                    </a:lnTo>
                    <a:lnTo>
                      <a:pt x="44" y="110"/>
                    </a:lnTo>
                    <a:lnTo>
                      <a:pt x="29" y="117"/>
                    </a:lnTo>
                    <a:lnTo>
                      <a:pt x="14" y="122"/>
                    </a:lnTo>
                    <a:lnTo>
                      <a:pt x="0" y="130"/>
                    </a:lnTo>
                    <a:lnTo>
                      <a:pt x="12" y="113"/>
                    </a:lnTo>
                    <a:lnTo>
                      <a:pt x="24" y="97"/>
                    </a:lnTo>
                    <a:lnTo>
                      <a:pt x="37" y="80"/>
                    </a:lnTo>
                    <a:lnTo>
                      <a:pt x="51" y="64"/>
                    </a:lnTo>
                    <a:lnTo>
                      <a:pt x="65" y="47"/>
                    </a:lnTo>
                    <a:lnTo>
                      <a:pt x="80" y="31"/>
                    </a:lnTo>
                    <a:lnTo>
                      <a:pt x="96" y="16"/>
                    </a:lnTo>
                    <a:lnTo>
                      <a:pt x="112" y="0"/>
                    </a:lnTo>
                    <a:lnTo>
                      <a:pt x="113" y="16"/>
                    </a:lnTo>
                    <a:lnTo>
                      <a:pt x="115" y="32"/>
                    </a:lnTo>
                    <a:lnTo>
                      <a:pt x="115" y="50"/>
                    </a:lnTo>
                    <a:lnTo>
                      <a:pt x="112" y="66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02400" y="3030840"/>
                <a:ext cx="133200" cy="228600"/>
              </a:xfrm>
              <a:custGeom>
                <a:avLst/>
                <a:gdLst/>
                <a:ahLst/>
                <a:rect l="l" t="t" r="r" b="b"/>
                <a:pathLst>
                  <a:path w="167" h="287">
                    <a:moveTo>
                      <a:pt x="159" y="45"/>
                    </a:moveTo>
                    <a:lnTo>
                      <a:pt x="157" y="66"/>
                    </a:lnTo>
                    <a:lnTo>
                      <a:pt x="159" y="89"/>
                    </a:lnTo>
                    <a:lnTo>
                      <a:pt x="163" y="112"/>
                    </a:lnTo>
                    <a:lnTo>
                      <a:pt x="166" y="136"/>
                    </a:lnTo>
                    <a:lnTo>
                      <a:pt x="167" y="158"/>
                    </a:lnTo>
                    <a:lnTo>
                      <a:pt x="162" y="178"/>
                    </a:lnTo>
                    <a:lnTo>
                      <a:pt x="147" y="193"/>
                    </a:lnTo>
                    <a:lnTo>
                      <a:pt x="121" y="203"/>
                    </a:lnTo>
                    <a:lnTo>
                      <a:pt x="113" y="212"/>
                    </a:lnTo>
                    <a:lnTo>
                      <a:pt x="109" y="224"/>
                    </a:lnTo>
                    <a:lnTo>
                      <a:pt x="105" y="235"/>
                    </a:lnTo>
                    <a:lnTo>
                      <a:pt x="102" y="247"/>
                    </a:lnTo>
                    <a:lnTo>
                      <a:pt x="98" y="258"/>
                    </a:lnTo>
                    <a:lnTo>
                      <a:pt x="94" y="270"/>
                    </a:lnTo>
                    <a:lnTo>
                      <a:pt x="87" y="279"/>
                    </a:lnTo>
                    <a:lnTo>
                      <a:pt x="78" y="287"/>
                    </a:lnTo>
                    <a:lnTo>
                      <a:pt x="64" y="269"/>
                    </a:lnTo>
                    <a:lnTo>
                      <a:pt x="53" y="247"/>
                    </a:lnTo>
                    <a:lnTo>
                      <a:pt x="46" y="225"/>
                    </a:lnTo>
                    <a:lnTo>
                      <a:pt x="41" y="202"/>
                    </a:lnTo>
                    <a:lnTo>
                      <a:pt x="35" y="179"/>
                    </a:lnTo>
                    <a:lnTo>
                      <a:pt x="28" y="156"/>
                    </a:lnTo>
                    <a:lnTo>
                      <a:pt x="19" y="134"/>
                    </a:lnTo>
                    <a:lnTo>
                      <a:pt x="6" y="114"/>
                    </a:lnTo>
                    <a:lnTo>
                      <a:pt x="1" y="104"/>
                    </a:lnTo>
                    <a:lnTo>
                      <a:pt x="0" y="93"/>
                    </a:lnTo>
                    <a:lnTo>
                      <a:pt x="3" y="84"/>
                    </a:lnTo>
                    <a:lnTo>
                      <a:pt x="6" y="75"/>
                    </a:lnTo>
                    <a:lnTo>
                      <a:pt x="12" y="67"/>
                    </a:lnTo>
                    <a:lnTo>
                      <a:pt x="19" y="58"/>
                    </a:lnTo>
                    <a:lnTo>
                      <a:pt x="25" y="50"/>
                    </a:lnTo>
                    <a:lnTo>
                      <a:pt x="31" y="42"/>
                    </a:lnTo>
                    <a:lnTo>
                      <a:pt x="41" y="35"/>
                    </a:lnTo>
                    <a:lnTo>
                      <a:pt x="50" y="27"/>
                    </a:lnTo>
                    <a:lnTo>
                      <a:pt x="58" y="20"/>
                    </a:lnTo>
                    <a:lnTo>
                      <a:pt x="68" y="13"/>
                    </a:lnTo>
                    <a:lnTo>
                      <a:pt x="78" y="7"/>
                    </a:lnTo>
                    <a:lnTo>
                      <a:pt x="88" y="2"/>
                    </a:lnTo>
                    <a:lnTo>
                      <a:pt x="99" y="0"/>
                    </a:lnTo>
                    <a:lnTo>
                      <a:pt x="111" y="0"/>
                    </a:lnTo>
                    <a:lnTo>
                      <a:pt x="118" y="4"/>
                    </a:lnTo>
                    <a:lnTo>
                      <a:pt x="125" y="8"/>
                    </a:lnTo>
                    <a:lnTo>
                      <a:pt x="132" y="14"/>
                    </a:lnTo>
                    <a:lnTo>
                      <a:pt x="137" y="20"/>
                    </a:lnTo>
                    <a:lnTo>
                      <a:pt x="143" y="26"/>
                    </a:lnTo>
                    <a:lnTo>
                      <a:pt x="149" y="32"/>
                    </a:lnTo>
                    <a:lnTo>
                      <a:pt x="154" y="39"/>
                    </a:lnTo>
                    <a:lnTo>
                      <a:pt x="159" y="45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169120" y="3106800"/>
                <a:ext cx="144360" cy="14940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155" y="19"/>
                    </a:moveTo>
                    <a:lnTo>
                      <a:pt x="166" y="38"/>
                    </a:lnTo>
                    <a:lnTo>
                      <a:pt x="171" y="59"/>
                    </a:lnTo>
                    <a:lnTo>
                      <a:pt x="175" y="79"/>
                    </a:lnTo>
                    <a:lnTo>
                      <a:pt x="183" y="98"/>
                    </a:lnTo>
                    <a:lnTo>
                      <a:pt x="181" y="107"/>
                    </a:lnTo>
                    <a:lnTo>
                      <a:pt x="178" y="113"/>
                    </a:lnTo>
                    <a:lnTo>
                      <a:pt x="172" y="118"/>
                    </a:lnTo>
                    <a:lnTo>
                      <a:pt x="165" y="123"/>
                    </a:lnTo>
                    <a:lnTo>
                      <a:pt x="146" y="128"/>
                    </a:lnTo>
                    <a:lnTo>
                      <a:pt x="128" y="137"/>
                    </a:lnTo>
                    <a:lnTo>
                      <a:pt x="112" y="150"/>
                    </a:lnTo>
                    <a:lnTo>
                      <a:pt x="97" y="162"/>
                    </a:lnTo>
                    <a:lnTo>
                      <a:pt x="81" y="175"/>
                    </a:lnTo>
                    <a:lnTo>
                      <a:pt x="65" y="184"/>
                    </a:lnTo>
                    <a:lnTo>
                      <a:pt x="47" y="188"/>
                    </a:lnTo>
                    <a:lnTo>
                      <a:pt x="25" y="185"/>
                    </a:lnTo>
                    <a:lnTo>
                      <a:pt x="11" y="167"/>
                    </a:lnTo>
                    <a:lnTo>
                      <a:pt x="3" y="147"/>
                    </a:lnTo>
                    <a:lnTo>
                      <a:pt x="0" y="125"/>
                    </a:lnTo>
                    <a:lnTo>
                      <a:pt x="3" y="102"/>
                    </a:lnTo>
                    <a:lnTo>
                      <a:pt x="6" y="95"/>
                    </a:lnTo>
                    <a:lnTo>
                      <a:pt x="11" y="89"/>
                    </a:lnTo>
                    <a:lnTo>
                      <a:pt x="14" y="82"/>
                    </a:lnTo>
                    <a:lnTo>
                      <a:pt x="20" y="75"/>
                    </a:lnTo>
                    <a:lnTo>
                      <a:pt x="25" y="68"/>
                    </a:lnTo>
                    <a:lnTo>
                      <a:pt x="30" y="62"/>
                    </a:lnTo>
                    <a:lnTo>
                      <a:pt x="36" y="55"/>
                    </a:lnTo>
                    <a:lnTo>
                      <a:pt x="43" y="49"/>
                    </a:lnTo>
                    <a:lnTo>
                      <a:pt x="50" y="53"/>
                    </a:lnTo>
                    <a:lnTo>
                      <a:pt x="56" y="57"/>
                    </a:lnTo>
                    <a:lnTo>
                      <a:pt x="62" y="62"/>
                    </a:lnTo>
                    <a:lnTo>
                      <a:pt x="68" y="67"/>
                    </a:lnTo>
                    <a:lnTo>
                      <a:pt x="71" y="60"/>
                    </a:lnTo>
                    <a:lnTo>
                      <a:pt x="70" y="53"/>
                    </a:lnTo>
                    <a:lnTo>
                      <a:pt x="66" y="46"/>
                    </a:lnTo>
                    <a:lnTo>
                      <a:pt x="62" y="39"/>
                    </a:lnTo>
                    <a:lnTo>
                      <a:pt x="58" y="33"/>
                    </a:lnTo>
                    <a:lnTo>
                      <a:pt x="57" y="26"/>
                    </a:lnTo>
                    <a:lnTo>
                      <a:pt x="60" y="19"/>
                    </a:lnTo>
                    <a:lnTo>
                      <a:pt x="68" y="12"/>
                    </a:lnTo>
                    <a:lnTo>
                      <a:pt x="78" y="7"/>
                    </a:lnTo>
                    <a:lnTo>
                      <a:pt x="88" y="3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5" y="2"/>
                    </a:lnTo>
                    <a:lnTo>
                      <a:pt x="136" y="6"/>
                    </a:lnTo>
                    <a:lnTo>
                      <a:pt x="147" y="11"/>
                    </a:lnTo>
                    <a:lnTo>
                      <a:pt x="155" y="19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48360" y="311328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76" h="152">
                    <a:moveTo>
                      <a:pt x="76" y="11"/>
                    </a:moveTo>
                    <a:lnTo>
                      <a:pt x="75" y="30"/>
                    </a:lnTo>
                    <a:lnTo>
                      <a:pt x="69" y="46"/>
                    </a:lnTo>
                    <a:lnTo>
                      <a:pt x="61" y="60"/>
                    </a:lnTo>
                    <a:lnTo>
                      <a:pt x="53" y="75"/>
                    </a:lnTo>
                    <a:lnTo>
                      <a:pt x="51" y="94"/>
                    </a:lnTo>
                    <a:lnTo>
                      <a:pt x="50" y="114"/>
                    </a:lnTo>
                    <a:lnTo>
                      <a:pt x="47" y="134"/>
                    </a:lnTo>
                    <a:lnTo>
                      <a:pt x="43" y="152"/>
                    </a:lnTo>
                    <a:lnTo>
                      <a:pt x="32" y="143"/>
                    </a:lnTo>
                    <a:lnTo>
                      <a:pt x="26" y="131"/>
                    </a:lnTo>
                    <a:lnTo>
                      <a:pt x="22" y="119"/>
                    </a:lnTo>
                    <a:lnTo>
                      <a:pt x="18" y="105"/>
                    </a:lnTo>
                    <a:lnTo>
                      <a:pt x="15" y="91"/>
                    </a:lnTo>
                    <a:lnTo>
                      <a:pt x="12" y="77"/>
                    </a:lnTo>
                    <a:lnTo>
                      <a:pt x="7" y="63"/>
                    </a:lnTo>
                    <a:lnTo>
                      <a:pt x="0" y="52"/>
                    </a:lnTo>
                    <a:lnTo>
                      <a:pt x="1" y="39"/>
                    </a:lnTo>
                    <a:lnTo>
                      <a:pt x="5" y="26"/>
                    </a:lnTo>
                    <a:lnTo>
                      <a:pt x="12" y="15"/>
                    </a:lnTo>
                    <a:lnTo>
                      <a:pt x="22" y="8"/>
                    </a:lnTo>
                    <a:lnTo>
                      <a:pt x="29" y="7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5" y="1"/>
                    </a:lnTo>
                    <a:lnTo>
                      <a:pt x="71" y="4"/>
                    </a:lnTo>
                    <a:lnTo>
                      <a:pt x="76" y="11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67280" y="312300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65" y="30"/>
                    </a:moveTo>
                    <a:lnTo>
                      <a:pt x="62" y="45"/>
                    </a:lnTo>
                    <a:lnTo>
                      <a:pt x="54" y="58"/>
                    </a:lnTo>
                    <a:lnTo>
                      <a:pt x="44" y="70"/>
                    </a:lnTo>
                    <a:lnTo>
                      <a:pt x="32" y="79"/>
                    </a:lnTo>
                    <a:lnTo>
                      <a:pt x="22" y="79"/>
                    </a:lnTo>
                    <a:lnTo>
                      <a:pt x="14" y="73"/>
                    </a:lnTo>
                    <a:lnTo>
                      <a:pt x="7" y="66"/>
                    </a:lnTo>
                    <a:lnTo>
                      <a:pt x="0" y="58"/>
                    </a:lnTo>
                    <a:lnTo>
                      <a:pt x="1" y="49"/>
                    </a:lnTo>
                    <a:lnTo>
                      <a:pt x="3" y="40"/>
                    </a:lnTo>
                    <a:lnTo>
                      <a:pt x="8" y="33"/>
                    </a:lnTo>
                    <a:lnTo>
                      <a:pt x="14" y="26"/>
                    </a:lnTo>
                    <a:lnTo>
                      <a:pt x="21" y="19"/>
                    </a:lnTo>
                    <a:lnTo>
                      <a:pt x="27" y="12"/>
                    </a:lnTo>
                    <a:lnTo>
                      <a:pt x="34" y="6"/>
                    </a:lnTo>
                    <a:lnTo>
                      <a:pt x="42" y="0"/>
                    </a:lnTo>
                    <a:lnTo>
                      <a:pt x="53" y="4"/>
                    </a:lnTo>
                    <a:lnTo>
                      <a:pt x="59" y="12"/>
                    </a:lnTo>
                    <a:lnTo>
                      <a:pt x="62" y="21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78440" y="314172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5" y="4"/>
                    </a:moveTo>
                    <a:lnTo>
                      <a:pt x="33" y="13"/>
                    </a:lnTo>
                    <a:lnTo>
                      <a:pt x="29" y="23"/>
                    </a:lnTo>
                    <a:lnTo>
                      <a:pt x="21" y="30"/>
                    </a:lnTo>
                    <a:lnTo>
                      <a:pt x="14" y="38"/>
                    </a:lnTo>
                    <a:lnTo>
                      <a:pt x="10" y="36"/>
                    </a:lnTo>
                    <a:lnTo>
                      <a:pt x="7" y="33"/>
                    </a:lnTo>
                    <a:lnTo>
                      <a:pt x="3" y="31"/>
                    </a:lnTo>
                    <a:lnTo>
                      <a:pt x="0" y="27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54560" y="315936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33" y="93"/>
                    </a:moveTo>
                    <a:lnTo>
                      <a:pt x="24" y="95"/>
                    </a:lnTo>
                    <a:lnTo>
                      <a:pt x="16" y="100"/>
                    </a:lnTo>
                    <a:lnTo>
                      <a:pt x="8" y="104"/>
                    </a:lnTo>
                    <a:lnTo>
                      <a:pt x="0" y="111"/>
                    </a:lnTo>
                    <a:lnTo>
                      <a:pt x="3" y="101"/>
                    </a:lnTo>
                    <a:lnTo>
                      <a:pt x="7" y="89"/>
                    </a:lnTo>
                    <a:lnTo>
                      <a:pt x="11" y="79"/>
                    </a:lnTo>
                    <a:lnTo>
                      <a:pt x="16" y="68"/>
                    </a:lnTo>
                    <a:lnTo>
                      <a:pt x="22" y="56"/>
                    </a:lnTo>
                    <a:lnTo>
                      <a:pt x="27" y="45"/>
                    </a:lnTo>
                    <a:lnTo>
                      <a:pt x="32" y="34"/>
                    </a:lnTo>
                    <a:lnTo>
                      <a:pt x="38" y="23"/>
                    </a:lnTo>
                    <a:lnTo>
                      <a:pt x="50" y="0"/>
                    </a:lnTo>
                    <a:lnTo>
                      <a:pt x="48" y="23"/>
                    </a:lnTo>
                    <a:lnTo>
                      <a:pt x="48" y="48"/>
                    </a:lnTo>
                    <a:lnTo>
                      <a:pt x="45" y="72"/>
                    </a:ln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48320" y="316584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4" y="23"/>
                    </a:moveTo>
                    <a:lnTo>
                      <a:pt x="30" y="22"/>
                    </a:lnTo>
                    <a:lnTo>
                      <a:pt x="25" y="20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1" y="15"/>
                    </a:lnTo>
                    <a:lnTo>
                      <a:pt x="7" y="12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17" y="5"/>
                    </a:lnTo>
                    <a:lnTo>
                      <a:pt x="24" y="9"/>
                    </a:lnTo>
                    <a:lnTo>
                      <a:pt x="31" y="15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92880" y="318960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4" y="27"/>
                    </a:moveTo>
                    <a:lnTo>
                      <a:pt x="19" y="31"/>
                    </a:lnTo>
                    <a:lnTo>
                      <a:pt x="14" y="30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2" y="1"/>
                    </a:lnTo>
                    <a:lnTo>
                      <a:pt x="17" y="9"/>
                    </a:lnTo>
                    <a:lnTo>
                      <a:pt x="20" y="1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096040" y="3214800"/>
                <a:ext cx="204840" cy="331920"/>
              </a:xfrm>
              <a:custGeom>
                <a:avLst/>
                <a:gdLst/>
                <a:ahLst/>
                <a:rect l="l" t="t" r="r" b="b"/>
                <a:pathLst>
                  <a:path w="258" h="418">
                    <a:moveTo>
                      <a:pt x="72" y="10"/>
                    </a:moveTo>
                    <a:lnTo>
                      <a:pt x="74" y="19"/>
                    </a:lnTo>
                    <a:lnTo>
                      <a:pt x="79" y="29"/>
                    </a:lnTo>
                    <a:lnTo>
                      <a:pt x="83" y="38"/>
                    </a:lnTo>
                    <a:lnTo>
                      <a:pt x="88" y="46"/>
                    </a:lnTo>
                    <a:lnTo>
                      <a:pt x="95" y="54"/>
                    </a:lnTo>
                    <a:lnTo>
                      <a:pt x="102" y="61"/>
                    </a:lnTo>
                    <a:lnTo>
                      <a:pt x="110" y="67"/>
                    </a:lnTo>
                    <a:lnTo>
                      <a:pt x="118" y="71"/>
                    </a:lnTo>
                    <a:lnTo>
                      <a:pt x="132" y="72"/>
                    </a:lnTo>
                    <a:lnTo>
                      <a:pt x="144" y="72"/>
                    </a:lnTo>
                    <a:lnTo>
                      <a:pt x="157" y="70"/>
                    </a:lnTo>
                    <a:lnTo>
                      <a:pt x="170" y="67"/>
                    </a:lnTo>
                    <a:lnTo>
                      <a:pt x="182" y="62"/>
                    </a:lnTo>
                    <a:lnTo>
                      <a:pt x="194" y="55"/>
                    </a:lnTo>
                    <a:lnTo>
                      <a:pt x="205" y="48"/>
                    </a:lnTo>
                    <a:lnTo>
                      <a:pt x="217" y="40"/>
                    </a:lnTo>
                    <a:lnTo>
                      <a:pt x="226" y="52"/>
                    </a:lnTo>
                    <a:lnTo>
                      <a:pt x="234" y="63"/>
                    </a:lnTo>
                    <a:lnTo>
                      <a:pt x="240" y="77"/>
                    </a:lnTo>
                    <a:lnTo>
                      <a:pt x="245" y="91"/>
                    </a:lnTo>
                    <a:lnTo>
                      <a:pt x="248" y="106"/>
                    </a:lnTo>
                    <a:lnTo>
                      <a:pt x="250" y="121"/>
                    </a:lnTo>
                    <a:lnTo>
                      <a:pt x="254" y="136"/>
                    </a:lnTo>
                    <a:lnTo>
                      <a:pt x="257" y="150"/>
                    </a:lnTo>
                    <a:lnTo>
                      <a:pt x="258" y="186"/>
                    </a:lnTo>
                    <a:lnTo>
                      <a:pt x="255" y="222"/>
                    </a:lnTo>
                    <a:lnTo>
                      <a:pt x="246" y="256"/>
                    </a:lnTo>
                    <a:lnTo>
                      <a:pt x="232" y="288"/>
                    </a:lnTo>
                    <a:lnTo>
                      <a:pt x="214" y="318"/>
                    </a:lnTo>
                    <a:lnTo>
                      <a:pt x="192" y="344"/>
                    </a:lnTo>
                    <a:lnTo>
                      <a:pt x="165" y="368"/>
                    </a:lnTo>
                    <a:lnTo>
                      <a:pt x="135" y="389"/>
                    </a:lnTo>
                    <a:lnTo>
                      <a:pt x="125" y="393"/>
                    </a:lnTo>
                    <a:lnTo>
                      <a:pt x="116" y="397"/>
                    </a:lnTo>
                    <a:lnTo>
                      <a:pt x="105" y="402"/>
                    </a:lnTo>
                    <a:lnTo>
                      <a:pt x="95" y="405"/>
                    </a:lnTo>
                    <a:lnTo>
                      <a:pt x="84" y="409"/>
                    </a:lnTo>
                    <a:lnTo>
                      <a:pt x="74" y="412"/>
                    </a:lnTo>
                    <a:lnTo>
                      <a:pt x="65" y="416"/>
                    </a:lnTo>
                    <a:lnTo>
                      <a:pt x="54" y="418"/>
                    </a:lnTo>
                    <a:lnTo>
                      <a:pt x="50" y="413"/>
                    </a:lnTo>
                    <a:lnTo>
                      <a:pt x="48" y="406"/>
                    </a:lnTo>
                    <a:lnTo>
                      <a:pt x="46" y="400"/>
                    </a:lnTo>
                    <a:lnTo>
                      <a:pt x="46" y="393"/>
                    </a:lnTo>
                    <a:lnTo>
                      <a:pt x="65" y="373"/>
                    </a:lnTo>
                    <a:lnTo>
                      <a:pt x="81" y="351"/>
                    </a:lnTo>
                    <a:lnTo>
                      <a:pt x="95" y="329"/>
                    </a:lnTo>
                    <a:lnTo>
                      <a:pt x="106" y="305"/>
                    </a:lnTo>
                    <a:lnTo>
                      <a:pt x="116" y="282"/>
                    </a:lnTo>
                    <a:lnTo>
                      <a:pt x="124" y="257"/>
                    </a:lnTo>
                    <a:lnTo>
                      <a:pt x="129" y="231"/>
                    </a:lnTo>
                    <a:lnTo>
                      <a:pt x="133" y="205"/>
                    </a:lnTo>
                    <a:lnTo>
                      <a:pt x="132" y="197"/>
                    </a:lnTo>
                    <a:lnTo>
                      <a:pt x="128" y="188"/>
                    </a:lnTo>
                    <a:lnTo>
                      <a:pt x="124" y="181"/>
                    </a:lnTo>
                    <a:lnTo>
                      <a:pt x="118" y="175"/>
                    </a:lnTo>
                    <a:lnTo>
                      <a:pt x="114" y="175"/>
                    </a:lnTo>
                    <a:lnTo>
                      <a:pt x="112" y="176"/>
                    </a:lnTo>
                    <a:lnTo>
                      <a:pt x="111" y="179"/>
                    </a:lnTo>
                    <a:lnTo>
                      <a:pt x="110" y="182"/>
                    </a:lnTo>
                    <a:lnTo>
                      <a:pt x="112" y="199"/>
                    </a:lnTo>
                    <a:lnTo>
                      <a:pt x="111" y="215"/>
                    </a:lnTo>
                    <a:lnTo>
                      <a:pt x="109" y="232"/>
                    </a:lnTo>
                    <a:lnTo>
                      <a:pt x="105" y="249"/>
                    </a:lnTo>
                    <a:lnTo>
                      <a:pt x="99" y="265"/>
                    </a:lnTo>
                    <a:lnTo>
                      <a:pt x="94" y="280"/>
                    </a:lnTo>
                    <a:lnTo>
                      <a:pt x="87" y="295"/>
                    </a:lnTo>
                    <a:lnTo>
                      <a:pt x="80" y="310"/>
                    </a:lnTo>
                    <a:lnTo>
                      <a:pt x="65" y="329"/>
                    </a:lnTo>
                    <a:lnTo>
                      <a:pt x="65" y="297"/>
                    </a:lnTo>
                    <a:lnTo>
                      <a:pt x="64" y="265"/>
                    </a:lnTo>
                    <a:lnTo>
                      <a:pt x="61" y="232"/>
                    </a:lnTo>
                    <a:lnTo>
                      <a:pt x="57" y="200"/>
                    </a:lnTo>
                    <a:lnTo>
                      <a:pt x="51" y="168"/>
                    </a:lnTo>
                    <a:lnTo>
                      <a:pt x="45" y="137"/>
                    </a:lnTo>
                    <a:lnTo>
                      <a:pt x="38" y="106"/>
                    </a:lnTo>
                    <a:lnTo>
                      <a:pt x="31" y="76"/>
                    </a:lnTo>
                    <a:lnTo>
                      <a:pt x="26" y="58"/>
                    </a:lnTo>
                    <a:lnTo>
                      <a:pt x="15" y="32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4" y="6"/>
                    </a:lnTo>
                    <a:lnTo>
                      <a:pt x="64" y="7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53040" y="3310200"/>
                <a:ext cx="65160" cy="98280"/>
              </a:xfrm>
              <a:custGeom>
                <a:avLst/>
                <a:gdLst/>
                <a:ahLst/>
                <a:rect l="l" t="t" r="r" b="b"/>
                <a:pathLst>
                  <a:path w="83" h="124">
                    <a:moveTo>
                      <a:pt x="68" y="111"/>
                    </a:moveTo>
                    <a:lnTo>
                      <a:pt x="64" y="117"/>
                    </a:lnTo>
                    <a:lnTo>
                      <a:pt x="60" y="121"/>
                    </a:lnTo>
                    <a:lnTo>
                      <a:pt x="55" y="123"/>
                    </a:lnTo>
                    <a:lnTo>
                      <a:pt x="49" y="124"/>
                    </a:lnTo>
                    <a:lnTo>
                      <a:pt x="44" y="124"/>
                    </a:lnTo>
                    <a:lnTo>
                      <a:pt x="38" y="123"/>
                    </a:lnTo>
                    <a:lnTo>
                      <a:pt x="31" y="119"/>
                    </a:lnTo>
                    <a:lnTo>
                      <a:pt x="23" y="115"/>
                    </a:lnTo>
                    <a:lnTo>
                      <a:pt x="9" y="103"/>
                    </a:lnTo>
                    <a:lnTo>
                      <a:pt x="2" y="91"/>
                    </a:lnTo>
                    <a:lnTo>
                      <a:pt x="0" y="77"/>
                    </a:lnTo>
                    <a:lnTo>
                      <a:pt x="3" y="62"/>
                    </a:lnTo>
                    <a:lnTo>
                      <a:pt x="7" y="47"/>
                    </a:lnTo>
                    <a:lnTo>
                      <a:pt x="12" y="32"/>
                    </a:lnTo>
                    <a:lnTo>
                      <a:pt x="16" y="18"/>
                    </a:lnTo>
                    <a:lnTo>
                      <a:pt x="17" y="4"/>
                    </a:lnTo>
                    <a:lnTo>
                      <a:pt x="25" y="5"/>
                    </a:lnTo>
                    <a:lnTo>
                      <a:pt x="33" y="6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8" y="4"/>
                    </a:lnTo>
                    <a:lnTo>
                      <a:pt x="67" y="3"/>
                    </a:lnTo>
                    <a:lnTo>
                      <a:pt x="75" y="2"/>
                    </a:lnTo>
                    <a:lnTo>
                      <a:pt x="83" y="0"/>
                    </a:lnTo>
                    <a:lnTo>
                      <a:pt x="79" y="26"/>
                    </a:lnTo>
                    <a:lnTo>
                      <a:pt x="75" y="54"/>
                    </a:lnTo>
                    <a:lnTo>
                      <a:pt x="70" y="83"/>
                    </a:lnTo>
                    <a:lnTo>
                      <a:pt x="68" y="111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70680" y="33292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24"/>
                    </a:moveTo>
                    <a:lnTo>
                      <a:pt x="22" y="20"/>
                    </a:lnTo>
                    <a:lnTo>
                      <a:pt x="15" y="18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1" y="4"/>
                    </a:lnTo>
                    <a:lnTo>
                      <a:pt x="20" y="9"/>
                    </a:lnTo>
                    <a:lnTo>
                      <a:pt x="27" y="15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21440" y="3362400"/>
                <a:ext cx="188640" cy="363600"/>
              </a:xfrm>
              <a:custGeom>
                <a:avLst/>
                <a:gdLst/>
                <a:ahLst/>
                <a:rect l="l" t="t" r="r" b="b"/>
                <a:pathLst>
                  <a:path w="239" h="458">
                    <a:moveTo>
                      <a:pt x="59" y="60"/>
                    </a:moveTo>
                    <a:lnTo>
                      <a:pt x="60" y="98"/>
                    </a:lnTo>
                    <a:lnTo>
                      <a:pt x="59" y="136"/>
                    </a:lnTo>
                    <a:lnTo>
                      <a:pt x="57" y="174"/>
                    </a:lnTo>
                    <a:lnTo>
                      <a:pt x="55" y="211"/>
                    </a:lnTo>
                    <a:lnTo>
                      <a:pt x="60" y="220"/>
                    </a:lnTo>
                    <a:lnTo>
                      <a:pt x="66" y="227"/>
                    </a:lnTo>
                    <a:lnTo>
                      <a:pt x="74" y="232"/>
                    </a:lnTo>
                    <a:lnTo>
                      <a:pt x="82" y="238"/>
                    </a:lnTo>
                    <a:lnTo>
                      <a:pt x="90" y="242"/>
                    </a:lnTo>
                    <a:lnTo>
                      <a:pt x="96" y="249"/>
                    </a:lnTo>
                    <a:lnTo>
                      <a:pt x="100" y="256"/>
                    </a:lnTo>
                    <a:lnTo>
                      <a:pt x="102" y="267"/>
                    </a:lnTo>
                    <a:lnTo>
                      <a:pt x="104" y="281"/>
                    </a:lnTo>
                    <a:lnTo>
                      <a:pt x="110" y="294"/>
                    </a:lnTo>
                    <a:lnTo>
                      <a:pt x="119" y="306"/>
                    </a:lnTo>
                    <a:lnTo>
                      <a:pt x="132" y="314"/>
                    </a:lnTo>
                    <a:lnTo>
                      <a:pt x="138" y="317"/>
                    </a:lnTo>
                    <a:lnTo>
                      <a:pt x="144" y="321"/>
                    </a:lnTo>
                    <a:lnTo>
                      <a:pt x="151" y="325"/>
                    </a:lnTo>
                    <a:lnTo>
                      <a:pt x="158" y="330"/>
                    </a:lnTo>
                    <a:lnTo>
                      <a:pt x="164" y="334"/>
                    </a:lnTo>
                    <a:lnTo>
                      <a:pt x="170" y="339"/>
                    </a:lnTo>
                    <a:lnTo>
                      <a:pt x="175" y="345"/>
                    </a:lnTo>
                    <a:lnTo>
                      <a:pt x="180" y="349"/>
                    </a:lnTo>
                    <a:lnTo>
                      <a:pt x="180" y="364"/>
                    </a:lnTo>
                    <a:lnTo>
                      <a:pt x="183" y="378"/>
                    </a:lnTo>
                    <a:lnTo>
                      <a:pt x="189" y="390"/>
                    </a:lnTo>
                    <a:lnTo>
                      <a:pt x="198" y="401"/>
                    </a:lnTo>
                    <a:lnTo>
                      <a:pt x="208" y="412"/>
                    </a:lnTo>
                    <a:lnTo>
                      <a:pt x="219" y="422"/>
                    </a:lnTo>
                    <a:lnTo>
                      <a:pt x="229" y="432"/>
                    </a:lnTo>
                    <a:lnTo>
                      <a:pt x="239" y="443"/>
                    </a:lnTo>
                    <a:lnTo>
                      <a:pt x="220" y="452"/>
                    </a:lnTo>
                    <a:lnTo>
                      <a:pt x="202" y="457"/>
                    </a:lnTo>
                    <a:lnTo>
                      <a:pt x="181" y="458"/>
                    </a:lnTo>
                    <a:lnTo>
                      <a:pt x="161" y="454"/>
                    </a:lnTo>
                    <a:lnTo>
                      <a:pt x="141" y="451"/>
                    </a:lnTo>
                    <a:lnTo>
                      <a:pt x="120" y="445"/>
                    </a:lnTo>
                    <a:lnTo>
                      <a:pt x="102" y="442"/>
                    </a:lnTo>
                    <a:lnTo>
                      <a:pt x="83" y="438"/>
                    </a:lnTo>
                    <a:lnTo>
                      <a:pt x="72" y="416"/>
                    </a:lnTo>
                    <a:lnTo>
                      <a:pt x="62" y="393"/>
                    </a:lnTo>
                    <a:lnTo>
                      <a:pt x="53" y="369"/>
                    </a:lnTo>
                    <a:lnTo>
                      <a:pt x="46" y="345"/>
                    </a:lnTo>
                    <a:lnTo>
                      <a:pt x="39" y="321"/>
                    </a:lnTo>
                    <a:lnTo>
                      <a:pt x="32" y="296"/>
                    </a:lnTo>
                    <a:lnTo>
                      <a:pt x="24" y="272"/>
                    </a:lnTo>
                    <a:lnTo>
                      <a:pt x="17" y="248"/>
                    </a:lnTo>
                    <a:lnTo>
                      <a:pt x="7" y="193"/>
                    </a:lnTo>
                    <a:lnTo>
                      <a:pt x="1" y="134"/>
                    </a:lnTo>
                    <a:lnTo>
                      <a:pt x="0" y="75"/>
                    </a:lnTo>
                    <a:lnTo>
                      <a:pt x="2" y="17"/>
                    </a:lnTo>
                    <a:lnTo>
                      <a:pt x="9" y="0"/>
                    </a:lnTo>
                    <a:lnTo>
                      <a:pt x="19" y="5"/>
                    </a:lnTo>
                    <a:lnTo>
                      <a:pt x="27" y="11"/>
                    </a:lnTo>
                    <a:lnTo>
                      <a:pt x="34" y="18"/>
                    </a:lnTo>
                    <a:lnTo>
                      <a:pt x="40" y="26"/>
                    </a:lnTo>
                    <a:lnTo>
                      <a:pt x="46" y="34"/>
                    </a:lnTo>
                    <a:lnTo>
                      <a:pt x="52" y="43"/>
                    </a:lnTo>
                    <a:lnTo>
                      <a:pt x="55" y="51"/>
                    </a:lnTo>
                    <a:lnTo>
                      <a:pt x="59" y="60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75360" y="3380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23"/>
                    </a:moveTo>
                    <a:lnTo>
                      <a:pt x="21" y="25"/>
                    </a:lnTo>
                    <a:lnTo>
                      <a:pt x="17" y="23"/>
                    </a:lnTo>
                    <a:lnTo>
                      <a:pt x="11" y="20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6" y="10"/>
                    </a:lnTo>
                    <a:lnTo>
                      <a:pt x="21" y="16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37120" y="3395880"/>
                <a:ext cx="236520" cy="320760"/>
              </a:xfrm>
              <a:custGeom>
                <a:avLst/>
                <a:gdLst/>
                <a:ahLst/>
                <a:rect l="l" t="t" r="r" b="b"/>
                <a:pathLst>
                  <a:path w="298" h="404">
                    <a:moveTo>
                      <a:pt x="140" y="3"/>
                    </a:moveTo>
                    <a:lnTo>
                      <a:pt x="147" y="13"/>
                    </a:lnTo>
                    <a:lnTo>
                      <a:pt x="154" y="19"/>
                    </a:lnTo>
                    <a:lnTo>
                      <a:pt x="162" y="24"/>
                    </a:lnTo>
                    <a:lnTo>
                      <a:pt x="171" y="29"/>
                    </a:lnTo>
                    <a:lnTo>
                      <a:pt x="180" y="31"/>
                    </a:lnTo>
                    <a:lnTo>
                      <a:pt x="190" y="32"/>
                    </a:lnTo>
                    <a:lnTo>
                      <a:pt x="200" y="33"/>
                    </a:lnTo>
                    <a:lnTo>
                      <a:pt x="210" y="33"/>
                    </a:lnTo>
                    <a:lnTo>
                      <a:pt x="211" y="83"/>
                    </a:lnTo>
                    <a:lnTo>
                      <a:pt x="216" y="131"/>
                    </a:lnTo>
                    <a:lnTo>
                      <a:pt x="223" y="180"/>
                    </a:lnTo>
                    <a:lnTo>
                      <a:pt x="233" y="226"/>
                    </a:lnTo>
                    <a:lnTo>
                      <a:pt x="246" y="271"/>
                    </a:lnTo>
                    <a:lnTo>
                      <a:pt x="261" y="314"/>
                    </a:lnTo>
                    <a:lnTo>
                      <a:pt x="278" y="358"/>
                    </a:lnTo>
                    <a:lnTo>
                      <a:pt x="298" y="401"/>
                    </a:lnTo>
                    <a:lnTo>
                      <a:pt x="289" y="400"/>
                    </a:lnTo>
                    <a:lnTo>
                      <a:pt x="279" y="398"/>
                    </a:lnTo>
                    <a:lnTo>
                      <a:pt x="270" y="397"/>
                    </a:lnTo>
                    <a:lnTo>
                      <a:pt x="261" y="397"/>
                    </a:lnTo>
                    <a:lnTo>
                      <a:pt x="252" y="395"/>
                    </a:lnTo>
                    <a:lnTo>
                      <a:pt x="244" y="392"/>
                    </a:lnTo>
                    <a:lnTo>
                      <a:pt x="238" y="386"/>
                    </a:lnTo>
                    <a:lnTo>
                      <a:pt x="232" y="377"/>
                    </a:lnTo>
                    <a:lnTo>
                      <a:pt x="217" y="373"/>
                    </a:lnTo>
                    <a:lnTo>
                      <a:pt x="201" y="370"/>
                    </a:lnTo>
                    <a:lnTo>
                      <a:pt x="185" y="365"/>
                    </a:lnTo>
                    <a:lnTo>
                      <a:pt x="170" y="359"/>
                    </a:lnTo>
                    <a:lnTo>
                      <a:pt x="156" y="352"/>
                    </a:lnTo>
                    <a:lnTo>
                      <a:pt x="143" y="342"/>
                    </a:lnTo>
                    <a:lnTo>
                      <a:pt x="134" y="329"/>
                    </a:lnTo>
                    <a:lnTo>
                      <a:pt x="128" y="312"/>
                    </a:lnTo>
                    <a:lnTo>
                      <a:pt x="126" y="294"/>
                    </a:lnTo>
                    <a:lnTo>
                      <a:pt x="126" y="275"/>
                    </a:lnTo>
                    <a:lnTo>
                      <a:pt x="127" y="258"/>
                    </a:lnTo>
                    <a:lnTo>
                      <a:pt x="131" y="239"/>
                    </a:lnTo>
                    <a:lnTo>
                      <a:pt x="135" y="222"/>
                    </a:lnTo>
                    <a:lnTo>
                      <a:pt x="142" y="206"/>
                    </a:lnTo>
                    <a:lnTo>
                      <a:pt x="149" y="190"/>
                    </a:lnTo>
                    <a:lnTo>
                      <a:pt x="158" y="175"/>
                    </a:lnTo>
                    <a:lnTo>
                      <a:pt x="154" y="170"/>
                    </a:lnTo>
                    <a:lnTo>
                      <a:pt x="149" y="166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26" y="184"/>
                    </a:lnTo>
                    <a:lnTo>
                      <a:pt x="116" y="206"/>
                    </a:lnTo>
                    <a:lnTo>
                      <a:pt x="108" y="228"/>
                    </a:lnTo>
                    <a:lnTo>
                      <a:pt x="103" y="251"/>
                    </a:lnTo>
                    <a:lnTo>
                      <a:pt x="102" y="275"/>
                    </a:lnTo>
                    <a:lnTo>
                      <a:pt x="104" y="298"/>
                    </a:lnTo>
                    <a:lnTo>
                      <a:pt x="110" y="320"/>
                    </a:lnTo>
                    <a:lnTo>
                      <a:pt x="122" y="341"/>
                    </a:lnTo>
                    <a:lnTo>
                      <a:pt x="125" y="347"/>
                    </a:lnTo>
                    <a:lnTo>
                      <a:pt x="130" y="352"/>
                    </a:lnTo>
                    <a:lnTo>
                      <a:pt x="134" y="358"/>
                    </a:lnTo>
                    <a:lnTo>
                      <a:pt x="139" y="363"/>
                    </a:lnTo>
                    <a:lnTo>
                      <a:pt x="145" y="367"/>
                    </a:lnTo>
                    <a:lnTo>
                      <a:pt x="150" y="372"/>
                    </a:lnTo>
                    <a:lnTo>
                      <a:pt x="157" y="375"/>
                    </a:lnTo>
                    <a:lnTo>
                      <a:pt x="163" y="379"/>
                    </a:lnTo>
                    <a:lnTo>
                      <a:pt x="164" y="385"/>
                    </a:lnTo>
                    <a:lnTo>
                      <a:pt x="163" y="392"/>
                    </a:lnTo>
                    <a:lnTo>
                      <a:pt x="161" y="398"/>
                    </a:lnTo>
                    <a:lnTo>
                      <a:pt x="158" y="404"/>
                    </a:lnTo>
                    <a:lnTo>
                      <a:pt x="133" y="397"/>
                    </a:lnTo>
                    <a:lnTo>
                      <a:pt x="108" y="386"/>
                    </a:lnTo>
                    <a:lnTo>
                      <a:pt x="85" y="371"/>
                    </a:lnTo>
                    <a:lnTo>
                      <a:pt x="63" y="352"/>
                    </a:lnTo>
                    <a:lnTo>
                      <a:pt x="43" y="332"/>
                    </a:lnTo>
                    <a:lnTo>
                      <a:pt x="26" y="310"/>
                    </a:lnTo>
                    <a:lnTo>
                      <a:pt x="12" y="286"/>
                    </a:lnTo>
                    <a:lnTo>
                      <a:pt x="3" y="261"/>
                    </a:lnTo>
                    <a:lnTo>
                      <a:pt x="0" y="225"/>
                    </a:lnTo>
                    <a:lnTo>
                      <a:pt x="3" y="188"/>
                    </a:lnTo>
                    <a:lnTo>
                      <a:pt x="10" y="153"/>
                    </a:lnTo>
                    <a:lnTo>
                      <a:pt x="22" y="120"/>
                    </a:lnTo>
                    <a:lnTo>
                      <a:pt x="37" y="87"/>
                    </a:lnTo>
                    <a:lnTo>
                      <a:pt x="56" y="57"/>
                    </a:lnTo>
                    <a:lnTo>
                      <a:pt x="77" y="28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0" y="1"/>
                    </a:lnTo>
                    <a:lnTo>
                      <a:pt x="116" y="2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4"/>
                    </a:lnTo>
                    <a:lnTo>
                      <a:pt x="135" y="3"/>
                    </a:lnTo>
                    <a:lnTo>
                      <a:pt x="14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35560" y="345780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154" h="154">
                    <a:moveTo>
                      <a:pt x="68" y="14"/>
                    </a:moveTo>
                    <a:lnTo>
                      <a:pt x="74" y="25"/>
                    </a:lnTo>
                    <a:lnTo>
                      <a:pt x="82" y="32"/>
                    </a:lnTo>
                    <a:lnTo>
                      <a:pt x="91" y="36"/>
                    </a:lnTo>
                    <a:lnTo>
                      <a:pt x="103" y="38"/>
                    </a:lnTo>
                    <a:lnTo>
                      <a:pt x="114" y="40"/>
                    </a:lnTo>
                    <a:lnTo>
                      <a:pt x="125" y="43"/>
                    </a:lnTo>
                    <a:lnTo>
                      <a:pt x="134" y="48"/>
                    </a:lnTo>
                    <a:lnTo>
                      <a:pt x="141" y="58"/>
                    </a:lnTo>
                    <a:lnTo>
                      <a:pt x="142" y="73"/>
                    </a:lnTo>
                    <a:lnTo>
                      <a:pt x="144" y="88"/>
                    </a:lnTo>
                    <a:lnTo>
                      <a:pt x="148" y="101"/>
                    </a:lnTo>
                    <a:lnTo>
                      <a:pt x="154" y="114"/>
                    </a:lnTo>
                    <a:lnTo>
                      <a:pt x="143" y="118"/>
                    </a:lnTo>
                    <a:lnTo>
                      <a:pt x="131" y="121"/>
                    </a:lnTo>
                    <a:lnTo>
                      <a:pt x="121" y="124"/>
                    </a:lnTo>
                    <a:lnTo>
                      <a:pt x="111" y="129"/>
                    </a:lnTo>
                    <a:lnTo>
                      <a:pt x="100" y="135"/>
                    </a:lnTo>
                    <a:lnTo>
                      <a:pt x="90" y="141"/>
                    </a:lnTo>
                    <a:lnTo>
                      <a:pt x="80" y="148"/>
                    </a:lnTo>
                    <a:lnTo>
                      <a:pt x="70" y="154"/>
                    </a:lnTo>
                    <a:lnTo>
                      <a:pt x="57" y="148"/>
                    </a:lnTo>
                    <a:lnTo>
                      <a:pt x="48" y="138"/>
                    </a:lnTo>
                    <a:lnTo>
                      <a:pt x="45" y="129"/>
                    </a:lnTo>
                    <a:lnTo>
                      <a:pt x="44" y="118"/>
                    </a:lnTo>
                    <a:lnTo>
                      <a:pt x="44" y="107"/>
                    </a:lnTo>
                    <a:lnTo>
                      <a:pt x="43" y="96"/>
                    </a:lnTo>
                    <a:lnTo>
                      <a:pt x="39" y="84"/>
                    </a:lnTo>
                    <a:lnTo>
                      <a:pt x="31" y="74"/>
                    </a:lnTo>
                    <a:lnTo>
                      <a:pt x="25" y="68"/>
                    </a:lnTo>
                    <a:lnTo>
                      <a:pt x="18" y="63"/>
                    </a:lnTo>
                    <a:lnTo>
                      <a:pt x="13" y="58"/>
                    </a:lnTo>
                    <a:lnTo>
                      <a:pt x="7" y="53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4" y="24"/>
                    </a:lnTo>
                    <a:lnTo>
                      <a:pt x="6" y="18"/>
                    </a:lnTo>
                    <a:lnTo>
                      <a:pt x="9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3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30960" y="3494160"/>
                <a:ext cx="141120" cy="277920"/>
              </a:xfrm>
              <a:custGeom>
                <a:avLst/>
                <a:gdLst/>
                <a:ahLst/>
                <a:rect l="l" t="t" r="r" b="b"/>
                <a:pathLst>
                  <a:path w="178" h="351">
                    <a:moveTo>
                      <a:pt x="165" y="166"/>
                    </a:moveTo>
                    <a:lnTo>
                      <a:pt x="174" y="211"/>
                    </a:lnTo>
                    <a:lnTo>
                      <a:pt x="176" y="257"/>
                    </a:lnTo>
                    <a:lnTo>
                      <a:pt x="173" y="302"/>
                    </a:lnTo>
                    <a:lnTo>
                      <a:pt x="160" y="346"/>
                    </a:lnTo>
                    <a:lnTo>
                      <a:pt x="158" y="347"/>
                    </a:lnTo>
                    <a:lnTo>
                      <a:pt x="155" y="349"/>
                    </a:lnTo>
                    <a:lnTo>
                      <a:pt x="151" y="351"/>
                    </a:lnTo>
                    <a:lnTo>
                      <a:pt x="148" y="347"/>
                    </a:lnTo>
                    <a:lnTo>
                      <a:pt x="51" y="219"/>
                    </a:lnTo>
                    <a:lnTo>
                      <a:pt x="40" y="204"/>
                    </a:lnTo>
                    <a:lnTo>
                      <a:pt x="30" y="189"/>
                    </a:lnTo>
                    <a:lnTo>
                      <a:pt x="21" y="174"/>
                    </a:lnTo>
                    <a:lnTo>
                      <a:pt x="12" y="158"/>
                    </a:lnTo>
                    <a:lnTo>
                      <a:pt x="6" y="142"/>
                    </a:lnTo>
                    <a:lnTo>
                      <a:pt x="1" y="125"/>
                    </a:lnTo>
                    <a:lnTo>
                      <a:pt x="0" y="107"/>
                    </a:lnTo>
                    <a:lnTo>
                      <a:pt x="2" y="90"/>
                    </a:lnTo>
                    <a:lnTo>
                      <a:pt x="7" y="90"/>
                    </a:lnTo>
                    <a:lnTo>
                      <a:pt x="16" y="89"/>
                    </a:lnTo>
                    <a:lnTo>
                      <a:pt x="27" y="87"/>
                    </a:lnTo>
                    <a:lnTo>
                      <a:pt x="35" y="84"/>
                    </a:lnTo>
                    <a:lnTo>
                      <a:pt x="53" y="79"/>
                    </a:lnTo>
                    <a:lnTo>
                      <a:pt x="72" y="71"/>
                    </a:lnTo>
                    <a:lnTo>
                      <a:pt x="89" y="62"/>
                    </a:lnTo>
                    <a:lnTo>
                      <a:pt x="107" y="53"/>
                    </a:lnTo>
                    <a:lnTo>
                      <a:pt x="123" y="42"/>
                    </a:lnTo>
                    <a:lnTo>
                      <a:pt x="141" y="30"/>
                    </a:lnTo>
                    <a:lnTo>
                      <a:pt x="157" y="16"/>
                    </a:lnTo>
                    <a:lnTo>
                      <a:pt x="172" y="0"/>
                    </a:lnTo>
                    <a:lnTo>
                      <a:pt x="178" y="42"/>
                    </a:lnTo>
                    <a:lnTo>
                      <a:pt x="178" y="84"/>
                    </a:lnTo>
                    <a:lnTo>
                      <a:pt x="173" y="126"/>
                    </a:lnTo>
                    <a:lnTo>
                      <a:pt x="165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78400" y="3530880"/>
                <a:ext cx="177840" cy="141120"/>
              </a:xfrm>
              <a:custGeom>
                <a:avLst/>
                <a:gdLst/>
                <a:ahLst/>
                <a:rect l="l" t="t" r="r" b="b"/>
                <a:pathLst>
                  <a:path w="225" h="179">
                    <a:moveTo>
                      <a:pt x="225" y="0"/>
                    </a:moveTo>
                    <a:lnTo>
                      <a:pt x="225" y="9"/>
                    </a:lnTo>
                    <a:lnTo>
                      <a:pt x="223" y="17"/>
                    </a:lnTo>
                    <a:lnTo>
                      <a:pt x="218" y="24"/>
                    </a:lnTo>
                    <a:lnTo>
                      <a:pt x="212" y="31"/>
                    </a:lnTo>
                    <a:lnTo>
                      <a:pt x="207" y="37"/>
                    </a:lnTo>
                    <a:lnTo>
                      <a:pt x="200" y="44"/>
                    </a:lnTo>
                    <a:lnTo>
                      <a:pt x="193" y="50"/>
                    </a:lnTo>
                    <a:lnTo>
                      <a:pt x="187" y="56"/>
                    </a:lnTo>
                    <a:lnTo>
                      <a:pt x="173" y="70"/>
                    </a:lnTo>
                    <a:lnTo>
                      <a:pt x="156" y="91"/>
                    </a:lnTo>
                    <a:lnTo>
                      <a:pt x="134" y="113"/>
                    </a:lnTo>
                    <a:lnTo>
                      <a:pt x="111" y="136"/>
                    </a:lnTo>
                    <a:lnTo>
                      <a:pt x="85" y="157"/>
                    </a:lnTo>
                    <a:lnTo>
                      <a:pt x="60" y="172"/>
                    </a:lnTo>
                    <a:lnTo>
                      <a:pt x="36" y="179"/>
                    </a:lnTo>
                    <a:lnTo>
                      <a:pt x="13" y="176"/>
                    </a:lnTo>
                    <a:lnTo>
                      <a:pt x="0" y="163"/>
                    </a:lnTo>
                    <a:lnTo>
                      <a:pt x="0" y="141"/>
                    </a:lnTo>
                    <a:lnTo>
                      <a:pt x="7" y="115"/>
                    </a:lnTo>
                    <a:lnTo>
                      <a:pt x="19" y="95"/>
                    </a:lnTo>
                    <a:lnTo>
                      <a:pt x="35" y="80"/>
                    </a:lnTo>
                    <a:lnTo>
                      <a:pt x="52" y="68"/>
                    </a:lnTo>
                    <a:lnTo>
                      <a:pt x="71" y="59"/>
                    </a:lnTo>
                    <a:lnTo>
                      <a:pt x="90" y="52"/>
                    </a:lnTo>
                    <a:lnTo>
                      <a:pt x="110" y="47"/>
                    </a:lnTo>
                    <a:lnTo>
                      <a:pt x="129" y="44"/>
                    </a:lnTo>
                    <a:lnTo>
                      <a:pt x="150" y="44"/>
                    </a:lnTo>
                    <a:lnTo>
                      <a:pt x="171" y="44"/>
                    </a:lnTo>
                    <a:lnTo>
                      <a:pt x="175" y="37"/>
                    </a:lnTo>
                    <a:lnTo>
                      <a:pt x="181" y="30"/>
                    </a:lnTo>
                    <a:lnTo>
                      <a:pt x="187" y="22"/>
                    </a:lnTo>
                    <a:lnTo>
                      <a:pt x="194" y="15"/>
                    </a:lnTo>
                    <a:lnTo>
                      <a:pt x="201" y="9"/>
                    </a:lnTo>
                    <a:lnTo>
                      <a:pt x="209" y="5"/>
                    </a:lnTo>
                    <a:lnTo>
                      <a:pt x="217" y="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83200" y="3527640"/>
                <a:ext cx="117720" cy="2030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99" y="44"/>
                    </a:moveTo>
                    <a:lnTo>
                      <a:pt x="107" y="58"/>
                    </a:lnTo>
                    <a:lnTo>
                      <a:pt x="115" y="74"/>
                    </a:lnTo>
                    <a:lnTo>
                      <a:pt x="122" y="89"/>
                    </a:lnTo>
                    <a:lnTo>
                      <a:pt x="127" y="106"/>
                    </a:lnTo>
                    <a:lnTo>
                      <a:pt x="132" y="123"/>
                    </a:lnTo>
                    <a:lnTo>
                      <a:pt x="135" y="140"/>
                    </a:lnTo>
                    <a:lnTo>
                      <a:pt x="136" y="158"/>
                    </a:lnTo>
                    <a:lnTo>
                      <a:pt x="137" y="176"/>
                    </a:lnTo>
                    <a:lnTo>
                      <a:pt x="133" y="196"/>
                    </a:lnTo>
                    <a:lnTo>
                      <a:pt x="136" y="215"/>
                    </a:lnTo>
                    <a:lnTo>
                      <a:pt x="143" y="235"/>
                    </a:lnTo>
                    <a:lnTo>
                      <a:pt x="149" y="255"/>
                    </a:lnTo>
                    <a:lnTo>
                      <a:pt x="144" y="250"/>
                    </a:lnTo>
                    <a:lnTo>
                      <a:pt x="140" y="248"/>
                    </a:lnTo>
                    <a:lnTo>
                      <a:pt x="133" y="245"/>
                    </a:lnTo>
                    <a:lnTo>
                      <a:pt x="127" y="244"/>
                    </a:lnTo>
                    <a:lnTo>
                      <a:pt x="122" y="243"/>
                    </a:lnTo>
                    <a:lnTo>
                      <a:pt x="119" y="241"/>
                    </a:lnTo>
                    <a:lnTo>
                      <a:pt x="119" y="236"/>
                    </a:lnTo>
                    <a:lnTo>
                      <a:pt x="123" y="228"/>
                    </a:lnTo>
                    <a:lnTo>
                      <a:pt x="122" y="214"/>
                    </a:lnTo>
                    <a:lnTo>
                      <a:pt x="122" y="200"/>
                    </a:lnTo>
                    <a:lnTo>
                      <a:pt x="125" y="187"/>
                    </a:lnTo>
                    <a:lnTo>
                      <a:pt x="128" y="174"/>
                    </a:lnTo>
                    <a:lnTo>
                      <a:pt x="128" y="163"/>
                    </a:lnTo>
                    <a:lnTo>
                      <a:pt x="125" y="154"/>
                    </a:lnTo>
                    <a:lnTo>
                      <a:pt x="120" y="146"/>
                    </a:lnTo>
                    <a:lnTo>
                      <a:pt x="114" y="137"/>
                    </a:lnTo>
                    <a:lnTo>
                      <a:pt x="108" y="129"/>
                    </a:lnTo>
                    <a:lnTo>
                      <a:pt x="106" y="120"/>
                    </a:lnTo>
                    <a:lnTo>
                      <a:pt x="107" y="111"/>
                    </a:lnTo>
                    <a:lnTo>
                      <a:pt x="114" y="100"/>
                    </a:lnTo>
                    <a:lnTo>
                      <a:pt x="113" y="93"/>
                    </a:lnTo>
                    <a:lnTo>
                      <a:pt x="110" y="87"/>
                    </a:lnTo>
                    <a:lnTo>
                      <a:pt x="105" y="83"/>
                    </a:lnTo>
                    <a:lnTo>
                      <a:pt x="99" y="79"/>
                    </a:lnTo>
                    <a:lnTo>
                      <a:pt x="95" y="81"/>
                    </a:lnTo>
                    <a:lnTo>
                      <a:pt x="90" y="81"/>
                    </a:lnTo>
                    <a:lnTo>
                      <a:pt x="87" y="79"/>
                    </a:lnTo>
                    <a:lnTo>
                      <a:pt x="84" y="76"/>
                    </a:lnTo>
                    <a:lnTo>
                      <a:pt x="85" y="68"/>
                    </a:lnTo>
                    <a:lnTo>
                      <a:pt x="85" y="59"/>
                    </a:lnTo>
                    <a:lnTo>
                      <a:pt x="83" y="52"/>
                    </a:lnTo>
                    <a:lnTo>
                      <a:pt x="79" y="46"/>
                    </a:lnTo>
                    <a:lnTo>
                      <a:pt x="74" y="40"/>
                    </a:lnTo>
                    <a:lnTo>
                      <a:pt x="68" y="38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60" y="28"/>
                    </a:lnTo>
                    <a:lnTo>
                      <a:pt x="53" y="30"/>
                    </a:lnTo>
                    <a:lnTo>
                      <a:pt x="46" y="33"/>
                    </a:lnTo>
                    <a:lnTo>
                      <a:pt x="44" y="36"/>
                    </a:lnTo>
                    <a:lnTo>
                      <a:pt x="45" y="29"/>
                    </a:lnTo>
                    <a:lnTo>
                      <a:pt x="44" y="22"/>
                    </a:lnTo>
                    <a:lnTo>
                      <a:pt x="40" y="16"/>
                    </a:lnTo>
                    <a:lnTo>
                      <a:pt x="36" y="13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4" y="9"/>
                    </a:lnTo>
                    <a:lnTo>
                      <a:pt x="0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4" y="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45280" y="3538800"/>
                <a:ext cx="76320" cy="871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94" y="20"/>
                    </a:moveTo>
                    <a:lnTo>
                      <a:pt x="87" y="31"/>
                    </a:lnTo>
                    <a:lnTo>
                      <a:pt x="83" y="46"/>
                    </a:lnTo>
                    <a:lnTo>
                      <a:pt x="81" y="61"/>
                    </a:lnTo>
                    <a:lnTo>
                      <a:pt x="75" y="73"/>
                    </a:lnTo>
                    <a:lnTo>
                      <a:pt x="28" y="108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7" y="93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0" y="61"/>
                    </a:lnTo>
                    <a:lnTo>
                      <a:pt x="20" y="49"/>
                    </a:lnTo>
                    <a:lnTo>
                      <a:pt x="31" y="42"/>
                    </a:lnTo>
                    <a:lnTo>
                      <a:pt x="25" y="53"/>
                    </a:lnTo>
                    <a:lnTo>
                      <a:pt x="20" y="63"/>
                    </a:lnTo>
                    <a:lnTo>
                      <a:pt x="15" y="75"/>
                    </a:lnTo>
                    <a:lnTo>
                      <a:pt x="13" y="86"/>
                    </a:lnTo>
                    <a:lnTo>
                      <a:pt x="17" y="92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6" y="93"/>
                    </a:lnTo>
                    <a:lnTo>
                      <a:pt x="44" y="75"/>
                    </a:lnTo>
                    <a:lnTo>
                      <a:pt x="52" y="57"/>
                    </a:lnTo>
                    <a:lnTo>
                      <a:pt x="58" y="39"/>
                    </a:lnTo>
                    <a:lnTo>
                      <a:pt x="54" y="19"/>
                    </a:lnTo>
                    <a:lnTo>
                      <a:pt x="89" y="0"/>
                    </a:lnTo>
                    <a:lnTo>
                      <a:pt x="92" y="4"/>
                    </a:lnTo>
                    <a:lnTo>
                      <a:pt x="93" y="10"/>
                    </a:lnTo>
                    <a:lnTo>
                      <a:pt x="93" y="15"/>
                    </a:lnTo>
                    <a:lnTo>
                      <a:pt x="94" y="20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4520" y="356112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156" h="169">
                    <a:moveTo>
                      <a:pt x="156" y="148"/>
                    </a:moveTo>
                    <a:lnTo>
                      <a:pt x="153" y="169"/>
                    </a:lnTo>
                    <a:lnTo>
                      <a:pt x="144" y="166"/>
                    </a:lnTo>
                    <a:lnTo>
                      <a:pt x="135" y="164"/>
                    </a:lnTo>
                    <a:lnTo>
                      <a:pt x="126" y="162"/>
                    </a:lnTo>
                    <a:lnTo>
                      <a:pt x="118" y="159"/>
                    </a:lnTo>
                    <a:lnTo>
                      <a:pt x="109" y="158"/>
                    </a:lnTo>
                    <a:lnTo>
                      <a:pt x="101" y="159"/>
                    </a:lnTo>
                    <a:lnTo>
                      <a:pt x="93" y="162"/>
                    </a:lnTo>
                    <a:lnTo>
                      <a:pt x="85" y="167"/>
                    </a:lnTo>
                    <a:lnTo>
                      <a:pt x="78" y="157"/>
                    </a:lnTo>
                    <a:lnTo>
                      <a:pt x="70" y="152"/>
                    </a:lnTo>
                    <a:lnTo>
                      <a:pt x="60" y="150"/>
                    </a:lnTo>
                    <a:lnTo>
                      <a:pt x="50" y="149"/>
                    </a:lnTo>
                    <a:lnTo>
                      <a:pt x="41" y="148"/>
                    </a:lnTo>
                    <a:lnTo>
                      <a:pt x="32" y="146"/>
                    </a:lnTo>
                    <a:lnTo>
                      <a:pt x="26" y="141"/>
                    </a:lnTo>
                    <a:lnTo>
                      <a:pt x="21" y="131"/>
                    </a:lnTo>
                    <a:lnTo>
                      <a:pt x="18" y="112"/>
                    </a:lnTo>
                    <a:lnTo>
                      <a:pt x="17" y="94"/>
                    </a:lnTo>
                    <a:lnTo>
                      <a:pt x="13" y="76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3" y="46"/>
                    </a:lnTo>
                    <a:lnTo>
                      <a:pt x="6" y="38"/>
                    </a:lnTo>
                    <a:lnTo>
                      <a:pt x="12" y="30"/>
                    </a:lnTo>
                    <a:lnTo>
                      <a:pt x="17" y="22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6" y="0"/>
                    </a:lnTo>
                    <a:lnTo>
                      <a:pt x="43" y="23"/>
                    </a:lnTo>
                    <a:lnTo>
                      <a:pt x="52" y="45"/>
                    </a:lnTo>
                    <a:lnTo>
                      <a:pt x="65" y="66"/>
                    </a:lnTo>
                    <a:lnTo>
                      <a:pt x="80" y="86"/>
                    </a:lnTo>
                    <a:lnTo>
                      <a:pt x="97" y="104"/>
                    </a:lnTo>
                    <a:lnTo>
                      <a:pt x="116" y="120"/>
                    </a:lnTo>
                    <a:lnTo>
                      <a:pt x="135" y="135"/>
                    </a:lnTo>
                    <a:lnTo>
                      <a:pt x="156" y="148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37120" y="3591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3"/>
                    </a:moveTo>
                    <a:lnTo>
                      <a:pt x="20" y="21"/>
                    </a:lnTo>
                    <a:lnTo>
                      <a:pt x="16" y="22"/>
                    </a:lnTo>
                    <a:lnTo>
                      <a:pt x="10" y="19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7" y="10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52920" y="360216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125" h="148">
                    <a:moveTo>
                      <a:pt x="125" y="36"/>
                    </a:moveTo>
                    <a:lnTo>
                      <a:pt x="116" y="47"/>
                    </a:lnTo>
                    <a:lnTo>
                      <a:pt x="109" y="60"/>
                    </a:lnTo>
                    <a:lnTo>
                      <a:pt x="106" y="75"/>
                    </a:lnTo>
                    <a:lnTo>
                      <a:pt x="103" y="89"/>
                    </a:lnTo>
                    <a:lnTo>
                      <a:pt x="100" y="104"/>
                    </a:lnTo>
                    <a:lnTo>
                      <a:pt x="98" y="118"/>
                    </a:lnTo>
                    <a:lnTo>
                      <a:pt x="92" y="131"/>
                    </a:lnTo>
                    <a:lnTo>
                      <a:pt x="84" y="143"/>
                    </a:lnTo>
                    <a:lnTo>
                      <a:pt x="75" y="145"/>
                    </a:lnTo>
                    <a:lnTo>
                      <a:pt x="65" y="146"/>
                    </a:lnTo>
                    <a:lnTo>
                      <a:pt x="55" y="148"/>
                    </a:lnTo>
                    <a:lnTo>
                      <a:pt x="45" y="148"/>
                    </a:lnTo>
                    <a:lnTo>
                      <a:pt x="33" y="148"/>
                    </a:lnTo>
                    <a:lnTo>
                      <a:pt x="23" y="146"/>
                    </a:lnTo>
                    <a:lnTo>
                      <a:pt x="12" y="146"/>
                    </a:lnTo>
                    <a:lnTo>
                      <a:pt x="2" y="145"/>
                    </a:lnTo>
                    <a:lnTo>
                      <a:pt x="3" y="136"/>
                    </a:lnTo>
                    <a:lnTo>
                      <a:pt x="9" y="128"/>
                    </a:lnTo>
                    <a:lnTo>
                      <a:pt x="15" y="121"/>
                    </a:lnTo>
                    <a:lnTo>
                      <a:pt x="12" y="112"/>
                    </a:lnTo>
                    <a:lnTo>
                      <a:pt x="5" y="106"/>
                    </a:lnTo>
                    <a:lnTo>
                      <a:pt x="1" y="99"/>
                    </a:lnTo>
                    <a:lnTo>
                      <a:pt x="0" y="92"/>
                    </a:lnTo>
                    <a:lnTo>
                      <a:pt x="2" y="84"/>
                    </a:lnTo>
                    <a:lnTo>
                      <a:pt x="7" y="81"/>
                    </a:lnTo>
                    <a:lnTo>
                      <a:pt x="12" y="78"/>
                    </a:lnTo>
                    <a:lnTo>
                      <a:pt x="18" y="76"/>
                    </a:lnTo>
                    <a:lnTo>
                      <a:pt x="24" y="73"/>
                    </a:lnTo>
                    <a:lnTo>
                      <a:pt x="30" y="70"/>
                    </a:lnTo>
                    <a:lnTo>
                      <a:pt x="34" y="66"/>
                    </a:lnTo>
                    <a:lnTo>
                      <a:pt x="39" y="61"/>
                    </a:lnTo>
                    <a:lnTo>
                      <a:pt x="41" y="54"/>
                    </a:lnTo>
                    <a:lnTo>
                      <a:pt x="48" y="48"/>
                    </a:lnTo>
                    <a:lnTo>
                      <a:pt x="55" y="43"/>
                    </a:lnTo>
                    <a:lnTo>
                      <a:pt x="62" y="36"/>
                    </a:lnTo>
                    <a:lnTo>
                      <a:pt x="69" y="29"/>
                    </a:lnTo>
                    <a:lnTo>
                      <a:pt x="75" y="22"/>
                    </a:lnTo>
                    <a:lnTo>
                      <a:pt x="80" y="15"/>
                    </a:lnTo>
                    <a:lnTo>
                      <a:pt x="86" y="7"/>
                    </a:lnTo>
                    <a:lnTo>
                      <a:pt x="92" y="0"/>
                    </a:lnTo>
                    <a:lnTo>
                      <a:pt x="97" y="12"/>
                    </a:lnTo>
                    <a:lnTo>
                      <a:pt x="106" y="21"/>
                    </a:lnTo>
                    <a:lnTo>
                      <a:pt x="116" y="29"/>
                    </a:lnTo>
                    <a:lnTo>
                      <a:pt x="125" y="36"/>
                    </a:lnTo>
                    <a:close/>
                  </a:path>
                </a:pathLst>
              </a:custGeom>
              <a:solidFill>
                <a:srgbClr val="c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96160" y="361656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26" y="18"/>
                    </a:moveTo>
                    <a:lnTo>
                      <a:pt x="31" y="23"/>
                    </a:lnTo>
                    <a:lnTo>
                      <a:pt x="37" y="27"/>
                    </a:lnTo>
                    <a:lnTo>
                      <a:pt x="42" y="31"/>
                    </a:lnTo>
                    <a:lnTo>
                      <a:pt x="45" y="35"/>
                    </a:lnTo>
                    <a:lnTo>
                      <a:pt x="50" y="38"/>
                    </a:lnTo>
                    <a:lnTo>
                      <a:pt x="53" y="39"/>
                    </a:lnTo>
                    <a:lnTo>
                      <a:pt x="58" y="39"/>
                    </a:lnTo>
                    <a:lnTo>
                      <a:pt x="64" y="35"/>
                    </a:lnTo>
                    <a:lnTo>
                      <a:pt x="68" y="46"/>
                    </a:lnTo>
                    <a:lnTo>
                      <a:pt x="75" y="52"/>
                    </a:lnTo>
                    <a:lnTo>
                      <a:pt x="82" y="59"/>
                    </a:lnTo>
                    <a:lnTo>
                      <a:pt x="84" y="70"/>
                    </a:lnTo>
                    <a:lnTo>
                      <a:pt x="73" y="63"/>
                    </a:lnTo>
                    <a:lnTo>
                      <a:pt x="61" y="56"/>
                    </a:lnTo>
                    <a:lnTo>
                      <a:pt x="50" y="48"/>
                    </a:lnTo>
                    <a:lnTo>
                      <a:pt x="39" y="41"/>
                    </a:lnTo>
                    <a:lnTo>
                      <a:pt x="29" y="33"/>
                    </a:lnTo>
                    <a:lnTo>
                      <a:pt x="19" y="24"/>
                    </a:lnTo>
                    <a:lnTo>
                      <a:pt x="10" y="1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1"/>
                    </a:lnTo>
                    <a:lnTo>
                      <a:pt x="19" y="5"/>
                    </a:lnTo>
                    <a:lnTo>
                      <a:pt x="23" y="1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84800" y="3616560"/>
                <a:ext cx="117720" cy="187200"/>
              </a:xfrm>
              <a:custGeom>
                <a:avLst/>
                <a:gdLst/>
                <a:ahLst/>
                <a:rect l="l" t="t" r="r" b="b"/>
                <a:pathLst>
                  <a:path w="147" h="236">
                    <a:moveTo>
                      <a:pt x="21" y="236"/>
                    </a:moveTo>
                    <a:lnTo>
                      <a:pt x="13" y="228"/>
                    </a:lnTo>
                    <a:lnTo>
                      <a:pt x="7" y="216"/>
                    </a:lnTo>
                    <a:lnTo>
                      <a:pt x="3" y="205"/>
                    </a:lnTo>
                    <a:lnTo>
                      <a:pt x="0" y="193"/>
                    </a:lnTo>
                    <a:lnTo>
                      <a:pt x="105" y="31"/>
                    </a:lnTo>
                    <a:lnTo>
                      <a:pt x="109" y="27"/>
                    </a:lnTo>
                    <a:lnTo>
                      <a:pt x="115" y="24"/>
                    </a:lnTo>
                    <a:lnTo>
                      <a:pt x="121" y="21"/>
                    </a:lnTo>
                    <a:lnTo>
                      <a:pt x="127" y="18"/>
                    </a:lnTo>
                    <a:lnTo>
                      <a:pt x="132" y="14"/>
                    </a:lnTo>
                    <a:lnTo>
                      <a:pt x="138" y="10"/>
                    </a:lnTo>
                    <a:lnTo>
                      <a:pt x="143" y="5"/>
                    </a:lnTo>
                    <a:lnTo>
                      <a:pt x="147" y="0"/>
                    </a:lnTo>
                    <a:lnTo>
                      <a:pt x="138" y="32"/>
                    </a:lnTo>
                    <a:lnTo>
                      <a:pt x="127" y="63"/>
                    </a:lnTo>
                    <a:lnTo>
                      <a:pt x="113" y="94"/>
                    </a:lnTo>
                    <a:lnTo>
                      <a:pt x="98" y="123"/>
                    </a:lnTo>
                    <a:lnTo>
                      <a:pt x="81" y="152"/>
                    </a:lnTo>
                    <a:lnTo>
                      <a:pt x="61" y="180"/>
                    </a:lnTo>
                    <a:lnTo>
                      <a:pt x="41" y="208"/>
                    </a:lnTo>
                    <a:lnTo>
                      <a:pt x="21" y="236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11960" y="3621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9"/>
                    </a:moveTo>
                    <a:lnTo>
                      <a:pt x="22" y="14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5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21440" y="362124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169" h="191">
                    <a:moveTo>
                      <a:pt x="169" y="20"/>
                    </a:moveTo>
                    <a:lnTo>
                      <a:pt x="50" y="191"/>
                    </a:lnTo>
                    <a:lnTo>
                      <a:pt x="44" y="178"/>
                    </a:lnTo>
                    <a:lnTo>
                      <a:pt x="37" y="165"/>
                    </a:lnTo>
                    <a:lnTo>
                      <a:pt x="31" y="152"/>
                    </a:lnTo>
                    <a:lnTo>
                      <a:pt x="25" y="140"/>
                    </a:lnTo>
                    <a:lnTo>
                      <a:pt x="18" y="126"/>
                    </a:lnTo>
                    <a:lnTo>
                      <a:pt x="13" y="113"/>
                    </a:lnTo>
                    <a:lnTo>
                      <a:pt x="6" y="99"/>
                    </a:lnTo>
                    <a:lnTo>
                      <a:pt x="0" y="87"/>
                    </a:lnTo>
                    <a:lnTo>
                      <a:pt x="21" y="80"/>
                    </a:lnTo>
                    <a:lnTo>
                      <a:pt x="40" y="72"/>
                    </a:lnTo>
                    <a:lnTo>
                      <a:pt x="60" y="61"/>
                    </a:lnTo>
                    <a:lnTo>
                      <a:pt x="78" y="51"/>
                    </a:lnTo>
                    <a:lnTo>
                      <a:pt x="97" y="40"/>
                    </a:lnTo>
                    <a:lnTo>
                      <a:pt x="115" y="28"/>
                    </a:lnTo>
                    <a:lnTo>
                      <a:pt x="133" y="14"/>
                    </a:lnTo>
                    <a:lnTo>
                      <a:pt x="150" y="0"/>
                    </a:lnTo>
                    <a:lnTo>
                      <a:pt x="169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62720" y="3683160"/>
                <a:ext cx="65160" cy="90720"/>
              </a:xfrm>
              <a:custGeom>
                <a:avLst/>
                <a:gdLst/>
                <a:ahLst/>
                <a:rect l="l" t="t" r="r" b="b"/>
                <a:pathLst>
                  <a:path w="83" h="114">
                    <a:moveTo>
                      <a:pt x="76" y="53"/>
                    </a:moveTo>
                    <a:lnTo>
                      <a:pt x="78" y="68"/>
                    </a:lnTo>
                    <a:lnTo>
                      <a:pt x="80" y="84"/>
                    </a:lnTo>
                    <a:lnTo>
                      <a:pt x="82" y="99"/>
                    </a:lnTo>
                    <a:lnTo>
                      <a:pt x="83" y="114"/>
                    </a:lnTo>
                    <a:lnTo>
                      <a:pt x="73" y="114"/>
                    </a:lnTo>
                    <a:lnTo>
                      <a:pt x="66" y="106"/>
                    </a:lnTo>
                    <a:lnTo>
                      <a:pt x="60" y="94"/>
                    </a:lnTo>
                    <a:lnTo>
                      <a:pt x="54" y="87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6" y="76"/>
                    </a:lnTo>
                    <a:lnTo>
                      <a:pt x="31" y="71"/>
                    </a:lnTo>
                    <a:lnTo>
                      <a:pt x="27" y="66"/>
                    </a:lnTo>
                    <a:lnTo>
                      <a:pt x="22" y="63"/>
                    </a:lnTo>
                    <a:lnTo>
                      <a:pt x="17" y="60"/>
                    </a:lnTo>
                    <a:lnTo>
                      <a:pt x="12" y="57"/>
                    </a:lnTo>
                    <a:lnTo>
                      <a:pt x="5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14" y="0"/>
                    </a:lnTo>
                    <a:lnTo>
                      <a:pt x="24" y="2"/>
                    </a:lnTo>
                    <a:lnTo>
                      <a:pt x="33" y="8"/>
                    </a:lnTo>
                    <a:lnTo>
                      <a:pt x="42" y="15"/>
                    </a:lnTo>
                    <a:lnTo>
                      <a:pt x="47" y="23"/>
                    </a:lnTo>
                    <a:lnTo>
                      <a:pt x="54" y="31"/>
                    </a:lnTo>
                    <a:lnTo>
                      <a:pt x="60" y="39"/>
                    </a:lnTo>
                    <a:lnTo>
                      <a:pt x="68" y="47"/>
                    </a:lnTo>
                    <a:lnTo>
                      <a:pt x="7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15120" y="3684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8"/>
                    </a:moveTo>
                    <a:lnTo>
                      <a:pt x="29" y="16"/>
                    </a:lnTo>
                    <a:lnTo>
                      <a:pt x="27" y="26"/>
                    </a:lnTo>
                    <a:lnTo>
                      <a:pt x="22" y="33"/>
                    </a:lnTo>
                    <a:lnTo>
                      <a:pt x="14" y="32"/>
                    </a:lnTo>
                    <a:lnTo>
                      <a:pt x="10" y="29"/>
                    </a:lnTo>
                    <a:lnTo>
                      <a:pt x="6" y="24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3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81480" y="37022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0" y="7"/>
                    </a:moveTo>
                    <a:lnTo>
                      <a:pt x="40" y="15"/>
                    </a:lnTo>
                    <a:lnTo>
                      <a:pt x="41" y="25"/>
                    </a:lnTo>
                    <a:lnTo>
                      <a:pt x="42" y="36"/>
                    </a:lnTo>
                    <a:lnTo>
                      <a:pt x="44" y="45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5"/>
                    </a:lnTo>
                    <a:lnTo>
                      <a:pt x="21" y="41"/>
                    </a:lnTo>
                    <a:lnTo>
                      <a:pt x="15" y="38"/>
                    </a:lnTo>
                    <a:lnTo>
                      <a:pt x="10" y="33"/>
                    </a:lnTo>
                    <a:lnTo>
                      <a:pt x="5" y="29"/>
                    </a:lnTo>
                    <a:lnTo>
                      <a:pt x="0" y="25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10" y="0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6760" y="3699000"/>
                <a:ext cx="42840" cy="5724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48" y="44"/>
                    </a:moveTo>
                    <a:lnTo>
                      <a:pt x="49" y="50"/>
                    </a:lnTo>
                    <a:lnTo>
                      <a:pt x="52" y="59"/>
                    </a:lnTo>
                    <a:lnTo>
                      <a:pt x="54" y="68"/>
                    </a:lnTo>
                    <a:lnTo>
                      <a:pt x="53" y="73"/>
                    </a:lnTo>
                    <a:lnTo>
                      <a:pt x="48" y="64"/>
                    </a:lnTo>
                    <a:lnTo>
                      <a:pt x="39" y="54"/>
                    </a:lnTo>
                    <a:lnTo>
                      <a:pt x="29" y="46"/>
                    </a:lnTo>
                    <a:lnTo>
                      <a:pt x="20" y="38"/>
                    </a:lnTo>
                    <a:lnTo>
                      <a:pt x="11" y="29"/>
                    </a:lnTo>
                    <a:lnTo>
                      <a:pt x="4" y="20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10" y="2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7" y="19"/>
                    </a:lnTo>
                    <a:lnTo>
                      <a:pt x="31" y="27"/>
                    </a:lnTo>
                    <a:lnTo>
                      <a:pt x="36" y="34"/>
                    </a:lnTo>
                    <a:lnTo>
                      <a:pt x="42" y="39"/>
                    </a:lnTo>
                    <a:lnTo>
                      <a:pt x="48" y="44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84640" y="3705480"/>
                <a:ext cx="246240" cy="149040"/>
              </a:xfrm>
              <a:custGeom>
                <a:avLst/>
                <a:gdLst/>
                <a:ahLst/>
                <a:rect l="l" t="t" r="r" b="b"/>
                <a:pathLst>
                  <a:path w="310" h="188">
                    <a:moveTo>
                      <a:pt x="133" y="55"/>
                    </a:moveTo>
                    <a:lnTo>
                      <a:pt x="139" y="56"/>
                    </a:lnTo>
                    <a:lnTo>
                      <a:pt x="144" y="58"/>
                    </a:lnTo>
                    <a:lnTo>
                      <a:pt x="150" y="59"/>
                    </a:lnTo>
                    <a:lnTo>
                      <a:pt x="156" y="59"/>
                    </a:lnTo>
                    <a:lnTo>
                      <a:pt x="162" y="60"/>
                    </a:lnTo>
                    <a:lnTo>
                      <a:pt x="167" y="60"/>
                    </a:lnTo>
                    <a:lnTo>
                      <a:pt x="172" y="60"/>
                    </a:lnTo>
                    <a:lnTo>
                      <a:pt x="178" y="60"/>
                    </a:lnTo>
                    <a:lnTo>
                      <a:pt x="194" y="73"/>
                    </a:lnTo>
                    <a:lnTo>
                      <a:pt x="210" y="85"/>
                    </a:lnTo>
                    <a:lnTo>
                      <a:pt x="225" y="96"/>
                    </a:lnTo>
                    <a:lnTo>
                      <a:pt x="241" y="108"/>
                    </a:lnTo>
                    <a:lnTo>
                      <a:pt x="257" y="118"/>
                    </a:lnTo>
                    <a:lnTo>
                      <a:pt x="275" y="127"/>
                    </a:lnTo>
                    <a:lnTo>
                      <a:pt x="292" y="135"/>
                    </a:lnTo>
                    <a:lnTo>
                      <a:pt x="310" y="141"/>
                    </a:lnTo>
                    <a:lnTo>
                      <a:pt x="310" y="148"/>
                    </a:lnTo>
                    <a:lnTo>
                      <a:pt x="308" y="154"/>
                    </a:lnTo>
                    <a:lnTo>
                      <a:pt x="305" y="157"/>
                    </a:lnTo>
                    <a:lnTo>
                      <a:pt x="300" y="159"/>
                    </a:lnTo>
                    <a:lnTo>
                      <a:pt x="294" y="161"/>
                    </a:lnTo>
                    <a:lnTo>
                      <a:pt x="288" y="162"/>
                    </a:lnTo>
                    <a:lnTo>
                      <a:pt x="283" y="163"/>
                    </a:lnTo>
                    <a:lnTo>
                      <a:pt x="277" y="164"/>
                    </a:lnTo>
                    <a:lnTo>
                      <a:pt x="263" y="163"/>
                    </a:lnTo>
                    <a:lnTo>
                      <a:pt x="249" y="164"/>
                    </a:lnTo>
                    <a:lnTo>
                      <a:pt x="235" y="166"/>
                    </a:lnTo>
                    <a:lnTo>
                      <a:pt x="222" y="169"/>
                    </a:lnTo>
                    <a:lnTo>
                      <a:pt x="208" y="171"/>
                    </a:lnTo>
                    <a:lnTo>
                      <a:pt x="194" y="174"/>
                    </a:lnTo>
                    <a:lnTo>
                      <a:pt x="180" y="178"/>
                    </a:lnTo>
                    <a:lnTo>
                      <a:pt x="167" y="181"/>
                    </a:lnTo>
                    <a:lnTo>
                      <a:pt x="154" y="185"/>
                    </a:lnTo>
                    <a:lnTo>
                      <a:pt x="141" y="186"/>
                    </a:lnTo>
                    <a:lnTo>
                      <a:pt x="127" y="188"/>
                    </a:lnTo>
                    <a:lnTo>
                      <a:pt x="113" y="188"/>
                    </a:lnTo>
                    <a:lnTo>
                      <a:pt x="101" y="187"/>
                    </a:lnTo>
                    <a:lnTo>
                      <a:pt x="87" y="184"/>
                    </a:lnTo>
                    <a:lnTo>
                      <a:pt x="73" y="179"/>
                    </a:lnTo>
                    <a:lnTo>
                      <a:pt x="59" y="172"/>
                    </a:lnTo>
                    <a:lnTo>
                      <a:pt x="0" y="134"/>
                    </a:lnTo>
                    <a:lnTo>
                      <a:pt x="4" y="101"/>
                    </a:lnTo>
                    <a:lnTo>
                      <a:pt x="8" y="66"/>
                    </a:lnTo>
                    <a:lnTo>
                      <a:pt x="13" y="33"/>
                    </a:lnTo>
                    <a:lnTo>
                      <a:pt x="20" y="0"/>
                    </a:lnTo>
                    <a:lnTo>
                      <a:pt x="34" y="8"/>
                    </a:lnTo>
                    <a:lnTo>
                      <a:pt x="48" y="14"/>
                    </a:lnTo>
                    <a:lnTo>
                      <a:pt x="63" y="20"/>
                    </a:lnTo>
                    <a:lnTo>
                      <a:pt x="76" y="26"/>
                    </a:lnTo>
                    <a:lnTo>
                      <a:pt x="91" y="32"/>
                    </a:lnTo>
                    <a:lnTo>
                      <a:pt x="105" y="38"/>
                    </a:lnTo>
                    <a:lnTo>
                      <a:pt x="119" y="45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62520" y="3705480"/>
                <a:ext cx="279360" cy="138240"/>
              </a:xfrm>
              <a:custGeom>
                <a:avLst/>
                <a:gdLst/>
                <a:ahLst/>
                <a:rect l="l" t="t" r="r" b="b"/>
                <a:pathLst>
                  <a:path w="353" h="174">
                    <a:moveTo>
                      <a:pt x="353" y="7"/>
                    </a:moveTo>
                    <a:lnTo>
                      <a:pt x="347" y="29"/>
                    </a:lnTo>
                    <a:lnTo>
                      <a:pt x="338" y="50"/>
                    </a:lnTo>
                    <a:lnTo>
                      <a:pt x="325" y="68"/>
                    </a:lnTo>
                    <a:lnTo>
                      <a:pt x="310" y="87"/>
                    </a:lnTo>
                    <a:lnTo>
                      <a:pt x="295" y="104"/>
                    </a:lnTo>
                    <a:lnTo>
                      <a:pt x="278" y="121"/>
                    </a:lnTo>
                    <a:lnTo>
                      <a:pt x="262" y="139"/>
                    </a:lnTo>
                    <a:lnTo>
                      <a:pt x="247" y="156"/>
                    </a:lnTo>
                    <a:lnTo>
                      <a:pt x="241" y="160"/>
                    </a:lnTo>
                    <a:lnTo>
                      <a:pt x="235" y="165"/>
                    </a:lnTo>
                    <a:lnTo>
                      <a:pt x="230" y="168"/>
                    </a:lnTo>
                    <a:lnTo>
                      <a:pt x="224" y="172"/>
                    </a:lnTo>
                    <a:lnTo>
                      <a:pt x="217" y="173"/>
                    </a:lnTo>
                    <a:lnTo>
                      <a:pt x="210" y="174"/>
                    </a:lnTo>
                    <a:lnTo>
                      <a:pt x="203" y="173"/>
                    </a:lnTo>
                    <a:lnTo>
                      <a:pt x="196" y="171"/>
                    </a:lnTo>
                    <a:lnTo>
                      <a:pt x="186" y="164"/>
                    </a:lnTo>
                    <a:lnTo>
                      <a:pt x="174" y="159"/>
                    </a:lnTo>
                    <a:lnTo>
                      <a:pt x="163" y="153"/>
                    </a:lnTo>
                    <a:lnTo>
                      <a:pt x="151" y="150"/>
                    </a:lnTo>
                    <a:lnTo>
                      <a:pt x="140" y="147"/>
                    </a:lnTo>
                    <a:lnTo>
                      <a:pt x="128" y="143"/>
                    </a:lnTo>
                    <a:lnTo>
                      <a:pt x="116" y="142"/>
                    </a:lnTo>
                    <a:lnTo>
                      <a:pt x="104" y="140"/>
                    </a:lnTo>
                    <a:lnTo>
                      <a:pt x="91" y="139"/>
                    </a:lnTo>
                    <a:lnTo>
                      <a:pt x="79" y="137"/>
                    </a:lnTo>
                    <a:lnTo>
                      <a:pt x="66" y="137"/>
                    </a:lnTo>
                    <a:lnTo>
                      <a:pt x="53" y="137"/>
                    </a:lnTo>
                    <a:lnTo>
                      <a:pt x="39" y="137"/>
                    </a:lnTo>
                    <a:lnTo>
                      <a:pt x="27" y="137"/>
                    </a:lnTo>
                    <a:lnTo>
                      <a:pt x="14" y="137"/>
                    </a:lnTo>
                    <a:lnTo>
                      <a:pt x="0" y="137"/>
                    </a:lnTo>
                    <a:lnTo>
                      <a:pt x="3" y="129"/>
                    </a:lnTo>
                    <a:lnTo>
                      <a:pt x="7" y="122"/>
                    </a:lnTo>
                    <a:lnTo>
                      <a:pt x="13" y="119"/>
                    </a:lnTo>
                    <a:lnTo>
                      <a:pt x="20" y="115"/>
                    </a:lnTo>
                    <a:lnTo>
                      <a:pt x="28" y="114"/>
                    </a:lnTo>
                    <a:lnTo>
                      <a:pt x="36" y="113"/>
                    </a:lnTo>
                    <a:lnTo>
                      <a:pt x="43" y="113"/>
                    </a:lnTo>
                    <a:lnTo>
                      <a:pt x="51" y="112"/>
                    </a:lnTo>
                    <a:lnTo>
                      <a:pt x="68" y="109"/>
                    </a:lnTo>
                    <a:lnTo>
                      <a:pt x="84" y="104"/>
                    </a:lnTo>
                    <a:lnTo>
                      <a:pt x="101" y="99"/>
                    </a:lnTo>
                    <a:lnTo>
                      <a:pt x="117" y="95"/>
                    </a:lnTo>
                    <a:lnTo>
                      <a:pt x="133" y="89"/>
                    </a:lnTo>
                    <a:lnTo>
                      <a:pt x="148" y="83"/>
                    </a:lnTo>
                    <a:lnTo>
                      <a:pt x="163" y="76"/>
                    </a:lnTo>
                    <a:lnTo>
                      <a:pt x="179" y="69"/>
                    </a:lnTo>
                    <a:lnTo>
                      <a:pt x="194" y="62"/>
                    </a:lnTo>
                    <a:lnTo>
                      <a:pt x="209" y="56"/>
                    </a:lnTo>
                    <a:lnTo>
                      <a:pt x="224" y="47"/>
                    </a:lnTo>
                    <a:lnTo>
                      <a:pt x="239" y="39"/>
                    </a:lnTo>
                    <a:lnTo>
                      <a:pt x="254" y="31"/>
                    </a:lnTo>
                    <a:lnTo>
                      <a:pt x="268" y="23"/>
                    </a:lnTo>
                    <a:lnTo>
                      <a:pt x="283" y="15"/>
                    </a:lnTo>
                    <a:lnTo>
                      <a:pt x="298" y="7"/>
                    </a:lnTo>
                    <a:lnTo>
                      <a:pt x="303" y="3"/>
                    </a:lnTo>
                    <a:lnTo>
                      <a:pt x="310" y="1"/>
                    </a:lnTo>
                    <a:lnTo>
                      <a:pt x="317" y="0"/>
                    </a:lnTo>
                    <a:lnTo>
                      <a:pt x="324" y="0"/>
                    </a:lnTo>
                    <a:lnTo>
                      <a:pt x="332" y="3"/>
                    </a:lnTo>
                    <a:lnTo>
                      <a:pt x="339" y="4"/>
                    </a:lnTo>
                    <a:lnTo>
                      <a:pt x="346" y="6"/>
                    </a:lnTo>
                    <a:lnTo>
                      <a:pt x="35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32440" y="3718080"/>
                <a:ext cx="289080" cy="430200"/>
              </a:xfrm>
              <a:custGeom>
                <a:avLst/>
                <a:gdLst/>
                <a:ahLst/>
                <a:rect l="l" t="t" r="r" b="b"/>
                <a:pathLst>
                  <a:path w="363" h="541">
                    <a:moveTo>
                      <a:pt x="343" y="300"/>
                    </a:moveTo>
                    <a:lnTo>
                      <a:pt x="351" y="328"/>
                    </a:lnTo>
                    <a:lnTo>
                      <a:pt x="358" y="357"/>
                    </a:lnTo>
                    <a:lnTo>
                      <a:pt x="362" y="385"/>
                    </a:lnTo>
                    <a:lnTo>
                      <a:pt x="363" y="415"/>
                    </a:lnTo>
                    <a:lnTo>
                      <a:pt x="347" y="418"/>
                    </a:lnTo>
                    <a:lnTo>
                      <a:pt x="331" y="421"/>
                    </a:lnTo>
                    <a:lnTo>
                      <a:pt x="316" y="426"/>
                    </a:lnTo>
                    <a:lnTo>
                      <a:pt x="299" y="429"/>
                    </a:lnTo>
                    <a:lnTo>
                      <a:pt x="284" y="434"/>
                    </a:lnTo>
                    <a:lnTo>
                      <a:pt x="268" y="438"/>
                    </a:lnTo>
                    <a:lnTo>
                      <a:pt x="253" y="444"/>
                    </a:lnTo>
                    <a:lnTo>
                      <a:pt x="237" y="449"/>
                    </a:lnTo>
                    <a:lnTo>
                      <a:pt x="224" y="455"/>
                    </a:lnTo>
                    <a:lnTo>
                      <a:pt x="212" y="463"/>
                    </a:lnTo>
                    <a:lnTo>
                      <a:pt x="199" y="471"/>
                    </a:lnTo>
                    <a:lnTo>
                      <a:pt x="186" y="480"/>
                    </a:lnTo>
                    <a:lnTo>
                      <a:pt x="175" y="489"/>
                    </a:lnTo>
                    <a:lnTo>
                      <a:pt x="162" y="498"/>
                    </a:lnTo>
                    <a:lnTo>
                      <a:pt x="151" y="508"/>
                    </a:lnTo>
                    <a:lnTo>
                      <a:pt x="138" y="516"/>
                    </a:lnTo>
                    <a:lnTo>
                      <a:pt x="125" y="524"/>
                    </a:lnTo>
                    <a:lnTo>
                      <a:pt x="112" y="531"/>
                    </a:lnTo>
                    <a:lnTo>
                      <a:pt x="99" y="535"/>
                    </a:lnTo>
                    <a:lnTo>
                      <a:pt x="85" y="540"/>
                    </a:lnTo>
                    <a:lnTo>
                      <a:pt x="70" y="541"/>
                    </a:lnTo>
                    <a:lnTo>
                      <a:pt x="55" y="541"/>
                    </a:lnTo>
                    <a:lnTo>
                      <a:pt x="39" y="539"/>
                    </a:lnTo>
                    <a:lnTo>
                      <a:pt x="23" y="533"/>
                    </a:lnTo>
                    <a:lnTo>
                      <a:pt x="21" y="364"/>
                    </a:lnTo>
                    <a:lnTo>
                      <a:pt x="19" y="345"/>
                    </a:lnTo>
                    <a:lnTo>
                      <a:pt x="18" y="327"/>
                    </a:lnTo>
                    <a:lnTo>
                      <a:pt x="18" y="307"/>
                    </a:lnTo>
                    <a:lnTo>
                      <a:pt x="19" y="289"/>
                    </a:lnTo>
                    <a:lnTo>
                      <a:pt x="24" y="270"/>
                    </a:lnTo>
                    <a:lnTo>
                      <a:pt x="30" y="253"/>
                    </a:lnTo>
                    <a:lnTo>
                      <a:pt x="39" y="237"/>
                    </a:lnTo>
                    <a:lnTo>
                      <a:pt x="53" y="223"/>
                    </a:lnTo>
                    <a:lnTo>
                      <a:pt x="52" y="218"/>
                    </a:lnTo>
                    <a:lnTo>
                      <a:pt x="48" y="214"/>
                    </a:lnTo>
                    <a:lnTo>
                      <a:pt x="44" y="210"/>
                    </a:lnTo>
                    <a:lnTo>
                      <a:pt x="40" y="206"/>
                    </a:lnTo>
                    <a:lnTo>
                      <a:pt x="31" y="213"/>
                    </a:lnTo>
                    <a:lnTo>
                      <a:pt x="24" y="221"/>
                    </a:lnTo>
                    <a:lnTo>
                      <a:pt x="16" y="230"/>
                    </a:lnTo>
                    <a:lnTo>
                      <a:pt x="10" y="239"/>
                    </a:lnTo>
                    <a:lnTo>
                      <a:pt x="4" y="231"/>
                    </a:lnTo>
                    <a:lnTo>
                      <a:pt x="1" y="221"/>
                    </a:lnTo>
                    <a:lnTo>
                      <a:pt x="0" y="210"/>
                    </a:lnTo>
                    <a:lnTo>
                      <a:pt x="1" y="200"/>
                    </a:lnTo>
                    <a:lnTo>
                      <a:pt x="8" y="190"/>
                    </a:lnTo>
                    <a:lnTo>
                      <a:pt x="17" y="180"/>
                    </a:lnTo>
                    <a:lnTo>
                      <a:pt x="25" y="172"/>
                    </a:lnTo>
                    <a:lnTo>
                      <a:pt x="34" y="164"/>
                    </a:lnTo>
                    <a:lnTo>
                      <a:pt x="45" y="156"/>
                    </a:lnTo>
                    <a:lnTo>
                      <a:pt x="54" y="148"/>
                    </a:lnTo>
                    <a:lnTo>
                      <a:pt x="63" y="140"/>
                    </a:lnTo>
                    <a:lnTo>
                      <a:pt x="71" y="131"/>
                    </a:lnTo>
                    <a:lnTo>
                      <a:pt x="82" y="119"/>
                    </a:lnTo>
                    <a:lnTo>
                      <a:pt x="92" y="108"/>
                    </a:lnTo>
                    <a:lnTo>
                      <a:pt x="101" y="96"/>
                    </a:lnTo>
                    <a:lnTo>
                      <a:pt x="112" y="84"/>
                    </a:lnTo>
                    <a:lnTo>
                      <a:pt x="121" y="72"/>
                    </a:lnTo>
                    <a:lnTo>
                      <a:pt x="130" y="59"/>
                    </a:lnTo>
                    <a:lnTo>
                      <a:pt x="138" y="48"/>
                    </a:lnTo>
                    <a:lnTo>
                      <a:pt x="147" y="35"/>
                    </a:lnTo>
                    <a:lnTo>
                      <a:pt x="152" y="43"/>
                    </a:lnTo>
                    <a:lnTo>
                      <a:pt x="160" y="49"/>
                    </a:lnTo>
                    <a:lnTo>
                      <a:pt x="167" y="54"/>
                    </a:lnTo>
                    <a:lnTo>
                      <a:pt x="174" y="58"/>
                    </a:lnTo>
                    <a:lnTo>
                      <a:pt x="167" y="82"/>
                    </a:lnTo>
                    <a:lnTo>
                      <a:pt x="162" y="108"/>
                    </a:lnTo>
                    <a:lnTo>
                      <a:pt x="163" y="134"/>
                    </a:lnTo>
                    <a:lnTo>
                      <a:pt x="177" y="155"/>
                    </a:lnTo>
                    <a:lnTo>
                      <a:pt x="183" y="165"/>
                    </a:lnTo>
                    <a:lnTo>
                      <a:pt x="181" y="175"/>
                    </a:lnTo>
                    <a:lnTo>
                      <a:pt x="175" y="184"/>
                    </a:lnTo>
                    <a:lnTo>
                      <a:pt x="174" y="195"/>
                    </a:lnTo>
                    <a:lnTo>
                      <a:pt x="173" y="206"/>
                    </a:lnTo>
                    <a:lnTo>
                      <a:pt x="175" y="215"/>
                    </a:lnTo>
                    <a:lnTo>
                      <a:pt x="180" y="223"/>
                    </a:lnTo>
                    <a:lnTo>
                      <a:pt x="184" y="231"/>
                    </a:lnTo>
                    <a:lnTo>
                      <a:pt x="188" y="240"/>
                    </a:lnTo>
                    <a:lnTo>
                      <a:pt x="190" y="248"/>
                    </a:lnTo>
                    <a:lnTo>
                      <a:pt x="189" y="258"/>
                    </a:lnTo>
                    <a:lnTo>
                      <a:pt x="183" y="268"/>
                    </a:lnTo>
                    <a:lnTo>
                      <a:pt x="186" y="279"/>
                    </a:lnTo>
                    <a:lnTo>
                      <a:pt x="196" y="292"/>
                    </a:lnTo>
                    <a:lnTo>
                      <a:pt x="206" y="305"/>
                    </a:lnTo>
                    <a:lnTo>
                      <a:pt x="212" y="315"/>
                    </a:lnTo>
                    <a:lnTo>
                      <a:pt x="206" y="319"/>
                    </a:lnTo>
                    <a:lnTo>
                      <a:pt x="200" y="318"/>
                    </a:lnTo>
                    <a:lnTo>
                      <a:pt x="196" y="314"/>
                    </a:lnTo>
                    <a:lnTo>
                      <a:pt x="191" y="308"/>
                    </a:lnTo>
                    <a:lnTo>
                      <a:pt x="186" y="304"/>
                    </a:lnTo>
                    <a:lnTo>
                      <a:pt x="183" y="299"/>
                    </a:lnTo>
                    <a:lnTo>
                      <a:pt x="180" y="297"/>
                    </a:lnTo>
                    <a:lnTo>
                      <a:pt x="177" y="299"/>
                    </a:lnTo>
                    <a:lnTo>
                      <a:pt x="178" y="313"/>
                    </a:lnTo>
                    <a:lnTo>
                      <a:pt x="183" y="327"/>
                    </a:lnTo>
                    <a:lnTo>
                      <a:pt x="191" y="338"/>
                    </a:lnTo>
                    <a:lnTo>
                      <a:pt x="201" y="347"/>
                    </a:lnTo>
                    <a:lnTo>
                      <a:pt x="212" y="351"/>
                    </a:lnTo>
                    <a:lnTo>
                      <a:pt x="219" y="351"/>
                    </a:lnTo>
                    <a:lnTo>
                      <a:pt x="224" y="350"/>
                    </a:lnTo>
                    <a:lnTo>
                      <a:pt x="229" y="347"/>
                    </a:lnTo>
                    <a:lnTo>
                      <a:pt x="245" y="330"/>
                    </a:lnTo>
                    <a:lnTo>
                      <a:pt x="252" y="309"/>
                    </a:lnTo>
                    <a:lnTo>
                      <a:pt x="254" y="286"/>
                    </a:lnTo>
                    <a:lnTo>
                      <a:pt x="254" y="263"/>
                    </a:lnTo>
                    <a:lnTo>
                      <a:pt x="248" y="255"/>
                    </a:lnTo>
                    <a:lnTo>
                      <a:pt x="245" y="247"/>
                    </a:lnTo>
                    <a:lnTo>
                      <a:pt x="246" y="239"/>
                    </a:lnTo>
                    <a:lnTo>
                      <a:pt x="251" y="232"/>
                    </a:lnTo>
                    <a:lnTo>
                      <a:pt x="256" y="224"/>
                    </a:lnTo>
                    <a:lnTo>
                      <a:pt x="259" y="216"/>
                    </a:lnTo>
                    <a:lnTo>
                      <a:pt x="259" y="207"/>
                    </a:lnTo>
                    <a:lnTo>
                      <a:pt x="254" y="198"/>
                    </a:lnTo>
                    <a:lnTo>
                      <a:pt x="254" y="191"/>
                    </a:lnTo>
                    <a:lnTo>
                      <a:pt x="252" y="185"/>
                    </a:lnTo>
                    <a:lnTo>
                      <a:pt x="248" y="180"/>
                    </a:lnTo>
                    <a:lnTo>
                      <a:pt x="243" y="175"/>
                    </a:lnTo>
                    <a:lnTo>
                      <a:pt x="238" y="170"/>
                    </a:lnTo>
                    <a:lnTo>
                      <a:pt x="236" y="164"/>
                    </a:lnTo>
                    <a:lnTo>
                      <a:pt x="237" y="159"/>
                    </a:lnTo>
                    <a:lnTo>
                      <a:pt x="242" y="152"/>
                    </a:lnTo>
                    <a:lnTo>
                      <a:pt x="246" y="131"/>
                    </a:lnTo>
                    <a:lnTo>
                      <a:pt x="243" y="110"/>
                    </a:lnTo>
                    <a:lnTo>
                      <a:pt x="235" y="92"/>
                    </a:lnTo>
                    <a:lnTo>
                      <a:pt x="227" y="73"/>
                    </a:lnTo>
                    <a:lnTo>
                      <a:pt x="233" y="56"/>
                    </a:lnTo>
                    <a:lnTo>
                      <a:pt x="234" y="36"/>
                    </a:lnTo>
                    <a:lnTo>
                      <a:pt x="233" y="18"/>
                    </a:lnTo>
                    <a:lnTo>
                      <a:pt x="229" y="0"/>
                    </a:lnTo>
                    <a:lnTo>
                      <a:pt x="233" y="9"/>
                    </a:lnTo>
                    <a:lnTo>
                      <a:pt x="242" y="33"/>
                    </a:lnTo>
                    <a:lnTo>
                      <a:pt x="256" y="69"/>
                    </a:lnTo>
                    <a:lnTo>
                      <a:pt x="273" y="112"/>
                    </a:lnTo>
                    <a:lnTo>
                      <a:pt x="291" y="162"/>
                    </a:lnTo>
                    <a:lnTo>
                      <a:pt x="310" y="212"/>
                    </a:lnTo>
                    <a:lnTo>
                      <a:pt x="328" y="259"/>
                    </a:lnTo>
                    <a:lnTo>
                      <a:pt x="343" y="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29360" y="3724560"/>
                <a:ext cx="438120" cy="290520"/>
              </a:xfrm>
              <a:custGeom>
                <a:avLst/>
                <a:gdLst/>
                <a:ahLst/>
                <a:rect l="l" t="t" r="r" b="b"/>
                <a:pathLst>
                  <a:path w="552" h="366">
                    <a:moveTo>
                      <a:pt x="146" y="19"/>
                    </a:moveTo>
                    <a:lnTo>
                      <a:pt x="161" y="23"/>
                    </a:lnTo>
                    <a:lnTo>
                      <a:pt x="177" y="24"/>
                    </a:lnTo>
                    <a:lnTo>
                      <a:pt x="192" y="23"/>
                    </a:lnTo>
                    <a:lnTo>
                      <a:pt x="207" y="20"/>
                    </a:lnTo>
                    <a:lnTo>
                      <a:pt x="222" y="18"/>
                    </a:lnTo>
                    <a:lnTo>
                      <a:pt x="237" y="16"/>
                    </a:lnTo>
                    <a:lnTo>
                      <a:pt x="252" y="13"/>
                    </a:lnTo>
                    <a:lnTo>
                      <a:pt x="265" y="12"/>
                    </a:lnTo>
                    <a:lnTo>
                      <a:pt x="271" y="9"/>
                    </a:lnTo>
                    <a:lnTo>
                      <a:pt x="277" y="10"/>
                    </a:lnTo>
                    <a:lnTo>
                      <a:pt x="283" y="12"/>
                    </a:lnTo>
                    <a:lnTo>
                      <a:pt x="288" y="15"/>
                    </a:lnTo>
                    <a:lnTo>
                      <a:pt x="302" y="17"/>
                    </a:lnTo>
                    <a:lnTo>
                      <a:pt x="317" y="17"/>
                    </a:lnTo>
                    <a:lnTo>
                      <a:pt x="333" y="15"/>
                    </a:lnTo>
                    <a:lnTo>
                      <a:pt x="348" y="12"/>
                    </a:lnTo>
                    <a:lnTo>
                      <a:pt x="363" y="12"/>
                    </a:lnTo>
                    <a:lnTo>
                      <a:pt x="377" y="15"/>
                    </a:lnTo>
                    <a:lnTo>
                      <a:pt x="389" y="21"/>
                    </a:lnTo>
                    <a:lnTo>
                      <a:pt x="398" y="35"/>
                    </a:lnTo>
                    <a:lnTo>
                      <a:pt x="407" y="48"/>
                    </a:lnTo>
                    <a:lnTo>
                      <a:pt x="416" y="62"/>
                    </a:lnTo>
                    <a:lnTo>
                      <a:pt x="426" y="78"/>
                    </a:lnTo>
                    <a:lnTo>
                      <a:pt x="436" y="92"/>
                    </a:lnTo>
                    <a:lnTo>
                      <a:pt x="446" y="104"/>
                    </a:lnTo>
                    <a:lnTo>
                      <a:pt x="459" y="115"/>
                    </a:lnTo>
                    <a:lnTo>
                      <a:pt x="474" y="119"/>
                    </a:lnTo>
                    <a:lnTo>
                      <a:pt x="491" y="119"/>
                    </a:lnTo>
                    <a:lnTo>
                      <a:pt x="499" y="117"/>
                    </a:lnTo>
                    <a:lnTo>
                      <a:pt x="507" y="114"/>
                    </a:lnTo>
                    <a:lnTo>
                      <a:pt x="516" y="110"/>
                    </a:lnTo>
                    <a:lnTo>
                      <a:pt x="524" y="107"/>
                    </a:lnTo>
                    <a:lnTo>
                      <a:pt x="532" y="103"/>
                    </a:lnTo>
                    <a:lnTo>
                      <a:pt x="539" y="101"/>
                    </a:lnTo>
                    <a:lnTo>
                      <a:pt x="545" y="100"/>
                    </a:lnTo>
                    <a:lnTo>
                      <a:pt x="552" y="99"/>
                    </a:lnTo>
                    <a:lnTo>
                      <a:pt x="542" y="113"/>
                    </a:lnTo>
                    <a:lnTo>
                      <a:pt x="532" y="129"/>
                    </a:lnTo>
                    <a:lnTo>
                      <a:pt x="521" y="145"/>
                    </a:lnTo>
                    <a:lnTo>
                      <a:pt x="510" y="162"/>
                    </a:lnTo>
                    <a:lnTo>
                      <a:pt x="497" y="177"/>
                    </a:lnTo>
                    <a:lnTo>
                      <a:pt x="483" y="190"/>
                    </a:lnTo>
                    <a:lnTo>
                      <a:pt x="466" y="200"/>
                    </a:lnTo>
                    <a:lnTo>
                      <a:pt x="446" y="205"/>
                    </a:lnTo>
                    <a:lnTo>
                      <a:pt x="435" y="201"/>
                    </a:lnTo>
                    <a:lnTo>
                      <a:pt x="424" y="198"/>
                    </a:lnTo>
                    <a:lnTo>
                      <a:pt x="413" y="192"/>
                    </a:lnTo>
                    <a:lnTo>
                      <a:pt x="403" y="186"/>
                    </a:lnTo>
                    <a:lnTo>
                      <a:pt x="392" y="179"/>
                    </a:lnTo>
                    <a:lnTo>
                      <a:pt x="383" y="172"/>
                    </a:lnTo>
                    <a:lnTo>
                      <a:pt x="374" y="164"/>
                    </a:lnTo>
                    <a:lnTo>
                      <a:pt x="365" y="156"/>
                    </a:lnTo>
                    <a:lnTo>
                      <a:pt x="361" y="156"/>
                    </a:lnTo>
                    <a:lnTo>
                      <a:pt x="359" y="156"/>
                    </a:lnTo>
                    <a:lnTo>
                      <a:pt x="356" y="157"/>
                    </a:lnTo>
                    <a:lnTo>
                      <a:pt x="354" y="160"/>
                    </a:lnTo>
                    <a:lnTo>
                      <a:pt x="358" y="169"/>
                    </a:lnTo>
                    <a:lnTo>
                      <a:pt x="362" y="176"/>
                    </a:lnTo>
                    <a:lnTo>
                      <a:pt x="368" y="183"/>
                    </a:lnTo>
                    <a:lnTo>
                      <a:pt x="375" y="189"/>
                    </a:lnTo>
                    <a:lnTo>
                      <a:pt x="383" y="193"/>
                    </a:lnTo>
                    <a:lnTo>
                      <a:pt x="391" y="199"/>
                    </a:lnTo>
                    <a:lnTo>
                      <a:pt x="398" y="205"/>
                    </a:lnTo>
                    <a:lnTo>
                      <a:pt x="405" y="210"/>
                    </a:lnTo>
                    <a:lnTo>
                      <a:pt x="443" y="225"/>
                    </a:lnTo>
                    <a:lnTo>
                      <a:pt x="453" y="255"/>
                    </a:lnTo>
                    <a:lnTo>
                      <a:pt x="461" y="286"/>
                    </a:lnTo>
                    <a:lnTo>
                      <a:pt x="467" y="319"/>
                    </a:lnTo>
                    <a:lnTo>
                      <a:pt x="472" y="352"/>
                    </a:lnTo>
                    <a:lnTo>
                      <a:pt x="461" y="363"/>
                    </a:lnTo>
                    <a:lnTo>
                      <a:pt x="448" y="365"/>
                    </a:lnTo>
                    <a:lnTo>
                      <a:pt x="434" y="366"/>
                    </a:lnTo>
                    <a:lnTo>
                      <a:pt x="420" y="366"/>
                    </a:lnTo>
                    <a:lnTo>
                      <a:pt x="406" y="366"/>
                    </a:lnTo>
                    <a:lnTo>
                      <a:pt x="392" y="365"/>
                    </a:lnTo>
                    <a:lnTo>
                      <a:pt x="378" y="364"/>
                    </a:lnTo>
                    <a:lnTo>
                      <a:pt x="365" y="361"/>
                    </a:lnTo>
                    <a:lnTo>
                      <a:pt x="352" y="360"/>
                    </a:lnTo>
                    <a:lnTo>
                      <a:pt x="338" y="358"/>
                    </a:lnTo>
                    <a:lnTo>
                      <a:pt x="324" y="357"/>
                    </a:lnTo>
                    <a:lnTo>
                      <a:pt x="310" y="356"/>
                    </a:lnTo>
                    <a:lnTo>
                      <a:pt x="298" y="356"/>
                    </a:lnTo>
                    <a:lnTo>
                      <a:pt x="284" y="356"/>
                    </a:lnTo>
                    <a:lnTo>
                      <a:pt x="270" y="357"/>
                    </a:lnTo>
                    <a:lnTo>
                      <a:pt x="256" y="359"/>
                    </a:lnTo>
                    <a:lnTo>
                      <a:pt x="242" y="363"/>
                    </a:lnTo>
                    <a:lnTo>
                      <a:pt x="227" y="358"/>
                    </a:lnTo>
                    <a:lnTo>
                      <a:pt x="212" y="354"/>
                    </a:lnTo>
                    <a:lnTo>
                      <a:pt x="197" y="351"/>
                    </a:lnTo>
                    <a:lnTo>
                      <a:pt x="182" y="348"/>
                    </a:lnTo>
                    <a:lnTo>
                      <a:pt x="167" y="344"/>
                    </a:lnTo>
                    <a:lnTo>
                      <a:pt x="152" y="337"/>
                    </a:lnTo>
                    <a:lnTo>
                      <a:pt x="140" y="329"/>
                    </a:lnTo>
                    <a:lnTo>
                      <a:pt x="128" y="319"/>
                    </a:lnTo>
                    <a:lnTo>
                      <a:pt x="132" y="285"/>
                    </a:lnTo>
                    <a:lnTo>
                      <a:pt x="133" y="252"/>
                    </a:lnTo>
                    <a:lnTo>
                      <a:pt x="135" y="218"/>
                    </a:lnTo>
                    <a:lnTo>
                      <a:pt x="139" y="185"/>
                    </a:lnTo>
                    <a:lnTo>
                      <a:pt x="143" y="152"/>
                    </a:lnTo>
                    <a:lnTo>
                      <a:pt x="151" y="119"/>
                    </a:lnTo>
                    <a:lnTo>
                      <a:pt x="162" y="89"/>
                    </a:lnTo>
                    <a:lnTo>
                      <a:pt x="176" y="61"/>
                    </a:lnTo>
                    <a:lnTo>
                      <a:pt x="176" y="56"/>
                    </a:lnTo>
                    <a:lnTo>
                      <a:pt x="173" y="51"/>
                    </a:lnTo>
                    <a:lnTo>
                      <a:pt x="171" y="47"/>
                    </a:lnTo>
                    <a:lnTo>
                      <a:pt x="166" y="42"/>
                    </a:lnTo>
                    <a:lnTo>
                      <a:pt x="156" y="45"/>
                    </a:lnTo>
                    <a:lnTo>
                      <a:pt x="150" y="53"/>
                    </a:lnTo>
                    <a:lnTo>
                      <a:pt x="146" y="62"/>
                    </a:lnTo>
                    <a:lnTo>
                      <a:pt x="141" y="71"/>
                    </a:lnTo>
                    <a:lnTo>
                      <a:pt x="140" y="79"/>
                    </a:lnTo>
                    <a:lnTo>
                      <a:pt x="138" y="88"/>
                    </a:lnTo>
                    <a:lnTo>
                      <a:pt x="134" y="94"/>
                    </a:lnTo>
                    <a:lnTo>
                      <a:pt x="127" y="93"/>
                    </a:lnTo>
                    <a:lnTo>
                      <a:pt x="109" y="87"/>
                    </a:lnTo>
                    <a:lnTo>
                      <a:pt x="91" y="80"/>
                    </a:lnTo>
                    <a:lnTo>
                      <a:pt x="75" y="71"/>
                    </a:lnTo>
                    <a:lnTo>
                      <a:pt x="59" y="61"/>
                    </a:lnTo>
                    <a:lnTo>
                      <a:pt x="44" y="49"/>
                    </a:lnTo>
                    <a:lnTo>
                      <a:pt x="29" y="36"/>
                    </a:lnTo>
                    <a:lnTo>
                      <a:pt x="14" y="25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20" y="4"/>
                    </a:lnTo>
                    <a:lnTo>
                      <a:pt x="37" y="8"/>
                    </a:lnTo>
                    <a:lnTo>
                      <a:pt x="56" y="9"/>
                    </a:lnTo>
                    <a:lnTo>
                      <a:pt x="74" y="9"/>
                    </a:lnTo>
                    <a:lnTo>
                      <a:pt x="91" y="10"/>
                    </a:lnTo>
                    <a:lnTo>
                      <a:pt x="110" y="11"/>
                    </a:lnTo>
                    <a:lnTo>
                      <a:pt x="128" y="13"/>
                    </a:lnTo>
                    <a:lnTo>
                      <a:pt x="146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489440" y="376560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4" y="25"/>
                    </a:moveTo>
                    <a:lnTo>
                      <a:pt x="14" y="35"/>
                    </a:lnTo>
                    <a:lnTo>
                      <a:pt x="7" y="34"/>
                    </a:lnTo>
                    <a:lnTo>
                      <a:pt x="2" y="26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c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05640" y="3784680"/>
                <a:ext cx="45720" cy="2556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59" y="8"/>
                    </a:moveTo>
                    <a:lnTo>
                      <a:pt x="54" y="15"/>
                    </a:lnTo>
                    <a:lnTo>
                      <a:pt x="48" y="22"/>
                    </a:lnTo>
                    <a:lnTo>
                      <a:pt x="42" y="27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7" y="31"/>
                    </a:lnTo>
                    <a:lnTo>
                      <a:pt x="12" y="31"/>
                    </a:lnTo>
                    <a:lnTo>
                      <a:pt x="8" y="30"/>
                    </a:lnTo>
                    <a:lnTo>
                      <a:pt x="3" y="28"/>
                    </a:lnTo>
                    <a:lnTo>
                      <a:pt x="0" y="27"/>
                    </a:lnTo>
                    <a:lnTo>
                      <a:pt x="7" y="26"/>
                    </a:lnTo>
                    <a:lnTo>
                      <a:pt x="16" y="23"/>
                    </a:lnTo>
                    <a:lnTo>
                      <a:pt x="24" y="17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897680" y="378468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15" h="57">
                    <a:moveTo>
                      <a:pt x="13" y="57"/>
                    </a:moveTo>
                    <a:lnTo>
                      <a:pt x="8" y="49"/>
                    </a:lnTo>
                    <a:lnTo>
                      <a:pt x="2" y="40"/>
                    </a:lnTo>
                    <a:lnTo>
                      <a:pt x="0" y="32"/>
                    </a:lnTo>
                    <a:lnTo>
                      <a:pt x="5" y="23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2" y="0"/>
                    </a:lnTo>
                    <a:lnTo>
                      <a:pt x="9" y="13"/>
                    </a:lnTo>
                    <a:lnTo>
                      <a:pt x="14" y="28"/>
                    </a:lnTo>
                    <a:lnTo>
                      <a:pt x="15" y="43"/>
                    </a:lnTo>
                    <a:lnTo>
                      <a:pt x="13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67520" y="3784680"/>
                <a:ext cx="23760" cy="4284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30" y="38"/>
                    </a:moveTo>
                    <a:lnTo>
                      <a:pt x="12" y="54"/>
                    </a:lnTo>
                    <a:lnTo>
                      <a:pt x="8" y="39"/>
                    </a:lnTo>
                    <a:lnTo>
                      <a:pt x="2" y="25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2" y="10"/>
                    </a:lnTo>
                    <a:lnTo>
                      <a:pt x="16" y="20"/>
                    </a:lnTo>
                    <a:lnTo>
                      <a:pt x="22" y="30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43640" y="3789720"/>
                <a:ext cx="20520" cy="54000"/>
              </a:xfrm>
              <a:custGeom>
                <a:avLst/>
                <a:gdLst/>
                <a:ahLst/>
                <a:rect l="l" t="t" r="r" b="b"/>
                <a:pathLst>
                  <a:path w="25" h="69">
                    <a:moveTo>
                      <a:pt x="25" y="49"/>
                    </a:moveTo>
                    <a:lnTo>
                      <a:pt x="22" y="54"/>
                    </a:lnTo>
                    <a:lnTo>
                      <a:pt x="18" y="60"/>
                    </a:lnTo>
                    <a:lnTo>
                      <a:pt x="14" y="66"/>
                    </a:lnTo>
                    <a:lnTo>
                      <a:pt x="8" y="69"/>
                    </a:lnTo>
                    <a:lnTo>
                      <a:pt x="0" y="53"/>
                    </a:lnTo>
                    <a:lnTo>
                      <a:pt x="1" y="35"/>
                    </a:lnTo>
                    <a:lnTo>
                      <a:pt x="6" y="16"/>
                    </a:lnTo>
                    <a:lnTo>
                      <a:pt x="11" y="0"/>
                    </a:lnTo>
                    <a:lnTo>
                      <a:pt x="18" y="11"/>
                    </a:lnTo>
                    <a:lnTo>
                      <a:pt x="23" y="22"/>
                    </a:lnTo>
                    <a:lnTo>
                      <a:pt x="25" y="36"/>
                    </a:lnTo>
                    <a:lnTo>
                      <a:pt x="2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73600" y="3819600"/>
                <a:ext cx="262080" cy="1684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100" y="11"/>
                    </a:moveTo>
                    <a:lnTo>
                      <a:pt x="112" y="16"/>
                    </a:lnTo>
                    <a:lnTo>
                      <a:pt x="135" y="18"/>
                    </a:lnTo>
                    <a:lnTo>
                      <a:pt x="157" y="16"/>
                    </a:lnTo>
                    <a:lnTo>
                      <a:pt x="180" y="16"/>
                    </a:lnTo>
                    <a:lnTo>
                      <a:pt x="203" y="16"/>
                    </a:lnTo>
                    <a:lnTo>
                      <a:pt x="225" y="18"/>
                    </a:lnTo>
                    <a:lnTo>
                      <a:pt x="247" y="21"/>
                    </a:lnTo>
                    <a:lnTo>
                      <a:pt x="268" y="27"/>
                    </a:lnTo>
                    <a:lnTo>
                      <a:pt x="287" y="36"/>
                    </a:lnTo>
                    <a:lnTo>
                      <a:pt x="295" y="41"/>
                    </a:lnTo>
                    <a:lnTo>
                      <a:pt x="305" y="45"/>
                    </a:lnTo>
                    <a:lnTo>
                      <a:pt x="312" y="50"/>
                    </a:lnTo>
                    <a:lnTo>
                      <a:pt x="313" y="57"/>
                    </a:lnTo>
                    <a:lnTo>
                      <a:pt x="307" y="72"/>
                    </a:lnTo>
                    <a:lnTo>
                      <a:pt x="307" y="88"/>
                    </a:lnTo>
                    <a:lnTo>
                      <a:pt x="310" y="104"/>
                    </a:lnTo>
                    <a:lnTo>
                      <a:pt x="317" y="118"/>
                    </a:lnTo>
                    <a:lnTo>
                      <a:pt x="330" y="125"/>
                    </a:lnTo>
                    <a:lnTo>
                      <a:pt x="330" y="135"/>
                    </a:lnTo>
                    <a:lnTo>
                      <a:pt x="327" y="148"/>
                    </a:lnTo>
                    <a:lnTo>
                      <a:pt x="325" y="160"/>
                    </a:lnTo>
                    <a:lnTo>
                      <a:pt x="325" y="202"/>
                    </a:lnTo>
                    <a:lnTo>
                      <a:pt x="320" y="203"/>
                    </a:lnTo>
                    <a:lnTo>
                      <a:pt x="315" y="205"/>
                    </a:lnTo>
                    <a:lnTo>
                      <a:pt x="309" y="206"/>
                    </a:lnTo>
                    <a:lnTo>
                      <a:pt x="305" y="209"/>
                    </a:lnTo>
                    <a:lnTo>
                      <a:pt x="300" y="210"/>
                    </a:lnTo>
                    <a:lnTo>
                      <a:pt x="294" y="211"/>
                    </a:lnTo>
                    <a:lnTo>
                      <a:pt x="290" y="212"/>
                    </a:lnTo>
                    <a:lnTo>
                      <a:pt x="284" y="212"/>
                    </a:lnTo>
                    <a:lnTo>
                      <a:pt x="279" y="202"/>
                    </a:lnTo>
                    <a:lnTo>
                      <a:pt x="275" y="192"/>
                    </a:lnTo>
                    <a:lnTo>
                      <a:pt x="272" y="181"/>
                    </a:lnTo>
                    <a:lnTo>
                      <a:pt x="277" y="171"/>
                    </a:lnTo>
                    <a:lnTo>
                      <a:pt x="285" y="162"/>
                    </a:lnTo>
                    <a:lnTo>
                      <a:pt x="291" y="151"/>
                    </a:lnTo>
                    <a:lnTo>
                      <a:pt x="294" y="141"/>
                    </a:lnTo>
                    <a:lnTo>
                      <a:pt x="292" y="128"/>
                    </a:lnTo>
                    <a:lnTo>
                      <a:pt x="286" y="115"/>
                    </a:lnTo>
                    <a:lnTo>
                      <a:pt x="277" y="107"/>
                    </a:lnTo>
                    <a:lnTo>
                      <a:pt x="266" y="103"/>
                    </a:lnTo>
                    <a:lnTo>
                      <a:pt x="253" y="99"/>
                    </a:lnTo>
                    <a:lnTo>
                      <a:pt x="240" y="97"/>
                    </a:lnTo>
                    <a:lnTo>
                      <a:pt x="229" y="94"/>
                    </a:lnTo>
                    <a:lnTo>
                      <a:pt x="218" y="87"/>
                    </a:lnTo>
                    <a:lnTo>
                      <a:pt x="210" y="75"/>
                    </a:lnTo>
                    <a:lnTo>
                      <a:pt x="189" y="68"/>
                    </a:lnTo>
                    <a:lnTo>
                      <a:pt x="168" y="69"/>
                    </a:lnTo>
                    <a:lnTo>
                      <a:pt x="143" y="73"/>
                    </a:lnTo>
                    <a:lnTo>
                      <a:pt x="120" y="79"/>
                    </a:lnTo>
                    <a:lnTo>
                      <a:pt x="98" y="82"/>
                    </a:lnTo>
                    <a:lnTo>
                      <a:pt x="79" y="80"/>
                    </a:lnTo>
                    <a:lnTo>
                      <a:pt x="62" y="71"/>
                    </a:lnTo>
                    <a:lnTo>
                      <a:pt x="48" y="49"/>
                    </a:lnTo>
                    <a:lnTo>
                      <a:pt x="42" y="43"/>
                    </a:lnTo>
                    <a:lnTo>
                      <a:pt x="36" y="38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3" y="21"/>
                    </a:lnTo>
                    <a:lnTo>
                      <a:pt x="7" y="19"/>
                    </a:lnTo>
                    <a:lnTo>
                      <a:pt x="0" y="16"/>
                    </a:lnTo>
                    <a:lnTo>
                      <a:pt x="4" y="7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4"/>
                    </a:lnTo>
                    <a:lnTo>
                      <a:pt x="34" y="6"/>
                    </a:lnTo>
                    <a:lnTo>
                      <a:pt x="41" y="9"/>
                    </a:lnTo>
                    <a:lnTo>
                      <a:pt x="48" y="11"/>
                    </a:lnTo>
                    <a:lnTo>
                      <a:pt x="100" y="11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97640" y="3848400"/>
                <a:ext cx="290520" cy="154080"/>
              </a:xfrm>
              <a:custGeom>
                <a:avLst/>
                <a:gdLst/>
                <a:ahLst/>
                <a:rect l="l" t="t" r="r" b="b"/>
                <a:pathLst>
                  <a:path w="364" h="195">
                    <a:moveTo>
                      <a:pt x="160" y="62"/>
                    </a:moveTo>
                    <a:lnTo>
                      <a:pt x="176" y="67"/>
                    </a:lnTo>
                    <a:lnTo>
                      <a:pt x="191" y="69"/>
                    </a:lnTo>
                    <a:lnTo>
                      <a:pt x="207" y="68"/>
                    </a:lnTo>
                    <a:lnTo>
                      <a:pt x="222" y="66"/>
                    </a:lnTo>
                    <a:lnTo>
                      <a:pt x="239" y="61"/>
                    </a:lnTo>
                    <a:lnTo>
                      <a:pt x="254" y="58"/>
                    </a:lnTo>
                    <a:lnTo>
                      <a:pt x="270" y="54"/>
                    </a:lnTo>
                    <a:lnTo>
                      <a:pt x="285" y="52"/>
                    </a:lnTo>
                    <a:lnTo>
                      <a:pt x="294" y="57"/>
                    </a:lnTo>
                    <a:lnTo>
                      <a:pt x="303" y="63"/>
                    </a:lnTo>
                    <a:lnTo>
                      <a:pt x="311" y="69"/>
                    </a:lnTo>
                    <a:lnTo>
                      <a:pt x="320" y="76"/>
                    </a:lnTo>
                    <a:lnTo>
                      <a:pt x="331" y="82"/>
                    </a:lnTo>
                    <a:lnTo>
                      <a:pt x="341" y="87"/>
                    </a:lnTo>
                    <a:lnTo>
                      <a:pt x="351" y="89"/>
                    </a:lnTo>
                    <a:lnTo>
                      <a:pt x="363" y="90"/>
                    </a:lnTo>
                    <a:lnTo>
                      <a:pt x="364" y="100"/>
                    </a:lnTo>
                    <a:lnTo>
                      <a:pt x="358" y="108"/>
                    </a:lnTo>
                    <a:lnTo>
                      <a:pt x="350" y="116"/>
                    </a:lnTo>
                    <a:lnTo>
                      <a:pt x="346" y="126"/>
                    </a:lnTo>
                    <a:lnTo>
                      <a:pt x="343" y="141"/>
                    </a:lnTo>
                    <a:lnTo>
                      <a:pt x="345" y="155"/>
                    </a:lnTo>
                    <a:lnTo>
                      <a:pt x="350" y="168"/>
                    </a:lnTo>
                    <a:lnTo>
                      <a:pt x="360" y="180"/>
                    </a:lnTo>
                    <a:lnTo>
                      <a:pt x="339" y="184"/>
                    </a:lnTo>
                    <a:lnTo>
                      <a:pt x="318" y="188"/>
                    </a:lnTo>
                    <a:lnTo>
                      <a:pt x="297" y="191"/>
                    </a:lnTo>
                    <a:lnTo>
                      <a:pt x="275" y="194"/>
                    </a:lnTo>
                    <a:lnTo>
                      <a:pt x="254" y="195"/>
                    </a:lnTo>
                    <a:lnTo>
                      <a:pt x="232" y="195"/>
                    </a:lnTo>
                    <a:lnTo>
                      <a:pt x="210" y="194"/>
                    </a:lnTo>
                    <a:lnTo>
                      <a:pt x="188" y="193"/>
                    </a:lnTo>
                    <a:lnTo>
                      <a:pt x="166" y="191"/>
                    </a:lnTo>
                    <a:lnTo>
                      <a:pt x="144" y="188"/>
                    </a:lnTo>
                    <a:lnTo>
                      <a:pt x="122" y="184"/>
                    </a:lnTo>
                    <a:lnTo>
                      <a:pt x="101" y="181"/>
                    </a:lnTo>
                    <a:lnTo>
                      <a:pt x="81" y="176"/>
                    </a:lnTo>
                    <a:lnTo>
                      <a:pt x="60" y="171"/>
                    </a:lnTo>
                    <a:lnTo>
                      <a:pt x="40" y="165"/>
                    </a:lnTo>
                    <a:lnTo>
                      <a:pt x="21" y="159"/>
                    </a:lnTo>
                    <a:lnTo>
                      <a:pt x="17" y="136"/>
                    </a:lnTo>
                    <a:lnTo>
                      <a:pt x="11" y="114"/>
                    </a:lnTo>
                    <a:lnTo>
                      <a:pt x="5" y="92"/>
                    </a:lnTo>
                    <a:lnTo>
                      <a:pt x="0" y="70"/>
                    </a:lnTo>
                    <a:lnTo>
                      <a:pt x="13" y="68"/>
                    </a:lnTo>
                    <a:lnTo>
                      <a:pt x="24" y="62"/>
                    </a:lnTo>
                    <a:lnTo>
                      <a:pt x="36" y="55"/>
                    </a:lnTo>
                    <a:lnTo>
                      <a:pt x="46" y="46"/>
                    </a:lnTo>
                    <a:lnTo>
                      <a:pt x="55" y="36"/>
                    </a:lnTo>
                    <a:lnTo>
                      <a:pt x="63" y="24"/>
                    </a:lnTo>
                    <a:lnTo>
                      <a:pt x="71" y="14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1"/>
                    </a:lnTo>
                    <a:lnTo>
                      <a:pt x="98" y="2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6" y="9"/>
                    </a:lnTo>
                    <a:lnTo>
                      <a:pt x="123" y="15"/>
                    </a:lnTo>
                    <a:lnTo>
                      <a:pt x="128" y="23"/>
                    </a:lnTo>
                    <a:lnTo>
                      <a:pt x="132" y="31"/>
                    </a:lnTo>
                    <a:lnTo>
                      <a:pt x="136" y="39"/>
                    </a:lnTo>
                    <a:lnTo>
                      <a:pt x="139" y="46"/>
                    </a:lnTo>
                    <a:lnTo>
                      <a:pt x="144" y="53"/>
                    </a:lnTo>
                    <a:lnTo>
                      <a:pt x="151" y="59"/>
                    </a:lnTo>
                    <a:lnTo>
                      <a:pt x="160" y="62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67520" y="3854520"/>
                <a:ext cx="56880" cy="8604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71" y="0"/>
                    </a:moveTo>
                    <a:lnTo>
                      <a:pt x="69" y="27"/>
                    </a:lnTo>
                    <a:lnTo>
                      <a:pt x="65" y="54"/>
                    </a:lnTo>
                    <a:lnTo>
                      <a:pt x="62" y="81"/>
                    </a:lnTo>
                    <a:lnTo>
                      <a:pt x="59" y="108"/>
                    </a:lnTo>
                    <a:lnTo>
                      <a:pt x="47" y="97"/>
                    </a:lnTo>
                    <a:lnTo>
                      <a:pt x="37" y="85"/>
                    </a:lnTo>
                    <a:lnTo>
                      <a:pt x="26" y="73"/>
                    </a:lnTo>
                    <a:lnTo>
                      <a:pt x="17" y="60"/>
                    </a:lnTo>
                    <a:lnTo>
                      <a:pt x="10" y="46"/>
                    </a:lnTo>
                    <a:lnTo>
                      <a:pt x="4" y="32"/>
                    </a:lnTo>
                    <a:lnTo>
                      <a:pt x="1" y="18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7" y="2"/>
                    </a:lnTo>
                    <a:lnTo>
                      <a:pt x="26" y="2"/>
                    </a:lnTo>
                    <a:lnTo>
                      <a:pt x="35" y="1"/>
                    </a:lnTo>
                    <a:lnTo>
                      <a:pt x="44" y="1"/>
                    </a:lnTo>
                    <a:lnTo>
                      <a:pt x="53" y="1"/>
                    </a:lnTo>
                    <a:lnTo>
                      <a:pt x="6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24600" y="3857760"/>
                <a:ext cx="82440" cy="2001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104" y="16"/>
                    </a:moveTo>
                    <a:lnTo>
                      <a:pt x="96" y="38"/>
                    </a:lnTo>
                    <a:lnTo>
                      <a:pt x="88" y="61"/>
                    </a:lnTo>
                    <a:lnTo>
                      <a:pt x="81" y="83"/>
                    </a:lnTo>
                    <a:lnTo>
                      <a:pt x="73" y="106"/>
                    </a:lnTo>
                    <a:lnTo>
                      <a:pt x="66" y="128"/>
                    </a:lnTo>
                    <a:lnTo>
                      <a:pt x="58" y="149"/>
                    </a:lnTo>
                    <a:lnTo>
                      <a:pt x="50" y="171"/>
                    </a:lnTo>
                    <a:lnTo>
                      <a:pt x="40" y="193"/>
                    </a:lnTo>
                    <a:lnTo>
                      <a:pt x="43" y="208"/>
                    </a:lnTo>
                    <a:lnTo>
                      <a:pt x="46" y="225"/>
                    </a:lnTo>
                    <a:lnTo>
                      <a:pt x="46" y="240"/>
                    </a:lnTo>
                    <a:lnTo>
                      <a:pt x="37" y="252"/>
                    </a:lnTo>
                    <a:lnTo>
                      <a:pt x="30" y="244"/>
                    </a:lnTo>
                    <a:lnTo>
                      <a:pt x="23" y="235"/>
                    </a:lnTo>
                    <a:lnTo>
                      <a:pt x="20" y="223"/>
                    </a:lnTo>
                    <a:lnTo>
                      <a:pt x="20" y="212"/>
                    </a:lnTo>
                    <a:lnTo>
                      <a:pt x="24" y="204"/>
                    </a:lnTo>
                    <a:lnTo>
                      <a:pt x="30" y="193"/>
                    </a:lnTo>
                    <a:lnTo>
                      <a:pt x="32" y="183"/>
                    </a:lnTo>
                    <a:lnTo>
                      <a:pt x="32" y="172"/>
                    </a:lnTo>
                    <a:lnTo>
                      <a:pt x="21" y="130"/>
                    </a:lnTo>
                    <a:lnTo>
                      <a:pt x="12" y="87"/>
                    </a:lnTo>
                    <a:lnTo>
                      <a:pt x="5" y="4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5" y="7"/>
                    </a:lnTo>
                    <a:lnTo>
                      <a:pt x="38" y="11"/>
                    </a:lnTo>
                    <a:lnTo>
                      <a:pt x="51" y="15"/>
                    </a:lnTo>
                    <a:lnTo>
                      <a:pt x="63" y="17"/>
                    </a:lnTo>
                    <a:lnTo>
                      <a:pt x="76" y="19"/>
                    </a:lnTo>
                    <a:lnTo>
                      <a:pt x="90" y="18"/>
                    </a:lnTo>
                    <a:lnTo>
                      <a:pt x="104" y="16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05600" y="38610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15" h="46">
                    <a:moveTo>
                      <a:pt x="15" y="42"/>
                    </a:moveTo>
                    <a:lnTo>
                      <a:pt x="10" y="46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0" y="18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11" y="8"/>
                    </a:lnTo>
                    <a:lnTo>
                      <a:pt x="14" y="19"/>
                    </a:lnTo>
                    <a:lnTo>
                      <a:pt x="15" y="31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10280" y="39214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36"/>
                    </a:moveTo>
                    <a:lnTo>
                      <a:pt x="1" y="28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4" y="0"/>
                    </a:lnTo>
                    <a:lnTo>
                      <a:pt x="7" y="8"/>
                    </a:lnTo>
                    <a:lnTo>
                      <a:pt x="9" y="17"/>
                    </a:lnTo>
                    <a:lnTo>
                      <a:pt x="9" y="27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48160" y="4007160"/>
                <a:ext cx="276480" cy="212760"/>
              </a:xfrm>
              <a:custGeom>
                <a:avLst/>
                <a:gdLst/>
                <a:ahLst/>
                <a:rect l="l" t="t" r="r" b="b"/>
                <a:pathLst>
                  <a:path w="349" h="267">
                    <a:moveTo>
                      <a:pt x="158" y="21"/>
                    </a:moveTo>
                    <a:lnTo>
                      <a:pt x="175" y="24"/>
                    </a:lnTo>
                    <a:lnTo>
                      <a:pt x="193" y="26"/>
                    </a:lnTo>
                    <a:lnTo>
                      <a:pt x="210" y="28"/>
                    </a:lnTo>
                    <a:lnTo>
                      <a:pt x="227" y="30"/>
                    </a:lnTo>
                    <a:lnTo>
                      <a:pt x="246" y="32"/>
                    </a:lnTo>
                    <a:lnTo>
                      <a:pt x="263" y="32"/>
                    </a:lnTo>
                    <a:lnTo>
                      <a:pt x="281" y="32"/>
                    </a:lnTo>
                    <a:lnTo>
                      <a:pt x="299" y="32"/>
                    </a:lnTo>
                    <a:lnTo>
                      <a:pt x="304" y="46"/>
                    </a:lnTo>
                    <a:lnTo>
                      <a:pt x="311" y="61"/>
                    </a:lnTo>
                    <a:lnTo>
                      <a:pt x="318" y="76"/>
                    </a:lnTo>
                    <a:lnTo>
                      <a:pt x="323" y="91"/>
                    </a:lnTo>
                    <a:lnTo>
                      <a:pt x="326" y="107"/>
                    </a:lnTo>
                    <a:lnTo>
                      <a:pt x="326" y="122"/>
                    </a:lnTo>
                    <a:lnTo>
                      <a:pt x="322" y="137"/>
                    </a:lnTo>
                    <a:lnTo>
                      <a:pt x="314" y="152"/>
                    </a:lnTo>
                    <a:lnTo>
                      <a:pt x="315" y="167"/>
                    </a:lnTo>
                    <a:lnTo>
                      <a:pt x="317" y="180"/>
                    </a:lnTo>
                    <a:lnTo>
                      <a:pt x="322" y="193"/>
                    </a:lnTo>
                    <a:lnTo>
                      <a:pt x="326" y="206"/>
                    </a:lnTo>
                    <a:lnTo>
                      <a:pt x="333" y="218"/>
                    </a:lnTo>
                    <a:lnTo>
                      <a:pt x="339" y="231"/>
                    </a:lnTo>
                    <a:lnTo>
                      <a:pt x="345" y="245"/>
                    </a:lnTo>
                    <a:lnTo>
                      <a:pt x="349" y="258"/>
                    </a:lnTo>
                    <a:lnTo>
                      <a:pt x="342" y="265"/>
                    </a:lnTo>
                    <a:lnTo>
                      <a:pt x="333" y="267"/>
                    </a:lnTo>
                    <a:lnTo>
                      <a:pt x="324" y="266"/>
                    </a:lnTo>
                    <a:lnTo>
                      <a:pt x="316" y="266"/>
                    </a:lnTo>
                    <a:lnTo>
                      <a:pt x="304" y="254"/>
                    </a:lnTo>
                    <a:lnTo>
                      <a:pt x="292" y="243"/>
                    </a:lnTo>
                    <a:lnTo>
                      <a:pt x="278" y="233"/>
                    </a:lnTo>
                    <a:lnTo>
                      <a:pt x="264" y="224"/>
                    </a:lnTo>
                    <a:lnTo>
                      <a:pt x="250" y="215"/>
                    </a:lnTo>
                    <a:lnTo>
                      <a:pt x="236" y="206"/>
                    </a:lnTo>
                    <a:lnTo>
                      <a:pt x="223" y="198"/>
                    </a:lnTo>
                    <a:lnTo>
                      <a:pt x="209" y="189"/>
                    </a:lnTo>
                    <a:lnTo>
                      <a:pt x="195" y="180"/>
                    </a:lnTo>
                    <a:lnTo>
                      <a:pt x="181" y="170"/>
                    </a:lnTo>
                    <a:lnTo>
                      <a:pt x="168" y="161"/>
                    </a:lnTo>
                    <a:lnTo>
                      <a:pt x="157" y="151"/>
                    </a:lnTo>
                    <a:lnTo>
                      <a:pt x="145" y="139"/>
                    </a:lnTo>
                    <a:lnTo>
                      <a:pt x="135" y="126"/>
                    </a:lnTo>
                    <a:lnTo>
                      <a:pt x="126" y="111"/>
                    </a:lnTo>
                    <a:lnTo>
                      <a:pt x="118" y="96"/>
                    </a:lnTo>
                    <a:lnTo>
                      <a:pt x="114" y="93"/>
                    </a:lnTo>
                    <a:lnTo>
                      <a:pt x="111" y="91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97" y="106"/>
                    </a:lnTo>
                    <a:lnTo>
                      <a:pt x="89" y="122"/>
                    </a:lnTo>
                    <a:lnTo>
                      <a:pt x="81" y="139"/>
                    </a:lnTo>
                    <a:lnTo>
                      <a:pt x="73" y="155"/>
                    </a:lnTo>
                    <a:lnTo>
                      <a:pt x="64" y="171"/>
                    </a:lnTo>
                    <a:lnTo>
                      <a:pt x="54" y="186"/>
                    </a:lnTo>
                    <a:lnTo>
                      <a:pt x="44" y="20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27" y="223"/>
                    </a:lnTo>
                    <a:lnTo>
                      <a:pt x="22" y="227"/>
                    </a:lnTo>
                    <a:lnTo>
                      <a:pt x="19" y="230"/>
                    </a:lnTo>
                    <a:lnTo>
                      <a:pt x="15" y="225"/>
                    </a:lnTo>
                    <a:lnTo>
                      <a:pt x="13" y="218"/>
                    </a:lnTo>
                    <a:lnTo>
                      <a:pt x="12" y="212"/>
                    </a:lnTo>
                    <a:lnTo>
                      <a:pt x="12" y="205"/>
                    </a:lnTo>
                    <a:lnTo>
                      <a:pt x="9" y="153"/>
                    </a:lnTo>
                    <a:lnTo>
                      <a:pt x="6" y="102"/>
                    </a:lnTo>
                    <a:lnTo>
                      <a:pt x="2" y="5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12"/>
                    </a:lnTo>
                    <a:lnTo>
                      <a:pt x="57" y="18"/>
                    </a:lnTo>
                    <a:lnTo>
                      <a:pt x="77" y="24"/>
                    </a:lnTo>
                    <a:lnTo>
                      <a:pt x="97" y="27"/>
                    </a:lnTo>
                    <a:lnTo>
                      <a:pt x="118" y="28"/>
                    </a:lnTo>
                    <a:lnTo>
                      <a:pt x="137" y="27"/>
                    </a:lnTo>
                    <a:lnTo>
                      <a:pt x="15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160" y="4073760"/>
                <a:ext cx="225360" cy="112680"/>
              </a:xfrm>
              <a:custGeom>
                <a:avLst/>
                <a:gdLst/>
                <a:ahLst/>
                <a:rect l="l" t="t" r="r" b="b"/>
                <a:pathLst>
                  <a:path w="283" h="142">
                    <a:moveTo>
                      <a:pt x="280" y="0"/>
                    </a:moveTo>
                    <a:lnTo>
                      <a:pt x="282" y="13"/>
                    </a:lnTo>
                    <a:lnTo>
                      <a:pt x="283" y="28"/>
                    </a:lnTo>
                    <a:lnTo>
                      <a:pt x="282" y="43"/>
                    </a:lnTo>
                    <a:lnTo>
                      <a:pt x="276" y="56"/>
                    </a:lnTo>
                    <a:lnTo>
                      <a:pt x="267" y="65"/>
                    </a:lnTo>
                    <a:lnTo>
                      <a:pt x="258" y="71"/>
                    </a:lnTo>
                    <a:lnTo>
                      <a:pt x="248" y="76"/>
                    </a:lnTo>
                    <a:lnTo>
                      <a:pt x="237" y="78"/>
                    </a:lnTo>
                    <a:lnTo>
                      <a:pt x="226" y="80"/>
                    </a:lnTo>
                    <a:lnTo>
                      <a:pt x="214" y="82"/>
                    </a:lnTo>
                    <a:lnTo>
                      <a:pt x="203" y="85"/>
                    </a:lnTo>
                    <a:lnTo>
                      <a:pt x="191" y="87"/>
                    </a:lnTo>
                    <a:lnTo>
                      <a:pt x="170" y="96"/>
                    </a:lnTo>
                    <a:lnTo>
                      <a:pt x="150" y="107"/>
                    </a:lnTo>
                    <a:lnTo>
                      <a:pt x="129" y="116"/>
                    </a:lnTo>
                    <a:lnTo>
                      <a:pt x="108" y="125"/>
                    </a:lnTo>
                    <a:lnTo>
                      <a:pt x="87" y="132"/>
                    </a:lnTo>
                    <a:lnTo>
                      <a:pt x="66" y="138"/>
                    </a:lnTo>
                    <a:lnTo>
                      <a:pt x="43" y="141"/>
                    </a:lnTo>
                    <a:lnTo>
                      <a:pt x="18" y="142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2" y="127"/>
                    </a:lnTo>
                    <a:lnTo>
                      <a:pt x="2" y="121"/>
                    </a:lnTo>
                    <a:lnTo>
                      <a:pt x="2" y="112"/>
                    </a:lnTo>
                    <a:lnTo>
                      <a:pt x="23" y="115"/>
                    </a:lnTo>
                    <a:lnTo>
                      <a:pt x="41" y="114"/>
                    </a:lnTo>
                    <a:lnTo>
                      <a:pt x="60" y="109"/>
                    </a:lnTo>
                    <a:lnTo>
                      <a:pt x="77" y="103"/>
                    </a:lnTo>
                    <a:lnTo>
                      <a:pt x="94" y="94"/>
                    </a:lnTo>
                    <a:lnTo>
                      <a:pt x="111" y="85"/>
                    </a:lnTo>
                    <a:lnTo>
                      <a:pt x="127" y="74"/>
                    </a:lnTo>
                    <a:lnTo>
                      <a:pt x="142" y="63"/>
                    </a:lnTo>
                    <a:lnTo>
                      <a:pt x="158" y="51"/>
                    </a:lnTo>
                    <a:lnTo>
                      <a:pt x="174" y="40"/>
                    </a:lnTo>
                    <a:lnTo>
                      <a:pt x="190" y="28"/>
                    </a:lnTo>
                    <a:lnTo>
                      <a:pt x="206" y="19"/>
                    </a:lnTo>
                    <a:lnTo>
                      <a:pt x="223" y="11"/>
                    </a:lnTo>
                    <a:lnTo>
                      <a:pt x="241" y="4"/>
                    </a:lnTo>
                    <a:lnTo>
                      <a:pt x="260" y="1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41960" y="4151520"/>
                <a:ext cx="68400" cy="4752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33" y="0"/>
                    </a:moveTo>
                    <a:lnTo>
                      <a:pt x="35" y="11"/>
                    </a:lnTo>
                    <a:lnTo>
                      <a:pt x="36" y="22"/>
                    </a:lnTo>
                    <a:lnTo>
                      <a:pt x="40" y="32"/>
                    </a:lnTo>
                    <a:lnTo>
                      <a:pt x="48" y="40"/>
                    </a:lnTo>
                    <a:lnTo>
                      <a:pt x="72" y="41"/>
                    </a:lnTo>
                    <a:lnTo>
                      <a:pt x="86" y="45"/>
                    </a:lnTo>
                    <a:lnTo>
                      <a:pt x="78" y="49"/>
                    </a:lnTo>
                    <a:lnTo>
                      <a:pt x="69" y="51"/>
                    </a:lnTo>
                    <a:lnTo>
                      <a:pt x="59" y="55"/>
                    </a:lnTo>
                    <a:lnTo>
                      <a:pt x="49" y="58"/>
                    </a:lnTo>
                    <a:lnTo>
                      <a:pt x="39" y="60"/>
                    </a:lnTo>
                    <a:lnTo>
                      <a:pt x="28" y="60"/>
                    </a:lnTo>
                    <a:lnTo>
                      <a:pt x="19" y="60"/>
                    </a:lnTo>
                    <a:lnTo>
                      <a:pt x="12" y="58"/>
                    </a:lnTo>
                    <a:lnTo>
                      <a:pt x="13" y="44"/>
                    </a:lnTo>
                    <a:lnTo>
                      <a:pt x="11" y="30"/>
                    </a:lnTo>
                    <a:lnTo>
                      <a:pt x="6" y="19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7" y="4"/>
                    </a:lnTo>
                    <a:lnTo>
                      <a:pt x="25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96160" y="4196160"/>
                <a:ext cx="45720" cy="5544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59" y="1"/>
                    </a:moveTo>
                    <a:lnTo>
                      <a:pt x="54" y="16"/>
                    </a:lnTo>
                    <a:lnTo>
                      <a:pt x="50" y="30"/>
                    </a:lnTo>
                    <a:lnTo>
                      <a:pt x="44" y="44"/>
                    </a:lnTo>
                    <a:lnTo>
                      <a:pt x="39" y="58"/>
                    </a:lnTo>
                    <a:lnTo>
                      <a:pt x="35" y="60"/>
                    </a:lnTo>
                    <a:lnTo>
                      <a:pt x="30" y="61"/>
                    </a:lnTo>
                    <a:lnTo>
                      <a:pt x="24" y="63"/>
                    </a:lnTo>
                    <a:lnTo>
                      <a:pt x="20" y="64"/>
                    </a:lnTo>
                    <a:lnTo>
                      <a:pt x="15" y="66"/>
                    </a:lnTo>
                    <a:lnTo>
                      <a:pt x="9" y="67"/>
                    </a:lnTo>
                    <a:lnTo>
                      <a:pt x="5" y="68"/>
                    </a:lnTo>
                    <a:lnTo>
                      <a:pt x="0" y="69"/>
                    </a:lnTo>
                    <a:lnTo>
                      <a:pt x="8" y="56"/>
                    </a:lnTo>
                    <a:lnTo>
                      <a:pt x="15" y="41"/>
                    </a:lnTo>
                    <a:lnTo>
                      <a:pt x="16" y="25"/>
                    </a:lnTo>
                    <a:lnTo>
                      <a:pt x="12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4" y="5"/>
                    </a:lnTo>
                    <a:lnTo>
                      <a:pt x="39" y="2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51400" y="420696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3"/>
                    </a:moveTo>
                    <a:lnTo>
                      <a:pt x="44" y="25"/>
                    </a:lnTo>
                    <a:lnTo>
                      <a:pt x="39" y="25"/>
                    </a:lnTo>
                    <a:lnTo>
                      <a:pt x="32" y="25"/>
                    </a:lnTo>
                    <a:lnTo>
                      <a:pt x="26" y="25"/>
                    </a:lnTo>
                    <a:lnTo>
                      <a:pt x="18" y="24"/>
                    </a:lnTo>
                    <a:lnTo>
                      <a:pt x="13" y="23"/>
                    </a:lnTo>
                    <a:lnTo>
                      <a:pt x="6" y="22"/>
                    </a:lnTo>
                    <a:lnTo>
                      <a:pt x="0" y="2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23" y="4"/>
                    </a:lnTo>
                    <a:lnTo>
                      <a:pt x="29" y="7"/>
                    </a:lnTo>
                    <a:lnTo>
                      <a:pt x="35" y="10"/>
                    </a:lnTo>
                    <a:lnTo>
                      <a:pt x="40" y="15"/>
                    </a:lnTo>
                    <a:lnTo>
                      <a:pt x="45" y="18"/>
                    </a:lnTo>
                    <a:lnTo>
                      <a:pt x="4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30760" y="4224600"/>
                <a:ext cx="44640" cy="2376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57" y="26"/>
                    </a:moveTo>
                    <a:lnTo>
                      <a:pt x="51" y="28"/>
                    </a:lnTo>
                    <a:lnTo>
                      <a:pt x="45" y="30"/>
                    </a:lnTo>
                    <a:lnTo>
                      <a:pt x="37" y="31"/>
                    </a:lnTo>
                    <a:lnTo>
                      <a:pt x="30" y="31"/>
                    </a:lnTo>
                    <a:lnTo>
                      <a:pt x="22" y="31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19" y="3"/>
                    </a:lnTo>
                    <a:lnTo>
                      <a:pt x="23" y="5"/>
                    </a:lnTo>
                    <a:lnTo>
                      <a:pt x="30" y="9"/>
                    </a:lnTo>
                    <a:lnTo>
                      <a:pt x="36" y="12"/>
                    </a:lnTo>
                    <a:lnTo>
                      <a:pt x="42" y="16"/>
                    </a:lnTo>
                    <a:lnTo>
                      <a:pt x="48" y="19"/>
                    </a:lnTo>
                    <a:lnTo>
                      <a:pt x="52" y="2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30760" y="3224520"/>
                <a:ext cx="452520" cy="482400"/>
              </a:xfrm>
              <a:custGeom>
                <a:avLst/>
                <a:gdLst/>
                <a:ahLst/>
                <a:rect l="l" t="t" r="r" b="b"/>
                <a:pathLst>
                  <a:path w="571" h="608">
                    <a:moveTo>
                      <a:pt x="568" y="299"/>
                    </a:moveTo>
                    <a:lnTo>
                      <a:pt x="566" y="278"/>
                    </a:lnTo>
                    <a:lnTo>
                      <a:pt x="565" y="252"/>
                    </a:lnTo>
                    <a:lnTo>
                      <a:pt x="566" y="230"/>
                    </a:lnTo>
                    <a:lnTo>
                      <a:pt x="566" y="219"/>
                    </a:lnTo>
                    <a:lnTo>
                      <a:pt x="565" y="218"/>
                    </a:lnTo>
                    <a:lnTo>
                      <a:pt x="562" y="215"/>
                    </a:lnTo>
                    <a:lnTo>
                      <a:pt x="557" y="211"/>
                    </a:lnTo>
                    <a:lnTo>
                      <a:pt x="551" y="207"/>
                    </a:lnTo>
                    <a:lnTo>
                      <a:pt x="544" y="202"/>
                    </a:lnTo>
                    <a:lnTo>
                      <a:pt x="537" y="200"/>
                    </a:lnTo>
                    <a:lnTo>
                      <a:pt x="530" y="197"/>
                    </a:lnTo>
                    <a:lnTo>
                      <a:pt x="524" y="199"/>
                    </a:lnTo>
                    <a:lnTo>
                      <a:pt x="524" y="194"/>
                    </a:lnTo>
                    <a:lnTo>
                      <a:pt x="524" y="182"/>
                    </a:lnTo>
                    <a:lnTo>
                      <a:pt x="524" y="167"/>
                    </a:lnTo>
                    <a:lnTo>
                      <a:pt x="526" y="152"/>
                    </a:lnTo>
                    <a:lnTo>
                      <a:pt x="525" y="132"/>
                    </a:lnTo>
                    <a:lnTo>
                      <a:pt x="522" y="127"/>
                    </a:lnTo>
                    <a:lnTo>
                      <a:pt x="520" y="121"/>
                    </a:lnTo>
                    <a:lnTo>
                      <a:pt x="517" y="117"/>
                    </a:lnTo>
                    <a:lnTo>
                      <a:pt x="512" y="113"/>
                    </a:lnTo>
                    <a:lnTo>
                      <a:pt x="506" y="110"/>
                    </a:lnTo>
                    <a:lnTo>
                      <a:pt x="500" y="108"/>
                    </a:lnTo>
                    <a:lnTo>
                      <a:pt x="495" y="108"/>
                    </a:lnTo>
                    <a:lnTo>
                      <a:pt x="488" y="108"/>
                    </a:lnTo>
                    <a:lnTo>
                      <a:pt x="482" y="109"/>
                    </a:lnTo>
                    <a:lnTo>
                      <a:pt x="476" y="112"/>
                    </a:lnTo>
                    <a:lnTo>
                      <a:pt x="472" y="116"/>
                    </a:lnTo>
                    <a:lnTo>
                      <a:pt x="467" y="120"/>
                    </a:lnTo>
                    <a:lnTo>
                      <a:pt x="461" y="127"/>
                    </a:lnTo>
                    <a:lnTo>
                      <a:pt x="447" y="148"/>
                    </a:lnTo>
                    <a:lnTo>
                      <a:pt x="426" y="178"/>
                    </a:lnTo>
                    <a:lnTo>
                      <a:pt x="399" y="215"/>
                    </a:lnTo>
                    <a:lnTo>
                      <a:pt x="369" y="256"/>
                    </a:lnTo>
                    <a:lnTo>
                      <a:pt x="339" y="298"/>
                    </a:lnTo>
                    <a:lnTo>
                      <a:pt x="310" y="338"/>
                    </a:lnTo>
                    <a:lnTo>
                      <a:pt x="285" y="373"/>
                    </a:lnTo>
                    <a:lnTo>
                      <a:pt x="277" y="383"/>
                    </a:lnTo>
                    <a:lnTo>
                      <a:pt x="269" y="394"/>
                    </a:lnTo>
                    <a:lnTo>
                      <a:pt x="260" y="405"/>
                    </a:lnTo>
                    <a:lnTo>
                      <a:pt x="252" y="415"/>
                    </a:lnTo>
                    <a:lnTo>
                      <a:pt x="242" y="424"/>
                    </a:lnTo>
                    <a:lnTo>
                      <a:pt x="234" y="435"/>
                    </a:lnTo>
                    <a:lnTo>
                      <a:pt x="225" y="445"/>
                    </a:lnTo>
                    <a:lnTo>
                      <a:pt x="216" y="454"/>
                    </a:lnTo>
                    <a:lnTo>
                      <a:pt x="222" y="442"/>
                    </a:lnTo>
                    <a:lnTo>
                      <a:pt x="231" y="422"/>
                    </a:lnTo>
                    <a:lnTo>
                      <a:pt x="242" y="397"/>
                    </a:lnTo>
                    <a:lnTo>
                      <a:pt x="257" y="368"/>
                    </a:lnTo>
                    <a:lnTo>
                      <a:pt x="273" y="336"/>
                    </a:lnTo>
                    <a:lnTo>
                      <a:pt x="291" y="300"/>
                    </a:lnTo>
                    <a:lnTo>
                      <a:pt x="308" y="264"/>
                    </a:lnTo>
                    <a:lnTo>
                      <a:pt x="326" y="227"/>
                    </a:lnTo>
                    <a:lnTo>
                      <a:pt x="345" y="192"/>
                    </a:lnTo>
                    <a:lnTo>
                      <a:pt x="362" y="157"/>
                    </a:lnTo>
                    <a:lnTo>
                      <a:pt x="378" y="125"/>
                    </a:lnTo>
                    <a:lnTo>
                      <a:pt x="392" y="97"/>
                    </a:lnTo>
                    <a:lnTo>
                      <a:pt x="404" y="73"/>
                    </a:lnTo>
                    <a:lnTo>
                      <a:pt x="413" y="56"/>
                    </a:lnTo>
                    <a:lnTo>
                      <a:pt x="419" y="44"/>
                    </a:lnTo>
                    <a:lnTo>
                      <a:pt x="421" y="40"/>
                    </a:lnTo>
                    <a:lnTo>
                      <a:pt x="421" y="27"/>
                    </a:lnTo>
                    <a:lnTo>
                      <a:pt x="417" y="17"/>
                    </a:lnTo>
                    <a:lnTo>
                      <a:pt x="409" y="7"/>
                    </a:lnTo>
                    <a:lnTo>
                      <a:pt x="399" y="2"/>
                    </a:lnTo>
                    <a:lnTo>
                      <a:pt x="393" y="0"/>
                    </a:lnTo>
                    <a:lnTo>
                      <a:pt x="386" y="3"/>
                    </a:lnTo>
                    <a:lnTo>
                      <a:pt x="379" y="6"/>
                    </a:lnTo>
                    <a:lnTo>
                      <a:pt x="374" y="11"/>
                    </a:lnTo>
                    <a:lnTo>
                      <a:pt x="368" y="15"/>
                    </a:lnTo>
                    <a:lnTo>
                      <a:pt x="363" y="19"/>
                    </a:lnTo>
                    <a:lnTo>
                      <a:pt x="360" y="22"/>
                    </a:lnTo>
                    <a:lnTo>
                      <a:pt x="359" y="23"/>
                    </a:lnTo>
                    <a:lnTo>
                      <a:pt x="359" y="23"/>
                    </a:lnTo>
                    <a:lnTo>
                      <a:pt x="359" y="25"/>
                    </a:lnTo>
                    <a:lnTo>
                      <a:pt x="344" y="53"/>
                    </a:lnTo>
                    <a:lnTo>
                      <a:pt x="329" y="82"/>
                    </a:lnTo>
                    <a:lnTo>
                      <a:pt x="315" y="111"/>
                    </a:lnTo>
                    <a:lnTo>
                      <a:pt x="300" y="140"/>
                    </a:lnTo>
                    <a:lnTo>
                      <a:pt x="286" y="169"/>
                    </a:lnTo>
                    <a:lnTo>
                      <a:pt x="271" y="197"/>
                    </a:lnTo>
                    <a:lnTo>
                      <a:pt x="255" y="226"/>
                    </a:lnTo>
                    <a:lnTo>
                      <a:pt x="239" y="255"/>
                    </a:lnTo>
                    <a:lnTo>
                      <a:pt x="226" y="270"/>
                    </a:lnTo>
                    <a:lnTo>
                      <a:pt x="212" y="286"/>
                    </a:lnTo>
                    <a:lnTo>
                      <a:pt x="200" y="301"/>
                    </a:lnTo>
                    <a:lnTo>
                      <a:pt x="186" y="316"/>
                    </a:lnTo>
                    <a:lnTo>
                      <a:pt x="173" y="331"/>
                    </a:lnTo>
                    <a:lnTo>
                      <a:pt x="159" y="346"/>
                    </a:lnTo>
                    <a:lnTo>
                      <a:pt x="147" y="362"/>
                    </a:lnTo>
                    <a:lnTo>
                      <a:pt x="134" y="377"/>
                    </a:lnTo>
                    <a:lnTo>
                      <a:pt x="135" y="370"/>
                    </a:lnTo>
                    <a:lnTo>
                      <a:pt x="136" y="356"/>
                    </a:lnTo>
                    <a:lnTo>
                      <a:pt x="135" y="340"/>
                    </a:lnTo>
                    <a:lnTo>
                      <a:pt x="131" y="329"/>
                    </a:lnTo>
                    <a:lnTo>
                      <a:pt x="125" y="325"/>
                    </a:lnTo>
                    <a:lnTo>
                      <a:pt x="119" y="323"/>
                    </a:lnTo>
                    <a:lnTo>
                      <a:pt x="113" y="322"/>
                    </a:lnTo>
                    <a:lnTo>
                      <a:pt x="107" y="322"/>
                    </a:lnTo>
                    <a:lnTo>
                      <a:pt x="102" y="323"/>
                    </a:lnTo>
                    <a:lnTo>
                      <a:pt x="96" y="324"/>
                    </a:lnTo>
                    <a:lnTo>
                      <a:pt x="90" y="328"/>
                    </a:lnTo>
                    <a:lnTo>
                      <a:pt x="86" y="332"/>
                    </a:lnTo>
                    <a:lnTo>
                      <a:pt x="82" y="337"/>
                    </a:lnTo>
                    <a:lnTo>
                      <a:pt x="74" y="347"/>
                    </a:lnTo>
                    <a:lnTo>
                      <a:pt x="65" y="359"/>
                    </a:lnTo>
                    <a:lnTo>
                      <a:pt x="58" y="368"/>
                    </a:lnTo>
                    <a:lnTo>
                      <a:pt x="53" y="362"/>
                    </a:lnTo>
                    <a:lnTo>
                      <a:pt x="48" y="359"/>
                    </a:lnTo>
                    <a:lnTo>
                      <a:pt x="41" y="356"/>
                    </a:lnTo>
                    <a:lnTo>
                      <a:pt x="33" y="355"/>
                    </a:lnTo>
                    <a:lnTo>
                      <a:pt x="20" y="358"/>
                    </a:lnTo>
                    <a:lnTo>
                      <a:pt x="10" y="364"/>
                    </a:lnTo>
                    <a:lnTo>
                      <a:pt x="3" y="375"/>
                    </a:lnTo>
                    <a:lnTo>
                      <a:pt x="0" y="388"/>
                    </a:lnTo>
                    <a:lnTo>
                      <a:pt x="0" y="407"/>
                    </a:lnTo>
                    <a:lnTo>
                      <a:pt x="0" y="428"/>
                    </a:lnTo>
                    <a:lnTo>
                      <a:pt x="0" y="449"/>
                    </a:lnTo>
                    <a:lnTo>
                      <a:pt x="0" y="468"/>
                    </a:lnTo>
                    <a:lnTo>
                      <a:pt x="3" y="474"/>
                    </a:lnTo>
                    <a:lnTo>
                      <a:pt x="7" y="488"/>
                    </a:lnTo>
                    <a:lnTo>
                      <a:pt x="15" y="503"/>
                    </a:lnTo>
                    <a:lnTo>
                      <a:pt x="24" y="511"/>
                    </a:lnTo>
                    <a:lnTo>
                      <a:pt x="24" y="513"/>
                    </a:lnTo>
                    <a:lnTo>
                      <a:pt x="24" y="518"/>
                    </a:lnTo>
                    <a:lnTo>
                      <a:pt x="24" y="523"/>
                    </a:lnTo>
                    <a:lnTo>
                      <a:pt x="24" y="527"/>
                    </a:lnTo>
                    <a:lnTo>
                      <a:pt x="27" y="533"/>
                    </a:lnTo>
                    <a:lnTo>
                      <a:pt x="29" y="538"/>
                    </a:lnTo>
                    <a:lnTo>
                      <a:pt x="33" y="543"/>
                    </a:lnTo>
                    <a:lnTo>
                      <a:pt x="38" y="548"/>
                    </a:lnTo>
                    <a:lnTo>
                      <a:pt x="43" y="551"/>
                    </a:lnTo>
                    <a:lnTo>
                      <a:pt x="49" y="552"/>
                    </a:lnTo>
                    <a:lnTo>
                      <a:pt x="54" y="553"/>
                    </a:lnTo>
                    <a:lnTo>
                      <a:pt x="61" y="553"/>
                    </a:lnTo>
                    <a:lnTo>
                      <a:pt x="64" y="551"/>
                    </a:lnTo>
                    <a:lnTo>
                      <a:pt x="71" y="545"/>
                    </a:lnTo>
                    <a:lnTo>
                      <a:pt x="80" y="536"/>
                    </a:lnTo>
                    <a:lnTo>
                      <a:pt x="91" y="526"/>
                    </a:lnTo>
                    <a:lnTo>
                      <a:pt x="104" y="514"/>
                    </a:lnTo>
                    <a:lnTo>
                      <a:pt x="116" y="503"/>
                    </a:lnTo>
                    <a:lnTo>
                      <a:pt x="126" y="492"/>
                    </a:lnTo>
                    <a:lnTo>
                      <a:pt x="134" y="483"/>
                    </a:lnTo>
                    <a:lnTo>
                      <a:pt x="131" y="492"/>
                    </a:lnTo>
                    <a:lnTo>
                      <a:pt x="126" y="502"/>
                    </a:lnTo>
                    <a:lnTo>
                      <a:pt x="121" y="511"/>
                    </a:lnTo>
                    <a:lnTo>
                      <a:pt x="118" y="520"/>
                    </a:lnTo>
                    <a:lnTo>
                      <a:pt x="113" y="529"/>
                    </a:lnTo>
                    <a:lnTo>
                      <a:pt x="109" y="538"/>
                    </a:lnTo>
                    <a:lnTo>
                      <a:pt x="103" y="548"/>
                    </a:lnTo>
                    <a:lnTo>
                      <a:pt x="98" y="557"/>
                    </a:lnTo>
                    <a:lnTo>
                      <a:pt x="99" y="565"/>
                    </a:lnTo>
                    <a:lnTo>
                      <a:pt x="103" y="582"/>
                    </a:lnTo>
                    <a:lnTo>
                      <a:pt x="111" y="599"/>
                    </a:lnTo>
                    <a:lnTo>
                      <a:pt x="121" y="608"/>
                    </a:lnTo>
                    <a:lnTo>
                      <a:pt x="157" y="601"/>
                    </a:lnTo>
                    <a:lnTo>
                      <a:pt x="179" y="582"/>
                    </a:lnTo>
                    <a:lnTo>
                      <a:pt x="200" y="564"/>
                    </a:lnTo>
                    <a:lnTo>
                      <a:pt x="220" y="544"/>
                    </a:lnTo>
                    <a:lnTo>
                      <a:pt x="240" y="523"/>
                    </a:lnTo>
                    <a:lnTo>
                      <a:pt x="258" y="503"/>
                    </a:lnTo>
                    <a:lnTo>
                      <a:pt x="277" y="482"/>
                    </a:lnTo>
                    <a:lnTo>
                      <a:pt x="294" y="460"/>
                    </a:lnTo>
                    <a:lnTo>
                      <a:pt x="311" y="438"/>
                    </a:lnTo>
                    <a:lnTo>
                      <a:pt x="329" y="416"/>
                    </a:lnTo>
                    <a:lnTo>
                      <a:pt x="345" y="393"/>
                    </a:lnTo>
                    <a:lnTo>
                      <a:pt x="362" y="370"/>
                    </a:lnTo>
                    <a:lnTo>
                      <a:pt x="378" y="346"/>
                    </a:lnTo>
                    <a:lnTo>
                      <a:pt x="394" y="322"/>
                    </a:lnTo>
                    <a:lnTo>
                      <a:pt x="411" y="298"/>
                    </a:lnTo>
                    <a:lnTo>
                      <a:pt x="427" y="273"/>
                    </a:lnTo>
                    <a:lnTo>
                      <a:pt x="444" y="249"/>
                    </a:lnTo>
                    <a:lnTo>
                      <a:pt x="447" y="257"/>
                    </a:lnTo>
                    <a:lnTo>
                      <a:pt x="454" y="271"/>
                    </a:lnTo>
                    <a:lnTo>
                      <a:pt x="460" y="285"/>
                    </a:lnTo>
                    <a:lnTo>
                      <a:pt x="464" y="292"/>
                    </a:lnTo>
                    <a:lnTo>
                      <a:pt x="468" y="293"/>
                    </a:lnTo>
                    <a:lnTo>
                      <a:pt x="474" y="294"/>
                    </a:lnTo>
                    <a:lnTo>
                      <a:pt x="480" y="294"/>
                    </a:lnTo>
                    <a:lnTo>
                      <a:pt x="487" y="293"/>
                    </a:lnTo>
                    <a:lnTo>
                      <a:pt x="492" y="292"/>
                    </a:lnTo>
                    <a:lnTo>
                      <a:pt x="498" y="291"/>
                    </a:lnTo>
                    <a:lnTo>
                      <a:pt x="502" y="290"/>
                    </a:lnTo>
                    <a:lnTo>
                      <a:pt x="503" y="290"/>
                    </a:lnTo>
                    <a:lnTo>
                      <a:pt x="504" y="295"/>
                    </a:lnTo>
                    <a:lnTo>
                      <a:pt x="507" y="303"/>
                    </a:lnTo>
                    <a:lnTo>
                      <a:pt x="513" y="311"/>
                    </a:lnTo>
                    <a:lnTo>
                      <a:pt x="520" y="322"/>
                    </a:lnTo>
                    <a:lnTo>
                      <a:pt x="528" y="330"/>
                    </a:lnTo>
                    <a:lnTo>
                      <a:pt x="536" y="337"/>
                    </a:lnTo>
                    <a:lnTo>
                      <a:pt x="543" y="340"/>
                    </a:lnTo>
                    <a:lnTo>
                      <a:pt x="550" y="340"/>
                    </a:lnTo>
                    <a:lnTo>
                      <a:pt x="562" y="333"/>
                    </a:lnTo>
                    <a:lnTo>
                      <a:pt x="568" y="324"/>
                    </a:lnTo>
                    <a:lnTo>
                      <a:pt x="571" y="311"/>
                    </a:lnTo>
                    <a:lnTo>
                      <a:pt x="568" y="299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35520" y="3521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119480" y="2954160"/>
              <a:ext cx="1636920" cy="1346400"/>
              <a:chOff x="4119480" y="2954160"/>
              <a:chExt cx="1636920" cy="1346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119480" y="3490920"/>
                <a:ext cx="571680" cy="268200"/>
              </a:xfrm>
              <a:custGeom>
                <a:avLst/>
                <a:gdLst/>
                <a:ahLst/>
                <a:rect l="l" t="t" r="r" b="b"/>
                <a:pathLst>
                  <a:path w="719" h="338">
                    <a:moveTo>
                      <a:pt x="719" y="0"/>
                    </a:moveTo>
                    <a:lnTo>
                      <a:pt x="272" y="42"/>
                    </a:lnTo>
                    <a:lnTo>
                      <a:pt x="0" y="127"/>
                    </a:lnTo>
                    <a:lnTo>
                      <a:pt x="0" y="295"/>
                    </a:lnTo>
                    <a:lnTo>
                      <a:pt x="201" y="338"/>
                    </a:lnTo>
                    <a:lnTo>
                      <a:pt x="616" y="144"/>
                    </a:lnTo>
                    <a:lnTo>
                      <a:pt x="7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33880" y="3538440"/>
                <a:ext cx="268200" cy="85680"/>
              </a:xfrm>
              <a:custGeom>
                <a:avLst/>
                <a:gdLst/>
                <a:ahLst/>
                <a:rect l="l" t="t" r="r" b="b"/>
                <a:pathLst>
                  <a:path w="338" h="110">
                    <a:moveTo>
                      <a:pt x="0" y="84"/>
                    </a:moveTo>
                    <a:lnTo>
                      <a:pt x="188" y="110"/>
                    </a:lnTo>
                    <a:lnTo>
                      <a:pt x="194" y="83"/>
                    </a:lnTo>
                    <a:lnTo>
                      <a:pt x="227" y="42"/>
                    </a:lnTo>
                    <a:lnTo>
                      <a:pt x="338" y="17"/>
                    </a:lnTo>
                    <a:lnTo>
                      <a:pt x="261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75080" y="3508200"/>
                <a:ext cx="246240" cy="36720"/>
              </a:xfrm>
              <a:custGeom>
                <a:avLst/>
                <a:gdLst/>
                <a:ahLst/>
                <a:rect l="l" t="t" r="r" b="b"/>
                <a:pathLst>
                  <a:path w="308" h="46">
                    <a:moveTo>
                      <a:pt x="0" y="32"/>
                    </a:moveTo>
                    <a:lnTo>
                      <a:pt x="60" y="46"/>
                    </a:lnTo>
                    <a:lnTo>
                      <a:pt x="30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33880" y="3605040"/>
                <a:ext cx="149040" cy="130320"/>
              </a:xfrm>
              <a:custGeom>
                <a:avLst/>
                <a:gdLst/>
                <a:ahLst/>
                <a:rect l="l" t="t" r="r" b="b"/>
                <a:pathLst>
                  <a:path w="188" h="165">
                    <a:moveTo>
                      <a:pt x="0" y="0"/>
                    </a:moveTo>
                    <a:lnTo>
                      <a:pt x="0" y="136"/>
                    </a:lnTo>
                    <a:lnTo>
                      <a:pt x="144" y="165"/>
                    </a:lnTo>
                    <a:lnTo>
                      <a:pt x="188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10040" y="2954160"/>
                <a:ext cx="846360" cy="497160"/>
              </a:xfrm>
              <a:custGeom>
                <a:avLst/>
                <a:gdLst/>
                <a:ahLst/>
                <a:rect l="l" t="t" r="r" b="b"/>
                <a:pathLst>
                  <a:path w="1065" h="626">
                    <a:moveTo>
                      <a:pt x="856" y="626"/>
                    </a:moveTo>
                    <a:lnTo>
                      <a:pt x="859" y="623"/>
                    </a:lnTo>
                    <a:lnTo>
                      <a:pt x="869" y="616"/>
                    </a:lnTo>
                    <a:lnTo>
                      <a:pt x="884" y="606"/>
                    </a:lnTo>
                    <a:lnTo>
                      <a:pt x="901" y="590"/>
                    </a:lnTo>
                    <a:lnTo>
                      <a:pt x="923" y="569"/>
                    </a:lnTo>
                    <a:lnTo>
                      <a:pt x="946" y="544"/>
                    </a:lnTo>
                    <a:lnTo>
                      <a:pt x="969" y="514"/>
                    </a:lnTo>
                    <a:lnTo>
                      <a:pt x="992" y="478"/>
                    </a:lnTo>
                    <a:lnTo>
                      <a:pt x="1014" y="438"/>
                    </a:lnTo>
                    <a:lnTo>
                      <a:pt x="1033" y="392"/>
                    </a:lnTo>
                    <a:lnTo>
                      <a:pt x="1048" y="341"/>
                    </a:lnTo>
                    <a:lnTo>
                      <a:pt x="1060" y="283"/>
                    </a:lnTo>
                    <a:lnTo>
                      <a:pt x="1065" y="221"/>
                    </a:lnTo>
                    <a:lnTo>
                      <a:pt x="1063" y="153"/>
                    </a:lnTo>
                    <a:lnTo>
                      <a:pt x="1054" y="80"/>
                    </a:lnTo>
                    <a:lnTo>
                      <a:pt x="1036" y="0"/>
                    </a:lnTo>
                    <a:lnTo>
                      <a:pt x="1033" y="0"/>
                    </a:lnTo>
                    <a:lnTo>
                      <a:pt x="1029" y="0"/>
                    </a:lnTo>
                    <a:lnTo>
                      <a:pt x="1020" y="0"/>
                    </a:lnTo>
                    <a:lnTo>
                      <a:pt x="1008" y="0"/>
                    </a:lnTo>
                    <a:lnTo>
                      <a:pt x="994" y="1"/>
                    </a:lnTo>
                    <a:lnTo>
                      <a:pt x="977" y="1"/>
                    </a:lnTo>
                    <a:lnTo>
                      <a:pt x="957" y="1"/>
                    </a:lnTo>
                    <a:lnTo>
                      <a:pt x="934" y="2"/>
                    </a:lnTo>
                    <a:lnTo>
                      <a:pt x="910" y="2"/>
                    </a:lnTo>
                    <a:lnTo>
                      <a:pt x="884" y="3"/>
                    </a:lnTo>
                    <a:lnTo>
                      <a:pt x="856" y="3"/>
                    </a:lnTo>
                    <a:lnTo>
                      <a:pt x="826" y="5"/>
                    </a:lnTo>
                    <a:lnTo>
                      <a:pt x="795" y="5"/>
                    </a:lnTo>
                    <a:lnTo>
                      <a:pt x="763" y="6"/>
                    </a:lnTo>
                    <a:lnTo>
                      <a:pt x="729" y="7"/>
                    </a:lnTo>
                    <a:lnTo>
                      <a:pt x="695" y="7"/>
                    </a:lnTo>
                    <a:lnTo>
                      <a:pt x="659" y="8"/>
                    </a:lnTo>
                    <a:lnTo>
                      <a:pt x="623" y="8"/>
                    </a:lnTo>
                    <a:lnTo>
                      <a:pt x="587" y="9"/>
                    </a:lnTo>
                    <a:lnTo>
                      <a:pt x="551" y="10"/>
                    </a:lnTo>
                    <a:lnTo>
                      <a:pt x="515" y="10"/>
                    </a:lnTo>
                    <a:lnTo>
                      <a:pt x="479" y="12"/>
                    </a:lnTo>
                    <a:lnTo>
                      <a:pt x="443" y="13"/>
                    </a:lnTo>
                    <a:lnTo>
                      <a:pt x="408" y="13"/>
                    </a:lnTo>
                    <a:lnTo>
                      <a:pt x="374" y="14"/>
                    </a:lnTo>
                    <a:lnTo>
                      <a:pt x="341" y="15"/>
                    </a:lnTo>
                    <a:lnTo>
                      <a:pt x="309" y="15"/>
                    </a:lnTo>
                    <a:lnTo>
                      <a:pt x="277" y="16"/>
                    </a:lnTo>
                    <a:lnTo>
                      <a:pt x="248" y="16"/>
                    </a:lnTo>
                    <a:lnTo>
                      <a:pt x="220" y="17"/>
                    </a:lnTo>
                    <a:lnTo>
                      <a:pt x="195" y="18"/>
                    </a:lnTo>
                    <a:lnTo>
                      <a:pt x="170" y="18"/>
                    </a:lnTo>
                    <a:lnTo>
                      <a:pt x="171" y="22"/>
                    </a:lnTo>
                    <a:lnTo>
                      <a:pt x="176" y="30"/>
                    </a:lnTo>
                    <a:lnTo>
                      <a:pt x="181" y="45"/>
                    </a:lnTo>
                    <a:lnTo>
                      <a:pt x="186" y="65"/>
                    </a:lnTo>
                    <a:lnTo>
                      <a:pt x="192" y="89"/>
                    </a:lnTo>
                    <a:lnTo>
                      <a:pt x="197" y="118"/>
                    </a:lnTo>
                    <a:lnTo>
                      <a:pt x="200" y="150"/>
                    </a:lnTo>
                    <a:lnTo>
                      <a:pt x="200" y="186"/>
                    </a:lnTo>
                    <a:lnTo>
                      <a:pt x="197" y="226"/>
                    </a:lnTo>
                    <a:lnTo>
                      <a:pt x="189" y="267"/>
                    </a:lnTo>
                    <a:lnTo>
                      <a:pt x="175" y="312"/>
                    </a:lnTo>
                    <a:lnTo>
                      <a:pt x="155" y="359"/>
                    </a:lnTo>
                    <a:lnTo>
                      <a:pt x="129" y="409"/>
                    </a:lnTo>
                    <a:lnTo>
                      <a:pt x="95" y="459"/>
                    </a:lnTo>
                    <a:lnTo>
                      <a:pt x="52" y="510"/>
                    </a:lnTo>
                    <a:lnTo>
                      <a:pt x="0" y="562"/>
                    </a:lnTo>
                    <a:lnTo>
                      <a:pt x="856" y="6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35680" y="2979720"/>
                <a:ext cx="684000" cy="331560"/>
              </a:xfrm>
              <a:custGeom>
                <a:avLst/>
                <a:gdLst/>
                <a:ahLst/>
                <a:rect l="l" t="t" r="r" b="b"/>
                <a:pathLst>
                  <a:path w="864" h="419">
                    <a:moveTo>
                      <a:pt x="838" y="0"/>
                    </a:moveTo>
                    <a:lnTo>
                      <a:pt x="764" y="1"/>
                    </a:lnTo>
                    <a:lnTo>
                      <a:pt x="746" y="28"/>
                    </a:lnTo>
                    <a:lnTo>
                      <a:pt x="724" y="53"/>
                    </a:lnTo>
                    <a:lnTo>
                      <a:pt x="699" y="77"/>
                    </a:lnTo>
                    <a:lnTo>
                      <a:pt x="671" y="102"/>
                    </a:lnTo>
                    <a:lnTo>
                      <a:pt x="640" y="125"/>
                    </a:lnTo>
                    <a:lnTo>
                      <a:pt x="605" y="147"/>
                    </a:lnTo>
                    <a:lnTo>
                      <a:pt x="567" y="168"/>
                    </a:lnTo>
                    <a:lnTo>
                      <a:pt x="526" y="189"/>
                    </a:lnTo>
                    <a:lnTo>
                      <a:pt x="480" y="209"/>
                    </a:lnTo>
                    <a:lnTo>
                      <a:pt x="430" y="228"/>
                    </a:lnTo>
                    <a:lnTo>
                      <a:pt x="377" y="247"/>
                    </a:lnTo>
                    <a:lnTo>
                      <a:pt x="320" y="264"/>
                    </a:lnTo>
                    <a:lnTo>
                      <a:pt x="257" y="281"/>
                    </a:lnTo>
                    <a:lnTo>
                      <a:pt x="192" y="298"/>
                    </a:lnTo>
                    <a:lnTo>
                      <a:pt x="120" y="313"/>
                    </a:lnTo>
                    <a:lnTo>
                      <a:pt x="45" y="326"/>
                    </a:lnTo>
                    <a:lnTo>
                      <a:pt x="41" y="339"/>
                    </a:lnTo>
                    <a:lnTo>
                      <a:pt x="35" y="352"/>
                    </a:lnTo>
                    <a:lnTo>
                      <a:pt x="30" y="364"/>
                    </a:lnTo>
                    <a:lnTo>
                      <a:pt x="25" y="376"/>
                    </a:lnTo>
                    <a:lnTo>
                      <a:pt x="19" y="387"/>
                    </a:lnTo>
                    <a:lnTo>
                      <a:pt x="12" y="399"/>
                    </a:lnTo>
                    <a:lnTo>
                      <a:pt x="6" y="409"/>
                    </a:lnTo>
                    <a:lnTo>
                      <a:pt x="0" y="419"/>
                    </a:lnTo>
                    <a:lnTo>
                      <a:pt x="42" y="416"/>
                    </a:lnTo>
                    <a:lnTo>
                      <a:pt x="83" y="413"/>
                    </a:lnTo>
                    <a:lnTo>
                      <a:pt x="123" y="409"/>
                    </a:lnTo>
                    <a:lnTo>
                      <a:pt x="162" y="406"/>
                    </a:lnTo>
                    <a:lnTo>
                      <a:pt x="200" y="402"/>
                    </a:lnTo>
                    <a:lnTo>
                      <a:pt x="236" y="399"/>
                    </a:lnTo>
                    <a:lnTo>
                      <a:pt x="271" y="395"/>
                    </a:lnTo>
                    <a:lnTo>
                      <a:pt x="306" y="392"/>
                    </a:lnTo>
                    <a:lnTo>
                      <a:pt x="339" y="387"/>
                    </a:lnTo>
                    <a:lnTo>
                      <a:pt x="372" y="383"/>
                    </a:lnTo>
                    <a:lnTo>
                      <a:pt x="403" y="379"/>
                    </a:lnTo>
                    <a:lnTo>
                      <a:pt x="433" y="375"/>
                    </a:lnTo>
                    <a:lnTo>
                      <a:pt x="463" y="370"/>
                    </a:lnTo>
                    <a:lnTo>
                      <a:pt x="490" y="366"/>
                    </a:lnTo>
                    <a:lnTo>
                      <a:pt x="518" y="360"/>
                    </a:lnTo>
                    <a:lnTo>
                      <a:pt x="544" y="355"/>
                    </a:lnTo>
                    <a:lnTo>
                      <a:pt x="571" y="351"/>
                    </a:lnTo>
                    <a:lnTo>
                      <a:pt x="595" y="345"/>
                    </a:lnTo>
                    <a:lnTo>
                      <a:pt x="619" y="340"/>
                    </a:lnTo>
                    <a:lnTo>
                      <a:pt x="642" y="334"/>
                    </a:lnTo>
                    <a:lnTo>
                      <a:pt x="664" y="329"/>
                    </a:lnTo>
                    <a:lnTo>
                      <a:pt x="686" y="323"/>
                    </a:lnTo>
                    <a:lnTo>
                      <a:pt x="706" y="317"/>
                    </a:lnTo>
                    <a:lnTo>
                      <a:pt x="726" y="311"/>
                    </a:lnTo>
                    <a:lnTo>
                      <a:pt x="745" y="306"/>
                    </a:lnTo>
                    <a:lnTo>
                      <a:pt x="763" y="300"/>
                    </a:lnTo>
                    <a:lnTo>
                      <a:pt x="781" y="294"/>
                    </a:lnTo>
                    <a:lnTo>
                      <a:pt x="797" y="288"/>
                    </a:lnTo>
                    <a:lnTo>
                      <a:pt x="813" y="283"/>
                    </a:lnTo>
                    <a:lnTo>
                      <a:pt x="828" y="277"/>
                    </a:lnTo>
                    <a:lnTo>
                      <a:pt x="843" y="270"/>
                    </a:lnTo>
                    <a:lnTo>
                      <a:pt x="857" y="264"/>
                    </a:lnTo>
                    <a:lnTo>
                      <a:pt x="862" y="210"/>
                    </a:lnTo>
                    <a:lnTo>
                      <a:pt x="864" y="160"/>
                    </a:lnTo>
                    <a:lnTo>
                      <a:pt x="861" y="115"/>
                    </a:lnTo>
                    <a:lnTo>
                      <a:pt x="857" y="76"/>
                    </a:lnTo>
                    <a:lnTo>
                      <a:pt x="851" y="45"/>
                    </a:lnTo>
                    <a:lnTo>
                      <a:pt x="844" y="21"/>
                    </a:lnTo>
                    <a:lnTo>
                      <a:pt x="841" y="6"/>
                    </a:lnTo>
                    <a:lnTo>
                      <a:pt x="83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70600" y="2981160"/>
                <a:ext cx="571320" cy="257400"/>
              </a:xfrm>
              <a:custGeom>
                <a:avLst/>
                <a:gdLst/>
                <a:ahLst/>
                <a:rect l="l" t="t" r="r" b="b"/>
                <a:pathLst>
                  <a:path w="719" h="325">
                    <a:moveTo>
                      <a:pt x="719" y="0"/>
                    </a:moveTo>
                    <a:lnTo>
                      <a:pt x="28" y="15"/>
                    </a:lnTo>
                    <a:lnTo>
                      <a:pt x="34" y="61"/>
                    </a:lnTo>
                    <a:lnTo>
                      <a:pt x="36" y="106"/>
                    </a:lnTo>
                    <a:lnTo>
                      <a:pt x="36" y="148"/>
                    </a:lnTo>
                    <a:lnTo>
                      <a:pt x="33" y="188"/>
                    </a:lnTo>
                    <a:lnTo>
                      <a:pt x="28" y="226"/>
                    </a:lnTo>
                    <a:lnTo>
                      <a:pt x="20" y="261"/>
                    </a:lnTo>
                    <a:lnTo>
                      <a:pt x="11" y="294"/>
                    </a:lnTo>
                    <a:lnTo>
                      <a:pt x="0" y="325"/>
                    </a:lnTo>
                    <a:lnTo>
                      <a:pt x="75" y="312"/>
                    </a:lnTo>
                    <a:lnTo>
                      <a:pt x="147" y="297"/>
                    </a:lnTo>
                    <a:lnTo>
                      <a:pt x="212" y="280"/>
                    </a:lnTo>
                    <a:lnTo>
                      <a:pt x="275" y="263"/>
                    </a:lnTo>
                    <a:lnTo>
                      <a:pt x="332" y="246"/>
                    </a:lnTo>
                    <a:lnTo>
                      <a:pt x="385" y="227"/>
                    </a:lnTo>
                    <a:lnTo>
                      <a:pt x="435" y="208"/>
                    </a:lnTo>
                    <a:lnTo>
                      <a:pt x="481" y="188"/>
                    </a:lnTo>
                    <a:lnTo>
                      <a:pt x="522" y="167"/>
                    </a:lnTo>
                    <a:lnTo>
                      <a:pt x="560" y="146"/>
                    </a:lnTo>
                    <a:lnTo>
                      <a:pt x="595" y="124"/>
                    </a:lnTo>
                    <a:lnTo>
                      <a:pt x="626" y="101"/>
                    </a:lnTo>
                    <a:lnTo>
                      <a:pt x="654" y="76"/>
                    </a:lnTo>
                    <a:lnTo>
                      <a:pt x="679" y="52"/>
                    </a:lnTo>
                    <a:lnTo>
                      <a:pt x="701" y="27"/>
                    </a:lnTo>
                    <a:lnTo>
                      <a:pt x="7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973760" y="3189240"/>
                <a:ext cx="741240" cy="253800"/>
              </a:xfrm>
              <a:custGeom>
                <a:avLst/>
                <a:gdLst/>
                <a:ahLst/>
                <a:rect l="l" t="t" r="r" b="b"/>
                <a:pathLst>
                  <a:path w="935" h="320">
                    <a:moveTo>
                      <a:pt x="0" y="250"/>
                    </a:moveTo>
                    <a:lnTo>
                      <a:pt x="742" y="320"/>
                    </a:lnTo>
                    <a:lnTo>
                      <a:pt x="765" y="302"/>
                    </a:lnTo>
                    <a:lnTo>
                      <a:pt x="786" y="282"/>
                    </a:lnTo>
                    <a:lnTo>
                      <a:pt x="804" y="263"/>
                    </a:lnTo>
                    <a:lnTo>
                      <a:pt x="823" y="243"/>
                    </a:lnTo>
                    <a:lnTo>
                      <a:pt x="839" y="222"/>
                    </a:lnTo>
                    <a:lnTo>
                      <a:pt x="853" y="203"/>
                    </a:lnTo>
                    <a:lnTo>
                      <a:pt x="867" y="182"/>
                    </a:lnTo>
                    <a:lnTo>
                      <a:pt x="878" y="161"/>
                    </a:lnTo>
                    <a:lnTo>
                      <a:pt x="890" y="141"/>
                    </a:lnTo>
                    <a:lnTo>
                      <a:pt x="899" y="120"/>
                    </a:lnTo>
                    <a:lnTo>
                      <a:pt x="907" y="100"/>
                    </a:lnTo>
                    <a:lnTo>
                      <a:pt x="915" y="80"/>
                    </a:lnTo>
                    <a:lnTo>
                      <a:pt x="921" y="59"/>
                    </a:lnTo>
                    <a:lnTo>
                      <a:pt x="927" y="39"/>
                    </a:lnTo>
                    <a:lnTo>
                      <a:pt x="931" y="20"/>
                    </a:lnTo>
                    <a:lnTo>
                      <a:pt x="935" y="0"/>
                    </a:lnTo>
                    <a:lnTo>
                      <a:pt x="921" y="6"/>
                    </a:lnTo>
                    <a:lnTo>
                      <a:pt x="906" y="13"/>
                    </a:lnTo>
                    <a:lnTo>
                      <a:pt x="891" y="19"/>
                    </a:lnTo>
                    <a:lnTo>
                      <a:pt x="875" y="24"/>
                    </a:lnTo>
                    <a:lnTo>
                      <a:pt x="859" y="30"/>
                    </a:lnTo>
                    <a:lnTo>
                      <a:pt x="841" y="36"/>
                    </a:lnTo>
                    <a:lnTo>
                      <a:pt x="823" y="42"/>
                    </a:lnTo>
                    <a:lnTo>
                      <a:pt x="804" y="47"/>
                    </a:lnTo>
                    <a:lnTo>
                      <a:pt x="784" y="53"/>
                    </a:lnTo>
                    <a:lnTo>
                      <a:pt x="764" y="59"/>
                    </a:lnTo>
                    <a:lnTo>
                      <a:pt x="742" y="65"/>
                    </a:lnTo>
                    <a:lnTo>
                      <a:pt x="720" y="70"/>
                    </a:lnTo>
                    <a:lnTo>
                      <a:pt x="697" y="76"/>
                    </a:lnTo>
                    <a:lnTo>
                      <a:pt x="673" y="81"/>
                    </a:lnTo>
                    <a:lnTo>
                      <a:pt x="649" y="87"/>
                    </a:lnTo>
                    <a:lnTo>
                      <a:pt x="622" y="91"/>
                    </a:lnTo>
                    <a:lnTo>
                      <a:pt x="596" y="96"/>
                    </a:lnTo>
                    <a:lnTo>
                      <a:pt x="568" y="102"/>
                    </a:lnTo>
                    <a:lnTo>
                      <a:pt x="541" y="106"/>
                    </a:lnTo>
                    <a:lnTo>
                      <a:pt x="511" y="111"/>
                    </a:lnTo>
                    <a:lnTo>
                      <a:pt x="481" y="115"/>
                    </a:lnTo>
                    <a:lnTo>
                      <a:pt x="450" y="119"/>
                    </a:lnTo>
                    <a:lnTo>
                      <a:pt x="417" y="123"/>
                    </a:lnTo>
                    <a:lnTo>
                      <a:pt x="384" y="128"/>
                    </a:lnTo>
                    <a:lnTo>
                      <a:pt x="349" y="131"/>
                    </a:lnTo>
                    <a:lnTo>
                      <a:pt x="314" y="135"/>
                    </a:lnTo>
                    <a:lnTo>
                      <a:pt x="278" y="138"/>
                    </a:lnTo>
                    <a:lnTo>
                      <a:pt x="240" y="142"/>
                    </a:lnTo>
                    <a:lnTo>
                      <a:pt x="201" y="145"/>
                    </a:lnTo>
                    <a:lnTo>
                      <a:pt x="161" y="149"/>
                    </a:lnTo>
                    <a:lnTo>
                      <a:pt x="120" y="152"/>
                    </a:lnTo>
                    <a:lnTo>
                      <a:pt x="78" y="155"/>
                    </a:lnTo>
                    <a:lnTo>
                      <a:pt x="63" y="178"/>
                    </a:lnTo>
                    <a:lnTo>
                      <a:pt x="50" y="197"/>
                    </a:lnTo>
                    <a:lnTo>
                      <a:pt x="36" y="213"/>
                    </a:lnTo>
                    <a:lnTo>
                      <a:pt x="24" y="226"/>
                    </a:lnTo>
                    <a:lnTo>
                      <a:pt x="14" y="237"/>
                    </a:lnTo>
                    <a:lnTo>
                      <a:pt x="7" y="244"/>
                    </a:lnTo>
                    <a:lnTo>
                      <a:pt x="1" y="249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21320" y="3138480"/>
                <a:ext cx="2109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4120" y="3265560"/>
                <a:ext cx="187200" cy="106200"/>
              </a:xfrm>
              <a:custGeom>
                <a:avLst/>
                <a:gdLst/>
                <a:ahLst/>
                <a:rect l="l" t="t" r="r" b="b"/>
                <a:pathLst>
                  <a:path w="237" h="134">
                    <a:moveTo>
                      <a:pt x="0" y="120"/>
                    </a:moveTo>
                    <a:lnTo>
                      <a:pt x="158" y="134"/>
                    </a:lnTo>
                    <a:lnTo>
                      <a:pt x="161" y="132"/>
                    </a:lnTo>
                    <a:lnTo>
                      <a:pt x="167" y="129"/>
                    </a:lnTo>
                    <a:lnTo>
                      <a:pt x="178" y="123"/>
                    </a:lnTo>
                    <a:lnTo>
                      <a:pt x="190" y="112"/>
                    </a:lnTo>
                    <a:lnTo>
                      <a:pt x="203" y="97"/>
                    </a:lnTo>
                    <a:lnTo>
                      <a:pt x="216" y="75"/>
                    </a:lnTo>
                    <a:lnTo>
                      <a:pt x="227" y="47"/>
                    </a:lnTo>
                    <a:lnTo>
                      <a:pt x="237" y="13"/>
                    </a:lnTo>
                    <a:lnTo>
                      <a:pt x="74" y="0"/>
                    </a:lnTo>
                    <a:lnTo>
                      <a:pt x="73" y="3"/>
                    </a:lnTo>
                    <a:lnTo>
                      <a:pt x="72" y="11"/>
                    </a:lnTo>
                    <a:lnTo>
                      <a:pt x="67" y="25"/>
                    </a:lnTo>
                    <a:lnTo>
                      <a:pt x="60" y="41"/>
                    </a:lnTo>
                    <a:lnTo>
                      <a:pt x="51" y="60"/>
                    </a:lnTo>
                    <a:lnTo>
                      <a:pt x="38" y="81"/>
                    </a:lnTo>
                    <a:lnTo>
                      <a:pt x="21" y="10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59520" y="3025800"/>
                <a:ext cx="129960" cy="101520"/>
              </a:xfrm>
              <a:custGeom>
                <a:avLst/>
                <a:gdLst/>
                <a:ahLst/>
                <a:rect l="l" t="t" r="r" b="b"/>
                <a:pathLst>
                  <a:path w="164" h="129">
                    <a:moveTo>
                      <a:pt x="6" y="0"/>
                    </a:moveTo>
                    <a:lnTo>
                      <a:pt x="155" y="0"/>
                    </a:lnTo>
                    <a:lnTo>
                      <a:pt x="158" y="11"/>
                    </a:lnTo>
                    <a:lnTo>
                      <a:pt x="164" y="41"/>
                    </a:lnTo>
                    <a:lnTo>
                      <a:pt x="163" y="83"/>
                    </a:lnTo>
                    <a:lnTo>
                      <a:pt x="148" y="129"/>
                    </a:lnTo>
                    <a:lnTo>
                      <a:pt x="0" y="129"/>
                    </a:lnTo>
                    <a:lnTo>
                      <a:pt x="2" y="116"/>
                    </a:lnTo>
                    <a:lnTo>
                      <a:pt x="7" y="85"/>
                    </a:lnTo>
                    <a:lnTo>
                      <a:pt x="9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28920" y="3370320"/>
                <a:ext cx="1506600" cy="699840"/>
              </a:xfrm>
              <a:custGeom>
                <a:avLst/>
                <a:gdLst/>
                <a:ahLst/>
                <a:rect l="l" t="t" r="r" b="b"/>
                <a:pathLst>
                  <a:path w="1899" h="883">
                    <a:moveTo>
                      <a:pt x="1899" y="542"/>
                    </a:moveTo>
                    <a:lnTo>
                      <a:pt x="1170" y="883"/>
                    </a:lnTo>
                    <a:lnTo>
                      <a:pt x="81" y="737"/>
                    </a:lnTo>
                    <a:lnTo>
                      <a:pt x="81" y="693"/>
                    </a:lnTo>
                    <a:lnTo>
                      <a:pt x="49" y="686"/>
                    </a:lnTo>
                    <a:lnTo>
                      <a:pt x="49" y="651"/>
                    </a:lnTo>
                    <a:lnTo>
                      <a:pt x="0" y="570"/>
                    </a:lnTo>
                    <a:lnTo>
                      <a:pt x="68" y="300"/>
                    </a:lnTo>
                    <a:lnTo>
                      <a:pt x="106" y="247"/>
                    </a:lnTo>
                    <a:lnTo>
                      <a:pt x="565" y="159"/>
                    </a:lnTo>
                    <a:lnTo>
                      <a:pt x="625" y="68"/>
                    </a:lnTo>
                    <a:lnTo>
                      <a:pt x="834" y="0"/>
                    </a:lnTo>
                    <a:lnTo>
                      <a:pt x="1812" y="93"/>
                    </a:lnTo>
                    <a:lnTo>
                      <a:pt x="1845" y="180"/>
                    </a:lnTo>
                    <a:lnTo>
                      <a:pt x="1863" y="178"/>
                    </a:lnTo>
                    <a:lnTo>
                      <a:pt x="1873" y="210"/>
                    </a:lnTo>
                    <a:lnTo>
                      <a:pt x="1899" y="213"/>
                    </a:lnTo>
                    <a:lnTo>
                      <a:pt x="1899" y="5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71920" y="3625920"/>
                <a:ext cx="354240" cy="263520"/>
              </a:xfrm>
              <a:custGeom>
                <a:avLst/>
                <a:gdLst/>
                <a:ahLst/>
                <a:rect l="l" t="t" r="r" b="b"/>
                <a:pathLst>
                  <a:path w="444" h="331">
                    <a:moveTo>
                      <a:pt x="443" y="0"/>
                    </a:moveTo>
                    <a:lnTo>
                      <a:pt x="0" y="331"/>
                    </a:lnTo>
                    <a:lnTo>
                      <a:pt x="444" y="153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3280" y="3544920"/>
                <a:ext cx="541080" cy="380880"/>
              </a:xfrm>
              <a:custGeom>
                <a:avLst/>
                <a:gdLst/>
                <a:ahLst/>
                <a:rect l="l" t="t" r="r" b="b"/>
                <a:pathLst>
                  <a:path w="683" h="482">
                    <a:moveTo>
                      <a:pt x="683" y="0"/>
                    </a:moveTo>
                    <a:lnTo>
                      <a:pt x="515" y="26"/>
                    </a:lnTo>
                    <a:lnTo>
                      <a:pt x="426" y="128"/>
                    </a:lnTo>
                    <a:lnTo>
                      <a:pt x="0" y="299"/>
                    </a:lnTo>
                    <a:lnTo>
                      <a:pt x="119" y="482"/>
                    </a:lnTo>
                    <a:lnTo>
                      <a:pt x="240" y="435"/>
                    </a:lnTo>
                    <a:lnTo>
                      <a:pt x="683" y="104"/>
                    </a:lnTo>
                    <a:lnTo>
                      <a:pt x="6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55920" y="3824280"/>
                <a:ext cx="762120" cy="476280"/>
              </a:xfrm>
              <a:custGeom>
                <a:avLst/>
                <a:gdLst/>
                <a:ahLst/>
                <a:rect l="l" t="t" r="r" b="b"/>
                <a:pathLst>
                  <a:path w="961" h="599">
                    <a:moveTo>
                      <a:pt x="136" y="0"/>
                    </a:moveTo>
                    <a:lnTo>
                      <a:pt x="133" y="1"/>
                    </a:lnTo>
                    <a:lnTo>
                      <a:pt x="128" y="4"/>
                    </a:lnTo>
                    <a:lnTo>
                      <a:pt x="118" y="10"/>
                    </a:lnTo>
                    <a:lnTo>
                      <a:pt x="108" y="19"/>
                    </a:lnTo>
                    <a:lnTo>
                      <a:pt x="94" y="31"/>
                    </a:lnTo>
                    <a:lnTo>
                      <a:pt x="80" y="46"/>
                    </a:lnTo>
                    <a:lnTo>
                      <a:pt x="65" y="64"/>
                    </a:lnTo>
                    <a:lnTo>
                      <a:pt x="50" y="86"/>
                    </a:lnTo>
                    <a:lnTo>
                      <a:pt x="37" y="113"/>
                    </a:lnTo>
                    <a:lnTo>
                      <a:pt x="24" y="143"/>
                    </a:lnTo>
                    <a:lnTo>
                      <a:pt x="14" y="177"/>
                    </a:lnTo>
                    <a:lnTo>
                      <a:pt x="5" y="218"/>
                    </a:lnTo>
                    <a:lnTo>
                      <a:pt x="1" y="261"/>
                    </a:lnTo>
                    <a:lnTo>
                      <a:pt x="0" y="311"/>
                    </a:lnTo>
                    <a:lnTo>
                      <a:pt x="4" y="365"/>
                    </a:lnTo>
                    <a:lnTo>
                      <a:pt x="14" y="425"/>
                    </a:lnTo>
                    <a:lnTo>
                      <a:pt x="799" y="599"/>
                    </a:lnTo>
                    <a:lnTo>
                      <a:pt x="799" y="583"/>
                    </a:lnTo>
                    <a:lnTo>
                      <a:pt x="799" y="539"/>
                    </a:lnTo>
                    <a:lnTo>
                      <a:pt x="804" y="476"/>
                    </a:lnTo>
                    <a:lnTo>
                      <a:pt x="813" y="401"/>
                    </a:lnTo>
                    <a:lnTo>
                      <a:pt x="832" y="324"/>
                    </a:lnTo>
                    <a:lnTo>
                      <a:pt x="860" y="251"/>
                    </a:lnTo>
                    <a:lnTo>
                      <a:pt x="903" y="192"/>
                    </a:lnTo>
                    <a:lnTo>
                      <a:pt x="961" y="154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94040" y="3433680"/>
                <a:ext cx="898560" cy="212760"/>
              </a:xfrm>
              <a:custGeom>
                <a:avLst/>
                <a:gdLst/>
                <a:ahLst/>
                <a:rect l="l" t="t" r="r" b="b"/>
                <a:pathLst>
                  <a:path w="1131" h="267">
                    <a:moveTo>
                      <a:pt x="0" y="90"/>
                    </a:moveTo>
                    <a:lnTo>
                      <a:pt x="57" y="0"/>
                    </a:lnTo>
                    <a:lnTo>
                      <a:pt x="1122" y="116"/>
                    </a:lnTo>
                    <a:lnTo>
                      <a:pt x="1131" y="161"/>
                    </a:lnTo>
                    <a:lnTo>
                      <a:pt x="1041" y="267"/>
                    </a:lnTo>
                    <a:lnTo>
                      <a:pt x="1054" y="209"/>
                    </a:lnTo>
                    <a:lnTo>
                      <a:pt x="973" y="200"/>
                    </a:lnTo>
                    <a:lnTo>
                      <a:pt x="977" y="148"/>
                    </a:lnTo>
                    <a:lnTo>
                      <a:pt x="134" y="52"/>
                    </a:lnTo>
                    <a:lnTo>
                      <a:pt x="103" y="102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4320" y="3504960"/>
                <a:ext cx="1204920" cy="200160"/>
              </a:xfrm>
              <a:custGeom>
                <a:avLst/>
                <a:gdLst/>
                <a:ahLst/>
                <a:rect l="l" t="t" r="r" b="b"/>
                <a:pathLst>
                  <a:path w="1519" h="252">
                    <a:moveTo>
                      <a:pt x="1519" y="119"/>
                    </a:moveTo>
                    <a:lnTo>
                      <a:pt x="1036" y="252"/>
                    </a:lnTo>
                    <a:lnTo>
                      <a:pt x="0" y="95"/>
                    </a:lnTo>
                    <a:lnTo>
                      <a:pt x="466" y="0"/>
                    </a:lnTo>
                    <a:lnTo>
                      <a:pt x="1519" y="119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02000" y="3581280"/>
                <a:ext cx="847800" cy="154080"/>
              </a:xfrm>
              <a:custGeom>
                <a:avLst/>
                <a:gdLst/>
                <a:ahLst/>
                <a:rect l="l" t="t" r="r" b="b"/>
                <a:pathLst>
                  <a:path w="1068" h="195">
                    <a:moveTo>
                      <a:pt x="28" y="0"/>
                    </a:moveTo>
                    <a:lnTo>
                      <a:pt x="0" y="34"/>
                    </a:lnTo>
                    <a:lnTo>
                      <a:pt x="1048" y="195"/>
                    </a:lnTo>
                    <a:lnTo>
                      <a:pt x="1068" y="1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2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68880" y="3606840"/>
                <a:ext cx="866520" cy="247680"/>
              </a:xfrm>
              <a:custGeom>
                <a:avLst/>
                <a:gdLst/>
                <a:ahLst/>
                <a:rect l="l" t="t" r="r" b="b"/>
                <a:pathLst>
                  <a:path w="1091" h="311">
                    <a:moveTo>
                      <a:pt x="41" y="0"/>
                    </a:moveTo>
                    <a:lnTo>
                      <a:pt x="0" y="161"/>
                    </a:lnTo>
                    <a:lnTo>
                      <a:pt x="1075" y="311"/>
                    </a:lnTo>
                    <a:lnTo>
                      <a:pt x="1091" y="15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43320" y="3647880"/>
                <a:ext cx="370080" cy="131760"/>
              </a:xfrm>
              <a:custGeom>
                <a:avLst/>
                <a:gdLst/>
                <a:ahLst/>
                <a:rect l="l" t="t" r="r" b="b"/>
                <a:pathLst>
                  <a:path w="467" h="165">
                    <a:moveTo>
                      <a:pt x="0" y="160"/>
                    </a:moveTo>
                    <a:lnTo>
                      <a:pt x="49" y="165"/>
                    </a:lnTo>
                    <a:lnTo>
                      <a:pt x="467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62600" y="3865320"/>
                <a:ext cx="163440" cy="149400"/>
              </a:xfrm>
              <a:custGeom>
                <a:avLst/>
                <a:gdLst/>
                <a:ahLst/>
                <a:rect l="l" t="t" r="r" b="b"/>
                <a:pathLst>
                  <a:path w="206" h="187">
                    <a:moveTo>
                      <a:pt x="0" y="152"/>
                    </a:moveTo>
                    <a:lnTo>
                      <a:pt x="17" y="123"/>
                    </a:lnTo>
                    <a:lnTo>
                      <a:pt x="35" y="95"/>
                    </a:lnTo>
                    <a:lnTo>
                      <a:pt x="53" y="70"/>
                    </a:lnTo>
                    <a:lnTo>
                      <a:pt x="72" y="47"/>
                    </a:lnTo>
                    <a:lnTo>
                      <a:pt x="89" y="27"/>
                    </a:lnTo>
                    <a:lnTo>
                      <a:pt x="103" y="12"/>
                    </a:lnTo>
                    <a:lnTo>
                      <a:pt x="112" y="3"/>
                    </a:lnTo>
                    <a:lnTo>
                      <a:pt x="116" y="0"/>
                    </a:lnTo>
                    <a:lnTo>
                      <a:pt x="191" y="10"/>
                    </a:lnTo>
                    <a:lnTo>
                      <a:pt x="206" y="187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40360" y="3954240"/>
                <a:ext cx="65160" cy="3492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37" y="42"/>
                    </a:moveTo>
                    <a:lnTo>
                      <a:pt x="45" y="43"/>
                    </a:lnTo>
                    <a:lnTo>
                      <a:pt x="53" y="43"/>
                    </a:lnTo>
                    <a:lnTo>
                      <a:pt x="60" y="42"/>
                    </a:lnTo>
                    <a:lnTo>
                      <a:pt x="66" y="41"/>
                    </a:lnTo>
                    <a:lnTo>
                      <a:pt x="72" y="39"/>
                    </a:lnTo>
                    <a:lnTo>
                      <a:pt x="76" y="36"/>
                    </a:lnTo>
                    <a:lnTo>
                      <a:pt x="80" y="33"/>
                    </a:lnTo>
                    <a:lnTo>
                      <a:pt x="81" y="28"/>
                    </a:lnTo>
                    <a:lnTo>
                      <a:pt x="81" y="25"/>
                    </a:lnTo>
                    <a:lnTo>
                      <a:pt x="79" y="20"/>
                    </a:lnTo>
                    <a:lnTo>
                      <a:pt x="75" y="17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6"/>
                    </a:lnTo>
                    <a:lnTo>
                      <a:pt x="52" y="3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5" y="27"/>
                    </a:lnTo>
                    <a:lnTo>
                      <a:pt x="10" y="32"/>
                    </a:lnTo>
                    <a:lnTo>
                      <a:pt x="15" y="35"/>
                    </a:lnTo>
                    <a:lnTo>
                      <a:pt x="22" y="37"/>
                    </a:lnTo>
                    <a:lnTo>
                      <a:pt x="29" y="41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51520" y="396072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23" y="28"/>
                    </a:moveTo>
                    <a:lnTo>
                      <a:pt x="35" y="29"/>
                    </a:lnTo>
                    <a:lnTo>
                      <a:pt x="44" y="27"/>
                    </a:lnTo>
                    <a:lnTo>
                      <a:pt x="50" y="23"/>
                    </a:lnTo>
                    <a:lnTo>
                      <a:pt x="53" y="19"/>
                    </a:lnTo>
                    <a:lnTo>
                      <a:pt x="52" y="13"/>
                    </a:lnTo>
                    <a:lnTo>
                      <a:pt x="46" y="8"/>
                    </a:lnTo>
                    <a:lnTo>
                      <a:pt x="38" y="4"/>
                    </a:lnTo>
                    <a:lnTo>
                      <a:pt x="29" y="2"/>
                    </a:lnTo>
                    <a:lnTo>
                      <a:pt x="19" y="0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6" y="21"/>
                    </a:lnTo>
                    <a:lnTo>
                      <a:pt x="14" y="26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22800" y="3600360"/>
                <a:ext cx="407880" cy="2541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0" y="322"/>
                    </a:moveTo>
                    <a:lnTo>
                      <a:pt x="15" y="169"/>
                    </a:lnTo>
                    <a:lnTo>
                      <a:pt x="34" y="133"/>
                    </a:lnTo>
                    <a:lnTo>
                      <a:pt x="514" y="0"/>
                    </a:lnTo>
                    <a:lnTo>
                      <a:pt x="501" y="58"/>
                    </a:lnTo>
                    <a:lnTo>
                      <a:pt x="36" y="2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24600" y="377496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99" h="220">
                    <a:moveTo>
                      <a:pt x="74" y="7"/>
                    </a:moveTo>
                    <a:lnTo>
                      <a:pt x="99" y="220"/>
                    </a:lnTo>
                    <a:lnTo>
                      <a:pt x="15" y="209"/>
                    </a:lnTo>
                    <a:lnTo>
                      <a:pt x="0" y="100"/>
                    </a:lnTo>
                    <a:lnTo>
                      <a:pt x="35" y="0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3962160"/>
                <a:ext cx="260640" cy="88920"/>
              </a:xfrm>
              <a:custGeom>
                <a:avLst/>
                <a:gdLst/>
                <a:ahLst/>
                <a:rect l="l" t="t" r="r" b="b"/>
                <a:pathLst>
                  <a:path w="328" h="112">
                    <a:moveTo>
                      <a:pt x="328" y="9"/>
                    </a:moveTo>
                    <a:lnTo>
                      <a:pt x="300" y="64"/>
                    </a:lnTo>
                    <a:lnTo>
                      <a:pt x="278" y="112"/>
                    </a:lnTo>
                    <a:lnTo>
                      <a:pt x="0" y="74"/>
                    </a:lnTo>
                    <a:lnTo>
                      <a:pt x="13" y="48"/>
                    </a:lnTo>
                    <a:lnTo>
                      <a:pt x="255" y="86"/>
                    </a:lnTo>
                    <a:lnTo>
                      <a:pt x="251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51240" y="375444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203" h="83">
                    <a:moveTo>
                      <a:pt x="203" y="28"/>
                    </a:moveTo>
                    <a:lnTo>
                      <a:pt x="122" y="83"/>
                    </a:lnTo>
                    <a:lnTo>
                      <a:pt x="0" y="67"/>
                    </a:lnTo>
                    <a:lnTo>
                      <a:pt x="20" y="0"/>
                    </a:lnTo>
                    <a:lnTo>
                      <a:pt x="203" y="28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54480" y="3828960"/>
                <a:ext cx="73080" cy="76320"/>
              </a:xfrm>
              <a:custGeom>
                <a:avLst/>
                <a:gdLst/>
                <a:ahLst/>
                <a:rect l="l" t="t" r="r" b="b"/>
                <a:pathLst>
                  <a:path w="94" h="94">
                    <a:moveTo>
                      <a:pt x="0" y="0"/>
                    </a:moveTo>
                    <a:lnTo>
                      <a:pt x="36" y="51"/>
                    </a:lnTo>
                    <a:lnTo>
                      <a:pt x="29" y="91"/>
                    </a:lnTo>
                    <a:lnTo>
                      <a:pt x="42" y="94"/>
                    </a:lnTo>
                    <a:lnTo>
                      <a:pt x="43" y="92"/>
                    </a:lnTo>
                    <a:lnTo>
                      <a:pt x="45" y="85"/>
                    </a:lnTo>
                    <a:lnTo>
                      <a:pt x="50" y="75"/>
                    </a:lnTo>
                    <a:lnTo>
                      <a:pt x="56" y="63"/>
                    </a:lnTo>
                    <a:lnTo>
                      <a:pt x="63" y="49"/>
                    </a:lnTo>
                    <a:lnTo>
                      <a:pt x="72" y="35"/>
                    </a:lnTo>
                    <a:lnTo>
                      <a:pt x="82" y="22"/>
                    </a:lnTo>
                    <a:lnTo>
                      <a:pt x="9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21200" y="3873600"/>
                <a:ext cx="104760" cy="166680"/>
              </a:xfrm>
              <a:custGeom>
                <a:avLst/>
                <a:gdLst/>
                <a:ahLst/>
                <a:rect l="l" t="t" r="r" b="b"/>
                <a:pathLst>
                  <a:path w="131" h="210">
                    <a:moveTo>
                      <a:pt x="131" y="0"/>
                    </a:moveTo>
                    <a:lnTo>
                      <a:pt x="102" y="210"/>
                    </a:lnTo>
                    <a:lnTo>
                      <a:pt x="0" y="19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83280" y="3781440"/>
                <a:ext cx="93600" cy="168120"/>
              </a:xfrm>
              <a:custGeom>
                <a:avLst/>
                <a:gdLst/>
                <a:ahLst/>
                <a:rect l="l" t="t" r="r" b="b"/>
                <a:pathLst>
                  <a:path w="119" h="213">
                    <a:moveTo>
                      <a:pt x="0" y="0"/>
                    </a:moveTo>
                    <a:lnTo>
                      <a:pt x="119" y="183"/>
                    </a:lnTo>
                    <a:lnTo>
                      <a:pt x="25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68880" y="3941640"/>
                <a:ext cx="147600" cy="108000"/>
              </a:xfrm>
              <a:custGeom>
                <a:avLst/>
                <a:gdLst/>
                <a:ahLst/>
                <a:rect l="l" t="t" r="r" b="b"/>
                <a:pathLst>
                  <a:path w="185" h="136">
                    <a:moveTo>
                      <a:pt x="149" y="0"/>
                    </a:moveTo>
                    <a:lnTo>
                      <a:pt x="185" y="52"/>
                    </a:lnTo>
                    <a:lnTo>
                      <a:pt x="0" y="136"/>
                    </a:lnTo>
                    <a:lnTo>
                      <a:pt x="167" y="42"/>
                    </a:lnTo>
                    <a:lnTo>
                      <a:pt x="15" y="88"/>
                    </a:lnTo>
                    <a:lnTo>
                      <a:pt x="41" y="3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79760" y="3778200"/>
                <a:ext cx="641520" cy="195120"/>
              </a:xfrm>
              <a:custGeom>
                <a:avLst/>
                <a:gdLst/>
                <a:ahLst/>
                <a:rect l="l" t="t" r="r" b="b"/>
                <a:pathLst>
                  <a:path w="809" h="247">
                    <a:moveTo>
                      <a:pt x="809" y="107"/>
                    </a:moveTo>
                    <a:lnTo>
                      <a:pt x="77" y="0"/>
                    </a:lnTo>
                    <a:lnTo>
                      <a:pt x="66" y="6"/>
                    </a:lnTo>
                    <a:lnTo>
                      <a:pt x="56" y="13"/>
                    </a:lnTo>
                    <a:lnTo>
                      <a:pt x="45" y="19"/>
                    </a:lnTo>
                    <a:lnTo>
                      <a:pt x="36" y="25"/>
                    </a:lnTo>
                    <a:lnTo>
                      <a:pt x="27" y="32"/>
                    </a:lnTo>
                    <a:lnTo>
                      <a:pt x="18" y="39"/>
                    </a:lnTo>
                    <a:lnTo>
                      <a:pt x="8" y="46"/>
                    </a:lnTo>
                    <a:lnTo>
                      <a:pt x="0" y="53"/>
                    </a:lnTo>
                    <a:lnTo>
                      <a:pt x="16" y="57"/>
                    </a:lnTo>
                    <a:lnTo>
                      <a:pt x="42" y="62"/>
                    </a:lnTo>
                    <a:lnTo>
                      <a:pt x="76" y="69"/>
                    </a:lnTo>
                    <a:lnTo>
                      <a:pt x="118" y="80"/>
                    </a:lnTo>
                    <a:lnTo>
                      <a:pt x="165" y="90"/>
                    </a:lnTo>
                    <a:lnTo>
                      <a:pt x="217" y="103"/>
                    </a:lnTo>
                    <a:lnTo>
                      <a:pt x="272" y="115"/>
                    </a:lnTo>
                    <a:lnTo>
                      <a:pt x="329" y="130"/>
                    </a:lnTo>
                    <a:lnTo>
                      <a:pt x="386" y="145"/>
                    </a:lnTo>
                    <a:lnTo>
                      <a:pt x="443" y="160"/>
                    </a:lnTo>
                    <a:lnTo>
                      <a:pt x="497" y="175"/>
                    </a:lnTo>
                    <a:lnTo>
                      <a:pt x="548" y="191"/>
                    </a:lnTo>
                    <a:lnTo>
                      <a:pt x="593" y="206"/>
                    </a:lnTo>
                    <a:lnTo>
                      <a:pt x="633" y="220"/>
                    </a:lnTo>
                    <a:lnTo>
                      <a:pt x="664" y="234"/>
                    </a:lnTo>
                    <a:lnTo>
                      <a:pt x="687" y="247"/>
                    </a:lnTo>
                    <a:lnTo>
                      <a:pt x="708" y="214"/>
                    </a:lnTo>
                    <a:lnTo>
                      <a:pt x="730" y="186"/>
                    </a:lnTo>
                    <a:lnTo>
                      <a:pt x="750" y="161"/>
                    </a:lnTo>
                    <a:lnTo>
                      <a:pt x="769" y="142"/>
                    </a:lnTo>
                    <a:lnTo>
                      <a:pt x="785" y="127"/>
                    </a:lnTo>
                    <a:lnTo>
                      <a:pt x="798" y="116"/>
                    </a:lnTo>
                    <a:lnTo>
                      <a:pt x="806" y="110"/>
                    </a:lnTo>
                    <a:lnTo>
                      <a:pt x="809" y="10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81480" y="3821040"/>
                <a:ext cx="642960" cy="287280"/>
              </a:xfrm>
              <a:custGeom>
                <a:avLst/>
                <a:gdLst/>
                <a:ahLst/>
                <a:rect l="l" t="t" r="r" b="b"/>
                <a:pathLst>
                  <a:path w="810" h="363">
                    <a:moveTo>
                      <a:pt x="0" y="229"/>
                    </a:moveTo>
                    <a:lnTo>
                      <a:pt x="21" y="235"/>
                    </a:lnTo>
                    <a:lnTo>
                      <a:pt x="51" y="243"/>
                    </a:lnTo>
                    <a:lnTo>
                      <a:pt x="89" y="254"/>
                    </a:lnTo>
                    <a:lnTo>
                      <a:pt x="134" y="265"/>
                    </a:lnTo>
                    <a:lnTo>
                      <a:pt x="183" y="278"/>
                    </a:lnTo>
                    <a:lnTo>
                      <a:pt x="237" y="290"/>
                    </a:lnTo>
                    <a:lnTo>
                      <a:pt x="294" y="304"/>
                    </a:lnTo>
                    <a:lnTo>
                      <a:pt x="354" y="317"/>
                    </a:lnTo>
                    <a:lnTo>
                      <a:pt x="412" y="330"/>
                    </a:lnTo>
                    <a:lnTo>
                      <a:pt x="472" y="340"/>
                    </a:lnTo>
                    <a:lnTo>
                      <a:pt x="529" y="349"/>
                    </a:lnTo>
                    <a:lnTo>
                      <a:pt x="583" y="357"/>
                    </a:lnTo>
                    <a:lnTo>
                      <a:pt x="633" y="362"/>
                    </a:lnTo>
                    <a:lnTo>
                      <a:pt x="678" y="363"/>
                    </a:lnTo>
                    <a:lnTo>
                      <a:pt x="716" y="362"/>
                    </a:lnTo>
                    <a:lnTo>
                      <a:pt x="746" y="356"/>
                    </a:lnTo>
                    <a:lnTo>
                      <a:pt x="751" y="332"/>
                    </a:lnTo>
                    <a:lnTo>
                      <a:pt x="758" y="310"/>
                    </a:lnTo>
                    <a:lnTo>
                      <a:pt x="765" y="288"/>
                    </a:lnTo>
                    <a:lnTo>
                      <a:pt x="773" y="267"/>
                    </a:lnTo>
                    <a:lnTo>
                      <a:pt x="781" y="248"/>
                    </a:lnTo>
                    <a:lnTo>
                      <a:pt x="790" y="228"/>
                    </a:lnTo>
                    <a:lnTo>
                      <a:pt x="800" y="211"/>
                    </a:lnTo>
                    <a:lnTo>
                      <a:pt x="810" y="194"/>
                    </a:lnTo>
                    <a:lnTo>
                      <a:pt x="787" y="181"/>
                    </a:lnTo>
                    <a:lnTo>
                      <a:pt x="756" y="167"/>
                    </a:lnTo>
                    <a:lnTo>
                      <a:pt x="716" y="153"/>
                    </a:lnTo>
                    <a:lnTo>
                      <a:pt x="671" y="138"/>
                    </a:lnTo>
                    <a:lnTo>
                      <a:pt x="620" y="122"/>
                    </a:lnTo>
                    <a:lnTo>
                      <a:pt x="566" y="107"/>
                    </a:lnTo>
                    <a:lnTo>
                      <a:pt x="509" y="92"/>
                    </a:lnTo>
                    <a:lnTo>
                      <a:pt x="452" y="77"/>
                    </a:lnTo>
                    <a:lnTo>
                      <a:pt x="395" y="62"/>
                    </a:lnTo>
                    <a:lnTo>
                      <a:pt x="340" y="50"/>
                    </a:lnTo>
                    <a:lnTo>
                      <a:pt x="288" y="37"/>
                    </a:lnTo>
                    <a:lnTo>
                      <a:pt x="241" y="27"/>
                    </a:lnTo>
                    <a:lnTo>
                      <a:pt x="199" y="16"/>
                    </a:lnTo>
                    <a:lnTo>
                      <a:pt x="165" y="9"/>
                    </a:lnTo>
                    <a:lnTo>
                      <a:pt x="139" y="4"/>
                    </a:lnTo>
                    <a:lnTo>
                      <a:pt x="123" y="0"/>
                    </a:lnTo>
                    <a:lnTo>
                      <a:pt x="96" y="27"/>
                    </a:lnTo>
                    <a:lnTo>
                      <a:pt x="71" y="54"/>
                    </a:lnTo>
                    <a:lnTo>
                      <a:pt x="52" y="83"/>
                    </a:lnTo>
                    <a:lnTo>
                      <a:pt x="36" y="113"/>
                    </a:lnTo>
                    <a:lnTo>
                      <a:pt x="22" y="142"/>
                    </a:lnTo>
                    <a:lnTo>
                      <a:pt x="13" y="172"/>
                    </a:lnTo>
                    <a:lnTo>
                      <a:pt x="5" y="201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78240" y="4002120"/>
                <a:ext cx="595440" cy="266760"/>
              </a:xfrm>
              <a:custGeom>
                <a:avLst/>
                <a:gdLst/>
                <a:ahLst/>
                <a:rect l="l" t="t" r="r" b="b"/>
                <a:pathLst>
                  <a:path w="751" h="337">
                    <a:moveTo>
                      <a:pt x="5" y="0"/>
                    </a:moveTo>
                    <a:lnTo>
                      <a:pt x="0" y="71"/>
                    </a:lnTo>
                    <a:lnTo>
                      <a:pt x="5" y="129"/>
                    </a:lnTo>
                    <a:lnTo>
                      <a:pt x="12" y="169"/>
                    </a:lnTo>
                    <a:lnTo>
                      <a:pt x="15" y="182"/>
                    </a:lnTo>
                    <a:lnTo>
                      <a:pt x="747" y="337"/>
                    </a:lnTo>
                    <a:lnTo>
                      <a:pt x="740" y="279"/>
                    </a:lnTo>
                    <a:lnTo>
                      <a:pt x="739" y="225"/>
                    </a:lnTo>
                    <a:lnTo>
                      <a:pt x="742" y="174"/>
                    </a:lnTo>
                    <a:lnTo>
                      <a:pt x="751" y="127"/>
                    </a:lnTo>
                    <a:lnTo>
                      <a:pt x="721" y="133"/>
                    </a:lnTo>
                    <a:lnTo>
                      <a:pt x="683" y="134"/>
                    </a:lnTo>
                    <a:lnTo>
                      <a:pt x="638" y="133"/>
                    </a:lnTo>
                    <a:lnTo>
                      <a:pt x="588" y="128"/>
                    </a:lnTo>
                    <a:lnTo>
                      <a:pt x="534" y="120"/>
                    </a:lnTo>
                    <a:lnTo>
                      <a:pt x="477" y="111"/>
                    </a:lnTo>
                    <a:lnTo>
                      <a:pt x="417" y="101"/>
                    </a:lnTo>
                    <a:lnTo>
                      <a:pt x="359" y="88"/>
                    </a:lnTo>
                    <a:lnTo>
                      <a:pt x="299" y="75"/>
                    </a:lnTo>
                    <a:lnTo>
                      <a:pt x="242" y="61"/>
                    </a:lnTo>
                    <a:lnTo>
                      <a:pt x="188" y="49"/>
                    </a:lnTo>
                    <a:lnTo>
                      <a:pt x="139" y="36"/>
                    </a:lnTo>
                    <a:lnTo>
                      <a:pt x="94" y="25"/>
                    </a:lnTo>
                    <a:lnTo>
                      <a:pt x="56" y="14"/>
                    </a:lnTo>
                    <a:lnTo>
                      <a:pt x="26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30680" y="3514680"/>
                <a:ext cx="146160" cy="34920"/>
              </a:xfrm>
              <a:custGeom>
                <a:avLst/>
                <a:gdLst/>
                <a:ahLst/>
                <a:rect l="l" t="t" r="r" b="b"/>
                <a:pathLst>
                  <a:path w="183" h="45">
                    <a:moveTo>
                      <a:pt x="183" y="0"/>
                    </a:moveTo>
                    <a:lnTo>
                      <a:pt x="5" y="7"/>
                    </a:lnTo>
                    <a:lnTo>
                      <a:pt x="0" y="45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24200" y="351792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12" y="2"/>
                    </a:moveTo>
                    <a:lnTo>
                      <a:pt x="5" y="0"/>
                    </a:lnTo>
                    <a:lnTo>
                      <a:pt x="0" y="38"/>
                    </a:lnTo>
                    <a:lnTo>
                      <a:pt x="7" y="4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27440" y="351468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163" h="7">
                    <a:moveTo>
                      <a:pt x="0" y="4"/>
                    </a:moveTo>
                    <a:lnTo>
                      <a:pt x="163" y="0"/>
                    </a:lnTo>
                    <a:lnTo>
                      <a:pt x="8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60840" y="3514680"/>
                <a:ext cx="274680" cy="82440"/>
              </a:xfrm>
              <a:custGeom>
                <a:avLst/>
                <a:gdLst/>
                <a:ahLst/>
                <a:rect l="l" t="t" r="r" b="b"/>
                <a:pathLst>
                  <a:path w="344" h="104">
                    <a:moveTo>
                      <a:pt x="344" y="0"/>
                    </a:moveTo>
                    <a:lnTo>
                      <a:pt x="0" y="97"/>
                    </a:lnTo>
                    <a:lnTo>
                      <a:pt x="11" y="104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27440" y="3524040"/>
                <a:ext cx="279360" cy="82800"/>
              </a:xfrm>
              <a:custGeom>
                <a:avLst/>
                <a:gdLst/>
                <a:ahLst/>
                <a:rect l="l" t="t" r="r" b="b"/>
                <a:pathLst>
                  <a:path w="351" h="104">
                    <a:moveTo>
                      <a:pt x="351" y="0"/>
                    </a:moveTo>
                    <a:lnTo>
                      <a:pt x="0" y="98"/>
                    </a:lnTo>
                    <a:lnTo>
                      <a:pt x="12" y="104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94040" y="3533760"/>
                <a:ext cx="285840" cy="82440"/>
              </a:xfrm>
              <a:custGeom>
                <a:avLst/>
                <a:gdLst/>
                <a:ahLst/>
                <a:rect l="l" t="t" r="r" b="b"/>
                <a:pathLst>
                  <a:path w="358" h="104">
                    <a:moveTo>
                      <a:pt x="358" y="0"/>
                    </a:moveTo>
                    <a:lnTo>
                      <a:pt x="0" y="97"/>
                    </a:lnTo>
                    <a:lnTo>
                      <a:pt x="12" y="104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61000" y="3541680"/>
                <a:ext cx="290520" cy="84240"/>
              </a:xfrm>
              <a:custGeom>
                <a:avLst/>
                <a:gdLst/>
                <a:ahLst/>
                <a:rect l="l" t="t" r="r" b="b"/>
                <a:pathLst>
                  <a:path w="364" h="105">
                    <a:moveTo>
                      <a:pt x="364" y="0"/>
                    </a:moveTo>
                    <a:lnTo>
                      <a:pt x="0" y="98"/>
                    </a:lnTo>
                    <a:lnTo>
                      <a:pt x="13" y="105"/>
                    </a:lnTo>
                    <a:lnTo>
                      <a:pt x="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29040" y="3551040"/>
                <a:ext cx="293760" cy="82800"/>
              </a:xfrm>
              <a:custGeom>
                <a:avLst/>
                <a:gdLst/>
                <a:ahLst/>
                <a:rect l="l" t="t" r="r" b="b"/>
                <a:pathLst>
                  <a:path w="371" h="104">
                    <a:moveTo>
                      <a:pt x="371" y="0"/>
                    </a:moveTo>
                    <a:lnTo>
                      <a:pt x="0" y="98"/>
                    </a:lnTo>
                    <a:lnTo>
                      <a:pt x="13" y="10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96000" y="3558960"/>
                <a:ext cx="299880" cy="84240"/>
              </a:xfrm>
              <a:custGeom>
                <a:avLst/>
                <a:gdLst/>
                <a:ahLst/>
                <a:rect l="l" t="t" r="r" b="b"/>
                <a:pathLst>
                  <a:path w="379" h="105">
                    <a:moveTo>
                      <a:pt x="379" y="0"/>
                    </a:moveTo>
                    <a:lnTo>
                      <a:pt x="0" y="99"/>
                    </a:lnTo>
                    <a:lnTo>
                      <a:pt x="13" y="105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0800" y="3568680"/>
                <a:ext cx="308160" cy="84240"/>
              </a:xfrm>
              <a:custGeom>
                <a:avLst/>
                <a:gdLst/>
                <a:ahLst/>
                <a:rect l="l" t="t" r="r" b="b"/>
                <a:pathLst>
                  <a:path w="387" h="106">
                    <a:moveTo>
                      <a:pt x="387" y="0"/>
                    </a:moveTo>
                    <a:lnTo>
                      <a:pt x="0" y="99"/>
                    </a:lnTo>
                    <a:lnTo>
                      <a:pt x="14" y="106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29200" y="3578040"/>
                <a:ext cx="311040" cy="84240"/>
              </a:xfrm>
              <a:custGeom>
                <a:avLst/>
                <a:gdLst/>
                <a:ahLst/>
                <a:rect l="l" t="t" r="r" b="b"/>
                <a:pathLst>
                  <a:path w="393" h="106">
                    <a:moveTo>
                      <a:pt x="393" y="0"/>
                    </a:moveTo>
                    <a:lnTo>
                      <a:pt x="0" y="99"/>
                    </a:lnTo>
                    <a:lnTo>
                      <a:pt x="13" y="106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095800" y="3587760"/>
                <a:ext cx="316080" cy="83880"/>
              </a:xfrm>
              <a:custGeom>
                <a:avLst/>
                <a:gdLst/>
                <a:ahLst/>
                <a:rect l="l" t="t" r="r" b="b"/>
                <a:pathLst>
                  <a:path w="397" h="106">
                    <a:moveTo>
                      <a:pt x="397" y="0"/>
                    </a:moveTo>
                    <a:lnTo>
                      <a:pt x="0" y="99"/>
                    </a:lnTo>
                    <a:lnTo>
                      <a:pt x="12" y="106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2960" y="3592440"/>
                <a:ext cx="144360" cy="36360"/>
              </a:xfrm>
              <a:custGeom>
                <a:avLst/>
                <a:gdLst/>
                <a:ahLst/>
                <a:rect l="l" t="t" r="r" b="b"/>
                <a:pathLst>
                  <a:path w="182" h="46">
                    <a:moveTo>
                      <a:pt x="182" y="0"/>
                    </a:moveTo>
                    <a:lnTo>
                      <a:pt x="6" y="7"/>
                    </a:lnTo>
                    <a:lnTo>
                      <a:pt x="0" y="46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6480" y="3595680"/>
                <a:ext cx="9720" cy="3312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12" y="0"/>
                    </a:moveTo>
                    <a:lnTo>
                      <a:pt x="6" y="0"/>
                    </a:lnTo>
                    <a:lnTo>
                      <a:pt x="0" y="37"/>
                    </a:lnTo>
                    <a:lnTo>
                      <a:pt x="7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321160" y="3592440"/>
                <a:ext cx="127080" cy="6480"/>
              </a:xfrm>
              <a:custGeom>
                <a:avLst/>
                <a:gdLst/>
                <a:ahLst/>
                <a:rect l="l" t="t" r="r" b="b"/>
                <a:pathLst>
                  <a:path w="161" h="8">
                    <a:moveTo>
                      <a:pt x="0" y="6"/>
                    </a:moveTo>
                    <a:lnTo>
                      <a:pt x="161" y="0"/>
                    </a:lnTo>
                    <a:lnTo>
                      <a:pt x="8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70360" y="3384360"/>
                <a:ext cx="881280" cy="123840"/>
              </a:xfrm>
              <a:custGeom>
                <a:avLst/>
                <a:gdLst/>
                <a:ahLst/>
                <a:rect l="l" t="t" r="r" b="b"/>
                <a:pathLst>
                  <a:path w="1111" h="154">
                    <a:moveTo>
                      <a:pt x="1036" y="154"/>
                    </a:moveTo>
                    <a:lnTo>
                      <a:pt x="1111" y="90"/>
                    </a:lnTo>
                    <a:lnTo>
                      <a:pt x="156" y="0"/>
                    </a:lnTo>
                    <a:lnTo>
                      <a:pt x="0" y="45"/>
                    </a:lnTo>
                    <a:lnTo>
                      <a:pt x="1036" y="154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880" y="3405240"/>
                <a:ext cx="208080" cy="41040"/>
              </a:xfrm>
              <a:custGeom>
                <a:avLst/>
                <a:gdLst/>
                <a:ahLst/>
                <a:rect l="l" t="t" r="r" b="b"/>
                <a:pathLst>
                  <a:path w="262" h="52">
                    <a:moveTo>
                      <a:pt x="42" y="0"/>
                    </a:moveTo>
                    <a:lnTo>
                      <a:pt x="0" y="28"/>
                    </a:lnTo>
                    <a:lnTo>
                      <a:pt x="220" y="52"/>
                    </a:lnTo>
                    <a:lnTo>
                      <a:pt x="262" y="2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2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86280" y="339228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16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5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61080" y="340344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17" y="0"/>
                    </a:moveTo>
                    <a:lnTo>
                      <a:pt x="0" y="5"/>
                    </a:lnTo>
                    <a:lnTo>
                      <a:pt x="26" y="7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38760" y="341460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7" y="0"/>
                    </a:moveTo>
                    <a:lnTo>
                      <a:pt x="0" y="4"/>
                    </a:lnTo>
                    <a:lnTo>
                      <a:pt x="29" y="8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25880" y="339732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6" y="0"/>
                    </a:moveTo>
                    <a:lnTo>
                      <a:pt x="0" y="6"/>
                    </a:lnTo>
                    <a:lnTo>
                      <a:pt x="29" y="9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02120" y="340812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8" y="0"/>
                    </a:moveTo>
                    <a:lnTo>
                      <a:pt x="0" y="5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78360" y="341928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18" y="0"/>
                    </a:moveTo>
                    <a:lnTo>
                      <a:pt x="0" y="6"/>
                    </a:lnTo>
                    <a:lnTo>
                      <a:pt x="28" y="10"/>
                    </a:lnTo>
                    <a:lnTo>
                      <a:pt x="37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43640" y="345744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5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27800" y="347328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7" y="0"/>
                    </a:moveTo>
                    <a:lnTo>
                      <a:pt x="0" y="7"/>
                    </a:lnTo>
                    <a:lnTo>
                      <a:pt x="26" y="8"/>
                    </a:lnTo>
                    <a:lnTo>
                      <a:pt x="36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08720" y="3486240"/>
                <a:ext cx="29880" cy="612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8" y="0"/>
                    </a:moveTo>
                    <a:lnTo>
                      <a:pt x="0" y="6"/>
                    </a:lnTo>
                    <a:lnTo>
                      <a:pt x="29" y="8"/>
                    </a:lnTo>
                    <a:lnTo>
                      <a:pt x="37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83240" y="34621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16" y="0"/>
                    </a:moveTo>
                    <a:lnTo>
                      <a:pt x="0" y="7"/>
                    </a:lnTo>
                    <a:lnTo>
                      <a:pt x="30" y="10"/>
                    </a:lnTo>
                    <a:lnTo>
                      <a:pt x="3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68840" y="34765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9" y="0"/>
                    </a:moveTo>
                    <a:lnTo>
                      <a:pt x="0" y="7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49760" y="34909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9" y="0"/>
                    </a:moveTo>
                    <a:lnTo>
                      <a:pt x="0" y="5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67320" y="3449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7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51480" y="3463920"/>
                <a:ext cx="28440" cy="612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7"/>
                    </a:lnTo>
                    <a:lnTo>
                      <a:pt x="26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32400" y="3477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7" y="0"/>
                    </a:moveTo>
                    <a:lnTo>
                      <a:pt x="0" y="6"/>
                    </a:lnTo>
                    <a:lnTo>
                      <a:pt x="28" y="8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06920" y="34542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6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91080" y="34686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19" y="0"/>
                    </a:moveTo>
                    <a:lnTo>
                      <a:pt x="0" y="5"/>
                    </a:lnTo>
                    <a:lnTo>
                      <a:pt x="27" y="6"/>
                    </a:lnTo>
                    <a:lnTo>
                      <a:pt x="37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72000" y="348120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19" y="0"/>
                    </a:moveTo>
                    <a:lnTo>
                      <a:pt x="0" y="4"/>
                    </a:lnTo>
                    <a:lnTo>
                      <a:pt x="29" y="7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92800" y="34430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75160" y="3456000"/>
                <a:ext cx="28800" cy="61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17" y="0"/>
                    </a:moveTo>
                    <a:lnTo>
                      <a:pt x="0" y="6"/>
                    </a:lnTo>
                    <a:lnTo>
                      <a:pt x="25" y="6"/>
                    </a:lnTo>
                    <a:lnTo>
                      <a:pt x="36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54640" y="346860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8" y="0"/>
                    </a:moveTo>
                    <a:lnTo>
                      <a:pt x="0" y="5"/>
                    </a:lnTo>
                    <a:lnTo>
                      <a:pt x="28" y="8"/>
                    </a:lnTo>
                    <a:lnTo>
                      <a:pt x="37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26120" y="342576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5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07040" y="34383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5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4720" y="345276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8" y="0"/>
                    </a:moveTo>
                    <a:lnTo>
                      <a:pt x="0" y="5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30960" y="3444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14760" y="346068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6"/>
                    </a:lnTo>
                    <a:lnTo>
                      <a:pt x="25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96040" y="347328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7" y="0"/>
                    </a:moveTo>
                    <a:lnTo>
                      <a:pt x="0" y="6"/>
                    </a:lnTo>
                    <a:lnTo>
                      <a:pt x="27" y="8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00520" y="3463920"/>
                <a:ext cx="82800" cy="71280"/>
              </a:xfrm>
              <a:custGeom>
                <a:avLst/>
                <a:gdLst/>
                <a:ahLst/>
                <a:rect l="l" t="t" r="r" b="b"/>
                <a:pathLst>
                  <a:path w="103" h="89">
                    <a:moveTo>
                      <a:pt x="79" y="0"/>
                    </a:moveTo>
                    <a:lnTo>
                      <a:pt x="0" y="69"/>
                    </a:lnTo>
                    <a:lnTo>
                      <a:pt x="3" y="89"/>
                    </a:lnTo>
                    <a:lnTo>
                      <a:pt x="103" y="62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03760" y="3516120"/>
                <a:ext cx="104760" cy="36720"/>
              </a:xfrm>
              <a:custGeom>
                <a:avLst/>
                <a:gdLst/>
                <a:ahLst/>
                <a:rect l="l" t="t" r="r" b="b"/>
                <a:pathLst>
                  <a:path w="133" h="45">
                    <a:moveTo>
                      <a:pt x="0" y="30"/>
                    </a:moveTo>
                    <a:lnTo>
                      <a:pt x="0" y="45"/>
                    </a:lnTo>
                    <a:lnTo>
                      <a:pt x="133" y="23"/>
                    </a:lnTo>
                    <a:lnTo>
                      <a:pt x="12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83280" y="3557520"/>
                <a:ext cx="446040" cy="368280"/>
              </a:xfrm>
              <a:custGeom>
                <a:avLst/>
                <a:gdLst/>
                <a:ahLst/>
                <a:rect l="l" t="t" r="r" b="b"/>
                <a:pathLst>
                  <a:path w="563" h="466">
                    <a:moveTo>
                      <a:pt x="119" y="466"/>
                    </a:moveTo>
                    <a:lnTo>
                      <a:pt x="519" y="127"/>
                    </a:lnTo>
                    <a:lnTo>
                      <a:pt x="563" y="0"/>
                    </a:lnTo>
                    <a:lnTo>
                      <a:pt x="515" y="10"/>
                    </a:lnTo>
                    <a:lnTo>
                      <a:pt x="422" y="111"/>
                    </a:lnTo>
                    <a:lnTo>
                      <a:pt x="0" y="283"/>
                    </a:lnTo>
                    <a:lnTo>
                      <a:pt x="119" y="466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66560" y="5456160"/>
              <a:ext cx="33512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o de Prod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ística com fornec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o de Manuten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3240" y="5456160"/>
              <a:ext cx="32940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ndas e Distribui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orte ao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mpanhas de 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13880" y="2178000"/>
              <a:ext cx="111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05320" y="2178000"/>
              <a:ext cx="119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5840" y="2178000"/>
              <a:ext cx="131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rod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5400000">
              <a:off x="3193200" y="3324960"/>
              <a:ext cx="1069920" cy="60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5400000">
              <a:off x="5696640" y="3324960"/>
              <a:ext cx="1069920" cy="60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5280" y="917640"/>
              <a:ext cx="4906800" cy="4460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eparação da Produçã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98720" y="1508040"/>
              <a:ext cx="4907160" cy="4460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nçamento do Prod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00520" y="5467320"/>
              <a:ext cx="0" cy="938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55880" y="4836960"/>
              <a:ext cx="3559320" cy="412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CO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0440" y="6477120"/>
              <a:ext cx="297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adeia de Supriment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57120" y="2577960"/>
              <a:ext cx="2788920" cy="2098080"/>
              <a:chOff x="357120" y="2577960"/>
              <a:chExt cx="2788920" cy="2098080"/>
            </a:xfrm>
          </p:grpSpPr>
          <p:sp>
            <p:nvSpPr>
              <p:cNvPr id="419" name=""/>
              <p:cNvSpPr/>
              <p:nvPr/>
            </p:nvSpPr>
            <p:spPr>
              <a:xfrm>
                <a:off x="601560" y="2828880"/>
                <a:ext cx="2355840" cy="1628640"/>
              </a:xfrm>
              <a:prstGeom prst="ellipse">
                <a:avLst/>
              </a:prstGeom>
              <a:solidFill>
                <a:srgbClr val="ccffcc"/>
              </a:soli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542960" y="3153960"/>
                <a:ext cx="1603080" cy="884160"/>
                <a:chOff x="1542960" y="3153960"/>
                <a:chExt cx="1603080" cy="884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542960" y="3153960"/>
                  <a:ext cx="1603080" cy="884160"/>
                </a:xfrm>
                <a:prstGeom prst="rightArrow">
                  <a:avLst>
                    <a:gd name="adj1" fmla="val 78898"/>
                    <a:gd name="adj2" fmla="val 28615"/>
                  </a:avLst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1598040" y="3341160"/>
                  <a:ext cx="1395000" cy="509760"/>
                  <a:chOff x="1598040" y="3341160"/>
                  <a:chExt cx="1395000" cy="50976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159804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96740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176292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3676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3264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70648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50200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30" name=""/>
                  <p:cNvCxnSpPr>
                    <a:stCxn id="423" idx="3"/>
                    <a:endCxn id="425" idx="1"/>
                  </p:cNvCxnSpPr>
                  <p:nvPr/>
                </p:nvCxnSpPr>
                <p:spPr>
                  <a:xfrm>
                    <a:off x="172836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1" name=""/>
                  <p:cNvCxnSpPr>
                    <a:stCxn id="425" idx="3"/>
                    <a:endCxn id="424" idx="1"/>
                  </p:cNvCxnSpPr>
                  <p:nvPr/>
                </p:nvCxnSpPr>
                <p:spPr>
                  <a:xfrm>
                    <a:off x="193248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2" name=""/>
                  <p:cNvCxnSpPr>
                    <a:stCxn id="424" idx="3"/>
                    <a:endCxn id="427" idx="1"/>
                  </p:cNvCxnSpPr>
                  <p:nvPr/>
                </p:nvCxnSpPr>
                <p:spPr>
                  <a:xfrm>
                    <a:off x="209772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3" name=""/>
                  <p:cNvCxnSpPr>
                    <a:stCxn id="427" idx="3"/>
                    <a:endCxn id="426" idx="1"/>
                  </p:cNvCxnSpPr>
                  <p:nvPr/>
                </p:nvCxnSpPr>
                <p:spPr>
                  <a:xfrm>
                    <a:off x="230220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4" name=""/>
                  <p:cNvCxnSpPr>
                    <a:stCxn id="426" idx="3"/>
                    <a:endCxn id="429" idx="1"/>
                  </p:cNvCxnSpPr>
                  <p:nvPr/>
                </p:nvCxnSpPr>
                <p:spPr>
                  <a:xfrm>
                    <a:off x="246708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5" name=""/>
                  <p:cNvCxnSpPr>
                    <a:stCxn id="429" idx="3"/>
                    <a:endCxn id="428" idx="1"/>
                  </p:cNvCxnSpPr>
                  <p:nvPr/>
                </p:nvCxnSpPr>
                <p:spPr>
                  <a:xfrm>
                    <a:off x="267156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36" name=""/>
                  <p:cNvSpPr/>
                  <p:nvPr/>
                </p:nvSpPr>
                <p:spPr>
                  <a:xfrm>
                    <a:off x="1793520" y="3732120"/>
                    <a:ext cx="117360" cy="11880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37" name=""/>
                  <p:cNvCxnSpPr>
                    <a:stCxn id="423" idx="2"/>
                    <a:endCxn id="436" idx="1"/>
                  </p:cNvCxnSpPr>
                  <p:nvPr/>
                </p:nvCxnSpPr>
                <p:spPr>
                  <a:xfrm flipH="1" rot="16200000">
                    <a:off x="1656720" y="3654360"/>
                    <a:ext cx="143640" cy="1310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8" name=""/>
                  <p:cNvCxnSpPr>
                    <a:stCxn id="436" idx="3"/>
                    <a:endCxn id="439" idx="2"/>
                  </p:cNvCxnSpPr>
                  <p:nvPr/>
                </p:nvCxnSpPr>
                <p:spPr>
                  <a:xfrm flipV="1">
                    <a:off x="1910520" y="3646800"/>
                    <a:ext cx="91800" cy="144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0" name=""/>
                  <p:cNvSpPr/>
                  <p:nvPr/>
                </p:nvSpPr>
                <p:spPr>
                  <a:xfrm>
                    <a:off x="2145600" y="373212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1" name=""/>
                  <p:cNvCxnSpPr>
                    <a:stCxn id="440" idx="2"/>
                    <a:endCxn id="442" idx="2"/>
                  </p:cNvCxnSpPr>
                  <p:nvPr/>
                </p:nvCxnSpPr>
                <p:spPr>
                  <a:xfrm rot="10800000">
                    <a:off x="2066760" y="3646440"/>
                    <a:ext cx="78840" cy="144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2" name=""/>
                  <p:cNvSpPr/>
                  <p:nvPr/>
                </p:nvSpPr>
                <p:spPr>
                  <a:xfrm>
                    <a:off x="2054160" y="3596040"/>
                    <a:ext cx="2592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1989000" y="3596040"/>
                    <a:ext cx="2592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32640" y="3341160"/>
                    <a:ext cx="156240" cy="116280"/>
                  </a:xfrm>
                  <a:prstGeom prst="flowChartPredefinedProcess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4" name=""/>
                  <p:cNvCxnSpPr>
                    <a:stCxn id="443" idx="1"/>
                    <a:endCxn id="424" idx="0"/>
                  </p:cNvCxnSpPr>
                  <p:nvPr/>
                </p:nvCxnSpPr>
                <p:spPr>
                  <a:xfrm flipV="1" rot="10800000">
                    <a:off x="2031840" y="3399120"/>
                    <a:ext cx="100440" cy="1303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5" name=""/>
                  <p:cNvSpPr/>
                  <p:nvPr/>
                </p:nvSpPr>
                <p:spPr>
                  <a:xfrm>
                    <a:off x="2445480" y="373212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6" name=""/>
                  <p:cNvCxnSpPr>
                    <a:stCxn id="445" idx="2"/>
                    <a:endCxn id="426" idx="2"/>
                  </p:cNvCxnSpPr>
                  <p:nvPr/>
                </p:nvCxnSpPr>
                <p:spPr>
                  <a:xfrm rot="10800000">
                    <a:off x="2401200" y="3647880"/>
                    <a:ext cx="43920" cy="143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7" name=""/>
                  <p:cNvSpPr/>
                  <p:nvPr/>
                </p:nvSpPr>
                <p:spPr>
                  <a:xfrm>
                    <a:off x="2810520" y="3341160"/>
                    <a:ext cx="156240" cy="116280"/>
                  </a:xfrm>
                  <a:prstGeom prst="flowChartPredefinedProcess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8" name=""/>
                  <p:cNvCxnSpPr>
                    <a:stCxn id="447" idx="1"/>
                    <a:endCxn id="428" idx="0"/>
                  </p:cNvCxnSpPr>
                  <p:nvPr/>
                </p:nvCxnSpPr>
                <p:spPr>
                  <a:xfrm flipV="1" rot="10800000">
                    <a:off x="2770920" y="3399120"/>
                    <a:ext cx="39600" cy="1303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9" name=""/>
                  <p:cNvSpPr/>
                  <p:nvPr/>
                </p:nvSpPr>
                <p:spPr>
                  <a:xfrm>
                    <a:off x="2549880" y="3341160"/>
                    <a:ext cx="117360" cy="11880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836800" y="371520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51" name=""/>
                  <p:cNvCxnSpPr>
                    <a:stCxn id="450" idx="2"/>
                    <a:endCxn id="428" idx="2"/>
                  </p:cNvCxnSpPr>
                  <p:nvPr/>
                </p:nvCxnSpPr>
                <p:spPr>
                  <a:xfrm rot="10800000">
                    <a:off x="2770920" y="3647880"/>
                    <a:ext cx="65520" cy="12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52" name=""/>
                  <p:cNvCxnSpPr>
                    <a:stCxn id="449" idx="1"/>
                    <a:endCxn id="426" idx="0"/>
                  </p:cNvCxnSpPr>
                  <p:nvPr/>
                </p:nvCxnSpPr>
                <p:spPr>
                  <a:xfrm flipV="1" rot="10800000">
                    <a:off x="2401200" y="3400560"/>
                    <a:ext cx="148320" cy="1292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pic>
            <p:nvPicPr>
              <p:cNvPr id="4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2577960"/>
                <a:ext cx="279360" cy="19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4" name=""/>
              <p:cNvGrpSpPr/>
              <p:nvPr/>
            </p:nvGrpSpPr>
            <p:grpSpPr>
              <a:xfrm>
                <a:off x="1072800" y="3678120"/>
                <a:ext cx="339480" cy="339480"/>
                <a:chOff x="1072800" y="3678120"/>
                <a:chExt cx="339480" cy="339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202040" y="3855240"/>
                  <a:ext cx="32760" cy="32760"/>
                </a:xfrm>
                <a:custGeom>
                  <a:avLst/>
                  <a:gdLst/>
                  <a:ahLst/>
                  <a:rect l="l" t="t" r="r" b="b"/>
                  <a:pathLst>
                    <a:path w="1106" h="1109">
                      <a:moveTo>
                        <a:pt x="32" y="333"/>
                      </a:moveTo>
                      <a:lnTo>
                        <a:pt x="125" y="257"/>
                      </a:lnTo>
                      <a:lnTo>
                        <a:pt x="246" y="161"/>
                      </a:lnTo>
                      <a:lnTo>
                        <a:pt x="365" y="99"/>
                      </a:lnTo>
                      <a:lnTo>
                        <a:pt x="483" y="56"/>
                      </a:lnTo>
                      <a:lnTo>
                        <a:pt x="603" y="11"/>
                      </a:lnTo>
                      <a:lnTo>
                        <a:pt x="703" y="0"/>
                      </a:lnTo>
                      <a:lnTo>
                        <a:pt x="810" y="0"/>
                      </a:lnTo>
                      <a:lnTo>
                        <a:pt x="892" y="23"/>
                      </a:lnTo>
                      <a:lnTo>
                        <a:pt x="973" y="61"/>
                      </a:lnTo>
                      <a:lnTo>
                        <a:pt x="1023" y="124"/>
                      </a:lnTo>
                      <a:lnTo>
                        <a:pt x="1073" y="194"/>
                      </a:lnTo>
                      <a:lnTo>
                        <a:pt x="1093" y="283"/>
                      </a:lnTo>
                      <a:lnTo>
                        <a:pt x="1106" y="383"/>
                      </a:lnTo>
                      <a:lnTo>
                        <a:pt x="1086" y="489"/>
                      </a:lnTo>
                      <a:lnTo>
                        <a:pt x="1056" y="607"/>
                      </a:lnTo>
                      <a:lnTo>
                        <a:pt x="1005" y="727"/>
                      </a:lnTo>
                      <a:lnTo>
                        <a:pt x="935" y="853"/>
                      </a:lnTo>
                      <a:lnTo>
                        <a:pt x="860" y="966"/>
                      </a:lnTo>
                      <a:lnTo>
                        <a:pt x="767" y="1084"/>
                      </a:lnTo>
                      <a:lnTo>
                        <a:pt x="767" y="1084"/>
                      </a:lnTo>
                      <a:lnTo>
                        <a:pt x="760" y="1084"/>
                      </a:lnTo>
                      <a:lnTo>
                        <a:pt x="703" y="1102"/>
                      </a:lnTo>
                      <a:lnTo>
                        <a:pt x="641" y="1109"/>
                      </a:lnTo>
                      <a:lnTo>
                        <a:pt x="565" y="1097"/>
                      </a:lnTo>
                      <a:lnTo>
                        <a:pt x="483" y="1066"/>
                      </a:lnTo>
                      <a:lnTo>
                        <a:pt x="383" y="1016"/>
                      </a:lnTo>
                      <a:lnTo>
                        <a:pt x="302" y="946"/>
                      </a:lnTo>
                      <a:lnTo>
                        <a:pt x="234" y="878"/>
                      </a:lnTo>
                      <a:lnTo>
                        <a:pt x="158" y="791"/>
                      </a:lnTo>
                      <a:lnTo>
                        <a:pt x="88" y="707"/>
                      </a:lnTo>
                      <a:lnTo>
                        <a:pt x="38" y="619"/>
                      </a:lnTo>
                      <a:lnTo>
                        <a:pt x="13" y="539"/>
                      </a:lnTo>
                      <a:lnTo>
                        <a:pt x="0" y="458"/>
                      </a:lnTo>
                      <a:lnTo>
                        <a:pt x="7" y="388"/>
                      </a:lnTo>
                      <a:lnTo>
                        <a:pt x="32" y="333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208880" y="3774960"/>
                  <a:ext cx="106560" cy="105840"/>
                </a:xfrm>
                <a:custGeom>
                  <a:avLst/>
                  <a:gdLst/>
                  <a:ahLst/>
                  <a:rect l="l" t="t" r="r" b="b"/>
                  <a:pathLst>
                    <a:path w="3578" h="3613">
                      <a:moveTo>
                        <a:pt x="1900" y="0"/>
                      </a:moveTo>
                      <a:lnTo>
                        <a:pt x="25" y="1880"/>
                      </a:lnTo>
                      <a:lnTo>
                        <a:pt x="12" y="1950"/>
                      </a:lnTo>
                      <a:lnTo>
                        <a:pt x="0" y="2019"/>
                      </a:lnTo>
                      <a:lnTo>
                        <a:pt x="5" y="2120"/>
                      </a:lnTo>
                      <a:lnTo>
                        <a:pt x="25" y="2207"/>
                      </a:lnTo>
                      <a:lnTo>
                        <a:pt x="63" y="2320"/>
                      </a:lnTo>
                      <a:lnTo>
                        <a:pt x="131" y="2446"/>
                      </a:lnTo>
                      <a:lnTo>
                        <a:pt x="199" y="2572"/>
                      </a:lnTo>
                      <a:lnTo>
                        <a:pt x="287" y="2698"/>
                      </a:lnTo>
                      <a:lnTo>
                        <a:pt x="382" y="2816"/>
                      </a:lnTo>
                      <a:lnTo>
                        <a:pt x="487" y="2947"/>
                      </a:lnTo>
                      <a:lnTo>
                        <a:pt x="608" y="3061"/>
                      </a:lnTo>
                      <a:lnTo>
                        <a:pt x="734" y="3181"/>
                      </a:lnTo>
                      <a:lnTo>
                        <a:pt x="859" y="3279"/>
                      </a:lnTo>
                      <a:lnTo>
                        <a:pt x="990" y="3379"/>
                      </a:lnTo>
                      <a:lnTo>
                        <a:pt x="1104" y="3455"/>
                      </a:lnTo>
                      <a:lnTo>
                        <a:pt x="1235" y="3518"/>
                      </a:lnTo>
                      <a:lnTo>
                        <a:pt x="1335" y="3563"/>
                      </a:lnTo>
                      <a:lnTo>
                        <a:pt x="1442" y="3601"/>
                      </a:lnTo>
                      <a:lnTo>
                        <a:pt x="1544" y="3613"/>
                      </a:lnTo>
                      <a:lnTo>
                        <a:pt x="1619" y="3613"/>
                      </a:lnTo>
                      <a:lnTo>
                        <a:pt x="1687" y="3588"/>
                      </a:lnTo>
                      <a:lnTo>
                        <a:pt x="1744" y="3551"/>
                      </a:lnTo>
                      <a:lnTo>
                        <a:pt x="3578" y="1699"/>
                      </a:lnTo>
                      <a:lnTo>
                        <a:pt x="19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244880" y="3787200"/>
                  <a:ext cx="57960" cy="59040"/>
                </a:xfrm>
                <a:custGeom>
                  <a:avLst/>
                  <a:gdLst/>
                  <a:ahLst/>
                  <a:rect l="l" t="t" r="r" b="b"/>
                  <a:pathLst>
                    <a:path w="1959" h="2006">
                      <a:moveTo>
                        <a:pt x="1695" y="1981"/>
                      </a:moveTo>
                      <a:lnTo>
                        <a:pt x="1627" y="2006"/>
                      </a:lnTo>
                      <a:lnTo>
                        <a:pt x="1546" y="2006"/>
                      </a:lnTo>
                      <a:lnTo>
                        <a:pt x="1451" y="1993"/>
                      </a:lnTo>
                      <a:lnTo>
                        <a:pt x="1345" y="1963"/>
                      </a:lnTo>
                      <a:lnTo>
                        <a:pt x="1232" y="1913"/>
                      </a:lnTo>
                      <a:lnTo>
                        <a:pt x="1119" y="1856"/>
                      </a:lnTo>
                      <a:lnTo>
                        <a:pt x="986" y="1780"/>
                      </a:lnTo>
                      <a:lnTo>
                        <a:pt x="868" y="1682"/>
                      </a:lnTo>
                      <a:lnTo>
                        <a:pt x="734" y="1569"/>
                      </a:lnTo>
                      <a:lnTo>
                        <a:pt x="616" y="1460"/>
                      </a:lnTo>
                      <a:lnTo>
                        <a:pt x="491" y="1335"/>
                      </a:lnTo>
                      <a:lnTo>
                        <a:pt x="390" y="1217"/>
                      </a:lnTo>
                      <a:lnTo>
                        <a:pt x="296" y="1091"/>
                      </a:lnTo>
                      <a:lnTo>
                        <a:pt x="208" y="965"/>
                      </a:lnTo>
                      <a:lnTo>
                        <a:pt x="133" y="839"/>
                      </a:lnTo>
                      <a:lnTo>
                        <a:pt x="70" y="721"/>
                      </a:lnTo>
                      <a:lnTo>
                        <a:pt x="33" y="608"/>
                      </a:lnTo>
                      <a:lnTo>
                        <a:pt x="8" y="508"/>
                      </a:lnTo>
                      <a:lnTo>
                        <a:pt x="0" y="419"/>
                      </a:lnTo>
                      <a:lnTo>
                        <a:pt x="13" y="344"/>
                      </a:lnTo>
                      <a:lnTo>
                        <a:pt x="33" y="281"/>
                      </a:lnTo>
                      <a:lnTo>
                        <a:pt x="70" y="231"/>
                      </a:lnTo>
                      <a:lnTo>
                        <a:pt x="296" y="0"/>
                      </a:lnTo>
                      <a:lnTo>
                        <a:pt x="271" y="57"/>
                      </a:lnTo>
                      <a:lnTo>
                        <a:pt x="258" y="132"/>
                      </a:lnTo>
                      <a:lnTo>
                        <a:pt x="271" y="231"/>
                      </a:lnTo>
                      <a:lnTo>
                        <a:pt x="296" y="326"/>
                      </a:lnTo>
                      <a:lnTo>
                        <a:pt x="335" y="432"/>
                      </a:lnTo>
                      <a:lnTo>
                        <a:pt x="397" y="558"/>
                      </a:lnTo>
                      <a:lnTo>
                        <a:pt x="473" y="684"/>
                      </a:lnTo>
                      <a:lnTo>
                        <a:pt x="560" y="809"/>
                      </a:lnTo>
                      <a:lnTo>
                        <a:pt x="654" y="934"/>
                      </a:lnTo>
                      <a:lnTo>
                        <a:pt x="754" y="1061"/>
                      </a:lnTo>
                      <a:lnTo>
                        <a:pt x="880" y="1179"/>
                      </a:lnTo>
                      <a:lnTo>
                        <a:pt x="999" y="1297"/>
                      </a:lnTo>
                      <a:lnTo>
                        <a:pt x="1124" y="1398"/>
                      </a:lnTo>
                      <a:lnTo>
                        <a:pt x="1249" y="1493"/>
                      </a:lnTo>
                      <a:lnTo>
                        <a:pt x="1376" y="1569"/>
                      </a:lnTo>
                      <a:lnTo>
                        <a:pt x="1496" y="1632"/>
                      </a:lnTo>
                      <a:lnTo>
                        <a:pt x="1607" y="1682"/>
                      </a:lnTo>
                      <a:lnTo>
                        <a:pt x="1715" y="1712"/>
                      </a:lnTo>
                      <a:lnTo>
                        <a:pt x="1809" y="1725"/>
                      </a:lnTo>
                      <a:lnTo>
                        <a:pt x="1891" y="1725"/>
                      </a:lnTo>
                      <a:lnTo>
                        <a:pt x="1959" y="1700"/>
                      </a:lnTo>
                      <a:lnTo>
                        <a:pt x="1695" y="19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20040" y="3810960"/>
                  <a:ext cx="58320" cy="60480"/>
                </a:xfrm>
                <a:custGeom>
                  <a:avLst/>
                  <a:gdLst/>
                  <a:ahLst/>
                  <a:rect l="l" t="t" r="r" b="b"/>
                  <a:pathLst>
                    <a:path w="1959" h="2015">
                      <a:moveTo>
                        <a:pt x="1701" y="1983"/>
                      </a:moveTo>
                      <a:lnTo>
                        <a:pt x="1633" y="2015"/>
                      </a:lnTo>
                      <a:lnTo>
                        <a:pt x="1544" y="2015"/>
                      </a:lnTo>
                      <a:lnTo>
                        <a:pt x="1451" y="1995"/>
                      </a:lnTo>
                      <a:lnTo>
                        <a:pt x="1350" y="1965"/>
                      </a:lnTo>
                      <a:lnTo>
                        <a:pt x="1230" y="1914"/>
                      </a:lnTo>
                      <a:lnTo>
                        <a:pt x="1111" y="1857"/>
                      </a:lnTo>
                      <a:lnTo>
                        <a:pt x="986" y="1777"/>
                      </a:lnTo>
                      <a:lnTo>
                        <a:pt x="866" y="1675"/>
                      </a:lnTo>
                      <a:lnTo>
                        <a:pt x="735" y="1575"/>
                      </a:lnTo>
                      <a:lnTo>
                        <a:pt x="621" y="1462"/>
                      </a:lnTo>
                      <a:lnTo>
                        <a:pt x="490" y="1344"/>
                      </a:lnTo>
                      <a:lnTo>
                        <a:pt x="390" y="1223"/>
                      </a:lnTo>
                      <a:lnTo>
                        <a:pt x="289" y="1092"/>
                      </a:lnTo>
                      <a:lnTo>
                        <a:pt x="207" y="966"/>
                      </a:lnTo>
                      <a:lnTo>
                        <a:pt x="139" y="841"/>
                      </a:lnTo>
                      <a:lnTo>
                        <a:pt x="75" y="723"/>
                      </a:lnTo>
                      <a:lnTo>
                        <a:pt x="38" y="614"/>
                      </a:lnTo>
                      <a:lnTo>
                        <a:pt x="5" y="514"/>
                      </a:lnTo>
                      <a:lnTo>
                        <a:pt x="0" y="421"/>
                      </a:lnTo>
                      <a:lnTo>
                        <a:pt x="13" y="340"/>
                      </a:lnTo>
                      <a:lnTo>
                        <a:pt x="38" y="283"/>
                      </a:lnTo>
                      <a:lnTo>
                        <a:pt x="63" y="233"/>
                      </a:lnTo>
                      <a:lnTo>
                        <a:pt x="302" y="0"/>
                      </a:lnTo>
                      <a:lnTo>
                        <a:pt x="282" y="56"/>
                      </a:lnTo>
                      <a:lnTo>
                        <a:pt x="257" y="138"/>
                      </a:lnTo>
                      <a:lnTo>
                        <a:pt x="270" y="233"/>
                      </a:lnTo>
                      <a:lnTo>
                        <a:pt x="302" y="333"/>
                      </a:lnTo>
                      <a:lnTo>
                        <a:pt x="332" y="439"/>
                      </a:lnTo>
                      <a:lnTo>
                        <a:pt x="402" y="559"/>
                      </a:lnTo>
                      <a:lnTo>
                        <a:pt x="470" y="684"/>
                      </a:lnTo>
                      <a:lnTo>
                        <a:pt x="553" y="811"/>
                      </a:lnTo>
                      <a:lnTo>
                        <a:pt x="652" y="936"/>
                      </a:lnTo>
                      <a:lnTo>
                        <a:pt x="753" y="1060"/>
                      </a:lnTo>
                      <a:lnTo>
                        <a:pt x="885" y="1172"/>
                      </a:lnTo>
                      <a:lnTo>
                        <a:pt x="998" y="1294"/>
                      </a:lnTo>
                      <a:lnTo>
                        <a:pt x="1130" y="1394"/>
                      </a:lnTo>
                      <a:lnTo>
                        <a:pt x="1250" y="1494"/>
                      </a:lnTo>
                      <a:lnTo>
                        <a:pt x="1375" y="1568"/>
                      </a:lnTo>
                      <a:lnTo>
                        <a:pt x="1494" y="1630"/>
                      </a:lnTo>
                      <a:lnTo>
                        <a:pt x="1612" y="1675"/>
                      </a:lnTo>
                      <a:lnTo>
                        <a:pt x="1713" y="1713"/>
                      </a:lnTo>
                      <a:lnTo>
                        <a:pt x="1801" y="1725"/>
                      </a:lnTo>
                      <a:lnTo>
                        <a:pt x="1889" y="1725"/>
                      </a:lnTo>
                      <a:lnTo>
                        <a:pt x="1959" y="1706"/>
                      </a:lnTo>
                      <a:lnTo>
                        <a:pt x="1701" y="19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63600" y="377316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1795" h="1818">
                      <a:moveTo>
                        <a:pt x="1745" y="1768"/>
                      </a:moveTo>
                      <a:lnTo>
                        <a:pt x="1783" y="1713"/>
                      </a:lnTo>
                      <a:lnTo>
                        <a:pt x="1795" y="1650"/>
                      </a:lnTo>
                      <a:lnTo>
                        <a:pt x="1795" y="1562"/>
                      </a:lnTo>
                      <a:lnTo>
                        <a:pt x="1783" y="1468"/>
                      </a:lnTo>
                      <a:lnTo>
                        <a:pt x="1745" y="1361"/>
                      </a:lnTo>
                      <a:lnTo>
                        <a:pt x="1700" y="1242"/>
                      </a:lnTo>
                      <a:lnTo>
                        <a:pt x="1631" y="1124"/>
                      </a:lnTo>
                      <a:lnTo>
                        <a:pt x="1556" y="999"/>
                      </a:lnTo>
                      <a:lnTo>
                        <a:pt x="1461" y="878"/>
                      </a:lnTo>
                      <a:lnTo>
                        <a:pt x="1355" y="740"/>
                      </a:lnTo>
                      <a:lnTo>
                        <a:pt x="1243" y="634"/>
                      </a:lnTo>
                      <a:lnTo>
                        <a:pt x="1129" y="503"/>
                      </a:lnTo>
                      <a:lnTo>
                        <a:pt x="996" y="395"/>
                      </a:lnTo>
                      <a:lnTo>
                        <a:pt x="878" y="294"/>
                      </a:lnTo>
                      <a:lnTo>
                        <a:pt x="752" y="214"/>
                      </a:lnTo>
                      <a:lnTo>
                        <a:pt x="626" y="138"/>
                      </a:lnTo>
                      <a:lnTo>
                        <a:pt x="508" y="76"/>
                      </a:lnTo>
                      <a:lnTo>
                        <a:pt x="400" y="33"/>
                      </a:lnTo>
                      <a:lnTo>
                        <a:pt x="307" y="13"/>
                      </a:lnTo>
                      <a:lnTo>
                        <a:pt x="219" y="0"/>
                      </a:lnTo>
                      <a:lnTo>
                        <a:pt x="143" y="20"/>
                      </a:lnTo>
                      <a:lnTo>
                        <a:pt x="80" y="51"/>
                      </a:lnTo>
                      <a:lnTo>
                        <a:pt x="25" y="94"/>
                      </a:lnTo>
                      <a:lnTo>
                        <a:pt x="12" y="156"/>
                      </a:lnTo>
                      <a:lnTo>
                        <a:pt x="0" y="232"/>
                      </a:lnTo>
                      <a:lnTo>
                        <a:pt x="5" y="327"/>
                      </a:lnTo>
                      <a:lnTo>
                        <a:pt x="25" y="420"/>
                      </a:lnTo>
                      <a:lnTo>
                        <a:pt x="68" y="528"/>
                      </a:lnTo>
                      <a:lnTo>
                        <a:pt x="130" y="652"/>
                      </a:lnTo>
                      <a:lnTo>
                        <a:pt x="200" y="784"/>
                      </a:lnTo>
                      <a:lnTo>
                        <a:pt x="287" y="903"/>
                      </a:lnTo>
                      <a:lnTo>
                        <a:pt x="388" y="1029"/>
                      </a:lnTo>
                      <a:lnTo>
                        <a:pt x="488" y="1155"/>
                      </a:lnTo>
                      <a:lnTo>
                        <a:pt x="608" y="1280"/>
                      </a:lnTo>
                      <a:lnTo>
                        <a:pt x="735" y="1386"/>
                      </a:lnTo>
                      <a:lnTo>
                        <a:pt x="860" y="1486"/>
                      </a:lnTo>
                      <a:lnTo>
                        <a:pt x="991" y="1594"/>
                      </a:lnTo>
                      <a:lnTo>
                        <a:pt x="1116" y="1663"/>
                      </a:lnTo>
                      <a:lnTo>
                        <a:pt x="1235" y="1725"/>
                      </a:lnTo>
                      <a:lnTo>
                        <a:pt x="1336" y="1775"/>
                      </a:lnTo>
                      <a:lnTo>
                        <a:pt x="1456" y="1806"/>
                      </a:lnTo>
                      <a:lnTo>
                        <a:pt x="1544" y="1818"/>
                      </a:lnTo>
                      <a:lnTo>
                        <a:pt x="1624" y="1818"/>
                      </a:lnTo>
                      <a:lnTo>
                        <a:pt x="1695" y="1793"/>
                      </a:lnTo>
                      <a:lnTo>
                        <a:pt x="1745" y="17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292760" y="3740040"/>
                  <a:ext cx="58320" cy="58680"/>
                </a:xfrm>
                <a:custGeom>
                  <a:avLst/>
                  <a:gdLst/>
                  <a:ahLst/>
                  <a:rect l="l" t="t" r="r" b="b"/>
                  <a:pathLst>
                    <a:path w="1978" h="1995">
                      <a:moveTo>
                        <a:pt x="1659" y="1683"/>
                      </a:moveTo>
                      <a:lnTo>
                        <a:pt x="1760" y="1557"/>
                      </a:lnTo>
                      <a:lnTo>
                        <a:pt x="1841" y="1424"/>
                      </a:lnTo>
                      <a:lnTo>
                        <a:pt x="1916" y="1286"/>
                      </a:lnTo>
                      <a:lnTo>
                        <a:pt x="1959" y="1143"/>
                      </a:lnTo>
                      <a:lnTo>
                        <a:pt x="1978" y="991"/>
                      </a:lnTo>
                      <a:lnTo>
                        <a:pt x="1978" y="836"/>
                      </a:lnTo>
                      <a:lnTo>
                        <a:pt x="1953" y="698"/>
                      </a:lnTo>
                      <a:lnTo>
                        <a:pt x="1916" y="553"/>
                      </a:lnTo>
                      <a:lnTo>
                        <a:pt x="1833" y="428"/>
                      </a:lnTo>
                      <a:lnTo>
                        <a:pt x="1760" y="308"/>
                      </a:lnTo>
                      <a:lnTo>
                        <a:pt x="1659" y="215"/>
                      </a:lnTo>
                      <a:lnTo>
                        <a:pt x="1539" y="134"/>
                      </a:lnTo>
                      <a:lnTo>
                        <a:pt x="1408" y="64"/>
                      </a:lnTo>
                      <a:lnTo>
                        <a:pt x="1270" y="26"/>
                      </a:lnTo>
                      <a:lnTo>
                        <a:pt x="1131" y="0"/>
                      </a:lnTo>
                      <a:lnTo>
                        <a:pt x="973" y="8"/>
                      </a:lnTo>
                      <a:lnTo>
                        <a:pt x="824" y="26"/>
                      </a:lnTo>
                      <a:lnTo>
                        <a:pt x="685" y="77"/>
                      </a:lnTo>
                      <a:lnTo>
                        <a:pt x="540" y="152"/>
                      </a:lnTo>
                      <a:lnTo>
                        <a:pt x="415" y="233"/>
                      </a:lnTo>
                      <a:lnTo>
                        <a:pt x="297" y="333"/>
                      </a:lnTo>
                      <a:lnTo>
                        <a:pt x="202" y="466"/>
                      </a:lnTo>
                      <a:lnTo>
                        <a:pt x="125" y="585"/>
                      </a:lnTo>
                      <a:lnTo>
                        <a:pt x="57" y="728"/>
                      </a:lnTo>
                      <a:lnTo>
                        <a:pt x="20" y="879"/>
                      </a:lnTo>
                      <a:lnTo>
                        <a:pt x="0" y="1036"/>
                      </a:lnTo>
                      <a:lnTo>
                        <a:pt x="0" y="1181"/>
                      </a:lnTo>
                      <a:lnTo>
                        <a:pt x="25" y="1324"/>
                      </a:lnTo>
                      <a:lnTo>
                        <a:pt x="82" y="1462"/>
                      </a:lnTo>
                      <a:lnTo>
                        <a:pt x="145" y="1588"/>
                      </a:lnTo>
                      <a:lnTo>
                        <a:pt x="234" y="1708"/>
                      </a:lnTo>
                      <a:lnTo>
                        <a:pt x="340" y="1802"/>
                      </a:lnTo>
                      <a:lnTo>
                        <a:pt x="472" y="1882"/>
                      </a:lnTo>
                      <a:lnTo>
                        <a:pt x="590" y="1945"/>
                      </a:lnTo>
                      <a:lnTo>
                        <a:pt x="729" y="1970"/>
                      </a:lnTo>
                      <a:lnTo>
                        <a:pt x="880" y="1995"/>
                      </a:lnTo>
                      <a:lnTo>
                        <a:pt x="1018" y="1990"/>
                      </a:lnTo>
                      <a:lnTo>
                        <a:pt x="1174" y="1952"/>
                      </a:lnTo>
                      <a:lnTo>
                        <a:pt x="1320" y="1914"/>
                      </a:lnTo>
                      <a:lnTo>
                        <a:pt x="1458" y="1845"/>
                      </a:lnTo>
                      <a:lnTo>
                        <a:pt x="1576" y="1751"/>
                      </a:lnTo>
                      <a:lnTo>
                        <a:pt x="1659" y="16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1299960" y="3746880"/>
                  <a:ext cx="43920" cy="4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299960" y="3743640"/>
                  <a:ext cx="11880" cy="47160"/>
                </a:xfrm>
                <a:custGeom>
                  <a:avLst/>
                  <a:gdLst/>
                  <a:ahLst/>
                  <a:rect l="l" t="t" r="r" b="b"/>
                  <a:pathLst>
                    <a:path w="427" h="1604">
                      <a:moveTo>
                        <a:pt x="0" y="1604"/>
                      </a:moveTo>
                      <a:lnTo>
                        <a:pt x="119" y="1428"/>
                      </a:lnTo>
                      <a:lnTo>
                        <a:pt x="239" y="1252"/>
                      </a:lnTo>
                      <a:lnTo>
                        <a:pt x="319" y="1071"/>
                      </a:lnTo>
                      <a:lnTo>
                        <a:pt x="370" y="869"/>
                      </a:lnTo>
                      <a:lnTo>
                        <a:pt x="414" y="669"/>
                      </a:lnTo>
                      <a:lnTo>
                        <a:pt x="427" y="463"/>
                      </a:lnTo>
                      <a:lnTo>
                        <a:pt x="420" y="261"/>
                      </a:lnTo>
                      <a:lnTo>
                        <a:pt x="389" y="48"/>
                      </a:lnTo>
                      <a:lnTo>
                        <a:pt x="3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99960" y="3777480"/>
                  <a:ext cx="47520" cy="12960"/>
                </a:xfrm>
                <a:custGeom>
                  <a:avLst/>
                  <a:gdLst/>
                  <a:ahLst/>
                  <a:rect l="l" t="t" r="r" b="b"/>
                  <a:pathLst>
                    <a:path w="1582" h="427">
                      <a:moveTo>
                        <a:pt x="0" y="427"/>
                      </a:moveTo>
                      <a:lnTo>
                        <a:pt x="164" y="307"/>
                      </a:lnTo>
                      <a:lnTo>
                        <a:pt x="344" y="201"/>
                      </a:lnTo>
                      <a:lnTo>
                        <a:pt x="528" y="113"/>
                      </a:lnTo>
                      <a:lnTo>
                        <a:pt x="722" y="63"/>
                      </a:lnTo>
                      <a:lnTo>
                        <a:pt x="922" y="25"/>
                      </a:lnTo>
                      <a:lnTo>
                        <a:pt x="1124" y="0"/>
                      </a:lnTo>
                      <a:lnTo>
                        <a:pt x="1330" y="12"/>
                      </a:lnTo>
                      <a:lnTo>
                        <a:pt x="1532" y="43"/>
                      </a:lnTo>
                      <a:lnTo>
                        <a:pt x="1582" y="63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194480" y="3776400"/>
                  <a:ext cx="40320" cy="30240"/>
                </a:xfrm>
                <a:custGeom>
                  <a:avLst/>
                  <a:gdLst/>
                  <a:ahLst/>
                  <a:rect l="l" t="t" r="r" b="b"/>
                  <a:pathLst>
                    <a:path w="1367" h="991">
                      <a:moveTo>
                        <a:pt x="0" y="802"/>
                      </a:moveTo>
                      <a:lnTo>
                        <a:pt x="1337" y="991"/>
                      </a:lnTo>
                      <a:lnTo>
                        <a:pt x="136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072800" y="3678120"/>
                  <a:ext cx="162360" cy="122760"/>
                </a:xfrm>
                <a:custGeom>
                  <a:avLst/>
                  <a:gdLst/>
                  <a:ahLst/>
                  <a:rect l="l" t="t" r="r" b="b"/>
                  <a:pathLst>
                    <a:path w="5449" h="4152">
                      <a:moveTo>
                        <a:pt x="5449" y="3350"/>
                      </a:moveTo>
                      <a:lnTo>
                        <a:pt x="4082" y="4152"/>
                      </a:lnTo>
                      <a:lnTo>
                        <a:pt x="0" y="32"/>
                      </a:lnTo>
                      <a:lnTo>
                        <a:pt x="2128" y="0"/>
                      </a:lnTo>
                      <a:lnTo>
                        <a:pt x="5449" y="335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1107000" y="3679200"/>
                  <a:ext cx="108720" cy="10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177200" y="3763080"/>
                  <a:ext cx="4320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59560" y="3748680"/>
                  <a:ext cx="46800" cy="16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1141920" y="3734640"/>
                  <a:ext cx="504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1125000" y="3720240"/>
                  <a:ext cx="5292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1107360" y="3706200"/>
                  <a:ext cx="5724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1090440" y="3692160"/>
                  <a:ext cx="6048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284480" y="3854880"/>
                  <a:ext cx="28440" cy="40680"/>
                </a:xfrm>
                <a:custGeom>
                  <a:avLst/>
                  <a:gdLst/>
                  <a:ahLst/>
                  <a:rect l="l" t="t" r="r" b="b"/>
                  <a:pathLst>
                    <a:path w="974" h="1381">
                      <a:moveTo>
                        <a:pt x="189" y="1381"/>
                      </a:moveTo>
                      <a:lnTo>
                        <a:pt x="0" y="38"/>
                      </a:lnTo>
                      <a:lnTo>
                        <a:pt x="97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90600" y="3854880"/>
                  <a:ext cx="121680" cy="162720"/>
                </a:xfrm>
                <a:custGeom>
                  <a:avLst/>
                  <a:gdLst/>
                  <a:ahLst/>
                  <a:rect l="l" t="t" r="r" b="b"/>
                  <a:pathLst>
                    <a:path w="4098" h="5508">
                      <a:moveTo>
                        <a:pt x="785" y="0"/>
                      </a:moveTo>
                      <a:lnTo>
                        <a:pt x="0" y="1381"/>
                      </a:lnTo>
                      <a:lnTo>
                        <a:pt x="4078" y="5508"/>
                      </a:lnTo>
                      <a:lnTo>
                        <a:pt x="4098" y="3350"/>
                      </a:lnTo>
                      <a:lnTo>
                        <a:pt x="7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303200" y="3874680"/>
                  <a:ext cx="107640" cy="10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1307520" y="3868920"/>
                  <a:ext cx="2016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1325160" y="3883680"/>
                  <a:ext cx="16560" cy="46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1341360" y="3897720"/>
                  <a:ext cx="14040" cy="50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1359360" y="3911040"/>
                  <a:ext cx="1044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1376280" y="3925440"/>
                  <a:ext cx="7920" cy="56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1394280" y="3939840"/>
                  <a:ext cx="3960" cy="60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26960" y="2639880"/>
                <a:ext cx="1096560" cy="501480"/>
                <a:chOff x="1326960" y="2639880"/>
                <a:chExt cx="1096560" cy="5014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518480" y="2693520"/>
                  <a:ext cx="283680" cy="298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431360" y="2693520"/>
                  <a:ext cx="86400" cy="2980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27320" y="2891520"/>
                  <a:ext cx="1096200" cy="249840"/>
                </a:xfrm>
                <a:custGeom>
                  <a:avLst/>
                  <a:gdLst/>
                  <a:ahLst/>
                  <a:rect l="l" t="t" r="r" b="b"/>
                  <a:pathLst>
                    <a:path w="12075" h="2935">
                      <a:moveTo>
                        <a:pt x="12075" y="2935"/>
                      </a:moveTo>
                      <a:lnTo>
                        <a:pt x="0" y="2935"/>
                      </a:lnTo>
                      <a:lnTo>
                        <a:pt x="0" y="1181"/>
                      </a:lnTo>
                      <a:lnTo>
                        <a:pt x="5234" y="1181"/>
                      </a:lnTo>
                      <a:lnTo>
                        <a:pt x="5234" y="0"/>
                      </a:lnTo>
                      <a:lnTo>
                        <a:pt x="12075" y="0"/>
                      </a:lnTo>
                      <a:lnTo>
                        <a:pt x="12075" y="293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906560" y="2742480"/>
                  <a:ext cx="3348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977120" y="2742480"/>
                  <a:ext cx="3240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216520" y="2742480"/>
                  <a:ext cx="3312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286720" y="2742480"/>
                  <a:ext cx="3240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854000" y="2872080"/>
                  <a:ext cx="517320" cy="172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67640" y="3096000"/>
                  <a:ext cx="43920" cy="45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164320" y="2994120"/>
                  <a:ext cx="206640" cy="146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54000" y="2994120"/>
                  <a:ext cx="206280" cy="146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38400" y="2912760"/>
                  <a:ext cx="259560" cy="52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828080" y="2912760"/>
                  <a:ext cx="259200" cy="52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445400" y="3095640"/>
                  <a:ext cx="308880" cy="190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4640" y="3019320"/>
                  <a:ext cx="181080" cy="54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366560" y="3019320"/>
                  <a:ext cx="181080" cy="54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326960" y="2890800"/>
                  <a:ext cx="1096560" cy="250200"/>
                </a:xfrm>
                <a:custGeom>
                  <a:avLst/>
                  <a:gdLst/>
                  <a:ahLst/>
                  <a:rect l="l" t="t" r="r" b="b"/>
                  <a:pathLst>
                    <a:path w="12074" h="2942">
                      <a:moveTo>
                        <a:pt x="12074" y="2942"/>
                      </a:moveTo>
                      <a:lnTo>
                        <a:pt x="12074" y="0"/>
                      </a:lnTo>
                      <a:lnTo>
                        <a:pt x="5247" y="0"/>
                      </a:lnTo>
                      <a:lnTo>
                        <a:pt x="5247" y="1209"/>
                      </a:lnTo>
                      <a:lnTo>
                        <a:pt x="0" y="1209"/>
                      </a:lnTo>
                      <a:lnTo>
                        <a:pt x="0" y="2942"/>
                      </a:lnTo>
                      <a:lnTo>
                        <a:pt x="12074" y="29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780560" y="2993400"/>
                  <a:ext cx="21600" cy="14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113920" y="2890800"/>
                  <a:ext cx="360" cy="250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829160" y="2912760"/>
                  <a:ext cx="258120" cy="5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8550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88028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0656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93212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58040" y="2912760"/>
                  <a:ext cx="72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98432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098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358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0613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829160" y="2930760"/>
                  <a:ext cx="258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829160" y="2948400"/>
                  <a:ext cx="258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55080" y="2993400"/>
                  <a:ext cx="205920" cy="147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139480" y="2912760"/>
                  <a:ext cx="257760" cy="5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1654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90600" y="2912760"/>
                  <a:ext cx="72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161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431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26764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9392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3194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454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3716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138400" y="2930760"/>
                  <a:ext cx="2588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38400" y="2948400"/>
                  <a:ext cx="2588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165400" y="2993400"/>
                  <a:ext cx="205920" cy="147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366560" y="3019320"/>
                  <a:ext cx="181080" cy="54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39392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41840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44432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470600" y="3019320"/>
                  <a:ext cx="72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49616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5220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366560" y="3037680"/>
                  <a:ext cx="181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366560" y="3056400"/>
                  <a:ext cx="1810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4640" y="3019320"/>
                  <a:ext cx="181080" cy="54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60056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62612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6516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7796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7038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72944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574640" y="3037680"/>
                  <a:ext cx="181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74640" y="3056400"/>
                  <a:ext cx="1810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367640" y="3096000"/>
                  <a:ext cx="43920" cy="45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389240" y="3096000"/>
                  <a:ext cx="360" cy="4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445400" y="3096000"/>
                  <a:ext cx="308880" cy="17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70600" y="3096000"/>
                  <a:ext cx="72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49616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2208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54764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92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60020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62540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65168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67796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70352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72944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855080" y="2872800"/>
                  <a:ext cx="516240" cy="1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74840" y="2639880"/>
                  <a:ext cx="427680" cy="353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3064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1956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5600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74744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374840" y="2693520"/>
                  <a:ext cx="4276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374840" y="2639880"/>
                  <a:ext cx="427680" cy="53640"/>
                </a:xfrm>
                <a:custGeom>
                  <a:avLst/>
                  <a:gdLst/>
                  <a:ahLst/>
                  <a:rect l="l" t="t" r="r" b="b"/>
                  <a:pathLst>
                    <a:path w="4715" h="632">
                      <a:moveTo>
                        <a:pt x="0" y="632"/>
                      </a:moveTo>
                      <a:lnTo>
                        <a:pt x="614" y="0"/>
                      </a:lnTo>
                      <a:lnTo>
                        <a:pt x="1592" y="632"/>
                      </a:lnTo>
                      <a:lnTo>
                        <a:pt x="3093" y="9"/>
                      </a:lnTo>
                      <a:lnTo>
                        <a:pt x="4108" y="632"/>
                      </a:lnTo>
                      <a:lnTo>
                        <a:pt x="47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74840" y="2639880"/>
                  <a:ext cx="427680" cy="53640"/>
                </a:xfrm>
                <a:custGeom>
                  <a:avLst/>
                  <a:gdLst/>
                  <a:ahLst/>
                  <a:rect l="l" t="t" r="r" b="b"/>
                  <a:pathLst>
                    <a:path w="4715" h="632">
                      <a:moveTo>
                        <a:pt x="4715" y="632"/>
                      </a:moveTo>
                      <a:lnTo>
                        <a:pt x="4108" y="0"/>
                      </a:lnTo>
                      <a:lnTo>
                        <a:pt x="3093" y="632"/>
                      </a:lnTo>
                      <a:lnTo>
                        <a:pt x="1592" y="9"/>
                      </a:lnTo>
                      <a:lnTo>
                        <a:pt x="614" y="6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052720" y="2994120"/>
                  <a:ext cx="828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363040" y="2994120"/>
                  <a:ext cx="864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906560" y="2743560"/>
                  <a:ext cx="3348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760" y="2743560"/>
                  <a:ext cx="3312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906560" y="2743560"/>
                  <a:ext cx="720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76760" y="2743560"/>
                  <a:ext cx="720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16160" y="2743560"/>
                  <a:ext cx="3348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286720" y="2743560"/>
                  <a:ext cx="3240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216520" y="2743560"/>
                  <a:ext cx="684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286720" y="2743560"/>
                  <a:ext cx="684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374120" y="2693880"/>
                  <a:ext cx="55800" cy="299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90656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90656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90656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90656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76760" y="284868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976760" y="282132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76760" y="2793600"/>
                  <a:ext cx="331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976760" y="276732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1616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21616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21616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21616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8564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8564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8564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8564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009440" y="3265200"/>
                <a:ext cx="438120" cy="365040"/>
                <a:chOff x="1009440" y="3265200"/>
                <a:chExt cx="438120" cy="3650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217880" y="3357360"/>
                  <a:ext cx="21600" cy="18000"/>
                </a:xfrm>
                <a:custGeom>
                  <a:avLst/>
                  <a:gdLst/>
                  <a:ahLst/>
                  <a:rect l="l" t="t" r="r" b="b"/>
                  <a:pathLst>
                    <a:path w="627" h="627">
                      <a:moveTo>
                        <a:pt x="627" y="314"/>
                      </a:moveTo>
                      <a:lnTo>
                        <a:pt x="623" y="270"/>
                      </a:lnTo>
                      <a:lnTo>
                        <a:pt x="613" y="227"/>
                      </a:lnTo>
                      <a:lnTo>
                        <a:pt x="599" y="185"/>
                      </a:lnTo>
                      <a:lnTo>
                        <a:pt x="578" y="145"/>
                      </a:lnTo>
                      <a:lnTo>
                        <a:pt x="549" y="110"/>
                      </a:lnTo>
                      <a:lnTo>
                        <a:pt x="520" y="78"/>
                      </a:lnTo>
                      <a:lnTo>
                        <a:pt x="484" y="50"/>
                      </a:lnTo>
                      <a:lnTo>
                        <a:pt x="445" y="30"/>
                      </a:lnTo>
                      <a:lnTo>
                        <a:pt x="403" y="15"/>
                      </a:lnTo>
                      <a:lnTo>
                        <a:pt x="359" y="5"/>
                      </a:lnTo>
                      <a:lnTo>
                        <a:pt x="316" y="0"/>
                      </a:lnTo>
                      <a:lnTo>
                        <a:pt x="270" y="5"/>
                      </a:lnTo>
                      <a:lnTo>
                        <a:pt x="226" y="13"/>
                      </a:lnTo>
                      <a:lnTo>
                        <a:pt x="185" y="29"/>
                      </a:lnTo>
                      <a:lnTo>
                        <a:pt x="145" y="50"/>
                      </a:lnTo>
                      <a:lnTo>
                        <a:pt x="110" y="77"/>
                      </a:lnTo>
                      <a:lnTo>
                        <a:pt x="77" y="108"/>
                      </a:lnTo>
                      <a:lnTo>
                        <a:pt x="52" y="143"/>
                      </a:lnTo>
                      <a:lnTo>
                        <a:pt x="30" y="182"/>
                      </a:lnTo>
                      <a:lnTo>
                        <a:pt x="14" y="223"/>
                      </a:lnTo>
                      <a:lnTo>
                        <a:pt x="4" y="267"/>
                      </a:lnTo>
                      <a:lnTo>
                        <a:pt x="0" y="312"/>
                      </a:lnTo>
                      <a:lnTo>
                        <a:pt x="2" y="355"/>
                      </a:lnTo>
                      <a:lnTo>
                        <a:pt x="12" y="400"/>
                      </a:lnTo>
                      <a:lnTo>
                        <a:pt x="25" y="441"/>
                      </a:lnTo>
                      <a:lnTo>
                        <a:pt x="48" y="480"/>
                      </a:lnTo>
                      <a:lnTo>
                        <a:pt x="73" y="516"/>
                      </a:lnTo>
                      <a:lnTo>
                        <a:pt x="105" y="548"/>
                      </a:lnTo>
                      <a:lnTo>
                        <a:pt x="141" y="575"/>
                      </a:lnTo>
                      <a:lnTo>
                        <a:pt x="178" y="598"/>
                      </a:lnTo>
                      <a:lnTo>
                        <a:pt x="220" y="613"/>
                      </a:lnTo>
                      <a:lnTo>
                        <a:pt x="263" y="623"/>
                      </a:lnTo>
                      <a:lnTo>
                        <a:pt x="308" y="627"/>
                      </a:lnTo>
                      <a:lnTo>
                        <a:pt x="353" y="625"/>
                      </a:lnTo>
                      <a:lnTo>
                        <a:pt x="397" y="615"/>
                      </a:lnTo>
                      <a:lnTo>
                        <a:pt x="438" y="601"/>
                      </a:lnTo>
                      <a:lnTo>
                        <a:pt x="478" y="580"/>
                      </a:lnTo>
                      <a:lnTo>
                        <a:pt x="514" y="553"/>
                      </a:lnTo>
                      <a:lnTo>
                        <a:pt x="546" y="523"/>
                      </a:lnTo>
                      <a:lnTo>
                        <a:pt x="574" y="488"/>
                      </a:lnTo>
                      <a:lnTo>
                        <a:pt x="596" y="448"/>
                      </a:lnTo>
                      <a:lnTo>
                        <a:pt x="613" y="410"/>
                      </a:lnTo>
                      <a:lnTo>
                        <a:pt x="623" y="365"/>
                      </a:lnTo>
                      <a:lnTo>
                        <a:pt x="627" y="320"/>
                      </a:lnTo>
                      <a:lnTo>
                        <a:pt x="627" y="3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159920" y="3387240"/>
                  <a:ext cx="135360" cy="241920"/>
                </a:xfrm>
                <a:custGeom>
                  <a:avLst/>
                  <a:gdLst/>
                  <a:ahLst/>
                  <a:rect l="l" t="t" r="r" b="b"/>
                  <a:pathLst>
                    <a:path w="3881" h="8487">
                      <a:moveTo>
                        <a:pt x="0" y="8487"/>
                      </a:moveTo>
                      <a:lnTo>
                        <a:pt x="1679" y="0"/>
                      </a:lnTo>
                      <a:lnTo>
                        <a:pt x="2203" y="0"/>
                      </a:lnTo>
                      <a:lnTo>
                        <a:pt x="3881" y="8487"/>
                      </a:lnTo>
                      <a:lnTo>
                        <a:pt x="3391" y="8487"/>
                      </a:lnTo>
                      <a:lnTo>
                        <a:pt x="1958" y="1042"/>
                      </a:lnTo>
                      <a:lnTo>
                        <a:pt x="490" y="8487"/>
                      </a:lnTo>
                      <a:lnTo>
                        <a:pt x="0" y="8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177200" y="3525120"/>
                  <a:ext cx="99720" cy="103680"/>
                </a:xfrm>
                <a:custGeom>
                  <a:avLst/>
                  <a:gdLst/>
                  <a:ahLst/>
                  <a:rect l="l" t="t" r="r" b="b"/>
                  <a:pathLst>
                    <a:path w="2867" h="3652">
                      <a:moveTo>
                        <a:pt x="699" y="0"/>
                      </a:moveTo>
                      <a:lnTo>
                        <a:pt x="1468" y="1009"/>
                      </a:lnTo>
                      <a:lnTo>
                        <a:pt x="2237" y="0"/>
                      </a:lnTo>
                      <a:lnTo>
                        <a:pt x="2272" y="382"/>
                      </a:lnTo>
                      <a:lnTo>
                        <a:pt x="1679" y="1288"/>
                      </a:lnTo>
                      <a:lnTo>
                        <a:pt x="2762" y="2817"/>
                      </a:lnTo>
                      <a:lnTo>
                        <a:pt x="2867" y="3513"/>
                      </a:lnTo>
                      <a:lnTo>
                        <a:pt x="1468" y="1601"/>
                      </a:lnTo>
                      <a:lnTo>
                        <a:pt x="0" y="3652"/>
                      </a:lnTo>
                      <a:lnTo>
                        <a:pt x="34" y="3025"/>
                      </a:lnTo>
                      <a:lnTo>
                        <a:pt x="1258" y="1288"/>
                      </a:lnTo>
                      <a:lnTo>
                        <a:pt x="629" y="418"/>
                      </a:lnTo>
                      <a:lnTo>
                        <a:pt x="6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efefe"/>
                    </a:gs>
                    <a:gs pos="100000">
                      <a:srgbClr val="77777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199880" y="3516120"/>
                  <a:ext cx="56520" cy="10800"/>
                </a:xfrm>
                <a:custGeom>
                  <a:avLst/>
                  <a:gdLst/>
                  <a:ahLst/>
                  <a:rect l="l" t="t" r="r" b="b"/>
                  <a:pathLst>
                    <a:path w="1607" h="383">
                      <a:moveTo>
                        <a:pt x="34" y="0"/>
                      </a:moveTo>
                      <a:lnTo>
                        <a:pt x="1607" y="0"/>
                      </a:lnTo>
                      <a:lnTo>
                        <a:pt x="1607" y="383"/>
                      </a:lnTo>
                      <a:lnTo>
                        <a:pt x="0" y="38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158840" y="3385080"/>
                  <a:ext cx="138960" cy="244800"/>
                </a:xfrm>
                <a:custGeom>
                  <a:avLst/>
                  <a:gdLst/>
                  <a:ahLst/>
                  <a:rect l="l" t="t" r="r" b="b"/>
                  <a:pathLst>
                    <a:path w="3985" h="8591">
                      <a:moveTo>
                        <a:pt x="0" y="8591"/>
                      </a:moveTo>
                      <a:lnTo>
                        <a:pt x="1677" y="0"/>
                      </a:lnTo>
                      <a:lnTo>
                        <a:pt x="2272" y="0"/>
                      </a:lnTo>
                      <a:lnTo>
                        <a:pt x="3985" y="8591"/>
                      </a:lnTo>
                      <a:lnTo>
                        <a:pt x="3879" y="8591"/>
                      </a:lnTo>
                      <a:lnTo>
                        <a:pt x="2203" y="103"/>
                      </a:lnTo>
                      <a:lnTo>
                        <a:pt x="1782" y="103"/>
                      </a:lnTo>
                      <a:lnTo>
                        <a:pt x="104" y="8591"/>
                      </a:lnTo>
                      <a:lnTo>
                        <a:pt x="0" y="85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158840" y="3411000"/>
                  <a:ext cx="138960" cy="218880"/>
                </a:xfrm>
                <a:custGeom>
                  <a:avLst/>
                  <a:gdLst/>
                  <a:ahLst/>
                  <a:rect l="l" t="t" r="r" b="b"/>
                  <a:pathLst>
                    <a:path w="3985" h="7688">
                      <a:moveTo>
                        <a:pt x="104" y="7583"/>
                      </a:moveTo>
                      <a:lnTo>
                        <a:pt x="488" y="7583"/>
                      </a:lnTo>
                      <a:lnTo>
                        <a:pt x="1992" y="0"/>
                      </a:lnTo>
                      <a:lnTo>
                        <a:pt x="3496" y="7583"/>
                      </a:lnTo>
                      <a:lnTo>
                        <a:pt x="3882" y="7583"/>
                      </a:lnTo>
                      <a:lnTo>
                        <a:pt x="3985" y="7688"/>
                      </a:lnTo>
                      <a:lnTo>
                        <a:pt x="3391" y="7688"/>
                      </a:lnTo>
                      <a:lnTo>
                        <a:pt x="1992" y="521"/>
                      </a:lnTo>
                      <a:lnTo>
                        <a:pt x="594" y="7688"/>
                      </a:lnTo>
                      <a:lnTo>
                        <a:pt x="0" y="7688"/>
                      </a:lnTo>
                      <a:lnTo>
                        <a:pt x="104" y="75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201680" y="3525120"/>
                  <a:ext cx="52560" cy="2880"/>
                </a:xfrm>
                <a:custGeom>
                  <a:avLst/>
                  <a:gdLst/>
                  <a:ahLst/>
                  <a:rect l="l" t="t" r="r" b="b"/>
                  <a:pathLst>
                    <a:path w="1504" h="104">
                      <a:moveTo>
                        <a:pt x="0" y="104"/>
                      </a:moveTo>
                      <a:lnTo>
                        <a:pt x="1504" y="104"/>
                      </a:lnTo>
                      <a:lnTo>
                        <a:pt x="1504" y="0"/>
                      </a:lnTo>
                      <a:lnTo>
                        <a:pt x="35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02400" y="3515040"/>
                  <a:ext cx="50040" cy="2880"/>
                </a:xfrm>
                <a:custGeom>
                  <a:avLst/>
                  <a:gdLst/>
                  <a:ahLst/>
                  <a:rect l="l" t="t" r="r" b="b"/>
                  <a:pathLst>
                    <a:path w="1433" h="103">
                      <a:moveTo>
                        <a:pt x="0" y="103"/>
                      </a:moveTo>
                      <a:lnTo>
                        <a:pt x="1433" y="103"/>
                      </a:lnTo>
                      <a:lnTo>
                        <a:pt x="1363" y="0"/>
                      </a:lnTo>
                      <a:lnTo>
                        <a:pt x="70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78280" y="3567960"/>
                  <a:ext cx="101160" cy="62280"/>
                </a:xfrm>
                <a:custGeom>
                  <a:avLst/>
                  <a:gdLst/>
                  <a:ahLst/>
                  <a:rect l="l" t="t" r="r" b="b"/>
                  <a:pathLst>
                    <a:path w="2903" h="2191">
                      <a:moveTo>
                        <a:pt x="1434" y="174"/>
                      </a:moveTo>
                      <a:lnTo>
                        <a:pt x="2903" y="2191"/>
                      </a:lnTo>
                      <a:lnTo>
                        <a:pt x="2903" y="2017"/>
                      </a:lnTo>
                      <a:lnTo>
                        <a:pt x="1434" y="0"/>
                      </a:lnTo>
                      <a:lnTo>
                        <a:pt x="0" y="2017"/>
                      </a:lnTo>
                      <a:lnTo>
                        <a:pt x="36" y="2191"/>
                      </a:lnTo>
                      <a:lnTo>
                        <a:pt x="1434" y="17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204200" y="3528360"/>
                  <a:ext cx="50040" cy="27720"/>
                </a:xfrm>
                <a:custGeom>
                  <a:avLst/>
                  <a:gdLst/>
                  <a:ahLst/>
                  <a:rect l="l" t="t" r="r" b="b"/>
                  <a:pathLst>
                    <a:path w="1435" h="974">
                      <a:moveTo>
                        <a:pt x="0" y="0"/>
                      </a:moveTo>
                      <a:lnTo>
                        <a:pt x="700" y="974"/>
                      </a:lnTo>
                      <a:lnTo>
                        <a:pt x="1435" y="0"/>
                      </a:lnTo>
                      <a:lnTo>
                        <a:pt x="1294" y="0"/>
                      </a:lnTo>
                      <a:lnTo>
                        <a:pt x="700" y="800"/>
                      </a:lnTo>
                      <a:lnTo>
                        <a:pt x="10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80800" y="3535560"/>
                  <a:ext cx="42480" cy="75960"/>
                </a:xfrm>
                <a:custGeom>
                  <a:avLst/>
                  <a:gdLst/>
                  <a:ahLst/>
                  <a:rect l="l" t="t" r="r" b="b"/>
                  <a:pathLst>
                    <a:path w="1225" h="2676">
                      <a:moveTo>
                        <a:pt x="0" y="2676"/>
                      </a:moveTo>
                      <a:lnTo>
                        <a:pt x="1225" y="939"/>
                      </a:lnTo>
                      <a:lnTo>
                        <a:pt x="560" y="0"/>
                      </a:lnTo>
                      <a:lnTo>
                        <a:pt x="491" y="69"/>
                      </a:lnTo>
                      <a:lnTo>
                        <a:pt x="1084" y="939"/>
                      </a:lnTo>
                      <a:lnTo>
                        <a:pt x="37" y="2468"/>
                      </a:lnTo>
                      <a:lnTo>
                        <a:pt x="0" y="26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3360" y="3535560"/>
                  <a:ext cx="42480" cy="75960"/>
                </a:xfrm>
                <a:custGeom>
                  <a:avLst/>
                  <a:gdLst/>
                  <a:ahLst/>
                  <a:rect l="l" t="t" r="r" b="b"/>
                  <a:pathLst>
                    <a:path w="1225" h="2676">
                      <a:moveTo>
                        <a:pt x="1225" y="2676"/>
                      </a:moveTo>
                      <a:lnTo>
                        <a:pt x="0" y="939"/>
                      </a:lnTo>
                      <a:lnTo>
                        <a:pt x="666" y="0"/>
                      </a:lnTo>
                      <a:lnTo>
                        <a:pt x="734" y="69"/>
                      </a:lnTo>
                      <a:lnTo>
                        <a:pt x="142" y="939"/>
                      </a:lnTo>
                      <a:lnTo>
                        <a:pt x="1189" y="2468"/>
                      </a:lnTo>
                      <a:lnTo>
                        <a:pt x="1225" y="26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14640" y="3366000"/>
                  <a:ext cx="26640" cy="20520"/>
                </a:xfrm>
                <a:custGeom>
                  <a:avLst/>
                  <a:gdLst/>
                  <a:ahLst/>
                  <a:rect l="l" t="t" r="r" b="b"/>
                  <a:pathLst>
                    <a:path w="770" h="728">
                      <a:moveTo>
                        <a:pt x="143" y="0"/>
                      </a:moveTo>
                      <a:lnTo>
                        <a:pt x="143" y="38"/>
                      </a:lnTo>
                      <a:lnTo>
                        <a:pt x="151" y="78"/>
                      </a:lnTo>
                      <a:lnTo>
                        <a:pt x="164" y="115"/>
                      </a:lnTo>
                      <a:lnTo>
                        <a:pt x="183" y="148"/>
                      </a:lnTo>
                      <a:lnTo>
                        <a:pt x="208" y="178"/>
                      </a:lnTo>
                      <a:lnTo>
                        <a:pt x="236" y="206"/>
                      </a:lnTo>
                      <a:lnTo>
                        <a:pt x="269" y="228"/>
                      </a:lnTo>
                      <a:lnTo>
                        <a:pt x="306" y="243"/>
                      </a:lnTo>
                      <a:lnTo>
                        <a:pt x="343" y="253"/>
                      </a:lnTo>
                      <a:lnTo>
                        <a:pt x="383" y="256"/>
                      </a:lnTo>
                      <a:lnTo>
                        <a:pt x="422" y="253"/>
                      </a:lnTo>
                      <a:lnTo>
                        <a:pt x="460" y="246"/>
                      </a:lnTo>
                      <a:lnTo>
                        <a:pt x="497" y="230"/>
                      </a:lnTo>
                      <a:lnTo>
                        <a:pt x="532" y="210"/>
                      </a:lnTo>
                      <a:lnTo>
                        <a:pt x="562" y="185"/>
                      </a:lnTo>
                      <a:lnTo>
                        <a:pt x="585" y="153"/>
                      </a:lnTo>
                      <a:lnTo>
                        <a:pt x="605" y="120"/>
                      </a:lnTo>
                      <a:lnTo>
                        <a:pt x="621" y="83"/>
                      </a:lnTo>
                      <a:lnTo>
                        <a:pt x="629" y="45"/>
                      </a:lnTo>
                      <a:lnTo>
                        <a:pt x="630" y="6"/>
                      </a:lnTo>
                      <a:lnTo>
                        <a:pt x="630" y="0"/>
                      </a:lnTo>
                      <a:lnTo>
                        <a:pt x="770" y="0"/>
                      </a:lnTo>
                      <a:lnTo>
                        <a:pt x="770" y="18"/>
                      </a:lnTo>
                      <a:lnTo>
                        <a:pt x="765" y="68"/>
                      </a:lnTo>
                      <a:lnTo>
                        <a:pt x="754" y="115"/>
                      </a:lnTo>
                      <a:lnTo>
                        <a:pt x="738" y="163"/>
                      </a:lnTo>
                      <a:lnTo>
                        <a:pt x="717" y="206"/>
                      </a:lnTo>
                      <a:lnTo>
                        <a:pt x="688" y="248"/>
                      </a:lnTo>
                      <a:lnTo>
                        <a:pt x="655" y="283"/>
                      </a:lnTo>
                      <a:lnTo>
                        <a:pt x="617" y="317"/>
                      </a:lnTo>
                      <a:lnTo>
                        <a:pt x="575" y="343"/>
                      </a:lnTo>
                      <a:lnTo>
                        <a:pt x="532" y="365"/>
                      </a:lnTo>
                      <a:lnTo>
                        <a:pt x="486" y="383"/>
                      </a:lnTo>
                      <a:lnTo>
                        <a:pt x="440" y="393"/>
                      </a:lnTo>
                      <a:lnTo>
                        <a:pt x="440" y="726"/>
                      </a:lnTo>
                      <a:lnTo>
                        <a:pt x="329" y="728"/>
                      </a:lnTo>
                      <a:lnTo>
                        <a:pt x="329" y="390"/>
                      </a:lnTo>
                      <a:lnTo>
                        <a:pt x="284" y="383"/>
                      </a:lnTo>
                      <a:lnTo>
                        <a:pt x="238" y="365"/>
                      </a:lnTo>
                      <a:lnTo>
                        <a:pt x="194" y="343"/>
                      </a:lnTo>
                      <a:lnTo>
                        <a:pt x="153" y="317"/>
                      </a:lnTo>
                      <a:lnTo>
                        <a:pt x="115" y="283"/>
                      </a:lnTo>
                      <a:lnTo>
                        <a:pt x="81" y="248"/>
                      </a:lnTo>
                      <a:lnTo>
                        <a:pt x="53" y="206"/>
                      </a:lnTo>
                      <a:lnTo>
                        <a:pt x="31" y="163"/>
                      </a:lnTo>
                      <a:lnTo>
                        <a:pt x="16" y="115"/>
                      </a:lnTo>
                      <a:lnTo>
                        <a:pt x="3" y="6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14640" y="3355920"/>
                  <a:ext cx="26640" cy="10440"/>
                </a:xfrm>
                <a:custGeom>
                  <a:avLst/>
                  <a:gdLst/>
                  <a:ahLst/>
                  <a:rect l="l" t="t" r="r" b="b"/>
                  <a:pathLst>
                    <a:path w="770" h="382">
                      <a:moveTo>
                        <a:pt x="0" y="382"/>
                      </a:moveTo>
                      <a:lnTo>
                        <a:pt x="0" y="362"/>
                      </a:lnTo>
                      <a:lnTo>
                        <a:pt x="6" y="313"/>
                      </a:lnTo>
                      <a:lnTo>
                        <a:pt x="18" y="265"/>
                      </a:lnTo>
                      <a:lnTo>
                        <a:pt x="38" y="220"/>
                      </a:lnTo>
                      <a:lnTo>
                        <a:pt x="61" y="175"/>
                      </a:lnTo>
                      <a:lnTo>
                        <a:pt x="89" y="137"/>
                      </a:lnTo>
                      <a:lnTo>
                        <a:pt x="123" y="100"/>
                      </a:lnTo>
                      <a:lnTo>
                        <a:pt x="163" y="70"/>
                      </a:lnTo>
                      <a:lnTo>
                        <a:pt x="204" y="45"/>
                      </a:lnTo>
                      <a:lnTo>
                        <a:pt x="249" y="23"/>
                      </a:lnTo>
                      <a:lnTo>
                        <a:pt x="296" y="10"/>
                      </a:lnTo>
                      <a:lnTo>
                        <a:pt x="344" y="2"/>
                      </a:lnTo>
                      <a:lnTo>
                        <a:pt x="394" y="0"/>
                      </a:lnTo>
                      <a:lnTo>
                        <a:pt x="444" y="4"/>
                      </a:lnTo>
                      <a:lnTo>
                        <a:pt x="492" y="15"/>
                      </a:lnTo>
                      <a:lnTo>
                        <a:pt x="537" y="32"/>
                      </a:lnTo>
                      <a:lnTo>
                        <a:pt x="583" y="53"/>
                      </a:lnTo>
                      <a:lnTo>
                        <a:pt x="622" y="80"/>
                      </a:lnTo>
                      <a:lnTo>
                        <a:pt x="660" y="115"/>
                      </a:lnTo>
                      <a:lnTo>
                        <a:pt x="692" y="152"/>
                      </a:lnTo>
                      <a:lnTo>
                        <a:pt x="720" y="194"/>
                      </a:lnTo>
                      <a:lnTo>
                        <a:pt x="740" y="237"/>
                      </a:lnTo>
                      <a:lnTo>
                        <a:pt x="755" y="285"/>
                      </a:lnTo>
                      <a:lnTo>
                        <a:pt x="765" y="333"/>
                      </a:lnTo>
                      <a:lnTo>
                        <a:pt x="770" y="382"/>
                      </a:lnTo>
                      <a:lnTo>
                        <a:pt x="630" y="382"/>
                      </a:lnTo>
                      <a:lnTo>
                        <a:pt x="627" y="342"/>
                      </a:lnTo>
                      <a:lnTo>
                        <a:pt x="619" y="305"/>
                      </a:lnTo>
                      <a:lnTo>
                        <a:pt x="603" y="269"/>
                      </a:lnTo>
                      <a:lnTo>
                        <a:pt x="581" y="235"/>
                      </a:lnTo>
                      <a:lnTo>
                        <a:pt x="555" y="205"/>
                      </a:lnTo>
                      <a:lnTo>
                        <a:pt x="526" y="182"/>
                      </a:lnTo>
                      <a:lnTo>
                        <a:pt x="492" y="162"/>
                      </a:lnTo>
                      <a:lnTo>
                        <a:pt x="454" y="148"/>
                      </a:lnTo>
                      <a:lnTo>
                        <a:pt x="416" y="140"/>
                      </a:lnTo>
                      <a:lnTo>
                        <a:pt x="377" y="138"/>
                      </a:lnTo>
                      <a:lnTo>
                        <a:pt x="337" y="142"/>
                      </a:lnTo>
                      <a:lnTo>
                        <a:pt x="299" y="154"/>
                      </a:lnTo>
                      <a:lnTo>
                        <a:pt x="264" y="170"/>
                      </a:lnTo>
                      <a:lnTo>
                        <a:pt x="231" y="192"/>
                      </a:lnTo>
                      <a:lnTo>
                        <a:pt x="204" y="220"/>
                      </a:lnTo>
                      <a:lnTo>
                        <a:pt x="181" y="252"/>
                      </a:lnTo>
                      <a:lnTo>
                        <a:pt x="163" y="285"/>
                      </a:lnTo>
                      <a:lnTo>
                        <a:pt x="148" y="323"/>
                      </a:lnTo>
                      <a:lnTo>
                        <a:pt x="143" y="362"/>
                      </a:lnTo>
                      <a:lnTo>
                        <a:pt x="143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95560" y="3351240"/>
                  <a:ext cx="9360" cy="30600"/>
                </a:xfrm>
                <a:custGeom>
                  <a:avLst/>
                  <a:gdLst/>
                  <a:ahLst/>
                  <a:rect l="l" t="t" r="r" b="b"/>
                  <a:pathLst>
                    <a:path w="284" h="1082">
                      <a:moveTo>
                        <a:pt x="172" y="1082"/>
                      </a:moveTo>
                      <a:lnTo>
                        <a:pt x="131" y="1019"/>
                      </a:lnTo>
                      <a:lnTo>
                        <a:pt x="95" y="951"/>
                      </a:lnTo>
                      <a:lnTo>
                        <a:pt x="64" y="880"/>
                      </a:lnTo>
                      <a:lnTo>
                        <a:pt x="37" y="808"/>
                      </a:lnTo>
                      <a:lnTo>
                        <a:pt x="20" y="733"/>
                      </a:lnTo>
                      <a:lnTo>
                        <a:pt x="6" y="658"/>
                      </a:lnTo>
                      <a:lnTo>
                        <a:pt x="0" y="581"/>
                      </a:lnTo>
                      <a:lnTo>
                        <a:pt x="0" y="503"/>
                      </a:lnTo>
                      <a:lnTo>
                        <a:pt x="6" y="426"/>
                      </a:lnTo>
                      <a:lnTo>
                        <a:pt x="20" y="351"/>
                      </a:lnTo>
                      <a:lnTo>
                        <a:pt x="37" y="275"/>
                      </a:lnTo>
                      <a:lnTo>
                        <a:pt x="64" y="205"/>
                      </a:lnTo>
                      <a:lnTo>
                        <a:pt x="94" y="133"/>
                      </a:lnTo>
                      <a:lnTo>
                        <a:pt x="129" y="65"/>
                      </a:lnTo>
                      <a:lnTo>
                        <a:pt x="172" y="0"/>
                      </a:lnTo>
                      <a:lnTo>
                        <a:pt x="284" y="80"/>
                      </a:lnTo>
                      <a:lnTo>
                        <a:pt x="247" y="138"/>
                      </a:lnTo>
                      <a:lnTo>
                        <a:pt x="214" y="202"/>
                      </a:lnTo>
                      <a:lnTo>
                        <a:pt x="187" y="270"/>
                      </a:lnTo>
                      <a:lnTo>
                        <a:pt x="167" y="338"/>
                      </a:lnTo>
                      <a:lnTo>
                        <a:pt x="151" y="408"/>
                      </a:lnTo>
                      <a:lnTo>
                        <a:pt x="142" y="480"/>
                      </a:lnTo>
                      <a:lnTo>
                        <a:pt x="141" y="551"/>
                      </a:lnTo>
                      <a:lnTo>
                        <a:pt x="145" y="623"/>
                      </a:lnTo>
                      <a:lnTo>
                        <a:pt x="155" y="693"/>
                      </a:lnTo>
                      <a:lnTo>
                        <a:pt x="172" y="763"/>
                      </a:lnTo>
                      <a:lnTo>
                        <a:pt x="195" y="831"/>
                      </a:lnTo>
                      <a:lnTo>
                        <a:pt x="224" y="898"/>
                      </a:lnTo>
                      <a:lnTo>
                        <a:pt x="258" y="959"/>
                      </a:lnTo>
                      <a:lnTo>
                        <a:pt x="284" y="1001"/>
                      </a:lnTo>
                      <a:lnTo>
                        <a:pt x="172" y="10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251720" y="3351240"/>
                  <a:ext cx="9360" cy="30600"/>
                </a:xfrm>
                <a:custGeom>
                  <a:avLst/>
                  <a:gdLst/>
                  <a:ahLst/>
                  <a:rect l="l" t="t" r="r" b="b"/>
                  <a:pathLst>
                    <a:path w="283" h="1082">
                      <a:moveTo>
                        <a:pt x="110" y="1082"/>
                      </a:moveTo>
                      <a:lnTo>
                        <a:pt x="153" y="1019"/>
                      </a:lnTo>
                      <a:lnTo>
                        <a:pt x="188" y="952"/>
                      </a:lnTo>
                      <a:lnTo>
                        <a:pt x="220" y="880"/>
                      </a:lnTo>
                      <a:lnTo>
                        <a:pt x="246" y="809"/>
                      </a:lnTo>
                      <a:lnTo>
                        <a:pt x="263" y="734"/>
                      </a:lnTo>
                      <a:lnTo>
                        <a:pt x="278" y="657"/>
                      </a:lnTo>
                      <a:lnTo>
                        <a:pt x="283" y="581"/>
                      </a:lnTo>
                      <a:lnTo>
                        <a:pt x="283" y="504"/>
                      </a:lnTo>
                      <a:lnTo>
                        <a:pt x="278" y="426"/>
                      </a:lnTo>
                      <a:lnTo>
                        <a:pt x="263" y="351"/>
                      </a:lnTo>
                      <a:lnTo>
                        <a:pt x="246" y="276"/>
                      </a:lnTo>
                      <a:lnTo>
                        <a:pt x="220" y="204"/>
                      </a:lnTo>
                      <a:lnTo>
                        <a:pt x="190" y="133"/>
                      </a:lnTo>
                      <a:lnTo>
                        <a:pt x="154" y="66"/>
                      </a:lnTo>
                      <a:lnTo>
                        <a:pt x="110" y="0"/>
                      </a:lnTo>
                      <a:lnTo>
                        <a:pt x="0" y="79"/>
                      </a:lnTo>
                      <a:lnTo>
                        <a:pt x="37" y="139"/>
                      </a:lnTo>
                      <a:lnTo>
                        <a:pt x="68" y="202"/>
                      </a:lnTo>
                      <a:lnTo>
                        <a:pt x="96" y="269"/>
                      </a:lnTo>
                      <a:lnTo>
                        <a:pt x="116" y="339"/>
                      </a:lnTo>
                      <a:lnTo>
                        <a:pt x="133" y="409"/>
                      </a:lnTo>
                      <a:lnTo>
                        <a:pt x="140" y="479"/>
                      </a:lnTo>
                      <a:lnTo>
                        <a:pt x="143" y="551"/>
                      </a:lnTo>
                      <a:lnTo>
                        <a:pt x="138" y="622"/>
                      </a:lnTo>
                      <a:lnTo>
                        <a:pt x="128" y="694"/>
                      </a:lnTo>
                      <a:lnTo>
                        <a:pt x="110" y="762"/>
                      </a:lnTo>
                      <a:lnTo>
                        <a:pt x="88" y="830"/>
                      </a:lnTo>
                      <a:lnTo>
                        <a:pt x="58" y="897"/>
                      </a:lnTo>
                      <a:lnTo>
                        <a:pt x="25" y="959"/>
                      </a:lnTo>
                      <a:lnTo>
                        <a:pt x="0" y="1000"/>
                      </a:lnTo>
                      <a:lnTo>
                        <a:pt x="110" y="10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72160" y="3340440"/>
                  <a:ext cx="14040" cy="51480"/>
                </a:xfrm>
                <a:custGeom>
                  <a:avLst/>
                  <a:gdLst/>
                  <a:ahLst/>
                  <a:rect l="l" t="t" r="r" b="b"/>
                  <a:pathLst>
                    <a:path w="407" h="1832">
                      <a:moveTo>
                        <a:pt x="407" y="1752"/>
                      </a:moveTo>
                      <a:lnTo>
                        <a:pt x="371" y="1702"/>
                      </a:lnTo>
                      <a:lnTo>
                        <a:pt x="322" y="1619"/>
                      </a:lnTo>
                      <a:lnTo>
                        <a:pt x="278" y="1534"/>
                      </a:lnTo>
                      <a:lnTo>
                        <a:pt x="241" y="1446"/>
                      </a:lnTo>
                      <a:lnTo>
                        <a:pt x="209" y="1357"/>
                      </a:lnTo>
                      <a:lnTo>
                        <a:pt x="181" y="1264"/>
                      </a:lnTo>
                      <a:lnTo>
                        <a:pt x="161" y="1171"/>
                      </a:lnTo>
                      <a:lnTo>
                        <a:pt x="148" y="1076"/>
                      </a:lnTo>
                      <a:lnTo>
                        <a:pt x="141" y="981"/>
                      </a:lnTo>
                      <a:lnTo>
                        <a:pt x="139" y="886"/>
                      </a:lnTo>
                      <a:lnTo>
                        <a:pt x="145" y="791"/>
                      </a:lnTo>
                      <a:lnTo>
                        <a:pt x="158" y="695"/>
                      </a:lnTo>
                      <a:lnTo>
                        <a:pt x="173" y="601"/>
                      </a:lnTo>
                      <a:lnTo>
                        <a:pt x="199" y="509"/>
                      </a:lnTo>
                      <a:lnTo>
                        <a:pt x="228" y="418"/>
                      </a:lnTo>
                      <a:lnTo>
                        <a:pt x="264" y="328"/>
                      </a:lnTo>
                      <a:lnTo>
                        <a:pt x="306" y="243"/>
                      </a:lnTo>
                      <a:lnTo>
                        <a:pt x="354" y="160"/>
                      </a:lnTo>
                      <a:lnTo>
                        <a:pt x="407" y="81"/>
                      </a:lnTo>
                      <a:lnTo>
                        <a:pt x="286" y="0"/>
                      </a:lnTo>
                      <a:lnTo>
                        <a:pt x="233" y="85"/>
                      </a:lnTo>
                      <a:lnTo>
                        <a:pt x="183" y="172"/>
                      </a:lnTo>
                      <a:lnTo>
                        <a:pt x="139" y="263"/>
                      </a:lnTo>
                      <a:lnTo>
                        <a:pt x="101" y="358"/>
                      </a:lnTo>
                      <a:lnTo>
                        <a:pt x="68" y="453"/>
                      </a:lnTo>
                      <a:lnTo>
                        <a:pt x="42" y="551"/>
                      </a:lnTo>
                      <a:lnTo>
                        <a:pt x="22" y="649"/>
                      </a:lnTo>
                      <a:lnTo>
                        <a:pt x="10" y="751"/>
                      </a:lnTo>
                      <a:lnTo>
                        <a:pt x="3" y="851"/>
                      </a:lnTo>
                      <a:lnTo>
                        <a:pt x="0" y="953"/>
                      </a:lnTo>
                      <a:lnTo>
                        <a:pt x="6" y="1054"/>
                      </a:lnTo>
                      <a:lnTo>
                        <a:pt x="18" y="1153"/>
                      </a:lnTo>
                      <a:lnTo>
                        <a:pt x="36" y="1254"/>
                      </a:lnTo>
                      <a:lnTo>
                        <a:pt x="60" y="1351"/>
                      </a:lnTo>
                      <a:lnTo>
                        <a:pt x="91" y="1449"/>
                      </a:lnTo>
                      <a:lnTo>
                        <a:pt x="128" y="1541"/>
                      </a:lnTo>
                      <a:lnTo>
                        <a:pt x="169" y="1634"/>
                      </a:lnTo>
                      <a:lnTo>
                        <a:pt x="216" y="1724"/>
                      </a:lnTo>
                      <a:lnTo>
                        <a:pt x="271" y="1809"/>
                      </a:lnTo>
                      <a:lnTo>
                        <a:pt x="286" y="1832"/>
                      </a:lnTo>
                      <a:lnTo>
                        <a:pt x="407" y="17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70440" y="334044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406" h="1834">
                      <a:moveTo>
                        <a:pt x="0" y="1752"/>
                      </a:moveTo>
                      <a:lnTo>
                        <a:pt x="35" y="1702"/>
                      </a:lnTo>
                      <a:lnTo>
                        <a:pt x="85" y="1619"/>
                      </a:lnTo>
                      <a:lnTo>
                        <a:pt x="130" y="1534"/>
                      </a:lnTo>
                      <a:lnTo>
                        <a:pt x="167" y="1447"/>
                      </a:lnTo>
                      <a:lnTo>
                        <a:pt x="198" y="1358"/>
                      </a:lnTo>
                      <a:lnTo>
                        <a:pt x="226" y="1264"/>
                      </a:lnTo>
                      <a:lnTo>
                        <a:pt x="246" y="1171"/>
                      </a:lnTo>
                      <a:lnTo>
                        <a:pt x="260" y="1076"/>
                      </a:lnTo>
                      <a:lnTo>
                        <a:pt x="266" y="981"/>
                      </a:lnTo>
                      <a:lnTo>
                        <a:pt x="268" y="886"/>
                      </a:lnTo>
                      <a:lnTo>
                        <a:pt x="263" y="791"/>
                      </a:lnTo>
                      <a:lnTo>
                        <a:pt x="250" y="696"/>
                      </a:lnTo>
                      <a:lnTo>
                        <a:pt x="234" y="603"/>
                      </a:lnTo>
                      <a:lnTo>
                        <a:pt x="208" y="510"/>
                      </a:lnTo>
                      <a:lnTo>
                        <a:pt x="178" y="418"/>
                      </a:lnTo>
                      <a:lnTo>
                        <a:pt x="143" y="330"/>
                      </a:lnTo>
                      <a:lnTo>
                        <a:pt x="101" y="245"/>
                      </a:lnTo>
                      <a:lnTo>
                        <a:pt x="53" y="162"/>
                      </a:lnTo>
                      <a:lnTo>
                        <a:pt x="0" y="82"/>
                      </a:lnTo>
                      <a:lnTo>
                        <a:pt x="121" y="0"/>
                      </a:lnTo>
                      <a:lnTo>
                        <a:pt x="175" y="85"/>
                      </a:lnTo>
                      <a:lnTo>
                        <a:pt x="225" y="173"/>
                      </a:lnTo>
                      <a:lnTo>
                        <a:pt x="268" y="264"/>
                      </a:lnTo>
                      <a:lnTo>
                        <a:pt x="306" y="360"/>
                      </a:lnTo>
                      <a:lnTo>
                        <a:pt x="339" y="455"/>
                      </a:lnTo>
                      <a:lnTo>
                        <a:pt x="366" y="551"/>
                      </a:lnTo>
                      <a:lnTo>
                        <a:pt x="385" y="650"/>
                      </a:lnTo>
                      <a:lnTo>
                        <a:pt x="397" y="751"/>
                      </a:lnTo>
                      <a:lnTo>
                        <a:pt x="405" y="853"/>
                      </a:lnTo>
                      <a:lnTo>
                        <a:pt x="406" y="953"/>
                      </a:lnTo>
                      <a:lnTo>
                        <a:pt x="401" y="1055"/>
                      </a:lnTo>
                      <a:lnTo>
                        <a:pt x="389" y="1154"/>
                      </a:lnTo>
                      <a:lnTo>
                        <a:pt x="371" y="1255"/>
                      </a:lnTo>
                      <a:lnTo>
                        <a:pt x="348" y="1352"/>
                      </a:lnTo>
                      <a:lnTo>
                        <a:pt x="316" y="1449"/>
                      </a:lnTo>
                      <a:lnTo>
                        <a:pt x="280" y="1542"/>
                      </a:lnTo>
                      <a:lnTo>
                        <a:pt x="238" y="1636"/>
                      </a:lnTo>
                      <a:lnTo>
                        <a:pt x="191" y="1724"/>
                      </a:lnTo>
                      <a:lnTo>
                        <a:pt x="137" y="1809"/>
                      </a:lnTo>
                      <a:lnTo>
                        <a:pt x="121" y="1834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147680" y="3328920"/>
                  <a:ext cx="18720" cy="74880"/>
                </a:xfrm>
                <a:custGeom>
                  <a:avLst/>
                  <a:gdLst/>
                  <a:ahLst/>
                  <a:rect l="l" t="t" r="r" b="b"/>
                  <a:pathLst>
                    <a:path w="533" h="2636">
                      <a:moveTo>
                        <a:pt x="533" y="85"/>
                      </a:moveTo>
                      <a:lnTo>
                        <a:pt x="468" y="183"/>
                      </a:lnTo>
                      <a:lnTo>
                        <a:pt x="408" y="283"/>
                      </a:lnTo>
                      <a:lnTo>
                        <a:pt x="354" y="386"/>
                      </a:lnTo>
                      <a:lnTo>
                        <a:pt x="306" y="493"/>
                      </a:lnTo>
                      <a:lnTo>
                        <a:pt x="265" y="603"/>
                      </a:lnTo>
                      <a:lnTo>
                        <a:pt x="227" y="714"/>
                      </a:lnTo>
                      <a:lnTo>
                        <a:pt x="197" y="826"/>
                      </a:lnTo>
                      <a:lnTo>
                        <a:pt x="173" y="941"/>
                      </a:lnTo>
                      <a:lnTo>
                        <a:pt x="155" y="1056"/>
                      </a:lnTo>
                      <a:lnTo>
                        <a:pt x="143" y="1171"/>
                      </a:lnTo>
                      <a:lnTo>
                        <a:pt x="140" y="1289"/>
                      </a:lnTo>
                      <a:lnTo>
                        <a:pt x="140" y="1405"/>
                      </a:lnTo>
                      <a:lnTo>
                        <a:pt x="148" y="1522"/>
                      </a:lnTo>
                      <a:lnTo>
                        <a:pt x="162" y="1639"/>
                      </a:lnTo>
                      <a:lnTo>
                        <a:pt x="182" y="1754"/>
                      </a:lnTo>
                      <a:lnTo>
                        <a:pt x="207" y="1867"/>
                      </a:lnTo>
                      <a:lnTo>
                        <a:pt x="241" y="1980"/>
                      </a:lnTo>
                      <a:lnTo>
                        <a:pt x="278" y="2089"/>
                      </a:lnTo>
                      <a:lnTo>
                        <a:pt x="323" y="2198"/>
                      </a:lnTo>
                      <a:lnTo>
                        <a:pt x="374" y="2303"/>
                      </a:lnTo>
                      <a:lnTo>
                        <a:pt x="430" y="2406"/>
                      </a:lnTo>
                      <a:lnTo>
                        <a:pt x="491" y="2505"/>
                      </a:lnTo>
                      <a:lnTo>
                        <a:pt x="526" y="2556"/>
                      </a:lnTo>
                      <a:lnTo>
                        <a:pt x="416" y="2636"/>
                      </a:lnTo>
                      <a:lnTo>
                        <a:pt x="401" y="2616"/>
                      </a:lnTo>
                      <a:lnTo>
                        <a:pt x="336" y="2515"/>
                      </a:lnTo>
                      <a:lnTo>
                        <a:pt x="277" y="2410"/>
                      </a:lnTo>
                      <a:lnTo>
                        <a:pt x="221" y="2303"/>
                      </a:lnTo>
                      <a:lnTo>
                        <a:pt x="173" y="2192"/>
                      </a:lnTo>
                      <a:lnTo>
                        <a:pt x="130" y="2079"/>
                      </a:lnTo>
                      <a:lnTo>
                        <a:pt x="92" y="1964"/>
                      </a:lnTo>
                      <a:lnTo>
                        <a:pt x="62" y="1845"/>
                      </a:lnTo>
                      <a:lnTo>
                        <a:pt x="37" y="1728"/>
                      </a:lnTo>
                      <a:lnTo>
                        <a:pt x="19" y="1607"/>
                      </a:lnTo>
                      <a:lnTo>
                        <a:pt x="7" y="1489"/>
                      </a:lnTo>
                      <a:lnTo>
                        <a:pt x="0" y="1367"/>
                      </a:lnTo>
                      <a:lnTo>
                        <a:pt x="0" y="1247"/>
                      </a:lnTo>
                      <a:lnTo>
                        <a:pt x="9" y="1126"/>
                      </a:lnTo>
                      <a:lnTo>
                        <a:pt x="22" y="1004"/>
                      </a:lnTo>
                      <a:lnTo>
                        <a:pt x="42" y="886"/>
                      </a:lnTo>
                      <a:lnTo>
                        <a:pt x="68" y="767"/>
                      </a:lnTo>
                      <a:lnTo>
                        <a:pt x="100" y="653"/>
                      </a:lnTo>
                      <a:lnTo>
                        <a:pt x="138" y="538"/>
                      </a:lnTo>
                      <a:lnTo>
                        <a:pt x="182" y="425"/>
                      </a:lnTo>
                      <a:lnTo>
                        <a:pt x="231" y="313"/>
                      </a:lnTo>
                      <a:lnTo>
                        <a:pt x="286" y="206"/>
                      </a:lnTo>
                      <a:lnTo>
                        <a:pt x="348" y="101"/>
                      </a:lnTo>
                      <a:lnTo>
                        <a:pt x="416" y="0"/>
                      </a:lnTo>
                      <a:lnTo>
                        <a:pt x="533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90240" y="3328920"/>
                  <a:ext cx="18720" cy="74880"/>
                </a:xfrm>
                <a:custGeom>
                  <a:avLst/>
                  <a:gdLst/>
                  <a:ahLst/>
                  <a:rect l="l" t="t" r="r" b="b"/>
                  <a:pathLst>
                    <a:path w="532" h="2635">
                      <a:moveTo>
                        <a:pt x="0" y="85"/>
                      </a:moveTo>
                      <a:lnTo>
                        <a:pt x="65" y="181"/>
                      </a:lnTo>
                      <a:lnTo>
                        <a:pt x="125" y="283"/>
                      </a:lnTo>
                      <a:lnTo>
                        <a:pt x="178" y="386"/>
                      </a:lnTo>
                      <a:lnTo>
                        <a:pt x="226" y="493"/>
                      </a:lnTo>
                      <a:lnTo>
                        <a:pt x="268" y="601"/>
                      </a:lnTo>
                      <a:lnTo>
                        <a:pt x="306" y="713"/>
                      </a:lnTo>
                      <a:lnTo>
                        <a:pt x="334" y="826"/>
                      </a:lnTo>
                      <a:lnTo>
                        <a:pt x="359" y="941"/>
                      </a:lnTo>
                      <a:lnTo>
                        <a:pt x="376" y="1056"/>
                      </a:lnTo>
                      <a:lnTo>
                        <a:pt x="389" y="1171"/>
                      </a:lnTo>
                      <a:lnTo>
                        <a:pt x="392" y="1287"/>
                      </a:lnTo>
                      <a:lnTo>
                        <a:pt x="392" y="1404"/>
                      </a:lnTo>
                      <a:lnTo>
                        <a:pt x="384" y="1521"/>
                      </a:lnTo>
                      <a:lnTo>
                        <a:pt x="371" y="1638"/>
                      </a:lnTo>
                      <a:lnTo>
                        <a:pt x="351" y="1753"/>
                      </a:lnTo>
                      <a:lnTo>
                        <a:pt x="324" y="1865"/>
                      </a:lnTo>
                      <a:lnTo>
                        <a:pt x="291" y="1979"/>
                      </a:lnTo>
                      <a:lnTo>
                        <a:pt x="254" y="2088"/>
                      </a:lnTo>
                      <a:lnTo>
                        <a:pt x="210" y="2197"/>
                      </a:lnTo>
                      <a:lnTo>
                        <a:pt x="158" y="2302"/>
                      </a:lnTo>
                      <a:lnTo>
                        <a:pt x="103" y="2405"/>
                      </a:lnTo>
                      <a:lnTo>
                        <a:pt x="41" y="2503"/>
                      </a:lnTo>
                      <a:lnTo>
                        <a:pt x="5" y="2555"/>
                      </a:lnTo>
                      <a:lnTo>
                        <a:pt x="116" y="2635"/>
                      </a:lnTo>
                      <a:lnTo>
                        <a:pt x="131" y="2615"/>
                      </a:lnTo>
                      <a:lnTo>
                        <a:pt x="196" y="2513"/>
                      </a:lnTo>
                      <a:lnTo>
                        <a:pt x="256" y="2408"/>
                      </a:lnTo>
                      <a:lnTo>
                        <a:pt x="311" y="2302"/>
                      </a:lnTo>
                      <a:lnTo>
                        <a:pt x="359" y="2190"/>
                      </a:lnTo>
                      <a:lnTo>
                        <a:pt x="402" y="2078"/>
                      </a:lnTo>
                      <a:lnTo>
                        <a:pt x="440" y="1963"/>
                      </a:lnTo>
                      <a:lnTo>
                        <a:pt x="470" y="1844"/>
                      </a:lnTo>
                      <a:lnTo>
                        <a:pt x="496" y="1727"/>
                      </a:lnTo>
                      <a:lnTo>
                        <a:pt x="514" y="1607"/>
                      </a:lnTo>
                      <a:lnTo>
                        <a:pt x="525" y="1487"/>
                      </a:lnTo>
                      <a:lnTo>
                        <a:pt x="532" y="1367"/>
                      </a:lnTo>
                      <a:lnTo>
                        <a:pt x="532" y="1246"/>
                      </a:lnTo>
                      <a:lnTo>
                        <a:pt x="524" y="1124"/>
                      </a:lnTo>
                      <a:lnTo>
                        <a:pt x="509" y="1004"/>
                      </a:lnTo>
                      <a:lnTo>
                        <a:pt x="489" y="886"/>
                      </a:lnTo>
                      <a:lnTo>
                        <a:pt x="464" y="766"/>
                      </a:lnTo>
                      <a:lnTo>
                        <a:pt x="432" y="651"/>
                      </a:lnTo>
                      <a:lnTo>
                        <a:pt x="394" y="536"/>
                      </a:lnTo>
                      <a:lnTo>
                        <a:pt x="351" y="423"/>
                      </a:lnTo>
                      <a:lnTo>
                        <a:pt x="301" y="313"/>
                      </a:lnTo>
                      <a:lnTo>
                        <a:pt x="246" y="205"/>
                      </a:lnTo>
                      <a:lnTo>
                        <a:pt x="184" y="100"/>
                      </a:lnTo>
                      <a:lnTo>
                        <a:pt x="116" y="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23560" y="3317400"/>
                  <a:ext cx="22680" cy="98280"/>
                </a:xfrm>
                <a:custGeom>
                  <a:avLst/>
                  <a:gdLst/>
                  <a:ahLst/>
                  <a:rect l="l" t="t" r="r" b="b"/>
                  <a:pathLst>
                    <a:path w="657" h="3434">
                      <a:moveTo>
                        <a:pt x="657" y="89"/>
                      </a:moveTo>
                      <a:lnTo>
                        <a:pt x="582" y="202"/>
                      </a:lnTo>
                      <a:lnTo>
                        <a:pt x="512" y="315"/>
                      </a:lnTo>
                      <a:lnTo>
                        <a:pt x="449" y="434"/>
                      </a:lnTo>
                      <a:lnTo>
                        <a:pt x="391" y="555"/>
                      </a:lnTo>
                      <a:lnTo>
                        <a:pt x="338" y="678"/>
                      </a:lnTo>
                      <a:lnTo>
                        <a:pt x="292" y="805"/>
                      </a:lnTo>
                      <a:lnTo>
                        <a:pt x="253" y="931"/>
                      </a:lnTo>
                      <a:lnTo>
                        <a:pt x="216" y="1060"/>
                      </a:lnTo>
                      <a:lnTo>
                        <a:pt x="189" y="1193"/>
                      </a:lnTo>
                      <a:lnTo>
                        <a:pt x="168" y="1323"/>
                      </a:lnTo>
                      <a:lnTo>
                        <a:pt x="151" y="1456"/>
                      </a:lnTo>
                      <a:lnTo>
                        <a:pt x="141" y="1591"/>
                      </a:lnTo>
                      <a:lnTo>
                        <a:pt x="139" y="1724"/>
                      </a:lnTo>
                      <a:lnTo>
                        <a:pt x="143" y="1859"/>
                      </a:lnTo>
                      <a:lnTo>
                        <a:pt x="151" y="1994"/>
                      </a:lnTo>
                      <a:lnTo>
                        <a:pt x="168" y="2126"/>
                      </a:lnTo>
                      <a:lnTo>
                        <a:pt x="191" y="2257"/>
                      </a:lnTo>
                      <a:lnTo>
                        <a:pt x="219" y="2387"/>
                      </a:lnTo>
                      <a:lnTo>
                        <a:pt x="254" y="2519"/>
                      </a:lnTo>
                      <a:lnTo>
                        <a:pt x="294" y="2645"/>
                      </a:lnTo>
                      <a:lnTo>
                        <a:pt x="341" y="2772"/>
                      </a:lnTo>
                      <a:lnTo>
                        <a:pt x="394" y="2895"/>
                      </a:lnTo>
                      <a:lnTo>
                        <a:pt x="453" y="3015"/>
                      </a:lnTo>
                      <a:lnTo>
                        <a:pt x="516" y="3133"/>
                      </a:lnTo>
                      <a:lnTo>
                        <a:pt x="586" y="3248"/>
                      </a:lnTo>
                      <a:lnTo>
                        <a:pt x="657" y="3353"/>
                      </a:lnTo>
                      <a:lnTo>
                        <a:pt x="542" y="3434"/>
                      </a:lnTo>
                      <a:lnTo>
                        <a:pt x="499" y="3370"/>
                      </a:lnTo>
                      <a:lnTo>
                        <a:pt x="425" y="3255"/>
                      </a:lnTo>
                      <a:lnTo>
                        <a:pt x="358" y="3135"/>
                      </a:lnTo>
                      <a:lnTo>
                        <a:pt x="294" y="3012"/>
                      </a:lnTo>
                      <a:lnTo>
                        <a:pt x="238" y="2887"/>
                      </a:lnTo>
                      <a:lnTo>
                        <a:pt x="186" y="2758"/>
                      </a:lnTo>
                      <a:lnTo>
                        <a:pt x="141" y="2630"/>
                      </a:lnTo>
                      <a:lnTo>
                        <a:pt x="103" y="2497"/>
                      </a:lnTo>
                      <a:lnTo>
                        <a:pt x="70" y="2362"/>
                      </a:lnTo>
                      <a:lnTo>
                        <a:pt x="44" y="2227"/>
                      </a:lnTo>
                      <a:lnTo>
                        <a:pt x="23" y="2091"/>
                      </a:lnTo>
                      <a:lnTo>
                        <a:pt x="8" y="1954"/>
                      </a:lnTo>
                      <a:lnTo>
                        <a:pt x="0" y="1817"/>
                      </a:lnTo>
                      <a:lnTo>
                        <a:pt x="0" y="1678"/>
                      </a:lnTo>
                      <a:lnTo>
                        <a:pt x="5" y="1541"/>
                      </a:lnTo>
                      <a:lnTo>
                        <a:pt x="16" y="1405"/>
                      </a:lnTo>
                      <a:lnTo>
                        <a:pt x="34" y="1268"/>
                      </a:lnTo>
                      <a:lnTo>
                        <a:pt x="58" y="1131"/>
                      </a:lnTo>
                      <a:lnTo>
                        <a:pt x="88" y="997"/>
                      </a:lnTo>
                      <a:lnTo>
                        <a:pt x="123" y="865"/>
                      </a:lnTo>
                      <a:lnTo>
                        <a:pt x="165" y="733"/>
                      </a:lnTo>
                      <a:lnTo>
                        <a:pt x="215" y="605"/>
                      </a:lnTo>
                      <a:lnTo>
                        <a:pt x="268" y="477"/>
                      </a:lnTo>
                      <a:lnTo>
                        <a:pt x="328" y="352"/>
                      </a:lnTo>
                      <a:lnTo>
                        <a:pt x="394" y="232"/>
                      </a:lnTo>
                      <a:lnTo>
                        <a:pt x="464" y="115"/>
                      </a:lnTo>
                      <a:lnTo>
                        <a:pt x="542" y="0"/>
                      </a:lnTo>
                      <a:lnTo>
                        <a:pt x="657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310760" y="3317760"/>
                  <a:ext cx="22680" cy="97560"/>
                </a:xfrm>
                <a:custGeom>
                  <a:avLst/>
                  <a:gdLst/>
                  <a:ahLst/>
                  <a:rect l="l" t="t" r="r" b="b"/>
                  <a:pathLst>
                    <a:path w="656" h="3434">
                      <a:moveTo>
                        <a:pt x="0" y="90"/>
                      </a:moveTo>
                      <a:lnTo>
                        <a:pt x="75" y="203"/>
                      </a:lnTo>
                      <a:lnTo>
                        <a:pt x="145" y="315"/>
                      </a:lnTo>
                      <a:lnTo>
                        <a:pt x="208" y="434"/>
                      </a:lnTo>
                      <a:lnTo>
                        <a:pt x="266" y="555"/>
                      </a:lnTo>
                      <a:lnTo>
                        <a:pt x="320" y="678"/>
                      </a:lnTo>
                      <a:lnTo>
                        <a:pt x="365" y="804"/>
                      </a:lnTo>
                      <a:lnTo>
                        <a:pt x="405" y="931"/>
                      </a:lnTo>
                      <a:lnTo>
                        <a:pt x="440" y="1061"/>
                      </a:lnTo>
                      <a:lnTo>
                        <a:pt x="468" y="1193"/>
                      </a:lnTo>
                      <a:lnTo>
                        <a:pt x="490" y="1324"/>
                      </a:lnTo>
                      <a:lnTo>
                        <a:pt x="506" y="1457"/>
                      </a:lnTo>
                      <a:lnTo>
                        <a:pt x="516" y="1592"/>
                      </a:lnTo>
                      <a:lnTo>
                        <a:pt x="518" y="1724"/>
                      </a:lnTo>
                      <a:lnTo>
                        <a:pt x="514" y="1859"/>
                      </a:lnTo>
                      <a:lnTo>
                        <a:pt x="506" y="1993"/>
                      </a:lnTo>
                      <a:lnTo>
                        <a:pt x="490" y="2126"/>
                      </a:lnTo>
                      <a:lnTo>
                        <a:pt x="466" y="2257"/>
                      </a:lnTo>
                      <a:lnTo>
                        <a:pt x="438" y="2388"/>
                      </a:lnTo>
                      <a:lnTo>
                        <a:pt x="403" y="2518"/>
                      </a:lnTo>
                      <a:lnTo>
                        <a:pt x="363" y="2645"/>
                      </a:lnTo>
                      <a:lnTo>
                        <a:pt x="315" y="2773"/>
                      </a:lnTo>
                      <a:lnTo>
                        <a:pt x="264" y="2895"/>
                      </a:lnTo>
                      <a:lnTo>
                        <a:pt x="205" y="3016"/>
                      </a:lnTo>
                      <a:lnTo>
                        <a:pt x="140" y="3133"/>
                      </a:lnTo>
                      <a:lnTo>
                        <a:pt x="72" y="3248"/>
                      </a:lnTo>
                      <a:lnTo>
                        <a:pt x="0" y="3353"/>
                      </a:lnTo>
                      <a:lnTo>
                        <a:pt x="115" y="3434"/>
                      </a:lnTo>
                      <a:lnTo>
                        <a:pt x="159" y="3371"/>
                      </a:lnTo>
                      <a:lnTo>
                        <a:pt x="232" y="3256"/>
                      </a:lnTo>
                      <a:lnTo>
                        <a:pt x="300" y="3134"/>
                      </a:lnTo>
                      <a:lnTo>
                        <a:pt x="363" y="3011"/>
                      </a:lnTo>
                      <a:lnTo>
                        <a:pt x="418" y="2887"/>
                      </a:lnTo>
                      <a:lnTo>
                        <a:pt x="470" y="2758"/>
                      </a:lnTo>
                      <a:lnTo>
                        <a:pt x="516" y="2630"/>
                      </a:lnTo>
                      <a:lnTo>
                        <a:pt x="553" y="2497"/>
                      </a:lnTo>
                      <a:lnTo>
                        <a:pt x="588" y="2362"/>
                      </a:lnTo>
                      <a:lnTo>
                        <a:pt x="613" y="2227"/>
                      </a:lnTo>
                      <a:lnTo>
                        <a:pt x="635" y="2090"/>
                      </a:lnTo>
                      <a:lnTo>
                        <a:pt x="649" y="1954"/>
                      </a:lnTo>
                      <a:lnTo>
                        <a:pt x="656" y="1817"/>
                      </a:lnTo>
                      <a:lnTo>
                        <a:pt x="656" y="1679"/>
                      </a:lnTo>
                      <a:lnTo>
                        <a:pt x="653" y="1542"/>
                      </a:lnTo>
                      <a:lnTo>
                        <a:pt x="641" y="1405"/>
                      </a:lnTo>
                      <a:lnTo>
                        <a:pt x="623" y="1269"/>
                      </a:lnTo>
                      <a:lnTo>
                        <a:pt x="599" y="1131"/>
                      </a:lnTo>
                      <a:lnTo>
                        <a:pt x="569" y="997"/>
                      </a:lnTo>
                      <a:lnTo>
                        <a:pt x="534" y="864"/>
                      </a:lnTo>
                      <a:lnTo>
                        <a:pt x="493" y="733"/>
                      </a:lnTo>
                      <a:lnTo>
                        <a:pt x="443" y="604"/>
                      </a:lnTo>
                      <a:lnTo>
                        <a:pt x="388" y="478"/>
                      </a:lnTo>
                      <a:lnTo>
                        <a:pt x="330" y="353"/>
                      </a:lnTo>
                      <a:lnTo>
                        <a:pt x="264" y="232"/>
                      </a:lnTo>
                      <a:lnTo>
                        <a:pt x="192" y="115"/>
                      </a:lnTo>
                      <a:lnTo>
                        <a:pt x="115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097640" y="3305520"/>
                  <a:ext cx="27360" cy="122040"/>
                </a:xfrm>
                <a:custGeom>
                  <a:avLst/>
                  <a:gdLst/>
                  <a:ahLst/>
                  <a:rect l="l" t="t" r="r" b="b"/>
                  <a:pathLst>
                    <a:path w="786" h="4276">
                      <a:moveTo>
                        <a:pt x="786" y="4191"/>
                      </a:moveTo>
                      <a:lnTo>
                        <a:pt x="719" y="4090"/>
                      </a:lnTo>
                      <a:lnTo>
                        <a:pt x="639" y="3959"/>
                      </a:lnTo>
                      <a:lnTo>
                        <a:pt x="566" y="3826"/>
                      </a:lnTo>
                      <a:lnTo>
                        <a:pt x="496" y="3692"/>
                      </a:lnTo>
                      <a:lnTo>
                        <a:pt x="435" y="3552"/>
                      </a:lnTo>
                      <a:lnTo>
                        <a:pt x="380" y="3412"/>
                      </a:lnTo>
                      <a:lnTo>
                        <a:pt x="328" y="3269"/>
                      </a:lnTo>
                      <a:lnTo>
                        <a:pt x="283" y="3124"/>
                      </a:lnTo>
                      <a:lnTo>
                        <a:pt x="246" y="2978"/>
                      </a:lnTo>
                      <a:lnTo>
                        <a:pt x="215" y="2829"/>
                      </a:lnTo>
                      <a:lnTo>
                        <a:pt x="187" y="2681"/>
                      </a:lnTo>
                      <a:lnTo>
                        <a:pt x="169" y="2531"/>
                      </a:lnTo>
                      <a:lnTo>
                        <a:pt x="155" y="2380"/>
                      </a:lnTo>
                      <a:lnTo>
                        <a:pt x="147" y="2228"/>
                      </a:lnTo>
                      <a:lnTo>
                        <a:pt x="147" y="2076"/>
                      </a:lnTo>
                      <a:lnTo>
                        <a:pt x="153" y="1923"/>
                      </a:lnTo>
                      <a:lnTo>
                        <a:pt x="165" y="1773"/>
                      </a:lnTo>
                      <a:lnTo>
                        <a:pt x="183" y="1623"/>
                      </a:lnTo>
                      <a:lnTo>
                        <a:pt x="208" y="1472"/>
                      </a:lnTo>
                      <a:lnTo>
                        <a:pt x="238" y="1325"/>
                      </a:lnTo>
                      <a:lnTo>
                        <a:pt x="276" y="1177"/>
                      </a:lnTo>
                      <a:lnTo>
                        <a:pt x="320" y="1032"/>
                      </a:lnTo>
                      <a:lnTo>
                        <a:pt x="370" y="889"/>
                      </a:lnTo>
                      <a:lnTo>
                        <a:pt x="425" y="747"/>
                      </a:lnTo>
                      <a:lnTo>
                        <a:pt x="484" y="609"/>
                      </a:lnTo>
                      <a:lnTo>
                        <a:pt x="551" y="474"/>
                      </a:lnTo>
                      <a:lnTo>
                        <a:pt x="626" y="341"/>
                      </a:lnTo>
                      <a:lnTo>
                        <a:pt x="703" y="210"/>
                      </a:lnTo>
                      <a:lnTo>
                        <a:pt x="786" y="83"/>
                      </a:lnTo>
                      <a:lnTo>
                        <a:pt x="681" y="0"/>
                      </a:lnTo>
                      <a:lnTo>
                        <a:pt x="596" y="126"/>
                      </a:lnTo>
                      <a:lnTo>
                        <a:pt x="514" y="258"/>
                      </a:lnTo>
                      <a:lnTo>
                        <a:pt x="438" y="391"/>
                      </a:lnTo>
                      <a:lnTo>
                        <a:pt x="370" y="527"/>
                      </a:lnTo>
                      <a:lnTo>
                        <a:pt x="306" y="666"/>
                      </a:lnTo>
                      <a:lnTo>
                        <a:pt x="248" y="809"/>
                      </a:lnTo>
                      <a:lnTo>
                        <a:pt x="195" y="951"/>
                      </a:lnTo>
                      <a:lnTo>
                        <a:pt x="149" y="1097"/>
                      </a:lnTo>
                      <a:lnTo>
                        <a:pt x="110" y="1247"/>
                      </a:lnTo>
                      <a:lnTo>
                        <a:pt x="75" y="1395"/>
                      </a:lnTo>
                      <a:lnTo>
                        <a:pt x="47" y="1545"/>
                      </a:lnTo>
                      <a:lnTo>
                        <a:pt x="26" y="1696"/>
                      </a:lnTo>
                      <a:lnTo>
                        <a:pt x="12" y="1848"/>
                      </a:lnTo>
                      <a:lnTo>
                        <a:pt x="2" y="2003"/>
                      </a:lnTo>
                      <a:lnTo>
                        <a:pt x="0" y="2156"/>
                      </a:lnTo>
                      <a:lnTo>
                        <a:pt x="4" y="2308"/>
                      </a:lnTo>
                      <a:lnTo>
                        <a:pt x="14" y="2461"/>
                      </a:lnTo>
                      <a:lnTo>
                        <a:pt x="30" y="2614"/>
                      </a:lnTo>
                      <a:lnTo>
                        <a:pt x="54" y="2764"/>
                      </a:lnTo>
                      <a:lnTo>
                        <a:pt x="84" y="2914"/>
                      </a:lnTo>
                      <a:lnTo>
                        <a:pt x="117" y="3065"/>
                      </a:lnTo>
                      <a:lnTo>
                        <a:pt x="159" y="3212"/>
                      </a:lnTo>
                      <a:lnTo>
                        <a:pt x="207" y="3357"/>
                      </a:lnTo>
                      <a:lnTo>
                        <a:pt x="260" y="3502"/>
                      </a:lnTo>
                      <a:lnTo>
                        <a:pt x="320" y="3642"/>
                      </a:lnTo>
                      <a:lnTo>
                        <a:pt x="385" y="3780"/>
                      </a:lnTo>
                      <a:lnTo>
                        <a:pt x="456" y="3917"/>
                      </a:lnTo>
                      <a:lnTo>
                        <a:pt x="534" y="4050"/>
                      </a:lnTo>
                      <a:lnTo>
                        <a:pt x="616" y="4178"/>
                      </a:lnTo>
                      <a:lnTo>
                        <a:pt x="681" y="4276"/>
                      </a:lnTo>
                      <a:lnTo>
                        <a:pt x="786" y="4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32000" y="3305520"/>
                  <a:ext cx="27360" cy="122040"/>
                </a:xfrm>
                <a:custGeom>
                  <a:avLst/>
                  <a:gdLst/>
                  <a:ahLst/>
                  <a:rect l="l" t="t" r="r" b="b"/>
                  <a:pathLst>
                    <a:path w="785" h="4276">
                      <a:moveTo>
                        <a:pt x="0" y="4191"/>
                      </a:moveTo>
                      <a:lnTo>
                        <a:pt x="66" y="4089"/>
                      </a:lnTo>
                      <a:lnTo>
                        <a:pt x="146" y="3959"/>
                      </a:lnTo>
                      <a:lnTo>
                        <a:pt x="219" y="3826"/>
                      </a:lnTo>
                      <a:lnTo>
                        <a:pt x="289" y="3691"/>
                      </a:lnTo>
                      <a:lnTo>
                        <a:pt x="351" y="3553"/>
                      </a:lnTo>
                      <a:lnTo>
                        <a:pt x="406" y="3412"/>
                      </a:lnTo>
                      <a:lnTo>
                        <a:pt x="457" y="3270"/>
                      </a:lnTo>
                      <a:lnTo>
                        <a:pt x="501" y="3125"/>
                      </a:lnTo>
                      <a:lnTo>
                        <a:pt x="539" y="2978"/>
                      </a:lnTo>
                      <a:lnTo>
                        <a:pt x="571" y="2830"/>
                      </a:lnTo>
                      <a:lnTo>
                        <a:pt x="599" y="2680"/>
                      </a:lnTo>
                      <a:lnTo>
                        <a:pt x="617" y="2530"/>
                      </a:lnTo>
                      <a:lnTo>
                        <a:pt x="630" y="2380"/>
                      </a:lnTo>
                      <a:lnTo>
                        <a:pt x="638" y="2227"/>
                      </a:lnTo>
                      <a:lnTo>
                        <a:pt x="638" y="2077"/>
                      </a:lnTo>
                      <a:lnTo>
                        <a:pt x="632" y="1924"/>
                      </a:lnTo>
                      <a:lnTo>
                        <a:pt x="620" y="1773"/>
                      </a:lnTo>
                      <a:lnTo>
                        <a:pt x="602" y="1623"/>
                      </a:lnTo>
                      <a:lnTo>
                        <a:pt x="577" y="1473"/>
                      </a:lnTo>
                      <a:lnTo>
                        <a:pt x="547" y="1326"/>
                      </a:lnTo>
                      <a:lnTo>
                        <a:pt x="509" y="1177"/>
                      </a:lnTo>
                      <a:lnTo>
                        <a:pt x="466" y="1033"/>
                      </a:lnTo>
                      <a:lnTo>
                        <a:pt x="416" y="890"/>
                      </a:lnTo>
                      <a:lnTo>
                        <a:pt x="361" y="747"/>
                      </a:lnTo>
                      <a:lnTo>
                        <a:pt x="301" y="608"/>
                      </a:lnTo>
                      <a:lnTo>
                        <a:pt x="233" y="473"/>
                      </a:lnTo>
                      <a:lnTo>
                        <a:pt x="160" y="340"/>
                      </a:lnTo>
                      <a:lnTo>
                        <a:pt x="83" y="210"/>
                      </a:lnTo>
                      <a:lnTo>
                        <a:pt x="0" y="84"/>
                      </a:lnTo>
                      <a:lnTo>
                        <a:pt x="104" y="0"/>
                      </a:lnTo>
                      <a:lnTo>
                        <a:pt x="190" y="127"/>
                      </a:lnTo>
                      <a:lnTo>
                        <a:pt x="271" y="257"/>
                      </a:lnTo>
                      <a:lnTo>
                        <a:pt x="346" y="390"/>
                      </a:lnTo>
                      <a:lnTo>
                        <a:pt x="416" y="527"/>
                      </a:lnTo>
                      <a:lnTo>
                        <a:pt x="479" y="665"/>
                      </a:lnTo>
                      <a:lnTo>
                        <a:pt x="537" y="808"/>
                      </a:lnTo>
                      <a:lnTo>
                        <a:pt x="590" y="951"/>
                      </a:lnTo>
                      <a:lnTo>
                        <a:pt x="637" y="1098"/>
                      </a:lnTo>
                      <a:lnTo>
                        <a:pt x="675" y="1246"/>
                      </a:lnTo>
                      <a:lnTo>
                        <a:pt x="710" y="1395"/>
                      </a:lnTo>
                      <a:lnTo>
                        <a:pt x="737" y="1546"/>
                      </a:lnTo>
                      <a:lnTo>
                        <a:pt x="759" y="1696"/>
                      </a:lnTo>
                      <a:lnTo>
                        <a:pt x="773" y="1849"/>
                      </a:lnTo>
                      <a:lnTo>
                        <a:pt x="783" y="2004"/>
                      </a:lnTo>
                      <a:lnTo>
                        <a:pt x="785" y="2156"/>
                      </a:lnTo>
                      <a:lnTo>
                        <a:pt x="781" y="2309"/>
                      </a:lnTo>
                      <a:lnTo>
                        <a:pt x="771" y="2461"/>
                      </a:lnTo>
                      <a:lnTo>
                        <a:pt x="755" y="2614"/>
                      </a:lnTo>
                      <a:lnTo>
                        <a:pt x="732" y="2764"/>
                      </a:lnTo>
                      <a:lnTo>
                        <a:pt x="702" y="2915"/>
                      </a:lnTo>
                      <a:lnTo>
                        <a:pt x="668" y="3065"/>
                      </a:lnTo>
                      <a:lnTo>
                        <a:pt x="627" y="3212"/>
                      </a:lnTo>
                      <a:lnTo>
                        <a:pt x="579" y="3356"/>
                      </a:lnTo>
                      <a:lnTo>
                        <a:pt x="525" y="3501"/>
                      </a:lnTo>
                      <a:lnTo>
                        <a:pt x="466" y="3641"/>
                      </a:lnTo>
                      <a:lnTo>
                        <a:pt x="400" y="3781"/>
                      </a:lnTo>
                      <a:lnTo>
                        <a:pt x="329" y="3917"/>
                      </a:lnTo>
                      <a:lnTo>
                        <a:pt x="251" y="4051"/>
                      </a:lnTo>
                      <a:lnTo>
                        <a:pt x="170" y="4179"/>
                      </a:lnTo>
                      <a:lnTo>
                        <a:pt x="104" y="4276"/>
                      </a:lnTo>
                      <a:lnTo>
                        <a:pt x="0" y="4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69560" y="3292560"/>
                  <a:ext cx="32400" cy="147960"/>
                </a:xfrm>
                <a:custGeom>
                  <a:avLst/>
                  <a:gdLst/>
                  <a:ahLst/>
                  <a:rect l="l" t="t" r="r" b="b"/>
                  <a:pathLst>
                    <a:path w="934" h="5192">
                      <a:moveTo>
                        <a:pt x="934" y="5108"/>
                      </a:moveTo>
                      <a:lnTo>
                        <a:pt x="931" y="5102"/>
                      </a:lnTo>
                      <a:lnTo>
                        <a:pt x="838" y="4964"/>
                      </a:lnTo>
                      <a:lnTo>
                        <a:pt x="751" y="4822"/>
                      </a:lnTo>
                      <a:lnTo>
                        <a:pt x="669" y="4677"/>
                      </a:lnTo>
                      <a:lnTo>
                        <a:pt x="591" y="4528"/>
                      </a:lnTo>
                      <a:lnTo>
                        <a:pt x="521" y="4377"/>
                      </a:lnTo>
                      <a:lnTo>
                        <a:pt x="457" y="4223"/>
                      </a:lnTo>
                      <a:lnTo>
                        <a:pt x="398" y="4066"/>
                      </a:lnTo>
                      <a:lnTo>
                        <a:pt x="343" y="3908"/>
                      </a:lnTo>
                      <a:lnTo>
                        <a:pt x="298" y="3748"/>
                      </a:lnTo>
                      <a:lnTo>
                        <a:pt x="257" y="3586"/>
                      </a:lnTo>
                      <a:lnTo>
                        <a:pt x="223" y="3423"/>
                      </a:lnTo>
                      <a:lnTo>
                        <a:pt x="195" y="3258"/>
                      </a:lnTo>
                      <a:lnTo>
                        <a:pt x="173" y="3093"/>
                      </a:lnTo>
                      <a:lnTo>
                        <a:pt x="157" y="2927"/>
                      </a:lnTo>
                      <a:lnTo>
                        <a:pt x="147" y="2760"/>
                      </a:lnTo>
                      <a:lnTo>
                        <a:pt x="143" y="2592"/>
                      </a:lnTo>
                      <a:lnTo>
                        <a:pt x="147" y="2425"/>
                      </a:lnTo>
                      <a:lnTo>
                        <a:pt x="157" y="2259"/>
                      </a:lnTo>
                      <a:lnTo>
                        <a:pt x="173" y="2092"/>
                      </a:lnTo>
                      <a:lnTo>
                        <a:pt x="195" y="1929"/>
                      </a:lnTo>
                      <a:lnTo>
                        <a:pt x="223" y="1764"/>
                      </a:lnTo>
                      <a:lnTo>
                        <a:pt x="258" y="1599"/>
                      </a:lnTo>
                      <a:lnTo>
                        <a:pt x="300" y="1439"/>
                      </a:lnTo>
                      <a:lnTo>
                        <a:pt x="346" y="1278"/>
                      </a:lnTo>
                      <a:lnTo>
                        <a:pt x="400" y="1120"/>
                      </a:lnTo>
                      <a:lnTo>
                        <a:pt x="459" y="963"/>
                      </a:lnTo>
                      <a:lnTo>
                        <a:pt x="524" y="808"/>
                      </a:lnTo>
                      <a:lnTo>
                        <a:pt x="594" y="658"/>
                      </a:lnTo>
                      <a:lnTo>
                        <a:pt x="671" y="510"/>
                      </a:lnTo>
                      <a:lnTo>
                        <a:pt x="752" y="365"/>
                      </a:lnTo>
                      <a:lnTo>
                        <a:pt x="840" y="222"/>
                      </a:lnTo>
                      <a:lnTo>
                        <a:pt x="934" y="84"/>
                      </a:lnTo>
                      <a:lnTo>
                        <a:pt x="814" y="0"/>
                      </a:lnTo>
                      <a:lnTo>
                        <a:pt x="719" y="141"/>
                      </a:lnTo>
                      <a:lnTo>
                        <a:pt x="631" y="285"/>
                      </a:lnTo>
                      <a:lnTo>
                        <a:pt x="546" y="434"/>
                      </a:lnTo>
                      <a:lnTo>
                        <a:pt x="469" y="585"/>
                      </a:lnTo>
                      <a:lnTo>
                        <a:pt x="398" y="740"/>
                      </a:lnTo>
                      <a:lnTo>
                        <a:pt x="330" y="896"/>
                      </a:lnTo>
                      <a:lnTo>
                        <a:pt x="270" y="1055"/>
                      </a:lnTo>
                      <a:lnTo>
                        <a:pt x="215" y="1215"/>
                      </a:lnTo>
                      <a:lnTo>
                        <a:pt x="167" y="1378"/>
                      </a:lnTo>
                      <a:lnTo>
                        <a:pt x="124" y="1541"/>
                      </a:lnTo>
                      <a:lnTo>
                        <a:pt x="88" y="1708"/>
                      </a:lnTo>
                      <a:lnTo>
                        <a:pt x="58" y="1874"/>
                      </a:lnTo>
                      <a:lnTo>
                        <a:pt x="34" y="2044"/>
                      </a:lnTo>
                      <a:lnTo>
                        <a:pt x="17" y="2214"/>
                      </a:lnTo>
                      <a:lnTo>
                        <a:pt x="4" y="2382"/>
                      </a:lnTo>
                      <a:lnTo>
                        <a:pt x="0" y="2552"/>
                      </a:lnTo>
                      <a:lnTo>
                        <a:pt x="2" y="2723"/>
                      </a:lnTo>
                      <a:lnTo>
                        <a:pt x="10" y="2892"/>
                      </a:lnTo>
                      <a:lnTo>
                        <a:pt x="24" y="3062"/>
                      </a:lnTo>
                      <a:lnTo>
                        <a:pt x="44" y="3230"/>
                      </a:lnTo>
                      <a:lnTo>
                        <a:pt x="72" y="3396"/>
                      </a:lnTo>
                      <a:lnTo>
                        <a:pt x="104" y="3563"/>
                      </a:lnTo>
                      <a:lnTo>
                        <a:pt x="143" y="3729"/>
                      </a:lnTo>
                      <a:lnTo>
                        <a:pt x="189" y="3894"/>
                      </a:lnTo>
                      <a:lnTo>
                        <a:pt x="240" y="4054"/>
                      </a:lnTo>
                      <a:lnTo>
                        <a:pt x="298" y="4214"/>
                      </a:lnTo>
                      <a:lnTo>
                        <a:pt x="362" y="4371"/>
                      </a:lnTo>
                      <a:lnTo>
                        <a:pt x="431" y="4528"/>
                      </a:lnTo>
                      <a:lnTo>
                        <a:pt x="506" y="4680"/>
                      </a:lnTo>
                      <a:lnTo>
                        <a:pt x="588" y="4829"/>
                      </a:lnTo>
                      <a:lnTo>
                        <a:pt x="673" y="4975"/>
                      </a:lnTo>
                      <a:lnTo>
                        <a:pt x="764" y="5118"/>
                      </a:lnTo>
                      <a:lnTo>
                        <a:pt x="814" y="5192"/>
                      </a:lnTo>
                      <a:lnTo>
                        <a:pt x="934" y="5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54680" y="3292560"/>
                  <a:ext cx="32760" cy="147960"/>
                </a:xfrm>
                <a:custGeom>
                  <a:avLst/>
                  <a:gdLst/>
                  <a:ahLst/>
                  <a:rect l="l" t="t" r="r" b="b"/>
                  <a:pathLst>
                    <a:path w="933" h="5191">
                      <a:moveTo>
                        <a:pt x="0" y="5108"/>
                      </a:moveTo>
                      <a:lnTo>
                        <a:pt x="2" y="5103"/>
                      </a:lnTo>
                      <a:lnTo>
                        <a:pt x="95" y="4964"/>
                      </a:lnTo>
                      <a:lnTo>
                        <a:pt x="183" y="4821"/>
                      </a:lnTo>
                      <a:lnTo>
                        <a:pt x="264" y="4676"/>
                      </a:lnTo>
                      <a:lnTo>
                        <a:pt x="341" y="4528"/>
                      </a:lnTo>
                      <a:lnTo>
                        <a:pt x="412" y="4377"/>
                      </a:lnTo>
                      <a:lnTo>
                        <a:pt x="476" y="4223"/>
                      </a:lnTo>
                      <a:lnTo>
                        <a:pt x="536" y="4067"/>
                      </a:lnTo>
                      <a:lnTo>
                        <a:pt x="589" y="3907"/>
                      </a:lnTo>
                      <a:lnTo>
                        <a:pt x="635" y="3747"/>
                      </a:lnTo>
                      <a:lnTo>
                        <a:pt x="677" y="3587"/>
                      </a:lnTo>
                      <a:lnTo>
                        <a:pt x="710" y="3422"/>
                      </a:lnTo>
                      <a:lnTo>
                        <a:pt x="738" y="3258"/>
                      </a:lnTo>
                      <a:lnTo>
                        <a:pt x="760" y="3093"/>
                      </a:lnTo>
                      <a:lnTo>
                        <a:pt x="775" y="2926"/>
                      </a:lnTo>
                      <a:lnTo>
                        <a:pt x="785" y="2761"/>
                      </a:lnTo>
                      <a:lnTo>
                        <a:pt x="790" y="2592"/>
                      </a:lnTo>
                      <a:lnTo>
                        <a:pt x="785" y="2425"/>
                      </a:lnTo>
                      <a:lnTo>
                        <a:pt x="775" y="2260"/>
                      </a:lnTo>
                      <a:lnTo>
                        <a:pt x="760" y="2093"/>
                      </a:lnTo>
                      <a:lnTo>
                        <a:pt x="738" y="1928"/>
                      </a:lnTo>
                      <a:lnTo>
                        <a:pt x="710" y="1764"/>
                      </a:lnTo>
                      <a:lnTo>
                        <a:pt x="675" y="1599"/>
                      </a:lnTo>
                      <a:lnTo>
                        <a:pt x="633" y="1439"/>
                      </a:lnTo>
                      <a:lnTo>
                        <a:pt x="587" y="1279"/>
                      </a:lnTo>
                      <a:lnTo>
                        <a:pt x="534" y="1119"/>
                      </a:lnTo>
                      <a:lnTo>
                        <a:pt x="474" y="964"/>
                      </a:lnTo>
                      <a:lnTo>
                        <a:pt x="409" y="809"/>
                      </a:lnTo>
                      <a:lnTo>
                        <a:pt x="339" y="658"/>
                      </a:lnTo>
                      <a:lnTo>
                        <a:pt x="262" y="509"/>
                      </a:lnTo>
                      <a:lnTo>
                        <a:pt x="181" y="365"/>
                      </a:lnTo>
                      <a:lnTo>
                        <a:pt x="93" y="223"/>
                      </a:lnTo>
                      <a:lnTo>
                        <a:pt x="0" y="83"/>
                      </a:lnTo>
                      <a:lnTo>
                        <a:pt x="119" y="0"/>
                      </a:lnTo>
                      <a:lnTo>
                        <a:pt x="214" y="141"/>
                      </a:lnTo>
                      <a:lnTo>
                        <a:pt x="301" y="286"/>
                      </a:lnTo>
                      <a:lnTo>
                        <a:pt x="387" y="434"/>
                      </a:lnTo>
                      <a:lnTo>
                        <a:pt x="464" y="585"/>
                      </a:lnTo>
                      <a:lnTo>
                        <a:pt x="536" y="739"/>
                      </a:lnTo>
                      <a:lnTo>
                        <a:pt x="603" y="896"/>
                      </a:lnTo>
                      <a:lnTo>
                        <a:pt x="663" y="1054"/>
                      </a:lnTo>
                      <a:lnTo>
                        <a:pt x="718" y="1215"/>
                      </a:lnTo>
                      <a:lnTo>
                        <a:pt x="766" y="1377"/>
                      </a:lnTo>
                      <a:lnTo>
                        <a:pt x="810" y="1542"/>
                      </a:lnTo>
                      <a:lnTo>
                        <a:pt x="845" y="1708"/>
                      </a:lnTo>
                      <a:lnTo>
                        <a:pt x="875" y="1875"/>
                      </a:lnTo>
                      <a:lnTo>
                        <a:pt x="898" y="2043"/>
                      </a:lnTo>
                      <a:lnTo>
                        <a:pt x="917" y="2213"/>
                      </a:lnTo>
                      <a:lnTo>
                        <a:pt x="928" y="2382"/>
                      </a:lnTo>
                      <a:lnTo>
                        <a:pt x="933" y="2553"/>
                      </a:lnTo>
                      <a:lnTo>
                        <a:pt x="931" y="2723"/>
                      </a:lnTo>
                      <a:lnTo>
                        <a:pt x="923" y="2891"/>
                      </a:lnTo>
                      <a:lnTo>
                        <a:pt x="908" y="3061"/>
                      </a:lnTo>
                      <a:lnTo>
                        <a:pt x="888" y="3231"/>
                      </a:lnTo>
                      <a:lnTo>
                        <a:pt x="861" y="3396"/>
                      </a:lnTo>
                      <a:lnTo>
                        <a:pt x="830" y="3563"/>
                      </a:lnTo>
                      <a:lnTo>
                        <a:pt x="790" y="3729"/>
                      </a:lnTo>
                      <a:lnTo>
                        <a:pt x="744" y="3894"/>
                      </a:lnTo>
                      <a:lnTo>
                        <a:pt x="692" y="4054"/>
                      </a:lnTo>
                      <a:lnTo>
                        <a:pt x="635" y="4215"/>
                      </a:lnTo>
                      <a:lnTo>
                        <a:pt x="572" y="4372"/>
                      </a:lnTo>
                      <a:lnTo>
                        <a:pt x="502" y="4528"/>
                      </a:lnTo>
                      <a:lnTo>
                        <a:pt x="427" y="4680"/>
                      </a:lnTo>
                      <a:lnTo>
                        <a:pt x="346" y="4829"/>
                      </a:lnTo>
                      <a:lnTo>
                        <a:pt x="259" y="4976"/>
                      </a:lnTo>
                      <a:lnTo>
                        <a:pt x="169" y="5118"/>
                      </a:lnTo>
                      <a:lnTo>
                        <a:pt x="119" y="5191"/>
                      </a:lnTo>
                      <a:lnTo>
                        <a:pt x="0" y="5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041840" y="3279240"/>
                  <a:ext cx="38520" cy="174240"/>
                </a:xfrm>
                <a:custGeom>
                  <a:avLst/>
                  <a:gdLst/>
                  <a:ahLst/>
                  <a:rect l="l" t="t" r="r" b="b"/>
                  <a:pathLst>
                    <a:path w="1100" h="6124">
                      <a:moveTo>
                        <a:pt x="1100" y="6024"/>
                      </a:moveTo>
                      <a:lnTo>
                        <a:pt x="1027" y="5916"/>
                      </a:lnTo>
                      <a:lnTo>
                        <a:pt x="930" y="5763"/>
                      </a:lnTo>
                      <a:lnTo>
                        <a:pt x="838" y="5606"/>
                      </a:lnTo>
                      <a:lnTo>
                        <a:pt x="751" y="5446"/>
                      </a:lnTo>
                      <a:lnTo>
                        <a:pt x="672" y="5283"/>
                      </a:lnTo>
                      <a:lnTo>
                        <a:pt x="596" y="5117"/>
                      </a:lnTo>
                      <a:lnTo>
                        <a:pt x="527" y="4948"/>
                      </a:lnTo>
                      <a:lnTo>
                        <a:pt x="466" y="4778"/>
                      </a:lnTo>
                      <a:lnTo>
                        <a:pt x="408" y="4605"/>
                      </a:lnTo>
                      <a:lnTo>
                        <a:pt x="356" y="4433"/>
                      </a:lnTo>
                      <a:lnTo>
                        <a:pt x="313" y="4257"/>
                      </a:lnTo>
                      <a:lnTo>
                        <a:pt x="273" y="4079"/>
                      </a:lnTo>
                      <a:lnTo>
                        <a:pt x="241" y="3900"/>
                      </a:lnTo>
                      <a:lnTo>
                        <a:pt x="215" y="3719"/>
                      </a:lnTo>
                      <a:lnTo>
                        <a:pt x="195" y="3539"/>
                      </a:lnTo>
                      <a:lnTo>
                        <a:pt x="181" y="3359"/>
                      </a:lnTo>
                      <a:lnTo>
                        <a:pt x="173" y="3176"/>
                      </a:lnTo>
                      <a:lnTo>
                        <a:pt x="173" y="2996"/>
                      </a:lnTo>
                      <a:lnTo>
                        <a:pt x="180" y="2815"/>
                      </a:lnTo>
                      <a:lnTo>
                        <a:pt x="190" y="2635"/>
                      </a:lnTo>
                      <a:lnTo>
                        <a:pt x="209" y="2454"/>
                      </a:lnTo>
                      <a:lnTo>
                        <a:pt x="233" y="2273"/>
                      </a:lnTo>
                      <a:lnTo>
                        <a:pt x="263" y="2095"/>
                      </a:lnTo>
                      <a:lnTo>
                        <a:pt x="301" y="1917"/>
                      </a:lnTo>
                      <a:lnTo>
                        <a:pt x="344" y="1740"/>
                      </a:lnTo>
                      <a:lnTo>
                        <a:pt x="394" y="1566"/>
                      </a:lnTo>
                      <a:lnTo>
                        <a:pt x="449" y="1391"/>
                      </a:lnTo>
                      <a:lnTo>
                        <a:pt x="511" y="1221"/>
                      </a:lnTo>
                      <a:lnTo>
                        <a:pt x="576" y="1053"/>
                      </a:lnTo>
                      <a:lnTo>
                        <a:pt x="649" y="886"/>
                      </a:lnTo>
                      <a:lnTo>
                        <a:pt x="729" y="724"/>
                      </a:lnTo>
                      <a:lnTo>
                        <a:pt x="814" y="563"/>
                      </a:lnTo>
                      <a:lnTo>
                        <a:pt x="904" y="405"/>
                      </a:lnTo>
                      <a:lnTo>
                        <a:pt x="999" y="250"/>
                      </a:lnTo>
                      <a:lnTo>
                        <a:pt x="1100" y="100"/>
                      </a:lnTo>
                      <a:lnTo>
                        <a:pt x="957" y="0"/>
                      </a:lnTo>
                      <a:lnTo>
                        <a:pt x="857" y="153"/>
                      </a:lnTo>
                      <a:lnTo>
                        <a:pt x="759" y="312"/>
                      </a:lnTo>
                      <a:lnTo>
                        <a:pt x="666" y="472"/>
                      </a:lnTo>
                      <a:lnTo>
                        <a:pt x="581" y="635"/>
                      </a:lnTo>
                      <a:lnTo>
                        <a:pt x="499" y="801"/>
                      </a:lnTo>
                      <a:lnTo>
                        <a:pt x="426" y="970"/>
                      </a:lnTo>
                      <a:lnTo>
                        <a:pt x="356" y="1142"/>
                      </a:lnTo>
                      <a:lnTo>
                        <a:pt x="293" y="1316"/>
                      </a:lnTo>
                      <a:lnTo>
                        <a:pt x="235" y="1491"/>
                      </a:lnTo>
                      <a:lnTo>
                        <a:pt x="185" y="1669"/>
                      </a:lnTo>
                      <a:lnTo>
                        <a:pt x="140" y="1847"/>
                      </a:lnTo>
                      <a:lnTo>
                        <a:pt x="102" y="2030"/>
                      </a:lnTo>
                      <a:lnTo>
                        <a:pt x="68" y="2210"/>
                      </a:lnTo>
                      <a:lnTo>
                        <a:pt x="43" y="2395"/>
                      </a:lnTo>
                      <a:lnTo>
                        <a:pt x="23" y="2577"/>
                      </a:lnTo>
                      <a:lnTo>
                        <a:pt x="9" y="2761"/>
                      </a:lnTo>
                      <a:lnTo>
                        <a:pt x="3" y="2947"/>
                      </a:lnTo>
                      <a:lnTo>
                        <a:pt x="0" y="3131"/>
                      </a:lnTo>
                      <a:lnTo>
                        <a:pt x="7" y="3316"/>
                      </a:lnTo>
                      <a:lnTo>
                        <a:pt x="18" y="3500"/>
                      </a:lnTo>
                      <a:lnTo>
                        <a:pt x="37" y="3684"/>
                      </a:lnTo>
                      <a:lnTo>
                        <a:pt x="62" y="3866"/>
                      </a:lnTo>
                      <a:lnTo>
                        <a:pt x="92" y="4049"/>
                      </a:lnTo>
                      <a:lnTo>
                        <a:pt x="130" y="4231"/>
                      </a:lnTo>
                      <a:lnTo>
                        <a:pt x="173" y="4409"/>
                      </a:lnTo>
                      <a:lnTo>
                        <a:pt x="223" y="4588"/>
                      </a:lnTo>
                      <a:lnTo>
                        <a:pt x="278" y="4764"/>
                      </a:lnTo>
                      <a:lnTo>
                        <a:pt x="340" y="4938"/>
                      </a:lnTo>
                      <a:lnTo>
                        <a:pt x="408" y="5111"/>
                      </a:lnTo>
                      <a:lnTo>
                        <a:pt x="479" y="5281"/>
                      </a:lnTo>
                      <a:lnTo>
                        <a:pt x="559" y="5448"/>
                      </a:lnTo>
                      <a:lnTo>
                        <a:pt x="644" y="5613"/>
                      </a:lnTo>
                      <a:lnTo>
                        <a:pt x="735" y="5773"/>
                      </a:lnTo>
                      <a:lnTo>
                        <a:pt x="830" y="5931"/>
                      </a:lnTo>
                      <a:lnTo>
                        <a:pt x="932" y="6086"/>
                      </a:lnTo>
                      <a:lnTo>
                        <a:pt x="957" y="6124"/>
                      </a:lnTo>
                      <a:lnTo>
                        <a:pt x="1100" y="60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377000" y="3279240"/>
                  <a:ext cx="38520" cy="174240"/>
                </a:xfrm>
                <a:custGeom>
                  <a:avLst/>
                  <a:gdLst/>
                  <a:ahLst/>
                  <a:rect l="l" t="t" r="r" b="b"/>
                  <a:pathLst>
                    <a:path w="1099" h="6122">
                      <a:moveTo>
                        <a:pt x="0" y="6023"/>
                      </a:moveTo>
                      <a:lnTo>
                        <a:pt x="74" y="5914"/>
                      </a:lnTo>
                      <a:lnTo>
                        <a:pt x="170" y="5761"/>
                      </a:lnTo>
                      <a:lnTo>
                        <a:pt x="262" y="5605"/>
                      </a:lnTo>
                      <a:lnTo>
                        <a:pt x="350" y="5445"/>
                      </a:lnTo>
                      <a:lnTo>
                        <a:pt x="428" y="5283"/>
                      </a:lnTo>
                      <a:lnTo>
                        <a:pt x="504" y="5116"/>
                      </a:lnTo>
                      <a:lnTo>
                        <a:pt x="573" y="4947"/>
                      </a:lnTo>
                      <a:lnTo>
                        <a:pt x="635" y="4777"/>
                      </a:lnTo>
                      <a:lnTo>
                        <a:pt x="693" y="4605"/>
                      </a:lnTo>
                      <a:lnTo>
                        <a:pt x="744" y="4432"/>
                      </a:lnTo>
                      <a:lnTo>
                        <a:pt x="788" y="4256"/>
                      </a:lnTo>
                      <a:lnTo>
                        <a:pt x="827" y="4077"/>
                      </a:lnTo>
                      <a:lnTo>
                        <a:pt x="859" y="3899"/>
                      </a:lnTo>
                      <a:lnTo>
                        <a:pt x="885" y="3719"/>
                      </a:lnTo>
                      <a:lnTo>
                        <a:pt x="904" y="3539"/>
                      </a:lnTo>
                      <a:lnTo>
                        <a:pt x="919" y="3358"/>
                      </a:lnTo>
                      <a:lnTo>
                        <a:pt x="927" y="3176"/>
                      </a:lnTo>
                      <a:lnTo>
                        <a:pt x="927" y="2996"/>
                      </a:lnTo>
                      <a:lnTo>
                        <a:pt x="921" y="2813"/>
                      </a:lnTo>
                      <a:lnTo>
                        <a:pt x="911" y="2633"/>
                      </a:lnTo>
                      <a:lnTo>
                        <a:pt x="891" y="2453"/>
                      </a:lnTo>
                      <a:lnTo>
                        <a:pt x="867" y="2272"/>
                      </a:lnTo>
                      <a:lnTo>
                        <a:pt x="837" y="2094"/>
                      </a:lnTo>
                      <a:lnTo>
                        <a:pt x="799" y="1916"/>
                      </a:lnTo>
                      <a:lnTo>
                        <a:pt x="756" y="1739"/>
                      </a:lnTo>
                      <a:lnTo>
                        <a:pt x="706" y="1565"/>
                      </a:lnTo>
                      <a:lnTo>
                        <a:pt x="651" y="1391"/>
                      </a:lnTo>
                      <a:lnTo>
                        <a:pt x="589" y="1221"/>
                      </a:lnTo>
                      <a:lnTo>
                        <a:pt x="523" y="1051"/>
                      </a:lnTo>
                      <a:lnTo>
                        <a:pt x="450" y="886"/>
                      </a:lnTo>
                      <a:lnTo>
                        <a:pt x="371" y="723"/>
                      </a:lnTo>
                      <a:lnTo>
                        <a:pt x="285" y="563"/>
                      </a:lnTo>
                      <a:lnTo>
                        <a:pt x="197" y="403"/>
                      </a:lnTo>
                      <a:lnTo>
                        <a:pt x="102" y="250"/>
                      </a:lnTo>
                      <a:lnTo>
                        <a:pt x="0" y="99"/>
                      </a:lnTo>
                      <a:lnTo>
                        <a:pt x="142" y="0"/>
                      </a:lnTo>
                      <a:lnTo>
                        <a:pt x="244" y="152"/>
                      </a:lnTo>
                      <a:lnTo>
                        <a:pt x="342" y="310"/>
                      </a:lnTo>
                      <a:lnTo>
                        <a:pt x="435" y="471"/>
                      </a:lnTo>
                      <a:lnTo>
                        <a:pt x="520" y="633"/>
                      </a:lnTo>
                      <a:lnTo>
                        <a:pt x="601" y="800"/>
                      </a:lnTo>
                      <a:lnTo>
                        <a:pt x="675" y="968"/>
                      </a:lnTo>
                      <a:lnTo>
                        <a:pt x="744" y="1141"/>
                      </a:lnTo>
                      <a:lnTo>
                        <a:pt x="808" y="1316"/>
                      </a:lnTo>
                      <a:lnTo>
                        <a:pt x="866" y="1489"/>
                      </a:lnTo>
                      <a:lnTo>
                        <a:pt x="914" y="1668"/>
                      </a:lnTo>
                      <a:lnTo>
                        <a:pt x="961" y="1847"/>
                      </a:lnTo>
                      <a:lnTo>
                        <a:pt x="999" y="2029"/>
                      </a:lnTo>
                      <a:lnTo>
                        <a:pt x="1032" y="2209"/>
                      </a:lnTo>
                      <a:lnTo>
                        <a:pt x="1057" y="2393"/>
                      </a:lnTo>
                      <a:lnTo>
                        <a:pt x="1077" y="2575"/>
                      </a:lnTo>
                      <a:lnTo>
                        <a:pt x="1092" y="2760"/>
                      </a:lnTo>
                      <a:lnTo>
                        <a:pt x="1097" y="2946"/>
                      </a:lnTo>
                      <a:lnTo>
                        <a:pt x="1099" y="3130"/>
                      </a:lnTo>
                      <a:lnTo>
                        <a:pt x="1094" y="3314"/>
                      </a:lnTo>
                      <a:lnTo>
                        <a:pt x="1082" y="3499"/>
                      </a:lnTo>
                      <a:lnTo>
                        <a:pt x="1064" y="3683"/>
                      </a:lnTo>
                      <a:lnTo>
                        <a:pt x="1037" y="3866"/>
                      </a:lnTo>
                      <a:lnTo>
                        <a:pt x="1009" y="4047"/>
                      </a:lnTo>
                      <a:lnTo>
                        <a:pt x="970" y="4230"/>
                      </a:lnTo>
                      <a:lnTo>
                        <a:pt x="927" y="4409"/>
                      </a:lnTo>
                      <a:lnTo>
                        <a:pt x="877" y="4587"/>
                      </a:lnTo>
                      <a:lnTo>
                        <a:pt x="821" y="4763"/>
                      </a:lnTo>
                      <a:lnTo>
                        <a:pt x="760" y="4937"/>
                      </a:lnTo>
                      <a:lnTo>
                        <a:pt x="693" y="5110"/>
                      </a:lnTo>
                      <a:lnTo>
                        <a:pt x="621" y="5280"/>
                      </a:lnTo>
                      <a:lnTo>
                        <a:pt x="541" y="5446"/>
                      </a:lnTo>
                      <a:lnTo>
                        <a:pt x="456" y="5611"/>
                      </a:lnTo>
                      <a:lnTo>
                        <a:pt x="365" y="5771"/>
                      </a:lnTo>
                      <a:lnTo>
                        <a:pt x="270" y="5931"/>
                      </a:lnTo>
                      <a:lnTo>
                        <a:pt x="169" y="6084"/>
                      </a:lnTo>
                      <a:lnTo>
                        <a:pt x="142" y="6122"/>
                      </a:lnTo>
                      <a:lnTo>
                        <a:pt x="0" y="60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009440" y="3265200"/>
                  <a:ext cx="43920" cy="203400"/>
                </a:xfrm>
                <a:custGeom>
                  <a:avLst/>
                  <a:gdLst/>
                  <a:ahLst/>
                  <a:rect l="l" t="t" r="r" b="b"/>
                  <a:pathLst>
                    <a:path w="1266" h="7132">
                      <a:moveTo>
                        <a:pt x="1266" y="7032"/>
                      </a:moveTo>
                      <a:lnTo>
                        <a:pt x="1206" y="6945"/>
                      </a:lnTo>
                      <a:lnTo>
                        <a:pt x="1100" y="6779"/>
                      </a:lnTo>
                      <a:lnTo>
                        <a:pt x="998" y="6610"/>
                      </a:lnTo>
                      <a:lnTo>
                        <a:pt x="903" y="6440"/>
                      </a:lnTo>
                      <a:lnTo>
                        <a:pt x="812" y="6264"/>
                      </a:lnTo>
                      <a:lnTo>
                        <a:pt x="729" y="6087"/>
                      </a:lnTo>
                      <a:lnTo>
                        <a:pt x="649" y="5907"/>
                      </a:lnTo>
                      <a:lnTo>
                        <a:pt x="577" y="5725"/>
                      </a:lnTo>
                      <a:lnTo>
                        <a:pt x="510" y="5541"/>
                      </a:lnTo>
                      <a:lnTo>
                        <a:pt x="449" y="5353"/>
                      </a:lnTo>
                      <a:lnTo>
                        <a:pt x="395" y="5163"/>
                      </a:lnTo>
                      <a:lnTo>
                        <a:pt x="346" y="4973"/>
                      </a:lnTo>
                      <a:lnTo>
                        <a:pt x="304" y="4782"/>
                      </a:lnTo>
                      <a:lnTo>
                        <a:pt x="268" y="4589"/>
                      </a:lnTo>
                      <a:lnTo>
                        <a:pt x="238" y="4393"/>
                      </a:lnTo>
                      <a:lnTo>
                        <a:pt x="215" y="4199"/>
                      </a:lnTo>
                      <a:lnTo>
                        <a:pt x="196" y="4003"/>
                      </a:lnTo>
                      <a:lnTo>
                        <a:pt x="185" y="3807"/>
                      </a:lnTo>
                      <a:lnTo>
                        <a:pt x="181" y="3611"/>
                      </a:lnTo>
                      <a:lnTo>
                        <a:pt x="183" y="3414"/>
                      </a:lnTo>
                      <a:lnTo>
                        <a:pt x="191" y="3218"/>
                      </a:lnTo>
                      <a:lnTo>
                        <a:pt x="205" y="3022"/>
                      </a:lnTo>
                      <a:lnTo>
                        <a:pt x="226" y="2826"/>
                      </a:lnTo>
                      <a:lnTo>
                        <a:pt x="253" y="2632"/>
                      </a:lnTo>
                      <a:lnTo>
                        <a:pt x="286" y="2437"/>
                      </a:lnTo>
                      <a:lnTo>
                        <a:pt x="326" y="2245"/>
                      </a:lnTo>
                      <a:lnTo>
                        <a:pt x="371" y="2055"/>
                      </a:lnTo>
                      <a:lnTo>
                        <a:pt x="423" y="1865"/>
                      </a:lnTo>
                      <a:lnTo>
                        <a:pt x="481" y="1677"/>
                      </a:lnTo>
                      <a:lnTo>
                        <a:pt x="546" y="1492"/>
                      </a:lnTo>
                      <a:lnTo>
                        <a:pt x="615" y="1308"/>
                      </a:lnTo>
                      <a:lnTo>
                        <a:pt x="691" y="1126"/>
                      </a:lnTo>
                      <a:lnTo>
                        <a:pt x="772" y="948"/>
                      </a:lnTo>
                      <a:lnTo>
                        <a:pt x="860" y="771"/>
                      </a:lnTo>
                      <a:lnTo>
                        <a:pt x="953" y="598"/>
                      </a:lnTo>
                      <a:lnTo>
                        <a:pt x="1052" y="428"/>
                      </a:lnTo>
                      <a:lnTo>
                        <a:pt x="1157" y="262"/>
                      </a:lnTo>
                      <a:lnTo>
                        <a:pt x="1266" y="100"/>
                      </a:lnTo>
                      <a:lnTo>
                        <a:pt x="1133" y="0"/>
                      </a:lnTo>
                      <a:lnTo>
                        <a:pt x="1022" y="163"/>
                      </a:lnTo>
                      <a:lnTo>
                        <a:pt x="915" y="331"/>
                      </a:lnTo>
                      <a:lnTo>
                        <a:pt x="815" y="502"/>
                      </a:lnTo>
                      <a:lnTo>
                        <a:pt x="719" y="674"/>
                      </a:lnTo>
                      <a:lnTo>
                        <a:pt x="629" y="850"/>
                      </a:lnTo>
                      <a:lnTo>
                        <a:pt x="546" y="1031"/>
                      </a:lnTo>
                      <a:lnTo>
                        <a:pt x="466" y="1211"/>
                      </a:lnTo>
                      <a:lnTo>
                        <a:pt x="393" y="1396"/>
                      </a:lnTo>
                      <a:lnTo>
                        <a:pt x="328" y="1581"/>
                      </a:lnTo>
                      <a:lnTo>
                        <a:pt x="266" y="1769"/>
                      </a:lnTo>
                      <a:lnTo>
                        <a:pt x="213" y="1960"/>
                      </a:lnTo>
                      <a:lnTo>
                        <a:pt x="163" y="2152"/>
                      </a:lnTo>
                      <a:lnTo>
                        <a:pt x="121" y="2347"/>
                      </a:lnTo>
                      <a:lnTo>
                        <a:pt x="85" y="2540"/>
                      </a:lnTo>
                      <a:lnTo>
                        <a:pt x="55" y="2737"/>
                      </a:lnTo>
                      <a:lnTo>
                        <a:pt x="32" y="2933"/>
                      </a:lnTo>
                      <a:lnTo>
                        <a:pt x="16" y="3131"/>
                      </a:lnTo>
                      <a:lnTo>
                        <a:pt x="5" y="3328"/>
                      </a:lnTo>
                      <a:lnTo>
                        <a:pt x="0" y="3526"/>
                      </a:lnTo>
                      <a:lnTo>
                        <a:pt x="2" y="3724"/>
                      </a:lnTo>
                      <a:lnTo>
                        <a:pt x="10" y="3922"/>
                      </a:lnTo>
                      <a:lnTo>
                        <a:pt x="24" y="4117"/>
                      </a:lnTo>
                      <a:lnTo>
                        <a:pt x="46" y="4316"/>
                      </a:lnTo>
                      <a:lnTo>
                        <a:pt x="73" y="4512"/>
                      </a:lnTo>
                      <a:lnTo>
                        <a:pt x="108" y="4707"/>
                      </a:lnTo>
                      <a:lnTo>
                        <a:pt x="147" y="4900"/>
                      </a:lnTo>
                      <a:lnTo>
                        <a:pt x="193" y="5093"/>
                      </a:lnTo>
                      <a:lnTo>
                        <a:pt x="244" y="5285"/>
                      </a:lnTo>
                      <a:lnTo>
                        <a:pt x="301" y="5473"/>
                      </a:lnTo>
                      <a:lnTo>
                        <a:pt x="367" y="5661"/>
                      </a:lnTo>
                      <a:lnTo>
                        <a:pt x="436" y="5846"/>
                      </a:lnTo>
                      <a:lnTo>
                        <a:pt x="512" y="6028"/>
                      </a:lnTo>
                      <a:lnTo>
                        <a:pt x="596" y="6209"/>
                      </a:lnTo>
                      <a:lnTo>
                        <a:pt x="682" y="6387"/>
                      </a:lnTo>
                      <a:lnTo>
                        <a:pt x="776" y="6561"/>
                      </a:lnTo>
                      <a:lnTo>
                        <a:pt x="875" y="6732"/>
                      </a:lnTo>
                      <a:lnTo>
                        <a:pt x="978" y="6900"/>
                      </a:lnTo>
                      <a:lnTo>
                        <a:pt x="1088" y="7067"/>
                      </a:lnTo>
                      <a:lnTo>
                        <a:pt x="1133" y="7132"/>
                      </a:lnTo>
                      <a:lnTo>
                        <a:pt x="1266" y="70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403640" y="3265560"/>
                  <a:ext cx="43920" cy="202680"/>
                </a:xfrm>
                <a:custGeom>
                  <a:avLst/>
                  <a:gdLst/>
                  <a:ahLst/>
                  <a:rect l="l" t="t" r="r" b="b"/>
                  <a:pathLst>
                    <a:path w="1266" h="7131">
                      <a:moveTo>
                        <a:pt x="0" y="7033"/>
                      </a:moveTo>
                      <a:lnTo>
                        <a:pt x="60" y="6945"/>
                      </a:lnTo>
                      <a:lnTo>
                        <a:pt x="167" y="6778"/>
                      </a:lnTo>
                      <a:lnTo>
                        <a:pt x="268" y="6610"/>
                      </a:lnTo>
                      <a:lnTo>
                        <a:pt x="363" y="6440"/>
                      </a:lnTo>
                      <a:lnTo>
                        <a:pt x="454" y="6263"/>
                      </a:lnTo>
                      <a:lnTo>
                        <a:pt x="538" y="6087"/>
                      </a:lnTo>
                      <a:lnTo>
                        <a:pt x="617" y="5907"/>
                      </a:lnTo>
                      <a:lnTo>
                        <a:pt x="689" y="5725"/>
                      </a:lnTo>
                      <a:lnTo>
                        <a:pt x="756" y="5540"/>
                      </a:lnTo>
                      <a:lnTo>
                        <a:pt x="817" y="5352"/>
                      </a:lnTo>
                      <a:lnTo>
                        <a:pt x="871" y="5164"/>
                      </a:lnTo>
                      <a:lnTo>
                        <a:pt x="921" y="4974"/>
                      </a:lnTo>
                      <a:lnTo>
                        <a:pt x="962" y="4781"/>
                      </a:lnTo>
                      <a:lnTo>
                        <a:pt x="998" y="4589"/>
                      </a:lnTo>
                      <a:lnTo>
                        <a:pt x="1028" y="4393"/>
                      </a:lnTo>
                      <a:lnTo>
                        <a:pt x="1052" y="4198"/>
                      </a:lnTo>
                      <a:lnTo>
                        <a:pt x="1070" y="4003"/>
                      </a:lnTo>
                      <a:lnTo>
                        <a:pt x="1082" y="3807"/>
                      </a:lnTo>
                      <a:lnTo>
                        <a:pt x="1085" y="3610"/>
                      </a:lnTo>
                      <a:lnTo>
                        <a:pt x="1083" y="3414"/>
                      </a:lnTo>
                      <a:lnTo>
                        <a:pt x="1075" y="3219"/>
                      </a:lnTo>
                      <a:lnTo>
                        <a:pt x="1062" y="3022"/>
                      </a:lnTo>
                      <a:lnTo>
                        <a:pt x="1040" y="2826"/>
                      </a:lnTo>
                      <a:lnTo>
                        <a:pt x="1014" y="2631"/>
                      </a:lnTo>
                      <a:lnTo>
                        <a:pt x="980" y="2438"/>
                      </a:lnTo>
                      <a:lnTo>
                        <a:pt x="940" y="2245"/>
                      </a:lnTo>
                      <a:lnTo>
                        <a:pt x="895" y="2055"/>
                      </a:lnTo>
                      <a:lnTo>
                        <a:pt x="844" y="1865"/>
                      </a:lnTo>
                      <a:lnTo>
                        <a:pt x="786" y="1677"/>
                      </a:lnTo>
                      <a:lnTo>
                        <a:pt x="721" y="1492"/>
                      </a:lnTo>
                      <a:lnTo>
                        <a:pt x="651" y="1308"/>
                      </a:lnTo>
                      <a:lnTo>
                        <a:pt x="576" y="1126"/>
                      </a:lnTo>
                      <a:lnTo>
                        <a:pt x="494" y="947"/>
                      </a:lnTo>
                      <a:lnTo>
                        <a:pt x="406" y="771"/>
                      </a:lnTo>
                      <a:lnTo>
                        <a:pt x="313" y="599"/>
                      </a:lnTo>
                      <a:lnTo>
                        <a:pt x="215" y="428"/>
                      </a:lnTo>
                      <a:lnTo>
                        <a:pt x="109" y="261"/>
                      </a:lnTo>
                      <a:lnTo>
                        <a:pt x="0" y="99"/>
                      </a:lnTo>
                      <a:lnTo>
                        <a:pt x="133" y="0"/>
                      </a:lnTo>
                      <a:lnTo>
                        <a:pt x="245" y="163"/>
                      </a:lnTo>
                      <a:lnTo>
                        <a:pt x="351" y="331"/>
                      </a:lnTo>
                      <a:lnTo>
                        <a:pt x="451" y="501"/>
                      </a:lnTo>
                      <a:lnTo>
                        <a:pt x="548" y="674"/>
                      </a:lnTo>
                      <a:lnTo>
                        <a:pt x="637" y="850"/>
                      </a:lnTo>
                      <a:lnTo>
                        <a:pt x="721" y="1031"/>
                      </a:lnTo>
                      <a:lnTo>
                        <a:pt x="799" y="1211"/>
                      </a:lnTo>
                      <a:lnTo>
                        <a:pt x="874" y="1395"/>
                      </a:lnTo>
                      <a:lnTo>
                        <a:pt x="939" y="1582"/>
                      </a:lnTo>
                      <a:lnTo>
                        <a:pt x="1000" y="1770"/>
                      </a:lnTo>
                      <a:lnTo>
                        <a:pt x="1054" y="1960"/>
                      </a:lnTo>
                      <a:lnTo>
                        <a:pt x="1103" y="2153"/>
                      </a:lnTo>
                      <a:lnTo>
                        <a:pt x="1145" y="2346"/>
                      </a:lnTo>
                      <a:lnTo>
                        <a:pt x="1180" y="2541"/>
                      </a:lnTo>
                      <a:lnTo>
                        <a:pt x="1210" y="2736"/>
                      </a:lnTo>
                      <a:lnTo>
                        <a:pt x="1235" y="2933"/>
                      </a:lnTo>
                      <a:lnTo>
                        <a:pt x="1250" y="3131"/>
                      </a:lnTo>
                      <a:lnTo>
                        <a:pt x="1262" y="3327"/>
                      </a:lnTo>
                      <a:lnTo>
                        <a:pt x="1266" y="3525"/>
                      </a:lnTo>
                      <a:lnTo>
                        <a:pt x="1265" y="3723"/>
                      </a:lnTo>
                      <a:lnTo>
                        <a:pt x="1256" y="3922"/>
                      </a:lnTo>
                      <a:lnTo>
                        <a:pt x="1242" y="4118"/>
                      </a:lnTo>
                      <a:lnTo>
                        <a:pt x="1220" y="4316"/>
                      </a:lnTo>
                      <a:lnTo>
                        <a:pt x="1193" y="4513"/>
                      </a:lnTo>
                      <a:lnTo>
                        <a:pt x="1159" y="4706"/>
                      </a:lnTo>
                      <a:lnTo>
                        <a:pt x="1120" y="4901"/>
                      </a:lnTo>
                      <a:lnTo>
                        <a:pt x="1074" y="5093"/>
                      </a:lnTo>
                      <a:lnTo>
                        <a:pt x="1022" y="5284"/>
                      </a:lnTo>
                      <a:lnTo>
                        <a:pt x="964" y="5474"/>
                      </a:lnTo>
                      <a:lnTo>
                        <a:pt x="899" y="5662"/>
                      </a:lnTo>
                      <a:lnTo>
                        <a:pt x="829" y="5845"/>
                      </a:lnTo>
                      <a:lnTo>
                        <a:pt x="754" y="6028"/>
                      </a:lnTo>
                      <a:lnTo>
                        <a:pt x="671" y="6208"/>
                      </a:lnTo>
                      <a:lnTo>
                        <a:pt x="583" y="6387"/>
                      </a:lnTo>
                      <a:lnTo>
                        <a:pt x="490" y="6561"/>
                      </a:lnTo>
                      <a:lnTo>
                        <a:pt x="391" y="6731"/>
                      </a:lnTo>
                      <a:lnTo>
                        <a:pt x="288" y="6900"/>
                      </a:lnTo>
                      <a:lnTo>
                        <a:pt x="178" y="7066"/>
                      </a:lnTo>
                      <a:lnTo>
                        <a:pt x="133" y="7131"/>
                      </a:lnTo>
                      <a:lnTo>
                        <a:pt x="0" y="70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46040" y="2930400"/>
                <a:ext cx="514080" cy="476280"/>
                <a:chOff x="446040" y="2930400"/>
                <a:chExt cx="514080" cy="47628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36400" y="2981160"/>
                  <a:ext cx="133200" cy="28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5000" y="2981160"/>
                  <a:ext cx="41400" cy="282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46040" y="3168360"/>
                  <a:ext cx="514080" cy="238320"/>
                </a:xfrm>
                <a:custGeom>
                  <a:avLst/>
                  <a:gdLst/>
                  <a:ahLst/>
                  <a:rect l="l" t="t" r="r" b="b"/>
                  <a:pathLst>
                    <a:path w="12166" h="3043">
                      <a:moveTo>
                        <a:pt x="12166" y="3043"/>
                      </a:moveTo>
                      <a:lnTo>
                        <a:pt x="0" y="3043"/>
                      </a:lnTo>
                      <a:lnTo>
                        <a:pt x="0" y="1224"/>
                      </a:lnTo>
                      <a:lnTo>
                        <a:pt x="5274" y="1224"/>
                      </a:lnTo>
                      <a:lnTo>
                        <a:pt x="5274" y="0"/>
                      </a:lnTo>
                      <a:lnTo>
                        <a:pt x="12166" y="0"/>
                      </a:lnTo>
                      <a:lnTo>
                        <a:pt x="12166" y="3043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748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060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328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94960" y="3027240"/>
                  <a:ext cx="1620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3360" y="3151080"/>
                  <a:ext cx="241560" cy="172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64760" y="3363840"/>
                  <a:ext cx="20880" cy="42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8080" y="3267000"/>
                  <a:ext cx="96840" cy="13968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93360" y="3267000"/>
                  <a:ext cx="96840" cy="13968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26920" y="3189240"/>
                  <a:ext cx="12060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80760" y="3189240"/>
                  <a:ext cx="12060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01480" y="3362040"/>
                  <a:ext cx="144360" cy="190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61600" y="3290760"/>
                  <a:ext cx="8424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64760" y="3290760"/>
                  <a:ext cx="8424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6040" y="3168360"/>
                  <a:ext cx="514080" cy="238320"/>
                </a:xfrm>
                <a:custGeom>
                  <a:avLst/>
                  <a:gdLst/>
                  <a:ahLst/>
                  <a:rect l="l" t="t" r="r" b="b"/>
                  <a:pathLst>
                    <a:path w="12165" h="3051">
                      <a:moveTo>
                        <a:pt x="12165" y="3051"/>
                      </a:moveTo>
                      <a:lnTo>
                        <a:pt x="12165" y="0"/>
                      </a:lnTo>
                      <a:lnTo>
                        <a:pt x="5286" y="0"/>
                      </a:lnTo>
                      <a:lnTo>
                        <a:pt x="5286" y="1253"/>
                      </a:lnTo>
                      <a:lnTo>
                        <a:pt x="0" y="1253"/>
                      </a:lnTo>
                      <a:lnTo>
                        <a:pt x="0" y="3051"/>
                      </a:lnTo>
                      <a:lnTo>
                        <a:pt x="12165" y="305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8440" y="3265200"/>
                  <a:ext cx="11160" cy="141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14320" y="3168360"/>
                  <a:ext cx="1440" cy="238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0760" y="3189240"/>
                  <a:ext cx="12060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336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0452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48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300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26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538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664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776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902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0760" y="3206520"/>
                  <a:ext cx="120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80760" y="3224160"/>
                  <a:ext cx="120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93360" y="3265200"/>
                  <a:ext cx="96840" cy="141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26920" y="3189240"/>
                  <a:ext cx="12060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3808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506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32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7444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870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982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91116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92376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93492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26920" y="3206520"/>
                  <a:ext cx="120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26920" y="3224160"/>
                  <a:ext cx="120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38080" y="3265200"/>
                  <a:ext cx="96840" cy="141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4760" y="3290760"/>
                  <a:ext cx="8424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777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8888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14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140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2524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3784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64760" y="3308040"/>
                  <a:ext cx="84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64760" y="3325680"/>
                  <a:ext cx="84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61600" y="3290760"/>
                  <a:ext cx="8424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56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8716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983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09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2208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346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1600" y="3308040"/>
                  <a:ext cx="84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1600" y="3325680"/>
                  <a:ext cx="84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64760" y="3363840"/>
                  <a:ext cx="20880" cy="42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74480" y="3363840"/>
                  <a:ext cx="144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1480" y="3363840"/>
                  <a:ext cx="144360" cy="1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408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2524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3784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49000" y="3363840"/>
                  <a:ext cx="180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160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456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572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9832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092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2208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3468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93360" y="3151080"/>
                  <a:ext cx="241560" cy="17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68000" y="2930400"/>
                  <a:ext cx="201600" cy="334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5000" y="2930400"/>
                  <a:ext cx="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36400" y="2930400"/>
                  <a:ext cx="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99760" y="2930400"/>
                  <a:ext cx="180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2600" y="2930400"/>
                  <a:ext cx="180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68000" y="2981160"/>
                  <a:ext cx="2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68000" y="2930400"/>
                  <a:ext cx="201600" cy="50760"/>
                </a:xfrm>
                <a:custGeom>
                  <a:avLst/>
                  <a:gdLst/>
                  <a:ahLst/>
                  <a:rect l="l" t="t" r="r" b="b"/>
                  <a:pathLst>
                    <a:path w="4751" h="655">
                      <a:moveTo>
                        <a:pt x="0" y="655"/>
                      </a:moveTo>
                      <a:lnTo>
                        <a:pt x="619" y="0"/>
                      </a:lnTo>
                      <a:lnTo>
                        <a:pt x="1604" y="655"/>
                      </a:lnTo>
                      <a:lnTo>
                        <a:pt x="3117" y="9"/>
                      </a:lnTo>
                      <a:lnTo>
                        <a:pt x="4139" y="655"/>
                      </a:lnTo>
                      <a:lnTo>
                        <a:pt x="475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68000" y="2930400"/>
                  <a:ext cx="201600" cy="50760"/>
                </a:xfrm>
                <a:custGeom>
                  <a:avLst/>
                  <a:gdLst/>
                  <a:ahLst/>
                  <a:rect l="l" t="t" r="r" b="b"/>
                  <a:pathLst>
                    <a:path w="4751" h="655">
                      <a:moveTo>
                        <a:pt x="4751" y="655"/>
                      </a:moveTo>
                      <a:lnTo>
                        <a:pt x="4139" y="0"/>
                      </a:lnTo>
                      <a:lnTo>
                        <a:pt x="3117" y="655"/>
                      </a:lnTo>
                      <a:lnTo>
                        <a:pt x="1604" y="9"/>
                      </a:lnTo>
                      <a:lnTo>
                        <a:pt x="619" y="65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85520" y="3267000"/>
                  <a:ext cx="4680" cy="139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931680" y="3267000"/>
                  <a:ext cx="3240" cy="139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748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5060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17480" y="3028680"/>
                  <a:ext cx="288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5060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6328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94960" y="3028680"/>
                  <a:ext cx="1620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6328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9496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8000" y="2982600"/>
                  <a:ext cx="27000" cy="28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1748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1748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1748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1748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5060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5060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5060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5060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6328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6328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6328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6328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94960" y="3128760"/>
                  <a:ext cx="162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94960" y="3103200"/>
                  <a:ext cx="162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94960" y="3076200"/>
                  <a:ext cx="162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94960" y="3051000"/>
                  <a:ext cx="16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79320" y="4178160"/>
                <a:ext cx="252720" cy="15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2" name=""/>
              <p:cNvGrpSpPr/>
              <p:nvPr/>
            </p:nvGrpSpPr>
            <p:grpSpPr>
              <a:xfrm>
                <a:off x="1679400" y="4140000"/>
                <a:ext cx="863640" cy="530280"/>
                <a:chOff x="1679400" y="4140000"/>
                <a:chExt cx="863640" cy="5302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936080" y="4460040"/>
                  <a:ext cx="433080" cy="209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737000" y="4332600"/>
                  <a:ext cx="2988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42480" y="4332600"/>
                  <a:ext cx="3096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737000" y="4448160"/>
                  <a:ext cx="2988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136240" y="4419000"/>
                  <a:ext cx="25200" cy="23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080080" y="4297680"/>
                  <a:ext cx="2628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129040" y="4297680"/>
                  <a:ext cx="2484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176920" y="4297680"/>
                  <a:ext cx="2376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353320" y="4198320"/>
                  <a:ext cx="20160" cy="36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354760" y="4256280"/>
                  <a:ext cx="21240" cy="34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48360" y="4393440"/>
                  <a:ext cx="21240" cy="34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448360" y="4478400"/>
                  <a:ext cx="24840" cy="244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79400" y="4140000"/>
                  <a:ext cx="863640" cy="530280"/>
                </a:xfrm>
                <a:custGeom>
                  <a:avLst/>
                  <a:gdLst/>
                  <a:ahLst/>
                  <a:rect l="l" t="t" r="r" b="b"/>
                  <a:pathLst>
                    <a:path w="13402" h="10476">
                      <a:moveTo>
                        <a:pt x="0" y="10476"/>
                      </a:moveTo>
                      <a:lnTo>
                        <a:pt x="0" y="4095"/>
                      </a:lnTo>
                      <a:lnTo>
                        <a:pt x="924" y="4095"/>
                      </a:lnTo>
                      <a:lnTo>
                        <a:pt x="924" y="0"/>
                      </a:lnTo>
                      <a:lnTo>
                        <a:pt x="1661" y="0"/>
                      </a:lnTo>
                      <a:lnTo>
                        <a:pt x="1661" y="4095"/>
                      </a:lnTo>
                      <a:lnTo>
                        <a:pt x="2301" y="4095"/>
                      </a:lnTo>
                      <a:lnTo>
                        <a:pt x="2301" y="0"/>
                      </a:lnTo>
                      <a:lnTo>
                        <a:pt x="3039" y="0"/>
                      </a:lnTo>
                      <a:lnTo>
                        <a:pt x="3039" y="4095"/>
                      </a:lnTo>
                      <a:lnTo>
                        <a:pt x="3958" y="4095"/>
                      </a:lnTo>
                      <a:lnTo>
                        <a:pt x="3958" y="5932"/>
                      </a:lnTo>
                      <a:lnTo>
                        <a:pt x="4598" y="5932"/>
                      </a:lnTo>
                      <a:lnTo>
                        <a:pt x="4598" y="5129"/>
                      </a:lnTo>
                      <a:lnTo>
                        <a:pt x="5762" y="5129"/>
                      </a:lnTo>
                      <a:lnTo>
                        <a:pt x="5762" y="3773"/>
                      </a:lnTo>
                      <a:lnTo>
                        <a:pt x="8512" y="3773"/>
                      </a:lnTo>
                      <a:lnTo>
                        <a:pt x="8512" y="2657"/>
                      </a:lnTo>
                      <a:lnTo>
                        <a:pt x="9087" y="2657"/>
                      </a:lnTo>
                      <a:lnTo>
                        <a:pt x="9087" y="1573"/>
                      </a:lnTo>
                      <a:lnTo>
                        <a:pt x="10814" y="1573"/>
                      </a:lnTo>
                      <a:lnTo>
                        <a:pt x="10814" y="2202"/>
                      </a:lnTo>
                      <a:lnTo>
                        <a:pt x="11562" y="2202"/>
                      </a:lnTo>
                      <a:lnTo>
                        <a:pt x="11562" y="4679"/>
                      </a:lnTo>
                      <a:lnTo>
                        <a:pt x="13402" y="4679"/>
                      </a:lnTo>
                      <a:lnTo>
                        <a:pt x="13402" y="10476"/>
                      </a:lnTo>
                      <a:lnTo>
                        <a:pt x="10600" y="10476"/>
                      </a:lnTo>
                      <a:lnTo>
                        <a:pt x="10600" y="7286"/>
                      </a:lnTo>
                      <a:lnTo>
                        <a:pt x="9195" y="6382"/>
                      </a:lnTo>
                      <a:lnTo>
                        <a:pt x="7809" y="7286"/>
                      </a:lnTo>
                      <a:lnTo>
                        <a:pt x="7809" y="10476"/>
                      </a:lnTo>
                      <a:lnTo>
                        <a:pt x="6892" y="10476"/>
                      </a:lnTo>
                      <a:lnTo>
                        <a:pt x="6892" y="7286"/>
                      </a:lnTo>
                      <a:lnTo>
                        <a:pt x="5512" y="6382"/>
                      </a:lnTo>
                      <a:lnTo>
                        <a:pt x="4134" y="7286"/>
                      </a:lnTo>
                      <a:lnTo>
                        <a:pt x="4134" y="10476"/>
                      </a:lnTo>
                      <a:lnTo>
                        <a:pt x="0" y="104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080" y="3581280"/>
                <a:ext cx="231840" cy="163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7" name=""/>
              <p:cNvGrpSpPr/>
              <p:nvPr/>
            </p:nvGrpSpPr>
            <p:grpSpPr>
              <a:xfrm>
                <a:off x="615600" y="4135320"/>
                <a:ext cx="923760" cy="540720"/>
                <a:chOff x="615600" y="4135320"/>
                <a:chExt cx="923760" cy="5407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1271160" y="4179960"/>
                  <a:ext cx="268200" cy="468720"/>
                </a:xfrm>
                <a:custGeom>
                  <a:avLst/>
                  <a:gdLst/>
                  <a:ahLst/>
                  <a:rect l="l" t="t" r="r" b="b"/>
                  <a:pathLst>
                    <a:path w="4930" h="6602">
                      <a:moveTo>
                        <a:pt x="4930" y="6602"/>
                      </a:moveTo>
                      <a:lnTo>
                        <a:pt x="4885" y="6493"/>
                      </a:lnTo>
                      <a:lnTo>
                        <a:pt x="4758" y="6156"/>
                      </a:lnTo>
                      <a:lnTo>
                        <a:pt x="4630" y="5819"/>
                      </a:lnTo>
                      <a:lnTo>
                        <a:pt x="4512" y="5473"/>
                      </a:lnTo>
                      <a:lnTo>
                        <a:pt x="4412" y="5118"/>
                      </a:lnTo>
                      <a:lnTo>
                        <a:pt x="4330" y="4755"/>
                      </a:lnTo>
                      <a:lnTo>
                        <a:pt x="4249" y="4399"/>
                      </a:lnTo>
                      <a:lnTo>
                        <a:pt x="4185" y="4025"/>
                      </a:lnTo>
                      <a:lnTo>
                        <a:pt x="4131" y="3653"/>
                      </a:lnTo>
                      <a:lnTo>
                        <a:pt x="4094" y="3279"/>
                      </a:lnTo>
                      <a:lnTo>
                        <a:pt x="4058" y="2897"/>
                      </a:lnTo>
                      <a:lnTo>
                        <a:pt x="4049" y="2523"/>
                      </a:lnTo>
                      <a:lnTo>
                        <a:pt x="4049" y="2268"/>
                      </a:lnTo>
                      <a:lnTo>
                        <a:pt x="4049" y="2084"/>
                      </a:lnTo>
                      <a:lnTo>
                        <a:pt x="4058" y="1786"/>
                      </a:lnTo>
                      <a:lnTo>
                        <a:pt x="4085" y="1476"/>
                      </a:lnTo>
                      <a:lnTo>
                        <a:pt x="4131" y="1175"/>
                      </a:lnTo>
                      <a:lnTo>
                        <a:pt x="4185" y="876"/>
                      </a:lnTo>
                      <a:lnTo>
                        <a:pt x="4249" y="573"/>
                      </a:lnTo>
                      <a:lnTo>
                        <a:pt x="4312" y="291"/>
                      </a:lnTo>
                      <a:lnTo>
                        <a:pt x="4403" y="0"/>
                      </a:lnTo>
                      <a:lnTo>
                        <a:pt x="529" y="0"/>
                      </a:lnTo>
                      <a:lnTo>
                        <a:pt x="610" y="291"/>
                      </a:lnTo>
                      <a:lnTo>
                        <a:pt x="691" y="573"/>
                      </a:lnTo>
                      <a:lnTo>
                        <a:pt x="756" y="876"/>
                      </a:lnTo>
                      <a:lnTo>
                        <a:pt x="801" y="1175"/>
                      </a:lnTo>
                      <a:lnTo>
                        <a:pt x="837" y="1476"/>
                      </a:lnTo>
                      <a:lnTo>
                        <a:pt x="865" y="1786"/>
                      </a:lnTo>
                      <a:lnTo>
                        <a:pt x="882" y="2084"/>
                      </a:lnTo>
                      <a:lnTo>
                        <a:pt x="882" y="2268"/>
                      </a:lnTo>
                      <a:lnTo>
                        <a:pt x="882" y="2523"/>
                      </a:lnTo>
                      <a:lnTo>
                        <a:pt x="865" y="2897"/>
                      </a:lnTo>
                      <a:lnTo>
                        <a:pt x="837" y="3279"/>
                      </a:lnTo>
                      <a:lnTo>
                        <a:pt x="801" y="3653"/>
                      </a:lnTo>
                      <a:lnTo>
                        <a:pt x="746" y="4025"/>
                      </a:lnTo>
                      <a:lnTo>
                        <a:pt x="683" y="4399"/>
                      </a:lnTo>
                      <a:lnTo>
                        <a:pt x="601" y="4755"/>
                      </a:lnTo>
                      <a:lnTo>
                        <a:pt x="510" y="5118"/>
                      </a:lnTo>
                      <a:lnTo>
                        <a:pt x="411" y="5473"/>
                      </a:lnTo>
                      <a:lnTo>
                        <a:pt x="302" y="5819"/>
                      </a:lnTo>
                      <a:lnTo>
                        <a:pt x="174" y="6156"/>
                      </a:lnTo>
                      <a:lnTo>
                        <a:pt x="36" y="6493"/>
                      </a:lnTo>
                      <a:lnTo>
                        <a:pt x="0" y="6602"/>
                      </a:lnTo>
                      <a:lnTo>
                        <a:pt x="4930" y="6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082880" y="4272120"/>
                  <a:ext cx="216000" cy="376560"/>
                </a:xfrm>
                <a:custGeom>
                  <a:avLst/>
                  <a:gdLst/>
                  <a:ahLst/>
                  <a:rect l="l" t="t" r="r" b="b"/>
                  <a:pathLst>
                    <a:path w="3975" h="5318">
                      <a:moveTo>
                        <a:pt x="3975" y="5318"/>
                      </a:moveTo>
                      <a:lnTo>
                        <a:pt x="3939" y="5228"/>
                      </a:lnTo>
                      <a:lnTo>
                        <a:pt x="3830" y="4962"/>
                      </a:lnTo>
                      <a:lnTo>
                        <a:pt x="3740" y="4680"/>
                      </a:lnTo>
                      <a:lnTo>
                        <a:pt x="3639" y="4408"/>
                      </a:lnTo>
                      <a:lnTo>
                        <a:pt x="3566" y="4125"/>
                      </a:lnTo>
                      <a:lnTo>
                        <a:pt x="3484" y="3826"/>
                      </a:lnTo>
                      <a:lnTo>
                        <a:pt x="3422" y="3540"/>
                      </a:lnTo>
                      <a:lnTo>
                        <a:pt x="3375" y="3242"/>
                      </a:lnTo>
                      <a:lnTo>
                        <a:pt x="3329" y="2941"/>
                      </a:lnTo>
                      <a:lnTo>
                        <a:pt x="3303" y="2641"/>
                      </a:lnTo>
                      <a:lnTo>
                        <a:pt x="3275" y="2332"/>
                      </a:lnTo>
                      <a:lnTo>
                        <a:pt x="3265" y="2022"/>
                      </a:lnTo>
                      <a:lnTo>
                        <a:pt x="3265" y="1821"/>
                      </a:lnTo>
                      <a:lnTo>
                        <a:pt x="3265" y="1676"/>
                      </a:lnTo>
                      <a:lnTo>
                        <a:pt x="3275" y="1430"/>
                      </a:lnTo>
                      <a:lnTo>
                        <a:pt x="3294" y="1184"/>
                      </a:lnTo>
                      <a:lnTo>
                        <a:pt x="3329" y="938"/>
                      </a:lnTo>
                      <a:lnTo>
                        <a:pt x="3375" y="691"/>
                      </a:lnTo>
                      <a:lnTo>
                        <a:pt x="3422" y="454"/>
                      </a:lnTo>
                      <a:lnTo>
                        <a:pt x="3475" y="228"/>
                      </a:lnTo>
                      <a:lnTo>
                        <a:pt x="3547" y="0"/>
                      </a:lnTo>
                      <a:lnTo>
                        <a:pt x="428" y="0"/>
                      </a:lnTo>
                      <a:lnTo>
                        <a:pt x="502" y="228"/>
                      </a:lnTo>
                      <a:lnTo>
                        <a:pt x="556" y="454"/>
                      </a:lnTo>
                      <a:lnTo>
                        <a:pt x="609" y="691"/>
                      </a:lnTo>
                      <a:lnTo>
                        <a:pt x="645" y="938"/>
                      </a:lnTo>
                      <a:lnTo>
                        <a:pt x="683" y="1184"/>
                      </a:lnTo>
                      <a:lnTo>
                        <a:pt x="709" y="1430"/>
                      </a:lnTo>
                      <a:lnTo>
                        <a:pt x="719" y="1676"/>
                      </a:lnTo>
                      <a:lnTo>
                        <a:pt x="719" y="1821"/>
                      </a:lnTo>
                      <a:lnTo>
                        <a:pt x="719" y="2022"/>
                      </a:lnTo>
                      <a:lnTo>
                        <a:pt x="709" y="2332"/>
                      </a:lnTo>
                      <a:lnTo>
                        <a:pt x="683" y="2641"/>
                      </a:lnTo>
                      <a:lnTo>
                        <a:pt x="645" y="2941"/>
                      </a:lnTo>
                      <a:lnTo>
                        <a:pt x="609" y="3242"/>
                      </a:lnTo>
                      <a:lnTo>
                        <a:pt x="556" y="3540"/>
                      </a:lnTo>
                      <a:lnTo>
                        <a:pt x="492" y="3826"/>
                      </a:lnTo>
                      <a:lnTo>
                        <a:pt x="418" y="4125"/>
                      </a:lnTo>
                      <a:lnTo>
                        <a:pt x="337" y="4408"/>
                      </a:lnTo>
                      <a:lnTo>
                        <a:pt x="246" y="4680"/>
                      </a:lnTo>
                      <a:lnTo>
                        <a:pt x="146" y="4962"/>
                      </a:lnTo>
                      <a:lnTo>
                        <a:pt x="47" y="5228"/>
                      </a:lnTo>
                      <a:lnTo>
                        <a:pt x="0" y="5318"/>
                      </a:lnTo>
                      <a:lnTo>
                        <a:pt x="3975" y="53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18160" y="4325040"/>
                  <a:ext cx="146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314000" y="4244760"/>
                  <a:ext cx="18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15600" y="4343040"/>
                  <a:ext cx="258480" cy="333000"/>
                </a:xfrm>
                <a:prstGeom prst="rect">
                  <a:avLst/>
                </a:prstGeom>
                <a:solidFill>
                  <a:srgbClr val="70230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61680" y="4478040"/>
                  <a:ext cx="168480" cy="198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76440" y="4394520"/>
                  <a:ext cx="138960" cy="385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23240" y="43945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68600" y="43945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888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6440" y="4138560"/>
                  <a:ext cx="648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668520" y="43171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668520" y="428940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668520" y="42656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668520" y="42379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668520" y="42127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668520" y="418644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668520" y="41612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2684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34040" y="4138560"/>
                  <a:ext cx="648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726480" y="431532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726480" y="428940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726480" y="42638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726480" y="4236480"/>
                  <a:ext cx="349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726480" y="421272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726480" y="41864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726480" y="41612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8444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2000" y="4138560"/>
                  <a:ext cx="504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784080" y="43171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784080" y="428940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84080" y="4263840"/>
                  <a:ext cx="36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784080" y="42379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784080" y="42127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784080" y="41864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784080" y="41612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4080" y="4442400"/>
                  <a:ext cx="501480" cy="207720"/>
                </a:xfrm>
                <a:custGeom>
                  <a:avLst/>
                  <a:gdLst/>
                  <a:ahLst/>
                  <a:rect l="l" t="t" r="r" b="b"/>
                  <a:pathLst>
                    <a:path w="9207" h="2931">
                      <a:moveTo>
                        <a:pt x="9207" y="2931"/>
                      </a:moveTo>
                      <a:lnTo>
                        <a:pt x="0" y="2931"/>
                      </a:lnTo>
                      <a:lnTo>
                        <a:pt x="0" y="0"/>
                      </a:lnTo>
                      <a:lnTo>
                        <a:pt x="2010" y="0"/>
                      </a:lnTo>
                      <a:lnTo>
                        <a:pt x="2010" y="909"/>
                      </a:lnTo>
                      <a:lnTo>
                        <a:pt x="3210" y="0"/>
                      </a:lnTo>
                      <a:lnTo>
                        <a:pt x="3210" y="909"/>
                      </a:lnTo>
                      <a:lnTo>
                        <a:pt x="4411" y="0"/>
                      </a:lnTo>
                      <a:lnTo>
                        <a:pt x="4411" y="909"/>
                      </a:lnTo>
                      <a:lnTo>
                        <a:pt x="5612" y="0"/>
                      </a:lnTo>
                      <a:lnTo>
                        <a:pt x="5603" y="909"/>
                      </a:lnTo>
                      <a:lnTo>
                        <a:pt x="6803" y="0"/>
                      </a:lnTo>
                      <a:lnTo>
                        <a:pt x="6803" y="909"/>
                      </a:lnTo>
                      <a:lnTo>
                        <a:pt x="8004" y="0"/>
                      </a:lnTo>
                      <a:lnTo>
                        <a:pt x="8004" y="909"/>
                      </a:lnTo>
                      <a:lnTo>
                        <a:pt x="9207" y="0"/>
                      </a:lnTo>
                      <a:lnTo>
                        <a:pt x="9207" y="293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917280" y="4543920"/>
                  <a:ext cx="414720" cy="385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96300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009080" y="45439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05480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10124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14732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9304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23912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286280" y="45439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357120" y="3601800"/>
                <a:ext cx="539640" cy="463680"/>
                <a:chOff x="357120" y="3601800"/>
                <a:chExt cx="539640" cy="46368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93840" y="3882240"/>
                  <a:ext cx="487800" cy="1126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57120" y="3891600"/>
                  <a:ext cx="539640" cy="173880"/>
                </a:xfrm>
                <a:custGeom>
                  <a:avLst/>
                  <a:gdLst/>
                  <a:ahLst/>
                  <a:rect l="l" t="t" r="r" b="b"/>
                  <a:pathLst>
                    <a:path w="12355" h="1867">
                      <a:moveTo>
                        <a:pt x="12355" y="1867"/>
                      </a:moveTo>
                      <a:lnTo>
                        <a:pt x="12349" y="0"/>
                      </a:lnTo>
                      <a:lnTo>
                        <a:pt x="11718" y="0"/>
                      </a:lnTo>
                      <a:lnTo>
                        <a:pt x="11718" y="749"/>
                      </a:lnTo>
                      <a:lnTo>
                        <a:pt x="8800" y="749"/>
                      </a:lnTo>
                      <a:lnTo>
                        <a:pt x="8800" y="0"/>
                      </a:lnTo>
                      <a:lnTo>
                        <a:pt x="8168" y="0"/>
                      </a:lnTo>
                      <a:lnTo>
                        <a:pt x="8168" y="749"/>
                      </a:lnTo>
                      <a:lnTo>
                        <a:pt x="4935" y="749"/>
                      </a:lnTo>
                      <a:lnTo>
                        <a:pt x="4935" y="0"/>
                      </a:lnTo>
                      <a:lnTo>
                        <a:pt x="4305" y="0"/>
                      </a:lnTo>
                      <a:lnTo>
                        <a:pt x="4305" y="749"/>
                      </a:lnTo>
                      <a:lnTo>
                        <a:pt x="1070" y="749"/>
                      </a:lnTo>
                      <a:lnTo>
                        <a:pt x="1070" y="0"/>
                      </a:lnTo>
                      <a:lnTo>
                        <a:pt x="0" y="0"/>
                      </a:lnTo>
                      <a:lnTo>
                        <a:pt x="0" y="1867"/>
                      </a:lnTo>
                      <a:lnTo>
                        <a:pt x="12355" y="18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57120" y="3601800"/>
                  <a:ext cx="539640" cy="297000"/>
                </a:xfrm>
                <a:custGeom>
                  <a:avLst/>
                  <a:gdLst/>
                  <a:ahLst/>
                  <a:rect l="l" t="t" r="r" b="b"/>
                  <a:pathLst>
                    <a:path w="12355" h="3186">
                      <a:moveTo>
                        <a:pt x="12355" y="2830"/>
                      </a:moveTo>
                      <a:lnTo>
                        <a:pt x="12355" y="3186"/>
                      </a:lnTo>
                      <a:lnTo>
                        <a:pt x="0" y="3186"/>
                      </a:lnTo>
                      <a:lnTo>
                        <a:pt x="0" y="0"/>
                      </a:lnTo>
                      <a:lnTo>
                        <a:pt x="756" y="0"/>
                      </a:lnTo>
                      <a:lnTo>
                        <a:pt x="756" y="2672"/>
                      </a:lnTo>
                      <a:lnTo>
                        <a:pt x="2697" y="1441"/>
                      </a:lnTo>
                      <a:lnTo>
                        <a:pt x="4626" y="2672"/>
                      </a:lnTo>
                      <a:lnTo>
                        <a:pt x="6569" y="1441"/>
                      </a:lnTo>
                      <a:lnTo>
                        <a:pt x="8491" y="2672"/>
                      </a:lnTo>
                      <a:lnTo>
                        <a:pt x="8484" y="2672"/>
                      </a:lnTo>
                      <a:lnTo>
                        <a:pt x="10432" y="1441"/>
                      </a:lnTo>
                      <a:lnTo>
                        <a:pt x="12355" y="2672"/>
                      </a:lnTo>
                      <a:lnTo>
                        <a:pt x="12355" y="28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85680" y="2809800"/>
                <a:ext cx="25884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01440" y="4074840"/>
                <a:ext cx="284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iferenciação entre preparação da produção e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36600" y="611280"/>
            <a:ext cx="6945480" cy="6167520"/>
          </a:xfrm>
          <a:custGeom>
            <a:avLst/>
            <a:gdLst/>
            <a:ahLst/>
            <a:rect l="l" t="t" r="r" b="b"/>
            <a:pathLst>
              <a:path w="4375" h="3885">
                <a:moveTo>
                  <a:pt x="0" y="1478"/>
                </a:moveTo>
                <a:lnTo>
                  <a:pt x="863" y="0"/>
                </a:lnTo>
                <a:lnTo>
                  <a:pt x="4375" y="0"/>
                </a:lnTo>
                <a:lnTo>
                  <a:pt x="4369" y="3885"/>
                </a:lnTo>
                <a:lnTo>
                  <a:pt x="906" y="3885"/>
                </a:lnTo>
                <a:lnTo>
                  <a:pt x="8" y="179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059280" y="1233360"/>
            <a:ext cx="1627200" cy="3872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24160" y="2181240"/>
            <a:ext cx="12337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228840" y="1305000"/>
            <a:ext cx="1224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28840" y="305748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28840" y="4146480"/>
            <a:ext cx="1224000" cy="8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59280" y="5077440"/>
            <a:ext cx="1627200" cy="85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mente começam a acontecer antes desta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743960" y="789120"/>
            <a:ext cx="125064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r Lanç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781600" y="1455840"/>
            <a:ext cx="15192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812000" y="2092320"/>
            <a:ext cx="11160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"/>
          <p:cNvCxnSpPr>
            <a:stCxn id="821" idx="2"/>
            <a:endCxn id="823" idx="3"/>
          </p:cNvCxnSpPr>
          <p:nvPr/>
        </p:nvCxnSpPr>
        <p:spPr>
          <a:xfrm rot="5400000">
            <a:off x="7483320" y="2269440"/>
            <a:ext cx="610560" cy="116424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24" name=""/>
          <p:cNvSpPr/>
          <p:nvPr/>
        </p:nvSpPr>
        <p:spPr>
          <a:xfrm>
            <a:off x="7588080" y="4261680"/>
            <a:ext cx="11430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23" idx="2"/>
            <a:endCxn id="826" idx="0"/>
          </p:cNvCxnSpPr>
          <p:nvPr/>
        </p:nvCxnSpPr>
        <p:spPr>
          <a:xfrm rot="5400000">
            <a:off x="4547520" y="4089240"/>
            <a:ext cx="2278800" cy="17200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20" idx="2"/>
            <a:endCxn id="823" idx="0"/>
          </p:cNvCxnSpPr>
          <p:nvPr/>
        </p:nvCxnSpPr>
        <p:spPr>
          <a:xfrm>
            <a:off x="6541920" y="2122200"/>
            <a:ext cx="5760" cy="37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21" idx="1"/>
            <a:endCxn id="820" idx="3"/>
          </p:cNvCxnSpPr>
          <p:nvPr/>
        </p:nvCxnSpPr>
        <p:spPr>
          <a:xfrm rot="10800000">
            <a:off x="7309800" y="1783800"/>
            <a:ext cx="492840" cy="5306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829" name=""/>
          <p:cNvCxnSpPr>
            <a:stCxn id="819" idx="2"/>
            <a:endCxn id="821" idx="0"/>
          </p:cNvCxnSpPr>
          <p:nvPr/>
        </p:nvCxnSpPr>
        <p:spPr>
          <a:xfrm>
            <a:off x="8369280" y="1242720"/>
            <a:ext cx="2160" cy="84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819" idx="1"/>
            <a:endCxn id="820" idx="0"/>
          </p:cNvCxnSpPr>
          <p:nvPr/>
        </p:nvCxnSpPr>
        <p:spPr>
          <a:xfrm flipV="1" rot="10800000">
            <a:off x="6541920" y="1010880"/>
            <a:ext cx="1192680" cy="435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19" idx="1"/>
            <a:endCxn id="813" idx="0"/>
          </p:cNvCxnSpPr>
          <p:nvPr/>
        </p:nvCxnSpPr>
        <p:spPr>
          <a:xfrm flipV="1" rot="10800000">
            <a:off x="3872880" y="1010160"/>
            <a:ext cx="3861360" cy="2228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32" name=""/>
          <p:cNvGrpSpPr/>
          <p:nvPr/>
        </p:nvGrpSpPr>
        <p:grpSpPr>
          <a:xfrm>
            <a:off x="5894280" y="2509920"/>
            <a:ext cx="1303200" cy="1290600"/>
            <a:chOff x="5894280" y="2509920"/>
            <a:chExt cx="1303200" cy="1290600"/>
          </a:xfrm>
        </p:grpSpPr>
        <p:sp>
          <p:nvSpPr>
            <p:cNvPr id="823" name=""/>
            <p:cNvSpPr/>
            <p:nvPr/>
          </p:nvSpPr>
          <p:spPr>
            <a:xfrm>
              <a:off x="5894280" y="2509920"/>
              <a:ext cx="1303200" cy="12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nçar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97160" y="259740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97160" y="2924280"/>
              <a:ext cx="184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97160" y="325296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97160" y="3581640"/>
              <a:ext cx="1843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7" name=""/>
          <p:cNvCxnSpPr>
            <a:stCxn id="815" idx="3"/>
            <a:endCxn id="833" idx="1"/>
          </p:cNvCxnSpPr>
          <p:nvPr/>
        </p:nvCxnSpPr>
        <p:spPr>
          <a:xfrm>
            <a:off x="4462560" y="1633680"/>
            <a:ext cx="1435320" cy="1031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814" idx="3"/>
            <a:endCxn id="834" idx="1"/>
          </p:cNvCxnSpPr>
          <p:nvPr/>
        </p:nvCxnSpPr>
        <p:spPr>
          <a:xfrm>
            <a:off x="4466880" y="2509920"/>
            <a:ext cx="1430640" cy="481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816" idx="3"/>
            <a:endCxn id="835" idx="1"/>
          </p:cNvCxnSpPr>
          <p:nvPr/>
        </p:nvCxnSpPr>
        <p:spPr>
          <a:xfrm flipV="1">
            <a:off x="4462560" y="3319200"/>
            <a:ext cx="1435320" cy="173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7" idx="3"/>
            <a:endCxn id="836" idx="1"/>
          </p:cNvCxnSpPr>
          <p:nvPr/>
        </p:nvCxnSpPr>
        <p:spPr>
          <a:xfrm flipV="1">
            <a:off x="4462560" y="3647880"/>
            <a:ext cx="1435320" cy="933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"/>
          <p:cNvSpPr/>
          <p:nvPr/>
        </p:nvSpPr>
        <p:spPr>
          <a:xfrm>
            <a:off x="7588080" y="5664240"/>
            <a:ext cx="1405080" cy="106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r as decisões tomadas e registrar liçõ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111560" y="6097680"/>
            <a:ext cx="1431720" cy="639720"/>
            <a:chOff x="4111560" y="6097680"/>
            <a:chExt cx="1431720" cy="639720"/>
          </a:xfrm>
        </p:grpSpPr>
        <p:sp>
          <p:nvSpPr>
            <p:cNvPr id="843" name=""/>
            <p:cNvSpPr/>
            <p:nvPr/>
          </p:nvSpPr>
          <p:spPr>
            <a:xfrm>
              <a:off x="5084640" y="6105600"/>
              <a:ext cx="26064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4111560" y="6097680"/>
              <a:ext cx="1431720" cy="639720"/>
              <a:chOff x="4111560" y="6097680"/>
              <a:chExt cx="1431720" cy="63972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111560" y="6097680"/>
                <a:ext cx="1431720" cy="639720"/>
                <a:chOff x="4111560" y="6097680"/>
                <a:chExt cx="1431720" cy="6397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4111560" y="6097680"/>
                  <a:ext cx="143172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22960" y="6105240"/>
                  <a:ext cx="203400" cy="7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5085000" y="6097680"/>
                <a:ext cx="26028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848" name=""/>
          <p:cNvCxnSpPr>
            <a:stCxn id="826" idx="3"/>
            <a:endCxn id="849" idx="1"/>
          </p:cNvCxnSpPr>
          <p:nvPr/>
        </p:nvCxnSpPr>
        <p:spPr>
          <a:xfrm flipV="1">
            <a:off x="5553000" y="5725440"/>
            <a:ext cx="564480" cy="700920"/>
          </a:xfrm>
          <a:prstGeom prst="bentConnector3">
            <a:avLst>
              <a:gd name="adj1" fmla="val 4984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51" idx="3"/>
            <a:endCxn id="841" idx="1"/>
          </p:cNvCxnSpPr>
          <p:nvPr/>
        </p:nvCxnSpPr>
        <p:spPr>
          <a:xfrm flipV="1">
            <a:off x="6950160" y="6205320"/>
            <a:ext cx="629280" cy="32760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2" name=""/>
          <p:cNvGrpSpPr/>
          <p:nvPr/>
        </p:nvGrpSpPr>
        <p:grpSpPr>
          <a:xfrm>
            <a:off x="6126120" y="5504040"/>
            <a:ext cx="839880" cy="1233000"/>
            <a:chOff x="6126120" y="5504040"/>
            <a:chExt cx="839880" cy="1233000"/>
          </a:xfrm>
        </p:grpSpPr>
        <p:sp>
          <p:nvSpPr>
            <p:cNvPr id="849" name=""/>
            <p:cNvSpPr/>
            <p:nvPr/>
          </p:nvSpPr>
          <p:spPr>
            <a:xfrm>
              <a:off x="6126120" y="5504040"/>
              <a:ext cx="83988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aliar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153120" y="6310440"/>
              <a:ext cx="7873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ovar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3" name=""/>
            <p:cNvCxnSpPr>
              <a:stCxn id="849" idx="2"/>
              <a:endCxn id="851" idx="0"/>
            </p:cNvCxnSpPr>
            <p:nvPr/>
          </p:nvCxnSpPr>
          <p:spPr>
            <a:xfrm>
              <a:off x="6546600" y="5958000"/>
              <a:ext cx="1080" cy="34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854" name=""/>
          <p:cNvCxnSpPr>
            <a:stCxn id="824" idx="2"/>
            <a:endCxn id="847" idx="0"/>
          </p:cNvCxnSpPr>
          <p:nvPr/>
        </p:nvCxnSpPr>
        <p:spPr>
          <a:xfrm rot="5400000">
            <a:off x="6098040" y="4036320"/>
            <a:ext cx="1178640" cy="2945160"/>
          </a:xfrm>
          <a:prstGeom prst="bentConnector3">
            <a:avLst>
              <a:gd name="adj1" fmla="val 2963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>
            <a:off x="611280" y="2913840"/>
            <a:ext cx="1627200" cy="608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çamento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10800000">
            <a:off x="1092240" y="3693960"/>
            <a:ext cx="665280" cy="154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0800000">
            <a:off x="1092240" y="2646360"/>
            <a:ext cx="665280" cy="154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8000" y="1338120"/>
            <a:ext cx="2681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beração da Prod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s homolog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. de Produção Espec Proc. Manuten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pacitação de pess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3983040"/>
            <a:ext cx="3224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 Lanç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V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Distribu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Assistência Téc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. Proc Atendimento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4360" y="6213600"/>
            <a:ext cx="3224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. Proc: Especificação do Processo (de negóc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ej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v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tendimento a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assistê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marketing de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ç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Lan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izar Plano de Fim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Aprovar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ejar Lançamento (atividade genérica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o plano de projeto a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e sintetizar as novas condições para a realizaçã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o escopo do prod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o escop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as atividades, os responsáveis, os prazos e o cron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 detalhar recursos necess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estimativa de orçamento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, monitorar, valorar e definir novos indicadores de desempen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a viabilidade econômico-financeira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novos ris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plano de comunic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, atualizar e preparar novas aquisiçõe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/atualizar os critérios de passagem d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Henrique Rozenfeld</cp:lastModifiedBy>
  <dcterms:modified xsi:type="dcterms:W3CDTF">2005-12-13T13:47:18Z</dcterms:modified>
  <cp:revision>129</cp:revision>
  <dc:subject/>
  <dc:title>Slide 1</dc:title>
</cp:coreProperties>
</file>