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0CF3C-53ED-479F-A273-15B6CBA693A5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86156-7589-4E25-A116-D28CA12A91DA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AE536-11E3-4743-AADB-174EE1DF50E4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D3A43-241E-4E5C-A7EE-19D85A1DABD5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BBB82-BF61-45CA-B161-FB9F204BDD4A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92320" y="706320"/>
            <a:ext cx="4519440" cy="33894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41400" y="4377960"/>
            <a:ext cx="501984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H o time de acompanhamento poderia ter esta formaca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s de vermelho só são chamados quando necess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s de verde ficam na area de marketing, mas estao monitorando e avalian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s de amarelo são novos que precisam conhecer o produto no mercado (como tantos outros envolvidos com o produto) mas eles além de tudo estao no time de acompanhamento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DCE6C-B4F1-44E5-84F9-769721455B74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4175-A426-4D13-8542-AF3C9D26F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2320" y="3623760"/>
            <a:ext cx="85741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4971-BA71-4293-A2E3-02B45ECC2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41839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05760" y="887400"/>
            <a:ext cx="41839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2320" y="3623760"/>
            <a:ext cx="41839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05760" y="3623760"/>
            <a:ext cx="41839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C774-4D6A-4DF8-A5E8-2F6CDA952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276048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11040" y="887400"/>
            <a:ext cx="276048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10120" y="887400"/>
            <a:ext cx="276048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2320" y="3623760"/>
            <a:ext cx="276048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11040" y="3623760"/>
            <a:ext cx="276048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10120" y="3623760"/>
            <a:ext cx="276048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8C1C-6CC5-4674-A6C8-F5EEEB850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2320" y="887400"/>
            <a:ext cx="8574120" cy="52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C95C-15E8-4700-8EA2-3B80E7D1C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40B6-E567-4993-93E4-9D9A2F75B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418392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05760" y="887400"/>
            <a:ext cx="418392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51FD-836C-4376-B449-283ADB11E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D1D6-2CF3-4DAF-BE78-F50BAB6DB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738828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D251-5E19-4EA4-B785-2F16F9441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41839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05760" y="887400"/>
            <a:ext cx="418392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2320" y="3623760"/>
            <a:ext cx="41839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2745-F459-495E-818D-38A06217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418392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05760" y="887400"/>
            <a:ext cx="41839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05760" y="3623760"/>
            <a:ext cx="41839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2672-A20D-4050-9F80-D95E347D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41839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05760" y="887400"/>
            <a:ext cx="41839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2320" y="3623760"/>
            <a:ext cx="85741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2410-A38F-4871-A7EC-C763A761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2320" y="887400"/>
            <a:ext cx="857412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06FC8-1538-445F-A00B-14FDEF4A2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25280" y="808200"/>
            <a:ext cx="7861320" cy="47520"/>
          </a:xfrm>
          <a:prstGeom prst="rect">
            <a:avLst/>
          </a:prstGeom>
          <a:gradFill rotWithShape="0">
            <a:gsLst>
              <a:gs pos="0">
                <a:srgbClr val="000096"/>
              </a:gs>
              <a:gs pos="100000">
                <a:srgbClr val="6363b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8043840" y="0"/>
            <a:ext cx="1100160" cy="855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8360" y="257040"/>
            <a:ext cx="4386240" cy="6350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770360" y="263520"/>
            <a:ext cx="4079880" cy="18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companhar produto e process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Capítulo 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163480" y="4183200"/>
            <a:ext cx="3294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Arial"/>
              </a:rPr>
              <a:t>Henrique Rozenf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Arial"/>
              </a:rPr>
              <a:t>Fernando Antônio Forcell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Arial"/>
              </a:rPr>
              <a:t>Daniel Capaldo Ama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Arial"/>
              </a:rPr>
              <a:t>José Carlos Tole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Arial"/>
              </a:rPr>
              <a:t>Sergio Luis da Sil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Arial"/>
              </a:rPr>
              <a:t>Dário Henrique Alliprand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Arial"/>
              </a:rPr>
              <a:t>Régis Kovacs Scal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649760" y="2279520"/>
            <a:ext cx="4319640" cy="1596960"/>
            <a:chOff x="4649760" y="2279520"/>
            <a:chExt cx="4319640" cy="1596960"/>
          </a:xfrm>
        </p:grpSpPr>
        <p:sp>
          <p:nvSpPr>
            <p:cNvPr id="54" name=""/>
            <p:cNvSpPr/>
            <p:nvPr/>
          </p:nvSpPr>
          <p:spPr>
            <a:xfrm>
              <a:off x="5181840" y="3591720"/>
              <a:ext cx="3732480" cy="284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915520" y="3418920"/>
              <a:ext cx="2885040" cy="2847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34920" y="3357000"/>
              <a:ext cx="525240" cy="8928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75960" y="3357000"/>
              <a:ext cx="526320" cy="8928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318800" y="3357000"/>
              <a:ext cx="526320" cy="8928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261280" y="3357000"/>
              <a:ext cx="526320" cy="8928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678200" y="2279520"/>
              <a:ext cx="4257360" cy="10576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02760" y="2349720"/>
              <a:ext cx="1963800" cy="140760"/>
            </a:xfrm>
            <a:custGeom>
              <a:avLst/>
              <a:gdLst>
                <a:gd name="textAreaLeft" fmla="*/ 0 w 1963800"/>
                <a:gd name="textAreaRight" fmla="*/ 1964160 w 1963800"/>
                <a:gd name="textAreaTop" fmla="*/ 0 h 140760"/>
                <a:gd name="textAreaBottom" fmla="*/ 141120 h 14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921" y="0"/>
                  </a:lnTo>
                  <a:lnTo>
                    <a:pt x="21600" y="10800"/>
                  </a:lnTo>
                  <a:lnTo>
                    <a:pt x="20921" y="21600"/>
                  </a:lnTo>
                  <a:lnTo>
                    <a:pt x="0" y="21600"/>
                  </a:lnTo>
                  <a:lnTo>
                    <a:pt x="67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655400" y="2349720"/>
              <a:ext cx="1255680" cy="140760"/>
            </a:xfrm>
            <a:custGeom>
              <a:avLst/>
              <a:gdLst>
                <a:gd name="textAreaLeft" fmla="*/ 0 w 1255680"/>
                <a:gd name="textAreaRight" fmla="*/ 1256040 w 1255680"/>
                <a:gd name="textAreaTop" fmla="*/ 0 h 140760"/>
                <a:gd name="textAreaBottom" fmla="*/ 141120 h 14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642" y="0"/>
                  </a:lnTo>
                  <a:lnTo>
                    <a:pt x="21600" y="10800"/>
                  </a:lnTo>
                  <a:lnTo>
                    <a:pt x="20642" y="21600"/>
                  </a:lnTo>
                  <a:lnTo>
                    <a:pt x="0" y="21600"/>
                  </a:lnTo>
                  <a:lnTo>
                    <a:pt x="958" y="10800"/>
                  </a:lnTo>
                  <a:close/>
                </a:path>
              </a:pathLst>
            </a:custGeom>
            <a:solidFill>
              <a:srgbClr val="ffcc99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210880" y="2366640"/>
              <a:ext cx="1422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535960" y="2390040"/>
              <a:ext cx="123840" cy="5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722840" y="2349720"/>
              <a:ext cx="1005480" cy="140760"/>
            </a:xfrm>
            <a:custGeom>
              <a:avLst/>
              <a:gdLst>
                <a:gd name="textAreaLeft" fmla="*/ 0 w 1005480"/>
                <a:gd name="textAreaRight" fmla="*/ 1005840 w 1005480"/>
                <a:gd name="textAreaTop" fmla="*/ 0 h 140760"/>
                <a:gd name="textAreaBottom" fmla="*/ 141120 h 14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447" y="0"/>
                  </a:lnTo>
                  <a:lnTo>
                    <a:pt x="21600" y="10800"/>
                  </a:lnTo>
                  <a:lnTo>
                    <a:pt x="2044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154840" y="2366640"/>
              <a:ext cx="1422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730040" y="2525400"/>
              <a:ext cx="631440" cy="372600"/>
            </a:xfrm>
            <a:custGeom>
              <a:avLst/>
              <a:gdLst>
                <a:gd name="textAreaLeft" fmla="*/ 0 w 631440"/>
                <a:gd name="textAreaRight" fmla="*/ 631800 w 631440"/>
                <a:gd name="textAreaTop" fmla="*/ 0 h 372600"/>
                <a:gd name="textAreaBottom" fmla="*/ 372960 h 37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48" y="0"/>
                  </a:lnTo>
                  <a:lnTo>
                    <a:pt x="21600" y="10800"/>
                  </a:lnTo>
                  <a:lnTo>
                    <a:pt x="19548" y="21600"/>
                  </a:lnTo>
                  <a:lnTo>
                    <a:pt x="0" y="21600"/>
                  </a:lnTo>
                  <a:lnTo>
                    <a:pt x="2052" y="10800"/>
                  </a:lnTo>
                  <a:close/>
                </a:path>
              </a:pathLst>
            </a:custGeom>
            <a:solidFill>
              <a:srgbClr val="99cc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156160" y="2516760"/>
              <a:ext cx="603000" cy="392760"/>
            </a:xfrm>
            <a:custGeom>
              <a:avLst/>
              <a:gdLst>
                <a:gd name="textAreaLeft" fmla="*/ 0 w 603000"/>
                <a:gd name="textAreaRight" fmla="*/ 603360 w 603000"/>
                <a:gd name="textAreaTop" fmla="*/ 0 h 392760"/>
                <a:gd name="textAreaBottom" fmla="*/ 393120 h 39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01" y="0"/>
                  </a:lnTo>
                  <a:lnTo>
                    <a:pt x="21600" y="10800"/>
                  </a:lnTo>
                  <a:lnTo>
                    <a:pt x="19001" y="21600"/>
                  </a:lnTo>
                  <a:lnTo>
                    <a:pt x="0" y="21600"/>
                  </a:lnTo>
                  <a:lnTo>
                    <a:pt x="2599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210880" y="2547000"/>
              <a:ext cx="601200" cy="392760"/>
            </a:xfrm>
            <a:custGeom>
              <a:avLst/>
              <a:gdLst>
                <a:gd name="textAreaLeft" fmla="*/ 0 w 601200"/>
                <a:gd name="textAreaRight" fmla="*/ 601560 w 601200"/>
                <a:gd name="textAreaTop" fmla="*/ 0 h 392760"/>
                <a:gd name="textAreaBottom" fmla="*/ 393120 h 39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01" y="0"/>
                  </a:lnTo>
                  <a:lnTo>
                    <a:pt x="21600" y="10800"/>
                  </a:lnTo>
                  <a:lnTo>
                    <a:pt x="19001" y="21600"/>
                  </a:lnTo>
                  <a:lnTo>
                    <a:pt x="0" y="21600"/>
                  </a:lnTo>
                  <a:lnTo>
                    <a:pt x="2599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285760" y="2565720"/>
              <a:ext cx="635760" cy="392760"/>
            </a:xfrm>
            <a:custGeom>
              <a:avLst/>
              <a:gdLst>
                <a:gd name="textAreaLeft" fmla="*/ 0 w 635760"/>
                <a:gd name="textAreaRight" fmla="*/ 636120 w 635760"/>
                <a:gd name="textAreaTop" fmla="*/ 0 h 392760"/>
                <a:gd name="textAreaBottom" fmla="*/ 393120 h 39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602" y="0"/>
                  </a:lnTo>
                  <a:lnTo>
                    <a:pt x="21600" y="10800"/>
                  </a:lnTo>
                  <a:lnTo>
                    <a:pt x="19602" y="21600"/>
                  </a:lnTo>
                  <a:lnTo>
                    <a:pt x="0" y="21600"/>
                  </a:lnTo>
                  <a:lnTo>
                    <a:pt x="1998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44000" rIns="72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5784840" y="2508840"/>
              <a:ext cx="338040" cy="1940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-360 h 194040"/>
                <a:gd name="textAreaBottom" fmla="*/ 194040 h 19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6125760" y="2508840"/>
              <a:ext cx="338040" cy="1940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-360 h 194040"/>
                <a:gd name="textAreaBottom" fmla="*/ 194040 h 19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6468480" y="2508840"/>
              <a:ext cx="338040" cy="1940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-360 h 194040"/>
                <a:gd name="textAreaBottom" fmla="*/ 194040 h 19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6809400" y="2508840"/>
              <a:ext cx="338040" cy="1940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-360 h 194040"/>
                <a:gd name="textAreaBottom" fmla="*/ 194040 h 19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7151760" y="2508840"/>
              <a:ext cx="338040" cy="1940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-360 h 194040"/>
                <a:gd name="textAreaBottom" fmla="*/ 194040 h 19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5856480" y="2582280"/>
              <a:ext cx="338040" cy="19260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-360 h 192600"/>
                <a:gd name="textAreaBottom" fmla="*/ 192600 h 19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6197760" y="2582280"/>
              <a:ext cx="338040" cy="19260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-360 h 192600"/>
                <a:gd name="textAreaBottom" fmla="*/ 192600 h 19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6540120" y="2582280"/>
              <a:ext cx="338040" cy="19260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-360 h 192600"/>
                <a:gd name="textAreaBottom" fmla="*/ 192600 h 19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6881040" y="2582280"/>
              <a:ext cx="338040" cy="19260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-360 h 192600"/>
                <a:gd name="textAreaBottom" fmla="*/ 192600 h 19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7223760" y="2582280"/>
              <a:ext cx="338040" cy="19260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-360 h 192600"/>
                <a:gd name="textAreaBottom" fmla="*/ 192600 h 19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5928840" y="2653920"/>
              <a:ext cx="338040" cy="19260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-360 h 192600"/>
                <a:gd name="textAreaBottom" fmla="*/ 192600 h 19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6269760" y="2653920"/>
              <a:ext cx="338040" cy="19260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-360 h 192600"/>
                <a:gd name="textAreaBottom" fmla="*/ 192600 h 19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6612480" y="2653920"/>
              <a:ext cx="338040" cy="19260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-360 h 192600"/>
                <a:gd name="textAreaBottom" fmla="*/ 192600 h 19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6953400" y="2653920"/>
              <a:ext cx="338040" cy="19260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-360 h 192600"/>
                <a:gd name="textAreaBottom" fmla="*/ 192600 h 19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7295760" y="2653920"/>
              <a:ext cx="338040" cy="19260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-360 h 192600"/>
                <a:gd name="textAreaBottom" fmla="*/ 192600 h 19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383440" y="2529720"/>
              <a:ext cx="306360" cy="17388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173880"/>
                <a:gd name="textAreaBottom" fmla="*/ 174240 h 17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22" y="0"/>
                  </a:lnTo>
                  <a:lnTo>
                    <a:pt x="21600" y="10800"/>
                  </a:lnTo>
                  <a:lnTo>
                    <a:pt x="19522" y="21600"/>
                  </a:lnTo>
                  <a:lnTo>
                    <a:pt x="0" y="21600"/>
                  </a:lnTo>
                  <a:lnTo>
                    <a:pt x="2078" y="10800"/>
                  </a:lnTo>
                  <a:close/>
                </a:path>
              </a:pathLst>
            </a:custGeom>
            <a:solidFill>
              <a:srgbClr val="99cc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55080" y="2601360"/>
              <a:ext cx="306360" cy="1742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22" y="0"/>
                  </a:lnTo>
                  <a:lnTo>
                    <a:pt x="21600" y="10800"/>
                  </a:lnTo>
                  <a:lnTo>
                    <a:pt x="19522" y="21600"/>
                  </a:lnTo>
                  <a:lnTo>
                    <a:pt x="0" y="21600"/>
                  </a:lnTo>
                  <a:lnTo>
                    <a:pt x="2078" y="10800"/>
                  </a:lnTo>
                  <a:close/>
                </a:path>
              </a:pathLst>
            </a:custGeom>
            <a:solidFill>
              <a:srgbClr val="99cc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27440" y="2673720"/>
              <a:ext cx="306360" cy="17388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173880"/>
                <a:gd name="textAreaBottom" fmla="*/ 174240 h 17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22" y="0"/>
                  </a:lnTo>
                  <a:lnTo>
                    <a:pt x="21600" y="10800"/>
                  </a:lnTo>
                  <a:lnTo>
                    <a:pt x="19522" y="21600"/>
                  </a:lnTo>
                  <a:lnTo>
                    <a:pt x="0" y="21600"/>
                  </a:lnTo>
                  <a:lnTo>
                    <a:pt x="2078" y="10800"/>
                  </a:lnTo>
                  <a:close/>
                </a:path>
              </a:pathLst>
            </a:custGeom>
            <a:solidFill>
              <a:srgbClr val="99cc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086880" y="3115440"/>
              <a:ext cx="1038960" cy="14364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" name=""/>
            <p:cNvCxnSpPr>
              <a:stCxn id="89" idx="0"/>
            </p:cNvCxnSpPr>
            <p:nvPr/>
          </p:nvCxnSpPr>
          <p:spPr>
            <a:xfrm flipH="1" flipV="1">
              <a:off x="6136560" y="2862720"/>
              <a:ext cx="470160" cy="253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91" name=""/>
            <p:cNvCxnSpPr>
              <a:stCxn id="89" idx="0"/>
            </p:cNvCxnSpPr>
            <p:nvPr/>
          </p:nvCxnSpPr>
          <p:spPr>
            <a:xfrm flipH="1" flipV="1">
              <a:off x="6541200" y="2862720"/>
              <a:ext cx="65520" cy="253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92" name=""/>
            <p:cNvCxnSpPr>
              <a:stCxn id="89" idx="0"/>
            </p:cNvCxnSpPr>
            <p:nvPr/>
          </p:nvCxnSpPr>
          <p:spPr>
            <a:xfrm flipV="1">
              <a:off x="6606360" y="2862720"/>
              <a:ext cx="293760" cy="253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93" name=""/>
            <p:cNvCxnSpPr>
              <a:stCxn id="89" idx="0"/>
            </p:cNvCxnSpPr>
            <p:nvPr/>
          </p:nvCxnSpPr>
          <p:spPr>
            <a:xfrm flipV="1">
              <a:off x="6606360" y="2862720"/>
              <a:ext cx="660600" cy="253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94" name=""/>
            <p:cNvCxnSpPr>
              <a:stCxn id="89" idx="0"/>
            </p:cNvCxnSpPr>
            <p:nvPr/>
          </p:nvCxnSpPr>
          <p:spPr>
            <a:xfrm flipV="1">
              <a:off x="6606360" y="2862720"/>
              <a:ext cx="1042560" cy="253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95" name=""/>
            <p:cNvCxnSpPr>
              <a:stCxn id="89" idx="0"/>
            </p:cNvCxnSpPr>
            <p:nvPr/>
          </p:nvCxnSpPr>
          <p:spPr>
            <a:xfrm flipH="1" flipV="1">
              <a:off x="5689440" y="2855520"/>
              <a:ext cx="917280" cy="260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96" name=""/>
            <p:cNvSpPr/>
            <p:nvPr/>
          </p:nvSpPr>
          <p:spPr>
            <a:xfrm>
              <a:off x="4649760" y="2279520"/>
              <a:ext cx="4319640" cy="1582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7560720" y="2516760"/>
              <a:ext cx="750240" cy="441360"/>
              <a:chOff x="7560720" y="2516760"/>
              <a:chExt cx="750240" cy="441360"/>
            </a:xfrm>
          </p:grpSpPr>
          <p:sp>
            <p:nvSpPr>
              <p:cNvPr id="98" name=""/>
              <p:cNvSpPr/>
              <p:nvPr/>
            </p:nvSpPr>
            <p:spPr>
              <a:xfrm>
                <a:off x="7560720" y="2516760"/>
                <a:ext cx="595080" cy="392760"/>
              </a:xfrm>
              <a:custGeom>
                <a:avLst/>
                <a:gdLst>
                  <a:gd name="textAreaLeft" fmla="*/ 0 w 595080"/>
                  <a:gd name="textAreaRight" fmla="*/ 595440 w 595080"/>
                  <a:gd name="textAreaTop" fmla="*/ 0 h 392760"/>
                  <a:gd name="textAreaBottom" fmla="*/ 393120 h 39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9001" y="0"/>
                    </a:lnTo>
                    <a:lnTo>
                      <a:pt x="21600" y="10800"/>
                    </a:lnTo>
                    <a:lnTo>
                      <a:pt x="19001" y="21600"/>
                    </a:lnTo>
                    <a:lnTo>
                      <a:pt x="0" y="21600"/>
                    </a:lnTo>
                    <a:lnTo>
                      <a:pt x="2599" y="10800"/>
                    </a:lnTo>
                    <a:close/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00680" y="2547000"/>
                <a:ext cx="601200" cy="392760"/>
              </a:xfrm>
              <a:custGeom>
                <a:avLst/>
                <a:gdLst>
                  <a:gd name="textAreaLeft" fmla="*/ 0 w 601200"/>
                  <a:gd name="textAreaRight" fmla="*/ 601560 w 601200"/>
                  <a:gd name="textAreaTop" fmla="*/ 0 h 392760"/>
                  <a:gd name="textAreaBottom" fmla="*/ 393120 h 39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9001" y="0"/>
                    </a:lnTo>
                    <a:lnTo>
                      <a:pt x="21600" y="10800"/>
                    </a:lnTo>
                    <a:lnTo>
                      <a:pt x="19001" y="21600"/>
                    </a:lnTo>
                    <a:lnTo>
                      <a:pt x="0" y="21600"/>
                    </a:lnTo>
                    <a:lnTo>
                      <a:pt x="2599" y="10800"/>
                    </a:lnTo>
                    <a:close/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48200" y="2565360"/>
                <a:ext cx="662760" cy="392760"/>
              </a:xfrm>
              <a:custGeom>
                <a:avLst/>
                <a:gdLst>
                  <a:gd name="textAreaLeft" fmla="*/ 0 w 662760"/>
                  <a:gd name="textAreaRight" fmla="*/ 662760 w 662760"/>
                  <a:gd name="textAreaTop" fmla="*/ 0 h 392760"/>
                  <a:gd name="textAreaBottom" fmla="*/ 393120 h 39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9739" y="0"/>
                    </a:lnTo>
                    <a:lnTo>
                      <a:pt x="21600" y="10800"/>
                    </a:lnTo>
                    <a:lnTo>
                      <a:pt x="19739" y="21600"/>
                    </a:lnTo>
                    <a:lnTo>
                      <a:pt x="0" y="21600"/>
                    </a:lnTo>
                    <a:lnTo>
                      <a:pt x="1861" y="10800"/>
                    </a:lnTo>
                    <a:close/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188640" y="1015560"/>
            <a:ext cx="8574120" cy="56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lanejar a avalia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 base nas informações sobre as expectativas dos clientes e nos primeiros retornos logo após o lançamento, é gerado um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plano de atividades para se avaliar a satisfação do client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alizar a avali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Dessa tarefa, resultam evidências sobre o nível de satisfação de clientes, estratificados por grupos de produtos, nichos de mercado, tipos de problema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nalisar e consolidar a avali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Esta tarefa trata da análise das evidência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(positivas e negativas)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 encontradas na avaliação e sua consolidação em um relatório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title"/>
          </p:nvPr>
        </p:nvSpPr>
        <p:spPr>
          <a:xfrm>
            <a:off x="-360" y="28080"/>
            <a:ext cx="73882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Tarefas da atividade “Avaliar satisfação do cliente”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42840" y="84240"/>
            <a:ext cx="73882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Sumário do capítulo – atividades da f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26920" y="1558800"/>
            <a:ext cx="7845480" cy="40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valiar satisfação do clie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Monitorar desempenho do produ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lizar auditoria pós-proje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gistrar lições aprendi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2480" y="42840"/>
            <a:ext cx="7932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6"/>
                </a:solidFill>
                <a:latin typeface="Arial"/>
              </a:rPr>
              <a:t>Tarefas da atividade “Monitorar desempenho do produto (técnico, econômico, ambiental, de produção e de serviços)</a:t>
            </a:r>
            <a:r>
              <a:rPr b="1" lang="en-US" sz="2000" spc="-1" strike="noStrike">
                <a:solidFill>
                  <a:srgbClr val="000096"/>
                </a:solidFill>
                <a:latin typeface="Arial"/>
              </a:rPr>
              <a:t> 1/2</a:t>
            </a:r>
            <a:endParaRPr b="0" lang="en-US" sz="20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55320" y="973080"/>
            <a:ext cx="8574120" cy="55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Arial"/>
              </a:rPr>
              <a:t>Monitorar o desempenho técnico do produto no mercado e nos serviços associados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ão identificadas divergência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e problemas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entre a expectativa ou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percepção do client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e da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assistência técnica em relação às especificações técnicas do projeto do produto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Arial"/>
              </a:rPr>
              <a:t>Monitorar desempenho técnico do produto na produção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Confronto das especificações técnicas de projeto do produto e do processo com os resultados coletados pelo controle da qualid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Arial"/>
              </a:rPr>
              <a:t>Monitorar o desempenho do processo de produçã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do produt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Acompanhar o desempenho em termos de conformidade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confiabilidade, capabilidade, capacidade de produção, cumprimento de praz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Arial"/>
              </a:rPr>
              <a:t>Monitorar o desempenho em vend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Confronto das informações sobre projeção de vendas e estratégia de mercado planejados com o desempenho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efetivo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em vendas, participação no mercado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tipos de mercado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atingidos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42840" y="42840"/>
            <a:ext cx="78598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6"/>
                </a:solidFill>
                <a:latin typeface="Arial"/>
              </a:rPr>
              <a:t>Tarefas da atividade “Monitorar desempenho do produto (técnico, econômico, ambiental, de produção e de serviços)</a:t>
            </a:r>
            <a:r>
              <a:rPr b="1" lang="en-US" sz="2000" spc="-1" strike="noStrike">
                <a:solidFill>
                  <a:srgbClr val="000096"/>
                </a:solidFill>
                <a:latin typeface="Arial"/>
              </a:rPr>
              <a:t> 2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177480" y="1161720"/>
            <a:ext cx="8574120" cy="55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Arial"/>
              </a:rPr>
              <a:t>Monitorar avaliação econômica do produt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mparação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entre o faturamento realizad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ersus o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previsto e as contribuições marginais atingi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Arial"/>
              </a:rPr>
              <a:t>Monitorar custo do produt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siderando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o custo-alvo do produto, os gastos com desenvolvimento, os investimentos realizados e os custos do produto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valia-se o desempenho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de custo do produ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Arial"/>
              </a:rPr>
              <a:t>Monitorar os aspectos relacionados ao meio ambien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Esta tarefa consiste no monitoramento da legislação ambiental, na sua análise e seus impactos no produto e no negócio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relacionado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, gerando recomendações para o processo de gerenciamento de mudanç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Arial"/>
              </a:rPr>
              <a:t>Consolidar informações sobre desempenho do produt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onsolidação dos resultados levantados durante o monitoramento, gerando um conjunto de relatórios sobre o desempenho e sobre alterações potenciais do produto que devem ser analisa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Sumário do capítulo – atividades da fase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69520" y="1131840"/>
            <a:ext cx="857412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valiar satisfação do clie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nitorar desempenho do produ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Realizar auditoria pós-proje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gistrar lições aprendi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Tarefas da atividade “Realizar auditoria pós-projeto”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93320" y="973080"/>
            <a:ext cx="8736120" cy="55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volvem uma seqüência de esforços sistemáticos pa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dquirir, filtrar, interpretar e analisar informações a respeito de eventos crítico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sseminar e compartilhar os resultados da anális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tilizar essas informações para gerar proposições para a gerência do PDP, visando correções de erros, mudanças na sistemática de desenvolvimento e ações de capacitaçã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pturar, armazenar e disseminar o conhecimento ger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4480" y="57240"/>
            <a:ext cx="73879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Sumário do capítulo – atividades da fase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9240" y="1055160"/>
            <a:ext cx="8574120" cy="523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valiar satisfação do clie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nitorar desempenho do produ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lizar auditoria pós-proje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Registrar lições aprendi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6880" y="10008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6"/>
                </a:solidFill>
                <a:latin typeface="Arial"/>
              </a:rPr>
              <a:t>Tarefas da atividade “Registar lições aprendidas”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18600" y="1035000"/>
            <a:ext cx="857412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istematiz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Ao longo do desenvolvimento do projeto as lições aprendidas foram capturas e armazenad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A tarefa agora é sistematizar essas lições, preparando as informações para a tarefa de anál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nál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Esta tarefa é complexa pois envolve informações sobre o desempenho do produto, relatórios de auditoria pós-projeto, síntese de modificações realizada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A análise é realizada pelo time de acompanha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O resultado é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 “Síntese das lições aprendidas no projeto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28240" y="101160"/>
            <a:ext cx="73882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6"/>
                </a:solidFill>
                <a:latin typeface="Arial"/>
              </a:rPr>
              <a:t>Principais resultados da fase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89080" y="1220760"/>
            <a:ext cx="857376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valiação da satisfação do cl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postas de necessidades de modificações no produto ou em seus serviços relacion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postas de oportunidades de melhor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ecessidades de mudança para adequação ambi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íntese das lições aprendid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 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ções para subsidiar as d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cisões sobre a descontinuidade do prod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Síntese do que foi visto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 (1/2)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36520" y="1071720"/>
            <a:ext cx="867096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ase “Acompanhar produto e processo” corresponde a um conjunto de atividades que, com a fase “Descontinuar produto do mercado”, garante ao PDP a compreensão de todo o ciclo de vida do produ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seu principal propósito é garantir o acompanhamento do desempenho do produto na produção e no mercado, identificando necessidades ou oportunidades de melhorias e garantindo que a retirada cause o menor impacto possível aos consumidores, empresa e meio amb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960" y="176040"/>
            <a:ext cx="7267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Localização do acompanhar produto e processo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680" y="1455840"/>
            <a:ext cx="9063000" cy="4572000"/>
            <a:chOff x="4680" y="1455840"/>
            <a:chExt cx="9063000" cy="4572000"/>
          </a:xfrm>
        </p:grpSpPr>
        <p:sp>
          <p:nvSpPr>
            <p:cNvPr id="103" name=""/>
            <p:cNvSpPr/>
            <p:nvPr/>
          </p:nvSpPr>
          <p:spPr>
            <a:xfrm>
              <a:off x="790560" y="5753160"/>
              <a:ext cx="7886880" cy="274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Melhoria do processo de desenvolvimento de produ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340000" y="5389560"/>
              <a:ext cx="6092640" cy="2746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Gerenciamento de mudanças de engenha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680" y="5335560"/>
              <a:ext cx="1209960" cy="54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Process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de apo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325520" y="5097600"/>
              <a:ext cx="1111320" cy="18720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314880" y="5097600"/>
              <a:ext cx="1110960" cy="18720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305320" y="5097600"/>
              <a:ext cx="1111320" cy="18720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296120" y="5097600"/>
              <a:ext cx="1111320" cy="18720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76320" y="1455840"/>
              <a:ext cx="8991360" cy="3591000"/>
              <a:chOff x="76320" y="1455840"/>
              <a:chExt cx="8991360" cy="359100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76320" y="1614600"/>
                <a:ext cx="8991360" cy="3432240"/>
                <a:chOff x="76320" y="1614600"/>
                <a:chExt cx="8991360" cy="343224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76320" y="1614600"/>
                  <a:ext cx="8991360" cy="343224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95240" y="2863800"/>
                  <a:ext cx="7291440" cy="1660680"/>
                </a:xfrm>
                <a:custGeom>
                  <a:avLst/>
                  <a:gdLst/>
                  <a:ahLst/>
                  <a:rect l="l" t="t" r="r" b="b"/>
                  <a:pathLst>
                    <a:path w="4593" h="1046">
                      <a:moveTo>
                        <a:pt x="771" y="20"/>
                      </a:moveTo>
                      <a:lnTo>
                        <a:pt x="0" y="1046"/>
                      </a:lnTo>
                      <a:lnTo>
                        <a:pt x="4593" y="1016"/>
                      </a:lnTo>
                      <a:lnTo>
                        <a:pt x="330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ffcc99"/>
                    </a:gs>
                    <a:gs pos="100000">
                      <a:srgbClr val="99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4" name=""/>
                <p:cNvGrpSpPr/>
                <p:nvPr/>
              </p:nvGrpSpPr>
              <p:grpSpPr>
                <a:xfrm>
                  <a:off x="2239920" y="2225520"/>
                  <a:ext cx="4146480" cy="298800"/>
                  <a:chOff x="2239920" y="2225520"/>
                  <a:chExt cx="4146480" cy="2988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2239920" y="2225520"/>
                    <a:ext cx="4146480" cy="298800"/>
                  </a:xfrm>
                  <a:custGeom>
                    <a:avLst/>
                    <a:gdLst>
                      <a:gd name="textAreaLeft" fmla="*/ 0 w 4146480"/>
                      <a:gd name="textAreaRight" fmla="*/ 4146840 w 4146480"/>
                      <a:gd name="textAreaTop" fmla="*/ 0 h 298800"/>
                      <a:gd name="textAreaBottom" fmla="*/ 299160 h 298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0921" y="0"/>
                        </a:lnTo>
                        <a:lnTo>
                          <a:pt x="21600" y="10800"/>
                        </a:lnTo>
                        <a:lnTo>
                          <a:pt x="20921" y="21600"/>
                        </a:lnTo>
                        <a:lnTo>
                          <a:pt x="0" y="21600"/>
                        </a:lnTo>
                        <a:lnTo>
                          <a:pt x="67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293640" y="2238480"/>
                    <a:ext cx="1885320" cy="274680"/>
                  </a:xfrm>
                  <a:prstGeom prst="rect">
                    <a:avLst/>
                  </a:pr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Desenvolvimento</a:t>
                    </a:r>
                    <a:r>
                      <a:rPr b="0" i="1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" name=""/>
                <p:cNvGrpSpPr/>
                <p:nvPr/>
              </p:nvGrpSpPr>
              <p:grpSpPr>
                <a:xfrm>
                  <a:off x="962280" y="4336560"/>
                  <a:ext cx="6981840" cy="534600"/>
                  <a:chOff x="962280" y="4336560"/>
                  <a:chExt cx="6981840" cy="534600"/>
                </a:xfrm>
              </p:grpSpPr>
              <p:grpSp>
                <p:nvGrpSpPr>
                  <p:cNvPr id="118" name=""/>
                  <p:cNvGrpSpPr/>
                  <p:nvPr/>
                </p:nvGrpSpPr>
                <p:grpSpPr>
                  <a:xfrm>
                    <a:off x="2259720" y="4350600"/>
                    <a:ext cx="5684400" cy="520560"/>
                    <a:chOff x="2259720" y="4350600"/>
                    <a:chExt cx="5684400" cy="520560"/>
                  </a:xfrm>
                </p:grpSpPr>
                <p:sp>
                  <p:nvSpPr>
                    <p:cNvPr id="119" name=""/>
                    <p:cNvSpPr/>
                    <p:nvPr/>
                  </p:nvSpPr>
                  <p:spPr>
                    <a:xfrm>
                      <a:off x="4633920" y="4350600"/>
                      <a:ext cx="1043640" cy="520560"/>
                    </a:xfrm>
                    <a:custGeom>
                      <a:avLst/>
                      <a:gdLst>
                        <a:gd name="textAreaLeft" fmla="*/ 0 w 1043640"/>
                        <a:gd name="textAreaRight" fmla="*/ 1044000 w 104364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544" y="0"/>
                          </a:lnTo>
                          <a:lnTo>
                            <a:pt x="21600" y="10800"/>
                          </a:lnTo>
                          <a:lnTo>
                            <a:pt x="19544" y="21600"/>
                          </a:lnTo>
                          <a:lnTo>
                            <a:pt x="0" y="21600"/>
                          </a:lnTo>
                          <a:lnTo>
                            <a:pt x="2056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alhad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3557520" y="4350600"/>
                      <a:ext cx="1074240" cy="520560"/>
                    </a:xfrm>
                    <a:custGeom>
                      <a:avLst/>
                      <a:gdLst>
                        <a:gd name="textAreaLeft" fmla="*/ 0 w 1074240"/>
                        <a:gd name="textAreaRight" fmla="*/ 1074600 w 107424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672" y="0"/>
                          </a:lnTo>
                          <a:lnTo>
                            <a:pt x="21600" y="10800"/>
                          </a:lnTo>
                          <a:lnTo>
                            <a:pt x="19672" y="21600"/>
                          </a:lnTo>
                          <a:lnTo>
                            <a:pt x="0" y="21600"/>
                          </a:lnTo>
                          <a:lnTo>
                            <a:pt x="1928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itu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2259720" y="4350600"/>
                      <a:ext cx="1302840" cy="520560"/>
                    </a:xfrm>
                    <a:custGeom>
                      <a:avLst/>
                      <a:gdLst>
                        <a:gd name="textAreaLeft" fmla="*/ 0 w 1302840"/>
                        <a:gd name="textAreaRight" fmla="*/ 1303200 w 130284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746" y="0"/>
                          </a:lnTo>
                          <a:lnTo>
                            <a:pt x="21600" y="10800"/>
                          </a:lnTo>
                          <a:lnTo>
                            <a:pt x="19746" y="21600"/>
                          </a:lnTo>
                          <a:lnTo>
                            <a:pt x="0" y="21600"/>
                          </a:lnTo>
                          <a:lnTo>
                            <a:pt x="1854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cion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6782040" y="4350600"/>
                      <a:ext cx="1162080" cy="520560"/>
                    </a:xfrm>
                    <a:custGeom>
                      <a:avLst/>
                      <a:gdLst>
                        <a:gd name="textAreaLeft" fmla="*/ 0 w 1162080"/>
                        <a:gd name="textAreaRight" fmla="*/ 1162080 w 116208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740" y="0"/>
                          </a:lnTo>
                          <a:lnTo>
                            <a:pt x="21600" y="10800"/>
                          </a:lnTo>
                          <a:lnTo>
                            <a:pt x="19740" y="21600"/>
                          </a:lnTo>
                          <a:lnTo>
                            <a:pt x="0" y="21600"/>
                          </a:lnTo>
                          <a:lnTo>
                            <a:pt x="1860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çam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 Produ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5676840" y="4350600"/>
                      <a:ext cx="1102680" cy="520560"/>
                    </a:xfrm>
                    <a:custGeom>
                      <a:avLst/>
                      <a:gdLst>
                        <a:gd name="textAreaLeft" fmla="*/ 0 w 1102680"/>
                        <a:gd name="textAreaRight" fmla="*/ 1102680 w 110268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987" y="0"/>
                          </a:lnTo>
                          <a:lnTo>
                            <a:pt x="21600" y="10800"/>
                          </a:lnTo>
                          <a:lnTo>
                            <a:pt x="19987" y="21600"/>
                          </a:lnTo>
                          <a:lnTo>
                            <a:pt x="0" y="21600"/>
                          </a:lnTo>
                          <a:lnTo>
                            <a:pt x="1613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a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4" name=""/>
                  <p:cNvSpPr/>
                  <p:nvPr/>
                </p:nvSpPr>
                <p:spPr>
                  <a:xfrm>
                    <a:off x="962280" y="4336560"/>
                    <a:ext cx="1270800" cy="520200"/>
                  </a:xfrm>
                  <a:custGeom>
                    <a:avLst/>
                    <a:gdLst>
                      <a:gd name="textAreaLeft" fmla="*/ 0 w 1270800"/>
                      <a:gd name="textAreaRight" fmla="*/ 1271160 w 1270800"/>
                      <a:gd name="textAreaTop" fmla="*/ 0 h 520200"/>
                      <a:gd name="textAreaBottom" fmla="*/ 520560 h 520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522" y="0"/>
                        </a:lnTo>
                        <a:lnTo>
                          <a:pt x="21600" y="10800"/>
                        </a:lnTo>
                        <a:lnTo>
                          <a:pt x="19522" y="21600"/>
                        </a:lnTo>
                        <a:lnTo>
                          <a:pt x="0" y="21600"/>
                        </a:lnTo>
                        <a:lnTo>
                          <a:pt x="2078" y="108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lanejament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rojet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" name=""/>
                <p:cNvGrpSpPr/>
                <p:nvPr/>
              </p:nvGrpSpPr>
              <p:grpSpPr>
                <a:xfrm>
                  <a:off x="6364440" y="2227320"/>
                  <a:ext cx="2652480" cy="298440"/>
                  <a:chOff x="6364440" y="2227320"/>
                  <a:chExt cx="2652480" cy="298440"/>
                </a:xfrm>
              </p:grpSpPr>
              <p:sp>
                <p:nvSpPr>
                  <p:cNvPr id="126" name=""/>
                  <p:cNvSpPr/>
                  <p:nvPr/>
                </p:nvSpPr>
                <p:spPr>
                  <a:xfrm>
                    <a:off x="6364440" y="2227320"/>
                    <a:ext cx="2652480" cy="298440"/>
                  </a:xfrm>
                  <a:custGeom>
                    <a:avLst/>
                    <a:gdLst>
                      <a:gd name="textAreaLeft" fmla="*/ 0 w 2652480"/>
                      <a:gd name="textAreaRight" fmla="*/ 2652840 w 2652480"/>
                      <a:gd name="textAreaTop" fmla="*/ 0 h 298440"/>
                      <a:gd name="textAreaBottom" fmla="*/ 298800 h 298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0642" y="0"/>
                        </a:lnTo>
                        <a:lnTo>
                          <a:pt x="21600" y="10800"/>
                        </a:lnTo>
                        <a:lnTo>
                          <a:pt x="20642" y="21600"/>
                        </a:lnTo>
                        <a:lnTo>
                          <a:pt x="0" y="21600"/>
                        </a:lnTo>
                        <a:lnTo>
                          <a:pt x="958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7431480" y="2263680"/>
                    <a:ext cx="516600" cy="24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Pó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8" name=""/>
                <p:cNvSpPr/>
                <p:nvPr/>
              </p:nvSpPr>
              <p:spPr>
                <a:xfrm>
                  <a:off x="8223120" y="2311560"/>
                  <a:ext cx="260640" cy="1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129" name=""/>
                <p:cNvCxnSpPr>
                  <a:stCxn id="126" idx="0"/>
                  <a:endCxn id="130" idx="0"/>
                </p:cNvCxnSpPr>
                <p:nvPr/>
              </p:nvCxnSpPr>
              <p:spPr>
                <a:xfrm rot="5400000">
                  <a:off x="4402440" y="-999360"/>
                  <a:ext cx="2160" cy="6455520"/>
                </a:xfrm>
                <a:prstGeom prst="bentConnector3">
                  <a:avLst>
                    <a:gd name="adj1" fmla="val -14400000"/>
                  </a:avLst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grpSp>
              <p:nvGrpSpPr>
                <p:cNvPr id="131" name=""/>
                <p:cNvGrpSpPr/>
                <p:nvPr/>
              </p:nvGrpSpPr>
              <p:grpSpPr>
                <a:xfrm>
                  <a:off x="171360" y="2227320"/>
                  <a:ext cx="2124000" cy="297000"/>
                  <a:chOff x="171360" y="2227320"/>
                  <a:chExt cx="2124000" cy="29700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171360" y="2227320"/>
                    <a:ext cx="2124000" cy="297000"/>
                  </a:xfrm>
                  <a:custGeom>
                    <a:avLst/>
                    <a:gdLst>
                      <a:gd name="textAreaLeft" fmla="*/ 0 w 2124000"/>
                      <a:gd name="textAreaRight" fmla="*/ 2124360 w 2124000"/>
                      <a:gd name="textAreaTop" fmla="*/ 0 h 297000"/>
                      <a:gd name="textAreaBottom" fmla="*/ 297360 h 297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0447" y="0"/>
                        </a:lnTo>
                        <a:lnTo>
                          <a:pt x="21600" y="10800"/>
                        </a:lnTo>
                        <a:lnTo>
                          <a:pt x="20447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0" bIns="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999000" y="2263680"/>
                    <a:ext cx="472320" cy="24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Pré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"/>
                <p:cNvSpPr/>
                <p:nvPr/>
              </p:nvSpPr>
              <p:spPr>
                <a:xfrm>
                  <a:off x="185760" y="2597040"/>
                  <a:ext cx="1335240" cy="787680"/>
                </a:xfrm>
                <a:custGeom>
                  <a:avLst/>
                  <a:gdLst>
                    <a:gd name="textAreaLeft" fmla="*/ 0 w 1335240"/>
                    <a:gd name="textAreaRight" fmla="*/ 1335600 w 1335240"/>
                    <a:gd name="textAreaTop" fmla="*/ 0 h 787680"/>
                    <a:gd name="textAreaBottom" fmla="*/ 788040 h 787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9548" y="0"/>
                      </a:lnTo>
                      <a:lnTo>
                        <a:pt x="21600" y="10800"/>
                      </a:lnTo>
                      <a:lnTo>
                        <a:pt x="19548" y="21600"/>
                      </a:lnTo>
                      <a:lnTo>
                        <a:pt x="0" y="21600"/>
                      </a:lnTo>
                      <a:lnTo>
                        <a:pt x="2052" y="1080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lanejament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Estratégico dos Produto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4" name=""/>
                <p:cNvGrpSpPr/>
                <p:nvPr/>
              </p:nvGrpSpPr>
              <p:grpSpPr>
                <a:xfrm>
                  <a:off x="6164280" y="2577960"/>
                  <a:ext cx="2871720" cy="933480"/>
                  <a:chOff x="6164280" y="2577960"/>
                  <a:chExt cx="2871720" cy="933480"/>
                </a:xfrm>
              </p:grpSpPr>
              <p:sp>
                <p:nvSpPr>
                  <p:cNvPr id="135" name=""/>
                  <p:cNvSpPr/>
                  <p:nvPr/>
                </p:nvSpPr>
                <p:spPr>
                  <a:xfrm>
                    <a:off x="6164280" y="2577960"/>
                    <a:ext cx="1257120" cy="830520"/>
                  </a:xfrm>
                  <a:custGeom>
                    <a:avLst/>
                    <a:gdLst>
                      <a:gd name="textAreaLeft" fmla="*/ 0 w 1257120"/>
                      <a:gd name="textAreaRight" fmla="*/ 1257480 w 1257120"/>
                      <a:gd name="textAreaTop" fmla="*/ 0 h 830520"/>
                      <a:gd name="textAreaBottom" fmla="*/ 830880 h 830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001" y="0"/>
                        </a:lnTo>
                        <a:lnTo>
                          <a:pt x="21600" y="10800"/>
                        </a:lnTo>
                        <a:lnTo>
                          <a:pt x="19001" y="21600"/>
                        </a:lnTo>
                        <a:lnTo>
                          <a:pt x="0" y="21600"/>
                        </a:lnTo>
                        <a:lnTo>
                          <a:pt x="2599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7421400" y="2577960"/>
                    <a:ext cx="1270080" cy="830520"/>
                  </a:xfrm>
                  <a:custGeom>
                    <a:avLst/>
                    <a:gdLst>
                      <a:gd name="textAreaLeft" fmla="*/ 0 w 1270080"/>
                      <a:gd name="textAreaRight" fmla="*/ 1270440 w 1270080"/>
                      <a:gd name="textAreaTop" fmla="*/ 0 h 830520"/>
                      <a:gd name="textAreaBottom" fmla="*/ 830880 h 830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001" y="0"/>
                        </a:lnTo>
                        <a:lnTo>
                          <a:pt x="21600" y="10800"/>
                        </a:lnTo>
                        <a:lnTo>
                          <a:pt x="19001" y="21600"/>
                        </a:lnTo>
                        <a:lnTo>
                          <a:pt x="0" y="21600"/>
                        </a:lnTo>
                        <a:lnTo>
                          <a:pt x="2599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6249960" y="2641680"/>
                    <a:ext cx="1268280" cy="830160"/>
                  </a:xfrm>
                  <a:custGeom>
                    <a:avLst/>
                    <a:gdLst>
                      <a:gd name="textAreaLeft" fmla="*/ 0 w 1268280"/>
                      <a:gd name="textAreaRight" fmla="*/ 1268640 w 1268280"/>
                      <a:gd name="textAreaTop" fmla="*/ 0 h 830160"/>
                      <a:gd name="textAreaBottom" fmla="*/ 830520 h 830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001" y="0"/>
                        </a:lnTo>
                        <a:lnTo>
                          <a:pt x="21600" y="10800"/>
                        </a:lnTo>
                        <a:lnTo>
                          <a:pt x="19001" y="21600"/>
                        </a:lnTo>
                        <a:lnTo>
                          <a:pt x="0" y="21600"/>
                        </a:lnTo>
                        <a:lnTo>
                          <a:pt x="2599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7535880" y="2641680"/>
                    <a:ext cx="1270080" cy="830160"/>
                  </a:xfrm>
                  <a:custGeom>
                    <a:avLst/>
                    <a:gdLst>
                      <a:gd name="textAreaLeft" fmla="*/ 0 w 1270080"/>
                      <a:gd name="textAreaRight" fmla="*/ 1270440 w 1270080"/>
                      <a:gd name="textAreaTop" fmla="*/ 0 h 830160"/>
                      <a:gd name="textAreaBottom" fmla="*/ 830520 h 830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001" y="0"/>
                        </a:lnTo>
                        <a:lnTo>
                          <a:pt x="21600" y="10800"/>
                        </a:lnTo>
                        <a:lnTo>
                          <a:pt x="19001" y="21600"/>
                        </a:lnTo>
                        <a:lnTo>
                          <a:pt x="0" y="21600"/>
                        </a:lnTo>
                        <a:lnTo>
                          <a:pt x="2599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7694640" y="2681280"/>
                    <a:ext cx="1341360" cy="830160"/>
                  </a:xfrm>
                  <a:custGeom>
                    <a:avLst/>
                    <a:gdLst>
                      <a:gd name="textAreaLeft" fmla="*/ 0 w 1341360"/>
                      <a:gd name="textAreaRight" fmla="*/ 1341720 w 1341360"/>
                      <a:gd name="textAreaTop" fmla="*/ 0 h 830160"/>
                      <a:gd name="textAreaBottom" fmla="*/ 830520 h 830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602" y="0"/>
                        </a:lnTo>
                        <a:lnTo>
                          <a:pt x="21600" y="10800"/>
                        </a:lnTo>
                        <a:lnTo>
                          <a:pt x="19602" y="21600"/>
                        </a:lnTo>
                        <a:lnTo>
                          <a:pt x="0" y="21600"/>
                        </a:lnTo>
                        <a:lnTo>
                          <a:pt x="1998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44000" rIns="72000" tIns="0" bIns="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Descontinuar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rodut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6348240" y="2681280"/>
                    <a:ext cx="1400400" cy="830160"/>
                  </a:xfrm>
                  <a:custGeom>
                    <a:avLst/>
                    <a:gdLst>
                      <a:gd name="textAreaLeft" fmla="*/ 0 w 1400400"/>
                      <a:gd name="textAreaRight" fmla="*/ 1400400 w 1400400"/>
                      <a:gd name="textAreaTop" fmla="*/ 0 h 830160"/>
                      <a:gd name="textAreaBottom" fmla="*/ 830520 h 830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739" y="0"/>
                        </a:lnTo>
                        <a:lnTo>
                          <a:pt x="21600" y="10800"/>
                        </a:lnTo>
                        <a:lnTo>
                          <a:pt x="19739" y="21600"/>
                        </a:lnTo>
                        <a:lnTo>
                          <a:pt x="0" y="21600"/>
                        </a:lnTo>
                        <a:lnTo>
                          <a:pt x="1861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Acompanhar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roduto/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rocess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" name=""/>
                <p:cNvGrpSpPr/>
                <p:nvPr/>
              </p:nvGrpSpPr>
              <p:grpSpPr>
                <a:xfrm>
                  <a:off x="2413080" y="2565000"/>
                  <a:ext cx="3600360" cy="407880"/>
                  <a:chOff x="2413080" y="2565000"/>
                  <a:chExt cx="3600360" cy="407880"/>
                </a:xfrm>
              </p:grpSpPr>
              <p:sp>
                <p:nvSpPr>
                  <p:cNvPr id="142" name=""/>
                  <p:cNvSpPr/>
                  <p:nvPr/>
                </p:nvSpPr>
                <p:spPr>
                  <a:xfrm flipV="1">
                    <a:off x="2413080" y="256464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 flipV="1">
                    <a:off x="3133800" y="256464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flipV="1">
                    <a:off x="3855960" y="256464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 flipV="1">
                    <a:off x="4576680" y="256464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 flipV="1">
                    <a:off x="5299200" y="256464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" name=""/>
                <p:cNvGrpSpPr/>
                <p:nvPr/>
              </p:nvGrpSpPr>
              <p:grpSpPr>
                <a:xfrm>
                  <a:off x="2565360" y="2717640"/>
                  <a:ext cx="3600360" cy="407880"/>
                  <a:chOff x="2565360" y="2717640"/>
                  <a:chExt cx="3600360" cy="407880"/>
                </a:xfrm>
              </p:grpSpPr>
              <p:sp>
                <p:nvSpPr>
                  <p:cNvPr id="148" name=""/>
                  <p:cNvSpPr/>
                  <p:nvPr/>
                </p:nvSpPr>
                <p:spPr>
                  <a:xfrm flipV="1">
                    <a:off x="2565360" y="271728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 flipV="1">
                    <a:off x="3286080" y="271728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flipV="1">
                    <a:off x="4008600" y="271728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 flipV="1">
                    <a:off x="4729320" y="271728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 flipV="1">
                    <a:off x="5451480" y="271728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" name=""/>
                <p:cNvGrpSpPr/>
                <p:nvPr/>
              </p:nvGrpSpPr>
              <p:grpSpPr>
                <a:xfrm>
                  <a:off x="2717640" y="2869920"/>
                  <a:ext cx="3600720" cy="407880"/>
                  <a:chOff x="2717640" y="2869920"/>
                  <a:chExt cx="3600720" cy="407880"/>
                </a:xfrm>
              </p:grpSpPr>
              <p:sp>
                <p:nvSpPr>
                  <p:cNvPr id="154" name=""/>
                  <p:cNvSpPr/>
                  <p:nvPr/>
                </p:nvSpPr>
                <p:spPr>
                  <a:xfrm flipV="1">
                    <a:off x="2717640" y="286956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 flipV="1">
                    <a:off x="3438360" y="286956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 flipV="1">
                    <a:off x="4160880" y="286956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 flipV="1">
                    <a:off x="4881600" y="286956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 flipV="1">
                    <a:off x="5603760" y="286956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"/>
                <p:cNvGrpSpPr/>
                <p:nvPr/>
              </p:nvGrpSpPr>
              <p:grpSpPr>
                <a:xfrm>
                  <a:off x="1565280" y="2606760"/>
                  <a:ext cx="950760" cy="671400"/>
                  <a:chOff x="1565280" y="2606760"/>
                  <a:chExt cx="950760" cy="67140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>
                    <a:off x="1565280" y="2606760"/>
                    <a:ext cx="646200" cy="366480"/>
                  </a:xfrm>
                  <a:custGeom>
                    <a:avLst/>
                    <a:gdLst>
                      <a:gd name="textAreaLeft" fmla="*/ 0 w 646200"/>
                      <a:gd name="textAreaRight" fmla="*/ 646560 w 646200"/>
                      <a:gd name="textAreaTop" fmla="*/ 0 h 366480"/>
                      <a:gd name="textAreaBottom" fmla="*/ 366840 h 366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522" y="0"/>
                        </a:lnTo>
                        <a:lnTo>
                          <a:pt x="21600" y="10800"/>
                        </a:lnTo>
                        <a:lnTo>
                          <a:pt x="19522" y="21600"/>
                        </a:lnTo>
                        <a:lnTo>
                          <a:pt x="0" y="21600"/>
                        </a:lnTo>
                        <a:lnTo>
                          <a:pt x="2078" y="108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1717560" y="2759040"/>
                    <a:ext cx="646200" cy="366840"/>
                  </a:xfrm>
                  <a:custGeom>
                    <a:avLst/>
                    <a:gdLst>
                      <a:gd name="textAreaLeft" fmla="*/ 0 w 646200"/>
                      <a:gd name="textAreaRight" fmla="*/ 646560 w 646200"/>
                      <a:gd name="textAreaTop" fmla="*/ 0 h 366840"/>
                      <a:gd name="textAreaBottom" fmla="*/ 367200 h 3668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522" y="0"/>
                        </a:lnTo>
                        <a:lnTo>
                          <a:pt x="21600" y="10800"/>
                        </a:lnTo>
                        <a:lnTo>
                          <a:pt x="19522" y="21600"/>
                        </a:lnTo>
                        <a:lnTo>
                          <a:pt x="0" y="21600"/>
                        </a:lnTo>
                        <a:lnTo>
                          <a:pt x="2078" y="108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1870200" y="2911320"/>
                    <a:ext cx="645840" cy="366840"/>
                  </a:xfrm>
                  <a:custGeom>
                    <a:avLst/>
                    <a:gdLst>
                      <a:gd name="textAreaLeft" fmla="*/ 0 w 645840"/>
                      <a:gd name="textAreaRight" fmla="*/ 646200 w 645840"/>
                      <a:gd name="textAreaTop" fmla="*/ 0 h 366840"/>
                      <a:gd name="textAreaBottom" fmla="*/ 367200 h 3668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522" y="0"/>
                        </a:lnTo>
                        <a:lnTo>
                          <a:pt x="21600" y="10800"/>
                        </a:lnTo>
                        <a:lnTo>
                          <a:pt x="19522" y="21600"/>
                        </a:lnTo>
                        <a:lnTo>
                          <a:pt x="0" y="21600"/>
                        </a:lnTo>
                        <a:lnTo>
                          <a:pt x="2078" y="108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" name=""/>
                <p:cNvGrpSpPr/>
                <p:nvPr/>
              </p:nvGrpSpPr>
              <p:grpSpPr>
                <a:xfrm>
                  <a:off x="279720" y="3220920"/>
                  <a:ext cx="6232320" cy="776520"/>
                  <a:chOff x="279720" y="3220920"/>
                  <a:chExt cx="6232320" cy="776520"/>
                </a:xfrm>
              </p:grpSpPr>
              <p:sp>
                <p:nvSpPr>
                  <p:cNvPr id="164" name=""/>
                  <p:cNvSpPr/>
                  <p:nvPr/>
                </p:nvSpPr>
                <p:spPr>
                  <a:xfrm>
                    <a:off x="279720" y="3670200"/>
                    <a:ext cx="979920" cy="24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rPr>
                      <a:t>Gates &gt;&gt;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3319560" y="3220920"/>
                    <a:ext cx="185760" cy="617400"/>
                    <a:chOff x="3319560" y="3220920"/>
                    <a:chExt cx="185760" cy="61740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3319560" y="3566880"/>
                      <a:ext cx="18576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 flipV="1">
                      <a:off x="3411720" y="322092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68" name=""/>
                  <p:cNvSpPr/>
                  <p:nvPr/>
                </p:nvSpPr>
                <p:spPr>
                  <a:xfrm>
                    <a:off x="1208160" y="3497400"/>
                    <a:ext cx="5303880" cy="500040"/>
                  </a:xfrm>
                  <a:prstGeom prst="roundRect">
                    <a:avLst>
                      <a:gd name="adj" fmla="val 50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9" name=""/>
                  <p:cNvGrpSpPr/>
                  <p:nvPr/>
                </p:nvGrpSpPr>
                <p:grpSpPr>
                  <a:xfrm>
                    <a:off x="6219720" y="3395160"/>
                    <a:ext cx="185400" cy="474840"/>
                    <a:chOff x="6219720" y="3395160"/>
                    <a:chExt cx="185400" cy="474840"/>
                  </a:xfrm>
                </p:grpSpPr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6219720" y="3598560"/>
                      <a:ext cx="18540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 flipV="1">
                      <a:off x="6311520" y="3395160"/>
                      <a:ext cx="0" cy="2062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2" name=""/>
                  <p:cNvGrpSpPr/>
                  <p:nvPr/>
                </p:nvGrpSpPr>
                <p:grpSpPr>
                  <a:xfrm>
                    <a:off x="4748040" y="3220920"/>
                    <a:ext cx="185760" cy="617400"/>
                    <a:chOff x="4748040" y="3220920"/>
                    <a:chExt cx="185760" cy="617400"/>
                  </a:xfrm>
                </p:grpSpPr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4748040" y="3566880"/>
                      <a:ext cx="18576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" name=""/>
                    <p:cNvSpPr/>
                    <p:nvPr/>
                  </p:nvSpPr>
                  <p:spPr>
                    <a:xfrm flipV="1">
                      <a:off x="4840200" y="322092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5" name=""/>
                  <p:cNvGrpSpPr/>
                  <p:nvPr/>
                </p:nvGrpSpPr>
                <p:grpSpPr>
                  <a:xfrm>
                    <a:off x="5464080" y="3220920"/>
                    <a:ext cx="185760" cy="617400"/>
                    <a:chOff x="5464080" y="3220920"/>
                    <a:chExt cx="185760" cy="617400"/>
                  </a:xfrm>
                </p:grpSpPr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5464080" y="3566880"/>
                      <a:ext cx="18576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 flipV="1">
                      <a:off x="5556240" y="322092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8" name=""/>
                  <p:cNvGrpSpPr/>
                  <p:nvPr/>
                </p:nvGrpSpPr>
                <p:grpSpPr>
                  <a:xfrm>
                    <a:off x="2422440" y="3252960"/>
                    <a:ext cx="185760" cy="585720"/>
                    <a:chOff x="2422440" y="3252960"/>
                    <a:chExt cx="185760" cy="585720"/>
                  </a:xfrm>
                </p:grpSpPr>
                <p:sp>
                  <p:nvSpPr>
                    <p:cNvPr id="179" name=""/>
                    <p:cNvSpPr/>
                    <p:nvPr/>
                  </p:nvSpPr>
                  <p:spPr>
                    <a:xfrm flipV="1">
                      <a:off x="2514600" y="325296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2422440" y="3567240"/>
                      <a:ext cx="18576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1" name=""/>
                  <p:cNvGrpSpPr/>
                  <p:nvPr/>
                </p:nvGrpSpPr>
                <p:grpSpPr>
                  <a:xfrm>
                    <a:off x="4035600" y="3252960"/>
                    <a:ext cx="185400" cy="585720"/>
                    <a:chOff x="4035600" y="3252960"/>
                    <a:chExt cx="185400" cy="585720"/>
                  </a:xfrm>
                </p:grpSpPr>
                <p:sp>
                  <p:nvSpPr>
                    <p:cNvPr id="182" name=""/>
                    <p:cNvSpPr/>
                    <p:nvPr/>
                  </p:nvSpPr>
                  <p:spPr>
                    <a:xfrm flipV="1">
                      <a:off x="4127400" y="325296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" name=""/>
                    <p:cNvSpPr/>
                    <p:nvPr/>
                  </p:nvSpPr>
                  <p:spPr>
                    <a:xfrm>
                      <a:off x="4035600" y="3567240"/>
                      <a:ext cx="18540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3597120" y="3277800"/>
                    <a:ext cx="141480" cy="473400"/>
                    <a:chOff x="3597120" y="3277800"/>
                    <a:chExt cx="141480" cy="47340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 flipV="1">
                      <a:off x="3668760" y="327780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3597120" y="3616200"/>
                      <a:ext cx="14148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7" name=""/>
                  <p:cNvGrpSpPr/>
                  <p:nvPr/>
                </p:nvGrpSpPr>
                <p:grpSpPr>
                  <a:xfrm>
                    <a:off x="3784680" y="3277800"/>
                    <a:ext cx="141120" cy="473400"/>
                    <a:chOff x="3784680" y="3277800"/>
                    <a:chExt cx="141120" cy="473400"/>
                  </a:xfrm>
                </p:grpSpPr>
                <p:sp>
                  <p:nvSpPr>
                    <p:cNvPr id="188" name=""/>
                    <p:cNvSpPr/>
                    <p:nvPr/>
                  </p:nvSpPr>
                  <p:spPr>
                    <a:xfrm flipV="1">
                      <a:off x="3855960" y="327780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3784680" y="3616200"/>
                      <a:ext cx="14112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0" name=""/>
                  <p:cNvGrpSpPr/>
                  <p:nvPr/>
                </p:nvGrpSpPr>
                <p:grpSpPr>
                  <a:xfrm>
                    <a:off x="4284720" y="3277800"/>
                    <a:ext cx="141120" cy="473400"/>
                    <a:chOff x="4284720" y="3277800"/>
                    <a:chExt cx="141120" cy="473400"/>
                  </a:xfrm>
                </p:grpSpPr>
                <p:sp>
                  <p:nvSpPr>
                    <p:cNvPr id="191" name=""/>
                    <p:cNvSpPr/>
                    <p:nvPr/>
                  </p:nvSpPr>
                  <p:spPr>
                    <a:xfrm flipV="1">
                      <a:off x="4356000" y="327780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4284720" y="3616200"/>
                      <a:ext cx="14112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4498920" y="3277800"/>
                    <a:ext cx="141480" cy="473400"/>
                    <a:chOff x="4498920" y="3277800"/>
                    <a:chExt cx="141480" cy="47340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 flipV="1">
                      <a:off x="4570560" y="327780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498920" y="3616200"/>
                      <a:ext cx="14148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6" name=""/>
                  <p:cNvGrpSpPr/>
                  <p:nvPr/>
                </p:nvGrpSpPr>
                <p:grpSpPr>
                  <a:xfrm>
                    <a:off x="3051000" y="3277800"/>
                    <a:ext cx="141480" cy="473400"/>
                    <a:chOff x="3051000" y="3277800"/>
                    <a:chExt cx="141480" cy="473400"/>
                  </a:xfrm>
                </p:grpSpPr>
                <p:sp>
                  <p:nvSpPr>
                    <p:cNvPr id="197" name=""/>
                    <p:cNvSpPr/>
                    <p:nvPr/>
                  </p:nvSpPr>
                  <p:spPr>
                    <a:xfrm flipV="1">
                      <a:off x="3122640" y="327780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3051000" y="3616200"/>
                      <a:ext cx="14148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9" name=""/>
                  <p:cNvGrpSpPr/>
                  <p:nvPr/>
                </p:nvGrpSpPr>
                <p:grpSpPr>
                  <a:xfrm>
                    <a:off x="5164200" y="3277800"/>
                    <a:ext cx="141120" cy="473400"/>
                    <a:chOff x="5164200" y="3277800"/>
                    <a:chExt cx="141120" cy="473400"/>
                  </a:xfrm>
                </p:grpSpPr>
                <p:sp>
                  <p:nvSpPr>
                    <p:cNvPr id="200" name=""/>
                    <p:cNvSpPr/>
                    <p:nvPr/>
                  </p:nvSpPr>
                  <p:spPr>
                    <a:xfrm flipV="1">
                      <a:off x="5235480" y="327780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5164200" y="3616200"/>
                      <a:ext cx="14112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02" name=""/>
              <p:cNvSpPr/>
              <p:nvPr/>
            </p:nvSpPr>
            <p:spPr>
              <a:xfrm>
                <a:off x="1500120" y="1455840"/>
                <a:ext cx="6210360" cy="32076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Processo de Desenvolvimento de Produt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3" name=""/>
          <p:cNvGrpSpPr/>
          <p:nvPr/>
        </p:nvGrpSpPr>
        <p:grpSpPr>
          <a:xfrm>
            <a:off x="5954040" y="2049480"/>
            <a:ext cx="2783520" cy="2657520"/>
            <a:chOff x="5954040" y="2049480"/>
            <a:chExt cx="2783520" cy="2657520"/>
          </a:xfrm>
        </p:grpSpPr>
        <p:grpSp>
          <p:nvGrpSpPr>
            <p:cNvPr id="204" name=""/>
            <p:cNvGrpSpPr/>
            <p:nvPr/>
          </p:nvGrpSpPr>
          <p:grpSpPr>
            <a:xfrm>
              <a:off x="5954040" y="2049480"/>
              <a:ext cx="2120400" cy="2111040"/>
              <a:chOff x="5954040" y="2049480"/>
              <a:chExt cx="2120400" cy="211104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5988600" y="2130120"/>
                <a:ext cx="2085840" cy="2005560"/>
                <a:chOff x="5988600" y="2130120"/>
                <a:chExt cx="2085840" cy="2005560"/>
              </a:xfrm>
            </p:grpSpPr>
            <p:grpSp>
              <p:nvGrpSpPr>
                <p:cNvPr id="206" name=""/>
                <p:cNvGrpSpPr/>
                <p:nvPr/>
              </p:nvGrpSpPr>
              <p:grpSpPr>
                <a:xfrm>
                  <a:off x="5988600" y="2130120"/>
                  <a:ext cx="2085840" cy="2005560"/>
                  <a:chOff x="5988600" y="2130120"/>
                  <a:chExt cx="2085840" cy="200556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 rot="20339400">
                    <a:off x="6117120" y="2340360"/>
                    <a:ext cx="1353960" cy="968040"/>
                  </a:xfrm>
                  <a:custGeom>
                    <a:avLst/>
                    <a:gdLst/>
                    <a:ahLst/>
                    <a:rect l="l" t="t" r="r" b="b"/>
                    <a:pathLst>
                      <a:path w="1003" h="685">
                        <a:moveTo>
                          <a:pt x="21" y="685"/>
                        </a:moveTo>
                        <a:lnTo>
                          <a:pt x="6" y="604"/>
                        </a:lnTo>
                        <a:lnTo>
                          <a:pt x="0" y="526"/>
                        </a:lnTo>
                        <a:lnTo>
                          <a:pt x="3" y="472"/>
                        </a:lnTo>
                        <a:lnTo>
                          <a:pt x="12" y="423"/>
                        </a:lnTo>
                        <a:lnTo>
                          <a:pt x="27" y="369"/>
                        </a:lnTo>
                        <a:lnTo>
                          <a:pt x="51" y="315"/>
                        </a:lnTo>
                        <a:lnTo>
                          <a:pt x="81" y="258"/>
                        </a:lnTo>
                        <a:lnTo>
                          <a:pt x="111" y="213"/>
                        </a:lnTo>
                        <a:lnTo>
                          <a:pt x="147" y="168"/>
                        </a:lnTo>
                        <a:lnTo>
                          <a:pt x="189" y="129"/>
                        </a:lnTo>
                        <a:lnTo>
                          <a:pt x="231" y="96"/>
                        </a:lnTo>
                        <a:lnTo>
                          <a:pt x="276" y="69"/>
                        </a:lnTo>
                        <a:lnTo>
                          <a:pt x="331" y="45"/>
                        </a:lnTo>
                        <a:lnTo>
                          <a:pt x="394" y="24"/>
                        </a:lnTo>
                        <a:lnTo>
                          <a:pt x="448" y="9"/>
                        </a:lnTo>
                        <a:lnTo>
                          <a:pt x="514" y="0"/>
                        </a:lnTo>
                        <a:lnTo>
                          <a:pt x="598" y="0"/>
                        </a:lnTo>
                        <a:lnTo>
                          <a:pt x="661" y="12"/>
                        </a:lnTo>
                        <a:lnTo>
                          <a:pt x="736" y="30"/>
                        </a:lnTo>
                        <a:lnTo>
                          <a:pt x="811" y="63"/>
                        </a:lnTo>
                        <a:lnTo>
                          <a:pt x="877" y="102"/>
                        </a:lnTo>
                        <a:lnTo>
                          <a:pt x="922" y="141"/>
                        </a:lnTo>
                        <a:lnTo>
                          <a:pt x="967" y="186"/>
                        </a:lnTo>
                        <a:lnTo>
                          <a:pt x="1003" y="231"/>
                        </a:lnTo>
                        <a:lnTo>
                          <a:pt x="907" y="159"/>
                        </a:lnTo>
                        <a:lnTo>
                          <a:pt x="856" y="129"/>
                        </a:lnTo>
                        <a:lnTo>
                          <a:pt x="802" y="108"/>
                        </a:lnTo>
                        <a:lnTo>
                          <a:pt x="733" y="87"/>
                        </a:lnTo>
                        <a:lnTo>
                          <a:pt x="667" y="78"/>
                        </a:lnTo>
                        <a:lnTo>
                          <a:pt x="595" y="75"/>
                        </a:lnTo>
                        <a:lnTo>
                          <a:pt x="541" y="78"/>
                        </a:lnTo>
                        <a:lnTo>
                          <a:pt x="484" y="87"/>
                        </a:lnTo>
                        <a:lnTo>
                          <a:pt x="427" y="102"/>
                        </a:lnTo>
                        <a:lnTo>
                          <a:pt x="373" y="120"/>
                        </a:lnTo>
                        <a:lnTo>
                          <a:pt x="313" y="150"/>
                        </a:lnTo>
                        <a:lnTo>
                          <a:pt x="267" y="177"/>
                        </a:lnTo>
                        <a:lnTo>
                          <a:pt x="228" y="210"/>
                        </a:lnTo>
                        <a:lnTo>
                          <a:pt x="183" y="246"/>
                        </a:lnTo>
                        <a:lnTo>
                          <a:pt x="147" y="285"/>
                        </a:lnTo>
                        <a:lnTo>
                          <a:pt x="111" y="339"/>
                        </a:lnTo>
                        <a:lnTo>
                          <a:pt x="78" y="396"/>
                        </a:lnTo>
                        <a:lnTo>
                          <a:pt x="57" y="450"/>
                        </a:lnTo>
                        <a:lnTo>
                          <a:pt x="39" y="514"/>
                        </a:lnTo>
                        <a:lnTo>
                          <a:pt x="27" y="592"/>
                        </a:lnTo>
                        <a:lnTo>
                          <a:pt x="21" y="685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 rot="20339400">
                    <a:off x="6417360" y="2718720"/>
                    <a:ext cx="1493280" cy="118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06" h="841">
                        <a:moveTo>
                          <a:pt x="0" y="511"/>
                        </a:moveTo>
                        <a:lnTo>
                          <a:pt x="63" y="583"/>
                        </a:lnTo>
                        <a:lnTo>
                          <a:pt x="132" y="646"/>
                        </a:lnTo>
                        <a:lnTo>
                          <a:pt x="195" y="682"/>
                        </a:lnTo>
                        <a:lnTo>
                          <a:pt x="286" y="721"/>
                        </a:lnTo>
                        <a:lnTo>
                          <a:pt x="358" y="742"/>
                        </a:lnTo>
                        <a:lnTo>
                          <a:pt x="424" y="751"/>
                        </a:lnTo>
                        <a:lnTo>
                          <a:pt x="502" y="751"/>
                        </a:lnTo>
                        <a:lnTo>
                          <a:pt x="559" y="745"/>
                        </a:lnTo>
                        <a:lnTo>
                          <a:pt x="628" y="733"/>
                        </a:lnTo>
                        <a:lnTo>
                          <a:pt x="697" y="712"/>
                        </a:lnTo>
                        <a:lnTo>
                          <a:pt x="754" y="682"/>
                        </a:lnTo>
                        <a:lnTo>
                          <a:pt x="808" y="649"/>
                        </a:lnTo>
                        <a:lnTo>
                          <a:pt x="856" y="616"/>
                        </a:lnTo>
                        <a:lnTo>
                          <a:pt x="904" y="568"/>
                        </a:lnTo>
                        <a:lnTo>
                          <a:pt x="952" y="514"/>
                        </a:lnTo>
                        <a:lnTo>
                          <a:pt x="989" y="463"/>
                        </a:lnTo>
                        <a:lnTo>
                          <a:pt x="1010" y="412"/>
                        </a:lnTo>
                        <a:lnTo>
                          <a:pt x="1037" y="331"/>
                        </a:lnTo>
                        <a:lnTo>
                          <a:pt x="1055" y="247"/>
                        </a:lnTo>
                        <a:lnTo>
                          <a:pt x="1058" y="172"/>
                        </a:lnTo>
                        <a:lnTo>
                          <a:pt x="1046" y="90"/>
                        </a:lnTo>
                        <a:lnTo>
                          <a:pt x="1019" y="0"/>
                        </a:lnTo>
                        <a:lnTo>
                          <a:pt x="1046" y="48"/>
                        </a:lnTo>
                        <a:lnTo>
                          <a:pt x="1076" y="117"/>
                        </a:lnTo>
                        <a:lnTo>
                          <a:pt x="1091" y="181"/>
                        </a:lnTo>
                        <a:lnTo>
                          <a:pt x="1106" y="241"/>
                        </a:lnTo>
                        <a:lnTo>
                          <a:pt x="1103" y="292"/>
                        </a:lnTo>
                        <a:lnTo>
                          <a:pt x="1100" y="361"/>
                        </a:lnTo>
                        <a:lnTo>
                          <a:pt x="1064" y="493"/>
                        </a:lnTo>
                        <a:lnTo>
                          <a:pt x="1028" y="565"/>
                        </a:lnTo>
                        <a:lnTo>
                          <a:pt x="983" y="628"/>
                        </a:lnTo>
                        <a:lnTo>
                          <a:pt x="934" y="682"/>
                        </a:lnTo>
                        <a:lnTo>
                          <a:pt x="886" y="721"/>
                        </a:lnTo>
                        <a:lnTo>
                          <a:pt x="820" y="766"/>
                        </a:lnTo>
                        <a:lnTo>
                          <a:pt x="754" y="796"/>
                        </a:lnTo>
                        <a:lnTo>
                          <a:pt x="691" y="817"/>
                        </a:lnTo>
                        <a:lnTo>
                          <a:pt x="610" y="838"/>
                        </a:lnTo>
                        <a:lnTo>
                          <a:pt x="550" y="841"/>
                        </a:lnTo>
                        <a:lnTo>
                          <a:pt x="484" y="841"/>
                        </a:lnTo>
                        <a:lnTo>
                          <a:pt x="418" y="829"/>
                        </a:lnTo>
                        <a:lnTo>
                          <a:pt x="346" y="814"/>
                        </a:lnTo>
                        <a:lnTo>
                          <a:pt x="298" y="796"/>
                        </a:lnTo>
                        <a:lnTo>
                          <a:pt x="234" y="763"/>
                        </a:lnTo>
                        <a:lnTo>
                          <a:pt x="180" y="733"/>
                        </a:lnTo>
                        <a:lnTo>
                          <a:pt x="129" y="691"/>
                        </a:lnTo>
                        <a:lnTo>
                          <a:pt x="75" y="634"/>
                        </a:lnTo>
                        <a:lnTo>
                          <a:pt x="24" y="562"/>
                        </a:lnTo>
                        <a:lnTo>
                          <a:pt x="0" y="51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"/>
                <p:cNvGrpSpPr/>
                <p:nvPr/>
              </p:nvGrpSpPr>
              <p:grpSpPr>
                <a:xfrm>
                  <a:off x="6122520" y="2179080"/>
                  <a:ext cx="1796400" cy="1889640"/>
                  <a:chOff x="6122520" y="2179080"/>
                  <a:chExt cx="1796400" cy="188964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 rot="20339400">
                    <a:off x="6568560" y="3619800"/>
                    <a:ext cx="387000" cy="39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7" h="278">
                        <a:moveTo>
                          <a:pt x="0" y="0"/>
                        </a:moveTo>
                        <a:lnTo>
                          <a:pt x="30" y="56"/>
                        </a:lnTo>
                        <a:lnTo>
                          <a:pt x="59" y="99"/>
                        </a:lnTo>
                        <a:lnTo>
                          <a:pt x="90" y="138"/>
                        </a:lnTo>
                        <a:lnTo>
                          <a:pt x="138" y="185"/>
                        </a:lnTo>
                        <a:lnTo>
                          <a:pt x="174" y="215"/>
                        </a:lnTo>
                        <a:lnTo>
                          <a:pt x="220" y="244"/>
                        </a:lnTo>
                        <a:lnTo>
                          <a:pt x="287" y="278"/>
                        </a:lnTo>
                        <a:lnTo>
                          <a:pt x="212" y="176"/>
                        </a:lnTo>
                        <a:lnTo>
                          <a:pt x="170" y="152"/>
                        </a:lnTo>
                        <a:lnTo>
                          <a:pt x="140" y="131"/>
                        </a:lnTo>
                        <a:lnTo>
                          <a:pt x="96" y="101"/>
                        </a:lnTo>
                        <a:lnTo>
                          <a:pt x="62" y="69"/>
                        </a:lnTo>
                        <a:lnTo>
                          <a:pt x="35" y="4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rot="20339400">
                    <a:off x="7646040" y="2483280"/>
                    <a:ext cx="138960" cy="771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3" h="546">
                        <a:moveTo>
                          <a:pt x="19" y="0"/>
                        </a:moveTo>
                        <a:lnTo>
                          <a:pt x="39" y="37"/>
                        </a:lnTo>
                        <a:lnTo>
                          <a:pt x="52" y="69"/>
                        </a:lnTo>
                        <a:lnTo>
                          <a:pt x="66" y="102"/>
                        </a:lnTo>
                        <a:lnTo>
                          <a:pt x="76" y="134"/>
                        </a:lnTo>
                        <a:lnTo>
                          <a:pt x="84" y="164"/>
                        </a:lnTo>
                        <a:lnTo>
                          <a:pt x="99" y="217"/>
                        </a:lnTo>
                        <a:lnTo>
                          <a:pt x="103" y="269"/>
                        </a:lnTo>
                        <a:lnTo>
                          <a:pt x="100" y="349"/>
                        </a:lnTo>
                        <a:lnTo>
                          <a:pt x="93" y="403"/>
                        </a:lnTo>
                        <a:lnTo>
                          <a:pt x="82" y="447"/>
                        </a:lnTo>
                        <a:lnTo>
                          <a:pt x="65" y="493"/>
                        </a:lnTo>
                        <a:lnTo>
                          <a:pt x="42" y="546"/>
                        </a:lnTo>
                        <a:lnTo>
                          <a:pt x="0" y="443"/>
                        </a:lnTo>
                        <a:lnTo>
                          <a:pt x="19" y="398"/>
                        </a:lnTo>
                        <a:lnTo>
                          <a:pt x="28" y="374"/>
                        </a:lnTo>
                        <a:lnTo>
                          <a:pt x="39" y="343"/>
                        </a:lnTo>
                        <a:lnTo>
                          <a:pt x="46" y="311"/>
                        </a:lnTo>
                        <a:lnTo>
                          <a:pt x="52" y="262"/>
                        </a:lnTo>
                        <a:lnTo>
                          <a:pt x="55" y="221"/>
                        </a:lnTo>
                        <a:lnTo>
                          <a:pt x="55" y="160"/>
                        </a:lnTo>
                        <a:lnTo>
                          <a:pt x="46" y="105"/>
                        </a:lnTo>
                        <a:lnTo>
                          <a:pt x="36" y="60"/>
                        </a:lnTo>
                        <a:lnTo>
                          <a:pt x="30" y="36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 rot="20339400">
                    <a:off x="6697440" y="2269800"/>
                    <a:ext cx="550440" cy="232920"/>
                  </a:xfrm>
                  <a:custGeom>
                    <a:avLst/>
                    <a:gdLst/>
                    <a:ahLst/>
                    <a:rect l="l" t="t" r="r" b="b"/>
                    <a:pathLst>
                      <a:path w="408" h="165">
                        <a:moveTo>
                          <a:pt x="0" y="0"/>
                        </a:moveTo>
                        <a:lnTo>
                          <a:pt x="31" y="60"/>
                        </a:lnTo>
                        <a:lnTo>
                          <a:pt x="79" y="57"/>
                        </a:lnTo>
                        <a:lnTo>
                          <a:pt x="123" y="60"/>
                        </a:lnTo>
                        <a:lnTo>
                          <a:pt x="164" y="66"/>
                        </a:lnTo>
                        <a:lnTo>
                          <a:pt x="202" y="73"/>
                        </a:lnTo>
                        <a:lnTo>
                          <a:pt x="240" y="83"/>
                        </a:lnTo>
                        <a:lnTo>
                          <a:pt x="266" y="91"/>
                        </a:lnTo>
                        <a:lnTo>
                          <a:pt x="300" y="105"/>
                        </a:lnTo>
                        <a:lnTo>
                          <a:pt x="339" y="124"/>
                        </a:lnTo>
                        <a:lnTo>
                          <a:pt x="408" y="165"/>
                        </a:lnTo>
                        <a:lnTo>
                          <a:pt x="368" y="123"/>
                        </a:lnTo>
                        <a:lnTo>
                          <a:pt x="340" y="102"/>
                        </a:lnTo>
                        <a:lnTo>
                          <a:pt x="303" y="78"/>
                        </a:lnTo>
                        <a:lnTo>
                          <a:pt x="280" y="64"/>
                        </a:lnTo>
                        <a:lnTo>
                          <a:pt x="229" y="40"/>
                        </a:lnTo>
                        <a:lnTo>
                          <a:pt x="196" y="28"/>
                        </a:lnTo>
                        <a:lnTo>
                          <a:pt x="169" y="19"/>
                        </a:lnTo>
                        <a:lnTo>
                          <a:pt x="144" y="13"/>
                        </a:lnTo>
                        <a:lnTo>
                          <a:pt x="105" y="6"/>
                        </a:lnTo>
                        <a:lnTo>
                          <a:pt x="64" y="1"/>
                        </a:lnTo>
                        <a:lnTo>
                          <a:pt x="1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 rot="20339400">
                    <a:off x="6214680" y="2889360"/>
                    <a:ext cx="175680" cy="546840"/>
                  </a:xfrm>
                  <a:custGeom>
                    <a:avLst/>
                    <a:gdLst/>
                    <a:ahLst/>
                    <a:rect l="l" t="t" r="r" b="b"/>
                    <a:pathLst>
                      <a:path w="130" h="387">
                        <a:moveTo>
                          <a:pt x="0" y="297"/>
                        </a:moveTo>
                        <a:lnTo>
                          <a:pt x="3" y="267"/>
                        </a:lnTo>
                        <a:lnTo>
                          <a:pt x="5" y="234"/>
                        </a:lnTo>
                        <a:lnTo>
                          <a:pt x="14" y="181"/>
                        </a:lnTo>
                        <a:lnTo>
                          <a:pt x="24" y="139"/>
                        </a:lnTo>
                        <a:lnTo>
                          <a:pt x="38" y="101"/>
                        </a:lnTo>
                        <a:lnTo>
                          <a:pt x="56" y="62"/>
                        </a:lnTo>
                        <a:lnTo>
                          <a:pt x="72" y="32"/>
                        </a:lnTo>
                        <a:lnTo>
                          <a:pt x="92" y="0"/>
                        </a:lnTo>
                        <a:lnTo>
                          <a:pt x="130" y="50"/>
                        </a:lnTo>
                        <a:lnTo>
                          <a:pt x="108" y="80"/>
                        </a:lnTo>
                        <a:lnTo>
                          <a:pt x="92" y="107"/>
                        </a:lnTo>
                        <a:lnTo>
                          <a:pt x="79" y="132"/>
                        </a:lnTo>
                        <a:lnTo>
                          <a:pt x="60" y="167"/>
                        </a:lnTo>
                        <a:lnTo>
                          <a:pt x="48" y="198"/>
                        </a:lnTo>
                        <a:lnTo>
                          <a:pt x="41" y="228"/>
                        </a:lnTo>
                        <a:lnTo>
                          <a:pt x="32" y="258"/>
                        </a:lnTo>
                        <a:lnTo>
                          <a:pt x="26" y="291"/>
                        </a:lnTo>
                        <a:lnTo>
                          <a:pt x="21" y="331"/>
                        </a:lnTo>
                        <a:lnTo>
                          <a:pt x="17" y="371"/>
                        </a:lnTo>
                        <a:lnTo>
                          <a:pt x="10" y="387"/>
                        </a:lnTo>
                        <a:lnTo>
                          <a:pt x="0" y="297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14" name=""/>
              <p:cNvSpPr/>
              <p:nvPr/>
            </p:nvSpPr>
            <p:spPr>
              <a:xfrm rot="20339400">
                <a:off x="6287400" y="2372040"/>
                <a:ext cx="1558080" cy="15609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5954040" y="2049480"/>
                <a:ext cx="2013840" cy="2015640"/>
                <a:chOff x="5954040" y="2049480"/>
                <a:chExt cx="2013840" cy="2015640"/>
              </a:xfrm>
            </p:grpSpPr>
            <p:sp>
              <p:nvSpPr>
                <p:cNvPr id="216" name=""/>
                <p:cNvSpPr/>
                <p:nvPr/>
              </p:nvSpPr>
              <p:spPr>
                <a:xfrm rot="20339400">
                  <a:off x="6199560" y="2297160"/>
                  <a:ext cx="1521360" cy="1523160"/>
                </a:xfrm>
                <a:prstGeom prst="ellipse">
                  <a:avLst/>
                </a:prstGeom>
                <a:noFill/>
                <a:ln w="63360">
                  <a:solidFill>
                    <a:srgbClr val="9f9f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rot="20339400">
                  <a:off x="6181920" y="2276640"/>
                  <a:ext cx="1557720" cy="156096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rot="20339400">
                  <a:off x="6225120" y="2318400"/>
                  <a:ext cx="1471320" cy="14778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9" name=""/>
            <p:cNvGrpSpPr/>
            <p:nvPr/>
          </p:nvGrpSpPr>
          <p:grpSpPr>
            <a:xfrm>
              <a:off x="7524720" y="3368520"/>
              <a:ext cx="1212840" cy="1338480"/>
              <a:chOff x="7524720" y="3368520"/>
              <a:chExt cx="1212840" cy="1338480"/>
            </a:xfrm>
          </p:grpSpPr>
          <p:sp>
            <p:nvSpPr>
              <p:cNvPr id="220" name=""/>
              <p:cNvSpPr/>
              <p:nvPr/>
            </p:nvSpPr>
            <p:spPr>
              <a:xfrm rot="20339400">
                <a:off x="7733160" y="3466800"/>
                <a:ext cx="761400" cy="1141560"/>
              </a:xfrm>
              <a:custGeom>
                <a:avLst/>
                <a:gdLst/>
                <a:ahLst/>
                <a:rect l="l" t="t" r="r" b="b"/>
                <a:pathLst>
                  <a:path w="564" h="808">
                    <a:moveTo>
                      <a:pt x="0" y="60"/>
                    </a:moveTo>
                    <a:lnTo>
                      <a:pt x="400" y="808"/>
                    </a:lnTo>
                    <a:lnTo>
                      <a:pt x="564" y="725"/>
                    </a:lnTo>
                    <a:lnTo>
                      <a:pt x="162" y="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20339400">
                <a:off x="7559640" y="3530880"/>
                <a:ext cx="234360" cy="230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9" y="13846"/>
                    </a:moveTo>
                    <a:arcTo wR="10800" hR="10800" stAng="9816983" swAng="1070753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9" y="13846"/>
                    </a:moveTo>
                    <a:arcTo wR="10800" hR="10800" stAng="9816983" swAng="10707533"/>
                  </a:path>
                </a:pathLst>
              </a:custGeom>
              <a:solidFill>
                <a:srgbClr val="5f3f1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20339400">
                <a:off x="7574400" y="3542040"/>
                <a:ext cx="237600" cy="253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9" y="12020"/>
                    </a:moveTo>
                    <a:arcTo wR="10800" hR="10800" stAng="10410941" swAng="1006962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9" y="12020"/>
                    </a:moveTo>
                    <a:arcTo wR="10800" hR="10800" stAng="10410941" swAng="10069629"/>
                  </a:path>
                </a:pathLst>
              </a:cu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20339400">
                <a:off x="7577640" y="3562200"/>
                <a:ext cx="144360" cy="291960"/>
              </a:xfrm>
              <a:custGeom>
                <a:avLst/>
                <a:gdLst/>
                <a:ahLst/>
                <a:rect l="l" t="t" r="r" b="b"/>
                <a:pathLst>
                  <a:path w="107" h="207">
                    <a:moveTo>
                      <a:pt x="3" y="96"/>
                    </a:moveTo>
                    <a:lnTo>
                      <a:pt x="0" y="82"/>
                    </a:lnTo>
                    <a:lnTo>
                      <a:pt x="0" y="69"/>
                    </a:lnTo>
                    <a:lnTo>
                      <a:pt x="2" y="58"/>
                    </a:lnTo>
                    <a:lnTo>
                      <a:pt x="6" y="42"/>
                    </a:lnTo>
                    <a:lnTo>
                      <a:pt x="12" y="29"/>
                    </a:lnTo>
                    <a:lnTo>
                      <a:pt x="21" y="17"/>
                    </a:lnTo>
                    <a:lnTo>
                      <a:pt x="31" y="7"/>
                    </a:lnTo>
                    <a:lnTo>
                      <a:pt x="41" y="0"/>
                    </a:lnTo>
                    <a:lnTo>
                      <a:pt x="107" y="112"/>
                    </a:lnTo>
                    <a:lnTo>
                      <a:pt x="95" y="119"/>
                    </a:lnTo>
                    <a:lnTo>
                      <a:pt x="87" y="127"/>
                    </a:lnTo>
                    <a:lnTo>
                      <a:pt x="79" y="135"/>
                    </a:lnTo>
                    <a:lnTo>
                      <a:pt x="73" y="145"/>
                    </a:lnTo>
                    <a:lnTo>
                      <a:pt x="66" y="163"/>
                    </a:lnTo>
                    <a:lnTo>
                      <a:pt x="62" y="187"/>
                    </a:lnTo>
                    <a:lnTo>
                      <a:pt x="62" y="207"/>
                    </a:lnTo>
                    <a:lnTo>
                      <a:pt x="3" y="96"/>
                    </a:lnTo>
                    <a:close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20339400">
                <a:off x="7558200" y="3529800"/>
                <a:ext cx="234360" cy="230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03" y="13724"/>
                    </a:moveTo>
                    <a:arcTo wR="10800" hR="10800" stAng="9857570" swAng="51179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03" y="13724"/>
                    </a:moveTo>
                    <a:arcTo wR="10800" hR="10800" stAng="9857570" swAng="5117964"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20339400">
                <a:off x="7695360" y="3649680"/>
                <a:ext cx="235080" cy="230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65" y="13584"/>
                    </a:moveTo>
                    <a:arcTo wR="10800" hR="10800" stAng="9903788" swAng="1069646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65" y="13584"/>
                    </a:moveTo>
                    <a:arcTo wR="10800" hR="10800" stAng="9903788" swAng="10696462"/>
                  </a:path>
                </a:pathLst>
              </a:custGeom>
              <a:solidFill>
                <a:srgbClr val="7f3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7677000" y="3632400"/>
                <a:ext cx="324000" cy="318960"/>
                <a:chOff x="7677000" y="3632400"/>
                <a:chExt cx="324000" cy="318960"/>
              </a:xfrm>
            </p:grpSpPr>
            <p:grpSp>
              <p:nvGrpSpPr>
                <p:cNvPr id="227" name=""/>
                <p:cNvGrpSpPr/>
                <p:nvPr/>
              </p:nvGrpSpPr>
              <p:grpSpPr>
                <a:xfrm>
                  <a:off x="7677000" y="3632400"/>
                  <a:ext cx="303480" cy="300240"/>
                  <a:chOff x="7677000" y="3632400"/>
                  <a:chExt cx="303480" cy="300240"/>
                </a:xfrm>
              </p:grpSpPr>
              <p:sp>
                <p:nvSpPr>
                  <p:cNvPr id="228" name=""/>
                  <p:cNvSpPr/>
                  <p:nvPr/>
                </p:nvSpPr>
                <p:spPr>
                  <a:xfrm rot="20339400">
                    <a:off x="7710480" y="3667680"/>
                    <a:ext cx="235080" cy="230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66" y="13180"/>
                        </a:moveTo>
                        <a:arcTo wR="10800" hR="10800" stAng="10036009" swAng="1069879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66" y="13180"/>
                        </a:moveTo>
                        <a:arcTo wR="10800" hR="10800" stAng="10036009" swAng="10698799"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 rot="20339400">
                    <a:off x="7710120" y="3666960"/>
                    <a:ext cx="236520" cy="230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66" y="13180"/>
                        </a:moveTo>
                        <a:arcTo wR="10800" hR="10800" stAng="10036009" swAng="442384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66" y="13180"/>
                        </a:moveTo>
                        <a:arcTo wR="10800" hR="10800" stAng="10036009" swAng="4423841"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 rot="20339400">
                    <a:off x="7711920" y="3667320"/>
                    <a:ext cx="235080" cy="230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01" y="13334"/>
                        </a:moveTo>
                        <a:arcTo wR="10800" hR="10800" stAng="9985831" swAng="1070765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01" y="13334"/>
                        </a:moveTo>
                        <a:arcTo wR="10800" hR="10800" stAng="9985831" swAng="10707652"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1" name=""/>
                <p:cNvSpPr/>
                <p:nvPr/>
              </p:nvSpPr>
              <p:spPr>
                <a:xfrm rot="20339400">
                  <a:off x="7732080" y="3686760"/>
                  <a:ext cx="235440" cy="229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01" y="13334"/>
                      </a:moveTo>
                      <a:arcTo wR="10800" hR="10800" stAng="9985831" swAng="1070765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01" y="13334"/>
                      </a:moveTo>
                      <a:arcTo wR="10800" hR="10800" stAng="9985831" swAng="10707652"/>
                    </a:path>
                  </a:pathLst>
                </a:custGeom>
                <a:solidFill>
                  <a:srgbClr val="7f3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2" name=""/>
              <p:cNvGrpSpPr/>
              <p:nvPr/>
            </p:nvGrpSpPr>
            <p:grpSpPr>
              <a:xfrm>
                <a:off x="7715880" y="3669480"/>
                <a:ext cx="323640" cy="319320"/>
                <a:chOff x="7715880" y="3669480"/>
                <a:chExt cx="323640" cy="31932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7715880" y="3669480"/>
                  <a:ext cx="303480" cy="300240"/>
                  <a:chOff x="7715880" y="3669480"/>
                  <a:chExt cx="303480" cy="30024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 rot="20339400">
                    <a:off x="7749360" y="3704400"/>
                    <a:ext cx="236160" cy="230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38" y="13054"/>
                        </a:moveTo>
                        <a:arcTo wR="10800" hR="10800" stAng="10077178" swAng="1069921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38" y="13054"/>
                        </a:moveTo>
                        <a:arcTo wR="10800" hR="10800" stAng="10077178" swAng="10699212"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 rot="20339400">
                    <a:off x="7749360" y="3704040"/>
                    <a:ext cx="236520" cy="230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38" y="13054"/>
                        </a:moveTo>
                        <a:arcTo wR="10800" hR="10800" stAng="10077178" swAng="438267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38" y="13054"/>
                        </a:moveTo>
                        <a:arcTo wR="10800" hR="10800" stAng="10077178" swAng="4382672"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 rot="20339400">
                    <a:off x="7750800" y="3704040"/>
                    <a:ext cx="234720" cy="230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66" y="13180"/>
                        </a:moveTo>
                        <a:arcTo wR="10800" hR="10800" stAng="10036009" swAng="1069879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66" y="13180"/>
                        </a:moveTo>
                        <a:arcTo wR="10800" hR="10800" stAng="10036009" swAng="10698799"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7" name=""/>
                <p:cNvSpPr/>
                <p:nvPr/>
              </p:nvSpPr>
              <p:spPr>
                <a:xfrm rot="20339400">
                  <a:off x="7770960" y="3723480"/>
                  <a:ext cx="235080" cy="230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6" y="13180"/>
                      </a:moveTo>
                      <a:arcTo wR="10800" hR="10800" stAng="10036009" swAng="1069879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6" y="13180"/>
                      </a:moveTo>
                      <a:arcTo wR="10800" hR="10800" stAng="10036009" swAng="10698799"/>
                    </a:path>
                  </a:pathLst>
                </a:custGeom>
                <a:solidFill>
                  <a:srgbClr val="7f3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7754760" y="3702960"/>
                <a:ext cx="304200" cy="300240"/>
                <a:chOff x="7754760" y="3702960"/>
                <a:chExt cx="304200" cy="300240"/>
              </a:xfrm>
            </p:grpSpPr>
            <p:sp>
              <p:nvSpPr>
                <p:cNvPr id="239" name=""/>
                <p:cNvSpPr/>
                <p:nvPr/>
              </p:nvSpPr>
              <p:spPr>
                <a:xfrm rot="20339400">
                  <a:off x="7787880" y="3738240"/>
                  <a:ext cx="235800" cy="230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" y="12927"/>
                      </a:moveTo>
                      <a:arcTo wR="10800" hR="10800" stAng="10118559" swAng="1070865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" y="12927"/>
                      </a:moveTo>
                      <a:arcTo wR="10800" hR="10800" stAng="10118559" swAng="10708656"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20339400">
                  <a:off x="7788240" y="3737520"/>
                  <a:ext cx="237240" cy="230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" y="12927"/>
                      </a:moveTo>
                      <a:arcTo wR="10800" hR="10800" stAng="10118559" swAng="43412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" y="12927"/>
                      </a:moveTo>
                      <a:arcTo wR="10800" hR="10800" stAng="10118559" swAng="4341291"/>
                    </a:path>
                  </a:pathLst>
                </a:custGeom>
                <a:solidFill>
                  <a:srgbClr val="3f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" name=""/>
              <p:cNvGrpSpPr/>
              <p:nvPr/>
            </p:nvGrpSpPr>
            <p:grpSpPr>
              <a:xfrm>
                <a:off x="7756200" y="3703320"/>
                <a:ext cx="322920" cy="318600"/>
                <a:chOff x="7756200" y="3703320"/>
                <a:chExt cx="322920" cy="318600"/>
              </a:xfrm>
            </p:grpSpPr>
            <p:sp>
              <p:nvSpPr>
                <p:cNvPr id="242" name=""/>
                <p:cNvSpPr/>
                <p:nvPr/>
              </p:nvSpPr>
              <p:spPr>
                <a:xfrm rot="20339400">
                  <a:off x="7789320" y="3737880"/>
                  <a:ext cx="236160" cy="230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38" y="13054"/>
                      </a:moveTo>
                      <a:arcTo wR="10800" hR="10800" stAng="10077178" swAng="1069921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38" y="13054"/>
                      </a:moveTo>
                      <a:arcTo wR="10800" hR="10800" stAng="10077178" swAng="10699212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rot="20339400">
                  <a:off x="7809480" y="3756960"/>
                  <a:ext cx="235800" cy="230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38" y="13054"/>
                      </a:moveTo>
                      <a:arcTo wR="10800" hR="10800" stAng="10077178" swAng="1069921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38" y="13054"/>
                      </a:moveTo>
                      <a:arcTo wR="10800" hR="10800" stAng="10077178" swAng="10699212"/>
                    </a:path>
                  </a:pathLst>
                </a:custGeom>
                <a:solidFill>
                  <a:srgbClr val="7f3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4" name=""/>
              <p:cNvGrpSpPr/>
              <p:nvPr/>
            </p:nvGrpSpPr>
            <p:grpSpPr>
              <a:xfrm>
                <a:off x="7585920" y="3565440"/>
                <a:ext cx="1047240" cy="953640"/>
                <a:chOff x="7585920" y="3565440"/>
                <a:chExt cx="1047240" cy="95364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7763040" y="3565440"/>
                  <a:ext cx="870120" cy="756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7585920" y="3720960"/>
                  <a:ext cx="887760" cy="798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7793640" y="3736080"/>
                <a:ext cx="320760" cy="315360"/>
                <a:chOff x="7793640" y="3736080"/>
                <a:chExt cx="320760" cy="315360"/>
              </a:xfrm>
            </p:grpSpPr>
            <p:grpSp>
              <p:nvGrpSpPr>
                <p:cNvPr id="248" name=""/>
                <p:cNvGrpSpPr/>
                <p:nvPr/>
              </p:nvGrpSpPr>
              <p:grpSpPr>
                <a:xfrm>
                  <a:off x="7793640" y="3736080"/>
                  <a:ext cx="303480" cy="299880"/>
                  <a:chOff x="7793640" y="3736080"/>
                  <a:chExt cx="303480" cy="29988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 rot="20339400">
                    <a:off x="7826760" y="3771360"/>
                    <a:ext cx="235440" cy="229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7" y="12799"/>
                        </a:moveTo>
                        <a:arcTo wR="10800" hR="10800" stAng="10160141" swAng="1070868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7" y="12799"/>
                        </a:moveTo>
                        <a:arcTo wR="10800" hR="10800" stAng="10160141" swAng="10708688"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rot="20339400">
                    <a:off x="7826760" y="3770640"/>
                    <a:ext cx="236520" cy="230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7" y="12799"/>
                        </a:moveTo>
                        <a:arcTo wR="10800" hR="10800" stAng="10160141" swAng="429970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7" y="12799"/>
                        </a:moveTo>
                        <a:arcTo wR="10800" hR="10800" stAng="10160141" swAng="4299709"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"/>
                <p:cNvSpPr/>
                <p:nvPr/>
              </p:nvSpPr>
              <p:spPr>
                <a:xfrm rot="20339400">
                  <a:off x="7827840" y="3771000"/>
                  <a:ext cx="235800" cy="229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" y="12927"/>
                      </a:moveTo>
                      <a:arcTo wR="10800" hR="10800" stAng="10118559" swAng="1070865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" y="12927"/>
                      </a:moveTo>
                      <a:arcTo wR="10800" hR="10800" stAng="10118559" swAng="10708656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 rot="20339400">
                  <a:off x="7845480" y="3786840"/>
                  <a:ext cx="235440" cy="229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01" y="13334"/>
                      </a:moveTo>
                      <a:arcTo wR="10800" hR="10800" stAng="9985831" swAng="1070765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01" y="13334"/>
                      </a:moveTo>
                      <a:arcTo wR="10800" hR="10800" stAng="9985831" swAng="10707652"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3" name=""/>
              <p:cNvSpPr/>
              <p:nvPr/>
            </p:nvSpPr>
            <p:spPr>
              <a:xfrm rot="20339400">
                <a:off x="7945200" y="3731760"/>
                <a:ext cx="469440" cy="843480"/>
              </a:xfrm>
              <a:custGeom>
                <a:avLst/>
                <a:gdLst/>
                <a:ahLst/>
                <a:rect l="l" t="t" r="r" b="b"/>
                <a:pathLst>
                  <a:path w="348" h="597">
                    <a:moveTo>
                      <a:pt x="44" y="0"/>
                    </a:moveTo>
                    <a:lnTo>
                      <a:pt x="31" y="8"/>
                    </a:lnTo>
                    <a:lnTo>
                      <a:pt x="21" y="16"/>
                    </a:lnTo>
                    <a:lnTo>
                      <a:pt x="12" y="26"/>
                    </a:lnTo>
                    <a:lnTo>
                      <a:pt x="8" y="36"/>
                    </a:lnTo>
                    <a:lnTo>
                      <a:pt x="4" y="47"/>
                    </a:lnTo>
                    <a:lnTo>
                      <a:pt x="1" y="58"/>
                    </a:lnTo>
                    <a:lnTo>
                      <a:pt x="0" y="71"/>
                    </a:lnTo>
                    <a:lnTo>
                      <a:pt x="0" y="86"/>
                    </a:lnTo>
                    <a:lnTo>
                      <a:pt x="270" y="597"/>
                    </a:lnTo>
                    <a:lnTo>
                      <a:pt x="348" y="543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0339400">
                <a:off x="8443440" y="4309560"/>
                <a:ext cx="256320" cy="258480"/>
              </a:xfrm>
              <a:prstGeom prst="ellipse">
                <a:avLst/>
              </a:prstGeom>
              <a:solidFill>
                <a:srgbClr val="7f5f3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Síntese do que foi visto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 (2/2)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36520" y="1071720"/>
            <a:ext cx="867096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sta fase, realiza-se a auditoria pós-projeto, avalia-se a satisfação dos clientes e monitora-se o desempenho do produto sob diversos foco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encerramento dessa fase não é marcado por uma atividade final, mas, sim, pela definição do fim da produção das peças de reposição, ou seja, ele coincide com o fim da vida do produ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81160" y="0"/>
            <a:ext cx="73879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6"/>
                </a:solidFill>
                <a:latin typeface="Arial"/>
              </a:rPr>
              <a:t>Informações principais e dependência entre as atividades da fase de Acompanhar Produto e Processo</a:t>
            </a:r>
            <a:endParaRPr b="0" lang="en-US" sz="2000" spc="-1" strike="noStrike">
              <a:solidFill>
                <a:srgbClr val="000096"/>
              </a:solidFill>
              <a:latin typeface="Arial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193680" y="846000"/>
            <a:ext cx="8550360" cy="5933160"/>
            <a:chOff x="193680" y="846000"/>
            <a:chExt cx="8550360" cy="5933160"/>
          </a:xfrm>
        </p:grpSpPr>
        <p:sp>
          <p:nvSpPr>
            <p:cNvPr id="434" name=""/>
            <p:cNvSpPr/>
            <p:nvPr/>
          </p:nvSpPr>
          <p:spPr>
            <a:xfrm>
              <a:off x="2889360" y="1677960"/>
              <a:ext cx="5854680" cy="4597560"/>
            </a:xfrm>
            <a:custGeom>
              <a:avLst/>
              <a:gdLst/>
              <a:ahLst/>
              <a:rect l="l" t="t" r="r" b="b"/>
              <a:pathLst>
                <a:path w="3713" h="2896">
                  <a:moveTo>
                    <a:pt x="0" y="1129"/>
                  </a:moveTo>
                  <a:lnTo>
                    <a:pt x="973" y="0"/>
                  </a:lnTo>
                  <a:lnTo>
                    <a:pt x="3713" y="6"/>
                  </a:lnTo>
                  <a:lnTo>
                    <a:pt x="3713" y="2896"/>
                  </a:lnTo>
                  <a:lnTo>
                    <a:pt x="980" y="2896"/>
                  </a:lnTo>
                  <a:lnTo>
                    <a:pt x="25" y="1640"/>
                  </a:lnTo>
                  <a:lnTo>
                    <a:pt x="0" y="112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1120680" y="3278160"/>
              <a:ext cx="1800000" cy="1245960"/>
              <a:chOff x="1120680" y="3278160"/>
              <a:chExt cx="1800000" cy="1245960"/>
            </a:xfrm>
          </p:grpSpPr>
          <p:sp>
            <p:nvSpPr>
              <p:cNvPr id="436" name=""/>
              <p:cNvSpPr/>
              <p:nvPr/>
            </p:nvSpPr>
            <p:spPr>
              <a:xfrm>
                <a:off x="1120680" y="3439800"/>
                <a:ext cx="1800000" cy="866880"/>
              </a:xfrm>
              <a:custGeom>
                <a:avLst/>
                <a:gdLst/>
                <a:ahLst/>
                <a:rect l="l" t="t" r="r" b="b"/>
                <a:pathLst>
                  <a:path w="990" h="546">
                    <a:moveTo>
                      <a:pt x="93" y="0"/>
                    </a:moveTo>
                    <a:lnTo>
                      <a:pt x="84" y="0"/>
                    </a:lnTo>
                    <a:lnTo>
                      <a:pt x="75" y="2"/>
                    </a:lnTo>
                    <a:lnTo>
                      <a:pt x="65" y="3"/>
                    </a:lnTo>
                    <a:lnTo>
                      <a:pt x="56" y="7"/>
                    </a:lnTo>
                    <a:lnTo>
                      <a:pt x="49" y="11"/>
                    </a:lnTo>
                    <a:lnTo>
                      <a:pt x="42" y="16"/>
                    </a:lnTo>
                    <a:lnTo>
                      <a:pt x="34" y="21"/>
                    </a:lnTo>
                    <a:lnTo>
                      <a:pt x="27" y="27"/>
                    </a:lnTo>
                    <a:lnTo>
                      <a:pt x="22" y="34"/>
                    </a:lnTo>
                    <a:lnTo>
                      <a:pt x="16" y="39"/>
                    </a:lnTo>
                    <a:lnTo>
                      <a:pt x="13" y="48"/>
                    </a:lnTo>
                    <a:lnTo>
                      <a:pt x="7" y="55"/>
                    </a:lnTo>
                    <a:lnTo>
                      <a:pt x="5" y="64"/>
                    </a:lnTo>
                    <a:lnTo>
                      <a:pt x="2" y="73"/>
                    </a:lnTo>
                    <a:lnTo>
                      <a:pt x="2" y="82"/>
                    </a:lnTo>
                    <a:lnTo>
                      <a:pt x="0" y="91"/>
                    </a:lnTo>
                    <a:lnTo>
                      <a:pt x="0" y="455"/>
                    </a:lnTo>
                    <a:lnTo>
                      <a:pt x="2" y="464"/>
                    </a:lnTo>
                    <a:lnTo>
                      <a:pt x="2" y="473"/>
                    </a:lnTo>
                    <a:lnTo>
                      <a:pt x="5" y="482"/>
                    </a:lnTo>
                    <a:lnTo>
                      <a:pt x="7" y="491"/>
                    </a:lnTo>
                    <a:lnTo>
                      <a:pt x="13" y="498"/>
                    </a:lnTo>
                    <a:lnTo>
                      <a:pt x="16" y="505"/>
                    </a:lnTo>
                    <a:lnTo>
                      <a:pt x="22" y="512"/>
                    </a:lnTo>
                    <a:lnTo>
                      <a:pt x="27" y="520"/>
                    </a:lnTo>
                    <a:lnTo>
                      <a:pt x="34" y="525"/>
                    </a:lnTo>
                    <a:lnTo>
                      <a:pt x="42" y="530"/>
                    </a:lnTo>
                    <a:lnTo>
                      <a:pt x="49" y="536"/>
                    </a:lnTo>
                    <a:lnTo>
                      <a:pt x="56" y="539"/>
                    </a:lnTo>
                    <a:lnTo>
                      <a:pt x="65" y="541"/>
                    </a:lnTo>
                    <a:lnTo>
                      <a:pt x="75" y="545"/>
                    </a:lnTo>
                    <a:lnTo>
                      <a:pt x="84" y="545"/>
                    </a:lnTo>
                    <a:lnTo>
                      <a:pt x="93" y="546"/>
                    </a:lnTo>
                    <a:lnTo>
                      <a:pt x="897" y="546"/>
                    </a:lnTo>
                    <a:lnTo>
                      <a:pt x="906" y="545"/>
                    </a:lnTo>
                    <a:lnTo>
                      <a:pt x="915" y="545"/>
                    </a:lnTo>
                    <a:lnTo>
                      <a:pt x="924" y="541"/>
                    </a:lnTo>
                    <a:lnTo>
                      <a:pt x="933" y="539"/>
                    </a:lnTo>
                    <a:lnTo>
                      <a:pt x="941" y="536"/>
                    </a:lnTo>
                    <a:lnTo>
                      <a:pt x="948" y="530"/>
                    </a:lnTo>
                    <a:lnTo>
                      <a:pt x="955" y="525"/>
                    </a:lnTo>
                    <a:lnTo>
                      <a:pt x="962" y="520"/>
                    </a:lnTo>
                    <a:lnTo>
                      <a:pt x="968" y="512"/>
                    </a:lnTo>
                    <a:lnTo>
                      <a:pt x="973" y="505"/>
                    </a:lnTo>
                    <a:lnTo>
                      <a:pt x="977" y="498"/>
                    </a:lnTo>
                    <a:lnTo>
                      <a:pt x="982" y="491"/>
                    </a:lnTo>
                    <a:lnTo>
                      <a:pt x="984" y="482"/>
                    </a:lnTo>
                    <a:lnTo>
                      <a:pt x="988" y="473"/>
                    </a:lnTo>
                    <a:lnTo>
                      <a:pt x="988" y="464"/>
                    </a:lnTo>
                    <a:lnTo>
                      <a:pt x="990" y="455"/>
                    </a:lnTo>
                    <a:lnTo>
                      <a:pt x="990" y="91"/>
                    </a:lnTo>
                    <a:lnTo>
                      <a:pt x="988" y="82"/>
                    </a:lnTo>
                    <a:lnTo>
                      <a:pt x="988" y="73"/>
                    </a:lnTo>
                    <a:lnTo>
                      <a:pt x="984" y="64"/>
                    </a:lnTo>
                    <a:lnTo>
                      <a:pt x="982" y="55"/>
                    </a:lnTo>
                    <a:lnTo>
                      <a:pt x="977" y="48"/>
                    </a:lnTo>
                    <a:lnTo>
                      <a:pt x="973" y="39"/>
                    </a:lnTo>
                    <a:lnTo>
                      <a:pt x="968" y="34"/>
                    </a:lnTo>
                    <a:lnTo>
                      <a:pt x="962" y="27"/>
                    </a:lnTo>
                    <a:lnTo>
                      <a:pt x="955" y="21"/>
                    </a:lnTo>
                    <a:lnTo>
                      <a:pt x="948" y="16"/>
                    </a:lnTo>
                    <a:lnTo>
                      <a:pt x="941" y="11"/>
                    </a:lnTo>
                    <a:lnTo>
                      <a:pt x="933" y="7"/>
                    </a:lnTo>
                    <a:lnTo>
                      <a:pt x="924" y="3"/>
                    </a:lnTo>
                    <a:lnTo>
                      <a:pt x="915" y="2"/>
                    </a:lnTo>
                    <a:lnTo>
                      <a:pt x="906" y="0"/>
                    </a:lnTo>
                    <a:lnTo>
                      <a:pt x="897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120680" y="3439800"/>
                <a:ext cx="1800000" cy="866880"/>
              </a:xfrm>
              <a:custGeom>
                <a:avLst/>
                <a:gdLst/>
                <a:ahLst/>
                <a:rect l="l" t="t" r="r" b="b"/>
                <a:pathLst>
                  <a:path w="990" h="546">
                    <a:moveTo>
                      <a:pt x="93" y="0"/>
                    </a:moveTo>
                    <a:lnTo>
                      <a:pt x="84" y="0"/>
                    </a:lnTo>
                    <a:lnTo>
                      <a:pt x="75" y="2"/>
                    </a:lnTo>
                    <a:lnTo>
                      <a:pt x="65" y="3"/>
                    </a:lnTo>
                    <a:lnTo>
                      <a:pt x="56" y="7"/>
                    </a:lnTo>
                    <a:lnTo>
                      <a:pt x="49" y="11"/>
                    </a:lnTo>
                    <a:lnTo>
                      <a:pt x="42" y="16"/>
                    </a:lnTo>
                    <a:lnTo>
                      <a:pt x="34" y="21"/>
                    </a:lnTo>
                    <a:lnTo>
                      <a:pt x="27" y="27"/>
                    </a:lnTo>
                    <a:lnTo>
                      <a:pt x="22" y="34"/>
                    </a:lnTo>
                    <a:lnTo>
                      <a:pt x="16" y="39"/>
                    </a:lnTo>
                    <a:lnTo>
                      <a:pt x="13" y="48"/>
                    </a:lnTo>
                    <a:lnTo>
                      <a:pt x="7" y="55"/>
                    </a:lnTo>
                    <a:lnTo>
                      <a:pt x="5" y="64"/>
                    </a:lnTo>
                    <a:lnTo>
                      <a:pt x="2" y="73"/>
                    </a:lnTo>
                    <a:lnTo>
                      <a:pt x="2" y="82"/>
                    </a:lnTo>
                    <a:lnTo>
                      <a:pt x="0" y="91"/>
                    </a:lnTo>
                    <a:lnTo>
                      <a:pt x="0" y="455"/>
                    </a:lnTo>
                    <a:lnTo>
                      <a:pt x="2" y="464"/>
                    </a:lnTo>
                    <a:lnTo>
                      <a:pt x="2" y="473"/>
                    </a:lnTo>
                    <a:lnTo>
                      <a:pt x="5" y="482"/>
                    </a:lnTo>
                    <a:lnTo>
                      <a:pt x="7" y="491"/>
                    </a:lnTo>
                    <a:lnTo>
                      <a:pt x="13" y="498"/>
                    </a:lnTo>
                    <a:lnTo>
                      <a:pt x="16" y="505"/>
                    </a:lnTo>
                    <a:lnTo>
                      <a:pt x="22" y="512"/>
                    </a:lnTo>
                    <a:lnTo>
                      <a:pt x="27" y="520"/>
                    </a:lnTo>
                    <a:lnTo>
                      <a:pt x="34" y="525"/>
                    </a:lnTo>
                    <a:lnTo>
                      <a:pt x="42" y="530"/>
                    </a:lnTo>
                    <a:lnTo>
                      <a:pt x="49" y="536"/>
                    </a:lnTo>
                    <a:lnTo>
                      <a:pt x="56" y="539"/>
                    </a:lnTo>
                    <a:lnTo>
                      <a:pt x="65" y="541"/>
                    </a:lnTo>
                    <a:lnTo>
                      <a:pt x="75" y="545"/>
                    </a:lnTo>
                    <a:lnTo>
                      <a:pt x="84" y="545"/>
                    </a:lnTo>
                    <a:lnTo>
                      <a:pt x="93" y="546"/>
                    </a:lnTo>
                    <a:lnTo>
                      <a:pt x="897" y="546"/>
                    </a:lnTo>
                    <a:lnTo>
                      <a:pt x="906" y="545"/>
                    </a:lnTo>
                    <a:lnTo>
                      <a:pt x="915" y="545"/>
                    </a:lnTo>
                    <a:lnTo>
                      <a:pt x="924" y="541"/>
                    </a:lnTo>
                    <a:lnTo>
                      <a:pt x="933" y="539"/>
                    </a:lnTo>
                    <a:lnTo>
                      <a:pt x="941" y="536"/>
                    </a:lnTo>
                    <a:lnTo>
                      <a:pt x="948" y="530"/>
                    </a:lnTo>
                    <a:lnTo>
                      <a:pt x="955" y="525"/>
                    </a:lnTo>
                    <a:lnTo>
                      <a:pt x="962" y="520"/>
                    </a:lnTo>
                    <a:lnTo>
                      <a:pt x="968" y="512"/>
                    </a:lnTo>
                    <a:lnTo>
                      <a:pt x="973" y="505"/>
                    </a:lnTo>
                    <a:lnTo>
                      <a:pt x="977" y="498"/>
                    </a:lnTo>
                    <a:lnTo>
                      <a:pt x="982" y="491"/>
                    </a:lnTo>
                    <a:lnTo>
                      <a:pt x="984" y="482"/>
                    </a:lnTo>
                    <a:lnTo>
                      <a:pt x="988" y="473"/>
                    </a:lnTo>
                    <a:lnTo>
                      <a:pt x="988" y="464"/>
                    </a:lnTo>
                    <a:lnTo>
                      <a:pt x="990" y="455"/>
                    </a:lnTo>
                    <a:lnTo>
                      <a:pt x="990" y="91"/>
                    </a:lnTo>
                    <a:lnTo>
                      <a:pt x="988" y="82"/>
                    </a:lnTo>
                    <a:lnTo>
                      <a:pt x="988" y="73"/>
                    </a:lnTo>
                    <a:lnTo>
                      <a:pt x="984" y="64"/>
                    </a:lnTo>
                    <a:lnTo>
                      <a:pt x="982" y="55"/>
                    </a:lnTo>
                    <a:lnTo>
                      <a:pt x="977" y="48"/>
                    </a:lnTo>
                    <a:lnTo>
                      <a:pt x="973" y="39"/>
                    </a:lnTo>
                    <a:lnTo>
                      <a:pt x="968" y="34"/>
                    </a:lnTo>
                    <a:lnTo>
                      <a:pt x="962" y="27"/>
                    </a:lnTo>
                    <a:lnTo>
                      <a:pt x="955" y="21"/>
                    </a:lnTo>
                    <a:lnTo>
                      <a:pt x="948" y="16"/>
                    </a:lnTo>
                    <a:lnTo>
                      <a:pt x="941" y="11"/>
                    </a:lnTo>
                    <a:lnTo>
                      <a:pt x="933" y="7"/>
                    </a:lnTo>
                    <a:lnTo>
                      <a:pt x="924" y="3"/>
                    </a:lnTo>
                    <a:lnTo>
                      <a:pt x="915" y="2"/>
                    </a:lnTo>
                    <a:lnTo>
                      <a:pt x="906" y="0"/>
                    </a:lnTo>
                    <a:lnTo>
                      <a:pt x="897" y="0"/>
                    </a:lnTo>
                    <a:lnTo>
                      <a:pt x="93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473480" y="3508200"/>
                <a:ext cx="12870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Acompanhar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616400" y="3763800"/>
                <a:ext cx="9975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Produto e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636920" y="4019400"/>
                <a:ext cx="9622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Processo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658880" y="4378320"/>
                <a:ext cx="721440" cy="145800"/>
              </a:xfrm>
              <a:custGeom>
                <a:avLst/>
                <a:gdLst/>
                <a:ahLst/>
                <a:rect l="l" t="t" r="r" b="b"/>
                <a:pathLst>
                  <a:path w="397" h="92">
                    <a:moveTo>
                      <a:pt x="199" y="92"/>
                    </a:moveTo>
                    <a:lnTo>
                      <a:pt x="397" y="0"/>
                    </a:lnTo>
                    <a:lnTo>
                      <a:pt x="0" y="0"/>
                    </a:lnTo>
                    <a:lnTo>
                      <a:pt x="199" y="92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658880" y="3278160"/>
                <a:ext cx="721440" cy="141120"/>
              </a:xfrm>
              <a:custGeom>
                <a:avLst/>
                <a:gdLst/>
                <a:ahLst/>
                <a:rect l="l" t="t" r="r" b="b"/>
                <a:pathLst>
                  <a:path w="397" h="89">
                    <a:moveTo>
                      <a:pt x="199" y="89"/>
                    </a:moveTo>
                    <a:lnTo>
                      <a:pt x="397" y="0"/>
                    </a:lnTo>
                    <a:lnTo>
                      <a:pt x="0" y="0"/>
                    </a:lnTo>
                    <a:lnTo>
                      <a:pt x="199" y="89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120680" y="3439800"/>
                <a:ext cx="1800000" cy="866880"/>
              </a:xfrm>
              <a:custGeom>
                <a:avLst/>
                <a:gdLst/>
                <a:ahLst/>
                <a:rect l="l" t="t" r="r" b="b"/>
                <a:pathLst>
                  <a:path w="990" h="546">
                    <a:moveTo>
                      <a:pt x="93" y="0"/>
                    </a:moveTo>
                    <a:lnTo>
                      <a:pt x="84" y="0"/>
                    </a:lnTo>
                    <a:lnTo>
                      <a:pt x="75" y="2"/>
                    </a:lnTo>
                    <a:lnTo>
                      <a:pt x="65" y="3"/>
                    </a:lnTo>
                    <a:lnTo>
                      <a:pt x="56" y="7"/>
                    </a:lnTo>
                    <a:lnTo>
                      <a:pt x="49" y="11"/>
                    </a:lnTo>
                    <a:lnTo>
                      <a:pt x="42" y="16"/>
                    </a:lnTo>
                    <a:lnTo>
                      <a:pt x="34" y="21"/>
                    </a:lnTo>
                    <a:lnTo>
                      <a:pt x="27" y="27"/>
                    </a:lnTo>
                    <a:lnTo>
                      <a:pt x="22" y="34"/>
                    </a:lnTo>
                    <a:lnTo>
                      <a:pt x="16" y="39"/>
                    </a:lnTo>
                    <a:lnTo>
                      <a:pt x="13" y="48"/>
                    </a:lnTo>
                    <a:lnTo>
                      <a:pt x="7" y="55"/>
                    </a:lnTo>
                    <a:lnTo>
                      <a:pt x="5" y="64"/>
                    </a:lnTo>
                    <a:lnTo>
                      <a:pt x="2" y="73"/>
                    </a:lnTo>
                    <a:lnTo>
                      <a:pt x="2" y="82"/>
                    </a:lnTo>
                    <a:lnTo>
                      <a:pt x="0" y="91"/>
                    </a:lnTo>
                    <a:lnTo>
                      <a:pt x="0" y="455"/>
                    </a:lnTo>
                    <a:lnTo>
                      <a:pt x="2" y="464"/>
                    </a:lnTo>
                    <a:lnTo>
                      <a:pt x="2" y="473"/>
                    </a:lnTo>
                    <a:lnTo>
                      <a:pt x="5" y="482"/>
                    </a:lnTo>
                    <a:lnTo>
                      <a:pt x="7" y="491"/>
                    </a:lnTo>
                    <a:lnTo>
                      <a:pt x="13" y="498"/>
                    </a:lnTo>
                    <a:lnTo>
                      <a:pt x="16" y="505"/>
                    </a:lnTo>
                    <a:lnTo>
                      <a:pt x="22" y="512"/>
                    </a:lnTo>
                    <a:lnTo>
                      <a:pt x="27" y="520"/>
                    </a:lnTo>
                    <a:lnTo>
                      <a:pt x="34" y="525"/>
                    </a:lnTo>
                    <a:lnTo>
                      <a:pt x="42" y="530"/>
                    </a:lnTo>
                    <a:lnTo>
                      <a:pt x="49" y="536"/>
                    </a:lnTo>
                    <a:lnTo>
                      <a:pt x="56" y="539"/>
                    </a:lnTo>
                    <a:lnTo>
                      <a:pt x="65" y="541"/>
                    </a:lnTo>
                    <a:lnTo>
                      <a:pt x="75" y="545"/>
                    </a:lnTo>
                    <a:lnTo>
                      <a:pt x="84" y="545"/>
                    </a:lnTo>
                    <a:lnTo>
                      <a:pt x="93" y="546"/>
                    </a:lnTo>
                    <a:lnTo>
                      <a:pt x="897" y="546"/>
                    </a:lnTo>
                    <a:lnTo>
                      <a:pt x="906" y="545"/>
                    </a:lnTo>
                    <a:lnTo>
                      <a:pt x="915" y="545"/>
                    </a:lnTo>
                    <a:lnTo>
                      <a:pt x="924" y="541"/>
                    </a:lnTo>
                    <a:lnTo>
                      <a:pt x="933" y="539"/>
                    </a:lnTo>
                    <a:lnTo>
                      <a:pt x="941" y="536"/>
                    </a:lnTo>
                    <a:lnTo>
                      <a:pt x="948" y="530"/>
                    </a:lnTo>
                    <a:lnTo>
                      <a:pt x="955" y="525"/>
                    </a:lnTo>
                    <a:lnTo>
                      <a:pt x="962" y="520"/>
                    </a:lnTo>
                    <a:lnTo>
                      <a:pt x="968" y="512"/>
                    </a:lnTo>
                    <a:lnTo>
                      <a:pt x="973" y="505"/>
                    </a:lnTo>
                    <a:lnTo>
                      <a:pt x="977" y="498"/>
                    </a:lnTo>
                    <a:lnTo>
                      <a:pt x="982" y="491"/>
                    </a:lnTo>
                    <a:lnTo>
                      <a:pt x="984" y="482"/>
                    </a:lnTo>
                    <a:lnTo>
                      <a:pt x="988" y="473"/>
                    </a:lnTo>
                    <a:lnTo>
                      <a:pt x="988" y="464"/>
                    </a:lnTo>
                    <a:lnTo>
                      <a:pt x="990" y="455"/>
                    </a:lnTo>
                    <a:lnTo>
                      <a:pt x="990" y="91"/>
                    </a:lnTo>
                    <a:lnTo>
                      <a:pt x="988" y="82"/>
                    </a:lnTo>
                    <a:lnTo>
                      <a:pt x="988" y="73"/>
                    </a:lnTo>
                    <a:lnTo>
                      <a:pt x="984" y="64"/>
                    </a:lnTo>
                    <a:lnTo>
                      <a:pt x="982" y="55"/>
                    </a:lnTo>
                    <a:lnTo>
                      <a:pt x="977" y="48"/>
                    </a:lnTo>
                    <a:lnTo>
                      <a:pt x="973" y="39"/>
                    </a:lnTo>
                    <a:lnTo>
                      <a:pt x="968" y="34"/>
                    </a:lnTo>
                    <a:lnTo>
                      <a:pt x="962" y="27"/>
                    </a:lnTo>
                    <a:lnTo>
                      <a:pt x="955" y="21"/>
                    </a:lnTo>
                    <a:lnTo>
                      <a:pt x="948" y="16"/>
                    </a:lnTo>
                    <a:lnTo>
                      <a:pt x="941" y="11"/>
                    </a:lnTo>
                    <a:lnTo>
                      <a:pt x="933" y="7"/>
                    </a:lnTo>
                    <a:lnTo>
                      <a:pt x="924" y="3"/>
                    </a:lnTo>
                    <a:lnTo>
                      <a:pt x="915" y="2"/>
                    </a:lnTo>
                    <a:lnTo>
                      <a:pt x="906" y="0"/>
                    </a:lnTo>
                    <a:lnTo>
                      <a:pt x="897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120680" y="3439800"/>
                <a:ext cx="1800000" cy="866880"/>
              </a:xfrm>
              <a:custGeom>
                <a:avLst/>
                <a:gdLst/>
                <a:ahLst/>
                <a:rect l="l" t="t" r="r" b="b"/>
                <a:pathLst>
                  <a:path w="990" h="546">
                    <a:moveTo>
                      <a:pt x="93" y="0"/>
                    </a:moveTo>
                    <a:lnTo>
                      <a:pt x="84" y="0"/>
                    </a:lnTo>
                    <a:lnTo>
                      <a:pt x="75" y="2"/>
                    </a:lnTo>
                    <a:lnTo>
                      <a:pt x="65" y="3"/>
                    </a:lnTo>
                    <a:lnTo>
                      <a:pt x="56" y="7"/>
                    </a:lnTo>
                    <a:lnTo>
                      <a:pt x="49" y="11"/>
                    </a:lnTo>
                    <a:lnTo>
                      <a:pt x="42" y="16"/>
                    </a:lnTo>
                    <a:lnTo>
                      <a:pt x="34" y="21"/>
                    </a:lnTo>
                    <a:lnTo>
                      <a:pt x="27" y="27"/>
                    </a:lnTo>
                    <a:lnTo>
                      <a:pt x="22" y="34"/>
                    </a:lnTo>
                    <a:lnTo>
                      <a:pt x="16" y="39"/>
                    </a:lnTo>
                    <a:lnTo>
                      <a:pt x="13" y="48"/>
                    </a:lnTo>
                    <a:lnTo>
                      <a:pt x="7" y="55"/>
                    </a:lnTo>
                    <a:lnTo>
                      <a:pt x="5" y="64"/>
                    </a:lnTo>
                    <a:lnTo>
                      <a:pt x="2" y="73"/>
                    </a:lnTo>
                    <a:lnTo>
                      <a:pt x="2" y="82"/>
                    </a:lnTo>
                    <a:lnTo>
                      <a:pt x="0" y="91"/>
                    </a:lnTo>
                    <a:lnTo>
                      <a:pt x="0" y="455"/>
                    </a:lnTo>
                    <a:lnTo>
                      <a:pt x="2" y="464"/>
                    </a:lnTo>
                    <a:lnTo>
                      <a:pt x="2" y="473"/>
                    </a:lnTo>
                    <a:lnTo>
                      <a:pt x="5" y="482"/>
                    </a:lnTo>
                    <a:lnTo>
                      <a:pt x="7" y="491"/>
                    </a:lnTo>
                    <a:lnTo>
                      <a:pt x="13" y="498"/>
                    </a:lnTo>
                    <a:lnTo>
                      <a:pt x="16" y="505"/>
                    </a:lnTo>
                    <a:lnTo>
                      <a:pt x="22" y="512"/>
                    </a:lnTo>
                    <a:lnTo>
                      <a:pt x="27" y="520"/>
                    </a:lnTo>
                    <a:lnTo>
                      <a:pt x="34" y="525"/>
                    </a:lnTo>
                    <a:lnTo>
                      <a:pt x="42" y="530"/>
                    </a:lnTo>
                    <a:lnTo>
                      <a:pt x="49" y="536"/>
                    </a:lnTo>
                    <a:lnTo>
                      <a:pt x="56" y="539"/>
                    </a:lnTo>
                    <a:lnTo>
                      <a:pt x="65" y="541"/>
                    </a:lnTo>
                    <a:lnTo>
                      <a:pt x="75" y="545"/>
                    </a:lnTo>
                    <a:lnTo>
                      <a:pt x="84" y="545"/>
                    </a:lnTo>
                    <a:lnTo>
                      <a:pt x="93" y="546"/>
                    </a:lnTo>
                    <a:lnTo>
                      <a:pt x="897" y="546"/>
                    </a:lnTo>
                    <a:lnTo>
                      <a:pt x="906" y="545"/>
                    </a:lnTo>
                    <a:lnTo>
                      <a:pt x="915" y="545"/>
                    </a:lnTo>
                    <a:lnTo>
                      <a:pt x="924" y="541"/>
                    </a:lnTo>
                    <a:lnTo>
                      <a:pt x="933" y="539"/>
                    </a:lnTo>
                    <a:lnTo>
                      <a:pt x="941" y="536"/>
                    </a:lnTo>
                    <a:lnTo>
                      <a:pt x="948" y="530"/>
                    </a:lnTo>
                    <a:lnTo>
                      <a:pt x="955" y="525"/>
                    </a:lnTo>
                    <a:lnTo>
                      <a:pt x="962" y="520"/>
                    </a:lnTo>
                    <a:lnTo>
                      <a:pt x="968" y="512"/>
                    </a:lnTo>
                    <a:lnTo>
                      <a:pt x="973" y="505"/>
                    </a:lnTo>
                    <a:lnTo>
                      <a:pt x="977" y="498"/>
                    </a:lnTo>
                    <a:lnTo>
                      <a:pt x="982" y="491"/>
                    </a:lnTo>
                    <a:lnTo>
                      <a:pt x="984" y="482"/>
                    </a:lnTo>
                    <a:lnTo>
                      <a:pt x="988" y="473"/>
                    </a:lnTo>
                    <a:lnTo>
                      <a:pt x="988" y="464"/>
                    </a:lnTo>
                    <a:lnTo>
                      <a:pt x="990" y="455"/>
                    </a:lnTo>
                    <a:lnTo>
                      <a:pt x="990" y="91"/>
                    </a:lnTo>
                    <a:lnTo>
                      <a:pt x="988" y="82"/>
                    </a:lnTo>
                    <a:lnTo>
                      <a:pt x="988" y="73"/>
                    </a:lnTo>
                    <a:lnTo>
                      <a:pt x="984" y="64"/>
                    </a:lnTo>
                    <a:lnTo>
                      <a:pt x="982" y="55"/>
                    </a:lnTo>
                    <a:lnTo>
                      <a:pt x="977" y="48"/>
                    </a:lnTo>
                    <a:lnTo>
                      <a:pt x="973" y="39"/>
                    </a:lnTo>
                    <a:lnTo>
                      <a:pt x="968" y="34"/>
                    </a:lnTo>
                    <a:lnTo>
                      <a:pt x="962" y="27"/>
                    </a:lnTo>
                    <a:lnTo>
                      <a:pt x="955" y="21"/>
                    </a:lnTo>
                    <a:lnTo>
                      <a:pt x="948" y="16"/>
                    </a:lnTo>
                    <a:lnTo>
                      <a:pt x="941" y="11"/>
                    </a:lnTo>
                    <a:lnTo>
                      <a:pt x="933" y="7"/>
                    </a:lnTo>
                    <a:lnTo>
                      <a:pt x="924" y="3"/>
                    </a:lnTo>
                    <a:lnTo>
                      <a:pt x="915" y="2"/>
                    </a:lnTo>
                    <a:lnTo>
                      <a:pt x="906" y="0"/>
                    </a:lnTo>
                    <a:lnTo>
                      <a:pt x="897" y="0"/>
                    </a:lnTo>
                    <a:lnTo>
                      <a:pt x="93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473480" y="3508200"/>
                <a:ext cx="12870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Acompanhar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616400" y="3763800"/>
                <a:ext cx="9975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Produto e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636920" y="4019400"/>
                <a:ext cx="9622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Processo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658880" y="4378320"/>
                <a:ext cx="721440" cy="145800"/>
              </a:xfrm>
              <a:custGeom>
                <a:avLst/>
                <a:gdLst/>
                <a:ahLst/>
                <a:rect l="l" t="t" r="r" b="b"/>
                <a:pathLst>
                  <a:path w="397" h="92">
                    <a:moveTo>
                      <a:pt x="199" y="92"/>
                    </a:moveTo>
                    <a:lnTo>
                      <a:pt x="397" y="0"/>
                    </a:lnTo>
                    <a:lnTo>
                      <a:pt x="0" y="0"/>
                    </a:lnTo>
                    <a:lnTo>
                      <a:pt x="199" y="92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658880" y="3278160"/>
                <a:ext cx="721440" cy="141120"/>
              </a:xfrm>
              <a:custGeom>
                <a:avLst/>
                <a:gdLst/>
                <a:ahLst/>
                <a:rect l="l" t="t" r="r" b="b"/>
                <a:pathLst>
                  <a:path w="397" h="89">
                    <a:moveTo>
                      <a:pt x="199" y="89"/>
                    </a:moveTo>
                    <a:lnTo>
                      <a:pt x="397" y="0"/>
                    </a:lnTo>
                    <a:lnTo>
                      <a:pt x="0" y="0"/>
                    </a:lnTo>
                    <a:lnTo>
                      <a:pt x="199" y="89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4486320" y="2155680"/>
              <a:ext cx="4053960" cy="3625560"/>
              <a:chOff x="4486320" y="2155680"/>
              <a:chExt cx="4053960" cy="3625560"/>
            </a:xfrm>
          </p:grpSpPr>
          <p:sp>
            <p:nvSpPr>
              <p:cNvPr id="451" name=""/>
              <p:cNvSpPr/>
              <p:nvPr/>
            </p:nvSpPr>
            <p:spPr>
              <a:xfrm>
                <a:off x="6977520" y="3611160"/>
                <a:ext cx="1562760" cy="756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977520" y="3611160"/>
                <a:ext cx="1562760" cy="756720"/>
              </a:xfrm>
              <a:prstGeom prst="rect">
                <a:avLst/>
              </a:prstGeom>
              <a:noFill/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229160" y="3775680"/>
                <a:ext cx="1180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Registrar lições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7388280" y="3996360"/>
                <a:ext cx="860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aprendidas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491000" y="2155680"/>
                <a:ext cx="1549440" cy="795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491000" y="2155680"/>
                <a:ext cx="1549440" cy="795600"/>
              </a:xfrm>
              <a:prstGeom prst="rect">
                <a:avLst/>
              </a:prstGeom>
              <a:noFill/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662360" y="2342880"/>
                <a:ext cx="1326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Realizar auditoria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875120" y="256392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pó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150520" y="256392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225760" y="2563920"/>
                <a:ext cx="5493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projeto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4494600" y="3611160"/>
                <a:ext cx="1542600" cy="756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494600" y="3611160"/>
                <a:ext cx="1542600" cy="756720"/>
              </a:xfrm>
              <a:prstGeom prst="rect">
                <a:avLst/>
              </a:prstGeom>
              <a:noFill/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056920" y="3664080"/>
                <a:ext cx="5493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Avaliar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818240" y="3886920"/>
                <a:ext cx="1015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satisfação do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071320" y="4107960"/>
                <a:ext cx="522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liente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486320" y="5024160"/>
                <a:ext cx="1562760" cy="75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486320" y="5024160"/>
                <a:ext cx="1562760" cy="757080"/>
              </a:xfrm>
              <a:prstGeom prst="rect">
                <a:avLst/>
              </a:prstGeom>
              <a:noFill/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956480" y="5080680"/>
                <a:ext cx="741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Monitorar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713480" y="5303520"/>
                <a:ext cx="1226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desempenho do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024160" y="5520960"/>
                <a:ext cx="6040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produto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229720" y="2959920"/>
                <a:ext cx="75600" cy="638280"/>
              </a:xfrm>
              <a:custGeom>
                <a:avLst/>
                <a:gdLst/>
                <a:ahLst/>
                <a:rect l="l" t="t" r="r" b="b"/>
                <a:pathLst>
                  <a:path w="45" h="361">
                    <a:moveTo>
                      <a:pt x="25" y="38"/>
                    </a:moveTo>
                    <a:lnTo>
                      <a:pt x="25" y="325"/>
                    </a:lnTo>
                    <a:lnTo>
                      <a:pt x="18" y="325"/>
                    </a:lnTo>
                    <a:lnTo>
                      <a:pt x="18" y="38"/>
                    </a:lnTo>
                    <a:lnTo>
                      <a:pt x="25" y="38"/>
                    </a:lnTo>
                    <a:close/>
                    <a:moveTo>
                      <a:pt x="0" y="45"/>
                    </a:moveTo>
                    <a:lnTo>
                      <a:pt x="22" y="0"/>
                    </a:lnTo>
                    <a:lnTo>
                      <a:pt x="45" y="45"/>
                    </a:lnTo>
                    <a:lnTo>
                      <a:pt x="0" y="45"/>
                    </a:lnTo>
                    <a:close/>
                    <a:moveTo>
                      <a:pt x="45" y="316"/>
                    </a:moveTo>
                    <a:lnTo>
                      <a:pt x="22" y="361"/>
                    </a:lnTo>
                    <a:lnTo>
                      <a:pt x="0" y="316"/>
                    </a:lnTo>
                    <a:lnTo>
                      <a:pt x="45" y="316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229720" y="4376880"/>
                <a:ext cx="75600" cy="638280"/>
              </a:xfrm>
              <a:custGeom>
                <a:avLst/>
                <a:gdLst/>
                <a:ahLst/>
                <a:rect l="l" t="t" r="r" b="b"/>
                <a:pathLst>
                  <a:path w="45" h="361">
                    <a:moveTo>
                      <a:pt x="25" y="38"/>
                    </a:moveTo>
                    <a:lnTo>
                      <a:pt x="25" y="323"/>
                    </a:lnTo>
                    <a:lnTo>
                      <a:pt x="18" y="323"/>
                    </a:lnTo>
                    <a:lnTo>
                      <a:pt x="18" y="38"/>
                    </a:lnTo>
                    <a:lnTo>
                      <a:pt x="25" y="38"/>
                    </a:lnTo>
                    <a:close/>
                    <a:moveTo>
                      <a:pt x="0" y="45"/>
                    </a:moveTo>
                    <a:lnTo>
                      <a:pt x="22" y="0"/>
                    </a:lnTo>
                    <a:lnTo>
                      <a:pt x="45" y="45"/>
                    </a:lnTo>
                    <a:lnTo>
                      <a:pt x="0" y="45"/>
                    </a:lnTo>
                    <a:close/>
                    <a:moveTo>
                      <a:pt x="45" y="316"/>
                    </a:moveTo>
                    <a:lnTo>
                      <a:pt x="22" y="361"/>
                    </a:lnTo>
                    <a:lnTo>
                      <a:pt x="0" y="316"/>
                    </a:lnTo>
                    <a:lnTo>
                      <a:pt x="45" y="316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052320" y="2548080"/>
                <a:ext cx="1744200" cy="1050120"/>
              </a:xfrm>
              <a:custGeom>
                <a:avLst/>
                <a:gdLst/>
                <a:ahLst/>
                <a:rect l="l" t="t" r="r" b="b"/>
                <a:pathLst>
                  <a:path w="1037" h="594">
                    <a:moveTo>
                      <a:pt x="0" y="0"/>
                    </a:moveTo>
                    <a:lnTo>
                      <a:pt x="1019" y="0"/>
                    </a:lnTo>
                    <a:lnTo>
                      <a:pt x="1019" y="558"/>
                    </a:lnTo>
                    <a:lnTo>
                      <a:pt x="1010" y="558"/>
                    </a:lnTo>
                    <a:lnTo>
                      <a:pt x="1010" y="4"/>
                    </a:lnTo>
                    <a:lnTo>
                      <a:pt x="1014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  <a:moveTo>
                      <a:pt x="1037" y="549"/>
                    </a:moveTo>
                    <a:lnTo>
                      <a:pt x="1014" y="594"/>
                    </a:lnTo>
                    <a:lnTo>
                      <a:pt x="992" y="549"/>
                    </a:lnTo>
                    <a:lnTo>
                      <a:pt x="1037" y="549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058800" y="4376880"/>
                <a:ext cx="1737720" cy="1034640"/>
              </a:xfrm>
              <a:custGeom>
                <a:avLst/>
                <a:gdLst/>
                <a:ahLst/>
                <a:rect l="l" t="t" r="r" b="b"/>
                <a:pathLst>
                  <a:path w="1033" h="585">
                    <a:moveTo>
                      <a:pt x="0" y="577"/>
                    </a:moveTo>
                    <a:lnTo>
                      <a:pt x="1010" y="577"/>
                    </a:lnTo>
                    <a:lnTo>
                      <a:pt x="1006" y="581"/>
                    </a:lnTo>
                    <a:lnTo>
                      <a:pt x="1006" y="38"/>
                    </a:lnTo>
                    <a:lnTo>
                      <a:pt x="1015" y="38"/>
                    </a:lnTo>
                    <a:lnTo>
                      <a:pt x="1015" y="585"/>
                    </a:lnTo>
                    <a:lnTo>
                      <a:pt x="0" y="585"/>
                    </a:lnTo>
                    <a:lnTo>
                      <a:pt x="0" y="577"/>
                    </a:lnTo>
                    <a:close/>
                    <a:moveTo>
                      <a:pt x="988" y="45"/>
                    </a:moveTo>
                    <a:lnTo>
                      <a:pt x="1010" y="0"/>
                    </a:lnTo>
                    <a:lnTo>
                      <a:pt x="1033" y="45"/>
                    </a:lnTo>
                    <a:lnTo>
                      <a:pt x="988" y="4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047280" y="3948840"/>
                <a:ext cx="920160" cy="79200"/>
              </a:xfrm>
              <a:custGeom>
                <a:avLst/>
                <a:gdLst/>
                <a:ahLst/>
                <a:rect l="l" t="t" r="r" b="b"/>
                <a:pathLst>
                  <a:path w="547" h="45">
                    <a:moveTo>
                      <a:pt x="0" y="18"/>
                    </a:moveTo>
                    <a:lnTo>
                      <a:pt x="509" y="18"/>
                    </a:lnTo>
                    <a:lnTo>
                      <a:pt x="509" y="26"/>
                    </a:lnTo>
                    <a:lnTo>
                      <a:pt x="0" y="26"/>
                    </a:lnTo>
                    <a:lnTo>
                      <a:pt x="0" y="18"/>
                    </a:lnTo>
                    <a:close/>
                    <a:moveTo>
                      <a:pt x="502" y="0"/>
                    </a:moveTo>
                    <a:lnTo>
                      <a:pt x="547" y="22"/>
                    </a:lnTo>
                    <a:lnTo>
                      <a:pt x="502" y="45"/>
                    </a:lnTo>
                    <a:lnTo>
                      <a:pt x="50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977520" y="3611160"/>
                <a:ext cx="1562760" cy="756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977520" y="3611160"/>
                <a:ext cx="1562760" cy="756720"/>
              </a:xfrm>
              <a:prstGeom prst="rect">
                <a:avLst/>
              </a:prstGeom>
              <a:noFill/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229160" y="3775680"/>
                <a:ext cx="1180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Registrar lições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388280" y="3996360"/>
                <a:ext cx="860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aprendidas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491000" y="2155680"/>
                <a:ext cx="1549440" cy="795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491000" y="2155680"/>
                <a:ext cx="1549440" cy="795600"/>
              </a:xfrm>
              <a:prstGeom prst="rect">
                <a:avLst/>
              </a:prstGeom>
              <a:noFill/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662360" y="2342880"/>
                <a:ext cx="1326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Realizar auditoria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875120" y="256392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pó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150520" y="256392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225760" y="2563920"/>
                <a:ext cx="5493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projeto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494600" y="3611160"/>
                <a:ext cx="1542600" cy="756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494600" y="3611160"/>
                <a:ext cx="1542600" cy="756720"/>
              </a:xfrm>
              <a:prstGeom prst="rect">
                <a:avLst/>
              </a:prstGeom>
              <a:noFill/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056920" y="3664080"/>
                <a:ext cx="5493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Avaliar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818240" y="3886920"/>
                <a:ext cx="1015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satisfação do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071320" y="4107960"/>
                <a:ext cx="522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liente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486320" y="5024160"/>
                <a:ext cx="1562760" cy="75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486320" y="5024160"/>
                <a:ext cx="1562760" cy="757080"/>
              </a:xfrm>
              <a:prstGeom prst="rect">
                <a:avLst/>
              </a:prstGeom>
              <a:noFill/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956480" y="5080680"/>
                <a:ext cx="741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Monitorar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713480" y="5303520"/>
                <a:ext cx="1226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desempenho do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024160" y="5520960"/>
                <a:ext cx="6040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produto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229720" y="2959920"/>
                <a:ext cx="75600" cy="638280"/>
              </a:xfrm>
              <a:custGeom>
                <a:avLst/>
                <a:gdLst/>
                <a:ahLst/>
                <a:rect l="l" t="t" r="r" b="b"/>
                <a:pathLst>
                  <a:path w="45" h="361">
                    <a:moveTo>
                      <a:pt x="25" y="38"/>
                    </a:moveTo>
                    <a:lnTo>
                      <a:pt x="25" y="325"/>
                    </a:lnTo>
                    <a:lnTo>
                      <a:pt x="18" y="325"/>
                    </a:lnTo>
                    <a:lnTo>
                      <a:pt x="18" y="38"/>
                    </a:lnTo>
                    <a:lnTo>
                      <a:pt x="25" y="38"/>
                    </a:lnTo>
                    <a:close/>
                    <a:moveTo>
                      <a:pt x="0" y="45"/>
                    </a:moveTo>
                    <a:lnTo>
                      <a:pt x="22" y="0"/>
                    </a:lnTo>
                    <a:lnTo>
                      <a:pt x="45" y="45"/>
                    </a:lnTo>
                    <a:lnTo>
                      <a:pt x="0" y="45"/>
                    </a:lnTo>
                    <a:close/>
                    <a:moveTo>
                      <a:pt x="45" y="316"/>
                    </a:moveTo>
                    <a:lnTo>
                      <a:pt x="22" y="361"/>
                    </a:lnTo>
                    <a:lnTo>
                      <a:pt x="0" y="316"/>
                    </a:lnTo>
                    <a:lnTo>
                      <a:pt x="45" y="316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229720" y="4376880"/>
                <a:ext cx="75600" cy="638280"/>
              </a:xfrm>
              <a:custGeom>
                <a:avLst/>
                <a:gdLst/>
                <a:ahLst/>
                <a:rect l="l" t="t" r="r" b="b"/>
                <a:pathLst>
                  <a:path w="45" h="361">
                    <a:moveTo>
                      <a:pt x="25" y="38"/>
                    </a:moveTo>
                    <a:lnTo>
                      <a:pt x="25" y="323"/>
                    </a:lnTo>
                    <a:lnTo>
                      <a:pt x="18" y="323"/>
                    </a:lnTo>
                    <a:lnTo>
                      <a:pt x="18" y="38"/>
                    </a:lnTo>
                    <a:lnTo>
                      <a:pt x="25" y="38"/>
                    </a:lnTo>
                    <a:close/>
                    <a:moveTo>
                      <a:pt x="0" y="45"/>
                    </a:moveTo>
                    <a:lnTo>
                      <a:pt x="22" y="0"/>
                    </a:lnTo>
                    <a:lnTo>
                      <a:pt x="45" y="45"/>
                    </a:lnTo>
                    <a:lnTo>
                      <a:pt x="0" y="45"/>
                    </a:lnTo>
                    <a:close/>
                    <a:moveTo>
                      <a:pt x="45" y="316"/>
                    </a:moveTo>
                    <a:lnTo>
                      <a:pt x="22" y="361"/>
                    </a:lnTo>
                    <a:lnTo>
                      <a:pt x="0" y="316"/>
                    </a:lnTo>
                    <a:lnTo>
                      <a:pt x="45" y="316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052320" y="2548080"/>
                <a:ext cx="1744200" cy="1050120"/>
              </a:xfrm>
              <a:custGeom>
                <a:avLst/>
                <a:gdLst/>
                <a:ahLst/>
                <a:rect l="l" t="t" r="r" b="b"/>
                <a:pathLst>
                  <a:path w="1037" h="594">
                    <a:moveTo>
                      <a:pt x="0" y="0"/>
                    </a:moveTo>
                    <a:lnTo>
                      <a:pt x="1019" y="0"/>
                    </a:lnTo>
                    <a:lnTo>
                      <a:pt x="1019" y="558"/>
                    </a:lnTo>
                    <a:lnTo>
                      <a:pt x="1010" y="558"/>
                    </a:lnTo>
                    <a:lnTo>
                      <a:pt x="1010" y="4"/>
                    </a:lnTo>
                    <a:lnTo>
                      <a:pt x="1014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  <a:moveTo>
                      <a:pt x="1037" y="549"/>
                    </a:moveTo>
                    <a:lnTo>
                      <a:pt x="1014" y="594"/>
                    </a:lnTo>
                    <a:lnTo>
                      <a:pt x="992" y="549"/>
                    </a:lnTo>
                    <a:lnTo>
                      <a:pt x="1037" y="549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058800" y="4376880"/>
                <a:ext cx="1737720" cy="1034640"/>
              </a:xfrm>
              <a:custGeom>
                <a:avLst/>
                <a:gdLst/>
                <a:ahLst/>
                <a:rect l="l" t="t" r="r" b="b"/>
                <a:pathLst>
                  <a:path w="1033" h="585">
                    <a:moveTo>
                      <a:pt x="0" y="577"/>
                    </a:moveTo>
                    <a:lnTo>
                      <a:pt x="1010" y="577"/>
                    </a:lnTo>
                    <a:lnTo>
                      <a:pt x="1006" y="581"/>
                    </a:lnTo>
                    <a:lnTo>
                      <a:pt x="1006" y="38"/>
                    </a:lnTo>
                    <a:lnTo>
                      <a:pt x="1015" y="38"/>
                    </a:lnTo>
                    <a:lnTo>
                      <a:pt x="1015" y="585"/>
                    </a:lnTo>
                    <a:lnTo>
                      <a:pt x="0" y="585"/>
                    </a:lnTo>
                    <a:lnTo>
                      <a:pt x="0" y="577"/>
                    </a:lnTo>
                    <a:close/>
                    <a:moveTo>
                      <a:pt x="988" y="45"/>
                    </a:moveTo>
                    <a:lnTo>
                      <a:pt x="1010" y="0"/>
                    </a:lnTo>
                    <a:lnTo>
                      <a:pt x="1033" y="45"/>
                    </a:lnTo>
                    <a:lnTo>
                      <a:pt x="988" y="4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047280" y="3948840"/>
                <a:ext cx="920160" cy="79200"/>
              </a:xfrm>
              <a:custGeom>
                <a:avLst/>
                <a:gdLst/>
                <a:ahLst/>
                <a:rect l="l" t="t" r="r" b="b"/>
                <a:pathLst>
                  <a:path w="547" h="45">
                    <a:moveTo>
                      <a:pt x="0" y="18"/>
                    </a:moveTo>
                    <a:lnTo>
                      <a:pt x="509" y="18"/>
                    </a:lnTo>
                    <a:lnTo>
                      <a:pt x="509" y="26"/>
                    </a:lnTo>
                    <a:lnTo>
                      <a:pt x="0" y="26"/>
                    </a:lnTo>
                    <a:lnTo>
                      <a:pt x="0" y="18"/>
                    </a:lnTo>
                    <a:close/>
                    <a:moveTo>
                      <a:pt x="502" y="0"/>
                    </a:moveTo>
                    <a:lnTo>
                      <a:pt x="547" y="22"/>
                    </a:lnTo>
                    <a:lnTo>
                      <a:pt x="502" y="45"/>
                    </a:lnTo>
                    <a:lnTo>
                      <a:pt x="50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1" name=""/>
            <p:cNvSpPr/>
            <p:nvPr/>
          </p:nvSpPr>
          <p:spPr>
            <a:xfrm>
              <a:off x="193680" y="846000"/>
              <a:ext cx="4667400" cy="266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elatórios de acompanhamento do desempenho do produto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eclamações e problemas percebidos pelo cliente como o uso do produto em campo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lano de fim de vida do produto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elatórios de ocorrências da assistência técnic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specificações de projeto do produto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stratégia do produto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valiação econômica do produto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usto-alvo do produto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09520" y="4626000"/>
              <a:ext cx="4037040" cy="21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elatórios de avaliação da satisfação do client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ropostas de necessidades de modificações no produto ou em seus serviços relacionado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ropostas de oportunidades de melhoria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Necessidades de mudança para adequação ambiental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íntese das lições aprendida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olicitações de descontinuidade do produto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9067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Próxima fase: descontinuar produto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4680" y="1455840"/>
            <a:ext cx="9063000" cy="4572000"/>
            <a:chOff x="4680" y="1455840"/>
            <a:chExt cx="9063000" cy="4572000"/>
          </a:xfrm>
        </p:grpSpPr>
        <p:sp>
          <p:nvSpPr>
            <p:cNvPr id="505" name=""/>
            <p:cNvSpPr/>
            <p:nvPr/>
          </p:nvSpPr>
          <p:spPr>
            <a:xfrm>
              <a:off x="790560" y="5753160"/>
              <a:ext cx="7886880" cy="274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Melhoria do processo de desenvolvimento de produ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340000" y="5389560"/>
              <a:ext cx="6092640" cy="2746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Gerenciamento de mudanças de engenha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680" y="5335560"/>
              <a:ext cx="1209960" cy="54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Process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de apo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325520" y="5097600"/>
              <a:ext cx="1111320" cy="18720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314880" y="5097600"/>
              <a:ext cx="1110960" cy="18720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305320" y="5097600"/>
              <a:ext cx="1111320" cy="18720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296120" y="5097600"/>
              <a:ext cx="1111320" cy="18720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2" name=""/>
            <p:cNvGrpSpPr/>
            <p:nvPr/>
          </p:nvGrpSpPr>
          <p:grpSpPr>
            <a:xfrm>
              <a:off x="76320" y="1455840"/>
              <a:ext cx="8991360" cy="3591000"/>
              <a:chOff x="76320" y="1455840"/>
              <a:chExt cx="8991360" cy="3591000"/>
            </a:xfrm>
          </p:grpSpPr>
          <p:grpSp>
            <p:nvGrpSpPr>
              <p:cNvPr id="513" name=""/>
              <p:cNvGrpSpPr/>
              <p:nvPr/>
            </p:nvGrpSpPr>
            <p:grpSpPr>
              <a:xfrm>
                <a:off x="76320" y="1614600"/>
                <a:ext cx="8991360" cy="3432240"/>
                <a:chOff x="76320" y="1614600"/>
                <a:chExt cx="8991360" cy="3432240"/>
              </a:xfrm>
            </p:grpSpPr>
            <p:sp>
              <p:nvSpPr>
                <p:cNvPr id="514" name=""/>
                <p:cNvSpPr/>
                <p:nvPr/>
              </p:nvSpPr>
              <p:spPr>
                <a:xfrm>
                  <a:off x="76320" y="1614600"/>
                  <a:ext cx="8991360" cy="343224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795240" y="2863800"/>
                  <a:ext cx="7291440" cy="1660680"/>
                </a:xfrm>
                <a:custGeom>
                  <a:avLst/>
                  <a:gdLst/>
                  <a:ahLst/>
                  <a:rect l="l" t="t" r="r" b="b"/>
                  <a:pathLst>
                    <a:path w="4593" h="1046">
                      <a:moveTo>
                        <a:pt x="771" y="20"/>
                      </a:moveTo>
                      <a:lnTo>
                        <a:pt x="0" y="1046"/>
                      </a:lnTo>
                      <a:lnTo>
                        <a:pt x="4593" y="1016"/>
                      </a:lnTo>
                      <a:lnTo>
                        <a:pt x="330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ffcc99"/>
                    </a:gs>
                    <a:gs pos="100000">
                      <a:srgbClr val="99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16" name=""/>
                <p:cNvGrpSpPr/>
                <p:nvPr/>
              </p:nvGrpSpPr>
              <p:grpSpPr>
                <a:xfrm>
                  <a:off x="2239920" y="2225520"/>
                  <a:ext cx="4146480" cy="298800"/>
                  <a:chOff x="2239920" y="2225520"/>
                  <a:chExt cx="4146480" cy="298800"/>
                </a:xfrm>
              </p:grpSpPr>
              <p:sp>
                <p:nvSpPr>
                  <p:cNvPr id="517" name=""/>
                  <p:cNvSpPr/>
                  <p:nvPr/>
                </p:nvSpPr>
                <p:spPr>
                  <a:xfrm>
                    <a:off x="2239920" y="2225520"/>
                    <a:ext cx="4146480" cy="298800"/>
                  </a:xfrm>
                  <a:custGeom>
                    <a:avLst/>
                    <a:gdLst>
                      <a:gd name="textAreaLeft" fmla="*/ 0 w 4146480"/>
                      <a:gd name="textAreaRight" fmla="*/ 4146840 w 4146480"/>
                      <a:gd name="textAreaTop" fmla="*/ 0 h 298800"/>
                      <a:gd name="textAreaBottom" fmla="*/ 299160 h 298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0921" y="0"/>
                        </a:lnTo>
                        <a:lnTo>
                          <a:pt x="21600" y="10800"/>
                        </a:lnTo>
                        <a:lnTo>
                          <a:pt x="20921" y="21600"/>
                        </a:lnTo>
                        <a:lnTo>
                          <a:pt x="0" y="21600"/>
                        </a:lnTo>
                        <a:lnTo>
                          <a:pt x="67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>
                    <a:off x="3293640" y="2238480"/>
                    <a:ext cx="1885320" cy="274680"/>
                  </a:xfrm>
                  <a:prstGeom prst="rect">
                    <a:avLst/>
                  </a:pr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Desenvolvimento</a:t>
                    </a:r>
                    <a:r>
                      <a:rPr b="0" i="1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9" name=""/>
                <p:cNvGrpSpPr/>
                <p:nvPr/>
              </p:nvGrpSpPr>
              <p:grpSpPr>
                <a:xfrm>
                  <a:off x="962280" y="4336560"/>
                  <a:ext cx="6981840" cy="534600"/>
                  <a:chOff x="962280" y="4336560"/>
                  <a:chExt cx="6981840" cy="534600"/>
                </a:xfrm>
              </p:grpSpPr>
              <p:grpSp>
                <p:nvGrpSpPr>
                  <p:cNvPr id="520" name=""/>
                  <p:cNvGrpSpPr/>
                  <p:nvPr/>
                </p:nvGrpSpPr>
                <p:grpSpPr>
                  <a:xfrm>
                    <a:off x="2259720" y="4350600"/>
                    <a:ext cx="5684400" cy="520560"/>
                    <a:chOff x="2259720" y="4350600"/>
                    <a:chExt cx="5684400" cy="520560"/>
                  </a:xfrm>
                </p:grpSpPr>
                <p:sp>
                  <p:nvSpPr>
                    <p:cNvPr id="521" name=""/>
                    <p:cNvSpPr/>
                    <p:nvPr/>
                  </p:nvSpPr>
                  <p:spPr>
                    <a:xfrm>
                      <a:off x="4633920" y="4350600"/>
                      <a:ext cx="1043640" cy="520560"/>
                    </a:xfrm>
                    <a:custGeom>
                      <a:avLst/>
                      <a:gdLst>
                        <a:gd name="textAreaLeft" fmla="*/ 0 w 1043640"/>
                        <a:gd name="textAreaRight" fmla="*/ 1044000 w 104364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544" y="0"/>
                          </a:lnTo>
                          <a:lnTo>
                            <a:pt x="21600" y="10800"/>
                          </a:lnTo>
                          <a:lnTo>
                            <a:pt x="19544" y="21600"/>
                          </a:lnTo>
                          <a:lnTo>
                            <a:pt x="0" y="21600"/>
                          </a:lnTo>
                          <a:lnTo>
                            <a:pt x="2056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alhad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2" name=""/>
                    <p:cNvSpPr/>
                    <p:nvPr/>
                  </p:nvSpPr>
                  <p:spPr>
                    <a:xfrm>
                      <a:off x="3557520" y="4350600"/>
                      <a:ext cx="1074240" cy="520560"/>
                    </a:xfrm>
                    <a:custGeom>
                      <a:avLst/>
                      <a:gdLst>
                        <a:gd name="textAreaLeft" fmla="*/ 0 w 1074240"/>
                        <a:gd name="textAreaRight" fmla="*/ 1074600 w 107424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672" y="0"/>
                          </a:lnTo>
                          <a:lnTo>
                            <a:pt x="21600" y="10800"/>
                          </a:lnTo>
                          <a:lnTo>
                            <a:pt x="19672" y="21600"/>
                          </a:lnTo>
                          <a:lnTo>
                            <a:pt x="0" y="21600"/>
                          </a:lnTo>
                          <a:lnTo>
                            <a:pt x="1928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itu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3" name=""/>
                    <p:cNvSpPr/>
                    <p:nvPr/>
                  </p:nvSpPr>
                  <p:spPr>
                    <a:xfrm>
                      <a:off x="2259720" y="4350600"/>
                      <a:ext cx="1302840" cy="520560"/>
                    </a:xfrm>
                    <a:custGeom>
                      <a:avLst/>
                      <a:gdLst>
                        <a:gd name="textAreaLeft" fmla="*/ 0 w 1302840"/>
                        <a:gd name="textAreaRight" fmla="*/ 1303200 w 130284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746" y="0"/>
                          </a:lnTo>
                          <a:lnTo>
                            <a:pt x="21600" y="10800"/>
                          </a:lnTo>
                          <a:lnTo>
                            <a:pt x="19746" y="21600"/>
                          </a:lnTo>
                          <a:lnTo>
                            <a:pt x="0" y="21600"/>
                          </a:lnTo>
                          <a:lnTo>
                            <a:pt x="1854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cion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"/>
                    <p:cNvSpPr/>
                    <p:nvPr/>
                  </p:nvSpPr>
                  <p:spPr>
                    <a:xfrm>
                      <a:off x="6782040" y="4350600"/>
                      <a:ext cx="1162080" cy="520560"/>
                    </a:xfrm>
                    <a:custGeom>
                      <a:avLst/>
                      <a:gdLst>
                        <a:gd name="textAreaLeft" fmla="*/ 0 w 1162080"/>
                        <a:gd name="textAreaRight" fmla="*/ 1162080 w 116208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740" y="0"/>
                          </a:lnTo>
                          <a:lnTo>
                            <a:pt x="21600" y="10800"/>
                          </a:lnTo>
                          <a:lnTo>
                            <a:pt x="19740" y="21600"/>
                          </a:lnTo>
                          <a:lnTo>
                            <a:pt x="0" y="21600"/>
                          </a:lnTo>
                          <a:lnTo>
                            <a:pt x="1860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çam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 Produ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5" name=""/>
                    <p:cNvSpPr/>
                    <p:nvPr/>
                  </p:nvSpPr>
                  <p:spPr>
                    <a:xfrm>
                      <a:off x="5676840" y="4350600"/>
                      <a:ext cx="1102680" cy="520560"/>
                    </a:xfrm>
                    <a:custGeom>
                      <a:avLst/>
                      <a:gdLst>
                        <a:gd name="textAreaLeft" fmla="*/ 0 w 1102680"/>
                        <a:gd name="textAreaRight" fmla="*/ 1102680 w 110268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987" y="0"/>
                          </a:lnTo>
                          <a:lnTo>
                            <a:pt x="21600" y="10800"/>
                          </a:lnTo>
                          <a:lnTo>
                            <a:pt x="19987" y="21600"/>
                          </a:lnTo>
                          <a:lnTo>
                            <a:pt x="0" y="21600"/>
                          </a:lnTo>
                          <a:lnTo>
                            <a:pt x="1613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a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26" name=""/>
                  <p:cNvSpPr/>
                  <p:nvPr/>
                </p:nvSpPr>
                <p:spPr>
                  <a:xfrm>
                    <a:off x="962280" y="4336560"/>
                    <a:ext cx="1270800" cy="520200"/>
                  </a:xfrm>
                  <a:custGeom>
                    <a:avLst/>
                    <a:gdLst>
                      <a:gd name="textAreaLeft" fmla="*/ 0 w 1270800"/>
                      <a:gd name="textAreaRight" fmla="*/ 1271160 w 1270800"/>
                      <a:gd name="textAreaTop" fmla="*/ 0 h 520200"/>
                      <a:gd name="textAreaBottom" fmla="*/ 520560 h 520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522" y="0"/>
                        </a:lnTo>
                        <a:lnTo>
                          <a:pt x="21600" y="10800"/>
                        </a:lnTo>
                        <a:lnTo>
                          <a:pt x="19522" y="21600"/>
                        </a:lnTo>
                        <a:lnTo>
                          <a:pt x="0" y="21600"/>
                        </a:lnTo>
                        <a:lnTo>
                          <a:pt x="2078" y="108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lanejament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rojet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7" name=""/>
                <p:cNvGrpSpPr/>
                <p:nvPr/>
              </p:nvGrpSpPr>
              <p:grpSpPr>
                <a:xfrm>
                  <a:off x="6364440" y="2227320"/>
                  <a:ext cx="2652480" cy="298440"/>
                  <a:chOff x="6364440" y="2227320"/>
                  <a:chExt cx="2652480" cy="298440"/>
                </a:xfrm>
              </p:grpSpPr>
              <p:sp>
                <p:nvSpPr>
                  <p:cNvPr id="528" name=""/>
                  <p:cNvSpPr/>
                  <p:nvPr/>
                </p:nvSpPr>
                <p:spPr>
                  <a:xfrm>
                    <a:off x="6364440" y="2227320"/>
                    <a:ext cx="2652480" cy="298440"/>
                  </a:xfrm>
                  <a:custGeom>
                    <a:avLst/>
                    <a:gdLst>
                      <a:gd name="textAreaLeft" fmla="*/ 0 w 2652480"/>
                      <a:gd name="textAreaRight" fmla="*/ 2652840 w 2652480"/>
                      <a:gd name="textAreaTop" fmla="*/ 0 h 298440"/>
                      <a:gd name="textAreaBottom" fmla="*/ 298800 h 298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0642" y="0"/>
                        </a:lnTo>
                        <a:lnTo>
                          <a:pt x="21600" y="10800"/>
                        </a:lnTo>
                        <a:lnTo>
                          <a:pt x="20642" y="21600"/>
                        </a:lnTo>
                        <a:lnTo>
                          <a:pt x="0" y="21600"/>
                        </a:lnTo>
                        <a:lnTo>
                          <a:pt x="958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>
                    <a:off x="7431480" y="2263680"/>
                    <a:ext cx="516600" cy="24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Pó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30" name=""/>
                <p:cNvSpPr/>
                <p:nvPr/>
              </p:nvSpPr>
              <p:spPr>
                <a:xfrm>
                  <a:off x="8223120" y="2311560"/>
                  <a:ext cx="260640" cy="1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531" name=""/>
                <p:cNvCxnSpPr>
                  <a:stCxn id="528" idx="0"/>
                  <a:endCxn id="532" idx="0"/>
                </p:cNvCxnSpPr>
                <p:nvPr/>
              </p:nvCxnSpPr>
              <p:spPr>
                <a:xfrm rot="5400000">
                  <a:off x="4402440" y="-999360"/>
                  <a:ext cx="2160" cy="6455520"/>
                </a:xfrm>
                <a:prstGeom prst="bentConnector3">
                  <a:avLst>
                    <a:gd name="adj1" fmla="val -14400000"/>
                  </a:avLst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grpSp>
              <p:nvGrpSpPr>
                <p:cNvPr id="533" name=""/>
                <p:cNvGrpSpPr/>
                <p:nvPr/>
              </p:nvGrpSpPr>
              <p:grpSpPr>
                <a:xfrm>
                  <a:off x="171360" y="2227320"/>
                  <a:ext cx="2124000" cy="297000"/>
                  <a:chOff x="171360" y="2227320"/>
                  <a:chExt cx="2124000" cy="297000"/>
                </a:xfrm>
              </p:grpSpPr>
              <p:sp>
                <p:nvSpPr>
                  <p:cNvPr id="532" name=""/>
                  <p:cNvSpPr/>
                  <p:nvPr/>
                </p:nvSpPr>
                <p:spPr>
                  <a:xfrm>
                    <a:off x="171360" y="2227320"/>
                    <a:ext cx="2124000" cy="297000"/>
                  </a:xfrm>
                  <a:custGeom>
                    <a:avLst/>
                    <a:gdLst>
                      <a:gd name="textAreaLeft" fmla="*/ 0 w 2124000"/>
                      <a:gd name="textAreaRight" fmla="*/ 2124360 w 2124000"/>
                      <a:gd name="textAreaTop" fmla="*/ 0 h 297000"/>
                      <a:gd name="textAreaBottom" fmla="*/ 297360 h 297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0447" y="0"/>
                        </a:lnTo>
                        <a:lnTo>
                          <a:pt x="21600" y="10800"/>
                        </a:lnTo>
                        <a:lnTo>
                          <a:pt x="20447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0" bIns="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>
                    <a:off x="999000" y="2263680"/>
                    <a:ext cx="472320" cy="24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Pré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35" name=""/>
                <p:cNvSpPr/>
                <p:nvPr/>
              </p:nvSpPr>
              <p:spPr>
                <a:xfrm>
                  <a:off x="185760" y="2597040"/>
                  <a:ext cx="1335240" cy="787680"/>
                </a:xfrm>
                <a:custGeom>
                  <a:avLst/>
                  <a:gdLst>
                    <a:gd name="textAreaLeft" fmla="*/ 0 w 1335240"/>
                    <a:gd name="textAreaRight" fmla="*/ 1335600 w 1335240"/>
                    <a:gd name="textAreaTop" fmla="*/ 0 h 787680"/>
                    <a:gd name="textAreaBottom" fmla="*/ 788040 h 787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9548" y="0"/>
                      </a:lnTo>
                      <a:lnTo>
                        <a:pt x="21600" y="10800"/>
                      </a:lnTo>
                      <a:lnTo>
                        <a:pt x="19548" y="21600"/>
                      </a:lnTo>
                      <a:lnTo>
                        <a:pt x="0" y="21600"/>
                      </a:lnTo>
                      <a:lnTo>
                        <a:pt x="2052" y="1080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lanejament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Estratégico dos Produto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36" name=""/>
                <p:cNvGrpSpPr/>
                <p:nvPr/>
              </p:nvGrpSpPr>
              <p:grpSpPr>
                <a:xfrm>
                  <a:off x="6164280" y="2577960"/>
                  <a:ext cx="2871720" cy="933480"/>
                  <a:chOff x="6164280" y="2577960"/>
                  <a:chExt cx="2871720" cy="933480"/>
                </a:xfrm>
              </p:grpSpPr>
              <p:sp>
                <p:nvSpPr>
                  <p:cNvPr id="537" name=""/>
                  <p:cNvSpPr/>
                  <p:nvPr/>
                </p:nvSpPr>
                <p:spPr>
                  <a:xfrm>
                    <a:off x="6164280" y="2577960"/>
                    <a:ext cx="1257120" cy="830520"/>
                  </a:xfrm>
                  <a:custGeom>
                    <a:avLst/>
                    <a:gdLst>
                      <a:gd name="textAreaLeft" fmla="*/ 0 w 1257120"/>
                      <a:gd name="textAreaRight" fmla="*/ 1257480 w 1257120"/>
                      <a:gd name="textAreaTop" fmla="*/ 0 h 830520"/>
                      <a:gd name="textAreaBottom" fmla="*/ 830880 h 830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001" y="0"/>
                        </a:lnTo>
                        <a:lnTo>
                          <a:pt x="21600" y="10800"/>
                        </a:lnTo>
                        <a:lnTo>
                          <a:pt x="19001" y="21600"/>
                        </a:lnTo>
                        <a:lnTo>
                          <a:pt x="0" y="21600"/>
                        </a:lnTo>
                        <a:lnTo>
                          <a:pt x="2599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"/>
                  <p:cNvSpPr/>
                  <p:nvPr/>
                </p:nvSpPr>
                <p:spPr>
                  <a:xfrm>
                    <a:off x="7421400" y="2577960"/>
                    <a:ext cx="1270080" cy="830520"/>
                  </a:xfrm>
                  <a:custGeom>
                    <a:avLst/>
                    <a:gdLst>
                      <a:gd name="textAreaLeft" fmla="*/ 0 w 1270080"/>
                      <a:gd name="textAreaRight" fmla="*/ 1270440 w 1270080"/>
                      <a:gd name="textAreaTop" fmla="*/ 0 h 830520"/>
                      <a:gd name="textAreaBottom" fmla="*/ 830880 h 830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001" y="0"/>
                        </a:lnTo>
                        <a:lnTo>
                          <a:pt x="21600" y="10800"/>
                        </a:lnTo>
                        <a:lnTo>
                          <a:pt x="19001" y="21600"/>
                        </a:lnTo>
                        <a:lnTo>
                          <a:pt x="0" y="21600"/>
                        </a:lnTo>
                        <a:lnTo>
                          <a:pt x="2599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>
                    <a:off x="6249960" y="2641680"/>
                    <a:ext cx="1268280" cy="830160"/>
                  </a:xfrm>
                  <a:custGeom>
                    <a:avLst/>
                    <a:gdLst>
                      <a:gd name="textAreaLeft" fmla="*/ 0 w 1268280"/>
                      <a:gd name="textAreaRight" fmla="*/ 1268640 w 1268280"/>
                      <a:gd name="textAreaTop" fmla="*/ 0 h 830160"/>
                      <a:gd name="textAreaBottom" fmla="*/ 830520 h 830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001" y="0"/>
                        </a:lnTo>
                        <a:lnTo>
                          <a:pt x="21600" y="10800"/>
                        </a:lnTo>
                        <a:lnTo>
                          <a:pt x="19001" y="21600"/>
                        </a:lnTo>
                        <a:lnTo>
                          <a:pt x="0" y="21600"/>
                        </a:lnTo>
                        <a:lnTo>
                          <a:pt x="2599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>
                    <a:off x="7535880" y="2641680"/>
                    <a:ext cx="1270080" cy="830160"/>
                  </a:xfrm>
                  <a:custGeom>
                    <a:avLst/>
                    <a:gdLst>
                      <a:gd name="textAreaLeft" fmla="*/ 0 w 1270080"/>
                      <a:gd name="textAreaRight" fmla="*/ 1270440 w 1270080"/>
                      <a:gd name="textAreaTop" fmla="*/ 0 h 830160"/>
                      <a:gd name="textAreaBottom" fmla="*/ 830520 h 830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001" y="0"/>
                        </a:lnTo>
                        <a:lnTo>
                          <a:pt x="21600" y="10800"/>
                        </a:lnTo>
                        <a:lnTo>
                          <a:pt x="19001" y="21600"/>
                        </a:lnTo>
                        <a:lnTo>
                          <a:pt x="0" y="21600"/>
                        </a:lnTo>
                        <a:lnTo>
                          <a:pt x="2599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>
                    <a:off x="7694640" y="2681280"/>
                    <a:ext cx="1341360" cy="830160"/>
                  </a:xfrm>
                  <a:custGeom>
                    <a:avLst/>
                    <a:gdLst>
                      <a:gd name="textAreaLeft" fmla="*/ 0 w 1341360"/>
                      <a:gd name="textAreaRight" fmla="*/ 1341720 w 1341360"/>
                      <a:gd name="textAreaTop" fmla="*/ 0 h 830160"/>
                      <a:gd name="textAreaBottom" fmla="*/ 830520 h 830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602" y="0"/>
                        </a:lnTo>
                        <a:lnTo>
                          <a:pt x="21600" y="10800"/>
                        </a:lnTo>
                        <a:lnTo>
                          <a:pt x="19602" y="21600"/>
                        </a:lnTo>
                        <a:lnTo>
                          <a:pt x="0" y="21600"/>
                        </a:lnTo>
                        <a:lnTo>
                          <a:pt x="1998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44000" rIns="72000" tIns="0" bIns="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Descontinuar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rodut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6348240" y="2681280"/>
                    <a:ext cx="1400400" cy="830160"/>
                  </a:xfrm>
                  <a:custGeom>
                    <a:avLst/>
                    <a:gdLst>
                      <a:gd name="textAreaLeft" fmla="*/ 0 w 1400400"/>
                      <a:gd name="textAreaRight" fmla="*/ 1400400 w 1400400"/>
                      <a:gd name="textAreaTop" fmla="*/ 0 h 830160"/>
                      <a:gd name="textAreaBottom" fmla="*/ 830520 h 830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739" y="0"/>
                        </a:lnTo>
                        <a:lnTo>
                          <a:pt x="21600" y="10800"/>
                        </a:lnTo>
                        <a:lnTo>
                          <a:pt x="19739" y="21600"/>
                        </a:lnTo>
                        <a:lnTo>
                          <a:pt x="0" y="21600"/>
                        </a:lnTo>
                        <a:lnTo>
                          <a:pt x="1861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Acompanhar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roduto/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rocess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3" name=""/>
                <p:cNvGrpSpPr/>
                <p:nvPr/>
              </p:nvGrpSpPr>
              <p:grpSpPr>
                <a:xfrm>
                  <a:off x="2413080" y="2565000"/>
                  <a:ext cx="3600360" cy="407880"/>
                  <a:chOff x="2413080" y="2565000"/>
                  <a:chExt cx="3600360" cy="407880"/>
                </a:xfrm>
              </p:grpSpPr>
              <p:sp>
                <p:nvSpPr>
                  <p:cNvPr id="544" name=""/>
                  <p:cNvSpPr/>
                  <p:nvPr/>
                </p:nvSpPr>
                <p:spPr>
                  <a:xfrm flipV="1">
                    <a:off x="2413080" y="256464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 flipV="1">
                    <a:off x="3133800" y="256464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 flipV="1">
                    <a:off x="3855960" y="256464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 flipV="1">
                    <a:off x="4576680" y="256464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 flipV="1">
                    <a:off x="5299200" y="256464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9" name=""/>
                <p:cNvGrpSpPr/>
                <p:nvPr/>
              </p:nvGrpSpPr>
              <p:grpSpPr>
                <a:xfrm>
                  <a:off x="2565360" y="2717640"/>
                  <a:ext cx="3600360" cy="407880"/>
                  <a:chOff x="2565360" y="2717640"/>
                  <a:chExt cx="3600360" cy="407880"/>
                </a:xfrm>
              </p:grpSpPr>
              <p:sp>
                <p:nvSpPr>
                  <p:cNvPr id="550" name=""/>
                  <p:cNvSpPr/>
                  <p:nvPr/>
                </p:nvSpPr>
                <p:spPr>
                  <a:xfrm flipV="1">
                    <a:off x="2565360" y="271728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 flipV="1">
                    <a:off x="3286080" y="271728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 flipV="1">
                    <a:off x="4008600" y="271728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 flipV="1">
                    <a:off x="4729320" y="271728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 flipV="1">
                    <a:off x="5451480" y="271728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5" name=""/>
                <p:cNvGrpSpPr/>
                <p:nvPr/>
              </p:nvGrpSpPr>
              <p:grpSpPr>
                <a:xfrm>
                  <a:off x="2717640" y="2869920"/>
                  <a:ext cx="3600720" cy="407880"/>
                  <a:chOff x="2717640" y="2869920"/>
                  <a:chExt cx="3600720" cy="407880"/>
                </a:xfrm>
              </p:grpSpPr>
              <p:sp>
                <p:nvSpPr>
                  <p:cNvPr id="556" name=""/>
                  <p:cNvSpPr/>
                  <p:nvPr/>
                </p:nvSpPr>
                <p:spPr>
                  <a:xfrm flipV="1">
                    <a:off x="2717640" y="286956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 flipV="1">
                    <a:off x="3438360" y="286956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 flipV="1">
                    <a:off x="4160880" y="286956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 flipV="1">
                    <a:off x="4881600" y="286956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 flipV="1">
                    <a:off x="5603760" y="286956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1" name=""/>
                <p:cNvGrpSpPr/>
                <p:nvPr/>
              </p:nvGrpSpPr>
              <p:grpSpPr>
                <a:xfrm>
                  <a:off x="1565280" y="2606760"/>
                  <a:ext cx="950760" cy="671400"/>
                  <a:chOff x="1565280" y="2606760"/>
                  <a:chExt cx="950760" cy="671400"/>
                </a:xfrm>
              </p:grpSpPr>
              <p:sp>
                <p:nvSpPr>
                  <p:cNvPr id="562" name=""/>
                  <p:cNvSpPr/>
                  <p:nvPr/>
                </p:nvSpPr>
                <p:spPr>
                  <a:xfrm>
                    <a:off x="1565280" y="2606760"/>
                    <a:ext cx="646200" cy="366480"/>
                  </a:xfrm>
                  <a:custGeom>
                    <a:avLst/>
                    <a:gdLst>
                      <a:gd name="textAreaLeft" fmla="*/ 0 w 646200"/>
                      <a:gd name="textAreaRight" fmla="*/ 646560 w 646200"/>
                      <a:gd name="textAreaTop" fmla="*/ 0 h 366480"/>
                      <a:gd name="textAreaBottom" fmla="*/ 366840 h 366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522" y="0"/>
                        </a:lnTo>
                        <a:lnTo>
                          <a:pt x="21600" y="10800"/>
                        </a:lnTo>
                        <a:lnTo>
                          <a:pt x="19522" y="21600"/>
                        </a:lnTo>
                        <a:lnTo>
                          <a:pt x="0" y="21600"/>
                        </a:lnTo>
                        <a:lnTo>
                          <a:pt x="2078" y="108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>
                    <a:off x="1717560" y="2759040"/>
                    <a:ext cx="646200" cy="366840"/>
                  </a:xfrm>
                  <a:custGeom>
                    <a:avLst/>
                    <a:gdLst>
                      <a:gd name="textAreaLeft" fmla="*/ 0 w 646200"/>
                      <a:gd name="textAreaRight" fmla="*/ 646560 w 646200"/>
                      <a:gd name="textAreaTop" fmla="*/ 0 h 366840"/>
                      <a:gd name="textAreaBottom" fmla="*/ 367200 h 3668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522" y="0"/>
                        </a:lnTo>
                        <a:lnTo>
                          <a:pt x="21600" y="10800"/>
                        </a:lnTo>
                        <a:lnTo>
                          <a:pt x="19522" y="21600"/>
                        </a:lnTo>
                        <a:lnTo>
                          <a:pt x="0" y="21600"/>
                        </a:lnTo>
                        <a:lnTo>
                          <a:pt x="2078" y="108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>
                    <a:off x="1870200" y="2911320"/>
                    <a:ext cx="645840" cy="366840"/>
                  </a:xfrm>
                  <a:custGeom>
                    <a:avLst/>
                    <a:gdLst>
                      <a:gd name="textAreaLeft" fmla="*/ 0 w 645840"/>
                      <a:gd name="textAreaRight" fmla="*/ 646200 w 645840"/>
                      <a:gd name="textAreaTop" fmla="*/ 0 h 366840"/>
                      <a:gd name="textAreaBottom" fmla="*/ 367200 h 3668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522" y="0"/>
                        </a:lnTo>
                        <a:lnTo>
                          <a:pt x="21600" y="10800"/>
                        </a:lnTo>
                        <a:lnTo>
                          <a:pt x="19522" y="21600"/>
                        </a:lnTo>
                        <a:lnTo>
                          <a:pt x="0" y="21600"/>
                        </a:lnTo>
                        <a:lnTo>
                          <a:pt x="2078" y="108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5" name=""/>
                <p:cNvGrpSpPr/>
                <p:nvPr/>
              </p:nvGrpSpPr>
              <p:grpSpPr>
                <a:xfrm>
                  <a:off x="279720" y="3220920"/>
                  <a:ext cx="6232320" cy="776520"/>
                  <a:chOff x="279720" y="3220920"/>
                  <a:chExt cx="6232320" cy="776520"/>
                </a:xfrm>
              </p:grpSpPr>
              <p:sp>
                <p:nvSpPr>
                  <p:cNvPr id="566" name=""/>
                  <p:cNvSpPr/>
                  <p:nvPr/>
                </p:nvSpPr>
                <p:spPr>
                  <a:xfrm>
                    <a:off x="279720" y="3670200"/>
                    <a:ext cx="979920" cy="24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rPr>
                      <a:t>Gates &gt;&gt;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67" name=""/>
                  <p:cNvGrpSpPr/>
                  <p:nvPr/>
                </p:nvGrpSpPr>
                <p:grpSpPr>
                  <a:xfrm>
                    <a:off x="3319560" y="3220920"/>
                    <a:ext cx="185760" cy="617400"/>
                    <a:chOff x="3319560" y="3220920"/>
                    <a:chExt cx="185760" cy="617400"/>
                  </a:xfrm>
                </p:grpSpPr>
                <p:sp>
                  <p:nvSpPr>
                    <p:cNvPr id="568" name=""/>
                    <p:cNvSpPr/>
                    <p:nvPr/>
                  </p:nvSpPr>
                  <p:spPr>
                    <a:xfrm>
                      <a:off x="3319560" y="3566880"/>
                      <a:ext cx="18576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9" name=""/>
                    <p:cNvSpPr/>
                    <p:nvPr/>
                  </p:nvSpPr>
                  <p:spPr>
                    <a:xfrm flipV="1">
                      <a:off x="3411720" y="322092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70" name=""/>
                  <p:cNvSpPr/>
                  <p:nvPr/>
                </p:nvSpPr>
                <p:spPr>
                  <a:xfrm>
                    <a:off x="1208160" y="3497400"/>
                    <a:ext cx="5303880" cy="500040"/>
                  </a:xfrm>
                  <a:prstGeom prst="roundRect">
                    <a:avLst>
                      <a:gd name="adj" fmla="val 50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71" name=""/>
                  <p:cNvGrpSpPr/>
                  <p:nvPr/>
                </p:nvGrpSpPr>
                <p:grpSpPr>
                  <a:xfrm>
                    <a:off x="6219720" y="3395160"/>
                    <a:ext cx="185400" cy="474840"/>
                    <a:chOff x="6219720" y="3395160"/>
                    <a:chExt cx="185400" cy="474840"/>
                  </a:xfrm>
                </p:grpSpPr>
                <p:sp>
                  <p:nvSpPr>
                    <p:cNvPr id="572" name=""/>
                    <p:cNvSpPr/>
                    <p:nvPr/>
                  </p:nvSpPr>
                  <p:spPr>
                    <a:xfrm>
                      <a:off x="6219720" y="3598560"/>
                      <a:ext cx="18540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3" name=""/>
                    <p:cNvSpPr/>
                    <p:nvPr/>
                  </p:nvSpPr>
                  <p:spPr>
                    <a:xfrm flipV="1">
                      <a:off x="6311520" y="3395160"/>
                      <a:ext cx="0" cy="2062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4" name=""/>
                  <p:cNvGrpSpPr/>
                  <p:nvPr/>
                </p:nvGrpSpPr>
                <p:grpSpPr>
                  <a:xfrm>
                    <a:off x="4748040" y="3220920"/>
                    <a:ext cx="185760" cy="617400"/>
                    <a:chOff x="4748040" y="3220920"/>
                    <a:chExt cx="185760" cy="617400"/>
                  </a:xfrm>
                </p:grpSpPr>
                <p:sp>
                  <p:nvSpPr>
                    <p:cNvPr id="575" name=""/>
                    <p:cNvSpPr/>
                    <p:nvPr/>
                  </p:nvSpPr>
                  <p:spPr>
                    <a:xfrm>
                      <a:off x="4748040" y="3566880"/>
                      <a:ext cx="18576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6" name=""/>
                    <p:cNvSpPr/>
                    <p:nvPr/>
                  </p:nvSpPr>
                  <p:spPr>
                    <a:xfrm flipV="1">
                      <a:off x="4840200" y="322092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7" name=""/>
                  <p:cNvGrpSpPr/>
                  <p:nvPr/>
                </p:nvGrpSpPr>
                <p:grpSpPr>
                  <a:xfrm>
                    <a:off x="5464080" y="3220920"/>
                    <a:ext cx="185760" cy="617400"/>
                    <a:chOff x="5464080" y="3220920"/>
                    <a:chExt cx="185760" cy="617400"/>
                  </a:xfrm>
                </p:grpSpPr>
                <p:sp>
                  <p:nvSpPr>
                    <p:cNvPr id="578" name=""/>
                    <p:cNvSpPr/>
                    <p:nvPr/>
                  </p:nvSpPr>
                  <p:spPr>
                    <a:xfrm>
                      <a:off x="5464080" y="3566880"/>
                      <a:ext cx="18576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9" name=""/>
                    <p:cNvSpPr/>
                    <p:nvPr/>
                  </p:nvSpPr>
                  <p:spPr>
                    <a:xfrm flipV="1">
                      <a:off x="5556240" y="322092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0" name=""/>
                  <p:cNvGrpSpPr/>
                  <p:nvPr/>
                </p:nvGrpSpPr>
                <p:grpSpPr>
                  <a:xfrm>
                    <a:off x="2422440" y="3252960"/>
                    <a:ext cx="185760" cy="585720"/>
                    <a:chOff x="2422440" y="3252960"/>
                    <a:chExt cx="185760" cy="585720"/>
                  </a:xfrm>
                </p:grpSpPr>
                <p:sp>
                  <p:nvSpPr>
                    <p:cNvPr id="581" name=""/>
                    <p:cNvSpPr/>
                    <p:nvPr/>
                  </p:nvSpPr>
                  <p:spPr>
                    <a:xfrm flipV="1">
                      <a:off x="2514600" y="325296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2" name=""/>
                    <p:cNvSpPr/>
                    <p:nvPr/>
                  </p:nvSpPr>
                  <p:spPr>
                    <a:xfrm>
                      <a:off x="2422440" y="3567240"/>
                      <a:ext cx="18576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3" name=""/>
                  <p:cNvGrpSpPr/>
                  <p:nvPr/>
                </p:nvGrpSpPr>
                <p:grpSpPr>
                  <a:xfrm>
                    <a:off x="4035600" y="3252960"/>
                    <a:ext cx="185400" cy="585720"/>
                    <a:chOff x="4035600" y="3252960"/>
                    <a:chExt cx="185400" cy="585720"/>
                  </a:xfrm>
                </p:grpSpPr>
                <p:sp>
                  <p:nvSpPr>
                    <p:cNvPr id="584" name=""/>
                    <p:cNvSpPr/>
                    <p:nvPr/>
                  </p:nvSpPr>
                  <p:spPr>
                    <a:xfrm flipV="1">
                      <a:off x="4127400" y="325296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5" name=""/>
                    <p:cNvSpPr/>
                    <p:nvPr/>
                  </p:nvSpPr>
                  <p:spPr>
                    <a:xfrm>
                      <a:off x="4035600" y="3567240"/>
                      <a:ext cx="18540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6" name=""/>
                  <p:cNvGrpSpPr/>
                  <p:nvPr/>
                </p:nvGrpSpPr>
                <p:grpSpPr>
                  <a:xfrm>
                    <a:off x="3597120" y="3277800"/>
                    <a:ext cx="141480" cy="473400"/>
                    <a:chOff x="3597120" y="3277800"/>
                    <a:chExt cx="141480" cy="473400"/>
                  </a:xfrm>
                </p:grpSpPr>
                <p:sp>
                  <p:nvSpPr>
                    <p:cNvPr id="587" name=""/>
                    <p:cNvSpPr/>
                    <p:nvPr/>
                  </p:nvSpPr>
                  <p:spPr>
                    <a:xfrm flipV="1">
                      <a:off x="3668760" y="327780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8" name=""/>
                    <p:cNvSpPr/>
                    <p:nvPr/>
                  </p:nvSpPr>
                  <p:spPr>
                    <a:xfrm>
                      <a:off x="3597120" y="3616200"/>
                      <a:ext cx="14148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9" name=""/>
                  <p:cNvGrpSpPr/>
                  <p:nvPr/>
                </p:nvGrpSpPr>
                <p:grpSpPr>
                  <a:xfrm>
                    <a:off x="3784680" y="3277800"/>
                    <a:ext cx="141120" cy="473400"/>
                    <a:chOff x="3784680" y="3277800"/>
                    <a:chExt cx="141120" cy="473400"/>
                  </a:xfrm>
                </p:grpSpPr>
                <p:sp>
                  <p:nvSpPr>
                    <p:cNvPr id="590" name=""/>
                    <p:cNvSpPr/>
                    <p:nvPr/>
                  </p:nvSpPr>
                  <p:spPr>
                    <a:xfrm flipV="1">
                      <a:off x="3855960" y="327780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1" name=""/>
                    <p:cNvSpPr/>
                    <p:nvPr/>
                  </p:nvSpPr>
                  <p:spPr>
                    <a:xfrm>
                      <a:off x="3784680" y="3616200"/>
                      <a:ext cx="14112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2" name=""/>
                  <p:cNvGrpSpPr/>
                  <p:nvPr/>
                </p:nvGrpSpPr>
                <p:grpSpPr>
                  <a:xfrm>
                    <a:off x="4284720" y="3277800"/>
                    <a:ext cx="141120" cy="473400"/>
                    <a:chOff x="4284720" y="3277800"/>
                    <a:chExt cx="141120" cy="473400"/>
                  </a:xfrm>
                </p:grpSpPr>
                <p:sp>
                  <p:nvSpPr>
                    <p:cNvPr id="593" name=""/>
                    <p:cNvSpPr/>
                    <p:nvPr/>
                  </p:nvSpPr>
                  <p:spPr>
                    <a:xfrm flipV="1">
                      <a:off x="4356000" y="327780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4" name=""/>
                    <p:cNvSpPr/>
                    <p:nvPr/>
                  </p:nvSpPr>
                  <p:spPr>
                    <a:xfrm>
                      <a:off x="4284720" y="3616200"/>
                      <a:ext cx="14112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5" name=""/>
                  <p:cNvGrpSpPr/>
                  <p:nvPr/>
                </p:nvGrpSpPr>
                <p:grpSpPr>
                  <a:xfrm>
                    <a:off x="4498920" y="3277800"/>
                    <a:ext cx="141480" cy="473400"/>
                    <a:chOff x="4498920" y="3277800"/>
                    <a:chExt cx="141480" cy="473400"/>
                  </a:xfrm>
                </p:grpSpPr>
                <p:sp>
                  <p:nvSpPr>
                    <p:cNvPr id="596" name=""/>
                    <p:cNvSpPr/>
                    <p:nvPr/>
                  </p:nvSpPr>
                  <p:spPr>
                    <a:xfrm flipV="1">
                      <a:off x="4570560" y="327780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7" name=""/>
                    <p:cNvSpPr/>
                    <p:nvPr/>
                  </p:nvSpPr>
                  <p:spPr>
                    <a:xfrm>
                      <a:off x="4498920" y="3616200"/>
                      <a:ext cx="14148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8" name=""/>
                  <p:cNvGrpSpPr/>
                  <p:nvPr/>
                </p:nvGrpSpPr>
                <p:grpSpPr>
                  <a:xfrm>
                    <a:off x="3051000" y="3277800"/>
                    <a:ext cx="141480" cy="473400"/>
                    <a:chOff x="3051000" y="3277800"/>
                    <a:chExt cx="141480" cy="473400"/>
                  </a:xfrm>
                </p:grpSpPr>
                <p:sp>
                  <p:nvSpPr>
                    <p:cNvPr id="599" name=""/>
                    <p:cNvSpPr/>
                    <p:nvPr/>
                  </p:nvSpPr>
                  <p:spPr>
                    <a:xfrm flipV="1">
                      <a:off x="3122640" y="327780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0" name=""/>
                    <p:cNvSpPr/>
                    <p:nvPr/>
                  </p:nvSpPr>
                  <p:spPr>
                    <a:xfrm>
                      <a:off x="3051000" y="3616200"/>
                      <a:ext cx="14148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1" name=""/>
                  <p:cNvGrpSpPr/>
                  <p:nvPr/>
                </p:nvGrpSpPr>
                <p:grpSpPr>
                  <a:xfrm>
                    <a:off x="5164200" y="3277800"/>
                    <a:ext cx="141120" cy="473400"/>
                    <a:chOff x="5164200" y="3277800"/>
                    <a:chExt cx="141120" cy="473400"/>
                  </a:xfrm>
                </p:grpSpPr>
                <p:sp>
                  <p:nvSpPr>
                    <p:cNvPr id="602" name=""/>
                    <p:cNvSpPr/>
                    <p:nvPr/>
                  </p:nvSpPr>
                  <p:spPr>
                    <a:xfrm flipV="1">
                      <a:off x="5235480" y="327780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3" name=""/>
                    <p:cNvSpPr/>
                    <p:nvPr/>
                  </p:nvSpPr>
                  <p:spPr>
                    <a:xfrm>
                      <a:off x="5164200" y="3616200"/>
                      <a:ext cx="14112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604" name=""/>
              <p:cNvSpPr/>
              <p:nvPr/>
            </p:nvSpPr>
            <p:spPr>
              <a:xfrm>
                <a:off x="1500120" y="1455840"/>
                <a:ext cx="6210360" cy="32076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Processo de Desenvolvimento de Produt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5" name=""/>
          <p:cNvGrpSpPr/>
          <p:nvPr/>
        </p:nvGrpSpPr>
        <p:grpSpPr>
          <a:xfrm>
            <a:off x="7344360" y="2126880"/>
            <a:ext cx="1968840" cy="3336840"/>
            <a:chOff x="7344360" y="2126880"/>
            <a:chExt cx="1968840" cy="3336840"/>
          </a:xfrm>
        </p:grpSpPr>
        <p:grpSp>
          <p:nvGrpSpPr>
            <p:cNvPr id="606" name=""/>
            <p:cNvGrpSpPr/>
            <p:nvPr/>
          </p:nvGrpSpPr>
          <p:grpSpPr>
            <a:xfrm>
              <a:off x="7344360" y="2126880"/>
              <a:ext cx="1968840" cy="2141640"/>
              <a:chOff x="7344360" y="2126880"/>
              <a:chExt cx="1968840" cy="2141640"/>
            </a:xfrm>
          </p:grpSpPr>
          <p:grpSp>
            <p:nvGrpSpPr>
              <p:cNvPr id="607" name=""/>
              <p:cNvGrpSpPr/>
              <p:nvPr/>
            </p:nvGrpSpPr>
            <p:grpSpPr>
              <a:xfrm>
                <a:off x="7439760" y="2154240"/>
                <a:ext cx="1778400" cy="2112840"/>
                <a:chOff x="7439760" y="2154240"/>
                <a:chExt cx="1778400" cy="2112840"/>
              </a:xfrm>
            </p:grpSpPr>
            <p:grpSp>
              <p:nvGrpSpPr>
                <p:cNvPr id="608" name=""/>
                <p:cNvGrpSpPr/>
                <p:nvPr/>
              </p:nvGrpSpPr>
              <p:grpSpPr>
                <a:xfrm>
                  <a:off x="7439760" y="2154240"/>
                  <a:ext cx="1778400" cy="2112840"/>
                  <a:chOff x="7439760" y="2154240"/>
                  <a:chExt cx="1778400" cy="2112840"/>
                </a:xfrm>
              </p:grpSpPr>
              <p:sp>
                <p:nvSpPr>
                  <p:cNvPr id="609" name=""/>
                  <p:cNvSpPr/>
                  <p:nvPr/>
                </p:nvSpPr>
                <p:spPr>
                  <a:xfrm rot="847200">
                    <a:off x="7626600" y="2306160"/>
                    <a:ext cx="1374480" cy="1028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03" h="685">
                        <a:moveTo>
                          <a:pt x="21" y="685"/>
                        </a:moveTo>
                        <a:lnTo>
                          <a:pt x="6" y="604"/>
                        </a:lnTo>
                        <a:lnTo>
                          <a:pt x="0" y="526"/>
                        </a:lnTo>
                        <a:lnTo>
                          <a:pt x="3" y="472"/>
                        </a:lnTo>
                        <a:lnTo>
                          <a:pt x="12" y="423"/>
                        </a:lnTo>
                        <a:lnTo>
                          <a:pt x="27" y="369"/>
                        </a:lnTo>
                        <a:lnTo>
                          <a:pt x="51" y="315"/>
                        </a:lnTo>
                        <a:lnTo>
                          <a:pt x="81" y="258"/>
                        </a:lnTo>
                        <a:lnTo>
                          <a:pt x="111" y="213"/>
                        </a:lnTo>
                        <a:lnTo>
                          <a:pt x="147" y="168"/>
                        </a:lnTo>
                        <a:lnTo>
                          <a:pt x="189" y="129"/>
                        </a:lnTo>
                        <a:lnTo>
                          <a:pt x="231" y="96"/>
                        </a:lnTo>
                        <a:lnTo>
                          <a:pt x="276" y="69"/>
                        </a:lnTo>
                        <a:lnTo>
                          <a:pt x="331" y="45"/>
                        </a:lnTo>
                        <a:lnTo>
                          <a:pt x="394" y="24"/>
                        </a:lnTo>
                        <a:lnTo>
                          <a:pt x="448" y="9"/>
                        </a:lnTo>
                        <a:lnTo>
                          <a:pt x="514" y="0"/>
                        </a:lnTo>
                        <a:lnTo>
                          <a:pt x="598" y="0"/>
                        </a:lnTo>
                        <a:lnTo>
                          <a:pt x="661" y="12"/>
                        </a:lnTo>
                        <a:lnTo>
                          <a:pt x="736" y="30"/>
                        </a:lnTo>
                        <a:lnTo>
                          <a:pt x="811" y="63"/>
                        </a:lnTo>
                        <a:lnTo>
                          <a:pt x="877" y="102"/>
                        </a:lnTo>
                        <a:lnTo>
                          <a:pt x="922" y="141"/>
                        </a:lnTo>
                        <a:lnTo>
                          <a:pt x="967" y="186"/>
                        </a:lnTo>
                        <a:lnTo>
                          <a:pt x="1003" y="231"/>
                        </a:lnTo>
                        <a:lnTo>
                          <a:pt x="907" y="159"/>
                        </a:lnTo>
                        <a:lnTo>
                          <a:pt x="856" y="129"/>
                        </a:lnTo>
                        <a:lnTo>
                          <a:pt x="802" y="108"/>
                        </a:lnTo>
                        <a:lnTo>
                          <a:pt x="733" y="87"/>
                        </a:lnTo>
                        <a:lnTo>
                          <a:pt x="667" y="78"/>
                        </a:lnTo>
                        <a:lnTo>
                          <a:pt x="595" y="75"/>
                        </a:lnTo>
                        <a:lnTo>
                          <a:pt x="541" y="78"/>
                        </a:lnTo>
                        <a:lnTo>
                          <a:pt x="484" y="87"/>
                        </a:lnTo>
                        <a:lnTo>
                          <a:pt x="427" y="102"/>
                        </a:lnTo>
                        <a:lnTo>
                          <a:pt x="373" y="120"/>
                        </a:lnTo>
                        <a:lnTo>
                          <a:pt x="313" y="150"/>
                        </a:lnTo>
                        <a:lnTo>
                          <a:pt x="267" y="177"/>
                        </a:lnTo>
                        <a:lnTo>
                          <a:pt x="228" y="210"/>
                        </a:lnTo>
                        <a:lnTo>
                          <a:pt x="183" y="246"/>
                        </a:lnTo>
                        <a:lnTo>
                          <a:pt x="147" y="285"/>
                        </a:lnTo>
                        <a:lnTo>
                          <a:pt x="111" y="339"/>
                        </a:lnTo>
                        <a:lnTo>
                          <a:pt x="78" y="396"/>
                        </a:lnTo>
                        <a:lnTo>
                          <a:pt x="57" y="450"/>
                        </a:lnTo>
                        <a:lnTo>
                          <a:pt x="39" y="514"/>
                        </a:lnTo>
                        <a:lnTo>
                          <a:pt x="27" y="592"/>
                        </a:lnTo>
                        <a:lnTo>
                          <a:pt x="21" y="685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 rot="847200">
                    <a:off x="7570800" y="2838240"/>
                    <a:ext cx="1515960" cy="126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106" h="841">
                        <a:moveTo>
                          <a:pt x="0" y="511"/>
                        </a:moveTo>
                        <a:lnTo>
                          <a:pt x="63" y="583"/>
                        </a:lnTo>
                        <a:lnTo>
                          <a:pt x="132" y="646"/>
                        </a:lnTo>
                        <a:lnTo>
                          <a:pt x="195" y="682"/>
                        </a:lnTo>
                        <a:lnTo>
                          <a:pt x="286" y="721"/>
                        </a:lnTo>
                        <a:lnTo>
                          <a:pt x="358" y="742"/>
                        </a:lnTo>
                        <a:lnTo>
                          <a:pt x="424" y="751"/>
                        </a:lnTo>
                        <a:lnTo>
                          <a:pt x="502" y="751"/>
                        </a:lnTo>
                        <a:lnTo>
                          <a:pt x="559" y="745"/>
                        </a:lnTo>
                        <a:lnTo>
                          <a:pt x="628" y="733"/>
                        </a:lnTo>
                        <a:lnTo>
                          <a:pt x="697" y="712"/>
                        </a:lnTo>
                        <a:lnTo>
                          <a:pt x="754" y="682"/>
                        </a:lnTo>
                        <a:lnTo>
                          <a:pt x="808" y="649"/>
                        </a:lnTo>
                        <a:lnTo>
                          <a:pt x="856" y="616"/>
                        </a:lnTo>
                        <a:lnTo>
                          <a:pt x="904" y="568"/>
                        </a:lnTo>
                        <a:lnTo>
                          <a:pt x="952" y="514"/>
                        </a:lnTo>
                        <a:lnTo>
                          <a:pt x="989" y="463"/>
                        </a:lnTo>
                        <a:lnTo>
                          <a:pt x="1010" y="412"/>
                        </a:lnTo>
                        <a:lnTo>
                          <a:pt x="1037" y="331"/>
                        </a:lnTo>
                        <a:lnTo>
                          <a:pt x="1055" y="247"/>
                        </a:lnTo>
                        <a:lnTo>
                          <a:pt x="1058" y="172"/>
                        </a:lnTo>
                        <a:lnTo>
                          <a:pt x="1046" y="90"/>
                        </a:lnTo>
                        <a:lnTo>
                          <a:pt x="1019" y="0"/>
                        </a:lnTo>
                        <a:lnTo>
                          <a:pt x="1046" y="48"/>
                        </a:lnTo>
                        <a:lnTo>
                          <a:pt x="1076" y="117"/>
                        </a:lnTo>
                        <a:lnTo>
                          <a:pt x="1091" y="181"/>
                        </a:lnTo>
                        <a:lnTo>
                          <a:pt x="1106" y="241"/>
                        </a:lnTo>
                        <a:lnTo>
                          <a:pt x="1103" y="292"/>
                        </a:lnTo>
                        <a:lnTo>
                          <a:pt x="1100" y="361"/>
                        </a:lnTo>
                        <a:lnTo>
                          <a:pt x="1064" y="493"/>
                        </a:lnTo>
                        <a:lnTo>
                          <a:pt x="1028" y="565"/>
                        </a:lnTo>
                        <a:lnTo>
                          <a:pt x="983" y="628"/>
                        </a:lnTo>
                        <a:lnTo>
                          <a:pt x="934" y="682"/>
                        </a:lnTo>
                        <a:lnTo>
                          <a:pt x="886" y="721"/>
                        </a:lnTo>
                        <a:lnTo>
                          <a:pt x="820" y="766"/>
                        </a:lnTo>
                        <a:lnTo>
                          <a:pt x="754" y="796"/>
                        </a:lnTo>
                        <a:lnTo>
                          <a:pt x="691" y="817"/>
                        </a:lnTo>
                        <a:lnTo>
                          <a:pt x="610" y="838"/>
                        </a:lnTo>
                        <a:lnTo>
                          <a:pt x="550" y="841"/>
                        </a:lnTo>
                        <a:lnTo>
                          <a:pt x="484" y="841"/>
                        </a:lnTo>
                        <a:lnTo>
                          <a:pt x="418" y="829"/>
                        </a:lnTo>
                        <a:lnTo>
                          <a:pt x="346" y="814"/>
                        </a:lnTo>
                        <a:lnTo>
                          <a:pt x="298" y="796"/>
                        </a:lnTo>
                        <a:lnTo>
                          <a:pt x="234" y="763"/>
                        </a:lnTo>
                        <a:lnTo>
                          <a:pt x="180" y="733"/>
                        </a:lnTo>
                        <a:lnTo>
                          <a:pt x="129" y="691"/>
                        </a:lnTo>
                        <a:lnTo>
                          <a:pt x="75" y="634"/>
                        </a:lnTo>
                        <a:lnTo>
                          <a:pt x="24" y="562"/>
                        </a:lnTo>
                        <a:lnTo>
                          <a:pt x="0" y="51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1" name=""/>
                <p:cNvGrpSpPr/>
                <p:nvPr/>
              </p:nvGrpSpPr>
              <p:grpSpPr>
                <a:xfrm>
                  <a:off x="7455960" y="2357280"/>
                  <a:ext cx="1761120" cy="1560960"/>
                  <a:chOff x="7455960" y="2357280"/>
                  <a:chExt cx="1761120" cy="1560960"/>
                </a:xfrm>
              </p:grpSpPr>
              <p:sp>
                <p:nvSpPr>
                  <p:cNvPr id="612" name=""/>
                  <p:cNvSpPr/>
                  <p:nvPr/>
                </p:nvSpPr>
                <p:spPr>
                  <a:xfrm rot="847200">
                    <a:off x="7500960" y="3459240"/>
                    <a:ext cx="393120" cy="41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7" h="278">
                        <a:moveTo>
                          <a:pt x="0" y="0"/>
                        </a:moveTo>
                        <a:lnTo>
                          <a:pt x="30" y="56"/>
                        </a:lnTo>
                        <a:lnTo>
                          <a:pt x="59" y="99"/>
                        </a:lnTo>
                        <a:lnTo>
                          <a:pt x="90" y="138"/>
                        </a:lnTo>
                        <a:lnTo>
                          <a:pt x="138" y="185"/>
                        </a:lnTo>
                        <a:lnTo>
                          <a:pt x="174" y="215"/>
                        </a:lnTo>
                        <a:lnTo>
                          <a:pt x="220" y="244"/>
                        </a:lnTo>
                        <a:lnTo>
                          <a:pt x="287" y="278"/>
                        </a:lnTo>
                        <a:lnTo>
                          <a:pt x="212" y="176"/>
                        </a:lnTo>
                        <a:lnTo>
                          <a:pt x="170" y="152"/>
                        </a:lnTo>
                        <a:lnTo>
                          <a:pt x="140" y="131"/>
                        </a:lnTo>
                        <a:lnTo>
                          <a:pt x="96" y="101"/>
                        </a:lnTo>
                        <a:lnTo>
                          <a:pt x="62" y="69"/>
                        </a:lnTo>
                        <a:lnTo>
                          <a:pt x="35" y="4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 rot="847200">
                    <a:off x="8978040" y="3003120"/>
                    <a:ext cx="141120" cy="82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03" h="546">
                        <a:moveTo>
                          <a:pt x="19" y="0"/>
                        </a:moveTo>
                        <a:lnTo>
                          <a:pt x="39" y="37"/>
                        </a:lnTo>
                        <a:lnTo>
                          <a:pt x="52" y="69"/>
                        </a:lnTo>
                        <a:lnTo>
                          <a:pt x="66" y="102"/>
                        </a:lnTo>
                        <a:lnTo>
                          <a:pt x="76" y="134"/>
                        </a:lnTo>
                        <a:lnTo>
                          <a:pt x="84" y="164"/>
                        </a:lnTo>
                        <a:lnTo>
                          <a:pt x="99" y="217"/>
                        </a:lnTo>
                        <a:lnTo>
                          <a:pt x="103" y="269"/>
                        </a:lnTo>
                        <a:lnTo>
                          <a:pt x="100" y="349"/>
                        </a:lnTo>
                        <a:lnTo>
                          <a:pt x="93" y="403"/>
                        </a:lnTo>
                        <a:lnTo>
                          <a:pt x="82" y="447"/>
                        </a:lnTo>
                        <a:lnTo>
                          <a:pt x="65" y="493"/>
                        </a:lnTo>
                        <a:lnTo>
                          <a:pt x="42" y="546"/>
                        </a:lnTo>
                        <a:lnTo>
                          <a:pt x="0" y="443"/>
                        </a:lnTo>
                        <a:lnTo>
                          <a:pt x="19" y="398"/>
                        </a:lnTo>
                        <a:lnTo>
                          <a:pt x="28" y="374"/>
                        </a:lnTo>
                        <a:lnTo>
                          <a:pt x="39" y="343"/>
                        </a:lnTo>
                        <a:lnTo>
                          <a:pt x="46" y="311"/>
                        </a:lnTo>
                        <a:lnTo>
                          <a:pt x="52" y="262"/>
                        </a:lnTo>
                        <a:lnTo>
                          <a:pt x="55" y="221"/>
                        </a:lnTo>
                        <a:lnTo>
                          <a:pt x="55" y="160"/>
                        </a:lnTo>
                        <a:lnTo>
                          <a:pt x="46" y="105"/>
                        </a:lnTo>
                        <a:lnTo>
                          <a:pt x="36" y="60"/>
                        </a:lnTo>
                        <a:lnTo>
                          <a:pt x="30" y="36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 rot="847200">
                    <a:off x="8442360" y="2421360"/>
                    <a:ext cx="55872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408" h="165">
                        <a:moveTo>
                          <a:pt x="0" y="0"/>
                        </a:moveTo>
                        <a:lnTo>
                          <a:pt x="31" y="60"/>
                        </a:lnTo>
                        <a:lnTo>
                          <a:pt x="79" y="57"/>
                        </a:lnTo>
                        <a:lnTo>
                          <a:pt x="123" y="60"/>
                        </a:lnTo>
                        <a:lnTo>
                          <a:pt x="164" y="66"/>
                        </a:lnTo>
                        <a:lnTo>
                          <a:pt x="202" y="73"/>
                        </a:lnTo>
                        <a:lnTo>
                          <a:pt x="240" y="83"/>
                        </a:lnTo>
                        <a:lnTo>
                          <a:pt x="266" y="91"/>
                        </a:lnTo>
                        <a:lnTo>
                          <a:pt x="300" y="105"/>
                        </a:lnTo>
                        <a:lnTo>
                          <a:pt x="339" y="124"/>
                        </a:lnTo>
                        <a:lnTo>
                          <a:pt x="408" y="165"/>
                        </a:lnTo>
                        <a:lnTo>
                          <a:pt x="368" y="123"/>
                        </a:lnTo>
                        <a:lnTo>
                          <a:pt x="340" y="102"/>
                        </a:lnTo>
                        <a:lnTo>
                          <a:pt x="303" y="78"/>
                        </a:lnTo>
                        <a:lnTo>
                          <a:pt x="280" y="64"/>
                        </a:lnTo>
                        <a:lnTo>
                          <a:pt x="229" y="40"/>
                        </a:lnTo>
                        <a:lnTo>
                          <a:pt x="196" y="28"/>
                        </a:lnTo>
                        <a:lnTo>
                          <a:pt x="169" y="19"/>
                        </a:lnTo>
                        <a:lnTo>
                          <a:pt x="144" y="13"/>
                        </a:lnTo>
                        <a:lnTo>
                          <a:pt x="105" y="6"/>
                        </a:lnTo>
                        <a:lnTo>
                          <a:pt x="64" y="1"/>
                        </a:lnTo>
                        <a:lnTo>
                          <a:pt x="1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 rot="847200">
                    <a:off x="7617240" y="2529720"/>
                    <a:ext cx="178200" cy="581040"/>
                  </a:xfrm>
                  <a:custGeom>
                    <a:avLst/>
                    <a:gdLst/>
                    <a:ahLst/>
                    <a:rect l="l" t="t" r="r" b="b"/>
                    <a:pathLst>
                      <a:path w="130" h="387">
                        <a:moveTo>
                          <a:pt x="0" y="297"/>
                        </a:moveTo>
                        <a:lnTo>
                          <a:pt x="3" y="267"/>
                        </a:lnTo>
                        <a:lnTo>
                          <a:pt x="5" y="234"/>
                        </a:lnTo>
                        <a:lnTo>
                          <a:pt x="14" y="181"/>
                        </a:lnTo>
                        <a:lnTo>
                          <a:pt x="24" y="139"/>
                        </a:lnTo>
                        <a:lnTo>
                          <a:pt x="38" y="101"/>
                        </a:lnTo>
                        <a:lnTo>
                          <a:pt x="56" y="62"/>
                        </a:lnTo>
                        <a:lnTo>
                          <a:pt x="72" y="32"/>
                        </a:lnTo>
                        <a:lnTo>
                          <a:pt x="92" y="0"/>
                        </a:lnTo>
                        <a:lnTo>
                          <a:pt x="130" y="50"/>
                        </a:lnTo>
                        <a:lnTo>
                          <a:pt x="108" y="80"/>
                        </a:lnTo>
                        <a:lnTo>
                          <a:pt x="92" y="107"/>
                        </a:lnTo>
                        <a:lnTo>
                          <a:pt x="79" y="132"/>
                        </a:lnTo>
                        <a:lnTo>
                          <a:pt x="60" y="167"/>
                        </a:lnTo>
                        <a:lnTo>
                          <a:pt x="48" y="198"/>
                        </a:lnTo>
                        <a:lnTo>
                          <a:pt x="41" y="228"/>
                        </a:lnTo>
                        <a:lnTo>
                          <a:pt x="32" y="258"/>
                        </a:lnTo>
                        <a:lnTo>
                          <a:pt x="26" y="291"/>
                        </a:lnTo>
                        <a:lnTo>
                          <a:pt x="21" y="331"/>
                        </a:lnTo>
                        <a:lnTo>
                          <a:pt x="17" y="371"/>
                        </a:lnTo>
                        <a:lnTo>
                          <a:pt x="10" y="387"/>
                        </a:lnTo>
                        <a:lnTo>
                          <a:pt x="0" y="297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16" name=""/>
              <p:cNvSpPr/>
              <p:nvPr/>
            </p:nvSpPr>
            <p:spPr>
              <a:xfrm rot="847200">
                <a:off x="7553160" y="2441520"/>
                <a:ext cx="1581480" cy="16592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7" name=""/>
              <p:cNvGrpSpPr/>
              <p:nvPr/>
            </p:nvGrpSpPr>
            <p:grpSpPr>
              <a:xfrm>
                <a:off x="7344360" y="2126880"/>
                <a:ext cx="1937880" cy="1994760"/>
                <a:chOff x="7344360" y="2126880"/>
                <a:chExt cx="1937880" cy="1994760"/>
              </a:xfrm>
            </p:grpSpPr>
            <p:sp>
              <p:nvSpPr>
                <p:cNvPr id="618" name=""/>
                <p:cNvSpPr/>
                <p:nvPr/>
              </p:nvSpPr>
              <p:spPr>
                <a:xfrm rot="847200">
                  <a:off x="7539480" y="2316600"/>
                  <a:ext cx="1544400" cy="1618920"/>
                </a:xfrm>
                <a:prstGeom prst="ellipse">
                  <a:avLst/>
                </a:prstGeom>
                <a:noFill/>
                <a:ln w="63360">
                  <a:solidFill>
                    <a:srgbClr val="9f9f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 rot="847200">
                  <a:off x="7522560" y="2294640"/>
                  <a:ext cx="1581120" cy="165924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 rot="847200">
                  <a:off x="7566120" y="2339280"/>
                  <a:ext cx="1493280" cy="157104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21" name=""/>
            <p:cNvGrpSpPr/>
            <p:nvPr/>
          </p:nvGrpSpPr>
          <p:grpSpPr>
            <a:xfrm>
              <a:off x="8159040" y="3919320"/>
              <a:ext cx="1045440" cy="1544400"/>
              <a:chOff x="8159040" y="3919320"/>
              <a:chExt cx="1045440" cy="1544400"/>
            </a:xfrm>
          </p:grpSpPr>
          <p:sp>
            <p:nvSpPr>
              <p:cNvPr id="622" name=""/>
              <p:cNvSpPr/>
              <p:nvPr/>
            </p:nvSpPr>
            <p:spPr>
              <a:xfrm rot="847200">
                <a:off x="8295120" y="4066200"/>
                <a:ext cx="772920" cy="1213200"/>
              </a:xfrm>
              <a:custGeom>
                <a:avLst/>
                <a:gdLst/>
                <a:ahLst/>
                <a:rect l="l" t="t" r="r" b="b"/>
                <a:pathLst>
                  <a:path w="564" h="808">
                    <a:moveTo>
                      <a:pt x="0" y="60"/>
                    </a:moveTo>
                    <a:lnTo>
                      <a:pt x="400" y="808"/>
                    </a:lnTo>
                    <a:lnTo>
                      <a:pt x="564" y="725"/>
                    </a:lnTo>
                    <a:lnTo>
                      <a:pt x="162" y="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847200">
                <a:off x="8434440" y="3946680"/>
                <a:ext cx="238320" cy="245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9" y="13846"/>
                    </a:moveTo>
                    <a:arcTo wR="10800" hR="10800" stAng="9816983" swAng="1070753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9" y="13846"/>
                    </a:moveTo>
                    <a:arcTo wR="10800" hR="10800" stAng="9816983" swAng="10707533"/>
                  </a:path>
                </a:pathLst>
              </a:custGeom>
              <a:solidFill>
                <a:srgbClr val="5f3f1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847200">
                <a:off x="8433360" y="3963960"/>
                <a:ext cx="241200" cy="269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9" y="12020"/>
                    </a:moveTo>
                    <a:arcTo wR="10800" hR="10800" stAng="10410941" swAng="1006962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9" y="12020"/>
                    </a:moveTo>
                    <a:arcTo wR="10800" hR="10800" stAng="10410941" swAng="10069629"/>
                  </a:path>
                </a:pathLst>
              </a:cu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847200">
                <a:off x="8421120" y="3951360"/>
                <a:ext cx="146520" cy="310320"/>
              </a:xfrm>
              <a:custGeom>
                <a:avLst/>
                <a:gdLst/>
                <a:ahLst/>
                <a:rect l="l" t="t" r="r" b="b"/>
                <a:pathLst>
                  <a:path w="107" h="207">
                    <a:moveTo>
                      <a:pt x="3" y="96"/>
                    </a:moveTo>
                    <a:lnTo>
                      <a:pt x="0" y="82"/>
                    </a:lnTo>
                    <a:lnTo>
                      <a:pt x="0" y="69"/>
                    </a:lnTo>
                    <a:lnTo>
                      <a:pt x="2" y="58"/>
                    </a:lnTo>
                    <a:lnTo>
                      <a:pt x="6" y="42"/>
                    </a:lnTo>
                    <a:lnTo>
                      <a:pt x="12" y="29"/>
                    </a:lnTo>
                    <a:lnTo>
                      <a:pt x="21" y="17"/>
                    </a:lnTo>
                    <a:lnTo>
                      <a:pt x="31" y="7"/>
                    </a:lnTo>
                    <a:lnTo>
                      <a:pt x="41" y="0"/>
                    </a:lnTo>
                    <a:lnTo>
                      <a:pt x="107" y="112"/>
                    </a:lnTo>
                    <a:lnTo>
                      <a:pt x="95" y="119"/>
                    </a:lnTo>
                    <a:lnTo>
                      <a:pt x="87" y="127"/>
                    </a:lnTo>
                    <a:lnTo>
                      <a:pt x="79" y="135"/>
                    </a:lnTo>
                    <a:lnTo>
                      <a:pt x="73" y="145"/>
                    </a:lnTo>
                    <a:lnTo>
                      <a:pt x="66" y="163"/>
                    </a:lnTo>
                    <a:lnTo>
                      <a:pt x="62" y="187"/>
                    </a:lnTo>
                    <a:lnTo>
                      <a:pt x="62" y="207"/>
                    </a:lnTo>
                    <a:lnTo>
                      <a:pt x="3" y="96"/>
                    </a:lnTo>
                    <a:close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847200">
                <a:off x="8434080" y="3944520"/>
                <a:ext cx="237960" cy="245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03" y="13724"/>
                    </a:moveTo>
                    <a:arcTo wR="10800" hR="10800" stAng="9857570" swAng="51179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03" y="13724"/>
                    </a:moveTo>
                    <a:arcTo wR="10800" hR="10800" stAng="9857570" swAng="5117964"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847200">
                <a:off x="8475840" y="4132080"/>
                <a:ext cx="238320" cy="245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65" y="13584"/>
                    </a:moveTo>
                    <a:arcTo wR="10800" hR="10800" stAng="9903788" swAng="1069646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65" y="13584"/>
                    </a:moveTo>
                    <a:arcTo wR="10800" hR="10800" stAng="9903788" swAng="10696462"/>
                  </a:path>
                </a:pathLst>
              </a:custGeom>
              <a:solidFill>
                <a:srgbClr val="7f3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8" name=""/>
              <p:cNvGrpSpPr/>
              <p:nvPr/>
            </p:nvGrpSpPr>
            <p:grpSpPr>
              <a:xfrm>
                <a:off x="8451720" y="4131720"/>
                <a:ext cx="298440" cy="325080"/>
                <a:chOff x="8451720" y="4131720"/>
                <a:chExt cx="298440" cy="325080"/>
              </a:xfrm>
            </p:grpSpPr>
            <p:grpSp>
              <p:nvGrpSpPr>
                <p:cNvPr id="629" name=""/>
                <p:cNvGrpSpPr/>
                <p:nvPr/>
              </p:nvGrpSpPr>
              <p:grpSpPr>
                <a:xfrm>
                  <a:off x="8451720" y="4131720"/>
                  <a:ext cx="292680" cy="295920"/>
                  <a:chOff x="8451720" y="4131720"/>
                  <a:chExt cx="292680" cy="295920"/>
                </a:xfrm>
              </p:grpSpPr>
              <p:sp>
                <p:nvSpPr>
                  <p:cNvPr id="630" name=""/>
                  <p:cNvSpPr/>
                  <p:nvPr/>
                </p:nvSpPr>
                <p:spPr>
                  <a:xfrm rot="847200">
                    <a:off x="8478000" y="4156920"/>
                    <a:ext cx="238680" cy="244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66" y="13180"/>
                        </a:moveTo>
                        <a:arcTo wR="10800" hR="10800" stAng="10036009" swAng="1069879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66" y="13180"/>
                        </a:moveTo>
                        <a:arcTo wR="10800" hR="10800" stAng="10036009" swAng="10698799"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 rot="847200">
                    <a:off x="8477640" y="4157280"/>
                    <a:ext cx="240120" cy="244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66" y="13180"/>
                        </a:moveTo>
                        <a:arcTo wR="10800" hR="10800" stAng="10036009" swAng="442384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66" y="13180"/>
                        </a:moveTo>
                        <a:arcTo wR="10800" hR="10800" stAng="10036009" swAng="4423841"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 rot="847200">
                    <a:off x="8479440" y="4157280"/>
                    <a:ext cx="238680" cy="244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01" y="13334"/>
                        </a:moveTo>
                        <a:arcTo wR="10800" hR="10800" stAng="9985831" swAng="1070765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01" y="13334"/>
                        </a:moveTo>
                        <a:arcTo wR="10800" hR="10800" stAng="9985831" swAng="10707652"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3" name=""/>
                <p:cNvSpPr/>
                <p:nvPr/>
              </p:nvSpPr>
              <p:spPr>
                <a:xfrm rot="847200">
                  <a:off x="8484480" y="4186440"/>
                  <a:ext cx="239400" cy="244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01" y="13334"/>
                      </a:moveTo>
                      <a:arcTo wR="10800" hR="10800" stAng="9985831" swAng="1070765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01" y="13334"/>
                      </a:moveTo>
                      <a:arcTo wR="10800" hR="10800" stAng="9985831" swAng="10707652"/>
                    </a:path>
                  </a:pathLst>
                </a:custGeom>
                <a:solidFill>
                  <a:srgbClr val="7f3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4" name=""/>
              <p:cNvGrpSpPr/>
              <p:nvPr/>
            </p:nvGrpSpPr>
            <p:grpSpPr>
              <a:xfrm>
                <a:off x="8462160" y="4187160"/>
                <a:ext cx="297720" cy="324720"/>
                <a:chOff x="8462160" y="4187160"/>
                <a:chExt cx="297720" cy="324720"/>
              </a:xfrm>
            </p:grpSpPr>
            <p:grpSp>
              <p:nvGrpSpPr>
                <p:cNvPr id="635" name=""/>
                <p:cNvGrpSpPr/>
                <p:nvPr/>
              </p:nvGrpSpPr>
              <p:grpSpPr>
                <a:xfrm>
                  <a:off x="8462160" y="4187160"/>
                  <a:ext cx="292680" cy="295920"/>
                  <a:chOff x="8462160" y="4187160"/>
                  <a:chExt cx="292680" cy="295920"/>
                </a:xfrm>
              </p:grpSpPr>
              <p:sp>
                <p:nvSpPr>
                  <p:cNvPr id="636" name=""/>
                  <p:cNvSpPr/>
                  <p:nvPr/>
                </p:nvSpPr>
                <p:spPr>
                  <a:xfrm rot="847200">
                    <a:off x="8488080" y="4212360"/>
                    <a:ext cx="239760" cy="244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38" y="13054"/>
                        </a:moveTo>
                        <a:arcTo wR="10800" hR="10800" stAng="10077178" swAng="1069921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38" y="13054"/>
                        </a:moveTo>
                        <a:arcTo wR="10800" hR="10800" stAng="10077178" swAng="10699212"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 rot="847200">
                    <a:off x="8488080" y="4212720"/>
                    <a:ext cx="240120" cy="244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38" y="13054"/>
                        </a:moveTo>
                        <a:arcTo wR="10800" hR="10800" stAng="10077178" swAng="438267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38" y="13054"/>
                        </a:moveTo>
                        <a:arcTo wR="10800" hR="10800" stAng="10077178" swAng="4382672"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 rot="847200">
                    <a:off x="8489880" y="4212720"/>
                    <a:ext cx="238320" cy="244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66" y="13180"/>
                        </a:moveTo>
                        <a:arcTo wR="10800" hR="10800" stAng="10036009" swAng="1069879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66" y="13180"/>
                        </a:moveTo>
                        <a:arcTo wR="10800" hR="10800" stAng="10036009" swAng="10698799"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9" name=""/>
                <p:cNvSpPr/>
                <p:nvPr/>
              </p:nvSpPr>
              <p:spPr>
                <a:xfrm rot="847200">
                  <a:off x="8494560" y="4241520"/>
                  <a:ext cx="239040" cy="244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6" y="13180"/>
                      </a:moveTo>
                      <a:arcTo wR="10800" hR="10800" stAng="10036009" swAng="1069879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6" y="13180"/>
                      </a:moveTo>
                      <a:arcTo wR="10800" hR="10800" stAng="10036009" swAng="10698799"/>
                    </a:path>
                  </a:pathLst>
                </a:custGeom>
                <a:solidFill>
                  <a:srgbClr val="7f3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0" name=""/>
              <p:cNvGrpSpPr/>
              <p:nvPr/>
            </p:nvGrpSpPr>
            <p:grpSpPr>
              <a:xfrm>
                <a:off x="8474040" y="4239360"/>
                <a:ext cx="293400" cy="297000"/>
                <a:chOff x="8474040" y="4239360"/>
                <a:chExt cx="293400" cy="297000"/>
              </a:xfrm>
            </p:grpSpPr>
            <p:sp>
              <p:nvSpPr>
                <p:cNvPr id="641" name=""/>
                <p:cNvSpPr/>
                <p:nvPr/>
              </p:nvSpPr>
              <p:spPr>
                <a:xfrm rot="847200">
                  <a:off x="8500320" y="4264920"/>
                  <a:ext cx="239400" cy="244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" y="12927"/>
                      </a:moveTo>
                      <a:arcTo wR="10800" hR="10800" stAng="10118559" swAng="1070865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" y="12927"/>
                      </a:moveTo>
                      <a:arcTo wR="10800" hR="10800" stAng="10118559" swAng="10708656"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 rot="847200">
                  <a:off x="8499960" y="4264920"/>
                  <a:ext cx="240840" cy="245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" y="12927"/>
                      </a:moveTo>
                      <a:arcTo wR="10800" hR="10800" stAng="10118559" swAng="43412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" y="12927"/>
                      </a:moveTo>
                      <a:arcTo wR="10800" hR="10800" stAng="10118559" swAng="4341291"/>
                    </a:path>
                  </a:pathLst>
                </a:custGeom>
                <a:solidFill>
                  <a:srgbClr val="3f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3" name=""/>
              <p:cNvGrpSpPr/>
              <p:nvPr/>
            </p:nvGrpSpPr>
            <p:grpSpPr>
              <a:xfrm>
                <a:off x="8475840" y="4240080"/>
                <a:ext cx="297360" cy="324720"/>
                <a:chOff x="8475840" y="4240080"/>
                <a:chExt cx="297360" cy="324720"/>
              </a:xfrm>
            </p:grpSpPr>
            <p:sp>
              <p:nvSpPr>
                <p:cNvPr id="644" name=""/>
                <p:cNvSpPr/>
                <p:nvPr/>
              </p:nvSpPr>
              <p:spPr>
                <a:xfrm rot="847200">
                  <a:off x="8501760" y="4265280"/>
                  <a:ext cx="239760" cy="244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38" y="13054"/>
                      </a:moveTo>
                      <a:arcTo wR="10800" hR="10800" stAng="10077178" swAng="1069921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38" y="13054"/>
                      </a:moveTo>
                      <a:arcTo wR="10800" hR="10800" stAng="10077178" swAng="10699212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 rot="847200">
                  <a:off x="8507520" y="4294080"/>
                  <a:ext cx="239400" cy="244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38" y="13054"/>
                      </a:moveTo>
                      <a:arcTo wR="10800" hR="10800" stAng="10077178" swAng="1069921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38" y="13054"/>
                      </a:moveTo>
                      <a:arcTo wR="10800" hR="10800" stAng="10077178" swAng="10699212"/>
                    </a:path>
                  </a:pathLst>
                </a:custGeom>
                <a:solidFill>
                  <a:srgbClr val="7f3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6" name=""/>
              <p:cNvGrpSpPr/>
              <p:nvPr/>
            </p:nvGrpSpPr>
            <p:grpSpPr>
              <a:xfrm>
                <a:off x="8434440" y="4050360"/>
                <a:ext cx="507960" cy="1260000"/>
                <a:chOff x="8434440" y="4050360"/>
                <a:chExt cx="507960" cy="1260000"/>
              </a:xfrm>
            </p:grpSpPr>
            <p:sp>
              <p:nvSpPr>
                <p:cNvPr id="647" name=""/>
                <p:cNvSpPr/>
                <p:nvPr/>
              </p:nvSpPr>
              <p:spPr>
                <a:xfrm>
                  <a:off x="8673480" y="4050360"/>
                  <a:ext cx="268920" cy="1183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8434440" y="4079880"/>
                  <a:ext cx="258480" cy="1230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9" name=""/>
              <p:cNvGrpSpPr/>
              <p:nvPr/>
            </p:nvGrpSpPr>
            <p:grpSpPr>
              <a:xfrm>
                <a:off x="8486640" y="4291920"/>
                <a:ext cx="297360" cy="320040"/>
                <a:chOff x="8486640" y="4291920"/>
                <a:chExt cx="297360" cy="320040"/>
              </a:xfrm>
            </p:grpSpPr>
            <p:grpSp>
              <p:nvGrpSpPr>
                <p:cNvPr id="650" name=""/>
                <p:cNvGrpSpPr/>
                <p:nvPr/>
              </p:nvGrpSpPr>
              <p:grpSpPr>
                <a:xfrm>
                  <a:off x="8486640" y="4291920"/>
                  <a:ext cx="292680" cy="295920"/>
                  <a:chOff x="8486640" y="4291920"/>
                  <a:chExt cx="292680" cy="295920"/>
                </a:xfrm>
              </p:grpSpPr>
              <p:sp>
                <p:nvSpPr>
                  <p:cNvPr id="651" name=""/>
                  <p:cNvSpPr/>
                  <p:nvPr/>
                </p:nvSpPr>
                <p:spPr>
                  <a:xfrm rot="847200">
                    <a:off x="8512920" y="4317480"/>
                    <a:ext cx="2386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7" y="12799"/>
                        </a:moveTo>
                        <a:arcTo wR="10800" hR="10800" stAng="10160141" swAng="1070868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7" y="12799"/>
                        </a:moveTo>
                        <a:arcTo wR="10800" hR="10800" stAng="10160141" swAng="10708688"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 rot="847200">
                    <a:off x="8512560" y="4317480"/>
                    <a:ext cx="240120" cy="244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7" y="12799"/>
                        </a:moveTo>
                        <a:arcTo wR="10800" hR="10800" stAng="10160141" swAng="429970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7" y="12799"/>
                        </a:moveTo>
                        <a:arcTo wR="10800" hR="10800" stAng="10160141" swAng="4299709"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3" name=""/>
                <p:cNvSpPr/>
                <p:nvPr/>
              </p:nvSpPr>
              <p:spPr>
                <a:xfrm rot="847200">
                  <a:off x="8514000" y="4317840"/>
                  <a:ext cx="239040" cy="244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" y="12927"/>
                      </a:moveTo>
                      <a:arcTo wR="10800" hR="10800" stAng="10118559" swAng="1070865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" y="12927"/>
                      </a:moveTo>
                      <a:arcTo wR="10800" hR="10800" stAng="10118559" swAng="10708656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 rot="847200">
                  <a:off x="8519040" y="4341960"/>
                  <a:ext cx="238680" cy="244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01" y="13334"/>
                      </a:moveTo>
                      <a:arcTo wR="10800" hR="10800" stAng="9985831" swAng="1070765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01" y="13334"/>
                      </a:moveTo>
                      <a:arcTo wR="10800" hR="10800" stAng="9985831" swAng="10707652"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5" name=""/>
              <p:cNvSpPr/>
              <p:nvPr/>
            </p:nvSpPr>
            <p:spPr>
              <a:xfrm rot="847200">
                <a:off x="8429400" y="4365720"/>
                <a:ext cx="476640" cy="896400"/>
              </a:xfrm>
              <a:custGeom>
                <a:avLst/>
                <a:gdLst/>
                <a:ahLst/>
                <a:rect l="l" t="t" r="r" b="b"/>
                <a:pathLst>
                  <a:path w="348" h="597">
                    <a:moveTo>
                      <a:pt x="44" y="0"/>
                    </a:moveTo>
                    <a:lnTo>
                      <a:pt x="31" y="8"/>
                    </a:lnTo>
                    <a:lnTo>
                      <a:pt x="21" y="16"/>
                    </a:lnTo>
                    <a:lnTo>
                      <a:pt x="12" y="26"/>
                    </a:lnTo>
                    <a:lnTo>
                      <a:pt x="8" y="36"/>
                    </a:lnTo>
                    <a:lnTo>
                      <a:pt x="4" y="47"/>
                    </a:lnTo>
                    <a:lnTo>
                      <a:pt x="1" y="58"/>
                    </a:lnTo>
                    <a:lnTo>
                      <a:pt x="0" y="71"/>
                    </a:lnTo>
                    <a:lnTo>
                      <a:pt x="0" y="86"/>
                    </a:lnTo>
                    <a:lnTo>
                      <a:pt x="270" y="597"/>
                    </a:lnTo>
                    <a:lnTo>
                      <a:pt x="348" y="543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847200">
                <a:off x="8691120" y="5161320"/>
                <a:ext cx="260280" cy="274680"/>
              </a:xfrm>
              <a:prstGeom prst="ellipse">
                <a:avLst/>
              </a:prstGeom>
              <a:solidFill>
                <a:srgbClr val="7f5f3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cover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6880" y="28080"/>
            <a:ext cx="73882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Objetivos do capítulo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12400" y="1101600"/>
            <a:ext cx="857412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ostrar a importância das atividad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 macrofase de p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ós-desenvolvimento no contexto do 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cesso de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ntend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ormação e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 atribuições do time de acompanhamento do produ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dentificar as informações utilizadas para acompanhar o produto e processo, suas fontes internas e externas, e  como elas devem ser tratadas no contexto do PD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ntender como realizar uma análise crítica das atividades de acompanhamento do produto e processo do DP de uma organização, bem como identificar e indicar ações para melh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 a gestão dessas atividad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8080" y="28080"/>
            <a:ext cx="73882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Importância d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a fase de</a:t>
            </a: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 acompanhamento do produto 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no contexto do</a:t>
            </a: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 pós-desenvolvimento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 (quadro 11.2)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27160" y="1033560"/>
            <a:ext cx="8496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dentificar necessidades de alterações no produ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acilitar a gestão das atividades do pós-desenvolvimento, promovendo uma visão sistêmica do que significa lidar com um produto e seu ciclo de vid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arantir a integridade e atualidade das informações do produto para serem utilizad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r todos os interessados durante o seu ciclo de vid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erar oportunidades de melhoria do processo de desenvolvimento como um to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tividades de acompanhamento ocorrem de forma simultânea, empregando informações provenientes de diferentes fontes do processo de 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4760" y="190440"/>
            <a:ext cx="736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Fontes de informação para a fase “Acompanhar Produto e Processo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441720" y="1017720"/>
            <a:ext cx="8021160" cy="5477760"/>
            <a:chOff x="441720" y="1017720"/>
            <a:chExt cx="8021160" cy="5477760"/>
          </a:xfrm>
        </p:grpSpPr>
        <p:sp>
          <p:nvSpPr>
            <p:cNvPr id="261" name=""/>
            <p:cNvSpPr/>
            <p:nvPr/>
          </p:nvSpPr>
          <p:spPr>
            <a:xfrm>
              <a:off x="442800" y="3022560"/>
              <a:ext cx="3240360" cy="1214640"/>
            </a:xfrm>
            <a:custGeom>
              <a:avLst/>
              <a:gdLst/>
              <a:ahLst/>
              <a:rect l="l" t="t" r="r" b="b"/>
              <a:pathLst>
                <a:path w="2352" h="816">
                  <a:moveTo>
                    <a:pt x="2352" y="192"/>
                  </a:moveTo>
                  <a:lnTo>
                    <a:pt x="1968" y="0"/>
                  </a:lnTo>
                  <a:lnTo>
                    <a:pt x="0" y="0"/>
                  </a:lnTo>
                  <a:lnTo>
                    <a:pt x="0" y="816"/>
                  </a:lnTo>
                  <a:lnTo>
                    <a:pt x="2016" y="816"/>
                  </a:lnTo>
                  <a:lnTo>
                    <a:pt x="2352" y="720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297240" y="5073840"/>
              <a:ext cx="2824200" cy="823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Melhoria do processo de desenvolvimento de produ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060560" y="5073840"/>
              <a:ext cx="1927080" cy="8233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Gerenciamento de mudanças de engenha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782800" y="5873760"/>
              <a:ext cx="1209960" cy="54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Process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de apo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611680" y="3030480"/>
              <a:ext cx="26352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527280" y="3279600"/>
              <a:ext cx="1273320" cy="777960"/>
            </a:xfrm>
            <a:custGeom>
              <a:avLst/>
              <a:gdLst>
                <a:gd name="textAreaLeft" fmla="*/ 0 w 1273320"/>
                <a:gd name="textAreaRight" fmla="*/ 1273680 w 1273320"/>
                <a:gd name="textAreaTop" fmla="*/ 0 h 777960"/>
                <a:gd name="textAreaBottom" fmla="*/ 778320 h 77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01" y="0"/>
                  </a:lnTo>
                  <a:lnTo>
                    <a:pt x="21600" y="10800"/>
                  </a:lnTo>
                  <a:lnTo>
                    <a:pt x="19001" y="21600"/>
                  </a:lnTo>
                  <a:lnTo>
                    <a:pt x="0" y="21600"/>
                  </a:lnTo>
                  <a:lnTo>
                    <a:pt x="2599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614760" y="3340080"/>
              <a:ext cx="1284120" cy="777960"/>
            </a:xfrm>
            <a:custGeom>
              <a:avLst/>
              <a:gdLst>
                <a:gd name="textAreaLeft" fmla="*/ 0 w 1284120"/>
                <a:gd name="textAreaRight" fmla="*/ 1284480 w 1284120"/>
                <a:gd name="textAreaTop" fmla="*/ 0 h 777960"/>
                <a:gd name="textAreaBottom" fmla="*/ 778320 h 77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01" y="0"/>
                  </a:lnTo>
                  <a:lnTo>
                    <a:pt x="21600" y="10800"/>
                  </a:lnTo>
                  <a:lnTo>
                    <a:pt x="19001" y="21600"/>
                  </a:lnTo>
                  <a:lnTo>
                    <a:pt x="0" y="21600"/>
                  </a:lnTo>
                  <a:lnTo>
                    <a:pt x="2599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714840" y="3376440"/>
              <a:ext cx="1417680" cy="777960"/>
            </a:xfrm>
            <a:custGeom>
              <a:avLst/>
              <a:gdLst>
                <a:gd name="textAreaLeft" fmla="*/ 0 w 1417680"/>
                <a:gd name="textAreaRight" fmla="*/ 1418040 w 1417680"/>
                <a:gd name="textAreaTop" fmla="*/ 0 h 777960"/>
                <a:gd name="textAreaBottom" fmla="*/ 778320 h 77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739" y="0"/>
                  </a:lnTo>
                  <a:lnTo>
                    <a:pt x="21600" y="10800"/>
                  </a:lnTo>
                  <a:lnTo>
                    <a:pt x="19739" y="21600"/>
                  </a:lnTo>
                  <a:lnTo>
                    <a:pt x="0" y="21600"/>
                  </a:lnTo>
                  <a:lnTo>
                    <a:pt x="1861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ompanh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duto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cess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2625000">
              <a:off x="2866680" y="4049280"/>
              <a:ext cx="695160" cy="1143000"/>
            </a:xfrm>
            <a:prstGeom prst="upDownArrow">
              <a:avLst>
                <a:gd name="adj1" fmla="val 50000"/>
                <a:gd name="adj2" fmla="val 3273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145040" y="4237200"/>
              <a:ext cx="693720" cy="785520"/>
            </a:xfrm>
            <a:prstGeom prst="upDownArrow">
              <a:avLst>
                <a:gd name="adj1" fmla="val 50000"/>
                <a:gd name="adj2" fmla="val 2254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41720" y="3165480"/>
              <a:ext cx="2785680" cy="9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alizar auditoria pós proje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valiar satisfação do clien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onitorar desempenh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gistrar lições aprendid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114960" y="5718960"/>
              <a:ext cx="2347920" cy="776520"/>
            </a:xfrm>
            <a:prstGeom prst="ellipse">
              <a:avLst/>
            </a:prstGeom>
            <a:solidFill>
              <a:srgbClr val="ff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lanejamen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Estratég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63480" y="1576080"/>
              <a:ext cx="2390760" cy="775800"/>
            </a:xfrm>
            <a:prstGeom prst="ellipse">
              <a:avLst/>
            </a:prstGeom>
            <a:solidFill>
              <a:srgbClr val="ff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Monitor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Merca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114960" y="2075040"/>
              <a:ext cx="2041560" cy="775800"/>
            </a:xfrm>
            <a:prstGeom prst="ellipse">
              <a:avLst/>
            </a:prstGeom>
            <a:solidFill>
              <a:srgbClr val="ff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Atender Cli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10160" y="3219840"/>
              <a:ext cx="2041560" cy="775800"/>
            </a:xfrm>
            <a:prstGeom prst="ellipse">
              <a:avLst/>
            </a:prstGeom>
            <a:solidFill>
              <a:srgbClr val="ff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Assistência Técn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652840" y="1017720"/>
              <a:ext cx="2268360" cy="388440"/>
            </a:xfrm>
            <a:prstGeom prst="ellipse">
              <a:avLst/>
            </a:prstGeom>
            <a:solidFill>
              <a:srgbClr val="ff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Distribuiçã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010120" y="1089360"/>
              <a:ext cx="2270160" cy="388440"/>
            </a:xfrm>
            <a:prstGeom prst="ellipse">
              <a:avLst/>
            </a:prstGeom>
            <a:solidFill>
              <a:srgbClr val="ff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roduçã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5009760" y="3665520"/>
              <a:ext cx="1389240" cy="71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4863600" y="2593800"/>
              <a:ext cx="1233720" cy="714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4493880" y="1523880"/>
              <a:ext cx="1003320" cy="171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757680" y="1452600"/>
              <a:ext cx="233280" cy="171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432160" y="2308320"/>
              <a:ext cx="1387440" cy="92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flipV="1">
              <a:off x="6060600" y="5495400"/>
              <a:ext cx="1235160" cy="14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A formação </a:t>
            </a: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do time de acompanhamento do produto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58400" y="1095480"/>
            <a:ext cx="857412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time de desenvolvimento ainda realiza algumas avaliações a respeito do desempenho do produto e da satisfação do cliente logo após o lançamento do produt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time de acompanhamento tem uma composição diferente do time de desenvolvimento. Algumas pessoas que participaram do time de desenvolvimento podem e devem participar do novo time, incluindo representantes da produção e da área de marke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7240" y="70920"/>
            <a:ext cx="780264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Composição do time de acompanhamento do produto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641760" y="2962440"/>
            <a:ext cx="3395520" cy="2286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238560" y="3160800"/>
            <a:ext cx="1441440" cy="2446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325760" y="2624040"/>
            <a:ext cx="327240" cy="414360"/>
          </a:xfrm>
          <a:custGeom>
            <a:avLst/>
            <a:gdLst/>
            <a:ahLst/>
            <a:rect l="l" t="t" r="r" b="b"/>
            <a:pathLst>
              <a:path w="1776" h="2400">
                <a:moveTo>
                  <a:pt x="432" y="2400"/>
                </a:moveTo>
                <a:lnTo>
                  <a:pt x="624" y="1296"/>
                </a:lnTo>
                <a:lnTo>
                  <a:pt x="480" y="768"/>
                </a:lnTo>
                <a:lnTo>
                  <a:pt x="240" y="1248"/>
                </a:lnTo>
                <a:lnTo>
                  <a:pt x="0" y="1248"/>
                </a:lnTo>
                <a:lnTo>
                  <a:pt x="384" y="432"/>
                </a:lnTo>
                <a:lnTo>
                  <a:pt x="672" y="432"/>
                </a:lnTo>
                <a:lnTo>
                  <a:pt x="528" y="288"/>
                </a:lnTo>
                <a:lnTo>
                  <a:pt x="528" y="144"/>
                </a:lnTo>
                <a:lnTo>
                  <a:pt x="720" y="0"/>
                </a:lnTo>
                <a:lnTo>
                  <a:pt x="960" y="0"/>
                </a:lnTo>
                <a:lnTo>
                  <a:pt x="1104" y="192"/>
                </a:lnTo>
                <a:lnTo>
                  <a:pt x="1104" y="336"/>
                </a:lnTo>
                <a:lnTo>
                  <a:pt x="1008" y="432"/>
                </a:lnTo>
                <a:lnTo>
                  <a:pt x="1392" y="432"/>
                </a:lnTo>
                <a:lnTo>
                  <a:pt x="1776" y="1248"/>
                </a:lnTo>
                <a:lnTo>
                  <a:pt x="1536" y="1248"/>
                </a:lnTo>
                <a:lnTo>
                  <a:pt x="1296" y="816"/>
                </a:lnTo>
                <a:lnTo>
                  <a:pt x="1152" y="1296"/>
                </a:lnTo>
                <a:lnTo>
                  <a:pt x="1344" y="2400"/>
                </a:lnTo>
                <a:lnTo>
                  <a:pt x="1056" y="2400"/>
                </a:lnTo>
                <a:lnTo>
                  <a:pt x="912" y="1488"/>
                </a:lnTo>
                <a:lnTo>
                  <a:pt x="720" y="2400"/>
                </a:lnTo>
                <a:lnTo>
                  <a:pt x="432" y="2400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3131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571920" y="4033800"/>
            <a:ext cx="330120" cy="412920"/>
          </a:xfrm>
          <a:custGeom>
            <a:avLst/>
            <a:gdLst/>
            <a:ahLst/>
            <a:rect l="l" t="t" r="r" b="b"/>
            <a:pathLst>
              <a:path w="1776" h="2400">
                <a:moveTo>
                  <a:pt x="432" y="2400"/>
                </a:moveTo>
                <a:lnTo>
                  <a:pt x="624" y="1296"/>
                </a:lnTo>
                <a:lnTo>
                  <a:pt x="480" y="768"/>
                </a:lnTo>
                <a:lnTo>
                  <a:pt x="240" y="1248"/>
                </a:lnTo>
                <a:lnTo>
                  <a:pt x="0" y="1248"/>
                </a:lnTo>
                <a:lnTo>
                  <a:pt x="384" y="432"/>
                </a:lnTo>
                <a:lnTo>
                  <a:pt x="672" y="432"/>
                </a:lnTo>
                <a:lnTo>
                  <a:pt x="528" y="288"/>
                </a:lnTo>
                <a:lnTo>
                  <a:pt x="528" y="144"/>
                </a:lnTo>
                <a:lnTo>
                  <a:pt x="720" y="0"/>
                </a:lnTo>
                <a:lnTo>
                  <a:pt x="960" y="0"/>
                </a:lnTo>
                <a:lnTo>
                  <a:pt x="1104" y="192"/>
                </a:lnTo>
                <a:lnTo>
                  <a:pt x="1104" y="336"/>
                </a:lnTo>
                <a:lnTo>
                  <a:pt x="1008" y="432"/>
                </a:lnTo>
                <a:lnTo>
                  <a:pt x="1392" y="432"/>
                </a:lnTo>
                <a:lnTo>
                  <a:pt x="1776" y="1248"/>
                </a:lnTo>
                <a:lnTo>
                  <a:pt x="1536" y="1248"/>
                </a:lnTo>
                <a:lnTo>
                  <a:pt x="1296" y="816"/>
                </a:lnTo>
                <a:lnTo>
                  <a:pt x="1152" y="1296"/>
                </a:lnTo>
                <a:lnTo>
                  <a:pt x="1344" y="2400"/>
                </a:lnTo>
                <a:lnTo>
                  <a:pt x="1056" y="2400"/>
                </a:lnTo>
                <a:lnTo>
                  <a:pt x="912" y="1488"/>
                </a:lnTo>
                <a:lnTo>
                  <a:pt x="720" y="2400"/>
                </a:lnTo>
                <a:lnTo>
                  <a:pt x="432" y="2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3131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352760" y="4137120"/>
            <a:ext cx="327240" cy="417240"/>
          </a:xfrm>
          <a:custGeom>
            <a:avLst/>
            <a:gdLst/>
            <a:ahLst/>
            <a:rect l="l" t="t" r="r" b="b"/>
            <a:pathLst>
              <a:path w="1776" h="2400">
                <a:moveTo>
                  <a:pt x="432" y="2400"/>
                </a:moveTo>
                <a:lnTo>
                  <a:pt x="624" y="1296"/>
                </a:lnTo>
                <a:lnTo>
                  <a:pt x="480" y="768"/>
                </a:lnTo>
                <a:lnTo>
                  <a:pt x="240" y="1248"/>
                </a:lnTo>
                <a:lnTo>
                  <a:pt x="0" y="1248"/>
                </a:lnTo>
                <a:lnTo>
                  <a:pt x="384" y="432"/>
                </a:lnTo>
                <a:lnTo>
                  <a:pt x="672" y="432"/>
                </a:lnTo>
                <a:lnTo>
                  <a:pt x="528" y="288"/>
                </a:lnTo>
                <a:lnTo>
                  <a:pt x="528" y="144"/>
                </a:lnTo>
                <a:lnTo>
                  <a:pt x="720" y="0"/>
                </a:lnTo>
                <a:lnTo>
                  <a:pt x="960" y="0"/>
                </a:lnTo>
                <a:lnTo>
                  <a:pt x="1104" y="192"/>
                </a:lnTo>
                <a:lnTo>
                  <a:pt x="1104" y="336"/>
                </a:lnTo>
                <a:lnTo>
                  <a:pt x="1008" y="432"/>
                </a:lnTo>
                <a:lnTo>
                  <a:pt x="1392" y="432"/>
                </a:lnTo>
                <a:lnTo>
                  <a:pt x="1776" y="1248"/>
                </a:lnTo>
                <a:lnTo>
                  <a:pt x="1536" y="1248"/>
                </a:lnTo>
                <a:lnTo>
                  <a:pt x="1296" y="816"/>
                </a:lnTo>
                <a:lnTo>
                  <a:pt x="1152" y="1296"/>
                </a:lnTo>
                <a:lnTo>
                  <a:pt x="1344" y="2400"/>
                </a:lnTo>
                <a:lnTo>
                  <a:pt x="1056" y="2400"/>
                </a:lnTo>
                <a:lnTo>
                  <a:pt x="912" y="1488"/>
                </a:lnTo>
                <a:lnTo>
                  <a:pt x="720" y="2400"/>
                </a:lnTo>
                <a:lnTo>
                  <a:pt x="432" y="2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3131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641760" y="2895480"/>
            <a:ext cx="326880" cy="414360"/>
          </a:xfrm>
          <a:custGeom>
            <a:avLst/>
            <a:gdLst/>
            <a:ahLst/>
            <a:rect l="l" t="t" r="r" b="b"/>
            <a:pathLst>
              <a:path w="1776" h="2400">
                <a:moveTo>
                  <a:pt x="432" y="2400"/>
                </a:moveTo>
                <a:lnTo>
                  <a:pt x="624" y="1296"/>
                </a:lnTo>
                <a:lnTo>
                  <a:pt x="480" y="768"/>
                </a:lnTo>
                <a:lnTo>
                  <a:pt x="240" y="1248"/>
                </a:lnTo>
                <a:lnTo>
                  <a:pt x="0" y="1248"/>
                </a:lnTo>
                <a:lnTo>
                  <a:pt x="384" y="432"/>
                </a:lnTo>
                <a:lnTo>
                  <a:pt x="672" y="432"/>
                </a:lnTo>
                <a:lnTo>
                  <a:pt x="528" y="288"/>
                </a:lnTo>
                <a:lnTo>
                  <a:pt x="528" y="144"/>
                </a:lnTo>
                <a:lnTo>
                  <a:pt x="720" y="0"/>
                </a:lnTo>
                <a:lnTo>
                  <a:pt x="960" y="0"/>
                </a:lnTo>
                <a:lnTo>
                  <a:pt x="1104" y="192"/>
                </a:lnTo>
                <a:lnTo>
                  <a:pt x="1104" y="336"/>
                </a:lnTo>
                <a:lnTo>
                  <a:pt x="1008" y="432"/>
                </a:lnTo>
                <a:lnTo>
                  <a:pt x="1392" y="432"/>
                </a:lnTo>
                <a:lnTo>
                  <a:pt x="1776" y="1248"/>
                </a:lnTo>
                <a:lnTo>
                  <a:pt x="1536" y="1248"/>
                </a:lnTo>
                <a:lnTo>
                  <a:pt x="1296" y="816"/>
                </a:lnTo>
                <a:lnTo>
                  <a:pt x="1152" y="1296"/>
                </a:lnTo>
                <a:lnTo>
                  <a:pt x="1344" y="2400"/>
                </a:lnTo>
                <a:lnTo>
                  <a:pt x="1056" y="2400"/>
                </a:lnTo>
                <a:lnTo>
                  <a:pt x="912" y="1488"/>
                </a:lnTo>
                <a:lnTo>
                  <a:pt x="720" y="2400"/>
                </a:lnTo>
                <a:lnTo>
                  <a:pt x="432" y="2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3131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454040" y="2768760"/>
            <a:ext cx="327240" cy="415800"/>
          </a:xfrm>
          <a:custGeom>
            <a:avLst/>
            <a:gdLst/>
            <a:ahLst/>
            <a:rect l="l" t="t" r="r" b="b"/>
            <a:pathLst>
              <a:path w="1776" h="2400">
                <a:moveTo>
                  <a:pt x="432" y="2400"/>
                </a:moveTo>
                <a:lnTo>
                  <a:pt x="624" y="1296"/>
                </a:lnTo>
                <a:lnTo>
                  <a:pt x="480" y="768"/>
                </a:lnTo>
                <a:lnTo>
                  <a:pt x="240" y="1248"/>
                </a:lnTo>
                <a:lnTo>
                  <a:pt x="0" y="1248"/>
                </a:lnTo>
                <a:lnTo>
                  <a:pt x="384" y="432"/>
                </a:lnTo>
                <a:lnTo>
                  <a:pt x="672" y="432"/>
                </a:lnTo>
                <a:lnTo>
                  <a:pt x="528" y="288"/>
                </a:lnTo>
                <a:lnTo>
                  <a:pt x="528" y="144"/>
                </a:lnTo>
                <a:lnTo>
                  <a:pt x="720" y="0"/>
                </a:lnTo>
                <a:lnTo>
                  <a:pt x="960" y="0"/>
                </a:lnTo>
                <a:lnTo>
                  <a:pt x="1104" y="192"/>
                </a:lnTo>
                <a:lnTo>
                  <a:pt x="1104" y="336"/>
                </a:lnTo>
                <a:lnTo>
                  <a:pt x="1008" y="432"/>
                </a:lnTo>
                <a:lnTo>
                  <a:pt x="1392" y="432"/>
                </a:lnTo>
                <a:lnTo>
                  <a:pt x="1776" y="1248"/>
                </a:lnTo>
                <a:lnTo>
                  <a:pt x="1536" y="1248"/>
                </a:lnTo>
                <a:lnTo>
                  <a:pt x="1296" y="816"/>
                </a:lnTo>
                <a:lnTo>
                  <a:pt x="1152" y="1296"/>
                </a:lnTo>
                <a:lnTo>
                  <a:pt x="1344" y="2400"/>
                </a:lnTo>
                <a:lnTo>
                  <a:pt x="1056" y="2400"/>
                </a:lnTo>
                <a:lnTo>
                  <a:pt x="912" y="1488"/>
                </a:lnTo>
                <a:lnTo>
                  <a:pt x="720" y="2400"/>
                </a:lnTo>
                <a:lnTo>
                  <a:pt x="432" y="2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3131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908000" y="2481120"/>
            <a:ext cx="327240" cy="414360"/>
          </a:xfrm>
          <a:custGeom>
            <a:avLst/>
            <a:gdLst/>
            <a:ahLst/>
            <a:rect l="l" t="t" r="r" b="b"/>
            <a:pathLst>
              <a:path w="1776" h="2400">
                <a:moveTo>
                  <a:pt x="432" y="2400"/>
                </a:moveTo>
                <a:lnTo>
                  <a:pt x="624" y="1296"/>
                </a:lnTo>
                <a:lnTo>
                  <a:pt x="480" y="768"/>
                </a:lnTo>
                <a:lnTo>
                  <a:pt x="240" y="1248"/>
                </a:lnTo>
                <a:lnTo>
                  <a:pt x="0" y="1248"/>
                </a:lnTo>
                <a:lnTo>
                  <a:pt x="384" y="432"/>
                </a:lnTo>
                <a:lnTo>
                  <a:pt x="672" y="432"/>
                </a:lnTo>
                <a:lnTo>
                  <a:pt x="528" y="288"/>
                </a:lnTo>
                <a:lnTo>
                  <a:pt x="528" y="144"/>
                </a:lnTo>
                <a:lnTo>
                  <a:pt x="720" y="0"/>
                </a:lnTo>
                <a:lnTo>
                  <a:pt x="960" y="0"/>
                </a:lnTo>
                <a:lnTo>
                  <a:pt x="1104" y="192"/>
                </a:lnTo>
                <a:lnTo>
                  <a:pt x="1104" y="336"/>
                </a:lnTo>
                <a:lnTo>
                  <a:pt x="1008" y="432"/>
                </a:lnTo>
                <a:lnTo>
                  <a:pt x="1392" y="432"/>
                </a:lnTo>
                <a:lnTo>
                  <a:pt x="1776" y="1248"/>
                </a:lnTo>
                <a:lnTo>
                  <a:pt x="1536" y="1248"/>
                </a:lnTo>
                <a:lnTo>
                  <a:pt x="1296" y="816"/>
                </a:lnTo>
                <a:lnTo>
                  <a:pt x="1152" y="1296"/>
                </a:lnTo>
                <a:lnTo>
                  <a:pt x="1344" y="2400"/>
                </a:lnTo>
                <a:lnTo>
                  <a:pt x="1056" y="2400"/>
                </a:lnTo>
                <a:lnTo>
                  <a:pt x="912" y="1488"/>
                </a:lnTo>
                <a:lnTo>
                  <a:pt x="720" y="2400"/>
                </a:lnTo>
                <a:lnTo>
                  <a:pt x="432" y="2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3131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909720" y="3040200"/>
            <a:ext cx="325440" cy="415800"/>
          </a:xfrm>
          <a:custGeom>
            <a:avLst/>
            <a:gdLst/>
            <a:ahLst/>
            <a:rect l="l" t="t" r="r" b="b"/>
            <a:pathLst>
              <a:path w="1776" h="2400">
                <a:moveTo>
                  <a:pt x="432" y="2400"/>
                </a:moveTo>
                <a:lnTo>
                  <a:pt x="624" y="1296"/>
                </a:lnTo>
                <a:lnTo>
                  <a:pt x="480" y="768"/>
                </a:lnTo>
                <a:lnTo>
                  <a:pt x="240" y="1248"/>
                </a:lnTo>
                <a:lnTo>
                  <a:pt x="0" y="1248"/>
                </a:lnTo>
                <a:lnTo>
                  <a:pt x="384" y="432"/>
                </a:lnTo>
                <a:lnTo>
                  <a:pt x="672" y="432"/>
                </a:lnTo>
                <a:lnTo>
                  <a:pt x="528" y="288"/>
                </a:lnTo>
                <a:lnTo>
                  <a:pt x="528" y="144"/>
                </a:lnTo>
                <a:lnTo>
                  <a:pt x="720" y="0"/>
                </a:lnTo>
                <a:lnTo>
                  <a:pt x="960" y="0"/>
                </a:lnTo>
                <a:lnTo>
                  <a:pt x="1104" y="192"/>
                </a:lnTo>
                <a:lnTo>
                  <a:pt x="1104" y="336"/>
                </a:lnTo>
                <a:lnTo>
                  <a:pt x="1008" y="432"/>
                </a:lnTo>
                <a:lnTo>
                  <a:pt x="1392" y="432"/>
                </a:lnTo>
                <a:lnTo>
                  <a:pt x="1776" y="1248"/>
                </a:lnTo>
                <a:lnTo>
                  <a:pt x="1536" y="1248"/>
                </a:lnTo>
                <a:lnTo>
                  <a:pt x="1296" y="816"/>
                </a:lnTo>
                <a:lnTo>
                  <a:pt x="1152" y="1296"/>
                </a:lnTo>
                <a:lnTo>
                  <a:pt x="1344" y="2400"/>
                </a:lnTo>
                <a:lnTo>
                  <a:pt x="1056" y="2400"/>
                </a:lnTo>
                <a:lnTo>
                  <a:pt x="912" y="1488"/>
                </a:lnTo>
                <a:lnTo>
                  <a:pt x="720" y="2400"/>
                </a:lnTo>
                <a:lnTo>
                  <a:pt x="432" y="2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3131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139760" y="3787920"/>
            <a:ext cx="327240" cy="414360"/>
          </a:xfrm>
          <a:custGeom>
            <a:avLst/>
            <a:gdLst/>
            <a:ahLst/>
            <a:rect l="l" t="t" r="r" b="b"/>
            <a:pathLst>
              <a:path w="1776" h="2400">
                <a:moveTo>
                  <a:pt x="432" y="2400"/>
                </a:moveTo>
                <a:lnTo>
                  <a:pt x="624" y="1296"/>
                </a:lnTo>
                <a:lnTo>
                  <a:pt x="480" y="768"/>
                </a:lnTo>
                <a:lnTo>
                  <a:pt x="240" y="1248"/>
                </a:lnTo>
                <a:lnTo>
                  <a:pt x="0" y="1248"/>
                </a:lnTo>
                <a:lnTo>
                  <a:pt x="384" y="432"/>
                </a:lnTo>
                <a:lnTo>
                  <a:pt x="672" y="432"/>
                </a:lnTo>
                <a:lnTo>
                  <a:pt x="528" y="288"/>
                </a:lnTo>
                <a:lnTo>
                  <a:pt x="528" y="144"/>
                </a:lnTo>
                <a:lnTo>
                  <a:pt x="720" y="0"/>
                </a:lnTo>
                <a:lnTo>
                  <a:pt x="960" y="0"/>
                </a:lnTo>
                <a:lnTo>
                  <a:pt x="1104" y="192"/>
                </a:lnTo>
                <a:lnTo>
                  <a:pt x="1104" y="336"/>
                </a:lnTo>
                <a:lnTo>
                  <a:pt x="1008" y="432"/>
                </a:lnTo>
                <a:lnTo>
                  <a:pt x="1392" y="432"/>
                </a:lnTo>
                <a:lnTo>
                  <a:pt x="1776" y="1248"/>
                </a:lnTo>
                <a:lnTo>
                  <a:pt x="1536" y="1248"/>
                </a:lnTo>
                <a:lnTo>
                  <a:pt x="1296" y="816"/>
                </a:lnTo>
                <a:lnTo>
                  <a:pt x="1152" y="1296"/>
                </a:lnTo>
                <a:lnTo>
                  <a:pt x="1344" y="2400"/>
                </a:lnTo>
                <a:lnTo>
                  <a:pt x="1056" y="2400"/>
                </a:lnTo>
                <a:lnTo>
                  <a:pt x="912" y="1488"/>
                </a:lnTo>
                <a:lnTo>
                  <a:pt x="720" y="2400"/>
                </a:lnTo>
                <a:lnTo>
                  <a:pt x="432" y="2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3131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781280" y="3308400"/>
            <a:ext cx="326880" cy="415800"/>
          </a:xfrm>
          <a:custGeom>
            <a:avLst/>
            <a:gdLst/>
            <a:ahLst/>
            <a:rect l="l" t="t" r="r" b="b"/>
            <a:pathLst>
              <a:path w="1776" h="2400">
                <a:moveTo>
                  <a:pt x="432" y="2400"/>
                </a:moveTo>
                <a:lnTo>
                  <a:pt x="624" y="1296"/>
                </a:lnTo>
                <a:lnTo>
                  <a:pt x="480" y="768"/>
                </a:lnTo>
                <a:lnTo>
                  <a:pt x="240" y="1248"/>
                </a:lnTo>
                <a:lnTo>
                  <a:pt x="0" y="1248"/>
                </a:lnTo>
                <a:lnTo>
                  <a:pt x="384" y="432"/>
                </a:lnTo>
                <a:lnTo>
                  <a:pt x="672" y="432"/>
                </a:lnTo>
                <a:lnTo>
                  <a:pt x="528" y="288"/>
                </a:lnTo>
                <a:lnTo>
                  <a:pt x="528" y="144"/>
                </a:lnTo>
                <a:lnTo>
                  <a:pt x="720" y="0"/>
                </a:lnTo>
                <a:lnTo>
                  <a:pt x="960" y="0"/>
                </a:lnTo>
                <a:lnTo>
                  <a:pt x="1104" y="192"/>
                </a:lnTo>
                <a:lnTo>
                  <a:pt x="1104" y="336"/>
                </a:lnTo>
                <a:lnTo>
                  <a:pt x="1008" y="432"/>
                </a:lnTo>
                <a:lnTo>
                  <a:pt x="1392" y="432"/>
                </a:lnTo>
                <a:lnTo>
                  <a:pt x="1776" y="1248"/>
                </a:lnTo>
                <a:lnTo>
                  <a:pt x="1536" y="1248"/>
                </a:lnTo>
                <a:lnTo>
                  <a:pt x="1296" y="816"/>
                </a:lnTo>
                <a:lnTo>
                  <a:pt x="1152" y="1296"/>
                </a:lnTo>
                <a:lnTo>
                  <a:pt x="1344" y="2400"/>
                </a:lnTo>
                <a:lnTo>
                  <a:pt x="1056" y="2400"/>
                </a:lnTo>
                <a:lnTo>
                  <a:pt x="912" y="1488"/>
                </a:lnTo>
                <a:lnTo>
                  <a:pt x="720" y="2400"/>
                </a:lnTo>
                <a:lnTo>
                  <a:pt x="432" y="2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3131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76360" y="2212920"/>
            <a:ext cx="5018040" cy="291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867040" y="2441520"/>
            <a:ext cx="5659560" cy="2724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008680" y="5473800"/>
            <a:ext cx="326880" cy="415800"/>
          </a:xfrm>
          <a:custGeom>
            <a:avLst/>
            <a:gdLst/>
            <a:ahLst/>
            <a:rect l="l" t="t" r="r" b="b"/>
            <a:pathLst>
              <a:path w="1776" h="2400">
                <a:moveTo>
                  <a:pt x="432" y="2400"/>
                </a:moveTo>
                <a:lnTo>
                  <a:pt x="624" y="1296"/>
                </a:lnTo>
                <a:lnTo>
                  <a:pt x="480" y="768"/>
                </a:lnTo>
                <a:lnTo>
                  <a:pt x="240" y="1248"/>
                </a:lnTo>
                <a:lnTo>
                  <a:pt x="0" y="1248"/>
                </a:lnTo>
                <a:lnTo>
                  <a:pt x="384" y="432"/>
                </a:lnTo>
                <a:lnTo>
                  <a:pt x="672" y="432"/>
                </a:lnTo>
                <a:lnTo>
                  <a:pt x="528" y="288"/>
                </a:lnTo>
                <a:lnTo>
                  <a:pt x="528" y="144"/>
                </a:lnTo>
                <a:lnTo>
                  <a:pt x="720" y="0"/>
                </a:lnTo>
                <a:lnTo>
                  <a:pt x="960" y="0"/>
                </a:lnTo>
                <a:lnTo>
                  <a:pt x="1104" y="192"/>
                </a:lnTo>
                <a:lnTo>
                  <a:pt x="1104" y="336"/>
                </a:lnTo>
                <a:lnTo>
                  <a:pt x="1008" y="432"/>
                </a:lnTo>
                <a:lnTo>
                  <a:pt x="1392" y="432"/>
                </a:lnTo>
                <a:lnTo>
                  <a:pt x="1776" y="1248"/>
                </a:lnTo>
                <a:lnTo>
                  <a:pt x="1536" y="1248"/>
                </a:lnTo>
                <a:lnTo>
                  <a:pt x="1296" y="816"/>
                </a:lnTo>
                <a:lnTo>
                  <a:pt x="1152" y="1296"/>
                </a:lnTo>
                <a:lnTo>
                  <a:pt x="1344" y="2400"/>
                </a:lnTo>
                <a:lnTo>
                  <a:pt x="1056" y="2400"/>
                </a:lnTo>
                <a:lnTo>
                  <a:pt x="912" y="1488"/>
                </a:lnTo>
                <a:lnTo>
                  <a:pt x="720" y="2400"/>
                </a:lnTo>
                <a:lnTo>
                  <a:pt x="432" y="2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3131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906800" y="6219720"/>
            <a:ext cx="327240" cy="417600"/>
          </a:xfrm>
          <a:custGeom>
            <a:avLst/>
            <a:gdLst/>
            <a:ahLst/>
            <a:rect l="l" t="t" r="r" b="b"/>
            <a:pathLst>
              <a:path w="1776" h="2400">
                <a:moveTo>
                  <a:pt x="432" y="2400"/>
                </a:moveTo>
                <a:lnTo>
                  <a:pt x="624" y="1296"/>
                </a:lnTo>
                <a:lnTo>
                  <a:pt x="480" y="768"/>
                </a:lnTo>
                <a:lnTo>
                  <a:pt x="240" y="1248"/>
                </a:lnTo>
                <a:lnTo>
                  <a:pt x="0" y="1248"/>
                </a:lnTo>
                <a:lnTo>
                  <a:pt x="384" y="432"/>
                </a:lnTo>
                <a:lnTo>
                  <a:pt x="672" y="432"/>
                </a:lnTo>
                <a:lnTo>
                  <a:pt x="528" y="288"/>
                </a:lnTo>
                <a:lnTo>
                  <a:pt x="528" y="144"/>
                </a:lnTo>
                <a:lnTo>
                  <a:pt x="720" y="0"/>
                </a:lnTo>
                <a:lnTo>
                  <a:pt x="960" y="0"/>
                </a:lnTo>
                <a:lnTo>
                  <a:pt x="1104" y="192"/>
                </a:lnTo>
                <a:lnTo>
                  <a:pt x="1104" y="336"/>
                </a:lnTo>
                <a:lnTo>
                  <a:pt x="1008" y="432"/>
                </a:lnTo>
                <a:lnTo>
                  <a:pt x="1392" y="432"/>
                </a:lnTo>
                <a:lnTo>
                  <a:pt x="1776" y="1248"/>
                </a:lnTo>
                <a:lnTo>
                  <a:pt x="1536" y="1248"/>
                </a:lnTo>
                <a:lnTo>
                  <a:pt x="1296" y="816"/>
                </a:lnTo>
                <a:lnTo>
                  <a:pt x="1152" y="1296"/>
                </a:lnTo>
                <a:lnTo>
                  <a:pt x="1344" y="2400"/>
                </a:lnTo>
                <a:lnTo>
                  <a:pt x="1056" y="2400"/>
                </a:lnTo>
                <a:lnTo>
                  <a:pt x="912" y="1488"/>
                </a:lnTo>
                <a:lnTo>
                  <a:pt x="720" y="2400"/>
                </a:lnTo>
                <a:lnTo>
                  <a:pt x="432" y="2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3131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103480" y="5827680"/>
            <a:ext cx="328680" cy="415800"/>
          </a:xfrm>
          <a:custGeom>
            <a:avLst/>
            <a:gdLst/>
            <a:ahLst/>
            <a:rect l="l" t="t" r="r" b="b"/>
            <a:pathLst>
              <a:path w="1776" h="2400">
                <a:moveTo>
                  <a:pt x="432" y="2400"/>
                </a:moveTo>
                <a:lnTo>
                  <a:pt x="624" y="1296"/>
                </a:lnTo>
                <a:lnTo>
                  <a:pt x="480" y="768"/>
                </a:lnTo>
                <a:lnTo>
                  <a:pt x="240" y="1248"/>
                </a:lnTo>
                <a:lnTo>
                  <a:pt x="0" y="1248"/>
                </a:lnTo>
                <a:lnTo>
                  <a:pt x="384" y="432"/>
                </a:lnTo>
                <a:lnTo>
                  <a:pt x="672" y="432"/>
                </a:lnTo>
                <a:lnTo>
                  <a:pt x="528" y="288"/>
                </a:lnTo>
                <a:lnTo>
                  <a:pt x="528" y="144"/>
                </a:lnTo>
                <a:lnTo>
                  <a:pt x="720" y="0"/>
                </a:lnTo>
                <a:lnTo>
                  <a:pt x="960" y="0"/>
                </a:lnTo>
                <a:lnTo>
                  <a:pt x="1104" y="192"/>
                </a:lnTo>
                <a:lnTo>
                  <a:pt x="1104" y="336"/>
                </a:lnTo>
                <a:lnTo>
                  <a:pt x="1008" y="432"/>
                </a:lnTo>
                <a:lnTo>
                  <a:pt x="1392" y="432"/>
                </a:lnTo>
                <a:lnTo>
                  <a:pt x="1776" y="1248"/>
                </a:lnTo>
                <a:lnTo>
                  <a:pt x="1536" y="1248"/>
                </a:lnTo>
                <a:lnTo>
                  <a:pt x="1296" y="816"/>
                </a:lnTo>
                <a:lnTo>
                  <a:pt x="1152" y="1296"/>
                </a:lnTo>
                <a:lnTo>
                  <a:pt x="1344" y="2400"/>
                </a:lnTo>
                <a:lnTo>
                  <a:pt x="1056" y="2400"/>
                </a:lnTo>
                <a:lnTo>
                  <a:pt x="912" y="1488"/>
                </a:lnTo>
                <a:lnTo>
                  <a:pt x="720" y="2400"/>
                </a:lnTo>
                <a:lnTo>
                  <a:pt x="432" y="2400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3131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92240" y="1752480"/>
            <a:ext cx="247464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de desenvolvi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226400" y="1685880"/>
            <a:ext cx="257400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de acompanha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258880" y="5540400"/>
            <a:ext cx="3175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mbros do time de desenvolvi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101920" y="6337440"/>
            <a:ext cx="317736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ovos membros da área de produ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420640" y="5948280"/>
            <a:ext cx="250236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presentantes de mark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257560" y="3038400"/>
            <a:ext cx="325440" cy="416160"/>
          </a:xfrm>
          <a:custGeom>
            <a:avLst/>
            <a:gdLst/>
            <a:ahLst/>
            <a:rect l="l" t="t" r="r" b="b"/>
            <a:pathLst>
              <a:path w="1776" h="2400">
                <a:moveTo>
                  <a:pt x="432" y="2400"/>
                </a:moveTo>
                <a:lnTo>
                  <a:pt x="624" y="1296"/>
                </a:lnTo>
                <a:lnTo>
                  <a:pt x="480" y="768"/>
                </a:lnTo>
                <a:lnTo>
                  <a:pt x="240" y="1248"/>
                </a:lnTo>
                <a:lnTo>
                  <a:pt x="0" y="1248"/>
                </a:lnTo>
                <a:lnTo>
                  <a:pt x="384" y="432"/>
                </a:lnTo>
                <a:lnTo>
                  <a:pt x="672" y="432"/>
                </a:lnTo>
                <a:lnTo>
                  <a:pt x="528" y="288"/>
                </a:lnTo>
                <a:lnTo>
                  <a:pt x="528" y="144"/>
                </a:lnTo>
                <a:lnTo>
                  <a:pt x="720" y="0"/>
                </a:lnTo>
                <a:lnTo>
                  <a:pt x="960" y="0"/>
                </a:lnTo>
                <a:lnTo>
                  <a:pt x="1104" y="192"/>
                </a:lnTo>
                <a:lnTo>
                  <a:pt x="1104" y="336"/>
                </a:lnTo>
                <a:lnTo>
                  <a:pt x="1008" y="432"/>
                </a:lnTo>
                <a:lnTo>
                  <a:pt x="1392" y="432"/>
                </a:lnTo>
                <a:lnTo>
                  <a:pt x="1776" y="1248"/>
                </a:lnTo>
                <a:lnTo>
                  <a:pt x="1536" y="1248"/>
                </a:lnTo>
                <a:lnTo>
                  <a:pt x="1296" y="816"/>
                </a:lnTo>
                <a:lnTo>
                  <a:pt x="1152" y="1296"/>
                </a:lnTo>
                <a:lnTo>
                  <a:pt x="1344" y="2400"/>
                </a:lnTo>
                <a:lnTo>
                  <a:pt x="1056" y="2400"/>
                </a:lnTo>
                <a:lnTo>
                  <a:pt x="912" y="1488"/>
                </a:lnTo>
                <a:lnTo>
                  <a:pt x="720" y="2400"/>
                </a:lnTo>
                <a:lnTo>
                  <a:pt x="432" y="2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3131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32040" y="2768760"/>
            <a:ext cx="327240" cy="415800"/>
          </a:xfrm>
          <a:custGeom>
            <a:avLst/>
            <a:gdLst/>
            <a:ahLst/>
            <a:rect l="l" t="t" r="r" b="b"/>
            <a:pathLst>
              <a:path w="1776" h="2400">
                <a:moveTo>
                  <a:pt x="432" y="2400"/>
                </a:moveTo>
                <a:lnTo>
                  <a:pt x="624" y="1296"/>
                </a:lnTo>
                <a:lnTo>
                  <a:pt x="480" y="768"/>
                </a:lnTo>
                <a:lnTo>
                  <a:pt x="240" y="1248"/>
                </a:lnTo>
                <a:lnTo>
                  <a:pt x="0" y="1248"/>
                </a:lnTo>
                <a:lnTo>
                  <a:pt x="384" y="432"/>
                </a:lnTo>
                <a:lnTo>
                  <a:pt x="672" y="432"/>
                </a:lnTo>
                <a:lnTo>
                  <a:pt x="528" y="288"/>
                </a:lnTo>
                <a:lnTo>
                  <a:pt x="528" y="144"/>
                </a:lnTo>
                <a:lnTo>
                  <a:pt x="720" y="0"/>
                </a:lnTo>
                <a:lnTo>
                  <a:pt x="960" y="0"/>
                </a:lnTo>
                <a:lnTo>
                  <a:pt x="1104" y="192"/>
                </a:lnTo>
                <a:lnTo>
                  <a:pt x="1104" y="336"/>
                </a:lnTo>
                <a:lnTo>
                  <a:pt x="1008" y="432"/>
                </a:lnTo>
                <a:lnTo>
                  <a:pt x="1392" y="432"/>
                </a:lnTo>
                <a:lnTo>
                  <a:pt x="1776" y="1248"/>
                </a:lnTo>
                <a:lnTo>
                  <a:pt x="1536" y="1248"/>
                </a:lnTo>
                <a:lnTo>
                  <a:pt x="1296" y="816"/>
                </a:lnTo>
                <a:lnTo>
                  <a:pt x="1152" y="1296"/>
                </a:lnTo>
                <a:lnTo>
                  <a:pt x="1344" y="2400"/>
                </a:lnTo>
                <a:lnTo>
                  <a:pt x="1056" y="2400"/>
                </a:lnTo>
                <a:lnTo>
                  <a:pt x="912" y="1488"/>
                </a:lnTo>
                <a:lnTo>
                  <a:pt x="720" y="2400"/>
                </a:lnTo>
                <a:lnTo>
                  <a:pt x="432" y="2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3131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081240" y="2289240"/>
            <a:ext cx="327240" cy="415800"/>
          </a:xfrm>
          <a:custGeom>
            <a:avLst/>
            <a:gdLst/>
            <a:ahLst/>
            <a:rect l="l" t="t" r="r" b="b"/>
            <a:pathLst>
              <a:path w="1776" h="2400">
                <a:moveTo>
                  <a:pt x="432" y="2400"/>
                </a:moveTo>
                <a:lnTo>
                  <a:pt x="624" y="1296"/>
                </a:lnTo>
                <a:lnTo>
                  <a:pt x="480" y="768"/>
                </a:lnTo>
                <a:lnTo>
                  <a:pt x="240" y="1248"/>
                </a:lnTo>
                <a:lnTo>
                  <a:pt x="0" y="1248"/>
                </a:lnTo>
                <a:lnTo>
                  <a:pt x="384" y="432"/>
                </a:lnTo>
                <a:lnTo>
                  <a:pt x="672" y="432"/>
                </a:lnTo>
                <a:lnTo>
                  <a:pt x="528" y="288"/>
                </a:lnTo>
                <a:lnTo>
                  <a:pt x="528" y="144"/>
                </a:lnTo>
                <a:lnTo>
                  <a:pt x="720" y="0"/>
                </a:lnTo>
                <a:lnTo>
                  <a:pt x="960" y="0"/>
                </a:lnTo>
                <a:lnTo>
                  <a:pt x="1104" y="192"/>
                </a:lnTo>
                <a:lnTo>
                  <a:pt x="1104" y="336"/>
                </a:lnTo>
                <a:lnTo>
                  <a:pt x="1008" y="432"/>
                </a:lnTo>
                <a:lnTo>
                  <a:pt x="1392" y="432"/>
                </a:lnTo>
                <a:lnTo>
                  <a:pt x="1776" y="1248"/>
                </a:lnTo>
                <a:lnTo>
                  <a:pt x="1536" y="1248"/>
                </a:lnTo>
                <a:lnTo>
                  <a:pt x="1296" y="816"/>
                </a:lnTo>
                <a:lnTo>
                  <a:pt x="1152" y="1296"/>
                </a:lnTo>
                <a:lnTo>
                  <a:pt x="1344" y="2400"/>
                </a:lnTo>
                <a:lnTo>
                  <a:pt x="1056" y="2400"/>
                </a:lnTo>
                <a:lnTo>
                  <a:pt x="912" y="1488"/>
                </a:lnTo>
                <a:lnTo>
                  <a:pt x="720" y="2400"/>
                </a:lnTo>
                <a:lnTo>
                  <a:pt x="432" y="2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3131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151080" y="3308400"/>
            <a:ext cx="325440" cy="415800"/>
          </a:xfrm>
          <a:custGeom>
            <a:avLst/>
            <a:gdLst/>
            <a:ahLst/>
            <a:rect l="l" t="t" r="r" b="b"/>
            <a:pathLst>
              <a:path w="1776" h="2400">
                <a:moveTo>
                  <a:pt x="432" y="2400"/>
                </a:moveTo>
                <a:lnTo>
                  <a:pt x="624" y="1296"/>
                </a:lnTo>
                <a:lnTo>
                  <a:pt x="480" y="768"/>
                </a:lnTo>
                <a:lnTo>
                  <a:pt x="240" y="1248"/>
                </a:lnTo>
                <a:lnTo>
                  <a:pt x="0" y="1248"/>
                </a:lnTo>
                <a:lnTo>
                  <a:pt x="384" y="432"/>
                </a:lnTo>
                <a:lnTo>
                  <a:pt x="672" y="432"/>
                </a:lnTo>
                <a:lnTo>
                  <a:pt x="528" y="288"/>
                </a:lnTo>
                <a:lnTo>
                  <a:pt x="528" y="144"/>
                </a:lnTo>
                <a:lnTo>
                  <a:pt x="720" y="0"/>
                </a:lnTo>
                <a:lnTo>
                  <a:pt x="960" y="0"/>
                </a:lnTo>
                <a:lnTo>
                  <a:pt x="1104" y="192"/>
                </a:lnTo>
                <a:lnTo>
                  <a:pt x="1104" y="336"/>
                </a:lnTo>
                <a:lnTo>
                  <a:pt x="1008" y="432"/>
                </a:lnTo>
                <a:lnTo>
                  <a:pt x="1392" y="432"/>
                </a:lnTo>
                <a:lnTo>
                  <a:pt x="1776" y="1248"/>
                </a:lnTo>
                <a:lnTo>
                  <a:pt x="1536" y="1248"/>
                </a:lnTo>
                <a:lnTo>
                  <a:pt x="1296" y="816"/>
                </a:lnTo>
                <a:lnTo>
                  <a:pt x="1152" y="1296"/>
                </a:lnTo>
                <a:lnTo>
                  <a:pt x="1344" y="2400"/>
                </a:lnTo>
                <a:lnTo>
                  <a:pt x="1056" y="2400"/>
                </a:lnTo>
                <a:lnTo>
                  <a:pt x="912" y="1488"/>
                </a:lnTo>
                <a:lnTo>
                  <a:pt x="720" y="2400"/>
                </a:lnTo>
                <a:lnTo>
                  <a:pt x="432" y="2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3131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063880" y="3930480"/>
            <a:ext cx="326880" cy="416160"/>
          </a:xfrm>
          <a:custGeom>
            <a:avLst/>
            <a:gdLst/>
            <a:ahLst/>
            <a:rect l="l" t="t" r="r" b="b"/>
            <a:pathLst>
              <a:path w="1776" h="2400">
                <a:moveTo>
                  <a:pt x="432" y="2400"/>
                </a:moveTo>
                <a:lnTo>
                  <a:pt x="624" y="1296"/>
                </a:lnTo>
                <a:lnTo>
                  <a:pt x="480" y="768"/>
                </a:lnTo>
                <a:lnTo>
                  <a:pt x="240" y="1248"/>
                </a:lnTo>
                <a:lnTo>
                  <a:pt x="0" y="1248"/>
                </a:lnTo>
                <a:lnTo>
                  <a:pt x="384" y="432"/>
                </a:lnTo>
                <a:lnTo>
                  <a:pt x="672" y="432"/>
                </a:lnTo>
                <a:lnTo>
                  <a:pt x="528" y="288"/>
                </a:lnTo>
                <a:lnTo>
                  <a:pt x="528" y="144"/>
                </a:lnTo>
                <a:lnTo>
                  <a:pt x="720" y="0"/>
                </a:lnTo>
                <a:lnTo>
                  <a:pt x="960" y="0"/>
                </a:lnTo>
                <a:lnTo>
                  <a:pt x="1104" y="192"/>
                </a:lnTo>
                <a:lnTo>
                  <a:pt x="1104" y="336"/>
                </a:lnTo>
                <a:lnTo>
                  <a:pt x="1008" y="432"/>
                </a:lnTo>
                <a:lnTo>
                  <a:pt x="1392" y="432"/>
                </a:lnTo>
                <a:lnTo>
                  <a:pt x="1776" y="1248"/>
                </a:lnTo>
                <a:lnTo>
                  <a:pt x="1536" y="1248"/>
                </a:lnTo>
                <a:lnTo>
                  <a:pt x="1296" y="816"/>
                </a:lnTo>
                <a:lnTo>
                  <a:pt x="1152" y="1296"/>
                </a:lnTo>
                <a:lnTo>
                  <a:pt x="1344" y="2400"/>
                </a:lnTo>
                <a:lnTo>
                  <a:pt x="1056" y="2400"/>
                </a:lnTo>
                <a:lnTo>
                  <a:pt x="912" y="1488"/>
                </a:lnTo>
                <a:lnTo>
                  <a:pt x="720" y="2400"/>
                </a:lnTo>
                <a:lnTo>
                  <a:pt x="432" y="2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3131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673360" y="4446720"/>
            <a:ext cx="326880" cy="415800"/>
          </a:xfrm>
          <a:custGeom>
            <a:avLst/>
            <a:gdLst/>
            <a:ahLst/>
            <a:rect l="l" t="t" r="r" b="b"/>
            <a:pathLst>
              <a:path w="1776" h="2400">
                <a:moveTo>
                  <a:pt x="432" y="2400"/>
                </a:moveTo>
                <a:lnTo>
                  <a:pt x="624" y="1296"/>
                </a:lnTo>
                <a:lnTo>
                  <a:pt x="480" y="768"/>
                </a:lnTo>
                <a:lnTo>
                  <a:pt x="240" y="1248"/>
                </a:lnTo>
                <a:lnTo>
                  <a:pt x="0" y="1248"/>
                </a:lnTo>
                <a:lnTo>
                  <a:pt x="384" y="432"/>
                </a:lnTo>
                <a:lnTo>
                  <a:pt x="672" y="432"/>
                </a:lnTo>
                <a:lnTo>
                  <a:pt x="528" y="288"/>
                </a:lnTo>
                <a:lnTo>
                  <a:pt x="528" y="144"/>
                </a:lnTo>
                <a:lnTo>
                  <a:pt x="720" y="0"/>
                </a:lnTo>
                <a:lnTo>
                  <a:pt x="960" y="0"/>
                </a:lnTo>
                <a:lnTo>
                  <a:pt x="1104" y="192"/>
                </a:lnTo>
                <a:lnTo>
                  <a:pt x="1104" y="336"/>
                </a:lnTo>
                <a:lnTo>
                  <a:pt x="1008" y="432"/>
                </a:lnTo>
                <a:lnTo>
                  <a:pt x="1392" y="432"/>
                </a:lnTo>
                <a:lnTo>
                  <a:pt x="1776" y="1248"/>
                </a:lnTo>
                <a:lnTo>
                  <a:pt x="1536" y="1248"/>
                </a:lnTo>
                <a:lnTo>
                  <a:pt x="1296" y="816"/>
                </a:lnTo>
                <a:lnTo>
                  <a:pt x="1152" y="1296"/>
                </a:lnTo>
                <a:lnTo>
                  <a:pt x="1344" y="2400"/>
                </a:lnTo>
                <a:lnTo>
                  <a:pt x="1056" y="2400"/>
                </a:lnTo>
                <a:lnTo>
                  <a:pt x="912" y="1488"/>
                </a:lnTo>
                <a:lnTo>
                  <a:pt x="720" y="2400"/>
                </a:lnTo>
                <a:lnTo>
                  <a:pt x="432" y="2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3131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60600" y="1741320"/>
            <a:ext cx="552600" cy="412920"/>
          </a:xfrm>
          <a:custGeom>
            <a:avLst/>
            <a:gdLst/>
            <a:ahLst/>
            <a:rect l="l" t="t" r="r" b="b"/>
            <a:pathLst>
              <a:path w="790" h="860">
                <a:moveTo>
                  <a:pt x="458" y="419"/>
                </a:moveTo>
                <a:lnTo>
                  <a:pt x="775" y="0"/>
                </a:lnTo>
                <a:lnTo>
                  <a:pt x="661" y="0"/>
                </a:lnTo>
                <a:lnTo>
                  <a:pt x="656" y="8"/>
                </a:lnTo>
                <a:lnTo>
                  <a:pt x="645" y="21"/>
                </a:lnTo>
                <a:lnTo>
                  <a:pt x="630" y="40"/>
                </a:lnTo>
                <a:lnTo>
                  <a:pt x="613" y="63"/>
                </a:lnTo>
                <a:lnTo>
                  <a:pt x="593" y="89"/>
                </a:lnTo>
                <a:lnTo>
                  <a:pt x="572" y="119"/>
                </a:lnTo>
                <a:lnTo>
                  <a:pt x="548" y="149"/>
                </a:lnTo>
                <a:lnTo>
                  <a:pt x="525" y="180"/>
                </a:lnTo>
                <a:lnTo>
                  <a:pt x="501" y="211"/>
                </a:lnTo>
                <a:lnTo>
                  <a:pt x="479" y="241"/>
                </a:lnTo>
                <a:lnTo>
                  <a:pt x="459" y="269"/>
                </a:lnTo>
                <a:lnTo>
                  <a:pt x="440" y="294"/>
                </a:lnTo>
                <a:lnTo>
                  <a:pt x="424" y="315"/>
                </a:lnTo>
                <a:lnTo>
                  <a:pt x="413" y="331"/>
                </a:lnTo>
                <a:lnTo>
                  <a:pt x="405" y="342"/>
                </a:lnTo>
                <a:lnTo>
                  <a:pt x="402" y="345"/>
                </a:lnTo>
                <a:lnTo>
                  <a:pt x="142" y="0"/>
                </a:lnTo>
                <a:lnTo>
                  <a:pt x="20" y="0"/>
                </a:lnTo>
                <a:lnTo>
                  <a:pt x="30" y="12"/>
                </a:lnTo>
                <a:lnTo>
                  <a:pt x="45" y="32"/>
                </a:lnTo>
                <a:lnTo>
                  <a:pt x="64" y="57"/>
                </a:lnTo>
                <a:lnTo>
                  <a:pt x="86" y="86"/>
                </a:lnTo>
                <a:lnTo>
                  <a:pt x="111" y="119"/>
                </a:lnTo>
                <a:lnTo>
                  <a:pt x="137" y="155"/>
                </a:lnTo>
                <a:lnTo>
                  <a:pt x="165" y="191"/>
                </a:lnTo>
                <a:lnTo>
                  <a:pt x="194" y="228"/>
                </a:lnTo>
                <a:lnTo>
                  <a:pt x="221" y="264"/>
                </a:lnTo>
                <a:lnTo>
                  <a:pt x="248" y="299"/>
                </a:lnTo>
                <a:lnTo>
                  <a:pt x="272" y="331"/>
                </a:lnTo>
                <a:lnTo>
                  <a:pt x="294" y="360"/>
                </a:lnTo>
                <a:lnTo>
                  <a:pt x="311" y="384"/>
                </a:lnTo>
                <a:lnTo>
                  <a:pt x="326" y="403"/>
                </a:lnTo>
                <a:lnTo>
                  <a:pt x="334" y="414"/>
                </a:lnTo>
                <a:lnTo>
                  <a:pt x="338" y="419"/>
                </a:lnTo>
                <a:lnTo>
                  <a:pt x="0" y="860"/>
                </a:lnTo>
                <a:lnTo>
                  <a:pt x="117" y="860"/>
                </a:lnTo>
                <a:lnTo>
                  <a:pt x="395" y="489"/>
                </a:lnTo>
                <a:lnTo>
                  <a:pt x="669" y="860"/>
                </a:lnTo>
                <a:lnTo>
                  <a:pt x="790" y="860"/>
                </a:lnTo>
                <a:lnTo>
                  <a:pt x="780" y="846"/>
                </a:lnTo>
                <a:lnTo>
                  <a:pt x="765" y="825"/>
                </a:lnTo>
                <a:lnTo>
                  <a:pt x="744" y="800"/>
                </a:lnTo>
                <a:lnTo>
                  <a:pt x="721" y="769"/>
                </a:lnTo>
                <a:lnTo>
                  <a:pt x="695" y="734"/>
                </a:lnTo>
                <a:lnTo>
                  <a:pt x="667" y="698"/>
                </a:lnTo>
                <a:lnTo>
                  <a:pt x="638" y="658"/>
                </a:lnTo>
                <a:lnTo>
                  <a:pt x="608" y="619"/>
                </a:lnTo>
                <a:lnTo>
                  <a:pt x="580" y="581"/>
                </a:lnTo>
                <a:lnTo>
                  <a:pt x="552" y="544"/>
                </a:lnTo>
                <a:lnTo>
                  <a:pt x="527" y="511"/>
                </a:lnTo>
                <a:lnTo>
                  <a:pt x="504" y="480"/>
                </a:lnTo>
                <a:lnTo>
                  <a:pt x="485" y="455"/>
                </a:lnTo>
                <a:lnTo>
                  <a:pt x="470" y="436"/>
                </a:lnTo>
                <a:lnTo>
                  <a:pt x="461" y="423"/>
                </a:lnTo>
                <a:lnTo>
                  <a:pt x="458" y="41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2840" y="844560"/>
            <a:ext cx="410688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ctr"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issolvido após a finalização 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acro-fase de desenvolvi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641680" y="1382760"/>
            <a:ext cx="81000" cy="41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71920" y="3454560"/>
            <a:ext cx="326880" cy="414000"/>
          </a:xfrm>
          <a:custGeom>
            <a:avLst/>
            <a:gdLst/>
            <a:ahLst/>
            <a:rect l="l" t="t" r="r" b="b"/>
            <a:pathLst>
              <a:path w="1776" h="2400">
                <a:moveTo>
                  <a:pt x="432" y="2400"/>
                </a:moveTo>
                <a:lnTo>
                  <a:pt x="624" y="1296"/>
                </a:lnTo>
                <a:lnTo>
                  <a:pt x="480" y="768"/>
                </a:lnTo>
                <a:lnTo>
                  <a:pt x="240" y="1248"/>
                </a:lnTo>
                <a:lnTo>
                  <a:pt x="0" y="1248"/>
                </a:lnTo>
                <a:lnTo>
                  <a:pt x="384" y="432"/>
                </a:lnTo>
                <a:lnTo>
                  <a:pt x="672" y="432"/>
                </a:lnTo>
                <a:lnTo>
                  <a:pt x="528" y="288"/>
                </a:lnTo>
                <a:lnTo>
                  <a:pt x="528" y="144"/>
                </a:lnTo>
                <a:lnTo>
                  <a:pt x="720" y="0"/>
                </a:lnTo>
                <a:lnTo>
                  <a:pt x="960" y="0"/>
                </a:lnTo>
                <a:lnTo>
                  <a:pt x="1104" y="192"/>
                </a:lnTo>
                <a:lnTo>
                  <a:pt x="1104" y="336"/>
                </a:lnTo>
                <a:lnTo>
                  <a:pt x="1008" y="432"/>
                </a:lnTo>
                <a:lnTo>
                  <a:pt x="1392" y="432"/>
                </a:lnTo>
                <a:lnTo>
                  <a:pt x="1776" y="1248"/>
                </a:lnTo>
                <a:lnTo>
                  <a:pt x="1536" y="1248"/>
                </a:lnTo>
                <a:lnTo>
                  <a:pt x="1296" y="816"/>
                </a:lnTo>
                <a:lnTo>
                  <a:pt x="1152" y="1296"/>
                </a:lnTo>
                <a:lnTo>
                  <a:pt x="1344" y="2400"/>
                </a:lnTo>
                <a:lnTo>
                  <a:pt x="1056" y="2400"/>
                </a:lnTo>
                <a:lnTo>
                  <a:pt x="912" y="1488"/>
                </a:lnTo>
                <a:lnTo>
                  <a:pt x="720" y="2400"/>
                </a:lnTo>
                <a:lnTo>
                  <a:pt x="432" y="2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3131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189320" y="3102120"/>
            <a:ext cx="325440" cy="414360"/>
          </a:xfrm>
          <a:custGeom>
            <a:avLst/>
            <a:gdLst/>
            <a:ahLst/>
            <a:rect l="l" t="t" r="r" b="b"/>
            <a:pathLst>
              <a:path w="1776" h="2400">
                <a:moveTo>
                  <a:pt x="432" y="2400"/>
                </a:moveTo>
                <a:lnTo>
                  <a:pt x="624" y="1296"/>
                </a:lnTo>
                <a:lnTo>
                  <a:pt x="480" y="768"/>
                </a:lnTo>
                <a:lnTo>
                  <a:pt x="240" y="1248"/>
                </a:lnTo>
                <a:lnTo>
                  <a:pt x="0" y="1248"/>
                </a:lnTo>
                <a:lnTo>
                  <a:pt x="384" y="432"/>
                </a:lnTo>
                <a:lnTo>
                  <a:pt x="672" y="432"/>
                </a:lnTo>
                <a:lnTo>
                  <a:pt x="528" y="288"/>
                </a:lnTo>
                <a:lnTo>
                  <a:pt x="528" y="144"/>
                </a:lnTo>
                <a:lnTo>
                  <a:pt x="720" y="0"/>
                </a:lnTo>
                <a:lnTo>
                  <a:pt x="960" y="0"/>
                </a:lnTo>
                <a:lnTo>
                  <a:pt x="1104" y="192"/>
                </a:lnTo>
                <a:lnTo>
                  <a:pt x="1104" y="336"/>
                </a:lnTo>
                <a:lnTo>
                  <a:pt x="1008" y="432"/>
                </a:lnTo>
                <a:lnTo>
                  <a:pt x="1392" y="432"/>
                </a:lnTo>
                <a:lnTo>
                  <a:pt x="1776" y="1248"/>
                </a:lnTo>
                <a:lnTo>
                  <a:pt x="1536" y="1248"/>
                </a:lnTo>
                <a:lnTo>
                  <a:pt x="1296" y="816"/>
                </a:lnTo>
                <a:lnTo>
                  <a:pt x="1152" y="1296"/>
                </a:lnTo>
                <a:lnTo>
                  <a:pt x="1344" y="2400"/>
                </a:lnTo>
                <a:lnTo>
                  <a:pt x="1056" y="2400"/>
                </a:lnTo>
                <a:lnTo>
                  <a:pt x="912" y="1488"/>
                </a:lnTo>
                <a:lnTo>
                  <a:pt x="720" y="2400"/>
                </a:lnTo>
                <a:lnTo>
                  <a:pt x="432" y="2400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3131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94240" y="3579840"/>
            <a:ext cx="325440" cy="414360"/>
          </a:xfrm>
          <a:custGeom>
            <a:avLst/>
            <a:gdLst/>
            <a:ahLst/>
            <a:rect l="l" t="t" r="r" b="b"/>
            <a:pathLst>
              <a:path w="1776" h="2400">
                <a:moveTo>
                  <a:pt x="432" y="2400"/>
                </a:moveTo>
                <a:lnTo>
                  <a:pt x="624" y="1296"/>
                </a:lnTo>
                <a:lnTo>
                  <a:pt x="480" y="768"/>
                </a:lnTo>
                <a:lnTo>
                  <a:pt x="240" y="1248"/>
                </a:lnTo>
                <a:lnTo>
                  <a:pt x="0" y="1248"/>
                </a:lnTo>
                <a:lnTo>
                  <a:pt x="384" y="432"/>
                </a:lnTo>
                <a:lnTo>
                  <a:pt x="672" y="432"/>
                </a:lnTo>
                <a:lnTo>
                  <a:pt x="528" y="288"/>
                </a:lnTo>
                <a:lnTo>
                  <a:pt x="528" y="144"/>
                </a:lnTo>
                <a:lnTo>
                  <a:pt x="720" y="0"/>
                </a:lnTo>
                <a:lnTo>
                  <a:pt x="960" y="0"/>
                </a:lnTo>
                <a:lnTo>
                  <a:pt x="1104" y="192"/>
                </a:lnTo>
                <a:lnTo>
                  <a:pt x="1104" y="336"/>
                </a:lnTo>
                <a:lnTo>
                  <a:pt x="1008" y="432"/>
                </a:lnTo>
                <a:lnTo>
                  <a:pt x="1392" y="432"/>
                </a:lnTo>
                <a:lnTo>
                  <a:pt x="1776" y="1248"/>
                </a:lnTo>
                <a:lnTo>
                  <a:pt x="1536" y="1248"/>
                </a:lnTo>
                <a:lnTo>
                  <a:pt x="1296" y="816"/>
                </a:lnTo>
                <a:lnTo>
                  <a:pt x="1152" y="1296"/>
                </a:lnTo>
                <a:lnTo>
                  <a:pt x="1344" y="2400"/>
                </a:lnTo>
                <a:lnTo>
                  <a:pt x="1056" y="2400"/>
                </a:lnTo>
                <a:lnTo>
                  <a:pt x="912" y="1488"/>
                </a:lnTo>
                <a:lnTo>
                  <a:pt x="720" y="2400"/>
                </a:lnTo>
                <a:lnTo>
                  <a:pt x="432" y="2400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3131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962600" y="3373560"/>
            <a:ext cx="325440" cy="414360"/>
          </a:xfrm>
          <a:custGeom>
            <a:avLst/>
            <a:gdLst/>
            <a:ahLst/>
            <a:rect l="l" t="t" r="r" b="b"/>
            <a:pathLst>
              <a:path w="1776" h="2400">
                <a:moveTo>
                  <a:pt x="432" y="2400"/>
                </a:moveTo>
                <a:lnTo>
                  <a:pt x="624" y="1296"/>
                </a:lnTo>
                <a:lnTo>
                  <a:pt x="480" y="768"/>
                </a:lnTo>
                <a:lnTo>
                  <a:pt x="240" y="1248"/>
                </a:lnTo>
                <a:lnTo>
                  <a:pt x="0" y="1248"/>
                </a:lnTo>
                <a:lnTo>
                  <a:pt x="384" y="432"/>
                </a:lnTo>
                <a:lnTo>
                  <a:pt x="672" y="432"/>
                </a:lnTo>
                <a:lnTo>
                  <a:pt x="528" y="288"/>
                </a:lnTo>
                <a:lnTo>
                  <a:pt x="528" y="144"/>
                </a:lnTo>
                <a:lnTo>
                  <a:pt x="720" y="0"/>
                </a:lnTo>
                <a:lnTo>
                  <a:pt x="960" y="0"/>
                </a:lnTo>
                <a:lnTo>
                  <a:pt x="1104" y="192"/>
                </a:lnTo>
                <a:lnTo>
                  <a:pt x="1104" y="336"/>
                </a:lnTo>
                <a:lnTo>
                  <a:pt x="1008" y="432"/>
                </a:lnTo>
                <a:lnTo>
                  <a:pt x="1392" y="432"/>
                </a:lnTo>
                <a:lnTo>
                  <a:pt x="1776" y="1248"/>
                </a:lnTo>
                <a:lnTo>
                  <a:pt x="1536" y="1248"/>
                </a:lnTo>
                <a:lnTo>
                  <a:pt x="1296" y="816"/>
                </a:lnTo>
                <a:lnTo>
                  <a:pt x="1152" y="1296"/>
                </a:lnTo>
                <a:lnTo>
                  <a:pt x="1344" y="2400"/>
                </a:lnTo>
                <a:lnTo>
                  <a:pt x="1056" y="2400"/>
                </a:lnTo>
                <a:lnTo>
                  <a:pt x="912" y="1488"/>
                </a:lnTo>
                <a:lnTo>
                  <a:pt x="720" y="2400"/>
                </a:lnTo>
                <a:lnTo>
                  <a:pt x="432" y="2400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3131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680000" y="2768760"/>
            <a:ext cx="326880" cy="414000"/>
          </a:xfrm>
          <a:custGeom>
            <a:avLst/>
            <a:gdLst/>
            <a:ahLst/>
            <a:rect l="l" t="t" r="r" b="b"/>
            <a:pathLst>
              <a:path w="1776" h="2400">
                <a:moveTo>
                  <a:pt x="432" y="2400"/>
                </a:moveTo>
                <a:lnTo>
                  <a:pt x="624" y="1296"/>
                </a:lnTo>
                <a:lnTo>
                  <a:pt x="480" y="768"/>
                </a:lnTo>
                <a:lnTo>
                  <a:pt x="240" y="1248"/>
                </a:lnTo>
                <a:lnTo>
                  <a:pt x="0" y="1248"/>
                </a:lnTo>
                <a:lnTo>
                  <a:pt x="384" y="432"/>
                </a:lnTo>
                <a:lnTo>
                  <a:pt x="672" y="432"/>
                </a:lnTo>
                <a:lnTo>
                  <a:pt x="528" y="288"/>
                </a:lnTo>
                <a:lnTo>
                  <a:pt x="528" y="144"/>
                </a:lnTo>
                <a:lnTo>
                  <a:pt x="720" y="0"/>
                </a:lnTo>
                <a:lnTo>
                  <a:pt x="960" y="0"/>
                </a:lnTo>
                <a:lnTo>
                  <a:pt x="1104" y="192"/>
                </a:lnTo>
                <a:lnTo>
                  <a:pt x="1104" y="336"/>
                </a:lnTo>
                <a:lnTo>
                  <a:pt x="1008" y="432"/>
                </a:lnTo>
                <a:lnTo>
                  <a:pt x="1392" y="432"/>
                </a:lnTo>
                <a:lnTo>
                  <a:pt x="1776" y="1248"/>
                </a:lnTo>
                <a:lnTo>
                  <a:pt x="1536" y="1248"/>
                </a:lnTo>
                <a:lnTo>
                  <a:pt x="1296" y="816"/>
                </a:lnTo>
                <a:lnTo>
                  <a:pt x="1152" y="1296"/>
                </a:lnTo>
                <a:lnTo>
                  <a:pt x="1344" y="2400"/>
                </a:lnTo>
                <a:lnTo>
                  <a:pt x="1056" y="2400"/>
                </a:lnTo>
                <a:lnTo>
                  <a:pt x="912" y="1488"/>
                </a:lnTo>
                <a:lnTo>
                  <a:pt x="720" y="2400"/>
                </a:lnTo>
                <a:lnTo>
                  <a:pt x="432" y="2400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3131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076800" y="3454560"/>
            <a:ext cx="325440" cy="414000"/>
          </a:xfrm>
          <a:custGeom>
            <a:avLst/>
            <a:gdLst/>
            <a:ahLst/>
            <a:rect l="l" t="t" r="r" b="b"/>
            <a:pathLst>
              <a:path w="1776" h="2400">
                <a:moveTo>
                  <a:pt x="432" y="2400"/>
                </a:moveTo>
                <a:lnTo>
                  <a:pt x="624" y="1296"/>
                </a:lnTo>
                <a:lnTo>
                  <a:pt x="480" y="768"/>
                </a:lnTo>
                <a:lnTo>
                  <a:pt x="240" y="1248"/>
                </a:lnTo>
                <a:lnTo>
                  <a:pt x="0" y="1248"/>
                </a:lnTo>
                <a:lnTo>
                  <a:pt x="384" y="432"/>
                </a:lnTo>
                <a:lnTo>
                  <a:pt x="672" y="432"/>
                </a:lnTo>
                <a:lnTo>
                  <a:pt x="528" y="288"/>
                </a:lnTo>
                <a:lnTo>
                  <a:pt x="528" y="144"/>
                </a:lnTo>
                <a:lnTo>
                  <a:pt x="720" y="0"/>
                </a:lnTo>
                <a:lnTo>
                  <a:pt x="960" y="0"/>
                </a:lnTo>
                <a:lnTo>
                  <a:pt x="1104" y="192"/>
                </a:lnTo>
                <a:lnTo>
                  <a:pt x="1104" y="336"/>
                </a:lnTo>
                <a:lnTo>
                  <a:pt x="1008" y="432"/>
                </a:lnTo>
                <a:lnTo>
                  <a:pt x="1392" y="432"/>
                </a:lnTo>
                <a:lnTo>
                  <a:pt x="1776" y="1248"/>
                </a:lnTo>
                <a:lnTo>
                  <a:pt x="1536" y="1248"/>
                </a:lnTo>
                <a:lnTo>
                  <a:pt x="1296" y="816"/>
                </a:lnTo>
                <a:lnTo>
                  <a:pt x="1152" y="1296"/>
                </a:lnTo>
                <a:lnTo>
                  <a:pt x="1344" y="2400"/>
                </a:lnTo>
                <a:lnTo>
                  <a:pt x="1056" y="2400"/>
                </a:lnTo>
                <a:lnTo>
                  <a:pt x="912" y="1488"/>
                </a:lnTo>
                <a:lnTo>
                  <a:pt x="720" y="2400"/>
                </a:lnTo>
                <a:lnTo>
                  <a:pt x="432" y="2400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3131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076800" y="2803680"/>
            <a:ext cx="325440" cy="414360"/>
          </a:xfrm>
          <a:custGeom>
            <a:avLst/>
            <a:gdLst/>
            <a:ahLst/>
            <a:rect l="l" t="t" r="r" b="b"/>
            <a:pathLst>
              <a:path w="1776" h="2400">
                <a:moveTo>
                  <a:pt x="432" y="2400"/>
                </a:moveTo>
                <a:lnTo>
                  <a:pt x="624" y="1296"/>
                </a:lnTo>
                <a:lnTo>
                  <a:pt x="480" y="768"/>
                </a:lnTo>
                <a:lnTo>
                  <a:pt x="240" y="1248"/>
                </a:lnTo>
                <a:lnTo>
                  <a:pt x="0" y="1248"/>
                </a:lnTo>
                <a:lnTo>
                  <a:pt x="384" y="432"/>
                </a:lnTo>
                <a:lnTo>
                  <a:pt x="672" y="432"/>
                </a:lnTo>
                <a:lnTo>
                  <a:pt x="528" y="288"/>
                </a:lnTo>
                <a:lnTo>
                  <a:pt x="528" y="144"/>
                </a:lnTo>
                <a:lnTo>
                  <a:pt x="720" y="0"/>
                </a:lnTo>
                <a:lnTo>
                  <a:pt x="960" y="0"/>
                </a:lnTo>
                <a:lnTo>
                  <a:pt x="1104" y="192"/>
                </a:lnTo>
                <a:lnTo>
                  <a:pt x="1104" y="336"/>
                </a:lnTo>
                <a:lnTo>
                  <a:pt x="1008" y="432"/>
                </a:lnTo>
                <a:lnTo>
                  <a:pt x="1392" y="432"/>
                </a:lnTo>
                <a:lnTo>
                  <a:pt x="1776" y="1248"/>
                </a:lnTo>
                <a:lnTo>
                  <a:pt x="1536" y="1248"/>
                </a:lnTo>
                <a:lnTo>
                  <a:pt x="1296" y="816"/>
                </a:lnTo>
                <a:lnTo>
                  <a:pt x="1152" y="1296"/>
                </a:lnTo>
                <a:lnTo>
                  <a:pt x="1344" y="2400"/>
                </a:lnTo>
                <a:lnTo>
                  <a:pt x="1056" y="2400"/>
                </a:lnTo>
                <a:lnTo>
                  <a:pt x="912" y="1488"/>
                </a:lnTo>
                <a:lnTo>
                  <a:pt x="720" y="2400"/>
                </a:lnTo>
                <a:lnTo>
                  <a:pt x="432" y="2400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3131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83400" y="2895480"/>
            <a:ext cx="325440" cy="414360"/>
          </a:xfrm>
          <a:custGeom>
            <a:avLst/>
            <a:gdLst/>
            <a:ahLst/>
            <a:rect l="l" t="t" r="r" b="b"/>
            <a:pathLst>
              <a:path w="1776" h="2400">
                <a:moveTo>
                  <a:pt x="432" y="2400"/>
                </a:moveTo>
                <a:lnTo>
                  <a:pt x="624" y="1296"/>
                </a:lnTo>
                <a:lnTo>
                  <a:pt x="480" y="768"/>
                </a:lnTo>
                <a:lnTo>
                  <a:pt x="240" y="1248"/>
                </a:lnTo>
                <a:lnTo>
                  <a:pt x="0" y="1248"/>
                </a:lnTo>
                <a:lnTo>
                  <a:pt x="384" y="432"/>
                </a:lnTo>
                <a:lnTo>
                  <a:pt x="672" y="432"/>
                </a:lnTo>
                <a:lnTo>
                  <a:pt x="528" y="288"/>
                </a:lnTo>
                <a:lnTo>
                  <a:pt x="528" y="144"/>
                </a:lnTo>
                <a:lnTo>
                  <a:pt x="720" y="0"/>
                </a:lnTo>
                <a:lnTo>
                  <a:pt x="960" y="0"/>
                </a:lnTo>
                <a:lnTo>
                  <a:pt x="1104" y="192"/>
                </a:lnTo>
                <a:lnTo>
                  <a:pt x="1104" y="336"/>
                </a:lnTo>
                <a:lnTo>
                  <a:pt x="1008" y="432"/>
                </a:lnTo>
                <a:lnTo>
                  <a:pt x="1392" y="432"/>
                </a:lnTo>
                <a:lnTo>
                  <a:pt x="1776" y="1248"/>
                </a:lnTo>
                <a:lnTo>
                  <a:pt x="1536" y="1248"/>
                </a:lnTo>
                <a:lnTo>
                  <a:pt x="1296" y="816"/>
                </a:lnTo>
                <a:lnTo>
                  <a:pt x="1152" y="1296"/>
                </a:lnTo>
                <a:lnTo>
                  <a:pt x="1344" y="2400"/>
                </a:lnTo>
                <a:lnTo>
                  <a:pt x="1056" y="2400"/>
                </a:lnTo>
                <a:lnTo>
                  <a:pt x="912" y="1488"/>
                </a:lnTo>
                <a:lnTo>
                  <a:pt x="720" y="2400"/>
                </a:lnTo>
                <a:lnTo>
                  <a:pt x="432" y="2400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3131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356520" y="4137120"/>
            <a:ext cx="326880" cy="414360"/>
          </a:xfrm>
          <a:custGeom>
            <a:avLst/>
            <a:gdLst/>
            <a:ahLst/>
            <a:rect l="l" t="t" r="r" b="b"/>
            <a:pathLst>
              <a:path w="1776" h="2400">
                <a:moveTo>
                  <a:pt x="432" y="2400"/>
                </a:moveTo>
                <a:lnTo>
                  <a:pt x="624" y="1296"/>
                </a:lnTo>
                <a:lnTo>
                  <a:pt x="480" y="768"/>
                </a:lnTo>
                <a:lnTo>
                  <a:pt x="240" y="1248"/>
                </a:lnTo>
                <a:lnTo>
                  <a:pt x="0" y="1248"/>
                </a:lnTo>
                <a:lnTo>
                  <a:pt x="384" y="432"/>
                </a:lnTo>
                <a:lnTo>
                  <a:pt x="672" y="432"/>
                </a:lnTo>
                <a:lnTo>
                  <a:pt x="528" y="288"/>
                </a:lnTo>
                <a:lnTo>
                  <a:pt x="528" y="144"/>
                </a:lnTo>
                <a:lnTo>
                  <a:pt x="720" y="0"/>
                </a:lnTo>
                <a:lnTo>
                  <a:pt x="960" y="0"/>
                </a:lnTo>
                <a:lnTo>
                  <a:pt x="1104" y="192"/>
                </a:lnTo>
                <a:lnTo>
                  <a:pt x="1104" y="336"/>
                </a:lnTo>
                <a:lnTo>
                  <a:pt x="1008" y="432"/>
                </a:lnTo>
                <a:lnTo>
                  <a:pt x="1392" y="432"/>
                </a:lnTo>
                <a:lnTo>
                  <a:pt x="1776" y="1248"/>
                </a:lnTo>
                <a:lnTo>
                  <a:pt x="1536" y="1248"/>
                </a:lnTo>
                <a:lnTo>
                  <a:pt x="1296" y="816"/>
                </a:lnTo>
                <a:lnTo>
                  <a:pt x="1152" y="1296"/>
                </a:lnTo>
                <a:lnTo>
                  <a:pt x="1344" y="2400"/>
                </a:lnTo>
                <a:lnTo>
                  <a:pt x="1056" y="2400"/>
                </a:lnTo>
                <a:lnTo>
                  <a:pt x="912" y="1488"/>
                </a:lnTo>
                <a:lnTo>
                  <a:pt x="720" y="2400"/>
                </a:lnTo>
                <a:lnTo>
                  <a:pt x="432" y="2400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3131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703840" y="4448160"/>
            <a:ext cx="325440" cy="414360"/>
          </a:xfrm>
          <a:custGeom>
            <a:avLst/>
            <a:gdLst/>
            <a:ahLst/>
            <a:rect l="l" t="t" r="r" b="b"/>
            <a:pathLst>
              <a:path w="1776" h="2400">
                <a:moveTo>
                  <a:pt x="432" y="2400"/>
                </a:moveTo>
                <a:lnTo>
                  <a:pt x="624" y="1296"/>
                </a:lnTo>
                <a:lnTo>
                  <a:pt x="480" y="768"/>
                </a:lnTo>
                <a:lnTo>
                  <a:pt x="240" y="1248"/>
                </a:lnTo>
                <a:lnTo>
                  <a:pt x="0" y="1248"/>
                </a:lnTo>
                <a:lnTo>
                  <a:pt x="384" y="432"/>
                </a:lnTo>
                <a:lnTo>
                  <a:pt x="672" y="432"/>
                </a:lnTo>
                <a:lnTo>
                  <a:pt x="528" y="288"/>
                </a:lnTo>
                <a:lnTo>
                  <a:pt x="528" y="144"/>
                </a:lnTo>
                <a:lnTo>
                  <a:pt x="720" y="0"/>
                </a:lnTo>
                <a:lnTo>
                  <a:pt x="960" y="0"/>
                </a:lnTo>
                <a:lnTo>
                  <a:pt x="1104" y="192"/>
                </a:lnTo>
                <a:lnTo>
                  <a:pt x="1104" y="336"/>
                </a:lnTo>
                <a:lnTo>
                  <a:pt x="1008" y="432"/>
                </a:lnTo>
                <a:lnTo>
                  <a:pt x="1392" y="432"/>
                </a:lnTo>
                <a:lnTo>
                  <a:pt x="1776" y="1248"/>
                </a:lnTo>
                <a:lnTo>
                  <a:pt x="1536" y="1248"/>
                </a:lnTo>
                <a:lnTo>
                  <a:pt x="1296" y="816"/>
                </a:lnTo>
                <a:lnTo>
                  <a:pt x="1152" y="1296"/>
                </a:lnTo>
                <a:lnTo>
                  <a:pt x="1344" y="2400"/>
                </a:lnTo>
                <a:lnTo>
                  <a:pt x="1056" y="2400"/>
                </a:lnTo>
                <a:lnTo>
                  <a:pt x="912" y="1488"/>
                </a:lnTo>
                <a:lnTo>
                  <a:pt x="720" y="2400"/>
                </a:lnTo>
                <a:lnTo>
                  <a:pt x="432" y="2400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3131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008840" y="3579840"/>
            <a:ext cx="326880" cy="414360"/>
          </a:xfrm>
          <a:custGeom>
            <a:avLst/>
            <a:gdLst/>
            <a:ahLst/>
            <a:rect l="l" t="t" r="r" b="b"/>
            <a:pathLst>
              <a:path w="1776" h="2400">
                <a:moveTo>
                  <a:pt x="432" y="2400"/>
                </a:moveTo>
                <a:lnTo>
                  <a:pt x="624" y="1296"/>
                </a:lnTo>
                <a:lnTo>
                  <a:pt x="480" y="768"/>
                </a:lnTo>
                <a:lnTo>
                  <a:pt x="240" y="1248"/>
                </a:lnTo>
                <a:lnTo>
                  <a:pt x="0" y="1248"/>
                </a:lnTo>
                <a:lnTo>
                  <a:pt x="384" y="432"/>
                </a:lnTo>
                <a:lnTo>
                  <a:pt x="672" y="432"/>
                </a:lnTo>
                <a:lnTo>
                  <a:pt x="528" y="288"/>
                </a:lnTo>
                <a:lnTo>
                  <a:pt x="528" y="144"/>
                </a:lnTo>
                <a:lnTo>
                  <a:pt x="720" y="0"/>
                </a:lnTo>
                <a:lnTo>
                  <a:pt x="960" y="0"/>
                </a:lnTo>
                <a:lnTo>
                  <a:pt x="1104" y="192"/>
                </a:lnTo>
                <a:lnTo>
                  <a:pt x="1104" y="336"/>
                </a:lnTo>
                <a:lnTo>
                  <a:pt x="1008" y="432"/>
                </a:lnTo>
                <a:lnTo>
                  <a:pt x="1392" y="432"/>
                </a:lnTo>
                <a:lnTo>
                  <a:pt x="1776" y="1248"/>
                </a:lnTo>
                <a:lnTo>
                  <a:pt x="1536" y="1248"/>
                </a:lnTo>
                <a:lnTo>
                  <a:pt x="1296" y="816"/>
                </a:lnTo>
                <a:lnTo>
                  <a:pt x="1152" y="1296"/>
                </a:lnTo>
                <a:lnTo>
                  <a:pt x="1344" y="2400"/>
                </a:lnTo>
                <a:lnTo>
                  <a:pt x="1056" y="2400"/>
                </a:lnTo>
                <a:lnTo>
                  <a:pt x="912" y="1488"/>
                </a:lnTo>
                <a:lnTo>
                  <a:pt x="720" y="2400"/>
                </a:lnTo>
                <a:lnTo>
                  <a:pt x="432" y="2400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3131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469280" y="3040200"/>
            <a:ext cx="326880" cy="414360"/>
          </a:xfrm>
          <a:custGeom>
            <a:avLst/>
            <a:gdLst/>
            <a:ahLst/>
            <a:rect l="l" t="t" r="r" b="b"/>
            <a:pathLst>
              <a:path w="1776" h="2400">
                <a:moveTo>
                  <a:pt x="432" y="2400"/>
                </a:moveTo>
                <a:lnTo>
                  <a:pt x="624" y="1296"/>
                </a:lnTo>
                <a:lnTo>
                  <a:pt x="480" y="768"/>
                </a:lnTo>
                <a:lnTo>
                  <a:pt x="240" y="1248"/>
                </a:lnTo>
                <a:lnTo>
                  <a:pt x="0" y="1248"/>
                </a:lnTo>
                <a:lnTo>
                  <a:pt x="384" y="432"/>
                </a:lnTo>
                <a:lnTo>
                  <a:pt x="672" y="432"/>
                </a:lnTo>
                <a:lnTo>
                  <a:pt x="528" y="288"/>
                </a:lnTo>
                <a:lnTo>
                  <a:pt x="528" y="144"/>
                </a:lnTo>
                <a:lnTo>
                  <a:pt x="720" y="0"/>
                </a:lnTo>
                <a:lnTo>
                  <a:pt x="960" y="0"/>
                </a:lnTo>
                <a:lnTo>
                  <a:pt x="1104" y="192"/>
                </a:lnTo>
                <a:lnTo>
                  <a:pt x="1104" y="336"/>
                </a:lnTo>
                <a:lnTo>
                  <a:pt x="1008" y="432"/>
                </a:lnTo>
                <a:lnTo>
                  <a:pt x="1392" y="432"/>
                </a:lnTo>
                <a:lnTo>
                  <a:pt x="1776" y="1248"/>
                </a:lnTo>
                <a:lnTo>
                  <a:pt x="1536" y="1248"/>
                </a:lnTo>
                <a:lnTo>
                  <a:pt x="1296" y="816"/>
                </a:lnTo>
                <a:lnTo>
                  <a:pt x="1152" y="1296"/>
                </a:lnTo>
                <a:lnTo>
                  <a:pt x="1344" y="2400"/>
                </a:lnTo>
                <a:lnTo>
                  <a:pt x="1056" y="2400"/>
                </a:lnTo>
                <a:lnTo>
                  <a:pt x="912" y="1488"/>
                </a:lnTo>
                <a:lnTo>
                  <a:pt x="720" y="2400"/>
                </a:lnTo>
                <a:lnTo>
                  <a:pt x="432" y="2400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3131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632720" y="3660840"/>
            <a:ext cx="326880" cy="414360"/>
          </a:xfrm>
          <a:custGeom>
            <a:avLst/>
            <a:gdLst/>
            <a:ahLst/>
            <a:rect l="l" t="t" r="r" b="b"/>
            <a:pathLst>
              <a:path w="1776" h="2400">
                <a:moveTo>
                  <a:pt x="432" y="2400"/>
                </a:moveTo>
                <a:lnTo>
                  <a:pt x="624" y="1296"/>
                </a:lnTo>
                <a:lnTo>
                  <a:pt x="480" y="768"/>
                </a:lnTo>
                <a:lnTo>
                  <a:pt x="240" y="1248"/>
                </a:lnTo>
                <a:lnTo>
                  <a:pt x="0" y="1248"/>
                </a:lnTo>
                <a:lnTo>
                  <a:pt x="384" y="432"/>
                </a:lnTo>
                <a:lnTo>
                  <a:pt x="672" y="432"/>
                </a:lnTo>
                <a:lnTo>
                  <a:pt x="528" y="288"/>
                </a:lnTo>
                <a:lnTo>
                  <a:pt x="528" y="144"/>
                </a:lnTo>
                <a:lnTo>
                  <a:pt x="720" y="0"/>
                </a:lnTo>
                <a:lnTo>
                  <a:pt x="960" y="0"/>
                </a:lnTo>
                <a:lnTo>
                  <a:pt x="1104" y="192"/>
                </a:lnTo>
                <a:lnTo>
                  <a:pt x="1104" y="336"/>
                </a:lnTo>
                <a:lnTo>
                  <a:pt x="1008" y="432"/>
                </a:lnTo>
                <a:lnTo>
                  <a:pt x="1392" y="432"/>
                </a:lnTo>
                <a:lnTo>
                  <a:pt x="1776" y="1248"/>
                </a:lnTo>
                <a:lnTo>
                  <a:pt x="1536" y="1248"/>
                </a:lnTo>
                <a:lnTo>
                  <a:pt x="1296" y="816"/>
                </a:lnTo>
                <a:lnTo>
                  <a:pt x="1152" y="1296"/>
                </a:lnTo>
                <a:lnTo>
                  <a:pt x="1344" y="2400"/>
                </a:lnTo>
                <a:lnTo>
                  <a:pt x="1056" y="2400"/>
                </a:lnTo>
                <a:lnTo>
                  <a:pt x="912" y="1488"/>
                </a:lnTo>
                <a:lnTo>
                  <a:pt x="720" y="2400"/>
                </a:lnTo>
                <a:lnTo>
                  <a:pt x="432" y="2400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3131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142040" y="4282920"/>
            <a:ext cx="327240" cy="414360"/>
          </a:xfrm>
          <a:custGeom>
            <a:avLst/>
            <a:gdLst/>
            <a:ahLst/>
            <a:rect l="l" t="t" r="r" b="b"/>
            <a:pathLst>
              <a:path w="1776" h="2400">
                <a:moveTo>
                  <a:pt x="432" y="2400"/>
                </a:moveTo>
                <a:lnTo>
                  <a:pt x="624" y="1296"/>
                </a:lnTo>
                <a:lnTo>
                  <a:pt x="480" y="768"/>
                </a:lnTo>
                <a:lnTo>
                  <a:pt x="240" y="1248"/>
                </a:lnTo>
                <a:lnTo>
                  <a:pt x="0" y="1248"/>
                </a:lnTo>
                <a:lnTo>
                  <a:pt x="384" y="432"/>
                </a:lnTo>
                <a:lnTo>
                  <a:pt x="672" y="432"/>
                </a:lnTo>
                <a:lnTo>
                  <a:pt x="528" y="288"/>
                </a:lnTo>
                <a:lnTo>
                  <a:pt x="528" y="144"/>
                </a:lnTo>
                <a:lnTo>
                  <a:pt x="720" y="0"/>
                </a:lnTo>
                <a:lnTo>
                  <a:pt x="960" y="0"/>
                </a:lnTo>
                <a:lnTo>
                  <a:pt x="1104" y="192"/>
                </a:lnTo>
                <a:lnTo>
                  <a:pt x="1104" y="336"/>
                </a:lnTo>
                <a:lnTo>
                  <a:pt x="1008" y="432"/>
                </a:lnTo>
                <a:lnTo>
                  <a:pt x="1392" y="432"/>
                </a:lnTo>
                <a:lnTo>
                  <a:pt x="1776" y="1248"/>
                </a:lnTo>
                <a:lnTo>
                  <a:pt x="1536" y="1248"/>
                </a:lnTo>
                <a:lnTo>
                  <a:pt x="1296" y="816"/>
                </a:lnTo>
                <a:lnTo>
                  <a:pt x="1152" y="1296"/>
                </a:lnTo>
                <a:lnTo>
                  <a:pt x="1344" y="2400"/>
                </a:lnTo>
                <a:lnTo>
                  <a:pt x="1056" y="2400"/>
                </a:lnTo>
                <a:lnTo>
                  <a:pt x="912" y="1488"/>
                </a:lnTo>
                <a:lnTo>
                  <a:pt x="720" y="2400"/>
                </a:lnTo>
                <a:lnTo>
                  <a:pt x="432" y="2400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3131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40400" y="2544840"/>
            <a:ext cx="325440" cy="414360"/>
          </a:xfrm>
          <a:custGeom>
            <a:avLst/>
            <a:gdLst/>
            <a:ahLst/>
            <a:rect l="l" t="t" r="r" b="b"/>
            <a:pathLst>
              <a:path w="1776" h="2400">
                <a:moveTo>
                  <a:pt x="432" y="2400"/>
                </a:moveTo>
                <a:lnTo>
                  <a:pt x="624" y="1296"/>
                </a:lnTo>
                <a:lnTo>
                  <a:pt x="480" y="768"/>
                </a:lnTo>
                <a:lnTo>
                  <a:pt x="240" y="1248"/>
                </a:lnTo>
                <a:lnTo>
                  <a:pt x="0" y="1248"/>
                </a:lnTo>
                <a:lnTo>
                  <a:pt x="384" y="432"/>
                </a:lnTo>
                <a:lnTo>
                  <a:pt x="672" y="432"/>
                </a:lnTo>
                <a:lnTo>
                  <a:pt x="528" y="288"/>
                </a:lnTo>
                <a:lnTo>
                  <a:pt x="528" y="144"/>
                </a:lnTo>
                <a:lnTo>
                  <a:pt x="720" y="0"/>
                </a:lnTo>
                <a:lnTo>
                  <a:pt x="960" y="0"/>
                </a:lnTo>
                <a:lnTo>
                  <a:pt x="1104" y="192"/>
                </a:lnTo>
                <a:lnTo>
                  <a:pt x="1104" y="336"/>
                </a:lnTo>
                <a:lnTo>
                  <a:pt x="1008" y="432"/>
                </a:lnTo>
                <a:lnTo>
                  <a:pt x="1392" y="432"/>
                </a:lnTo>
                <a:lnTo>
                  <a:pt x="1776" y="1248"/>
                </a:lnTo>
                <a:lnTo>
                  <a:pt x="1536" y="1248"/>
                </a:lnTo>
                <a:lnTo>
                  <a:pt x="1296" y="816"/>
                </a:lnTo>
                <a:lnTo>
                  <a:pt x="1152" y="1296"/>
                </a:lnTo>
                <a:lnTo>
                  <a:pt x="1344" y="2400"/>
                </a:lnTo>
                <a:lnTo>
                  <a:pt x="1056" y="2400"/>
                </a:lnTo>
                <a:lnTo>
                  <a:pt x="912" y="1488"/>
                </a:lnTo>
                <a:lnTo>
                  <a:pt x="720" y="2400"/>
                </a:lnTo>
                <a:lnTo>
                  <a:pt x="432" y="2400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3131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41800" y="4554360"/>
            <a:ext cx="327240" cy="414360"/>
          </a:xfrm>
          <a:custGeom>
            <a:avLst/>
            <a:gdLst/>
            <a:ahLst/>
            <a:rect l="l" t="t" r="r" b="b"/>
            <a:pathLst>
              <a:path w="1776" h="2400">
                <a:moveTo>
                  <a:pt x="432" y="2400"/>
                </a:moveTo>
                <a:lnTo>
                  <a:pt x="624" y="1296"/>
                </a:lnTo>
                <a:lnTo>
                  <a:pt x="480" y="768"/>
                </a:lnTo>
                <a:lnTo>
                  <a:pt x="240" y="1248"/>
                </a:lnTo>
                <a:lnTo>
                  <a:pt x="0" y="1248"/>
                </a:lnTo>
                <a:lnTo>
                  <a:pt x="384" y="432"/>
                </a:lnTo>
                <a:lnTo>
                  <a:pt x="672" y="432"/>
                </a:lnTo>
                <a:lnTo>
                  <a:pt x="528" y="288"/>
                </a:lnTo>
                <a:lnTo>
                  <a:pt x="528" y="144"/>
                </a:lnTo>
                <a:lnTo>
                  <a:pt x="720" y="0"/>
                </a:lnTo>
                <a:lnTo>
                  <a:pt x="960" y="0"/>
                </a:lnTo>
                <a:lnTo>
                  <a:pt x="1104" y="192"/>
                </a:lnTo>
                <a:lnTo>
                  <a:pt x="1104" y="336"/>
                </a:lnTo>
                <a:lnTo>
                  <a:pt x="1008" y="432"/>
                </a:lnTo>
                <a:lnTo>
                  <a:pt x="1392" y="432"/>
                </a:lnTo>
                <a:lnTo>
                  <a:pt x="1776" y="1248"/>
                </a:lnTo>
                <a:lnTo>
                  <a:pt x="1536" y="1248"/>
                </a:lnTo>
                <a:lnTo>
                  <a:pt x="1296" y="816"/>
                </a:lnTo>
                <a:lnTo>
                  <a:pt x="1152" y="1296"/>
                </a:lnTo>
                <a:lnTo>
                  <a:pt x="1344" y="2400"/>
                </a:lnTo>
                <a:lnTo>
                  <a:pt x="1056" y="2400"/>
                </a:lnTo>
                <a:lnTo>
                  <a:pt x="912" y="1488"/>
                </a:lnTo>
                <a:lnTo>
                  <a:pt x="720" y="2400"/>
                </a:lnTo>
                <a:lnTo>
                  <a:pt x="432" y="2400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3131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053840" y="1927080"/>
            <a:ext cx="181800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Área de marke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7008480" y="2211480"/>
            <a:ext cx="546120" cy="684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4680000" y="1998720"/>
            <a:ext cx="588960" cy="770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366920" y="2052720"/>
            <a:ext cx="409320" cy="55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931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Informações principais e dependência entre as atividades da fase de Acompanhar Produto e Processo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193680" y="846000"/>
            <a:ext cx="8550360" cy="5933160"/>
            <a:chOff x="193680" y="846000"/>
            <a:chExt cx="8550360" cy="5933160"/>
          </a:xfrm>
        </p:grpSpPr>
        <p:sp>
          <p:nvSpPr>
            <p:cNvPr id="339" name=""/>
            <p:cNvSpPr/>
            <p:nvPr/>
          </p:nvSpPr>
          <p:spPr>
            <a:xfrm>
              <a:off x="2889360" y="1677960"/>
              <a:ext cx="5854680" cy="4597560"/>
            </a:xfrm>
            <a:custGeom>
              <a:avLst/>
              <a:gdLst/>
              <a:ahLst/>
              <a:rect l="l" t="t" r="r" b="b"/>
              <a:pathLst>
                <a:path w="3713" h="2896">
                  <a:moveTo>
                    <a:pt x="0" y="1129"/>
                  </a:moveTo>
                  <a:lnTo>
                    <a:pt x="973" y="0"/>
                  </a:lnTo>
                  <a:lnTo>
                    <a:pt x="3713" y="6"/>
                  </a:lnTo>
                  <a:lnTo>
                    <a:pt x="3713" y="2896"/>
                  </a:lnTo>
                  <a:lnTo>
                    <a:pt x="980" y="2896"/>
                  </a:lnTo>
                  <a:lnTo>
                    <a:pt x="25" y="1640"/>
                  </a:lnTo>
                  <a:lnTo>
                    <a:pt x="0" y="112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0" name=""/>
            <p:cNvGrpSpPr/>
            <p:nvPr/>
          </p:nvGrpSpPr>
          <p:grpSpPr>
            <a:xfrm>
              <a:off x="1120680" y="3278160"/>
              <a:ext cx="1800000" cy="1245960"/>
              <a:chOff x="1120680" y="3278160"/>
              <a:chExt cx="1800000" cy="1245960"/>
            </a:xfrm>
          </p:grpSpPr>
          <p:sp>
            <p:nvSpPr>
              <p:cNvPr id="341" name=""/>
              <p:cNvSpPr/>
              <p:nvPr/>
            </p:nvSpPr>
            <p:spPr>
              <a:xfrm>
                <a:off x="1120680" y="3439800"/>
                <a:ext cx="1800000" cy="866880"/>
              </a:xfrm>
              <a:custGeom>
                <a:avLst/>
                <a:gdLst/>
                <a:ahLst/>
                <a:rect l="l" t="t" r="r" b="b"/>
                <a:pathLst>
                  <a:path w="990" h="546">
                    <a:moveTo>
                      <a:pt x="93" y="0"/>
                    </a:moveTo>
                    <a:lnTo>
                      <a:pt x="84" y="0"/>
                    </a:lnTo>
                    <a:lnTo>
                      <a:pt x="75" y="2"/>
                    </a:lnTo>
                    <a:lnTo>
                      <a:pt x="65" y="3"/>
                    </a:lnTo>
                    <a:lnTo>
                      <a:pt x="56" y="7"/>
                    </a:lnTo>
                    <a:lnTo>
                      <a:pt x="49" y="11"/>
                    </a:lnTo>
                    <a:lnTo>
                      <a:pt x="42" y="16"/>
                    </a:lnTo>
                    <a:lnTo>
                      <a:pt x="34" y="21"/>
                    </a:lnTo>
                    <a:lnTo>
                      <a:pt x="27" y="27"/>
                    </a:lnTo>
                    <a:lnTo>
                      <a:pt x="22" y="34"/>
                    </a:lnTo>
                    <a:lnTo>
                      <a:pt x="16" y="39"/>
                    </a:lnTo>
                    <a:lnTo>
                      <a:pt x="13" y="48"/>
                    </a:lnTo>
                    <a:lnTo>
                      <a:pt x="7" y="55"/>
                    </a:lnTo>
                    <a:lnTo>
                      <a:pt x="5" y="64"/>
                    </a:lnTo>
                    <a:lnTo>
                      <a:pt x="2" y="73"/>
                    </a:lnTo>
                    <a:lnTo>
                      <a:pt x="2" y="82"/>
                    </a:lnTo>
                    <a:lnTo>
                      <a:pt x="0" y="91"/>
                    </a:lnTo>
                    <a:lnTo>
                      <a:pt x="0" y="455"/>
                    </a:lnTo>
                    <a:lnTo>
                      <a:pt x="2" y="464"/>
                    </a:lnTo>
                    <a:lnTo>
                      <a:pt x="2" y="473"/>
                    </a:lnTo>
                    <a:lnTo>
                      <a:pt x="5" y="482"/>
                    </a:lnTo>
                    <a:lnTo>
                      <a:pt x="7" y="491"/>
                    </a:lnTo>
                    <a:lnTo>
                      <a:pt x="13" y="498"/>
                    </a:lnTo>
                    <a:lnTo>
                      <a:pt x="16" y="505"/>
                    </a:lnTo>
                    <a:lnTo>
                      <a:pt x="22" y="512"/>
                    </a:lnTo>
                    <a:lnTo>
                      <a:pt x="27" y="520"/>
                    </a:lnTo>
                    <a:lnTo>
                      <a:pt x="34" y="525"/>
                    </a:lnTo>
                    <a:lnTo>
                      <a:pt x="42" y="530"/>
                    </a:lnTo>
                    <a:lnTo>
                      <a:pt x="49" y="536"/>
                    </a:lnTo>
                    <a:lnTo>
                      <a:pt x="56" y="539"/>
                    </a:lnTo>
                    <a:lnTo>
                      <a:pt x="65" y="541"/>
                    </a:lnTo>
                    <a:lnTo>
                      <a:pt x="75" y="545"/>
                    </a:lnTo>
                    <a:lnTo>
                      <a:pt x="84" y="545"/>
                    </a:lnTo>
                    <a:lnTo>
                      <a:pt x="93" y="546"/>
                    </a:lnTo>
                    <a:lnTo>
                      <a:pt x="897" y="546"/>
                    </a:lnTo>
                    <a:lnTo>
                      <a:pt x="906" y="545"/>
                    </a:lnTo>
                    <a:lnTo>
                      <a:pt x="915" y="545"/>
                    </a:lnTo>
                    <a:lnTo>
                      <a:pt x="924" y="541"/>
                    </a:lnTo>
                    <a:lnTo>
                      <a:pt x="933" y="539"/>
                    </a:lnTo>
                    <a:lnTo>
                      <a:pt x="941" y="536"/>
                    </a:lnTo>
                    <a:lnTo>
                      <a:pt x="948" y="530"/>
                    </a:lnTo>
                    <a:lnTo>
                      <a:pt x="955" y="525"/>
                    </a:lnTo>
                    <a:lnTo>
                      <a:pt x="962" y="520"/>
                    </a:lnTo>
                    <a:lnTo>
                      <a:pt x="968" y="512"/>
                    </a:lnTo>
                    <a:lnTo>
                      <a:pt x="973" y="505"/>
                    </a:lnTo>
                    <a:lnTo>
                      <a:pt x="977" y="498"/>
                    </a:lnTo>
                    <a:lnTo>
                      <a:pt x="982" y="491"/>
                    </a:lnTo>
                    <a:lnTo>
                      <a:pt x="984" y="482"/>
                    </a:lnTo>
                    <a:lnTo>
                      <a:pt x="988" y="473"/>
                    </a:lnTo>
                    <a:lnTo>
                      <a:pt x="988" y="464"/>
                    </a:lnTo>
                    <a:lnTo>
                      <a:pt x="990" y="455"/>
                    </a:lnTo>
                    <a:lnTo>
                      <a:pt x="990" y="91"/>
                    </a:lnTo>
                    <a:lnTo>
                      <a:pt x="988" y="82"/>
                    </a:lnTo>
                    <a:lnTo>
                      <a:pt x="988" y="73"/>
                    </a:lnTo>
                    <a:lnTo>
                      <a:pt x="984" y="64"/>
                    </a:lnTo>
                    <a:lnTo>
                      <a:pt x="982" y="55"/>
                    </a:lnTo>
                    <a:lnTo>
                      <a:pt x="977" y="48"/>
                    </a:lnTo>
                    <a:lnTo>
                      <a:pt x="973" y="39"/>
                    </a:lnTo>
                    <a:lnTo>
                      <a:pt x="968" y="34"/>
                    </a:lnTo>
                    <a:lnTo>
                      <a:pt x="962" y="27"/>
                    </a:lnTo>
                    <a:lnTo>
                      <a:pt x="955" y="21"/>
                    </a:lnTo>
                    <a:lnTo>
                      <a:pt x="948" y="16"/>
                    </a:lnTo>
                    <a:lnTo>
                      <a:pt x="941" y="11"/>
                    </a:lnTo>
                    <a:lnTo>
                      <a:pt x="933" y="7"/>
                    </a:lnTo>
                    <a:lnTo>
                      <a:pt x="924" y="3"/>
                    </a:lnTo>
                    <a:lnTo>
                      <a:pt x="915" y="2"/>
                    </a:lnTo>
                    <a:lnTo>
                      <a:pt x="906" y="0"/>
                    </a:lnTo>
                    <a:lnTo>
                      <a:pt x="897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120680" y="3439800"/>
                <a:ext cx="1800000" cy="866880"/>
              </a:xfrm>
              <a:custGeom>
                <a:avLst/>
                <a:gdLst/>
                <a:ahLst/>
                <a:rect l="l" t="t" r="r" b="b"/>
                <a:pathLst>
                  <a:path w="990" h="546">
                    <a:moveTo>
                      <a:pt x="93" y="0"/>
                    </a:moveTo>
                    <a:lnTo>
                      <a:pt x="84" y="0"/>
                    </a:lnTo>
                    <a:lnTo>
                      <a:pt x="75" y="2"/>
                    </a:lnTo>
                    <a:lnTo>
                      <a:pt x="65" y="3"/>
                    </a:lnTo>
                    <a:lnTo>
                      <a:pt x="56" y="7"/>
                    </a:lnTo>
                    <a:lnTo>
                      <a:pt x="49" y="11"/>
                    </a:lnTo>
                    <a:lnTo>
                      <a:pt x="42" y="16"/>
                    </a:lnTo>
                    <a:lnTo>
                      <a:pt x="34" y="21"/>
                    </a:lnTo>
                    <a:lnTo>
                      <a:pt x="27" y="27"/>
                    </a:lnTo>
                    <a:lnTo>
                      <a:pt x="22" y="34"/>
                    </a:lnTo>
                    <a:lnTo>
                      <a:pt x="16" y="39"/>
                    </a:lnTo>
                    <a:lnTo>
                      <a:pt x="13" y="48"/>
                    </a:lnTo>
                    <a:lnTo>
                      <a:pt x="7" y="55"/>
                    </a:lnTo>
                    <a:lnTo>
                      <a:pt x="5" y="64"/>
                    </a:lnTo>
                    <a:lnTo>
                      <a:pt x="2" y="73"/>
                    </a:lnTo>
                    <a:lnTo>
                      <a:pt x="2" y="82"/>
                    </a:lnTo>
                    <a:lnTo>
                      <a:pt x="0" y="91"/>
                    </a:lnTo>
                    <a:lnTo>
                      <a:pt x="0" y="455"/>
                    </a:lnTo>
                    <a:lnTo>
                      <a:pt x="2" y="464"/>
                    </a:lnTo>
                    <a:lnTo>
                      <a:pt x="2" y="473"/>
                    </a:lnTo>
                    <a:lnTo>
                      <a:pt x="5" y="482"/>
                    </a:lnTo>
                    <a:lnTo>
                      <a:pt x="7" y="491"/>
                    </a:lnTo>
                    <a:lnTo>
                      <a:pt x="13" y="498"/>
                    </a:lnTo>
                    <a:lnTo>
                      <a:pt x="16" y="505"/>
                    </a:lnTo>
                    <a:lnTo>
                      <a:pt x="22" y="512"/>
                    </a:lnTo>
                    <a:lnTo>
                      <a:pt x="27" y="520"/>
                    </a:lnTo>
                    <a:lnTo>
                      <a:pt x="34" y="525"/>
                    </a:lnTo>
                    <a:lnTo>
                      <a:pt x="42" y="530"/>
                    </a:lnTo>
                    <a:lnTo>
                      <a:pt x="49" y="536"/>
                    </a:lnTo>
                    <a:lnTo>
                      <a:pt x="56" y="539"/>
                    </a:lnTo>
                    <a:lnTo>
                      <a:pt x="65" y="541"/>
                    </a:lnTo>
                    <a:lnTo>
                      <a:pt x="75" y="545"/>
                    </a:lnTo>
                    <a:lnTo>
                      <a:pt x="84" y="545"/>
                    </a:lnTo>
                    <a:lnTo>
                      <a:pt x="93" y="546"/>
                    </a:lnTo>
                    <a:lnTo>
                      <a:pt x="897" y="546"/>
                    </a:lnTo>
                    <a:lnTo>
                      <a:pt x="906" y="545"/>
                    </a:lnTo>
                    <a:lnTo>
                      <a:pt x="915" y="545"/>
                    </a:lnTo>
                    <a:lnTo>
                      <a:pt x="924" y="541"/>
                    </a:lnTo>
                    <a:lnTo>
                      <a:pt x="933" y="539"/>
                    </a:lnTo>
                    <a:lnTo>
                      <a:pt x="941" y="536"/>
                    </a:lnTo>
                    <a:lnTo>
                      <a:pt x="948" y="530"/>
                    </a:lnTo>
                    <a:lnTo>
                      <a:pt x="955" y="525"/>
                    </a:lnTo>
                    <a:lnTo>
                      <a:pt x="962" y="520"/>
                    </a:lnTo>
                    <a:lnTo>
                      <a:pt x="968" y="512"/>
                    </a:lnTo>
                    <a:lnTo>
                      <a:pt x="973" y="505"/>
                    </a:lnTo>
                    <a:lnTo>
                      <a:pt x="977" y="498"/>
                    </a:lnTo>
                    <a:lnTo>
                      <a:pt x="982" y="491"/>
                    </a:lnTo>
                    <a:lnTo>
                      <a:pt x="984" y="482"/>
                    </a:lnTo>
                    <a:lnTo>
                      <a:pt x="988" y="473"/>
                    </a:lnTo>
                    <a:lnTo>
                      <a:pt x="988" y="464"/>
                    </a:lnTo>
                    <a:lnTo>
                      <a:pt x="990" y="455"/>
                    </a:lnTo>
                    <a:lnTo>
                      <a:pt x="990" y="91"/>
                    </a:lnTo>
                    <a:lnTo>
                      <a:pt x="988" y="82"/>
                    </a:lnTo>
                    <a:lnTo>
                      <a:pt x="988" y="73"/>
                    </a:lnTo>
                    <a:lnTo>
                      <a:pt x="984" y="64"/>
                    </a:lnTo>
                    <a:lnTo>
                      <a:pt x="982" y="55"/>
                    </a:lnTo>
                    <a:lnTo>
                      <a:pt x="977" y="48"/>
                    </a:lnTo>
                    <a:lnTo>
                      <a:pt x="973" y="39"/>
                    </a:lnTo>
                    <a:lnTo>
                      <a:pt x="968" y="34"/>
                    </a:lnTo>
                    <a:lnTo>
                      <a:pt x="962" y="27"/>
                    </a:lnTo>
                    <a:lnTo>
                      <a:pt x="955" y="21"/>
                    </a:lnTo>
                    <a:lnTo>
                      <a:pt x="948" y="16"/>
                    </a:lnTo>
                    <a:lnTo>
                      <a:pt x="941" y="11"/>
                    </a:lnTo>
                    <a:lnTo>
                      <a:pt x="933" y="7"/>
                    </a:lnTo>
                    <a:lnTo>
                      <a:pt x="924" y="3"/>
                    </a:lnTo>
                    <a:lnTo>
                      <a:pt x="915" y="2"/>
                    </a:lnTo>
                    <a:lnTo>
                      <a:pt x="906" y="0"/>
                    </a:lnTo>
                    <a:lnTo>
                      <a:pt x="897" y="0"/>
                    </a:lnTo>
                    <a:lnTo>
                      <a:pt x="93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473480" y="3508200"/>
                <a:ext cx="12870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Acompanhar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616400" y="3763800"/>
                <a:ext cx="9975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Produto e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636920" y="4019400"/>
                <a:ext cx="9622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Processo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658880" y="4378320"/>
                <a:ext cx="721440" cy="145800"/>
              </a:xfrm>
              <a:custGeom>
                <a:avLst/>
                <a:gdLst/>
                <a:ahLst/>
                <a:rect l="l" t="t" r="r" b="b"/>
                <a:pathLst>
                  <a:path w="397" h="92">
                    <a:moveTo>
                      <a:pt x="199" y="92"/>
                    </a:moveTo>
                    <a:lnTo>
                      <a:pt x="397" y="0"/>
                    </a:lnTo>
                    <a:lnTo>
                      <a:pt x="0" y="0"/>
                    </a:lnTo>
                    <a:lnTo>
                      <a:pt x="199" y="92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658880" y="3278160"/>
                <a:ext cx="721440" cy="141120"/>
              </a:xfrm>
              <a:custGeom>
                <a:avLst/>
                <a:gdLst/>
                <a:ahLst/>
                <a:rect l="l" t="t" r="r" b="b"/>
                <a:pathLst>
                  <a:path w="397" h="89">
                    <a:moveTo>
                      <a:pt x="199" y="89"/>
                    </a:moveTo>
                    <a:lnTo>
                      <a:pt x="397" y="0"/>
                    </a:lnTo>
                    <a:lnTo>
                      <a:pt x="0" y="0"/>
                    </a:lnTo>
                    <a:lnTo>
                      <a:pt x="199" y="89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120680" y="3439800"/>
                <a:ext cx="1800000" cy="866880"/>
              </a:xfrm>
              <a:custGeom>
                <a:avLst/>
                <a:gdLst/>
                <a:ahLst/>
                <a:rect l="l" t="t" r="r" b="b"/>
                <a:pathLst>
                  <a:path w="990" h="546">
                    <a:moveTo>
                      <a:pt x="93" y="0"/>
                    </a:moveTo>
                    <a:lnTo>
                      <a:pt x="84" y="0"/>
                    </a:lnTo>
                    <a:lnTo>
                      <a:pt x="75" y="2"/>
                    </a:lnTo>
                    <a:lnTo>
                      <a:pt x="65" y="3"/>
                    </a:lnTo>
                    <a:lnTo>
                      <a:pt x="56" y="7"/>
                    </a:lnTo>
                    <a:lnTo>
                      <a:pt x="49" y="11"/>
                    </a:lnTo>
                    <a:lnTo>
                      <a:pt x="42" y="16"/>
                    </a:lnTo>
                    <a:lnTo>
                      <a:pt x="34" y="21"/>
                    </a:lnTo>
                    <a:lnTo>
                      <a:pt x="27" y="27"/>
                    </a:lnTo>
                    <a:lnTo>
                      <a:pt x="22" y="34"/>
                    </a:lnTo>
                    <a:lnTo>
                      <a:pt x="16" y="39"/>
                    </a:lnTo>
                    <a:lnTo>
                      <a:pt x="13" y="48"/>
                    </a:lnTo>
                    <a:lnTo>
                      <a:pt x="7" y="55"/>
                    </a:lnTo>
                    <a:lnTo>
                      <a:pt x="5" y="64"/>
                    </a:lnTo>
                    <a:lnTo>
                      <a:pt x="2" y="73"/>
                    </a:lnTo>
                    <a:lnTo>
                      <a:pt x="2" y="82"/>
                    </a:lnTo>
                    <a:lnTo>
                      <a:pt x="0" y="91"/>
                    </a:lnTo>
                    <a:lnTo>
                      <a:pt x="0" y="455"/>
                    </a:lnTo>
                    <a:lnTo>
                      <a:pt x="2" y="464"/>
                    </a:lnTo>
                    <a:lnTo>
                      <a:pt x="2" y="473"/>
                    </a:lnTo>
                    <a:lnTo>
                      <a:pt x="5" y="482"/>
                    </a:lnTo>
                    <a:lnTo>
                      <a:pt x="7" y="491"/>
                    </a:lnTo>
                    <a:lnTo>
                      <a:pt x="13" y="498"/>
                    </a:lnTo>
                    <a:lnTo>
                      <a:pt x="16" y="505"/>
                    </a:lnTo>
                    <a:lnTo>
                      <a:pt x="22" y="512"/>
                    </a:lnTo>
                    <a:lnTo>
                      <a:pt x="27" y="520"/>
                    </a:lnTo>
                    <a:lnTo>
                      <a:pt x="34" y="525"/>
                    </a:lnTo>
                    <a:lnTo>
                      <a:pt x="42" y="530"/>
                    </a:lnTo>
                    <a:lnTo>
                      <a:pt x="49" y="536"/>
                    </a:lnTo>
                    <a:lnTo>
                      <a:pt x="56" y="539"/>
                    </a:lnTo>
                    <a:lnTo>
                      <a:pt x="65" y="541"/>
                    </a:lnTo>
                    <a:lnTo>
                      <a:pt x="75" y="545"/>
                    </a:lnTo>
                    <a:lnTo>
                      <a:pt x="84" y="545"/>
                    </a:lnTo>
                    <a:lnTo>
                      <a:pt x="93" y="546"/>
                    </a:lnTo>
                    <a:lnTo>
                      <a:pt x="897" y="546"/>
                    </a:lnTo>
                    <a:lnTo>
                      <a:pt x="906" y="545"/>
                    </a:lnTo>
                    <a:lnTo>
                      <a:pt x="915" y="545"/>
                    </a:lnTo>
                    <a:lnTo>
                      <a:pt x="924" y="541"/>
                    </a:lnTo>
                    <a:lnTo>
                      <a:pt x="933" y="539"/>
                    </a:lnTo>
                    <a:lnTo>
                      <a:pt x="941" y="536"/>
                    </a:lnTo>
                    <a:lnTo>
                      <a:pt x="948" y="530"/>
                    </a:lnTo>
                    <a:lnTo>
                      <a:pt x="955" y="525"/>
                    </a:lnTo>
                    <a:lnTo>
                      <a:pt x="962" y="520"/>
                    </a:lnTo>
                    <a:lnTo>
                      <a:pt x="968" y="512"/>
                    </a:lnTo>
                    <a:lnTo>
                      <a:pt x="973" y="505"/>
                    </a:lnTo>
                    <a:lnTo>
                      <a:pt x="977" y="498"/>
                    </a:lnTo>
                    <a:lnTo>
                      <a:pt x="982" y="491"/>
                    </a:lnTo>
                    <a:lnTo>
                      <a:pt x="984" y="482"/>
                    </a:lnTo>
                    <a:lnTo>
                      <a:pt x="988" y="473"/>
                    </a:lnTo>
                    <a:lnTo>
                      <a:pt x="988" y="464"/>
                    </a:lnTo>
                    <a:lnTo>
                      <a:pt x="990" y="455"/>
                    </a:lnTo>
                    <a:lnTo>
                      <a:pt x="990" y="91"/>
                    </a:lnTo>
                    <a:lnTo>
                      <a:pt x="988" y="82"/>
                    </a:lnTo>
                    <a:lnTo>
                      <a:pt x="988" y="73"/>
                    </a:lnTo>
                    <a:lnTo>
                      <a:pt x="984" y="64"/>
                    </a:lnTo>
                    <a:lnTo>
                      <a:pt x="982" y="55"/>
                    </a:lnTo>
                    <a:lnTo>
                      <a:pt x="977" y="48"/>
                    </a:lnTo>
                    <a:lnTo>
                      <a:pt x="973" y="39"/>
                    </a:lnTo>
                    <a:lnTo>
                      <a:pt x="968" y="34"/>
                    </a:lnTo>
                    <a:lnTo>
                      <a:pt x="962" y="27"/>
                    </a:lnTo>
                    <a:lnTo>
                      <a:pt x="955" y="21"/>
                    </a:lnTo>
                    <a:lnTo>
                      <a:pt x="948" y="16"/>
                    </a:lnTo>
                    <a:lnTo>
                      <a:pt x="941" y="11"/>
                    </a:lnTo>
                    <a:lnTo>
                      <a:pt x="933" y="7"/>
                    </a:lnTo>
                    <a:lnTo>
                      <a:pt x="924" y="3"/>
                    </a:lnTo>
                    <a:lnTo>
                      <a:pt x="915" y="2"/>
                    </a:lnTo>
                    <a:lnTo>
                      <a:pt x="906" y="0"/>
                    </a:lnTo>
                    <a:lnTo>
                      <a:pt x="897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120680" y="3439800"/>
                <a:ext cx="1800000" cy="866880"/>
              </a:xfrm>
              <a:custGeom>
                <a:avLst/>
                <a:gdLst/>
                <a:ahLst/>
                <a:rect l="l" t="t" r="r" b="b"/>
                <a:pathLst>
                  <a:path w="990" h="546">
                    <a:moveTo>
                      <a:pt x="93" y="0"/>
                    </a:moveTo>
                    <a:lnTo>
                      <a:pt x="84" y="0"/>
                    </a:lnTo>
                    <a:lnTo>
                      <a:pt x="75" y="2"/>
                    </a:lnTo>
                    <a:lnTo>
                      <a:pt x="65" y="3"/>
                    </a:lnTo>
                    <a:lnTo>
                      <a:pt x="56" y="7"/>
                    </a:lnTo>
                    <a:lnTo>
                      <a:pt x="49" y="11"/>
                    </a:lnTo>
                    <a:lnTo>
                      <a:pt x="42" y="16"/>
                    </a:lnTo>
                    <a:lnTo>
                      <a:pt x="34" y="21"/>
                    </a:lnTo>
                    <a:lnTo>
                      <a:pt x="27" y="27"/>
                    </a:lnTo>
                    <a:lnTo>
                      <a:pt x="22" y="34"/>
                    </a:lnTo>
                    <a:lnTo>
                      <a:pt x="16" y="39"/>
                    </a:lnTo>
                    <a:lnTo>
                      <a:pt x="13" y="48"/>
                    </a:lnTo>
                    <a:lnTo>
                      <a:pt x="7" y="55"/>
                    </a:lnTo>
                    <a:lnTo>
                      <a:pt x="5" y="64"/>
                    </a:lnTo>
                    <a:lnTo>
                      <a:pt x="2" y="73"/>
                    </a:lnTo>
                    <a:lnTo>
                      <a:pt x="2" y="82"/>
                    </a:lnTo>
                    <a:lnTo>
                      <a:pt x="0" y="91"/>
                    </a:lnTo>
                    <a:lnTo>
                      <a:pt x="0" y="455"/>
                    </a:lnTo>
                    <a:lnTo>
                      <a:pt x="2" y="464"/>
                    </a:lnTo>
                    <a:lnTo>
                      <a:pt x="2" y="473"/>
                    </a:lnTo>
                    <a:lnTo>
                      <a:pt x="5" y="482"/>
                    </a:lnTo>
                    <a:lnTo>
                      <a:pt x="7" y="491"/>
                    </a:lnTo>
                    <a:lnTo>
                      <a:pt x="13" y="498"/>
                    </a:lnTo>
                    <a:lnTo>
                      <a:pt x="16" y="505"/>
                    </a:lnTo>
                    <a:lnTo>
                      <a:pt x="22" y="512"/>
                    </a:lnTo>
                    <a:lnTo>
                      <a:pt x="27" y="520"/>
                    </a:lnTo>
                    <a:lnTo>
                      <a:pt x="34" y="525"/>
                    </a:lnTo>
                    <a:lnTo>
                      <a:pt x="42" y="530"/>
                    </a:lnTo>
                    <a:lnTo>
                      <a:pt x="49" y="536"/>
                    </a:lnTo>
                    <a:lnTo>
                      <a:pt x="56" y="539"/>
                    </a:lnTo>
                    <a:lnTo>
                      <a:pt x="65" y="541"/>
                    </a:lnTo>
                    <a:lnTo>
                      <a:pt x="75" y="545"/>
                    </a:lnTo>
                    <a:lnTo>
                      <a:pt x="84" y="545"/>
                    </a:lnTo>
                    <a:lnTo>
                      <a:pt x="93" y="546"/>
                    </a:lnTo>
                    <a:lnTo>
                      <a:pt x="897" y="546"/>
                    </a:lnTo>
                    <a:lnTo>
                      <a:pt x="906" y="545"/>
                    </a:lnTo>
                    <a:lnTo>
                      <a:pt x="915" y="545"/>
                    </a:lnTo>
                    <a:lnTo>
                      <a:pt x="924" y="541"/>
                    </a:lnTo>
                    <a:lnTo>
                      <a:pt x="933" y="539"/>
                    </a:lnTo>
                    <a:lnTo>
                      <a:pt x="941" y="536"/>
                    </a:lnTo>
                    <a:lnTo>
                      <a:pt x="948" y="530"/>
                    </a:lnTo>
                    <a:lnTo>
                      <a:pt x="955" y="525"/>
                    </a:lnTo>
                    <a:lnTo>
                      <a:pt x="962" y="520"/>
                    </a:lnTo>
                    <a:lnTo>
                      <a:pt x="968" y="512"/>
                    </a:lnTo>
                    <a:lnTo>
                      <a:pt x="973" y="505"/>
                    </a:lnTo>
                    <a:lnTo>
                      <a:pt x="977" y="498"/>
                    </a:lnTo>
                    <a:lnTo>
                      <a:pt x="982" y="491"/>
                    </a:lnTo>
                    <a:lnTo>
                      <a:pt x="984" y="482"/>
                    </a:lnTo>
                    <a:lnTo>
                      <a:pt x="988" y="473"/>
                    </a:lnTo>
                    <a:lnTo>
                      <a:pt x="988" y="464"/>
                    </a:lnTo>
                    <a:lnTo>
                      <a:pt x="990" y="455"/>
                    </a:lnTo>
                    <a:lnTo>
                      <a:pt x="990" y="91"/>
                    </a:lnTo>
                    <a:lnTo>
                      <a:pt x="988" y="82"/>
                    </a:lnTo>
                    <a:lnTo>
                      <a:pt x="988" y="73"/>
                    </a:lnTo>
                    <a:lnTo>
                      <a:pt x="984" y="64"/>
                    </a:lnTo>
                    <a:lnTo>
                      <a:pt x="982" y="55"/>
                    </a:lnTo>
                    <a:lnTo>
                      <a:pt x="977" y="48"/>
                    </a:lnTo>
                    <a:lnTo>
                      <a:pt x="973" y="39"/>
                    </a:lnTo>
                    <a:lnTo>
                      <a:pt x="968" y="34"/>
                    </a:lnTo>
                    <a:lnTo>
                      <a:pt x="962" y="27"/>
                    </a:lnTo>
                    <a:lnTo>
                      <a:pt x="955" y="21"/>
                    </a:lnTo>
                    <a:lnTo>
                      <a:pt x="948" y="16"/>
                    </a:lnTo>
                    <a:lnTo>
                      <a:pt x="941" y="11"/>
                    </a:lnTo>
                    <a:lnTo>
                      <a:pt x="933" y="7"/>
                    </a:lnTo>
                    <a:lnTo>
                      <a:pt x="924" y="3"/>
                    </a:lnTo>
                    <a:lnTo>
                      <a:pt x="915" y="2"/>
                    </a:lnTo>
                    <a:lnTo>
                      <a:pt x="906" y="0"/>
                    </a:lnTo>
                    <a:lnTo>
                      <a:pt x="897" y="0"/>
                    </a:lnTo>
                    <a:lnTo>
                      <a:pt x="93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473480" y="3508200"/>
                <a:ext cx="12870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Acompanhar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616400" y="3763800"/>
                <a:ext cx="9975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Produto e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636920" y="4019400"/>
                <a:ext cx="9622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Processo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658880" y="4378320"/>
                <a:ext cx="721440" cy="145800"/>
              </a:xfrm>
              <a:custGeom>
                <a:avLst/>
                <a:gdLst/>
                <a:ahLst/>
                <a:rect l="l" t="t" r="r" b="b"/>
                <a:pathLst>
                  <a:path w="397" h="92">
                    <a:moveTo>
                      <a:pt x="199" y="92"/>
                    </a:moveTo>
                    <a:lnTo>
                      <a:pt x="397" y="0"/>
                    </a:lnTo>
                    <a:lnTo>
                      <a:pt x="0" y="0"/>
                    </a:lnTo>
                    <a:lnTo>
                      <a:pt x="199" y="92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658880" y="3278160"/>
                <a:ext cx="721440" cy="141120"/>
              </a:xfrm>
              <a:custGeom>
                <a:avLst/>
                <a:gdLst/>
                <a:ahLst/>
                <a:rect l="l" t="t" r="r" b="b"/>
                <a:pathLst>
                  <a:path w="397" h="89">
                    <a:moveTo>
                      <a:pt x="199" y="89"/>
                    </a:moveTo>
                    <a:lnTo>
                      <a:pt x="397" y="0"/>
                    </a:lnTo>
                    <a:lnTo>
                      <a:pt x="0" y="0"/>
                    </a:lnTo>
                    <a:lnTo>
                      <a:pt x="199" y="89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4486320" y="2155680"/>
              <a:ext cx="4053960" cy="3625560"/>
              <a:chOff x="4486320" y="2155680"/>
              <a:chExt cx="4053960" cy="3625560"/>
            </a:xfrm>
          </p:grpSpPr>
          <p:sp>
            <p:nvSpPr>
              <p:cNvPr id="356" name=""/>
              <p:cNvSpPr/>
              <p:nvPr/>
            </p:nvSpPr>
            <p:spPr>
              <a:xfrm>
                <a:off x="6977520" y="3611160"/>
                <a:ext cx="1562760" cy="756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977520" y="3611160"/>
                <a:ext cx="1562760" cy="756720"/>
              </a:xfrm>
              <a:prstGeom prst="rect">
                <a:avLst/>
              </a:prstGeom>
              <a:noFill/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229160" y="3775680"/>
                <a:ext cx="1180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Registrar lições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388280" y="3996360"/>
                <a:ext cx="860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aprendidas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491000" y="2155680"/>
                <a:ext cx="1549440" cy="795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491000" y="2155680"/>
                <a:ext cx="1549440" cy="795600"/>
              </a:xfrm>
              <a:prstGeom prst="rect">
                <a:avLst/>
              </a:prstGeom>
              <a:noFill/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662360" y="2342880"/>
                <a:ext cx="1326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Realizar auditoria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875120" y="256392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pó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150520" y="256392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225760" y="2563920"/>
                <a:ext cx="5493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projeto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494600" y="3611160"/>
                <a:ext cx="1542600" cy="756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494600" y="3611160"/>
                <a:ext cx="1542600" cy="756720"/>
              </a:xfrm>
              <a:prstGeom prst="rect">
                <a:avLst/>
              </a:prstGeom>
              <a:noFill/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056920" y="3664080"/>
                <a:ext cx="5493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Avaliar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818240" y="3886920"/>
                <a:ext cx="1015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satisfação do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071320" y="4107960"/>
                <a:ext cx="522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liente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486320" y="5024160"/>
                <a:ext cx="1562760" cy="75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486320" y="5024160"/>
                <a:ext cx="1562760" cy="757080"/>
              </a:xfrm>
              <a:prstGeom prst="rect">
                <a:avLst/>
              </a:prstGeom>
              <a:noFill/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956480" y="5080680"/>
                <a:ext cx="741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Monitorar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713480" y="5303520"/>
                <a:ext cx="1226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desempenho do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024160" y="5520960"/>
                <a:ext cx="6040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produto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229720" y="2959920"/>
                <a:ext cx="75600" cy="638280"/>
              </a:xfrm>
              <a:custGeom>
                <a:avLst/>
                <a:gdLst/>
                <a:ahLst/>
                <a:rect l="l" t="t" r="r" b="b"/>
                <a:pathLst>
                  <a:path w="45" h="361">
                    <a:moveTo>
                      <a:pt x="25" y="38"/>
                    </a:moveTo>
                    <a:lnTo>
                      <a:pt x="25" y="325"/>
                    </a:lnTo>
                    <a:lnTo>
                      <a:pt x="18" y="325"/>
                    </a:lnTo>
                    <a:lnTo>
                      <a:pt x="18" y="38"/>
                    </a:lnTo>
                    <a:lnTo>
                      <a:pt x="25" y="38"/>
                    </a:lnTo>
                    <a:close/>
                    <a:moveTo>
                      <a:pt x="0" y="45"/>
                    </a:moveTo>
                    <a:lnTo>
                      <a:pt x="22" y="0"/>
                    </a:lnTo>
                    <a:lnTo>
                      <a:pt x="45" y="45"/>
                    </a:lnTo>
                    <a:lnTo>
                      <a:pt x="0" y="45"/>
                    </a:lnTo>
                    <a:close/>
                    <a:moveTo>
                      <a:pt x="45" y="316"/>
                    </a:moveTo>
                    <a:lnTo>
                      <a:pt x="22" y="361"/>
                    </a:lnTo>
                    <a:lnTo>
                      <a:pt x="0" y="316"/>
                    </a:lnTo>
                    <a:lnTo>
                      <a:pt x="45" y="316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229720" y="4376880"/>
                <a:ext cx="75600" cy="638280"/>
              </a:xfrm>
              <a:custGeom>
                <a:avLst/>
                <a:gdLst/>
                <a:ahLst/>
                <a:rect l="l" t="t" r="r" b="b"/>
                <a:pathLst>
                  <a:path w="45" h="361">
                    <a:moveTo>
                      <a:pt x="25" y="38"/>
                    </a:moveTo>
                    <a:lnTo>
                      <a:pt x="25" y="323"/>
                    </a:lnTo>
                    <a:lnTo>
                      <a:pt x="18" y="323"/>
                    </a:lnTo>
                    <a:lnTo>
                      <a:pt x="18" y="38"/>
                    </a:lnTo>
                    <a:lnTo>
                      <a:pt x="25" y="38"/>
                    </a:lnTo>
                    <a:close/>
                    <a:moveTo>
                      <a:pt x="0" y="45"/>
                    </a:moveTo>
                    <a:lnTo>
                      <a:pt x="22" y="0"/>
                    </a:lnTo>
                    <a:lnTo>
                      <a:pt x="45" y="45"/>
                    </a:lnTo>
                    <a:lnTo>
                      <a:pt x="0" y="45"/>
                    </a:lnTo>
                    <a:close/>
                    <a:moveTo>
                      <a:pt x="45" y="316"/>
                    </a:moveTo>
                    <a:lnTo>
                      <a:pt x="22" y="361"/>
                    </a:lnTo>
                    <a:lnTo>
                      <a:pt x="0" y="316"/>
                    </a:lnTo>
                    <a:lnTo>
                      <a:pt x="45" y="316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052320" y="2548080"/>
                <a:ext cx="1744200" cy="1050120"/>
              </a:xfrm>
              <a:custGeom>
                <a:avLst/>
                <a:gdLst/>
                <a:ahLst/>
                <a:rect l="l" t="t" r="r" b="b"/>
                <a:pathLst>
                  <a:path w="1037" h="594">
                    <a:moveTo>
                      <a:pt x="0" y="0"/>
                    </a:moveTo>
                    <a:lnTo>
                      <a:pt x="1019" y="0"/>
                    </a:lnTo>
                    <a:lnTo>
                      <a:pt x="1019" y="558"/>
                    </a:lnTo>
                    <a:lnTo>
                      <a:pt x="1010" y="558"/>
                    </a:lnTo>
                    <a:lnTo>
                      <a:pt x="1010" y="4"/>
                    </a:lnTo>
                    <a:lnTo>
                      <a:pt x="1014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  <a:moveTo>
                      <a:pt x="1037" y="549"/>
                    </a:moveTo>
                    <a:lnTo>
                      <a:pt x="1014" y="594"/>
                    </a:lnTo>
                    <a:lnTo>
                      <a:pt x="992" y="549"/>
                    </a:lnTo>
                    <a:lnTo>
                      <a:pt x="1037" y="549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058800" y="4376880"/>
                <a:ext cx="1737720" cy="1034640"/>
              </a:xfrm>
              <a:custGeom>
                <a:avLst/>
                <a:gdLst/>
                <a:ahLst/>
                <a:rect l="l" t="t" r="r" b="b"/>
                <a:pathLst>
                  <a:path w="1033" h="585">
                    <a:moveTo>
                      <a:pt x="0" y="577"/>
                    </a:moveTo>
                    <a:lnTo>
                      <a:pt x="1010" y="577"/>
                    </a:lnTo>
                    <a:lnTo>
                      <a:pt x="1006" y="581"/>
                    </a:lnTo>
                    <a:lnTo>
                      <a:pt x="1006" y="38"/>
                    </a:lnTo>
                    <a:lnTo>
                      <a:pt x="1015" y="38"/>
                    </a:lnTo>
                    <a:lnTo>
                      <a:pt x="1015" y="585"/>
                    </a:lnTo>
                    <a:lnTo>
                      <a:pt x="0" y="585"/>
                    </a:lnTo>
                    <a:lnTo>
                      <a:pt x="0" y="577"/>
                    </a:lnTo>
                    <a:close/>
                    <a:moveTo>
                      <a:pt x="988" y="45"/>
                    </a:moveTo>
                    <a:lnTo>
                      <a:pt x="1010" y="0"/>
                    </a:lnTo>
                    <a:lnTo>
                      <a:pt x="1033" y="45"/>
                    </a:lnTo>
                    <a:lnTo>
                      <a:pt x="988" y="4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047280" y="3948840"/>
                <a:ext cx="920160" cy="79200"/>
              </a:xfrm>
              <a:custGeom>
                <a:avLst/>
                <a:gdLst/>
                <a:ahLst/>
                <a:rect l="l" t="t" r="r" b="b"/>
                <a:pathLst>
                  <a:path w="547" h="45">
                    <a:moveTo>
                      <a:pt x="0" y="18"/>
                    </a:moveTo>
                    <a:lnTo>
                      <a:pt x="509" y="18"/>
                    </a:lnTo>
                    <a:lnTo>
                      <a:pt x="509" y="26"/>
                    </a:lnTo>
                    <a:lnTo>
                      <a:pt x="0" y="26"/>
                    </a:lnTo>
                    <a:lnTo>
                      <a:pt x="0" y="18"/>
                    </a:lnTo>
                    <a:close/>
                    <a:moveTo>
                      <a:pt x="502" y="0"/>
                    </a:moveTo>
                    <a:lnTo>
                      <a:pt x="547" y="22"/>
                    </a:lnTo>
                    <a:lnTo>
                      <a:pt x="502" y="45"/>
                    </a:lnTo>
                    <a:lnTo>
                      <a:pt x="50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977520" y="3611160"/>
                <a:ext cx="1562760" cy="756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977520" y="3611160"/>
                <a:ext cx="1562760" cy="756720"/>
              </a:xfrm>
              <a:prstGeom prst="rect">
                <a:avLst/>
              </a:prstGeom>
              <a:noFill/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229160" y="3775680"/>
                <a:ext cx="1180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Registrar lições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388280" y="3996360"/>
                <a:ext cx="860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aprendidas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491000" y="2155680"/>
                <a:ext cx="1549440" cy="795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491000" y="2155680"/>
                <a:ext cx="1549440" cy="795600"/>
              </a:xfrm>
              <a:prstGeom prst="rect">
                <a:avLst/>
              </a:prstGeom>
              <a:noFill/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662360" y="2342880"/>
                <a:ext cx="1326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Realizar auditoria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875120" y="256392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pó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150520" y="256392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225760" y="2563920"/>
                <a:ext cx="5493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projeto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494600" y="3611160"/>
                <a:ext cx="1542600" cy="756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494600" y="3611160"/>
                <a:ext cx="1542600" cy="756720"/>
              </a:xfrm>
              <a:prstGeom prst="rect">
                <a:avLst/>
              </a:prstGeom>
              <a:noFill/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056920" y="3664080"/>
                <a:ext cx="5493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Avaliar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818240" y="3886920"/>
                <a:ext cx="1015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satisfação do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071320" y="4107960"/>
                <a:ext cx="522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liente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486320" y="5024160"/>
                <a:ext cx="1562760" cy="75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486320" y="5024160"/>
                <a:ext cx="1562760" cy="757080"/>
              </a:xfrm>
              <a:prstGeom prst="rect">
                <a:avLst/>
              </a:prstGeom>
              <a:noFill/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956480" y="5080680"/>
                <a:ext cx="741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Monitorar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713480" y="5303520"/>
                <a:ext cx="1226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desempenho do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024160" y="5520960"/>
                <a:ext cx="6040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produto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229720" y="2959920"/>
                <a:ext cx="75600" cy="638280"/>
              </a:xfrm>
              <a:custGeom>
                <a:avLst/>
                <a:gdLst/>
                <a:ahLst/>
                <a:rect l="l" t="t" r="r" b="b"/>
                <a:pathLst>
                  <a:path w="45" h="361">
                    <a:moveTo>
                      <a:pt x="25" y="38"/>
                    </a:moveTo>
                    <a:lnTo>
                      <a:pt x="25" y="325"/>
                    </a:lnTo>
                    <a:lnTo>
                      <a:pt x="18" y="325"/>
                    </a:lnTo>
                    <a:lnTo>
                      <a:pt x="18" y="38"/>
                    </a:lnTo>
                    <a:lnTo>
                      <a:pt x="25" y="38"/>
                    </a:lnTo>
                    <a:close/>
                    <a:moveTo>
                      <a:pt x="0" y="45"/>
                    </a:moveTo>
                    <a:lnTo>
                      <a:pt x="22" y="0"/>
                    </a:lnTo>
                    <a:lnTo>
                      <a:pt x="45" y="45"/>
                    </a:lnTo>
                    <a:lnTo>
                      <a:pt x="0" y="45"/>
                    </a:lnTo>
                    <a:close/>
                    <a:moveTo>
                      <a:pt x="45" y="316"/>
                    </a:moveTo>
                    <a:lnTo>
                      <a:pt x="22" y="361"/>
                    </a:lnTo>
                    <a:lnTo>
                      <a:pt x="0" y="316"/>
                    </a:lnTo>
                    <a:lnTo>
                      <a:pt x="45" y="316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229720" y="4376880"/>
                <a:ext cx="75600" cy="638280"/>
              </a:xfrm>
              <a:custGeom>
                <a:avLst/>
                <a:gdLst/>
                <a:ahLst/>
                <a:rect l="l" t="t" r="r" b="b"/>
                <a:pathLst>
                  <a:path w="45" h="361">
                    <a:moveTo>
                      <a:pt x="25" y="38"/>
                    </a:moveTo>
                    <a:lnTo>
                      <a:pt x="25" y="323"/>
                    </a:lnTo>
                    <a:lnTo>
                      <a:pt x="18" y="323"/>
                    </a:lnTo>
                    <a:lnTo>
                      <a:pt x="18" y="38"/>
                    </a:lnTo>
                    <a:lnTo>
                      <a:pt x="25" y="38"/>
                    </a:lnTo>
                    <a:close/>
                    <a:moveTo>
                      <a:pt x="0" y="45"/>
                    </a:moveTo>
                    <a:lnTo>
                      <a:pt x="22" y="0"/>
                    </a:lnTo>
                    <a:lnTo>
                      <a:pt x="45" y="45"/>
                    </a:lnTo>
                    <a:lnTo>
                      <a:pt x="0" y="45"/>
                    </a:lnTo>
                    <a:close/>
                    <a:moveTo>
                      <a:pt x="45" y="316"/>
                    </a:moveTo>
                    <a:lnTo>
                      <a:pt x="22" y="361"/>
                    </a:lnTo>
                    <a:lnTo>
                      <a:pt x="0" y="316"/>
                    </a:lnTo>
                    <a:lnTo>
                      <a:pt x="45" y="316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052320" y="2548080"/>
                <a:ext cx="1744200" cy="1050120"/>
              </a:xfrm>
              <a:custGeom>
                <a:avLst/>
                <a:gdLst/>
                <a:ahLst/>
                <a:rect l="l" t="t" r="r" b="b"/>
                <a:pathLst>
                  <a:path w="1037" h="594">
                    <a:moveTo>
                      <a:pt x="0" y="0"/>
                    </a:moveTo>
                    <a:lnTo>
                      <a:pt x="1019" y="0"/>
                    </a:lnTo>
                    <a:lnTo>
                      <a:pt x="1019" y="558"/>
                    </a:lnTo>
                    <a:lnTo>
                      <a:pt x="1010" y="558"/>
                    </a:lnTo>
                    <a:lnTo>
                      <a:pt x="1010" y="4"/>
                    </a:lnTo>
                    <a:lnTo>
                      <a:pt x="1014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  <a:moveTo>
                      <a:pt x="1037" y="549"/>
                    </a:moveTo>
                    <a:lnTo>
                      <a:pt x="1014" y="594"/>
                    </a:lnTo>
                    <a:lnTo>
                      <a:pt x="992" y="549"/>
                    </a:lnTo>
                    <a:lnTo>
                      <a:pt x="1037" y="549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058800" y="4376880"/>
                <a:ext cx="1737720" cy="1034640"/>
              </a:xfrm>
              <a:custGeom>
                <a:avLst/>
                <a:gdLst/>
                <a:ahLst/>
                <a:rect l="l" t="t" r="r" b="b"/>
                <a:pathLst>
                  <a:path w="1033" h="585">
                    <a:moveTo>
                      <a:pt x="0" y="577"/>
                    </a:moveTo>
                    <a:lnTo>
                      <a:pt x="1010" y="577"/>
                    </a:lnTo>
                    <a:lnTo>
                      <a:pt x="1006" y="581"/>
                    </a:lnTo>
                    <a:lnTo>
                      <a:pt x="1006" y="38"/>
                    </a:lnTo>
                    <a:lnTo>
                      <a:pt x="1015" y="38"/>
                    </a:lnTo>
                    <a:lnTo>
                      <a:pt x="1015" y="585"/>
                    </a:lnTo>
                    <a:lnTo>
                      <a:pt x="0" y="585"/>
                    </a:lnTo>
                    <a:lnTo>
                      <a:pt x="0" y="577"/>
                    </a:lnTo>
                    <a:close/>
                    <a:moveTo>
                      <a:pt x="988" y="45"/>
                    </a:moveTo>
                    <a:lnTo>
                      <a:pt x="1010" y="0"/>
                    </a:lnTo>
                    <a:lnTo>
                      <a:pt x="1033" y="45"/>
                    </a:lnTo>
                    <a:lnTo>
                      <a:pt x="988" y="4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047280" y="3948840"/>
                <a:ext cx="920160" cy="79200"/>
              </a:xfrm>
              <a:custGeom>
                <a:avLst/>
                <a:gdLst/>
                <a:ahLst/>
                <a:rect l="l" t="t" r="r" b="b"/>
                <a:pathLst>
                  <a:path w="547" h="45">
                    <a:moveTo>
                      <a:pt x="0" y="18"/>
                    </a:moveTo>
                    <a:lnTo>
                      <a:pt x="509" y="18"/>
                    </a:lnTo>
                    <a:lnTo>
                      <a:pt x="509" y="26"/>
                    </a:lnTo>
                    <a:lnTo>
                      <a:pt x="0" y="26"/>
                    </a:lnTo>
                    <a:lnTo>
                      <a:pt x="0" y="18"/>
                    </a:lnTo>
                    <a:close/>
                    <a:moveTo>
                      <a:pt x="502" y="0"/>
                    </a:moveTo>
                    <a:lnTo>
                      <a:pt x="547" y="22"/>
                    </a:lnTo>
                    <a:lnTo>
                      <a:pt x="502" y="45"/>
                    </a:lnTo>
                    <a:lnTo>
                      <a:pt x="50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6" name=""/>
            <p:cNvSpPr/>
            <p:nvPr/>
          </p:nvSpPr>
          <p:spPr>
            <a:xfrm>
              <a:off x="193680" y="846000"/>
              <a:ext cx="4667400" cy="266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elatórios de acompanhamento do desempenho do produto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eclamações e problemas percebidos pelo cliente como o uso do produto em campo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lano de fim de vida do produto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elatórios de ocorrências da assistência técnic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specificações de projeto do produto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stratégia do produto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valiação econômica do produto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usto-alvo do produto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09520" y="4626000"/>
              <a:ext cx="4037040" cy="21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elatórios de avaliação da satisfação do client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ropostas de necessidades de modificações no produto ou em seus serviços relacionado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ropostas de oportunidades de melhoria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Necessidades de mudança para adequação ambiental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íntese das lições aprendida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olicitações de descontinuidade do produto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-360" y="28080"/>
            <a:ext cx="73882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Sumário do capítulo – atividades da fase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26560" y="1558800"/>
            <a:ext cx="7845480" cy="40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Avaliar satisfação do clie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nitorar desempenho do produ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lizar auditoria pós-proje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gistrar lições aprendi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0T23:18:54Z</dcterms:created>
  <dc:creator>Forcellini</dc:creator>
  <dc:description/>
  <dc:language>en-US</dc:language>
  <cp:lastModifiedBy>ssilva</cp:lastModifiedBy>
  <dcterms:modified xsi:type="dcterms:W3CDTF">2005-12-20T14:17:55Z</dcterms:modified>
  <cp:revision>121</cp:revision>
  <dc:subject/>
  <dc:title>Slide 1</dc:title>
</cp:coreProperties>
</file>