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0FAE-DD13-4CBC-96BA-31386480616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A684-5F0C-4691-8CAB-35C218DB84A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01E5-407A-493C-9560-D2211A5D2E7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7394-35A3-4355-974E-E53A04A5AC4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A30F-E746-45FD-BD79-225007943BC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0C37-F820-4697-8AE5-E8739B72DB8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76FD-DFC9-49F8-962C-D484D1E96B6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FACD-A240-4282-8839-C097EACBA56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B8AD-97CB-4ACA-81A7-25FE710A57E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ECB2-0411-4578-8F9D-A435C795A81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00FD-8F16-48F8-9921-959F95C2370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E808-6FA9-4AC9-9F51-ED13E47C161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nceito de revisão de fases é apresentado pelo tópico 2.7. A atividade de avaliar a fase no tópico 3.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AD90-51AD-42AF-9458-B2D9EAA5F61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critérios iniciais dessa fase estão na tabela 6.2 (página 232), mas devem ser complementados pelo time de desenvolvimento e demais interessados na fase de  planejamento do projeto e também  durante o gate anterior. Leia discussão na página 75 (critérios de avaliaçã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B8AE-26EC-4E95-9393-AF7B88F12D5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critérios iniciais dessa fase estão na tabela 6.2 (página 232), mas devem ser complementados pelo time de desenvolvimento e demais interessados na fase de  planejamento do projeto e também  durante o gate anterior. Leia discussão na página 75 (critérios de avaliaçã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3D79-63F9-4D09-8EE6-B7C0F844228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FCAA-33DC-4CA5-94DA-F89F9D21A9B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F87D-40C8-4A4E-96AC-3EB6F5C9B5F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nceito de revisão de fases é apresentado pelo tópico 2.7. A atividade de aprovar a fase no tópico 3.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A856-B7EE-400F-8271-01776CB8520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E0B7-4B47-4FC6-9F81-B1428A59034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údo do capítulo 3.6 (página 112), mas só pode ocorrer se associada à prática da gestão do conhecimento discutida no capítulo 2.12 (página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BCE7-0DFD-4B2E-BB52-40FD2A66936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714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E63F-C443-4418-AD88-7B2D9B0D5B7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1558-6CD1-4D91-9E66-17259C7BE18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883-ADCB-4084-B6E2-DB671F9E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024-90CC-4B40-89A8-013E0871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E01-4881-41BC-B07F-C5DCAAAC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104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01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23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104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01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CA5-7D70-4B2E-A505-C3C32FDB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09B-AA24-492B-8B7D-C4B77317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025-9375-472A-9447-8622A9B1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BE8-B90D-41C7-830D-D7DF2087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282-9A3E-47BD-9AE0-1F401C71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3882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560-A584-474B-8C88-8A49583A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0C9-541C-495C-9590-A694DDF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EDF-4B2F-4BBD-92BC-81895588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4AD-A4F1-423A-B619-28D90FC2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A9E3-7B6F-4E03-978B-F18DD46AC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5280" y="808200"/>
            <a:ext cx="7861320" cy="47520"/>
          </a:xfrm>
          <a:prstGeom prst="rect">
            <a:avLst/>
          </a:prstGeom>
          <a:gradFill rotWithShape="0">
            <a:gsLst>
              <a:gs pos="0">
                <a:srgbClr val="000096"/>
              </a:gs>
              <a:gs pos="100000">
                <a:srgbClr val="6363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43840" y="0"/>
            <a:ext cx="11001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360" y="257040"/>
            <a:ext cx="4386240" cy="635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03960" y="263520"/>
            <a:ext cx="32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tividades genéric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apítulo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4040" y="4183200"/>
            <a:ext cx="329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Henrique Rozen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Fernando Antônio Forcell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aniel Capaldo Ama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José Carlos Tol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Sergio Luis da Si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ário Henrique Allipran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Régis Kovacs Sc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46520" y="2112840"/>
            <a:ext cx="4372200" cy="1614240"/>
            <a:chOff x="4646520" y="2112840"/>
            <a:chExt cx="4372200" cy="1614240"/>
          </a:xfrm>
        </p:grpSpPr>
        <p:sp>
          <p:nvSpPr>
            <p:cNvPr id="54" name=""/>
            <p:cNvSpPr/>
            <p:nvPr/>
          </p:nvSpPr>
          <p:spPr>
            <a:xfrm>
              <a:off x="5185440" y="3443760"/>
              <a:ext cx="3779280" cy="28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28120" y="3268800"/>
              <a:ext cx="2919960" cy="283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41760" y="3203280"/>
              <a:ext cx="531360" cy="900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94320" y="3203280"/>
              <a:ext cx="532800" cy="900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47960" y="3203280"/>
              <a:ext cx="532800" cy="900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02320" y="3203280"/>
              <a:ext cx="532800" cy="900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5320" y="2112840"/>
              <a:ext cx="4309560" cy="1069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12480" y="2184120"/>
              <a:ext cx="1987920" cy="142560"/>
            </a:xfrm>
            <a:custGeom>
              <a:avLst/>
              <a:gdLst>
                <a:gd name="textAreaLeft" fmla="*/ 0 w 1987920"/>
                <a:gd name="textAreaRight" fmla="*/ 1988280 w 1987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21" y="0"/>
                  </a:lnTo>
                  <a:lnTo>
                    <a:pt x="21600" y="10800"/>
                  </a:lnTo>
                  <a:lnTo>
                    <a:pt x="20921" y="21600"/>
                  </a:lnTo>
                  <a:lnTo>
                    <a:pt x="0" y="21600"/>
                  </a:lnTo>
                  <a:lnTo>
                    <a:pt x="67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88880" y="2184120"/>
              <a:ext cx="1271520" cy="142560"/>
            </a:xfrm>
            <a:custGeom>
              <a:avLst/>
              <a:gdLst>
                <a:gd name="textAreaLeft" fmla="*/ 0 w 1271520"/>
                <a:gd name="textAreaRight" fmla="*/ 1271520 w 12715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42" y="0"/>
                  </a:lnTo>
                  <a:lnTo>
                    <a:pt x="21600" y="10800"/>
                  </a:lnTo>
                  <a:lnTo>
                    <a:pt x="20642" y="21600"/>
                  </a:lnTo>
                  <a:lnTo>
                    <a:pt x="0" y="21600"/>
                  </a:lnTo>
                  <a:lnTo>
                    <a:pt x="958" y="10800"/>
                  </a:lnTo>
                  <a:close/>
                </a:path>
              </a:pathLst>
            </a:cu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52640" y="220140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580240" y="2224800"/>
              <a:ext cx="124920" cy="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20680" y="2184120"/>
              <a:ext cx="1018080" cy="142560"/>
            </a:xfrm>
            <a:custGeom>
              <a:avLst/>
              <a:gdLst>
                <a:gd name="textAreaLeft" fmla="*/ 0 w 1018080"/>
                <a:gd name="textAreaRight" fmla="*/ 1018440 w 10180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7" y="0"/>
                  </a:lnTo>
                  <a:lnTo>
                    <a:pt x="21600" y="10800"/>
                  </a:lnTo>
                  <a:lnTo>
                    <a:pt x="2044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57720" y="220140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27880" y="2361600"/>
              <a:ext cx="639360" cy="37692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8" y="0"/>
                  </a:lnTo>
                  <a:lnTo>
                    <a:pt x="21600" y="10800"/>
                  </a:lnTo>
                  <a:lnTo>
                    <a:pt x="19548" y="21600"/>
                  </a:lnTo>
                  <a:lnTo>
                    <a:pt x="0" y="21600"/>
                  </a:lnTo>
                  <a:lnTo>
                    <a:pt x="2052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92760" y="2352960"/>
              <a:ext cx="603000" cy="39744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95760" y="2352960"/>
              <a:ext cx="609840" cy="3974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3800" y="2383560"/>
              <a:ext cx="608400" cy="397440"/>
            </a:xfrm>
            <a:custGeom>
              <a:avLst/>
              <a:gdLst>
                <a:gd name="textAreaLeft" fmla="*/ 0 w 608400"/>
                <a:gd name="textAreaRight" fmla="*/ 608760 w 60840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50840" y="2383560"/>
              <a:ext cx="608760" cy="397440"/>
            </a:xfrm>
            <a:custGeom>
              <a:avLst/>
              <a:gdLst>
                <a:gd name="textAreaLeft" fmla="*/ 0 w 608760"/>
                <a:gd name="textAreaRight" fmla="*/ 609120 w 60876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26800" y="2402640"/>
              <a:ext cx="643680" cy="39708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02" y="0"/>
                  </a:lnTo>
                  <a:lnTo>
                    <a:pt x="21600" y="10800"/>
                  </a:lnTo>
                  <a:lnTo>
                    <a:pt x="19602" y="21600"/>
                  </a:lnTo>
                  <a:lnTo>
                    <a:pt x="0" y="21600"/>
                  </a:lnTo>
                  <a:lnTo>
                    <a:pt x="1998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81680" y="2402640"/>
              <a:ext cx="671400" cy="39708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9" y="0"/>
                  </a:lnTo>
                  <a:lnTo>
                    <a:pt x="21600" y="10800"/>
                  </a:lnTo>
                  <a:lnTo>
                    <a:pt x="19739" y="21600"/>
                  </a:lnTo>
                  <a:lnTo>
                    <a:pt x="0" y="21600"/>
                  </a:lnTo>
                  <a:lnTo>
                    <a:pt x="1861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795280" y="2345040"/>
              <a:ext cx="342360" cy="196200"/>
            </a:xfrm>
            <a:custGeom>
              <a:avLst/>
              <a:gdLst>
                <a:gd name="textAreaLeft" fmla="*/ 0 w 342360"/>
                <a:gd name="textAreaRight" fmla="*/ 342360 w 342360"/>
                <a:gd name="textAreaTop" fmla="*/ -360 h 196200"/>
                <a:gd name="textAreaBottom" fmla="*/ 196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140880" y="2345040"/>
              <a:ext cx="342000" cy="19620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-360 h 196200"/>
                <a:gd name="textAreaBottom" fmla="*/ 196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487200" y="2345040"/>
              <a:ext cx="342000" cy="19620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-360 h 196200"/>
                <a:gd name="textAreaBottom" fmla="*/ 196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832440" y="2345040"/>
              <a:ext cx="342000" cy="19620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-360 h 196200"/>
                <a:gd name="textAreaBottom" fmla="*/ 196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179120" y="2345040"/>
              <a:ext cx="342000" cy="19620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-360 h 196200"/>
                <a:gd name="textAreaBottom" fmla="*/ 196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868360" y="2419200"/>
              <a:ext cx="342000" cy="19476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213600" y="2419200"/>
              <a:ext cx="342000" cy="19476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560280" y="2419200"/>
              <a:ext cx="342000" cy="19476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905520" y="2419200"/>
              <a:ext cx="342000" cy="19476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251840" y="2419200"/>
              <a:ext cx="342000" cy="19476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941080" y="2492640"/>
              <a:ext cx="342360" cy="195120"/>
            </a:xfrm>
            <a:custGeom>
              <a:avLst/>
              <a:gdLst>
                <a:gd name="textAreaLeft" fmla="*/ 0 w 342360"/>
                <a:gd name="textAreaRight" fmla="*/ 342360 w 342360"/>
                <a:gd name="textAreaTop" fmla="*/ 360 h 195120"/>
                <a:gd name="textAreaBottom" fmla="*/ 195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286680" y="2492640"/>
              <a:ext cx="342000" cy="19512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360 h 195120"/>
                <a:gd name="textAreaBottom" fmla="*/ 195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33000" y="2492640"/>
              <a:ext cx="342000" cy="19512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360 h 195120"/>
                <a:gd name="textAreaBottom" fmla="*/ 195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978240" y="2492640"/>
              <a:ext cx="342000" cy="19512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360 h 195120"/>
                <a:gd name="textAreaBottom" fmla="*/ 195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324920" y="2492640"/>
              <a:ext cx="342000" cy="19512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360 h 195120"/>
                <a:gd name="textAreaBottom" fmla="*/ 195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89200" y="2365920"/>
              <a:ext cx="309960" cy="17604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2280" y="2439000"/>
              <a:ext cx="309960" cy="175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34640" y="2511360"/>
              <a:ext cx="309960" cy="17604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93" idx="0"/>
            </p:cNvCxnSpPr>
            <p:nvPr/>
          </p:nvCxnSpPr>
          <p:spPr>
            <a:xfrm flipH="1" flipV="1">
              <a:off x="6237720" y="2703240"/>
              <a:ext cx="474840" cy="255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3" idx="0"/>
            </p:cNvCxnSpPr>
            <p:nvPr/>
          </p:nvCxnSpPr>
          <p:spPr>
            <a:xfrm flipH="1" flipV="1">
              <a:off x="6647040" y="2703240"/>
              <a:ext cx="65520" cy="255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stCxn id="93" idx="0"/>
            </p:cNvCxnSpPr>
            <p:nvPr/>
          </p:nvCxnSpPr>
          <p:spPr>
            <a:xfrm flipV="1">
              <a:off x="6712200" y="2703240"/>
              <a:ext cx="298440" cy="255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6" name=""/>
            <p:cNvCxnSpPr>
              <a:stCxn id="93" idx="0"/>
            </p:cNvCxnSpPr>
            <p:nvPr/>
          </p:nvCxnSpPr>
          <p:spPr>
            <a:xfrm flipV="1">
              <a:off x="6712200" y="2703240"/>
              <a:ext cx="669960" cy="255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7" name=""/>
            <p:cNvCxnSpPr>
              <a:stCxn id="93" idx="0"/>
            </p:cNvCxnSpPr>
            <p:nvPr/>
          </p:nvCxnSpPr>
          <p:spPr>
            <a:xfrm flipV="1">
              <a:off x="6712200" y="2703240"/>
              <a:ext cx="1055880" cy="255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stCxn id="93" idx="0"/>
            </p:cNvCxnSpPr>
            <p:nvPr/>
          </p:nvCxnSpPr>
          <p:spPr>
            <a:xfrm flipH="1" flipV="1">
              <a:off x="5784840" y="2696040"/>
              <a:ext cx="927720" cy="262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9" name=""/>
            <p:cNvSpPr/>
            <p:nvPr/>
          </p:nvSpPr>
          <p:spPr>
            <a:xfrm>
              <a:off x="4646520" y="2112840"/>
              <a:ext cx="4372200" cy="16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73120" y="2958480"/>
              <a:ext cx="1478160" cy="1818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alizar plano d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onitorar viabilidade econômico-financ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ovar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s genéricas durante a realizaçã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76320" y="909720"/>
            <a:ext cx="8991360" cy="5810040"/>
            <a:chOff x="76320" y="909720"/>
            <a:chExt cx="8991360" cy="5810040"/>
          </a:xfrm>
        </p:grpSpPr>
        <p:sp>
          <p:nvSpPr>
            <p:cNvPr id="552" name=""/>
            <p:cNvSpPr/>
            <p:nvPr/>
          </p:nvSpPr>
          <p:spPr>
            <a:xfrm>
              <a:off x="1000080" y="644508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49520" y="6081480"/>
              <a:ext cx="609300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4200" y="602784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350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524400" y="5789520"/>
              <a:ext cx="111096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148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056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76320" y="909720"/>
              <a:ext cx="8991360" cy="3205080"/>
              <a:chOff x="76320" y="909720"/>
              <a:chExt cx="8991360" cy="320508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76320" y="1068480"/>
                <a:ext cx="8991360" cy="3046320"/>
                <a:chOff x="76320" y="1068480"/>
                <a:chExt cx="8991360" cy="30463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6320" y="1068480"/>
                  <a:ext cx="8991360" cy="30463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95240" y="2317680"/>
                  <a:ext cx="7291440" cy="133992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3" name=""/>
                <p:cNvGrpSpPr/>
                <p:nvPr/>
              </p:nvGrpSpPr>
              <p:grpSpPr>
                <a:xfrm>
                  <a:off x="2239920" y="1679400"/>
                  <a:ext cx="4146480" cy="298440"/>
                  <a:chOff x="2239920" y="1679400"/>
                  <a:chExt cx="4146480" cy="29844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2239920" y="1679400"/>
                    <a:ext cx="4146480" cy="29844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3293280" y="169236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962280" y="3490560"/>
                  <a:ext cx="6981480" cy="534600"/>
                  <a:chOff x="962280" y="3490560"/>
                  <a:chExt cx="6981480" cy="534600"/>
                </a:xfrm>
              </p:grpSpPr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2259360" y="3504600"/>
                    <a:ext cx="5684400" cy="520560"/>
                    <a:chOff x="2259360" y="3504600"/>
                    <a:chExt cx="5684400" cy="52056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4633560" y="3504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3557160" y="3504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2259360" y="3504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6781680" y="3504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5676480" y="3504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3" name=""/>
                  <p:cNvSpPr/>
                  <p:nvPr/>
                </p:nvSpPr>
                <p:spPr>
                  <a:xfrm>
                    <a:off x="962280" y="3490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6364440" y="1681200"/>
                  <a:ext cx="2652480" cy="298440"/>
                  <a:chOff x="6364440" y="1681200"/>
                  <a:chExt cx="2652480" cy="29844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6364440" y="168120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7431480" y="171792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7" name=""/>
                <p:cNvSpPr/>
                <p:nvPr/>
              </p:nvSpPr>
              <p:spPr>
                <a:xfrm>
                  <a:off x="8223120" y="176544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78" name=""/>
                <p:cNvCxnSpPr>
                  <a:stCxn id="575" idx="0"/>
                  <a:endCxn id="579" idx="0"/>
                </p:cNvCxnSpPr>
                <p:nvPr/>
              </p:nvCxnSpPr>
              <p:spPr>
                <a:xfrm rot="5400000">
                  <a:off x="4402440" y="-154548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580" name=""/>
                <p:cNvGrpSpPr/>
                <p:nvPr/>
              </p:nvGrpSpPr>
              <p:grpSpPr>
                <a:xfrm>
                  <a:off x="171360" y="1681200"/>
                  <a:ext cx="2124000" cy="296640"/>
                  <a:chOff x="171360" y="1681200"/>
                  <a:chExt cx="2124000" cy="29664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>
                    <a:off x="171360" y="1681200"/>
                    <a:ext cx="2124000" cy="29664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998280" y="171756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2" name=""/>
                <p:cNvSpPr/>
                <p:nvPr/>
              </p:nvSpPr>
              <p:spPr>
                <a:xfrm>
                  <a:off x="185760" y="205092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3" name=""/>
                <p:cNvGrpSpPr/>
                <p:nvPr/>
              </p:nvGrpSpPr>
              <p:grpSpPr>
                <a:xfrm>
                  <a:off x="6164280" y="2031840"/>
                  <a:ext cx="2871720" cy="933480"/>
                  <a:chOff x="6164280" y="2031840"/>
                  <a:chExt cx="2871720" cy="93348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6164280" y="203184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7421400" y="203184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249960" y="209556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535880" y="209556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7694640" y="213516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6348240" y="213516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2413080" y="2018880"/>
                  <a:ext cx="3600000" cy="407880"/>
                  <a:chOff x="2413080" y="2018880"/>
                  <a:chExt cx="3600000" cy="40788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V="1">
                    <a:off x="241308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V="1">
                    <a:off x="31334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V="1">
                    <a:off x="385596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V="1">
                    <a:off x="457668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>
                    <a:off x="52988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2565360" y="2171520"/>
                  <a:ext cx="3600000" cy="407880"/>
                  <a:chOff x="2565360" y="2171520"/>
                  <a:chExt cx="3600000" cy="40788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flipV="1">
                    <a:off x="256536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V="1">
                    <a:off x="32857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>
                    <a:off x="400824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V="1">
                    <a:off x="472896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>
                    <a:off x="54511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2717640" y="2323800"/>
                  <a:ext cx="3600720" cy="407880"/>
                  <a:chOff x="2717640" y="2323800"/>
                  <a:chExt cx="3600720" cy="40788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flipV="1">
                    <a:off x="271764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V="1">
                    <a:off x="34383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V="1">
                    <a:off x="416088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V="1">
                    <a:off x="488160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V="1">
                    <a:off x="56037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1565280" y="2060640"/>
                  <a:ext cx="950760" cy="671400"/>
                  <a:chOff x="1565280" y="2060640"/>
                  <a:chExt cx="950760" cy="67140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1565280" y="206064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1717560" y="221292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1870200" y="236520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279720" y="2674800"/>
                  <a:ext cx="6232320" cy="776520"/>
                  <a:chOff x="279720" y="2674800"/>
                  <a:chExt cx="6232320" cy="7765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279720" y="312408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3319560" y="2674800"/>
                    <a:ext cx="185760" cy="617400"/>
                    <a:chOff x="3319560" y="2674800"/>
                    <a:chExt cx="185760" cy="61740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331956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V="1">
                      <a:off x="341172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7" name=""/>
                  <p:cNvSpPr/>
                  <p:nvPr/>
                </p:nvSpPr>
                <p:spPr>
                  <a:xfrm>
                    <a:off x="1208160" y="295128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"/>
                  <p:cNvGrpSpPr/>
                  <p:nvPr/>
                </p:nvGrpSpPr>
                <p:grpSpPr>
                  <a:xfrm>
                    <a:off x="6219720" y="2849040"/>
                    <a:ext cx="185400" cy="474840"/>
                    <a:chOff x="6219720" y="2849040"/>
                    <a:chExt cx="185400" cy="474840"/>
                  </a:xfrm>
                </p:grpSpPr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6219720" y="30524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 flipV="1">
                      <a:off x="6311520" y="284904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4748040" y="2674800"/>
                    <a:ext cx="185760" cy="617400"/>
                    <a:chOff x="4748040" y="2674800"/>
                    <a:chExt cx="185760" cy="61740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474804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flipV="1">
                      <a:off x="484020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" name=""/>
                  <p:cNvGrpSpPr/>
                  <p:nvPr/>
                </p:nvGrpSpPr>
                <p:grpSpPr>
                  <a:xfrm>
                    <a:off x="5464080" y="2674800"/>
                    <a:ext cx="185760" cy="617400"/>
                    <a:chOff x="5464080" y="2674800"/>
                    <a:chExt cx="185760" cy="617400"/>
                  </a:xfrm>
                </p:grpSpPr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546408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 flipV="1">
                      <a:off x="555624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2422440" y="2706840"/>
                    <a:ext cx="185760" cy="585720"/>
                    <a:chOff x="2422440" y="2706840"/>
                    <a:chExt cx="185760" cy="585720"/>
                  </a:xfrm>
                </p:grpSpPr>
                <p:sp>
                  <p:nvSpPr>
                    <p:cNvPr id="628" name=""/>
                    <p:cNvSpPr/>
                    <p:nvPr/>
                  </p:nvSpPr>
                  <p:spPr>
                    <a:xfrm flipV="1">
                      <a:off x="25146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2422440" y="302112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0" name=""/>
                  <p:cNvGrpSpPr/>
                  <p:nvPr/>
                </p:nvGrpSpPr>
                <p:grpSpPr>
                  <a:xfrm>
                    <a:off x="4035600" y="2706840"/>
                    <a:ext cx="185400" cy="585720"/>
                    <a:chOff x="4035600" y="2706840"/>
                    <a:chExt cx="185400" cy="585720"/>
                  </a:xfrm>
                </p:grpSpPr>
                <p:sp>
                  <p:nvSpPr>
                    <p:cNvPr id="631" name=""/>
                    <p:cNvSpPr/>
                    <p:nvPr/>
                  </p:nvSpPr>
                  <p:spPr>
                    <a:xfrm flipV="1">
                      <a:off x="41274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4035600" y="302112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3597120" y="2731680"/>
                    <a:ext cx="141480" cy="473400"/>
                    <a:chOff x="3597120" y="2731680"/>
                    <a:chExt cx="141480" cy="47340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 flipV="1">
                      <a:off x="36687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35971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3784680" y="2731680"/>
                    <a:ext cx="141120" cy="473400"/>
                    <a:chOff x="3784680" y="2731680"/>
                    <a:chExt cx="141120" cy="4734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 flipV="1">
                      <a:off x="38559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378468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4284720" y="2731680"/>
                    <a:ext cx="141120" cy="473400"/>
                    <a:chOff x="4284720" y="2731680"/>
                    <a:chExt cx="141120" cy="47340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flipV="1">
                      <a:off x="435600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428472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4498920" y="2731680"/>
                    <a:ext cx="141480" cy="473400"/>
                    <a:chOff x="4498920" y="2731680"/>
                    <a:chExt cx="141480" cy="47340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 flipV="1">
                      <a:off x="45705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44989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3051000" y="2731680"/>
                    <a:ext cx="141480" cy="473400"/>
                    <a:chOff x="3051000" y="2731680"/>
                    <a:chExt cx="141480" cy="47340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 flipV="1">
                      <a:off x="312264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305100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5164200" y="2731680"/>
                    <a:ext cx="141120" cy="473400"/>
                    <a:chOff x="5164200" y="2731680"/>
                    <a:chExt cx="141120" cy="4734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flipV="1">
                      <a:off x="523548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516420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51" name=""/>
              <p:cNvSpPr/>
              <p:nvPr/>
            </p:nvSpPr>
            <p:spPr>
              <a:xfrm>
                <a:off x="1500120" y="90972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"/>
          <p:cNvSpPr/>
          <p:nvPr/>
        </p:nvSpPr>
        <p:spPr>
          <a:xfrm>
            <a:off x="264960" y="4309920"/>
            <a:ext cx="8680680" cy="1395720"/>
          </a:xfrm>
          <a:custGeom>
            <a:avLst/>
            <a:gdLst/>
            <a:ahLst/>
            <a:rect l="l" t="t" r="r" b="b"/>
            <a:pathLst>
              <a:path w="5468" h="1388">
                <a:moveTo>
                  <a:pt x="347" y="0"/>
                </a:moveTo>
                <a:lnTo>
                  <a:pt x="0" y="1388"/>
                </a:lnTo>
                <a:lnTo>
                  <a:pt x="5468" y="1388"/>
                </a:lnTo>
                <a:lnTo>
                  <a:pt x="5022" y="7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314080" y="4195800"/>
            <a:ext cx="2064960" cy="2437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Atividades Gen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60280" y="4202280"/>
            <a:ext cx="8612280" cy="1364760"/>
            <a:chOff x="260280" y="4202280"/>
            <a:chExt cx="8612280" cy="1364760"/>
          </a:xfrm>
        </p:grpSpPr>
        <p:sp>
          <p:nvSpPr>
            <p:cNvPr id="655" name=""/>
            <p:cNvSpPr/>
            <p:nvPr/>
          </p:nvSpPr>
          <p:spPr>
            <a:xfrm>
              <a:off x="4817880" y="4202280"/>
              <a:ext cx="1970280" cy="12697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260280" y="4412880"/>
              <a:ext cx="8612280" cy="1154160"/>
              <a:chOff x="260280" y="4412880"/>
              <a:chExt cx="8612280" cy="1154160"/>
            </a:xfrm>
          </p:grpSpPr>
          <p:sp>
            <p:nvSpPr>
              <p:cNvPr id="657" name=""/>
              <p:cNvSpPr/>
              <p:nvPr/>
            </p:nvSpPr>
            <p:spPr>
              <a:xfrm>
                <a:off x="5060880" y="4412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vali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789520" y="4934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rov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064280" y="4714200"/>
                <a:ext cx="1808280" cy="852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cumentar as decisões tomadas e registrar lições aprendid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60" name=""/>
              <p:cNvCxnSpPr>
                <a:stCxn id="658" idx="3"/>
                <a:endCxn id="659" idx="1"/>
              </p:cNvCxnSpPr>
              <p:nvPr/>
            </p:nvCxnSpPr>
            <p:spPr>
              <a:xfrm flipV="1">
                <a:off x="6640560" y="5149080"/>
                <a:ext cx="414720" cy="8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661" name=""/>
              <p:cNvGrpSpPr/>
              <p:nvPr/>
            </p:nvGrpSpPr>
            <p:grpSpPr>
              <a:xfrm>
                <a:off x="3527280" y="4926960"/>
                <a:ext cx="1203480" cy="639720"/>
                <a:chOff x="3527280" y="4926960"/>
                <a:chExt cx="1203480" cy="6397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3527280" y="4926960"/>
                  <a:ext cx="120348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46440" y="4939920"/>
                  <a:ext cx="17136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664" name=""/>
              <p:cNvCxnSpPr>
                <a:stCxn id="657" idx="2"/>
                <a:endCxn id="658" idx="1"/>
              </p:cNvCxnSpPr>
              <p:nvPr/>
            </p:nvCxnSpPr>
            <p:spPr>
              <a:xfrm flipH="1" rot="16200000">
                <a:off x="5484240" y="4862520"/>
                <a:ext cx="291240" cy="2991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65" name=""/>
              <p:cNvCxnSpPr>
                <a:stCxn id="662" idx="0"/>
                <a:endCxn id="657" idx="1"/>
              </p:cNvCxnSpPr>
              <p:nvPr/>
            </p:nvCxnSpPr>
            <p:spPr>
              <a:xfrm flipH="1" flipV="1" rot="5400000">
                <a:off x="4448520" y="4314600"/>
                <a:ext cx="283320" cy="92304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666" name=""/>
              <p:cNvGrpSpPr/>
              <p:nvPr/>
            </p:nvGrpSpPr>
            <p:grpSpPr>
              <a:xfrm>
                <a:off x="260280" y="4926960"/>
                <a:ext cx="1036440" cy="639720"/>
                <a:chOff x="260280" y="4926960"/>
                <a:chExt cx="1036440" cy="6397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260280" y="4926960"/>
                  <a:ext cx="103644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talhar Plano da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37960" y="4939920"/>
                  <a:ext cx="14724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1744560" y="4926960"/>
                <a:ext cx="1333440" cy="639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ividades Especificas da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0" name=""/>
              <p:cNvCxnSpPr>
                <a:stCxn id="667" idx="3"/>
                <a:endCxn id="669" idx="1"/>
              </p:cNvCxnSpPr>
              <p:nvPr/>
            </p:nvCxnSpPr>
            <p:spPr>
              <a:xfrm>
                <a:off x="1306440" y="5255280"/>
                <a:ext cx="4291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71" name=""/>
              <p:cNvCxnSpPr>
                <a:stCxn id="669" idx="3"/>
                <a:endCxn id="662" idx="1"/>
              </p:cNvCxnSpPr>
              <p:nvPr/>
            </p:nvCxnSpPr>
            <p:spPr>
              <a:xfrm>
                <a:off x="3087360" y="5255280"/>
                <a:ext cx="4309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72" name=""/>
            <p:cNvSpPr/>
            <p:nvPr/>
          </p:nvSpPr>
          <p:spPr>
            <a:xfrm>
              <a:off x="6068880" y="4265280"/>
              <a:ext cx="1104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visão de Fase “gate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64120" y="4544640"/>
              <a:ext cx="185760" cy="271440"/>
            </a:xfrm>
            <a:prstGeom prst="flowChartDecis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172680" y="3947040"/>
            <a:ext cx="2807640" cy="2010240"/>
            <a:chOff x="3172680" y="3947040"/>
            <a:chExt cx="2807640" cy="2010240"/>
          </a:xfrm>
        </p:grpSpPr>
        <p:grpSp>
          <p:nvGrpSpPr>
            <p:cNvPr id="675" name=""/>
            <p:cNvGrpSpPr/>
            <p:nvPr/>
          </p:nvGrpSpPr>
          <p:grpSpPr>
            <a:xfrm>
              <a:off x="3172680" y="4368600"/>
              <a:ext cx="1917360" cy="1588680"/>
              <a:chOff x="3172680" y="4368600"/>
              <a:chExt cx="1917360" cy="158868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3215880" y="4368600"/>
                <a:ext cx="1863360" cy="1562040"/>
                <a:chOff x="3215880" y="4368600"/>
                <a:chExt cx="1863360" cy="156204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3215880" y="4368600"/>
                  <a:ext cx="1863360" cy="1562040"/>
                  <a:chOff x="3215880" y="4368600"/>
                  <a:chExt cx="1863360" cy="156204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15622800">
                    <a:off x="3250080" y="4807080"/>
                    <a:ext cx="109836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15622800">
                    <a:off x="3768480" y="4455720"/>
                    <a:ext cx="121140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3249720" y="4444560"/>
                  <a:ext cx="1756080" cy="1418400"/>
                  <a:chOff x="3249720" y="4444560"/>
                  <a:chExt cx="1756080" cy="141840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15622800">
                    <a:off x="4623120" y="5254200"/>
                    <a:ext cx="3139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15622800">
                    <a:off x="4006080" y="4168800"/>
                    <a:ext cx="11268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rot="15622800">
                    <a:off x="3181680" y="498564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rot="15622800">
                    <a:off x="3948120" y="546372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5" name=""/>
              <p:cNvSpPr/>
              <p:nvPr/>
            </p:nvSpPr>
            <p:spPr>
              <a:xfrm rot="15622800">
                <a:off x="3559320" y="4321800"/>
                <a:ext cx="126396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3172680" y="4442760"/>
                <a:ext cx="1797120" cy="1514520"/>
                <a:chOff x="3172680" y="4442760"/>
                <a:chExt cx="1797120" cy="1514520"/>
              </a:xfrm>
            </p:grpSpPr>
            <p:sp>
              <p:nvSpPr>
                <p:cNvPr id="687" name=""/>
                <p:cNvSpPr/>
                <p:nvPr/>
              </p:nvSpPr>
              <p:spPr>
                <a:xfrm rot="15622800">
                  <a:off x="3456000" y="4415400"/>
                  <a:ext cx="123408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rot="15622800">
                  <a:off x="3439440" y="4395600"/>
                  <a:ext cx="126360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rot="15622800">
                  <a:off x="3475080" y="4438440"/>
                  <a:ext cx="119340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0" name=""/>
            <p:cNvGrpSpPr/>
            <p:nvPr/>
          </p:nvGrpSpPr>
          <p:grpSpPr>
            <a:xfrm>
              <a:off x="4690800" y="3947040"/>
              <a:ext cx="1289520" cy="863280"/>
              <a:chOff x="4690800" y="3947040"/>
              <a:chExt cx="1289520" cy="863280"/>
            </a:xfrm>
          </p:grpSpPr>
          <p:sp>
            <p:nvSpPr>
              <p:cNvPr id="691" name=""/>
              <p:cNvSpPr/>
              <p:nvPr/>
            </p:nvSpPr>
            <p:spPr>
              <a:xfrm rot="15622800">
                <a:off x="5013360" y="380340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5622800">
                <a:off x="4733640" y="457632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5622800">
                <a:off x="4758480" y="455472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5622800">
                <a:off x="4824720" y="457452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5622800">
                <a:off x="4732560" y="457776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622800">
                <a:off x="4883760" y="448164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7" name=""/>
              <p:cNvGrpSpPr/>
              <p:nvPr/>
            </p:nvGrpSpPr>
            <p:grpSpPr>
              <a:xfrm>
                <a:off x="4867560" y="4461480"/>
                <a:ext cx="289800" cy="242640"/>
                <a:chOff x="4867560" y="4461480"/>
                <a:chExt cx="289800" cy="242640"/>
              </a:xfrm>
            </p:grpSpPr>
            <p:grpSp>
              <p:nvGrpSpPr>
                <p:cNvPr id="698" name=""/>
                <p:cNvGrpSpPr/>
                <p:nvPr/>
              </p:nvGrpSpPr>
              <p:grpSpPr>
                <a:xfrm>
                  <a:off x="4867560" y="4475160"/>
                  <a:ext cx="266400" cy="228960"/>
                  <a:chOff x="4867560" y="4475160"/>
                  <a:chExt cx="266400" cy="22896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rot="15622800">
                    <a:off x="4905360" y="447156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rot="15622800">
                    <a:off x="4904640" y="447084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rot="15622800">
                    <a:off x="4905360" y="447048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" name=""/>
                <p:cNvSpPr/>
                <p:nvPr/>
              </p:nvSpPr>
              <p:spPr>
                <a:xfrm rot="15622800">
                  <a:off x="4929120" y="445680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4913640" y="4435200"/>
                <a:ext cx="290160" cy="242640"/>
                <a:chOff x="4913640" y="4435200"/>
                <a:chExt cx="290160" cy="242640"/>
              </a:xfrm>
            </p:grpSpPr>
            <p:grpSp>
              <p:nvGrpSpPr>
                <p:cNvPr id="704" name=""/>
                <p:cNvGrpSpPr/>
                <p:nvPr/>
              </p:nvGrpSpPr>
              <p:grpSpPr>
                <a:xfrm>
                  <a:off x="4913640" y="4448880"/>
                  <a:ext cx="266040" cy="228960"/>
                  <a:chOff x="4913640" y="4448880"/>
                  <a:chExt cx="266040" cy="22896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 rot="15622800">
                    <a:off x="4950720" y="444492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rot="15622800">
                    <a:off x="4950360" y="444456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rot="15622800">
                    <a:off x="4951080" y="444456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"/>
                <p:cNvSpPr/>
                <p:nvPr/>
              </p:nvSpPr>
              <p:spPr>
                <a:xfrm rot="15622800">
                  <a:off x="4975560" y="443016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56120" y="4420800"/>
                <a:ext cx="266760" cy="229680"/>
                <a:chOff x="4956120" y="4420800"/>
                <a:chExt cx="266760" cy="229680"/>
              </a:xfrm>
            </p:grpSpPr>
            <p:sp>
              <p:nvSpPr>
                <p:cNvPr id="710" name=""/>
                <p:cNvSpPr/>
                <p:nvPr/>
              </p:nvSpPr>
              <p:spPr>
                <a:xfrm rot="15622800">
                  <a:off x="4993920" y="441756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rot="15622800">
                  <a:off x="4992840" y="441648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4956120" y="4407120"/>
                <a:ext cx="290160" cy="242280"/>
                <a:chOff x="4956120" y="4407120"/>
                <a:chExt cx="290160" cy="242280"/>
              </a:xfrm>
            </p:grpSpPr>
            <p:sp>
              <p:nvSpPr>
                <p:cNvPr id="713" name=""/>
                <p:cNvSpPr/>
                <p:nvPr/>
              </p:nvSpPr>
              <p:spPr>
                <a:xfrm rot="15622800">
                  <a:off x="4993200" y="441648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rot="15622800">
                  <a:off x="5017320" y="440244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4768200" y="4007880"/>
                <a:ext cx="1119960" cy="770760"/>
                <a:chOff x="4768200" y="4007880"/>
                <a:chExt cx="1119960" cy="770760"/>
              </a:xfrm>
            </p:grpSpPr>
            <p:sp>
              <p:nvSpPr>
                <p:cNvPr id="716" name=""/>
                <p:cNvSpPr/>
                <p:nvPr/>
              </p:nvSpPr>
              <p:spPr>
                <a:xfrm flipV="1">
                  <a:off x="4768200" y="4007880"/>
                  <a:ext cx="961200" cy="60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4881240" y="4161240"/>
                  <a:ext cx="1006920" cy="61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4998600" y="4382280"/>
                <a:ext cx="285480" cy="240840"/>
                <a:chOff x="4998600" y="4382280"/>
                <a:chExt cx="285480" cy="240840"/>
              </a:xfrm>
            </p:grpSpPr>
            <p:grpSp>
              <p:nvGrpSpPr>
                <p:cNvPr id="719" name=""/>
                <p:cNvGrpSpPr/>
                <p:nvPr/>
              </p:nvGrpSpPr>
              <p:grpSpPr>
                <a:xfrm>
                  <a:off x="4998600" y="4394160"/>
                  <a:ext cx="266040" cy="228960"/>
                  <a:chOff x="4998600" y="4394160"/>
                  <a:chExt cx="266040" cy="228960"/>
                </a:xfrm>
              </p:grpSpPr>
              <p:sp>
                <p:nvSpPr>
                  <p:cNvPr id="720" name=""/>
                  <p:cNvSpPr/>
                  <p:nvPr/>
                </p:nvSpPr>
                <p:spPr>
                  <a:xfrm rot="15622800">
                    <a:off x="5036400" y="439056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rot="15622800">
                    <a:off x="5035320" y="438984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2" name=""/>
                <p:cNvSpPr/>
                <p:nvPr/>
              </p:nvSpPr>
              <p:spPr>
                <a:xfrm rot="15622800">
                  <a:off x="5035680" y="438948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rot="15622800">
                  <a:off x="5055840" y="437760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 rot="15622800">
                <a:off x="5263200" y="391824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5622800">
                <a:off x="5727240" y="393876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786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Monitorar viabilidade econômico-financeira - Objetiv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2320" y="1073160"/>
            <a:ext cx="90313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arantir que as premissas e os indicadores iniciais (econômico-financeiros resultantes da atualização do plano da fase) sejam manti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iar a rentabilidade do projeto para a empresa e verificar se é realmente um investimento atrativ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 suporta a decisão de que realmente se trata de um investimento a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786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Monitorar viabilidade econômico-financeira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16080" y="1002600"/>
            <a:ext cx="8420040" cy="5729040"/>
            <a:chOff x="316080" y="1002600"/>
            <a:chExt cx="8420040" cy="5729040"/>
          </a:xfrm>
        </p:grpSpPr>
        <p:sp>
          <p:nvSpPr>
            <p:cNvPr id="730" name=""/>
            <p:cNvSpPr/>
            <p:nvPr/>
          </p:nvSpPr>
          <p:spPr>
            <a:xfrm>
              <a:off x="1577880" y="1002600"/>
              <a:ext cx="6929640" cy="48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mudanças nas condições do mercado, características técnicas do produto, indicadores de desempenho do projeto (prazos e cust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54840" y="1904040"/>
              <a:ext cx="2327040" cy="48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impacto dessas mudanças n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843200" y="1904040"/>
              <a:ext cx="2396880" cy="48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premissas financeiras d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16080" y="3092400"/>
              <a:ext cx="1901520" cy="7304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o custo-alvo nos diversos níveis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02080" y="3092400"/>
              <a:ext cx="2098800" cy="7304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necessidades de investi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57600" y="3336120"/>
              <a:ext cx="1979640" cy="48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receitas futur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20200" y="4532400"/>
              <a:ext cx="285588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cular o novo fluxo de caix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99640" y="5484960"/>
              <a:ext cx="389520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cular os novos indicadores financei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46040" y="6244560"/>
              <a:ext cx="2498760" cy="48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as novas premissas e indic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813280" y="6244560"/>
              <a:ext cx="2776680" cy="48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possíveis desvios e impactos n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0" idx="3"/>
              <a:endCxn id="731" idx="3"/>
            </p:cNvCxnSpPr>
            <p:nvPr/>
          </p:nvCxnSpPr>
          <p:spPr>
            <a:xfrm flipH="1">
              <a:off x="8395920" y="1245600"/>
              <a:ext cx="126000" cy="902520"/>
            </a:xfrm>
            <a:prstGeom prst="bentConnector3">
              <a:avLst>
                <a:gd name="adj1" fmla="val -170773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1" name=""/>
            <p:cNvCxnSpPr>
              <a:stCxn id="731" idx="1"/>
              <a:endCxn id="732" idx="3"/>
            </p:cNvCxnSpPr>
            <p:nvPr/>
          </p:nvCxnSpPr>
          <p:spPr>
            <a:xfrm flipH="1">
              <a:off x="4253760" y="2147400"/>
              <a:ext cx="1786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2" name=""/>
            <p:cNvCxnSpPr>
              <a:stCxn id="730" idx="1"/>
              <a:endCxn id="732" idx="1"/>
            </p:cNvCxnSpPr>
            <p:nvPr/>
          </p:nvCxnSpPr>
          <p:spPr>
            <a:xfrm flipH="1" flipV="1" rot="10800000">
              <a:off x="1563480" y="1244880"/>
              <a:ext cx="265680" cy="902520"/>
            </a:xfrm>
            <a:prstGeom prst="bentConnector3">
              <a:avLst>
                <a:gd name="adj1" fmla="val -8073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3" name=""/>
            <p:cNvCxnSpPr>
              <a:stCxn id="732" idx="2"/>
              <a:endCxn id="733" idx="0"/>
            </p:cNvCxnSpPr>
            <p:nvPr/>
          </p:nvCxnSpPr>
          <p:spPr>
            <a:xfrm flipH="1">
              <a:off x="1266480" y="2420640"/>
              <a:ext cx="1775520" cy="64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4" name=""/>
            <p:cNvCxnSpPr>
              <a:stCxn id="732" idx="2"/>
              <a:endCxn id="735" idx="0"/>
            </p:cNvCxnSpPr>
            <p:nvPr/>
          </p:nvCxnSpPr>
          <p:spPr>
            <a:xfrm>
              <a:off x="3041640" y="2421000"/>
              <a:ext cx="707040" cy="886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5" name=""/>
            <p:cNvCxnSpPr>
              <a:stCxn id="732" idx="2"/>
              <a:endCxn id="734" idx="0"/>
            </p:cNvCxnSpPr>
            <p:nvPr/>
          </p:nvCxnSpPr>
          <p:spPr>
            <a:xfrm>
              <a:off x="3041640" y="2420640"/>
              <a:ext cx="3310560" cy="64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6" name=""/>
            <p:cNvCxnSpPr>
              <a:stCxn id="734" idx="2"/>
              <a:endCxn id="736" idx="3"/>
            </p:cNvCxnSpPr>
            <p:nvPr/>
          </p:nvCxnSpPr>
          <p:spPr>
            <a:xfrm rot="5400000">
              <a:off x="5375520" y="3678840"/>
              <a:ext cx="802440" cy="114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3" idx="2"/>
              <a:endCxn id="736" idx="1"/>
            </p:cNvCxnSpPr>
            <p:nvPr/>
          </p:nvCxnSpPr>
          <p:spPr>
            <a:xfrm flipH="1" rot="16200000">
              <a:off x="1378440" y="3739680"/>
              <a:ext cx="802440" cy="102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8" name=""/>
            <p:cNvCxnSpPr>
              <a:stCxn id="735" idx="2"/>
              <a:endCxn id="736" idx="0"/>
            </p:cNvCxnSpPr>
            <p:nvPr/>
          </p:nvCxnSpPr>
          <p:spPr>
            <a:xfrm>
              <a:off x="3747600" y="3852720"/>
              <a:ext cx="1080" cy="65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9" name=""/>
            <p:cNvCxnSpPr>
              <a:stCxn id="736" idx="2"/>
              <a:endCxn id="737" idx="0"/>
            </p:cNvCxnSpPr>
            <p:nvPr/>
          </p:nvCxnSpPr>
          <p:spPr>
            <a:xfrm>
              <a:off x="3747600" y="4805280"/>
              <a:ext cx="1080" cy="65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0" name=""/>
            <p:cNvCxnSpPr>
              <a:stCxn id="737" idx="1"/>
              <a:endCxn id="738" idx="1"/>
            </p:cNvCxnSpPr>
            <p:nvPr/>
          </p:nvCxnSpPr>
          <p:spPr>
            <a:xfrm flipV="1" rot="10800000">
              <a:off x="1331280" y="5605920"/>
              <a:ext cx="443520" cy="881640"/>
            </a:xfrm>
            <a:prstGeom prst="bentConnector3">
              <a:avLst>
                <a:gd name="adj1" fmla="val 14833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1" name=""/>
            <p:cNvCxnSpPr>
              <a:stCxn id="738" idx="3"/>
              <a:endCxn id="739" idx="1"/>
            </p:cNvCxnSpPr>
            <p:nvPr/>
          </p:nvCxnSpPr>
          <p:spPr>
            <a:xfrm>
              <a:off x="3858840" y="6487560"/>
              <a:ext cx="19407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413160" y="1293840"/>
            <a:ext cx="5730840" cy="5411880"/>
          </a:xfrm>
          <a:prstGeom prst="rect">
            <a:avLst/>
          </a:prstGeom>
          <a:noFill/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Visão geral da análise da viabilidade econômico-financeira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7200" y="2272680"/>
            <a:ext cx="1733400" cy="61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Resultados do Produ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27200" y="1441080"/>
            <a:ext cx="1733400" cy="35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Investi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110120" y="1806120"/>
            <a:ext cx="1898640" cy="61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Flux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de C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460240" y="1645920"/>
            <a:ext cx="1649520" cy="923760"/>
            <a:chOff x="2460240" y="1645920"/>
            <a:chExt cx="1649520" cy="923760"/>
          </a:xfrm>
        </p:grpSpPr>
        <p:cxnSp>
          <p:nvCxnSpPr>
            <p:cNvPr id="758" name=""/>
            <p:cNvCxnSpPr>
              <a:stCxn id="754" idx="3"/>
              <a:endCxn id="756" idx="1"/>
            </p:cNvCxnSpPr>
            <p:nvPr/>
          </p:nvCxnSpPr>
          <p:spPr>
            <a:xfrm>
              <a:off x="2460240" y="1645920"/>
              <a:ext cx="1649880" cy="469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59" name=""/>
            <p:cNvCxnSpPr>
              <a:stCxn id="755" idx="3"/>
              <a:endCxn id="756" idx="1"/>
            </p:cNvCxnSpPr>
            <p:nvPr/>
          </p:nvCxnSpPr>
          <p:spPr>
            <a:xfrm flipV="1">
              <a:off x="2460240" y="2113920"/>
              <a:ext cx="1649880" cy="4561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760" name=""/>
          <p:cNvSpPr/>
          <p:nvPr/>
        </p:nvSpPr>
        <p:spPr>
          <a:xfrm>
            <a:off x="7164360" y="1793520"/>
            <a:ext cx="1897200" cy="61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Fluxo de C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Descont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008760" y="1847880"/>
            <a:ext cx="1153800" cy="533520"/>
            <a:chOff x="6008760" y="1847880"/>
            <a:chExt cx="1153800" cy="533520"/>
          </a:xfrm>
        </p:grpSpPr>
        <p:sp>
          <p:nvSpPr>
            <p:cNvPr id="762" name=""/>
            <p:cNvSpPr/>
            <p:nvPr/>
          </p:nvSpPr>
          <p:spPr>
            <a:xfrm>
              <a:off x="6009480" y="1847880"/>
              <a:ext cx="11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008760" y="2093760"/>
              <a:ext cx="11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09480" y="2381400"/>
              <a:ext cx="11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4192560" y="4648320"/>
            <a:ext cx="3879720" cy="2033640"/>
            <a:chOff x="4192560" y="4648320"/>
            <a:chExt cx="3879720" cy="2033640"/>
          </a:xfrm>
        </p:grpSpPr>
        <p:sp>
          <p:nvSpPr>
            <p:cNvPr id="766" name=""/>
            <p:cNvSpPr/>
            <p:nvPr/>
          </p:nvSpPr>
          <p:spPr>
            <a:xfrm>
              <a:off x="5288760" y="5962680"/>
              <a:ext cx="2048040" cy="71928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8960" bIns="48960" anchor="ctr">
              <a:spAutoFit/>
            </a:bodyPr>
            <a:p>
              <a:pPr algn="ctr"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1" lang="en-US" sz="2900" spc="-1" strike="noStrike">
                  <a:solidFill>
                    <a:srgbClr val="000066"/>
                  </a:solidFill>
                  <a:latin typeface="Arial"/>
                </a:rPr>
                <a:t>DECISÃ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192560" y="4648320"/>
              <a:ext cx="1649520" cy="13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73640" y="4648320"/>
              <a:ext cx="0" cy="13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645240" y="4648320"/>
              <a:ext cx="1427040" cy="12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 rot="5400000">
            <a:off x="5545800" y="1603800"/>
            <a:ext cx="2145960" cy="740160"/>
          </a:xfrm>
          <a:prstGeom prst="rightArrow">
            <a:avLst>
              <a:gd name="adj1" fmla="val 50000"/>
              <a:gd name="adj2" fmla="val 7248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usto de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724280" y="5126040"/>
            <a:ext cx="3200400" cy="646200"/>
          </a:xfrm>
          <a:prstGeom prst="rightArrow">
            <a:avLst>
              <a:gd name="adj1" fmla="val 62657"/>
              <a:gd name="adj2" fmla="val 11645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ipót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784680"/>
            <a:ext cx="1676520" cy="107748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45880 h 1077480"/>
              <a:gd name="textAreaBottom" fmla="*/ 831600 h 107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581280" y="3412800"/>
            <a:ext cx="1567080" cy="1973880"/>
          </a:xfrm>
          <a:custGeom>
            <a:avLst/>
            <a:gdLst>
              <a:gd name="textAreaLeft" fmla="*/ 357480 w 1567080"/>
              <a:gd name="textAreaRight" fmla="*/ 1209600 w 1567080"/>
              <a:gd name="textAreaTop" fmla="*/ 450360 h 1973880"/>
              <a:gd name="textAreaBottom" fmla="*/ 1523520 h 197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Pb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487840" y="3377880"/>
            <a:ext cx="1670040" cy="1973880"/>
          </a:xfrm>
          <a:custGeom>
            <a:avLst/>
            <a:gdLst>
              <a:gd name="textAreaLeft" fmla="*/ 381240 w 1670040"/>
              <a:gd name="textAreaRight" fmla="*/ 1288800 w 1670040"/>
              <a:gd name="textAreaTop" fmla="*/ 450360 h 1973880"/>
              <a:gd name="textAreaBottom" fmla="*/ 1523520 h 197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V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72880" y="1103400"/>
            <a:ext cx="3135600" cy="990360"/>
          </a:xfrm>
          <a:prstGeom prst="rect">
            <a:avLst/>
          </a:prstGeom>
          <a:noFill/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72880" y="2093760"/>
            <a:ext cx="3135600" cy="990720"/>
          </a:xfrm>
          <a:prstGeom prst="rect">
            <a:avLst/>
          </a:prstGeom>
          <a:noFill/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1768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80360" y="5513040"/>
            <a:ext cx="2972520" cy="120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bk: pay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PL: valor presente líq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R: taxa interna de re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"/>
          <p:cNvCxnSpPr>
            <a:stCxn id="752" idx="0"/>
            <a:endCxn id="752" idx="0"/>
          </p:cNvCxnSpPr>
          <p:nvPr/>
        </p:nvCxnSpPr>
        <p:spPr>
          <a:xfrm flipH="1" rot="16200000">
            <a:off x="6278400" y="1293480"/>
            <a:ext cx="2160" cy="2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0">
            <a:noFill/>
          </a:ln>
        </p:spPr>
      </p:cxnSp>
      <p:cxnSp>
        <p:nvCxnSpPr>
          <p:cNvPr id="780" name=""/>
          <p:cNvCxnSpPr>
            <a:stCxn id="756" idx="2"/>
            <a:endCxn id="773" idx="0"/>
          </p:cNvCxnSpPr>
          <p:nvPr/>
        </p:nvCxnSpPr>
        <p:spPr>
          <a:xfrm rot="5400000">
            <a:off x="3982320" y="2809440"/>
            <a:ext cx="1459800" cy="694440"/>
          </a:xfrm>
          <a:prstGeom prst="curvedConnector5">
            <a:avLst>
              <a:gd name="adj1" fmla="val 49925"/>
              <a:gd name="adj2" fmla="val 50000"/>
              <a:gd name="adj3" fmla="val 499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1" name=""/>
          <p:cNvCxnSpPr>
            <a:stCxn id="760" idx="2"/>
            <a:endCxn id="774" idx="0"/>
          </p:cNvCxnSpPr>
          <p:nvPr/>
        </p:nvCxnSpPr>
        <p:spPr>
          <a:xfrm rot="5400000">
            <a:off x="6499440" y="2237400"/>
            <a:ext cx="1437480" cy="1791360"/>
          </a:xfrm>
          <a:prstGeom prst="curvedConnector5">
            <a:avLst>
              <a:gd name="adj1" fmla="val 49924"/>
              <a:gd name="adj2" fmla="val 49989"/>
              <a:gd name="adj3" fmla="val 4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2" name=""/>
          <p:cNvCxnSpPr>
            <a:stCxn id="760" idx="2"/>
          </p:cNvCxnSpPr>
          <p:nvPr/>
        </p:nvCxnSpPr>
        <p:spPr>
          <a:xfrm flipH="1" rot="16200000">
            <a:off x="7483680" y="3043080"/>
            <a:ext cx="1424880" cy="167040"/>
          </a:xfrm>
          <a:prstGeom prst="curvedConnector5">
            <a:avLst>
              <a:gd name="adj1" fmla="val 49936"/>
              <a:gd name="adj2" fmla="val 49892"/>
              <a:gd name="adj3" fmla="val 4993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Formação do Fluxo de Caix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1298520"/>
            <a:ext cx="3124080" cy="43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520" rIns="65520" tIns="34200" bIns="34200" anchor="ctr">
            <a:spAutoFit/>
          </a:bodyPr>
          <a:p>
            <a:pPr algn="ct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1298520"/>
            <a:ext cx="3124440" cy="43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520" rIns="65520" tIns="34200" bIns="34200" anchor="ctr">
            <a:spAutoFit/>
          </a:bodyPr>
          <a:p>
            <a:pPr algn="ct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dos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57200" y="1514880"/>
            <a:ext cx="8458200" cy="4825440"/>
            <a:chOff x="457200" y="1514880"/>
            <a:chExt cx="8458200" cy="4825440"/>
          </a:xfrm>
        </p:grpSpPr>
        <p:pic>
          <p:nvPicPr>
            <p:cNvPr id="787" name="" descr=""/>
            <p:cNvPicPr/>
            <p:nvPr/>
          </p:nvPicPr>
          <p:blipFill>
            <a:blip r:embed="rId1"/>
            <a:stretch/>
          </p:blipFill>
          <p:spPr>
            <a:xfrm>
              <a:off x="457200" y="2666880"/>
              <a:ext cx="8458200" cy="36734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88" name=""/>
            <p:cNvCxnSpPr>
              <a:stCxn id="784" idx="3"/>
              <a:endCxn id="787" idx="0"/>
            </p:cNvCxnSpPr>
            <p:nvPr/>
          </p:nvCxnSpPr>
          <p:spPr>
            <a:xfrm>
              <a:off x="3657600" y="1515600"/>
              <a:ext cx="1029600" cy="1151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5" idx="1"/>
              <a:endCxn id="787" idx="0"/>
            </p:cNvCxnSpPr>
            <p:nvPr/>
          </p:nvCxnSpPr>
          <p:spPr>
            <a:xfrm flipV="1" rot="10800000">
              <a:off x="4685760" y="1514880"/>
              <a:ext cx="952920" cy="1151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pull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413160" y="1293840"/>
            <a:ext cx="5730840" cy="5411880"/>
          </a:xfrm>
          <a:prstGeom prst="rect">
            <a:avLst/>
          </a:prstGeom>
          <a:noFill/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Visão geral da análise da viabilidade econômico-financeira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27200" y="2272680"/>
            <a:ext cx="1733400" cy="61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Resultados do Produ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27200" y="1441080"/>
            <a:ext cx="1733400" cy="35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Investi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110120" y="1806120"/>
            <a:ext cx="1898640" cy="61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Flux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de C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2460240" y="1645920"/>
            <a:ext cx="1649520" cy="923760"/>
            <a:chOff x="2460240" y="1645920"/>
            <a:chExt cx="1649520" cy="923760"/>
          </a:xfrm>
        </p:grpSpPr>
        <p:cxnSp>
          <p:nvCxnSpPr>
            <p:cNvPr id="796" name=""/>
            <p:cNvCxnSpPr>
              <a:stCxn id="792" idx="3"/>
              <a:endCxn id="794" idx="1"/>
            </p:cNvCxnSpPr>
            <p:nvPr/>
          </p:nvCxnSpPr>
          <p:spPr>
            <a:xfrm>
              <a:off x="2460240" y="1645920"/>
              <a:ext cx="1649880" cy="469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797" name=""/>
            <p:cNvCxnSpPr>
              <a:stCxn id="793" idx="3"/>
              <a:endCxn id="794" idx="1"/>
            </p:cNvCxnSpPr>
            <p:nvPr/>
          </p:nvCxnSpPr>
          <p:spPr>
            <a:xfrm flipV="1">
              <a:off x="2460240" y="2113920"/>
              <a:ext cx="1649880" cy="4561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798" name=""/>
          <p:cNvSpPr/>
          <p:nvPr/>
        </p:nvSpPr>
        <p:spPr>
          <a:xfrm>
            <a:off x="7164360" y="1793520"/>
            <a:ext cx="1897200" cy="61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Fluxo de C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Descont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6008760" y="1847880"/>
            <a:ext cx="1153800" cy="533520"/>
            <a:chOff x="6008760" y="1847880"/>
            <a:chExt cx="1153800" cy="533520"/>
          </a:xfrm>
        </p:grpSpPr>
        <p:sp>
          <p:nvSpPr>
            <p:cNvPr id="800" name=""/>
            <p:cNvSpPr/>
            <p:nvPr/>
          </p:nvSpPr>
          <p:spPr>
            <a:xfrm>
              <a:off x="6009480" y="1847880"/>
              <a:ext cx="11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08760" y="2093760"/>
              <a:ext cx="11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09480" y="2381400"/>
              <a:ext cx="11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4192560" y="4648320"/>
            <a:ext cx="3879720" cy="2033640"/>
            <a:chOff x="4192560" y="4648320"/>
            <a:chExt cx="3879720" cy="2033640"/>
          </a:xfrm>
        </p:grpSpPr>
        <p:sp>
          <p:nvSpPr>
            <p:cNvPr id="804" name=""/>
            <p:cNvSpPr/>
            <p:nvPr/>
          </p:nvSpPr>
          <p:spPr>
            <a:xfrm>
              <a:off x="5288760" y="5962680"/>
              <a:ext cx="2048040" cy="71928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8960" bIns="48960" anchor="ctr">
              <a:spAutoFit/>
            </a:bodyPr>
            <a:p>
              <a:pPr algn="ctr"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1" lang="en-US" sz="2900" spc="-1" strike="noStrike">
                  <a:solidFill>
                    <a:srgbClr val="000066"/>
                  </a:solidFill>
                  <a:latin typeface="Arial"/>
                </a:rPr>
                <a:t>DECISÃ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92560" y="4648320"/>
              <a:ext cx="1649520" cy="13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73640" y="4648320"/>
              <a:ext cx="0" cy="13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6645240" y="4648320"/>
              <a:ext cx="1427040" cy="12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"/>
          <p:cNvSpPr/>
          <p:nvPr/>
        </p:nvSpPr>
        <p:spPr>
          <a:xfrm rot="5400000">
            <a:off x="5545800" y="1603800"/>
            <a:ext cx="2145960" cy="740160"/>
          </a:xfrm>
          <a:prstGeom prst="rightArrow">
            <a:avLst>
              <a:gd name="adj1" fmla="val 50000"/>
              <a:gd name="adj2" fmla="val 7248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usto de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724280" y="5126040"/>
            <a:ext cx="3200400" cy="646200"/>
          </a:xfrm>
          <a:prstGeom prst="rightArrow">
            <a:avLst>
              <a:gd name="adj1" fmla="val 62657"/>
              <a:gd name="adj2" fmla="val 11645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ipót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238880" y="3784680"/>
            <a:ext cx="1676520" cy="107748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45880 h 1077480"/>
              <a:gd name="textAreaBottom" fmla="*/ 831600 h 107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3412800"/>
            <a:ext cx="1567080" cy="1973880"/>
          </a:xfrm>
          <a:custGeom>
            <a:avLst/>
            <a:gdLst>
              <a:gd name="textAreaLeft" fmla="*/ 357480 w 1567080"/>
              <a:gd name="textAreaRight" fmla="*/ 1209600 w 1567080"/>
              <a:gd name="textAreaTop" fmla="*/ 450360 h 1973880"/>
              <a:gd name="textAreaBottom" fmla="*/ 1523520 h 197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Pb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487840" y="3377880"/>
            <a:ext cx="1670040" cy="1973880"/>
          </a:xfrm>
          <a:custGeom>
            <a:avLst/>
            <a:gdLst>
              <a:gd name="textAreaLeft" fmla="*/ 381240 w 1670040"/>
              <a:gd name="textAreaRight" fmla="*/ 1288800 w 1670040"/>
              <a:gd name="textAreaTop" fmla="*/ 450360 h 1973880"/>
              <a:gd name="textAreaBottom" fmla="*/ 1523520 h 197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V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1103400"/>
            <a:ext cx="3135600" cy="990360"/>
          </a:xfrm>
          <a:prstGeom prst="rect">
            <a:avLst/>
          </a:prstGeom>
          <a:noFill/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2880" y="2093760"/>
            <a:ext cx="3135600" cy="990720"/>
          </a:xfrm>
          <a:prstGeom prst="rect">
            <a:avLst/>
          </a:prstGeom>
          <a:noFill/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768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80360" y="5513040"/>
            <a:ext cx="2972520" cy="120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bk: pay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PL: valor presente líq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R: taxa interna de re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"/>
          <p:cNvCxnSpPr>
            <a:stCxn id="790" idx="0"/>
            <a:endCxn id="790" idx="0"/>
          </p:cNvCxnSpPr>
          <p:nvPr/>
        </p:nvCxnSpPr>
        <p:spPr>
          <a:xfrm flipH="1" rot="16200000">
            <a:off x="6278400" y="1293480"/>
            <a:ext cx="2160" cy="2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0">
            <a:noFill/>
          </a:ln>
        </p:spPr>
      </p:cxnSp>
      <p:cxnSp>
        <p:nvCxnSpPr>
          <p:cNvPr id="818" name=""/>
          <p:cNvCxnSpPr>
            <a:stCxn id="794" idx="2"/>
            <a:endCxn id="811" idx="0"/>
          </p:cNvCxnSpPr>
          <p:nvPr/>
        </p:nvCxnSpPr>
        <p:spPr>
          <a:xfrm rot="5400000">
            <a:off x="3982320" y="2809440"/>
            <a:ext cx="1459800" cy="694440"/>
          </a:xfrm>
          <a:prstGeom prst="curvedConnector5">
            <a:avLst>
              <a:gd name="adj1" fmla="val 49925"/>
              <a:gd name="adj2" fmla="val 50000"/>
              <a:gd name="adj3" fmla="val 499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9" name=""/>
          <p:cNvCxnSpPr>
            <a:stCxn id="798" idx="2"/>
            <a:endCxn id="812" idx="0"/>
          </p:cNvCxnSpPr>
          <p:nvPr/>
        </p:nvCxnSpPr>
        <p:spPr>
          <a:xfrm rot="5400000">
            <a:off x="6499440" y="2237400"/>
            <a:ext cx="1437480" cy="1791360"/>
          </a:xfrm>
          <a:prstGeom prst="curvedConnector5">
            <a:avLst>
              <a:gd name="adj1" fmla="val 49924"/>
              <a:gd name="adj2" fmla="val 49989"/>
              <a:gd name="adj3" fmla="val 4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0" name=""/>
          <p:cNvCxnSpPr>
            <a:stCxn id="798" idx="2"/>
          </p:cNvCxnSpPr>
          <p:nvPr/>
        </p:nvCxnSpPr>
        <p:spPr>
          <a:xfrm flipH="1" rot="16200000">
            <a:off x="7483680" y="3043080"/>
            <a:ext cx="1424880" cy="167040"/>
          </a:xfrm>
          <a:prstGeom prst="curvedConnector5">
            <a:avLst>
              <a:gd name="adj1" fmla="val 49936"/>
              <a:gd name="adj2" fmla="val 49892"/>
              <a:gd name="adj3" fmla="val 4993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ayback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91920" y="5486400"/>
            <a:ext cx="8088840" cy="429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íodo de retorno do investimento: aproximadamente 5,5 a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359892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4419720" y="2362320"/>
            <a:ext cx="457200" cy="121896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413160" y="1293840"/>
            <a:ext cx="5730840" cy="5411880"/>
          </a:xfrm>
          <a:prstGeom prst="rect">
            <a:avLst/>
          </a:prstGeom>
          <a:noFill/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Visão geral da análise da viabilidade econômico-financeira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27200" y="2272680"/>
            <a:ext cx="1733400" cy="61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Resultados do Produ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27200" y="1441080"/>
            <a:ext cx="1733400" cy="35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Investi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110120" y="1806120"/>
            <a:ext cx="1898640" cy="61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Flux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de C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2460240" y="1645920"/>
            <a:ext cx="1649520" cy="923760"/>
            <a:chOff x="2460240" y="1645920"/>
            <a:chExt cx="1649520" cy="923760"/>
          </a:xfrm>
        </p:grpSpPr>
        <p:cxnSp>
          <p:nvCxnSpPr>
            <p:cNvPr id="831" name=""/>
            <p:cNvCxnSpPr>
              <a:stCxn id="827" idx="3"/>
              <a:endCxn id="829" idx="1"/>
            </p:cNvCxnSpPr>
            <p:nvPr/>
          </p:nvCxnSpPr>
          <p:spPr>
            <a:xfrm>
              <a:off x="2460240" y="1645920"/>
              <a:ext cx="1649880" cy="469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32" name=""/>
            <p:cNvCxnSpPr>
              <a:stCxn id="828" idx="3"/>
              <a:endCxn id="829" idx="1"/>
            </p:cNvCxnSpPr>
            <p:nvPr/>
          </p:nvCxnSpPr>
          <p:spPr>
            <a:xfrm flipV="1">
              <a:off x="2460240" y="2113920"/>
              <a:ext cx="1649880" cy="4561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833" name=""/>
          <p:cNvSpPr/>
          <p:nvPr/>
        </p:nvSpPr>
        <p:spPr>
          <a:xfrm>
            <a:off x="7164360" y="1793520"/>
            <a:ext cx="1897200" cy="61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Fluxo de C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Descont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008760" y="1847880"/>
            <a:ext cx="1153800" cy="533520"/>
            <a:chOff x="6008760" y="1847880"/>
            <a:chExt cx="1153800" cy="533520"/>
          </a:xfrm>
        </p:grpSpPr>
        <p:sp>
          <p:nvSpPr>
            <p:cNvPr id="835" name=""/>
            <p:cNvSpPr/>
            <p:nvPr/>
          </p:nvSpPr>
          <p:spPr>
            <a:xfrm>
              <a:off x="6009480" y="1847880"/>
              <a:ext cx="11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08760" y="2093760"/>
              <a:ext cx="11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09480" y="2381400"/>
              <a:ext cx="11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4192560" y="4648320"/>
            <a:ext cx="3879720" cy="2033640"/>
            <a:chOff x="4192560" y="4648320"/>
            <a:chExt cx="3879720" cy="2033640"/>
          </a:xfrm>
        </p:grpSpPr>
        <p:sp>
          <p:nvSpPr>
            <p:cNvPr id="839" name=""/>
            <p:cNvSpPr/>
            <p:nvPr/>
          </p:nvSpPr>
          <p:spPr>
            <a:xfrm>
              <a:off x="5288760" y="5962680"/>
              <a:ext cx="2048040" cy="71928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8960" bIns="48960" anchor="ctr">
              <a:spAutoFit/>
            </a:bodyPr>
            <a:p>
              <a:pPr algn="ctr"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1" lang="en-US" sz="2900" spc="-1" strike="noStrike">
                  <a:solidFill>
                    <a:srgbClr val="000066"/>
                  </a:solidFill>
                  <a:latin typeface="Arial"/>
                </a:rPr>
                <a:t>DECISÃ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192560" y="4648320"/>
              <a:ext cx="1649520" cy="13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173640" y="4648320"/>
              <a:ext cx="0" cy="13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645240" y="4648320"/>
              <a:ext cx="1427040" cy="12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"/>
          <p:cNvSpPr/>
          <p:nvPr/>
        </p:nvSpPr>
        <p:spPr>
          <a:xfrm rot="5400000">
            <a:off x="5545800" y="1603800"/>
            <a:ext cx="2145960" cy="740160"/>
          </a:xfrm>
          <a:prstGeom prst="rightArrow">
            <a:avLst>
              <a:gd name="adj1" fmla="val 50000"/>
              <a:gd name="adj2" fmla="val 7248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usto de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724280" y="5126040"/>
            <a:ext cx="3200400" cy="646200"/>
          </a:xfrm>
          <a:prstGeom prst="rightArrow">
            <a:avLst>
              <a:gd name="adj1" fmla="val 62657"/>
              <a:gd name="adj2" fmla="val 11645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ipót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238880" y="3784680"/>
            <a:ext cx="1676520" cy="107748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45880 h 1077480"/>
              <a:gd name="textAreaBottom" fmla="*/ 831600 h 107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581280" y="3412800"/>
            <a:ext cx="1567080" cy="1973880"/>
          </a:xfrm>
          <a:custGeom>
            <a:avLst/>
            <a:gdLst>
              <a:gd name="textAreaLeft" fmla="*/ 357480 w 1567080"/>
              <a:gd name="textAreaRight" fmla="*/ 1209600 w 1567080"/>
              <a:gd name="textAreaTop" fmla="*/ 450360 h 1973880"/>
              <a:gd name="textAreaBottom" fmla="*/ 1523520 h 197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Pb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87840" y="3377880"/>
            <a:ext cx="1670040" cy="1973880"/>
          </a:xfrm>
          <a:custGeom>
            <a:avLst/>
            <a:gdLst>
              <a:gd name="textAreaLeft" fmla="*/ 381240 w 1670040"/>
              <a:gd name="textAreaRight" fmla="*/ 1288800 w 1670040"/>
              <a:gd name="textAreaTop" fmla="*/ 450360 h 1973880"/>
              <a:gd name="textAreaBottom" fmla="*/ 1523520 h 197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V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2880" y="1103400"/>
            <a:ext cx="3135600" cy="990360"/>
          </a:xfrm>
          <a:prstGeom prst="rect">
            <a:avLst/>
          </a:prstGeom>
          <a:noFill/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72880" y="2093760"/>
            <a:ext cx="3135600" cy="990720"/>
          </a:xfrm>
          <a:prstGeom prst="rect">
            <a:avLst/>
          </a:prstGeom>
          <a:noFill/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1768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80360" y="5513040"/>
            <a:ext cx="2972520" cy="120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bk: pay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PL: valor presente líq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R: taxa interna de re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2" name=""/>
          <p:cNvCxnSpPr>
            <a:stCxn id="825" idx="0"/>
            <a:endCxn id="825" idx="0"/>
          </p:cNvCxnSpPr>
          <p:nvPr/>
        </p:nvCxnSpPr>
        <p:spPr>
          <a:xfrm flipH="1" rot="16200000">
            <a:off x="6278400" y="1293480"/>
            <a:ext cx="2160" cy="2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0">
            <a:noFill/>
          </a:ln>
        </p:spPr>
      </p:cxnSp>
      <p:cxnSp>
        <p:nvCxnSpPr>
          <p:cNvPr id="853" name=""/>
          <p:cNvCxnSpPr>
            <a:stCxn id="829" idx="2"/>
            <a:endCxn id="846" idx="0"/>
          </p:cNvCxnSpPr>
          <p:nvPr/>
        </p:nvCxnSpPr>
        <p:spPr>
          <a:xfrm rot="5400000">
            <a:off x="3982320" y="2809440"/>
            <a:ext cx="1459800" cy="694440"/>
          </a:xfrm>
          <a:prstGeom prst="curvedConnector5">
            <a:avLst>
              <a:gd name="adj1" fmla="val 49925"/>
              <a:gd name="adj2" fmla="val 50000"/>
              <a:gd name="adj3" fmla="val 499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3" idx="2"/>
            <a:endCxn id="847" idx="0"/>
          </p:cNvCxnSpPr>
          <p:nvPr/>
        </p:nvCxnSpPr>
        <p:spPr>
          <a:xfrm rot="5400000">
            <a:off x="6499440" y="2237400"/>
            <a:ext cx="1437480" cy="1791360"/>
          </a:xfrm>
          <a:prstGeom prst="curvedConnector5">
            <a:avLst>
              <a:gd name="adj1" fmla="val 49924"/>
              <a:gd name="adj2" fmla="val 49989"/>
              <a:gd name="adj3" fmla="val 4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3" idx="2"/>
          </p:cNvCxnSpPr>
          <p:nvPr/>
        </p:nvCxnSpPr>
        <p:spPr>
          <a:xfrm flipH="1" rot="16200000">
            <a:off x="7483680" y="3043080"/>
            <a:ext cx="1424880" cy="167040"/>
          </a:xfrm>
          <a:prstGeom prst="curvedConnector5">
            <a:avLst>
              <a:gd name="adj1" fmla="val 49936"/>
              <a:gd name="adj2" fmla="val 49892"/>
              <a:gd name="adj3" fmla="val 4993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Valor presente líquid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457200" y="1752480"/>
          <a:ext cx="845820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458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"/>
          <p:cNvGraphicFramePr/>
          <p:nvPr/>
        </p:nvGraphicFramePr>
        <p:xfrm>
          <a:off x="2438280" y="4495680"/>
          <a:ext cx="5802480" cy="17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495680"/>
                    <a:ext cx="580248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1" name=""/>
          <p:cNvGrpSpPr/>
          <p:nvPr/>
        </p:nvGrpSpPr>
        <p:grpSpPr>
          <a:xfrm>
            <a:off x="1836000" y="1599840"/>
            <a:ext cx="6703560" cy="2742840"/>
            <a:chOff x="1836000" y="1599840"/>
            <a:chExt cx="6703560" cy="2742840"/>
          </a:xfrm>
        </p:grpSpPr>
        <p:sp>
          <p:nvSpPr>
            <p:cNvPr id="862" name=""/>
            <p:cNvSpPr/>
            <p:nvPr/>
          </p:nvSpPr>
          <p:spPr>
            <a:xfrm flipH="1">
              <a:off x="1949400" y="2209680"/>
              <a:ext cx="6589800" cy="20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" y="10082"/>
                  </a:moveTo>
                  <a:arcTo wR="10800" hR="10800" stAng="-10571184" swAng="1009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4" y="10082"/>
                  </a:moveTo>
                  <a:arcTo wR="10800" hR="10800" stAng="-10571184" swAng="1009696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1857960" y="1751760"/>
              <a:ext cx="53964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" y="8257"/>
                  </a:moveTo>
                  <a:arcTo wR="10800" hR="10800" stAng="-9982853" swAng="89390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" y="8257"/>
                  </a:moveTo>
                  <a:arcTo wR="10800" hR="10800" stAng="-9982853" swAng="893904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1913040" y="2438280"/>
              <a:ext cx="579996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5" y="8514"/>
                  </a:moveTo>
                  <a:arcTo wR="10800" hR="10800" stAng="-10066947" swAng="9324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45" y="8514"/>
                  </a:moveTo>
                  <a:arcTo wR="10800" hR="10800" stAng="-10066947" swAng="932435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1835640" y="1599480"/>
              <a:ext cx="634608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" y="8257"/>
                  </a:moveTo>
                  <a:arcTo wR="10800" hR="10800" stAng="-9982853" swAng="89390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" y="8257"/>
                  </a:moveTo>
                  <a:arcTo wR="10800" hR="10800" stAng="-9982853" swAng="893904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1922400" y="2590920"/>
              <a:ext cx="48646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592" swAng="8983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592" swAng="898399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1878840" y="2057040"/>
              <a:ext cx="444708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" y="8257"/>
                  </a:moveTo>
                  <a:arcTo wR="10800" hR="10800" stAng="-9982853" swAng="89390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" y="8257"/>
                  </a:moveTo>
                  <a:arcTo wR="10800" hR="10800" stAng="-9982853" swAng="893904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934280" y="2743200"/>
              <a:ext cx="39956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592" swAng="8983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592" swAng="898399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1900440" y="2209320"/>
              <a:ext cx="34974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" y="8257"/>
                  </a:moveTo>
                  <a:arcTo wR="10800" hR="10800" stAng="-9982853" swAng="89390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" y="8257"/>
                  </a:moveTo>
                  <a:arcTo wR="10800" hR="10800" stAng="-9982853" swAng="893904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1945080" y="2895480"/>
              <a:ext cx="3047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592" swAng="8983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592" swAng="898399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1952280" y="2513520"/>
              <a:ext cx="257292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0" y="8400"/>
                  </a:moveTo>
                  <a:arcTo wR="10800" hR="10800" stAng="-10029498" swAng="9286901"/>
                  <a:lnTo>
                    <a:pt x="10800" y="10800"/>
                  </a:lnTo>
                  <a:close/>
                </a:path>
                <a:path fill="none" w="21600" h="21600">
                  <a:moveTo>
                    <a:pt x="270" y="8400"/>
                  </a:moveTo>
                  <a:arcTo wR="10800" hR="10800" stAng="-10029498" swAng="9286901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034000" y="3048120"/>
              <a:ext cx="201960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592" swAng="8983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592" swAng="898399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2039400" y="2666160"/>
              <a:ext cx="15580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0" y="8400"/>
                  </a:moveTo>
                  <a:arcTo wR="10800" hR="10800" stAng="-10029498" swAng="9286901"/>
                  <a:lnTo>
                    <a:pt x="10800" y="10800"/>
                  </a:lnTo>
                  <a:close/>
                </a:path>
                <a:path fill="none" w="21600" h="21600">
                  <a:moveTo>
                    <a:pt x="270" y="8400"/>
                  </a:moveTo>
                  <a:arcTo wR="10800" hR="10800" stAng="-10029498" swAng="9286901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966680" y="3048120"/>
              <a:ext cx="118476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592" swAng="8983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592" swAng="898399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688320" y="5486400"/>
            <a:ext cx="2696760" cy="429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PL: R$ 340.334,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18160" y="549792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r se é maior que zero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951640" y="121824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luxo de caixa descont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Visão geral do modelo de referência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102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8" name=""/>
                <p:cNvCxnSpPr>
                  <a:stCxn id="125" idx="0"/>
                  <a:endCxn id="129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0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7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1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3413160" y="1293840"/>
            <a:ext cx="5730840" cy="5411880"/>
          </a:xfrm>
          <a:prstGeom prst="rect">
            <a:avLst/>
          </a:prstGeom>
          <a:noFill/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Visão geral da análise da viabilidade econômico-financeira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7200" y="2272680"/>
            <a:ext cx="1733400" cy="61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Resultados do Produ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27200" y="1441080"/>
            <a:ext cx="1733400" cy="35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Investi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110120" y="1806120"/>
            <a:ext cx="1898640" cy="61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Flux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de C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2460240" y="1645920"/>
            <a:ext cx="1649520" cy="923760"/>
            <a:chOff x="2460240" y="1645920"/>
            <a:chExt cx="1649520" cy="923760"/>
          </a:xfrm>
        </p:grpSpPr>
        <p:cxnSp>
          <p:nvCxnSpPr>
            <p:cNvPr id="884" name=""/>
            <p:cNvCxnSpPr>
              <a:stCxn id="880" idx="3"/>
              <a:endCxn id="882" idx="1"/>
            </p:cNvCxnSpPr>
            <p:nvPr/>
          </p:nvCxnSpPr>
          <p:spPr>
            <a:xfrm>
              <a:off x="2460240" y="1645920"/>
              <a:ext cx="1649880" cy="469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85" name=""/>
            <p:cNvCxnSpPr>
              <a:stCxn id="881" idx="3"/>
              <a:endCxn id="882" idx="1"/>
            </p:cNvCxnSpPr>
            <p:nvPr/>
          </p:nvCxnSpPr>
          <p:spPr>
            <a:xfrm flipV="1">
              <a:off x="2460240" y="2113920"/>
              <a:ext cx="1649880" cy="4561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886" name=""/>
          <p:cNvSpPr/>
          <p:nvPr/>
        </p:nvSpPr>
        <p:spPr>
          <a:xfrm>
            <a:off x="7164360" y="1793520"/>
            <a:ext cx="1897200" cy="61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Fluxo de C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Descont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6008760" y="1847880"/>
            <a:ext cx="1153800" cy="533520"/>
            <a:chOff x="6008760" y="1847880"/>
            <a:chExt cx="1153800" cy="533520"/>
          </a:xfrm>
        </p:grpSpPr>
        <p:sp>
          <p:nvSpPr>
            <p:cNvPr id="888" name=""/>
            <p:cNvSpPr/>
            <p:nvPr/>
          </p:nvSpPr>
          <p:spPr>
            <a:xfrm>
              <a:off x="6009480" y="1847880"/>
              <a:ext cx="11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008760" y="2093760"/>
              <a:ext cx="11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09480" y="2381400"/>
              <a:ext cx="11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4192560" y="4648320"/>
            <a:ext cx="3879720" cy="2033640"/>
            <a:chOff x="4192560" y="4648320"/>
            <a:chExt cx="3879720" cy="2033640"/>
          </a:xfrm>
        </p:grpSpPr>
        <p:sp>
          <p:nvSpPr>
            <p:cNvPr id="892" name=""/>
            <p:cNvSpPr/>
            <p:nvPr/>
          </p:nvSpPr>
          <p:spPr>
            <a:xfrm>
              <a:off x="5288760" y="5962680"/>
              <a:ext cx="2048040" cy="71928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8960" bIns="48960" anchor="ctr">
              <a:spAutoFit/>
            </a:bodyPr>
            <a:p>
              <a:pPr algn="ctr"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1" lang="en-US" sz="2900" spc="-1" strike="noStrike">
                  <a:solidFill>
                    <a:srgbClr val="000066"/>
                  </a:solidFill>
                  <a:latin typeface="Arial"/>
                </a:rPr>
                <a:t>DECISÃ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92560" y="4648320"/>
              <a:ext cx="1649520" cy="13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73640" y="4648320"/>
              <a:ext cx="0" cy="13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6645240" y="4648320"/>
              <a:ext cx="1427040" cy="12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 rot="5400000">
            <a:off x="5545800" y="1603800"/>
            <a:ext cx="2145960" cy="740160"/>
          </a:xfrm>
          <a:prstGeom prst="rightArrow">
            <a:avLst>
              <a:gd name="adj1" fmla="val 50000"/>
              <a:gd name="adj2" fmla="val 7248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usto de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724280" y="5126040"/>
            <a:ext cx="3200400" cy="646200"/>
          </a:xfrm>
          <a:prstGeom prst="rightArrow">
            <a:avLst>
              <a:gd name="adj1" fmla="val 62657"/>
              <a:gd name="adj2" fmla="val 11645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ipót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238880" y="3784680"/>
            <a:ext cx="1676520" cy="107748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45880 h 1077480"/>
              <a:gd name="textAreaBottom" fmla="*/ 831600 h 107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581280" y="3412800"/>
            <a:ext cx="1567080" cy="1973880"/>
          </a:xfrm>
          <a:custGeom>
            <a:avLst/>
            <a:gdLst>
              <a:gd name="textAreaLeft" fmla="*/ 357480 w 1567080"/>
              <a:gd name="textAreaRight" fmla="*/ 1209600 w 1567080"/>
              <a:gd name="textAreaTop" fmla="*/ 450360 h 1973880"/>
              <a:gd name="textAreaBottom" fmla="*/ 1523520 h 197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Pb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487840" y="3377880"/>
            <a:ext cx="1670040" cy="1973880"/>
          </a:xfrm>
          <a:custGeom>
            <a:avLst/>
            <a:gdLst>
              <a:gd name="textAreaLeft" fmla="*/ 381240 w 1670040"/>
              <a:gd name="textAreaRight" fmla="*/ 1288800 w 1670040"/>
              <a:gd name="textAreaTop" fmla="*/ 450360 h 1973880"/>
              <a:gd name="textAreaBottom" fmla="*/ 1523520 h 197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ctr">
            <a:sp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V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103400"/>
            <a:ext cx="3135600" cy="990360"/>
          </a:xfrm>
          <a:prstGeom prst="rect">
            <a:avLst/>
          </a:prstGeom>
          <a:noFill/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2880" y="2093760"/>
            <a:ext cx="3135600" cy="990720"/>
          </a:xfrm>
          <a:prstGeom prst="rect">
            <a:avLst/>
          </a:prstGeom>
          <a:noFill/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1768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80360" y="5513040"/>
            <a:ext cx="2972520" cy="120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bk: pay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PL: valor presente líq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R: taxa interna de re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5" name=""/>
          <p:cNvCxnSpPr>
            <a:stCxn id="878" idx="0"/>
            <a:endCxn id="878" idx="0"/>
          </p:cNvCxnSpPr>
          <p:nvPr/>
        </p:nvCxnSpPr>
        <p:spPr>
          <a:xfrm flipH="1" rot="16200000">
            <a:off x="6278400" y="1293480"/>
            <a:ext cx="2160" cy="2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0">
            <a:noFill/>
          </a:ln>
        </p:spPr>
      </p:cxnSp>
      <p:cxnSp>
        <p:nvCxnSpPr>
          <p:cNvPr id="906" name=""/>
          <p:cNvCxnSpPr>
            <a:stCxn id="882" idx="2"/>
            <a:endCxn id="899" idx="0"/>
          </p:cNvCxnSpPr>
          <p:nvPr/>
        </p:nvCxnSpPr>
        <p:spPr>
          <a:xfrm rot="5400000">
            <a:off x="3982320" y="2809440"/>
            <a:ext cx="1459800" cy="694440"/>
          </a:xfrm>
          <a:prstGeom prst="curvedConnector5">
            <a:avLst>
              <a:gd name="adj1" fmla="val 49925"/>
              <a:gd name="adj2" fmla="val 50000"/>
              <a:gd name="adj3" fmla="val 499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7" name=""/>
          <p:cNvCxnSpPr>
            <a:stCxn id="886" idx="2"/>
            <a:endCxn id="900" idx="0"/>
          </p:cNvCxnSpPr>
          <p:nvPr/>
        </p:nvCxnSpPr>
        <p:spPr>
          <a:xfrm rot="5400000">
            <a:off x="6499440" y="2237400"/>
            <a:ext cx="1437480" cy="1791360"/>
          </a:xfrm>
          <a:prstGeom prst="curvedConnector5">
            <a:avLst>
              <a:gd name="adj1" fmla="val 49924"/>
              <a:gd name="adj2" fmla="val 49989"/>
              <a:gd name="adj3" fmla="val 4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8" name=""/>
          <p:cNvCxnSpPr>
            <a:stCxn id="886" idx="2"/>
          </p:cNvCxnSpPr>
          <p:nvPr/>
        </p:nvCxnSpPr>
        <p:spPr>
          <a:xfrm flipH="1" rot="16200000">
            <a:off x="7483680" y="3043080"/>
            <a:ext cx="1424880" cy="167040"/>
          </a:xfrm>
          <a:prstGeom prst="curvedConnector5">
            <a:avLst>
              <a:gd name="adj1" fmla="val 49936"/>
              <a:gd name="adj2" fmla="val 49892"/>
              <a:gd name="adj3" fmla="val 4993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xa Interna de Retorn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457200" y="1752480"/>
          <a:ext cx="845820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458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"/>
          <p:cNvGraphicFramePr/>
          <p:nvPr/>
        </p:nvGraphicFramePr>
        <p:xfrm>
          <a:off x="2438280" y="4495680"/>
          <a:ext cx="5802480" cy="17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495680"/>
                    <a:ext cx="580248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4" name=""/>
          <p:cNvGrpSpPr/>
          <p:nvPr/>
        </p:nvGrpSpPr>
        <p:grpSpPr>
          <a:xfrm>
            <a:off x="1836000" y="1599840"/>
            <a:ext cx="6703560" cy="2742840"/>
            <a:chOff x="1836000" y="1599840"/>
            <a:chExt cx="6703560" cy="2742840"/>
          </a:xfrm>
        </p:grpSpPr>
        <p:sp>
          <p:nvSpPr>
            <p:cNvPr id="915" name=""/>
            <p:cNvSpPr/>
            <p:nvPr/>
          </p:nvSpPr>
          <p:spPr>
            <a:xfrm flipH="1">
              <a:off x="1949400" y="2209680"/>
              <a:ext cx="6589800" cy="20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" y="10082"/>
                  </a:moveTo>
                  <a:arcTo wR="10800" hR="10800" stAng="-10571184" swAng="1009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4" y="10082"/>
                  </a:moveTo>
                  <a:arcTo wR="10800" hR="10800" stAng="-10571184" swAng="1009696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1857960" y="1751760"/>
              <a:ext cx="53964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" y="8257"/>
                  </a:moveTo>
                  <a:arcTo wR="10800" hR="10800" stAng="-9982853" swAng="89390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" y="8257"/>
                  </a:moveTo>
                  <a:arcTo wR="10800" hR="10800" stAng="-9982853" swAng="893904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1913040" y="2438280"/>
              <a:ext cx="579996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5" y="8514"/>
                  </a:moveTo>
                  <a:arcTo wR="10800" hR="10800" stAng="-10066947" swAng="9324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45" y="8514"/>
                  </a:moveTo>
                  <a:arcTo wR="10800" hR="10800" stAng="-10066947" swAng="932435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1835640" y="1599480"/>
              <a:ext cx="634608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" y="8257"/>
                  </a:moveTo>
                  <a:arcTo wR="10800" hR="10800" stAng="-9982853" swAng="89390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" y="8257"/>
                  </a:moveTo>
                  <a:arcTo wR="10800" hR="10800" stAng="-9982853" swAng="893904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1922400" y="2590920"/>
              <a:ext cx="48646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592" swAng="8983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592" swAng="898399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1878840" y="2057040"/>
              <a:ext cx="444708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" y="8257"/>
                  </a:moveTo>
                  <a:arcTo wR="10800" hR="10800" stAng="-9982853" swAng="89390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" y="8257"/>
                  </a:moveTo>
                  <a:arcTo wR="10800" hR="10800" stAng="-9982853" swAng="893904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1934280" y="2743200"/>
              <a:ext cx="39956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592" swAng="8983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592" swAng="898399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1900440" y="2209320"/>
              <a:ext cx="34974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" y="8257"/>
                  </a:moveTo>
                  <a:arcTo wR="10800" hR="10800" stAng="-9982853" swAng="89390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" y="8257"/>
                  </a:moveTo>
                  <a:arcTo wR="10800" hR="10800" stAng="-9982853" swAng="893904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1945080" y="2895480"/>
              <a:ext cx="3047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592" swAng="8983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592" swAng="898399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1952280" y="2513520"/>
              <a:ext cx="257292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0" y="8400"/>
                  </a:moveTo>
                  <a:arcTo wR="10800" hR="10800" stAng="-10029498" swAng="9286901"/>
                  <a:lnTo>
                    <a:pt x="10800" y="10800"/>
                  </a:lnTo>
                  <a:close/>
                </a:path>
                <a:path fill="none" w="21600" h="21600">
                  <a:moveTo>
                    <a:pt x="270" y="8400"/>
                  </a:moveTo>
                  <a:arcTo wR="10800" hR="10800" stAng="-10029498" swAng="9286901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2034000" y="3048120"/>
              <a:ext cx="201960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592" swAng="8983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592" swAng="898399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2039400" y="2666160"/>
              <a:ext cx="15580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0" y="8400"/>
                  </a:moveTo>
                  <a:arcTo wR="10800" hR="10800" stAng="-10029498" swAng="9286901"/>
                  <a:lnTo>
                    <a:pt x="10800" y="10800"/>
                  </a:lnTo>
                  <a:close/>
                </a:path>
                <a:path fill="none" w="21600" h="21600">
                  <a:moveTo>
                    <a:pt x="270" y="8400"/>
                  </a:moveTo>
                  <a:arcTo wR="10800" hR="10800" stAng="-10029498" swAng="9286901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1966680" y="3048120"/>
              <a:ext cx="118476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592" swAng="8983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592" swAng="898399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8320" y="5486400"/>
            <a:ext cx="2696760" cy="429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PL: R$ 340.334,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809880" y="5410080"/>
            <a:ext cx="4117680" cy="1191240"/>
            <a:chOff x="3809880" y="5410080"/>
            <a:chExt cx="4117680" cy="1191240"/>
          </a:xfrm>
        </p:grpSpPr>
        <p:sp>
          <p:nvSpPr>
            <p:cNvPr id="930" name=""/>
            <p:cNvSpPr/>
            <p:nvPr/>
          </p:nvSpPr>
          <p:spPr>
            <a:xfrm>
              <a:off x="3809880" y="5410080"/>
              <a:ext cx="1067040" cy="60984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36280" y="5486400"/>
              <a:ext cx="1159200" cy="4291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$ 0,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105880" y="6019920"/>
              <a:ext cx="282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ual é a taxa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786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Monitorar viabilidade econômico-financeira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16080" y="1002600"/>
            <a:ext cx="8420040" cy="5729040"/>
            <a:chOff x="316080" y="1002600"/>
            <a:chExt cx="8420040" cy="5729040"/>
          </a:xfrm>
        </p:grpSpPr>
        <p:sp>
          <p:nvSpPr>
            <p:cNvPr id="935" name=""/>
            <p:cNvSpPr/>
            <p:nvPr/>
          </p:nvSpPr>
          <p:spPr>
            <a:xfrm>
              <a:off x="1577880" y="1002600"/>
              <a:ext cx="6929640" cy="48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mudanças nas condições do mercado, características técnicas do produto, indicadores de desempenho do projeto (prazos e cust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54840" y="1904040"/>
              <a:ext cx="2327040" cy="48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impacto dessas mudanças n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43200" y="1904040"/>
              <a:ext cx="2396880" cy="48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premissas financeiras d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16080" y="3092400"/>
              <a:ext cx="1901520" cy="7304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o custo-alvo nos diversos níveis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02080" y="3092400"/>
              <a:ext cx="2098800" cy="7304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necessidades de investi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57600" y="3336120"/>
              <a:ext cx="1979640" cy="48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receitas futur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20200" y="4532400"/>
              <a:ext cx="285588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cular o novo fluxo de caix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99640" y="5484960"/>
              <a:ext cx="389520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cular os novos indicadores financei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46040" y="6244560"/>
              <a:ext cx="2498760" cy="48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as novas premissas e indic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813280" y="6244560"/>
              <a:ext cx="2776680" cy="48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possíveis desvios e impactos n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5" idx="3"/>
              <a:endCxn id="936" idx="3"/>
            </p:cNvCxnSpPr>
            <p:nvPr/>
          </p:nvCxnSpPr>
          <p:spPr>
            <a:xfrm flipH="1">
              <a:off x="8395920" y="1245600"/>
              <a:ext cx="126000" cy="902520"/>
            </a:xfrm>
            <a:prstGeom prst="bentConnector3">
              <a:avLst>
                <a:gd name="adj1" fmla="val -170773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6" idx="1"/>
              <a:endCxn id="937" idx="3"/>
            </p:cNvCxnSpPr>
            <p:nvPr/>
          </p:nvCxnSpPr>
          <p:spPr>
            <a:xfrm flipH="1">
              <a:off x="4253760" y="2147400"/>
              <a:ext cx="1786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7" name=""/>
            <p:cNvCxnSpPr>
              <a:stCxn id="935" idx="1"/>
              <a:endCxn id="937" idx="1"/>
            </p:cNvCxnSpPr>
            <p:nvPr/>
          </p:nvCxnSpPr>
          <p:spPr>
            <a:xfrm flipH="1" flipV="1" rot="10800000">
              <a:off x="1563480" y="1244880"/>
              <a:ext cx="265680" cy="902520"/>
            </a:xfrm>
            <a:prstGeom prst="bentConnector3">
              <a:avLst>
                <a:gd name="adj1" fmla="val -8073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8" name=""/>
            <p:cNvCxnSpPr>
              <a:stCxn id="937" idx="2"/>
              <a:endCxn id="938" idx="0"/>
            </p:cNvCxnSpPr>
            <p:nvPr/>
          </p:nvCxnSpPr>
          <p:spPr>
            <a:xfrm flipH="1">
              <a:off x="1266480" y="2420640"/>
              <a:ext cx="1775520" cy="64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9" name=""/>
            <p:cNvCxnSpPr>
              <a:stCxn id="937" idx="2"/>
              <a:endCxn id="940" idx="0"/>
            </p:cNvCxnSpPr>
            <p:nvPr/>
          </p:nvCxnSpPr>
          <p:spPr>
            <a:xfrm>
              <a:off x="3041640" y="2421000"/>
              <a:ext cx="707040" cy="886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0" name=""/>
            <p:cNvCxnSpPr>
              <a:stCxn id="937" idx="2"/>
              <a:endCxn id="939" idx="0"/>
            </p:cNvCxnSpPr>
            <p:nvPr/>
          </p:nvCxnSpPr>
          <p:spPr>
            <a:xfrm>
              <a:off x="3041640" y="2420640"/>
              <a:ext cx="3310560" cy="64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1" name=""/>
            <p:cNvCxnSpPr>
              <a:stCxn id="939" idx="2"/>
              <a:endCxn id="941" idx="3"/>
            </p:cNvCxnSpPr>
            <p:nvPr/>
          </p:nvCxnSpPr>
          <p:spPr>
            <a:xfrm rot="5400000">
              <a:off x="5375520" y="3678840"/>
              <a:ext cx="802440" cy="114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2" name=""/>
            <p:cNvCxnSpPr>
              <a:stCxn id="938" idx="2"/>
              <a:endCxn id="941" idx="1"/>
            </p:cNvCxnSpPr>
            <p:nvPr/>
          </p:nvCxnSpPr>
          <p:spPr>
            <a:xfrm flipH="1" rot="16200000">
              <a:off x="1378440" y="3739680"/>
              <a:ext cx="802440" cy="102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40" idx="2"/>
              <a:endCxn id="941" idx="0"/>
            </p:cNvCxnSpPr>
            <p:nvPr/>
          </p:nvCxnSpPr>
          <p:spPr>
            <a:xfrm>
              <a:off x="3747600" y="3852720"/>
              <a:ext cx="1080" cy="65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1" idx="2"/>
              <a:endCxn id="942" idx="0"/>
            </p:cNvCxnSpPr>
            <p:nvPr/>
          </p:nvCxnSpPr>
          <p:spPr>
            <a:xfrm>
              <a:off x="3747600" y="4805280"/>
              <a:ext cx="1080" cy="65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2" idx="1"/>
              <a:endCxn id="943" idx="1"/>
            </p:cNvCxnSpPr>
            <p:nvPr/>
          </p:nvCxnSpPr>
          <p:spPr>
            <a:xfrm flipV="1" rot="10800000">
              <a:off x="1331280" y="5605920"/>
              <a:ext cx="443520" cy="881640"/>
            </a:xfrm>
            <a:prstGeom prst="bentConnector3">
              <a:avLst>
                <a:gd name="adj1" fmla="val 14833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6" name=""/>
            <p:cNvCxnSpPr>
              <a:stCxn id="943" idx="3"/>
              <a:endCxn id="944" idx="1"/>
            </p:cNvCxnSpPr>
            <p:nvPr/>
          </p:nvCxnSpPr>
          <p:spPr>
            <a:xfrm>
              <a:off x="3858840" y="6487560"/>
              <a:ext cx="19407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alizar plano d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valiar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ovar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s genéricas durante a realizaçã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76320" y="909720"/>
            <a:ext cx="8991360" cy="5810040"/>
            <a:chOff x="76320" y="909720"/>
            <a:chExt cx="8991360" cy="5810040"/>
          </a:xfrm>
        </p:grpSpPr>
        <p:sp>
          <p:nvSpPr>
            <p:cNvPr id="961" name=""/>
            <p:cNvSpPr/>
            <p:nvPr/>
          </p:nvSpPr>
          <p:spPr>
            <a:xfrm>
              <a:off x="1000080" y="644508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49520" y="6081480"/>
              <a:ext cx="609300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4200" y="602784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350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24400" y="5789520"/>
              <a:ext cx="111096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148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056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76320" y="909720"/>
              <a:ext cx="8991360" cy="3205080"/>
              <a:chOff x="76320" y="909720"/>
              <a:chExt cx="8991360" cy="320508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76320" y="1068480"/>
                <a:ext cx="8991360" cy="3046320"/>
                <a:chOff x="76320" y="1068480"/>
                <a:chExt cx="8991360" cy="30463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76320" y="1068480"/>
                  <a:ext cx="8991360" cy="30463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95240" y="2317680"/>
                  <a:ext cx="7291440" cy="133992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2" name=""/>
                <p:cNvGrpSpPr/>
                <p:nvPr/>
              </p:nvGrpSpPr>
              <p:grpSpPr>
                <a:xfrm>
                  <a:off x="2239920" y="1679400"/>
                  <a:ext cx="4146480" cy="298440"/>
                  <a:chOff x="2239920" y="1679400"/>
                  <a:chExt cx="4146480" cy="29844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2239920" y="1679400"/>
                    <a:ext cx="4146480" cy="29844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3293280" y="169236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962280" y="3490560"/>
                  <a:ext cx="6981480" cy="534600"/>
                  <a:chOff x="962280" y="3490560"/>
                  <a:chExt cx="6981480" cy="534600"/>
                </a:xfrm>
              </p:grpSpPr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2259360" y="3504600"/>
                    <a:ext cx="5684400" cy="520560"/>
                    <a:chOff x="2259360" y="3504600"/>
                    <a:chExt cx="5684400" cy="52056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4633560" y="3504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3557160" y="3504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2259360" y="3504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6781680" y="3504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5676480" y="3504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2" name=""/>
                  <p:cNvSpPr/>
                  <p:nvPr/>
                </p:nvSpPr>
                <p:spPr>
                  <a:xfrm>
                    <a:off x="962280" y="3490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3" name=""/>
                <p:cNvGrpSpPr/>
                <p:nvPr/>
              </p:nvGrpSpPr>
              <p:grpSpPr>
                <a:xfrm>
                  <a:off x="6364440" y="1681200"/>
                  <a:ext cx="2652480" cy="298440"/>
                  <a:chOff x="6364440" y="1681200"/>
                  <a:chExt cx="2652480" cy="29844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>
                    <a:off x="6364440" y="168120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7431480" y="171792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8223120" y="176544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987" name=""/>
                <p:cNvCxnSpPr>
                  <a:stCxn id="984" idx="0"/>
                  <a:endCxn id="988" idx="0"/>
                </p:cNvCxnSpPr>
                <p:nvPr/>
              </p:nvCxnSpPr>
              <p:spPr>
                <a:xfrm rot="5400000">
                  <a:off x="4402440" y="-154548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989" name=""/>
                <p:cNvGrpSpPr/>
                <p:nvPr/>
              </p:nvGrpSpPr>
              <p:grpSpPr>
                <a:xfrm>
                  <a:off x="171360" y="1681200"/>
                  <a:ext cx="2124000" cy="296640"/>
                  <a:chOff x="171360" y="1681200"/>
                  <a:chExt cx="2124000" cy="29664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71360" y="1681200"/>
                    <a:ext cx="2124000" cy="29664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998280" y="171756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1" name=""/>
                <p:cNvSpPr/>
                <p:nvPr/>
              </p:nvSpPr>
              <p:spPr>
                <a:xfrm>
                  <a:off x="185760" y="205092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2" name=""/>
                <p:cNvGrpSpPr/>
                <p:nvPr/>
              </p:nvGrpSpPr>
              <p:grpSpPr>
                <a:xfrm>
                  <a:off x="6164280" y="2031840"/>
                  <a:ext cx="2871720" cy="933480"/>
                  <a:chOff x="6164280" y="2031840"/>
                  <a:chExt cx="2871720" cy="93348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>
                    <a:off x="6164280" y="203184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7421400" y="203184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6249960" y="209556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7535880" y="209556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694640" y="213516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48240" y="213516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9" name=""/>
                <p:cNvGrpSpPr/>
                <p:nvPr/>
              </p:nvGrpSpPr>
              <p:grpSpPr>
                <a:xfrm>
                  <a:off x="2413080" y="2018880"/>
                  <a:ext cx="3600000" cy="407880"/>
                  <a:chOff x="2413080" y="2018880"/>
                  <a:chExt cx="3600000" cy="40788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 flipV="1">
                    <a:off x="241308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flipV="1">
                    <a:off x="31334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V="1">
                    <a:off x="385596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V="1">
                    <a:off x="457668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 flipV="1">
                    <a:off x="52988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5" name=""/>
                <p:cNvGrpSpPr/>
                <p:nvPr/>
              </p:nvGrpSpPr>
              <p:grpSpPr>
                <a:xfrm>
                  <a:off x="2565360" y="2171520"/>
                  <a:ext cx="3600000" cy="407880"/>
                  <a:chOff x="2565360" y="2171520"/>
                  <a:chExt cx="3600000" cy="407880"/>
                </a:xfrm>
              </p:grpSpPr>
              <p:sp>
                <p:nvSpPr>
                  <p:cNvPr id="1006" name=""/>
                  <p:cNvSpPr/>
                  <p:nvPr/>
                </p:nvSpPr>
                <p:spPr>
                  <a:xfrm flipV="1">
                    <a:off x="256536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V="1">
                    <a:off x="32857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V="1">
                    <a:off x="400824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V="1">
                    <a:off x="472896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 flipV="1">
                    <a:off x="54511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2717640" y="2323800"/>
                  <a:ext cx="3600720" cy="407880"/>
                  <a:chOff x="2717640" y="2323800"/>
                  <a:chExt cx="3600720" cy="407880"/>
                </a:xfrm>
              </p:grpSpPr>
              <p:sp>
                <p:nvSpPr>
                  <p:cNvPr id="1012" name=""/>
                  <p:cNvSpPr/>
                  <p:nvPr/>
                </p:nvSpPr>
                <p:spPr>
                  <a:xfrm flipV="1">
                    <a:off x="271764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 flipV="1">
                    <a:off x="34383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V="1">
                    <a:off x="416088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flipV="1">
                    <a:off x="488160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 flipV="1">
                    <a:off x="56037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1565280" y="2060640"/>
                  <a:ext cx="950760" cy="671400"/>
                  <a:chOff x="1565280" y="2060640"/>
                  <a:chExt cx="950760" cy="67140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1565280" y="206064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1717560" y="221292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1870200" y="236520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"/>
                <p:cNvGrpSpPr/>
                <p:nvPr/>
              </p:nvGrpSpPr>
              <p:grpSpPr>
                <a:xfrm>
                  <a:off x="279720" y="2674800"/>
                  <a:ext cx="6232320" cy="776520"/>
                  <a:chOff x="279720" y="2674800"/>
                  <a:chExt cx="6232320" cy="77652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279720" y="312408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3" name=""/>
                  <p:cNvGrpSpPr/>
                  <p:nvPr/>
                </p:nvGrpSpPr>
                <p:grpSpPr>
                  <a:xfrm>
                    <a:off x="3319560" y="2674800"/>
                    <a:ext cx="185760" cy="617400"/>
                    <a:chOff x="3319560" y="2674800"/>
                    <a:chExt cx="185760" cy="617400"/>
                  </a:xfrm>
                </p:grpSpPr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331956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 flipV="1">
                      <a:off x="341172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6" name=""/>
                  <p:cNvSpPr/>
                  <p:nvPr/>
                </p:nvSpPr>
                <p:spPr>
                  <a:xfrm>
                    <a:off x="1208160" y="295128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7" name=""/>
                  <p:cNvGrpSpPr/>
                  <p:nvPr/>
                </p:nvGrpSpPr>
                <p:grpSpPr>
                  <a:xfrm>
                    <a:off x="6219720" y="2849040"/>
                    <a:ext cx="185400" cy="474840"/>
                    <a:chOff x="6219720" y="2849040"/>
                    <a:chExt cx="185400" cy="474840"/>
                  </a:xfrm>
                </p:grpSpPr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6219720" y="30524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 flipV="1">
                      <a:off x="6311520" y="284904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748040" y="2674800"/>
                    <a:ext cx="185760" cy="617400"/>
                    <a:chOff x="4748040" y="2674800"/>
                    <a:chExt cx="185760" cy="61740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474804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flipV="1">
                      <a:off x="484020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5464080" y="2674800"/>
                    <a:ext cx="185760" cy="617400"/>
                    <a:chOff x="5464080" y="2674800"/>
                    <a:chExt cx="185760" cy="61740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546408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 flipV="1">
                      <a:off x="555624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2422440" y="2706840"/>
                    <a:ext cx="185760" cy="585720"/>
                    <a:chOff x="2422440" y="2706840"/>
                    <a:chExt cx="185760" cy="585720"/>
                  </a:xfrm>
                </p:grpSpPr>
                <p:sp>
                  <p:nvSpPr>
                    <p:cNvPr id="1037" name=""/>
                    <p:cNvSpPr/>
                    <p:nvPr/>
                  </p:nvSpPr>
                  <p:spPr>
                    <a:xfrm flipV="1">
                      <a:off x="25146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2422440" y="302112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9" name=""/>
                  <p:cNvGrpSpPr/>
                  <p:nvPr/>
                </p:nvGrpSpPr>
                <p:grpSpPr>
                  <a:xfrm>
                    <a:off x="4035600" y="2706840"/>
                    <a:ext cx="185400" cy="585720"/>
                    <a:chOff x="4035600" y="2706840"/>
                    <a:chExt cx="185400" cy="585720"/>
                  </a:xfrm>
                </p:grpSpPr>
                <p:sp>
                  <p:nvSpPr>
                    <p:cNvPr id="1040" name=""/>
                    <p:cNvSpPr/>
                    <p:nvPr/>
                  </p:nvSpPr>
                  <p:spPr>
                    <a:xfrm flipV="1">
                      <a:off x="41274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4035600" y="302112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2" name=""/>
                  <p:cNvGrpSpPr/>
                  <p:nvPr/>
                </p:nvGrpSpPr>
                <p:grpSpPr>
                  <a:xfrm>
                    <a:off x="3597120" y="2731680"/>
                    <a:ext cx="141480" cy="473400"/>
                    <a:chOff x="3597120" y="2731680"/>
                    <a:chExt cx="141480" cy="473400"/>
                  </a:xfrm>
                </p:grpSpPr>
                <p:sp>
                  <p:nvSpPr>
                    <p:cNvPr id="1043" name=""/>
                    <p:cNvSpPr/>
                    <p:nvPr/>
                  </p:nvSpPr>
                  <p:spPr>
                    <a:xfrm flipV="1">
                      <a:off x="36687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35971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3784680" y="2731680"/>
                    <a:ext cx="141120" cy="473400"/>
                    <a:chOff x="3784680" y="2731680"/>
                    <a:chExt cx="141120" cy="47340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flipV="1">
                      <a:off x="38559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378468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4284720" y="2731680"/>
                    <a:ext cx="141120" cy="473400"/>
                    <a:chOff x="4284720" y="2731680"/>
                    <a:chExt cx="141120" cy="473400"/>
                  </a:xfrm>
                </p:grpSpPr>
                <p:sp>
                  <p:nvSpPr>
                    <p:cNvPr id="1049" name=""/>
                    <p:cNvSpPr/>
                    <p:nvPr/>
                  </p:nvSpPr>
                  <p:spPr>
                    <a:xfrm flipV="1">
                      <a:off x="435600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428472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4498920" y="2731680"/>
                    <a:ext cx="141480" cy="473400"/>
                    <a:chOff x="4498920" y="2731680"/>
                    <a:chExt cx="141480" cy="47340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 flipV="1">
                      <a:off x="45705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44989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3051000" y="2731680"/>
                    <a:ext cx="141480" cy="473400"/>
                    <a:chOff x="3051000" y="2731680"/>
                    <a:chExt cx="141480" cy="47340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 flipV="1">
                      <a:off x="312264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305100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5164200" y="2731680"/>
                    <a:ext cx="141120" cy="473400"/>
                    <a:chOff x="5164200" y="2731680"/>
                    <a:chExt cx="141120" cy="47340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 flipV="1">
                      <a:off x="523548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516420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060" name=""/>
              <p:cNvSpPr/>
              <p:nvPr/>
            </p:nvSpPr>
            <p:spPr>
              <a:xfrm>
                <a:off x="1500120" y="90972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"/>
          <p:cNvSpPr/>
          <p:nvPr/>
        </p:nvSpPr>
        <p:spPr>
          <a:xfrm>
            <a:off x="264960" y="4309920"/>
            <a:ext cx="8680680" cy="1395720"/>
          </a:xfrm>
          <a:custGeom>
            <a:avLst/>
            <a:gdLst/>
            <a:ahLst/>
            <a:rect l="l" t="t" r="r" b="b"/>
            <a:pathLst>
              <a:path w="5468" h="1388">
                <a:moveTo>
                  <a:pt x="347" y="0"/>
                </a:moveTo>
                <a:lnTo>
                  <a:pt x="0" y="1388"/>
                </a:lnTo>
                <a:lnTo>
                  <a:pt x="5468" y="1388"/>
                </a:lnTo>
                <a:lnTo>
                  <a:pt x="5022" y="7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314080" y="4195800"/>
            <a:ext cx="2064960" cy="2437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Atividades Gen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260280" y="4202280"/>
            <a:ext cx="8612280" cy="1364760"/>
            <a:chOff x="260280" y="4202280"/>
            <a:chExt cx="8612280" cy="1364760"/>
          </a:xfrm>
        </p:grpSpPr>
        <p:sp>
          <p:nvSpPr>
            <p:cNvPr id="1064" name=""/>
            <p:cNvSpPr/>
            <p:nvPr/>
          </p:nvSpPr>
          <p:spPr>
            <a:xfrm>
              <a:off x="4817880" y="4202280"/>
              <a:ext cx="1970280" cy="12697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260280" y="4412880"/>
              <a:ext cx="8612280" cy="1154160"/>
              <a:chOff x="260280" y="4412880"/>
              <a:chExt cx="8612280" cy="1154160"/>
            </a:xfrm>
          </p:grpSpPr>
          <p:sp>
            <p:nvSpPr>
              <p:cNvPr id="1066" name=""/>
              <p:cNvSpPr/>
              <p:nvPr/>
            </p:nvSpPr>
            <p:spPr>
              <a:xfrm>
                <a:off x="5060880" y="4412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vali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789520" y="4934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rov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064280" y="4714200"/>
                <a:ext cx="1808280" cy="852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cumentar as decisões tomadas e registrar lições aprendid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9" name=""/>
              <p:cNvCxnSpPr>
                <a:stCxn id="1067" idx="3"/>
                <a:endCxn id="1068" idx="1"/>
              </p:cNvCxnSpPr>
              <p:nvPr/>
            </p:nvCxnSpPr>
            <p:spPr>
              <a:xfrm flipV="1">
                <a:off x="6640560" y="5149080"/>
                <a:ext cx="414720" cy="8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070" name=""/>
              <p:cNvGrpSpPr/>
              <p:nvPr/>
            </p:nvGrpSpPr>
            <p:grpSpPr>
              <a:xfrm>
                <a:off x="3527280" y="4926960"/>
                <a:ext cx="1203480" cy="639720"/>
                <a:chOff x="3527280" y="4926960"/>
                <a:chExt cx="1203480" cy="63972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527280" y="4926960"/>
                  <a:ext cx="120348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546440" y="4939920"/>
                  <a:ext cx="17136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73" name=""/>
              <p:cNvCxnSpPr>
                <a:stCxn id="1066" idx="2"/>
                <a:endCxn id="1067" idx="1"/>
              </p:cNvCxnSpPr>
              <p:nvPr/>
            </p:nvCxnSpPr>
            <p:spPr>
              <a:xfrm flipH="1" rot="16200000">
                <a:off x="5484240" y="4862520"/>
                <a:ext cx="291240" cy="2991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74" name=""/>
              <p:cNvCxnSpPr>
                <a:stCxn id="1071" idx="0"/>
                <a:endCxn id="1066" idx="1"/>
              </p:cNvCxnSpPr>
              <p:nvPr/>
            </p:nvCxnSpPr>
            <p:spPr>
              <a:xfrm flipH="1" flipV="1" rot="5400000">
                <a:off x="4448520" y="4314600"/>
                <a:ext cx="283320" cy="92304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075" name=""/>
              <p:cNvGrpSpPr/>
              <p:nvPr/>
            </p:nvGrpSpPr>
            <p:grpSpPr>
              <a:xfrm>
                <a:off x="260280" y="4926960"/>
                <a:ext cx="1036440" cy="639720"/>
                <a:chOff x="260280" y="4926960"/>
                <a:chExt cx="1036440" cy="63972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260280" y="4926960"/>
                  <a:ext cx="103644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talhar Plano da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1137960" y="4939920"/>
                  <a:ext cx="14724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8" name=""/>
              <p:cNvSpPr/>
              <p:nvPr/>
            </p:nvSpPr>
            <p:spPr>
              <a:xfrm>
                <a:off x="1744560" y="4926960"/>
                <a:ext cx="1333440" cy="639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ividades Especificas da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79" name=""/>
              <p:cNvCxnSpPr>
                <a:stCxn id="1076" idx="3"/>
                <a:endCxn id="1078" idx="1"/>
              </p:cNvCxnSpPr>
              <p:nvPr/>
            </p:nvCxnSpPr>
            <p:spPr>
              <a:xfrm>
                <a:off x="1306440" y="5255280"/>
                <a:ext cx="4291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80" name=""/>
              <p:cNvCxnSpPr>
                <a:stCxn id="1078" idx="3"/>
                <a:endCxn id="1071" idx="1"/>
              </p:cNvCxnSpPr>
              <p:nvPr/>
            </p:nvCxnSpPr>
            <p:spPr>
              <a:xfrm>
                <a:off x="3087360" y="5255280"/>
                <a:ext cx="4309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081" name=""/>
            <p:cNvSpPr/>
            <p:nvPr/>
          </p:nvSpPr>
          <p:spPr>
            <a:xfrm>
              <a:off x="6068880" y="4265280"/>
              <a:ext cx="1104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visão de Fase “gate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964120" y="4544640"/>
              <a:ext cx="185760" cy="271440"/>
            </a:xfrm>
            <a:prstGeom prst="flowChartDecis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580280" y="3373920"/>
            <a:ext cx="2559240" cy="1941840"/>
            <a:chOff x="4580280" y="3373920"/>
            <a:chExt cx="2559240" cy="1941840"/>
          </a:xfrm>
        </p:grpSpPr>
        <p:grpSp>
          <p:nvGrpSpPr>
            <p:cNvPr id="1084" name=""/>
            <p:cNvGrpSpPr/>
            <p:nvPr/>
          </p:nvGrpSpPr>
          <p:grpSpPr>
            <a:xfrm>
              <a:off x="4580280" y="3775320"/>
              <a:ext cx="1762560" cy="1540440"/>
              <a:chOff x="4580280" y="3775320"/>
              <a:chExt cx="1762560" cy="1540440"/>
            </a:xfrm>
          </p:grpSpPr>
          <p:grpSp>
            <p:nvGrpSpPr>
              <p:cNvPr id="1085" name=""/>
              <p:cNvGrpSpPr/>
              <p:nvPr/>
            </p:nvGrpSpPr>
            <p:grpSpPr>
              <a:xfrm>
                <a:off x="4621680" y="3775320"/>
                <a:ext cx="1710720" cy="1514160"/>
                <a:chOff x="4621680" y="3775320"/>
                <a:chExt cx="1710720" cy="1514160"/>
              </a:xfrm>
            </p:grpSpPr>
            <p:grpSp>
              <p:nvGrpSpPr>
                <p:cNvPr id="1086" name=""/>
                <p:cNvGrpSpPr/>
                <p:nvPr/>
              </p:nvGrpSpPr>
              <p:grpSpPr>
                <a:xfrm>
                  <a:off x="4621680" y="3775320"/>
                  <a:ext cx="1710720" cy="1514160"/>
                  <a:chOff x="4621680" y="3775320"/>
                  <a:chExt cx="1710720" cy="151416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rot="15622800">
                    <a:off x="4620240" y="4226760"/>
                    <a:ext cx="1079280" cy="90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 rot="15622800">
                    <a:off x="5087520" y="3897000"/>
                    <a:ext cx="1190160" cy="11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4652640" y="3844440"/>
                  <a:ext cx="1613160" cy="1383120"/>
                  <a:chOff x="4652640" y="3844440"/>
                  <a:chExt cx="1613160" cy="138312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 rot="15622800">
                    <a:off x="5903640" y="4656240"/>
                    <a:ext cx="308520" cy="36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rot="15622800">
                    <a:off x="5336280" y="3597120"/>
                    <a:ext cx="110880" cy="72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rot="15622800">
                    <a:off x="4577760" y="4371480"/>
                    <a:ext cx="43884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rot="15622800">
                    <a:off x="5296680" y="4858560"/>
                    <a:ext cx="14004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4" name=""/>
              <p:cNvSpPr/>
              <p:nvPr/>
            </p:nvSpPr>
            <p:spPr>
              <a:xfrm rot="15622800">
                <a:off x="4894920" y="3777120"/>
                <a:ext cx="1241640" cy="1466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5" name=""/>
              <p:cNvGrpSpPr/>
              <p:nvPr/>
            </p:nvGrpSpPr>
            <p:grpSpPr>
              <a:xfrm>
                <a:off x="4580280" y="3846600"/>
                <a:ext cx="1653480" cy="1469160"/>
                <a:chOff x="4580280" y="3846600"/>
                <a:chExt cx="1653480" cy="1469160"/>
              </a:xfrm>
            </p:grpSpPr>
            <p:sp>
              <p:nvSpPr>
                <p:cNvPr id="1096" name=""/>
                <p:cNvSpPr/>
                <p:nvPr/>
              </p:nvSpPr>
              <p:spPr>
                <a:xfrm rot="15622800">
                  <a:off x="4802400" y="3865680"/>
                  <a:ext cx="1212840" cy="143100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5622800">
                  <a:off x="4785840" y="3847680"/>
                  <a:ext cx="1241640" cy="146664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rot="15622800">
                  <a:off x="4821120" y="3886920"/>
                  <a:ext cx="1172880" cy="13885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9" name=""/>
            <p:cNvGrpSpPr/>
            <p:nvPr/>
          </p:nvGrpSpPr>
          <p:grpSpPr>
            <a:xfrm>
              <a:off x="5961960" y="3373920"/>
              <a:ext cx="1177560" cy="832320"/>
              <a:chOff x="5961960" y="3373920"/>
              <a:chExt cx="1177560" cy="832320"/>
            </a:xfrm>
          </p:grpSpPr>
          <p:sp>
            <p:nvSpPr>
              <p:cNvPr id="1100" name=""/>
              <p:cNvSpPr/>
              <p:nvPr/>
            </p:nvSpPr>
            <p:spPr>
              <a:xfrm rot="15622800">
                <a:off x="6237720" y="3266640"/>
                <a:ext cx="606960" cy="107244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5622800">
                <a:off x="5999760" y="3986280"/>
                <a:ext cx="186840" cy="2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15622800">
                <a:off x="6022440" y="3966480"/>
                <a:ext cx="1890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15622800">
                <a:off x="6086160" y="3987360"/>
                <a:ext cx="115200" cy="27432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5622800">
                <a:off x="5999040" y="3987360"/>
                <a:ext cx="186840" cy="21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15622800">
                <a:off x="6136200" y="3895560"/>
                <a:ext cx="187200" cy="21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6" name=""/>
              <p:cNvGrpSpPr/>
              <p:nvPr/>
            </p:nvGrpSpPr>
            <p:grpSpPr>
              <a:xfrm>
                <a:off x="6127200" y="3868920"/>
                <a:ext cx="266760" cy="235440"/>
                <a:chOff x="6127200" y="3868920"/>
                <a:chExt cx="266760" cy="235440"/>
              </a:xfrm>
            </p:grpSpPr>
            <p:grpSp>
              <p:nvGrpSpPr>
                <p:cNvPr id="1107" name=""/>
                <p:cNvGrpSpPr/>
                <p:nvPr/>
              </p:nvGrpSpPr>
              <p:grpSpPr>
                <a:xfrm>
                  <a:off x="6127200" y="3881880"/>
                  <a:ext cx="245880" cy="222480"/>
                  <a:chOff x="6127200" y="3881880"/>
                  <a:chExt cx="245880" cy="222480"/>
                </a:xfrm>
              </p:grpSpPr>
              <p:sp>
                <p:nvSpPr>
                  <p:cNvPr id="1108" name=""/>
                  <p:cNvSpPr/>
                  <p:nvPr/>
                </p:nvSpPr>
                <p:spPr>
                  <a:xfrm rot="15622800">
                    <a:off x="6156000" y="3885120"/>
                    <a:ext cx="18756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rot="15622800">
                    <a:off x="6155280" y="3884400"/>
                    <a:ext cx="18900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 rot="15622800">
                    <a:off x="6156000" y="3884040"/>
                    <a:ext cx="18756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1" name=""/>
                <p:cNvSpPr/>
                <p:nvPr/>
              </p:nvSpPr>
              <p:spPr>
                <a:xfrm rot="15622800">
                  <a:off x="6177240" y="3871080"/>
                  <a:ext cx="1879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6168240" y="3843360"/>
                <a:ext cx="267480" cy="235440"/>
                <a:chOff x="6168240" y="3843360"/>
                <a:chExt cx="267480" cy="235440"/>
              </a:xfrm>
            </p:grpSpPr>
            <p:grpSp>
              <p:nvGrpSpPr>
                <p:cNvPr id="1113" name=""/>
                <p:cNvGrpSpPr/>
                <p:nvPr/>
              </p:nvGrpSpPr>
              <p:grpSpPr>
                <a:xfrm>
                  <a:off x="6168240" y="3856320"/>
                  <a:ext cx="245520" cy="222480"/>
                  <a:chOff x="6168240" y="3856320"/>
                  <a:chExt cx="245520" cy="2224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 rot="15622800">
                    <a:off x="6196680" y="3859560"/>
                    <a:ext cx="1882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rot="15622800">
                    <a:off x="6196320" y="3858840"/>
                    <a:ext cx="18900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 rot="15622800">
                    <a:off x="6197400" y="3858840"/>
                    <a:ext cx="18720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7" name=""/>
                <p:cNvSpPr/>
                <p:nvPr/>
              </p:nvSpPr>
              <p:spPr>
                <a:xfrm rot="15622800">
                  <a:off x="6219000" y="3845160"/>
                  <a:ext cx="187560" cy="216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6207120" y="3830400"/>
                <a:ext cx="245880" cy="222480"/>
                <a:chOff x="6207120" y="3830400"/>
                <a:chExt cx="245880" cy="222480"/>
              </a:xfrm>
            </p:grpSpPr>
            <p:sp>
              <p:nvSpPr>
                <p:cNvPr id="1119" name=""/>
                <p:cNvSpPr/>
                <p:nvPr/>
              </p:nvSpPr>
              <p:spPr>
                <a:xfrm rot="15622800">
                  <a:off x="6236280" y="3833640"/>
                  <a:ext cx="187920" cy="216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rot="15622800">
                  <a:off x="6235200" y="3832920"/>
                  <a:ext cx="189000" cy="21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6207480" y="3816360"/>
                <a:ext cx="266400" cy="235080"/>
                <a:chOff x="6207480" y="3816360"/>
                <a:chExt cx="266400" cy="235080"/>
              </a:xfrm>
            </p:grpSpPr>
            <p:sp>
              <p:nvSpPr>
                <p:cNvPr id="1122" name=""/>
                <p:cNvSpPr/>
                <p:nvPr/>
              </p:nvSpPr>
              <p:spPr>
                <a:xfrm rot="15622800">
                  <a:off x="6235560" y="3832200"/>
                  <a:ext cx="1879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rot="15622800">
                  <a:off x="6257160" y="3818520"/>
                  <a:ext cx="1879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6037200" y="3430800"/>
                <a:ext cx="1018440" cy="746280"/>
                <a:chOff x="6037200" y="3430800"/>
                <a:chExt cx="1018440" cy="746280"/>
              </a:xfrm>
            </p:grpSpPr>
            <p:sp>
              <p:nvSpPr>
                <p:cNvPr id="1125" name=""/>
                <p:cNvSpPr/>
                <p:nvPr/>
              </p:nvSpPr>
              <p:spPr>
                <a:xfrm flipV="1">
                  <a:off x="6037200" y="3430800"/>
                  <a:ext cx="871560" cy="58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V="1">
                  <a:off x="6142680" y="3583800"/>
                  <a:ext cx="912960" cy="593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6245640" y="3791880"/>
                <a:ext cx="262800" cy="234360"/>
                <a:chOff x="6245640" y="3791880"/>
                <a:chExt cx="262800" cy="234360"/>
              </a:xfrm>
            </p:grpSpPr>
            <p:grpSp>
              <p:nvGrpSpPr>
                <p:cNvPr id="1128" name=""/>
                <p:cNvGrpSpPr/>
                <p:nvPr/>
              </p:nvGrpSpPr>
              <p:grpSpPr>
                <a:xfrm>
                  <a:off x="6245640" y="3803760"/>
                  <a:ext cx="245160" cy="222480"/>
                  <a:chOff x="6245640" y="3803760"/>
                  <a:chExt cx="245160" cy="22248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 rot="15622800">
                    <a:off x="6274440" y="3807720"/>
                    <a:ext cx="18756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 rot="15622800">
                    <a:off x="6273360" y="3806640"/>
                    <a:ext cx="18900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1" name=""/>
                <p:cNvSpPr/>
                <p:nvPr/>
              </p:nvSpPr>
              <p:spPr>
                <a:xfrm rot="15622800">
                  <a:off x="6274800" y="3806280"/>
                  <a:ext cx="187920" cy="216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rot="15622800">
                  <a:off x="6292080" y="3794760"/>
                  <a:ext cx="187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 rot="15622800">
                <a:off x="6473520" y="3369600"/>
                <a:ext cx="374400" cy="79272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15622800">
                <a:off x="6900120" y="3373560"/>
                <a:ext cx="204480" cy="24264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9720" y="5724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genérica: avali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374760" y="1481400"/>
            <a:ext cx="8508960" cy="5191560"/>
            <a:chOff x="374760" y="1481400"/>
            <a:chExt cx="8508960" cy="5191560"/>
          </a:xfrm>
        </p:grpSpPr>
        <p:grpSp>
          <p:nvGrpSpPr>
            <p:cNvPr id="1137" name=""/>
            <p:cNvGrpSpPr/>
            <p:nvPr/>
          </p:nvGrpSpPr>
          <p:grpSpPr>
            <a:xfrm>
              <a:off x="374760" y="1481400"/>
              <a:ext cx="8508960" cy="973800"/>
              <a:chOff x="374760" y="1481400"/>
              <a:chExt cx="8508960" cy="973800"/>
            </a:xfrm>
          </p:grpSpPr>
          <p:sp>
            <p:nvSpPr>
              <p:cNvPr id="1138" name=""/>
              <p:cNvSpPr/>
              <p:nvPr/>
            </p:nvSpPr>
            <p:spPr>
              <a:xfrm>
                <a:off x="374760" y="1481400"/>
                <a:ext cx="157644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 cumprimento das tarefas planejada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 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357280" y="1481400"/>
                <a:ext cx="213840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s resultados obtidos segundo os critérios estabelecid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03920" y="1481400"/>
                <a:ext cx="200952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s demais critérios quantitativos e indicado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321680" y="1481400"/>
                <a:ext cx="156204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 estudo da viabilidade econôm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42" name=""/>
            <p:cNvCxnSpPr>
              <a:stCxn id="1138" idx="2"/>
              <a:endCxn id="1143" idx="1"/>
            </p:cNvCxnSpPr>
            <p:nvPr/>
          </p:nvCxnSpPr>
          <p:spPr>
            <a:xfrm flipH="1" rot="16200000">
              <a:off x="1695240" y="1953720"/>
              <a:ext cx="1315080" cy="237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4" name=""/>
            <p:cNvCxnSpPr>
              <a:stCxn id="1141" idx="2"/>
              <a:endCxn id="1143" idx="3"/>
            </p:cNvCxnSpPr>
            <p:nvPr/>
          </p:nvCxnSpPr>
          <p:spPr>
            <a:xfrm rot="5400000">
              <a:off x="6252480" y="1951200"/>
              <a:ext cx="1315080" cy="238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5" name=""/>
            <p:cNvCxnSpPr>
              <a:stCxn id="1140" idx="2"/>
              <a:endCxn id="1143" idx="0"/>
            </p:cNvCxnSpPr>
            <p:nvPr/>
          </p:nvCxnSpPr>
          <p:spPr>
            <a:xfrm flipH="1">
              <a:off x="4630320" y="2486160"/>
              <a:ext cx="1278720" cy="1041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6" name=""/>
            <p:cNvCxnSpPr>
              <a:stCxn id="1139" idx="2"/>
              <a:endCxn id="1143" idx="0"/>
            </p:cNvCxnSpPr>
            <p:nvPr/>
          </p:nvCxnSpPr>
          <p:spPr>
            <a:xfrm>
              <a:off x="3427560" y="2486160"/>
              <a:ext cx="1203840" cy="1041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47" name=""/>
            <p:cNvGrpSpPr/>
            <p:nvPr/>
          </p:nvGrpSpPr>
          <p:grpSpPr>
            <a:xfrm>
              <a:off x="3413160" y="3556800"/>
              <a:ext cx="2432160" cy="3116160"/>
              <a:chOff x="3413160" y="3556800"/>
              <a:chExt cx="2432160" cy="3116160"/>
            </a:xfrm>
          </p:grpSpPr>
          <p:sp>
            <p:nvSpPr>
              <p:cNvPr id="1143" name=""/>
              <p:cNvSpPr/>
              <p:nvPr/>
            </p:nvSpPr>
            <p:spPr>
              <a:xfrm>
                <a:off x="3556080" y="3556800"/>
                <a:ext cx="2147760" cy="4870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cidir implementar ações corretiv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21080" y="4749480"/>
                <a:ext cx="2417760" cy="7304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cidir se pode ser realizada a atividade de aprovaç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413160" y="6185880"/>
                <a:ext cx="2432160" cy="4870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eparar relatório para o time de avaliaç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0" name=""/>
              <p:cNvCxnSpPr>
                <a:stCxn id="1143" idx="2"/>
                <a:endCxn id="1148" idx="0"/>
              </p:cNvCxnSpPr>
              <p:nvPr/>
            </p:nvCxnSpPr>
            <p:spPr>
              <a:xfrm>
                <a:off x="4630320" y="4073040"/>
                <a:ext cx="1080" cy="646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151" name=""/>
              <p:cNvCxnSpPr>
                <a:stCxn id="1148" idx="2"/>
                <a:endCxn id="1149" idx="0"/>
              </p:cNvCxnSpPr>
              <p:nvPr/>
            </p:nvCxnSpPr>
            <p:spPr>
              <a:xfrm flipH="1">
                <a:off x="4628880" y="5509800"/>
                <a:ext cx="2160" cy="646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152" name=""/>
          <p:cNvSpPr/>
          <p:nvPr/>
        </p:nvSpPr>
        <p:spPr>
          <a:xfrm>
            <a:off x="1763640" y="4149720"/>
            <a:ext cx="1035000" cy="736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-avali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32920" y="6054840"/>
            <a:ext cx="185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28600" y="5210280"/>
            <a:ext cx="1666800" cy="799920"/>
            <a:chOff x="228600" y="5210280"/>
            <a:chExt cx="1666800" cy="799920"/>
          </a:xfrm>
        </p:grpSpPr>
        <p:grpSp>
          <p:nvGrpSpPr>
            <p:cNvPr id="1155" name=""/>
            <p:cNvGrpSpPr/>
            <p:nvPr/>
          </p:nvGrpSpPr>
          <p:grpSpPr>
            <a:xfrm>
              <a:off x="228600" y="5210280"/>
              <a:ext cx="1666800" cy="799920"/>
              <a:chOff x="228600" y="5210280"/>
              <a:chExt cx="1666800" cy="799920"/>
            </a:xfrm>
          </p:grpSpPr>
          <p:sp>
            <p:nvSpPr>
              <p:cNvPr id="1156" name=""/>
              <p:cNvSpPr/>
              <p:nvPr/>
            </p:nvSpPr>
            <p:spPr>
              <a:xfrm>
                <a:off x="606240" y="5432040"/>
                <a:ext cx="356760" cy="33912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22440" y="5439960"/>
                <a:ext cx="162000" cy="16848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08760" y="5485320"/>
                <a:ext cx="82800" cy="16344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31440" y="5614560"/>
                <a:ext cx="59400" cy="8748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97320" y="5693400"/>
                <a:ext cx="124200" cy="9864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07040" y="5482440"/>
                <a:ext cx="225360" cy="23940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94600" y="5727960"/>
                <a:ext cx="56880" cy="4320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917280" y="5649120"/>
                <a:ext cx="15840" cy="244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99560" y="5713200"/>
                <a:ext cx="97560" cy="766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86600" y="55051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98120" y="559188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23240" y="5251320"/>
                <a:ext cx="115920" cy="24732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28640" y="535716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33400" y="5365080"/>
                <a:ext cx="3960" cy="1476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55240" y="5467680"/>
                <a:ext cx="526680" cy="47736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81920" y="5733000"/>
                <a:ext cx="81360" cy="15660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20720" y="5799960"/>
                <a:ext cx="121320" cy="9432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06440" y="5336280"/>
                <a:ext cx="164880" cy="23580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77360" y="5581800"/>
                <a:ext cx="36720" cy="23760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95720" y="5276160"/>
                <a:ext cx="91800" cy="1152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85640" y="540036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42520" y="541440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59240" y="532944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06760" y="533340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74720" y="5393520"/>
                <a:ext cx="34200" cy="864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358640" y="5429160"/>
                <a:ext cx="475920" cy="51480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406880" y="5561280"/>
                <a:ext cx="140040" cy="2682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477800" y="5563080"/>
                <a:ext cx="287640" cy="38592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571400" y="5562360"/>
                <a:ext cx="50760" cy="17532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34400" y="5427000"/>
                <a:ext cx="200520" cy="52668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548000" y="5532840"/>
                <a:ext cx="44280" cy="30276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296720" y="5764680"/>
                <a:ext cx="132840" cy="13284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477080" y="5271120"/>
                <a:ext cx="181800" cy="26532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494360" y="537372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550520" y="53600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477800" y="5235480"/>
                <a:ext cx="145800" cy="5508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591560" y="5286960"/>
                <a:ext cx="70560" cy="766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584360" y="5272200"/>
                <a:ext cx="77760" cy="7848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55880" y="5374800"/>
                <a:ext cx="434880" cy="3945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279080" y="5721840"/>
                <a:ext cx="40320" cy="3456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077480" y="5492160"/>
                <a:ext cx="22320" cy="12096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061640" y="5541480"/>
                <a:ext cx="101160" cy="18432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155960" y="5432760"/>
                <a:ext cx="237240" cy="33840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267920" y="5385600"/>
                <a:ext cx="86040" cy="7560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361160" y="5455800"/>
                <a:ext cx="81000" cy="19512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436040" y="5522760"/>
                <a:ext cx="55440" cy="748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218600" y="5427000"/>
                <a:ext cx="82800" cy="30276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14640" y="5427000"/>
                <a:ext cx="87120" cy="3056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135440" y="5417280"/>
                <a:ext cx="57960" cy="12600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140480" y="5220720"/>
                <a:ext cx="130320" cy="20124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171080" y="534024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223280" y="532764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205640" y="5333400"/>
                <a:ext cx="12960" cy="2952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195920" y="5351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220040" y="534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199160" y="5380920"/>
                <a:ext cx="33480" cy="864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155960" y="5259240"/>
                <a:ext cx="36000" cy="5220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211400" y="5285880"/>
                <a:ext cx="31320" cy="1872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44440" y="5317560"/>
                <a:ext cx="10080" cy="792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254240" y="529992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209600" y="5402520"/>
                <a:ext cx="15120" cy="972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143000" y="5475600"/>
                <a:ext cx="17640" cy="4104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143720" y="5447880"/>
                <a:ext cx="26640" cy="1476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164600" y="5496120"/>
                <a:ext cx="10080" cy="1836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175040" y="532260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219320" y="5317560"/>
                <a:ext cx="21600" cy="1080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71600" y="5377680"/>
                <a:ext cx="54720" cy="4320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2040" y="5412240"/>
                <a:ext cx="22320" cy="576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04720" y="540036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31360" y="5399280"/>
                <a:ext cx="41040" cy="64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29560" y="54676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75920" y="5459400"/>
                <a:ext cx="65160" cy="4248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1920" y="5439960"/>
                <a:ext cx="7200" cy="1080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7520" y="549324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48560" y="5274000"/>
                <a:ext cx="127800" cy="8496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02480" y="5274000"/>
                <a:ext cx="140040" cy="16776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33880" y="5329440"/>
                <a:ext cx="56880" cy="19440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23360" y="5441760"/>
                <a:ext cx="106200" cy="12924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13640" y="54046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15440" y="5441040"/>
                <a:ext cx="7200" cy="180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13640" y="5450760"/>
                <a:ext cx="14400" cy="2340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38120" y="5407560"/>
                <a:ext cx="6840" cy="2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39560" y="5401440"/>
                <a:ext cx="1044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46040" y="5413320"/>
                <a:ext cx="9360" cy="32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52520" y="5425200"/>
                <a:ext cx="720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89600" y="5356080"/>
                <a:ext cx="73800" cy="2052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4720" y="5353200"/>
                <a:ext cx="48960" cy="1656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73320" y="5474520"/>
                <a:ext cx="36000" cy="7200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8600" y="5520960"/>
                <a:ext cx="423720" cy="48924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65400" y="5581800"/>
                <a:ext cx="131040" cy="26136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44960" y="5841360"/>
                <a:ext cx="20880" cy="5796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66920" y="5826600"/>
                <a:ext cx="50760" cy="7380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26680" y="5799960"/>
                <a:ext cx="313200" cy="12204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13440" y="5862240"/>
                <a:ext cx="36000" cy="1764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90320" y="5555160"/>
                <a:ext cx="31320" cy="26928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22720" y="5535720"/>
                <a:ext cx="174600" cy="30276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27120" y="5768640"/>
                <a:ext cx="78840" cy="7200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84360" y="5718240"/>
                <a:ext cx="99000" cy="8676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90200" y="5798160"/>
                <a:ext cx="58320" cy="511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19000" y="5843520"/>
                <a:ext cx="23040" cy="4320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26200" y="5824800"/>
                <a:ext cx="37080" cy="64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82640" y="5733000"/>
                <a:ext cx="41040" cy="7092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19280" y="5805720"/>
                <a:ext cx="47880" cy="3060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82200" y="5222880"/>
                <a:ext cx="162360" cy="2433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57800" y="5344200"/>
                <a:ext cx="82080" cy="14472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26120" y="5323680"/>
                <a:ext cx="9360" cy="262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39080" y="5332320"/>
                <a:ext cx="4680" cy="2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41600" y="5337360"/>
                <a:ext cx="612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47360" y="5354280"/>
                <a:ext cx="39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30440" y="5357880"/>
                <a:ext cx="7200" cy="1944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19200" y="5422320"/>
                <a:ext cx="286560" cy="18540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00480" y="5473440"/>
                <a:ext cx="114120" cy="21096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80400" y="5675760"/>
                <a:ext cx="32040" cy="4932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08480" y="5486400"/>
                <a:ext cx="235080" cy="26532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31960" y="5475600"/>
                <a:ext cx="17640" cy="17352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94160" y="55890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17280" y="5634360"/>
                <a:ext cx="26640" cy="6192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86680" y="5702400"/>
                <a:ext cx="92520" cy="65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10720" y="5733000"/>
                <a:ext cx="131040" cy="5724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900360" y="5770440"/>
                <a:ext cx="301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33400" y="5364000"/>
                <a:ext cx="5400" cy="1548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54560" y="5325480"/>
                <a:ext cx="31320" cy="1764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06040" y="5329440"/>
                <a:ext cx="26280" cy="1476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08560" y="53402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57080" y="5311800"/>
                <a:ext cx="31320" cy="1764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08560" y="5316480"/>
                <a:ext cx="23760" cy="756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81200" y="5371920"/>
                <a:ext cx="19800" cy="126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00640" y="5326560"/>
                <a:ext cx="5400" cy="2160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66800" y="53294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1800" y="533340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73640" y="5392800"/>
                <a:ext cx="34560" cy="360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80480" y="5399280"/>
                <a:ext cx="23040" cy="504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136520" y="5415120"/>
                <a:ext cx="60120" cy="63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146240" y="5456520"/>
                <a:ext cx="42480" cy="64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094400" y="5465520"/>
                <a:ext cx="172440" cy="30168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056600" y="5491440"/>
                <a:ext cx="69120" cy="21492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108080" y="5599800"/>
                <a:ext cx="7920" cy="529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056600" y="564624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063800" y="5631480"/>
                <a:ext cx="12600" cy="4032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083240" y="5524920"/>
                <a:ext cx="10080" cy="381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096920" y="5434920"/>
                <a:ext cx="53640" cy="878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173600" y="540036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188720" y="5454720"/>
                <a:ext cx="99000" cy="7488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188720" y="5382720"/>
                <a:ext cx="28800" cy="4320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191960" y="5427000"/>
                <a:ext cx="69840" cy="2952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258920" y="5381640"/>
                <a:ext cx="39240" cy="5436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221120" y="5450760"/>
                <a:ext cx="82800" cy="28584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197720" y="5540400"/>
                <a:ext cx="227880" cy="2296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307880" y="5382720"/>
                <a:ext cx="44280" cy="244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366200" y="5391720"/>
                <a:ext cx="69840" cy="13320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329840" y="5446800"/>
                <a:ext cx="37800" cy="64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415880" y="5493240"/>
                <a:ext cx="72360" cy="14292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429560" y="5642280"/>
                <a:ext cx="78120" cy="6192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436040" y="5817600"/>
                <a:ext cx="119880" cy="5508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293480" y="5763600"/>
                <a:ext cx="176040" cy="15048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345680" y="5763600"/>
                <a:ext cx="84240" cy="6696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139400" y="5212080"/>
                <a:ext cx="132840" cy="15156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168560" y="5319360"/>
                <a:ext cx="42480" cy="972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167120" y="532152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214640" y="5307480"/>
                <a:ext cx="32760" cy="972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217160" y="5317560"/>
                <a:ext cx="26280" cy="1152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210320" y="5311800"/>
                <a:ext cx="24840" cy="3420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200960" y="5324400"/>
                <a:ext cx="4680" cy="2844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221120" y="5328360"/>
                <a:ext cx="17640" cy="684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145160" y="532764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254960" y="5306760"/>
                <a:ext cx="12960" cy="3528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182240" y="53244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225080" y="531756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193760" y="5351040"/>
                <a:ext cx="37800" cy="2448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90520" y="5374800"/>
                <a:ext cx="52200" cy="1080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201680" y="5388480"/>
                <a:ext cx="28800" cy="1152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165320" y="5349240"/>
                <a:ext cx="91800" cy="748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173600" y="5360040"/>
                <a:ext cx="18360" cy="3420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233000" y="5355000"/>
                <a:ext cx="15840" cy="2772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452240" y="5506200"/>
                <a:ext cx="65880" cy="3528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478880" y="5361840"/>
                <a:ext cx="42480" cy="5400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490040" y="5385600"/>
                <a:ext cx="10080" cy="684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522440" y="5330520"/>
                <a:ext cx="65880" cy="5904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559520" y="535788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516680" y="5417280"/>
                <a:ext cx="39240" cy="2844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538280" y="5402520"/>
                <a:ext cx="15120" cy="684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556280" y="5411160"/>
                <a:ext cx="32760" cy="5616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486800" y="5390640"/>
                <a:ext cx="41040" cy="1022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530360" y="5443920"/>
                <a:ext cx="37800" cy="864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533600" y="545580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453680" y="5237640"/>
                <a:ext cx="172440" cy="127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500480" y="5210280"/>
                <a:ext cx="166680" cy="32436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78600" y="5276160"/>
                <a:ext cx="45000" cy="4320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593360" y="5326560"/>
                <a:ext cx="38520" cy="374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601280" y="5360040"/>
                <a:ext cx="21600" cy="3924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528560" y="545940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595520" y="5412240"/>
                <a:ext cx="7200" cy="4212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506960" y="5315760"/>
                <a:ext cx="75600" cy="2232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23880" y="5307480"/>
                <a:ext cx="56160" cy="136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544760" y="5301000"/>
                <a:ext cx="28080" cy="648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77160" y="5344200"/>
                <a:ext cx="10080" cy="1548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681200" y="5543280"/>
                <a:ext cx="214200" cy="46548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648080" y="5428080"/>
                <a:ext cx="74160" cy="10728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734120" y="5479560"/>
                <a:ext cx="64440" cy="6084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562400" y="5542560"/>
                <a:ext cx="66600" cy="30060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6" name=""/>
            <p:cNvSpPr/>
            <p:nvPr/>
          </p:nvSpPr>
          <p:spPr>
            <a:xfrm>
              <a:off x="1464480" y="5538600"/>
              <a:ext cx="109080" cy="30060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611000" y="5581800"/>
              <a:ext cx="145440" cy="25920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607040" y="5851440"/>
              <a:ext cx="82080" cy="9432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37840" y="5874120"/>
              <a:ext cx="212400" cy="748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437840" y="5730840"/>
              <a:ext cx="91800" cy="896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485360" y="5538600"/>
              <a:ext cx="15840" cy="9540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7415280" y="5521320"/>
            <a:ext cx="1422000" cy="1193760"/>
            <a:chOff x="7415280" y="5521320"/>
            <a:chExt cx="1422000" cy="1193760"/>
          </a:xfrm>
        </p:grpSpPr>
        <p:sp>
          <p:nvSpPr>
            <p:cNvPr id="1363" name=""/>
            <p:cNvSpPr/>
            <p:nvPr/>
          </p:nvSpPr>
          <p:spPr>
            <a:xfrm>
              <a:off x="7415280" y="5521320"/>
              <a:ext cx="1390680" cy="1193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38320" y="6321240"/>
              <a:ext cx="13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 asses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7540560" y="5668920"/>
              <a:ext cx="1062720" cy="595800"/>
              <a:chOff x="7540560" y="5668920"/>
              <a:chExt cx="1062720" cy="595800"/>
            </a:xfrm>
          </p:grpSpPr>
          <p:grpSp>
            <p:nvGrpSpPr>
              <p:cNvPr id="1366" name=""/>
              <p:cNvGrpSpPr/>
              <p:nvPr/>
            </p:nvGrpSpPr>
            <p:grpSpPr>
              <a:xfrm>
                <a:off x="7540560" y="5668920"/>
                <a:ext cx="1062720" cy="595800"/>
                <a:chOff x="7540560" y="5668920"/>
                <a:chExt cx="1062720" cy="59580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7781400" y="5834160"/>
                  <a:ext cx="227520" cy="252720"/>
                </a:xfrm>
                <a:custGeom>
                  <a:avLst/>
                  <a:gdLst/>
                  <a:ahLst/>
                  <a:rect l="l" t="t" r="r" b="b"/>
                  <a:pathLst>
                    <a:path w="3542" h="2755">
                      <a:moveTo>
                        <a:pt x="3542" y="2755"/>
                      </a:moveTo>
                      <a:lnTo>
                        <a:pt x="3452" y="2648"/>
                      </a:lnTo>
                      <a:lnTo>
                        <a:pt x="3415" y="2476"/>
                      </a:lnTo>
                      <a:lnTo>
                        <a:pt x="3307" y="2404"/>
                      </a:lnTo>
                      <a:lnTo>
                        <a:pt x="3290" y="2296"/>
                      </a:lnTo>
                      <a:lnTo>
                        <a:pt x="3355" y="2222"/>
                      </a:lnTo>
                      <a:lnTo>
                        <a:pt x="3355" y="2141"/>
                      </a:lnTo>
                      <a:lnTo>
                        <a:pt x="3314" y="2052"/>
                      </a:lnTo>
                      <a:lnTo>
                        <a:pt x="3248" y="1954"/>
                      </a:lnTo>
                      <a:lnTo>
                        <a:pt x="3248" y="1791"/>
                      </a:lnTo>
                      <a:lnTo>
                        <a:pt x="3307" y="1724"/>
                      </a:lnTo>
                      <a:lnTo>
                        <a:pt x="3299" y="1652"/>
                      </a:lnTo>
                      <a:lnTo>
                        <a:pt x="3233" y="1604"/>
                      </a:lnTo>
                      <a:lnTo>
                        <a:pt x="3200" y="1503"/>
                      </a:lnTo>
                      <a:lnTo>
                        <a:pt x="3209" y="1417"/>
                      </a:lnTo>
                      <a:lnTo>
                        <a:pt x="3191" y="1286"/>
                      </a:lnTo>
                      <a:lnTo>
                        <a:pt x="3166" y="1114"/>
                      </a:lnTo>
                      <a:lnTo>
                        <a:pt x="3166" y="910"/>
                      </a:lnTo>
                      <a:lnTo>
                        <a:pt x="3166" y="754"/>
                      </a:lnTo>
                      <a:lnTo>
                        <a:pt x="3161" y="592"/>
                      </a:lnTo>
                      <a:lnTo>
                        <a:pt x="3125" y="451"/>
                      </a:lnTo>
                      <a:lnTo>
                        <a:pt x="3092" y="360"/>
                      </a:lnTo>
                      <a:lnTo>
                        <a:pt x="2712" y="171"/>
                      </a:lnTo>
                      <a:lnTo>
                        <a:pt x="2492" y="110"/>
                      </a:lnTo>
                      <a:lnTo>
                        <a:pt x="2279" y="68"/>
                      </a:lnTo>
                      <a:lnTo>
                        <a:pt x="2044" y="0"/>
                      </a:lnTo>
                      <a:lnTo>
                        <a:pt x="890" y="27"/>
                      </a:lnTo>
                      <a:lnTo>
                        <a:pt x="556" y="85"/>
                      </a:lnTo>
                      <a:lnTo>
                        <a:pt x="222" y="205"/>
                      </a:lnTo>
                      <a:lnTo>
                        <a:pt x="123" y="264"/>
                      </a:lnTo>
                      <a:lnTo>
                        <a:pt x="40" y="461"/>
                      </a:lnTo>
                      <a:lnTo>
                        <a:pt x="40" y="1145"/>
                      </a:lnTo>
                      <a:lnTo>
                        <a:pt x="0" y="1235"/>
                      </a:lnTo>
                      <a:lnTo>
                        <a:pt x="540" y="2755"/>
                      </a:lnTo>
                      <a:lnTo>
                        <a:pt x="3542" y="275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7791480" y="5839920"/>
                  <a:ext cx="103320" cy="125640"/>
                </a:xfrm>
                <a:custGeom>
                  <a:avLst/>
                  <a:gdLst/>
                  <a:ahLst/>
                  <a:rect l="l" t="t" r="r" b="b"/>
                  <a:pathLst>
                    <a:path w="1609" h="1365">
                      <a:moveTo>
                        <a:pt x="1609" y="1365"/>
                      </a:moveTo>
                      <a:lnTo>
                        <a:pt x="1148" y="499"/>
                      </a:lnTo>
                      <a:lnTo>
                        <a:pt x="1019" y="323"/>
                      </a:lnTo>
                      <a:lnTo>
                        <a:pt x="763" y="187"/>
                      </a:lnTo>
                      <a:lnTo>
                        <a:pt x="493" y="121"/>
                      </a:lnTo>
                      <a:lnTo>
                        <a:pt x="279" y="130"/>
                      </a:lnTo>
                      <a:lnTo>
                        <a:pt x="0" y="169"/>
                      </a:lnTo>
                      <a:lnTo>
                        <a:pt x="67" y="121"/>
                      </a:lnTo>
                      <a:lnTo>
                        <a:pt x="353" y="31"/>
                      </a:lnTo>
                      <a:lnTo>
                        <a:pt x="650" y="0"/>
                      </a:lnTo>
                      <a:lnTo>
                        <a:pt x="862" y="31"/>
                      </a:lnTo>
                      <a:lnTo>
                        <a:pt x="1102" y="255"/>
                      </a:lnTo>
                      <a:lnTo>
                        <a:pt x="1264" y="547"/>
                      </a:lnTo>
                      <a:lnTo>
                        <a:pt x="1346" y="767"/>
                      </a:lnTo>
                      <a:lnTo>
                        <a:pt x="1609" y="1365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7782840" y="5873760"/>
                  <a:ext cx="52920" cy="121680"/>
                </a:xfrm>
                <a:custGeom>
                  <a:avLst/>
                  <a:gdLst/>
                  <a:ahLst/>
                  <a:rect l="l" t="t" r="r" b="b"/>
                  <a:pathLst>
                    <a:path w="829" h="1330">
                      <a:moveTo>
                        <a:pt x="548" y="586"/>
                      </a:moveTo>
                      <a:lnTo>
                        <a:pt x="484" y="464"/>
                      </a:lnTo>
                      <a:lnTo>
                        <a:pt x="394" y="360"/>
                      </a:lnTo>
                      <a:lnTo>
                        <a:pt x="304" y="286"/>
                      </a:lnTo>
                      <a:lnTo>
                        <a:pt x="205" y="235"/>
                      </a:lnTo>
                      <a:lnTo>
                        <a:pt x="156" y="226"/>
                      </a:lnTo>
                      <a:lnTo>
                        <a:pt x="221" y="374"/>
                      </a:lnTo>
                      <a:lnTo>
                        <a:pt x="359" y="554"/>
                      </a:lnTo>
                      <a:lnTo>
                        <a:pt x="516" y="694"/>
                      </a:lnTo>
                      <a:lnTo>
                        <a:pt x="714" y="835"/>
                      </a:lnTo>
                      <a:lnTo>
                        <a:pt x="745" y="851"/>
                      </a:lnTo>
                      <a:lnTo>
                        <a:pt x="829" y="1100"/>
                      </a:lnTo>
                      <a:lnTo>
                        <a:pt x="756" y="1158"/>
                      </a:lnTo>
                      <a:lnTo>
                        <a:pt x="809" y="1330"/>
                      </a:lnTo>
                      <a:lnTo>
                        <a:pt x="631" y="1305"/>
                      </a:lnTo>
                      <a:lnTo>
                        <a:pt x="703" y="1275"/>
                      </a:lnTo>
                      <a:lnTo>
                        <a:pt x="590" y="1127"/>
                      </a:lnTo>
                      <a:lnTo>
                        <a:pt x="304" y="1013"/>
                      </a:lnTo>
                      <a:lnTo>
                        <a:pt x="128" y="888"/>
                      </a:lnTo>
                      <a:lnTo>
                        <a:pt x="82" y="851"/>
                      </a:lnTo>
                      <a:lnTo>
                        <a:pt x="106" y="923"/>
                      </a:lnTo>
                      <a:lnTo>
                        <a:pt x="179" y="1028"/>
                      </a:lnTo>
                      <a:lnTo>
                        <a:pt x="39" y="906"/>
                      </a:lnTo>
                      <a:lnTo>
                        <a:pt x="7" y="791"/>
                      </a:lnTo>
                      <a:lnTo>
                        <a:pt x="0" y="743"/>
                      </a:lnTo>
                      <a:lnTo>
                        <a:pt x="48" y="586"/>
                      </a:lnTo>
                      <a:lnTo>
                        <a:pt x="64" y="0"/>
                      </a:lnTo>
                      <a:lnTo>
                        <a:pt x="286" y="148"/>
                      </a:lnTo>
                      <a:lnTo>
                        <a:pt x="431" y="307"/>
                      </a:lnTo>
                      <a:lnTo>
                        <a:pt x="509" y="448"/>
                      </a:lnTo>
                      <a:lnTo>
                        <a:pt x="548" y="586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7797240" y="5970240"/>
                  <a:ext cx="37800" cy="65160"/>
                </a:xfrm>
                <a:custGeom>
                  <a:avLst/>
                  <a:gdLst/>
                  <a:ahLst/>
                  <a:rect l="l" t="t" r="r" b="b"/>
                  <a:pathLst>
                    <a:path w="593" h="716">
                      <a:moveTo>
                        <a:pt x="19" y="0"/>
                      </a:moveTo>
                      <a:lnTo>
                        <a:pt x="132" y="54"/>
                      </a:lnTo>
                      <a:lnTo>
                        <a:pt x="190" y="187"/>
                      </a:lnTo>
                      <a:lnTo>
                        <a:pt x="331" y="268"/>
                      </a:lnTo>
                      <a:lnTo>
                        <a:pt x="222" y="259"/>
                      </a:lnTo>
                      <a:lnTo>
                        <a:pt x="289" y="310"/>
                      </a:lnTo>
                      <a:lnTo>
                        <a:pt x="455" y="358"/>
                      </a:lnTo>
                      <a:lnTo>
                        <a:pt x="534" y="448"/>
                      </a:lnTo>
                      <a:lnTo>
                        <a:pt x="492" y="538"/>
                      </a:lnTo>
                      <a:lnTo>
                        <a:pt x="388" y="473"/>
                      </a:lnTo>
                      <a:lnTo>
                        <a:pt x="354" y="529"/>
                      </a:lnTo>
                      <a:lnTo>
                        <a:pt x="503" y="587"/>
                      </a:lnTo>
                      <a:lnTo>
                        <a:pt x="593" y="554"/>
                      </a:lnTo>
                      <a:lnTo>
                        <a:pt x="518" y="716"/>
                      </a:lnTo>
                      <a:lnTo>
                        <a:pt x="275" y="554"/>
                      </a:lnTo>
                      <a:lnTo>
                        <a:pt x="0" y="22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7839360" y="6028920"/>
                  <a:ext cx="79200" cy="73440"/>
                </a:xfrm>
                <a:custGeom>
                  <a:avLst/>
                  <a:gdLst/>
                  <a:ahLst/>
                  <a:rect l="l" t="t" r="r" b="b"/>
                  <a:pathLst>
                    <a:path w="1232" h="800">
                      <a:moveTo>
                        <a:pt x="141" y="141"/>
                      </a:moveTo>
                      <a:lnTo>
                        <a:pt x="188" y="171"/>
                      </a:lnTo>
                      <a:lnTo>
                        <a:pt x="215" y="0"/>
                      </a:lnTo>
                      <a:lnTo>
                        <a:pt x="282" y="254"/>
                      </a:lnTo>
                      <a:lnTo>
                        <a:pt x="248" y="325"/>
                      </a:lnTo>
                      <a:lnTo>
                        <a:pt x="575" y="435"/>
                      </a:lnTo>
                      <a:lnTo>
                        <a:pt x="764" y="595"/>
                      </a:lnTo>
                      <a:lnTo>
                        <a:pt x="1174" y="595"/>
                      </a:lnTo>
                      <a:lnTo>
                        <a:pt x="1232" y="717"/>
                      </a:lnTo>
                      <a:lnTo>
                        <a:pt x="764" y="800"/>
                      </a:lnTo>
                      <a:lnTo>
                        <a:pt x="0" y="341"/>
                      </a:lnTo>
                      <a:lnTo>
                        <a:pt x="141" y="14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845480" y="5871600"/>
                  <a:ext cx="143640" cy="178200"/>
                </a:xfrm>
                <a:custGeom>
                  <a:avLst/>
                  <a:gdLst/>
                  <a:ahLst/>
                  <a:rect l="l" t="t" r="r" b="b"/>
                  <a:pathLst>
                    <a:path w="2241" h="1943">
                      <a:moveTo>
                        <a:pt x="1241" y="0"/>
                      </a:moveTo>
                      <a:lnTo>
                        <a:pt x="1308" y="277"/>
                      </a:lnTo>
                      <a:lnTo>
                        <a:pt x="1314" y="623"/>
                      </a:lnTo>
                      <a:lnTo>
                        <a:pt x="1250" y="1053"/>
                      </a:lnTo>
                      <a:lnTo>
                        <a:pt x="1133" y="1404"/>
                      </a:lnTo>
                      <a:lnTo>
                        <a:pt x="1232" y="1496"/>
                      </a:lnTo>
                      <a:lnTo>
                        <a:pt x="1035" y="1559"/>
                      </a:lnTo>
                      <a:lnTo>
                        <a:pt x="674" y="1519"/>
                      </a:lnTo>
                      <a:lnTo>
                        <a:pt x="248" y="1528"/>
                      </a:lnTo>
                      <a:lnTo>
                        <a:pt x="0" y="1544"/>
                      </a:lnTo>
                      <a:lnTo>
                        <a:pt x="149" y="1722"/>
                      </a:lnTo>
                      <a:lnTo>
                        <a:pt x="1133" y="1803"/>
                      </a:lnTo>
                      <a:lnTo>
                        <a:pt x="1815" y="1943"/>
                      </a:lnTo>
                      <a:lnTo>
                        <a:pt x="1898" y="1886"/>
                      </a:lnTo>
                      <a:lnTo>
                        <a:pt x="1802" y="1812"/>
                      </a:lnTo>
                      <a:lnTo>
                        <a:pt x="1872" y="1748"/>
                      </a:lnTo>
                      <a:lnTo>
                        <a:pt x="2013" y="1722"/>
                      </a:lnTo>
                      <a:lnTo>
                        <a:pt x="2241" y="1739"/>
                      </a:lnTo>
                      <a:lnTo>
                        <a:pt x="2064" y="1634"/>
                      </a:lnTo>
                      <a:lnTo>
                        <a:pt x="1956" y="1501"/>
                      </a:lnTo>
                      <a:lnTo>
                        <a:pt x="1965" y="1404"/>
                      </a:lnTo>
                      <a:lnTo>
                        <a:pt x="2151" y="1307"/>
                      </a:lnTo>
                      <a:lnTo>
                        <a:pt x="2202" y="1168"/>
                      </a:lnTo>
                      <a:lnTo>
                        <a:pt x="2103" y="1215"/>
                      </a:lnTo>
                      <a:lnTo>
                        <a:pt x="1995" y="1210"/>
                      </a:lnTo>
                      <a:lnTo>
                        <a:pt x="1971" y="1168"/>
                      </a:lnTo>
                      <a:lnTo>
                        <a:pt x="2064" y="1075"/>
                      </a:lnTo>
                      <a:lnTo>
                        <a:pt x="1979" y="1071"/>
                      </a:lnTo>
                      <a:lnTo>
                        <a:pt x="1988" y="972"/>
                      </a:lnTo>
                      <a:lnTo>
                        <a:pt x="2028" y="832"/>
                      </a:lnTo>
                      <a:lnTo>
                        <a:pt x="2120" y="876"/>
                      </a:lnTo>
                      <a:lnTo>
                        <a:pt x="2151" y="963"/>
                      </a:lnTo>
                      <a:lnTo>
                        <a:pt x="2186" y="840"/>
                      </a:lnTo>
                      <a:lnTo>
                        <a:pt x="2145" y="537"/>
                      </a:lnTo>
                      <a:lnTo>
                        <a:pt x="2168" y="311"/>
                      </a:lnTo>
                      <a:lnTo>
                        <a:pt x="2094" y="645"/>
                      </a:lnTo>
                      <a:lnTo>
                        <a:pt x="1979" y="816"/>
                      </a:lnTo>
                      <a:lnTo>
                        <a:pt x="1760" y="1134"/>
                      </a:lnTo>
                      <a:lnTo>
                        <a:pt x="1608" y="1282"/>
                      </a:lnTo>
                      <a:lnTo>
                        <a:pt x="1398" y="1422"/>
                      </a:lnTo>
                      <a:lnTo>
                        <a:pt x="1331" y="1429"/>
                      </a:lnTo>
                      <a:lnTo>
                        <a:pt x="1398" y="1307"/>
                      </a:lnTo>
                      <a:lnTo>
                        <a:pt x="1430" y="1111"/>
                      </a:lnTo>
                      <a:lnTo>
                        <a:pt x="1446" y="800"/>
                      </a:lnTo>
                      <a:lnTo>
                        <a:pt x="1430" y="521"/>
                      </a:lnTo>
                      <a:lnTo>
                        <a:pt x="1398" y="269"/>
                      </a:lnTo>
                      <a:lnTo>
                        <a:pt x="1349" y="113"/>
                      </a:lnTo>
                      <a:lnTo>
                        <a:pt x="1241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7965360" y="6054480"/>
                  <a:ext cx="36360" cy="32040"/>
                </a:xfrm>
                <a:custGeom>
                  <a:avLst/>
                  <a:gdLst/>
                  <a:ahLst/>
                  <a:rect l="l" t="t" r="r" b="b"/>
                  <a:pathLst>
                    <a:path w="567" h="351">
                      <a:moveTo>
                        <a:pt x="129" y="0"/>
                      </a:moveTo>
                      <a:lnTo>
                        <a:pt x="198" y="72"/>
                      </a:lnTo>
                      <a:lnTo>
                        <a:pt x="173" y="162"/>
                      </a:lnTo>
                      <a:lnTo>
                        <a:pt x="237" y="114"/>
                      </a:lnTo>
                      <a:lnTo>
                        <a:pt x="261" y="251"/>
                      </a:lnTo>
                      <a:lnTo>
                        <a:pt x="355" y="169"/>
                      </a:lnTo>
                      <a:lnTo>
                        <a:pt x="426" y="219"/>
                      </a:lnTo>
                      <a:lnTo>
                        <a:pt x="375" y="268"/>
                      </a:lnTo>
                      <a:lnTo>
                        <a:pt x="417" y="327"/>
                      </a:lnTo>
                      <a:lnTo>
                        <a:pt x="507" y="309"/>
                      </a:lnTo>
                      <a:lnTo>
                        <a:pt x="567" y="351"/>
                      </a:lnTo>
                      <a:lnTo>
                        <a:pt x="204" y="351"/>
                      </a:lnTo>
                      <a:lnTo>
                        <a:pt x="0" y="196"/>
                      </a:lnTo>
                      <a:lnTo>
                        <a:pt x="23" y="37"/>
                      </a:lnTo>
                      <a:lnTo>
                        <a:pt x="129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979760" y="5995800"/>
                  <a:ext cx="10080" cy="18000"/>
                </a:xfrm>
                <a:custGeom>
                  <a:avLst/>
                  <a:gdLst/>
                  <a:ahLst/>
                  <a:rect l="l" t="t" r="r" b="b"/>
                  <a:pathLst>
                    <a:path w="156" h="200">
                      <a:moveTo>
                        <a:pt x="0" y="79"/>
                      </a:moveTo>
                      <a:lnTo>
                        <a:pt x="81" y="79"/>
                      </a:lnTo>
                      <a:lnTo>
                        <a:pt x="74" y="137"/>
                      </a:lnTo>
                      <a:lnTo>
                        <a:pt x="18" y="128"/>
                      </a:lnTo>
                      <a:lnTo>
                        <a:pt x="127" y="200"/>
                      </a:lnTo>
                      <a:lnTo>
                        <a:pt x="156" y="0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904520" y="6043680"/>
                  <a:ext cx="61920" cy="57240"/>
                </a:xfrm>
                <a:custGeom>
                  <a:avLst/>
                  <a:gdLst/>
                  <a:ahLst/>
                  <a:rect l="l" t="t" r="r" b="b"/>
                  <a:pathLst>
                    <a:path w="966" h="621">
                      <a:moveTo>
                        <a:pt x="0" y="237"/>
                      </a:moveTo>
                      <a:lnTo>
                        <a:pt x="70" y="310"/>
                      </a:lnTo>
                      <a:lnTo>
                        <a:pt x="138" y="432"/>
                      </a:lnTo>
                      <a:lnTo>
                        <a:pt x="171" y="545"/>
                      </a:lnTo>
                      <a:lnTo>
                        <a:pt x="303" y="621"/>
                      </a:lnTo>
                      <a:lnTo>
                        <a:pt x="484" y="596"/>
                      </a:lnTo>
                      <a:lnTo>
                        <a:pt x="681" y="561"/>
                      </a:lnTo>
                      <a:lnTo>
                        <a:pt x="966" y="450"/>
                      </a:lnTo>
                      <a:lnTo>
                        <a:pt x="966" y="220"/>
                      </a:lnTo>
                      <a:lnTo>
                        <a:pt x="910" y="81"/>
                      </a:lnTo>
                      <a:lnTo>
                        <a:pt x="562" y="0"/>
                      </a:lnTo>
                      <a:lnTo>
                        <a:pt x="244" y="160"/>
                      </a:lnTo>
                      <a:lnTo>
                        <a:pt x="0" y="23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896600" y="58885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125" h="113">
                      <a:moveTo>
                        <a:pt x="90" y="0"/>
                      </a:moveTo>
                      <a:lnTo>
                        <a:pt x="33" y="14"/>
                      </a:lnTo>
                      <a:lnTo>
                        <a:pt x="0" y="69"/>
                      </a:lnTo>
                      <a:lnTo>
                        <a:pt x="42" y="113"/>
                      </a:lnTo>
                      <a:lnTo>
                        <a:pt x="99" y="113"/>
                      </a:lnTo>
                      <a:lnTo>
                        <a:pt x="125" y="78"/>
                      </a:lnTo>
                      <a:lnTo>
                        <a:pt x="125" y="30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903800" y="5952960"/>
                  <a:ext cx="5400" cy="7920"/>
                </a:xfrm>
                <a:custGeom>
                  <a:avLst/>
                  <a:gdLst/>
                  <a:ahLst/>
                  <a:rect l="l" t="t" r="r" b="b"/>
                  <a:pathLst>
                    <a:path w="88" h="94">
                      <a:moveTo>
                        <a:pt x="82" y="21"/>
                      </a:moveTo>
                      <a:lnTo>
                        <a:pt x="55" y="0"/>
                      </a:lnTo>
                      <a:lnTo>
                        <a:pt x="7" y="12"/>
                      </a:lnTo>
                      <a:lnTo>
                        <a:pt x="0" y="69"/>
                      </a:lnTo>
                      <a:lnTo>
                        <a:pt x="42" y="94"/>
                      </a:lnTo>
                      <a:lnTo>
                        <a:pt x="88" y="69"/>
                      </a:lnTo>
                      <a:lnTo>
                        <a:pt x="82" y="21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7855920" y="5699520"/>
                  <a:ext cx="73800" cy="184320"/>
                </a:xfrm>
                <a:custGeom>
                  <a:avLst/>
                  <a:gdLst/>
                  <a:ahLst/>
                  <a:rect l="l" t="t" r="r" b="b"/>
                  <a:pathLst>
                    <a:path w="1157" h="2007">
                      <a:moveTo>
                        <a:pt x="35" y="1688"/>
                      </a:moveTo>
                      <a:lnTo>
                        <a:pt x="95" y="1780"/>
                      </a:lnTo>
                      <a:lnTo>
                        <a:pt x="251" y="1881"/>
                      </a:lnTo>
                      <a:lnTo>
                        <a:pt x="411" y="1937"/>
                      </a:lnTo>
                      <a:lnTo>
                        <a:pt x="596" y="1976"/>
                      </a:lnTo>
                      <a:lnTo>
                        <a:pt x="789" y="2007"/>
                      </a:lnTo>
                      <a:lnTo>
                        <a:pt x="895" y="1971"/>
                      </a:lnTo>
                      <a:lnTo>
                        <a:pt x="945" y="1911"/>
                      </a:lnTo>
                      <a:lnTo>
                        <a:pt x="956" y="1766"/>
                      </a:lnTo>
                      <a:lnTo>
                        <a:pt x="915" y="1577"/>
                      </a:lnTo>
                      <a:lnTo>
                        <a:pt x="875" y="1422"/>
                      </a:lnTo>
                      <a:lnTo>
                        <a:pt x="961" y="1317"/>
                      </a:lnTo>
                      <a:lnTo>
                        <a:pt x="1055" y="1143"/>
                      </a:lnTo>
                      <a:lnTo>
                        <a:pt x="1093" y="1009"/>
                      </a:lnTo>
                      <a:lnTo>
                        <a:pt x="1148" y="772"/>
                      </a:lnTo>
                      <a:lnTo>
                        <a:pt x="1157" y="648"/>
                      </a:lnTo>
                      <a:lnTo>
                        <a:pt x="1157" y="480"/>
                      </a:lnTo>
                      <a:lnTo>
                        <a:pt x="1125" y="231"/>
                      </a:lnTo>
                      <a:lnTo>
                        <a:pt x="994" y="14"/>
                      </a:lnTo>
                      <a:lnTo>
                        <a:pt x="411" y="0"/>
                      </a:lnTo>
                      <a:lnTo>
                        <a:pt x="129" y="378"/>
                      </a:lnTo>
                      <a:lnTo>
                        <a:pt x="0" y="576"/>
                      </a:lnTo>
                      <a:lnTo>
                        <a:pt x="5" y="733"/>
                      </a:lnTo>
                      <a:lnTo>
                        <a:pt x="69" y="1056"/>
                      </a:lnTo>
                      <a:lnTo>
                        <a:pt x="23" y="1568"/>
                      </a:lnTo>
                      <a:lnTo>
                        <a:pt x="35" y="1688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7859520" y="5778360"/>
                  <a:ext cx="7920" cy="21240"/>
                </a:xfrm>
                <a:custGeom>
                  <a:avLst/>
                  <a:gdLst/>
                  <a:ahLst/>
                  <a:rect l="l" t="t" r="r" b="b"/>
                  <a:pathLst>
                    <a:path w="129" h="233">
                      <a:moveTo>
                        <a:pt x="33" y="12"/>
                      </a:moveTo>
                      <a:lnTo>
                        <a:pt x="67" y="0"/>
                      </a:lnTo>
                      <a:lnTo>
                        <a:pt x="101" y="25"/>
                      </a:lnTo>
                      <a:lnTo>
                        <a:pt x="129" y="79"/>
                      </a:lnTo>
                      <a:lnTo>
                        <a:pt x="123" y="194"/>
                      </a:lnTo>
                      <a:lnTo>
                        <a:pt x="81" y="233"/>
                      </a:lnTo>
                      <a:lnTo>
                        <a:pt x="0" y="194"/>
                      </a:lnTo>
                      <a:lnTo>
                        <a:pt x="0" y="95"/>
                      </a:lnTo>
                      <a:lnTo>
                        <a:pt x="33" y="12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7926480" y="578412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44" h="123">
                      <a:moveTo>
                        <a:pt x="24" y="0"/>
                      </a:moveTo>
                      <a:lnTo>
                        <a:pt x="0" y="123"/>
                      </a:lnTo>
                      <a:lnTo>
                        <a:pt x="28" y="121"/>
                      </a:lnTo>
                      <a:lnTo>
                        <a:pt x="44" y="88"/>
                      </a:lnTo>
                      <a:lnTo>
                        <a:pt x="39" y="4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7557480" y="5860440"/>
                  <a:ext cx="335880" cy="355320"/>
                </a:xfrm>
                <a:custGeom>
                  <a:avLst/>
                  <a:gdLst/>
                  <a:ahLst/>
                  <a:rect l="l" t="t" r="r" b="b"/>
                  <a:pathLst>
                    <a:path w="5233" h="3878">
                      <a:moveTo>
                        <a:pt x="4452" y="3024"/>
                      </a:moveTo>
                      <a:lnTo>
                        <a:pt x="4030" y="2787"/>
                      </a:lnTo>
                      <a:lnTo>
                        <a:pt x="3672" y="2893"/>
                      </a:lnTo>
                      <a:lnTo>
                        <a:pt x="3525" y="2812"/>
                      </a:lnTo>
                      <a:lnTo>
                        <a:pt x="3052" y="2393"/>
                      </a:lnTo>
                      <a:lnTo>
                        <a:pt x="2947" y="3010"/>
                      </a:lnTo>
                      <a:lnTo>
                        <a:pt x="3131" y="3089"/>
                      </a:lnTo>
                      <a:lnTo>
                        <a:pt x="3356" y="2999"/>
                      </a:lnTo>
                      <a:lnTo>
                        <a:pt x="3608" y="3076"/>
                      </a:lnTo>
                      <a:lnTo>
                        <a:pt x="3790" y="3063"/>
                      </a:lnTo>
                      <a:lnTo>
                        <a:pt x="4318" y="3052"/>
                      </a:lnTo>
                      <a:lnTo>
                        <a:pt x="4468" y="3234"/>
                      </a:lnTo>
                      <a:lnTo>
                        <a:pt x="4410" y="3612"/>
                      </a:lnTo>
                      <a:lnTo>
                        <a:pt x="4336" y="3681"/>
                      </a:lnTo>
                      <a:lnTo>
                        <a:pt x="3845" y="3681"/>
                      </a:lnTo>
                      <a:lnTo>
                        <a:pt x="1901" y="3878"/>
                      </a:lnTo>
                      <a:lnTo>
                        <a:pt x="11" y="3654"/>
                      </a:lnTo>
                      <a:lnTo>
                        <a:pt x="0" y="1987"/>
                      </a:lnTo>
                      <a:lnTo>
                        <a:pt x="103" y="1510"/>
                      </a:lnTo>
                      <a:lnTo>
                        <a:pt x="304" y="1037"/>
                      </a:lnTo>
                      <a:lnTo>
                        <a:pt x="408" y="892"/>
                      </a:lnTo>
                      <a:lnTo>
                        <a:pt x="685" y="590"/>
                      </a:lnTo>
                      <a:lnTo>
                        <a:pt x="975" y="394"/>
                      </a:lnTo>
                      <a:lnTo>
                        <a:pt x="1213" y="248"/>
                      </a:lnTo>
                      <a:lnTo>
                        <a:pt x="1466" y="145"/>
                      </a:lnTo>
                      <a:lnTo>
                        <a:pt x="1572" y="0"/>
                      </a:lnTo>
                      <a:lnTo>
                        <a:pt x="2604" y="343"/>
                      </a:lnTo>
                      <a:lnTo>
                        <a:pt x="2747" y="514"/>
                      </a:lnTo>
                      <a:lnTo>
                        <a:pt x="2947" y="643"/>
                      </a:lnTo>
                      <a:lnTo>
                        <a:pt x="3172" y="828"/>
                      </a:lnTo>
                      <a:lnTo>
                        <a:pt x="3474" y="1210"/>
                      </a:lnTo>
                      <a:lnTo>
                        <a:pt x="4307" y="1995"/>
                      </a:lnTo>
                      <a:lnTo>
                        <a:pt x="4491" y="2079"/>
                      </a:lnTo>
                      <a:lnTo>
                        <a:pt x="4544" y="2236"/>
                      </a:lnTo>
                      <a:lnTo>
                        <a:pt x="4956" y="2340"/>
                      </a:lnTo>
                      <a:lnTo>
                        <a:pt x="5140" y="2551"/>
                      </a:lnTo>
                      <a:lnTo>
                        <a:pt x="5233" y="2812"/>
                      </a:lnTo>
                      <a:lnTo>
                        <a:pt x="4452" y="3024"/>
                      </a:lnTo>
                      <a:close/>
                    </a:path>
                  </a:pathLst>
                </a:custGeom>
                <a:solidFill>
                  <a:srgbClr val="00e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7893360" y="6058080"/>
                  <a:ext cx="51840" cy="116640"/>
                </a:xfrm>
                <a:custGeom>
                  <a:avLst/>
                  <a:gdLst/>
                  <a:ahLst/>
                  <a:rect l="l" t="t" r="r" b="b"/>
                  <a:pathLst>
                    <a:path w="803" h="1268">
                      <a:moveTo>
                        <a:pt x="0" y="23"/>
                      </a:moveTo>
                      <a:lnTo>
                        <a:pt x="0" y="44"/>
                      </a:lnTo>
                      <a:lnTo>
                        <a:pt x="12" y="69"/>
                      </a:lnTo>
                      <a:lnTo>
                        <a:pt x="708" y="1183"/>
                      </a:lnTo>
                      <a:lnTo>
                        <a:pt x="803" y="1268"/>
                      </a:lnTo>
                      <a:lnTo>
                        <a:pt x="759" y="1139"/>
                      </a:lnTo>
                      <a:lnTo>
                        <a:pt x="61" y="5"/>
                      </a:lnTo>
                      <a:lnTo>
                        <a:pt x="1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7854480" y="6108120"/>
                  <a:ext cx="77400" cy="70200"/>
                </a:xfrm>
                <a:custGeom>
                  <a:avLst/>
                  <a:gdLst/>
                  <a:ahLst/>
                  <a:rect l="l" t="t" r="r" b="b"/>
                  <a:pathLst>
                    <a:path w="1202" h="775">
                      <a:moveTo>
                        <a:pt x="0" y="289"/>
                      </a:moveTo>
                      <a:lnTo>
                        <a:pt x="63" y="132"/>
                      </a:lnTo>
                      <a:lnTo>
                        <a:pt x="182" y="66"/>
                      </a:lnTo>
                      <a:lnTo>
                        <a:pt x="287" y="81"/>
                      </a:lnTo>
                      <a:lnTo>
                        <a:pt x="487" y="118"/>
                      </a:lnTo>
                      <a:lnTo>
                        <a:pt x="607" y="28"/>
                      </a:lnTo>
                      <a:lnTo>
                        <a:pt x="709" y="0"/>
                      </a:lnTo>
                      <a:lnTo>
                        <a:pt x="1147" y="66"/>
                      </a:lnTo>
                      <a:lnTo>
                        <a:pt x="1188" y="171"/>
                      </a:lnTo>
                      <a:lnTo>
                        <a:pt x="1135" y="199"/>
                      </a:lnTo>
                      <a:lnTo>
                        <a:pt x="793" y="224"/>
                      </a:lnTo>
                      <a:lnTo>
                        <a:pt x="1162" y="382"/>
                      </a:lnTo>
                      <a:lnTo>
                        <a:pt x="1202" y="475"/>
                      </a:lnTo>
                      <a:lnTo>
                        <a:pt x="1174" y="552"/>
                      </a:lnTo>
                      <a:lnTo>
                        <a:pt x="1068" y="630"/>
                      </a:lnTo>
                      <a:lnTo>
                        <a:pt x="1029" y="738"/>
                      </a:lnTo>
                      <a:lnTo>
                        <a:pt x="709" y="775"/>
                      </a:lnTo>
                      <a:lnTo>
                        <a:pt x="130" y="710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7653960" y="5762880"/>
                  <a:ext cx="105120" cy="175320"/>
                </a:xfrm>
                <a:custGeom>
                  <a:avLst/>
                  <a:gdLst/>
                  <a:ahLst/>
                  <a:rect l="l" t="t" r="r" b="b"/>
                  <a:pathLst>
                    <a:path w="1639" h="1907">
                      <a:moveTo>
                        <a:pt x="0" y="538"/>
                      </a:moveTo>
                      <a:lnTo>
                        <a:pt x="53" y="850"/>
                      </a:lnTo>
                      <a:lnTo>
                        <a:pt x="73" y="949"/>
                      </a:lnTo>
                      <a:lnTo>
                        <a:pt x="127" y="1008"/>
                      </a:lnTo>
                      <a:lnTo>
                        <a:pt x="99" y="1109"/>
                      </a:lnTo>
                      <a:lnTo>
                        <a:pt x="154" y="1217"/>
                      </a:lnTo>
                      <a:lnTo>
                        <a:pt x="207" y="1305"/>
                      </a:lnTo>
                      <a:lnTo>
                        <a:pt x="272" y="1409"/>
                      </a:lnTo>
                      <a:lnTo>
                        <a:pt x="495" y="1599"/>
                      </a:lnTo>
                      <a:lnTo>
                        <a:pt x="784" y="1907"/>
                      </a:lnTo>
                      <a:lnTo>
                        <a:pt x="822" y="1859"/>
                      </a:lnTo>
                      <a:lnTo>
                        <a:pt x="881" y="1736"/>
                      </a:lnTo>
                      <a:lnTo>
                        <a:pt x="905" y="1598"/>
                      </a:lnTo>
                      <a:lnTo>
                        <a:pt x="1030" y="1630"/>
                      </a:lnTo>
                      <a:lnTo>
                        <a:pt x="1155" y="1617"/>
                      </a:lnTo>
                      <a:lnTo>
                        <a:pt x="1213" y="1584"/>
                      </a:lnTo>
                      <a:lnTo>
                        <a:pt x="1270" y="1522"/>
                      </a:lnTo>
                      <a:lnTo>
                        <a:pt x="1429" y="1179"/>
                      </a:lnTo>
                      <a:lnTo>
                        <a:pt x="1510" y="1077"/>
                      </a:lnTo>
                      <a:lnTo>
                        <a:pt x="1572" y="905"/>
                      </a:lnTo>
                      <a:lnTo>
                        <a:pt x="1586" y="718"/>
                      </a:lnTo>
                      <a:lnTo>
                        <a:pt x="1618" y="632"/>
                      </a:lnTo>
                      <a:lnTo>
                        <a:pt x="1635" y="575"/>
                      </a:lnTo>
                      <a:lnTo>
                        <a:pt x="1639" y="261"/>
                      </a:lnTo>
                      <a:lnTo>
                        <a:pt x="1609" y="118"/>
                      </a:lnTo>
                      <a:lnTo>
                        <a:pt x="1540" y="0"/>
                      </a:lnTo>
                      <a:lnTo>
                        <a:pt x="207" y="155"/>
                      </a:lnTo>
                      <a:lnTo>
                        <a:pt x="0" y="538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699320" y="5945760"/>
                  <a:ext cx="23400" cy="177120"/>
                </a:xfrm>
                <a:custGeom>
                  <a:avLst/>
                  <a:gdLst/>
                  <a:ahLst/>
                  <a:rect l="l" t="t" r="r" b="b"/>
                  <a:pathLst>
                    <a:path w="369" h="1920">
                      <a:moveTo>
                        <a:pt x="92" y="0"/>
                      </a:moveTo>
                      <a:lnTo>
                        <a:pt x="40" y="52"/>
                      </a:lnTo>
                      <a:lnTo>
                        <a:pt x="0" y="142"/>
                      </a:lnTo>
                      <a:lnTo>
                        <a:pt x="27" y="313"/>
                      </a:lnTo>
                      <a:lnTo>
                        <a:pt x="14" y="973"/>
                      </a:lnTo>
                      <a:lnTo>
                        <a:pt x="40" y="1433"/>
                      </a:lnTo>
                      <a:lnTo>
                        <a:pt x="119" y="1920"/>
                      </a:lnTo>
                      <a:lnTo>
                        <a:pt x="200" y="1920"/>
                      </a:lnTo>
                      <a:lnTo>
                        <a:pt x="319" y="1920"/>
                      </a:lnTo>
                      <a:lnTo>
                        <a:pt x="369" y="1841"/>
                      </a:lnTo>
                      <a:lnTo>
                        <a:pt x="263" y="1498"/>
                      </a:lnTo>
                      <a:lnTo>
                        <a:pt x="212" y="1169"/>
                      </a:lnTo>
                      <a:lnTo>
                        <a:pt x="200" y="776"/>
                      </a:lnTo>
                      <a:lnTo>
                        <a:pt x="159" y="313"/>
                      </a:lnTo>
                      <a:lnTo>
                        <a:pt x="185" y="211"/>
                      </a:lnTo>
                      <a:lnTo>
                        <a:pt x="159" y="66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7710840" y="5717880"/>
                  <a:ext cx="58320" cy="85680"/>
                </a:xfrm>
                <a:custGeom>
                  <a:avLst/>
                  <a:gdLst/>
                  <a:ahLst/>
                  <a:rect l="l" t="t" r="r" b="b"/>
                  <a:pathLst>
                    <a:path w="914" h="936">
                      <a:moveTo>
                        <a:pt x="635" y="499"/>
                      </a:moveTo>
                      <a:lnTo>
                        <a:pt x="714" y="607"/>
                      </a:lnTo>
                      <a:lnTo>
                        <a:pt x="844" y="936"/>
                      </a:lnTo>
                      <a:lnTo>
                        <a:pt x="899" y="855"/>
                      </a:lnTo>
                      <a:lnTo>
                        <a:pt x="914" y="581"/>
                      </a:lnTo>
                      <a:lnTo>
                        <a:pt x="914" y="510"/>
                      </a:lnTo>
                      <a:lnTo>
                        <a:pt x="859" y="462"/>
                      </a:lnTo>
                      <a:lnTo>
                        <a:pt x="767" y="381"/>
                      </a:lnTo>
                      <a:lnTo>
                        <a:pt x="686" y="224"/>
                      </a:lnTo>
                      <a:lnTo>
                        <a:pt x="541" y="79"/>
                      </a:lnTo>
                      <a:lnTo>
                        <a:pt x="356" y="40"/>
                      </a:lnTo>
                      <a:lnTo>
                        <a:pt x="145" y="0"/>
                      </a:lnTo>
                      <a:lnTo>
                        <a:pt x="0" y="51"/>
                      </a:lnTo>
                      <a:lnTo>
                        <a:pt x="15" y="593"/>
                      </a:lnTo>
                      <a:lnTo>
                        <a:pt x="635" y="499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704360" y="5810400"/>
                  <a:ext cx="15840" cy="8640"/>
                </a:xfrm>
                <a:custGeom>
                  <a:avLst/>
                  <a:gdLst/>
                  <a:ahLst/>
                  <a:rect l="l" t="t" r="r" b="b"/>
                  <a:pathLst>
                    <a:path w="251" h="93">
                      <a:moveTo>
                        <a:pt x="0" y="55"/>
                      </a:moveTo>
                      <a:lnTo>
                        <a:pt x="147" y="70"/>
                      </a:lnTo>
                      <a:lnTo>
                        <a:pt x="251" y="93"/>
                      </a:lnTo>
                      <a:lnTo>
                        <a:pt x="196" y="0"/>
                      </a:lnTo>
                      <a:lnTo>
                        <a:pt x="53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7740720" y="5820840"/>
                  <a:ext cx="11520" cy="10080"/>
                </a:xfrm>
                <a:custGeom>
                  <a:avLst/>
                  <a:gdLst/>
                  <a:ahLst/>
                  <a:rect l="l" t="t" r="r" b="b"/>
                  <a:pathLst>
                    <a:path w="183" h="119">
                      <a:moveTo>
                        <a:pt x="0" y="66"/>
                      </a:moveTo>
                      <a:lnTo>
                        <a:pt x="106" y="119"/>
                      </a:lnTo>
                      <a:lnTo>
                        <a:pt x="183" y="105"/>
                      </a:lnTo>
                      <a:lnTo>
                        <a:pt x="172" y="77"/>
                      </a:lnTo>
                      <a:lnTo>
                        <a:pt x="37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7878960" y="5757480"/>
                  <a:ext cx="14040" cy="7920"/>
                </a:xfrm>
                <a:custGeom>
                  <a:avLst/>
                  <a:gdLst/>
                  <a:ahLst/>
                  <a:rect l="l" t="t" r="r" b="b"/>
                  <a:pathLst>
                    <a:path w="218" h="86">
                      <a:moveTo>
                        <a:pt x="0" y="14"/>
                      </a:moveTo>
                      <a:lnTo>
                        <a:pt x="62" y="60"/>
                      </a:lnTo>
                      <a:lnTo>
                        <a:pt x="97" y="86"/>
                      </a:lnTo>
                      <a:lnTo>
                        <a:pt x="181" y="86"/>
                      </a:lnTo>
                      <a:lnTo>
                        <a:pt x="218" y="58"/>
                      </a:lnTo>
                      <a:lnTo>
                        <a:pt x="177" y="9"/>
                      </a:lnTo>
                      <a:lnTo>
                        <a:pt x="103" y="0"/>
                      </a:lnTo>
                      <a:lnTo>
                        <a:pt x="20" y="9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7909200" y="57607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16" h="83">
                      <a:moveTo>
                        <a:pt x="0" y="48"/>
                      </a:moveTo>
                      <a:lnTo>
                        <a:pt x="50" y="7"/>
                      </a:lnTo>
                      <a:lnTo>
                        <a:pt x="130" y="0"/>
                      </a:lnTo>
                      <a:lnTo>
                        <a:pt x="216" y="35"/>
                      </a:lnTo>
                      <a:lnTo>
                        <a:pt x="163" y="66"/>
                      </a:lnTo>
                      <a:lnTo>
                        <a:pt x="121" y="81"/>
                      </a:lnTo>
                      <a:lnTo>
                        <a:pt x="75" y="83"/>
                      </a:lnTo>
                      <a:lnTo>
                        <a:pt x="18" y="6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7888680" y="5805360"/>
                  <a:ext cx="21960" cy="6480"/>
                </a:xfrm>
                <a:custGeom>
                  <a:avLst/>
                  <a:gdLst/>
                  <a:ahLst/>
                  <a:rect l="l" t="t" r="r" b="b"/>
                  <a:pathLst>
                    <a:path w="350" h="67">
                      <a:moveTo>
                        <a:pt x="0" y="4"/>
                      </a:moveTo>
                      <a:lnTo>
                        <a:pt x="82" y="50"/>
                      </a:lnTo>
                      <a:lnTo>
                        <a:pt x="203" y="67"/>
                      </a:lnTo>
                      <a:lnTo>
                        <a:pt x="260" y="65"/>
                      </a:lnTo>
                      <a:lnTo>
                        <a:pt x="299" y="46"/>
                      </a:lnTo>
                      <a:lnTo>
                        <a:pt x="332" y="21"/>
                      </a:lnTo>
                      <a:lnTo>
                        <a:pt x="350" y="0"/>
                      </a:lnTo>
                      <a:lnTo>
                        <a:pt x="249" y="6"/>
                      </a:lnTo>
                      <a:lnTo>
                        <a:pt x="194" y="14"/>
                      </a:lnTo>
                      <a:lnTo>
                        <a:pt x="108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8261280" y="5832000"/>
                  <a:ext cx="303480" cy="383400"/>
                </a:xfrm>
                <a:custGeom>
                  <a:avLst/>
                  <a:gdLst/>
                  <a:ahLst/>
                  <a:rect l="l" t="t" r="r" b="b"/>
                  <a:pathLst>
                    <a:path w="4729" h="4178">
                      <a:moveTo>
                        <a:pt x="602" y="3182"/>
                      </a:moveTo>
                      <a:lnTo>
                        <a:pt x="1411" y="2760"/>
                      </a:lnTo>
                      <a:lnTo>
                        <a:pt x="1677" y="2463"/>
                      </a:lnTo>
                      <a:lnTo>
                        <a:pt x="1928" y="3087"/>
                      </a:lnTo>
                      <a:lnTo>
                        <a:pt x="1940" y="3300"/>
                      </a:lnTo>
                      <a:lnTo>
                        <a:pt x="1846" y="3325"/>
                      </a:lnTo>
                      <a:lnTo>
                        <a:pt x="1640" y="3288"/>
                      </a:lnTo>
                      <a:lnTo>
                        <a:pt x="1486" y="3279"/>
                      </a:lnTo>
                      <a:lnTo>
                        <a:pt x="1398" y="3241"/>
                      </a:lnTo>
                      <a:lnTo>
                        <a:pt x="1218" y="3265"/>
                      </a:lnTo>
                      <a:lnTo>
                        <a:pt x="1050" y="3230"/>
                      </a:lnTo>
                      <a:lnTo>
                        <a:pt x="844" y="3168"/>
                      </a:lnTo>
                      <a:lnTo>
                        <a:pt x="672" y="3254"/>
                      </a:lnTo>
                      <a:lnTo>
                        <a:pt x="541" y="3491"/>
                      </a:lnTo>
                      <a:lnTo>
                        <a:pt x="640" y="3841"/>
                      </a:lnTo>
                      <a:lnTo>
                        <a:pt x="1070" y="3903"/>
                      </a:lnTo>
                      <a:lnTo>
                        <a:pt x="1640" y="4032"/>
                      </a:lnTo>
                      <a:lnTo>
                        <a:pt x="2013" y="4139"/>
                      </a:lnTo>
                      <a:lnTo>
                        <a:pt x="2919" y="4178"/>
                      </a:lnTo>
                      <a:lnTo>
                        <a:pt x="3270" y="4153"/>
                      </a:lnTo>
                      <a:lnTo>
                        <a:pt x="3620" y="4056"/>
                      </a:lnTo>
                      <a:lnTo>
                        <a:pt x="4667" y="2951"/>
                      </a:lnTo>
                      <a:lnTo>
                        <a:pt x="4729" y="1824"/>
                      </a:lnTo>
                      <a:lnTo>
                        <a:pt x="4584" y="1298"/>
                      </a:lnTo>
                      <a:lnTo>
                        <a:pt x="4425" y="1019"/>
                      </a:lnTo>
                      <a:lnTo>
                        <a:pt x="4138" y="639"/>
                      </a:lnTo>
                      <a:lnTo>
                        <a:pt x="3595" y="384"/>
                      </a:lnTo>
                      <a:lnTo>
                        <a:pt x="3450" y="422"/>
                      </a:lnTo>
                      <a:lnTo>
                        <a:pt x="3342" y="362"/>
                      </a:lnTo>
                      <a:lnTo>
                        <a:pt x="3256" y="194"/>
                      </a:lnTo>
                      <a:lnTo>
                        <a:pt x="3053" y="121"/>
                      </a:lnTo>
                      <a:lnTo>
                        <a:pt x="2872" y="0"/>
                      </a:lnTo>
                      <a:lnTo>
                        <a:pt x="2666" y="12"/>
                      </a:lnTo>
                      <a:lnTo>
                        <a:pt x="1709" y="602"/>
                      </a:lnTo>
                      <a:lnTo>
                        <a:pt x="1558" y="720"/>
                      </a:lnTo>
                      <a:lnTo>
                        <a:pt x="1460" y="817"/>
                      </a:lnTo>
                      <a:lnTo>
                        <a:pt x="1281" y="911"/>
                      </a:lnTo>
                      <a:lnTo>
                        <a:pt x="1070" y="1503"/>
                      </a:lnTo>
                      <a:lnTo>
                        <a:pt x="1064" y="1702"/>
                      </a:lnTo>
                      <a:lnTo>
                        <a:pt x="989" y="1979"/>
                      </a:lnTo>
                      <a:lnTo>
                        <a:pt x="808" y="2039"/>
                      </a:lnTo>
                      <a:lnTo>
                        <a:pt x="723" y="2136"/>
                      </a:lnTo>
                      <a:lnTo>
                        <a:pt x="699" y="2259"/>
                      </a:lnTo>
                      <a:lnTo>
                        <a:pt x="578" y="2377"/>
                      </a:lnTo>
                      <a:lnTo>
                        <a:pt x="240" y="2606"/>
                      </a:lnTo>
                      <a:lnTo>
                        <a:pt x="0" y="2917"/>
                      </a:lnTo>
                      <a:lnTo>
                        <a:pt x="277" y="3145"/>
                      </a:lnTo>
                      <a:lnTo>
                        <a:pt x="602" y="3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8292240" y="5930280"/>
                  <a:ext cx="89280" cy="199800"/>
                </a:xfrm>
                <a:custGeom>
                  <a:avLst/>
                  <a:gdLst/>
                  <a:ahLst/>
                  <a:rect l="l" t="t" r="r" b="b"/>
                  <a:pathLst>
                    <a:path w="1387" h="2184">
                      <a:moveTo>
                        <a:pt x="691" y="312"/>
                      </a:moveTo>
                      <a:lnTo>
                        <a:pt x="679" y="433"/>
                      </a:lnTo>
                      <a:lnTo>
                        <a:pt x="712" y="479"/>
                      </a:lnTo>
                      <a:lnTo>
                        <a:pt x="807" y="528"/>
                      </a:lnTo>
                      <a:lnTo>
                        <a:pt x="859" y="578"/>
                      </a:lnTo>
                      <a:lnTo>
                        <a:pt x="859" y="683"/>
                      </a:lnTo>
                      <a:lnTo>
                        <a:pt x="664" y="731"/>
                      </a:lnTo>
                      <a:lnTo>
                        <a:pt x="605" y="731"/>
                      </a:lnTo>
                      <a:lnTo>
                        <a:pt x="555" y="671"/>
                      </a:lnTo>
                      <a:lnTo>
                        <a:pt x="508" y="899"/>
                      </a:lnTo>
                      <a:lnTo>
                        <a:pt x="290" y="1031"/>
                      </a:lnTo>
                      <a:lnTo>
                        <a:pt x="664" y="899"/>
                      </a:lnTo>
                      <a:lnTo>
                        <a:pt x="749" y="899"/>
                      </a:lnTo>
                      <a:lnTo>
                        <a:pt x="712" y="945"/>
                      </a:lnTo>
                      <a:lnTo>
                        <a:pt x="447" y="1103"/>
                      </a:lnTo>
                      <a:lnTo>
                        <a:pt x="726" y="1103"/>
                      </a:lnTo>
                      <a:lnTo>
                        <a:pt x="737" y="1213"/>
                      </a:lnTo>
                      <a:lnTo>
                        <a:pt x="133" y="1273"/>
                      </a:lnTo>
                      <a:lnTo>
                        <a:pt x="0" y="1369"/>
                      </a:lnTo>
                      <a:lnTo>
                        <a:pt x="170" y="1426"/>
                      </a:lnTo>
                      <a:lnTo>
                        <a:pt x="279" y="1525"/>
                      </a:lnTo>
                      <a:lnTo>
                        <a:pt x="290" y="1593"/>
                      </a:lnTo>
                      <a:lnTo>
                        <a:pt x="181" y="1690"/>
                      </a:lnTo>
                      <a:lnTo>
                        <a:pt x="181" y="1810"/>
                      </a:lnTo>
                      <a:lnTo>
                        <a:pt x="242" y="1932"/>
                      </a:lnTo>
                      <a:lnTo>
                        <a:pt x="84" y="2075"/>
                      </a:lnTo>
                      <a:lnTo>
                        <a:pt x="218" y="2184"/>
                      </a:lnTo>
                      <a:lnTo>
                        <a:pt x="373" y="2098"/>
                      </a:lnTo>
                      <a:lnTo>
                        <a:pt x="472" y="2123"/>
                      </a:lnTo>
                      <a:lnTo>
                        <a:pt x="679" y="1964"/>
                      </a:lnTo>
                      <a:lnTo>
                        <a:pt x="989" y="1630"/>
                      </a:lnTo>
                      <a:lnTo>
                        <a:pt x="1207" y="1379"/>
                      </a:lnTo>
                      <a:lnTo>
                        <a:pt x="1350" y="1752"/>
                      </a:lnTo>
                      <a:lnTo>
                        <a:pt x="1387" y="1358"/>
                      </a:lnTo>
                      <a:lnTo>
                        <a:pt x="1387" y="1199"/>
                      </a:lnTo>
                      <a:lnTo>
                        <a:pt x="1242" y="1093"/>
                      </a:lnTo>
                      <a:lnTo>
                        <a:pt x="1122" y="923"/>
                      </a:lnTo>
                      <a:lnTo>
                        <a:pt x="1014" y="740"/>
                      </a:lnTo>
                      <a:lnTo>
                        <a:pt x="930" y="528"/>
                      </a:lnTo>
                      <a:lnTo>
                        <a:pt x="834" y="228"/>
                      </a:lnTo>
                      <a:lnTo>
                        <a:pt x="800" y="0"/>
                      </a:lnTo>
                      <a:lnTo>
                        <a:pt x="700" y="215"/>
                      </a:lnTo>
                      <a:lnTo>
                        <a:pt x="691" y="312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8337240" y="5931720"/>
                  <a:ext cx="183240" cy="287280"/>
                </a:xfrm>
                <a:custGeom>
                  <a:avLst/>
                  <a:gdLst/>
                  <a:ahLst/>
                  <a:rect l="l" t="t" r="r" b="b"/>
                  <a:pathLst>
                    <a:path w="2861" h="3124">
                      <a:moveTo>
                        <a:pt x="988" y="1321"/>
                      </a:moveTo>
                      <a:lnTo>
                        <a:pt x="1377" y="1443"/>
                      </a:lnTo>
                      <a:lnTo>
                        <a:pt x="1691" y="1504"/>
                      </a:lnTo>
                      <a:lnTo>
                        <a:pt x="1909" y="1095"/>
                      </a:lnTo>
                      <a:lnTo>
                        <a:pt x="1895" y="698"/>
                      </a:lnTo>
                      <a:lnTo>
                        <a:pt x="2146" y="231"/>
                      </a:lnTo>
                      <a:lnTo>
                        <a:pt x="2642" y="0"/>
                      </a:lnTo>
                      <a:lnTo>
                        <a:pt x="2232" y="399"/>
                      </a:lnTo>
                      <a:lnTo>
                        <a:pt x="2111" y="770"/>
                      </a:lnTo>
                      <a:lnTo>
                        <a:pt x="2111" y="1168"/>
                      </a:lnTo>
                      <a:lnTo>
                        <a:pt x="2350" y="985"/>
                      </a:lnTo>
                      <a:lnTo>
                        <a:pt x="2665" y="627"/>
                      </a:lnTo>
                      <a:lnTo>
                        <a:pt x="2861" y="420"/>
                      </a:lnTo>
                      <a:lnTo>
                        <a:pt x="2861" y="590"/>
                      </a:lnTo>
                      <a:lnTo>
                        <a:pt x="2642" y="1010"/>
                      </a:lnTo>
                      <a:lnTo>
                        <a:pt x="2280" y="1478"/>
                      </a:lnTo>
                      <a:lnTo>
                        <a:pt x="1981" y="1741"/>
                      </a:lnTo>
                      <a:lnTo>
                        <a:pt x="1773" y="1838"/>
                      </a:lnTo>
                      <a:lnTo>
                        <a:pt x="1773" y="1959"/>
                      </a:lnTo>
                      <a:lnTo>
                        <a:pt x="1918" y="2188"/>
                      </a:lnTo>
                      <a:lnTo>
                        <a:pt x="2063" y="2545"/>
                      </a:lnTo>
                      <a:lnTo>
                        <a:pt x="1955" y="2451"/>
                      </a:lnTo>
                      <a:lnTo>
                        <a:pt x="1836" y="2333"/>
                      </a:lnTo>
                      <a:lnTo>
                        <a:pt x="1665" y="2257"/>
                      </a:lnTo>
                      <a:lnTo>
                        <a:pt x="1508" y="2222"/>
                      </a:lnTo>
                      <a:lnTo>
                        <a:pt x="1388" y="2197"/>
                      </a:lnTo>
                      <a:lnTo>
                        <a:pt x="1460" y="2429"/>
                      </a:lnTo>
                      <a:lnTo>
                        <a:pt x="1691" y="2621"/>
                      </a:lnTo>
                      <a:lnTo>
                        <a:pt x="1872" y="2725"/>
                      </a:lnTo>
                      <a:lnTo>
                        <a:pt x="1785" y="2534"/>
                      </a:lnTo>
                      <a:lnTo>
                        <a:pt x="1981" y="2582"/>
                      </a:lnTo>
                      <a:lnTo>
                        <a:pt x="2052" y="2750"/>
                      </a:lnTo>
                      <a:lnTo>
                        <a:pt x="2025" y="2978"/>
                      </a:lnTo>
                      <a:lnTo>
                        <a:pt x="1895" y="3110"/>
                      </a:lnTo>
                      <a:lnTo>
                        <a:pt x="1665" y="3124"/>
                      </a:lnTo>
                      <a:lnTo>
                        <a:pt x="1425" y="3001"/>
                      </a:lnTo>
                      <a:lnTo>
                        <a:pt x="1326" y="2796"/>
                      </a:lnTo>
                      <a:lnTo>
                        <a:pt x="1181" y="2400"/>
                      </a:lnTo>
                      <a:lnTo>
                        <a:pt x="988" y="2284"/>
                      </a:lnTo>
                      <a:lnTo>
                        <a:pt x="485" y="2391"/>
                      </a:lnTo>
                      <a:lnTo>
                        <a:pt x="171" y="2568"/>
                      </a:lnTo>
                      <a:lnTo>
                        <a:pt x="134" y="2499"/>
                      </a:lnTo>
                      <a:lnTo>
                        <a:pt x="217" y="2319"/>
                      </a:lnTo>
                      <a:lnTo>
                        <a:pt x="0" y="2400"/>
                      </a:lnTo>
                      <a:lnTo>
                        <a:pt x="87" y="2271"/>
                      </a:lnTo>
                      <a:lnTo>
                        <a:pt x="362" y="2197"/>
                      </a:lnTo>
                      <a:lnTo>
                        <a:pt x="558" y="2222"/>
                      </a:lnTo>
                      <a:lnTo>
                        <a:pt x="676" y="2234"/>
                      </a:lnTo>
                      <a:lnTo>
                        <a:pt x="950" y="2174"/>
                      </a:lnTo>
                      <a:lnTo>
                        <a:pt x="988" y="1321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8397000" y="5931000"/>
                  <a:ext cx="32040" cy="130680"/>
                </a:xfrm>
                <a:custGeom>
                  <a:avLst/>
                  <a:gdLst/>
                  <a:ahLst/>
                  <a:rect l="l" t="t" r="r" b="b"/>
                  <a:pathLst>
                    <a:path w="507" h="1428">
                      <a:moveTo>
                        <a:pt x="143" y="1404"/>
                      </a:moveTo>
                      <a:lnTo>
                        <a:pt x="180" y="1130"/>
                      </a:lnTo>
                      <a:lnTo>
                        <a:pt x="242" y="780"/>
                      </a:lnTo>
                      <a:lnTo>
                        <a:pt x="242" y="613"/>
                      </a:lnTo>
                      <a:lnTo>
                        <a:pt x="194" y="446"/>
                      </a:lnTo>
                      <a:lnTo>
                        <a:pt x="206" y="312"/>
                      </a:lnTo>
                      <a:lnTo>
                        <a:pt x="266" y="134"/>
                      </a:lnTo>
                      <a:lnTo>
                        <a:pt x="507" y="158"/>
                      </a:lnTo>
                      <a:lnTo>
                        <a:pt x="143" y="0"/>
                      </a:lnTo>
                      <a:lnTo>
                        <a:pt x="0" y="325"/>
                      </a:lnTo>
                      <a:lnTo>
                        <a:pt x="21" y="1428"/>
                      </a:lnTo>
                      <a:lnTo>
                        <a:pt x="143" y="1404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8437320" y="5830560"/>
                  <a:ext cx="127800" cy="392400"/>
                </a:xfrm>
                <a:custGeom>
                  <a:avLst/>
                  <a:gdLst/>
                  <a:ahLst/>
                  <a:rect l="l" t="t" r="r" b="b"/>
                  <a:pathLst>
                    <a:path w="1991" h="4272">
                      <a:moveTo>
                        <a:pt x="48" y="182"/>
                      </a:moveTo>
                      <a:lnTo>
                        <a:pt x="181" y="445"/>
                      </a:lnTo>
                      <a:lnTo>
                        <a:pt x="134" y="922"/>
                      </a:lnTo>
                      <a:lnTo>
                        <a:pt x="325" y="240"/>
                      </a:lnTo>
                      <a:lnTo>
                        <a:pt x="409" y="217"/>
                      </a:lnTo>
                      <a:lnTo>
                        <a:pt x="495" y="339"/>
                      </a:lnTo>
                      <a:lnTo>
                        <a:pt x="468" y="468"/>
                      </a:lnTo>
                      <a:lnTo>
                        <a:pt x="371" y="694"/>
                      </a:lnTo>
                      <a:lnTo>
                        <a:pt x="543" y="519"/>
                      </a:lnTo>
                      <a:lnTo>
                        <a:pt x="613" y="540"/>
                      </a:lnTo>
                      <a:lnTo>
                        <a:pt x="251" y="1092"/>
                      </a:lnTo>
                      <a:lnTo>
                        <a:pt x="903" y="481"/>
                      </a:lnTo>
                      <a:lnTo>
                        <a:pt x="1304" y="661"/>
                      </a:lnTo>
                      <a:lnTo>
                        <a:pt x="1387" y="936"/>
                      </a:lnTo>
                      <a:lnTo>
                        <a:pt x="1664" y="1189"/>
                      </a:lnTo>
                      <a:lnTo>
                        <a:pt x="1687" y="1452"/>
                      </a:lnTo>
                      <a:lnTo>
                        <a:pt x="1822" y="1659"/>
                      </a:lnTo>
                      <a:lnTo>
                        <a:pt x="1738" y="1909"/>
                      </a:lnTo>
                      <a:lnTo>
                        <a:pt x="1422" y="2038"/>
                      </a:lnTo>
                      <a:lnTo>
                        <a:pt x="1433" y="2138"/>
                      </a:lnTo>
                      <a:lnTo>
                        <a:pt x="1712" y="2366"/>
                      </a:lnTo>
                      <a:lnTo>
                        <a:pt x="1496" y="2388"/>
                      </a:lnTo>
                      <a:lnTo>
                        <a:pt x="1253" y="2280"/>
                      </a:lnTo>
                      <a:lnTo>
                        <a:pt x="1747" y="2748"/>
                      </a:lnTo>
                      <a:lnTo>
                        <a:pt x="1687" y="2806"/>
                      </a:lnTo>
                      <a:lnTo>
                        <a:pt x="1350" y="2748"/>
                      </a:lnTo>
                      <a:lnTo>
                        <a:pt x="1350" y="3061"/>
                      </a:lnTo>
                      <a:lnTo>
                        <a:pt x="1182" y="3252"/>
                      </a:lnTo>
                      <a:lnTo>
                        <a:pt x="1073" y="3156"/>
                      </a:lnTo>
                      <a:lnTo>
                        <a:pt x="806" y="3636"/>
                      </a:lnTo>
                      <a:lnTo>
                        <a:pt x="506" y="3898"/>
                      </a:lnTo>
                      <a:lnTo>
                        <a:pt x="387" y="4199"/>
                      </a:lnTo>
                      <a:lnTo>
                        <a:pt x="481" y="4272"/>
                      </a:lnTo>
                      <a:lnTo>
                        <a:pt x="1290" y="3995"/>
                      </a:lnTo>
                      <a:lnTo>
                        <a:pt x="1991" y="2833"/>
                      </a:lnTo>
                      <a:lnTo>
                        <a:pt x="1991" y="1821"/>
                      </a:lnTo>
                      <a:lnTo>
                        <a:pt x="1798" y="1199"/>
                      </a:lnTo>
                      <a:lnTo>
                        <a:pt x="1653" y="947"/>
                      </a:lnTo>
                      <a:lnTo>
                        <a:pt x="1521" y="828"/>
                      </a:lnTo>
                      <a:lnTo>
                        <a:pt x="1387" y="613"/>
                      </a:lnTo>
                      <a:lnTo>
                        <a:pt x="831" y="358"/>
                      </a:lnTo>
                      <a:lnTo>
                        <a:pt x="686" y="433"/>
                      </a:lnTo>
                      <a:lnTo>
                        <a:pt x="613" y="358"/>
                      </a:lnTo>
                      <a:lnTo>
                        <a:pt x="578" y="228"/>
                      </a:lnTo>
                      <a:lnTo>
                        <a:pt x="361" y="108"/>
                      </a:lnTo>
                      <a:lnTo>
                        <a:pt x="244" y="97"/>
                      </a:lnTo>
                      <a:lnTo>
                        <a:pt x="134" y="0"/>
                      </a:lnTo>
                      <a:lnTo>
                        <a:pt x="0" y="11"/>
                      </a:lnTo>
                      <a:lnTo>
                        <a:pt x="48" y="182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8382240" y="5909040"/>
                  <a:ext cx="280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2461">
                      <a:moveTo>
                        <a:pt x="276" y="0"/>
                      </a:moveTo>
                      <a:lnTo>
                        <a:pt x="166" y="72"/>
                      </a:lnTo>
                      <a:lnTo>
                        <a:pt x="106" y="204"/>
                      </a:lnTo>
                      <a:lnTo>
                        <a:pt x="96" y="326"/>
                      </a:lnTo>
                      <a:lnTo>
                        <a:pt x="106" y="688"/>
                      </a:lnTo>
                      <a:lnTo>
                        <a:pt x="72" y="962"/>
                      </a:lnTo>
                      <a:lnTo>
                        <a:pt x="37" y="1275"/>
                      </a:lnTo>
                      <a:lnTo>
                        <a:pt x="0" y="1504"/>
                      </a:lnTo>
                      <a:lnTo>
                        <a:pt x="0" y="1780"/>
                      </a:lnTo>
                      <a:lnTo>
                        <a:pt x="10" y="2029"/>
                      </a:lnTo>
                      <a:lnTo>
                        <a:pt x="145" y="2461"/>
                      </a:lnTo>
                      <a:lnTo>
                        <a:pt x="434" y="2391"/>
                      </a:lnTo>
                      <a:lnTo>
                        <a:pt x="311" y="1993"/>
                      </a:lnTo>
                      <a:lnTo>
                        <a:pt x="263" y="1684"/>
                      </a:lnTo>
                      <a:lnTo>
                        <a:pt x="287" y="1407"/>
                      </a:lnTo>
                      <a:lnTo>
                        <a:pt x="337" y="1130"/>
                      </a:lnTo>
                      <a:lnTo>
                        <a:pt x="397" y="879"/>
                      </a:lnTo>
                      <a:lnTo>
                        <a:pt x="397" y="734"/>
                      </a:lnTo>
                      <a:lnTo>
                        <a:pt x="360" y="602"/>
                      </a:lnTo>
                      <a:lnTo>
                        <a:pt x="311" y="519"/>
                      </a:lnTo>
                      <a:lnTo>
                        <a:pt x="325" y="194"/>
                      </a:lnTo>
                      <a:lnTo>
                        <a:pt x="337" y="12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8221680" y="6081840"/>
                  <a:ext cx="84600" cy="99000"/>
                </a:xfrm>
                <a:custGeom>
                  <a:avLst/>
                  <a:gdLst/>
                  <a:ahLst/>
                  <a:rect l="l" t="t" r="r" b="b"/>
                  <a:pathLst>
                    <a:path w="1314" h="1079">
                      <a:moveTo>
                        <a:pt x="374" y="0"/>
                      </a:moveTo>
                      <a:lnTo>
                        <a:pt x="300" y="35"/>
                      </a:lnTo>
                      <a:lnTo>
                        <a:pt x="300" y="97"/>
                      </a:lnTo>
                      <a:lnTo>
                        <a:pt x="194" y="143"/>
                      </a:lnTo>
                      <a:lnTo>
                        <a:pt x="167" y="192"/>
                      </a:lnTo>
                      <a:lnTo>
                        <a:pt x="129" y="335"/>
                      </a:lnTo>
                      <a:lnTo>
                        <a:pt x="24" y="395"/>
                      </a:lnTo>
                      <a:lnTo>
                        <a:pt x="0" y="613"/>
                      </a:lnTo>
                      <a:lnTo>
                        <a:pt x="59" y="830"/>
                      </a:lnTo>
                      <a:lnTo>
                        <a:pt x="290" y="934"/>
                      </a:lnTo>
                      <a:lnTo>
                        <a:pt x="662" y="1056"/>
                      </a:lnTo>
                      <a:lnTo>
                        <a:pt x="938" y="1068"/>
                      </a:lnTo>
                      <a:lnTo>
                        <a:pt x="1241" y="1079"/>
                      </a:lnTo>
                      <a:lnTo>
                        <a:pt x="1217" y="925"/>
                      </a:lnTo>
                      <a:lnTo>
                        <a:pt x="1217" y="817"/>
                      </a:lnTo>
                      <a:lnTo>
                        <a:pt x="1229" y="699"/>
                      </a:lnTo>
                      <a:lnTo>
                        <a:pt x="1314" y="529"/>
                      </a:lnTo>
                      <a:lnTo>
                        <a:pt x="1229" y="480"/>
                      </a:lnTo>
                      <a:lnTo>
                        <a:pt x="1156" y="408"/>
                      </a:lnTo>
                      <a:lnTo>
                        <a:pt x="1096" y="309"/>
                      </a:lnTo>
                      <a:lnTo>
                        <a:pt x="1024" y="226"/>
                      </a:lnTo>
                      <a:lnTo>
                        <a:pt x="950" y="167"/>
                      </a:lnTo>
                      <a:lnTo>
                        <a:pt x="879" y="143"/>
                      </a:lnTo>
                      <a:lnTo>
                        <a:pt x="769" y="167"/>
                      </a:lnTo>
                      <a:lnTo>
                        <a:pt x="637" y="204"/>
                      </a:lnTo>
                      <a:lnTo>
                        <a:pt x="588" y="180"/>
                      </a:lnTo>
                      <a:lnTo>
                        <a:pt x="528" y="59"/>
                      </a:lnTo>
                      <a:lnTo>
                        <a:pt x="470" y="26"/>
                      </a:lnTo>
                      <a:lnTo>
                        <a:pt x="374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336880" y="5714280"/>
                  <a:ext cx="115920" cy="197640"/>
                </a:xfrm>
                <a:custGeom>
                  <a:avLst/>
                  <a:gdLst/>
                  <a:ahLst/>
                  <a:rect l="l" t="t" r="r" b="b"/>
                  <a:pathLst>
                    <a:path w="1808" h="2151">
                      <a:moveTo>
                        <a:pt x="1784" y="591"/>
                      </a:moveTo>
                      <a:lnTo>
                        <a:pt x="1808" y="681"/>
                      </a:lnTo>
                      <a:lnTo>
                        <a:pt x="1803" y="758"/>
                      </a:lnTo>
                      <a:lnTo>
                        <a:pt x="1773" y="877"/>
                      </a:lnTo>
                      <a:lnTo>
                        <a:pt x="1698" y="1052"/>
                      </a:lnTo>
                      <a:lnTo>
                        <a:pt x="1573" y="1178"/>
                      </a:lnTo>
                      <a:lnTo>
                        <a:pt x="1459" y="1701"/>
                      </a:lnTo>
                      <a:lnTo>
                        <a:pt x="1289" y="1884"/>
                      </a:lnTo>
                      <a:lnTo>
                        <a:pt x="1164" y="2022"/>
                      </a:lnTo>
                      <a:lnTo>
                        <a:pt x="1091" y="2133"/>
                      </a:lnTo>
                      <a:lnTo>
                        <a:pt x="1045" y="2151"/>
                      </a:lnTo>
                      <a:lnTo>
                        <a:pt x="835" y="1868"/>
                      </a:lnTo>
                      <a:lnTo>
                        <a:pt x="657" y="1890"/>
                      </a:lnTo>
                      <a:lnTo>
                        <a:pt x="569" y="1890"/>
                      </a:lnTo>
                      <a:lnTo>
                        <a:pt x="512" y="1852"/>
                      </a:lnTo>
                      <a:lnTo>
                        <a:pt x="477" y="1791"/>
                      </a:lnTo>
                      <a:lnTo>
                        <a:pt x="429" y="1628"/>
                      </a:lnTo>
                      <a:lnTo>
                        <a:pt x="289" y="1351"/>
                      </a:lnTo>
                      <a:lnTo>
                        <a:pt x="141" y="1169"/>
                      </a:lnTo>
                      <a:lnTo>
                        <a:pt x="107" y="1022"/>
                      </a:lnTo>
                      <a:lnTo>
                        <a:pt x="76" y="872"/>
                      </a:lnTo>
                      <a:lnTo>
                        <a:pt x="28" y="653"/>
                      </a:lnTo>
                      <a:lnTo>
                        <a:pt x="0" y="353"/>
                      </a:lnTo>
                      <a:lnTo>
                        <a:pt x="24" y="208"/>
                      </a:lnTo>
                      <a:lnTo>
                        <a:pt x="76" y="99"/>
                      </a:lnTo>
                      <a:lnTo>
                        <a:pt x="1324" y="0"/>
                      </a:lnTo>
                      <a:lnTo>
                        <a:pt x="1698" y="433"/>
                      </a:lnTo>
                      <a:lnTo>
                        <a:pt x="1784" y="59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8347680" y="57906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152" h="113">
                      <a:moveTo>
                        <a:pt x="0" y="83"/>
                      </a:moveTo>
                      <a:lnTo>
                        <a:pt x="49" y="113"/>
                      </a:lnTo>
                      <a:lnTo>
                        <a:pt x="152" y="79"/>
                      </a:lnTo>
                      <a:lnTo>
                        <a:pt x="152" y="0"/>
                      </a:lnTo>
                      <a:lnTo>
                        <a:pt x="33" y="16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8383680" y="5780520"/>
                  <a:ext cx="14400" cy="7200"/>
                </a:xfrm>
                <a:custGeom>
                  <a:avLst/>
                  <a:gdLst/>
                  <a:ahLst/>
                  <a:rect l="l" t="t" r="r" b="b"/>
                  <a:pathLst>
                    <a:path w="231" h="83">
                      <a:moveTo>
                        <a:pt x="27" y="83"/>
                      </a:moveTo>
                      <a:lnTo>
                        <a:pt x="130" y="74"/>
                      </a:lnTo>
                      <a:lnTo>
                        <a:pt x="231" y="47"/>
                      </a:lnTo>
                      <a:lnTo>
                        <a:pt x="104" y="0"/>
                      </a:lnTo>
                      <a:lnTo>
                        <a:pt x="0" y="0"/>
                      </a:lnTo>
                      <a:lnTo>
                        <a:pt x="27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8337240" y="5687640"/>
                  <a:ext cx="92880" cy="41040"/>
                </a:xfrm>
                <a:custGeom>
                  <a:avLst/>
                  <a:gdLst/>
                  <a:ahLst/>
                  <a:rect l="l" t="t" r="r" b="b"/>
                  <a:pathLst>
                    <a:path w="1451" h="452">
                      <a:moveTo>
                        <a:pt x="110" y="41"/>
                      </a:moveTo>
                      <a:lnTo>
                        <a:pt x="237" y="0"/>
                      </a:lnTo>
                      <a:lnTo>
                        <a:pt x="603" y="0"/>
                      </a:lnTo>
                      <a:lnTo>
                        <a:pt x="1255" y="165"/>
                      </a:lnTo>
                      <a:lnTo>
                        <a:pt x="1451" y="391"/>
                      </a:lnTo>
                      <a:lnTo>
                        <a:pt x="1134" y="318"/>
                      </a:lnTo>
                      <a:lnTo>
                        <a:pt x="981" y="360"/>
                      </a:lnTo>
                      <a:lnTo>
                        <a:pt x="846" y="424"/>
                      </a:lnTo>
                      <a:lnTo>
                        <a:pt x="647" y="452"/>
                      </a:lnTo>
                      <a:lnTo>
                        <a:pt x="426" y="444"/>
                      </a:lnTo>
                      <a:lnTo>
                        <a:pt x="218" y="391"/>
                      </a:lnTo>
                      <a:lnTo>
                        <a:pt x="68" y="318"/>
                      </a:lnTo>
                      <a:lnTo>
                        <a:pt x="16" y="251"/>
                      </a:lnTo>
                      <a:lnTo>
                        <a:pt x="0" y="186"/>
                      </a:lnTo>
                      <a:lnTo>
                        <a:pt x="4" y="129"/>
                      </a:lnTo>
                      <a:lnTo>
                        <a:pt x="110" y="4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8409960" y="5726160"/>
                  <a:ext cx="45000" cy="57240"/>
                </a:xfrm>
                <a:custGeom>
                  <a:avLst/>
                  <a:gdLst/>
                  <a:ahLst/>
                  <a:rect l="l" t="t" r="r" b="b"/>
                  <a:pathLst>
                    <a:path w="700" h="629">
                      <a:moveTo>
                        <a:pt x="666" y="482"/>
                      </a:moveTo>
                      <a:lnTo>
                        <a:pt x="548" y="411"/>
                      </a:lnTo>
                      <a:lnTo>
                        <a:pt x="449" y="405"/>
                      </a:lnTo>
                      <a:lnTo>
                        <a:pt x="392" y="482"/>
                      </a:lnTo>
                      <a:lnTo>
                        <a:pt x="378" y="629"/>
                      </a:lnTo>
                      <a:lnTo>
                        <a:pt x="173" y="604"/>
                      </a:lnTo>
                      <a:lnTo>
                        <a:pt x="182" y="528"/>
                      </a:lnTo>
                      <a:lnTo>
                        <a:pt x="139" y="433"/>
                      </a:lnTo>
                      <a:lnTo>
                        <a:pt x="76" y="374"/>
                      </a:lnTo>
                      <a:lnTo>
                        <a:pt x="36" y="350"/>
                      </a:lnTo>
                      <a:lnTo>
                        <a:pt x="0" y="141"/>
                      </a:lnTo>
                      <a:lnTo>
                        <a:pt x="286" y="0"/>
                      </a:lnTo>
                      <a:lnTo>
                        <a:pt x="588" y="110"/>
                      </a:lnTo>
                      <a:lnTo>
                        <a:pt x="632" y="360"/>
                      </a:lnTo>
                      <a:lnTo>
                        <a:pt x="700" y="447"/>
                      </a:lnTo>
                      <a:lnTo>
                        <a:pt x="666" y="4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8405280" y="5715000"/>
                  <a:ext cx="49680" cy="58320"/>
                </a:xfrm>
                <a:custGeom>
                  <a:avLst/>
                  <a:gdLst/>
                  <a:ahLst/>
                  <a:rect l="l" t="t" r="r" b="b"/>
                  <a:pathLst>
                    <a:path w="775" h="641">
                      <a:moveTo>
                        <a:pt x="747" y="575"/>
                      </a:moveTo>
                      <a:lnTo>
                        <a:pt x="701" y="518"/>
                      </a:lnTo>
                      <a:lnTo>
                        <a:pt x="643" y="461"/>
                      </a:lnTo>
                      <a:lnTo>
                        <a:pt x="608" y="397"/>
                      </a:lnTo>
                      <a:lnTo>
                        <a:pt x="617" y="309"/>
                      </a:lnTo>
                      <a:lnTo>
                        <a:pt x="586" y="261"/>
                      </a:lnTo>
                      <a:lnTo>
                        <a:pt x="530" y="230"/>
                      </a:lnTo>
                      <a:lnTo>
                        <a:pt x="496" y="226"/>
                      </a:lnTo>
                      <a:lnTo>
                        <a:pt x="440" y="230"/>
                      </a:lnTo>
                      <a:lnTo>
                        <a:pt x="488" y="316"/>
                      </a:lnTo>
                      <a:lnTo>
                        <a:pt x="571" y="397"/>
                      </a:lnTo>
                      <a:lnTo>
                        <a:pt x="440" y="316"/>
                      </a:lnTo>
                      <a:lnTo>
                        <a:pt x="343" y="274"/>
                      </a:lnTo>
                      <a:lnTo>
                        <a:pt x="242" y="283"/>
                      </a:lnTo>
                      <a:lnTo>
                        <a:pt x="161" y="288"/>
                      </a:lnTo>
                      <a:lnTo>
                        <a:pt x="118" y="300"/>
                      </a:lnTo>
                      <a:lnTo>
                        <a:pt x="152" y="371"/>
                      </a:lnTo>
                      <a:lnTo>
                        <a:pt x="320" y="378"/>
                      </a:lnTo>
                      <a:lnTo>
                        <a:pt x="454" y="447"/>
                      </a:lnTo>
                      <a:lnTo>
                        <a:pt x="336" y="447"/>
                      </a:lnTo>
                      <a:lnTo>
                        <a:pt x="384" y="518"/>
                      </a:lnTo>
                      <a:lnTo>
                        <a:pt x="413" y="602"/>
                      </a:lnTo>
                      <a:lnTo>
                        <a:pt x="378" y="641"/>
                      </a:lnTo>
                      <a:lnTo>
                        <a:pt x="274" y="586"/>
                      </a:lnTo>
                      <a:lnTo>
                        <a:pt x="182" y="542"/>
                      </a:lnTo>
                      <a:lnTo>
                        <a:pt x="161" y="503"/>
                      </a:lnTo>
                      <a:lnTo>
                        <a:pt x="90" y="480"/>
                      </a:lnTo>
                      <a:lnTo>
                        <a:pt x="57" y="378"/>
                      </a:lnTo>
                      <a:lnTo>
                        <a:pt x="48" y="239"/>
                      </a:lnTo>
                      <a:lnTo>
                        <a:pt x="23" y="191"/>
                      </a:lnTo>
                      <a:lnTo>
                        <a:pt x="39" y="136"/>
                      </a:lnTo>
                      <a:lnTo>
                        <a:pt x="0" y="127"/>
                      </a:lnTo>
                      <a:lnTo>
                        <a:pt x="48" y="78"/>
                      </a:lnTo>
                      <a:lnTo>
                        <a:pt x="175" y="63"/>
                      </a:lnTo>
                      <a:lnTo>
                        <a:pt x="343" y="85"/>
                      </a:lnTo>
                      <a:lnTo>
                        <a:pt x="518" y="0"/>
                      </a:lnTo>
                      <a:lnTo>
                        <a:pt x="622" y="94"/>
                      </a:lnTo>
                      <a:lnTo>
                        <a:pt x="678" y="182"/>
                      </a:lnTo>
                      <a:lnTo>
                        <a:pt x="692" y="274"/>
                      </a:lnTo>
                      <a:lnTo>
                        <a:pt x="701" y="406"/>
                      </a:lnTo>
                      <a:lnTo>
                        <a:pt x="705" y="489"/>
                      </a:lnTo>
                      <a:lnTo>
                        <a:pt x="775" y="595"/>
                      </a:lnTo>
                      <a:lnTo>
                        <a:pt x="747" y="575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8068320" y="5791320"/>
                  <a:ext cx="277200" cy="293760"/>
                </a:xfrm>
                <a:custGeom>
                  <a:avLst/>
                  <a:gdLst/>
                  <a:ahLst/>
                  <a:rect l="l" t="t" r="r" b="b"/>
                  <a:pathLst>
                    <a:path w="4318" h="3200">
                      <a:moveTo>
                        <a:pt x="4072" y="2092"/>
                      </a:moveTo>
                      <a:lnTo>
                        <a:pt x="4095" y="1897"/>
                      </a:lnTo>
                      <a:lnTo>
                        <a:pt x="4208" y="1706"/>
                      </a:lnTo>
                      <a:lnTo>
                        <a:pt x="4318" y="1345"/>
                      </a:lnTo>
                      <a:lnTo>
                        <a:pt x="4249" y="1246"/>
                      </a:lnTo>
                      <a:lnTo>
                        <a:pt x="4090" y="1246"/>
                      </a:lnTo>
                      <a:lnTo>
                        <a:pt x="3986" y="1086"/>
                      </a:lnTo>
                      <a:lnTo>
                        <a:pt x="3929" y="1035"/>
                      </a:lnTo>
                      <a:lnTo>
                        <a:pt x="3909" y="1035"/>
                      </a:lnTo>
                      <a:lnTo>
                        <a:pt x="3808" y="1057"/>
                      </a:lnTo>
                      <a:lnTo>
                        <a:pt x="3498" y="561"/>
                      </a:lnTo>
                      <a:lnTo>
                        <a:pt x="3329" y="459"/>
                      </a:lnTo>
                      <a:lnTo>
                        <a:pt x="3087" y="139"/>
                      </a:lnTo>
                      <a:lnTo>
                        <a:pt x="2935" y="99"/>
                      </a:lnTo>
                      <a:lnTo>
                        <a:pt x="2834" y="132"/>
                      </a:lnTo>
                      <a:lnTo>
                        <a:pt x="2723" y="113"/>
                      </a:lnTo>
                      <a:lnTo>
                        <a:pt x="2615" y="148"/>
                      </a:lnTo>
                      <a:lnTo>
                        <a:pt x="2327" y="180"/>
                      </a:lnTo>
                      <a:lnTo>
                        <a:pt x="2237" y="148"/>
                      </a:lnTo>
                      <a:lnTo>
                        <a:pt x="2126" y="189"/>
                      </a:lnTo>
                      <a:lnTo>
                        <a:pt x="2057" y="113"/>
                      </a:lnTo>
                      <a:lnTo>
                        <a:pt x="1973" y="31"/>
                      </a:lnTo>
                      <a:lnTo>
                        <a:pt x="1914" y="0"/>
                      </a:lnTo>
                      <a:lnTo>
                        <a:pt x="1232" y="249"/>
                      </a:lnTo>
                      <a:lnTo>
                        <a:pt x="1171" y="420"/>
                      </a:lnTo>
                      <a:lnTo>
                        <a:pt x="853" y="589"/>
                      </a:lnTo>
                      <a:lnTo>
                        <a:pt x="632" y="627"/>
                      </a:lnTo>
                      <a:lnTo>
                        <a:pt x="441" y="807"/>
                      </a:lnTo>
                      <a:lnTo>
                        <a:pt x="413" y="910"/>
                      </a:lnTo>
                      <a:lnTo>
                        <a:pt x="371" y="1015"/>
                      </a:lnTo>
                      <a:lnTo>
                        <a:pt x="259" y="1356"/>
                      </a:lnTo>
                      <a:lnTo>
                        <a:pt x="210" y="1624"/>
                      </a:lnTo>
                      <a:lnTo>
                        <a:pt x="270" y="1854"/>
                      </a:lnTo>
                      <a:lnTo>
                        <a:pt x="180" y="2075"/>
                      </a:lnTo>
                      <a:lnTo>
                        <a:pt x="90" y="2103"/>
                      </a:lnTo>
                      <a:lnTo>
                        <a:pt x="0" y="2193"/>
                      </a:lnTo>
                      <a:lnTo>
                        <a:pt x="191" y="2792"/>
                      </a:lnTo>
                      <a:lnTo>
                        <a:pt x="399" y="2861"/>
                      </a:lnTo>
                      <a:lnTo>
                        <a:pt x="761" y="2613"/>
                      </a:lnTo>
                      <a:lnTo>
                        <a:pt x="1042" y="1945"/>
                      </a:lnTo>
                      <a:lnTo>
                        <a:pt x="1211" y="2262"/>
                      </a:lnTo>
                      <a:lnTo>
                        <a:pt x="1303" y="2771"/>
                      </a:lnTo>
                      <a:lnTo>
                        <a:pt x="1232" y="2903"/>
                      </a:lnTo>
                      <a:lnTo>
                        <a:pt x="1204" y="3129"/>
                      </a:lnTo>
                      <a:lnTo>
                        <a:pt x="1261" y="3200"/>
                      </a:lnTo>
                      <a:lnTo>
                        <a:pt x="3408" y="2892"/>
                      </a:lnTo>
                      <a:lnTo>
                        <a:pt x="3355" y="1517"/>
                      </a:lnTo>
                      <a:lnTo>
                        <a:pt x="3569" y="1695"/>
                      </a:lnTo>
                      <a:lnTo>
                        <a:pt x="3707" y="1714"/>
                      </a:lnTo>
                      <a:lnTo>
                        <a:pt x="3777" y="1846"/>
                      </a:lnTo>
                      <a:lnTo>
                        <a:pt x="3938" y="1854"/>
                      </a:lnTo>
                      <a:lnTo>
                        <a:pt x="4028" y="1994"/>
                      </a:lnTo>
                      <a:lnTo>
                        <a:pt x="4072" y="209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8210520" y="605016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400" h="279">
                      <a:moveTo>
                        <a:pt x="279" y="0"/>
                      </a:moveTo>
                      <a:lnTo>
                        <a:pt x="130" y="0"/>
                      </a:lnTo>
                      <a:lnTo>
                        <a:pt x="8" y="83"/>
                      </a:lnTo>
                      <a:lnTo>
                        <a:pt x="0" y="242"/>
                      </a:lnTo>
                      <a:lnTo>
                        <a:pt x="40" y="279"/>
                      </a:lnTo>
                      <a:lnTo>
                        <a:pt x="391" y="210"/>
                      </a:lnTo>
                      <a:lnTo>
                        <a:pt x="400" y="162"/>
                      </a:lnTo>
                      <a:lnTo>
                        <a:pt x="349" y="30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082000" y="5878800"/>
                  <a:ext cx="14040" cy="90000"/>
                </a:xfrm>
                <a:custGeom>
                  <a:avLst/>
                  <a:gdLst/>
                  <a:ahLst/>
                  <a:rect l="l" t="t" r="r" b="b"/>
                  <a:pathLst>
                    <a:path w="231" h="977">
                      <a:moveTo>
                        <a:pt x="183" y="0"/>
                      </a:moveTo>
                      <a:lnTo>
                        <a:pt x="183" y="283"/>
                      </a:lnTo>
                      <a:lnTo>
                        <a:pt x="231" y="659"/>
                      </a:lnTo>
                      <a:lnTo>
                        <a:pt x="90" y="648"/>
                      </a:lnTo>
                      <a:lnTo>
                        <a:pt x="210" y="856"/>
                      </a:lnTo>
                      <a:lnTo>
                        <a:pt x="148" y="977"/>
                      </a:lnTo>
                      <a:lnTo>
                        <a:pt x="0" y="687"/>
                      </a:lnTo>
                      <a:lnTo>
                        <a:pt x="0" y="560"/>
                      </a:lnTo>
                      <a:lnTo>
                        <a:pt x="130" y="129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071920" y="5915520"/>
                  <a:ext cx="64440" cy="137160"/>
                </a:xfrm>
                <a:custGeom>
                  <a:avLst/>
                  <a:gdLst/>
                  <a:ahLst/>
                  <a:rect l="l" t="t" r="r" b="b"/>
                  <a:pathLst>
                    <a:path w="1008" h="1494">
                      <a:moveTo>
                        <a:pt x="0" y="778"/>
                      </a:moveTo>
                      <a:lnTo>
                        <a:pt x="28" y="837"/>
                      </a:lnTo>
                      <a:lnTo>
                        <a:pt x="28" y="975"/>
                      </a:lnTo>
                      <a:lnTo>
                        <a:pt x="99" y="1156"/>
                      </a:lnTo>
                      <a:lnTo>
                        <a:pt x="159" y="1048"/>
                      </a:lnTo>
                      <a:lnTo>
                        <a:pt x="281" y="1305"/>
                      </a:lnTo>
                      <a:lnTo>
                        <a:pt x="120" y="1378"/>
                      </a:lnTo>
                      <a:lnTo>
                        <a:pt x="342" y="1494"/>
                      </a:lnTo>
                      <a:lnTo>
                        <a:pt x="648" y="1385"/>
                      </a:lnTo>
                      <a:lnTo>
                        <a:pt x="839" y="1057"/>
                      </a:lnTo>
                      <a:lnTo>
                        <a:pt x="883" y="820"/>
                      </a:lnTo>
                      <a:lnTo>
                        <a:pt x="911" y="589"/>
                      </a:lnTo>
                      <a:lnTo>
                        <a:pt x="1008" y="310"/>
                      </a:lnTo>
                      <a:lnTo>
                        <a:pt x="869" y="30"/>
                      </a:lnTo>
                      <a:lnTo>
                        <a:pt x="812" y="0"/>
                      </a:lnTo>
                      <a:lnTo>
                        <a:pt x="710" y="279"/>
                      </a:lnTo>
                      <a:lnTo>
                        <a:pt x="779" y="350"/>
                      </a:lnTo>
                      <a:lnTo>
                        <a:pt x="890" y="400"/>
                      </a:lnTo>
                      <a:lnTo>
                        <a:pt x="770" y="679"/>
                      </a:lnTo>
                      <a:lnTo>
                        <a:pt x="770" y="848"/>
                      </a:lnTo>
                      <a:lnTo>
                        <a:pt x="648" y="1026"/>
                      </a:lnTo>
                      <a:lnTo>
                        <a:pt x="438" y="1057"/>
                      </a:lnTo>
                      <a:lnTo>
                        <a:pt x="307" y="589"/>
                      </a:lnTo>
                      <a:lnTo>
                        <a:pt x="69" y="736"/>
                      </a:lnTo>
                      <a:lnTo>
                        <a:pt x="0" y="778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8132040" y="5834880"/>
                  <a:ext cx="151200" cy="252000"/>
                </a:xfrm>
                <a:custGeom>
                  <a:avLst/>
                  <a:gdLst/>
                  <a:ahLst/>
                  <a:rect l="l" t="t" r="r" b="b"/>
                  <a:pathLst>
                    <a:path w="2355" h="2742">
                      <a:moveTo>
                        <a:pt x="303" y="558"/>
                      </a:moveTo>
                      <a:lnTo>
                        <a:pt x="413" y="639"/>
                      </a:lnTo>
                      <a:lnTo>
                        <a:pt x="289" y="1119"/>
                      </a:lnTo>
                      <a:lnTo>
                        <a:pt x="289" y="1398"/>
                      </a:lnTo>
                      <a:lnTo>
                        <a:pt x="630" y="1476"/>
                      </a:lnTo>
                      <a:lnTo>
                        <a:pt x="604" y="411"/>
                      </a:lnTo>
                      <a:lnTo>
                        <a:pt x="630" y="208"/>
                      </a:lnTo>
                      <a:lnTo>
                        <a:pt x="503" y="150"/>
                      </a:lnTo>
                      <a:lnTo>
                        <a:pt x="382" y="231"/>
                      </a:lnTo>
                      <a:lnTo>
                        <a:pt x="360" y="208"/>
                      </a:lnTo>
                      <a:lnTo>
                        <a:pt x="450" y="143"/>
                      </a:lnTo>
                      <a:lnTo>
                        <a:pt x="503" y="72"/>
                      </a:lnTo>
                      <a:lnTo>
                        <a:pt x="833" y="0"/>
                      </a:lnTo>
                      <a:lnTo>
                        <a:pt x="991" y="84"/>
                      </a:lnTo>
                      <a:lnTo>
                        <a:pt x="943" y="121"/>
                      </a:lnTo>
                      <a:lnTo>
                        <a:pt x="833" y="112"/>
                      </a:lnTo>
                      <a:lnTo>
                        <a:pt x="782" y="252"/>
                      </a:lnTo>
                      <a:lnTo>
                        <a:pt x="1092" y="1558"/>
                      </a:lnTo>
                      <a:lnTo>
                        <a:pt x="1413" y="1747"/>
                      </a:lnTo>
                      <a:lnTo>
                        <a:pt x="1965" y="2035"/>
                      </a:lnTo>
                      <a:lnTo>
                        <a:pt x="1905" y="1875"/>
                      </a:lnTo>
                      <a:lnTo>
                        <a:pt x="2207" y="1993"/>
                      </a:lnTo>
                      <a:lnTo>
                        <a:pt x="2297" y="1773"/>
                      </a:lnTo>
                      <a:lnTo>
                        <a:pt x="2345" y="1785"/>
                      </a:lnTo>
                      <a:lnTo>
                        <a:pt x="2306" y="2145"/>
                      </a:lnTo>
                      <a:lnTo>
                        <a:pt x="2355" y="2343"/>
                      </a:lnTo>
                      <a:lnTo>
                        <a:pt x="2133" y="2393"/>
                      </a:lnTo>
                      <a:lnTo>
                        <a:pt x="1598" y="2356"/>
                      </a:lnTo>
                      <a:lnTo>
                        <a:pt x="1723" y="2272"/>
                      </a:lnTo>
                      <a:lnTo>
                        <a:pt x="1644" y="2126"/>
                      </a:lnTo>
                      <a:lnTo>
                        <a:pt x="1732" y="2085"/>
                      </a:lnTo>
                      <a:lnTo>
                        <a:pt x="1503" y="2015"/>
                      </a:lnTo>
                      <a:lnTo>
                        <a:pt x="1503" y="2165"/>
                      </a:lnTo>
                      <a:lnTo>
                        <a:pt x="1444" y="2334"/>
                      </a:lnTo>
                      <a:lnTo>
                        <a:pt x="1246" y="2405"/>
                      </a:lnTo>
                      <a:lnTo>
                        <a:pt x="1273" y="2384"/>
                      </a:lnTo>
                      <a:lnTo>
                        <a:pt x="1135" y="2043"/>
                      </a:lnTo>
                      <a:lnTo>
                        <a:pt x="863" y="1868"/>
                      </a:lnTo>
                      <a:lnTo>
                        <a:pt x="591" y="1826"/>
                      </a:lnTo>
                      <a:lnTo>
                        <a:pt x="663" y="1916"/>
                      </a:lnTo>
                      <a:lnTo>
                        <a:pt x="624" y="1936"/>
                      </a:lnTo>
                      <a:lnTo>
                        <a:pt x="773" y="1976"/>
                      </a:lnTo>
                      <a:lnTo>
                        <a:pt x="1054" y="2204"/>
                      </a:lnTo>
                      <a:lnTo>
                        <a:pt x="1171" y="2322"/>
                      </a:lnTo>
                      <a:lnTo>
                        <a:pt x="962" y="2315"/>
                      </a:lnTo>
                      <a:lnTo>
                        <a:pt x="734" y="2246"/>
                      </a:lnTo>
                      <a:lnTo>
                        <a:pt x="923" y="2405"/>
                      </a:lnTo>
                      <a:lnTo>
                        <a:pt x="743" y="2463"/>
                      </a:lnTo>
                      <a:lnTo>
                        <a:pt x="521" y="2601"/>
                      </a:lnTo>
                      <a:lnTo>
                        <a:pt x="851" y="2525"/>
                      </a:lnTo>
                      <a:lnTo>
                        <a:pt x="552" y="2742"/>
                      </a:lnTo>
                      <a:lnTo>
                        <a:pt x="250" y="2742"/>
                      </a:lnTo>
                      <a:lnTo>
                        <a:pt x="213" y="2652"/>
                      </a:lnTo>
                      <a:lnTo>
                        <a:pt x="303" y="2272"/>
                      </a:lnTo>
                      <a:lnTo>
                        <a:pt x="270" y="2114"/>
                      </a:lnTo>
                      <a:lnTo>
                        <a:pt x="0" y="1178"/>
                      </a:lnTo>
                      <a:lnTo>
                        <a:pt x="81" y="720"/>
                      </a:lnTo>
                      <a:lnTo>
                        <a:pt x="303" y="558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8203320" y="5799600"/>
                  <a:ext cx="54720" cy="56160"/>
                </a:xfrm>
                <a:custGeom>
                  <a:avLst/>
                  <a:gdLst/>
                  <a:ahLst/>
                  <a:rect l="l" t="t" r="r" b="b"/>
                  <a:pathLst>
                    <a:path w="851" h="616">
                      <a:moveTo>
                        <a:pt x="0" y="385"/>
                      </a:moveTo>
                      <a:lnTo>
                        <a:pt x="77" y="207"/>
                      </a:lnTo>
                      <a:lnTo>
                        <a:pt x="77" y="348"/>
                      </a:lnTo>
                      <a:lnTo>
                        <a:pt x="299" y="97"/>
                      </a:lnTo>
                      <a:lnTo>
                        <a:pt x="378" y="616"/>
                      </a:lnTo>
                      <a:lnTo>
                        <a:pt x="417" y="227"/>
                      </a:lnTo>
                      <a:lnTo>
                        <a:pt x="618" y="69"/>
                      </a:lnTo>
                      <a:lnTo>
                        <a:pt x="740" y="97"/>
                      </a:lnTo>
                      <a:lnTo>
                        <a:pt x="851" y="7"/>
                      </a:lnTo>
                      <a:lnTo>
                        <a:pt x="721" y="40"/>
                      </a:lnTo>
                      <a:lnTo>
                        <a:pt x="653" y="40"/>
                      </a:lnTo>
                      <a:lnTo>
                        <a:pt x="618" y="0"/>
                      </a:lnTo>
                      <a:lnTo>
                        <a:pt x="521" y="69"/>
                      </a:lnTo>
                      <a:lnTo>
                        <a:pt x="389" y="47"/>
                      </a:lnTo>
                      <a:lnTo>
                        <a:pt x="279" y="40"/>
                      </a:lnTo>
                      <a:lnTo>
                        <a:pt x="118" y="77"/>
                      </a:lnTo>
                      <a:lnTo>
                        <a:pt x="21" y="189"/>
                      </a:lnTo>
                      <a:lnTo>
                        <a:pt x="0" y="385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8263080" y="5851800"/>
                  <a:ext cx="51840" cy="145440"/>
                </a:xfrm>
                <a:custGeom>
                  <a:avLst/>
                  <a:gdLst/>
                  <a:ahLst/>
                  <a:rect l="l" t="t" r="r" b="b"/>
                  <a:pathLst>
                    <a:path w="811" h="1587">
                      <a:moveTo>
                        <a:pt x="481" y="171"/>
                      </a:moveTo>
                      <a:lnTo>
                        <a:pt x="481" y="429"/>
                      </a:lnTo>
                      <a:lnTo>
                        <a:pt x="380" y="600"/>
                      </a:lnTo>
                      <a:lnTo>
                        <a:pt x="239" y="429"/>
                      </a:lnTo>
                      <a:lnTo>
                        <a:pt x="128" y="259"/>
                      </a:lnTo>
                      <a:lnTo>
                        <a:pt x="239" y="860"/>
                      </a:lnTo>
                      <a:lnTo>
                        <a:pt x="207" y="1257"/>
                      </a:lnTo>
                      <a:lnTo>
                        <a:pt x="0" y="1556"/>
                      </a:lnTo>
                      <a:lnTo>
                        <a:pt x="170" y="1587"/>
                      </a:lnTo>
                      <a:lnTo>
                        <a:pt x="361" y="1483"/>
                      </a:lnTo>
                      <a:lnTo>
                        <a:pt x="318" y="840"/>
                      </a:lnTo>
                      <a:lnTo>
                        <a:pt x="509" y="1049"/>
                      </a:lnTo>
                      <a:lnTo>
                        <a:pt x="640" y="1049"/>
                      </a:lnTo>
                      <a:lnTo>
                        <a:pt x="541" y="939"/>
                      </a:lnTo>
                      <a:lnTo>
                        <a:pt x="521" y="770"/>
                      </a:lnTo>
                      <a:lnTo>
                        <a:pt x="582" y="600"/>
                      </a:lnTo>
                      <a:lnTo>
                        <a:pt x="659" y="489"/>
                      </a:lnTo>
                      <a:lnTo>
                        <a:pt x="721" y="392"/>
                      </a:lnTo>
                      <a:lnTo>
                        <a:pt x="762" y="528"/>
                      </a:lnTo>
                      <a:lnTo>
                        <a:pt x="811" y="400"/>
                      </a:lnTo>
                      <a:lnTo>
                        <a:pt x="780" y="293"/>
                      </a:lnTo>
                      <a:lnTo>
                        <a:pt x="721" y="150"/>
                      </a:lnTo>
                      <a:lnTo>
                        <a:pt x="548" y="0"/>
                      </a:lnTo>
                      <a:lnTo>
                        <a:pt x="481" y="171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8310600" y="5901840"/>
                  <a:ext cx="35280" cy="55800"/>
                </a:xfrm>
                <a:custGeom>
                  <a:avLst/>
                  <a:gdLst/>
                  <a:ahLst/>
                  <a:rect l="l" t="t" r="r" b="b"/>
                  <a:pathLst>
                    <a:path w="552" h="609">
                      <a:moveTo>
                        <a:pt x="152" y="0"/>
                      </a:moveTo>
                      <a:lnTo>
                        <a:pt x="31" y="152"/>
                      </a:lnTo>
                      <a:lnTo>
                        <a:pt x="132" y="293"/>
                      </a:lnTo>
                      <a:lnTo>
                        <a:pt x="373" y="133"/>
                      </a:lnTo>
                      <a:lnTo>
                        <a:pt x="453" y="293"/>
                      </a:lnTo>
                      <a:lnTo>
                        <a:pt x="0" y="609"/>
                      </a:lnTo>
                      <a:lnTo>
                        <a:pt x="420" y="541"/>
                      </a:lnTo>
                      <a:lnTo>
                        <a:pt x="552" y="133"/>
                      </a:lnTo>
                      <a:lnTo>
                        <a:pt x="453" y="42"/>
                      </a:lnTo>
                      <a:lnTo>
                        <a:pt x="299" y="62"/>
                      </a:lnTo>
                      <a:lnTo>
                        <a:pt x="193" y="23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8172000" y="5830560"/>
                  <a:ext cx="52560" cy="225360"/>
                </a:xfrm>
                <a:custGeom>
                  <a:avLst/>
                  <a:gdLst/>
                  <a:ahLst/>
                  <a:rect l="l" t="t" r="r" b="b"/>
                  <a:pathLst>
                    <a:path w="820" h="2453">
                      <a:moveTo>
                        <a:pt x="186" y="21"/>
                      </a:moveTo>
                      <a:lnTo>
                        <a:pt x="178" y="110"/>
                      </a:lnTo>
                      <a:lnTo>
                        <a:pt x="136" y="198"/>
                      </a:lnTo>
                      <a:lnTo>
                        <a:pt x="119" y="228"/>
                      </a:lnTo>
                      <a:lnTo>
                        <a:pt x="186" y="309"/>
                      </a:lnTo>
                      <a:lnTo>
                        <a:pt x="288" y="487"/>
                      </a:lnTo>
                      <a:lnTo>
                        <a:pt x="400" y="817"/>
                      </a:lnTo>
                      <a:lnTo>
                        <a:pt x="520" y="1245"/>
                      </a:lnTo>
                      <a:lnTo>
                        <a:pt x="693" y="1806"/>
                      </a:lnTo>
                      <a:lnTo>
                        <a:pt x="820" y="2125"/>
                      </a:lnTo>
                      <a:lnTo>
                        <a:pt x="672" y="2453"/>
                      </a:lnTo>
                      <a:lnTo>
                        <a:pt x="347" y="2204"/>
                      </a:lnTo>
                      <a:lnTo>
                        <a:pt x="68" y="708"/>
                      </a:lnTo>
                      <a:lnTo>
                        <a:pt x="46" y="440"/>
                      </a:lnTo>
                      <a:lnTo>
                        <a:pt x="68" y="270"/>
                      </a:lnTo>
                      <a:lnTo>
                        <a:pt x="68" y="228"/>
                      </a:lnTo>
                      <a:lnTo>
                        <a:pt x="0" y="141"/>
                      </a:lnTo>
                      <a:lnTo>
                        <a:pt x="6" y="0"/>
                      </a:lnTo>
                      <a:lnTo>
                        <a:pt x="149" y="11"/>
                      </a:lnTo>
                      <a:lnTo>
                        <a:pt x="186" y="2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8169480" y="5830560"/>
                  <a:ext cx="55440" cy="227520"/>
                </a:xfrm>
                <a:custGeom>
                  <a:avLst/>
                  <a:gdLst/>
                  <a:ahLst/>
                  <a:rect l="l" t="t" r="r" b="b"/>
                  <a:pathLst>
                    <a:path w="862" h="2474">
                      <a:moveTo>
                        <a:pt x="152" y="11"/>
                      </a:moveTo>
                      <a:lnTo>
                        <a:pt x="129" y="251"/>
                      </a:lnTo>
                      <a:lnTo>
                        <a:pt x="178" y="670"/>
                      </a:lnTo>
                      <a:lnTo>
                        <a:pt x="281" y="1141"/>
                      </a:lnTo>
                      <a:lnTo>
                        <a:pt x="461" y="1863"/>
                      </a:lnTo>
                      <a:lnTo>
                        <a:pt x="499" y="2174"/>
                      </a:lnTo>
                      <a:lnTo>
                        <a:pt x="691" y="2370"/>
                      </a:lnTo>
                      <a:lnTo>
                        <a:pt x="811" y="2112"/>
                      </a:lnTo>
                      <a:lnTo>
                        <a:pt x="629" y="1694"/>
                      </a:lnTo>
                      <a:lnTo>
                        <a:pt x="519" y="1257"/>
                      </a:lnTo>
                      <a:lnTo>
                        <a:pt x="422" y="876"/>
                      </a:lnTo>
                      <a:lnTo>
                        <a:pt x="288" y="468"/>
                      </a:lnTo>
                      <a:lnTo>
                        <a:pt x="211" y="309"/>
                      </a:lnTo>
                      <a:lnTo>
                        <a:pt x="170" y="228"/>
                      </a:lnTo>
                      <a:lnTo>
                        <a:pt x="288" y="389"/>
                      </a:lnTo>
                      <a:lnTo>
                        <a:pt x="409" y="738"/>
                      </a:lnTo>
                      <a:lnTo>
                        <a:pt x="562" y="1195"/>
                      </a:lnTo>
                      <a:lnTo>
                        <a:pt x="714" y="1705"/>
                      </a:lnTo>
                      <a:lnTo>
                        <a:pt x="783" y="1936"/>
                      </a:lnTo>
                      <a:lnTo>
                        <a:pt x="862" y="2112"/>
                      </a:lnTo>
                      <a:lnTo>
                        <a:pt x="721" y="2474"/>
                      </a:lnTo>
                      <a:lnTo>
                        <a:pt x="380" y="2193"/>
                      </a:lnTo>
                      <a:lnTo>
                        <a:pt x="251" y="1505"/>
                      </a:lnTo>
                      <a:lnTo>
                        <a:pt x="119" y="717"/>
                      </a:lnTo>
                      <a:lnTo>
                        <a:pt x="110" y="440"/>
                      </a:lnTo>
                      <a:lnTo>
                        <a:pt x="88" y="228"/>
                      </a:lnTo>
                      <a:lnTo>
                        <a:pt x="0" y="110"/>
                      </a:lnTo>
                      <a:lnTo>
                        <a:pt x="60" y="0"/>
                      </a:lnTo>
                      <a:lnTo>
                        <a:pt x="152" y="1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8119080" y="5823000"/>
                  <a:ext cx="36720" cy="93960"/>
                </a:xfrm>
                <a:custGeom>
                  <a:avLst/>
                  <a:gdLst/>
                  <a:ahLst/>
                  <a:rect l="l" t="t" r="r" b="b"/>
                  <a:pathLst>
                    <a:path w="578" h="1028">
                      <a:moveTo>
                        <a:pt x="42" y="938"/>
                      </a:moveTo>
                      <a:lnTo>
                        <a:pt x="37" y="775"/>
                      </a:lnTo>
                      <a:lnTo>
                        <a:pt x="0" y="360"/>
                      </a:lnTo>
                      <a:lnTo>
                        <a:pt x="37" y="276"/>
                      </a:lnTo>
                      <a:lnTo>
                        <a:pt x="293" y="0"/>
                      </a:lnTo>
                      <a:lnTo>
                        <a:pt x="523" y="48"/>
                      </a:lnTo>
                      <a:lnTo>
                        <a:pt x="578" y="184"/>
                      </a:lnTo>
                      <a:lnTo>
                        <a:pt x="528" y="247"/>
                      </a:lnTo>
                      <a:lnTo>
                        <a:pt x="563" y="465"/>
                      </a:lnTo>
                      <a:lnTo>
                        <a:pt x="486" y="487"/>
                      </a:lnTo>
                      <a:lnTo>
                        <a:pt x="464" y="705"/>
                      </a:lnTo>
                      <a:lnTo>
                        <a:pt x="406" y="805"/>
                      </a:lnTo>
                      <a:lnTo>
                        <a:pt x="358" y="874"/>
                      </a:lnTo>
                      <a:lnTo>
                        <a:pt x="305" y="938"/>
                      </a:lnTo>
                      <a:lnTo>
                        <a:pt x="263" y="1028"/>
                      </a:lnTo>
                      <a:lnTo>
                        <a:pt x="92" y="1001"/>
                      </a:lnTo>
                      <a:lnTo>
                        <a:pt x="42" y="938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8122320" y="5676840"/>
                  <a:ext cx="83160" cy="149760"/>
                </a:xfrm>
                <a:custGeom>
                  <a:avLst/>
                  <a:gdLst/>
                  <a:ahLst/>
                  <a:rect l="l" t="t" r="r" b="b"/>
                  <a:pathLst>
                    <a:path w="1289" h="1630">
                      <a:moveTo>
                        <a:pt x="37" y="717"/>
                      </a:moveTo>
                      <a:lnTo>
                        <a:pt x="0" y="784"/>
                      </a:lnTo>
                      <a:lnTo>
                        <a:pt x="0" y="915"/>
                      </a:lnTo>
                      <a:lnTo>
                        <a:pt x="85" y="1036"/>
                      </a:lnTo>
                      <a:lnTo>
                        <a:pt x="200" y="1120"/>
                      </a:lnTo>
                      <a:lnTo>
                        <a:pt x="235" y="1120"/>
                      </a:lnTo>
                      <a:lnTo>
                        <a:pt x="298" y="1263"/>
                      </a:lnTo>
                      <a:lnTo>
                        <a:pt x="348" y="1395"/>
                      </a:lnTo>
                      <a:lnTo>
                        <a:pt x="447" y="1508"/>
                      </a:lnTo>
                      <a:lnTo>
                        <a:pt x="555" y="1572"/>
                      </a:lnTo>
                      <a:lnTo>
                        <a:pt x="705" y="1621"/>
                      </a:lnTo>
                      <a:lnTo>
                        <a:pt x="855" y="1630"/>
                      </a:lnTo>
                      <a:lnTo>
                        <a:pt x="947" y="1579"/>
                      </a:lnTo>
                      <a:lnTo>
                        <a:pt x="1019" y="1494"/>
                      </a:lnTo>
                      <a:lnTo>
                        <a:pt x="1090" y="1374"/>
                      </a:lnTo>
                      <a:lnTo>
                        <a:pt x="1118" y="1263"/>
                      </a:lnTo>
                      <a:lnTo>
                        <a:pt x="1140" y="1056"/>
                      </a:lnTo>
                      <a:lnTo>
                        <a:pt x="1203" y="1001"/>
                      </a:lnTo>
                      <a:lnTo>
                        <a:pt x="1284" y="889"/>
                      </a:lnTo>
                      <a:lnTo>
                        <a:pt x="1289" y="768"/>
                      </a:lnTo>
                      <a:lnTo>
                        <a:pt x="1274" y="662"/>
                      </a:lnTo>
                      <a:lnTo>
                        <a:pt x="1261" y="627"/>
                      </a:lnTo>
                      <a:lnTo>
                        <a:pt x="1203" y="595"/>
                      </a:lnTo>
                      <a:lnTo>
                        <a:pt x="1118" y="325"/>
                      </a:lnTo>
                      <a:lnTo>
                        <a:pt x="1012" y="94"/>
                      </a:lnTo>
                      <a:lnTo>
                        <a:pt x="692" y="0"/>
                      </a:lnTo>
                      <a:lnTo>
                        <a:pt x="270" y="85"/>
                      </a:lnTo>
                      <a:lnTo>
                        <a:pt x="85" y="247"/>
                      </a:lnTo>
                      <a:lnTo>
                        <a:pt x="41" y="429"/>
                      </a:lnTo>
                      <a:lnTo>
                        <a:pt x="41" y="657"/>
                      </a:lnTo>
                      <a:lnTo>
                        <a:pt x="37" y="717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8141760" y="5765760"/>
                  <a:ext cx="14400" cy="11520"/>
                </a:xfrm>
                <a:custGeom>
                  <a:avLst/>
                  <a:gdLst/>
                  <a:ahLst/>
                  <a:rect l="l" t="t" r="r" b="b"/>
                  <a:pathLst>
                    <a:path w="223" h="120">
                      <a:moveTo>
                        <a:pt x="223" y="6"/>
                      </a:moveTo>
                      <a:lnTo>
                        <a:pt x="223" y="41"/>
                      </a:lnTo>
                      <a:lnTo>
                        <a:pt x="140" y="108"/>
                      </a:lnTo>
                      <a:lnTo>
                        <a:pt x="57" y="120"/>
                      </a:lnTo>
                      <a:lnTo>
                        <a:pt x="0" y="78"/>
                      </a:lnTo>
                      <a:lnTo>
                        <a:pt x="16" y="0"/>
                      </a:lnTo>
                      <a:lnTo>
                        <a:pt x="92" y="28"/>
                      </a:lnTo>
                      <a:lnTo>
                        <a:pt x="140" y="35"/>
                      </a:lnTo>
                      <a:lnTo>
                        <a:pt x="223" y="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8175240" y="5756400"/>
                  <a:ext cx="15120" cy="12960"/>
                </a:xfrm>
                <a:custGeom>
                  <a:avLst/>
                  <a:gdLst/>
                  <a:ahLst/>
                  <a:rect l="l" t="t" r="r" b="b"/>
                  <a:pathLst>
                    <a:path w="245" h="141">
                      <a:moveTo>
                        <a:pt x="0" y="85"/>
                      </a:moveTo>
                      <a:lnTo>
                        <a:pt x="18" y="112"/>
                      </a:lnTo>
                      <a:lnTo>
                        <a:pt x="117" y="141"/>
                      </a:lnTo>
                      <a:lnTo>
                        <a:pt x="212" y="134"/>
                      </a:lnTo>
                      <a:lnTo>
                        <a:pt x="245" y="79"/>
                      </a:lnTo>
                      <a:lnTo>
                        <a:pt x="238" y="0"/>
                      </a:lnTo>
                      <a:lnTo>
                        <a:pt x="179" y="42"/>
                      </a:lnTo>
                      <a:lnTo>
                        <a:pt x="139" y="79"/>
                      </a:lnTo>
                      <a:lnTo>
                        <a:pt x="83" y="9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8163720" y="5760720"/>
                  <a:ext cx="7920" cy="21960"/>
                </a:xfrm>
                <a:custGeom>
                  <a:avLst/>
                  <a:gdLst/>
                  <a:ahLst/>
                  <a:rect l="l" t="t" r="r" b="b"/>
                  <a:pathLst>
                    <a:path w="120" h="235">
                      <a:moveTo>
                        <a:pt x="57" y="37"/>
                      </a:moveTo>
                      <a:lnTo>
                        <a:pt x="37" y="0"/>
                      </a:lnTo>
                      <a:lnTo>
                        <a:pt x="13" y="16"/>
                      </a:lnTo>
                      <a:lnTo>
                        <a:pt x="22" y="141"/>
                      </a:lnTo>
                      <a:lnTo>
                        <a:pt x="0" y="169"/>
                      </a:lnTo>
                      <a:lnTo>
                        <a:pt x="13" y="220"/>
                      </a:lnTo>
                      <a:lnTo>
                        <a:pt x="64" y="235"/>
                      </a:lnTo>
                      <a:lnTo>
                        <a:pt x="108" y="220"/>
                      </a:lnTo>
                      <a:lnTo>
                        <a:pt x="120" y="178"/>
                      </a:lnTo>
                      <a:lnTo>
                        <a:pt x="112" y="148"/>
                      </a:lnTo>
                      <a:lnTo>
                        <a:pt x="78" y="121"/>
                      </a:lnTo>
                      <a:lnTo>
                        <a:pt x="57" y="3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8157600" y="5773680"/>
                  <a:ext cx="2880" cy="3600"/>
                </a:xfrm>
                <a:custGeom>
                  <a:avLst/>
                  <a:gdLst/>
                  <a:ahLst/>
                  <a:rect l="l" t="t" r="r" b="b"/>
                  <a:pathLst>
                    <a:path w="51" h="42">
                      <a:moveTo>
                        <a:pt x="25" y="0"/>
                      </a:moveTo>
                      <a:lnTo>
                        <a:pt x="0" y="25"/>
                      </a:lnTo>
                      <a:lnTo>
                        <a:pt x="25" y="42"/>
                      </a:lnTo>
                      <a:lnTo>
                        <a:pt x="51" y="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8173080" y="5771520"/>
                  <a:ext cx="2880" cy="3600"/>
                </a:xfrm>
                <a:custGeom>
                  <a:avLst/>
                  <a:gdLst/>
                  <a:ahLst/>
                  <a:rect l="l" t="t" r="r" b="b"/>
                  <a:pathLst>
                    <a:path w="48" h="36">
                      <a:moveTo>
                        <a:pt x="0" y="6"/>
                      </a:moveTo>
                      <a:lnTo>
                        <a:pt x="21" y="36"/>
                      </a:lnTo>
                      <a:lnTo>
                        <a:pt x="48" y="6"/>
                      </a:lnTo>
                      <a:lnTo>
                        <a:pt x="25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8159760" y="5796000"/>
                  <a:ext cx="21240" cy="6480"/>
                </a:xfrm>
                <a:custGeom>
                  <a:avLst/>
                  <a:gdLst/>
                  <a:ahLst/>
                  <a:rect l="l" t="t" r="r" b="b"/>
                  <a:pathLst>
                    <a:path w="343" h="70">
                      <a:moveTo>
                        <a:pt x="0" y="44"/>
                      </a:moveTo>
                      <a:lnTo>
                        <a:pt x="128" y="70"/>
                      </a:lnTo>
                      <a:lnTo>
                        <a:pt x="235" y="55"/>
                      </a:lnTo>
                      <a:lnTo>
                        <a:pt x="322" y="21"/>
                      </a:lnTo>
                      <a:lnTo>
                        <a:pt x="343" y="7"/>
                      </a:lnTo>
                      <a:lnTo>
                        <a:pt x="297" y="0"/>
                      </a:lnTo>
                      <a:lnTo>
                        <a:pt x="214" y="21"/>
                      </a:lnTo>
                      <a:lnTo>
                        <a:pt x="135" y="26"/>
                      </a:lnTo>
                      <a:lnTo>
                        <a:pt x="20" y="21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8132040" y="5705280"/>
                  <a:ext cx="23040" cy="38880"/>
                </a:xfrm>
                <a:custGeom>
                  <a:avLst/>
                  <a:gdLst/>
                  <a:ahLst/>
                  <a:rect l="l" t="t" r="r" b="b"/>
                  <a:pathLst>
                    <a:path w="363" h="429">
                      <a:moveTo>
                        <a:pt x="226" y="35"/>
                      </a:moveTo>
                      <a:lnTo>
                        <a:pt x="158" y="99"/>
                      </a:lnTo>
                      <a:lnTo>
                        <a:pt x="127" y="182"/>
                      </a:lnTo>
                      <a:lnTo>
                        <a:pt x="127" y="266"/>
                      </a:lnTo>
                      <a:lnTo>
                        <a:pt x="149" y="337"/>
                      </a:lnTo>
                      <a:lnTo>
                        <a:pt x="363" y="394"/>
                      </a:lnTo>
                      <a:lnTo>
                        <a:pt x="185" y="389"/>
                      </a:lnTo>
                      <a:lnTo>
                        <a:pt x="63" y="429"/>
                      </a:lnTo>
                      <a:lnTo>
                        <a:pt x="79" y="380"/>
                      </a:lnTo>
                      <a:lnTo>
                        <a:pt x="33" y="323"/>
                      </a:lnTo>
                      <a:lnTo>
                        <a:pt x="6" y="231"/>
                      </a:lnTo>
                      <a:lnTo>
                        <a:pt x="0" y="134"/>
                      </a:lnTo>
                      <a:lnTo>
                        <a:pt x="19" y="62"/>
                      </a:lnTo>
                      <a:lnTo>
                        <a:pt x="68" y="14"/>
                      </a:lnTo>
                      <a:lnTo>
                        <a:pt x="136" y="0"/>
                      </a:lnTo>
                      <a:lnTo>
                        <a:pt x="192" y="7"/>
                      </a:lnTo>
                      <a:lnTo>
                        <a:pt x="226" y="3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8167320" y="5725080"/>
                  <a:ext cx="19800" cy="13680"/>
                </a:xfrm>
                <a:custGeom>
                  <a:avLst/>
                  <a:gdLst/>
                  <a:ahLst/>
                  <a:rect l="l" t="t" r="r" b="b"/>
                  <a:pathLst>
                    <a:path w="314" h="154">
                      <a:moveTo>
                        <a:pt x="70" y="115"/>
                      </a:moveTo>
                      <a:lnTo>
                        <a:pt x="226" y="34"/>
                      </a:lnTo>
                      <a:lnTo>
                        <a:pt x="314" y="30"/>
                      </a:lnTo>
                      <a:lnTo>
                        <a:pt x="249" y="0"/>
                      </a:lnTo>
                      <a:lnTo>
                        <a:pt x="176" y="30"/>
                      </a:lnTo>
                      <a:lnTo>
                        <a:pt x="0" y="154"/>
                      </a:lnTo>
                      <a:lnTo>
                        <a:pt x="70" y="11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8124840" y="574884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105" h="60">
                      <a:moveTo>
                        <a:pt x="0" y="44"/>
                      </a:moveTo>
                      <a:lnTo>
                        <a:pt x="96" y="60"/>
                      </a:lnTo>
                      <a:lnTo>
                        <a:pt x="105" y="31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8194680" y="5735520"/>
                  <a:ext cx="6480" cy="10080"/>
                </a:xfrm>
                <a:custGeom>
                  <a:avLst/>
                  <a:gdLst/>
                  <a:ahLst/>
                  <a:rect l="l" t="t" r="r" b="b"/>
                  <a:pathLst>
                    <a:path w="99" h="111">
                      <a:moveTo>
                        <a:pt x="0" y="111"/>
                      </a:moveTo>
                      <a:lnTo>
                        <a:pt x="19" y="111"/>
                      </a:lnTo>
                      <a:lnTo>
                        <a:pt x="99" y="35"/>
                      </a:lnTo>
                      <a:lnTo>
                        <a:pt x="90" y="0"/>
                      </a:lnTo>
                      <a:lnTo>
                        <a:pt x="55" y="0"/>
                      </a:lnTo>
                      <a:lnTo>
                        <a:pt x="7" y="39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8166240" y="5812200"/>
                  <a:ext cx="9720" cy="7200"/>
                </a:xfrm>
                <a:custGeom>
                  <a:avLst/>
                  <a:gdLst/>
                  <a:ahLst/>
                  <a:rect l="l" t="t" r="r" b="b"/>
                  <a:pathLst>
                    <a:path w="154" h="84">
                      <a:moveTo>
                        <a:pt x="27" y="7"/>
                      </a:moveTo>
                      <a:lnTo>
                        <a:pt x="0" y="49"/>
                      </a:lnTo>
                      <a:lnTo>
                        <a:pt x="32" y="84"/>
                      </a:lnTo>
                      <a:lnTo>
                        <a:pt x="140" y="69"/>
                      </a:lnTo>
                      <a:lnTo>
                        <a:pt x="154" y="27"/>
                      </a:lnTo>
                      <a:lnTo>
                        <a:pt x="127" y="0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8123760" y="5866560"/>
                  <a:ext cx="11160" cy="30600"/>
                </a:xfrm>
                <a:custGeom>
                  <a:avLst/>
                  <a:gdLst/>
                  <a:ahLst/>
                  <a:rect l="l" t="t" r="r" b="b"/>
                  <a:pathLst>
                    <a:path w="172" h="336">
                      <a:moveTo>
                        <a:pt x="7" y="42"/>
                      </a:moveTo>
                      <a:lnTo>
                        <a:pt x="51" y="211"/>
                      </a:lnTo>
                      <a:lnTo>
                        <a:pt x="73" y="336"/>
                      </a:lnTo>
                      <a:lnTo>
                        <a:pt x="156" y="336"/>
                      </a:lnTo>
                      <a:lnTo>
                        <a:pt x="172" y="279"/>
                      </a:lnTo>
                      <a:lnTo>
                        <a:pt x="99" y="231"/>
                      </a:lnTo>
                      <a:lnTo>
                        <a:pt x="73" y="147"/>
                      </a:lnTo>
                      <a:lnTo>
                        <a:pt x="78" y="75"/>
                      </a:lnTo>
                      <a:lnTo>
                        <a:pt x="0" y="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124120" y="5846040"/>
                  <a:ext cx="16920" cy="10800"/>
                </a:xfrm>
                <a:custGeom>
                  <a:avLst/>
                  <a:gdLst/>
                  <a:ahLst/>
                  <a:rect l="l" t="t" r="r" b="b"/>
                  <a:pathLst>
                    <a:path w="264" h="122">
                      <a:moveTo>
                        <a:pt x="0" y="106"/>
                      </a:moveTo>
                      <a:lnTo>
                        <a:pt x="13" y="122"/>
                      </a:lnTo>
                      <a:lnTo>
                        <a:pt x="57" y="78"/>
                      </a:lnTo>
                      <a:lnTo>
                        <a:pt x="114" y="97"/>
                      </a:lnTo>
                      <a:lnTo>
                        <a:pt x="140" y="53"/>
                      </a:lnTo>
                      <a:lnTo>
                        <a:pt x="264" y="106"/>
                      </a:lnTo>
                      <a:lnTo>
                        <a:pt x="127" y="0"/>
                      </a:lnTo>
                      <a:lnTo>
                        <a:pt x="101" y="14"/>
                      </a:lnTo>
                      <a:lnTo>
                        <a:pt x="32" y="64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8137440" y="5882040"/>
                  <a:ext cx="6480" cy="13680"/>
                </a:xfrm>
                <a:custGeom>
                  <a:avLst/>
                  <a:gdLst/>
                  <a:ahLst/>
                  <a:rect l="l" t="t" r="r" b="b"/>
                  <a:pathLst>
                    <a:path w="106" h="147">
                      <a:moveTo>
                        <a:pt x="0" y="44"/>
                      </a:moveTo>
                      <a:lnTo>
                        <a:pt x="41" y="85"/>
                      </a:lnTo>
                      <a:lnTo>
                        <a:pt x="63" y="147"/>
                      </a:lnTo>
                      <a:lnTo>
                        <a:pt x="106" y="92"/>
                      </a:lnTo>
                      <a:lnTo>
                        <a:pt x="99" y="35"/>
                      </a:lnTo>
                      <a:lnTo>
                        <a:pt x="63" y="9"/>
                      </a:lnTo>
                      <a:lnTo>
                        <a:pt x="7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8144280" y="5752440"/>
                  <a:ext cx="15840" cy="8640"/>
                </a:xfrm>
                <a:custGeom>
                  <a:avLst/>
                  <a:gdLst/>
                  <a:ahLst/>
                  <a:rect l="l" t="t" r="r" b="b"/>
                  <a:pathLst>
                    <a:path w="244" h="94">
                      <a:moveTo>
                        <a:pt x="0" y="34"/>
                      </a:moveTo>
                      <a:lnTo>
                        <a:pt x="45" y="81"/>
                      </a:lnTo>
                      <a:lnTo>
                        <a:pt x="89" y="94"/>
                      </a:lnTo>
                      <a:lnTo>
                        <a:pt x="114" y="94"/>
                      </a:lnTo>
                      <a:lnTo>
                        <a:pt x="167" y="94"/>
                      </a:lnTo>
                      <a:lnTo>
                        <a:pt x="244" y="43"/>
                      </a:lnTo>
                      <a:lnTo>
                        <a:pt x="204" y="0"/>
                      </a:lnTo>
                      <a:lnTo>
                        <a:pt x="123" y="9"/>
                      </a:lnTo>
                      <a:lnTo>
                        <a:pt x="45" y="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8172360" y="5748840"/>
                  <a:ext cx="13680" cy="7920"/>
                </a:xfrm>
                <a:custGeom>
                  <a:avLst/>
                  <a:gdLst/>
                  <a:ahLst/>
                  <a:rect l="l" t="t" r="r" b="b"/>
                  <a:pathLst>
                    <a:path w="221" h="85">
                      <a:moveTo>
                        <a:pt x="0" y="70"/>
                      </a:moveTo>
                      <a:lnTo>
                        <a:pt x="44" y="7"/>
                      </a:lnTo>
                      <a:lnTo>
                        <a:pt x="129" y="0"/>
                      </a:lnTo>
                      <a:lnTo>
                        <a:pt x="221" y="7"/>
                      </a:lnTo>
                      <a:lnTo>
                        <a:pt x="216" y="26"/>
                      </a:lnTo>
                      <a:lnTo>
                        <a:pt x="185" y="57"/>
                      </a:lnTo>
                      <a:lnTo>
                        <a:pt x="115" y="85"/>
                      </a:lnTo>
                      <a:lnTo>
                        <a:pt x="51" y="85"/>
                      </a:lnTo>
                      <a:lnTo>
                        <a:pt x="9" y="8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7695720" y="5793480"/>
                  <a:ext cx="34920" cy="32040"/>
                </a:xfrm>
                <a:custGeom>
                  <a:avLst/>
                  <a:gdLst/>
                  <a:ahLst/>
                  <a:rect l="l" t="t" r="r" b="b"/>
                  <a:pathLst>
                    <a:path w="546" h="352">
                      <a:moveTo>
                        <a:pt x="53" y="229"/>
                      </a:moveTo>
                      <a:lnTo>
                        <a:pt x="126" y="174"/>
                      </a:lnTo>
                      <a:lnTo>
                        <a:pt x="163" y="161"/>
                      </a:lnTo>
                      <a:lnTo>
                        <a:pt x="313" y="161"/>
                      </a:lnTo>
                      <a:lnTo>
                        <a:pt x="387" y="167"/>
                      </a:lnTo>
                      <a:lnTo>
                        <a:pt x="194" y="94"/>
                      </a:lnTo>
                      <a:lnTo>
                        <a:pt x="60" y="94"/>
                      </a:lnTo>
                      <a:lnTo>
                        <a:pt x="9" y="82"/>
                      </a:lnTo>
                      <a:lnTo>
                        <a:pt x="0" y="75"/>
                      </a:lnTo>
                      <a:lnTo>
                        <a:pt x="145" y="0"/>
                      </a:lnTo>
                      <a:lnTo>
                        <a:pt x="224" y="13"/>
                      </a:lnTo>
                      <a:lnTo>
                        <a:pt x="313" y="64"/>
                      </a:lnTo>
                      <a:lnTo>
                        <a:pt x="415" y="108"/>
                      </a:lnTo>
                      <a:lnTo>
                        <a:pt x="498" y="130"/>
                      </a:lnTo>
                      <a:lnTo>
                        <a:pt x="546" y="198"/>
                      </a:lnTo>
                      <a:lnTo>
                        <a:pt x="521" y="255"/>
                      </a:lnTo>
                      <a:lnTo>
                        <a:pt x="484" y="255"/>
                      </a:lnTo>
                      <a:lnTo>
                        <a:pt x="431" y="322"/>
                      </a:lnTo>
                      <a:lnTo>
                        <a:pt x="376" y="329"/>
                      </a:lnTo>
                      <a:lnTo>
                        <a:pt x="286" y="352"/>
                      </a:lnTo>
                      <a:lnTo>
                        <a:pt x="365" y="280"/>
                      </a:lnTo>
                      <a:lnTo>
                        <a:pt x="401" y="235"/>
                      </a:lnTo>
                      <a:lnTo>
                        <a:pt x="401" y="218"/>
                      </a:lnTo>
                      <a:lnTo>
                        <a:pt x="365" y="209"/>
                      </a:lnTo>
                      <a:lnTo>
                        <a:pt x="304" y="191"/>
                      </a:lnTo>
                      <a:lnTo>
                        <a:pt x="286" y="235"/>
                      </a:lnTo>
                      <a:lnTo>
                        <a:pt x="282" y="205"/>
                      </a:lnTo>
                      <a:lnTo>
                        <a:pt x="256" y="205"/>
                      </a:lnTo>
                      <a:lnTo>
                        <a:pt x="253" y="225"/>
                      </a:lnTo>
                      <a:lnTo>
                        <a:pt x="277" y="244"/>
                      </a:lnTo>
                      <a:lnTo>
                        <a:pt x="268" y="266"/>
                      </a:lnTo>
                      <a:lnTo>
                        <a:pt x="84" y="244"/>
                      </a:lnTo>
                      <a:lnTo>
                        <a:pt x="53" y="2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7702200" y="5819400"/>
                  <a:ext cx="14400" cy="4320"/>
                </a:xfrm>
                <a:custGeom>
                  <a:avLst/>
                  <a:gdLst/>
                  <a:ahLst/>
                  <a:rect l="l" t="t" r="r" b="b"/>
                  <a:pathLst>
                    <a:path w="224" h="49">
                      <a:moveTo>
                        <a:pt x="0" y="0"/>
                      </a:moveTo>
                      <a:lnTo>
                        <a:pt x="40" y="33"/>
                      </a:lnTo>
                      <a:lnTo>
                        <a:pt x="139" y="49"/>
                      </a:lnTo>
                      <a:lnTo>
                        <a:pt x="224" y="3"/>
                      </a:lnTo>
                      <a:lnTo>
                        <a:pt x="132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7716600" y="5810400"/>
                  <a:ext cx="3960" cy="8640"/>
                </a:xfrm>
                <a:custGeom>
                  <a:avLst/>
                  <a:gdLst/>
                  <a:ahLst/>
                  <a:rect l="l" t="t" r="r" b="b"/>
                  <a:pathLst>
                    <a:path w="64" h="98">
                      <a:moveTo>
                        <a:pt x="0" y="0"/>
                      </a:moveTo>
                      <a:lnTo>
                        <a:pt x="53" y="98"/>
                      </a:lnTo>
                      <a:lnTo>
                        <a:pt x="64" y="81"/>
                      </a:lnTo>
                      <a:lnTo>
                        <a:pt x="34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733520" y="5809680"/>
                  <a:ext cx="25920" cy="47520"/>
                </a:xfrm>
                <a:custGeom>
                  <a:avLst/>
                  <a:gdLst/>
                  <a:ahLst/>
                  <a:rect l="l" t="t" r="r" b="b"/>
                  <a:pathLst>
                    <a:path w="406" h="514">
                      <a:moveTo>
                        <a:pt x="0" y="10"/>
                      </a:moveTo>
                      <a:lnTo>
                        <a:pt x="0" y="63"/>
                      </a:lnTo>
                      <a:lnTo>
                        <a:pt x="28" y="99"/>
                      </a:lnTo>
                      <a:lnTo>
                        <a:pt x="12" y="388"/>
                      </a:lnTo>
                      <a:lnTo>
                        <a:pt x="35" y="514"/>
                      </a:lnTo>
                      <a:lnTo>
                        <a:pt x="28" y="380"/>
                      </a:lnTo>
                      <a:lnTo>
                        <a:pt x="39" y="213"/>
                      </a:lnTo>
                      <a:lnTo>
                        <a:pt x="146" y="288"/>
                      </a:lnTo>
                      <a:lnTo>
                        <a:pt x="105" y="201"/>
                      </a:lnTo>
                      <a:lnTo>
                        <a:pt x="197" y="235"/>
                      </a:lnTo>
                      <a:lnTo>
                        <a:pt x="275" y="222"/>
                      </a:lnTo>
                      <a:lnTo>
                        <a:pt x="202" y="201"/>
                      </a:lnTo>
                      <a:lnTo>
                        <a:pt x="202" y="178"/>
                      </a:lnTo>
                      <a:lnTo>
                        <a:pt x="233" y="160"/>
                      </a:lnTo>
                      <a:lnTo>
                        <a:pt x="294" y="208"/>
                      </a:lnTo>
                      <a:lnTo>
                        <a:pt x="328" y="189"/>
                      </a:lnTo>
                      <a:lnTo>
                        <a:pt x="250" y="114"/>
                      </a:lnTo>
                      <a:lnTo>
                        <a:pt x="202" y="85"/>
                      </a:lnTo>
                      <a:lnTo>
                        <a:pt x="202" y="65"/>
                      </a:lnTo>
                      <a:lnTo>
                        <a:pt x="321" y="90"/>
                      </a:lnTo>
                      <a:lnTo>
                        <a:pt x="356" y="132"/>
                      </a:lnTo>
                      <a:lnTo>
                        <a:pt x="344" y="164"/>
                      </a:lnTo>
                      <a:lnTo>
                        <a:pt x="406" y="141"/>
                      </a:lnTo>
                      <a:lnTo>
                        <a:pt x="406" y="54"/>
                      </a:lnTo>
                      <a:lnTo>
                        <a:pt x="365" y="17"/>
                      </a:lnTo>
                      <a:lnTo>
                        <a:pt x="270" y="17"/>
                      </a:lnTo>
                      <a:lnTo>
                        <a:pt x="79" y="0"/>
                      </a:lnTo>
                      <a:lnTo>
                        <a:pt x="35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732440" y="586044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44" h="62">
                      <a:moveTo>
                        <a:pt x="0" y="46"/>
                      </a:moveTo>
                      <a:lnTo>
                        <a:pt x="28" y="62"/>
                      </a:lnTo>
                      <a:lnTo>
                        <a:pt x="44" y="49"/>
                      </a:lnTo>
                      <a:lnTo>
                        <a:pt x="35" y="0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7698240" y="5854680"/>
                  <a:ext cx="41400" cy="31320"/>
                </a:xfrm>
                <a:custGeom>
                  <a:avLst/>
                  <a:gdLst/>
                  <a:ahLst/>
                  <a:rect l="l" t="t" r="r" b="b"/>
                  <a:pathLst>
                    <a:path w="647" h="347">
                      <a:moveTo>
                        <a:pt x="509" y="114"/>
                      </a:moveTo>
                      <a:lnTo>
                        <a:pt x="466" y="117"/>
                      </a:lnTo>
                      <a:lnTo>
                        <a:pt x="374" y="29"/>
                      </a:lnTo>
                      <a:lnTo>
                        <a:pt x="311" y="0"/>
                      </a:lnTo>
                      <a:lnTo>
                        <a:pt x="219" y="31"/>
                      </a:lnTo>
                      <a:lnTo>
                        <a:pt x="219" y="57"/>
                      </a:lnTo>
                      <a:lnTo>
                        <a:pt x="258" y="64"/>
                      </a:lnTo>
                      <a:lnTo>
                        <a:pt x="120" y="105"/>
                      </a:lnTo>
                      <a:lnTo>
                        <a:pt x="0" y="181"/>
                      </a:lnTo>
                      <a:lnTo>
                        <a:pt x="23" y="225"/>
                      </a:lnTo>
                      <a:lnTo>
                        <a:pt x="95" y="220"/>
                      </a:lnTo>
                      <a:lnTo>
                        <a:pt x="157" y="237"/>
                      </a:lnTo>
                      <a:lnTo>
                        <a:pt x="240" y="193"/>
                      </a:lnTo>
                      <a:lnTo>
                        <a:pt x="357" y="211"/>
                      </a:lnTo>
                      <a:lnTo>
                        <a:pt x="461" y="200"/>
                      </a:lnTo>
                      <a:lnTo>
                        <a:pt x="521" y="257"/>
                      </a:lnTo>
                      <a:lnTo>
                        <a:pt x="567" y="279"/>
                      </a:lnTo>
                      <a:lnTo>
                        <a:pt x="620" y="347"/>
                      </a:lnTo>
                      <a:lnTo>
                        <a:pt x="647" y="334"/>
                      </a:lnTo>
                      <a:lnTo>
                        <a:pt x="643" y="225"/>
                      </a:lnTo>
                      <a:lnTo>
                        <a:pt x="567" y="105"/>
                      </a:lnTo>
                      <a:lnTo>
                        <a:pt x="509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721280" y="583992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72" h="86">
                      <a:moveTo>
                        <a:pt x="0" y="55"/>
                      </a:moveTo>
                      <a:lnTo>
                        <a:pt x="37" y="86"/>
                      </a:lnTo>
                      <a:lnTo>
                        <a:pt x="72" y="24"/>
                      </a:lnTo>
                      <a:lnTo>
                        <a:pt x="6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7711920" y="5879520"/>
                  <a:ext cx="19440" cy="11520"/>
                </a:xfrm>
                <a:custGeom>
                  <a:avLst/>
                  <a:gdLst/>
                  <a:ahLst/>
                  <a:rect l="l" t="t" r="r" b="b"/>
                  <a:pathLst>
                    <a:path w="302" h="129">
                      <a:moveTo>
                        <a:pt x="0" y="26"/>
                      </a:moveTo>
                      <a:lnTo>
                        <a:pt x="48" y="0"/>
                      </a:lnTo>
                      <a:lnTo>
                        <a:pt x="302" y="42"/>
                      </a:lnTo>
                      <a:lnTo>
                        <a:pt x="279" y="129"/>
                      </a:lnTo>
                      <a:lnTo>
                        <a:pt x="228" y="98"/>
                      </a:lnTo>
                      <a:lnTo>
                        <a:pt x="30" y="9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7680600" y="5716440"/>
                  <a:ext cx="81360" cy="63000"/>
                </a:xfrm>
                <a:custGeom>
                  <a:avLst/>
                  <a:gdLst/>
                  <a:ahLst/>
                  <a:rect l="l" t="t" r="r" b="b"/>
                  <a:pathLst>
                    <a:path w="1275" h="682">
                      <a:moveTo>
                        <a:pt x="934" y="170"/>
                      </a:moveTo>
                      <a:lnTo>
                        <a:pt x="1037" y="159"/>
                      </a:lnTo>
                      <a:lnTo>
                        <a:pt x="1037" y="136"/>
                      </a:lnTo>
                      <a:lnTo>
                        <a:pt x="970" y="92"/>
                      </a:lnTo>
                      <a:lnTo>
                        <a:pt x="834" y="42"/>
                      </a:lnTo>
                      <a:lnTo>
                        <a:pt x="730" y="25"/>
                      </a:lnTo>
                      <a:lnTo>
                        <a:pt x="431" y="7"/>
                      </a:lnTo>
                      <a:lnTo>
                        <a:pt x="652" y="0"/>
                      </a:lnTo>
                      <a:lnTo>
                        <a:pt x="868" y="18"/>
                      </a:lnTo>
                      <a:lnTo>
                        <a:pt x="1037" y="73"/>
                      </a:lnTo>
                      <a:lnTo>
                        <a:pt x="1157" y="154"/>
                      </a:lnTo>
                      <a:lnTo>
                        <a:pt x="1249" y="251"/>
                      </a:lnTo>
                      <a:lnTo>
                        <a:pt x="1275" y="325"/>
                      </a:lnTo>
                      <a:lnTo>
                        <a:pt x="1275" y="387"/>
                      </a:lnTo>
                      <a:lnTo>
                        <a:pt x="1217" y="449"/>
                      </a:lnTo>
                      <a:lnTo>
                        <a:pt x="1104" y="530"/>
                      </a:lnTo>
                      <a:lnTo>
                        <a:pt x="943" y="578"/>
                      </a:lnTo>
                      <a:lnTo>
                        <a:pt x="730" y="631"/>
                      </a:lnTo>
                      <a:lnTo>
                        <a:pt x="315" y="664"/>
                      </a:lnTo>
                      <a:lnTo>
                        <a:pt x="0" y="682"/>
                      </a:lnTo>
                      <a:lnTo>
                        <a:pt x="703" y="504"/>
                      </a:lnTo>
                      <a:lnTo>
                        <a:pt x="864" y="449"/>
                      </a:lnTo>
                      <a:lnTo>
                        <a:pt x="952" y="407"/>
                      </a:lnTo>
                      <a:lnTo>
                        <a:pt x="975" y="387"/>
                      </a:lnTo>
                      <a:lnTo>
                        <a:pt x="970" y="374"/>
                      </a:lnTo>
                      <a:lnTo>
                        <a:pt x="917" y="367"/>
                      </a:lnTo>
                      <a:lnTo>
                        <a:pt x="1074" y="325"/>
                      </a:lnTo>
                      <a:lnTo>
                        <a:pt x="1086" y="304"/>
                      </a:lnTo>
                      <a:lnTo>
                        <a:pt x="1157" y="306"/>
                      </a:lnTo>
                      <a:lnTo>
                        <a:pt x="1161" y="284"/>
                      </a:lnTo>
                      <a:lnTo>
                        <a:pt x="1136" y="271"/>
                      </a:lnTo>
                      <a:lnTo>
                        <a:pt x="1018" y="242"/>
                      </a:lnTo>
                      <a:lnTo>
                        <a:pt x="1123" y="242"/>
                      </a:lnTo>
                      <a:lnTo>
                        <a:pt x="1123" y="216"/>
                      </a:lnTo>
                      <a:lnTo>
                        <a:pt x="1044" y="189"/>
                      </a:lnTo>
                      <a:lnTo>
                        <a:pt x="934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7651440" y="5716440"/>
                  <a:ext cx="89280" cy="124920"/>
                </a:xfrm>
                <a:custGeom>
                  <a:avLst/>
                  <a:gdLst/>
                  <a:ahLst/>
                  <a:rect l="l" t="t" r="r" b="b"/>
                  <a:pathLst>
                    <a:path w="1400" h="1354">
                      <a:moveTo>
                        <a:pt x="585" y="668"/>
                      </a:moveTo>
                      <a:lnTo>
                        <a:pt x="486" y="811"/>
                      </a:lnTo>
                      <a:lnTo>
                        <a:pt x="468" y="885"/>
                      </a:lnTo>
                      <a:lnTo>
                        <a:pt x="413" y="947"/>
                      </a:lnTo>
                      <a:lnTo>
                        <a:pt x="352" y="1130"/>
                      </a:lnTo>
                      <a:lnTo>
                        <a:pt x="277" y="1118"/>
                      </a:lnTo>
                      <a:lnTo>
                        <a:pt x="233" y="1002"/>
                      </a:lnTo>
                      <a:lnTo>
                        <a:pt x="171" y="975"/>
                      </a:lnTo>
                      <a:lnTo>
                        <a:pt x="110" y="991"/>
                      </a:lnTo>
                      <a:lnTo>
                        <a:pt x="67" y="1064"/>
                      </a:lnTo>
                      <a:lnTo>
                        <a:pt x="97" y="1354"/>
                      </a:lnTo>
                      <a:lnTo>
                        <a:pt x="46" y="1263"/>
                      </a:lnTo>
                      <a:lnTo>
                        <a:pt x="0" y="730"/>
                      </a:lnTo>
                      <a:lnTo>
                        <a:pt x="40" y="627"/>
                      </a:lnTo>
                      <a:lnTo>
                        <a:pt x="110" y="438"/>
                      </a:lnTo>
                      <a:lnTo>
                        <a:pt x="270" y="242"/>
                      </a:lnTo>
                      <a:lnTo>
                        <a:pt x="486" y="71"/>
                      </a:lnTo>
                      <a:lnTo>
                        <a:pt x="754" y="11"/>
                      </a:lnTo>
                      <a:lnTo>
                        <a:pt x="976" y="0"/>
                      </a:lnTo>
                      <a:lnTo>
                        <a:pt x="1095" y="55"/>
                      </a:lnTo>
                      <a:lnTo>
                        <a:pt x="1160" y="124"/>
                      </a:lnTo>
                      <a:lnTo>
                        <a:pt x="1286" y="165"/>
                      </a:lnTo>
                      <a:lnTo>
                        <a:pt x="1240" y="165"/>
                      </a:lnTo>
                      <a:lnTo>
                        <a:pt x="1240" y="189"/>
                      </a:lnTo>
                      <a:lnTo>
                        <a:pt x="1342" y="223"/>
                      </a:lnTo>
                      <a:lnTo>
                        <a:pt x="1270" y="251"/>
                      </a:lnTo>
                      <a:lnTo>
                        <a:pt x="1277" y="271"/>
                      </a:lnTo>
                      <a:lnTo>
                        <a:pt x="1314" y="290"/>
                      </a:lnTo>
                      <a:lnTo>
                        <a:pt x="1229" y="318"/>
                      </a:lnTo>
                      <a:lnTo>
                        <a:pt x="1277" y="365"/>
                      </a:lnTo>
                      <a:lnTo>
                        <a:pt x="1125" y="403"/>
                      </a:lnTo>
                      <a:lnTo>
                        <a:pt x="1125" y="413"/>
                      </a:lnTo>
                      <a:lnTo>
                        <a:pt x="1266" y="424"/>
                      </a:lnTo>
                      <a:lnTo>
                        <a:pt x="1116" y="470"/>
                      </a:lnTo>
                      <a:lnTo>
                        <a:pt x="1400" y="438"/>
                      </a:lnTo>
                      <a:lnTo>
                        <a:pt x="1383" y="530"/>
                      </a:lnTo>
                      <a:lnTo>
                        <a:pt x="864" y="631"/>
                      </a:lnTo>
                      <a:lnTo>
                        <a:pt x="585" y="6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734960" y="575748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567" h="1578">
                      <a:moveTo>
                        <a:pt x="320" y="150"/>
                      </a:moveTo>
                      <a:lnTo>
                        <a:pt x="358" y="245"/>
                      </a:lnTo>
                      <a:lnTo>
                        <a:pt x="358" y="635"/>
                      </a:lnTo>
                      <a:lnTo>
                        <a:pt x="304" y="761"/>
                      </a:lnTo>
                      <a:lnTo>
                        <a:pt x="304" y="904"/>
                      </a:lnTo>
                      <a:lnTo>
                        <a:pt x="239" y="1119"/>
                      </a:lnTo>
                      <a:lnTo>
                        <a:pt x="147" y="1255"/>
                      </a:lnTo>
                      <a:lnTo>
                        <a:pt x="0" y="1578"/>
                      </a:lnTo>
                      <a:lnTo>
                        <a:pt x="90" y="1471"/>
                      </a:lnTo>
                      <a:lnTo>
                        <a:pt x="198" y="1211"/>
                      </a:lnTo>
                      <a:lnTo>
                        <a:pt x="270" y="1105"/>
                      </a:lnTo>
                      <a:lnTo>
                        <a:pt x="341" y="941"/>
                      </a:lnTo>
                      <a:lnTo>
                        <a:pt x="341" y="794"/>
                      </a:lnTo>
                      <a:lnTo>
                        <a:pt x="484" y="704"/>
                      </a:lnTo>
                      <a:lnTo>
                        <a:pt x="567" y="455"/>
                      </a:lnTo>
                      <a:lnTo>
                        <a:pt x="567" y="261"/>
                      </a:lnTo>
                      <a:lnTo>
                        <a:pt x="558" y="121"/>
                      </a:lnTo>
                      <a:lnTo>
                        <a:pt x="532" y="42"/>
                      </a:lnTo>
                      <a:lnTo>
                        <a:pt x="468" y="0"/>
                      </a:lnTo>
                      <a:lnTo>
                        <a:pt x="521" y="60"/>
                      </a:lnTo>
                      <a:lnTo>
                        <a:pt x="532" y="110"/>
                      </a:lnTo>
                      <a:lnTo>
                        <a:pt x="521" y="139"/>
                      </a:lnTo>
                      <a:lnTo>
                        <a:pt x="444" y="90"/>
                      </a:lnTo>
                      <a:lnTo>
                        <a:pt x="437" y="97"/>
                      </a:lnTo>
                      <a:lnTo>
                        <a:pt x="488" y="178"/>
                      </a:lnTo>
                      <a:lnTo>
                        <a:pt x="505" y="305"/>
                      </a:lnTo>
                      <a:lnTo>
                        <a:pt x="505" y="429"/>
                      </a:lnTo>
                      <a:lnTo>
                        <a:pt x="468" y="275"/>
                      </a:lnTo>
                      <a:lnTo>
                        <a:pt x="345" y="110"/>
                      </a:lnTo>
                      <a:lnTo>
                        <a:pt x="320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664760" y="5841360"/>
                  <a:ext cx="67680" cy="96120"/>
                </a:xfrm>
                <a:custGeom>
                  <a:avLst/>
                  <a:gdLst/>
                  <a:ahLst/>
                  <a:rect l="l" t="t" r="r" b="b"/>
                  <a:pathLst>
                    <a:path w="1057" h="1050">
                      <a:moveTo>
                        <a:pt x="90" y="0"/>
                      </a:moveTo>
                      <a:lnTo>
                        <a:pt x="68" y="195"/>
                      </a:lnTo>
                      <a:lnTo>
                        <a:pt x="72" y="281"/>
                      </a:lnTo>
                      <a:lnTo>
                        <a:pt x="105" y="356"/>
                      </a:lnTo>
                      <a:lnTo>
                        <a:pt x="158" y="424"/>
                      </a:lnTo>
                      <a:lnTo>
                        <a:pt x="259" y="506"/>
                      </a:lnTo>
                      <a:lnTo>
                        <a:pt x="558" y="651"/>
                      </a:lnTo>
                      <a:lnTo>
                        <a:pt x="842" y="758"/>
                      </a:lnTo>
                      <a:lnTo>
                        <a:pt x="925" y="762"/>
                      </a:lnTo>
                      <a:lnTo>
                        <a:pt x="995" y="758"/>
                      </a:lnTo>
                      <a:lnTo>
                        <a:pt x="1057" y="730"/>
                      </a:lnTo>
                      <a:lnTo>
                        <a:pt x="1006" y="767"/>
                      </a:lnTo>
                      <a:lnTo>
                        <a:pt x="944" y="783"/>
                      </a:lnTo>
                      <a:lnTo>
                        <a:pt x="863" y="785"/>
                      </a:lnTo>
                      <a:lnTo>
                        <a:pt x="753" y="767"/>
                      </a:lnTo>
                      <a:lnTo>
                        <a:pt x="753" y="817"/>
                      </a:lnTo>
                      <a:lnTo>
                        <a:pt x="738" y="882"/>
                      </a:lnTo>
                      <a:lnTo>
                        <a:pt x="661" y="1009"/>
                      </a:lnTo>
                      <a:lnTo>
                        <a:pt x="704" y="901"/>
                      </a:lnTo>
                      <a:lnTo>
                        <a:pt x="709" y="824"/>
                      </a:lnTo>
                      <a:lnTo>
                        <a:pt x="624" y="861"/>
                      </a:lnTo>
                      <a:lnTo>
                        <a:pt x="624" y="978"/>
                      </a:lnTo>
                      <a:lnTo>
                        <a:pt x="598" y="1013"/>
                      </a:lnTo>
                      <a:lnTo>
                        <a:pt x="624" y="1050"/>
                      </a:lnTo>
                      <a:lnTo>
                        <a:pt x="591" y="1050"/>
                      </a:lnTo>
                      <a:lnTo>
                        <a:pt x="506" y="1009"/>
                      </a:lnTo>
                      <a:lnTo>
                        <a:pt x="328" y="843"/>
                      </a:lnTo>
                      <a:lnTo>
                        <a:pt x="215" y="721"/>
                      </a:lnTo>
                      <a:lnTo>
                        <a:pt x="98" y="567"/>
                      </a:lnTo>
                      <a:lnTo>
                        <a:pt x="0" y="370"/>
                      </a:lnTo>
                      <a:lnTo>
                        <a:pt x="107" y="541"/>
                      </a:lnTo>
                      <a:lnTo>
                        <a:pt x="204" y="633"/>
                      </a:lnTo>
                      <a:lnTo>
                        <a:pt x="81" y="411"/>
                      </a:lnTo>
                      <a:lnTo>
                        <a:pt x="52" y="288"/>
                      </a:lnTo>
                      <a:lnTo>
                        <a:pt x="52" y="213"/>
                      </a:lnTo>
                      <a:lnTo>
                        <a:pt x="68" y="91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658640" y="5813640"/>
                  <a:ext cx="11160" cy="28440"/>
                </a:xfrm>
                <a:custGeom>
                  <a:avLst/>
                  <a:gdLst/>
                  <a:ahLst/>
                  <a:rect l="l" t="t" r="r" b="b"/>
                  <a:pathLst>
                    <a:path w="180" h="312">
                      <a:moveTo>
                        <a:pt x="37" y="0"/>
                      </a:moveTo>
                      <a:lnTo>
                        <a:pt x="88" y="7"/>
                      </a:lnTo>
                      <a:lnTo>
                        <a:pt x="175" y="62"/>
                      </a:lnTo>
                      <a:lnTo>
                        <a:pt x="180" y="164"/>
                      </a:lnTo>
                      <a:lnTo>
                        <a:pt x="146" y="147"/>
                      </a:lnTo>
                      <a:lnTo>
                        <a:pt x="136" y="134"/>
                      </a:lnTo>
                      <a:lnTo>
                        <a:pt x="94" y="171"/>
                      </a:lnTo>
                      <a:lnTo>
                        <a:pt x="94" y="185"/>
                      </a:lnTo>
                      <a:lnTo>
                        <a:pt x="125" y="204"/>
                      </a:lnTo>
                      <a:lnTo>
                        <a:pt x="155" y="301"/>
                      </a:lnTo>
                      <a:lnTo>
                        <a:pt x="132" y="312"/>
                      </a:lnTo>
                      <a:lnTo>
                        <a:pt x="100" y="257"/>
                      </a:lnTo>
                      <a:lnTo>
                        <a:pt x="19" y="233"/>
                      </a:lnTo>
                      <a:lnTo>
                        <a:pt x="0" y="111"/>
                      </a:lnTo>
                      <a:lnTo>
                        <a:pt x="19" y="95"/>
                      </a:lnTo>
                      <a:lnTo>
                        <a:pt x="105" y="53"/>
                      </a:lnTo>
                      <a:lnTo>
                        <a:pt x="81" y="26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7659720" y="584064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0" y="0"/>
                      </a:moveTo>
                      <a:lnTo>
                        <a:pt x="69" y="17"/>
                      </a:lnTo>
                      <a:lnTo>
                        <a:pt x="7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7658640" y="5848200"/>
                  <a:ext cx="9000" cy="17640"/>
                </a:xfrm>
                <a:custGeom>
                  <a:avLst/>
                  <a:gdLst/>
                  <a:ahLst/>
                  <a:rect l="l" t="t" r="r" b="b"/>
                  <a:pathLst>
                    <a:path w="143" h="195">
                      <a:moveTo>
                        <a:pt x="0" y="0"/>
                      </a:moveTo>
                      <a:lnTo>
                        <a:pt x="26" y="23"/>
                      </a:lnTo>
                      <a:lnTo>
                        <a:pt x="67" y="37"/>
                      </a:lnTo>
                      <a:lnTo>
                        <a:pt x="143" y="18"/>
                      </a:lnTo>
                      <a:lnTo>
                        <a:pt x="114" y="85"/>
                      </a:lnTo>
                      <a:lnTo>
                        <a:pt x="61" y="103"/>
                      </a:lnTo>
                      <a:lnTo>
                        <a:pt x="33" y="195"/>
                      </a:lnTo>
                      <a:lnTo>
                        <a:pt x="6" y="140"/>
                      </a:lnTo>
                      <a:lnTo>
                        <a:pt x="6" y="112"/>
                      </a:lnTo>
                      <a:lnTo>
                        <a:pt x="33" y="85"/>
                      </a:lnTo>
                      <a:lnTo>
                        <a:pt x="15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674120" y="5815800"/>
                  <a:ext cx="4320" cy="20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7674840" y="5811120"/>
                  <a:ext cx="6480" cy="30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7679160" y="5820120"/>
                  <a:ext cx="612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683120" y="5828760"/>
                  <a:ext cx="432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706880" y="5777280"/>
                  <a:ext cx="47160" cy="15480"/>
                </a:xfrm>
                <a:custGeom>
                  <a:avLst/>
                  <a:gdLst/>
                  <a:ahLst/>
                  <a:rect l="l" t="t" r="r" b="b"/>
                  <a:pathLst>
                    <a:path w="743" h="165">
                      <a:moveTo>
                        <a:pt x="0" y="0"/>
                      </a:moveTo>
                      <a:lnTo>
                        <a:pt x="116" y="18"/>
                      </a:lnTo>
                      <a:lnTo>
                        <a:pt x="351" y="101"/>
                      </a:lnTo>
                      <a:lnTo>
                        <a:pt x="519" y="138"/>
                      </a:lnTo>
                      <a:lnTo>
                        <a:pt x="743" y="16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716600" y="5775120"/>
                  <a:ext cx="31320" cy="12240"/>
                </a:xfrm>
                <a:custGeom>
                  <a:avLst/>
                  <a:gdLst/>
                  <a:ahLst/>
                  <a:rect l="l" t="t" r="r" b="b"/>
                  <a:pathLst>
                    <a:path w="491" h="134">
                      <a:moveTo>
                        <a:pt x="0" y="0"/>
                      </a:moveTo>
                      <a:lnTo>
                        <a:pt x="82" y="28"/>
                      </a:lnTo>
                      <a:lnTo>
                        <a:pt x="260" y="88"/>
                      </a:lnTo>
                      <a:lnTo>
                        <a:pt x="491" y="1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7633080" y="5865840"/>
                  <a:ext cx="23040" cy="53640"/>
                </a:xfrm>
                <a:custGeom>
                  <a:avLst/>
                  <a:gdLst/>
                  <a:ahLst/>
                  <a:rect l="l" t="t" r="r" b="b"/>
                  <a:pathLst>
                    <a:path w="365" h="579">
                      <a:moveTo>
                        <a:pt x="365" y="0"/>
                      </a:moveTo>
                      <a:lnTo>
                        <a:pt x="277" y="129"/>
                      </a:lnTo>
                      <a:lnTo>
                        <a:pt x="277" y="265"/>
                      </a:lnTo>
                      <a:lnTo>
                        <a:pt x="350" y="579"/>
                      </a:lnTo>
                      <a:lnTo>
                        <a:pt x="224" y="290"/>
                      </a:lnTo>
                      <a:lnTo>
                        <a:pt x="224" y="199"/>
                      </a:lnTo>
                      <a:lnTo>
                        <a:pt x="0" y="199"/>
                      </a:lnTo>
                      <a:lnTo>
                        <a:pt x="187" y="76"/>
                      </a:lnTo>
                      <a:lnTo>
                        <a:pt x="277" y="76"/>
                      </a:lnTo>
                      <a:lnTo>
                        <a:pt x="3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7540560" y="5900400"/>
                  <a:ext cx="270360" cy="364320"/>
                </a:xfrm>
                <a:custGeom>
                  <a:avLst/>
                  <a:gdLst/>
                  <a:ahLst/>
                  <a:rect l="l" t="t" r="r" b="b"/>
                  <a:pathLst>
                    <a:path w="4215" h="3969">
                      <a:moveTo>
                        <a:pt x="1158" y="0"/>
                      </a:moveTo>
                      <a:lnTo>
                        <a:pt x="897" y="255"/>
                      </a:lnTo>
                      <a:lnTo>
                        <a:pt x="743" y="466"/>
                      </a:lnTo>
                      <a:lnTo>
                        <a:pt x="743" y="706"/>
                      </a:lnTo>
                      <a:lnTo>
                        <a:pt x="920" y="591"/>
                      </a:lnTo>
                      <a:lnTo>
                        <a:pt x="920" y="756"/>
                      </a:lnTo>
                      <a:lnTo>
                        <a:pt x="1314" y="1684"/>
                      </a:lnTo>
                      <a:lnTo>
                        <a:pt x="1224" y="1582"/>
                      </a:lnTo>
                      <a:lnTo>
                        <a:pt x="1134" y="1582"/>
                      </a:lnTo>
                      <a:lnTo>
                        <a:pt x="1072" y="1610"/>
                      </a:lnTo>
                      <a:lnTo>
                        <a:pt x="1031" y="1644"/>
                      </a:lnTo>
                      <a:lnTo>
                        <a:pt x="1174" y="1960"/>
                      </a:lnTo>
                      <a:lnTo>
                        <a:pt x="1448" y="2451"/>
                      </a:lnTo>
                      <a:lnTo>
                        <a:pt x="1868" y="2890"/>
                      </a:lnTo>
                      <a:lnTo>
                        <a:pt x="2031" y="3026"/>
                      </a:lnTo>
                      <a:lnTo>
                        <a:pt x="2031" y="3116"/>
                      </a:lnTo>
                      <a:lnTo>
                        <a:pt x="1930" y="3239"/>
                      </a:lnTo>
                      <a:lnTo>
                        <a:pt x="1930" y="3380"/>
                      </a:lnTo>
                      <a:lnTo>
                        <a:pt x="2129" y="3343"/>
                      </a:lnTo>
                      <a:lnTo>
                        <a:pt x="2158" y="3295"/>
                      </a:lnTo>
                      <a:lnTo>
                        <a:pt x="2145" y="3228"/>
                      </a:lnTo>
                      <a:lnTo>
                        <a:pt x="2094" y="3191"/>
                      </a:lnTo>
                      <a:lnTo>
                        <a:pt x="2296" y="3239"/>
                      </a:lnTo>
                      <a:lnTo>
                        <a:pt x="2435" y="3228"/>
                      </a:lnTo>
                      <a:lnTo>
                        <a:pt x="2575" y="3178"/>
                      </a:lnTo>
                      <a:lnTo>
                        <a:pt x="2712" y="3065"/>
                      </a:lnTo>
                      <a:lnTo>
                        <a:pt x="2815" y="2967"/>
                      </a:lnTo>
                      <a:lnTo>
                        <a:pt x="2749" y="3076"/>
                      </a:lnTo>
                      <a:lnTo>
                        <a:pt x="2700" y="3166"/>
                      </a:lnTo>
                      <a:lnTo>
                        <a:pt x="2903" y="3191"/>
                      </a:lnTo>
                      <a:lnTo>
                        <a:pt x="3154" y="3203"/>
                      </a:lnTo>
                      <a:lnTo>
                        <a:pt x="3357" y="3154"/>
                      </a:lnTo>
                      <a:lnTo>
                        <a:pt x="3433" y="2855"/>
                      </a:lnTo>
                      <a:lnTo>
                        <a:pt x="3468" y="2855"/>
                      </a:lnTo>
                      <a:lnTo>
                        <a:pt x="3494" y="2890"/>
                      </a:lnTo>
                      <a:lnTo>
                        <a:pt x="3521" y="2991"/>
                      </a:lnTo>
                      <a:lnTo>
                        <a:pt x="3535" y="3076"/>
                      </a:lnTo>
                      <a:lnTo>
                        <a:pt x="4203" y="3039"/>
                      </a:lnTo>
                      <a:lnTo>
                        <a:pt x="4215" y="3116"/>
                      </a:lnTo>
                      <a:lnTo>
                        <a:pt x="4215" y="3178"/>
                      </a:lnTo>
                      <a:lnTo>
                        <a:pt x="4189" y="3254"/>
                      </a:lnTo>
                      <a:lnTo>
                        <a:pt x="4037" y="3265"/>
                      </a:lnTo>
                      <a:lnTo>
                        <a:pt x="3913" y="3343"/>
                      </a:lnTo>
                      <a:lnTo>
                        <a:pt x="3683" y="3390"/>
                      </a:lnTo>
                      <a:lnTo>
                        <a:pt x="3481" y="3380"/>
                      </a:lnTo>
                      <a:lnTo>
                        <a:pt x="3281" y="3441"/>
                      </a:lnTo>
                      <a:lnTo>
                        <a:pt x="3105" y="3481"/>
                      </a:lnTo>
                      <a:lnTo>
                        <a:pt x="2852" y="3492"/>
                      </a:lnTo>
                      <a:lnTo>
                        <a:pt x="2547" y="3457"/>
                      </a:lnTo>
                      <a:lnTo>
                        <a:pt x="2320" y="3481"/>
                      </a:lnTo>
                      <a:lnTo>
                        <a:pt x="2129" y="3542"/>
                      </a:lnTo>
                      <a:lnTo>
                        <a:pt x="1990" y="3620"/>
                      </a:lnTo>
                      <a:lnTo>
                        <a:pt x="1615" y="3516"/>
                      </a:lnTo>
                      <a:lnTo>
                        <a:pt x="681" y="3969"/>
                      </a:lnTo>
                      <a:lnTo>
                        <a:pt x="0" y="3969"/>
                      </a:lnTo>
                      <a:lnTo>
                        <a:pt x="176" y="1723"/>
                      </a:lnTo>
                      <a:lnTo>
                        <a:pt x="328" y="1244"/>
                      </a:lnTo>
                      <a:lnTo>
                        <a:pt x="266" y="1558"/>
                      </a:lnTo>
                      <a:lnTo>
                        <a:pt x="418" y="2059"/>
                      </a:lnTo>
                      <a:lnTo>
                        <a:pt x="418" y="2500"/>
                      </a:lnTo>
                      <a:lnTo>
                        <a:pt x="591" y="2977"/>
                      </a:lnTo>
                      <a:lnTo>
                        <a:pt x="681" y="2977"/>
                      </a:lnTo>
                      <a:lnTo>
                        <a:pt x="907" y="2488"/>
                      </a:lnTo>
                      <a:lnTo>
                        <a:pt x="602" y="1886"/>
                      </a:lnTo>
                      <a:lnTo>
                        <a:pt x="556" y="1697"/>
                      </a:lnTo>
                      <a:lnTo>
                        <a:pt x="528" y="1497"/>
                      </a:lnTo>
                      <a:lnTo>
                        <a:pt x="556" y="1281"/>
                      </a:lnTo>
                      <a:lnTo>
                        <a:pt x="681" y="780"/>
                      </a:lnTo>
                      <a:lnTo>
                        <a:pt x="618" y="729"/>
                      </a:lnTo>
                      <a:lnTo>
                        <a:pt x="577" y="665"/>
                      </a:lnTo>
                      <a:lnTo>
                        <a:pt x="567" y="618"/>
                      </a:lnTo>
                      <a:lnTo>
                        <a:pt x="441" y="905"/>
                      </a:lnTo>
                      <a:lnTo>
                        <a:pt x="540" y="591"/>
                      </a:lnTo>
                      <a:lnTo>
                        <a:pt x="591" y="517"/>
                      </a:lnTo>
                      <a:lnTo>
                        <a:pt x="769" y="317"/>
                      </a:lnTo>
                      <a:lnTo>
                        <a:pt x="943" y="139"/>
                      </a:lnTo>
                      <a:lnTo>
                        <a:pt x="11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627680" y="5945760"/>
                  <a:ext cx="83520" cy="194760"/>
                </a:xfrm>
                <a:custGeom>
                  <a:avLst/>
                  <a:gdLst/>
                  <a:ahLst/>
                  <a:rect l="l" t="t" r="r" b="b"/>
                  <a:pathLst>
                    <a:path w="1300" h="2125">
                      <a:moveTo>
                        <a:pt x="0" y="140"/>
                      </a:moveTo>
                      <a:lnTo>
                        <a:pt x="378" y="378"/>
                      </a:lnTo>
                      <a:lnTo>
                        <a:pt x="641" y="829"/>
                      </a:lnTo>
                      <a:lnTo>
                        <a:pt x="641" y="1020"/>
                      </a:lnTo>
                      <a:lnTo>
                        <a:pt x="984" y="1318"/>
                      </a:lnTo>
                      <a:lnTo>
                        <a:pt x="1111" y="1556"/>
                      </a:lnTo>
                      <a:lnTo>
                        <a:pt x="1083" y="967"/>
                      </a:lnTo>
                      <a:lnTo>
                        <a:pt x="1083" y="589"/>
                      </a:lnTo>
                      <a:lnTo>
                        <a:pt x="1111" y="327"/>
                      </a:lnTo>
                      <a:lnTo>
                        <a:pt x="1072" y="266"/>
                      </a:lnTo>
                      <a:lnTo>
                        <a:pt x="984" y="378"/>
                      </a:lnTo>
                      <a:lnTo>
                        <a:pt x="906" y="424"/>
                      </a:lnTo>
                      <a:lnTo>
                        <a:pt x="998" y="327"/>
                      </a:lnTo>
                      <a:lnTo>
                        <a:pt x="1072" y="165"/>
                      </a:lnTo>
                      <a:lnTo>
                        <a:pt x="1160" y="27"/>
                      </a:lnTo>
                      <a:lnTo>
                        <a:pt x="1212" y="0"/>
                      </a:lnTo>
                      <a:lnTo>
                        <a:pt x="1160" y="80"/>
                      </a:lnTo>
                      <a:lnTo>
                        <a:pt x="1224" y="304"/>
                      </a:lnTo>
                      <a:lnTo>
                        <a:pt x="1160" y="304"/>
                      </a:lnTo>
                      <a:lnTo>
                        <a:pt x="1146" y="516"/>
                      </a:lnTo>
                      <a:lnTo>
                        <a:pt x="1184" y="1120"/>
                      </a:lnTo>
                      <a:lnTo>
                        <a:pt x="1247" y="1723"/>
                      </a:lnTo>
                      <a:lnTo>
                        <a:pt x="1300" y="1910"/>
                      </a:lnTo>
                      <a:lnTo>
                        <a:pt x="1035" y="2059"/>
                      </a:lnTo>
                      <a:lnTo>
                        <a:pt x="1146" y="1961"/>
                      </a:lnTo>
                      <a:lnTo>
                        <a:pt x="1095" y="1881"/>
                      </a:lnTo>
                      <a:lnTo>
                        <a:pt x="971" y="1910"/>
                      </a:lnTo>
                      <a:lnTo>
                        <a:pt x="694" y="2099"/>
                      </a:lnTo>
                      <a:lnTo>
                        <a:pt x="606" y="2125"/>
                      </a:lnTo>
                      <a:lnTo>
                        <a:pt x="593" y="2086"/>
                      </a:lnTo>
                      <a:lnTo>
                        <a:pt x="756" y="1934"/>
                      </a:lnTo>
                      <a:lnTo>
                        <a:pt x="1095" y="1821"/>
                      </a:lnTo>
                      <a:lnTo>
                        <a:pt x="1045" y="1685"/>
                      </a:lnTo>
                      <a:lnTo>
                        <a:pt x="1045" y="1547"/>
                      </a:lnTo>
                      <a:lnTo>
                        <a:pt x="998" y="1470"/>
                      </a:lnTo>
                      <a:lnTo>
                        <a:pt x="606" y="1169"/>
                      </a:lnTo>
                      <a:lnTo>
                        <a:pt x="138" y="841"/>
                      </a:lnTo>
                      <a:lnTo>
                        <a:pt x="657" y="1154"/>
                      </a:lnTo>
                      <a:lnTo>
                        <a:pt x="390" y="463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678440" y="6139080"/>
                  <a:ext cx="13320" cy="43200"/>
                </a:xfrm>
                <a:custGeom>
                  <a:avLst/>
                  <a:gdLst/>
                  <a:ahLst/>
                  <a:rect l="l" t="t" r="r" b="b"/>
                  <a:pathLst>
                    <a:path w="203" h="466">
                      <a:moveTo>
                        <a:pt x="203" y="0"/>
                      </a:moveTo>
                      <a:lnTo>
                        <a:pt x="111" y="51"/>
                      </a:lnTo>
                      <a:lnTo>
                        <a:pt x="0" y="403"/>
                      </a:lnTo>
                      <a:lnTo>
                        <a:pt x="99" y="466"/>
                      </a:lnTo>
                      <a:lnTo>
                        <a:pt x="203" y="378"/>
                      </a:lnTo>
                      <a:lnTo>
                        <a:pt x="203" y="136"/>
                      </a:lnTo>
                      <a:lnTo>
                        <a:pt x="152" y="136"/>
                      </a:lnTo>
                      <a:lnTo>
                        <a:pt x="152" y="76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7692480" y="6127920"/>
                  <a:ext cx="32040" cy="55080"/>
                </a:xfrm>
                <a:custGeom>
                  <a:avLst/>
                  <a:gdLst/>
                  <a:ahLst/>
                  <a:rect l="l" t="t" r="r" b="b"/>
                  <a:pathLst>
                    <a:path w="506" h="599">
                      <a:moveTo>
                        <a:pt x="138" y="162"/>
                      </a:moveTo>
                      <a:lnTo>
                        <a:pt x="317" y="0"/>
                      </a:lnTo>
                      <a:lnTo>
                        <a:pt x="506" y="72"/>
                      </a:lnTo>
                      <a:lnTo>
                        <a:pt x="506" y="173"/>
                      </a:lnTo>
                      <a:lnTo>
                        <a:pt x="391" y="325"/>
                      </a:lnTo>
                      <a:lnTo>
                        <a:pt x="0" y="599"/>
                      </a:lnTo>
                      <a:lnTo>
                        <a:pt x="279" y="364"/>
                      </a:lnTo>
                      <a:lnTo>
                        <a:pt x="317" y="274"/>
                      </a:lnTo>
                      <a:lnTo>
                        <a:pt x="329" y="198"/>
                      </a:lnTo>
                      <a:lnTo>
                        <a:pt x="317" y="138"/>
                      </a:lnTo>
                      <a:lnTo>
                        <a:pt x="279" y="112"/>
                      </a:lnTo>
                      <a:lnTo>
                        <a:pt x="230" y="112"/>
                      </a:lnTo>
                      <a:lnTo>
                        <a:pt x="138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7730640" y="6108120"/>
                  <a:ext cx="199800" cy="91080"/>
                </a:xfrm>
                <a:custGeom>
                  <a:avLst/>
                  <a:gdLst/>
                  <a:ahLst/>
                  <a:rect l="l" t="t" r="r" b="b"/>
                  <a:pathLst>
                    <a:path w="3106" h="992">
                      <a:moveTo>
                        <a:pt x="0" y="215"/>
                      </a:moveTo>
                      <a:lnTo>
                        <a:pt x="430" y="377"/>
                      </a:lnTo>
                      <a:lnTo>
                        <a:pt x="540" y="268"/>
                      </a:lnTo>
                      <a:lnTo>
                        <a:pt x="770" y="268"/>
                      </a:lnTo>
                      <a:lnTo>
                        <a:pt x="896" y="364"/>
                      </a:lnTo>
                      <a:lnTo>
                        <a:pt x="1010" y="327"/>
                      </a:lnTo>
                      <a:lnTo>
                        <a:pt x="1603" y="314"/>
                      </a:lnTo>
                      <a:lnTo>
                        <a:pt x="2017" y="226"/>
                      </a:lnTo>
                      <a:lnTo>
                        <a:pt x="2589" y="0"/>
                      </a:lnTo>
                      <a:lnTo>
                        <a:pt x="2663" y="49"/>
                      </a:lnTo>
                      <a:lnTo>
                        <a:pt x="2676" y="100"/>
                      </a:lnTo>
                      <a:lnTo>
                        <a:pt x="2614" y="162"/>
                      </a:lnTo>
                      <a:lnTo>
                        <a:pt x="2689" y="238"/>
                      </a:lnTo>
                      <a:lnTo>
                        <a:pt x="2713" y="302"/>
                      </a:lnTo>
                      <a:lnTo>
                        <a:pt x="2689" y="377"/>
                      </a:lnTo>
                      <a:lnTo>
                        <a:pt x="3091" y="413"/>
                      </a:lnTo>
                      <a:lnTo>
                        <a:pt x="3106" y="439"/>
                      </a:lnTo>
                      <a:lnTo>
                        <a:pt x="2689" y="461"/>
                      </a:lnTo>
                      <a:lnTo>
                        <a:pt x="2689" y="500"/>
                      </a:lnTo>
                      <a:lnTo>
                        <a:pt x="2713" y="540"/>
                      </a:lnTo>
                      <a:lnTo>
                        <a:pt x="3078" y="553"/>
                      </a:lnTo>
                      <a:lnTo>
                        <a:pt x="3043" y="602"/>
                      </a:lnTo>
                      <a:lnTo>
                        <a:pt x="2737" y="665"/>
                      </a:lnTo>
                      <a:lnTo>
                        <a:pt x="2737" y="715"/>
                      </a:lnTo>
                      <a:lnTo>
                        <a:pt x="2953" y="715"/>
                      </a:lnTo>
                      <a:lnTo>
                        <a:pt x="2977" y="680"/>
                      </a:lnTo>
                      <a:lnTo>
                        <a:pt x="2965" y="740"/>
                      </a:lnTo>
                      <a:lnTo>
                        <a:pt x="2589" y="791"/>
                      </a:lnTo>
                      <a:lnTo>
                        <a:pt x="2160" y="814"/>
                      </a:lnTo>
                      <a:lnTo>
                        <a:pt x="1992" y="814"/>
                      </a:lnTo>
                      <a:lnTo>
                        <a:pt x="1753" y="854"/>
                      </a:lnTo>
                      <a:lnTo>
                        <a:pt x="1676" y="992"/>
                      </a:lnTo>
                      <a:lnTo>
                        <a:pt x="1314" y="992"/>
                      </a:lnTo>
                      <a:lnTo>
                        <a:pt x="1641" y="953"/>
                      </a:lnTo>
                      <a:lnTo>
                        <a:pt x="1692" y="867"/>
                      </a:lnTo>
                      <a:lnTo>
                        <a:pt x="1715" y="752"/>
                      </a:lnTo>
                      <a:lnTo>
                        <a:pt x="1715" y="641"/>
                      </a:lnTo>
                      <a:lnTo>
                        <a:pt x="1676" y="489"/>
                      </a:lnTo>
                      <a:lnTo>
                        <a:pt x="1630" y="364"/>
                      </a:lnTo>
                      <a:lnTo>
                        <a:pt x="1010" y="377"/>
                      </a:lnTo>
                      <a:lnTo>
                        <a:pt x="881" y="401"/>
                      </a:lnTo>
                      <a:lnTo>
                        <a:pt x="669" y="314"/>
                      </a:lnTo>
                      <a:lnTo>
                        <a:pt x="468" y="473"/>
                      </a:lnTo>
                      <a:lnTo>
                        <a:pt x="415" y="401"/>
                      </a:lnTo>
                      <a:lnTo>
                        <a:pt x="0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7786080" y="6154560"/>
                  <a:ext cx="23040" cy="12960"/>
                </a:xfrm>
                <a:custGeom>
                  <a:avLst/>
                  <a:gdLst/>
                  <a:ahLst/>
                  <a:rect l="l" t="t" r="r" b="b"/>
                  <a:pathLst>
                    <a:path w="366" h="150">
                      <a:moveTo>
                        <a:pt x="366" y="114"/>
                      </a:moveTo>
                      <a:lnTo>
                        <a:pt x="200" y="0"/>
                      </a:lnTo>
                      <a:lnTo>
                        <a:pt x="0" y="40"/>
                      </a:lnTo>
                      <a:lnTo>
                        <a:pt x="38" y="93"/>
                      </a:lnTo>
                      <a:lnTo>
                        <a:pt x="302" y="150"/>
                      </a:lnTo>
                      <a:lnTo>
                        <a:pt x="366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7707240" y="5925960"/>
                  <a:ext cx="19800" cy="200520"/>
                </a:xfrm>
                <a:custGeom>
                  <a:avLst/>
                  <a:gdLst/>
                  <a:ahLst/>
                  <a:rect l="l" t="t" r="r" b="b"/>
                  <a:pathLst>
                    <a:path w="315" h="2186">
                      <a:moveTo>
                        <a:pt x="175" y="2133"/>
                      </a:moveTo>
                      <a:lnTo>
                        <a:pt x="214" y="2085"/>
                      </a:lnTo>
                      <a:lnTo>
                        <a:pt x="214" y="1958"/>
                      </a:lnTo>
                      <a:lnTo>
                        <a:pt x="124" y="1633"/>
                      </a:lnTo>
                      <a:lnTo>
                        <a:pt x="62" y="1180"/>
                      </a:lnTo>
                      <a:lnTo>
                        <a:pt x="49" y="796"/>
                      </a:lnTo>
                      <a:lnTo>
                        <a:pt x="21" y="540"/>
                      </a:lnTo>
                      <a:lnTo>
                        <a:pt x="49" y="466"/>
                      </a:lnTo>
                      <a:lnTo>
                        <a:pt x="49" y="325"/>
                      </a:lnTo>
                      <a:lnTo>
                        <a:pt x="0" y="213"/>
                      </a:lnTo>
                      <a:lnTo>
                        <a:pt x="73" y="277"/>
                      </a:lnTo>
                      <a:lnTo>
                        <a:pt x="99" y="213"/>
                      </a:lnTo>
                      <a:lnTo>
                        <a:pt x="111" y="127"/>
                      </a:lnTo>
                      <a:lnTo>
                        <a:pt x="111" y="0"/>
                      </a:lnTo>
                      <a:lnTo>
                        <a:pt x="124" y="104"/>
                      </a:lnTo>
                      <a:lnTo>
                        <a:pt x="136" y="213"/>
                      </a:lnTo>
                      <a:lnTo>
                        <a:pt x="111" y="341"/>
                      </a:lnTo>
                      <a:lnTo>
                        <a:pt x="73" y="466"/>
                      </a:lnTo>
                      <a:lnTo>
                        <a:pt x="49" y="551"/>
                      </a:lnTo>
                      <a:lnTo>
                        <a:pt x="111" y="1292"/>
                      </a:lnTo>
                      <a:lnTo>
                        <a:pt x="185" y="1732"/>
                      </a:lnTo>
                      <a:lnTo>
                        <a:pt x="262" y="1958"/>
                      </a:lnTo>
                      <a:lnTo>
                        <a:pt x="315" y="2186"/>
                      </a:lnTo>
                      <a:lnTo>
                        <a:pt x="175" y="2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728120" y="5911200"/>
                  <a:ext cx="111240" cy="225360"/>
                </a:xfrm>
                <a:custGeom>
                  <a:avLst/>
                  <a:gdLst/>
                  <a:ahLst/>
                  <a:rect l="l" t="t" r="r" b="b"/>
                  <a:pathLst>
                    <a:path w="1731" h="2462">
                      <a:moveTo>
                        <a:pt x="152" y="0"/>
                      </a:moveTo>
                      <a:lnTo>
                        <a:pt x="379" y="203"/>
                      </a:lnTo>
                      <a:lnTo>
                        <a:pt x="440" y="376"/>
                      </a:lnTo>
                      <a:lnTo>
                        <a:pt x="480" y="541"/>
                      </a:lnTo>
                      <a:lnTo>
                        <a:pt x="480" y="800"/>
                      </a:lnTo>
                      <a:lnTo>
                        <a:pt x="368" y="1646"/>
                      </a:lnTo>
                      <a:lnTo>
                        <a:pt x="267" y="1747"/>
                      </a:lnTo>
                      <a:lnTo>
                        <a:pt x="0" y="1784"/>
                      </a:lnTo>
                      <a:lnTo>
                        <a:pt x="368" y="1772"/>
                      </a:lnTo>
                      <a:lnTo>
                        <a:pt x="254" y="2450"/>
                      </a:lnTo>
                      <a:lnTo>
                        <a:pt x="278" y="2462"/>
                      </a:lnTo>
                      <a:lnTo>
                        <a:pt x="406" y="1881"/>
                      </a:lnTo>
                      <a:lnTo>
                        <a:pt x="883" y="2273"/>
                      </a:lnTo>
                      <a:lnTo>
                        <a:pt x="996" y="2273"/>
                      </a:lnTo>
                      <a:lnTo>
                        <a:pt x="1174" y="2185"/>
                      </a:lnTo>
                      <a:lnTo>
                        <a:pt x="1363" y="2035"/>
                      </a:lnTo>
                      <a:lnTo>
                        <a:pt x="1500" y="1895"/>
                      </a:lnTo>
                      <a:lnTo>
                        <a:pt x="1603" y="1759"/>
                      </a:lnTo>
                      <a:lnTo>
                        <a:pt x="1462" y="1881"/>
                      </a:lnTo>
                      <a:lnTo>
                        <a:pt x="1363" y="1809"/>
                      </a:lnTo>
                      <a:lnTo>
                        <a:pt x="1480" y="1734"/>
                      </a:lnTo>
                      <a:lnTo>
                        <a:pt x="1238" y="1809"/>
                      </a:lnTo>
                      <a:lnTo>
                        <a:pt x="950" y="1846"/>
                      </a:lnTo>
                      <a:lnTo>
                        <a:pt x="669" y="1846"/>
                      </a:lnTo>
                      <a:lnTo>
                        <a:pt x="555" y="1846"/>
                      </a:lnTo>
                      <a:lnTo>
                        <a:pt x="469" y="1784"/>
                      </a:lnTo>
                      <a:lnTo>
                        <a:pt x="647" y="1708"/>
                      </a:lnTo>
                      <a:lnTo>
                        <a:pt x="1012" y="1708"/>
                      </a:lnTo>
                      <a:lnTo>
                        <a:pt x="1300" y="1545"/>
                      </a:lnTo>
                      <a:lnTo>
                        <a:pt x="1012" y="1631"/>
                      </a:lnTo>
                      <a:lnTo>
                        <a:pt x="647" y="1631"/>
                      </a:lnTo>
                      <a:lnTo>
                        <a:pt x="440" y="1685"/>
                      </a:lnTo>
                      <a:lnTo>
                        <a:pt x="440" y="1496"/>
                      </a:lnTo>
                      <a:lnTo>
                        <a:pt x="987" y="1409"/>
                      </a:lnTo>
                      <a:lnTo>
                        <a:pt x="781" y="892"/>
                      </a:lnTo>
                      <a:lnTo>
                        <a:pt x="555" y="592"/>
                      </a:lnTo>
                      <a:lnTo>
                        <a:pt x="555" y="415"/>
                      </a:lnTo>
                      <a:lnTo>
                        <a:pt x="1570" y="1444"/>
                      </a:lnTo>
                      <a:lnTo>
                        <a:pt x="1731" y="1519"/>
                      </a:lnTo>
                      <a:lnTo>
                        <a:pt x="1642" y="1332"/>
                      </a:lnTo>
                      <a:lnTo>
                        <a:pt x="733" y="477"/>
                      </a:lnTo>
                      <a:lnTo>
                        <a:pt x="620" y="267"/>
                      </a:lnTo>
                      <a:lnTo>
                        <a:pt x="304" y="51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794720" y="6084720"/>
                  <a:ext cx="50040" cy="53640"/>
                </a:xfrm>
                <a:custGeom>
                  <a:avLst/>
                  <a:gdLst/>
                  <a:ahLst/>
                  <a:rect l="l" t="t" r="r" b="b"/>
                  <a:pathLst>
                    <a:path w="783" h="580">
                      <a:moveTo>
                        <a:pt x="0" y="442"/>
                      </a:moveTo>
                      <a:lnTo>
                        <a:pt x="317" y="378"/>
                      </a:lnTo>
                      <a:lnTo>
                        <a:pt x="670" y="580"/>
                      </a:lnTo>
                      <a:lnTo>
                        <a:pt x="783" y="540"/>
                      </a:lnTo>
                      <a:lnTo>
                        <a:pt x="504" y="378"/>
                      </a:lnTo>
                      <a:lnTo>
                        <a:pt x="619" y="166"/>
                      </a:lnTo>
                      <a:lnTo>
                        <a:pt x="619" y="0"/>
                      </a:lnTo>
                      <a:lnTo>
                        <a:pt x="402" y="265"/>
                      </a:lnTo>
                      <a:lnTo>
                        <a:pt x="216" y="362"/>
                      </a:lnTo>
                      <a:lnTo>
                        <a:pt x="0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831440" y="6047280"/>
                  <a:ext cx="63000" cy="64440"/>
                </a:xfrm>
                <a:custGeom>
                  <a:avLst/>
                  <a:gdLst/>
                  <a:ahLst/>
                  <a:rect l="l" t="t" r="r" b="b"/>
                  <a:pathLst>
                    <a:path w="984" h="703">
                      <a:moveTo>
                        <a:pt x="189" y="314"/>
                      </a:moveTo>
                      <a:lnTo>
                        <a:pt x="367" y="212"/>
                      </a:lnTo>
                      <a:lnTo>
                        <a:pt x="744" y="364"/>
                      </a:lnTo>
                      <a:lnTo>
                        <a:pt x="744" y="500"/>
                      </a:lnTo>
                      <a:lnTo>
                        <a:pt x="442" y="579"/>
                      </a:lnTo>
                      <a:lnTo>
                        <a:pt x="809" y="567"/>
                      </a:lnTo>
                      <a:lnTo>
                        <a:pt x="984" y="703"/>
                      </a:lnTo>
                      <a:lnTo>
                        <a:pt x="870" y="450"/>
                      </a:lnTo>
                      <a:lnTo>
                        <a:pt x="707" y="265"/>
                      </a:lnTo>
                      <a:lnTo>
                        <a:pt x="343" y="164"/>
                      </a:lnTo>
                      <a:lnTo>
                        <a:pt x="202" y="0"/>
                      </a:lnTo>
                      <a:lnTo>
                        <a:pt x="0" y="164"/>
                      </a:lnTo>
                      <a:lnTo>
                        <a:pt x="178" y="63"/>
                      </a:lnTo>
                      <a:lnTo>
                        <a:pt x="239" y="149"/>
                      </a:lnTo>
                      <a:lnTo>
                        <a:pt x="189" y="3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898760" y="6106680"/>
                  <a:ext cx="37080" cy="38160"/>
                </a:xfrm>
                <a:custGeom>
                  <a:avLst/>
                  <a:gdLst/>
                  <a:ahLst/>
                  <a:rect l="l" t="t" r="r" b="b"/>
                  <a:pathLst>
                    <a:path w="581" h="415">
                      <a:moveTo>
                        <a:pt x="22" y="0"/>
                      </a:moveTo>
                      <a:lnTo>
                        <a:pt x="464" y="37"/>
                      </a:lnTo>
                      <a:lnTo>
                        <a:pt x="581" y="240"/>
                      </a:lnTo>
                      <a:lnTo>
                        <a:pt x="581" y="288"/>
                      </a:lnTo>
                      <a:lnTo>
                        <a:pt x="492" y="316"/>
                      </a:lnTo>
                      <a:lnTo>
                        <a:pt x="363" y="240"/>
                      </a:lnTo>
                      <a:lnTo>
                        <a:pt x="187" y="240"/>
                      </a:lnTo>
                      <a:lnTo>
                        <a:pt x="477" y="351"/>
                      </a:lnTo>
                      <a:lnTo>
                        <a:pt x="492" y="415"/>
                      </a:lnTo>
                      <a:lnTo>
                        <a:pt x="453" y="367"/>
                      </a:lnTo>
                      <a:lnTo>
                        <a:pt x="22" y="229"/>
                      </a:lnTo>
                      <a:lnTo>
                        <a:pt x="0" y="192"/>
                      </a:lnTo>
                      <a:lnTo>
                        <a:pt x="464" y="176"/>
                      </a:lnTo>
                      <a:lnTo>
                        <a:pt x="453" y="7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7917120" y="6140520"/>
                  <a:ext cx="14760" cy="32040"/>
                </a:xfrm>
                <a:custGeom>
                  <a:avLst/>
                  <a:gdLst/>
                  <a:ahLst/>
                  <a:rect l="l" t="t" r="r" b="b"/>
                  <a:pathLst>
                    <a:path w="228" h="352">
                      <a:moveTo>
                        <a:pt x="186" y="99"/>
                      </a:moveTo>
                      <a:lnTo>
                        <a:pt x="186" y="163"/>
                      </a:lnTo>
                      <a:lnTo>
                        <a:pt x="96" y="210"/>
                      </a:lnTo>
                      <a:lnTo>
                        <a:pt x="0" y="275"/>
                      </a:lnTo>
                      <a:lnTo>
                        <a:pt x="72" y="352"/>
                      </a:lnTo>
                      <a:lnTo>
                        <a:pt x="125" y="249"/>
                      </a:lnTo>
                      <a:lnTo>
                        <a:pt x="228" y="187"/>
                      </a:lnTo>
                      <a:lnTo>
                        <a:pt x="228" y="74"/>
                      </a:lnTo>
                      <a:lnTo>
                        <a:pt x="186" y="0"/>
                      </a:lnTo>
                      <a:lnTo>
                        <a:pt x="186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7921800" y="6126480"/>
                  <a:ext cx="23400" cy="47520"/>
                </a:xfrm>
                <a:custGeom>
                  <a:avLst/>
                  <a:gdLst/>
                  <a:ahLst/>
                  <a:rect l="l" t="t" r="r" b="b"/>
                  <a:pathLst>
                    <a:path w="369" h="514">
                      <a:moveTo>
                        <a:pt x="129" y="71"/>
                      </a:moveTo>
                      <a:lnTo>
                        <a:pt x="325" y="396"/>
                      </a:lnTo>
                      <a:lnTo>
                        <a:pt x="369" y="514"/>
                      </a:lnTo>
                      <a:lnTo>
                        <a:pt x="269" y="4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894080" y="6058080"/>
                  <a:ext cx="25920" cy="52560"/>
                </a:xfrm>
                <a:custGeom>
                  <a:avLst/>
                  <a:gdLst/>
                  <a:ahLst/>
                  <a:rect l="l" t="t" r="r" b="b"/>
                  <a:pathLst>
                    <a:path w="413" h="576">
                      <a:moveTo>
                        <a:pt x="319" y="558"/>
                      </a:move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22" y="0"/>
                      </a:lnTo>
                      <a:lnTo>
                        <a:pt x="37" y="0"/>
                      </a:lnTo>
                      <a:lnTo>
                        <a:pt x="59" y="5"/>
                      </a:lnTo>
                      <a:lnTo>
                        <a:pt x="413" y="57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853400" y="6112440"/>
                  <a:ext cx="30600" cy="22680"/>
                </a:xfrm>
                <a:custGeom>
                  <a:avLst/>
                  <a:gdLst/>
                  <a:ahLst/>
                  <a:rect l="l" t="t" r="r" b="b"/>
                  <a:pathLst>
                    <a:path w="477" h="244">
                      <a:moveTo>
                        <a:pt x="67" y="181"/>
                      </a:moveTo>
                      <a:lnTo>
                        <a:pt x="99" y="82"/>
                      </a:lnTo>
                      <a:lnTo>
                        <a:pt x="180" y="34"/>
                      </a:lnTo>
                      <a:lnTo>
                        <a:pt x="279" y="34"/>
                      </a:lnTo>
                      <a:lnTo>
                        <a:pt x="427" y="62"/>
                      </a:lnTo>
                      <a:lnTo>
                        <a:pt x="477" y="34"/>
                      </a:lnTo>
                      <a:lnTo>
                        <a:pt x="310" y="0"/>
                      </a:lnTo>
                      <a:lnTo>
                        <a:pt x="198" y="0"/>
                      </a:lnTo>
                      <a:lnTo>
                        <a:pt x="99" y="34"/>
                      </a:lnTo>
                      <a:lnTo>
                        <a:pt x="51" y="99"/>
                      </a:lnTo>
                      <a:lnTo>
                        <a:pt x="0" y="244"/>
                      </a:lnTo>
                      <a:lnTo>
                        <a:pt x="67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829640" y="5678280"/>
                  <a:ext cx="103680" cy="181440"/>
                </a:xfrm>
                <a:custGeom>
                  <a:avLst/>
                  <a:gdLst/>
                  <a:ahLst/>
                  <a:rect l="l" t="t" r="r" b="b"/>
                  <a:pathLst>
                    <a:path w="1617" h="1969">
                      <a:moveTo>
                        <a:pt x="1578" y="822"/>
                      </a:moveTo>
                      <a:lnTo>
                        <a:pt x="1615" y="694"/>
                      </a:lnTo>
                      <a:lnTo>
                        <a:pt x="1617" y="512"/>
                      </a:lnTo>
                      <a:lnTo>
                        <a:pt x="1573" y="350"/>
                      </a:lnTo>
                      <a:lnTo>
                        <a:pt x="1506" y="233"/>
                      </a:lnTo>
                      <a:lnTo>
                        <a:pt x="1413" y="123"/>
                      </a:lnTo>
                      <a:lnTo>
                        <a:pt x="1275" y="48"/>
                      </a:lnTo>
                      <a:lnTo>
                        <a:pt x="980" y="0"/>
                      </a:lnTo>
                      <a:lnTo>
                        <a:pt x="710" y="73"/>
                      </a:lnTo>
                      <a:lnTo>
                        <a:pt x="565" y="198"/>
                      </a:lnTo>
                      <a:lnTo>
                        <a:pt x="439" y="417"/>
                      </a:lnTo>
                      <a:lnTo>
                        <a:pt x="404" y="631"/>
                      </a:lnTo>
                      <a:lnTo>
                        <a:pt x="351" y="818"/>
                      </a:lnTo>
                      <a:lnTo>
                        <a:pt x="356" y="910"/>
                      </a:lnTo>
                      <a:lnTo>
                        <a:pt x="404" y="1026"/>
                      </a:lnTo>
                      <a:lnTo>
                        <a:pt x="393" y="1095"/>
                      </a:lnTo>
                      <a:lnTo>
                        <a:pt x="268" y="1185"/>
                      </a:lnTo>
                      <a:lnTo>
                        <a:pt x="171" y="1270"/>
                      </a:lnTo>
                      <a:lnTo>
                        <a:pt x="106" y="1411"/>
                      </a:lnTo>
                      <a:lnTo>
                        <a:pt x="106" y="1484"/>
                      </a:lnTo>
                      <a:lnTo>
                        <a:pt x="116" y="1554"/>
                      </a:lnTo>
                      <a:lnTo>
                        <a:pt x="130" y="1597"/>
                      </a:lnTo>
                      <a:lnTo>
                        <a:pt x="112" y="1653"/>
                      </a:lnTo>
                      <a:lnTo>
                        <a:pt x="0" y="1754"/>
                      </a:lnTo>
                      <a:lnTo>
                        <a:pt x="160" y="1712"/>
                      </a:lnTo>
                      <a:lnTo>
                        <a:pt x="347" y="1657"/>
                      </a:lnTo>
                      <a:lnTo>
                        <a:pt x="415" y="1861"/>
                      </a:lnTo>
                      <a:lnTo>
                        <a:pt x="479" y="1969"/>
                      </a:lnTo>
                      <a:lnTo>
                        <a:pt x="450" y="1872"/>
                      </a:lnTo>
                      <a:lnTo>
                        <a:pt x="450" y="1800"/>
                      </a:lnTo>
                      <a:lnTo>
                        <a:pt x="468" y="1758"/>
                      </a:lnTo>
                      <a:lnTo>
                        <a:pt x="505" y="1754"/>
                      </a:lnTo>
                      <a:lnTo>
                        <a:pt x="565" y="1769"/>
                      </a:lnTo>
                      <a:lnTo>
                        <a:pt x="628" y="1826"/>
                      </a:lnTo>
                      <a:lnTo>
                        <a:pt x="685" y="1904"/>
                      </a:lnTo>
                      <a:lnTo>
                        <a:pt x="639" y="1754"/>
                      </a:lnTo>
                      <a:lnTo>
                        <a:pt x="618" y="1641"/>
                      </a:lnTo>
                      <a:lnTo>
                        <a:pt x="604" y="1507"/>
                      </a:lnTo>
                      <a:lnTo>
                        <a:pt x="611" y="1411"/>
                      </a:lnTo>
                      <a:lnTo>
                        <a:pt x="674" y="1507"/>
                      </a:lnTo>
                      <a:lnTo>
                        <a:pt x="765" y="1593"/>
                      </a:lnTo>
                      <a:lnTo>
                        <a:pt x="870" y="1666"/>
                      </a:lnTo>
                      <a:lnTo>
                        <a:pt x="980" y="1703"/>
                      </a:lnTo>
                      <a:lnTo>
                        <a:pt x="888" y="1666"/>
                      </a:lnTo>
                      <a:lnTo>
                        <a:pt x="802" y="1613"/>
                      </a:lnTo>
                      <a:lnTo>
                        <a:pt x="717" y="1533"/>
                      </a:lnTo>
                      <a:lnTo>
                        <a:pt x="671" y="1466"/>
                      </a:lnTo>
                      <a:lnTo>
                        <a:pt x="632" y="1399"/>
                      </a:lnTo>
                      <a:lnTo>
                        <a:pt x="618" y="1339"/>
                      </a:lnTo>
                      <a:lnTo>
                        <a:pt x="611" y="1261"/>
                      </a:lnTo>
                      <a:lnTo>
                        <a:pt x="598" y="1180"/>
                      </a:lnTo>
                      <a:lnTo>
                        <a:pt x="591" y="1042"/>
                      </a:lnTo>
                      <a:lnTo>
                        <a:pt x="584" y="1237"/>
                      </a:lnTo>
                      <a:lnTo>
                        <a:pt x="569" y="1261"/>
                      </a:lnTo>
                      <a:lnTo>
                        <a:pt x="538" y="1277"/>
                      </a:lnTo>
                      <a:lnTo>
                        <a:pt x="499" y="1261"/>
                      </a:lnTo>
                      <a:lnTo>
                        <a:pt x="479" y="1217"/>
                      </a:lnTo>
                      <a:lnTo>
                        <a:pt x="479" y="1167"/>
                      </a:lnTo>
                      <a:lnTo>
                        <a:pt x="494" y="1114"/>
                      </a:lnTo>
                      <a:lnTo>
                        <a:pt x="523" y="1072"/>
                      </a:lnTo>
                      <a:lnTo>
                        <a:pt x="487" y="1092"/>
                      </a:lnTo>
                      <a:lnTo>
                        <a:pt x="429" y="963"/>
                      </a:lnTo>
                      <a:lnTo>
                        <a:pt x="411" y="910"/>
                      </a:lnTo>
                      <a:lnTo>
                        <a:pt x="404" y="853"/>
                      </a:lnTo>
                      <a:lnTo>
                        <a:pt x="411" y="804"/>
                      </a:lnTo>
                      <a:lnTo>
                        <a:pt x="436" y="776"/>
                      </a:lnTo>
                      <a:lnTo>
                        <a:pt x="461" y="751"/>
                      </a:lnTo>
                      <a:lnTo>
                        <a:pt x="487" y="751"/>
                      </a:lnTo>
                      <a:lnTo>
                        <a:pt x="514" y="767"/>
                      </a:lnTo>
                      <a:lnTo>
                        <a:pt x="538" y="804"/>
                      </a:lnTo>
                      <a:lnTo>
                        <a:pt x="565" y="890"/>
                      </a:lnTo>
                      <a:lnTo>
                        <a:pt x="574" y="782"/>
                      </a:lnTo>
                      <a:lnTo>
                        <a:pt x="622" y="687"/>
                      </a:lnTo>
                      <a:lnTo>
                        <a:pt x="697" y="549"/>
                      </a:lnTo>
                      <a:lnTo>
                        <a:pt x="741" y="435"/>
                      </a:lnTo>
                      <a:lnTo>
                        <a:pt x="798" y="354"/>
                      </a:lnTo>
                      <a:lnTo>
                        <a:pt x="888" y="304"/>
                      </a:lnTo>
                      <a:lnTo>
                        <a:pt x="1038" y="286"/>
                      </a:lnTo>
                      <a:lnTo>
                        <a:pt x="1195" y="304"/>
                      </a:lnTo>
                      <a:lnTo>
                        <a:pt x="1393" y="343"/>
                      </a:lnTo>
                      <a:lnTo>
                        <a:pt x="1470" y="406"/>
                      </a:lnTo>
                      <a:lnTo>
                        <a:pt x="1520" y="519"/>
                      </a:lnTo>
                      <a:lnTo>
                        <a:pt x="1549" y="641"/>
                      </a:lnTo>
                      <a:lnTo>
                        <a:pt x="1569" y="883"/>
                      </a:lnTo>
                      <a:lnTo>
                        <a:pt x="1578" y="8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877880" y="5768640"/>
                  <a:ext cx="52200" cy="107640"/>
                </a:xfrm>
                <a:custGeom>
                  <a:avLst/>
                  <a:gdLst/>
                  <a:ahLst/>
                  <a:rect l="l" t="t" r="r" b="b"/>
                  <a:pathLst>
                    <a:path w="817" h="1173">
                      <a:moveTo>
                        <a:pt x="817" y="0"/>
                      </a:moveTo>
                      <a:lnTo>
                        <a:pt x="786" y="103"/>
                      </a:lnTo>
                      <a:lnTo>
                        <a:pt x="718" y="359"/>
                      </a:lnTo>
                      <a:lnTo>
                        <a:pt x="634" y="514"/>
                      </a:lnTo>
                      <a:lnTo>
                        <a:pt x="569" y="608"/>
                      </a:lnTo>
                      <a:lnTo>
                        <a:pt x="481" y="703"/>
                      </a:lnTo>
                      <a:lnTo>
                        <a:pt x="417" y="723"/>
                      </a:lnTo>
                      <a:lnTo>
                        <a:pt x="305" y="732"/>
                      </a:lnTo>
                      <a:lnTo>
                        <a:pt x="187" y="707"/>
                      </a:lnTo>
                      <a:lnTo>
                        <a:pt x="94" y="661"/>
                      </a:lnTo>
                      <a:lnTo>
                        <a:pt x="0" y="596"/>
                      </a:lnTo>
                      <a:lnTo>
                        <a:pt x="57" y="692"/>
                      </a:lnTo>
                      <a:lnTo>
                        <a:pt x="136" y="758"/>
                      </a:lnTo>
                      <a:lnTo>
                        <a:pt x="206" y="800"/>
                      </a:lnTo>
                      <a:lnTo>
                        <a:pt x="300" y="825"/>
                      </a:lnTo>
                      <a:lnTo>
                        <a:pt x="380" y="825"/>
                      </a:lnTo>
                      <a:lnTo>
                        <a:pt x="329" y="1173"/>
                      </a:lnTo>
                      <a:lnTo>
                        <a:pt x="376" y="1064"/>
                      </a:lnTo>
                      <a:lnTo>
                        <a:pt x="443" y="795"/>
                      </a:lnTo>
                      <a:lnTo>
                        <a:pt x="477" y="747"/>
                      </a:lnTo>
                      <a:lnTo>
                        <a:pt x="527" y="820"/>
                      </a:lnTo>
                      <a:lnTo>
                        <a:pt x="574" y="940"/>
                      </a:lnTo>
                      <a:lnTo>
                        <a:pt x="551" y="800"/>
                      </a:lnTo>
                      <a:lnTo>
                        <a:pt x="503" y="707"/>
                      </a:lnTo>
                      <a:lnTo>
                        <a:pt x="579" y="617"/>
                      </a:lnTo>
                      <a:lnTo>
                        <a:pt x="668" y="493"/>
                      </a:lnTo>
                      <a:lnTo>
                        <a:pt x="720" y="373"/>
                      </a:lnTo>
                      <a:lnTo>
                        <a:pt x="754" y="286"/>
                      </a:lnTo>
                      <a:lnTo>
                        <a:pt x="793" y="115"/>
                      </a:lnTo>
                      <a:lnTo>
                        <a:pt x="8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858080" y="5753160"/>
                  <a:ext cx="6120" cy="19800"/>
                </a:xfrm>
                <a:custGeom>
                  <a:avLst/>
                  <a:gdLst/>
                  <a:ahLst/>
                  <a:rect l="l" t="t" r="r" b="b"/>
                  <a:pathLst>
                    <a:path w="99" h="215">
                      <a:moveTo>
                        <a:pt x="11" y="0"/>
                      </a:moveTo>
                      <a:lnTo>
                        <a:pt x="48" y="7"/>
                      </a:lnTo>
                      <a:lnTo>
                        <a:pt x="91" y="60"/>
                      </a:lnTo>
                      <a:lnTo>
                        <a:pt x="99" y="111"/>
                      </a:lnTo>
                      <a:lnTo>
                        <a:pt x="94" y="145"/>
                      </a:lnTo>
                      <a:lnTo>
                        <a:pt x="60" y="162"/>
                      </a:lnTo>
                      <a:lnTo>
                        <a:pt x="55" y="180"/>
                      </a:lnTo>
                      <a:lnTo>
                        <a:pt x="73" y="215"/>
                      </a:lnTo>
                      <a:lnTo>
                        <a:pt x="22" y="169"/>
                      </a:lnTo>
                      <a:lnTo>
                        <a:pt x="22" y="145"/>
                      </a:lnTo>
                      <a:lnTo>
                        <a:pt x="36" y="123"/>
                      </a:lnTo>
                      <a:lnTo>
                        <a:pt x="55" y="106"/>
                      </a:lnTo>
                      <a:lnTo>
                        <a:pt x="84" y="92"/>
                      </a:lnTo>
                      <a:lnTo>
                        <a:pt x="73" y="65"/>
                      </a:lnTo>
                      <a:lnTo>
                        <a:pt x="60" y="42"/>
                      </a:lnTo>
                      <a:lnTo>
                        <a:pt x="36" y="28"/>
                      </a:lnTo>
                      <a:lnTo>
                        <a:pt x="11" y="60"/>
                      </a:lnTo>
                      <a:lnTo>
                        <a:pt x="11" y="79"/>
                      </a:lnTo>
                      <a:lnTo>
                        <a:pt x="0" y="53"/>
                      </a:lnTo>
                      <a:lnTo>
                        <a:pt x="0" y="1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7866360" y="5760000"/>
                  <a:ext cx="2880" cy="21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7867800" y="5763600"/>
                  <a:ext cx="3960" cy="23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871400" y="5776200"/>
                  <a:ext cx="252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7860600" y="5779080"/>
                  <a:ext cx="4320" cy="1440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33" y="0"/>
                      </a:moveTo>
                      <a:lnTo>
                        <a:pt x="59" y="28"/>
                      </a:lnTo>
                      <a:lnTo>
                        <a:pt x="72" y="63"/>
                      </a:lnTo>
                      <a:lnTo>
                        <a:pt x="77" y="112"/>
                      </a:lnTo>
                      <a:lnTo>
                        <a:pt x="72" y="145"/>
                      </a:lnTo>
                      <a:lnTo>
                        <a:pt x="54" y="158"/>
                      </a:lnTo>
                      <a:lnTo>
                        <a:pt x="33" y="162"/>
                      </a:lnTo>
                      <a:lnTo>
                        <a:pt x="8" y="158"/>
                      </a:lnTo>
                      <a:lnTo>
                        <a:pt x="0" y="116"/>
                      </a:lnTo>
                      <a:lnTo>
                        <a:pt x="44" y="123"/>
                      </a:lnTo>
                      <a:lnTo>
                        <a:pt x="51" y="88"/>
                      </a:lnTo>
                      <a:lnTo>
                        <a:pt x="59" y="63"/>
                      </a:lnTo>
                      <a:lnTo>
                        <a:pt x="54" y="37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789680" y="5826600"/>
                  <a:ext cx="182880" cy="137880"/>
                </a:xfrm>
                <a:custGeom>
                  <a:avLst/>
                  <a:gdLst/>
                  <a:ahLst/>
                  <a:rect l="l" t="t" r="r" b="b"/>
                  <a:pathLst>
                    <a:path w="2847" h="1510">
                      <a:moveTo>
                        <a:pt x="1072" y="246"/>
                      </a:moveTo>
                      <a:lnTo>
                        <a:pt x="1129" y="369"/>
                      </a:lnTo>
                      <a:lnTo>
                        <a:pt x="1228" y="441"/>
                      </a:lnTo>
                      <a:lnTo>
                        <a:pt x="1369" y="516"/>
                      </a:lnTo>
                      <a:lnTo>
                        <a:pt x="1558" y="567"/>
                      </a:lnTo>
                      <a:lnTo>
                        <a:pt x="1798" y="606"/>
                      </a:lnTo>
                      <a:lnTo>
                        <a:pt x="1903" y="576"/>
                      </a:lnTo>
                      <a:lnTo>
                        <a:pt x="1945" y="507"/>
                      </a:lnTo>
                      <a:lnTo>
                        <a:pt x="1969" y="408"/>
                      </a:lnTo>
                      <a:lnTo>
                        <a:pt x="1969" y="345"/>
                      </a:lnTo>
                      <a:lnTo>
                        <a:pt x="1929" y="239"/>
                      </a:lnTo>
                      <a:lnTo>
                        <a:pt x="1890" y="171"/>
                      </a:lnTo>
                      <a:lnTo>
                        <a:pt x="1839" y="120"/>
                      </a:lnTo>
                      <a:lnTo>
                        <a:pt x="1903" y="32"/>
                      </a:lnTo>
                      <a:lnTo>
                        <a:pt x="1945" y="0"/>
                      </a:lnTo>
                      <a:lnTo>
                        <a:pt x="2160" y="113"/>
                      </a:lnTo>
                      <a:lnTo>
                        <a:pt x="2400" y="162"/>
                      </a:lnTo>
                      <a:lnTo>
                        <a:pt x="2630" y="252"/>
                      </a:lnTo>
                      <a:lnTo>
                        <a:pt x="2847" y="378"/>
                      </a:lnTo>
                      <a:lnTo>
                        <a:pt x="2556" y="252"/>
                      </a:lnTo>
                      <a:lnTo>
                        <a:pt x="2342" y="191"/>
                      </a:lnTo>
                      <a:lnTo>
                        <a:pt x="2202" y="171"/>
                      </a:lnTo>
                      <a:lnTo>
                        <a:pt x="2052" y="171"/>
                      </a:lnTo>
                      <a:lnTo>
                        <a:pt x="1987" y="215"/>
                      </a:lnTo>
                      <a:lnTo>
                        <a:pt x="2004" y="387"/>
                      </a:lnTo>
                      <a:lnTo>
                        <a:pt x="1987" y="484"/>
                      </a:lnTo>
                      <a:lnTo>
                        <a:pt x="1953" y="590"/>
                      </a:lnTo>
                      <a:lnTo>
                        <a:pt x="1903" y="655"/>
                      </a:lnTo>
                      <a:lnTo>
                        <a:pt x="1789" y="760"/>
                      </a:lnTo>
                      <a:lnTo>
                        <a:pt x="1789" y="707"/>
                      </a:lnTo>
                      <a:lnTo>
                        <a:pt x="1749" y="673"/>
                      </a:lnTo>
                      <a:lnTo>
                        <a:pt x="1708" y="687"/>
                      </a:lnTo>
                      <a:lnTo>
                        <a:pt x="1696" y="738"/>
                      </a:lnTo>
                      <a:lnTo>
                        <a:pt x="1720" y="770"/>
                      </a:lnTo>
                      <a:lnTo>
                        <a:pt x="1756" y="779"/>
                      </a:lnTo>
                      <a:lnTo>
                        <a:pt x="1731" y="813"/>
                      </a:lnTo>
                      <a:lnTo>
                        <a:pt x="1674" y="802"/>
                      </a:lnTo>
                      <a:lnTo>
                        <a:pt x="1648" y="760"/>
                      </a:lnTo>
                      <a:lnTo>
                        <a:pt x="1659" y="707"/>
                      </a:lnTo>
                      <a:lnTo>
                        <a:pt x="1681" y="666"/>
                      </a:lnTo>
                      <a:lnTo>
                        <a:pt x="1720" y="648"/>
                      </a:lnTo>
                      <a:lnTo>
                        <a:pt x="1780" y="624"/>
                      </a:lnTo>
                      <a:lnTo>
                        <a:pt x="1433" y="567"/>
                      </a:lnTo>
                      <a:lnTo>
                        <a:pt x="1235" y="500"/>
                      </a:lnTo>
                      <a:lnTo>
                        <a:pt x="1353" y="795"/>
                      </a:lnTo>
                      <a:lnTo>
                        <a:pt x="1549" y="1289"/>
                      </a:lnTo>
                      <a:lnTo>
                        <a:pt x="1648" y="1510"/>
                      </a:lnTo>
                      <a:lnTo>
                        <a:pt x="1358" y="903"/>
                      </a:lnTo>
                      <a:lnTo>
                        <a:pt x="1201" y="576"/>
                      </a:lnTo>
                      <a:lnTo>
                        <a:pt x="1046" y="378"/>
                      </a:lnTo>
                      <a:lnTo>
                        <a:pt x="896" y="239"/>
                      </a:lnTo>
                      <a:lnTo>
                        <a:pt x="774" y="156"/>
                      </a:lnTo>
                      <a:lnTo>
                        <a:pt x="668" y="147"/>
                      </a:lnTo>
                      <a:lnTo>
                        <a:pt x="525" y="162"/>
                      </a:lnTo>
                      <a:lnTo>
                        <a:pt x="106" y="270"/>
                      </a:lnTo>
                      <a:lnTo>
                        <a:pt x="0" y="345"/>
                      </a:lnTo>
                      <a:lnTo>
                        <a:pt x="106" y="239"/>
                      </a:lnTo>
                      <a:lnTo>
                        <a:pt x="493" y="94"/>
                      </a:lnTo>
                      <a:lnTo>
                        <a:pt x="749" y="90"/>
                      </a:lnTo>
                      <a:lnTo>
                        <a:pt x="995" y="15"/>
                      </a:lnTo>
                      <a:lnTo>
                        <a:pt x="1072" y="2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777800" y="5864760"/>
                  <a:ext cx="72720" cy="157320"/>
                </a:xfrm>
                <a:custGeom>
                  <a:avLst/>
                  <a:gdLst/>
                  <a:ahLst/>
                  <a:rect l="l" t="t" r="r" b="b"/>
                  <a:pathLst>
                    <a:path w="1134" h="1714">
                      <a:moveTo>
                        <a:pt x="159" y="0"/>
                      </a:moveTo>
                      <a:lnTo>
                        <a:pt x="264" y="31"/>
                      </a:lnTo>
                      <a:lnTo>
                        <a:pt x="365" y="113"/>
                      </a:lnTo>
                      <a:lnTo>
                        <a:pt x="447" y="229"/>
                      </a:lnTo>
                      <a:lnTo>
                        <a:pt x="521" y="367"/>
                      </a:lnTo>
                      <a:lnTo>
                        <a:pt x="570" y="484"/>
                      </a:lnTo>
                      <a:lnTo>
                        <a:pt x="611" y="591"/>
                      </a:lnTo>
                      <a:lnTo>
                        <a:pt x="491" y="409"/>
                      </a:lnTo>
                      <a:lnTo>
                        <a:pt x="387" y="288"/>
                      </a:lnTo>
                      <a:lnTo>
                        <a:pt x="264" y="205"/>
                      </a:lnTo>
                      <a:lnTo>
                        <a:pt x="167" y="157"/>
                      </a:lnTo>
                      <a:lnTo>
                        <a:pt x="167" y="319"/>
                      </a:lnTo>
                      <a:lnTo>
                        <a:pt x="222" y="499"/>
                      </a:lnTo>
                      <a:lnTo>
                        <a:pt x="312" y="646"/>
                      </a:lnTo>
                      <a:lnTo>
                        <a:pt x="413" y="754"/>
                      </a:lnTo>
                      <a:lnTo>
                        <a:pt x="598" y="886"/>
                      </a:lnTo>
                      <a:lnTo>
                        <a:pt x="768" y="998"/>
                      </a:lnTo>
                      <a:lnTo>
                        <a:pt x="860" y="1049"/>
                      </a:lnTo>
                      <a:lnTo>
                        <a:pt x="818" y="925"/>
                      </a:lnTo>
                      <a:lnTo>
                        <a:pt x="923" y="1132"/>
                      </a:lnTo>
                      <a:lnTo>
                        <a:pt x="976" y="1301"/>
                      </a:lnTo>
                      <a:lnTo>
                        <a:pt x="1007" y="1508"/>
                      </a:lnTo>
                      <a:lnTo>
                        <a:pt x="1081" y="1631"/>
                      </a:lnTo>
                      <a:lnTo>
                        <a:pt x="1134" y="1714"/>
                      </a:lnTo>
                      <a:lnTo>
                        <a:pt x="959" y="1559"/>
                      </a:lnTo>
                      <a:lnTo>
                        <a:pt x="959" y="1642"/>
                      </a:lnTo>
                      <a:lnTo>
                        <a:pt x="877" y="1665"/>
                      </a:lnTo>
                      <a:lnTo>
                        <a:pt x="918" y="1609"/>
                      </a:lnTo>
                      <a:lnTo>
                        <a:pt x="908" y="1534"/>
                      </a:lnTo>
                      <a:lnTo>
                        <a:pt x="703" y="1402"/>
                      </a:lnTo>
                      <a:lnTo>
                        <a:pt x="877" y="1411"/>
                      </a:lnTo>
                      <a:lnTo>
                        <a:pt x="736" y="1204"/>
                      </a:lnTo>
                      <a:lnTo>
                        <a:pt x="853" y="1195"/>
                      </a:lnTo>
                      <a:lnTo>
                        <a:pt x="869" y="1147"/>
                      </a:lnTo>
                      <a:lnTo>
                        <a:pt x="703" y="1141"/>
                      </a:lnTo>
                      <a:lnTo>
                        <a:pt x="494" y="1077"/>
                      </a:lnTo>
                      <a:lnTo>
                        <a:pt x="249" y="967"/>
                      </a:lnTo>
                      <a:lnTo>
                        <a:pt x="99" y="860"/>
                      </a:lnTo>
                      <a:lnTo>
                        <a:pt x="84" y="886"/>
                      </a:lnTo>
                      <a:lnTo>
                        <a:pt x="143" y="985"/>
                      </a:lnTo>
                      <a:lnTo>
                        <a:pt x="240" y="1077"/>
                      </a:lnTo>
                      <a:lnTo>
                        <a:pt x="339" y="1132"/>
                      </a:lnTo>
                      <a:lnTo>
                        <a:pt x="413" y="1338"/>
                      </a:lnTo>
                      <a:lnTo>
                        <a:pt x="644" y="1402"/>
                      </a:lnTo>
                      <a:lnTo>
                        <a:pt x="482" y="1386"/>
                      </a:lnTo>
                      <a:lnTo>
                        <a:pt x="556" y="1460"/>
                      </a:lnTo>
                      <a:lnTo>
                        <a:pt x="763" y="1508"/>
                      </a:lnTo>
                      <a:lnTo>
                        <a:pt x="853" y="1582"/>
                      </a:lnTo>
                      <a:lnTo>
                        <a:pt x="826" y="1631"/>
                      </a:lnTo>
                      <a:lnTo>
                        <a:pt x="694" y="1591"/>
                      </a:lnTo>
                      <a:lnTo>
                        <a:pt x="598" y="1600"/>
                      </a:lnTo>
                      <a:lnTo>
                        <a:pt x="51" y="1107"/>
                      </a:lnTo>
                      <a:lnTo>
                        <a:pt x="21" y="943"/>
                      </a:lnTo>
                      <a:lnTo>
                        <a:pt x="9" y="826"/>
                      </a:lnTo>
                      <a:lnTo>
                        <a:pt x="51" y="770"/>
                      </a:lnTo>
                      <a:lnTo>
                        <a:pt x="21" y="642"/>
                      </a:lnTo>
                      <a:lnTo>
                        <a:pt x="0" y="443"/>
                      </a:lnTo>
                      <a:lnTo>
                        <a:pt x="25" y="279"/>
                      </a:lnTo>
                      <a:lnTo>
                        <a:pt x="77" y="132"/>
                      </a:lnTo>
                      <a:lnTo>
                        <a:pt x="1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7828560" y="6015600"/>
                  <a:ext cx="20160" cy="36720"/>
                </a:xfrm>
                <a:custGeom>
                  <a:avLst/>
                  <a:gdLst/>
                  <a:ahLst/>
                  <a:rect l="l" t="t" r="r" b="b"/>
                  <a:pathLst>
                    <a:path w="318" h="399">
                      <a:moveTo>
                        <a:pt x="0" y="138"/>
                      </a:moveTo>
                      <a:lnTo>
                        <a:pt x="87" y="23"/>
                      </a:lnTo>
                      <a:lnTo>
                        <a:pt x="168" y="0"/>
                      </a:lnTo>
                      <a:lnTo>
                        <a:pt x="221" y="72"/>
                      </a:lnTo>
                      <a:lnTo>
                        <a:pt x="221" y="336"/>
                      </a:lnTo>
                      <a:lnTo>
                        <a:pt x="285" y="106"/>
                      </a:lnTo>
                      <a:lnTo>
                        <a:pt x="318" y="196"/>
                      </a:lnTo>
                      <a:lnTo>
                        <a:pt x="318" y="295"/>
                      </a:lnTo>
                      <a:lnTo>
                        <a:pt x="246" y="399"/>
                      </a:lnTo>
                      <a:lnTo>
                        <a:pt x="186" y="399"/>
                      </a:lnTo>
                      <a:lnTo>
                        <a:pt x="39" y="261"/>
                      </a:lnTo>
                      <a:lnTo>
                        <a:pt x="0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7846560" y="5874480"/>
                  <a:ext cx="149760" cy="197640"/>
                </a:xfrm>
                <a:custGeom>
                  <a:avLst/>
                  <a:gdLst/>
                  <a:ahLst/>
                  <a:rect l="l" t="t" r="r" b="b"/>
                  <a:pathLst>
                    <a:path w="2335" h="2151">
                      <a:moveTo>
                        <a:pt x="87" y="1633"/>
                      </a:moveTo>
                      <a:lnTo>
                        <a:pt x="112" y="1705"/>
                      </a:lnTo>
                      <a:lnTo>
                        <a:pt x="123" y="1896"/>
                      </a:lnTo>
                      <a:lnTo>
                        <a:pt x="0" y="1953"/>
                      </a:lnTo>
                      <a:lnTo>
                        <a:pt x="39" y="1978"/>
                      </a:lnTo>
                      <a:lnTo>
                        <a:pt x="182" y="1953"/>
                      </a:lnTo>
                      <a:lnTo>
                        <a:pt x="742" y="2068"/>
                      </a:lnTo>
                      <a:lnTo>
                        <a:pt x="732" y="2032"/>
                      </a:lnTo>
                      <a:lnTo>
                        <a:pt x="732" y="2011"/>
                      </a:lnTo>
                      <a:lnTo>
                        <a:pt x="758" y="1997"/>
                      </a:lnTo>
                      <a:lnTo>
                        <a:pt x="791" y="2002"/>
                      </a:lnTo>
                      <a:lnTo>
                        <a:pt x="806" y="2032"/>
                      </a:lnTo>
                      <a:lnTo>
                        <a:pt x="830" y="2061"/>
                      </a:lnTo>
                      <a:lnTo>
                        <a:pt x="883" y="2068"/>
                      </a:lnTo>
                      <a:lnTo>
                        <a:pt x="958" y="2127"/>
                      </a:lnTo>
                      <a:lnTo>
                        <a:pt x="938" y="2068"/>
                      </a:lnTo>
                      <a:lnTo>
                        <a:pt x="1180" y="2011"/>
                      </a:lnTo>
                      <a:lnTo>
                        <a:pt x="1477" y="1845"/>
                      </a:lnTo>
                      <a:lnTo>
                        <a:pt x="1807" y="1930"/>
                      </a:lnTo>
                      <a:lnTo>
                        <a:pt x="1872" y="2061"/>
                      </a:lnTo>
                      <a:lnTo>
                        <a:pt x="1872" y="2142"/>
                      </a:lnTo>
                      <a:lnTo>
                        <a:pt x="1883" y="2151"/>
                      </a:lnTo>
                      <a:lnTo>
                        <a:pt x="1897" y="2061"/>
                      </a:lnTo>
                      <a:lnTo>
                        <a:pt x="1823" y="1912"/>
                      </a:lnTo>
                      <a:lnTo>
                        <a:pt x="1666" y="1815"/>
                      </a:lnTo>
                      <a:lnTo>
                        <a:pt x="1731" y="1714"/>
                      </a:lnTo>
                      <a:lnTo>
                        <a:pt x="1855" y="1668"/>
                      </a:lnTo>
                      <a:lnTo>
                        <a:pt x="2003" y="1642"/>
                      </a:lnTo>
                      <a:lnTo>
                        <a:pt x="2189" y="1674"/>
                      </a:lnTo>
                      <a:lnTo>
                        <a:pt x="2226" y="1705"/>
                      </a:lnTo>
                      <a:lnTo>
                        <a:pt x="2235" y="1804"/>
                      </a:lnTo>
                      <a:lnTo>
                        <a:pt x="2285" y="1887"/>
                      </a:lnTo>
                      <a:lnTo>
                        <a:pt x="2335" y="1771"/>
                      </a:lnTo>
                      <a:lnTo>
                        <a:pt x="2309" y="1700"/>
                      </a:lnTo>
                      <a:lnTo>
                        <a:pt x="2219" y="1608"/>
                      </a:lnTo>
                      <a:lnTo>
                        <a:pt x="2102" y="1510"/>
                      </a:lnTo>
                      <a:lnTo>
                        <a:pt x="2010" y="1402"/>
                      </a:lnTo>
                      <a:lnTo>
                        <a:pt x="1929" y="1439"/>
                      </a:lnTo>
                      <a:lnTo>
                        <a:pt x="1883" y="1559"/>
                      </a:lnTo>
                      <a:lnTo>
                        <a:pt x="1839" y="1536"/>
                      </a:lnTo>
                      <a:lnTo>
                        <a:pt x="1883" y="1428"/>
                      </a:lnTo>
                      <a:lnTo>
                        <a:pt x="1929" y="1338"/>
                      </a:lnTo>
                      <a:lnTo>
                        <a:pt x="2138" y="1255"/>
                      </a:lnTo>
                      <a:lnTo>
                        <a:pt x="2235" y="1165"/>
                      </a:lnTo>
                      <a:lnTo>
                        <a:pt x="2189" y="1041"/>
                      </a:lnTo>
                      <a:lnTo>
                        <a:pt x="2169" y="1142"/>
                      </a:lnTo>
                      <a:lnTo>
                        <a:pt x="2063" y="1206"/>
                      </a:lnTo>
                      <a:lnTo>
                        <a:pt x="1962" y="1232"/>
                      </a:lnTo>
                      <a:lnTo>
                        <a:pt x="1883" y="1239"/>
                      </a:lnTo>
                      <a:lnTo>
                        <a:pt x="1855" y="1213"/>
                      </a:lnTo>
                      <a:lnTo>
                        <a:pt x="1872" y="1181"/>
                      </a:lnTo>
                      <a:lnTo>
                        <a:pt x="2039" y="1066"/>
                      </a:lnTo>
                      <a:lnTo>
                        <a:pt x="2169" y="943"/>
                      </a:lnTo>
                      <a:lnTo>
                        <a:pt x="2197" y="1001"/>
                      </a:lnTo>
                      <a:lnTo>
                        <a:pt x="2201" y="868"/>
                      </a:lnTo>
                      <a:lnTo>
                        <a:pt x="2180" y="720"/>
                      </a:lnTo>
                      <a:lnTo>
                        <a:pt x="2169" y="565"/>
                      </a:lnTo>
                      <a:lnTo>
                        <a:pt x="2180" y="337"/>
                      </a:lnTo>
                      <a:lnTo>
                        <a:pt x="2153" y="114"/>
                      </a:lnTo>
                      <a:lnTo>
                        <a:pt x="2111" y="0"/>
                      </a:lnTo>
                      <a:lnTo>
                        <a:pt x="2144" y="182"/>
                      </a:lnTo>
                      <a:lnTo>
                        <a:pt x="2144" y="400"/>
                      </a:lnTo>
                      <a:lnTo>
                        <a:pt x="2111" y="582"/>
                      </a:lnTo>
                      <a:lnTo>
                        <a:pt x="1982" y="868"/>
                      </a:lnTo>
                      <a:lnTo>
                        <a:pt x="2088" y="706"/>
                      </a:lnTo>
                      <a:lnTo>
                        <a:pt x="2127" y="771"/>
                      </a:lnTo>
                      <a:lnTo>
                        <a:pt x="2144" y="861"/>
                      </a:lnTo>
                      <a:lnTo>
                        <a:pt x="2120" y="936"/>
                      </a:lnTo>
                      <a:lnTo>
                        <a:pt x="2003" y="1041"/>
                      </a:lnTo>
                      <a:lnTo>
                        <a:pt x="1865" y="1125"/>
                      </a:lnTo>
                      <a:lnTo>
                        <a:pt x="1872" y="1050"/>
                      </a:lnTo>
                      <a:lnTo>
                        <a:pt x="1673" y="1273"/>
                      </a:lnTo>
                      <a:lnTo>
                        <a:pt x="1402" y="1476"/>
                      </a:lnTo>
                      <a:lnTo>
                        <a:pt x="1169" y="1584"/>
                      </a:lnTo>
                      <a:lnTo>
                        <a:pt x="965" y="1633"/>
                      </a:lnTo>
                      <a:lnTo>
                        <a:pt x="615" y="1600"/>
                      </a:lnTo>
                      <a:lnTo>
                        <a:pt x="410" y="1608"/>
                      </a:lnTo>
                      <a:lnTo>
                        <a:pt x="195" y="1626"/>
                      </a:lnTo>
                      <a:lnTo>
                        <a:pt x="87" y="16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7925400" y="5866560"/>
                  <a:ext cx="11160" cy="129240"/>
                </a:xfrm>
                <a:custGeom>
                  <a:avLst/>
                  <a:gdLst/>
                  <a:ahLst/>
                  <a:rect l="l" t="t" r="r" b="b"/>
                  <a:pathLst>
                    <a:path w="180" h="1411">
                      <a:moveTo>
                        <a:pt x="0" y="33"/>
                      </a:moveTo>
                      <a:lnTo>
                        <a:pt x="99" y="263"/>
                      </a:lnTo>
                      <a:lnTo>
                        <a:pt x="129" y="483"/>
                      </a:lnTo>
                      <a:lnTo>
                        <a:pt x="124" y="802"/>
                      </a:lnTo>
                      <a:lnTo>
                        <a:pt x="81" y="1075"/>
                      </a:lnTo>
                      <a:lnTo>
                        <a:pt x="9" y="1411"/>
                      </a:lnTo>
                      <a:lnTo>
                        <a:pt x="90" y="1386"/>
                      </a:lnTo>
                      <a:lnTo>
                        <a:pt x="140" y="1303"/>
                      </a:lnTo>
                      <a:lnTo>
                        <a:pt x="171" y="1140"/>
                      </a:lnTo>
                      <a:lnTo>
                        <a:pt x="180" y="886"/>
                      </a:lnTo>
                      <a:lnTo>
                        <a:pt x="171" y="556"/>
                      </a:lnTo>
                      <a:lnTo>
                        <a:pt x="145" y="344"/>
                      </a:lnTo>
                      <a:lnTo>
                        <a:pt x="105" y="180"/>
                      </a:lnTo>
                      <a:lnTo>
                        <a:pt x="39" y="22"/>
                      </a:lnTo>
                      <a:lnTo>
                        <a:pt x="9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7901280" y="5950800"/>
                  <a:ext cx="9000" cy="13320"/>
                </a:xfrm>
                <a:custGeom>
                  <a:avLst/>
                  <a:gdLst/>
                  <a:ahLst/>
                  <a:rect l="l" t="t" r="r" b="b"/>
                  <a:pathLst>
                    <a:path w="141" h="141">
                      <a:moveTo>
                        <a:pt x="101" y="7"/>
                      </a:moveTo>
                      <a:lnTo>
                        <a:pt x="66" y="7"/>
                      </a:lnTo>
                      <a:lnTo>
                        <a:pt x="42" y="31"/>
                      </a:lnTo>
                      <a:lnTo>
                        <a:pt x="51" y="62"/>
                      </a:lnTo>
                      <a:lnTo>
                        <a:pt x="77" y="88"/>
                      </a:lnTo>
                      <a:lnTo>
                        <a:pt x="110" y="72"/>
                      </a:lnTo>
                      <a:lnTo>
                        <a:pt x="123" y="49"/>
                      </a:lnTo>
                      <a:lnTo>
                        <a:pt x="123" y="31"/>
                      </a:lnTo>
                      <a:lnTo>
                        <a:pt x="141" y="62"/>
                      </a:lnTo>
                      <a:lnTo>
                        <a:pt x="123" y="113"/>
                      </a:lnTo>
                      <a:lnTo>
                        <a:pt x="77" y="141"/>
                      </a:lnTo>
                      <a:lnTo>
                        <a:pt x="18" y="106"/>
                      </a:lnTo>
                      <a:lnTo>
                        <a:pt x="0" y="49"/>
                      </a:lnTo>
                      <a:lnTo>
                        <a:pt x="42" y="7"/>
                      </a:lnTo>
                      <a:lnTo>
                        <a:pt x="66" y="0"/>
                      </a:lnTo>
                      <a:lnTo>
                        <a:pt x="10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7979760" y="5984640"/>
                  <a:ext cx="16920" cy="46080"/>
                </a:xfrm>
                <a:custGeom>
                  <a:avLst/>
                  <a:gdLst/>
                  <a:ahLst/>
                  <a:rect l="l" t="t" r="r" b="b"/>
                  <a:pathLst>
                    <a:path w="265" h="505">
                      <a:moveTo>
                        <a:pt x="215" y="0"/>
                      </a:moveTo>
                      <a:lnTo>
                        <a:pt x="215" y="71"/>
                      </a:lnTo>
                      <a:lnTo>
                        <a:pt x="0" y="193"/>
                      </a:lnTo>
                      <a:lnTo>
                        <a:pt x="131" y="152"/>
                      </a:lnTo>
                      <a:lnTo>
                        <a:pt x="131" y="277"/>
                      </a:lnTo>
                      <a:lnTo>
                        <a:pt x="57" y="258"/>
                      </a:lnTo>
                      <a:lnTo>
                        <a:pt x="239" y="431"/>
                      </a:lnTo>
                      <a:lnTo>
                        <a:pt x="265" y="505"/>
                      </a:lnTo>
                      <a:lnTo>
                        <a:pt x="255" y="405"/>
                      </a:lnTo>
                      <a:lnTo>
                        <a:pt x="180" y="308"/>
                      </a:lnTo>
                      <a:lnTo>
                        <a:pt x="180" y="143"/>
                      </a:lnTo>
                      <a:lnTo>
                        <a:pt x="233" y="92"/>
                      </a:lnTo>
                      <a:lnTo>
                        <a:pt x="233" y="51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7960320" y="6035400"/>
                  <a:ext cx="59040" cy="49320"/>
                </a:xfrm>
                <a:custGeom>
                  <a:avLst/>
                  <a:gdLst/>
                  <a:ahLst/>
                  <a:rect l="l" t="t" r="r" b="b"/>
                  <a:pathLst>
                    <a:path w="918" h="541">
                      <a:moveTo>
                        <a:pt x="529" y="181"/>
                      </a:moveTo>
                      <a:lnTo>
                        <a:pt x="520" y="211"/>
                      </a:lnTo>
                      <a:lnTo>
                        <a:pt x="470" y="211"/>
                      </a:lnTo>
                      <a:lnTo>
                        <a:pt x="379" y="55"/>
                      </a:lnTo>
                      <a:lnTo>
                        <a:pt x="217" y="0"/>
                      </a:lnTo>
                      <a:lnTo>
                        <a:pt x="35" y="55"/>
                      </a:lnTo>
                      <a:lnTo>
                        <a:pt x="0" y="123"/>
                      </a:lnTo>
                      <a:lnTo>
                        <a:pt x="65" y="186"/>
                      </a:lnTo>
                      <a:lnTo>
                        <a:pt x="123" y="294"/>
                      </a:lnTo>
                      <a:lnTo>
                        <a:pt x="245" y="172"/>
                      </a:lnTo>
                      <a:lnTo>
                        <a:pt x="373" y="195"/>
                      </a:lnTo>
                      <a:lnTo>
                        <a:pt x="553" y="283"/>
                      </a:lnTo>
                      <a:lnTo>
                        <a:pt x="613" y="319"/>
                      </a:lnTo>
                      <a:lnTo>
                        <a:pt x="619" y="411"/>
                      </a:lnTo>
                      <a:lnTo>
                        <a:pt x="529" y="474"/>
                      </a:lnTo>
                      <a:lnTo>
                        <a:pt x="619" y="541"/>
                      </a:lnTo>
                      <a:lnTo>
                        <a:pt x="918" y="541"/>
                      </a:lnTo>
                      <a:lnTo>
                        <a:pt x="793" y="424"/>
                      </a:lnTo>
                      <a:lnTo>
                        <a:pt x="727" y="424"/>
                      </a:lnTo>
                      <a:lnTo>
                        <a:pt x="660" y="253"/>
                      </a:lnTo>
                      <a:lnTo>
                        <a:pt x="577" y="204"/>
                      </a:lnTo>
                      <a:lnTo>
                        <a:pt x="529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7912080" y="6058080"/>
                  <a:ext cx="83520" cy="42480"/>
                </a:xfrm>
                <a:custGeom>
                  <a:avLst/>
                  <a:gdLst/>
                  <a:ahLst/>
                  <a:rect l="l" t="t" r="r" b="b"/>
                  <a:pathLst>
                    <a:path w="1305" h="464">
                      <a:moveTo>
                        <a:pt x="1248" y="185"/>
                      </a:moveTo>
                      <a:lnTo>
                        <a:pt x="1184" y="130"/>
                      </a:lnTo>
                      <a:lnTo>
                        <a:pt x="1149" y="53"/>
                      </a:lnTo>
                      <a:lnTo>
                        <a:pt x="1066" y="71"/>
                      </a:lnTo>
                      <a:lnTo>
                        <a:pt x="1033" y="242"/>
                      </a:lnTo>
                      <a:lnTo>
                        <a:pt x="1089" y="293"/>
                      </a:lnTo>
                      <a:lnTo>
                        <a:pt x="944" y="293"/>
                      </a:lnTo>
                      <a:lnTo>
                        <a:pt x="826" y="341"/>
                      </a:lnTo>
                      <a:lnTo>
                        <a:pt x="497" y="433"/>
                      </a:lnTo>
                      <a:lnTo>
                        <a:pt x="308" y="464"/>
                      </a:lnTo>
                      <a:lnTo>
                        <a:pt x="149" y="464"/>
                      </a:lnTo>
                      <a:lnTo>
                        <a:pt x="50" y="433"/>
                      </a:lnTo>
                      <a:lnTo>
                        <a:pt x="0" y="350"/>
                      </a:lnTo>
                      <a:lnTo>
                        <a:pt x="50" y="350"/>
                      </a:lnTo>
                      <a:lnTo>
                        <a:pt x="200" y="415"/>
                      </a:lnTo>
                      <a:lnTo>
                        <a:pt x="349" y="424"/>
                      </a:lnTo>
                      <a:lnTo>
                        <a:pt x="547" y="392"/>
                      </a:lnTo>
                      <a:lnTo>
                        <a:pt x="769" y="311"/>
                      </a:lnTo>
                      <a:lnTo>
                        <a:pt x="826" y="286"/>
                      </a:lnTo>
                      <a:lnTo>
                        <a:pt x="769" y="176"/>
                      </a:lnTo>
                      <a:lnTo>
                        <a:pt x="695" y="110"/>
                      </a:lnTo>
                      <a:lnTo>
                        <a:pt x="605" y="14"/>
                      </a:lnTo>
                      <a:lnTo>
                        <a:pt x="769" y="46"/>
                      </a:lnTo>
                      <a:lnTo>
                        <a:pt x="810" y="110"/>
                      </a:lnTo>
                      <a:lnTo>
                        <a:pt x="870" y="64"/>
                      </a:lnTo>
                      <a:lnTo>
                        <a:pt x="870" y="130"/>
                      </a:lnTo>
                      <a:lnTo>
                        <a:pt x="1033" y="0"/>
                      </a:lnTo>
                      <a:lnTo>
                        <a:pt x="1257" y="46"/>
                      </a:lnTo>
                      <a:lnTo>
                        <a:pt x="1305" y="145"/>
                      </a:lnTo>
                      <a:lnTo>
                        <a:pt x="1248" y="1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7968960" y="6086160"/>
                  <a:ext cx="1926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7926480" y="5783400"/>
                  <a:ext cx="3600" cy="11520"/>
                </a:xfrm>
                <a:custGeom>
                  <a:avLst/>
                  <a:gdLst/>
                  <a:ahLst/>
                  <a:rect l="l" t="t" r="r" b="b"/>
                  <a:pathLst>
                    <a:path w="50" h="123">
                      <a:moveTo>
                        <a:pt x="32" y="0"/>
                      </a:moveTo>
                      <a:lnTo>
                        <a:pt x="50" y="42"/>
                      </a:lnTo>
                      <a:lnTo>
                        <a:pt x="50" y="83"/>
                      </a:lnTo>
                      <a:lnTo>
                        <a:pt x="32" y="118"/>
                      </a:lnTo>
                      <a:lnTo>
                        <a:pt x="14" y="123"/>
                      </a:lnTo>
                      <a:lnTo>
                        <a:pt x="0" y="123"/>
                      </a:lnTo>
                      <a:lnTo>
                        <a:pt x="0" y="111"/>
                      </a:lnTo>
                      <a:lnTo>
                        <a:pt x="19" y="111"/>
                      </a:lnTo>
                      <a:lnTo>
                        <a:pt x="32" y="83"/>
                      </a:lnTo>
                      <a:lnTo>
                        <a:pt x="39" y="48"/>
                      </a:lnTo>
                      <a:lnTo>
                        <a:pt x="19" y="1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7876080" y="5754600"/>
                  <a:ext cx="19800" cy="12960"/>
                </a:xfrm>
                <a:custGeom>
                  <a:avLst/>
                  <a:gdLst/>
                  <a:ahLst/>
                  <a:rect l="l" t="t" r="r" b="b"/>
                  <a:pathLst>
                    <a:path w="311" h="142">
                      <a:moveTo>
                        <a:pt x="0" y="49"/>
                      </a:moveTo>
                      <a:lnTo>
                        <a:pt x="48" y="39"/>
                      </a:lnTo>
                      <a:lnTo>
                        <a:pt x="14" y="26"/>
                      </a:lnTo>
                      <a:lnTo>
                        <a:pt x="55" y="0"/>
                      </a:lnTo>
                      <a:lnTo>
                        <a:pt x="117" y="1"/>
                      </a:lnTo>
                      <a:lnTo>
                        <a:pt x="179" y="1"/>
                      </a:lnTo>
                      <a:lnTo>
                        <a:pt x="255" y="37"/>
                      </a:lnTo>
                      <a:lnTo>
                        <a:pt x="218" y="37"/>
                      </a:lnTo>
                      <a:lnTo>
                        <a:pt x="267" y="83"/>
                      </a:lnTo>
                      <a:lnTo>
                        <a:pt x="278" y="54"/>
                      </a:lnTo>
                      <a:lnTo>
                        <a:pt x="311" y="107"/>
                      </a:lnTo>
                      <a:lnTo>
                        <a:pt x="273" y="142"/>
                      </a:lnTo>
                      <a:lnTo>
                        <a:pt x="276" y="109"/>
                      </a:lnTo>
                      <a:lnTo>
                        <a:pt x="223" y="122"/>
                      </a:lnTo>
                      <a:lnTo>
                        <a:pt x="188" y="120"/>
                      </a:lnTo>
                      <a:lnTo>
                        <a:pt x="240" y="109"/>
                      </a:lnTo>
                      <a:lnTo>
                        <a:pt x="253" y="92"/>
                      </a:lnTo>
                      <a:lnTo>
                        <a:pt x="235" y="61"/>
                      </a:lnTo>
                      <a:lnTo>
                        <a:pt x="191" y="39"/>
                      </a:lnTo>
                      <a:lnTo>
                        <a:pt x="156" y="37"/>
                      </a:lnTo>
                      <a:lnTo>
                        <a:pt x="101" y="41"/>
                      </a:lnTo>
                      <a:lnTo>
                        <a:pt x="60" y="46"/>
                      </a:lnTo>
                      <a:lnTo>
                        <a:pt x="95" y="81"/>
                      </a:lnTo>
                      <a:lnTo>
                        <a:pt x="140" y="109"/>
                      </a:lnTo>
                      <a:lnTo>
                        <a:pt x="122" y="122"/>
                      </a:lnTo>
                      <a:lnTo>
                        <a:pt x="106" y="104"/>
                      </a:lnTo>
                      <a:lnTo>
                        <a:pt x="71" y="109"/>
                      </a:lnTo>
                      <a:lnTo>
                        <a:pt x="66" y="81"/>
                      </a:lnTo>
                      <a:lnTo>
                        <a:pt x="36" y="79"/>
                      </a:lnTo>
                      <a:lnTo>
                        <a:pt x="43" y="61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908840" y="5757480"/>
                  <a:ext cx="16560" cy="11160"/>
                </a:xfrm>
                <a:custGeom>
                  <a:avLst/>
                  <a:gdLst/>
                  <a:ahLst/>
                  <a:rect l="l" t="t" r="r" b="b"/>
                  <a:pathLst>
                    <a:path w="263" h="121">
                      <a:moveTo>
                        <a:pt x="0" y="75"/>
                      </a:moveTo>
                      <a:lnTo>
                        <a:pt x="26" y="31"/>
                      </a:lnTo>
                      <a:lnTo>
                        <a:pt x="92" y="0"/>
                      </a:lnTo>
                      <a:lnTo>
                        <a:pt x="127" y="0"/>
                      </a:lnTo>
                      <a:lnTo>
                        <a:pt x="109" y="24"/>
                      </a:lnTo>
                      <a:lnTo>
                        <a:pt x="145" y="24"/>
                      </a:lnTo>
                      <a:lnTo>
                        <a:pt x="151" y="5"/>
                      </a:lnTo>
                      <a:lnTo>
                        <a:pt x="175" y="17"/>
                      </a:lnTo>
                      <a:lnTo>
                        <a:pt x="208" y="12"/>
                      </a:lnTo>
                      <a:lnTo>
                        <a:pt x="217" y="29"/>
                      </a:lnTo>
                      <a:lnTo>
                        <a:pt x="259" y="24"/>
                      </a:lnTo>
                      <a:lnTo>
                        <a:pt x="226" y="58"/>
                      </a:lnTo>
                      <a:lnTo>
                        <a:pt x="263" y="77"/>
                      </a:lnTo>
                      <a:lnTo>
                        <a:pt x="208" y="86"/>
                      </a:lnTo>
                      <a:lnTo>
                        <a:pt x="206" y="104"/>
                      </a:lnTo>
                      <a:lnTo>
                        <a:pt x="180" y="97"/>
                      </a:lnTo>
                      <a:lnTo>
                        <a:pt x="151" y="121"/>
                      </a:lnTo>
                      <a:lnTo>
                        <a:pt x="134" y="110"/>
                      </a:lnTo>
                      <a:lnTo>
                        <a:pt x="97" y="110"/>
                      </a:lnTo>
                      <a:lnTo>
                        <a:pt x="151" y="97"/>
                      </a:lnTo>
                      <a:lnTo>
                        <a:pt x="184" y="77"/>
                      </a:lnTo>
                      <a:lnTo>
                        <a:pt x="206" y="68"/>
                      </a:lnTo>
                      <a:lnTo>
                        <a:pt x="169" y="51"/>
                      </a:lnTo>
                      <a:lnTo>
                        <a:pt x="134" y="38"/>
                      </a:lnTo>
                      <a:lnTo>
                        <a:pt x="85" y="31"/>
                      </a:lnTo>
                      <a:lnTo>
                        <a:pt x="37" y="58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7910280" y="57657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51" h="17">
                      <a:moveTo>
                        <a:pt x="14" y="0"/>
                      </a:moveTo>
                      <a:lnTo>
                        <a:pt x="51" y="17"/>
                      </a:lnTo>
                      <a:lnTo>
                        <a:pt x="0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7877520" y="5744520"/>
                  <a:ext cx="19800" cy="12960"/>
                </a:xfrm>
                <a:custGeom>
                  <a:avLst/>
                  <a:gdLst/>
                  <a:ahLst/>
                  <a:rect l="l" t="t" r="r" b="b"/>
                  <a:pathLst>
                    <a:path w="310" h="140">
                      <a:moveTo>
                        <a:pt x="0" y="28"/>
                      </a:moveTo>
                      <a:lnTo>
                        <a:pt x="93" y="0"/>
                      </a:lnTo>
                      <a:lnTo>
                        <a:pt x="238" y="57"/>
                      </a:lnTo>
                      <a:lnTo>
                        <a:pt x="310" y="140"/>
                      </a:lnTo>
                      <a:lnTo>
                        <a:pt x="244" y="74"/>
                      </a:lnTo>
                      <a:lnTo>
                        <a:pt x="145" y="28"/>
                      </a:lnTo>
                      <a:lnTo>
                        <a:pt x="81" y="21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910280" y="57481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245" h="64">
                      <a:moveTo>
                        <a:pt x="0" y="64"/>
                      </a:moveTo>
                      <a:lnTo>
                        <a:pt x="86" y="31"/>
                      </a:lnTo>
                      <a:lnTo>
                        <a:pt x="157" y="18"/>
                      </a:lnTo>
                      <a:lnTo>
                        <a:pt x="218" y="18"/>
                      </a:lnTo>
                      <a:lnTo>
                        <a:pt x="245" y="35"/>
                      </a:lnTo>
                      <a:lnTo>
                        <a:pt x="229" y="0"/>
                      </a:lnTo>
                      <a:lnTo>
                        <a:pt x="168" y="0"/>
                      </a:lnTo>
                      <a:lnTo>
                        <a:pt x="69" y="18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7893000" y="5789160"/>
                  <a:ext cx="12600" cy="9360"/>
                </a:xfrm>
                <a:custGeom>
                  <a:avLst/>
                  <a:gdLst/>
                  <a:ahLst/>
                  <a:rect l="l" t="t" r="r" b="b"/>
                  <a:pathLst>
                    <a:path w="207" h="103">
                      <a:moveTo>
                        <a:pt x="207" y="38"/>
                      </a:moveTo>
                      <a:lnTo>
                        <a:pt x="152" y="73"/>
                      </a:lnTo>
                      <a:lnTo>
                        <a:pt x="130" y="66"/>
                      </a:lnTo>
                      <a:lnTo>
                        <a:pt x="101" y="38"/>
                      </a:lnTo>
                      <a:lnTo>
                        <a:pt x="58" y="29"/>
                      </a:lnTo>
                      <a:lnTo>
                        <a:pt x="11" y="22"/>
                      </a:ln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11" y="38"/>
                      </a:lnTo>
                      <a:lnTo>
                        <a:pt x="67" y="57"/>
                      </a:lnTo>
                      <a:lnTo>
                        <a:pt x="125" y="103"/>
                      </a:lnTo>
                      <a:lnTo>
                        <a:pt x="148" y="103"/>
                      </a:lnTo>
                      <a:lnTo>
                        <a:pt x="207" y="66"/>
                      </a:lnTo>
                      <a:lnTo>
                        <a:pt x="20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7905240" y="5755320"/>
                  <a:ext cx="3600" cy="15840"/>
                </a:xfrm>
                <a:custGeom>
                  <a:avLst/>
                  <a:gdLst/>
                  <a:ahLst/>
                  <a:rect l="l" t="t" r="r" b="b"/>
                  <a:pathLst>
                    <a:path w="57" h="172">
                      <a:moveTo>
                        <a:pt x="57" y="0"/>
                      </a:moveTo>
                      <a:lnTo>
                        <a:pt x="15" y="51"/>
                      </a:lnTo>
                      <a:lnTo>
                        <a:pt x="0" y="106"/>
                      </a:lnTo>
                      <a:lnTo>
                        <a:pt x="4" y="141"/>
                      </a:lnTo>
                      <a:lnTo>
                        <a:pt x="33" y="172"/>
                      </a:lnTo>
                      <a:lnTo>
                        <a:pt x="15" y="134"/>
                      </a:lnTo>
                      <a:lnTo>
                        <a:pt x="15" y="95"/>
                      </a:lnTo>
                      <a:lnTo>
                        <a:pt x="28" y="49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883640" y="57574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81" h="74">
                      <a:moveTo>
                        <a:pt x="0" y="6"/>
                      </a:moveTo>
                      <a:lnTo>
                        <a:pt x="6" y="57"/>
                      </a:lnTo>
                      <a:lnTo>
                        <a:pt x="30" y="74"/>
                      </a:lnTo>
                      <a:lnTo>
                        <a:pt x="57" y="74"/>
                      </a:lnTo>
                      <a:lnTo>
                        <a:pt x="72" y="39"/>
                      </a:lnTo>
                      <a:lnTo>
                        <a:pt x="81" y="17"/>
                      </a:lnTo>
                      <a:lnTo>
                        <a:pt x="57" y="32"/>
                      </a:lnTo>
                      <a:lnTo>
                        <a:pt x="37" y="50"/>
                      </a:lnTo>
                      <a:lnTo>
                        <a:pt x="30" y="39"/>
                      </a:lnTo>
                      <a:lnTo>
                        <a:pt x="3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7912440" y="5760720"/>
                  <a:ext cx="5400" cy="5760"/>
                </a:xfrm>
                <a:custGeom>
                  <a:avLst/>
                  <a:gdLst/>
                  <a:ahLst/>
                  <a:rect l="l" t="t" r="r" b="b"/>
                  <a:pathLst>
                    <a:path w="92" h="64">
                      <a:moveTo>
                        <a:pt x="0" y="12"/>
                      </a:moveTo>
                      <a:lnTo>
                        <a:pt x="5" y="64"/>
                      </a:lnTo>
                      <a:lnTo>
                        <a:pt x="64" y="64"/>
                      </a:lnTo>
                      <a:lnTo>
                        <a:pt x="89" y="35"/>
                      </a:lnTo>
                      <a:lnTo>
                        <a:pt x="92" y="0"/>
                      </a:lnTo>
                      <a:lnTo>
                        <a:pt x="55" y="0"/>
                      </a:lnTo>
                      <a:lnTo>
                        <a:pt x="64" y="31"/>
                      </a:lnTo>
                      <a:lnTo>
                        <a:pt x="41" y="42"/>
                      </a:lnTo>
                      <a:lnTo>
                        <a:pt x="27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888320" y="5804640"/>
                  <a:ext cx="21960" cy="2520"/>
                </a:xfrm>
                <a:custGeom>
                  <a:avLst/>
                  <a:gdLst/>
                  <a:ahLst/>
                  <a:rect l="l" t="t" r="r" b="b"/>
                  <a:pathLst>
                    <a:path w="350" h="31">
                      <a:moveTo>
                        <a:pt x="0" y="5"/>
                      </a:moveTo>
                      <a:lnTo>
                        <a:pt x="111" y="0"/>
                      </a:lnTo>
                      <a:lnTo>
                        <a:pt x="198" y="14"/>
                      </a:lnTo>
                      <a:lnTo>
                        <a:pt x="251" y="5"/>
                      </a:lnTo>
                      <a:lnTo>
                        <a:pt x="350" y="14"/>
                      </a:lnTo>
                      <a:lnTo>
                        <a:pt x="276" y="24"/>
                      </a:lnTo>
                      <a:lnTo>
                        <a:pt x="198" y="31"/>
                      </a:lnTo>
                      <a:lnTo>
                        <a:pt x="46" y="18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892280" y="5809680"/>
                  <a:ext cx="14760" cy="3600"/>
                </a:xfrm>
                <a:custGeom>
                  <a:avLst/>
                  <a:gdLst/>
                  <a:ahLst/>
                  <a:rect l="l" t="t" r="r" b="b"/>
                  <a:pathLst>
                    <a:path w="233" h="42">
                      <a:moveTo>
                        <a:pt x="0" y="0"/>
                      </a:moveTo>
                      <a:lnTo>
                        <a:pt x="60" y="35"/>
                      </a:lnTo>
                      <a:lnTo>
                        <a:pt x="159" y="42"/>
                      </a:lnTo>
                      <a:lnTo>
                        <a:pt x="233" y="7"/>
                      </a:lnTo>
                      <a:lnTo>
                        <a:pt x="164" y="24"/>
                      </a:lnTo>
                      <a:lnTo>
                        <a:pt x="77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8119440" y="5821560"/>
                  <a:ext cx="38160" cy="46800"/>
                </a:xfrm>
                <a:custGeom>
                  <a:avLst/>
                  <a:gdLst/>
                  <a:ahLst/>
                  <a:rect l="l" t="t" r="r" b="b"/>
                  <a:pathLst>
                    <a:path w="595" h="512">
                      <a:moveTo>
                        <a:pt x="97" y="215"/>
                      </a:moveTo>
                      <a:lnTo>
                        <a:pt x="120" y="122"/>
                      </a:lnTo>
                      <a:lnTo>
                        <a:pt x="305" y="0"/>
                      </a:lnTo>
                      <a:lnTo>
                        <a:pt x="498" y="68"/>
                      </a:lnTo>
                      <a:lnTo>
                        <a:pt x="395" y="68"/>
                      </a:lnTo>
                      <a:lnTo>
                        <a:pt x="514" y="209"/>
                      </a:lnTo>
                      <a:lnTo>
                        <a:pt x="569" y="191"/>
                      </a:lnTo>
                      <a:lnTo>
                        <a:pt x="525" y="96"/>
                      </a:lnTo>
                      <a:lnTo>
                        <a:pt x="595" y="209"/>
                      </a:lnTo>
                      <a:lnTo>
                        <a:pt x="551" y="261"/>
                      </a:lnTo>
                      <a:lnTo>
                        <a:pt x="595" y="503"/>
                      </a:lnTo>
                      <a:lnTo>
                        <a:pt x="533" y="512"/>
                      </a:lnTo>
                      <a:lnTo>
                        <a:pt x="464" y="494"/>
                      </a:lnTo>
                      <a:lnTo>
                        <a:pt x="542" y="486"/>
                      </a:lnTo>
                      <a:lnTo>
                        <a:pt x="475" y="329"/>
                      </a:lnTo>
                      <a:lnTo>
                        <a:pt x="351" y="200"/>
                      </a:lnTo>
                      <a:lnTo>
                        <a:pt x="489" y="311"/>
                      </a:lnTo>
                      <a:lnTo>
                        <a:pt x="542" y="424"/>
                      </a:lnTo>
                      <a:lnTo>
                        <a:pt x="510" y="244"/>
                      </a:lnTo>
                      <a:lnTo>
                        <a:pt x="305" y="41"/>
                      </a:lnTo>
                      <a:lnTo>
                        <a:pt x="261" y="122"/>
                      </a:lnTo>
                      <a:lnTo>
                        <a:pt x="305" y="173"/>
                      </a:lnTo>
                      <a:lnTo>
                        <a:pt x="228" y="173"/>
                      </a:lnTo>
                      <a:lnTo>
                        <a:pt x="323" y="306"/>
                      </a:lnTo>
                      <a:lnTo>
                        <a:pt x="191" y="209"/>
                      </a:lnTo>
                      <a:lnTo>
                        <a:pt x="0" y="373"/>
                      </a:lnTo>
                      <a:lnTo>
                        <a:pt x="17" y="253"/>
                      </a:lnTo>
                      <a:lnTo>
                        <a:pt x="9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8125920" y="5852520"/>
                  <a:ext cx="27000" cy="48240"/>
                </a:xfrm>
                <a:custGeom>
                  <a:avLst/>
                  <a:gdLst/>
                  <a:ahLst/>
                  <a:rect l="l" t="t" r="r" b="b"/>
                  <a:pathLst>
                    <a:path w="417" h="531">
                      <a:moveTo>
                        <a:pt x="351" y="198"/>
                      </a:moveTo>
                      <a:lnTo>
                        <a:pt x="307" y="183"/>
                      </a:lnTo>
                      <a:lnTo>
                        <a:pt x="254" y="114"/>
                      </a:lnTo>
                      <a:lnTo>
                        <a:pt x="208" y="114"/>
                      </a:lnTo>
                      <a:lnTo>
                        <a:pt x="146" y="62"/>
                      </a:lnTo>
                      <a:lnTo>
                        <a:pt x="146" y="104"/>
                      </a:lnTo>
                      <a:lnTo>
                        <a:pt x="94" y="114"/>
                      </a:lnTo>
                      <a:lnTo>
                        <a:pt x="44" y="53"/>
                      </a:lnTo>
                      <a:lnTo>
                        <a:pt x="72" y="132"/>
                      </a:lnTo>
                      <a:lnTo>
                        <a:pt x="0" y="132"/>
                      </a:lnTo>
                      <a:lnTo>
                        <a:pt x="87" y="189"/>
                      </a:lnTo>
                      <a:lnTo>
                        <a:pt x="78" y="270"/>
                      </a:lnTo>
                      <a:lnTo>
                        <a:pt x="131" y="383"/>
                      </a:lnTo>
                      <a:lnTo>
                        <a:pt x="131" y="305"/>
                      </a:lnTo>
                      <a:lnTo>
                        <a:pt x="164" y="279"/>
                      </a:lnTo>
                      <a:lnTo>
                        <a:pt x="182" y="321"/>
                      </a:lnTo>
                      <a:lnTo>
                        <a:pt x="219" y="288"/>
                      </a:lnTo>
                      <a:lnTo>
                        <a:pt x="272" y="288"/>
                      </a:lnTo>
                      <a:lnTo>
                        <a:pt x="340" y="347"/>
                      </a:lnTo>
                      <a:lnTo>
                        <a:pt x="332" y="436"/>
                      </a:lnTo>
                      <a:lnTo>
                        <a:pt x="291" y="531"/>
                      </a:lnTo>
                      <a:lnTo>
                        <a:pt x="383" y="383"/>
                      </a:lnTo>
                      <a:lnTo>
                        <a:pt x="413" y="288"/>
                      </a:lnTo>
                      <a:lnTo>
                        <a:pt x="417" y="156"/>
                      </a:lnTo>
                      <a:lnTo>
                        <a:pt x="383" y="156"/>
                      </a:lnTo>
                      <a:lnTo>
                        <a:pt x="323" y="42"/>
                      </a:lnTo>
                      <a:lnTo>
                        <a:pt x="261" y="0"/>
                      </a:lnTo>
                      <a:lnTo>
                        <a:pt x="314" y="77"/>
                      </a:lnTo>
                      <a:lnTo>
                        <a:pt x="351" y="148"/>
                      </a:lnTo>
                      <a:lnTo>
                        <a:pt x="351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8092800" y="5859000"/>
                  <a:ext cx="109800" cy="224640"/>
                </a:xfrm>
                <a:custGeom>
                  <a:avLst/>
                  <a:gdLst/>
                  <a:ahLst/>
                  <a:rect l="l" t="t" r="r" b="b"/>
                  <a:pathLst>
                    <a:path w="1712" h="2448">
                      <a:moveTo>
                        <a:pt x="420" y="0"/>
                      </a:moveTo>
                      <a:lnTo>
                        <a:pt x="499" y="424"/>
                      </a:lnTo>
                      <a:lnTo>
                        <a:pt x="522" y="451"/>
                      </a:lnTo>
                      <a:lnTo>
                        <a:pt x="561" y="468"/>
                      </a:lnTo>
                      <a:lnTo>
                        <a:pt x="534" y="495"/>
                      </a:lnTo>
                      <a:lnTo>
                        <a:pt x="483" y="486"/>
                      </a:lnTo>
                      <a:lnTo>
                        <a:pt x="475" y="550"/>
                      </a:lnTo>
                      <a:lnTo>
                        <a:pt x="499" y="599"/>
                      </a:lnTo>
                      <a:lnTo>
                        <a:pt x="540" y="615"/>
                      </a:lnTo>
                      <a:lnTo>
                        <a:pt x="589" y="606"/>
                      </a:lnTo>
                      <a:lnTo>
                        <a:pt x="611" y="479"/>
                      </a:lnTo>
                      <a:lnTo>
                        <a:pt x="663" y="479"/>
                      </a:lnTo>
                      <a:lnTo>
                        <a:pt x="711" y="451"/>
                      </a:lnTo>
                      <a:lnTo>
                        <a:pt x="743" y="398"/>
                      </a:lnTo>
                      <a:lnTo>
                        <a:pt x="743" y="461"/>
                      </a:lnTo>
                      <a:lnTo>
                        <a:pt x="771" y="451"/>
                      </a:lnTo>
                      <a:lnTo>
                        <a:pt x="824" y="424"/>
                      </a:lnTo>
                      <a:lnTo>
                        <a:pt x="798" y="461"/>
                      </a:lnTo>
                      <a:lnTo>
                        <a:pt x="743" y="530"/>
                      </a:lnTo>
                      <a:lnTo>
                        <a:pt x="699" y="650"/>
                      </a:lnTo>
                      <a:lnTo>
                        <a:pt x="909" y="415"/>
                      </a:lnTo>
                      <a:lnTo>
                        <a:pt x="945" y="444"/>
                      </a:lnTo>
                      <a:lnTo>
                        <a:pt x="815" y="798"/>
                      </a:lnTo>
                      <a:lnTo>
                        <a:pt x="824" y="1260"/>
                      </a:lnTo>
                      <a:lnTo>
                        <a:pt x="1172" y="1295"/>
                      </a:lnTo>
                      <a:lnTo>
                        <a:pt x="1331" y="1371"/>
                      </a:lnTo>
                      <a:lnTo>
                        <a:pt x="1417" y="1371"/>
                      </a:lnTo>
                      <a:lnTo>
                        <a:pt x="1460" y="1442"/>
                      </a:lnTo>
                      <a:lnTo>
                        <a:pt x="1172" y="1332"/>
                      </a:lnTo>
                      <a:lnTo>
                        <a:pt x="953" y="1314"/>
                      </a:lnTo>
                      <a:lnTo>
                        <a:pt x="1059" y="1380"/>
                      </a:lnTo>
                      <a:lnTo>
                        <a:pt x="953" y="1380"/>
                      </a:lnTo>
                      <a:lnTo>
                        <a:pt x="798" y="1362"/>
                      </a:lnTo>
                      <a:lnTo>
                        <a:pt x="909" y="1459"/>
                      </a:lnTo>
                      <a:lnTo>
                        <a:pt x="1296" y="1523"/>
                      </a:lnTo>
                      <a:lnTo>
                        <a:pt x="971" y="1493"/>
                      </a:lnTo>
                      <a:lnTo>
                        <a:pt x="1172" y="1611"/>
                      </a:lnTo>
                      <a:lnTo>
                        <a:pt x="1147" y="1636"/>
                      </a:lnTo>
                      <a:lnTo>
                        <a:pt x="875" y="1503"/>
                      </a:lnTo>
                      <a:lnTo>
                        <a:pt x="918" y="1636"/>
                      </a:lnTo>
                      <a:lnTo>
                        <a:pt x="1349" y="1747"/>
                      </a:lnTo>
                      <a:lnTo>
                        <a:pt x="1626" y="1921"/>
                      </a:lnTo>
                      <a:lnTo>
                        <a:pt x="1349" y="1867"/>
                      </a:lnTo>
                      <a:lnTo>
                        <a:pt x="1191" y="1765"/>
                      </a:lnTo>
                      <a:lnTo>
                        <a:pt x="953" y="1701"/>
                      </a:lnTo>
                      <a:lnTo>
                        <a:pt x="1068" y="1826"/>
                      </a:lnTo>
                      <a:lnTo>
                        <a:pt x="1712" y="2049"/>
                      </a:lnTo>
                      <a:lnTo>
                        <a:pt x="1068" y="1867"/>
                      </a:lnTo>
                      <a:lnTo>
                        <a:pt x="884" y="1736"/>
                      </a:lnTo>
                      <a:lnTo>
                        <a:pt x="895" y="1809"/>
                      </a:lnTo>
                      <a:lnTo>
                        <a:pt x="1068" y="1973"/>
                      </a:lnTo>
                      <a:lnTo>
                        <a:pt x="1321" y="2024"/>
                      </a:lnTo>
                      <a:lnTo>
                        <a:pt x="1460" y="2121"/>
                      </a:lnTo>
                      <a:lnTo>
                        <a:pt x="1259" y="2097"/>
                      </a:lnTo>
                      <a:lnTo>
                        <a:pt x="1008" y="1973"/>
                      </a:lnTo>
                      <a:lnTo>
                        <a:pt x="934" y="1982"/>
                      </a:lnTo>
                      <a:lnTo>
                        <a:pt x="971" y="2112"/>
                      </a:lnTo>
                      <a:lnTo>
                        <a:pt x="1033" y="2156"/>
                      </a:lnTo>
                      <a:lnTo>
                        <a:pt x="1349" y="2171"/>
                      </a:lnTo>
                      <a:lnTo>
                        <a:pt x="1024" y="2330"/>
                      </a:lnTo>
                      <a:lnTo>
                        <a:pt x="980" y="2314"/>
                      </a:lnTo>
                      <a:lnTo>
                        <a:pt x="909" y="2084"/>
                      </a:lnTo>
                      <a:lnTo>
                        <a:pt x="831" y="2339"/>
                      </a:lnTo>
                      <a:lnTo>
                        <a:pt x="849" y="2448"/>
                      </a:lnTo>
                      <a:lnTo>
                        <a:pt x="760" y="2354"/>
                      </a:lnTo>
                      <a:lnTo>
                        <a:pt x="895" y="2013"/>
                      </a:lnTo>
                      <a:lnTo>
                        <a:pt x="884" y="1921"/>
                      </a:lnTo>
                      <a:lnTo>
                        <a:pt x="824" y="1765"/>
                      </a:lnTo>
                      <a:lnTo>
                        <a:pt x="778" y="1563"/>
                      </a:lnTo>
                      <a:lnTo>
                        <a:pt x="674" y="1304"/>
                      </a:lnTo>
                      <a:lnTo>
                        <a:pt x="554" y="1523"/>
                      </a:lnTo>
                      <a:lnTo>
                        <a:pt x="554" y="1747"/>
                      </a:lnTo>
                      <a:lnTo>
                        <a:pt x="316" y="2033"/>
                      </a:lnTo>
                      <a:lnTo>
                        <a:pt x="0" y="2148"/>
                      </a:lnTo>
                      <a:lnTo>
                        <a:pt x="37" y="1973"/>
                      </a:lnTo>
                      <a:lnTo>
                        <a:pt x="217" y="1791"/>
                      </a:lnTo>
                      <a:lnTo>
                        <a:pt x="437" y="1685"/>
                      </a:lnTo>
                      <a:lnTo>
                        <a:pt x="534" y="1436"/>
                      </a:lnTo>
                      <a:lnTo>
                        <a:pt x="522" y="1314"/>
                      </a:lnTo>
                      <a:lnTo>
                        <a:pt x="611" y="1026"/>
                      </a:lnTo>
                      <a:lnTo>
                        <a:pt x="510" y="1000"/>
                      </a:lnTo>
                      <a:lnTo>
                        <a:pt x="420" y="938"/>
                      </a:lnTo>
                      <a:lnTo>
                        <a:pt x="522" y="650"/>
                      </a:lnTo>
                      <a:lnTo>
                        <a:pt x="475" y="627"/>
                      </a:lnTo>
                      <a:lnTo>
                        <a:pt x="448" y="541"/>
                      </a:lnTo>
                      <a:lnTo>
                        <a:pt x="448" y="433"/>
                      </a:lnTo>
                      <a:lnTo>
                        <a:pt x="420" y="53"/>
                      </a:lnTo>
                      <a:lnTo>
                        <a:pt x="4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8068680" y="5878080"/>
                  <a:ext cx="43920" cy="159840"/>
                </a:xfrm>
                <a:custGeom>
                  <a:avLst/>
                  <a:gdLst/>
                  <a:ahLst/>
                  <a:rect l="l" t="t" r="r" b="b"/>
                  <a:pathLst>
                    <a:path w="691" h="1748">
                      <a:moveTo>
                        <a:pt x="691" y="312"/>
                      </a:moveTo>
                      <a:lnTo>
                        <a:pt x="586" y="572"/>
                      </a:lnTo>
                      <a:lnTo>
                        <a:pt x="516" y="729"/>
                      </a:lnTo>
                      <a:lnTo>
                        <a:pt x="392" y="982"/>
                      </a:lnTo>
                      <a:lnTo>
                        <a:pt x="334" y="1017"/>
                      </a:lnTo>
                      <a:lnTo>
                        <a:pt x="351" y="1243"/>
                      </a:lnTo>
                      <a:lnTo>
                        <a:pt x="412" y="1527"/>
                      </a:lnTo>
                      <a:lnTo>
                        <a:pt x="472" y="1748"/>
                      </a:lnTo>
                      <a:lnTo>
                        <a:pt x="388" y="1485"/>
                      </a:lnTo>
                      <a:lnTo>
                        <a:pt x="334" y="1233"/>
                      </a:lnTo>
                      <a:lnTo>
                        <a:pt x="243" y="1171"/>
                      </a:lnTo>
                      <a:lnTo>
                        <a:pt x="254" y="1330"/>
                      </a:lnTo>
                      <a:lnTo>
                        <a:pt x="351" y="1591"/>
                      </a:lnTo>
                      <a:lnTo>
                        <a:pt x="239" y="1345"/>
                      </a:lnTo>
                      <a:lnTo>
                        <a:pt x="193" y="1153"/>
                      </a:lnTo>
                      <a:lnTo>
                        <a:pt x="87" y="1153"/>
                      </a:lnTo>
                      <a:lnTo>
                        <a:pt x="0" y="1227"/>
                      </a:lnTo>
                      <a:lnTo>
                        <a:pt x="87" y="1139"/>
                      </a:lnTo>
                      <a:lnTo>
                        <a:pt x="157" y="1112"/>
                      </a:lnTo>
                      <a:lnTo>
                        <a:pt x="219" y="895"/>
                      </a:lnTo>
                      <a:lnTo>
                        <a:pt x="219" y="782"/>
                      </a:lnTo>
                      <a:lnTo>
                        <a:pt x="175" y="721"/>
                      </a:lnTo>
                      <a:lnTo>
                        <a:pt x="175" y="644"/>
                      </a:lnTo>
                      <a:lnTo>
                        <a:pt x="279" y="235"/>
                      </a:lnTo>
                      <a:lnTo>
                        <a:pt x="388" y="0"/>
                      </a:lnTo>
                      <a:lnTo>
                        <a:pt x="307" y="341"/>
                      </a:lnTo>
                      <a:lnTo>
                        <a:pt x="219" y="685"/>
                      </a:lnTo>
                      <a:lnTo>
                        <a:pt x="307" y="798"/>
                      </a:lnTo>
                      <a:lnTo>
                        <a:pt x="366" y="914"/>
                      </a:lnTo>
                      <a:lnTo>
                        <a:pt x="606" y="462"/>
                      </a:lnTo>
                      <a:lnTo>
                        <a:pt x="691" y="3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8101440" y="5959080"/>
                  <a:ext cx="5040" cy="39600"/>
                </a:xfrm>
                <a:custGeom>
                  <a:avLst/>
                  <a:gdLst/>
                  <a:ahLst/>
                  <a:rect l="l" t="t" r="r" b="b"/>
                  <a:pathLst>
                    <a:path w="83" h="431">
                      <a:moveTo>
                        <a:pt x="0" y="0"/>
                      </a:moveTo>
                      <a:lnTo>
                        <a:pt x="51" y="106"/>
                      </a:lnTo>
                      <a:lnTo>
                        <a:pt x="51" y="297"/>
                      </a:lnTo>
                      <a:lnTo>
                        <a:pt x="83" y="385"/>
                      </a:lnTo>
                      <a:lnTo>
                        <a:pt x="42" y="431"/>
                      </a:lnTo>
                      <a:lnTo>
                        <a:pt x="24" y="2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8068680" y="5993640"/>
                  <a:ext cx="27000" cy="62280"/>
                </a:xfrm>
                <a:custGeom>
                  <a:avLst/>
                  <a:gdLst/>
                  <a:ahLst/>
                  <a:rect l="l" t="t" r="r" b="b"/>
                  <a:pathLst>
                    <a:path w="427" h="680">
                      <a:moveTo>
                        <a:pt x="0" y="0"/>
                      </a:moveTo>
                      <a:lnTo>
                        <a:pt x="175" y="532"/>
                      </a:lnTo>
                      <a:lnTo>
                        <a:pt x="307" y="543"/>
                      </a:lnTo>
                      <a:lnTo>
                        <a:pt x="427" y="629"/>
                      </a:lnTo>
                      <a:lnTo>
                        <a:pt x="366" y="680"/>
                      </a:lnTo>
                      <a:lnTo>
                        <a:pt x="175" y="611"/>
                      </a:lnTo>
                      <a:lnTo>
                        <a:pt x="81" y="3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8073360" y="5982480"/>
                  <a:ext cx="7920" cy="29880"/>
                </a:xfrm>
                <a:custGeom>
                  <a:avLst/>
                  <a:gdLst/>
                  <a:ahLst/>
                  <a:rect l="l" t="t" r="r" b="b"/>
                  <a:pathLst>
                    <a:path w="131" h="329">
                      <a:moveTo>
                        <a:pt x="131" y="14"/>
                      </a:moveTo>
                      <a:lnTo>
                        <a:pt x="43" y="329"/>
                      </a:lnTo>
                      <a:lnTo>
                        <a:pt x="0" y="226"/>
                      </a:lnTo>
                      <a:lnTo>
                        <a:pt x="112" y="0"/>
                      </a:lnTo>
                      <a:lnTo>
                        <a:pt x="1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8085600" y="5903280"/>
                  <a:ext cx="6480" cy="28440"/>
                </a:xfrm>
                <a:custGeom>
                  <a:avLst/>
                  <a:gdLst/>
                  <a:ahLst/>
                  <a:rect l="l" t="t" r="r" b="b"/>
                  <a:pathLst>
                    <a:path w="103" h="319">
                      <a:moveTo>
                        <a:pt x="71" y="0"/>
                      </a:moveTo>
                      <a:lnTo>
                        <a:pt x="71" y="171"/>
                      </a:lnTo>
                      <a:lnTo>
                        <a:pt x="103" y="319"/>
                      </a:lnTo>
                      <a:lnTo>
                        <a:pt x="0" y="210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8094240" y="5836320"/>
                  <a:ext cx="34200" cy="65160"/>
                </a:xfrm>
                <a:custGeom>
                  <a:avLst/>
                  <a:gdLst/>
                  <a:ahLst/>
                  <a:rect l="l" t="t" r="r" b="b"/>
                  <a:pathLst>
                    <a:path w="533" h="711">
                      <a:moveTo>
                        <a:pt x="0" y="393"/>
                      </a:moveTo>
                      <a:lnTo>
                        <a:pt x="60" y="393"/>
                      </a:lnTo>
                      <a:lnTo>
                        <a:pt x="174" y="520"/>
                      </a:lnTo>
                      <a:lnTo>
                        <a:pt x="254" y="711"/>
                      </a:lnTo>
                      <a:lnTo>
                        <a:pt x="189" y="503"/>
                      </a:lnTo>
                      <a:lnTo>
                        <a:pt x="93" y="329"/>
                      </a:lnTo>
                      <a:lnTo>
                        <a:pt x="51" y="305"/>
                      </a:lnTo>
                      <a:lnTo>
                        <a:pt x="227" y="164"/>
                      </a:lnTo>
                      <a:lnTo>
                        <a:pt x="427" y="141"/>
                      </a:lnTo>
                      <a:lnTo>
                        <a:pt x="533" y="0"/>
                      </a:lnTo>
                      <a:lnTo>
                        <a:pt x="306" y="35"/>
                      </a:lnTo>
                      <a:lnTo>
                        <a:pt x="189" y="153"/>
                      </a:lnTo>
                      <a:lnTo>
                        <a:pt x="21" y="305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8143200" y="5810400"/>
                  <a:ext cx="7560" cy="14400"/>
                </a:xfrm>
                <a:custGeom>
                  <a:avLst/>
                  <a:gdLst/>
                  <a:ahLst/>
                  <a:rect l="l" t="t" r="r" b="b"/>
                  <a:pathLst>
                    <a:path w="118" h="158">
                      <a:moveTo>
                        <a:pt x="63" y="0"/>
                      </a:moveTo>
                      <a:lnTo>
                        <a:pt x="0" y="158"/>
                      </a:lnTo>
                      <a:lnTo>
                        <a:pt x="26" y="158"/>
                      </a:lnTo>
                      <a:lnTo>
                        <a:pt x="118" y="38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8152920" y="5851080"/>
                  <a:ext cx="63000" cy="55800"/>
                </a:xfrm>
                <a:custGeom>
                  <a:avLst/>
                  <a:gdLst/>
                  <a:ahLst/>
                  <a:rect l="l" t="t" r="r" b="b"/>
                  <a:pathLst>
                    <a:path w="985" h="611">
                      <a:moveTo>
                        <a:pt x="55" y="194"/>
                      </a:moveTo>
                      <a:lnTo>
                        <a:pt x="107" y="264"/>
                      </a:lnTo>
                      <a:lnTo>
                        <a:pt x="182" y="334"/>
                      </a:lnTo>
                      <a:lnTo>
                        <a:pt x="199" y="354"/>
                      </a:lnTo>
                      <a:lnTo>
                        <a:pt x="257" y="334"/>
                      </a:lnTo>
                      <a:lnTo>
                        <a:pt x="254" y="387"/>
                      </a:lnTo>
                      <a:lnTo>
                        <a:pt x="301" y="424"/>
                      </a:lnTo>
                      <a:lnTo>
                        <a:pt x="413" y="470"/>
                      </a:lnTo>
                      <a:lnTo>
                        <a:pt x="479" y="502"/>
                      </a:lnTo>
                      <a:lnTo>
                        <a:pt x="538" y="543"/>
                      </a:lnTo>
                      <a:lnTo>
                        <a:pt x="580" y="585"/>
                      </a:lnTo>
                      <a:lnTo>
                        <a:pt x="901" y="20"/>
                      </a:lnTo>
                      <a:lnTo>
                        <a:pt x="938" y="0"/>
                      </a:lnTo>
                      <a:lnTo>
                        <a:pt x="976" y="0"/>
                      </a:lnTo>
                      <a:lnTo>
                        <a:pt x="985" y="20"/>
                      </a:lnTo>
                      <a:lnTo>
                        <a:pt x="967" y="29"/>
                      </a:lnTo>
                      <a:lnTo>
                        <a:pt x="936" y="29"/>
                      </a:lnTo>
                      <a:lnTo>
                        <a:pt x="899" y="48"/>
                      </a:lnTo>
                      <a:lnTo>
                        <a:pt x="865" y="90"/>
                      </a:lnTo>
                      <a:lnTo>
                        <a:pt x="580" y="611"/>
                      </a:lnTo>
                      <a:lnTo>
                        <a:pt x="459" y="565"/>
                      </a:lnTo>
                      <a:lnTo>
                        <a:pt x="538" y="578"/>
                      </a:lnTo>
                      <a:lnTo>
                        <a:pt x="485" y="532"/>
                      </a:lnTo>
                      <a:lnTo>
                        <a:pt x="404" y="486"/>
                      </a:lnTo>
                      <a:lnTo>
                        <a:pt x="325" y="458"/>
                      </a:lnTo>
                      <a:lnTo>
                        <a:pt x="296" y="453"/>
                      </a:lnTo>
                      <a:lnTo>
                        <a:pt x="362" y="519"/>
                      </a:lnTo>
                      <a:lnTo>
                        <a:pt x="301" y="475"/>
                      </a:lnTo>
                      <a:lnTo>
                        <a:pt x="257" y="440"/>
                      </a:lnTo>
                      <a:lnTo>
                        <a:pt x="204" y="383"/>
                      </a:lnTo>
                      <a:lnTo>
                        <a:pt x="136" y="315"/>
                      </a:lnTo>
                      <a:lnTo>
                        <a:pt x="74" y="269"/>
                      </a:lnTo>
                      <a:lnTo>
                        <a:pt x="24" y="224"/>
                      </a:lnTo>
                      <a:lnTo>
                        <a:pt x="0" y="185"/>
                      </a:lnTo>
                      <a:lnTo>
                        <a:pt x="55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8152920" y="5797440"/>
                  <a:ext cx="18360" cy="32040"/>
                </a:xfrm>
                <a:custGeom>
                  <a:avLst/>
                  <a:gdLst/>
                  <a:ahLst/>
                  <a:rect l="l" t="t" r="r" b="b"/>
                  <a:pathLst>
                    <a:path w="281" h="354">
                      <a:moveTo>
                        <a:pt x="0" y="338"/>
                      </a:moveTo>
                      <a:lnTo>
                        <a:pt x="199" y="42"/>
                      </a:lnTo>
                      <a:lnTo>
                        <a:pt x="228" y="17"/>
                      </a:lnTo>
                      <a:lnTo>
                        <a:pt x="254" y="0"/>
                      </a:lnTo>
                      <a:lnTo>
                        <a:pt x="281" y="6"/>
                      </a:lnTo>
                      <a:lnTo>
                        <a:pt x="241" y="22"/>
                      </a:lnTo>
                      <a:lnTo>
                        <a:pt x="206" y="54"/>
                      </a:lnTo>
                      <a:lnTo>
                        <a:pt x="4" y="354"/>
                      </a:lnTo>
                      <a:lnTo>
                        <a:pt x="0" y="3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8155080" y="583056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696" h="242">
                      <a:moveTo>
                        <a:pt x="0" y="242"/>
                      </a:moveTo>
                      <a:lnTo>
                        <a:pt x="39" y="215"/>
                      </a:lnTo>
                      <a:lnTo>
                        <a:pt x="81" y="180"/>
                      </a:lnTo>
                      <a:lnTo>
                        <a:pt x="131" y="111"/>
                      </a:lnTo>
                      <a:lnTo>
                        <a:pt x="156" y="69"/>
                      </a:lnTo>
                      <a:lnTo>
                        <a:pt x="180" y="49"/>
                      </a:lnTo>
                      <a:lnTo>
                        <a:pt x="208" y="31"/>
                      </a:lnTo>
                      <a:lnTo>
                        <a:pt x="248" y="21"/>
                      </a:lnTo>
                      <a:lnTo>
                        <a:pt x="369" y="0"/>
                      </a:lnTo>
                      <a:lnTo>
                        <a:pt x="439" y="3"/>
                      </a:lnTo>
                      <a:lnTo>
                        <a:pt x="527" y="40"/>
                      </a:lnTo>
                      <a:lnTo>
                        <a:pt x="592" y="88"/>
                      </a:lnTo>
                      <a:lnTo>
                        <a:pt x="696" y="137"/>
                      </a:lnTo>
                      <a:lnTo>
                        <a:pt x="617" y="125"/>
                      </a:lnTo>
                      <a:lnTo>
                        <a:pt x="564" y="106"/>
                      </a:lnTo>
                      <a:lnTo>
                        <a:pt x="527" y="86"/>
                      </a:lnTo>
                      <a:lnTo>
                        <a:pt x="483" y="75"/>
                      </a:lnTo>
                      <a:lnTo>
                        <a:pt x="459" y="79"/>
                      </a:lnTo>
                      <a:lnTo>
                        <a:pt x="435" y="150"/>
                      </a:lnTo>
                      <a:lnTo>
                        <a:pt x="384" y="211"/>
                      </a:lnTo>
                      <a:lnTo>
                        <a:pt x="421" y="152"/>
                      </a:lnTo>
                      <a:lnTo>
                        <a:pt x="447" y="69"/>
                      </a:lnTo>
                      <a:lnTo>
                        <a:pt x="447" y="49"/>
                      </a:lnTo>
                      <a:lnTo>
                        <a:pt x="430" y="28"/>
                      </a:lnTo>
                      <a:lnTo>
                        <a:pt x="384" y="16"/>
                      </a:lnTo>
                      <a:lnTo>
                        <a:pt x="329" y="21"/>
                      </a:lnTo>
                      <a:lnTo>
                        <a:pt x="313" y="44"/>
                      </a:lnTo>
                      <a:lnTo>
                        <a:pt x="343" y="222"/>
                      </a:lnTo>
                      <a:lnTo>
                        <a:pt x="325" y="222"/>
                      </a:lnTo>
                      <a:lnTo>
                        <a:pt x="256" y="198"/>
                      </a:lnTo>
                      <a:lnTo>
                        <a:pt x="195" y="174"/>
                      </a:lnTo>
                      <a:lnTo>
                        <a:pt x="164" y="150"/>
                      </a:lnTo>
                      <a:lnTo>
                        <a:pt x="145" y="137"/>
                      </a:lnTo>
                      <a:lnTo>
                        <a:pt x="108" y="174"/>
                      </a:lnTo>
                      <a:lnTo>
                        <a:pt x="67" y="210"/>
                      </a:lnTo>
                      <a:lnTo>
                        <a:pt x="25" y="231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8197560" y="579672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385" h="439">
                      <a:moveTo>
                        <a:pt x="0" y="0"/>
                      </a:moveTo>
                      <a:lnTo>
                        <a:pt x="40" y="55"/>
                      </a:lnTo>
                      <a:lnTo>
                        <a:pt x="63" y="111"/>
                      </a:lnTo>
                      <a:lnTo>
                        <a:pt x="86" y="256"/>
                      </a:lnTo>
                      <a:lnTo>
                        <a:pt x="75" y="439"/>
                      </a:lnTo>
                      <a:lnTo>
                        <a:pt x="114" y="274"/>
                      </a:lnTo>
                      <a:lnTo>
                        <a:pt x="148" y="189"/>
                      </a:lnTo>
                      <a:lnTo>
                        <a:pt x="204" y="107"/>
                      </a:lnTo>
                      <a:lnTo>
                        <a:pt x="235" y="111"/>
                      </a:lnTo>
                      <a:lnTo>
                        <a:pt x="211" y="256"/>
                      </a:lnTo>
                      <a:lnTo>
                        <a:pt x="215" y="292"/>
                      </a:lnTo>
                      <a:lnTo>
                        <a:pt x="385" y="74"/>
                      </a:lnTo>
                      <a:lnTo>
                        <a:pt x="310" y="26"/>
                      </a:lnTo>
                      <a:lnTo>
                        <a:pt x="252" y="67"/>
                      </a:lnTo>
                      <a:lnTo>
                        <a:pt x="204" y="58"/>
                      </a:lnTo>
                      <a:lnTo>
                        <a:pt x="112" y="81"/>
                      </a:lnTo>
                      <a:lnTo>
                        <a:pt x="81" y="81"/>
                      </a:lnTo>
                      <a:lnTo>
                        <a:pt x="37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8173440" y="5848200"/>
                  <a:ext cx="52560" cy="213120"/>
                </a:xfrm>
                <a:custGeom>
                  <a:avLst/>
                  <a:gdLst/>
                  <a:ahLst/>
                  <a:rect l="l" t="t" r="r" b="b"/>
                  <a:pathLst>
                    <a:path w="819" h="2318">
                      <a:moveTo>
                        <a:pt x="102" y="23"/>
                      </a:moveTo>
                      <a:lnTo>
                        <a:pt x="196" y="140"/>
                      </a:lnTo>
                      <a:lnTo>
                        <a:pt x="275" y="327"/>
                      </a:lnTo>
                      <a:lnTo>
                        <a:pt x="424" y="714"/>
                      </a:lnTo>
                      <a:lnTo>
                        <a:pt x="579" y="1265"/>
                      </a:lnTo>
                      <a:lnTo>
                        <a:pt x="712" y="1680"/>
                      </a:lnTo>
                      <a:lnTo>
                        <a:pt x="819" y="1925"/>
                      </a:lnTo>
                      <a:lnTo>
                        <a:pt x="660" y="2318"/>
                      </a:lnTo>
                      <a:lnTo>
                        <a:pt x="526" y="2190"/>
                      </a:lnTo>
                      <a:lnTo>
                        <a:pt x="252" y="1992"/>
                      </a:lnTo>
                      <a:lnTo>
                        <a:pt x="35" y="546"/>
                      </a:lnTo>
                      <a:lnTo>
                        <a:pt x="0" y="274"/>
                      </a:lnTo>
                      <a:lnTo>
                        <a:pt x="17" y="103"/>
                      </a:lnTo>
                      <a:lnTo>
                        <a:pt x="35" y="41"/>
                      </a:lnTo>
                      <a:lnTo>
                        <a:pt x="35" y="0"/>
                      </a:lnTo>
                      <a:lnTo>
                        <a:pt x="60" y="41"/>
                      </a:lnTo>
                      <a:lnTo>
                        <a:pt x="53" y="134"/>
                      </a:lnTo>
                      <a:lnTo>
                        <a:pt x="60" y="292"/>
                      </a:lnTo>
                      <a:lnTo>
                        <a:pt x="77" y="465"/>
                      </a:lnTo>
                      <a:lnTo>
                        <a:pt x="116" y="707"/>
                      </a:lnTo>
                      <a:lnTo>
                        <a:pt x="284" y="1487"/>
                      </a:lnTo>
                      <a:lnTo>
                        <a:pt x="343" y="1953"/>
                      </a:lnTo>
                      <a:lnTo>
                        <a:pt x="360" y="2010"/>
                      </a:lnTo>
                      <a:lnTo>
                        <a:pt x="512" y="2142"/>
                      </a:lnTo>
                      <a:lnTo>
                        <a:pt x="642" y="2252"/>
                      </a:lnTo>
                      <a:lnTo>
                        <a:pt x="734" y="2019"/>
                      </a:lnTo>
                      <a:lnTo>
                        <a:pt x="778" y="1925"/>
                      </a:lnTo>
                      <a:lnTo>
                        <a:pt x="651" y="1604"/>
                      </a:lnTo>
                      <a:lnTo>
                        <a:pt x="561" y="1296"/>
                      </a:lnTo>
                      <a:lnTo>
                        <a:pt x="433" y="863"/>
                      </a:lnTo>
                      <a:lnTo>
                        <a:pt x="351" y="555"/>
                      </a:lnTo>
                      <a:lnTo>
                        <a:pt x="235" y="239"/>
                      </a:lnTo>
                      <a:lnTo>
                        <a:pt x="162" y="116"/>
                      </a:lnTo>
                      <a:lnTo>
                        <a:pt x="10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8158680" y="5914800"/>
                  <a:ext cx="145440" cy="171000"/>
                </a:xfrm>
                <a:custGeom>
                  <a:avLst/>
                  <a:gdLst/>
                  <a:ahLst/>
                  <a:rect l="l" t="t" r="r" b="b"/>
                  <a:pathLst>
                    <a:path w="2266" h="1862">
                      <a:moveTo>
                        <a:pt x="947" y="954"/>
                      </a:moveTo>
                      <a:lnTo>
                        <a:pt x="1211" y="1046"/>
                      </a:lnTo>
                      <a:lnTo>
                        <a:pt x="1455" y="1180"/>
                      </a:lnTo>
                      <a:lnTo>
                        <a:pt x="1630" y="1244"/>
                      </a:lnTo>
                      <a:lnTo>
                        <a:pt x="1747" y="1362"/>
                      </a:lnTo>
                      <a:lnTo>
                        <a:pt x="1925" y="1436"/>
                      </a:lnTo>
                      <a:lnTo>
                        <a:pt x="1914" y="1348"/>
                      </a:lnTo>
                      <a:lnTo>
                        <a:pt x="1764" y="1189"/>
                      </a:lnTo>
                      <a:lnTo>
                        <a:pt x="1582" y="1055"/>
                      </a:lnTo>
                      <a:lnTo>
                        <a:pt x="1854" y="1194"/>
                      </a:lnTo>
                      <a:lnTo>
                        <a:pt x="1905" y="908"/>
                      </a:lnTo>
                      <a:lnTo>
                        <a:pt x="1815" y="921"/>
                      </a:lnTo>
                      <a:lnTo>
                        <a:pt x="1747" y="908"/>
                      </a:lnTo>
                      <a:lnTo>
                        <a:pt x="1663" y="855"/>
                      </a:lnTo>
                      <a:lnTo>
                        <a:pt x="1738" y="839"/>
                      </a:lnTo>
                      <a:lnTo>
                        <a:pt x="1815" y="765"/>
                      </a:lnTo>
                      <a:lnTo>
                        <a:pt x="1863" y="682"/>
                      </a:lnTo>
                      <a:lnTo>
                        <a:pt x="1905" y="506"/>
                      </a:lnTo>
                      <a:lnTo>
                        <a:pt x="1914" y="273"/>
                      </a:lnTo>
                      <a:lnTo>
                        <a:pt x="1872" y="0"/>
                      </a:lnTo>
                      <a:lnTo>
                        <a:pt x="2048" y="168"/>
                      </a:lnTo>
                      <a:lnTo>
                        <a:pt x="2131" y="308"/>
                      </a:lnTo>
                      <a:lnTo>
                        <a:pt x="2110" y="325"/>
                      </a:lnTo>
                      <a:lnTo>
                        <a:pt x="1988" y="242"/>
                      </a:lnTo>
                      <a:lnTo>
                        <a:pt x="2013" y="541"/>
                      </a:lnTo>
                      <a:lnTo>
                        <a:pt x="2165" y="839"/>
                      </a:lnTo>
                      <a:lnTo>
                        <a:pt x="2206" y="1014"/>
                      </a:lnTo>
                      <a:lnTo>
                        <a:pt x="2149" y="1079"/>
                      </a:lnTo>
                      <a:lnTo>
                        <a:pt x="2156" y="1180"/>
                      </a:lnTo>
                      <a:lnTo>
                        <a:pt x="2266" y="1348"/>
                      </a:lnTo>
                      <a:lnTo>
                        <a:pt x="2266" y="1398"/>
                      </a:lnTo>
                      <a:lnTo>
                        <a:pt x="2215" y="1459"/>
                      </a:lnTo>
                      <a:lnTo>
                        <a:pt x="2013" y="1593"/>
                      </a:lnTo>
                      <a:lnTo>
                        <a:pt x="1896" y="1680"/>
                      </a:lnTo>
                      <a:lnTo>
                        <a:pt x="1738" y="1862"/>
                      </a:lnTo>
                      <a:lnTo>
                        <a:pt x="1496" y="1862"/>
                      </a:lnTo>
                      <a:lnTo>
                        <a:pt x="1444" y="1833"/>
                      </a:lnTo>
                      <a:lnTo>
                        <a:pt x="1356" y="1824"/>
                      </a:lnTo>
                      <a:lnTo>
                        <a:pt x="1305" y="1862"/>
                      </a:lnTo>
                      <a:lnTo>
                        <a:pt x="0" y="1862"/>
                      </a:lnTo>
                      <a:lnTo>
                        <a:pt x="169" y="1752"/>
                      </a:lnTo>
                      <a:lnTo>
                        <a:pt x="344" y="1662"/>
                      </a:lnTo>
                      <a:lnTo>
                        <a:pt x="542" y="1578"/>
                      </a:lnTo>
                      <a:lnTo>
                        <a:pt x="747" y="1512"/>
                      </a:lnTo>
                      <a:lnTo>
                        <a:pt x="830" y="1496"/>
                      </a:lnTo>
                      <a:lnTo>
                        <a:pt x="865" y="1545"/>
                      </a:lnTo>
                      <a:lnTo>
                        <a:pt x="837" y="1668"/>
                      </a:lnTo>
                      <a:lnTo>
                        <a:pt x="877" y="1721"/>
                      </a:lnTo>
                      <a:lnTo>
                        <a:pt x="1178" y="1680"/>
                      </a:lnTo>
                      <a:lnTo>
                        <a:pt x="1187" y="1653"/>
                      </a:lnTo>
                      <a:lnTo>
                        <a:pt x="1174" y="1629"/>
                      </a:lnTo>
                      <a:lnTo>
                        <a:pt x="947" y="1653"/>
                      </a:lnTo>
                      <a:lnTo>
                        <a:pt x="911" y="1635"/>
                      </a:lnTo>
                      <a:lnTo>
                        <a:pt x="906" y="1545"/>
                      </a:lnTo>
                      <a:lnTo>
                        <a:pt x="964" y="1503"/>
                      </a:lnTo>
                      <a:lnTo>
                        <a:pt x="994" y="1539"/>
                      </a:lnTo>
                      <a:lnTo>
                        <a:pt x="1037" y="1593"/>
                      </a:lnTo>
                      <a:lnTo>
                        <a:pt x="1103" y="1593"/>
                      </a:lnTo>
                      <a:lnTo>
                        <a:pt x="1139" y="1521"/>
                      </a:lnTo>
                      <a:lnTo>
                        <a:pt x="1019" y="1479"/>
                      </a:lnTo>
                      <a:lnTo>
                        <a:pt x="969" y="1470"/>
                      </a:lnTo>
                      <a:lnTo>
                        <a:pt x="1156" y="1459"/>
                      </a:lnTo>
                      <a:lnTo>
                        <a:pt x="1428" y="1452"/>
                      </a:lnTo>
                      <a:lnTo>
                        <a:pt x="1571" y="1459"/>
                      </a:lnTo>
                      <a:lnTo>
                        <a:pt x="1413" y="1398"/>
                      </a:lnTo>
                      <a:lnTo>
                        <a:pt x="1331" y="1319"/>
                      </a:lnTo>
                      <a:lnTo>
                        <a:pt x="1437" y="1353"/>
                      </a:lnTo>
                      <a:lnTo>
                        <a:pt x="1707" y="1459"/>
                      </a:lnTo>
                      <a:lnTo>
                        <a:pt x="1848" y="1479"/>
                      </a:lnTo>
                      <a:lnTo>
                        <a:pt x="1531" y="1256"/>
                      </a:lnTo>
                      <a:lnTo>
                        <a:pt x="1266" y="1106"/>
                      </a:lnTo>
                      <a:lnTo>
                        <a:pt x="1095" y="1064"/>
                      </a:lnTo>
                      <a:lnTo>
                        <a:pt x="1037" y="1002"/>
                      </a:lnTo>
                      <a:lnTo>
                        <a:pt x="947" y="9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228880" y="5797440"/>
                  <a:ext cx="28080" cy="18000"/>
                </a:xfrm>
                <a:custGeom>
                  <a:avLst/>
                  <a:gdLst/>
                  <a:ahLst/>
                  <a:rect l="l" t="t" r="r" b="b"/>
                  <a:pathLst>
                    <a:path w="443" h="201">
                      <a:moveTo>
                        <a:pt x="0" y="69"/>
                      </a:moveTo>
                      <a:lnTo>
                        <a:pt x="0" y="201"/>
                      </a:lnTo>
                      <a:lnTo>
                        <a:pt x="236" y="46"/>
                      </a:lnTo>
                      <a:lnTo>
                        <a:pt x="261" y="69"/>
                      </a:lnTo>
                      <a:lnTo>
                        <a:pt x="351" y="78"/>
                      </a:lnTo>
                      <a:lnTo>
                        <a:pt x="443" y="19"/>
                      </a:lnTo>
                      <a:lnTo>
                        <a:pt x="342" y="51"/>
                      </a:lnTo>
                      <a:lnTo>
                        <a:pt x="287" y="46"/>
                      </a:lnTo>
                      <a:lnTo>
                        <a:pt x="236" y="0"/>
                      </a:lnTo>
                      <a:lnTo>
                        <a:pt x="134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8265960" y="5803920"/>
                  <a:ext cx="44280" cy="99000"/>
                </a:xfrm>
                <a:custGeom>
                  <a:avLst/>
                  <a:gdLst/>
                  <a:ahLst/>
                  <a:rect l="l" t="t" r="r" b="b"/>
                  <a:pathLst>
                    <a:path w="701" h="1079">
                      <a:moveTo>
                        <a:pt x="0" y="0"/>
                      </a:moveTo>
                      <a:lnTo>
                        <a:pt x="281" y="374"/>
                      </a:lnTo>
                      <a:lnTo>
                        <a:pt x="424" y="438"/>
                      </a:lnTo>
                      <a:lnTo>
                        <a:pt x="438" y="688"/>
                      </a:lnTo>
                      <a:lnTo>
                        <a:pt x="519" y="823"/>
                      </a:lnTo>
                      <a:lnTo>
                        <a:pt x="519" y="1079"/>
                      </a:lnTo>
                      <a:lnTo>
                        <a:pt x="551" y="1035"/>
                      </a:lnTo>
                      <a:lnTo>
                        <a:pt x="551" y="680"/>
                      </a:lnTo>
                      <a:lnTo>
                        <a:pt x="659" y="747"/>
                      </a:lnTo>
                      <a:lnTo>
                        <a:pt x="684" y="862"/>
                      </a:lnTo>
                      <a:lnTo>
                        <a:pt x="701" y="754"/>
                      </a:lnTo>
                      <a:lnTo>
                        <a:pt x="627" y="583"/>
                      </a:lnTo>
                      <a:lnTo>
                        <a:pt x="361" y="316"/>
                      </a:lnTo>
                      <a:lnTo>
                        <a:pt x="253" y="2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8242920" y="5844960"/>
                  <a:ext cx="24120" cy="48240"/>
                </a:xfrm>
                <a:custGeom>
                  <a:avLst/>
                  <a:gdLst/>
                  <a:ahLst/>
                  <a:rect l="l" t="t" r="r" b="b"/>
                  <a:pathLst>
                    <a:path w="378" h="533">
                      <a:moveTo>
                        <a:pt x="0" y="257"/>
                      </a:moveTo>
                      <a:lnTo>
                        <a:pt x="70" y="107"/>
                      </a:lnTo>
                      <a:lnTo>
                        <a:pt x="143" y="98"/>
                      </a:lnTo>
                      <a:lnTo>
                        <a:pt x="235" y="118"/>
                      </a:lnTo>
                      <a:lnTo>
                        <a:pt x="253" y="0"/>
                      </a:lnTo>
                      <a:lnTo>
                        <a:pt x="378" y="533"/>
                      </a:lnTo>
                      <a:lnTo>
                        <a:pt x="235" y="272"/>
                      </a:lnTo>
                      <a:lnTo>
                        <a:pt x="166" y="233"/>
                      </a:lnTo>
                      <a:lnTo>
                        <a:pt x="83" y="222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8298000" y="5879520"/>
                  <a:ext cx="46080" cy="106560"/>
                </a:xfrm>
                <a:custGeom>
                  <a:avLst/>
                  <a:gdLst/>
                  <a:ahLst/>
                  <a:rect l="l" t="t" r="r" b="b"/>
                  <a:pathLst>
                    <a:path w="717" h="1161">
                      <a:moveTo>
                        <a:pt x="261" y="0"/>
                      </a:moveTo>
                      <a:lnTo>
                        <a:pt x="252" y="99"/>
                      </a:lnTo>
                      <a:lnTo>
                        <a:pt x="177" y="240"/>
                      </a:lnTo>
                      <a:lnTo>
                        <a:pt x="76" y="390"/>
                      </a:lnTo>
                      <a:lnTo>
                        <a:pt x="34" y="509"/>
                      </a:lnTo>
                      <a:lnTo>
                        <a:pt x="34" y="572"/>
                      </a:lnTo>
                      <a:lnTo>
                        <a:pt x="67" y="656"/>
                      </a:lnTo>
                      <a:lnTo>
                        <a:pt x="94" y="724"/>
                      </a:lnTo>
                      <a:lnTo>
                        <a:pt x="0" y="724"/>
                      </a:lnTo>
                      <a:lnTo>
                        <a:pt x="127" y="763"/>
                      </a:lnTo>
                      <a:lnTo>
                        <a:pt x="177" y="889"/>
                      </a:lnTo>
                      <a:lnTo>
                        <a:pt x="325" y="889"/>
                      </a:lnTo>
                      <a:lnTo>
                        <a:pt x="496" y="1161"/>
                      </a:lnTo>
                      <a:lnTo>
                        <a:pt x="535" y="1091"/>
                      </a:lnTo>
                      <a:lnTo>
                        <a:pt x="535" y="970"/>
                      </a:lnTo>
                      <a:lnTo>
                        <a:pt x="643" y="774"/>
                      </a:lnTo>
                      <a:lnTo>
                        <a:pt x="717" y="473"/>
                      </a:lnTo>
                      <a:lnTo>
                        <a:pt x="616" y="756"/>
                      </a:lnTo>
                      <a:lnTo>
                        <a:pt x="560" y="733"/>
                      </a:lnTo>
                      <a:lnTo>
                        <a:pt x="595" y="673"/>
                      </a:lnTo>
                      <a:lnTo>
                        <a:pt x="217" y="839"/>
                      </a:lnTo>
                      <a:lnTo>
                        <a:pt x="210" y="763"/>
                      </a:lnTo>
                      <a:lnTo>
                        <a:pt x="127" y="708"/>
                      </a:lnTo>
                      <a:lnTo>
                        <a:pt x="337" y="524"/>
                      </a:lnTo>
                      <a:lnTo>
                        <a:pt x="184" y="608"/>
                      </a:lnTo>
                      <a:lnTo>
                        <a:pt x="153" y="524"/>
                      </a:lnTo>
                      <a:lnTo>
                        <a:pt x="159" y="422"/>
                      </a:lnTo>
                      <a:lnTo>
                        <a:pt x="201" y="341"/>
                      </a:lnTo>
                      <a:lnTo>
                        <a:pt x="344" y="168"/>
                      </a:lnTo>
                      <a:lnTo>
                        <a:pt x="360" y="99"/>
                      </a:lnTo>
                      <a:lnTo>
                        <a:pt x="344" y="58"/>
                      </a:lnTo>
                      <a:lnTo>
                        <a:pt x="293" y="58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306640" y="5990400"/>
                  <a:ext cx="49680" cy="46080"/>
                </a:xfrm>
                <a:custGeom>
                  <a:avLst/>
                  <a:gdLst/>
                  <a:ahLst/>
                  <a:rect l="l" t="t" r="r" b="b"/>
                  <a:pathLst>
                    <a:path w="775" h="510">
                      <a:moveTo>
                        <a:pt x="0" y="510"/>
                      </a:moveTo>
                      <a:lnTo>
                        <a:pt x="92" y="353"/>
                      </a:lnTo>
                      <a:lnTo>
                        <a:pt x="472" y="182"/>
                      </a:lnTo>
                      <a:lnTo>
                        <a:pt x="672" y="182"/>
                      </a:lnTo>
                      <a:lnTo>
                        <a:pt x="775" y="118"/>
                      </a:lnTo>
                      <a:lnTo>
                        <a:pt x="540" y="118"/>
                      </a:lnTo>
                      <a:lnTo>
                        <a:pt x="393" y="171"/>
                      </a:lnTo>
                      <a:lnTo>
                        <a:pt x="327" y="143"/>
                      </a:lnTo>
                      <a:lnTo>
                        <a:pt x="342" y="0"/>
                      </a:lnTo>
                      <a:lnTo>
                        <a:pt x="261" y="14"/>
                      </a:lnTo>
                      <a:lnTo>
                        <a:pt x="261" y="171"/>
                      </a:lnTo>
                      <a:lnTo>
                        <a:pt x="197" y="251"/>
                      </a:lnTo>
                      <a:lnTo>
                        <a:pt x="105" y="261"/>
                      </a:lnTo>
                      <a:lnTo>
                        <a:pt x="12" y="393"/>
                      </a:lnTo>
                      <a:lnTo>
                        <a:pt x="0" y="5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8310600" y="6121440"/>
                  <a:ext cx="76320" cy="41040"/>
                </a:xfrm>
                <a:custGeom>
                  <a:avLst/>
                  <a:gdLst/>
                  <a:ahLst/>
                  <a:rect l="l" t="t" r="r" b="b"/>
                  <a:pathLst>
                    <a:path w="1191" h="446">
                      <a:moveTo>
                        <a:pt x="1191" y="174"/>
                      </a:moveTo>
                      <a:lnTo>
                        <a:pt x="841" y="283"/>
                      </a:lnTo>
                      <a:lnTo>
                        <a:pt x="622" y="446"/>
                      </a:lnTo>
                      <a:lnTo>
                        <a:pt x="609" y="374"/>
                      </a:lnTo>
                      <a:lnTo>
                        <a:pt x="912" y="176"/>
                      </a:lnTo>
                      <a:lnTo>
                        <a:pt x="877" y="137"/>
                      </a:lnTo>
                      <a:lnTo>
                        <a:pt x="708" y="149"/>
                      </a:lnTo>
                      <a:lnTo>
                        <a:pt x="490" y="213"/>
                      </a:lnTo>
                      <a:lnTo>
                        <a:pt x="512" y="108"/>
                      </a:lnTo>
                      <a:lnTo>
                        <a:pt x="313" y="96"/>
                      </a:lnTo>
                      <a:lnTo>
                        <a:pt x="205" y="55"/>
                      </a:lnTo>
                      <a:lnTo>
                        <a:pt x="69" y="24"/>
                      </a:ln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246" y="47"/>
                      </a:lnTo>
                      <a:lnTo>
                        <a:pt x="409" y="77"/>
                      </a:lnTo>
                      <a:lnTo>
                        <a:pt x="537" y="73"/>
                      </a:lnTo>
                      <a:lnTo>
                        <a:pt x="652" y="55"/>
                      </a:lnTo>
                      <a:lnTo>
                        <a:pt x="749" y="112"/>
                      </a:lnTo>
                      <a:lnTo>
                        <a:pt x="1028" y="96"/>
                      </a:lnTo>
                      <a:lnTo>
                        <a:pt x="1164" y="154"/>
                      </a:lnTo>
                      <a:lnTo>
                        <a:pt x="1191" y="1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219880" y="6081120"/>
                  <a:ext cx="112320" cy="112320"/>
                </a:xfrm>
                <a:custGeom>
                  <a:avLst/>
                  <a:gdLst/>
                  <a:ahLst/>
                  <a:rect l="l" t="t" r="r" b="b"/>
                  <a:pathLst>
                    <a:path w="1754" h="1222">
                      <a:moveTo>
                        <a:pt x="1289" y="666"/>
                      </a:moveTo>
                      <a:lnTo>
                        <a:pt x="1258" y="826"/>
                      </a:lnTo>
                      <a:lnTo>
                        <a:pt x="1258" y="945"/>
                      </a:lnTo>
                      <a:lnTo>
                        <a:pt x="1289" y="1042"/>
                      </a:lnTo>
                      <a:lnTo>
                        <a:pt x="1311" y="1098"/>
                      </a:lnTo>
                      <a:lnTo>
                        <a:pt x="1754" y="1222"/>
                      </a:lnTo>
                      <a:lnTo>
                        <a:pt x="1293" y="1160"/>
                      </a:lnTo>
                      <a:lnTo>
                        <a:pt x="1251" y="1098"/>
                      </a:lnTo>
                      <a:lnTo>
                        <a:pt x="876" y="1092"/>
                      </a:lnTo>
                      <a:lnTo>
                        <a:pt x="576" y="1035"/>
                      </a:lnTo>
                      <a:lnTo>
                        <a:pt x="311" y="955"/>
                      </a:lnTo>
                      <a:lnTo>
                        <a:pt x="93" y="860"/>
                      </a:lnTo>
                      <a:lnTo>
                        <a:pt x="69" y="826"/>
                      </a:lnTo>
                      <a:lnTo>
                        <a:pt x="51" y="749"/>
                      </a:lnTo>
                      <a:lnTo>
                        <a:pt x="0" y="652"/>
                      </a:lnTo>
                      <a:lnTo>
                        <a:pt x="12" y="615"/>
                      </a:lnTo>
                      <a:lnTo>
                        <a:pt x="32" y="588"/>
                      </a:lnTo>
                      <a:lnTo>
                        <a:pt x="32" y="452"/>
                      </a:lnTo>
                      <a:lnTo>
                        <a:pt x="51" y="406"/>
                      </a:lnTo>
                      <a:lnTo>
                        <a:pt x="80" y="382"/>
                      </a:lnTo>
                      <a:lnTo>
                        <a:pt x="58" y="433"/>
                      </a:lnTo>
                      <a:lnTo>
                        <a:pt x="51" y="547"/>
                      </a:lnTo>
                      <a:lnTo>
                        <a:pt x="58" y="613"/>
                      </a:lnTo>
                      <a:lnTo>
                        <a:pt x="230" y="756"/>
                      </a:lnTo>
                      <a:lnTo>
                        <a:pt x="258" y="749"/>
                      </a:lnTo>
                      <a:lnTo>
                        <a:pt x="278" y="670"/>
                      </a:lnTo>
                      <a:lnTo>
                        <a:pt x="170" y="494"/>
                      </a:lnTo>
                      <a:lnTo>
                        <a:pt x="140" y="344"/>
                      </a:lnTo>
                      <a:lnTo>
                        <a:pt x="201" y="202"/>
                      </a:lnTo>
                      <a:lnTo>
                        <a:pt x="201" y="426"/>
                      </a:lnTo>
                      <a:lnTo>
                        <a:pt x="361" y="786"/>
                      </a:lnTo>
                      <a:lnTo>
                        <a:pt x="438" y="802"/>
                      </a:lnTo>
                      <a:lnTo>
                        <a:pt x="489" y="770"/>
                      </a:lnTo>
                      <a:lnTo>
                        <a:pt x="480" y="685"/>
                      </a:lnTo>
                      <a:lnTo>
                        <a:pt x="320" y="286"/>
                      </a:lnTo>
                      <a:lnTo>
                        <a:pt x="320" y="166"/>
                      </a:lnTo>
                      <a:lnTo>
                        <a:pt x="320" y="72"/>
                      </a:lnTo>
                      <a:lnTo>
                        <a:pt x="361" y="0"/>
                      </a:lnTo>
                      <a:lnTo>
                        <a:pt x="343" y="136"/>
                      </a:lnTo>
                      <a:lnTo>
                        <a:pt x="350" y="272"/>
                      </a:lnTo>
                      <a:lnTo>
                        <a:pt x="451" y="540"/>
                      </a:lnTo>
                      <a:lnTo>
                        <a:pt x="493" y="560"/>
                      </a:lnTo>
                      <a:lnTo>
                        <a:pt x="535" y="516"/>
                      </a:lnTo>
                      <a:lnTo>
                        <a:pt x="553" y="468"/>
                      </a:lnTo>
                      <a:lnTo>
                        <a:pt x="546" y="362"/>
                      </a:lnTo>
                      <a:lnTo>
                        <a:pt x="528" y="219"/>
                      </a:lnTo>
                      <a:lnTo>
                        <a:pt x="553" y="215"/>
                      </a:lnTo>
                      <a:lnTo>
                        <a:pt x="581" y="459"/>
                      </a:lnTo>
                      <a:lnTo>
                        <a:pt x="570" y="523"/>
                      </a:lnTo>
                      <a:lnTo>
                        <a:pt x="541" y="569"/>
                      </a:lnTo>
                      <a:lnTo>
                        <a:pt x="498" y="613"/>
                      </a:lnTo>
                      <a:lnTo>
                        <a:pt x="511" y="740"/>
                      </a:lnTo>
                      <a:lnTo>
                        <a:pt x="504" y="826"/>
                      </a:lnTo>
                      <a:lnTo>
                        <a:pt x="456" y="844"/>
                      </a:lnTo>
                      <a:lnTo>
                        <a:pt x="392" y="839"/>
                      </a:lnTo>
                      <a:lnTo>
                        <a:pt x="311" y="795"/>
                      </a:lnTo>
                      <a:lnTo>
                        <a:pt x="265" y="802"/>
                      </a:lnTo>
                      <a:lnTo>
                        <a:pt x="93" y="724"/>
                      </a:lnTo>
                      <a:lnTo>
                        <a:pt x="87" y="806"/>
                      </a:lnTo>
                      <a:lnTo>
                        <a:pt x="152" y="867"/>
                      </a:lnTo>
                      <a:lnTo>
                        <a:pt x="504" y="986"/>
                      </a:lnTo>
                      <a:lnTo>
                        <a:pt x="792" y="1048"/>
                      </a:lnTo>
                      <a:lnTo>
                        <a:pt x="1042" y="1058"/>
                      </a:lnTo>
                      <a:lnTo>
                        <a:pt x="1238" y="1058"/>
                      </a:lnTo>
                      <a:lnTo>
                        <a:pt x="1229" y="955"/>
                      </a:lnTo>
                      <a:lnTo>
                        <a:pt x="1238" y="826"/>
                      </a:lnTo>
                      <a:lnTo>
                        <a:pt x="1263" y="722"/>
                      </a:lnTo>
                      <a:lnTo>
                        <a:pt x="1289" y="6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253000" y="6081120"/>
                  <a:ext cx="53640" cy="49680"/>
                </a:xfrm>
                <a:custGeom>
                  <a:avLst/>
                  <a:gdLst/>
                  <a:ahLst/>
                  <a:rect l="l" t="t" r="r" b="b"/>
                  <a:pathLst>
                    <a:path w="846" h="547">
                      <a:moveTo>
                        <a:pt x="0" y="30"/>
                      </a:moveTo>
                      <a:lnTo>
                        <a:pt x="45" y="94"/>
                      </a:lnTo>
                      <a:lnTo>
                        <a:pt x="101" y="210"/>
                      </a:lnTo>
                      <a:lnTo>
                        <a:pt x="36" y="219"/>
                      </a:lnTo>
                      <a:lnTo>
                        <a:pt x="36" y="237"/>
                      </a:lnTo>
                      <a:lnTo>
                        <a:pt x="174" y="246"/>
                      </a:lnTo>
                      <a:lnTo>
                        <a:pt x="322" y="254"/>
                      </a:lnTo>
                      <a:lnTo>
                        <a:pt x="248" y="233"/>
                      </a:lnTo>
                      <a:lnTo>
                        <a:pt x="394" y="178"/>
                      </a:lnTo>
                      <a:lnTo>
                        <a:pt x="472" y="189"/>
                      </a:lnTo>
                      <a:lnTo>
                        <a:pt x="598" y="297"/>
                      </a:lnTo>
                      <a:lnTo>
                        <a:pt x="675" y="422"/>
                      </a:lnTo>
                      <a:lnTo>
                        <a:pt x="767" y="512"/>
                      </a:lnTo>
                      <a:lnTo>
                        <a:pt x="820" y="547"/>
                      </a:lnTo>
                      <a:lnTo>
                        <a:pt x="846" y="523"/>
                      </a:lnTo>
                      <a:lnTo>
                        <a:pt x="758" y="468"/>
                      </a:lnTo>
                      <a:lnTo>
                        <a:pt x="679" y="392"/>
                      </a:lnTo>
                      <a:lnTo>
                        <a:pt x="611" y="286"/>
                      </a:lnTo>
                      <a:lnTo>
                        <a:pt x="534" y="184"/>
                      </a:lnTo>
                      <a:lnTo>
                        <a:pt x="394" y="136"/>
                      </a:lnTo>
                      <a:lnTo>
                        <a:pt x="317" y="154"/>
                      </a:lnTo>
                      <a:lnTo>
                        <a:pt x="223" y="189"/>
                      </a:lnTo>
                      <a:lnTo>
                        <a:pt x="161" y="184"/>
                      </a:lnTo>
                      <a:lnTo>
                        <a:pt x="244" y="90"/>
                      </a:lnTo>
                      <a:lnTo>
                        <a:pt x="283" y="30"/>
                      </a:lnTo>
                      <a:lnTo>
                        <a:pt x="275" y="0"/>
                      </a:lnTo>
                      <a:lnTo>
                        <a:pt x="223" y="79"/>
                      </a:lnTo>
                      <a:lnTo>
                        <a:pt x="119" y="154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121600" y="5670360"/>
                  <a:ext cx="84600" cy="113040"/>
                </a:xfrm>
                <a:custGeom>
                  <a:avLst/>
                  <a:gdLst/>
                  <a:ahLst/>
                  <a:rect l="l" t="t" r="r" b="b"/>
                  <a:pathLst>
                    <a:path w="1323" h="1233">
                      <a:moveTo>
                        <a:pt x="680" y="329"/>
                      </a:moveTo>
                      <a:lnTo>
                        <a:pt x="759" y="233"/>
                      </a:lnTo>
                      <a:lnTo>
                        <a:pt x="833" y="191"/>
                      </a:lnTo>
                      <a:lnTo>
                        <a:pt x="918" y="186"/>
                      </a:lnTo>
                      <a:lnTo>
                        <a:pt x="1026" y="239"/>
                      </a:lnTo>
                      <a:lnTo>
                        <a:pt x="1086" y="329"/>
                      </a:lnTo>
                      <a:lnTo>
                        <a:pt x="1116" y="433"/>
                      </a:lnTo>
                      <a:lnTo>
                        <a:pt x="1128" y="539"/>
                      </a:lnTo>
                      <a:lnTo>
                        <a:pt x="1123" y="648"/>
                      </a:lnTo>
                      <a:lnTo>
                        <a:pt x="1112" y="753"/>
                      </a:lnTo>
                      <a:lnTo>
                        <a:pt x="1141" y="857"/>
                      </a:lnTo>
                      <a:lnTo>
                        <a:pt x="1165" y="744"/>
                      </a:lnTo>
                      <a:lnTo>
                        <a:pt x="1242" y="689"/>
                      </a:lnTo>
                      <a:lnTo>
                        <a:pt x="1291" y="728"/>
                      </a:lnTo>
                      <a:lnTo>
                        <a:pt x="1305" y="857"/>
                      </a:lnTo>
                      <a:lnTo>
                        <a:pt x="1296" y="960"/>
                      </a:lnTo>
                      <a:lnTo>
                        <a:pt x="1238" y="1046"/>
                      </a:lnTo>
                      <a:lnTo>
                        <a:pt x="1209" y="1083"/>
                      </a:lnTo>
                      <a:lnTo>
                        <a:pt x="1152" y="1127"/>
                      </a:lnTo>
                      <a:lnTo>
                        <a:pt x="1222" y="1101"/>
                      </a:lnTo>
                      <a:lnTo>
                        <a:pt x="1310" y="966"/>
                      </a:lnTo>
                      <a:lnTo>
                        <a:pt x="1323" y="834"/>
                      </a:lnTo>
                      <a:lnTo>
                        <a:pt x="1296" y="696"/>
                      </a:lnTo>
                      <a:lnTo>
                        <a:pt x="1242" y="666"/>
                      </a:lnTo>
                      <a:lnTo>
                        <a:pt x="1242" y="585"/>
                      </a:lnTo>
                      <a:lnTo>
                        <a:pt x="1183" y="323"/>
                      </a:lnTo>
                      <a:lnTo>
                        <a:pt x="1086" y="175"/>
                      </a:lnTo>
                      <a:lnTo>
                        <a:pt x="971" y="74"/>
                      </a:lnTo>
                      <a:lnTo>
                        <a:pt x="840" y="32"/>
                      </a:lnTo>
                      <a:lnTo>
                        <a:pt x="629" y="0"/>
                      </a:lnTo>
                      <a:lnTo>
                        <a:pt x="392" y="32"/>
                      </a:lnTo>
                      <a:lnTo>
                        <a:pt x="213" y="131"/>
                      </a:lnTo>
                      <a:lnTo>
                        <a:pt x="97" y="255"/>
                      </a:lnTo>
                      <a:lnTo>
                        <a:pt x="26" y="404"/>
                      </a:lnTo>
                      <a:lnTo>
                        <a:pt x="12" y="562"/>
                      </a:lnTo>
                      <a:lnTo>
                        <a:pt x="26" y="786"/>
                      </a:lnTo>
                      <a:lnTo>
                        <a:pt x="0" y="857"/>
                      </a:lnTo>
                      <a:lnTo>
                        <a:pt x="23" y="995"/>
                      </a:lnTo>
                      <a:lnTo>
                        <a:pt x="97" y="1113"/>
                      </a:lnTo>
                      <a:lnTo>
                        <a:pt x="198" y="1196"/>
                      </a:lnTo>
                      <a:lnTo>
                        <a:pt x="249" y="1201"/>
                      </a:lnTo>
                      <a:lnTo>
                        <a:pt x="279" y="1233"/>
                      </a:lnTo>
                      <a:lnTo>
                        <a:pt x="264" y="1152"/>
                      </a:lnTo>
                      <a:lnTo>
                        <a:pt x="213" y="1187"/>
                      </a:lnTo>
                      <a:lnTo>
                        <a:pt x="104" y="1106"/>
                      </a:lnTo>
                      <a:lnTo>
                        <a:pt x="33" y="973"/>
                      </a:lnTo>
                      <a:lnTo>
                        <a:pt x="26" y="868"/>
                      </a:lnTo>
                      <a:lnTo>
                        <a:pt x="49" y="843"/>
                      </a:lnTo>
                      <a:lnTo>
                        <a:pt x="121" y="857"/>
                      </a:lnTo>
                      <a:lnTo>
                        <a:pt x="213" y="936"/>
                      </a:lnTo>
                      <a:lnTo>
                        <a:pt x="194" y="830"/>
                      </a:lnTo>
                      <a:lnTo>
                        <a:pt x="167" y="771"/>
                      </a:lnTo>
                      <a:lnTo>
                        <a:pt x="130" y="668"/>
                      </a:lnTo>
                      <a:lnTo>
                        <a:pt x="108" y="551"/>
                      </a:lnTo>
                      <a:lnTo>
                        <a:pt x="108" y="459"/>
                      </a:lnTo>
                      <a:lnTo>
                        <a:pt x="130" y="382"/>
                      </a:lnTo>
                      <a:lnTo>
                        <a:pt x="171" y="323"/>
                      </a:lnTo>
                      <a:lnTo>
                        <a:pt x="227" y="281"/>
                      </a:lnTo>
                      <a:lnTo>
                        <a:pt x="286" y="265"/>
                      </a:lnTo>
                      <a:lnTo>
                        <a:pt x="354" y="281"/>
                      </a:lnTo>
                      <a:lnTo>
                        <a:pt x="420" y="318"/>
                      </a:lnTo>
                      <a:lnTo>
                        <a:pt x="466" y="355"/>
                      </a:lnTo>
                      <a:lnTo>
                        <a:pt x="521" y="369"/>
                      </a:lnTo>
                      <a:lnTo>
                        <a:pt x="607" y="362"/>
                      </a:lnTo>
                      <a:lnTo>
                        <a:pt x="655" y="345"/>
                      </a:lnTo>
                      <a:lnTo>
                        <a:pt x="680" y="3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8139960" y="5750280"/>
                  <a:ext cx="27000" cy="7200"/>
                </a:xfrm>
                <a:custGeom>
                  <a:avLst/>
                  <a:gdLst/>
                  <a:ahLst/>
                  <a:rect l="l" t="t" r="r" b="b"/>
                  <a:pathLst>
                    <a:path w="424" h="83">
                      <a:moveTo>
                        <a:pt x="0" y="42"/>
                      </a:moveTo>
                      <a:lnTo>
                        <a:pt x="74" y="22"/>
                      </a:lnTo>
                      <a:lnTo>
                        <a:pt x="157" y="15"/>
                      </a:lnTo>
                      <a:lnTo>
                        <a:pt x="274" y="15"/>
                      </a:lnTo>
                      <a:lnTo>
                        <a:pt x="338" y="8"/>
                      </a:lnTo>
                      <a:lnTo>
                        <a:pt x="424" y="0"/>
                      </a:lnTo>
                      <a:lnTo>
                        <a:pt x="389" y="46"/>
                      </a:lnTo>
                      <a:lnTo>
                        <a:pt x="300" y="52"/>
                      </a:lnTo>
                      <a:lnTo>
                        <a:pt x="305" y="83"/>
                      </a:lnTo>
                      <a:lnTo>
                        <a:pt x="263" y="52"/>
                      </a:lnTo>
                      <a:lnTo>
                        <a:pt x="204" y="46"/>
                      </a:lnTo>
                      <a:lnTo>
                        <a:pt x="129" y="56"/>
                      </a:lnTo>
                      <a:lnTo>
                        <a:pt x="210" y="28"/>
                      </a:lnTo>
                      <a:lnTo>
                        <a:pt x="134" y="28"/>
                      </a:lnTo>
                      <a:lnTo>
                        <a:pt x="63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138880" y="575172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8" h="161">
                      <a:moveTo>
                        <a:pt x="0" y="22"/>
                      </a:moveTo>
                      <a:lnTo>
                        <a:pt x="24" y="50"/>
                      </a:lnTo>
                      <a:lnTo>
                        <a:pt x="92" y="74"/>
                      </a:lnTo>
                      <a:lnTo>
                        <a:pt x="138" y="108"/>
                      </a:lnTo>
                      <a:lnTo>
                        <a:pt x="119" y="127"/>
                      </a:lnTo>
                      <a:lnTo>
                        <a:pt x="175" y="161"/>
                      </a:lnTo>
                      <a:lnTo>
                        <a:pt x="237" y="145"/>
                      </a:lnTo>
                      <a:lnTo>
                        <a:pt x="281" y="117"/>
                      </a:lnTo>
                      <a:lnTo>
                        <a:pt x="228" y="108"/>
                      </a:lnTo>
                      <a:lnTo>
                        <a:pt x="318" y="59"/>
                      </a:lnTo>
                      <a:lnTo>
                        <a:pt x="310" y="44"/>
                      </a:lnTo>
                      <a:lnTo>
                        <a:pt x="222" y="97"/>
                      </a:lnTo>
                      <a:lnTo>
                        <a:pt x="175" y="103"/>
                      </a:lnTo>
                      <a:lnTo>
                        <a:pt x="119" y="81"/>
                      </a:lnTo>
                      <a:lnTo>
                        <a:pt x="99" y="53"/>
                      </a:lnTo>
                      <a:lnTo>
                        <a:pt x="156" y="32"/>
                      </a:lnTo>
                      <a:lnTo>
                        <a:pt x="99" y="39"/>
                      </a:lnTo>
                      <a:lnTo>
                        <a:pt x="77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169480" y="5741280"/>
                  <a:ext cx="20880" cy="7200"/>
                </a:xfrm>
                <a:custGeom>
                  <a:avLst/>
                  <a:gdLst/>
                  <a:ahLst/>
                  <a:rect l="l" t="t" r="r" b="b"/>
                  <a:pathLst>
                    <a:path w="327" h="85">
                      <a:moveTo>
                        <a:pt x="0" y="85"/>
                      </a:moveTo>
                      <a:lnTo>
                        <a:pt x="211" y="0"/>
                      </a:lnTo>
                      <a:lnTo>
                        <a:pt x="269" y="12"/>
                      </a:lnTo>
                      <a:lnTo>
                        <a:pt x="327" y="35"/>
                      </a:lnTo>
                      <a:lnTo>
                        <a:pt x="253" y="28"/>
                      </a:lnTo>
                      <a:lnTo>
                        <a:pt x="200" y="28"/>
                      </a:lnTo>
                      <a:lnTo>
                        <a:pt x="130" y="48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8170920" y="5748840"/>
                  <a:ext cx="16560" cy="8640"/>
                </a:xfrm>
                <a:custGeom>
                  <a:avLst/>
                  <a:gdLst/>
                  <a:ahLst/>
                  <a:rect l="l" t="t" r="r" b="b"/>
                  <a:pathLst>
                    <a:path w="261" h="99">
                      <a:moveTo>
                        <a:pt x="0" y="53"/>
                      </a:moveTo>
                      <a:lnTo>
                        <a:pt x="70" y="2"/>
                      </a:lnTo>
                      <a:lnTo>
                        <a:pt x="166" y="0"/>
                      </a:lnTo>
                      <a:lnTo>
                        <a:pt x="261" y="11"/>
                      </a:lnTo>
                      <a:lnTo>
                        <a:pt x="224" y="57"/>
                      </a:lnTo>
                      <a:lnTo>
                        <a:pt x="166" y="85"/>
                      </a:lnTo>
                      <a:lnTo>
                        <a:pt x="116" y="99"/>
                      </a:lnTo>
                      <a:lnTo>
                        <a:pt x="42" y="88"/>
                      </a:lnTo>
                      <a:lnTo>
                        <a:pt x="116" y="88"/>
                      </a:lnTo>
                      <a:lnTo>
                        <a:pt x="193" y="57"/>
                      </a:lnTo>
                      <a:lnTo>
                        <a:pt x="240" y="15"/>
                      </a:lnTo>
                      <a:lnTo>
                        <a:pt x="153" y="11"/>
                      </a:lnTo>
                      <a:lnTo>
                        <a:pt x="83" y="15"/>
                      </a:lnTo>
                      <a:lnTo>
                        <a:pt x="30" y="53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166960" y="574452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248" h="281">
                      <a:moveTo>
                        <a:pt x="173" y="11"/>
                      </a:moveTo>
                      <a:lnTo>
                        <a:pt x="248" y="25"/>
                      </a:lnTo>
                      <a:lnTo>
                        <a:pt x="158" y="25"/>
                      </a:lnTo>
                      <a:lnTo>
                        <a:pt x="122" y="63"/>
                      </a:lnTo>
                      <a:lnTo>
                        <a:pt x="74" y="94"/>
                      </a:lnTo>
                      <a:lnTo>
                        <a:pt x="55" y="133"/>
                      </a:lnTo>
                      <a:lnTo>
                        <a:pt x="55" y="186"/>
                      </a:lnTo>
                      <a:lnTo>
                        <a:pt x="74" y="281"/>
                      </a:lnTo>
                      <a:lnTo>
                        <a:pt x="43" y="191"/>
                      </a:lnTo>
                      <a:lnTo>
                        <a:pt x="37" y="142"/>
                      </a:lnTo>
                      <a:lnTo>
                        <a:pt x="34" y="105"/>
                      </a:lnTo>
                      <a:lnTo>
                        <a:pt x="0" y="63"/>
                      </a:lnTo>
                      <a:lnTo>
                        <a:pt x="140" y="21"/>
                      </a:lnTo>
                      <a:lnTo>
                        <a:pt x="204" y="0"/>
                      </a:lnTo>
                      <a:lnTo>
                        <a:pt x="17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160840" y="5753880"/>
                  <a:ext cx="2880" cy="21240"/>
                </a:xfrm>
                <a:custGeom>
                  <a:avLst/>
                  <a:gdLst/>
                  <a:ahLst/>
                  <a:rect l="l" t="t" r="r" b="b"/>
                  <a:pathLst>
                    <a:path w="48" h="233">
                      <a:moveTo>
                        <a:pt x="0" y="10"/>
                      </a:moveTo>
                      <a:lnTo>
                        <a:pt x="22" y="90"/>
                      </a:lnTo>
                      <a:lnTo>
                        <a:pt x="27" y="153"/>
                      </a:lnTo>
                      <a:lnTo>
                        <a:pt x="39" y="233"/>
                      </a:lnTo>
                      <a:lnTo>
                        <a:pt x="48" y="149"/>
                      </a:lnTo>
                      <a:lnTo>
                        <a:pt x="41" y="85"/>
                      </a:lnTo>
                      <a:lnTo>
                        <a:pt x="35" y="32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8173440" y="575676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171" h="55">
                      <a:moveTo>
                        <a:pt x="32" y="11"/>
                      </a:moveTo>
                      <a:lnTo>
                        <a:pt x="0" y="44"/>
                      </a:lnTo>
                      <a:lnTo>
                        <a:pt x="65" y="55"/>
                      </a:lnTo>
                      <a:lnTo>
                        <a:pt x="106" y="44"/>
                      </a:lnTo>
                      <a:lnTo>
                        <a:pt x="171" y="11"/>
                      </a:lnTo>
                      <a:lnTo>
                        <a:pt x="124" y="11"/>
                      </a:lnTo>
                      <a:lnTo>
                        <a:pt x="81" y="0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125200" y="5756400"/>
                  <a:ext cx="10800" cy="15120"/>
                </a:xfrm>
                <a:custGeom>
                  <a:avLst/>
                  <a:gdLst/>
                  <a:ahLst/>
                  <a:rect l="l" t="t" r="r" b="b"/>
                  <a:pathLst>
                    <a:path w="174" h="170">
                      <a:moveTo>
                        <a:pt x="157" y="30"/>
                      </a:moveTo>
                      <a:lnTo>
                        <a:pt x="88" y="6"/>
                      </a:lnTo>
                      <a:lnTo>
                        <a:pt x="0" y="0"/>
                      </a:lnTo>
                      <a:lnTo>
                        <a:pt x="33" y="20"/>
                      </a:lnTo>
                      <a:lnTo>
                        <a:pt x="51" y="90"/>
                      </a:lnTo>
                      <a:lnTo>
                        <a:pt x="77" y="129"/>
                      </a:lnTo>
                      <a:lnTo>
                        <a:pt x="60" y="78"/>
                      </a:lnTo>
                      <a:lnTo>
                        <a:pt x="70" y="37"/>
                      </a:lnTo>
                      <a:lnTo>
                        <a:pt x="104" y="44"/>
                      </a:lnTo>
                      <a:lnTo>
                        <a:pt x="97" y="78"/>
                      </a:lnTo>
                      <a:lnTo>
                        <a:pt x="108" y="123"/>
                      </a:lnTo>
                      <a:lnTo>
                        <a:pt x="136" y="136"/>
                      </a:lnTo>
                      <a:lnTo>
                        <a:pt x="174" y="170"/>
                      </a:lnTo>
                      <a:lnTo>
                        <a:pt x="157" y="123"/>
                      </a:lnTo>
                      <a:lnTo>
                        <a:pt x="167" y="83"/>
                      </a:lnTo>
                      <a:lnTo>
                        <a:pt x="160" y="59"/>
                      </a:lnTo>
                      <a:lnTo>
                        <a:pt x="15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195040" y="5740560"/>
                  <a:ext cx="7920" cy="26280"/>
                </a:xfrm>
                <a:custGeom>
                  <a:avLst/>
                  <a:gdLst/>
                  <a:ahLst/>
                  <a:rect l="l" t="t" r="r" b="b"/>
                  <a:pathLst>
                    <a:path w="129" h="292">
                      <a:moveTo>
                        <a:pt x="0" y="116"/>
                      </a:moveTo>
                      <a:lnTo>
                        <a:pt x="23" y="109"/>
                      </a:lnTo>
                      <a:lnTo>
                        <a:pt x="63" y="55"/>
                      </a:lnTo>
                      <a:lnTo>
                        <a:pt x="116" y="0"/>
                      </a:lnTo>
                      <a:lnTo>
                        <a:pt x="104" y="46"/>
                      </a:lnTo>
                      <a:lnTo>
                        <a:pt x="129" y="90"/>
                      </a:lnTo>
                      <a:lnTo>
                        <a:pt x="129" y="147"/>
                      </a:lnTo>
                      <a:lnTo>
                        <a:pt x="104" y="199"/>
                      </a:lnTo>
                      <a:lnTo>
                        <a:pt x="116" y="136"/>
                      </a:lnTo>
                      <a:lnTo>
                        <a:pt x="113" y="105"/>
                      </a:lnTo>
                      <a:lnTo>
                        <a:pt x="83" y="76"/>
                      </a:lnTo>
                      <a:lnTo>
                        <a:pt x="69" y="109"/>
                      </a:lnTo>
                      <a:lnTo>
                        <a:pt x="92" y="147"/>
                      </a:lnTo>
                      <a:lnTo>
                        <a:pt x="83" y="184"/>
                      </a:lnTo>
                      <a:lnTo>
                        <a:pt x="54" y="199"/>
                      </a:lnTo>
                      <a:lnTo>
                        <a:pt x="37" y="228"/>
                      </a:lnTo>
                      <a:lnTo>
                        <a:pt x="19" y="292"/>
                      </a:lnTo>
                      <a:lnTo>
                        <a:pt x="17" y="237"/>
                      </a:lnTo>
                      <a:lnTo>
                        <a:pt x="30" y="184"/>
                      </a:lnTo>
                      <a:lnTo>
                        <a:pt x="19" y="164"/>
                      </a:lnTo>
                      <a:lnTo>
                        <a:pt x="0" y="143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148960" y="575388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99" h="63">
                      <a:moveTo>
                        <a:pt x="0" y="14"/>
                      </a:moveTo>
                      <a:lnTo>
                        <a:pt x="16" y="46"/>
                      </a:lnTo>
                      <a:lnTo>
                        <a:pt x="42" y="63"/>
                      </a:lnTo>
                      <a:lnTo>
                        <a:pt x="81" y="50"/>
                      </a:lnTo>
                      <a:lnTo>
                        <a:pt x="99" y="32"/>
                      </a:lnTo>
                      <a:lnTo>
                        <a:pt x="99" y="0"/>
                      </a:lnTo>
                      <a:lnTo>
                        <a:pt x="64" y="4"/>
                      </a:lnTo>
                      <a:lnTo>
                        <a:pt x="69" y="21"/>
                      </a:lnTo>
                      <a:lnTo>
                        <a:pt x="53" y="35"/>
                      </a:lnTo>
                      <a:lnTo>
                        <a:pt x="42" y="26"/>
                      </a:lnTo>
                      <a:lnTo>
                        <a:pt x="37" y="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175960" y="5748840"/>
                  <a:ext cx="5400" cy="5760"/>
                </a:xfrm>
                <a:custGeom>
                  <a:avLst/>
                  <a:gdLst/>
                  <a:ahLst/>
                  <a:rect l="l" t="t" r="r" b="b"/>
                  <a:pathLst>
                    <a:path w="92" h="61">
                      <a:moveTo>
                        <a:pt x="0" y="17"/>
                      </a:moveTo>
                      <a:lnTo>
                        <a:pt x="9" y="55"/>
                      </a:lnTo>
                      <a:lnTo>
                        <a:pt x="42" y="61"/>
                      </a:lnTo>
                      <a:lnTo>
                        <a:pt x="74" y="51"/>
                      </a:lnTo>
                      <a:lnTo>
                        <a:pt x="92" y="31"/>
                      </a:lnTo>
                      <a:lnTo>
                        <a:pt x="86" y="0"/>
                      </a:lnTo>
                      <a:lnTo>
                        <a:pt x="64" y="0"/>
                      </a:lnTo>
                      <a:lnTo>
                        <a:pt x="60" y="33"/>
                      </a:lnTo>
                      <a:lnTo>
                        <a:pt x="37" y="33"/>
                      </a:lnTo>
                      <a:lnTo>
                        <a:pt x="27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156160" y="5773680"/>
                  <a:ext cx="24120" cy="18360"/>
                </a:xfrm>
                <a:custGeom>
                  <a:avLst/>
                  <a:gdLst/>
                  <a:ahLst/>
                  <a:rect l="l" t="t" r="r" b="b"/>
                  <a:pathLst>
                    <a:path w="374" h="198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0" y="79"/>
                      </a:lnTo>
                      <a:lnTo>
                        <a:pt x="26" y="90"/>
                      </a:lnTo>
                      <a:lnTo>
                        <a:pt x="46" y="132"/>
                      </a:lnTo>
                      <a:lnTo>
                        <a:pt x="127" y="163"/>
                      </a:lnTo>
                      <a:lnTo>
                        <a:pt x="199" y="198"/>
                      </a:lnTo>
                      <a:lnTo>
                        <a:pt x="235" y="198"/>
                      </a:lnTo>
                      <a:lnTo>
                        <a:pt x="305" y="120"/>
                      </a:lnTo>
                      <a:lnTo>
                        <a:pt x="360" y="90"/>
                      </a:lnTo>
                      <a:lnTo>
                        <a:pt x="374" y="37"/>
                      </a:lnTo>
                      <a:lnTo>
                        <a:pt x="365" y="22"/>
                      </a:lnTo>
                      <a:lnTo>
                        <a:pt x="342" y="0"/>
                      </a:lnTo>
                      <a:lnTo>
                        <a:pt x="354" y="25"/>
                      </a:lnTo>
                      <a:lnTo>
                        <a:pt x="347" y="46"/>
                      </a:lnTo>
                      <a:lnTo>
                        <a:pt x="325" y="46"/>
                      </a:lnTo>
                      <a:lnTo>
                        <a:pt x="285" y="69"/>
                      </a:lnTo>
                      <a:lnTo>
                        <a:pt x="261" y="97"/>
                      </a:lnTo>
                      <a:lnTo>
                        <a:pt x="235" y="120"/>
                      </a:lnTo>
                      <a:lnTo>
                        <a:pt x="187" y="127"/>
                      </a:lnTo>
                      <a:lnTo>
                        <a:pt x="141" y="117"/>
                      </a:lnTo>
                      <a:lnTo>
                        <a:pt x="107" y="97"/>
                      </a:lnTo>
                      <a:lnTo>
                        <a:pt x="63" y="79"/>
                      </a:lnTo>
                      <a:lnTo>
                        <a:pt x="26" y="79"/>
                      </a:lnTo>
                      <a:lnTo>
                        <a:pt x="8" y="60"/>
                      </a:lnTo>
                      <a:lnTo>
                        <a:pt x="15" y="3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154000" y="5791320"/>
                  <a:ext cx="33120" cy="7920"/>
                </a:xfrm>
                <a:custGeom>
                  <a:avLst/>
                  <a:gdLst/>
                  <a:ahLst/>
                  <a:rect l="l" t="t" r="r" b="b"/>
                  <a:pathLst>
                    <a:path w="520" h="90">
                      <a:moveTo>
                        <a:pt x="48" y="60"/>
                      </a:moveTo>
                      <a:lnTo>
                        <a:pt x="101" y="40"/>
                      </a:lnTo>
                      <a:lnTo>
                        <a:pt x="174" y="23"/>
                      </a:lnTo>
                      <a:lnTo>
                        <a:pt x="259" y="24"/>
                      </a:lnTo>
                      <a:lnTo>
                        <a:pt x="343" y="7"/>
                      </a:lnTo>
                      <a:lnTo>
                        <a:pt x="488" y="23"/>
                      </a:lnTo>
                      <a:lnTo>
                        <a:pt x="511" y="0"/>
                      </a:lnTo>
                      <a:lnTo>
                        <a:pt x="520" y="31"/>
                      </a:lnTo>
                      <a:lnTo>
                        <a:pt x="501" y="46"/>
                      </a:lnTo>
                      <a:lnTo>
                        <a:pt x="477" y="31"/>
                      </a:lnTo>
                      <a:lnTo>
                        <a:pt x="417" y="24"/>
                      </a:lnTo>
                      <a:lnTo>
                        <a:pt x="327" y="46"/>
                      </a:lnTo>
                      <a:lnTo>
                        <a:pt x="253" y="64"/>
                      </a:lnTo>
                      <a:lnTo>
                        <a:pt x="128" y="60"/>
                      </a:lnTo>
                      <a:lnTo>
                        <a:pt x="41" y="70"/>
                      </a:lnTo>
                      <a:lnTo>
                        <a:pt x="20" y="90"/>
                      </a:lnTo>
                      <a:lnTo>
                        <a:pt x="0" y="79"/>
                      </a:lnTo>
                      <a:lnTo>
                        <a:pt x="4" y="53"/>
                      </a:lnTo>
                      <a:lnTo>
                        <a:pt x="27" y="46"/>
                      </a:lnTo>
                      <a:lnTo>
                        <a:pt x="48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161200" y="5801760"/>
                  <a:ext cx="18360" cy="8640"/>
                </a:xfrm>
                <a:custGeom>
                  <a:avLst/>
                  <a:gdLst/>
                  <a:ahLst/>
                  <a:rect l="l" t="t" r="r" b="b"/>
                  <a:pathLst>
                    <a:path w="286" h="94">
                      <a:moveTo>
                        <a:pt x="0" y="22"/>
                      </a:moveTo>
                      <a:lnTo>
                        <a:pt x="64" y="31"/>
                      </a:lnTo>
                      <a:lnTo>
                        <a:pt x="123" y="31"/>
                      </a:lnTo>
                      <a:lnTo>
                        <a:pt x="194" y="26"/>
                      </a:lnTo>
                      <a:lnTo>
                        <a:pt x="286" y="0"/>
                      </a:lnTo>
                      <a:lnTo>
                        <a:pt x="231" y="46"/>
                      </a:lnTo>
                      <a:lnTo>
                        <a:pt x="244" y="83"/>
                      </a:lnTo>
                      <a:lnTo>
                        <a:pt x="171" y="83"/>
                      </a:lnTo>
                      <a:lnTo>
                        <a:pt x="64" y="94"/>
                      </a:lnTo>
                      <a:lnTo>
                        <a:pt x="70" y="63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138160" y="5772240"/>
                  <a:ext cx="58320" cy="55800"/>
                </a:xfrm>
                <a:custGeom>
                  <a:avLst/>
                  <a:gdLst/>
                  <a:ahLst/>
                  <a:rect l="l" t="t" r="r" b="b"/>
                  <a:pathLst>
                    <a:path w="911" h="609">
                      <a:moveTo>
                        <a:pt x="0" y="83"/>
                      </a:moveTo>
                      <a:lnTo>
                        <a:pt x="96" y="339"/>
                      </a:lnTo>
                      <a:lnTo>
                        <a:pt x="157" y="438"/>
                      </a:lnTo>
                      <a:lnTo>
                        <a:pt x="226" y="498"/>
                      </a:lnTo>
                      <a:lnTo>
                        <a:pt x="304" y="546"/>
                      </a:lnTo>
                      <a:lnTo>
                        <a:pt x="394" y="576"/>
                      </a:lnTo>
                      <a:lnTo>
                        <a:pt x="487" y="609"/>
                      </a:lnTo>
                      <a:lnTo>
                        <a:pt x="570" y="609"/>
                      </a:lnTo>
                      <a:lnTo>
                        <a:pt x="669" y="581"/>
                      </a:lnTo>
                      <a:lnTo>
                        <a:pt x="735" y="535"/>
                      </a:lnTo>
                      <a:lnTo>
                        <a:pt x="793" y="464"/>
                      </a:lnTo>
                      <a:lnTo>
                        <a:pt x="848" y="374"/>
                      </a:lnTo>
                      <a:lnTo>
                        <a:pt x="883" y="288"/>
                      </a:lnTo>
                      <a:lnTo>
                        <a:pt x="898" y="183"/>
                      </a:lnTo>
                      <a:lnTo>
                        <a:pt x="911" y="0"/>
                      </a:lnTo>
                      <a:lnTo>
                        <a:pt x="892" y="14"/>
                      </a:lnTo>
                      <a:lnTo>
                        <a:pt x="869" y="265"/>
                      </a:lnTo>
                      <a:lnTo>
                        <a:pt x="839" y="353"/>
                      </a:lnTo>
                      <a:lnTo>
                        <a:pt x="793" y="434"/>
                      </a:lnTo>
                      <a:lnTo>
                        <a:pt x="724" y="517"/>
                      </a:lnTo>
                      <a:lnTo>
                        <a:pt x="659" y="558"/>
                      </a:lnTo>
                      <a:lnTo>
                        <a:pt x="659" y="528"/>
                      </a:lnTo>
                      <a:lnTo>
                        <a:pt x="595" y="551"/>
                      </a:lnTo>
                      <a:lnTo>
                        <a:pt x="511" y="557"/>
                      </a:lnTo>
                      <a:lnTo>
                        <a:pt x="450" y="551"/>
                      </a:lnTo>
                      <a:lnTo>
                        <a:pt x="392" y="528"/>
                      </a:lnTo>
                      <a:lnTo>
                        <a:pt x="408" y="558"/>
                      </a:lnTo>
                      <a:lnTo>
                        <a:pt x="293" y="524"/>
                      </a:lnTo>
                      <a:lnTo>
                        <a:pt x="203" y="445"/>
                      </a:lnTo>
                      <a:lnTo>
                        <a:pt x="138" y="368"/>
                      </a:lnTo>
                      <a:lnTo>
                        <a:pt x="90" y="279"/>
                      </a:lnTo>
                      <a:lnTo>
                        <a:pt x="10" y="74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143200" y="5780520"/>
                  <a:ext cx="11520" cy="25560"/>
                </a:xfrm>
                <a:custGeom>
                  <a:avLst/>
                  <a:gdLst/>
                  <a:ahLst/>
                  <a:rect l="l" t="t" r="r" b="b"/>
                  <a:pathLst>
                    <a:path w="187" h="278">
                      <a:moveTo>
                        <a:pt x="22" y="58"/>
                      </a:moveTo>
                      <a:lnTo>
                        <a:pt x="97" y="53"/>
                      </a:lnTo>
                      <a:lnTo>
                        <a:pt x="134" y="36"/>
                      </a:lnTo>
                      <a:lnTo>
                        <a:pt x="187" y="0"/>
                      </a:lnTo>
                      <a:lnTo>
                        <a:pt x="157" y="58"/>
                      </a:lnTo>
                      <a:lnTo>
                        <a:pt x="111" y="117"/>
                      </a:lnTo>
                      <a:lnTo>
                        <a:pt x="118" y="181"/>
                      </a:lnTo>
                      <a:lnTo>
                        <a:pt x="163" y="278"/>
                      </a:lnTo>
                      <a:lnTo>
                        <a:pt x="111" y="207"/>
                      </a:lnTo>
                      <a:lnTo>
                        <a:pt x="77" y="133"/>
                      </a:lnTo>
                      <a:lnTo>
                        <a:pt x="40" y="117"/>
                      </a:lnTo>
                      <a:lnTo>
                        <a:pt x="0" y="64"/>
                      </a:lnTo>
                      <a:lnTo>
                        <a:pt x="2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181360" y="5776560"/>
                  <a:ext cx="10080" cy="20520"/>
                </a:xfrm>
                <a:custGeom>
                  <a:avLst/>
                  <a:gdLst/>
                  <a:ahLst/>
                  <a:rect l="l" t="t" r="r" b="b"/>
                  <a:pathLst>
                    <a:path w="156" h="222">
                      <a:moveTo>
                        <a:pt x="0" y="0"/>
                      </a:moveTo>
                      <a:lnTo>
                        <a:pt x="31" y="29"/>
                      </a:lnTo>
                      <a:lnTo>
                        <a:pt x="94" y="68"/>
                      </a:lnTo>
                      <a:lnTo>
                        <a:pt x="112" y="94"/>
                      </a:lnTo>
                      <a:lnTo>
                        <a:pt x="124" y="140"/>
                      </a:lnTo>
                      <a:lnTo>
                        <a:pt x="117" y="222"/>
                      </a:lnTo>
                      <a:lnTo>
                        <a:pt x="134" y="136"/>
                      </a:lnTo>
                      <a:lnTo>
                        <a:pt x="156" y="46"/>
                      </a:lnTo>
                      <a:lnTo>
                        <a:pt x="156" y="9"/>
                      </a:lnTo>
                      <a:lnTo>
                        <a:pt x="88" y="13"/>
                      </a:lnTo>
                      <a:lnTo>
                        <a:pt x="3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321040" y="5889240"/>
                  <a:ext cx="42120" cy="26280"/>
                </a:xfrm>
                <a:custGeom>
                  <a:avLst/>
                  <a:gdLst/>
                  <a:ahLst/>
                  <a:rect l="l" t="t" r="r" b="b"/>
                  <a:pathLst>
                    <a:path w="652" h="291">
                      <a:moveTo>
                        <a:pt x="50" y="0"/>
                      </a:moveTo>
                      <a:lnTo>
                        <a:pt x="59" y="44"/>
                      </a:lnTo>
                      <a:lnTo>
                        <a:pt x="59" y="85"/>
                      </a:lnTo>
                      <a:lnTo>
                        <a:pt x="34" y="126"/>
                      </a:lnTo>
                      <a:lnTo>
                        <a:pt x="0" y="152"/>
                      </a:lnTo>
                      <a:lnTo>
                        <a:pt x="136" y="291"/>
                      </a:lnTo>
                      <a:lnTo>
                        <a:pt x="294" y="192"/>
                      </a:lnTo>
                      <a:lnTo>
                        <a:pt x="384" y="291"/>
                      </a:lnTo>
                      <a:lnTo>
                        <a:pt x="452" y="233"/>
                      </a:lnTo>
                      <a:lnTo>
                        <a:pt x="583" y="152"/>
                      </a:lnTo>
                      <a:lnTo>
                        <a:pt x="652" y="69"/>
                      </a:lnTo>
                      <a:lnTo>
                        <a:pt x="553" y="152"/>
                      </a:lnTo>
                      <a:lnTo>
                        <a:pt x="410" y="210"/>
                      </a:lnTo>
                      <a:lnTo>
                        <a:pt x="343" y="159"/>
                      </a:lnTo>
                      <a:lnTo>
                        <a:pt x="184" y="159"/>
                      </a:lnTo>
                      <a:lnTo>
                        <a:pt x="94" y="9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8337960" y="5781960"/>
                  <a:ext cx="27000" cy="40320"/>
                </a:xfrm>
                <a:custGeom>
                  <a:avLst/>
                  <a:gdLst/>
                  <a:ahLst/>
                  <a:rect l="l" t="t" r="r" b="b"/>
                  <a:pathLst>
                    <a:path w="419" h="442">
                      <a:moveTo>
                        <a:pt x="36" y="0"/>
                      </a:moveTo>
                      <a:lnTo>
                        <a:pt x="134" y="35"/>
                      </a:lnTo>
                      <a:lnTo>
                        <a:pt x="260" y="13"/>
                      </a:lnTo>
                      <a:lnTo>
                        <a:pt x="382" y="42"/>
                      </a:lnTo>
                      <a:lnTo>
                        <a:pt x="396" y="0"/>
                      </a:lnTo>
                      <a:lnTo>
                        <a:pt x="419" y="92"/>
                      </a:lnTo>
                      <a:lnTo>
                        <a:pt x="419" y="189"/>
                      </a:lnTo>
                      <a:lnTo>
                        <a:pt x="403" y="334"/>
                      </a:lnTo>
                      <a:lnTo>
                        <a:pt x="373" y="442"/>
                      </a:lnTo>
                      <a:lnTo>
                        <a:pt x="396" y="316"/>
                      </a:lnTo>
                      <a:lnTo>
                        <a:pt x="396" y="260"/>
                      </a:lnTo>
                      <a:lnTo>
                        <a:pt x="290" y="327"/>
                      </a:lnTo>
                      <a:lnTo>
                        <a:pt x="269" y="327"/>
                      </a:lnTo>
                      <a:lnTo>
                        <a:pt x="260" y="308"/>
                      </a:lnTo>
                      <a:lnTo>
                        <a:pt x="359" y="202"/>
                      </a:lnTo>
                      <a:lnTo>
                        <a:pt x="352" y="145"/>
                      </a:lnTo>
                      <a:lnTo>
                        <a:pt x="246" y="214"/>
                      </a:lnTo>
                      <a:lnTo>
                        <a:pt x="274" y="165"/>
                      </a:lnTo>
                      <a:lnTo>
                        <a:pt x="260" y="154"/>
                      </a:lnTo>
                      <a:lnTo>
                        <a:pt x="253" y="110"/>
                      </a:lnTo>
                      <a:lnTo>
                        <a:pt x="218" y="110"/>
                      </a:lnTo>
                      <a:lnTo>
                        <a:pt x="154" y="175"/>
                      </a:lnTo>
                      <a:lnTo>
                        <a:pt x="134" y="175"/>
                      </a:lnTo>
                      <a:lnTo>
                        <a:pt x="134" y="141"/>
                      </a:lnTo>
                      <a:lnTo>
                        <a:pt x="163" y="103"/>
                      </a:lnTo>
                      <a:lnTo>
                        <a:pt x="62" y="79"/>
                      </a:lnTo>
                      <a:lnTo>
                        <a:pt x="62" y="117"/>
                      </a:lnTo>
                      <a:lnTo>
                        <a:pt x="90" y="161"/>
                      </a:lnTo>
                      <a:lnTo>
                        <a:pt x="29" y="117"/>
                      </a:lnTo>
                      <a:lnTo>
                        <a:pt x="0" y="55"/>
                      </a:lnTo>
                      <a:lnTo>
                        <a:pt x="7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345160" y="5799600"/>
                  <a:ext cx="6480" cy="5040"/>
                </a:xfrm>
                <a:custGeom>
                  <a:avLst/>
                  <a:gdLst/>
                  <a:ahLst/>
                  <a:rect l="l" t="t" r="r" b="b"/>
                  <a:pathLst>
                    <a:path w="96" h="60">
                      <a:moveTo>
                        <a:pt x="13" y="0"/>
                      </a:moveTo>
                      <a:lnTo>
                        <a:pt x="96" y="35"/>
                      </a:lnTo>
                      <a:lnTo>
                        <a:pt x="96" y="57"/>
                      </a:lnTo>
                      <a:lnTo>
                        <a:pt x="72" y="60"/>
                      </a:lnTo>
                      <a:lnTo>
                        <a:pt x="4" y="29"/>
                      </a:lnTo>
                      <a:lnTo>
                        <a:pt x="0" y="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365680" y="5758560"/>
                  <a:ext cx="42120" cy="43920"/>
                </a:xfrm>
                <a:custGeom>
                  <a:avLst/>
                  <a:gdLst/>
                  <a:ahLst/>
                  <a:rect l="l" t="t" r="r" b="b"/>
                  <a:pathLst>
                    <a:path w="655" h="483">
                      <a:moveTo>
                        <a:pt x="0" y="132"/>
                      </a:moveTo>
                      <a:lnTo>
                        <a:pt x="41" y="279"/>
                      </a:lnTo>
                      <a:lnTo>
                        <a:pt x="103" y="351"/>
                      </a:lnTo>
                      <a:lnTo>
                        <a:pt x="103" y="473"/>
                      </a:lnTo>
                      <a:lnTo>
                        <a:pt x="161" y="362"/>
                      </a:lnTo>
                      <a:lnTo>
                        <a:pt x="364" y="483"/>
                      </a:lnTo>
                      <a:lnTo>
                        <a:pt x="521" y="376"/>
                      </a:lnTo>
                      <a:lnTo>
                        <a:pt x="352" y="376"/>
                      </a:lnTo>
                      <a:lnTo>
                        <a:pt x="297" y="356"/>
                      </a:lnTo>
                      <a:lnTo>
                        <a:pt x="224" y="356"/>
                      </a:lnTo>
                      <a:lnTo>
                        <a:pt x="217" y="332"/>
                      </a:lnTo>
                      <a:lnTo>
                        <a:pt x="329" y="314"/>
                      </a:lnTo>
                      <a:lnTo>
                        <a:pt x="329" y="259"/>
                      </a:lnTo>
                      <a:lnTo>
                        <a:pt x="391" y="224"/>
                      </a:lnTo>
                      <a:lnTo>
                        <a:pt x="323" y="224"/>
                      </a:lnTo>
                      <a:lnTo>
                        <a:pt x="308" y="208"/>
                      </a:lnTo>
                      <a:lnTo>
                        <a:pt x="426" y="160"/>
                      </a:lnTo>
                      <a:lnTo>
                        <a:pt x="479" y="107"/>
                      </a:lnTo>
                      <a:lnTo>
                        <a:pt x="631" y="169"/>
                      </a:lnTo>
                      <a:lnTo>
                        <a:pt x="655" y="160"/>
                      </a:lnTo>
                      <a:lnTo>
                        <a:pt x="527" y="0"/>
                      </a:lnTo>
                      <a:lnTo>
                        <a:pt x="479" y="0"/>
                      </a:lnTo>
                      <a:lnTo>
                        <a:pt x="290" y="99"/>
                      </a:lnTo>
                      <a:lnTo>
                        <a:pt x="140" y="187"/>
                      </a:lnTo>
                      <a:lnTo>
                        <a:pt x="134" y="238"/>
                      </a:lnTo>
                      <a:lnTo>
                        <a:pt x="90" y="245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389440" y="577908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91" h="81">
                      <a:moveTo>
                        <a:pt x="0" y="0"/>
                      </a:moveTo>
                      <a:lnTo>
                        <a:pt x="34" y="65"/>
                      </a:lnTo>
                      <a:lnTo>
                        <a:pt x="20" y="81"/>
                      </a:lnTo>
                      <a:lnTo>
                        <a:pt x="176" y="72"/>
                      </a:lnTo>
                      <a:lnTo>
                        <a:pt x="191" y="50"/>
                      </a:lnTo>
                      <a:lnTo>
                        <a:pt x="101" y="0"/>
                      </a:lnTo>
                      <a:lnTo>
                        <a:pt x="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362080" y="5823000"/>
                  <a:ext cx="24840" cy="21240"/>
                </a:xfrm>
                <a:custGeom>
                  <a:avLst/>
                  <a:gdLst/>
                  <a:ahLst/>
                  <a:rect l="l" t="t" r="r" b="b"/>
                  <a:pathLst>
                    <a:path w="396" h="226">
                      <a:moveTo>
                        <a:pt x="0" y="41"/>
                      </a:moveTo>
                      <a:lnTo>
                        <a:pt x="69" y="83"/>
                      </a:lnTo>
                      <a:lnTo>
                        <a:pt x="136" y="83"/>
                      </a:lnTo>
                      <a:lnTo>
                        <a:pt x="228" y="14"/>
                      </a:lnTo>
                      <a:lnTo>
                        <a:pt x="297" y="0"/>
                      </a:lnTo>
                      <a:lnTo>
                        <a:pt x="302" y="14"/>
                      </a:lnTo>
                      <a:lnTo>
                        <a:pt x="339" y="26"/>
                      </a:lnTo>
                      <a:lnTo>
                        <a:pt x="396" y="14"/>
                      </a:lnTo>
                      <a:lnTo>
                        <a:pt x="359" y="63"/>
                      </a:lnTo>
                      <a:lnTo>
                        <a:pt x="219" y="109"/>
                      </a:lnTo>
                      <a:lnTo>
                        <a:pt x="214" y="180"/>
                      </a:lnTo>
                      <a:lnTo>
                        <a:pt x="168" y="226"/>
                      </a:lnTo>
                      <a:lnTo>
                        <a:pt x="99" y="118"/>
                      </a:lnTo>
                      <a:lnTo>
                        <a:pt x="46" y="104"/>
                      </a:lnTo>
                      <a:lnTo>
                        <a:pt x="0" y="6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376120" y="5812200"/>
                  <a:ext cx="9720" cy="5040"/>
                </a:xfrm>
                <a:custGeom>
                  <a:avLst/>
                  <a:gdLst/>
                  <a:ahLst/>
                  <a:rect l="l" t="t" r="r" b="b"/>
                  <a:pathLst>
                    <a:path w="155" h="58">
                      <a:moveTo>
                        <a:pt x="0" y="58"/>
                      </a:moveTo>
                      <a:lnTo>
                        <a:pt x="106" y="32"/>
                      </a:lnTo>
                      <a:lnTo>
                        <a:pt x="155" y="44"/>
                      </a:lnTo>
                      <a:lnTo>
                        <a:pt x="106" y="0"/>
                      </a:lnTo>
                      <a:lnTo>
                        <a:pt x="41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387280" y="5818680"/>
                  <a:ext cx="20880" cy="41760"/>
                </a:xfrm>
                <a:custGeom>
                  <a:avLst/>
                  <a:gdLst/>
                  <a:ahLst/>
                  <a:rect l="l" t="t" r="r" b="b"/>
                  <a:pathLst>
                    <a:path w="323" h="453">
                      <a:moveTo>
                        <a:pt x="0" y="0"/>
                      </a:moveTo>
                      <a:lnTo>
                        <a:pt x="7" y="54"/>
                      </a:lnTo>
                      <a:lnTo>
                        <a:pt x="84" y="119"/>
                      </a:lnTo>
                      <a:lnTo>
                        <a:pt x="169" y="229"/>
                      </a:lnTo>
                      <a:lnTo>
                        <a:pt x="99" y="275"/>
                      </a:lnTo>
                      <a:lnTo>
                        <a:pt x="209" y="453"/>
                      </a:lnTo>
                      <a:lnTo>
                        <a:pt x="282" y="453"/>
                      </a:lnTo>
                      <a:lnTo>
                        <a:pt x="323" y="299"/>
                      </a:lnTo>
                      <a:lnTo>
                        <a:pt x="308" y="250"/>
                      </a:lnTo>
                      <a:lnTo>
                        <a:pt x="224" y="222"/>
                      </a:lnTo>
                      <a:lnTo>
                        <a:pt x="205" y="119"/>
                      </a:lnTo>
                      <a:lnTo>
                        <a:pt x="104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343000" y="5803200"/>
                  <a:ext cx="25920" cy="76320"/>
                </a:xfrm>
                <a:custGeom>
                  <a:avLst/>
                  <a:gdLst/>
                  <a:ahLst/>
                  <a:rect l="l" t="t" r="r" b="b"/>
                  <a:pathLst>
                    <a:path w="411" h="827">
                      <a:moveTo>
                        <a:pt x="290" y="272"/>
                      </a:moveTo>
                      <a:lnTo>
                        <a:pt x="197" y="272"/>
                      </a:lnTo>
                      <a:lnTo>
                        <a:pt x="121" y="230"/>
                      </a:lnTo>
                      <a:lnTo>
                        <a:pt x="51" y="167"/>
                      </a:lnTo>
                      <a:lnTo>
                        <a:pt x="0" y="0"/>
                      </a:lnTo>
                      <a:lnTo>
                        <a:pt x="29" y="193"/>
                      </a:lnTo>
                      <a:lnTo>
                        <a:pt x="160" y="378"/>
                      </a:lnTo>
                      <a:lnTo>
                        <a:pt x="282" y="629"/>
                      </a:lnTo>
                      <a:lnTo>
                        <a:pt x="342" y="708"/>
                      </a:lnTo>
                      <a:lnTo>
                        <a:pt x="395" y="827"/>
                      </a:lnTo>
                      <a:lnTo>
                        <a:pt x="354" y="636"/>
                      </a:lnTo>
                      <a:lnTo>
                        <a:pt x="411" y="609"/>
                      </a:lnTo>
                      <a:lnTo>
                        <a:pt x="354" y="565"/>
                      </a:lnTo>
                      <a:lnTo>
                        <a:pt x="354" y="530"/>
                      </a:lnTo>
                      <a:lnTo>
                        <a:pt x="386" y="507"/>
                      </a:lnTo>
                      <a:lnTo>
                        <a:pt x="319" y="523"/>
                      </a:lnTo>
                      <a:lnTo>
                        <a:pt x="282" y="507"/>
                      </a:lnTo>
                      <a:lnTo>
                        <a:pt x="268" y="466"/>
                      </a:lnTo>
                      <a:lnTo>
                        <a:pt x="268" y="356"/>
                      </a:lnTo>
                      <a:lnTo>
                        <a:pt x="290" y="2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370720" y="5842800"/>
                  <a:ext cx="24120" cy="6480"/>
                </a:xfrm>
                <a:custGeom>
                  <a:avLst/>
                  <a:gdLst/>
                  <a:ahLst/>
                  <a:rect l="l" t="t" r="r" b="b"/>
                  <a:pathLst>
                    <a:path w="381" h="76">
                      <a:moveTo>
                        <a:pt x="0" y="76"/>
                      </a:moveTo>
                      <a:lnTo>
                        <a:pt x="175" y="40"/>
                      </a:lnTo>
                      <a:lnTo>
                        <a:pt x="260" y="0"/>
                      </a:lnTo>
                      <a:lnTo>
                        <a:pt x="313" y="0"/>
                      </a:lnTo>
                      <a:lnTo>
                        <a:pt x="381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372880" y="5851800"/>
                  <a:ext cx="19800" cy="17640"/>
                </a:xfrm>
                <a:custGeom>
                  <a:avLst/>
                  <a:gdLst/>
                  <a:ahLst/>
                  <a:rect l="l" t="t" r="r" b="b"/>
                  <a:pathLst>
                    <a:path w="316" h="191">
                      <a:moveTo>
                        <a:pt x="0" y="79"/>
                      </a:moveTo>
                      <a:lnTo>
                        <a:pt x="242" y="26"/>
                      </a:lnTo>
                      <a:lnTo>
                        <a:pt x="295" y="0"/>
                      </a:lnTo>
                      <a:lnTo>
                        <a:pt x="303" y="19"/>
                      </a:lnTo>
                      <a:lnTo>
                        <a:pt x="219" y="64"/>
                      </a:lnTo>
                      <a:lnTo>
                        <a:pt x="235" y="112"/>
                      </a:lnTo>
                      <a:lnTo>
                        <a:pt x="316" y="191"/>
                      </a:lnTo>
                      <a:lnTo>
                        <a:pt x="228" y="162"/>
                      </a:lnTo>
                      <a:lnTo>
                        <a:pt x="150" y="162"/>
                      </a:lnTo>
                      <a:lnTo>
                        <a:pt x="72" y="182"/>
                      </a:lnTo>
                      <a:lnTo>
                        <a:pt x="46" y="191"/>
                      </a:lnTo>
                      <a:lnTo>
                        <a:pt x="60" y="156"/>
                      </a:lnTo>
                      <a:lnTo>
                        <a:pt x="24" y="99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322120" y="5689080"/>
                  <a:ext cx="109800" cy="94680"/>
                </a:xfrm>
                <a:custGeom>
                  <a:avLst/>
                  <a:gdLst/>
                  <a:ahLst/>
                  <a:rect l="l" t="t" r="r" b="b"/>
                  <a:pathLst>
                    <a:path w="1704" h="1028">
                      <a:moveTo>
                        <a:pt x="159" y="340"/>
                      </a:moveTo>
                      <a:lnTo>
                        <a:pt x="122" y="404"/>
                      </a:lnTo>
                      <a:lnTo>
                        <a:pt x="0" y="551"/>
                      </a:lnTo>
                      <a:lnTo>
                        <a:pt x="0" y="609"/>
                      </a:lnTo>
                      <a:lnTo>
                        <a:pt x="76" y="749"/>
                      </a:lnTo>
                      <a:lnTo>
                        <a:pt x="48" y="874"/>
                      </a:lnTo>
                      <a:lnTo>
                        <a:pt x="111" y="978"/>
                      </a:lnTo>
                      <a:lnTo>
                        <a:pt x="245" y="987"/>
                      </a:lnTo>
                      <a:lnTo>
                        <a:pt x="286" y="1028"/>
                      </a:lnTo>
                      <a:lnTo>
                        <a:pt x="252" y="692"/>
                      </a:lnTo>
                      <a:lnTo>
                        <a:pt x="252" y="588"/>
                      </a:lnTo>
                      <a:lnTo>
                        <a:pt x="265" y="507"/>
                      </a:lnTo>
                      <a:lnTo>
                        <a:pt x="286" y="457"/>
                      </a:lnTo>
                      <a:lnTo>
                        <a:pt x="408" y="507"/>
                      </a:lnTo>
                      <a:lnTo>
                        <a:pt x="555" y="529"/>
                      </a:lnTo>
                      <a:lnTo>
                        <a:pt x="738" y="529"/>
                      </a:lnTo>
                      <a:lnTo>
                        <a:pt x="966" y="507"/>
                      </a:lnTo>
                      <a:lnTo>
                        <a:pt x="851" y="503"/>
                      </a:lnTo>
                      <a:lnTo>
                        <a:pt x="708" y="434"/>
                      </a:lnTo>
                      <a:lnTo>
                        <a:pt x="865" y="441"/>
                      </a:lnTo>
                      <a:lnTo>
                        <a:pt x="992" y="434"/>
                      </a:lnTo>
                      <a:lnTo>
                        <a:pt x="1162" y="397"/>
                      </a:lnTo>
                      <a:lnTo>
                        <a:pt x="1280" y="349"/>
                      </a:lnTo>
                      <a:lnTo>
                        <a:pt x="1441" y="334"/>
                      </a:lnTo>
                      <a:lnTo>
                        <a:pt x="1513" y="362"/>
                      </a:lnTo>
                      <a:lnTo>
                        <a:pt x="1586" y="397"/>
                      </a:lnTo>
                      <a:lnTo>
                        <a:pt x="1644" y="397"/>
                      </a:lnTo>
                      <a:lnTo>
                        <a:pt x="1704" y="362"/>
                      </a:lnTo>
                      <a:lnTo>
                        <a:pt x="1634" y="272"/>
                      </a:lnTo>
                      <a:lnTo>
                        <a:pt x="1526" y="286"/>
                      </a:lnTo>
                      <a:lnTo>
                        <a:pt x="1441" y="259"/>
                      </a:lnTo>
                      <a:lnTo>
                        <a:pt x="1358" y="250"/>
                      </a:lnTo>
                      <a:lnTo>
                        <a:pt x="1280" y="279"/>
                      </a:lnTo>
                      <a:lnTo>
                        <a:pt x="1139" y="340"/>
                      </a:lnTo>
                      <a:lnTo>
                        <a:pt x="1014" y="371"/>
                      </a:lnTo>
                      <a:lnTo>
                        <a:pt x="878" y="378"/>
                      </a:lnTo>
                      <a:lnTo>
                        <a:pt x="766" y="384"/>
                      </a:lnTo>
                      <a:lnTo>
                        <a:pt x="590" y="362"/>
                      </a:lnTo>
                      <a:lnTo>
                        <a:pt x="696" y="334"/>
                      </a:lnTo>
                      <a:lnTo>
                        <a:pt x="570" y="318"/>
                      </a:lnTo>
                      <a:lnTo>
                        <a:pt x="443" y="291"/>
                      </a:lnTo>
                      <a:lnTo>
                        <a:pt x="379" y="265"/>
                      </a:lnTo>
                      <a:lnTo>
                        <a:pt x="482" y="226"/>
                      </a:lnTo>
                      <a:lnTo>
                        <a:pt x="300" y="201"/>
                      </a:lnTo>
                      <a:lnTo>
                        <a:pt x="265" y="173"/>
                      </a:lnTo>
                      <a:lnTo>
                        <a:pt x="258" y="145"/>
                      </a:lnTo>
                      <a:lnTo>
                        <a:pt x="265" y="102"/>
                      </a:lnTo>
                      <a:lnTo>
                        <a:pt x="295" y="54"/>
                      </a:lnTo>
                      <a:lnTo>
                        <a:pt x="373" y="0"/>
                      </a:lnTo>
                      <a:lnTo>
                        <a:pt x="217" y="67"/>
                      </a:lnTo>
                      <a:lnTo>
                        <a:pt x="60" y="164"/>
                      </a:lnTo>
                      <a:lnTo>
                        <a:pt x="69" y="189"/>
                      </a:lnTo>
                      <a:lnTo>
                        <a:pt x="118" y="286"/>
                      </a:lnTo>
                      <a:lnTo>
                        <a:pt x="159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352000" y="5668920"/>
                  <a:ext cx="106200" cy="241560"/>
                </a:xfrm>
                <a:custGeom>
                  <a:avLst/>
                  <a:gdLst/>
                  <a:ahLst/>
                  <a:rect l="l" t="t" r="r" b="b"/>
                  <a:pathLst>
                    <a:path w="1658" h="2635">
                      <a:moveTo>
                        <a:pt x="7" y="196"/>
                      </a:moveTo>
                      <a:lnTo>
                        <a:pt x="0" y="216"/>
                      </a:lnTo>
                      <a:lnTo>
                        <a:pt x="14" y="231"/>
                      </a:lnTo>
                      <a:lnTo>
                        <a:pt x="58" y="251"/>
                      </a:lnTo>
                      <a:lnTo>
                        <a:pt x="106" y="260"/>
                      </a:lnTo>
                      <a:lnTo>
                        <a:pt x="185" y="260"/>
                      </a:lnTo>
                      <a:lnTo>
                        <a:pt x="291" y="244"/>
                      </a:lnTo>
                      <a:lnTo>
                        <a:pt x="208" y="279"/>
                      </a:lnTo>
                      <a:lnTo>
                        <a:pt x="114" y="292"/>
                      </a:lnTo>
                      <a:lnTo>
                        <a:pt x="35" y="292"/>
                      </a:lnTo>
                      <a:lnTo>
                        <a:pt x="35" y="315"/>
                      </a:lnTo>
                      <a:lnTo>
                        <a:pt x="58" y="341"/>
                      </a:lnTo>
                      <a:lnTo>
                        <a:pt x="114" y="366"/>
                      </a:lnTo>
                      <a:lnTo>
                        <a:pt x="185" y="354"/>
                      </a:lnTo>
                      <a:lnTo>
                        <a:pt x="231" y="385"/>
                      </a:lnTo>
                      <a:lnTo>
                        <a:pt x="226" y="398"/>
                      </a:lnTo>
                      <a:lnTo>
                        <a:pt x="185" y="420"/>
                      </a:lnTo>
                      <a:lnTo>
                        <a:pt x="141" y="426"/>
                      </a:lnTo>
                      <a:lnTo>
                        <a:pt x="220" y="435"/>
                      </a:lnTo>
                      <a:lnTo>
                        <a:pt x="354" y="435"/>
                      </a:lnTo>
                      <a:lnTo>
                        <a:pt x="510" y="414"/>
                      </a:lnTo>
                      <a:lnTo>
                        <a:pt x="611" y="385"/>
                      </a:lnTo>
                      <a:lnTo>
                        <a:pt x="487" y="426"/>
                      </a:lnTo>
                      <a:lnTo>
                        <a:pt x="345" y="456"/>
                      </a:lnTo>
                      <a:lnTo>
                        <a:pt x="244" y="475"/>
                      </a:lnTo>
                      <a:lnTo>
                        <a:pt x="305" y="504"/>
                      </a:lnTo>
                      <a:lnTo>
                        <a:pt x="437" y="523"/>
                      </a:lnTo>
                      <a:lnTo>
                        <a:pt x="543" y="532"/>
                      </a:lnTo>
                      <a:lnTo>
                        <a:pt x="662" y="532"/>
                      </a:lnTo>
                      <a:lnTo>
                        <a:pt x="741" y="511"/>
                      </a:lnTo>
                      <a:lnTo>
                        <a:pt x="625" y="475"/>
                      </a:lnTo>
                      <a:lnTo>
                        <a:pt x="824" y="398"/>
                      </a:lnTo>
                      <a:lnTo>
                        <a:pt x="763" y="370"/>
                      </a:lnTo>
                      <a:lnTo>
                        <a:pt x="875" y="378"/>
                      </a:lnTo>
                      <a:lnTo>
                        <a:pt x="945" y="414"/>
                      </a:lnTo>
                      <a:lnTo>
                        <a:pt x="1029" y="470"/>
                      </a:lnTo>
                      <a:lnTo>
                        <a:pt x="1095" y="511"/>
                      </a:lnTo>
                      <a:lnTo>
                        <a:pt x="1142" y="622"/>
                      </a:lnTo>
                      <a:lnTo>
                        <a:pt x="1204" y="622"/>
                      </a:lnTo>
                      <a:lnTo>
                        <a:pt x="1257" y="609"/>
                      </a:lnTo>
                      <a:lnTo>
                        <a:pt x="1296" y="580"/>
                      </a:lnTo>
                      <a:lnTo>
                        <a:pt x="1331" y="537"/>
                      </a:lnTo>
                      <a:lnTo>
                        <a:pt x="1354" y="511"/>
                      </a:lnTo>
                      <a:lnTo>
                        <a:pt x="1361" y="559"/>
                      </a:lnTo>
                      <a:lnTo>
                        <a:pt x="1347" y="609"/>
                      </a:lnTo>
                      <a:lnTo>
                        <a:pt x="1310" y="651"/>
                      </a:lnTo>
                      <a:lnTo>
                        <a:pt x="1382" y="651"/>
                      </a:lnTo>
                      <a:lnTo>
                        <a:pt x="1446" y="638"/>
                      </a:lnTo>
                      <a:lnTo>
                        <a:pt x="1485" y="651"/>
                      </a:lnTo>
                      <a:lnTo>
                        <a:pt x="1508" y="684"/>
                      </a:lnTo>
                      <a:lnTo>
                        <a:pt x="1523" y="765"/>
                      </a:lnTo>
                      <a:lnTo>
                        <a:pt x="1517" y="936"/>
                      </a:lnTo>
                      <a:lnTo>
                        <a:pt x="1543" y="996"/>
                      </a:lnTo>
                      <a:lnTo>
                        <a:pt x="1580" y="1030"/>
                      </a:lnTo>
                      <a:lnTo>
                        <a:pt x="1591" y="1073"/>
                      </a:lnTo>
                      <a:lnTo>
                        <a:pt x="1559" y="1073"/>
                      </a:lnTo>
                      <a:lnTo>
                        <a:pt x="1469" y="1014"/>
                      </a:lnTo>
                      <a:lnTo>
                        <a:pt x="1354" y="1009"/>
                      </a:lnTo>
                      <a:lnTo>
                        <a:pt x="1287" y="1095"/>
                      </a:lnTo>
                      <a:lnTo>
                        <a:pt x="1268" y="1226"/>
                      </a:lnTo>
                      <a:lnTo>
                        <a:pt x="1340" y="1284"/>
                      </a:lnTo>
                      <a:lnTo>
                        <a:pt x="1319" y="1457"/>
                      </a:lnTo>
                      <a:lnTo>
                        <a:pt x="1361" y="1374"/>
                      </a:lnTo>
                      <a:lnTo>
                        <a:pt x="1460" y="1330"/>
                      </a:lnTo>
                      <a:lnTo>
                        <a:pt x="1422" y="1240"/>
                      </a:lnTo>
                      <a:lnTo>
                        <a:pt x="1340" y="1219"/>
                      </a:lnTo>
                      <a:lnTo>
                        <a:pt x="1409" y="1143"/>
                      </a:lnTo>
                      <a:lnTo>
                        <a:pt x="1508" y="1212"/>
                      </a:lnTo>
                      <a:lnTo>
                        <a:pt x="1479" y="1106"/>
                      </a:lnTo>
                      <a:lnTo>
                        <a:pt x="1517" y="1095"/>
                      </a:lnTo>
                      <a:lnTo>
                        <a:pt x="1422" y="1099"/>
                      </a:lnTo>
                      <a:lnTo>
                        <a:pt x="1303" y="1189"/>
                      </a:lnTo>
                      <a:lnTo>
                        <a:pt x="1319" y="1099"/>
                      </a:lnTo>
                      <a:lnTo>
                        <a:pt x="1367" y="1035"/>
                      </a:lnTo>
                      <a:lnTo>
                        <a:pt x="1460" y="1035"/>
                      </a:lnTo>
                      <a:lnTo>
                        <a:pt x="1559" y="1095"/>
                      </a:lnTo>
                      <a:lnTo>
                        <a:pt x="1564" y="1198"/>
                      </a:lnTo>
                      <a:lnTo>
                        <a:pt x="1543" y="1316"/>
                      </a:lnTo>
                      <a:lnTo>
                        <a:pt x="1469" y="1435"/>
                      </a:lnTo>
                      <a:lnTo>
                        <a:pt x="1446" y="1519"/>
                      </a:lnTo>
                      <a:lnTo>
                        <a:pt x="1361" y="1560"/>
                      </a:lnTo>
                      <a:lnTo>
                        <a:pt x="1296" y="1493"/>
                      </a:lnTo>
                      <a:lnTo>
                        <a:pt x="1220" y="1968"/>
                      </a:lnTo>
                      <a:lnTo>
                        <a:pt x="1163" y="2261"/>
                      </a:lnTo>
                      <a:lnTo>
                        <a:pt x="939" y="2501"/>
                      </a:lnTo>
                      <a:lnTo>
                        <a:pt x="851" y="2635"/>
                      </a:lnTo>
                      <a:lnTo>
                        <a:pt x="958" y="2492"/>
                      </a:lnTo>
                      <a:lnTo>
                        <a:pt x="1257" y="2174"/>
                      </a:lnTo>
                      <a:lnTo>
                        <a:pt x="1446" y="1827"/>
                      </a:lnTo>
                      <a:lnTo>
                        <a:pt x="1430" y="1807"/>
                      </a:lnTo>
                      <a:lnTo>
                        <a:pt x="1382" y="1811"/>
                      </a:lnTo>
                      <a:lnTo>
                        <a:pt x="1384" y="1730"/>
                      </a:lnTo>
                      <a:lnTo>
                        <a:pt x="1494" y="1701"/>
                      </a:lnTo>
                      <a:lnTo>
                        <a:pt x="1494" y="1624"/>
                      </a:lnTo>
                      <a:lnTo>
                        <a:pt x="1591" y="1592"/>
                      </a:lnTo>
                      <a:lnTo>
                        <a:pt x="1619" y="1457"/>
                      </a:lnTo>
                      <a:lnTo>
                        <a:pt x="1658" y="1394"/>
                      </a:lnTo>
                      <a:lnTo>
                        <a:pt x="1580" y="1350"/>
                      </a:lnTo>
                      <a:lnTo>
                        <a:pt x="1573" y="1306"/>
                      </a:lnTo>
                      <a:lnTo>
                        <a:pt x="1591" y="1240"/>
                      </a:lnTo>
                      <a:lnTo>
                        <a:pt x="1591" y="1154"/>
                      </a:lnTo>
                      <a:lnTo>
                        <a:pt x="1580" y="1122"/>
                      </a:lnTo>
                      <a:lnTo>
                        <a:pt x="1642" y="1143"/>
                      </a:lnTo>
                      <a:lnTo>
                        <a:pt x="1619" y="1057"/>
                      </a:lnTo>
                      <a:lnTo>
                        <a:pt x="1564" y="967"/>
                      </a:lnTo>
                      <a:lnTo>
                        <a:pt x="1550" y="897"/>
                      </a:lnTo>
                      <a:lnTo>
                        <a:pt x="1550" y="813"/>
                      </a:lnTo>
                      <a:lnTo>
                        <a:pt x="1543" y="741"/>
                      </a:lnTo>
                      <a:lnTo>
                        <a:pt x="1550" y="700"/>
                      </a:lnTo>
                      <a:lnTo>
                        <a:pt x="1501" y="580"/>
                      </a:lnTo>
                      <a:lnTo>
                        <a:pt x="1418" y="462"/>
                      </a:lnTo>
                      <a:lnTo>
                        <a:pt x="1326" y="389"/>
                      </a:lnTo>
                      <a:lnTo>
                        <a:pt x="1257" y="341"/>
                      </a:lnTo>
                      <a:lnTo>
                        <a:pt x="1227" y="225"/>
                      </a:lnTo>
                      <a:lnTo>
                        <a:pt x="1137" y="147"/>
                      </a:lnTo>
                      <a:lnTo>
                        <a:pt x="1044" y="119"/>
                      </a:lnTo>
                      <a:lnTo>
                        <a:pt x="909" y="40"/>
                      </a:lnTo>
                      <a:lnTo>
                        <a:pt x="747" y="0"/>
                      </a:lnTo>
                      <a:lnTo>
                        <a:pt x="584" y="4"/>
                      </a:lnTo>
                      <a:lnTo>
                        <a:pt x="427" y="36"/>
                      </a:lnTo>
                      <a:lnTo>
                        <a:pt x="298" y="97"/>
                      </a:lnTo>
                      <a:lnTo>
                        <a:pt x="127" y="161"/>
                      </a:lnTo>
                      <a:lnTo>
                        <a:pt x="7" y="1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401680" y="5717880"/>
                  <a:ext cx="28440" cy="32040"/>
                </a:xfrm>
                <a:custGeom>
                  <a:avLst/>
                  <a:gdLst/>
                  <a:ahLst/>
                  <a:rect l="l" t="t" r="r" b="b"/>
                  <a:pathLst>
                    <a:path w="445" h="358">
                      <a:moveTo>
                        <a:pt x="141" y="27"/>
                      </a:moveTo>
                      <a:lnTo>
                        <a:pt x="69" y="48"/>
                      </a:lnTo>
                      <a:lnTo>
                        <a:pt x="0" y="113"/>
                      </a:lnTo>
                      <a:lnTo>
                        <a:pt x="84" y="113"/>
                      </a:lnTo>
                      <a:lnTo>
                        <a:pt x="42" y="209"/>
                      </a:lnTo>
                      <a:lnTo>
                        <a:pt x="93" y="233"/>
                      </a:lnTo>
                      <a:lnTo>
                        <a:pt x="127" y="358"/>
                      </a:lnTo>
                      <a:lnTo>
                        <a:pt x="115" y="222"/>
                      </a:lnTo>
                      <a:lnTo>
                        <a:pt x="163" y="180"/>
                      </a:lnTo>
                      <a:lnTo>
                        <a:pt x="240" y="161"/>
                      </a:lnTo>
                      <a:lnTo>
                        <a:pt x="316" y="161"/>
                      </a:lnTo>
                      <a:lnTo>
                        <a:pt x="385" y="173"/>
                      </a:lnTo>
                      <a:lnTo>
                        <a:pt x="445" y="209"/>
                      </a:lnTo>
                      <a:lnTo>
                        <a:pt x="374" y="161"/>
                      </a:lnTo>
                      <a:lnTo>
                        <a:pt x="268" y="134"/>
                      </a:lnTo>
                      <a:lnTo>
                        <a:pt x="189" y="134"/>
                      </a:lnTo>
                      <a:lnTo>
                        <a:pt x="99" y="161"/>
                      </a:lnTo>
                      <a:lnTo>
                        <a:pt x="106" y="119"/>
                      </a:lnTo>
                      <a:lnTo>
                        <a:pt x="150" y="90"/>
                      </a:lnTo>
                      <a:lnTo>
                        <a:pt x="62" y="90"/>
                      </a:lnTo>
                      <a:lnTo>
                        <a:pt x="99" y="64"/>
                      </a:lnTo>
                      <a:lnTo>
                        <a:pt x="163" y="33"/>
                      </a:lnTo>
                      <a:lnTo>
                        <a:pt x="219" y="42"/>
                      </a:lnTo>
                      <a:lnTo>
                        <a:pt x="316" y="64"/>
                      </a:lnTo>
                      <a:lnTo>
                        <a:pt x="247" y="20"/>
                      </a:lnTo>
                      <a:lnTo>
                        <a:pt x="163" y="0"/>
                      </a:lnTo>
                      <a:lnTo>
                        <a:pt x="1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411040" y="5755320"/>
                  <a:ext cx="24480" cy="27720"/>
                </a:xfrm>
                <a:custGeom>
                  <a:avLst/>
                  <a:gdLst/>
                  <a:ahLst/>
                  <a:rect l="l" t="t" r="r" b="b"/>
                  <a:pathLst>
                    <a:path w="387" h="303">
                      <a:moveTo>
                        <a:pt x="22" y="18"/>
                      </a:moveTo>
                      <a:lnTo>
                        <a:pt x="115" y="0"/>
                      </a:lnTo>
                      <a:lnTo>
                        <a:pt x="191" y="18"/>
                      </a:lnTo>
                      <a:lnTo>
                        <a:pt x="244" y="53"/>
                      </a:lnTo>
                      <a:lnTo>
                        <a:pt x="281" y="92"/>
                      </a:lnTo>
                      <a:lnTo>
                        <a:pt x="288" y="138"/>
                      </a:lnTo>
                      <a:lnTo>
                        <a:pt x="281" y="156"/>
                      </a:lnTo>
                      <a:lnTo>
                        <a:pt x="255" y="152"/>
                      </a:lnTo>
                      <a:lnTo>
                        <a:pt x="219" y="130"/>
                      </a:lnTo>
                      <a:lnTo>
                        <a:pt x="175" y="92"/>
                      </a:lnTo>
                      <a:lnTo>
                        <a:pt x="127" y="87"/>
                      </a:lnTo>
                      <a:lnTo>
                        <a:pt x="172" y="152"/>
                      </a:lnTo>
                      <a:lnTo>
                        <a:pt x="191" y="207"/>
                      </a:lnTo>
                      <a:lnTo>
                        <a:pt x="182" y="260"/>
                      </a:lnTo>
                      <a:lnTo>
                        <a:pt x="360" y="290"/>
                      </a:lnTo>
                      <a:lnTo>
                        <a:pt x="387" y="303"/>
                      </a:lnTo>
                      <a:lnTo>
                        <a:pt x="147" y="276"/>
                      </a:lnTo>
                      <a:lnTo>
                        <a:pt x="163" y="239"/>
                      </a:lnTo>
                      <a:lnTo>
                        <a:pt x="156" y="191"/>
                      </a:lnTo>
                      <a:lnTo>
                        <a:pt x="121" y="130"/>
                      </a:lnTo>
                      <a:lnTo>
                        <a:pt x="83" y="87"/>
                      </a:lnTo>
                      <a:lnTo>
                        <a:pt x="16" y="53"/>
                      </a:lnTo>
                      <a:lnTo>
                        <a:pt x="0" y="9"/>
                      </a:lnTo>
                      <a:lnTo>
                        <a:pt x="22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416080" y="5780520"/>
                  <a:ext cx="13680" cy="29160"/>
                </a:xfrm>
                <a:custGeom>
                  <a:avLst/>
                  <a:gdLst/>
                  <a:ahLst/>
                  <a:rect l="l" t="t" r="r" b="b"/>
                  <a:pathLst>
                    <a:path w="214" h="313">
                      <a:moveTo>
                        <a:pt x="89" y="0"/>
                      </a:moveTo>
                      <a:lnTo>
                        <a:pt x="0" y="179"/>
                      </a:lnTo>
                      <a:lnTo>
                        <a:pt x="9" y="313"/>
                      </a:lnTo>
                      <a:lnTo>
                        <a:pt x="214" y="65"/>
                      </a:lnTo>
                      <a:lnTo>
                        <a:pt x="214" y="14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369640" y="5854680"/>
                  <a:ext cx="54720" cy="58680"/>
                </a:xfrm>
                <a:custGeom>
                  <a:avLst/>
                  <a:gdLst/>
                  <a:ahLst/>
                  <a:rect l="l" t="t" r="r" b="b"/>
                  <a:pathLst>
                    <a:path w="857" h="640">
                      <a:moveTo>
                        <a:pt x="857" y="0"/>
                      </a:moveTo>
                      <a:lnTo>
                        <a:pt x="749" y="53"/>
                      </a:lnTo>
                      <a:lnTo>
                        <a:pt x="648" y="198"/>
                      </a:lnTo>
                      <a:lnTo>
                        <a:pt x="514" y="187"/>
                      </a:lnTo>
                      <a:lnTo>
                        <a:pt x="470" y="260"/>
                      </a:lnTo>
                      <a:lnTo>
                        <a:pt x="415" y="297"/>
                      </a:lnTo>
                      <a:lnTo>
                        <a:pt x="276" y="288"/>
                      </a:lnTo>
                      <a:lnTo>
                        <a:pt x="186" y="321"/>
                      </a:lnTo>
                      <a:lnTo>
                        <a:pt x="118" y="345"/>
                      </a:lnTo>
                      <a:lnTo>
                        <a:pt x="48" y="345"/>
                      </a:lnTo>
                      <a:lnTo>
                        <a:pt x="0" y="317"/>
                      </a:lnTo>
                      <a:lnTo>
                        <a:pt x="48" y="359"/>
                      </a:lnTo>
                      <a:lnTo>
                        <a:pt x="105" y="366"/>
                      </a:lnTo>
                      <a:lnTo>
                        <a:pt x="223" y="366"/>
                      </a:lnTo>
                      <a:lnTo>
                        <a:pt x="294" y="391"/>
                      </a:lnTo>
                      <a:lnTo>
                        <a:pt x="382" y="514"/>
                      </a:lnTo>
                      <a:lnTo>
                        <a:pt x="507" y="611"/>
                      </a:lnTo>
                      <a:lnTo>
                        <a:pt x="527" y="640"/>
                      </a:lnTo>
                      <a:lnTo>
                        <a:pt x="564" y="615"/>
                      </a:lnTo>
                      <a:lnTo>
                        <a:pt x="555" y="550"/>
                      </a:lnTo>
                      <a:lnTo>
                        <a:pt x="544" y="461"/>
                      </a:lnTo>
                      <a:lnTo>
                        <a:pt x="555" y="380"/>
                      </a:lnTo>
                      <a:lnTo>
                        <a:pt x="569" y="327"/>
                      </a:lnTo>
                      <a:lnTo>
                        <a:pt x="630" y="267"/>
                      </a:lnTo>
                      <a:lnTo>
                        <a:pt x="685" y="226"/>
                      </a:lnTo>
                      <a:lnTo>
                        <a:pt x="738" y="132"/>
                      </a:lnTo>
                      <a:lnTo>
                        <a:pt x="800" y="57"/>
                      </a:lnTo>
                      <a:lnTo>
                        <a:pt x="8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412480" y="5819400"/>
                  <a:ext cx="4320" cy="31320"/>
                </a:xfrm>
                <a:custGeom>
                  <a:avLst/>
                  <a:gdLst/>
                  <a:ahLst/>
                  <a:rect l="l" t="t" r="r" b="b"/>
                  <a:pathLst>
                    <a:path w="72" h="339">
                      <a:moveTo>
                        <a:pt x="56" y="0"/>
                      </a:moveTo>
                      <a:lnTo>
                        <a:pt x="0" y="339"/>
                      </a:lnTo>
                      <a:lnTo>
                        <a:pt x="72" y="117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355960" y="5747400"/>
                  <a:ext cx="48240" cy="16560"/>
                </a:xfrm>
                <a:custGeom>
                  <a:avLst/>
                  <a:gdLst/>
                  <a:ahLst/>
                  <a:rect l="l" t="t" r="r" b="b"/>
                  <a:pathLst>
                    <a:path w="747" h="189">
                      <a:moveTo>
                        <a:pt x="0" y="189"/>
                      </a:moveTo>
                      <a:lnTo>
                        <a:pt x="38" y="145"/>
                      </a:lnTo>
                      <a:lnTo>
                        <a:pt x="95" y="117"/>
                      </a:lnTo>
                      <a:lnTo>
                        <a:pt x="189" y="97"/>
                      </a:lnTo>
                      <a:lnTo>
                        <a:pt x="341" y="78"/>
                      </a:lnTo>
                      <a:lnTo>
                        <a:pt x="460" y="39"/>
                      </a:lnTo>
                      <a:lnTo>
                        <a:pt x="581" y="0"/>
                      </a:lnTo>
                      <a:lnTo>
                        <a:pt x="664" y="0"/>
                      </a:lnTo>
                      <a:lnTo>
                        <a:pt x="715" y="29"/>
                      </a:lnTo>
                      <a:lnTo>
                        <a:pt x="747" y="4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366760" y="5741280"/>
                  <a:ext cx="36000" cy="10080"/>
                </a:xfrm>
                <a:custGeom>
                  <a:avLst/>
                  <a:gdLst/>
                  <a:ahLst/>
                  <a:rect l="l" t="t" r="r" b="b"/>
                  <a:pathLst>
                    <a:path w="563" h="118">
                      <a:moveTo>
                        <a:pt x="0" y="118"/>
                      </a:moveTo>
                      <a:lnTo>
                        <a:pt x="134" y="94"/>
                      </a:lnTo>
                      <a:lnTo>
                        <a:pt x="266" y="41"/>
                      </a:lnTo>
                      <a:lnTo>
                        <a:pt x="362" y="4"/>
                      </a:lnTo>
                      <a:lnTo>
                        <a:pt x="436" y="0"/>
                      </a:lnTo>
                      <a:lnTo>
                        <a:pt x="496" y="17"/>
                      </a:lnTo>
                      <a:lnTo>
                        <a:pt x="563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380080" y="5736240"/>
                  <a:ext cx="18000" cy="4680"/>
                </a:xfrm>
                <a:custGeom>
                  <a:avLst/>
                  <a:gdLst/>
                  <a:ahLst/>
                  <a:rect l="l" t="t" r="r" b="b"/>
                  <a:pathLst>
                    <a:path w="279" h="62">
                      <a:moveTo>
                        <a:pt x="0" y="62"/>
                      </a:moveTo>
                      <a:lnTo>
                        <a:pt x="161" y="7"/>
                      </a:lnTo>
                      <a:lnTo>
                        <a:pt x="223" y="0"/>
                      </a:lnTo>
                      <a:lnTo>
                        <a:pt x="279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400600" y="5768640"/>
                  <a:ext cx="6480" cy="11520"/>
                </a:xfrm>
                <a:custGeom>
                  <a:avLst/>
                  <a:gdLst/>
                  <a:ahLst/>
                  <a:rect l="l" t="t" r="r" b="b"/>
                  <a:pathLst>
                    <a:path w="105" h="128">
                      <a:moveTo>
                        <a:pt x="0" y="0"/>
                      </a:moveTo>
                      <a:lnTo>
                        <a:pt x="0" y="101"/>
                      </a:lnTo>
                      <a:lnTo>
                        <a:pt x="52" y="128"/>
                      </a:lnTo>
                      <a:lnTo>
                        <a:pt x="105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466840" y="5916960"/>
                  <a:ext cx="136440" cy="346680"/>
                </a:xfrm>
                <a:custGeom>
                  <a:avLst/>
                  <a:gdLst/>
                  <a:ahLst/>
                  <a:rect l="l" t="t" r="r" b="b"/>
                  <a:pathLst>
                    <a:path w="2124" h="3774">
                      <a:moveTo>
                        <a:pt x="1483" y="509"/>
                      </a:moveTo>
                      <a:lnTo>
                        <a:pt x="1612" y="966"/>
                      </a:lnTo>
                      <a:lnTo>
                        <a:pt x="1929" y="1474"/>
                      </a:lnTo>
                      <a:lnTo>
                        <a:pt x="1810" y="2116"/>
                      </a:lnTo>
                      <a:lnTo>
                        <a:pt x="2124" y="3119"/>
                      </a:lnTo>
                      <a:lnTo>
                        <a:pt x="2124" y="3774"/>
                      </a:lnTo>
                      <a:lnTo>
                        <a:pt x="916" y="3766"/>
                      </a:lnTo>
                      <a:lnTo>
                        <a:pt x="0" y="3302"/>
                      </a:lnTo>
                      <a:lnTo>
                        <a:pt x="499" y="2990"/>
                      </a:lnTo>
                      <a:lnTo>
                        <a:pt x="510" y="2782"/>
                      </a:lnTo>
                      <a:lnTo>
                        <a:pt x="589" y="2443"/>
                      </a:lnTo>
                      <a:lnTo>
                        <a:pt x="589" y="2755"/>
                      </a:lnTo>
                      <a:lnTo>
                        <a:pt x="932" y="2375"/>
                      </a:lnTo>
                      <a:lnTo>
                        <a:pt x="995" y="2285"/>
                      </a:lnTo>
                      <a:lnTo>
                        <a:pt x="1024" y="2116"/>
                      </a:lnTo>
                      <a:lnTo>
                        <a:pt x="1063" y="1931"/>
                      </a:lnTo>
                      <a:lnTo>
                        <a:pt x="1301" y="1946"/>
                      </a:lnTo>
                      <a:lnTo>
                        <a:pt x="1377" y="1812"/>
                      </a:lnTo>
                      <a:lnTo>
                        <a:pt x="1206" y="1501"/>
                      </a:lnTo>
                      <a:lnTo>
                        <a:pt x="1377" y="1501"/>
                      </a:lnTo>
                      <a:lnTo>
                        <a:pt x="1377" y="1434"/>
                      </a:lnTo>
                      <a:lnTo>
                        <a:pt x="1232" y="1265"/>
                      </a:lnTo>
                      <a:lnTo>
                        <a:pt x="1246" y="1148"/>
                      </a:lnTo>
                      <a:lnTo>
                        <a:pt x="1457" y="966"/>
                      </a:lnTo>
                      <a:lnTo>
                        <a:pt x="1470" y="717"/>
                      </a:lnTo>
                      <a:lnTo>
                        <a:pt x="1351" y="496"/>
                      </a:lnTo>
                      <a:lnTo>
                        <a:pt x="1324" y="258"/>
                      </a:lnTo>
                      <a:lnTo>
                        <a:pt x="1206" y="0"/>
                      </a:lnTo>
                      <a:lnTo>
                        <a:pt x="1419" y="351"/>
                      </a:lnTo>
                      <a:lnTo>
                        <a:pt x="1483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445960" y="5830920"/>
                  <a:ext cx="47160" cy="79920"/>
                </a:xfrm>
                <a:custGeom>
                  <a:avLst/>
                  <a:gdLst/>
                  <a:ahLst/>
                  <a:rect l="l" t="t" r="r" b="b"/>
                  <a:pathLst>
                    <a:path w="734" h="874">
                      <a:moveTo>
                        <a:pt x="38" y="65"/>
                      </a:moveTo>
                      <a:lnTo>
                        <a:pt x="156" y="301"/>
                      </a:lnTo>
                      <a:lnTo>
                        <a:pt x="0" y="874"/>
                      </a:lnTo>
                      <a:lnTo>
                        <a:pt x="220" y="222"/>
                      </a:lnTo>
                      <a:lnTo>
                        <a:pt x="220" y="158"/>
                      </a:lnTo>
                      <a:lnTo>
                        <a:pt x="195" y="106"/>
                      </a:lnTo>
                      <a:lnTo>
                        <a:pt x="328" y="158"/>
                      </a:lnTo>
                      <a:lnTo>
                        <a:pt x="420" y="250"/>
                      </a:lnTo>
                      <a:lnTo>
                        <a:pt x="446" y="367"/>
                      </a:lnTo>
                      <a:lnTo>
                        <a:pt x="378" y="547"/>
                      </a:lnTo>
                      <a:lnTo>
                        <a:pt x="486" y="404"/>
                      </a:lnTo>
                      <a:lnTo>
                        <a:pt x="576" y="433"/>
                      </a:lnTo>
                      <a:lnTo>
                        <a:pt x="290" y="874"/>
                      </a:lnTo>
                      <a:lnTo>
                        <a:pt x="734" y="378"/>
                      </a:lnTo>
                      <a:lnTo>
                        <a:pt x="681" y="325"/>
                      </a:lnTo>
                      <a:lnTo>
                        <a:pt x="617" y="367"/>
                      </a:lnTo>
                      <a:lnTo>
                        <a:pt x="499" y="339"/>
                      </a:lnTo>
                      <a:lnTo>
                        <a:pt x="472" y="235"/>
                      </a:lnTo>
                      <a:lnTo>
                        <a:pt x="393" y="158"/>
                      </a:lnTo>
                      <a:lnTo>
                        <a:pt x="248" y="79"/>
                      </a:lnTo>
                      <a:lnTo>
                        <a:pt x="156" y="79"/>
                      </a:lnTo>
                      <a:lnTo>
                        <a:pt x="0" y="0"/>
                      </a:lnTo>
                      <a:lnTo>
                        <a:pt x="38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501040" y="5869440"/>
                  <a:ext cx="41040" cy="45360"/>
                </a:xfrm>
                <a:custGeom>
                  <a:avLst/>
                  <a:gdLst/>
                  <a:ahLst/>
                  <a:rect l="l" t="t" r="r" b="b"/>
                  <a:pathLst>
                    <a:path w="643" h="496">
                      <a:moveTo>
                        <a:pt x="0" y="0"/>
                      </a:moveTo>
                      <a:lnTo>
                        <a:pt x="198" y="94"/>
                      </a:lnTo>
                      <a:lnTo>
                        <a:pt x="420" y="168"/>
                      </a:lnTo>
                      <a:lnTo>
                        <a:pt x="643" y="496"/>
                      </a:lnTo>
                      <a:lnTo>
                        <a:pt x="500" y="442"/>
                      </a:lnTo>
                      <a:lnTo>
                        <a:pt x="408" y="2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391240" y="5916240"/>
                  <a:ext cx="42480" cy="223920"/>
                </a:xfrm>
                <a:custGeom>
                  <a:avLst/>
                  <a:gdLst/>
                  <a:ahLst/>
                  <a:rect l="l" t="t" r="r" b="b"/>
                  <a:pathLst>
                    <a:path w="667" h="2442">
                      <a:moveTo>
                        <a:pt x="208" y="0"/>
                      </a:moveTo>
                      <a:lnTo>
                        <a:pt x="208" y="88"/>
                      </a:lnTo>
                      <a:lnTo>
                        <a:pt x="618" y="326"/>
                      </a:lnTo>
                      <a:lnTo>
                        <a:pt x="272" y="194"/>
                      </a:lnTo>
                      <a:lnTo>
                        <a:pt x="208" y="440"/>
                      </a:lnTo>
                      <a:lnTo>
                        <a:pt x="272" y="625"/>
                      </a:lnTo>
                      <a:lnTo>
                        <a:pt x="272" y="794"/>
                      </a:lnTo>
                      <a:lnTo>
                        <a:pt x="208" y="1190"/>
                      </a:lnTo>
                      <a:lnTo>
                        <a:pt x="153" y="1543"/>
                      </a:lnTo>
                      <a:lnTo>
                        <a:pt x="185" y="1734"/>
                      </a:lnTo>
                      <a:lnTo>
                        <a:pt x="314" y="1996"/>
                      </a:lnTo>
                      <a:lnTo>
                        <a:pt x="512" y="2218"/>
                      </a:lnTo>
                      <a:lnTo>
                        <a:pt x="667" y="2257"/>
                      </a:lnTo>
                      <a:lnTo>
                        <a:pt x="470" y="2242"/>
                      </a:lnTo>
                      <a:lnTo>
                        <a:pt x="404" y="2273"/>
                      </a:lnTo>
                      <a:lnTo>
                        <a:pt x="404" y="2442"/>
                      </a:lnTo>
                      <a:lnTo>
                        <a:pt x="272" y="2321"/>
                      </a:lnTo>
                      <a:lnTo>
                        <a:pt x="0" y="2400"/>
                      </a:lnTo>
                      <a:lnTo>
                        <a:pt x="245" y="2297"/>
                      </a:lnTo>
                      <a:lnTo>
                        <a:pt x="185" y="2089"/>
                      </a:lnTo>
                      <a:lnTo>
                        <a:pt x="129" y="1801"/>
                      </a:lnTo>
                      <a:lnTo>
                        <a:pt x="116" y="1501"/>
                      </a:lnTo>
                      <a:lnTo>
                        <a:pt x="143" y="1200"/>
                      </a:lnTo>
                      <a:lnTo>
                        <a:pt x="208" y="911"/>
                      </a:lnTo>
                      <a:lnTo>
                        <a:pt x="233" y="756"/>
                      </a:lnTo>
                      <a:lnTo>
                        <a:pt x="233" y="598"/>
                      </a:lnTo>
                      <a:lnTo>
                        <a:pt x="185" y="494"/>
                      </a:lnTo>
                      <a:lnTo>
                        <a:pt x="51" y="440"/>
                      </a:lnTo>
                      <a:lnTo>
                        <a:pt x="185" y="130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7" name=""/>
              <p:cNvSpPr/>
              <p:nvPr/>
            </p:nvSpPr>
            <p:spPr>
              <a:xfrm>
                <a:off x="8328960" y="5913360"/>
                <a:ext cx="69480" cy="223920"/>
              </a:xfrm>
              <a:custGeom>
                <a:avLst/>
                <a:gdLst/>
                <a:ahLst/>
                <a:rect l="l" t="t" r="r" b="b"/>
                <a:pathLst>
                  <a:path w="1088" h="2442">
                    <a:moveTo>
                      <a:pt x="1035" y="0"/>
                    </a:moveTo>
                    <a:lnTo>
                      <a:pt x="958" y="116"/>
                    </a:lnTo>
                    <a:lnTo>
                      <a:pt x="943" y="238"/>
                    </a:lnTo>
                    <a:lnTo>
                      <a:pt x="943" y="455"/>
                    </a:lnTo>
                    <a:lnTo>
                      <a:pt x="931" y="784"/>
                    </a:lnTo>
                    <a:lnTo>
                      <a:pt x="866" y="1292"/>
                    </a:lnTo>
                    <a:lnTo>
                      <a:pt x="838" y="1672"/>
                    </a:lnTo>
                    <a:lnTo>
                      <a:pt x="853" y="1894"/>
                    </a:lnTo>
                    <a:lnTo>
                      <a:pt x="890" y="2074"/>
                    </a:lnTo>
                    <a:lnTo>
                      <a:pt x="943" y="2207"/>
                    </a:lnTo>
                    <a:lnTo>
                      <a:pt x="1023" y="2338"/>
                    </a:lnTo>
                    <a:lnTo>
                      <a:pt x="1088" y="2378"/>
                    </a:lnTo>
                    <a:lnTo>
                      <a:pt x="980" y="2442"/>
                    </a:lnTo>
                    <a:lnTo>
                      <a:pt x="866" y="2442"/>
                    </a:lnTo>
                    <a:lnTo>
                      <a:pt x="866" y="2232"/>
                    </a:lnTo>
                    <a:lnTo>
                      <a:pt x="798" y="2052"/>
                    </a:lnTo>
                    <a:lnTo>
                      <a:pt x="576" y="1424"/>
                    </a:lnTo>
                    <a:lnTo>
                      <a:pt x="156" y="1488"/>
                    </a:lnTo>
                    <a:lnTo>
                      <a:pt x="75" y="1474"/>
                    </a:lnTo>
                    <a:lnTo>
                      <a:pt x="391" y="1345"/>
                    </a:lnTo>
                    <a:lnTo>
                      <a:pt x="341" y="1228"/>
                    </a:lnTo>
                    <a:lnTo>
                      <a:pt x="0" y="1228"/>
                    </a:lnTo>
                    <a:lnTo>
                      <a:pt x="260" y="1110"/>
                    </a:lnTo>
                    <a:lnTo>
                      <a:pt x="456" y="1096"/>
                    </a:lnTo>
                    <a:lnTo>
                      <a:pt x="417" y="849"/>
                    </a:lnTo>
                    <a:lnTo>
                      <a:pt x="798" y="1905"/>
                    </a:lnTo>
                    <a:lnTo>
                      <a:pt x="798" y="1608"/>
                    </a:lnTo>
                    <a:lnTo>
                      <a:pt x="838" y="1257"/>
                    </a:lnTo>
                    <a:lnTo>
                      <a:pt x="890" y="863"/>
                    </a:lnTo>
                    <a:lnTo>
                      <a:pt x="919" y="575"/>
                    </a:lnTo>
                    <a:lnTo>
                      <a:pt x="919" y="169"/>
                    </a:lnTo>
                    <a:lnTo>
                      <a:pt x="972" y="53"/>
                    </a:lnTo>
                    <a:lnTo>
                      <a:pt x="10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8422200" y="5945760"/>
                <a:ext cx="92880" cy="193320"/>
              </a:xfrm>
              <a:custGeom>
                <a:avLst/>
                <a:gdLst/>
                <a:ahLst/>
                <a:rect l="l" t="t" r="r" b="b"/>
                <a:pathLst>
                  <a:path w="1444" h="2100">
                    <a:moveTo>
                      <a:pt x="198" y="1931"/>
                    </a:moveTo>
                    <a:lnTo>
                      <a:pt x="407" y="1995"/>
                    </a:lnTo>
                    <a:lnTo>
                      <a:pt x="589" y="2100"/>
                    </a:lnTo>
                    <a:lnTo>
                      <a:pt x="446" y="1931"/>
                    </a:lnTo>
                    <a:lnTo>
                      <a:pt x="343" y="1841"/>
                    </a:lnTo>
                    <a:lnTo>
                      <a:pt x="248" y="1826"/>
                    </a:lnTo>
                    <a:lnTo>
                      <a:pt x="211" y="1812"/>
                    </a:lnTo>
                    <a:lnTo>
                      <a:pt x="211" y="1632"/>
                    </a:lnTo>
                    <a:lnTo>
                      <a:pt x="264" y="1593"/>
                    </a:lnTo>
                    <a:lnTo>
                      <a:pt x="499" y="1498"/>
                    </a:lnTo>
                    <a:lnTo>
                      <a:pt x="776" y="1318"/>
                    </a:lnTo>
                    <a:lnTo>
                      <a:pt x="1025" y="1070"/>
                    </a:lnTo>
                    <a:lnTo>
                      <a:pt x="1444" y="495"/>
                    </a:lnTo>
                    <a:lnTo>
                      <a:pt x="1444" y="403"/>
                    </a:lnTo>
                    <a:lnTo>
                      <a:pt x="1092" y="834"/>
                    </a:lnTo>
                    <a:lnTo>
                      <a:pt x="710" y="1217"/>
                    </a:lnTo>
                    <a:lnTo>
                      <a:pt x="369" y="1448"/>
                    </a:lnTo>
                    <a:lnTo>
                      <a:pt x="578" y="1081"/>
                    </a:lnTo>
                    <a:lnTo>
                      <a:pt x="684" y="732"/>
                    </a:lnTo>
                    <a:lnTo>
                      <a:pt x="710" y="495"/>
                    </a:lnTo>
                    <a:lnTo>
                      <a:pt x="879" y="140"/>
                    </a:lnTo>
                    <a:lnTo>
                      <a:pt x="1117" y="0"/>
                    </a:lnTo>
                    <a:lnTo>
                      <a:pt x="855" y="127"/>
                    </a:lnTo>
                    <a:lnTo>
                      <a:pt x="644" y="442"/>
                    </a:lnTo>
                    <a:lnTo>
                      <a:pt x="644" y="769"/>
                    </a:lnTo>
                    <a:lnTo>
                      <a:pt x="525" y="1081"/>
                    </a:lnTo>
                    <a:lnTo>
                      <a:pt x="356" y="1371"/>
                    </a:lnTo>
                    <a:lnTo>
                      <a:pt x="184" y="1604"/>
                    </a:lnTo>
                    <a:lnTo>
                      <a:pt x="184" y="1826"/>
                    </a:lnTo>
                    <a:lnTo>
                      <a:pt x="0" y="1905"/>
                    </a:lnTo>
                    <a:lnTo>
                      <a:pt x="198" y="19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8419680" y="6146280"/>
                <a:ext cx="52200" cy="70200"/>
              </a:xfrm>
              <a:custGeom>
                <a:avLst/>
                <a:gdLst/>
                <a:ahLst/>
                <a:rect l="l" t="t" r="r" b="b"/>
                <a:pathLst>
                  <a:path w="818" h="773">
                    <a:moveTo>
                      <a:pt x="671" y="0"/>
                    </a:moveTo>
                    <a:lnTo>
                      <a:pt x="776" y="184"/>
                    </a:lnTo>
                    <a:lnTo>
                      <a:pt x="818" y="419"/>
                    </a:lnTo>
                    <a:lnTo>
                      <a:pt x="818" y="564"/>
                    </a:lnTo>
                    <a:lnTo>
                      <a:pt x="739" y="758"/>
                    </a:lnTo>
                    <a:lnTo>
                      <a:pt x="606" y="773"/>
                    </a:lnTo>
                    <a:lnTo>
                      <a:pt x="369" y="654"/>
                    </a:lnTo>
                    <a:lnTo>
                      <a:pt x="226" y="498"/>
                    </a:lnTo>
                    <a:lnTo>
                      <a:pt x="0" y="14"/>
                    </a:lnTo>
                    <a:lnTo>
                      <a:pt x="161" y="290"/>
                    </a:lnTo>
                    <a:lnTo>
                      <a:pt x="435" y="512"/>
                    </a:lnTo>
                    <a:lnTo>
                      <a:pt x="739" y="588"/>
                    </a:lnTo>
                    <a:lnTo>
                      <a:pt x="752" y="474"/>
                    </a:lnTo>
                    <a:lnTo>
                      <a:pt x="712" y="327"/>
                    </a:lnTo>
                    <a:lnTo>
                      <a:pt x="620" y="235"/>
                    </a:lnTo>
                    <a:lnTo>
                      <a:pt x="477" y="184"/>
                    </a:lnTo>
                    <a:lnTo>
                      <a:pt x="620" y="147"/>
                    </a:lnTo>
                    <a:lnTo>
                      <a:pt x="671" y="65"/>
                    </a:lnTo>
                    <a:lnTo>
                      <a:pt x="6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8311680" y="6163560"/>
                <a:ext cx="135360" cy="55800"/>
              </a:xfrm>
              <a:custGeom>
                <a:avLst/>
                <a:gdLst/>
                <a:ahLst/>
                <a:rect l="l" t="t" r="r" b="b"/>
                <a:pathLst>
                  <a:path w="2111" h="613">
                    <a:moveTo>
                      <a:pt x="2111" y="613"/>
                    </a:moveTo>
                    <a:lnTo>
                      <a:pt x="1718" y="602"/>
                    </a:lnTo>
                    <a:lnTo>
                      <a:pt x="1194" y="549"/>
                    </a:lnTo>
                    <a:lnTo>
                      <a:pt x="593" y="380"/>
                    </a:lnTo>
                    <a:lnTo>
                      <a:pt x="103" y="301"/>
                    </a:lnTo>
                    <a:lnTo>
                      <a:pt x="26" y="235"/>
                    </a:lnTo>
                    <a:lnTo>
                      <a:pt x="0" y="90"/>
                    </a:lnTo>
                    <a:lnTo>
                      <a:pt x="353" y="143"/>
                    </a:lnTo>
                    <a:lnTo>
                      <a:pt x="364" y="0"/>
                    </a:lnTo>
                    <a:lnTo>
                      <a:pt x="406" y="143"/>
                    </a:lnTo>
                    <a:lnTo>
                      <a:pt x="643" y="143"/>
                    </a:lnTo>
                    <a:lnTo>
                      <a:pt x="419" y="249"/>
                    </a:lnTo>
                    <a:lnTo>
                      <a:pt x="445" y="328"/>
                    </a:lnTo>
                    <a:lnTo>
                      <a:pt x="929" y="290"/>
                    </a:lnTo>
                    <a:lnTo>
                      <a:pt x="1243" y="301"/>
                    </a:lnTo>
                    <a:lnTo>
                      <a:pt x="1586" y="362"/>
                    </a:lnTo>
                    <a:lnTo>
                      <a:pt x="1773" y="433"/>
                    </a:lnTo>
                    <a:lnTo>
                      <a:pt x="1625" y="249"/>
                    </a:lnTo>
                    <a:lnTo>
                      <a:pt x="1494" y="169"/>
                    </a:lnTo>
                    <a:lnTo>
                      <a:pt x="1221" y="106"/>
                    </a:lnTo>
                    <a:lnTo>
                      <a:pt x="1549" y="106"/>
                    </a:lnTo>
                    <a:lnTo>
                      <a:pt x="1747" y="235"/>
                    </a:lnTo>
                    <a:lnTo>
                      <a:pt x="1821" y="393"/>
                    </a:lnTo>
                    <a:lnTo>
                      <a:pt x="1929" y="496"/>
                    </a:lnTo>
                    <a:lnTo>
                      <a:pt x="2019" y="574"/>
                    </a:lnTo>
                    <a:lnTo>
                      <a:pt x="2111" y="6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8311680" y="6056640"/>
                <a:ext cx="58320" cy="66600"/>
              </a:xfrm>
              <a:custGeom>
                <a:avLst/>
                <a:gdLst/>
                <a:ahLst/>
                <a:rect l="l" t="t" r="r" b="b"/>
                <a:pathLst>
                  <a:path w="905" h="731">
                    <a:moveTo>
                      <a:pt x="168" y="731"/>
                    </a:moveTo>
                    <a:lnTo>
                      <a:pt x="301" y="612"/>
                    </a:lnTo>
                    <a:lnTo>
                      <a:pt x="301" y="563"/>
                    </a:lnTo>
                    <a:lnTo>
                      <a:pt x="263" y="512"/>
                    </a:lnTo>
                    <a:lnTo>
                      <a:pt x="143" y="457"/>
                    </a:lnTo>
                    <a:lnTo>
                      <a:pt x="26" y="417"/>
                    </a:lnTo>
                    <a:lnTo>
                      <a:pt x="0" y="393"/>
                    </a:lnTo>
                    <a:lnTo>
                      <a:pt x="0" y="340"/>
                    </a:lnTo>
                    <a:lnTo>
                      <a:pt x="26" y="312"/>
                    </a:lnTo>
                    <a:lnTo>
                      <a:pt x="103" y="275"/>
                    </a:lnTo>
                    <a:lnTo>
                      <a:pt x="118" y="312"/>
                    </a:lnTo>
                    <a:lnTo>
                      <a:pt x="158" y="351"/>
                    </a:lnTo>
                    <a:lnTo>
                      <a:pt x="301" y="379"/>
                    </a:lnTo>
                    <a:lnTo>
                      <a:pt x="285" y="287"/>
                    </a:lnTo>
                    <a:lnTo>
                      <a:pt x="221" y="208"/>
                    </a:lnTo>
                    <a:lnTo>
                      <a:pt x="143" y="129"/>
                    </a:lnTo>
                    <a:lnTo>
                      <a:pt x="13" y="54"/>
                    </a:lnTo>
                    <a:lnTo>
                      <a:pt x="90" y="39"/>
                    </a:lnTo>
                    <a:lnTo>
                      <a:pt x="237" y="79"/>
                    </a:lnTo>
                    <a:lnTo>
                      <a:pt x="364" y="158"/>
                    </a:lnTo>
                    <a:lnTo>
                      <a:pt x="472" y="298"/>
                    </a:lnTo>
                    <a:lnTo>
                      <a:pt x="617" y="235"/>
                    </a:lnTo>
                    <a:lnTo>
                      <a:pt x="461" y="158"/>
                    </a:lnTo>
                    <a:lnTo>
                      <a:pt x="433" y="118"/>
                    </a:lnTo>
                    <a:lnTo>
                      <a:pt x="461" y="79"/>
                    </a:lnTo>
                    <a:lnTo>
                      <a:pt x="562" y="39"/>
                    </a:lnTo>
                    <a:lnTo>
                      <a:pt x="747" y="0"/>
                    </a:lnTo>
                    <a:lnTo>
                      <a:pt x="905" y="0"/>
                    </a:lnTo>
                    <a:lnTo>
                      <a:pt x="823" y="158"/>
                    </a:lnTo>
                    <a:lnTo>
                      <a:pt x="643" y="362"/>
                    </a:lnTo>
                    <a:lnTo>
                      <a:pt x="445" y="549"/>
                    </a:lnTo>
                    <a:lnTo>
                      <a:pt x="301" y="667"/>
                    </a:lnTo>
                    <a:lnTo>
                      <a:pt x="168" y="7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341920" y="5913360"/>
                <a:ext cx="10080" cy="71280"/>
              </a:xfrm>
              <a:custGeom>
                <a:avLst/>
                <a:gdLst/>
                <a:ahLst/>
                <a:rect l="l" t="t" r="r" b="b"/>
                <a:pathLst>
                  <a:path w="157" h="771">
                    <a:moveTo>
                      <a:pt x="65" y="116"/>
                    </a:moveTo>
                    <a:lnTo>
                      <a:pt x="90" y="378"/>
                    </a:lnTo>
                    <a:lnTo>
                      <a:pt x="132" y="626"/>
                    </a:lnTo>
                    <a:lnTo>
                      <a:pt x="157" y="771"/>
                    </a:lnTo>
                    <a:lnTo>
                      <a:pt x="24" y="354"/>
                    </a:lnTo>
                    <a:lnTo>
                      <a:pt x="0" y="222"/>
                    </a:lnTo>
                    <a:lnTo>
                      <a:pt x="51" y="0"/>
                    </a:lnTo>
                    <a:lnTo>
                      <a:pt x="65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70920" y="28080"/>
            <a:ext cx="7388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Avaliar fase: Processo da sistemática de gate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809880" y="2241720"/>
            <a:ext cx="3360960" cy="569880"/>
          </a:xfrm>
          <a:custGeom>
            <a:avLst/>
            <a:gdLst/>
            <a:ahLst/>
            <a:rect l="l" t="t" r="r" b="b"/>
            <a:pathLst>
              <a:path w="2117" h="359">
                <a:moveTo>
                  <a:pt x="1047" y="15"/>
                </a:moveTo>
                <a:lnTo>
                  <a:pt x="0" y="359"/>
                </a:lnTo>
                <a:lnTo>
                  <a:pt x="2117" y="359"/>
                </a:lnTo>
                <a:lnTo>
                  <a:pt x="1496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922400" y="3654360"/>
            <a:ext cx="1946160" cy="439920"/>
          </a:xfrm>
          <a:custGeom>
            <a:avLst/>
            <a:gdLst/>
            <a:ahLst/>
            <a:rect l="l" t="t" r="r" b="b"/>
            <a:pathLst>
              <a:path w="1226" h="277">
                <a:moveTo>
                  <a:pt x="1174" y="0"/>
                </a:moveTo>
                <a:lnTo>
                  <a:pt x="1226" y="277"/>
                </a:lnTo>
                <a:lnTo>
                  <a:pt x="0" y="277"/>
                </a:lnTo>
                <a:lnTo>
                  <a:pt x="1174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460840" y="3665520"/>
            <a:ext cx="3360960" cy="428760"/>
          </a:xfrm>
          <a:custGeom>
            <a:avLst/>
            <a:gdLst/>
            <a:ahLst/>
            <a:rect l="l" t="t" r="r" b="b"/>
            <a:pathLst>
              <a:path w="2117" h="270">
                <a:moveTo>
                  <a:pt x="1055" y="0"/>
                </a:moveTo>
                <a:lnTo>
                  <a:pt x="0" y="255"/>
                </a:lnTo>
                <a:lnTo>
                  <a:pt x="2117" y="270"/>
                </a:lnTo>
                <a:lnTo>
                  <a:pt x="1055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656160" y="4759200"/>
            <a:ext cx="2790720" cy="2149560"/>
          </a:xfrm>
          <a:custGeom>
            <a:avLst/>
            <a:gdLst/>
            <a:ahLst/>
            <a:rect l="l" t="t" r="r" b="b"/>
            <a:pathLst>
              <a:path w="1758" h="1354">
                <a:moveTo>
                  <a:pt x="1758" y="15"/>
                </a:moveTo>
                <a:lnTo>
                  <a:pt x="1758" y="1354"/>
                </a:lnTo>
                <a:lnTo>
                  <a:pt x="0" y="1354"/>
                </a:lnTo>
                <a:lnTo>
                  <a:pt x="0" y="456"/>
                </a:lnTo>
                <a:lnTo>
                  <a:pt x="1152" y="0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4492800" y="1658880"/>
            <a:ext cx="2915640" cy="627120"/>
            <a:chOff x="4492800" y="1658880"/>
            <a:chExt cx="2915640" cy="627120"/>
          </a:xfrm>
        </p:grpSpPr>
        <p:sp>
          <p:nvSpPr>
            <p:cNvPr id="1579" name=""/>
            <p:cNvSpPr/>
            <p:nvPr/>
          </p:nvSpPr>
          <p:spPr>
            <a:xfrm>
              <a:off x="6242040" y="1658880"/>
              <a:ext cx="1166400" cy="627120"/>
            </a:xfrm>
            <a:custGeom>
              <a:avLst/>
              <a:gdLst>
                <a:gd name="textAreaLeft" fmla="*/ 0 w 1166400"/>
                <a:gd name="textAreaRight" fmla="*/ 1166760 w 116640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367240" y="1658880"/>
              <a:ext cx="1166400" cy="627120"/>
            </a:xfrm>
            <a:custGeom>
              <a:avLst/>
              <a:gdLst>
                <a:gd name="textAreaLeft" fmla="*/ 0 w 1166400"/>
                <a:gd name="textAreaRight" fmla="*/ 1166760 w 116640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492800" y="1658880"/>
              <a:ext cx="1166400" cy="627120"/>
            </a:xfrm>
            <a:custGeom>
              <a:avLst/>
              <a:gdLst>
                <a:gd name="textAreaLeft" fmla="*/ 0 w 1166400"/>
                <a:gd name="textAreaRight" fmla="*/ 1166760 w 116640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2" name=""/>
          <p:cNvSpPr/>
          <p:nvPr/>
        </p:nvSpPr>
        <p:spPr>
          <a:xfrm>
            <a:off x="4509720" y="1349280"/>
            <a:ext cx="283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do produto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3648960" y="2790720"/>
            <a:ext cx="3723120" cy="1239480"/>
            <a:chOff x="3648960" y="2790720"/>
            <a:chExt cx="3723120" cy="1239480"/>
          </a:xfrm>
        </p:grpSpPr>
        <p:grpSp>
          <p:nvGrpSpPr>
            <p:cNvPr id="1584" name=""/>
            <p:cNvGrpSpPr/>
            <p:nvPr/>
          </p:nvGrpSpPr>
          <p:grpSpPr>
            <a:xfrm>
              <a:off x="7017120" y="3177720"/>
              <a:ext cx="245160" cy="852480"/>
              <a:chOff x="7017120" y="3177720"/>
              <a:chExt cx="245160" cy="852480"/>
            </a:xfrm>
          </p:grpSpPr>
          <p:sp>
            <p:nvSpPr>
              <p:cNvPr id="1585" name=""/>
              <p:cNvSpPr/>
              <p:nvPr/>
            </p:nvSpPr>
            <p:spPr>
              <a:xfrm>
                <a:off x="7139160" y="3177720"/>
                <a:ext cx="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2700000">
                <a:off x="7044120" y="3474360"/>
                <a:ext cx="190800" cy="155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3768840" y="2790720"/>
              <a:ext cx="3603240" cy="387000"/>
            </a:xfrm>
            <a:custGeom>
              <a:avLst/>
              <a:gdLst>
                <a:gd name="textAreaLeft" fmla="*/ 0 w 3603240"/>
                <a:gd name="textAreaRight" fmla="*/ 3603600 w 360324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82" y="0"/>
                  </a:lnTo>
                  <a:lnTo>
                    <a:pt x="21600" y="10800"/>
                  </a:lnTo>
                  <a:lnTo>
                    <a:pt x="20582" y="21600"/>
                  </a:lnTo>
                  <a:lnTo>
                    <a:pt x="0" y="21600"/>
                  </a:lnTo>
                  <a:lnTo>
                    <a:pt x="1018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8" name=""/>
            <p:cNvGrpSpPr/>
            <p:nvPr/>
          </p:nvGrpSpPr>
          <p:grpSpPr>
            <a:xfrm>
              <a:off x="3648960" y="3172320"/>
              <a:ext cx="245160" cy="852480"/>
              <a:chOff x="3648960" y="3172320"/>
              <a:chExt cx="245160" cy="852480"/>
            </a:xfrm>
          </p:grpSpPr>
          <p:sp>
            <p:nvSpPr>
              <p:cNvPr id="1589" name=""/>
              <p:cNvSpPr/>
              <p:nvPr/>
            </p:nvSpPr>
            <p:spPr>
              <a:xfrm>
                <a:off x="3771000" y="3172320"/>
                <a:ext cx="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2700000">
                <a:off x="3675960" y="3468960"/>
                <a:ext cx="190800" cy="155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1" name=""/>
          <p:cNvSpPr/>
          <p:nvPr/>
        </p:nvSpPr>
        <p:spPr>
          <a:xfrm>
            <a:off x="2352600" y="4046400"/>
            <a:ext cx="1533600" cy="73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finição de critérios para próximo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413320" y="4043520"/>
            <a:ext cx="1035000" cy="736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-avali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4162320" y="3851280"/>
            <a:ext cx="9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é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882600" y="5948280"/>
            <a:ext cx="185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" descr=""/>
          <p:cNvPicPr/>
          <p:nvPr/>
        </p:nvPicPr>
        <p:blipFill>
          <a:blip r:embed="rId1"/>
          <a:stretch/>
        </p:blipFill>
        <p:spPr>
          <a:xfrm>
            <a:off x="6130800" y="5397480"/>
            <a:ext cx="658800" cy="723960"/>
          </a:xfrm>
          <a:prstGeom prst="rect">
            <a:avLst/>
          </a:prstGeom>
          <a:ln w="0">
            <a:noFill/>
          </a:ln>
        </p:spPr>
      </p:pic>
      <p:sp>
        <p:nvSpPr>
          <p:cNvPr id="1596" name=""/>
          <p:cNvSpPr/>
          <p:nvPr/>
        </p:nvSpPr>
        <p:spPr>
          <a:xfrm>
            <a:off x="5964480" y="5079960"/>
            <a:ext cx="967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4257720" y="5160960"/>
            <a:ext cx="1371240" cy="686880"/>
            <a:chOff x="4257720" y="5160960"/>
            <a:chExt cx="1371240" cy="686880"/>
          </a:xfrm>
        </p:grpSpPr>
        <p:grpSp>
          <p:nvGrpSpPr>
            <p:cNvPr id="1598" name=""/>
            <p:cNvGrpSpPr/>
            <p:nvPr/>
          </p:nvGrpSpPr>
          <p:grpSpPr>
            <a:xfrm>
              <a:off x="4257720" y="5160960"/>
              <a:ext cx="1371240" cy="686880"/>
              <a:chOff x="4257720" y="5160960"/>
              <a:chExt cx="1371240" cy="686880"/>
            </a:xfrm>
          </p:grpSpPr>
          <p:sp>
            <p:nvSpPr>
              <p:cNvPr id="1599" name=""/>
              <p:cNvSpPr/>
              <p:nvPr/>
            </p:nvSpPr>
            <p:spPr>
              <a:xfrm>
                <a:off x="4568400" y="53514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581720" y="53582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570560" y="539712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588920" y="55083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643280" y="557604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651200" y="539460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806000" y="56059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824360" y="553788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727520" y="559296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717080" y="54140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726440" y="548856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664520" y="51962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669200" y="528696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755600" y="52938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279320" y="538200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713120" y="560988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662720" y="56678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404240" y="526932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462560" y="54802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477680" y="52174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469040" y="53244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516200" y="53362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694400" y="52632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733640" y="52668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707000" y="531828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187600" y="534888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227560" y="54626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285880" y="546408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362920" y="54633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414400" y="534708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343480" y="543780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136480" y="56372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285160" y="52131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299200" y="530136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345640" y="52894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285880" y="51825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379480" y="52268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373360" y="521424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938480" y="530208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122080" y="560052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4956480" y="54032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943160" y="544536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020560" y="535212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112720" y="53118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189760" y="53719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251320" y="54295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072400" y="534708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069160" y="534708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004000" y="53388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007960" y="51699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033160" y="52725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076360" y="52617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061600" y="52668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053680" y="52819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073480" y="52794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056560" y="53074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020560" y="520308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066280" y="52261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011560" y="52531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101560" y="52380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065200" y="53262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010120" y="53888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010480" y="53650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028120" y="540648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036400" y="52574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073120" y="52531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457880" y="530460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466520" y="53344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484880" y="53244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506840" y="53233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505400" y="53820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461120" y="53751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491000" y="53582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479120" y="54039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438440" y="521568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400640" y="52156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508640" y="52632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417920" y="53600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410000" y="53280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411440" y="53593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410000" y="53676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430160" y="533016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431240" y="53251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436640" y="533520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4442040" y="53456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472280" y="52862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484880" y="52837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376880" y="538812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4257720" y="542772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370400" y="54802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435920" y="570312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453920" y="569052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502880" y="56678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574520" y="572112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473000" y="545724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499640" y="544032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585680" y="564048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632840" y="559728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719600" y="56660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743360" y="570492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749480" y="568872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713840" y="560988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661280" y="567252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631040" y="51717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692960" y="52761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667400" y="52581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677840" y="52660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680000" y="52700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684680" y="528444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670640" y="528768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579200" y="53431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563720" y="53870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629600" y="55609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652640" y="53982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754160" y="53888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723200" y="54864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824360" y="55252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799160" y="55836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736880" y="560988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810680" y="564228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755600" y="52930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90440" y="52599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732920" y="52632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735080" y="52725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692600" y="52480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735080" y="52524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712400" y="52999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728240" y="52606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700520" y="52632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737600" y="52668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706280" y="53175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711680" y="53233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004720" y="53370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012640" y="53726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970160" y="538020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939200" y="54025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81320" y="54957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939200" y="553536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944960" y="55227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961160" y="54313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972320" y="53539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035320" y="53244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047920" y="53708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047920" y="53092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050440" y="534708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105520" y="53082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074560" y="536760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5055120" y="544464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145840" y="53092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193720" y="53168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163840" y="536400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234760" y="54039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246280" y="55321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251320" y="568296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133960" y="563652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177160" y="56365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007240" y="51624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031360" y="52549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029920" y="525636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069160" y="52444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070960" y="52531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065560" y="52480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058000" y="525888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074560" y="52624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011920" y="52617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02280" y="52437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042520" y="52588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077800" y="52531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051880" y="52819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049000" y="530208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058360" y="53143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028480" y="52804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035320" y="52894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084280" y="52855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264640" y="54151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286600" y="52912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295960" y="53118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322240" y="526428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352840" y="528768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317560" y="53388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335560" y="53262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350320" y="53337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293080" y="531576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329080" y="536148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331600" y="53719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266080" y="51843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304600" y="516096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368680" y="52174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380560" y="52606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387400" y="528948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327640" y="53751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382720" y="53344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309640" y="52516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323680" y="52444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340960" y="52387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367600" y="52761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452920" y="544716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425920" y="53481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496840" y="539208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355360" y="54464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9" name=""/>
            <p:cNvSpPr/>
            <p:nvPr/>
          </p:nvSpPr>
          <p:spPr>
            <a:xfrm>
              <a:off x="5274720" y="544284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395320" y="54802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392080" y="571176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252760" y="573120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252760" y="56084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291640" y="544284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5748480" y="5648400"/>
            <a:ext cx="404640" cy="189000"/>
          </a:xfrm>
          <a:prstGeom prst="rightArrow">
            <a:avLst>
              <a:gd name="adj1" fmla="val 50000"/>
              <a:gd name="adj2" fmla="val 53524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213520" y="2828880"/>
            <a:ext cx="7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2852640" y="2981160"/>
            <a:ext cx="93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7161120" y="3081240"/>
            <a:ext cx="81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4400640" y="4121280"/>
            <a:ext cx="519120" cy="600120"/>
            <a:chOff x="4400640" y="4121280"/>
            <a:chExt cx="519120" cy="600120"/>
          </a:xfrm>
        </p:grpSpPr>
        <p:sp>
          <p:nvSpPr>
            <p:cNvPr id="1810" name=""/>
            <p:cNvSpPr/>
            <p:nvPr/>
          </p:nvSpPr>
          <p:spPr>
            <a:xfrm>
              <a:off x="4400640" y="4121280"/>
              <a:ext cx="519120" cy="60012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457880" y="42206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457880" y="42703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457880" y="43200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457880" y="436968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457880" y="44197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457880" y="44694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457880" y="451908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57880" y="45691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457880" y="4618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3962520" y="4325760"/>
            <a:ext cx="404640" cy="189000"/>
          </a:xfrm>
          <a:prstGeom prst="rightArrow">
            <a:avLst>
              <a:gd name="adj1" fmla="val 50000"/>
              <a:gd name="adj2" fmla="val 53524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952880" y="4325760"/>
            <a:ext cx="405000" cy="189000"/>
          </a:xfrm>
          <a:prstGeom prst="rightArrow">
            <a:avLst>
              <a:gd name="adj1" fmla="val 50000"/>
              <a:gd name="adj2" fmla="val 53571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476280" y="1457280"/>
            <a:ext cx="3576600" cy="1274760"/>
            <a:chOff x="476280" y="1457280"/>
            <a:chExt cx="3576600" cy="1274760"/>
          </a:xfrm>
        </p:grpSpPr>
        <p:sp>
          <p:nvSpPr>
            <p:cNvPr id="1823" name=""/>
            <p:cNvSpPr/>
            <p:nvPr/>
          </p:nvSpPr>
          <p:spPr>
            <a:xfrm>
              <a:off x="476280" y="1457280"/>
              <a:ext cx="3576600" cy="1274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" descr=""/>
            <p:cNvPicPr/>
            <p:nvPr/>
          </p:nvPicPr>
          <p:blipFill>
            <a:blip r:embed="rId2"/>
            <a:stretch/>
          </p:blipFill>
          <p:spPr>
            <a:xfrm>
              <a:off x="476280" y="1457280"/>
              <a:ext cx="356796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5" name=""/>
          <p:cNvSpPr/>
          <p:nvPr/>
        </p:nvSpPr>
        <p:spPr>
          <a:xfrm>
            <a:off x="838080" y="1176480"/>
            <a:ext cx="253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o de re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376200" y="3624120"/>
            <a:ext cx="1544400" cy="1673280"/>
            <a:chOff x="376200" y="3624120"/>
            <a:chExt cx="1544400" cy="1673280"/>
          </a:xfrm>
        </p:grpSpPr>
        <p:sp>
          <p:nvSpPr>
            <p:cNvPr id="1827" name=""/>
            <p:cNvSpPr/>
            <p:nvPr/>
          </p:nvSpPr>
          <p:spPr>
            <a:xfrm>
              <a:off x="376200" y="3624120"/>
              <a:ext cx="1544400" cy="1673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8" name=""/>
            <p:cNvGrpSpPr/>
            <p:nvPr/>
          </p:nvGrpSpPr>
          <p:grpSpPr>
            <a:xfrm>
              <a:off x="501480" y="3732120"/>
              <a:ext cx="519120" cy="600120"/>
              <a:chOff x="501480" y="3732120"/>
              <a:chExt cx="519120" cy="600120"/>
            </a:xfrm>
          </p:grpSpPr>
          <p:sp>
            <p:nvSpPr>
              <p:cNvPr id="1829" name=""/>
              <p:cNvSpPr/>
              <p:nvPr/>
            </p:nvSpPr>
            <p:spPr>
              <a:xfrm>
                <a:off x="501480" y="373212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58720" y="38314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58720" y="38811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58720" y="39308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58720" y="3980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58720" y="4030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58720" y="4080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58720" y="4129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58720" y="4179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58720" y="42292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707760" y="3990960"/>
              <a:ext cx="519120" cy="600120"/>
              <a:chOff x="707760" y="3990960"/>
              <a:chExt cx="519120" cy="600120"/>
            </a:xfrm>
          </p:grpSpPr>
          <p:sp>
            <p:nvSpPr>
              <p:cNvPr id="1840" name=""/>
              <p:cNvSpPr/>
              <p:nvPr/>
            </p:nvSpPr>
            <p:spPr>
              <a:xfrm>
                <a:off x="707760" y="399096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65000" y="4090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65000" y="41400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65000" y="41896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65000" y="42393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65000" y="42894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65000" y="4339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65000" y="43887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65000" y="4438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65000" y="44881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914400" y="4249800"/>
              <a:ext cx="519120" cy="600120"/>
              <a:chOff x="914400" y="4249800"/>
              <a:chExt cx="519120" cy="600120"/>
            </a:xfrm>
          </p:grpSpPr>
          <p:sp>
            <p:nvSpPr>
              <p:cNvPr id="1851" name=""/>
              <p:cNvSpPr/>
              <p:nvPr/>
            </p:nvSpPr>
            <p:spPr>
              <a:xfrm>
                <a:off x="914400" y="424980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971640" y="43491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971640" y="43988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971640" y="4448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971640" y="44982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971640" y="4548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971640" y="4597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971640" y="46476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971640" y="4697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971640" y="4746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1120680" y="4508280"/>
              <a:ext cx="519120" cy="600120"/>
              <a:chOff x="1120680" y="4508280"/>
              <a:chExt cx="519120" cy="600120"/>
            </a:xfrm>
          </p:grpSpPr>
          <p:sp>
            <p:nvSpPr>
              <p:cNvPr id="1862" name=""/>
              <p:cNvSpPr/>
              <p:nvPr/>
            </p:nvSpPr>
            <p:spPr>
              <a:xfrm>
                <a:off x="1120680" y="450828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177920" y="4607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177920" y="4657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177920" y="47070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177920" y="47566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177920" y="48067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177920" y="48564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177920" y="4906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177920" y="49561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177920" y="50054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2" name=""/>
          <p:cNvSpPr/>
          <p:nvPr/>
        </p:nvSpPr>
        <p:spPr>
          <a:xfrm rot="5400000">
            <a:off x="1898640" y="430668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rot="5400000">
            <a:off x="4052880" y="189216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414360" y="2300400"/>
            <a:ext cx="1187280" cy="1377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674280" y="2336760"/>
            <a:ext cx="118764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923760" y="2313000"/>
            <a:ext cx="122400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1160280" y="2300400"/>
            <a:ext cx="1176120" cy="15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1352520" y="2313000"/>
            <a:ext cx="1222560" cy="157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1600200" y="2313000"/>
            <a:ext cx="1224000" cy="161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50720" y="5262480"/>
            <a:ext cx="2013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álogo” de crité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projetos grandes e complexo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am apenas de questões técnic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m ser definidos no modelo de referência específico da empres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m ocorrer ao final dos ciclos de detalhamento e otimização, dentro da fase de projeto detalhado (ver quadro 8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00080" y="69840"/>
            <a:ext cx="7388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Avaliar fase: gates intermedi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4782960" y="4826160"/>
            <a:ext cx="3179880" cy="1377720"/>
          </a:xfrm>
          <a:custGeom>
            <a:avLst/>
            <a:gdLst/>
            <a:ahLst/>
            <a:rect l="l" t="t" r="r" b="b"/>
            <a:pathLst>
              <a:path w="2003" h="868">
                <a:moveTo>
                  <a:pt x="0" y="0"/>
                </a:moveTo>
                <a:lnTo>
                  <a:pt x="1373" y="868"/>
                </a:lnTo>
                <a:lnTo>
                  <a:pt x="2003" y="868"/>
                </a:lnTo>
                <a:lnTo>
                  <a:pt x="1985" y="106"/>
                </a:lnTo>
                <a:lnTo>
                  <a:pt x="80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70920" y="28080"/>
            <a:ext cx="7388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Avaliar fase: gates intermediári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809880" y="2241720"/>
            <a:ext cx="3360960" cy="569880"/>
          </a:xfrm>
          <a:custGeom>
            <a:avLst/>
            <a:gdLst/>
            <a:ahLst/>
            <a:rect l="l" t="t" r="r" b="b"/>
            <a:pathLst>
              <a:path w="2117" h="359">
                <a:moveTo>
                  <a:pt x="1047" y="15"/>
                </a:moveTo>
                <a:lnTo>
                  <a:pt x="0" y="359"/>
                </a:lnTo>
                <a:lnTo>
                  <a:pt x="2117" y="359"/>
                </a:lnTo>
                <a:lnTo>
                  <a:pt x="1496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4492800" y="1658880"/>
            <a:ext cx="2915640" cy="627120"/>
            <a:chOff x="4492800" y="1658880"/>
            <a:chExt cx="2915640" cy="627120"/>
          </a:xfrm>
        </p:grpSpPr>
        <p:sp>
          <p:nvSpPr>
            <p:cNvPr id="1887" name=""/>
            <p:cNvSpPr/>
            <p:nvPr/>
          </p:nvSpPr>
          <p:spPr>
            <a:xfrm>
              <a:off x="6242040" y="1658880"/>
              <a:ext cx="1166400" cy="627120"/>
            </a:xfrm>
            <a:custGeom>
              <a:avLst/>
              <a:gdLst>
                <a:gd name="textAreaLeft" fmla="*/ 0 w 1166400"/>
                <a:gd name="textAreaRight" fmla="*/ 1166760 w 116640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367240" y="1658880"/>
              <a:ext cx="1166400" cy="627120"/>
            </a:xfrm>
            <a:custGeom>
              <a:avLst/>
              <a:gdLst>
                <a:gd name="textAreaLeft" fmla="*/ 0 w 1166400"/>
                <a:gd name="textAreaRight" fmla="*/ 1166760 w 116640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492800" y="1658880"/>
              <a:ext cx="1166400" cy="627120"/>
            </a:xfrm>
            <a:custGeom>
              <a:avLst/>
              <a:gdLst>
                <a:gd name="textAreaLeft" fmla="*/ 0 w 1166400"/>
                <a:gd name="textAreaRight" fmla="*/ 1166760 w 116640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09720" y="1349280"/>
            <a:ext cx="283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do produto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7139160" y="317808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rot="2700000">
            <a:off x="7003440" y="3433680"/>
            <a:ext cx="271440" cy="23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768840" y="2790720"/>
            <a:ext cx="3603600" cy="387360"/>
          </a:xfrm>
          <a:custGeom>
            <a:avLst/>
            <a:gdLst>
              <a:gd name="textAreaLeft" fmla="*/ 0 w 3603600"/>
              <a:gd name="textAreaRight" fmla="*/ 3603960 w 36036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82" y="0"/>
                </a:lnTo>
                <a:lnTo>
                  <a:pt x="21600" y="10800"/>
                </a:lnTo>
                <a:lnTo>
                  <a:pt x="20582" y="21600"/>
                </a:lnTo>
                <a:lnTo>
                  <a:pt x="0" y="21600"/>
                </a:lnTo>
                <a:lnTo>
                  <a:pt x="1018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3605400" y="3171960"/>
            <a:ext cx="329040" cy="853920"/>
            <a:chOff x="3605400" y="3171960"/>
            <a:chExt cx="329040" cy="853920"/>
          </a:xfrm>
        </p:grpSpPr>
        <p:sp>
          <p:nvSpPr>
            <p:cNvPr id="1895" name=""/>
            <p:cNvSpPr/>
            <p:nvPr/>
          </p:nvSpPr>
          <p:spPr>
            <a:xfrm>
              <a:off x="3770280" y="3171960"/>
              <a:ext cx="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rot="2700000">
              <a:off x="3644280" y="3439080"/>
              <a:ext cx="250920" cy="21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7" name=""/>
          <p:cNvSpPr/>
          <p:nvPr/>
        </p:nvSpPr>
        <p:spPr>
          <a:xfrm>
            <a:off x="5213520" y="2828880"/>
            <a:ext cx="7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2766960" y="2981160"/>
            <a:ext cx="93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7232760" y="3081240"/>
            <a:ext cx="812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6751800" y="5018040"/>
            <a:ext cx="1223640" cy="1109520"/>
            <a:chOff x="6751800" y="5018040"/>
            <a:chExt cx="1223640" cy="1109520"/>
          </a:xfrm>
        </p:grpSpPr>
        <p:sp>
          <p:nvSpPr>
            <p:cNvPr id="1901" name=""/>
            <p:cNvSpPr/>
            <p:nvPr/>
          </p:nvSpPr>
          <p:spPr>
            <a:xfrm>
              <a:off x="6751800" y="5018040"/>
              <a:ext cx="1223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itérios técn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7142040" y="5527440"/>
              <a:ext cx="518760" cy="600120"/>
              <a:chOff x="7142040" y="5527440"/>
              <a:chExt cx="518760" cy="600120"/>
            </a:xfrm>
          </p:grpSpPr>
          <p:sp>
            <p:nvSpPr>
              <p:cNvPr id="1903" name=""/>
              <p:cNvSpPr/>
              <p:nvPr/>
            </p:nvSpPr>
            <p:spPr>
              <a:xfrm>
                <a:off x="7142040" y="5527440"/>
                <a:ext cx="51876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199280" y="5626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199280" y="56764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199280" y="57261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99280" y="57758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199280" y="58258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199280" y="5875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199280" y="5925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199280" y="59752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199280" y="60246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3" name=""/>
          <p:cNvGrpSpPr/>
          <p:nvPr/>
        </p:nvGrpSpPr>
        <p:grpSpPr>
          <a:xfrm>
            <a:off x="476280" y="1457280"/>
            <a:ext cx="3576600" cy="1274760"/>
            <a:chOff x="476280" y="1457280"/>
            <a:chExt cx="3576600" cy="1274760"/>
          </a:xfrm>
        </p:grpSpPr>
        <p:sp>
          <p:nvSpPr>
            <p:cNvPr id="1914" name=""/>
            <p:cNvSpPr/>
            <p:nvPr/>
          </p:nvSpPr>
          <p:spPr>
            <a:xfrm>
              <a:off x="476280" y="1457280"/>
              <a:ext cx="3576600" cy="1274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5" name="" descr=""/>
            <p:cNvPicPr/>
            <p:nvPr/>
          </p:nvPicPr>
          <p:blipFill>
            <a:blip r:embed="rId1"/>
            <a:stretch/>
          </p:blipFill>
          <p:spPr>
            <a:xfrm>
              <a:off x="476280" y="1457280"/>
              <a:ext cx="356796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6" name=""/>
          <p:cNvSpPr/>
          <p:nvPr/>
        </p:nvSpPr>
        <p:spPr>
          <a:xfrm>
            <a:off x="838080" y="1176480"/>
            <a:ext cx="253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o de re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376200" y="3624120"/>
            <a:ext cx="1544400" cy="1673280"/>
            <a:chOff x="376200" y="3624120"/>
            <a:chExt cx="1544400" cy="1673280"/>
          </a:xfrm>
        </p:grpSpPr>
        <p:sp>
          <p:nvSpPr>
            <p:cNvPr id="1918" name=""/>
            <p:cNvSpPr/>
            <p:nvPr/>
          </p:nvSpPr>
          <p:spPr>
            <a:xfrm>
              <a:off x="376200" y="3624120"/>
              <a:ext cx="1544400" cy="1673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501480" y="3732120"/>
              <a:ext cx="519120" cy="600120"/>
              <a:chOff x="501480" y="3732120"/>
              <a:chExt cx="519120" cy="600120"/>
            </a:xfrm>
          </p:grpSpPr>
          <p:sp>
            <p:nvSpPr>
              <p:cNvPr id="1920" name=""/>
              <p:cNvSpPr/>
              <p:nvPr/>
            </p:nvSpPr>
            <p:spPr>
              <a:xfrm>
                <a:off x="501480" y="373212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58720" y="38314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58720" y="38811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58720" y="39308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58720" y="3980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58720" y="4030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58720" y="4080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58720" y="4129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58720" y="4179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58720" y="42292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707760" y="3990960"/>
              <a:ext cx="519120" cy="600120"/>
              <a:chOff x="707760" y="3990960"/>
              <a:chExt cx="519120" cy="600120"/>
            </a:xfrm>
          </p:grpSpPr>
          <p:sp>
            <p:nvSpPr>
              <p:cNvPr id="1931" name=""/>
              <p:cNvSpPr/>
              <p:nvPr/>
            </p:nvSpPr>
            <p:spPr>
              <a:xfrm>
                <a:off x="707760" y="399096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65000" y="4090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65000" y="41400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65000" y="41896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65000" y="42393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65000" y="42894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65000" y="4339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65000" y="43887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65000" y="4438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65000" y="44881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914400" y="4249800"/>
              <a:ext cx="519120" cy="600120"/>
              <a:chOff x="914400" y="4249800"/>
              <a:chExt cx="519120" cy="600120"/>
            </a:xfrm>
          </p:grpSpPr>
          <p:sp>
            <p:nvSpPr>
              <p:cNvPr id="1942" name=""/>
              <p:cNvSpPr/>
              <p:nvPr/>
            </p:nvSpPr>
            <p:spPr>
              <a:xfrm>
                <a:off x="914400" y="424980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971640" y="43491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971640" y="43988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971640" y="4448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971640" y="44982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971640" y="4548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971640" y="4597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971640" y="46476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971640" y="4697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971640" y="4746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1120680" y="4508280"/>
              <a:ext cx="519120" cy="600120"/>
              <a:chOff x="1120680" y="4508280"/>
              <a:chExt cx="519120" cy="600120"/>
            </a:xfrm>
          </p:grpSpPr>
          <p:sp>
            <p:nvSpPr>
              <p:cNvPr id="1953" name=""/>
              <p:cNvSpPr/>
              <p:nvPr/>
            </p:nvSpPr>
            <p:spPr>
              <a:xfrm>
                <a:off x="1120680" y="450828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177920" y="4607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177920" y="4657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177920" y="47070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177920" y="47566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177920" y="48067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177920" y="48564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177920" y="4906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177920" y="49561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177920" y="50054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3" name=""/>
          <p:cNvSpPr/>
          <p:nvPr/>
        </p:nvSpPr>
        <p:spPr>
          <a:xfrm rot="5400000">
            <a:off x="1898640" y="430668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rot="5400000">
            <a:off x="4052880" y="189216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414360" y="2300400"/>
            <a:ext cx="1187280" cy="1377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674280" y="2336760"/>
            <a:ext cx="118764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923760" y="2313000"/>
            <a:ext cx="122400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1160280" y="2300400"/>
            <a:ext cx="1176120" cy="15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1352520" y="2313000"/>
            <a:ext cx="1222560" cy="157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1600200" y="2313000"/>
            <a:ext cx="1224000" cy="161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450720" y="5262480"/>
            <a:ext cx="2013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álogo” de crité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975280" y="315432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rot="2700000">
            <a:off x="5891760" y="3951720"/>
            <a:ext cx="164880" cy="1252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4873320" y="3181320"/>
            <a:ext cx="205560" cy="1290600"/>
            <a:chOff x="4873320" y="3181320"/>
            <a:chExt cx="205560" cy="1290600"/>
          </a:xfrm>
        </p:grpSpPr>
        <p:sp>
          <p:nvSpPr>
            <p:cNvPr id="1975" name=""/>
            <p:cNvSpPr/>
            <p:nvPr/>
          </p:nvSpPr>
          <p:spPr>
            <a:xfrm>
              <a:off x="4965840" y="3181320"/>
              <a:ext cx="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 rot="2700000">
              <a:off x="4893120" y="3934440"/>
              <a:ext cx="165240" cy="125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7" name=""/>
          <p:cNvSpPr/>
          <p:nvPr/>
        </p:nvSpPr>
        <p:spPr>
          <a:xfrm>
            <a:off x="4664160" y="4287960"/>
            <a:ext cx="1616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s intermedi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alizar plano d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provar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s genéricas durante a realizaçã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6320" y="909720"/>
            <a:ext cx="8991360" cy="5810040"/>
            <a:chOff x="76320" y="909720"/>
            <a:chExt cx="8991360" cy="5810040"/>
          </a:xfrm>
        </p:grpSpPr>
        <p:sp>
          <p:nvSpPr>
            <p:cNvPr id="204" name=""/>
            <p:cNvSpPr/>
            <p:nvPr/>
          </p:nvSpPr>
          <p:spPr>
            <a:xfrm>
              <a:off x="1000080" y="644508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9520" y="6081480"/>
              <a:ext cx="609300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4200" y="602784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350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24400" y="5789520"/>
              <a:ext cx="111096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148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056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76320" y="909720"/>
              <a:ext cx="8991360" cy="3205080"/>
              <a:chOff x="76320" y="909720"/>
              <a:chExt cx="8991360" cy="320508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76320" y="1068480"/>
                <a:ext cx="8991360" cy="3046320"/>
                <a:chOff x="76320" y="1068480"/>
                <a:chExt cx="8991360" cy="30463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76320" y="1068480"/>
                  <a:ext cx="8991360" cy="30463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95240" y="2317680"/>
                  <a:ext cx="7291440" cy="133992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2239920" y="1679400"/>
                  <a:ext cx="4146480" cy="298440"/>
                  <a:chOff x="2239920" y="1679400"/>
                  <a:chExt cx="4146480" cy="2984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2239920" y="1679400"/>
                    <a:ext cx="4146480" cy="29844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293280" y="169236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962280" y="3490560"/>
                  <a:ext cx="6981480" cy="534600"/>
                  <a:chOff x="962280" y="3490560"/>
                  <a:chExt cx="6981480" cy="53460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259360" y="3504600"/>
                    <a:ext cx="5684400" cy="520560"/>
                    <a:chOff x="2259360" y="3504600"/>
                    <a:chExt cx="5684400" cy="52056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4633560" y="3504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3557160" y="3504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2259360" y="3504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781680" y="3504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5676480" y="3504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5" name=""/>
                  <p:cNvSpPr/>
                  <p:nvPr/>
                </p:nvSpPr>
                <p:spPr>
                  <a:xfrm>
                    <a:off x="962280" y="3490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6364440" y="1681200"/>
                  <a:ext cx="2652480" cy="298440"/>
                  <a:chOff x="6364440" y="1681200"/>
                  <a:chExt cx="2652480" cy="2984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6364440" y="168120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431480" y="171792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>
                  <a:off x="8223120" y="176544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30" name=""/>
                <p:cNvCxnSpPr>
                  <a:stCxn id="227" idx="0"/>
                  <a:endCxn id="231" idx="0"/>
                </p:cNvCxnSpPr>
                <p:nvPr/>
              </p:nvCxnSpPr>
              <p:spPr>
                <a:xfrm rot="5400000">
                  <a:off x="4402440" y="-154548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232" name=""/>
                <p:cNvGrpSpPr/>
                <p:nvPr/>
              </p:nvGrpSpPr>
              <p:grpSpPr>
                <a:xfrm>
                  <a:off x="171360" y="1681200"/>
                  <a:ext cx="2124000" cy="296640"/>
                  <a:chOff x="171360" y="1681200"/>
                  <a:chExt cx="2124000" cy="29664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171360" y="1681200"/>
                    <a:ext cx="2124000" cy="29664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998280" y="171756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>
                  <a:off x="185760" y="205092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"/>
                <p:cNvGrpSpPr/>
                <p:nvPr/>
              </p:nvGrpSpPr>
              <p:grpSpPr>
                <a:xfrm>
                  <a:off x="6164280" y="2031840"/>
                  <a:ext cx="2871720" cy="933480"/>
                  <a:chOff x="6164280" y="2031840"/>
                  <a:chExt cx="2871720" cy="9334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6164280" y="203184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421400" y="203184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6249960" y="209556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535880" y="209556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94640" y="213516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6348240" y="213516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2413080" y="2018880"/>
                  <a:ext cx="3600000" cy="407880"/>
                  <a:chOff x="2413080" y="2018880"/>
                  <a:chExt cx="3600000" cy="4078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V="1">
                    <a:off x="241308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V="1">
                    <a:off x="31334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>
                    <a:off x="385596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457668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52988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2565360" y="2171520"/>
                  <a:ext cx="3600000" cy="407880"/>
                  <a:chOff x="2565360" y="2171520"/>
                  <a:chExt cx="3600000" cy="4078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6536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32857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>
                    <a:off x="400824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V="1">
                    <a:off x="472896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54511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2717640" y="2323800"/>
                  <a:ext cx="3600720" cy="407880"/>
                  <a:chOff x="2717640" y="2323800"/>
                  <a:chExt cx="3600720" cy="4078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V="1">
                    <a:off x="271764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V="1">
                    <a:off x="34383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V="1">
                    <a:off x="416088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488160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56037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1565280" y="2060640"/>
                  <a:ext cx="950760" cy="671400"/>
                  <a:chOff x="1565280" y="2060640"/>
                  <a:chExt cx="950760" cy="6714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1565280" y="206064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717560" y="221292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870200" y="236520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279720" y="2674800"/>
                  <a:ext cx="6232320" cy="776520"/>
                  <a:chOff x="279720" y="2674800"/>
                  <a:chExt cx="6232320" cy="7765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279720" y="312408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319560" y="2674800"/>
                    <a:ext cx="185760" cy="617400"/>
                    <a:chOff x="3319560" y="2674800"/>
                    <a:chExt cx="185760" cy="6174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331956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V="1">
                      <a:off x="341172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9" name=""/>
                  <p:cNvSpPr/>
                  <p:nvPr/>
                </p:nvSpPr>
                <p:spPr>
                  <a:xfrm>
                    <a:off x="1208160" y="295128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6219720" y="2849040"/>
                    <a:ext cx="185400" cy="474840"/>
                    <a:chOff x="6219720" y="2849040"/>
                    <a:chExt cx="185400" cy="47484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6219720" y="30524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flipV="1">
                      <a:off x="6311520" y="284904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4748040" y="2674800"/>
                    <a:ext cx="185760" cy="617400"/>
                    <a:chOff x="4748040" y="2674800"/>
                    <a:chExt cx="185760" cy="61740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74804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flipV="1">
                      <a:off x="484020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464080" y="2674800"/>
                    <a:ext cx="185760" cy="617400"/>
                    <a:chOff x="5464080" y="2674800"/>
                    <a:chExt cx="185760" cy="61740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546408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V="1">
                      <a:off x="555624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2422440" y="2706840"/>
                    <a:ext cx="185760" cy="585720"/>
                    <a:chOff x="2422440" y="2706840"/>
                    <a:chExt cx="185760" cy="58572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flipV="1">
                      <a:off x="25146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2422440" y="302112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4035600" y="2706840"/>
                    <a:ext cx="185400" cy="585720"/>
                    <a:chOff x="4035600" y="2706840"/>
                    <a:chExt cx="185400" cy="58572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flipV="1">
                      <a:off x="41274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4035600" y="302112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3597120" y="2731680"/>
                    <a:ext cx="141480" cy="473400"/>
                    <a:chOff x="3597120" y="2731680"/>
                    <a:chExt cx="141480" cy="47340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 flipV="1">
                      <a:off x="36687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35971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3784680" y="2731680"/>
                    <a:ext cx="141120" cy="473400"/>
                    <a:chOff x="3784680" y="2731680"/>
                    <a:chExt cx="141120" cy="47340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flipV="1">
                      <a:off x="38559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78468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4284720" y="2731680"/>
                    <a:ext cx="141120" cy="473400"/>
                    <a:chOff x="4284720" y="2731680"/>
                    <a:chExt cx="141120" cy="47340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flipV="1">
                      <a:off x="435600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428472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4498920" y="2731680"/>
                    <a:ext cx="141480" cy="473400"/>
                    <a:chOff x="4498920" y="2731680"/>
                    <a:chExt cx="141480" cy="47340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flipV="1">
                      <a:off x="45705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44989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3051000" y="2731680"/>
                    <a:ext cx="141480" cy="473400"/>
                    <a:chOff x="3051000" y="2731680"/>
                    <a:chExt cx="141480" cy="47340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flipV="1">
                      <a:off x="312264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305100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5164200" y="2731680"/>
                    <a:ext cx="141120" cy="473400"/>
                    <a:chOff x="5164200" y="2731680"/>
                    <a:chExt cx="141120" cy="47340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flipV="1">
                      <a:off x="523548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516420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3" name=""/>
              <p:cNvSpPr/>
              <p:nvPr/>
            </p:nvSpPr>
            <p:spPr>
              <a:xfrm>
                <a:off x="1500120" y="90972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264960" y="4309920"/>
            <a:ext cx="8680680" cy="1395720"/>
          </a:xfrm>
          <a:custGeom>
            <a:avLst/>
            <a:gdLst/>
            <a:ahLst/>
            <a:rect l="l" t="t" r="r" b="b"/>
            <a:pathLst>
              <a:path w="5468" h="1388">
                <a:moveTo>
                  <a:pt x="347" y="0"/>
                </a:moveTo>
                <a:lnTo>
                  <a:pt x="0" y="1388"/>
                </a:lnTo>
                <a:lnTo>
                  <a:pt x="5468" y="1388"/>
                </a:lnTo>
                <a:lnTo>
                  <a:pt x="5022" y="7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14080" y="4195800"/>
            <a:ext cx="2064960" cy="2437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Atividades Gen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60280" y="4202280"/>
            <a:ext cx="8612280" cy="1364760"/>
            <a:chOff x="260280" y="4202280"/>
            <a:chExt cx="8612280" cy="1364760"/>
          </a:xfrm>
        </p:grpSpPr>
        <p:sp>
          <p:nvSpPr>
            <p:cNvPr id="307" name=""/>
            <p:cNvSpPr/>
            <p:nvPr/>
          </p:nvSpPr>
          <p:spPr>
            <a:xfrm>
              <a:off x="4817880" y="4202280"/>
              <a:ext cx="1970280" cy="12697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60280" y="4412880"/>
              <a:ext cx="8612280" cy="1154160"/>
              <a:chOff x="260280" y="4412880"/>
              <a:chExt cx="8612280" cy="1154160"/>
            </a:xfrm>
          </p:grpSpPr>
          <p:sp>
            <p:nvSpPr>
              <p:cNvPr id="309" name=""/>
              <p:cNvSpPr/>
              <p:nvPr/>
            </p:nvSpPr>
            <p:spPr>
              <a:xfrm>
                <a:off x="5060880" y="4412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vali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89520" y="4934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rov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064280" y="4714200"/>
                <a:ext cx="1808280" cy="852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cumentar as decisões tomadas e registrar lições aprendid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2" name=""/>
              <p:cNvCxnSpPr>
                <a:stCxn id="310" idx="3"/>
                <a:endCxn id="311" idx="1"/>
              </p:cNvCxnSpPr>
              <p:nvPr/>
            </p:nvCxnSpPr>
            <p:spPr>
              <a:xfrm flipV="1">
                <a:off x="6640560" y="5149080"/>
                <a:ext cx="414720" cy="8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527280" y="4926960"/>
                <a:ext cx="1203480" cy="639720"/>
                <a:chOff x="3527280" y="4926960"/>
                <a:chExt cx="1203480" cy="639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527280" y="4926960"/>
                  <a:ext cx="120348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546440" y="4939920"/>
                  <a:ext cx="17136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16" name=""/>
              <p:cNvCxnSpPr>
                <a:stCxn id="309" idx="2"/>
                <a:endCxn id="310" idx="1"/>
              </p:cNvCxnSpPr>
              <p:nvPr/>
            </p:nvCxnSpPr>
            <p:spPr>
              <a:xfrm flipH="1" rot="16200000">
                <a:off x="5484240" y="4862520"/>
                <a:ext cx="291240" cy="2991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7" name=""/>
              <p:cNvCxnSpPr>
                <a:stCxn id="314" idx="0"/>
                <a:endCxn id="309" idx="1"/>
              </p:cNvCxnSpPr>
              <p:nvPr/>
            </p:nvCxnSpPr>
            <p:spPr>
              <a:xfrm flipH="1" flipV="1" rot="5400000">
                <a:off x="4448520" y="4314600"/>
                <a:ext cx="283320" cy="92304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318" name=""/>
              <p:cNvGrpSpPr/>
              <p:nvPr/>
            </p:nvGrpSpPr>
            <p:grpSpPr>
              <a:xfrm>
                <a:off x="260280" y="4926960"/>
                <a:ext cx="1036440" cy="639720"/>
                <a:chOff x="260280" y="4926960"/>
                <a:chExt cx="1036440" cy="639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60280" y="4926960"/>
                  <a:ext cx="103644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talhar Plano da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137960" y="4939920"/>
                  <a:ext cx="14724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1744560" y="4926960"/>
                <a:ext cx="1333440" cy="639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ividades Especificas da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2" name=""/>
              <p:cNvCxnSpPr>
                <a:stCxn id="319" idx="3"/>
                <a:endCxn id="321" idx="1"/>
              </p:cNvCxnSpPr>
              <p:nvPr/>
            </p:nvCxnSpPr>
            <p:spPr>
              <a:xfrm>
                <a:off x="1306440" y="5255280"/>
                <a:ext cx="4291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23" name=""/>
              <p:cNvCxnSpPr>
                <a:stCxn id="321" idx="3"/>
                <a:endCxn id="314" idx="1"/>
              </p:cNvCxnSpPr>
              <p:nvPr/>
            </p:nvCxnSpPr>
            <p:spPr>
              <a:xfrm>
                <a:off x="3087360" y="5255280"/>
                <a:ext cx="4309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24" name=""/>
            <p:cNvSpPr/>
            <p:nvPr/>
          </p:nvSpPr>
          <p:spPr>
            <a:xfrm>
              <a:off x="6068880" y="4265280"/>
              <a:ext cx="1104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visão de Fase “gate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64120" y="4544640"/>
              <a:ext cx="185760" cy="271440"/>
            </a:xfrm>
            <a:prstGeom prst="flowChartDecis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s genéricas durante a realizaçã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76320" y="909720"/>
            <a:ext cx="8991360" cy="5810040"/>
            <a:chOff x="76320" y="909720"/>
            <a:chExt cx="8991360" cy="5810040"/>
          </a:xfrm>
        </p:grpSpPr>
        <p:sp>
          <p:nvSpPr>
            <p:cNvPr id="1982" name=""/>
            <p:cNvSpPr/>
            <p:nvPr/>
          </p:nvSpPr>
          <p:spPr>
            <a:xfrm>
              <a:off x="1000080" y="644508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549520" y="6081480"/>
              <a:ext cx="609300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14200" y="602784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5350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524400" y="5789520"/>
              <a:ext cx="111096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5148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5056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9" name=""/>
            <p:cNvGrpSpPr/>
            <p:nvPr/>
          </p:nvGrpSpPr>
          <p:grpSpPr>
            <a:xfrm>
              <a:off x="76320" y="909720"/>
              <a:ext cx="8991360" cy="3205080"/>
              <a:chOff x="76320" y="909720"/>
              <a:chExt cx="8991360" cy="3205080"/>
            </a:xfrm>
          </p:grpSpPr>
          <p:grpSp>
            <p:nvGrpSpPr>
              <p:cNvPr id="1990" name=""/>
              <p:cNvGrpSpPr/>
              <p:nvPr/>
            </p:nvGrpSpPr>
            <p:grpSpPr>
              <a:xfrm>
                <a:off x="76320" y="1068480"/>
                <a:ext cx="8991360" cy="3046320"/>
                <a:chOff x="76320" y="1068480"/>
                <a:chExt cx="8991360" cy="30463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76320" y="1068480"/>
                  <a:ext cx="8991360" cy="30463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795240" y="2317680"/>
                  <a:ext cx="7291440" cy="133992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3" name=""/>
                <p:cNvGrpSpPr/>
                <p:nvPr/>
              </p:nvGrpSpPr>
              <p:grpSpPr>
                <a:xfrm>
                  <a:off x="2239920" y="1679400"/>
                  <a:ext cx="4146480" cy="298440"/>
                  <a:chOff x="2239920" y="1679400"/>
                  <a:chExt cx="4146480" cy="29844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2239920" y="1679400"/>
                    <a:ext cx="4146480" cy="29844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3293280" y="169236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6" name=""/>
                <p:cNvGrpSpPr/>
                <p:nvPr/>
              </p:nvGrpSpPr>
              <p:grpSpPr>
                <a:xfrm>
                  <a:off x="962280" y="3490560"/>
                  <a:ext cx="6981480" cy="534600"/>
                  <a:chOff x="962280" y="3490560"/>
                  <a:chExt cx="6981480" cy="534600"/>
                </a:xfrm>
              </p:grpSpPr>
              <p:grpSp>
                <p:nvGrpSpPr>
                  <p:cNvPr id="1997" name=""/>
                  <p:cNvGrpSpPr/>
                  <p:nvPr/>
                </p:nvGrpSpPr>
                <p:grpSpPr>
                  <a:xfrm>
                    <a:off x="2259360" y="3504600"/>
                    <a:ext cx="5684400" cy="520560"/>
                    <a:chOff x="2259360" y="3504600"/>
                    <a:chExt cx="5684400" cy="520560"/>
                  </a:xfrm>
                </p:grpSpPr>
                <p:sp>
                  <p:nvSpPr>
                    <p:cNvPr id="1998" name=""/>
                    <p:cNvSpPr/>
                    <p:nvPr/>
                  </p:nvSpPr>
                  <p:spPr>
                    <a:xfrm>
                      <a:off x="4633560" y="3504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"/>
                    <p:cNvSpPr/>
                    <p:nvPr/>
                  </p:nvSpPr>
                  <p:spPr>
                    <a:xfrm>
                      <a:off x="3557160" y="3504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"/>
                    <p:cNvSpPr/>
                    <p:nvPr/>
                  </p:nvSpPr>
                  <p:spPr>
                    <a:xfrm>
                      <a:off x="2259360" y="3504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"/>
                    <p:cNvSpPr/>
                    <p:nvPr/>
                  </p:nvSpPr>
                  <p:spPr>
                    <a:xfrm>
                      <a:off x="6781680" y="3504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"/>
                    <p:cNvSpPr/>
                    <p:nvPr/>
                  </p:nvSpPr>
                  <p:spPr>
                    <a:xfrm>
                      <a:off x="5676480" y="3504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03" name=""/>
                  <p:cNvSpPr/>
                  <p:nvPr/>
                </p:nvSpPr>
                <p:spPr>
                  <a:xfrm>
                    <a:off x="962280" y="3490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4" name=""/>
                <p:cNvGrpSpPr/>
                <p:nvPr/>
              </p:nvGrpSpPr>
              <p:grpSpPr>
                <a:xfrm>
                  <a:off x="6364440" y="1681200"/>
                  <a:ext cx="2652480" cy="298440"/>
                  <a:chOff x="6364440" y="1681200"/>
                  <a:chExt cx="2652480" cy="298440"/>
                </a:xfrm>
              </p:grpSpPr>
              <p:sp>
                <p:nvSpPr>
                  <p:cNvPr id="2005" name=""/>
                  <p:cNvSpPr/>
                  <p:nvPr/>
                </p:nvSpPr>
                <p:spPr>
                  <a:xfrm>
                    <a:off x="6364440" y="168120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7431480" y="171792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7" name=""/>
                <p:cNvSpPr/>
                <p:nvPr/>
              </p:nvSpPr>
              <p:spPr>
                <a:xfrm>
                  <a:off x="8223120" y="176544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008" name=""/>
                <p:cNvCxnSpPr>
                  <a:stCxn id="2005" idx="0"/>
                  <a:endCxn id="2009" idx="0"/>
                </p:cNvCxnSpPr>
                <p:nvPr/>
              </p:nvCxnSpPr>
              <p:spPr>
                <a:xfrm rot="5400000">
                  <a:off x="4402440" y="-154548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2010" name=""/>
                <p:cNvGrpSpPr/>
                <p:nvPr/>
              </p:nvGrpSpPr>
              <p:grpSpPr>
                <a:xfrm>
                  <a:off x="171360" y="1681200"/>
                  <a:ext cx="2124000" cy="296640"/>
                  <a:chOff x="171360" y="1681200"/>
                  <a:chExt cx="2124000" cy="296640"/>
                </a:xfrm>
              </p:grpSpPr>
              <p:sp>
                <p:nvSpPr>
                  <p:cNvPr id="2009" name=""/>
                  <p:cNvSpPr/>
                  <p:nvPr/>
                </p:nvSpPr>
                <p:spPr>
                  <a:xfrm>
                    <a:off x="171360" y="1681200"/>
                    <a:ext cx="2124000" cy="29664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998280" y="171756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2" name=""/>
                <p:cNvSpPr/>
                <p:nvPr/>
              </p:nvSpPr>
              <p:spPr>
                <a:xfrm>
                  <a:off x="185760" y="205092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3" name=""/>
                <p:cNvGrpSpPr/>
                <p:nvPr/>
              </p:nvGrpSpPr>
              <p:grpSpPr>
                <a:xfrm>
                  <a:off x="6164280" y="2031840"/>
                  <a:ext cx="2871720" cy="933480"/>
                  <a:chOff x="6164280" y="2031840"/>
                  <a:chExt cx="2871720" cy="933480"/>
                </a:xfrm>
              </p:grpSpPr>
              <p:sp>
                <p:nvSpPr>
                  <p:cNvPr id="2014" name=""/>
                  <p:cNvSpPr/>
                  <p:nvPr/>
                </p:nvSpPr>
                <p:spPr>
                  <a:xfrm>
                    <a:off x="6164280" y="203184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7421400" y="203184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6249960" y="209556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7535880" y="209556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7694640" y="213516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>
                    <a:off x="6348240" y="213516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0" name=""/>
                <p:cNvGrpSpPr/>
                <p:nvPr/>
              </p:nvGrpSpPr>
              <p:grpSpPr>
                <a:xfrm>
                  <a:off x="2413080" y="2018880"/>
                  <a:ext cx="3600000" cy="407880"/>
                  <a:chOff x="2413080" y="2018880"/>
                  <a:chExt cx="3600000" cy="407880"/>
                </a:xfrm>
              </p:grpSpPr>
              <p:sp>
                <p:nvSpPr>
                  <p:cNvPr id="2021" name=""/>
                  <p:cNvSpPr/>
                  <p:nvPr/>
                </p:nvSpPr>
                <p:spPr>
                  <a:xfrm flipV="1">
                    <a:off x="241308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 flipV="1">
                    <a:off x="31334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 flipV="1">
                    <a:off x="385596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 flipV="1">
                    <a:off x="457668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 flipV="1">
                    <a:off x="52988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6" name=""/>
                <p:cNvGrpSpPr/>
                <p:nvPr/>
              </p:nvGrpSpPr>
              <p:grpSpPr>
                <a:xfrm>
                  <a:off x="2565360" y="2171520"/>
                  <a:ext cx="3600000" cy="407880"/>
                  <a:chOff x="2565360" y="2171520"/>
                  <a:chExt cx="3600000" cy="40788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 flipV="1">
                    <a:off x="256536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 flipV="1">
                    <a:off x="32857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 flipV="1">
                    <a:off x="400824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 flipV="1">
                    <a:off x="472896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 flipV="1">
                    <a:off x="54511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2" name=""/>
                <p:cNvGrpSpPr/>
                <p:nvPr/>
              </p:nvGrpSpPr>
              <p:grpSpPr>
                <a:xfrm>
                  <a:off x="2717640" y="2323800"/>
                  <a:ext cx="3600720" cy="407880"/>
                  <a:chOff x="2717640" y="2323800"/>
                  <a:chExt cx="3600720" cy="407880"/>
                </a:xfrm>
              </p:grpSpPr>
              <p:sp>
                <p:nvSpPr>
                  <p:cNvPr id="2033" name=""/>
                  <p:cNvSpPr/>
                  <p:nvPr/>
                </p:nvSpPr>
                <p:spPr>
                  <a:xfrm flipV="1">
                    <a:off x="271764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 flipV="1">
                    <a:off x="34383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 flipV="1">
                    <a:off x="416088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 flipV="1">
                    <a:off x="488160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 flipV="1">
                    <a:off x="56037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8" name=""/>
                <p:cNvGrpSpPr/>
                <p:nvPr/>
              </p:nvGrpSpPr>
              <p:grpSpPr>
                <a:xfrm>
                  <a:off x="1565280" y="2060640"/>
                  <a:ext cx="950760" cy="671400"/>
                  <a:chOff x="1565280" y="2060640"/>
                  <a:chExt cx="950760" cy="671400"/>
                </a:xfrm>
              </p:grpSpPr>
              <p:sp>
                <p:nvSpPr>
                  <p:cNvPr id="2039" name=""/>
                  <p:cNvSpPr/>
                  <p:nvPr/>
                </p:nvSpPr>
                <p:spPr>
                  <a:xfrm>
                    <a:off x="1565280" y="206064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1717560" y="221292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1870200" y="236520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2" name=""/>
                <p:cNvGrpSpPr/>
                <p:nvPr/>
              </p:nvGrpSpPr>
              <p:grpSpPr>
                <a:xfrm>
                  <a:off x="279720" y="2674800"/>
                  <a:ext cx="6232320" cy="776520"/>
                  <a:chOff x="279720" y="2674800"/>
                  <a:chExt cx="6232320" cy="776520"/>
                </a:xfrm>
              </p:grpSpPr>
              <p:sp>
                <p:nvSpPr>
                  <p:cNvPr id="2043" name=""/>
                  <p:cNvSpPr/>
                  <p:nvPr/>
                </p:nvSpPr>
                <p:spPr>
                  <a:xfrm>
                    <a:off x="279720" y="312408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44" name=""/>
                  <p:cNvGrpSpPr/>
                  <p:nvPr/>
                </p:nvGrpSpPr>
                <p:grpSpPr>
                  <a:xfrm>
                    <a:off x="3319560" y="2674800"/>
                    <a:ext cx="185760" cy="617400"/>
                    <a:chOff x="3319560" y="2674800"/>
                    <a:chExt cx="185760" cy="617400"/>
                  </a:xfrm>
                </p:grpSpPr>
                <p:sp>
                  <p:nvSpPr>
                    <p:cNvPr id="2045" name=""/>
                    <p:cNvSpPr/>
                    <p:nvPr/>
                  </p:nvSpPr>
                  <p:spPr>
                    <a:xfrm>
                      <a:off x="331956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"/>
                    <p:cNvSpPr/>
                    <p:nvPr/>
                  </p:nvSpPr>
                  <p:spPr>
                    <a:xfrm flipV="1">
                      <a:off x="341172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47" name=""/>
                  <p:cNvSpPr/>
                  <p:nvPr/>
                </p:nvSpPr>
                <p:spPr>
                  <a:xfrm>
                    <a:off x="1208160" y="295128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48" name=""/>
                  <p:cNvGrpSpPr/>
                  <p:nvPr/>
                </p:nvGrpSpPr>
                <p:grpSpPr>
                  <a:xfrm>
                    <a:off x="6219720" y="2849040"/>
                    <a:ext cx="185400" cy="474840"/>
                    <a:chOff x="6219720" y="2849040"/>
                    <a:chExt cx="185400" cy="474840"/>
                  </a:xfrm>
                </p:grpSpPr>
                <p:sp>
                  <p:nvSpPr>
                    <p:cNvPr id="2049" name=""/>
                    <p:cNvSpPr/>
                    <p:nvPr/>
                  </p:nvSpPr>
                  <p:spPr>
                    <a:xfrm>
                      <a:off x="6219720" y="30524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"/>
                    <p:cNvSpPr/>
                    <p:nvPr/>
                  </p:nvSpPr>
                  <p:spPr>
                    <a:xfrm flipV="1">
                      <a:off x="6311520" y="284904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1" name=""/>
                  <p:cNvGrpSpPr/>
                  <p:nvPr/>
                </p:nvGrpSpPr>
                <p:grpSpPr>
                  <a:xfrm>
                    <a:off x="4748040" y="2674800"/>
                    <a:ext cx="185760" cy="617400"/>
                    <a:chOff x="4748040" y="2674800"/>
                    <a:chExt cx="185760" cy="617400"/>
                  </a:xfrm>
                </p:grpSpPr>
                <p:sp>
                  <p:nvSpPr>
                    <p:cNvPr id="2052" name=""/>
                    <p:cNvSpPr/>
                    <p:nvPr/>
                  </p:nvSpPr>
                  <p:spPr>
                    <a:xfrm>
                      <a:off x="474804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"/>
                    <p:cNvSpPr/>
                    <p:nvPr/>
                  </p:nvSpPr>
                  <p:spPr>
                    <a:xfrm flipV="1">
                      <a:off x="484020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4" name=""/>
                  <p:cNvGrpSpPr/>
                  <p:nvPr/>
                </p:nvGrpSpPr>
                <p:grpSpPr>
                  <a:xfrm>
                    <a:off x="5464080" y="2674800"/>
                    <a:ext cx="185760" cy="617400"/>
                    <a:chOff x="5464080" y="2674800"/>
                    <a:chExt cx="185760" cy="617400"/>
                  </a:xfrm>
                </p:grpSpPr>
                <p:sp>
                  <p:nvSpPr>
                    <p:cNvPr id="2055" name=""/>
                    <p:cNvSpPr/>
                    <p:nvPr/>
                  </p:nvSpPr>
                  <p:spPr>
                    <a:xfrm>
                      <a:off x="546408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"/>
                    <p:cNvSpPr/>
                    <p:nvPr/>
                  </p:nvSpPr>
                  <p:spPr>
                    <a:xfrm flipV="1">
                      <a:off x="555624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7" name=""/>
                  <p:cNvGrpSpPr/>
                  <p:nvPr/>
                </p:nvGrpSpPr>
                <p:grpSpPr>
                  <a:xfrm>
                    <a:off x="2422440" y="2706840"/>
                    <a:ext cx="185760" cy="585720"/>
                    <a:chOff x="2422440" y="2706840"/>
                    <a:chExt cx="185760" cy="585720"/>
                  </a:xfrm>
                </p:grpSpPr>
                <p:sp>
                  <p:nvSpPr>
                    <p:cNvPr id="2058" name=""/>
                    <p:cNvSpPr/>
                    <p:nvPr/>
                  </p:nvSpPr>
                  <p:spPr>
                    <a:xfrm flipV="1">
                      <a:off x="25146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"/>
                    <p:cNvSpPr/>
                    <p:nvPr/>
                  </p:nvSpPr>
                  <p:spPr>
                    <a:xfrm>
                      <a:off x="2422440" y="302112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0" name=""/>
                  <p:cNvGrpSpPr/>
                  <p:nvPr/>
                </p:nvGrpSpPr>
                <p:grpSpPr>
                  <a:xfrm>
                    <a:off x="4035600" y="2706840"/>
                    <a:ext cx="185400" cy="585720"/>
                    <a:chOff x="4035600" y="2706840"/>
                    <a:chExt cx="185400" cy="585720"/>
                  </a:xfrm>
                </p:grpSpPr>
                <p:sp>
                  <p:nvSpPr>
                    <p:cNvPr id="2061" name=""/>
                    <p:cNvSpPr/>
                    <p:nvPr/>
                  </p:nvSpPr>
                  <p:spPr>
                    <a:xfrm flipV="1">
                      <a:off x="41274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"/>
                    <p:cNvSpPr/>
                    <p:nvPr/>
                  </p:nvSpPr>
                  <p:spPr>
                    <a:xfrm>
                      <a:off x="4035600" y="302112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3" name=""/>
                  <p:cNvGrpSpPr/>
                  <p:nvPr/>
                </p:nvGrpSpPr>
                <p:grpSpPr>
                  <a:xfrm>
                    <a:off x="3597120" y="2731680"/>
                    <a:ext cx="141480" cy="473400"/>
                    <a:chOff x="3597120" y="2731680"/>
                    <a:chExt cx="141480" cy="473400"/>
                  </a:xfrm>
                </p:grpSpPr>
                <p:sp>
                  <p:nvSpPr>
                    <p:cNvPr id="2064" name=""/>
                    <p:cNvSpPr/>
                    <p:nvPr/>
                  </p:nvSpPr>
                  <p:spPr>
                    <a:xfrm flipV="1">
                      <a:off x="36687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"/>
                    <p:cNvSpPr/>
                    <p:nvPr/>
                  </p:nvSpPr>
                  <p:spPr>
                    <a:xfrm>
                      <a:off x="35971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6" name=""/>
                  <p:cNvGrpSpPr/>
                  <p:nvPr/>
                </p:nvGrpSpPr>
                <p:grpSpPr>
                  <a:xfrm>
                    <a:off x="3784680" y="2731680"/>
                    <a:ext cx="141120" cy="473400"/>
                    <a:chOff x="3784680" y="2731680"/>
                    <a:chExt cx="141120" cy="473400"/>
                  </a:xfrm>
                </p:grpSpPr>
                <p:sp>
                  <p:nvSpPr>
                    <p:cNvPr id="2067" name=""/>
                    <p:cNvSpPr/>
                    <p:nvPr/>
                  </p:nvSpPr>
                  <p:spPr>
                    <a:xfrm flipV="1">
                      <a:off x="38559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"/>
                    <p:cNvSpPr/>
                    <p:nvPr/>
                  </p:nvSpPr>
                  <p:spPr>
                    <a:xfrm>
                      <a:off x="378468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9" name=""/>
                  <p:cNvGrpSpPr/>
                  <p:nvPr/>
                </p:nvGrpSpPr>
                <p:grpSpPr>
                  <a:xfrm>
                    <a:off x="4284720" y="2731680"/>
                    <a:ext cx="141120" cy="473400"/>
                    <a:chOff x="4284720" y="2731680"/>
                    <a:chExt cx="141120" cy="473400"/>
                  </a:xfrm>
                </p:grpSpPr>
                <p:sp>
                  <p:nvSpPr>
                    <p:cNvPr id="2070" name=""/>
                    <p:cNvSpPr/>
                    <p:nvPr/>
                  </p:nvSpPr>
                  <p:spPr>
                    <a:xfrm flipV="1">
                      <a:off x="435600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"/>
                    <p:cNvSpPr/>
                    <p:nvPr/>
                  </p:nvSpPr>
                  <p:spPr>
                    <a:xfrm>
                      <a:off x="428472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2" name=""/>
                  <p:cNvGrpSpPr/>
                  <p:nvPr/>
                </p:nvGrpSpPr>
                <p:grpSpPr>
                  <a:xfrm>
                    <a:off x="4498920" y="2731680"/>
                    <a:ext cx="141480" cy="473400"/>
                    <a:chOff x="4498920" y="2731680"/>
                    <a:chExt cx="141480" cy="473400"/>
                  </a:xfrm>
                </p:grpSpPr>
                <p:sp>
                  <p:nvSpPr>
                    <p:cNvPr id="2073" name=""/>
                    <p:cNvSpPr/>
                    <p:nvPr/>
                  </p:nvSpPr>
                  <p:spPr>
                    <a:xfrm flipV="1">
                      <a:off x="45705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"/>
                    <p:cNvSpPr/>
                    <p:nvPr/>
                  </p:nvSpPr>
                  <p:spPr>
                    <a:xfrm>
                      <a:off x="44989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5" name=""/>
                  <p:cNvGrpSpPr/>
                  <p:nvPr/>
                </p:nvGrpSpPr>
                <p:grpSpPr>
                  <a:xfrm>
                    <a:off x="3051000" y="2731680"/>
                    <a:ext cx="141480" cy="473400"/>
                    <a:chOff x="3051000" y="2731680"/>
                    <a:chExt cx="141480" cy="473400"/>
                  </a:xfrm>
                </p:grpSpPr>
                <p:sp>
                  <p:nvSpPr>
                    <p:cNvPr id="2076" name=""/>
                    <p:cNvSpPr/>
                    <p:nvPr/>
                  </p:nvSpPr>
                  <p:spPr>
                    <a:xfrm flipV="1">
                      <a:off x="312264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"/>
                    <p:cNvSpPr/>
                    <p:nvPr/>
                  </p:nvSpPr>
                  <p:spPr>
                    <a:xfrm>
                      <a:off x="305100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8" name=""/>
                  <p:cNvGrpSpPr/>
                  <p:nvPr/>
                </p:nvGrpSpPr>
                <p:grpSpPr>
                  <a:xfrm>
                    <a:off x="5164200" y="2731680"/>
                    <a:ext cx="141120" cy="473400"/>
                    <a:chOff x="5164200" y="2731680"/>
                    <a:chExt cx="141120" cy="473400"/>
                  </a:xfrm>
                </p:grpSpPr>
                <p:sp>
                  <p:nvSpPr>
                    <p:cNvPr id="2079" name=""/>
                    <p:cNvSpPr/>
                    <p:nvPr/>
                  </p:nvSpPr>
                  <p:spPr>
                    <a:xfrm flipV="1">
                      <a:off x="523548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"/>
                    <p:cNvSpPr/>
                    <p:nvPr/>
                  </p:nvSpPr>
                  <p:spPr>
                    <a:xfrm>
                      <a:off x="516420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81" name=""/>
              <p:cNvSpPr/>
              <p:nvPr/>
            </p:nvSpPr>
            <p:spPr>
              <a:xfrm>
                <a:off x="1500120" y="90972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2" name=""/>
          <p:cNvSpPr/>
          <p:nvPr/>
        </p:nvSpPr>
        <p:spPr>
          <a:xfrm>
            <a:off x="264960" y="4309920"/>
            <a:ext cx="8680680" cy="1395720"/>
          </a:xfrm>
          <a:custGeom>
            <a:avLst/>
            <a:gdLst/>
            <a:ahLst/>
            <a:rect l="l" t="t" r="r" b="b"/>
            <a:pathLst>
              <a:path w="5468" h="1388">
                <a:moveTo>
                  <a:pt x="347" y="0"/>
                </a:moveTo>
                <a:lnTo>
                  <a:pt x="0" y="1388"/>
                </a:lnTo>
                <a:lnTo>
                  <a:pt x="5468" y="1388"/>
                </a:lnTo>
                <a:lnTo>
                  <a:pt x="5022" y="7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314080" y="4195800"/>
            <a:ext cx="2064960" cy="2437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Atividades Gen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"/>
          <p:cNvGrpSpPr/>
          <p:nvPr/>
        </p:nvGrpSpPr>
        <p:grpSpPr>
          <a:xfrm>
            <a:off x="260280" y="4202280"/>
            <a:ext cx="8612280" cy="1364760"/>
            <a:chOff x="260280" y="4202280"/>
            <a:chExt cx="8612280" cy="1364760"/>
          </a:xfrm>
        </p:grpSpPr>
        <p:sp>
          <p:nvSpPr>
            <p:cNvPr id="2085" name=""/>
            <p:cNvSpPr/>
            <p:nvPr/>
          </p:nvSpPr>
          <p:spPr>
            <a:xfrm>
              <a:off x="4817880" y="4202280"/>
              <a:ext cx="1970280" cy="12697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6" name=""/>
            <p:cNvGrpSpPr/>
            <p:nvPr/>
          </p:nvGrpSpPr>
          <p:grpSpPr>
            <a:xfrm>
              <a:off x="260280" y="4412880"/>
              <a:ext cx="8612280" cy="1154160"/>
              <a:chOff x="260280" y="4412880"/>
              <a:chExt cx="8612280" cy="1154160"/>
            </a:xfrm>
          </p:grpSpPr>
          <p:sp>
            <p:nvSpPr>
              <p:cNvPr id="2087" name=""/>
              <p:cNvSpPr/>
              <p:nvPr/>
            </p:nvSpPr>
            <p:spPr>
              <a:xfrm>
                <a:off x="5060880" y="4412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vali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789520" y="4934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rov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064280" y="4714200"/>
                <a:ext cx="1808280" cy="852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cumentar as decisões tomadas e registrar lições aprendid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90" name=""/>
              <p:cNvCxnSpPr>
                <a:stCxn id="2088" idx="3"/>
                <a:endCxn id="2089" idx="1"/>
              </p:cNvCxnSpPr>
              <p:nvPr/>
            </p:nvCxnSpPr>
            <p:spPr>
              <a:xfrm flipV="1">
                <a:off x="6640560" y="5149080"/>
                <a:ext cx="414720" cy="8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091" name=""/>
              <p:cNvGrpSpPr/>
              <p:nvPr/>
            </p:nvGrpSpPr>
            <p:grpSpPr>
              <a:xfrm>
                <a:off x="3527280" y="4926960"/>
                <a:ext cx="1203480" cy="639720"/>
                <a:chOff x="3527280" y="4926960"/>
                <a:chExt cx="1203480" cy="639720"/>
              </a:xfrm>
            </p:grpSpPr>
            <p:sp>
              <p:nvSpPr>
                <p:cNvPr id="2092" name=""/>
                <p:cNvSpPr/>
                <p:nvPr/>
              </p:nvSpPr>
              <p:spPr>
                <a:xfrm>
                  <a:off x="3527280" y="4926960"/>
                  <a:ext cx="120348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4546440" y="4939920"/>
                  <a:ext cx="17136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2094" name=""/>
              <p:cNvCxnSpPr>
                <a:stCxn id="2087" idx="2"/>
                <a:endCxn id="2088" idx="1"/>
              </p:cNvCxnSpPr>
              <p:nvPr/>
            </p:nvCxnSpPr>
            <p:spPr>
              <a:xfrm flipH="1" rot="16200000">
                <a:off x="5484240" y="4862520"/>
                <a:ext cx="291240" cy="2991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095" name=""/>
              <p:cNvCxnSpPr>
                <a:stCxn id="2092" idx="0"/>
                <a:endCxn id="2087" idx="1"/>
              </p:cNvCxnSpPr>
              <p:nvPr/>
            </p:nvCxnSpPr>
            <p:spPr>
              <a:xfrm flipH="1" flipV="1" rot="5400000">
                <a:off x="4448520" y="4314600"/>
                <a:ext cx="283320" cy="92304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096" name=""/>
              <p:cNvGrpSpPr/>
              <p:nvPr/>
            </p:nvGrpSpPr>
            <p:grpSpPr>
              <a:xfrm>
                <a:off x="260280" y="4926960"/>
                <a:ext cx="1036440" cy="639720"/>
                <a:chOff x="260280" y="4926960"/>
                <a:chExt cx="1036440" cy="639720"/>
              </a:xfrm>
            </p:grpSpPr>
            <p:sp>
              <p:nvSpPr>
                <p:cNvPr id="2097" name=""/>
                <p:cNvSpPr/>
                <p:nvPr/>
              </p:nvSpPr>
              <p:spPr>
                <a:xfrm>
                  <a:off x="260280" y="4926960"/>
                  <a:ext cx="103644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talhar Plano da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137960" y="4939920"/>
                  <a:ext cx="14724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9" name=""/>
              <p:cNvSpPr/>
              <p:nvPr/>
            </p:nvSpPr>
            <p:spPr>
              <a:xfrm>
                <a:off x="1744560" y="4926960"/>
                <a:ext cx="1333440" cy="639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ividades Especificas da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0" name=""/>
              <p:cNvCxnSpPr>
                <a:stCxn id="2097" idx="3"/>
                <a:endCxn id="2099" idx="1"/>
              </p:cNvCxnSpPr>
              <p:nvPr/>
            </p:nvCxnSpPr>
            <p:spPr>
              <a:xfrm>
                <a:off x="1306440" y="5255280"/>
                <a:ext cx="4291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01" name=""/>
              <p:cNvCxnSpPr>
                <a:stCxn id="2099" idx="3"/>
                <a:endCxn id="2092" idx="1"/>
              </p:cNvCxnSpPr>
              <p:nvPr/>
            </p:nvCxnSpPr>
            <p:spPr>
              <a:xfrm>
                <a:off x="3087360" y="5255280"/>
                <a:ext cx="4309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102" name=""/>
            <p:cNvSpPr/>
            <p:nvPr/>
          </p:nvSpPr>
          <p:spPr>
            <a:xfrm>
              <a:off x="6068880" y="4265280"/>
              <a:ext cx="1104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visão de Fase “gate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964120" y="4544640"/>
              <a:ext cx="185760" cy="271440"/>
            </a:xfrm>
            <a:prstGeom prst="flowChartDecis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5344560" y="4036680"/>
            <a:ext cx="2602440" cy="1851480"/>
            <a:chOff x="5344560" y="4036680"/>
            <a:chExt cx="2602440" cy="1851480"/>
          </a:xfrm>
        </p:grpSpPr>
        <p:grpSp>
          <p:nvGrpSpPr>
            <p:cNvPr id="2105" name=""/>
            <p:cNvGrpSpPr/>
            <p:nvPr/>
          </p:nvGrpSpPr>
          <p:grpSpPr>
            <a:xfrm>
              <a:off x="5344560" y="4425120"/>
              <a:ext cx="1775160" cy="1463040"/>
              <a:chOff x="5344560" y="4425120"/>
              <a:chExt cx="1775160" cy="1463040"/>
            </a:xfrm>
          </p:grpSpPr>
          <p:grpSp>
            <p:nvGrpSpPr>
              <p:cNvPr id="2106" name=""/>
              <p:cNvGrpSpPr/>
              <p:nvPr/>
            </p:nvGrpSpPr>
            <p:grpSpPr>
              <a:xfrm>
                <a:off x="5384160" y="4425120"/>
                <a:ext cx="1725840" cy="1438200"/>
                <a:chOff x="5384160" y="4425120"/>
                <a:chExt cx="1725840" cy="1438200"/>
              </a:xfrm>
            </p:grpSpPr>
            <p:grpSp>
              <p:nvGrpSpPr>
                <p:cNvPr id="2107" name=""/>
                <p:cNvGrpSpPr/>
                <p:nvPr/>
              </p:nvGrpSpPr>
              <p:grpSpPr>
                <a:xfrm>
                  <a:off x="5384160" y="4425120"/>
                  <a:ext cx="1725840" cy="1438200"/>
                  <a:chOff x="5384160" y="4425120"/>
                  <a:chExt cx="1725840" cy="1438200"/>
                </a:xfrm>
              </p:grpSpPr>
              <p:sp>
                <p:nvSpPr>
                  <p:cNvPr id="2108" name=""/>
                  <p:cNvSpPr/>
                  <p:nvPr/>
                </p:nvSpPr>
                <p:spPr>
                  <a:xfrm rot="15622800">
                    <a:off x="5419080" y="4826160"/>
                    <a:ext cx="1009800" cy="9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 rot="15622800">
                    <a:off x="5900400" y="4501440"/>
                    <a:ext cx="1113840" cy="11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0" name=""/>
                <p:cNvGrpSpPr/>
                <p:nvPr/>
              </p:nvGrpSpPr>
              <p:grpSpPr>
                <a:xfrm>
                  <a:off x="5415120" y="4495320"/>
                  <a:ext cx="1626840" cy="1305360"/>
                  <a:chOff x="5415120" y="4495320"/>
                  <a:chExt cx="1626840" cy="1305360"/>
                </a:xfrm>
              </p:grpSpPr>
              <p:sp>
                <p:nvSpPr>
                  <p:cNvPr id="2111" name=""/>
                  <p:cNvSpPr/>
                  <p:nvPr/>
                </p:nvSpPr>
                <p:spPr>
                  <a:xfrm rot="15622800">
                    <a:off x="6688800" y="5238000"/>
                    <a:ext cx="288720" cy="37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 rot="15622800">
                    <a:off x="6117120" y="4239720"/>
                    <a:ext cx="103680" cy="73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 rot="15622800">
                    <a:off x="5353920" y="4993560"/>
                    <a:ext cx="4104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 rot="15622800">
                    <a:off x="6062400" y="5431320"/>
                    <a:ext cx="13104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15" name=""/>
              <p:cNvSpPr/>
              <p:nvPr/>
            </p:nvSpPr>
            <p:spPr>
              <a:xfrm rot="15622800">
                <a:off x="5706720" y="4377600"/>
                <a:ext cx="1162080" cy="1490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6" name=""/>
              <p:cNvGrpSpPr/>
              <p:nvPr/>
            </p:nvGrpSpPr>
            <p:grpSpPr>
              <a:xfrm>
                <a:off x="5344560" y="4493880"/>
                <a:ext cx="1663560" cy="1394280"/>
                <a:chOff x="5344560" y="4493880"/>
                <a:chExt cx="1663560" cy="1394280"/>
              </a:xfrm>
            </p:grpSpPr>
            <p:sp>
              <p:nvSpPr>
                <p:cNvPr id="2117" name=""/>
                <p:cNvSpPr/>
                <p:nvPr/>
              </p:nvSpPr>
              <p:spPr>
                <a:xfrm rot="15622800">
                  <a:off x="5610960" y="4464000"/>
                  <a:ext cx="1134720" cy="14540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rot="15622800">
                  <a:off x="5595120" y="4445640"/>
                  <a:ext cx="1161720" cy="149040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rot="15622800">
                  <a:off x="5628240" y="4484880"/>
                  <a:ext cx="1097280" cy="1411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0" name=""/>
            <p:cNvGrpSpPr/>
            <p:nvPr/>
          </p:nvGrpSpPr>
          <p:grpSpPr>
            <a:xfrm>
              <a:off x="6752160" y="4036680"/>
              <a:ext cx="1194840" cy="794880"/>
              <a:chOff x="6752160" y="4036680"/>
              <a:chExt cx="1194840" cy="794880"/>
            </a:xfrm>
          </p:grpSpPr>
          <p:sp>
            <p:nvSpPr>
              <p:cNvPr id="2121" name=""/>
              <p:cNvSpPr/>
              <p:nvPr/>
            </p:nvSpPr>
            <p:spPr>
              <a:xfrm rot="15622800">
                <a:off x="7052760" y="3900960"/>
                <a:ext cx="568080" cy="109008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rot="15622800">
                <a:off x="6792120" y="4615920"/>
                <a:ext cx="17460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15622800">
                <a:off x="6815160" y="4595760"/>
                <a:ext cx="176760" cy="24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5622800">
                <a:off x="6876360" y="4613760"/>
                <a:ext cx="107640" cy="27900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5622800">
                <a:off x="6791040" y="4616640"/>
                <a:ext cx="174600" cy="22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5622800">
                <a:off x="6931440" y="4528440"/>
                <a:ext cx="175320" cy="21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7" name=""/>
              <p:cNvGrpSpPr/>
              <p:nvPr/>
            </p:nvGrpSpPr>
            <p:grpSpPr>
              <a:xfrm>
                <a:off x="6915960" y="4510440"/>
                <a:ext cx="268200" cy="223560"/>
                <a:chOff x="6915960" y="4510440"/>
                <a:chExt cx="268200" cy="223560"/>
              </a:xfrm>
            </p:grpSpPr>
            <p:grpSp>
              <p:nvGrpSpPr>
                <p:cNvPr id="2128" name=""/>
                <p:cNvGrpSpPr/>
                <p:nvPr/>
              </p:nvGrpSpPr>
              <p:grpSpPr>
                <a:xfrm>
                  <a:off x="6915960" y="4523400"/>
                  <a:ext cx="246600" cy="210600"/>
                  <a:chOff x="6915960" y="4523400"/>
                  <a:chExt cx="246600" cy="210600"/>
                </a:xfrm>
              </p:grpSpPr>
              <p:sp>
                <p:nvSpPr>
                  <p:cNvPr id="2129" name=""/>
                  <p:cNvSpPr/>
                  <p:nvPr/>
                </p:nvSpPr>
                <p:spPr>
                  <a:xfrm rot="15622800">
                    <a:off x="6951600" y="4519080"/>
                    <a:ext cx="174960" cy="21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 rot="15622800">
                    <a:off x="6951240" y="4518360"/>
                    <a:ext cx="17604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rot="15622800">
                    <a:off x="6951240" y="4517640"/>
                    <a:ext cx="17532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2" name=""/>
                <p:cNvSpPr/>
                <p:nvPr/>
              </p:nvSpPr>
              <p:spPr>
                <a:xfrm rot="15622800">
                  <a:off x="6973200" y="4505040"/>
                  <a:ext cx="175680" cy="219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3" name=""/>
              <p:cNvGrpSpPr/>
              <p:nvPr/>
            </p:nvGrpSpPr>
            <p:grpSpPr>
              <a:xfrm>
                <a:off x="6958440" y="4486320"/>
                <a:ext cx="268200" cy="223200"/>
                <a:chOff x="6958440" y="4486320"/>
                <a:chExt cx="268200" cy="223200"/>
              </a:xfrm>
            </p:grpSpPr>
            <p:grpSp>
              <p:nvGrpSpPr>
                <p:cNvPr id="2134" name=""/>
                <p:cNvGrpSpPr/>
                <p:nvPr/>
              </p:nvGrpSpPr>
              <p:grpSpPr>
                <a:xfrm>
                  <a:off x="6958440" y="4499280"/>
                  <a:ext cx="246240" cy="210240"/>
                  <a:chOff x="6958440" y="4499280"/>
                  <a:chExt cx="246240" cy="210240"/>
                </a:xfrm>
              </p:grpSpPr>
              <p:sp>
                <p:nvSpPr>
                  <p:cNvPr id="2135" name=""/>
                  <p:cNvSpPr/>
                  <p:nvPr/>
                </p:nvSpPr>
                <p:spPr>
                  <a:xfrm rot="15622800">
                    <a:off x="6993720" y="4494240"/>
                    <a:ext cx="175680" cy="21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 rot="15622800">
                    <a:off x="6993360" y="4494240"/>
                    <a:ext cx="176040" cy="21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 rot="15622800">
                    <a:off x="6993720" y="4493520"/>
                    <a:ext cx="174960" cy="21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8" name=""/>
                <p:cNvSpPr/>
                <p:nvPr/>
              </p:nvSpPr>
              <p:spPr>
                <a:xfrm rot="15622800">
                  <a:off x="7016040" y="4480920"/>
                  <a:ext cx="175320" cy="219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9" name=""/>
              <p:cNvGrpSpPr/>
              <p:nvPr/>
            </p:nvGrpSpPr>
            <p:grpSpPr>
              <a:xfrm>
                <a:off x="6998040" y="4473360"/>
                <a:ext cx="246960" cy="211320"/>
                <a:chOff x="6998040" y="4473360"/>
                <a:chExt cx="246960" cy="211320"/>
              </a:xfrm>
            </p:grpSpPr>
            <p:sp>
              <p:nvSpPr>
                <p:cNvPr id="2140" name=""/>
                <p:cNvSpPr/>
                <p:nvPr/>
              </p:nvSpPr>
              <p:spPr>
                <a:xfrm rot="15622800">
                  <a:off x="7033680" y="4468680"/>
                  <a:ext cx="176040" cy="220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rot="15622800">
                  <a:off x="7032960" y="4468680"/>
                  <a:ext cx="176760" cy="22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2" name=""/>
              <p:cNvGrpSpPr/>
              <p:nvPr/>
            </p:nvGrpSpPr>
            <p:grpSpPr>
              <a:xfrm>
                <a:off x="6998040" y="4460760"/>
                <a:ext cx="268560" cy="222840"/>
                <a:chOff x="6998040" y="4460760"/>
                <a:chExt cx="268560" cy="222840"/>
              </a:xfrm>
            </p:grpSpPr>
            <p:sp>
              <p:nvSpPr>
                <p:cNvPr id="2143" name=""/>
                <p:cNvSpPr/>
                <p:nvPr/>
              </p:nvSpPr>
              <p:spPr>
                <a:xfrm rot="15622800">
                  <a:off x="7033320" y="4468320"/>
                  <a:ext cx="175680" cy="219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rot="15622800">
                  <a:off x="7055640" y="4455360"/>
                  <a:ext cx="175680" cy="219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5" name=""/>
              <p:cNvGrpSpPr/>
              <p:nvPr/>
            </p:nvGrpSpPr>
            <p:grpSpPr>
              <a:xfrm>
                <a:off x="6823800" y="4092120"/>
                <a:ext cx="1038240" cy="709920"/>
                <a:chOff x="6823800" y="4092120"/>
                <a:chExt cx="1038240" cy="709920"/>
              </a:xfrm>
            </p:grpSpPr>
            <p:sp>
              <p:nvSpPr>
                <p:cNvPr id="2146" name=""/>
                <p:cNvSpPr/>
                <p:nvPr/>
              </p:nvSpPr>
              <p:spPr>
                <a:xfrm flipV="1">
                  <a:off x="6823800" y="4092120"/>
                  <a:ext cx="891720" cy="56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V="1">
                  <a:off x="6928560" y="4233600"/>
                  <a:ext cx="933480" cy="56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8" name=""/>
              <p:cNvGrpSpPr/>
              <p:nvPr/>
            </p:nvGrpSpPr>
            <p:grpSpPr>
              <a:xfrm>
                <a:off x="7037280" y="4437360"/>
                <a:ext cx="264960" cy="221760"/>
                <a:chOff x="7037280" y="4437360"/>
                <a:chExt cx="264960" cy="221760"/>
              </a:xfrm>
            </p:grpSpPr>
            <p:grpSp>
              <p:nvGrpSpPr>
                <p:cNvPr id="2149" name=""/>
                <p:cNvGrpSpPr/>
                <p:nvPr/>
              </p:nvGrpSpPr>
              <p:grpSpPr>
                <a:xfrm>
                  <a:off x="7037280" y="4448160"/>
                  <a:ext cx="245880" cy="210960"/>
                  <a:chOff x="7037280" y="4448160"/>
                  <a:chExt cx="245880" cy="210960"/>
                </a:xfrm>
              </p:grpSpPr>
              <p:sp>
                <p:nvSpPr>
                  <p:cNvPr id="2150" name=""/>
                  <p:cNvSpPr/>
                  <p:nvPr/>
                </p:nvSpPr>
                <p:spPr>
                  <a:xfrm rot="15622800">
                    <a:off x="7072560" y="4444560"/>
                    <a:ext cx="17568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 rot="15622800">
                    <a:off x="7071840" y="4443480"/>
                    <a:ext cx="1767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2" name=""/>
                <p:cNvSpPr/>
                <p:nvPr/>
              </p:nvSpPr>
              <p:spPr>
                <a:xfrm rot="15622800">
                  <a:off x="7072560" y="4442760"/>
                  <a:ext cx="176040" cy="220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rot="15622800">
                  <a:off x="7091640" y="4431960"/>
                  <a:ext cx="175320" cy="219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4" name=""/>
              <p:cNvSpPr/>
              <p:nvPr/>
            </p:nvSpPr>
            <p:spPr>
              <a:xfrm rot="15622800">
                <a:off x="7283880" y="4007160"/>
                <a:ext cx="350280" cy="80568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15622800">
                <a:off x="7713720" y="4028040"/>
                <a:ext cx="191160" cy="2466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genérica: aprov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157" name=""/>
          <p:cNvGrpSpPr/>
          <p:nvPr/>
        </p:nvGrpSpPr>
        <p:grpSpPr>
          <a:xfrm>
            <a:off x="268200" y="1492560"/>
            <a:ext cx="8615520" cy="5074560"/>
            <a:chOff x="268200" y="1492560"/>
            <a:chExt cx="8615520" cy="5074560"/>
          </a:xfrm>
        </p:grpSpPr>
        <p:sp>
          <p:nvSpPr>
            <p:cNvPr id="2158" name=""/>
            <p:cNvSpPr/>
            <p:nvPr/>
          </p:nvSpPr>
          <p:spPr>
            <a:xfrm>
              <a:off x="268200" y="1492560"/>
              <a:ext cx="219384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o relatório da auto-avaliação e discuti-lo com o time de desenvolvi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722680" y="1492560"/>
              <a:ext cx="238752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as evidências dos resultados e término das atividades planej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370480" y="1492560"/>
              <a:ext cx="168912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o portfólio de produtos e proje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321680" y="1492560"/>
              <a:ext cx="156204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o estudo de viabilidade econôm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2" name=""/>
            <p:cNvCxnSpPr>
              <a:stCxn id="2158" idx="2"/>
              <a:endCxn id="2163" idx="1"/>
            </p:cNvCxnSpPr>
            <p:nvPr/>
          </p:nvCxnSpPr>
          <p:spPr>
            <a:xfrm flipH="1" rot="16200000">
              <a:off x="1801440" y="2059920"/>
              <a:ext cx="1304280" cy="217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4" name=""/>
            <p:cNvCxnSpPr>
              <a:stCxn id="2161" idx="2"/>
              <a:endCxn id="2163" idx="3"/>
            </p:cNvCxnSpPr>
            <p:nvPr/>
          </p:nvCxnSpPr>
          <p:spPr>
            <a:xfrm rot="5400000">
              <a:off x="6257880" y="1956600"/>
              <a:ext cx="1304280" cy="238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5" name=""/>
            <p:cNvCxnSpPr>
              <a:stCxn id="2160" idx="2"/>
              <a:endCxn id="2163" idx="0"/>
            </p:cNvCxnSpPr>
            <p:nvPr/>
          </p:nvCxnSpPr>
          <p:spPr>
            <a:xfrm flipH="1">
              <a:off x="4629960" y="2496600"/>
              <a:ext cx="1585080" cy="90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6" name=""/>
            <p:cNvCxnSpPr>
              <a:stCxn id="2159" idx="2"/>
              <a:endCxn id="2163" idx="0"/>
            </p:cNvCxnSpPr>
            <p:nvPr/>
          </p:nvCxnSpPr>
          <p:spPr>
            <a:xfrm>
              <a:off x="3916440" y="2496600"/>
              <a:ext cx="714960" cy="90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3" name=""/>
            <p:cNvSpPr/>
            <p:nvPr/>
          </p:nvSpPr>
          <p:spPr>
            <a:xfrm>
              <a:off x="3556080" y="3435120"/>
              <a:ext cx="2147760" cy="7304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licar os critérios de avaliação e tomar a decis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429240" y="4977000"/>
              <a:ext cx="195768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relató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8" name=""/>
            <p:cNvCxnSpPr>
              <a:stCxn id="2163" idx="2"/>
              <a:endCxn id="2167" idx="0"/>
            </p:cNvCxnSpPr>
            <p:nvPr/>
          </p:nvCxnSpPr>
          <p:spPr>
            <a:xfrm>
              <a:off x="4630320" y="4195800"/>
              <a:ext cx="2778840" cy="753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9" name=""/>
            <p:cNvSpPr/>
            <p:nvPr/>
          </p:nvSpPr>
          <p:spPr>
            <a:xfrm>
              <a:off x="2766960" y="5581800"/>
              <a:ext cx="250344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ações corretiv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0" name=""/>
            <p:cNvCxnSpPr>
              <a:stCxn id="2163" idx="2"/>
              <a:endCxn id="2169" idx="0"/>
            </p:cNvCxnSpPr>
            <p:nvPr/>
          </p:nvCxnSpPr>
          <p:spPr>
            <a:xfrm flipH="1">
              <a:off x="4019040" y="4195800"/>
              <a:ext cx="612000" cy="13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1" name=""/>
            <p:cNvCxnSpPr>
              <a:stCxn id="2163" idx="2"/>
            </p:cNvCxnSpPr>
            <p:nvPr/>
          </p:nvCxnSpPr>
          <p:spPr>
            <a:xfrm flipH="1">
              <a:off x="1669680" y="4195440"/>
              <a:ext cx="2961360" cy="1532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2" name=""/>
            <p:cNvCxnSpPr>
              <a:stCxn id="2163" idx="2"/>
            </p:cNvCxnSpPr>
            <p:nvPr/>
          </p:nvCxnSpPr>
          <p:spPr>
            <a:xfrm flipH="1">
              <a:off x="299520" y="4195800"/>
              <a:ext cx="4331520" cy="134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3" name=""/>
            <p:cNvSpPr/>
            <p:nvPr/>
          </p:nvSpPr>
          <p:spPr>
            <a:xfrm>
              <a:off x="1733760" y="4730760"/>
              <a:ext cx="100584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ance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713240" y="5216400"/>
              <a:ext cx="101808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nge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754080" y="4870440"/>
              <a:ext cx="134712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direcion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405400" y="4356000"/>
              <a:ext cx="91728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prov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766960" y="6289920"/>
              <a:ext cx="250344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ris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85000" y="5635800"/>
              <a:ext cx="284796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lhorar processo de 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83200" y="6323400"/>
              <a:ext cx="284796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justar critérios próxima f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0" name=""/>
            <p:cNvCxnSpPr>
              <a:stCxn id="2167" idx="2"/>
              <a:endCxn id="2178" idx="0"/>
            </p:cNvCxnSpPr>
            <p:nvPr/>
          </p:nvCxnSpPr>
          <p:spPr>
            <a:xfrm>
              <a:off x="7408440" y="5249880"/>
              <a:ext cx="108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1" name=""/>
            <p:cNvCxnSpPr>
              <a:stCxn id="2178" idx="2"/>
              <a:endCxn id="2179" idx="0"/>
            </p:cNvCxnSpPr>
            <p:nvPr/>
          </p:nvCxnSpPr>
          <p:spPr>
            <a:xfrm flipH="1">
              <a:off x="7407000" y="5908680"/>
              <a:ext cx="2160" cy="386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2" name=""/>
            <p:cNvCxnSpPr>
              <a:stCxn id="2169" idx="2"/>
              <a:endCxn id="2177" idx="0"/>
            </p:cNvCxnSpPr>
            <p:nvPr/>
          </p:nvCxnSpPr>
          <p:spPr>
            <a:xfrm>
              <a:off x="4019040" y="5854320"/>
              <a:ext cx="1080" cy="407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83" name=""/>
          <p:cNvSpPr/>
          <p:nvPr/>
        </p:nvSpPr>
        <p:spPr>
          <a:xfrm>
            <a:off x="1080" y="4437000"/>
            <a:ext cx="18547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4" name=""/>
          <p:cNvGrpSpPr/>
          <p:nvPr/>
        </p:nvGrpSpPr>
        <p:grpSpPr>
          <a:xfrm>
            <a:off x="250920" y="3789360"/>
            <a:ext cx="1371240" cy="686880"/>
            <a:chOff x="250920" y="3789360"/>
            <a:chExt cx="1371240" cy="686880"/>
          </a:xfrm>
        </p:grpSpPr>
        <p:grpSp>
          <p:nvGrpSpPr>
            <p:cNvPr id="2185" name=""/>
            <p:cNvGrpSpPr/>
            <p:nvPr/>
          </p:nvGrpSpPr>
          <p:grpSpPr>
            <a:xfrm>
              <a:off x="250920" y="3789360"/>
              <a:ext cx="1371240" cy="686880"/>
              <a:chOff x="250920" y="3789360"/>
              <a:chExt cx="1371240" cy="686880"/>
            </a:xfrm>
          </p:grpSpPr>
          <p:sp>
            <p:nvSpPr>
              <p:cNvPr id="2186" name=""/>
              <p:cNvSpPr/>
              <p:nvPr/>
            </p:nvSpPr>
            <p:spPr>
              <a:xfrm>
                <a:off x="561600" y="39798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74920" y="39866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63760" y="402552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82120" y="41367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36480" y="420444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44400" y="402300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99200" y="42343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817560" y="416628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20720" y="422136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10280" y="4042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19640" y="411696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57720" y="38246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62400" y="391536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48800" y="39222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72520" y="401040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06320" y="423828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655920" y="42962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97440" y="389772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55760" y="41086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70880" y="38458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62240" y="39528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09400" y="39646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87600" y="38916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26840" y="38952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00200" y="394668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180800" y="397728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220760" y="40910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279080" y="409248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356120" y="40917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407600" y="397548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336680" y="406620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129680" y="42656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278360" y="38415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292400" y="392976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338840" y="39178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279080" y="38109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372680" y="38552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366560" y="384264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931680" y="393048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115280" y="422892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949680" y="40316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936360" y="407376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013760" y="398052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105920" y="39402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182960" y="40003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244520" y="40579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065600" y="397548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062360" y="397548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997200" y="39672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001160" y="37983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026360" y="39009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069560" y="38901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054800" y="38952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046880" y="3910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066680" y="39078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049760" y="39358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013760" y="383148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059480" y="38545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004760" y="38815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094760" y="38664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058400" y="39546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003320" y="40172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003680" y="39934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021320" y="403488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029600" y="38858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066320" y="38815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51080" y="393300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59720" y="39628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78080" y="39528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00040" y="39517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98600" y="40104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54320" y="40035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84200" y="39866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72320" y="40323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31640" y="384408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93840" y="38440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01840" y="38916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11120" y="39884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03200" y="39564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04640" y="39877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03200" y="39960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23360" y="395856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424440" y="39535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29840" y="396360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35240" y="39740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65480" y="39146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78080" y="39121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70080" y="401652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50920" y="405612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63600" y="41086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29120" y="433152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47120" y="431892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96080" y="42962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67720" y="434952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66200" y="408564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92840" y="406872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78880" y="426888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26040" y="422568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12800" y="42944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36560" y="433332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42680" y="431712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07040" y="423828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54480" y="430092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24240" y="38001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86160" y="39045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60600" y="38865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71040" y="38944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73200" y="38984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77880" y="391284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63840" y="391608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72400" y="39715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56920" y="40154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22800" y="41893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45840" y="40266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47360" y="40172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16400" y="41148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817560" y="41536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92360" y="42120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30080" y="423828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803880" y="427068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48800" y="39214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3640" y="38883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26120" y="38916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28280" y="39009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85800" y="38764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8280" y="38808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05600" y="39283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21440" y="38890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93720" y="3891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30800" y="38952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99480" y="39459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4880" y="39517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997920" y="3965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005840" y="40010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963360" y="400860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932400" y="40309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974520" y="41241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932400" y="416376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938160" y="41511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954360" y="40597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965520" y="39823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028520" y="39528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041120" y="39992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041120" y="39376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043640" y="397548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1098720" y="39366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1067760" y="399600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048320" y="407304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139040" y="3937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186920" y="39452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1157040" y="399240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1227960" y="40323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239480" y="41605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1244520" y="431136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1127160" y="426492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170360" y="42649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000440" y="37908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1024560" y="38833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1023120" y="388476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1062360" y="38728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064160" y="38815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058760" y="38764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051200" y="388728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067760" y="38908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1005120" y="38901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1095480" y="38721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035720" y="38872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071000" y="38815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045080" y="39103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042200" y="393048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051560" y="39427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021680" y="39088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028520" y="39178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077480" y="39139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257840" y="40435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279800" y="39196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289160" y="39402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315440" y="389268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346040" y="391608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310760" y="39672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328760" y="39546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343520" y="39621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286280" y="394416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322280" y="398988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324800" y="40003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259280" y="38127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297800" y="378936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361880" y="38458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373760" y="38890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380600" y="391788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320840" y="40035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375920" y="39628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302840" y="38800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316880" y="38728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334160" y="38671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360800" y="39045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446120" y="407556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1419120" y="39765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490040" y="402048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348560" y="40748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6" name=""/>
            <p:cNvSpPr/>
            <p:nvPr/>
          </p:nvSpPr>
          <p:spPr>
            <a:xfrm>
              <a:off x="1267920" y="407124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388520" y="41086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385280" y="434016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245960" y="435960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245960" y="42368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284840" y="407124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"/>
          <p:cNvGrpSpPr/>
          <p:nvPr/>
        </p:nvGrpSpPr>
        <p:grpSpPr>
          <a:xfrm>
            <a:off x="7380360" y="3716280"/>
            <a:ext cx="1274760" cy="720360"/>
            <a:chOff x="7380360" y="3716280"/>
            <a:chExt cx="1274760" cy="720360"/>
          </a:xfrm>
        </p:grpSpPr>
        <p:sp>
          <p:nvSpPr>
            <p:cNvPr id="2393" name=""/>
            <p:cNvSpPr/>
            <p:nvPr/>
          </p:nvSpPr>
          <p:spPr>
            <a:xfrm>
              <a:off x="7722000" y="4208400"/>
              <a:ext cx="567000" cy="133200"/>
            </a:xfrm>
            <a:custGeom>
              <a:avLst/>
              <a:gdLst/>
              <a:ahLst/>
              <a:rect l="l" t="t" r="r" b="b"/>
              <a:pathLst>
                <a:path w="7426" h="2003">
                  <a:moveTo>
                    <a:pt x="0" y="0"/>
                  </a:moveTo>
                  <a:lnTo>
                    <a:pt x="7426" y="0"/>
                  </a:lnTo>
                  <a:lnTo>
                    <a:pt x="6050" y="2003"/>
                  </a:lnTo>
                  <a:lnTo>
                    <a:pt x="0" y="20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946280" y="4215240"/>
              <a:ext cx="345960" cy="41040"/>
            </a:xfrm>
            <a:custGeom>
              <a:avLst/>
              <a:gdLst/>
              <a:ahLst/>
              <a:rect l="l" t="t" r="r" b="b"/>
              <a:pathLst>
                <a:path w="4520" h="620">
                  <a:moveTo>
                    <a:pt x="541" y="620"/>
                  </a:moveTo>
                  <a:lnTo>
                    <a:pt x="0" y="0"/>
                  </a:lnTo>
                  <a:lnTo>
                    <a:pt x="3269" y="0"/>
                  </a:lnTo>
                  <a:lnTo>
                    <a:pt x="4520" y="362"/>
                  </a:lnTo>
                  <a:lnTo>
                    <a:pt x="4520" y="620"/>
                  </a:lnTo>
                  <a:lnTo>
                    <a:pt x="541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381440" y="3919320"/>
              <a:ext cx="504720" cy="516240"/>
            </a:xfrm>
            <a:custGeom>
              <a:avLst/>
              <a:gdLst/>
              <a:ahLst/>
              <a:rect l="l" t="t" r="r" b="b"/>
              <a:pathLst>
                <a:path w="6609" h="7730">
                  <a:moveTo>
                    <a:pt x="0" y="1307"/>
                  </a:moveTo>
                  <a:lnTo>
                    <a:pt x="0" y="4054"/>
                  </a:lnTo>
                  <a:lnTo>
                    <a:pt x="524" y="4182"/>
                  </a:lnTo>
                  <a:lnTo>
                    <a:pt x="1012" y="4509"/>
                  </a:lnTo>
                  <a:lnTo>
                    <a:pt x="1421" y="4893"/>
                  </a:lnTo>
                  <a:lnTo>
                    <a:pt x="1881" y="5439"/>
                  </a:lnTo>
                  <a:lnTo>
                    <a:pt x="2204" y="6144"/>
                  </a:lnTo>
                  <a:lnTo>
                    <a:pt x="2513" y="7020"/>
                  </a:lnTo>
                  <a:lnTo>
                    <a:pt x="2737" y="7730"/>
                  </a:lnTo>
                  <a:lnTo>
                    <a:pt x="5123" y="7730"/>
                  </a:lnTo>
                  <a:lnTo>
                    <a:pt x="6609" y="6091"/>
                  </a:lnTo>
                  <a:lnTo>
                    <a:pt x="6609" y="5746"/>
                  </a:lnTo>
                  <a:lnTo>
                    <a:pt x="6480" y="5508"/>
                  </a:lnTo>
                  <a:lnTo>
                    <a:pt x="6185" y="5344"/>
                  </a:lnTo>
                  <a:lnTo>
                    <a:pt x="5416" y="5031"/>
                  </a:lnTo>
                  <a:lnTo>
                    <a:pt x="5365" y="4985"/>
                  </a:lnTo>
                  <a:lnTo>
                    <a:pt x="4911" y="4906"/>
                  </a:lnTo>
                  <a:lnTo>
                    <a:pt x="4746" y="4856"/>
                  </a:lnTo>
                  <a:lnTo>
                    <a:pt x="4581" y="3272"/>
                  </a:lnTo>
                  <a:lnTo>
                    <a:pt x="4468" y="2742"/>
                  </a:lnTo>
                  <a:lnTo>
                    <a:pt x="4434" y="2490"/>
                  </a:lnTo>
                  <a:lnTo>
                    <a:pt x="4212" y="2017"/>
                  </a:lnTo>
                  <a:lnTo>
                    <a:pt x="4117" y="1909"/>
                  </a:lnTo>
                  <a:lnTo>
                    <a:pt x="3959" y="1760"/>
                  </a:lnTo>
                  <a:lnTo>
                    <a:pt x="3610" y="1580"/>
                  </a:lnTo>
                  <a:lnTo>
                    <a:pt x="3115" y="1199"/>
                  </a:lnTo>
                  <a:lnTo>
                    <a:pt x="2333" y="417"/>
                  </a:lnTo>
                  <a:lnTo>
                    <a:pt x="1748" y="125"/>
                  </a:lnTo>
                  <a:lnTo>
                    <a:pt x="1222" y="0"/>
                  </a:lnTo>
                  <a:lnTo>
                    <a:pt x="894" y="399"/>
                  </a:lnTo>
                  <a:lnTo>
                    <a:pt x="599" y="582"/>
                  </a:lnTo>
                  <a:lnTo>
                    <a:pt x="146" y="1142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998840" y="3951720"/>
              <a:ext cx="649080" cy="482760"/>
            </a:xfrm>
            <a:custGeom>
              <a:avLst/>
              <a:gdLst/>
              <a:ahLst/>
              <a:rect l="l" t="t" r="r" b="b"/>
              <a:pathLst>
                <a:path w="8500" h="7234">
                  <a:moveTo>
                    <a:pt x="1999" y="4964"/>
                  </a:moveTo>
                  <a:lnTo>
                    <a:pt x="2075" y="4850"/>
                  </a:lnTo>
                  <a:lnTo>
                    <a:pt x="2430" y="4721"/>
                  </a:lnTo>
                  <a:lnTo>
                    <a:pt x="2665" y="4593"/>
                  </a:lnTo>
                  <a:lnTo>
                    <a:pt x="2915" y="4406"/>
                  </a:lnTo>
                  <a:lnTo>
                    <a:pt x="3339" y="4350"/>
                  </a:lnTo>
                  <a:lnTo>
                    <a:pt x="3412" y="3980"/>
                  </a:lnTo>
                  <a:lnTo>
                    <a:pt x="3507" y="3739"/>
                  </a:lnTo>
                  <a:lnTo>
                    <a:pt x="3658" y="2910"/>
                  </a:lnTo>
                  <a:lnTo>
                    <a:pt x="3788" y="2312"/>
                  </a:lnTo>
                  <a:lnTo>
                    <a:pt x="3954" y="1906"/>
                  </a:lnTo>
                  <a:lnTo>
                    <a:pt x="4137" y="1651"/>
                  </a:lnTo>
                  <a:lnTo>
                    <a:pt x="4454" y="1540"/>
                  </a:lnTo>
                  <a:lnTo>
                    <a:pt x="4641" y="1356"/>
                  </a:lnTo>
                  <a:lnTo>
                    <a:pt x="4710" y="1277"/>
                  </a:lnTo>
                  <a:lnTo>
                    <a:pt x="4710" y="1116"/>
                  </a:lnTo>
                  <a:lnTo>
                    <a:pt x="4803" y="876"/>
                  </a:lnTo>
                  <a:lnTo>
                    <a:pt x="5123" y="449"/>
                  </a:lnTo>
                  <a:lnTo>
                    <a:pt x="5717" y="76"/>
                  </a:lnTo>
                  <a:lnTo>
                    <a:pt x="6158" y="0"/>
                  </a:lnTo>
                  <a:lnTo>
                    <a:pt x="6737" y="466"/>
                  </a:lnTo>
                  <a:lnTo>
                    <a:pt x="6999" y="648"/>
                  </a:lnTo>
                  <a:lnTo>
                    <a:pt x="7329" y="1042"/>
                  </a:lnTo>
                  <a:lnTo>
                    <a:pt x="7679" y="1589"/>
                  </a:lnTo>
                  <a:lnTo>
                    <a:pt x="8016" y="2312"/>
                  </a:lnTo>
                  <a:lnTo>
                    <a:pt x="8389" y="3147"/>
                  </a:lnTo>
                  <a:lnTo>
                    <a:pt x="8500" y="3499"/>
                  </a:lnTo>
                  <a:lnTo>
                    <a:pt x="7772" y="3776"/>
                  </a:lnTo>
                  <a:lnTo>
                    <a:pt x="7128" y="4350"/>
                  </a:lnTo>
                  <a:lnTo>
                    <a:pt x="6807" y="4795"/>
                  </a:lnTo>
                  <a:lnTo>
                    <a:pt x="6495" y="5330"/>
                  </a:lnTo>
                  <a:lnTo>
                    <a:pt x="6289" y="5980"/>
                  </a:lnTo>
                  <a:lnTo>
                    <a:pt x="6091" y="7234"/>
                  </a:lnTo>
                  <a:lnTo>
                    <a:pt x="0" y="7234"/>
                  </a:lnTo>
                  <a:lnTo>
                    <a:pt x="1355" y="5533"/>
                  </a:lnTo>
                  <a:lnTo>
                    <a:pt x="1999" y="49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82800" y="4242600"/>
              <a:ext cx="70560" cy="98640"/>
            </a:xfrm>
            <a:custGeom>
              <a:avLst/>
              <a:gdLst/>
              <a:ahLst/>
              <a:rect l="l" t="t" r="r" b="b"/>
              <a:pathLst>
                <a:path w="927" h="1480">
                  <a:moveTo>
                    <a:pt x="394" y="113"/>
                  </a:moveTo>
                  <a:lnTo>
                    <a:pt x="670" y="386"/>
                  </a:lnTo>
                  <a:lnTo>
                    <a:pt x="670" y="540"/>
                  </a:lnTo>
                  <a:lnTo>
                    <a:pt x="0" y="851"/>
                  </a:lnTo>
                  <a:lnTo>
                    <a:pt x="112" y="1480"/>
                  </a:lnTo>
                  <a:lnTo>
                    <a:pt x="670" y="1245"/>
                  </a:lnTo>
                  <a:lnTo>
                    <a:pt x="778" y="962"/>
                  </a:lnTo>
                  <a:lnTo>
                    <a:pt x="855" y="243"/>
                  </a:lnTo>
                  <a:lnTo>
                    <a:pt x="927" y="0"/>
                  </a:lnTo>
                  <a:lnTo>
                    <a:pt x="479" y="56"/>
                  </a:lnTo>
                  <a:lnTo>
                    <a:pt x="394" y="11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54720" y="3993120"/>
              <a:ext cx="500400" cy="441720"/>
            </a:xfrm>
            <a:custGeom>
              <a:avLst/>
              <a:gdLst/>
              <a:ahLst/>
              <a:rect l="l" t="t" r="r" b="b"/>
              <a:pathLst>
                <a:path w="6551" h="6616">
                  <a:moveTo>
                    <a:pt x="6551" y="2921"/>
                  </a:moveTo>
                  <a:lnTo>
                    <a:pt x="6133" y="3048"/>
                  </a:lnTo>
                  <a:lnTo>
                    <a:pt x="5692" y="3252"/>
                  </a:lnTo>
                  <a:lnTo>
                    <a:pt x="5378" y="3432"/>
                  </a:lnTo>
                  <a:lnTo>
                    <a:pt x="5048" y="3801"/>
                  </a:lnTo>
                  <a:lnTo>
                    <a:pt x="4712" y="4252"/>
                  </a:lnTo>
                  <a:lnTo>
                    <a:pt x="4470" y="4694"/>
                  </a:lnTo>
                  <a:lnTo>
                    <a:pt x="3396" y="6547"/>
                  </a:lnTo>
                  <a:lnTo>
                    <a:pt x="2278" y="6616"/>
                  </a:lnTo>
                  <a:lnTo>
                    <a:pt x="0" y="6616"/>
                  </a:lnTo>
                  <a:lnTo>
                    <a:pt x="108" y="6197"/>
                  </a:lnTo>
                  <a:lnTo>
                    <a:pt x="367" y="6485"/>
                  </a:lnTo>
                  <a:lnTo>
                    <a:pt x="606" y="6524"/>
                  </a:lnTo>
                  <a:lnTo>
                    <a:pt x="457" y="6322"/>
                  </a:lnTo>
                  <a:lnTo>
                    <a:pt x="457" y="5971"/>
                  </a:lnTo>
                  <a:lnTo>
                    <a:pt x="870" y="5599"/>
                  </a:lnTo>
                  <a:lnTo>
                    <a:pt x="1145" y="6227"/>
                  </a:lnTo>
                  <a:lnTo>
                    <a:pt x="1332" y="6524"/>
                  </a:lnTo>
                  <a:lnTo>
                    <a:pt x="1909" y="6098"/>
                  </a:lnTo>
                  <a:lnTo>
                    <a:pt x="2466" y="5252"/>
                  </a:lnTo>
                  <a:lnTo>
                    <a:pt x="1481" y="5671"/>
                  </a:lnTo>
                  <a:lnTo>
                    <a:pt x="2134" y="4837"/>
                  </a:lnTo>
                  <a:lnTo>
                    <a:pt x="1462" y="4936"/>
                  </a:lnTo>
                  <a:lnTo>
                    <a:pt x="1446" y="4751"/>
                  </a:lnTo>
                  <a:lnTo>
                    <a:pt x="2206" y="4103"/>
                  </a:lnTo>
                  <a:lnTo>
                    <a:pt x="2241" y="4435"/>
                  </a:lnTo>
                  <a:lnTo>
                    <a:pt x="2448" y="4498"/>
                  </a:lnTo>
                  <a:lnTo>
                    <a:pt x="3188" y="3956"/>
                  </a:lnTo>
                  <a:lnTo>
                    <a:pt x="3465" y="3342"/>
                  </a:lnTo>
                  <a:lnTo>
                    <a:pt x="3558" y="2377"/>
                  </a:lnTo>
                  <a:lnTo>
                    <a:pt x="3211" y="1477"/>
                  </a:lnTo>
                  <a:lnTo>
                    <a:pt x="4212" y="2342"/>
                  </a:lnTo>
                  <a:lnTo>
                    <a:pt x="5378" y="2694"/>
                  </a:lnTo>
                  <a:lnTo>
                    <a:pt x="5766" y="2960"/>
                  </a:lnTo>
                  <a:lnTo>
                    <a:pt x="6254" y="2881"/>
                  </a:lnTo>
                  <a:lnTo>
                    <a:pt x="6087" y="2248"/>
                  </a:lnTo>
                  <a:lnTo>
                    <a:pt x="5582" y="971"/>
                  </a:lnTo>
                  <a:lnTo>
                    <a:pt x="5140" y="258"/>
                  </a:lnTo>
                  <a:lnTo>
                    <a:pt x="4894" y="0"/>
                  </a:lnTo>
                  <a:lnTo>
                    <a:pt x="5250" y="327"/>
                  </a:lnTo>
                  <a:lnTo>
                    <a:pt x="5634" y="940"/>
                  </a:lnTo>
                  <a:lnTo>
                    <a:pt x="6030" y="1810"/>
                  </a:lnTo>
                  <a:lnTo>
                    <a:pt x="6344" y="2513"/>
                  </a:lnTo>
                  <a:lnTo>
                    <a:pt x="6551" y="2921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418600" y="3953520"/>
              <a:ext cx="60120" cy="57600"/>
            </a:xfrm>
            <a:custGeom>
              <a:avLst/>
              <a:gdLst/>
              <a:ahLst/>
              <a:rect l="l" t="t" r="r" b="b"/>
              <a:pathLst>
                <a:path w="791" h="867">
                  <a:moveTo>
                    <a:pt x="197" y="120"/>
                  </a:moveTo>
                  <a:lnTo>
                    <a:pt x="307" y="199"/>
                  </a:lnTo>
                  <a:lnTo>
                    <a:pt x="386" y="512"/>
                  </a:lnTo>
                  <a:lnTo>
                    <a:pt x="346" y="625"/>
                  </a:lnTo>
                  <a:lnTo>
                    <a:pt x="0" y="867"/>
                  </a:lnTo>
                  <a:lnTo>
                    <a:pt x="791" y="535"/>
                  </a:lnTo>
                  <a:lnTo>
                    <a:pt x="791" y="298"/>
                  </a:lnTo>
                  <a:lnTo>
                    <a:pt x="573" y="0"/>
                  </a:lnTo>
                  <a:lnTo>
                    <a:pt x="346" y="39"/>
                  </a:lnTo>
                  <a:lnTo>
                    <a:pt x="197" y="12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745040" y="3876120"/>
              <a:ext cx="531720" cy="353160"/>
            </a:xfrm>
            <a:custGeom>
              <a:avLst/>
              <a:gdLst/>
              <a:ahLst/>
              <a:rect l="l" t="t" r="r" b="b"/>
              <a:pathLst>
                <a:path w="6960" h="5288">
                  <a:moveTo>
                    <a:pt x="2583" y="0"/>
                  </a:moveTo>
                  <a:lnTo>
                    <a:pt x="2425" y="32"/>
                  </a:lnTo>
                  <a:lnTo>
                    <a:pt x="2146" y="173"/>
                  </a:lnTo>
                  <a:lnTo>
                    <a:pt x="1372" y="233"/>
                  </a:lnTo>
                  <a:lnTo>
                    <a:pt x="592" y="498"/>
                  </a:lnTo>
                  <a:lnTo>
                    <a:pt x="229" y="706"/>
                  </a:lnTo>
                  <a:lnTo>
                    <a:pt x="141" y="876"/>
                  </a:lnTo>
                  <a:lnTo>
                    <a:pt x="93" y="1047"/>
                  </a:lnTo>
                  <a:lnTo>
                    <a:pt x="141" y="1374"/>
                  </a:lnTo>
                  <a:lnTo>
                    <a:pt x="229" y="1625"/>
                  </a:lnTo>
                  <a:lnTo>
                    <a:pt x="141" y="2183"/>
                  </a:lnTo>
                  <a:lnTo>
                    <a:pt x="102" y="2308"/>
                  </a:lnTo>
                  <a:lnTo>
                    <a:pt x="32" y="2356"/>
                  </a:lnTo>
                  <a:lnTo>
                    <a:pt x="0" y="2444"/>
                  </a:lnTo>
                  <a:lnTo>
                    <a:pt x="12" y="2620"/>
                  </a:lnTo>
                  <a:lnTo>
                    <a:pt x="155" y="3086"/>
                  </a:lnTo>
                  <a:lnTo>
                    <a:pt x="155" y="3277"/>
                  </a:lnTo>
                  <a:lnTo>
                    <a:pt x="141" y="3525"/>
                  </a:lnTo>
                  <a:lnTo>
                    <a:pt x="126" y="3655"/>
                  </a:lnTo>
                  <a:lnTo>
                    <a:pt x="32" y="3928"/>
                  </a:lnTo>
                  <a:lnTo>
                    <a:pt x="44" y="4198"/>
                  </a:lnTo>
                  <a:lnTo>
                    <a:pt x="556" y="4862"/>
                  </a:lnTo>
                  <a:lnTo>
                    <a:pt x="888" y="4980"/>
                  </a:lnTo>
                  <a:lnTo>
                    <a:pt x="1003" y="5053"/>
                  </a:lnTo>
                  <a:lnTo>
                    <a:pt x="1361" y="5022"/>
                  </a:lnTo>
                  <a:lnTo>
                    <a:pt x="1671" y="5148"/>
                  </a:lnTo>
                  <a:lnTo>
                    <a:pt x="2062" y="5288"/>
                  </a:lnTo>
                  <a:lnTo>
                    <a:pt x="2704" y="4862"/>
                  </a:lnTo>
                  <a:lnTo>
                    <a:pt x="6835" y="4837"/>
                  </a:lnTo>
                  <a:lnTo>
                    <a:pt x="6960" y="4152"/>
                  </a:lnTo>
                  <a:lnTo>
                    <a:pt x="6621" y="4119"/>
                  </a:lnTo>
                  <a:lnTo>
                    <a:pt x="6446" y="3917"/>
                  </a:lnTo>
                  <a:lnTo>
                    <a:pt x="6333" y="3853"/>
                  </a:lnTo>
                  <a:lnTo>
                    <a:pt x="6151" y="3536"/>
                  </a:lnTo>
                  <a:lnTo>
                    <a:pt x="6022" y="3011"/>
                  </a:lnTo>
                  <a:lnTo>
                    <a:pt x="5955" y="2780"/>
                  </a:lnTo>
                  <a:lnTo>
                    <a:pt x="5912" y="2483"/>
                  </a:lnTo>
                  <a:lnTo>
                    <a:pt x="5773" y="2420"/>
                  </a:lnTo>
                  <a:lnTo>
                    <a:pt x="5745" y="2229"/>
                  </a:lnTo>
                  <a:lnTo>
                    <a:pt x="5773" y="1812"/>
                  </a:lnTo>
                  <a:lnTo>
                    <a:pt x="5745" y="1515"/>
                  </a:lnTo>
                  <a:lnTo>
                    <a:pt x="5710" y="1314"/>
                  </a:lnTo>
                  <a:lnTo>
                    <a:pt x="5660" y="1097"/>
                  </a:lnTo>
                  <a:lnTo>
                    <a:pt x="5584" y="998"/>
                  </a:lnTo>
                  <a:lnTo>
                    <a:pt x="5521" y="966"/>
                  </a:lnTo>
                  <a:lnTo>
                    <a:pt x="5424" y="936"/>
                  </a:lnTo>
                  <a:lnTo>
                    <a:pt x="4848" y="717"/>
                  </a:lnTo>
                  <a:lnTo>
                    <a:pt x="4240" y="438"/>
                  </a:lnTo>
                  <a:lnTo>
                    <a:pt x="3850" y="267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897320" y="4165920"/>
              <a:ext cx="69120" cy="61920"/>
            </a:xfrm>
            <a:custGeom>
              <a:avLst/>
              <a:gdLst/>
              <a:ahLst/>
              <a:rect l="l" t="t" r="r" b="b"/>
              <a:pathLst>
                <a:path w="904" h="929">
                  <a:moveTo>
                    <a:pt x="626" y="0"/>
                  </a:moveTo>
                  <a:lnTo>
                    <a:pt x="904" y="74"/>
                  </a:lnTo>
                  <a:lnTo>
                    <a:pt x="720" y="221"/>
                  </a:lnTo>
                  <a:lnTo>
                    <a:pt x="477" y="584"/>
                  </a:lnTo>
                  <a:lnTo>
                    <a:pt x="293" y="929"/>
                  </a:lnTo>
                  <a:lnTo>
                    <a:pt x="0" y="843"/>
                  </a:lnTo>
                  <a:lnTo>
                    <a:pt x="26" y="558"/>
                  </a:lnTo>
                  <a:lnTo>
                    <a:pt x="132" y="378"/>
                  </a:lnTo>
                  <a:lnTo>
                    <a:pt x="277" y="228"/>
                  </a:lnTo>
                  <a:lnTo>
                    <a:pt x="487" y="74"/>
                  </a:lnTo>
                  <a:lnTo>
                    <a:pt x="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896600" y="4177440"/>
              <a:ext cx="39600" cy="50760"/>
            </a:xfrm>
            <a:custGeom>
              <a:avLst/>
              <a:gdLst/>
              <a:ahLst/>
              <a:rect l="l" t="t" r="r" b="b"/>
              <a:pathLst>
                <a:path w="521" h="763">
                  <a:moveTo>
                    <a:pt x="402" y="0"/>
                  </a:moveTo>
                  <a:lnTo>
                    <a:pt x="249" y="172"/>
                  </a:lnTo>
                  <a:lnTo>
                    <a:pt x="152" y="366"/>
                  </a:lnTo>
                  <a:lnTo>
                    <a:pt x="327" y="378"/>
                  </a:lnTo>
                  <a:lnTo>
                    <a:pt x="521" y="212"/>
                  </a:lnTo>
                  <a:lnTo>
                    <a:pt x="378" y="535"/>
                  </a:lnTo>
                  <a:lnTo>
                    <a:pt x="327" y="763"/>
                  </a:lnTo>
                  <a:lnTo>
                    <a:pt x="0" y="763"/>
                  </a:lnTo>
                  <a:lnTo>
                    <a:pt x="11" y="574"/>
                  </a:lnTo>
                  <a:lnTo>
                    <a:pt x="77" y="322"/>
                  </a:lnTo>
                  <a:lnTo>
                    <a:pt x="207" y="17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930800" y="3878640"/>
              <a:ext cx="114840" cy="259560"/>
            </a:xfrm>
            <a:custGeom>
              <a:avLst/>
              <a:gdLst/>
              <a:ahLst/>
              <a:rect l="l" t="t" r="r" b="b"/>
              <a:pathLst>
                <a:path w="1500" h="3892">
                  <a:moveTo>
                    <a:pt x="143" y="0"/>
                  </a:moveTo>
                  <a:lnTo>
                    <a:pt x="1500" y="561"/>
                  </a:lnTo>
                  <a:lnTo>
                    <a:pt x="1500" y="1046"/>
                  </a:lnTo>
                  <a:lnTo>
                    <a:pt x="1426" y="1553"/>
                  </a:lnTo>
                  <a:lnTo>
                    <a:pt x="1336" y="2078"/>
                  </a:lnTo>
                  <a:lnTo>
                    <a:pt x="1193" y="2760"/>
                  </a:lnTo>
                  <a:lnTo>
                    <a:pt x="1053" y="3259"/>
                  </a:lnTo>
                  <a:lnTo>
                    <a:pt x="815" y="3892"/>
                  </a:lnTo>
                  <a:lnTo>
                    <a:pt x="774" y="3293"/>
                  </a:lnTo>
                  <a:lnTo>
                    <a:pt x="642" y="2523"/>
                  </a:lnTo>
                  <a:lnTo>
                    <a:pt x="560" y="2041"/>
                  </a:lnTo>
                  <a:lnTo>
                    <a:pt x="488" y="1659"/>
                  </a:lnTo>
                  <a:lnTo>
                    <a:pt x="338" y="1336"/>
                  </a:lnTo>
                  <a:lnTo>
                    <a:pt x="172" y="995"/>
                  </a:lnTo>
                  <a:lnTo>
                    <a:pt x="43" y="705"/>
                  </a:lnTo>
                  <a:lnTo>
                    <a:pt x="0" y="497"/>
                  </a:lnTo>
                  <a:lnTo>
                    <a:pt x="0" y="301"/>
                  </a:lnTo>
                  <a:lnTo>
                    <a:pt x="66" y="121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971120" y="3947400"/>
              <a:ext cx="37080" cy="192240"/>
            </a:xfrm>
            <a:custGeom>
              <a:avLst/>
              <a:gdLst/>
              <a:ahLst/>
              <a:rect l="l" t="t" r="r" b="b"/>
              <a:pathLst>
                <a:path w="486" h="2874">
                  <a:moveTo>
                    <a:pt x="194" y="0"/>
                  </a:moveTo>
                  <a:lnTo>
                    <a:pt x="51" y="126"/>
                  </a:lnTo>
                  <a:lnTo>
                    <a:pt x="139" y="455"/>
                  </a:lnTo>
                  <a:lnTo>
                    <a:pt x="0" y="806"/>
                  </a:lnTo>
                  <a:lnTo>
                    <a:pt x="81" y="1235"/>
                  </a:lnTo>
                  <a:lnTo>
                    <a:pt x="178" y="1853"/>
                  </a:lnTo>
                  <a:lnTo>
                    <a:pt x="265" y="2463"/>
                  </a:lnTo>
                  <a:lnTo>
                    <a:pt x="328" y="2874"/>
                  </a:lnTo>
                  <a:lnTo>
                    <a:pt x="486" y="2371"/>
                  </a:lnTo>
                  <a:lnTo>
                    <a:pt x="459" y="1973"/>
                  </a:lnTo>
                  <a:lnTo>
                    <a:pt x="440" y="1265"/>
                  </a:lnTo>
                  <a:lnTo>
                    <a:pt x="436" y="857"/>
                  </a:lnTo>
                  <a:lnTo>
                    <a:pt x="401" y="622"/>
                  </a:lnTo>
                  <a:lnTo>
                    <a:pt x="365" y="477"/>
                  </a:lnTo>
                  <a:lnTo>
                    <a:pt x="440" y="248"/>
                  </a:lnTo>
                  <a:lnTo>
                    <a:pt x="355" y="2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971120" y="3948840"/>
              <a:ext cx="35280" cy="157320"/>
            </a:xfrm>
            <a:custGeom>
              <a:avLst/>
              <a:gdLst/>
              <a:ahLst/>
              <a:rect l="l" t="t" r="r" b="b"/>
              <a:pathLst>
                <a:path w="459" h="2362">
                  <a:moveTo>
                    <a:pt x="365" y="94"/>
                  </a:moveTo>
                  <a:lnTo>
                    <a:pt x="288" y="79"/>
                  </a:lnTo>
                  <a:lnTo>
                    <a:pt x="207" y="169"/>
                  </a:lnTo>
                  <a:lnTo>
                    <a:pt x="247" y="433"/>
                  </a:lnTo>
                  <a:lnTo>
                    <a:pt x="288" y="433"/>
                  </a:lnTo>
                  <a:lnTo>
                    <a:pt x="385" y="272"/>
                  </a:lnTo>
                  <a:lnTo>
                    <a:pt x="355" y="523"/>
                  </a:lnTo>
                  <a:lnTo>
                    <a:pt x="440" y="875"/>
                  </a:lnTo>
                  <a:lnTo>
                    <a:pt x="436" y="1701"/>
                  </a:lnTo>
                  <a:lnTo>
                    <a:pt x="459" y="2362"/>
                  </a:lnTo>
                  <a:lnTo>
                    <a:pt x="401" y="2000"/>
                  </a:lnTo>
                  <a:lnTo>
                    <a:pt x="365" y="1542"/>
                  </a:lnTo>
                  <a:lnTo>
                    <a:pt x="355" y="1097"/>
                  </a:lnTo>
                  <a:lnTo>
                    <a:pt x="339" y="848"/>
                  </a:lnTo>
                  <a:lnTo>
                    <a:pt x="265" y="613"/>
                  </a:lnTo>
                  <a:lnTo>
                    <a:pt x="247" y="940"/>
                  </a:lnTo>
                  <a:lnTo>
                    <a:pt x="178" y="1009"/>
                  </a:lnTo>
                  <a:lnTo>
                    <a:pt x="139" y="940"/>
                  </a:lnTo>
                  <a:lnTo>
                    <a:pt x="207" y="606"/>
                  </a:lnTo>
                  <a:lnTo>
                    <a:pt x="104" y="769"/>
                  </a:lnTo>
                  <a:lnTo>
                    <a:pt x="51" y="1085"/>
                  </a:lnTo>
                  <a:lnTo>
                    <a:pt x="0" y="797"/>
                  </a:lnTo>
                  <a:lnTo>
                    <a:pt x="139" y="446"/>
                  </a:lnTo>
                  <a:lnTo>
                    <a:pt x="69" y="117"/>
                  </a:lnTo>
                  <a:lnTo>
                    <a:pt x="171" y="0"/>
                  </a:lnTo>
                  <a:lnTo>
                    <a:pt x="339" y="15"/>
                  </a:lnTo>
                  <a:lnTo>
                    <a:pt x="365" y="94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999200" y="3918600"/>
              <a:ext cx="46800" cy="182520"/>
            </a:xfrm>
            <a:custGeom>
              <a:avLst/>
              <a:gdLst/>
              <a:ahLst/>
              <a:rect l="l" t="t" r="r" b="b"/>
              <a:pathLst>
                <a:path w="620" h="2734">
                  <a:moveTo>
                    <a:pt x="94" y="1255"/>
                  </a:moveTo>
                  <a:lnTo>
                    <a:pt x="266" y="953"/>
                  </a:lnTo>
                  <a:lnTo>
                    <a:pt x="394" y="758"/>
                  </a:lnTo>
                  <a:lnTo>
                    <a:pt x="354" y="1204"/>
                  </a:lnTo>
                  <a:lnTo>
                    <a:pt x="266" y="1709"/>
                  </a:lnTo>
                  <a:lnTo>
                    <a:pt x="106" y="2410"/>
                  </a:lnTo>
                  <a:lnTo>
                    <a:pt x="130" y="2734"/>
                  </a:lnTo>
                  <a:lnTo>
                    <a:pt x="369" y="1831"/>
                  </a:lnTo>
                  <a:lnTo>
                    <a:pt x="525" y="1125"/>
                  </a:lnTo>
                  <a:lnTo>
                    <a:pt x="589" y="703"/>
                  </a:lnTo>
                  <a:lnTo>
                    <a:pt x="620" y="224"/>
                  </a:lnTo>
                  <a:lnTo>
                    <a:pt x="608" y="0"/>
                  </a:lnTo>
                  <a:lnTo>
                    <a:pt x="477" y="105"/>
                  </a:lnTo>
                  <a:lnTo>
                    <a:pt x="477" y="277"/>
                  </a:lnTo>
                  <a:lnTo>
                    <a:pt x="428" y="540"/>
                  </a:lnTo>
                  <a:lnTo>
                    <a:pt x="233" y="899"/>
                  </a:lnTo>
                  <a:lnTo>
                    <a:pt x="75" y="639"/>
                  </a:lnTo>
                  <a:lnTo>
                    <a:pt x="0" y="945"/>
                  </a:lnTo>
                  <a:lnTo>
                    <a:pt x="71" y="1140"/>
                  </a:lnTo>
                  <a:lnTo>
                    <a:pt x="94" y="12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961400" y="3956040"/>
              <a:ext cx="20520" cy="42120"/>
            </a:xfrm>
            <a:custGeom>
              <a:avLst/>
              <a:gdLst/>
              <a:ahLst/>
              <a:rect l="l" t="t" r="r" b="b"/>
              <a:pathLst>
                <a:path w="268" h="627">
                  <a:moveTo>
                    <a:pt x="108" y="627"/>
                  </a:moveTo>
                  <a:lnTo>
                    <a:pt x="0" y="249"/>
                  </a:lnTo>
                  <a:lnTo>
                    <a:pt x="159" y="0"/>
                  </a:lnTo>
                  <a:lnTo>
                    <a:pt x="268" y="329"/>
                  </a:lnTo>
                  <a:lnTo>
                    <a:pt x="198" y="512"/>
                  </a:lnTo>
                  <a:lnTo>
                    <a:pt x="108" y="627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930800" y="3878640"/>
              <a:ext cx="16200" cy="59760"/>
            </a:xfrm>
            <a:custGeom>
              <a:avLst/>
              <a:gdLst/>
              <a:ahLst/>
              <a:rect l="l" t="t" r="r" b="b"/>
              <a:pathLst>
                <a:path w="211" h="900">
                  <a:moveTo>
                    <a:pt x="211" y="549"/>
                  </a:moveTo>
                  <a:lnTo>
                    <a:pt x="161" y="681"/>
                  </a:lnTo>
                  <a:lnTo>
                    <a:pt x="132" y="780"/>
                  </a:lnTo>
                  <a:lnTo>
                    <a:pt x="119" y="900"/>
                  </a:lnTo>
                  <a:lnTo>
                    <a:pt x="50" y="705"/>
                  </a:lnTo>
                  <a:lnTo>
                    <a:pt x="0" y="561"/>
                  </a:lnTo>
                  <a:lnTo>
                    <a:pt x="0" y="354"/>
                  </a:lnTo>
                  <a:lnTo>
                    <a:pt x="43" y="209"/>
                  </a:lnTo>
                  <a:lnTo>
                    <a:pt x="96" y="66"/>
                  </a:lnTo>
                  <a:lnTo>
                    <a:pt x="143" y="0"/>
                  </a:lnTo>
                  <a:lnTo>
                    <a:pt x="182" y="323"/>
                  </a:lnTo>
                  <a:lnTo>
                    <a:pt x="211" y="54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925400" y="4284360"/>
              <a:ext cx="259560" cy="128160"/>
            </a:xfrm>
            <a:custGeom>
              <a:avLst/>
              <a:gdLst/>
              <a:ahLst/>
              <a:rect l="l" t="t" r="r" b="b"/>
              <a:pathLst>
                <a:path w="3405" h="1922">
                  <a:moveTo>
                    <a:pt x="2938" y="0"/>
                  </a:moveTo>
                  <a:lnTo>
                    <a:pt x="2852" y="59"/>
                  </a:lnTo>
                  <a:lnTo>
                    <a:pt x="2017" y="375"/>
                  </a:lnTo>
                  <a:lnTo>
                    <a:pt x="1040" y="587"/>
                  </a:lnTo>
                  <a:lnTo>
                    <a:pt x="581" y="949"/>
                  </a:lnTo>
                  <a:lnTo>
                    <a:pt x="565" y="1028"/>
                  </a:lnTo>
                  <a:lnTo>
                    <a:pt x="191" y="1074"/>
                  </a:lnTo>
                  <a:lnTo>
                    <a:pt x="0" y="1173"/>
                  </a:lnTo>
                  <a:lnTo>
                    <a:pt x="0" y="1274"/>
                  </a:lnTo>
                  <a:lnTo>
                    <a:pt x="1980" y="1922"/>
                  </a:lnTo>
                  <a:lnTo>
                    <a:pt x="2246" y="1371"/>
                  </a:lnTo>
                  <a:lnTo>
                    <a:pt x="3405" y="501"/>
                  </a:lnTo>
                  <a:lnTo>
                    <a:pt x="3331" y="241"/>
                  </a:lnTo>
                  <a:lnTo>
                    <a:pt x="3094" y="0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971120" y="4353840"/>
              <a:ext cx="23040" cy="11160"/>
            </a:xfrm>
            <a:custGeom>
              <a:avLst/>
              <a:gdLst/>
              <a:ahLst/>
              <a:rect l="l" t="t" r="r" b="b"/>
              <a:pathLst>
                <a:path w="308" h="163">
                  <a:moveTo>
                    <a:pt x="34" y="51"/>
                  </a:moveTo>
                  <a:lnTo>
                    <a:pt x="0" y="81"/>
                  </a:lnTo>
                  <a:lnTo>
                    <a:pt x="4" y="123"/>
                  </a:lnTo>
                  <a:lnTo>
                    <a:pt x="31" y="143"/>
                  </a:lnTo>
                  <a:lnTo>
                    <a:pt x="244" y="163"/>
                  </a:lnTo>
                  <a:lnTo>
                    <a:pt x="297" y="132"/>
                  </a:lnTo>
                  <a:lnTo>
                    <a:pt x="308" y="77"/>
                  </a:lnTo>
                  <a:lnTo>
                    <a:pt x="279" y="18"/>
                  </a:lnTo>
                  <a:lnTo>
                    <a:pt x="226" y="0"/>
                  </a:lnTo>
                  <a:lnTo>
                    <a:pt x="34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926120" y="4360680"/>
              <a:ext cx="24120" cy="9360"/>
            </a:xfrm>
            <a:custGeom>
              <a:avLst/>
              <a:gdLst/>
              <a:ahLst/>
              <a:rect l="l" t="t" r="r" b="b"/>
              <a:pathLst>
                <a:path w="319" h="145">
                  <a:moveTo>
                    <a:pt x="0" y="111"/>
                  </a:moveTo>
                  <a:lnTo>
                    <a:pt x="13" y="40"/>
                  </a:lnTo>
                  <a:lnTo>
                    <a:pt x="109" y="0"/>
                  </a:lnTo>
                  <a:lnTo>
                    <a:pt x="209" y="0"/>
                  </a:lnTo>
                  <a:lnTo>
                    <a:pt x="294" y="33"/>
                  </a:lnTo>
                  <a:lnTo>
                    <a:pt x="319" y="99"/>
                  </a:lnTo>
                  <a:lnTo>
                    <a:pt x="308" y="134"/>
                  </a:lnTo>
                  <a:lnTo>
                    <a:pt x="282" y="14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830000" y="4218120"/>
              <a:ext cx="135000" cy="79560"/>
            </a:xfrm>
            <a:custGeom>
              <a:avLst/>
              <a:gdLst/>
              <a:ahLst/>
              <a:rect l="l" t="t" r="r" b="b"/>
              <a:pathLst>
                <a:path w="1763" h="1187">
                  <a:moveTo>
                    <a:pt x="0" y="653"/>
                  </a:moveTo>
                  <a:lnTo>
                    <a:pt x="115" y="226"/>
                  </a:lnTo>
                  <a:lnTo>
                    <a:pt x="569" y="0"/>
                  </a:lnTo>
                  <a:lnTo>
                    <a:pt x="827" y="131"/>
                  </a:lnTo>
                  <a:lnTo>
                    <a:pt x="1193" y="157"/>
                  </a:lnTo>
                  <a:lnTo>
                    <a:pt x="1268" y="226"/>
                  </a:lnTo>
                  <a:lnTo>
                    <a:pt x="1290" y="291"/>
                  </a:lnTo>
                  <a:lnTo>
                    <a:pt x="1464" y="376"/>
                  </a:lnTo>
                  <a:lnTo>
                    <a:pt x="1572" y="458"/>
                  </a:lnTo>
                  <a:lnTo>
                    <a:pt x="1624" y="466"/>
                  </a:lnTo>
                  <a:lnTo>
                    <a:pt x="1763" y="553"/>
                  </a:lnTo>
                  <a:lnTo>
                    <a:pt x="1756" y="629"/>
                  </a:lnTo>
                  <a:lnTo>
                    <a:pt x="1585" y="783"/>
                  </a:lnTo>
                  <a:lnTo>
                    <a:pt x="1597" y="911"/>
                  </a:lnTo>
                  <a:lnTo>
                    <a:pt x="1657" y="917"/>
                  </a:lnTo>
                  <a:lnTo>
                    <a:pt x="1659" y="1035"/>
                  </a:lnTo>
                  <a:lnTo>
                    <a:pt x="1488" y="1176"/>
                  </a:lnTo>
                  <a:lnTo>
                    <a:pt x="1027" y="1187"/>
                  </a:lnTo>
                  <a:lnTo>
                    <a:pt x="0" y="6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791480" y="4254840"/>
              <a:ext cx="103320" cy="65160"/>
            </a:xfrm>
            <a:custGeom>
              <a:avLst/>
              <a:gdLst/>
              <a:ahLst/>
              <a:rect l="l" t="t" r="r" b="b"/>
              <a:pathLst>
                <a:path w="1351" h="980">
                  <a:moveTo>
                    <a:pt x="0" y="393"/>
                  </a:moveTo>
                  <a:lnTo>
                    <a:pt x="4" y="296"/>
                  </a:lnTo>
                  <a:lnTo>
                    <a:pt x="16" y="176"/>
                  </a:lnTo>
                  <a:lnTo>
                    <a:pt x="66" y="17"/>
                  </a:lnTo>
                  <a:lnTo>
                    <a:pt x="389" y="5"/>
                  </a:lnTo>
                  <a:lnTo>
                    <a:pt x="514" y="0"/>
                  </a:lnTo>
                  <a:lnTo>
                    <a:pt x="837" y="31"/>
                  </a:lnTo>
                  <a:lnTo>
                    <a:pt x="998" y="81"/>
                  </a:lnTo>
                  <a:lnTo>
                    <a:pt x="1095" y="145"/>
                  </a:lnTo>
                  <a:lnTo>
                    <a:pt x="1249" y="259"/>
                  </a:lnTo>
                  <a:lnTo>
                    <a:pt x="1330" y="409"/>
                  </a:lnTo>
                  <a:lnTo>
                    <a:pt x="1351" y="563"/>
                  </a:lnTo>
                  <a:lnTo>
                    <a:pt x="1351" y="708"/>
                  </a:lnTo>
                  <a:lnTo>
                    <a:pt x="1330" y="846"/>
                  </a:lnTo>
                  <a:lnTo>
                    <a:pt x="1270" y="980"/>
                  </a:lnTo>
                  <a:lnTo>
                    <a:pt x="1240" y="773"/>
                  </a:lnTo>
                  <a:lnTo>
                    <a:pt x="1185" y="628"/>
                  </a:lnTo>
                  <a:lnTo>
                    <a:pt x="1072" y="487"/>
                  </a:lnTo>
                  <a:lnTo>
                    <a:pt x="945" y="369"/>
                  </a:lnTo>
                  <a:lnTo>
                    <a:pt x="756" y="316"/>
                  </a:lnTo>
                  <a:lnTo>
                    <a:pt x="589" y="294"/>
                  </a:lnTo>
                  <a:lnTo>
                    <a:pt x="362" y="296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214120" y="3720960"/>
              <a:ext cx="298800" cy="215640"/>
            </a:xfrm>
            <a:custGeom>
              <a:avLst/>
              <a:gdLst/>
              <a:ahLst/>
              <a:rect l="l" t="t" r="r" b="b"/>
              <a:pathLst>
                <a:path w="3911" h="3232">
                  <a:moveTo>
                    <a:pt x="426" y="1795"/>
                  </a:moveTo>
                  <a:lnTo>
                    <a:pt x="180" y="1718"/>
                  </a:lnTo>
                  <a:lnTo>
                    <a:pt x="37" y="1609"/>
                  </a:lnTo>
                  <a:lnTo>
                    <a:pt x="0" y="1478"/>
                  </a:lnTo>
                  <a:lnTo>
                    <a:pt x="26" y="1333"/>
                  </a:lnTo>
                  <a:lnTo>
                    <a:pt x="37" y="1160"/>
                  </a:lnTo>
                  <a:lnTo>
                    <a:pt x="120" y="995"/>
                  </a:lnTo>
                  <a:lnTo>
                    <a:pt x="237" y="905"/>
                  </a:lnTo>
                  <a:lnTo>
                    <a:pt x="346" y="850"/>
                  </a:lnTo>
                  <a:lnTo>
                    <a:pt x="386" y="749"/>
                  </a:lnTo>
                  <a:lnTo>
                    <a:pt x="459" y="689"/>
                  </a:lnTo>
                  <a:lnTo>
                    <a:pt x="614" y="659"/>
                  </a:lnTo>
                  <a:lnTo>
                    <a:pt x="777" y="433"/>
                  </a:lnTo>
                  <a:lnTo>
                    <a:pt x="1035" y="292"/>
                  </a:lnTo>
                  <a:lnTo>
                    <a:pt x="1300" y="268"/>
                  </a:lnTo>
                  <a:lnTo>
                    <a:pt x="1515" y="90"/>
                  </a:lnTo>
                  <a:lnTo>
                    <a:pt x="1707" y="57"/>
                  </a:lnTo>
                  <a:lnTo>
                    <a:pt x="1914" y="65"/>
                  </a:lnTo>
                  <a:lnTo>
                    <a:pt x="2221" y="0"/>
                  </a:lnTo>
                  <a:lnTo>
                    <a:pt x="2474" y="39"/>
                  </a:lnTo>
                  <a:lnTo>
                    <a:pt x="2624" y="79"/>
                  </a:lnTo>
                  <a:lnTo>
                    <a:pt x="2795" y="90"/>
                  </a:lnTo>
                  <a:lnTo>
                    <a:pt x="2933" y="178"/>
                  </a:lnTo>
                  <a:lnTo>
                    <a:pt x="3048" y="281"/>
                  </a:lnTo>
                  <a:lnTo>
                    <a:pt x="3254" y="332"/>
                  </a:lnTo>
                  <a:lnTo>
                    <a:pt x="3440" y="468"/>
                  </a:lnTo>
                  <a:lnTo>
                    <a:pt x="3659" y="714"/>
                  </a:lnTo>
                  <a:lnTo>
                    <a:pt x="3788" y="943"/>
                  </a:lnTo>
                  <a:lnTo>
                    <a:pt x="3880" y="1259"/>
                  </a:lnTo>
                  <a:lnTo>
                    <a:pt x="3911" y="1609"/>
                  </a:lnTo>
                  <a:lnTo>
                    <a:pt x="3850" y="1936"/>
                  </a:lnTo>
                  <a:lnTo>
                    <a:pt x="3647" y="2254"/>
                  </a:lnTo>
                  <a:lnTo>
                    <a:pt x="3331" y="2704"/>
                  </a:lnTo>
                  <a:lnTo>
                    <a:pt x="2819" y="3232"/>
                  </a:lnTo>
                  <a:lnTo>
                    <a:pt x="1349" y="2428"/>
                  </a:lnTo>
                  <a:lnTo>
                    <a:pt x="426" y="1795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231400" y="3828240"/>
              <a:ext cx="191880" cy="189720"/>
            </a:xfrm>
            <a:custGeom>
              <a:avLst/>
              <a:gdLst/>
              <a:ahLst/>
              <a:rect l="l" t="t" r="r" b="b"/>
              <a:pathLst>
                <a:path w="2514" h="2843">
                  <a:moveTo>
                    <a:pt x="1734" y="570"/>
                  </a:moveTo>
                  <a:lnTo>
                    <a:pt x="1644" y="621"/>
                  </a:lnTo>
                  <a:lnTo>
                    <a:pt x="1556" y="744"/>
                  </a:lnTo>
                  <a:lnTo>
                    <a:pt x="1262" y="645"/>
                  </a:lnTo>
                  <a:lnTo>
                    <a:pt x="840" y="232"/>
                  </a:lnTo>
                  <a:lnTo>
                    <a:pt x="524" y="146"/>
                  </a:lnTo>
                  <a:lnTo>
                    <a:pt x="409" y="0"/>
                  </a:lnTo>
                  <a:lnTo>
                    <a:pt x="330" y="41"/>
                  </a:lnTo>
                  <a:lnTo>
                    <a:pt x="242" y="159"/>
                  </a:lnTo>
                  <a:lnTo>
                    <a:pt x="156" y="645"/>
                  </a:lnTo>
                  <a:lnTo>
                    <a:pt x="178" y="744"/>
                  </a:lnTo>
                  <a:lnTo>
                    <a:pt x="242" y="854"/>
                  </a:lnTo>
                  <a:lnTo>
                    <a:pt x="264" y="984"/>
                  </a:lnTo>
                  <a:lnTo>
                    <a:pt x="264" y="1125"/>
                  </a:lnTo>
                  <a:lnTo>
                    <a:pt x="229" y="1252"/>
                  </a:lnTo>
                  <a:lnTo>
                    <a:pt x="0" y="1713"/>
                  </a:lnTo>
                  <a:lnTo>
                    <a:pt x="24" y="1790"/>
                  </a:lnTo>
                  <a:lnTo>
                    <a:pt x="303" y="1773"/>
                  </a:lnTo>
                  <a:lnTo>
                    <a:pt x="384" y="1979"/>
                  </a:lnTo>
                  <a:lnTo>
                    <a:pt x="460" y="2003"/>
                  </a:lnTo>
                  <a:lnTo>
                    <a:pt x="547" y="2170"/>
                  </a:lnTo>
                  <a:lnTo>
                    <a:pt x="483" y="2267"/>
                  </a:lnTo>
                  <a:lnTo>
                    <a:pt x="483" y="2298"/>
                  </a:lnTo>
                  <a:lnTo>
                    <a:pt x="596" y="2419"/>
                  </a:lnTo>
                  <a:lnTo>
                    <a:pt x="596" y="2504"/>
                  </a:lnTo>
                  <a:lnTo>
                    <a:pt x="561" y="2579"/>
                  </a:lnTo>
                  <a:lnTo>
                    <a:pt x="572" y="2698"/>
                  </a:lnTo>
                  <a:lnTo>
                    <a:pt x="622" y="2735"/>
                  </a:lnTo>
                  <a:lnTo>
                    <a:pt x="723" y="2764"/>
                  </a:lnTo>
                  <a:lnTo>
                    <a:pt x="1402" y="2698"/>
                  </a:lnTo>
                  <a:lnTo>
                    <a:pt x="1684" y="2843"/>
                  </a:lnTo>
                  <a:lnTo>
                    <a:pt x="1824" y="2612"/>
                  </a:lnTo>
                  <a:lnTo>
                    <a:pt x="1963" y="2483"/>
                  </a:lnTo>
                  <a:lnTo>
                    <a:pt x="2209" y="2232"/>
                  </a:lnTo>
                  <a:lnTo>
                    <a:pt x="2514" y="1979"/>
                  </a:lnTo>
                  <a:lnTo>
                    <a:pt x="2260" y="1162"/>
                  </a:lnTo>
                  <a:lnTo>
                    <a:pt x="2165" y="667"/>
                  </a:lnTo>
                  <a:lnTo>
                    <a:pt x="1951" y="524"/>
                  </a:lnTo>
                  <a:lnTo>
                    <a:pt x="1734" y="57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346600" y="3921480"/>
              <a:ext cx="24840" cy="21600"/>
            </a:xfrm>
            <a:custGeom>
              <a:avLst/>
              <a:gdLst/>
              <a:ahLst/>
              <a:rect l="l" t="t" r="r" b="b"/>
              <a:pathLst>
                <a:path w="334" h="330">
                  <a:moveTo>
                    <a:pt x="230" y="0"/>
                  </a:moveTo>
                  <a:lnTo>
                    <a:pt x="155" y="20"/>
                  </a:lnTo>
                  <a:lnTo>
                    <a:pt x="65" y="47"/>
                  </a:lnTo>
                  <a:lnTo>
                    <a:pt x="0" y="130"/>
                  </a:lnTo>
                  <a:lnTo>
                    <a:pt x="0" y="231"/>
                  </a:lnTo>
                  <a:lnTo>
                    <a:pt x="52" y="321"/>
                  </a:lnTo>
                  <a:lnTo>
                    <a:pt x="155" y="330"/>
                  </a:lnTo>
                  <a:lnTo>
                    <a:pt x="281" y="291"/>
                  </a:lnTo>
                  <a:lnTo>
                    <a:pt x="334" y="215"/>
                  </a:lnTo>
                  <a:lnTo>
                    <a:pt x="334" y="104"/>
                  </a:lnTo>
                  <a:lnTo>
                    <a:pt x="291" y="4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268120" y="3964680"/>
              <a:ext cx="13320" cy="14760"/>
            </a:xfrm>
            <a:custGeom>
              <a:avLst/>
              <a:gdLst/>
              <a:ahLst/>
              <a:rect l="l" t="t" r="r" b="b"/>
              <a:pathLst>
                <a:path w="179" h="227">
                  <a:moveTo>
                    <a:pt x="0" y="137"/>
                  </a:moveTo>
                  <a:lnTo>
                    <a:pt x="0" y="227"/>
                  </a:lnTo>
                  <a:lnTo>
                    <a:pt x="168" y="130"/>
                  </a:lnTo>
                  <a:lnTo>
                    <a:pt x="179" y="0"/>
                  </a:lnTo>
                  <a:lnTo>
                    <a:pt x="51" y="8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265960" y="3959280"/>
              <a:ext cx="18360" cy="14400"/>
            </a:xfrm>
            <a:custGeom>
              <a:avLst/>
              <a:gdLst/>
              <a:ahLst/>
              <a:rect l="l" t="t" r="r" b="b"/>
              <a:pathLst>
                <a:path w="242" h="213">
                  <a:moveTo>
                    <a:pt x="0" y="51"/>
                  </a:moveTo>
                  <a:lnTo>
                    <a:pt x="64" y="213"/>
                  </a:lnTo>
                  <a:lnTo>
                    <a:pt x="203" y="152"/>
                  </a:lnTo>
                  <a:lnTo>
                    <a:pt x="242" y="39"/>
                  </a:lnTo>
                  <a:lnTo>
                    <a:pt x="124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248680" y="3880080"/>
              <a:ext cx="20520" cy="15840"/>
            </a:xfrm>
            <a:custGeom>
              <a:avLst/>
              <a:gdLst/>
              <a:ahLst/>
              <a:rect l="l" t="t" r="r" b="b"/>
              <a:pathLst>
                <a:path w="270" h="242">
                  <a:moveTo>
                    <a:pt x="136" y="40"/>
                  </a:moveTo>
                  <a:lnTo>
                    <a:pt x="270" y="242"/>
                  </a:lnTo>
                  <a:lnTo>
                    <a:pt x="28" y="102"/>
                  </a:lnTo>
                  <a:lnTo>
                    <a:pt x="0" y="28"/>
                  </a:lnTo>
                  <a:lnTo>
                    <a:pt x="55" y="0"/>
                  </a:lnTo>
                  <a:lnTo>
                    <a:pt x="136" y="4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492680" y="3746160"/>
              <a:ext cx="249840" cy="149400"/>
            </a:xfrm>
            <a:custGeom>
              <a:avLst/>
              <a:gdLst/>
              <a:ahLst/>
              <a:rect l="l" t="t" r="r" b="b"/>
              <a:pathLst>
                <a:path w="3274" h="2237">
                  <a:moveTo>
                    <a:pt x="19" y="2140"/>
                  </a:moveTo>
                  <a:lnTo>
                    <a:pt x="35" y="1930"/>
                  </a:lnTo>
                  <a:lnTo>
                    <a:pt x="0" y="1342"/>
                  </a:lnTo>
                  <a:lnTo>
                    <a:pt x="61" y="1035"/>
                  </a:lnTo>
                  <a:lnTo>
                    <a:pt x="229" y="760"/>
                  </a:lnTo>
                  <a:lnTo>
                    <a:pt x="397" y="468"/>
                  </a:lnTo>
                  <a:lnTo>
                    <a:pt x="740" y="226"/>
                  </a:lnTo>
                  <a:lnTo>
                    <a:pt x="1169" y="77"/>
                  </a:lnTo>
                  <a:lnTo>
                    <a:pt x="1511" y="7"/>
                  </a:lnTo>
                  <a:lnTo>
                    <a:pt x="1894" y="0"/>
                  </a:lnTo>
                  <a:lnTo>
                    <a:pt x="2338" y="127"/>
                  </a:lnTo>
                  <a:lnTo>
                    <a:pt x="2654" y="296"/>
                  </a:lnTo>
                  <a:lnTo>
                    <a:pt x="2922" y="487"/>
                  </a:lnTo>
                  <a:lnTo>
                    <a:pt x="3103" y="549"/>
                  </a:lnTo>
                  <a:lnTo>
                    <a:pt x="3252" y="694"/>
                  </a:lnTo>
                  <a:lnTo>
                    <a:pt x="3274" y="844"/>
                  </a:lnTo>
                  <a:lnTo>
                    <a:pt x="3223" y="945"/>
                  </a:lnTo>
                  <a:lnTo>
                    <a:pt x="3078" y="973"/>
                  </a:lnTo>
                  <a:lnTo>
                    <a:pt x="136" y="2237"/>
                  </a:lnTo>
                  <a:lnTo>
                    <a:pt x="19" y="214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484040" y="3795840"/>
              <a:ext cx="267480" cy="206640"/>
            </a:xfrm>
            <a:custGeom>
              <a:avLst/>
              <a:gdLst/>
              <a:ahLst/>
              <a:rect l="l" t="t" r="r" b="b"/>
              <a:pathLst>
                <a:path w="3504" h="3096">
                  <a:moveTo>
                    <a:pt x="0" y="1865"/>
                  </a:moveTo>
                  <a:lnTo>
                    <a:pt x="345" y="1955"/>
                  </a:lnTo>
                  <a:lnTo>
                    <a:pt x="710" y="2087"/>
                  </a:lnTo>
                  <a:lnTo>
                    <a:pt x="1097" y="2344"/>
                  </a:lnTo>
                  <a:lnTo>
                    <a:pt x="1365" y="2591"/>
                  </a:lnTo>
                  <a:lnTo>
                    <a:pt x="1696" y="2953"/>
                  </a:lnTo>
                  <a:lnTo>
                    <a:pt x="2865" y="3096"/>
                  </a:lnTo>
                  <a:lnTo>
                    <a:pt x="2921" y="3023"/>
                  </a:lnTo>
                  <a:lnTo>
                    <a:pt x="2921" y="2889"/>
                  </a:lnTo>
                  <a:lnTo>
                    <a:pt x="2949" y="2817"/>
                  </a:lnTo>
                  <a:lnTo>
                    <a:pt x="3024" y="2740"/>
                  </a:lnTo>
                  <a:lnTo>
                    <a:pt x="3017" y="2600"/>
                  </a:lnTo>
                  <a:lnTo>
                    <a:pt x="2826" y="2469"/>
                  </a:lnTo>
                  <a:lnTo>
                    <a:pt x="3032" y="2419"/>
                  </a:lnTo>
                  <a:lnTo>
                    <a:pt x="3098" y="2213"/>
                  </a:lnTo>
                  <a:lnTo>
                    <a:pt x="3173" y="2167"/>
                  </a:lnTo>
                  <a:lnTo>
                    <a:pt x="3362" y="2177"/>
                  </a:lnTo>
                  <a:lnTo>
                    <a:pt x="3472" y="2158"/>
                  </a:lnTo>
                  <a:lnTo>
                    <a:pt x="3504" y="2118"/>
                  </a:lnTo>
                  <a:lnTo>
                    <a:pt x="3494" y="2068"/>
                  </a:lnTo>
                  <a:lnTo>
                    <a:pt x="3223" y="1378"/>
                  </a:lnTo>
                  <a:lnTo>
                    <a:pt x="3248" y="1303"/>
                  </a:lnTo>
                  <a:lnTo>
                    <a:pt x="3310" y="1222"/>
                  </a:lnTo>
                  <a:lnTo>
                    <a:pt x="3278" y="826"/>
                  </a:lnTo>
                  <a:lnTo>
                    <a:pt x="3239" y="538"/>
                  </a:lnTo>
                  <a:lnTo>
                    <a:pt x="3149" y="242"/>
                  </a:lnTo>
                  <a:lnTo>
                    <a:pt x="2296" y="0"/>
                  </a:lnTo>
                  <a:lnTo>
                    <a:pt x="83" y="1630"/>
                  </a:lnTo>
                  <a:lnTo>
                    <a:pt x="0" y="1865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712640" y="3895560"/>
              <a:ext cx="9360" cy="82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122" y="0"/>
                  </a:moveTo>
                  <a:lnTo>
                    <a:pt x="71" y="129"/>
                  </a:lnTo>
                  <a:lnTo>
                    <a:pt x="0" y="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997400" y="4149000"/>
              <a:ext cx="129960" cy="49680"/>
            </a:xfrm>
            <a:custGeom>
              <a:avLst/>
              <a:gdLst/>
              <a:ahLst/>
              <a:rect l="l" t="t" r="r" b="b"/>
              <a:pathLst>
                <a:path w="1699" h="744">
                  <a:moveTo>
                    <a:pt x="0" y="80"/>
                  </a:moveTo>
                  <a:lnTo>
                    <a:pt x="42" y="0"/>
                  </a:lnTo>
                  <a:lnTo>
                    <a:pt x="814" y="300"/>
                  </a:lnTo>
                  <a:lnTo>
                    <a:pt x="1517" y="616"/>
                  </a:lnTo>
                  <a:lnTo>
                    <a:pt x="1699" y="744"/>
                  </a:lnTo>
                  <a:lnTo>
                    <a:pt x="1460" y="708"/>
                  </a:lnTo>
                  <a:lnTo>
                    <a:pt x="206" y="15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948800" y="4158000"/>
              <a:ext cx="152640" cy="82080"/>
            </a:xfrm>
            <a:custGeom>
              <a:avLst/>
              <a:gdLst/>
              <a:ahLst/>
              <a:rect l="l" t="t" r="r" b="b"/>
              <a:pathLst>
                <a:path w="2003" h="1230">
                  <a:moveTo>
                    <a:pt x="80" y="253"/>
                  </a:moveTo>
                  <a:lnTo>
                    <a:pt x="278" y="218"/>
                  </a:lnTo>
                  <a:lnTo>
                    <a:pt x="477" y="195"/>
                  </a:lnTo>
                  <a:lnTo>
                    <a:pt x="945" y="11"/>
                  </a:lnTo>
                  <a:lnTo>
                    <a:pt x="1262" y="11"/>
                  </a:lnTo>
                  <a:lnTo>
                    <a:pt x="1646" y="0"/>
                  </a:lnTo>
                  <a:lnTo>
                    <a:pt x="2003" y="345"/>
                  </a:lnTo>
                  <a:lnTo>
                    <a:pt x="1973" y="393"/>
                  </a:lnTo>
                  <a:lnTo>
                    <a:pt x="1941" y="380"/>
                  </a:lnTo>
                  <a:lnTo>
                    <a:pt x="1927" y="472"/>
                  </a:lnTo>
                  <a:lnTo>
                    <a:pt x="1869" y="534"/>
                  </a:lnTo>
                  <a:lnTo>
                    <a:pt x="1578" y="725"/>
                  </a:lnTo>
                  <a:lnTo>
                    <a:pt x="1491" y="861"/>
                  </a:lnTo>
                  <a:lnTo>
                    <a:pt x="1297" y="991"/>
                  </a:lnTo>
                  <a:lnTo>
                    <a:pt x="1229" y="1112"/>
                  </a:lnTo>
                  <a:lnTo>
                    <a:pt x="926" y="1221"/>
                  </a:lnTo>
                  <a:lnTo>
                    <a:pt x="848" y="1230"/>
                  </a:lnTo>
                  <a:lnTo>
                    <a:pt x="539" y="1158"/>
                  </a:lnTo>
                  <a:lnTo>
                    <a:pt x="34" y="855"/>
                  </a:lnTo>
                  <a:lnTo>
                    <a:pt x="0" y="419"/>
                  </a:lnTo>
                  <a:lnTo>
                    <a:pt x="80" y="2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930800" y="3768480"/>
              <a:ext cx="173880" cy="180000"/>
            </a:xfrm>
            <a:custGeom>
              <a:avLst/>
              <a:gdLst/>
              <a:ahLst/>
              <a:rect l="l" t="t" r="r" b="b"/>
              <a:pathLst>
                <a:path w="2284" h="2689">
                  <a:moveTo>
                    <a:pt x="166" y="357"/>
                  </a:moveTo>
                  <a:lnTo>
                    <a:pt x="55" y="468"/>
                  </a:lnTo>
                  <a:lnTo>
                    <a:pt x="0" y="597"/>
                  </a:lnTo>
                  <a:lnTo>
                    <a:pt x="0" y="740"/>
                  </a:lnTo>
                  <a:lnTo>
                    <a:pt x="14" y="869"/>
                  </a:lnTo>
                  <a:lnTo>
                    <a:pt x="75" y="1095"/>
                  </a:lnTo>
                  <a:lnTo>
                    <a:pt x="187" y="1190"/>
                  </a:lnTo>
                  <a:lnTo>
                    <a:pt x="148" y="1552"/>
                  </a:lnTo>
                  <a:lnTo>
                    <a:pt x="172" y="1731"/>
                  </a:lnTo>
                  <a:lnTo>
                    <a:pt x="247" y="2225"/>
                  </a:lnTo>
                  <a:lnTo>
                    <a:pt x="326" y="2329"/>
                  </a:lnTo>
                  <a:lnTo>
                    <a:pt x="479" y="2513"/>
                  </a:lnTo>
                  <a:lnTo>
                    <a:pt x="715" y="2689"/>
                  </a:lnTo>
                  <a:lnTo>
                    <a:pt x="1117" y="2548"/>
                  </a:lnTo>
                  <a:lnTo>
                    <a:pt x="1238" y="2467"/>
                  </a:lnTo>
                  <a:lnTo>
                    <a:pt x="1399" y="2357"/>
                  </a:lnTo>
                  <a:lnTo>
                    <a:pt x="1473" y="2252"/>
                  </a:lnTo>
                  <a:lnTo>
                    <a:pt x="1567" y="2201"/>
                  </a:lnTo>
                  <a:lnTo>
                    <a:pt x="1858" y="1681"/>
                  </a:lnTo>
                  <a:lnTo>
                    <a:pt x="1971" y="1690"/>
                  </a:lnTo>
                  <a:lnTo>
                    <a:pt x="2040" y="1607"/>
                  </a:lnTo>
                  <a:lnTo>
                    <a:pt x="2157" y="1439"/>
                  </a:lnTo>
                  <a:lnTo>
                    <a:pt x="2199" y="1298"/>
                  </a:lnTo>
                  <a:lnTo>
                    <a:pt x="2199" y="1190"/>
                  </a:lnTo>
                  <a:lnTo>
                    <a:pt x="2284" y="423"/>
                  </a:lnTo>
                  <a:lnTo>
                    <a:pt x="987" y="0"/>
                  </a:lnTo>
                  <a:lnTo>
                    <a:pt x="341" y="263"/>
                  </a:lnTo>
                  <a:lnTo>
                    <a:pt x="166" y="35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979040" y="3819240"/>
              <a:ext cx="39600" cy="39600"/>
            </a:xfrm>
            <a:custGeom>
              <a:avLst/>
              <a:gdLst/>
              <a:ahLst/>
              <a:rect l="l" t="t" r="r" b="b"/>
              <a:pathLst>
                <a:path w="516" h="592">
                  <a:moveTo>
                    <a:pt x="0" y="0"/>
                  </a:moveTo>
                  <a:lnTo>
                    <a:pt x="230" y="592"/>
                  </a:lnTo>
                  <a:lnTo>
                    <a:pt x="351" y="521"/>
                  </a:lnTo>
                  <a:lnTo>
                    <a:pt x="424" y="449"/>
                  </a:lnTo>
                  <a:lnTo>
                    <a:pt x="481" y="357"/>
                  </a:lnTo>
                  <a:lnTo>
                    <a:pt x="516" y="246"/>
                  </a:lnTo>
                  <a:lnTo>
                    <a:pt x="445" y="145"/>
                  </a:lnTo>
                  <a:lnTo>
                    <a:pt x="288" y="46"/>
                  </a:lnTo>
                  <a:lnTo>
                    <a:pt x="1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048880" y="3841200"/>
              <a:ext cx="30240" cy="31320"/>
            </a:xfrm>
            <a:custGeom>
              <a:avLst/>
              <a:gdLst/>
              <a:ahLst/>
              <a:rect l="l" t="t" r="r" b="b"/>
              <a:pathLst>
                <a:path w="404" h="473">
                  <a:moveTo>
                    <a:pt x="0" y="0"/>
                  </a:moveTo>
                  <a:lnTo>
                    <a:pt x="231" y="473"/>
                  </a:lnTo>
                  <a:lnTo>
                    <a:pt x="303" y="376"/>
                  </a:lnTo>
                  <a:lnTo>
                    <a:pt x="393" y="242"/>
                  </a:lnTo>
                  <a:lnTo>
                    <a:pt x="404" y="146"/>
                  </a:lnTo>
                  <a:lnTo>
                    <a:pt x="17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958880" y="3826800"/>
              <a:ext cx="15480" cy="29160"/>
            </a:xfrm>
            <a:custGeom>
              <a:avLst/>
              <a:gdLst/>
              <a:ahLst/>
              <a:rect l="l" t="t" r="r" b="b"/>
              <a:pathLst>
                <a:path w="210" h="443">
                  <a:moveTo>
                    <a:pt x="39" y="0"/>
                  </a:moveTo>
                  <a:lnTo>
                    <a:pt x="210" y="443"/>
                  </a:lnTo>
                  <a:lnTo>
                    <a:pt x="97" y="374"/>
                  </a:lnTo>
                  <a:lnTo>
                    <a:pt x="39" y="302"/>
                  </a:lnTo>
                  <a:lnTo>
                    <a:pt x="10" y="226"/>
                  </a:lnTo>
                  <a:lnTo>
                    <a:pt x="0" y="9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029440" y="3843720"/>
              <a:ext cx="22320" cy="32040"/>
            </a:xfrm>
            <a:custGeom>
              <a:avLst/>
              <a:gdLst/>
              <a:ahLst/>
              <a:rect l="l" t="t" r="r" b="b"/>
              <a:pathLst>
                <a:path w="292" h="480">
                  <a:moveTo>
                    <a:pt x="32" y="0"/>
                  </a:moveTo>
                  <a:lnTo>
                    <a:pt x="292" y="480"/>
                  </a:lnTo>
                  <a:lnTo>
                    <a:pt x="131" y="432"/>
                  </a:lnTo>
                  <a:lnTo>
                    <a:pt x="32" y="386"/>
                  </a:lnTo>
                  <a:lnTo>
                    <a:pt x="0" y="22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962120" y="3822480"/>
              <a:ext cx="16920" cy="34920"/>
            </a:xfrm>
            <a:custGeom>
              <a:avLst/>
              <a:gdLst/>
              <a:ahLst/>
              <a:rect l="l" t="t" r="r" b="b"/>
              <a:pathLst>
                <a:path w="222" h="523">
                  <a:moveTo>
                    <a:pt x="0" y="119"/>
                  </a:moveTo>
                  <a:lnTo>
                    <a:pt x="150" y="493"/>
                  </a:lnTo>
                  <a:lnTo>
                    <a:pt x="222" y="523"/>
                  </a:lnTo>
                  <a:lnTo>
                    <a:pt x="17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031600" y="3843360"/>
              <a:ext cx="21960" cy="32760"/>
            </a:xfrm>
            <a:custGeom>
              <a:avLst/>
              <a:gdLst/>
              <a:ahLst/>
              <a:rect l="l" t="t" r="r" b="b"/>
              <a:pathLst>
                <a:path w="288" h="498">
                  <a:moveTo>
                    <a:pt x="0" y="35"/>
                  </a:moveTo>
                  <a:lnTo>
                    <a:pt x="224" y="498"/>
                  </a:lnTo>
                  <a:lnTo>
                    <a:pt x="288" y="477"/>
                  </a:lnTo>
                  <a:lnTo>
                    <a:pt x="3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944840" y="3725640"/>
              <a:ext cx="186840" cy="123840"/>
            </a:xfrm>
            <a:custGeom>
              <a:avLst/>
              <a:gdLst/>
              <a:ahLst/>
              <a:rect l="l" t="t" r="r" b="b"/>
              <a:pathLst>
                <a:path w="2454" h="1848">
                  <a:moveTo>
                    <a:pt x="226" y="1063"/>
                  </a:moveTo>
                  <a:lnTo>
                    <a:pt x="323" y="1046"/>
                  </a:lnTo>
                  <a:lnTo>
                    <a:pt x="672" y="790"/>
                  </a:lnTo>
                  <a:lnTo>
                    <a:pt x="943" y="817"/>
                  </a:lnTo>
                  <a:lnTo>
                    <a:pt x="1804" y="960"/>
                  </a:lnTo>
                  <a:lnTo>
                    <a:pt x="2092" y="1063"/>
                  </a:lnTo>
                  <a:lnTo>
                    <a:pt x="1965" y="1735"/>
                  </a:lnTo>
                  <a:lnTo>
                    <a:pt x="2037" y="1848"/>
                  </a:lnTo>
                  <a:lnTo>
                    <a:pt x="2297" y="1666"/>
                  </a:lnTo>
                  <a:lnTo>
                    <a:pt x="2357" y="1544"/>
                  </a:lnTo>
                  <a:lnTo>
                    <a:pt x="2419" y="1364"/>
                  </a:lnTo>
                  <a:lnTo>
                    <a:pt x="2454" y="1248"/>
                  </a:lnTo>
                  <a:lnTo>
                    <a:pt x="2444" y="1122"/>
                  </a:lnTo>
                  <a:lnTo>
                    <a:pt x="2403" y="1059"/>
                  </a:lnTo>
                  <a:lnTo>
                    <a:pt x="2223" y="1009"/>
                  </a:lnTo>
                  <a:lnTo>
                    <a:pt x="2025" y="380"/>
                  </a:lnTo>
                  <a:lnTo>
                    <a:pt x="1848" y="173"/>
                  </a:lnTo>
                  <a:lnTo>
                    <a:pt x="1472" y="11"/>
                  </a:lnTo>
                  <a:lnTo>
                    <a:pt x="1264" y="0"/>
                  </a:lnTo>
                  <a:lnTo>
                    <a:pt x="1004" y="27"/>
                  </a:lnTo>
                  <a:lnTo>
                    <a:pt x="760" y="76"/>
                  </a:lnTo>
                  <a:lnTo>
                    <a:pt x="554" y="207"/>
                  </a:lnTo>
                  <a:lnTo>
                    <a:pt x="202" y="633"/>
                  </a:lnTo>
                  <a:lnTo>
                    <a:pt x="0" y="982"/>
                  </a:lnTo>
                  <a:lnTo>
                    <a:pt x="88" y="1035"/>
                  </a:lnTo>
                  <a:lnTo>
                    <a:pt x="127" y="1162"/>
                  </a:lnTo>
                  <a:lnTo>
                    <a:pt x="226" y="106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040960" y="3843720"/>
              <a:ext cx="13320" cy="8280"/>
            </a:xfrm>
            <a:custGeom>
              <a:avLst/>
              <a:gdLst/>
              <a:ahLst/>
              <a:rect l="l" t="t" r="r" b="b"/>
              <a:pathLst>
                <a:path w="171" h="132">
                  <a:moveTo>
                    <a:pt x="0" y="51"/>
                  </a:moveTo>
                  <a:lnTo>
                    <a:pt x="72" y="132"/>
                  </a:lnTo>
                  <a:lnTo>
                    <a:pt x="171" y="40"/>
                  </a:lnTo>
                  <a:lnTo>
                    <a:pt x="102" y="0"/>
                  </a:lnTo>
                  <a:lnTo>
                    <a:pt x="1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982280" y="3827520"/>
              <a:ext cx="18720" cy="972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0" y="46"/>
                  </a:moveTo>
                  <a:lnTo>
                    <a:pt x="83" y="127"/>
                  </a:lnTo>
                  <a:lnTo>
                    <a:pt x="182" y="148"/>
                  </a:lnTo>
                  <a:lnTo>
                    <a:pt x="251" y="35"/>
                  </a:lnTo>
                  <a:lnTo>
                    <a:pt x="140" y="0"/>
                  </a:lnTo>
                  <a:lnTo>
                    <a:pt x="24" y="1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214480" y="3832560"/>
              <a:ext cx="44280" cy="62280"/>
            </a:xfrm>
            <a:custGeom>
              <a:avLst/>
              <a:gdLst/>
              <a:ahLst/>
              <a:rect l="l" t="t" r="r" b="b"/>
              <a:pathLst>
                <a:path w="585" h="936">
                  <a:moveTo>
                    <a:pt x="532" y="0"/>
                  </a:moveTo>
                  <a:lnTo>
                    <a:pt x="464" y="79"/>
                  </a:lnTo>
                  <a:lnTo>
                    <a:pt x="407" y="22"/>
                  </a:lnTo>
                  <a:lnTo>
                    <a:pt x="315" y="22"/>
                  </a:lnTo>
                  <a:lnTo>
                    <a:pt x="137" y="129"/>
                  </a:lnTo>
                  <a:lnTo>
                    <a:pt x="18" y="277"/>
                  </a:lnTo>
                  <a:lnTo>
                    <a:pt x="0" y="398"/>
                  </a:lnTo>
                  <a:lnTo>
                    <a:pt x="18" y="532"/>
                  </a:lnTo>
                  <a:lnTo>
                    <a:pt x="62" y="592"/>
                  </a:lnTo>
                  <a:lnTo>
                    <a:pt x="112" y="620"/>
                  </a:lnTo>
                  <a:lnTo>
                    <a:pt x="62" y="562"/>
                  </a:lnTo>
                  <a:lnTo>
                    <a:pt x="53" y="484"/>
                  </a:lnTo>
                  <a:lnTo>
                    <a:pt x="77" y="407"/>
                  </a:lnTo>
                  <a:lnTo>
                    <a:pt x="143" y="301"/>
                  </a:lnTo>
                  <a:lnTo>
                    <a:pt x="222" y="262"/>
                  </a:lnTo>
                  <a:lnTo>
                    <a:pt x="264" y="235"/>
                  </a:lnTo>
                  <a:lnTo>
                    <a:pt x="222" y="301"/>
                  </a:lnTo>
                  <a:lnTo>
                    <a:pt x="200" y="407"/>
                  </a:lnTo>
                  <a:lnTo>
                    <a:pt x="213" y="484"/>
                  </a:lnTo>
                  <a:lnTo>
                    <a:pt x="235" y="558"/>
                  </a:lnTo>
                  <a:lnTo>
                    <a:pt x="283" y="613"/>
                  </a:lnTo>
                  <a:lnTo>
                    <a:pt x="350" y="659"/>
                  </a:lnTo>
                  <a:lnTo>
                    <a:pt x="350" y="688"/>
                  </a:lnTo>
                  <a:lnTo>
                    <a:pt x="378" y="735"/>
                  </a:lnTo>
                  <a:lnTo>
                    <a:pt x="435" y="776"/>
                  </a:lnTo>
                  <a:lnTo>
                    <a:pt x="486" y="936"/>
                  </a:lnTo>
                  <a:lnTo>
                    <a:pt x="479" y="754"/>
                  </a:lnTo>
                  <a:lnTo>
                    <a:pt x="506" y="730"/>
                  </a:lnTo>
                  <a:lnTo>
                    <a:pt x="585" y="747"/>
                  </a:lnTo>
                  <a:lnTo>
                    <a:pt x="474" y="688"/>
                  </a:lnTo>
                  <a:lnTo>
                    <a:pt x="382" y="652"/>
                  </a:lnTo>
                  <a:lnTo>
                    <a:pt x="389" y="507"/>
                  </a:lnTo>
                  <a:lnTo>
                    <a:pt x="455" y="2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246880" y="3883320"/>
              <a:ext cx="23760" cy="27720"/>
            </a:xfrm>
            <a:custGeom>
              <a:avLst/>
              <a:gdLst/>
              <a:ahLst/>
              <a:rect l="l" t="t" r="r" b="b"/>
              <a:pathLst>
                <a:path w="310" h="417">
                  <a:moveTo>
                    <a:pt x="0" y="0"/>
                  </a:moveTo>
                  <a:lnTo>
                    <a:pt x="126" y="96"/>
                  </a:lnTo>
                  <a:lnTo>
                    <a:pt x="310" y="202"/>
                  </a:lnTo>
                  <a:lnTo>
                    <a:pt x="297" y="237"/>
                  </a:lnTo>
                  <a:lnTo>
                    <a:pt x="310" y="248"/>
                  </a:lnTo>
                  <a:lnTo>
                    <a:pt x="126" y="417"/>
                  </a:lnTo>
                  <a:lnTo>
                    <a:pt x="115" y="387"/>
                  </a:lnTo>
                  <a:lnTo>
                    <a:pt x="163" y="302"/>
                  </a:lnTo>
                  <a:lnTo>
                    <a:pt x="143" y="242"/>
                  </a:lnTo>
                  <a:lnTo>
                    <a:pt x="27" y="248"/>
                  </a:lnTo>
                  <a:lnTo>
                    <a:pt x="80" y="202"/>
                  </a:lnTo>
                  <a:lnTo>
                    <a:pt x="108" y="173"/>
                  </a:lnTo>
                  <a:lnTo>
                    <a:pt x="55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231400" y="3902040"/>
              <a:ext cx="30960" cy="56520"/>
            </a:xfrm>
            <a:custGeom>
              <a:avLst/>
              <a:gdLst/>
              <a:ahLst/>
              <a:rect l="l" t="t" r="r" b="b"/>
              <a:pathLst>
                <a:path w="409" h="848">
                  <a:moveTo>
                    <a:pt x="264" y="0"/>
                  </a:moveTo>
                  <a:lnTo>
                    <a:pt x="252" y="55"/>
                  </a:lnTo>
                  <a:lnTo>
                    <a:pt x="202" y="200"/>
                  </a:lnTo>
                  <a:lnTo>
                    <a:pt x="97" y="401"/>
                  </a:lnTo>
                  <a:lnTo>
                    <a:pt x="0" y="606"/>
                  </a:lnTo>
                  <a:lnTo>
                    <a:pt x="0" y="661"/>
                  </a:lnTo>
                  <a:lnTo>
                    <a:pt x="61" y="696"/>
                  </a:lnTo>
                  <a:lnTo>
                    <a:pt x="220" y="719"/>
                  </a:lnTo>
                  <a:lnTo>
                    <a:pt x="317" y="740"/>
                  </a:lnTo>
                  <a:lnTo>
                    <a:pt x="338" y="753"/>
                  </a:lnTo>
                  <a:lnTo>
                    <a:pt x="354" y="809"/>
                  </a:lnTo>
                  <a:lnTo>
                    <a:pt x="365" y="848"/>
                  </a:lnTo>
                  <a:lnTo>
                    <a:pt x="354" y="740"/>
                  </a:lnTo>
                  <a:lnTo>
                    <a:pt x="328" y="696"/>
                  </a:lnTo>
                  <a:lnTo>
                    <a:pt x="354" y="666"/>
                  </a:lnTo>
                  <a:lnTo>
                    <a:pt x="409" y="633"/>
                  </a:lnTo>
                  <a:lnTo>
                    <a:pt x="391" y="615"/>
                  </a:lnTo>
                  <a:lnTo>
                    <a:pt x="338" y="615"/>
                  </a:lnTo>
                  <a:lnTo>
                    <a:pt x="202" y="641"/>
                  </a:lnTo>
                  <a:lnTo>
                    <a:pt x="97" y="666"/>
                  </a:lnTo>
                  <a:lnTo>
                    <a:pt x="35" y="661"/>
                  </a:lnTo>
                  <a:lnTo>
                    <a:pt x="13" y="626"/>
                  </a:lnTo>
                  <a:lnTo>
                    <a:pt x="13" y="590"/>
                  </a:lnTo>
                  <a:lnTo>
                    <a:pt x="218" y="200"/>
                  </a:lnTo>
                  <a:lnTo>
                    <a:pt x="233" y="12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259120" y="3929760"/>
              <a:ext cx="34560" cy="45360"/>
            </a:xfrm>
            <a:custGeom>
              <a:avLst/>
              <a:gdLst/>
              <a:ahLst/>
              <a:rect l="l" t="t" r="r" b="b"/>
              <a:pathLst>
                <a:path w="452" h="679">
                  <a:moveTo>
                    <a:pt x="0" y="0"/>
                  </a:moveTo>
                  <a:lnTo>
                    <a:pt x="28" y="101"/>
                  </a:lnTo>
                  <a:lnTo>
                    <a:pt x="72" y="180"/>
                  </a:lnTo>
                  <a:lnTo>
                    <a:pt x="154" y="277"/>
                  </a:lnTo>
                  <a:lnTo>
                    <a:pt x="283" y="338"/>
                  </a:lnTo>
                  <a:lnTo>
                    <a:pt x="404" y="433"/>
                  </a:lnTo>
                  <a:lnTo>
                    <a:pt x="424" y="484"/>
                  </a:lnTo>
                  <a:lnTo>
                    <a:pt x="452" y="679"/>
                  </a:lnTo>
                  <a:lnTo>
                    <a:pt x="404" y="574"/>
                  </a:lnTo>
                  <a:lnTo>
                    <a:pt x="283" y="463"/>
                  </a:lnTo>
                  <a:lnTo>
                    <a:pt x="184" y="457"/>
                  </a:lnTo>
                  <a:lnTo>
                    <a:pt x="53" y="495"/>
                  </a:lnTo>
                  <a:lnTo>
                    <a:pt x="0" y="457"/>
                  </a:lnTo>
                  <a:lnTo>
                    <a:pt x="72" y="413"/>
                  </a:lnTo>
                  <a:lnTo>
                    <a:pt x="166" y="403"/>
                  </a:lnTo>
                  <a:lnTo>
                    <a:pt x="256" y="394"/>
                  </a:lnTo>
                  <a:lnTo>
                    <a:pt x="120" y="281"/>
                  </a:lnTo>
                  <a:lnTo>
                    <a:pt x="53" y="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269560" y="3963960"/>
              <a:ext cx="13680" cy="1116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82" y="0"/>
                  </a:moveTo>
                  <a:lnTo>
                    <a:pt x="123" y="85"/>
                  </a:lnTo>
                  <a:lnTo>
                    <a:pt x="62" y="111"/>
                  </a:lnTo>
                  <a:lnTo>
                    <a:pt x="0" y="146"/>
                  </a:lnTo>
                  <a:lnTo>
                    <a:pt x="0" y="170"/>
                  </a:lnTo>
                  <a:lnTo>
                    <a:pt x="92" y="115"/>
                  </a:lnTo>
                  <a:lnTo>
                    <a:pt x="147" y="99"/>
                  </a:lnTo>
                  <a:lnTo>
                    <a:pt x="173" y="3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269560" y="3950640"/>
              <a:ext cx="102960" cy="77400"/>
            </a:xfrm>
            <a:custGeom>
              <a:avLst/>
              <a:gdLst/>
              <a:ahLst/>
              <a:rect l="l" t="t" r="r" b="b"/>
              <a:pathLst>
                <a:path w="1349" h="1162">
                  <a:moveTo>
                    <a:pt x="0" y="465"/>
                  </a:moveTo>
                  <a:lnTo>
                    <a:pt x="97" y="579"/>
                  </a:lnTo>
                  <a:lnTo>
                    <a:pt x="117" y="634"/>
                  </a:lnTo>
                  <a:lnTo>
                    <a:pt x="117" y="664"/>
                  </a:lnTo>
                  <a:lnTo>
                    <a:pt x="92" y="724"/>
                  </a:lnTo>
                  <a:lnTo>
                    <a:pt x="81" y="770"/>
                  </a:lnTo>
                  <a:lnTo>
                    <a:pt x="81" y="827"/>
                  </a:lnTo>
                  <a:lnTo>
                    <a:pt x="97" y="880"/>
                  </a:lnTo>
                  <a:lnTo>
                    <a:pt x="120" y="899"/>
                  </a:lnTo>
                  <a:lnTo>
                    <a:pt x="198" y="860"/>
                  </a:lnTo>
                  <a:lnTo>
                    <a:pt x="268" y="814"/>
                  </a:lnTo>
                  <a:lnTo>
                    <a:pt x="327" y="728"/>
                  </a:lnTo>
                  <a:lnTo>
                    <a:pt x="345" y="634"/>
                  </a:lnTo>
                  <a:lnTo>
                    <a:pt x="345" y="564"/>
                  </a:lnTo>
                  <a:lnTo>
                    <a:pt x="394" y="814"/>
                  </a:lnTo>
                  <a:lnTo>
                    <a:pt x="505" y="786"/>
                  </a:lnTo>
                  <a:lnTo>
                    <a:pt x="646" y="724"/>
                  </a:lnTo>
                  <a:lnTo>
                    <a:pt x="730" y="643"/>
                  </a:lnTo>
                  <a:lnTo>
                    <a:pt x="802" y="568"/>
                  </a:lnTo>
                  <a:lnTo>
                    <a:pt x="897" y="454"/>
                  </a:lnTo>
                  <a:lnTo>
                    <a:pt x="958" y="408"/>
                  </a:lnTo>
                  <a:lnTo>
                    <a:pt x="1051" y="368"/>
                  </a:lnTo>
                  <a:lnTo>
                    <a:pt x="1125" y="309"/>
                  </a:lnTo>
                  <a:lnTo>
                    <a:pt x="1176" y="238"/>
                  </a:lnTo>
                  <a:lnTo>
                    <a:pt x="1224" y="152"/>
                  </a:lnTo>
                  <a:lnTo>
                    <a:pt x="1257" y="0"/>
                  </a:lnTo>
                  <a:lnTo>
                    <a:pt x="1242" y="223"/>
                  </a:lnTo>
                  <a:lnTo>
                    <a:pt x="1219" y="376"/>
                  </a:lnTo>
                  <a:lnTo>
                    <a:pt x="1164" y="482"/>
                  </a:lnTo>
                  <a:lnTo>
                    <a:pt x="1120" y="568"/>
                  </a:lnTo>
                  <a:lnTo>
                    <a:pt x="1120" y="634"/>
                  </a:lnTo>
                  <a:lnTo>
                    <a:pt x="1153" y="705"/>
                  </a:lnTo>
                  <a:lnTo>
                    <a:pt x="1196" y="790"/>
                  </a:lnTo>
                  <a:lnTo>
                    <a:pt x="1219" y="851"/>
                  </a:lnTo>
                  <a:lnTo>
                    <a:pt x="1226" y="920"/>
                  </a:lnTo>
                  <a:lnTo>
                    <a:pt x="1349" y="746"/>
                  </a:lnTo>
                  <a:lnTo>
                    <a:pt x="1219" y="992"/>
                  </a:lnTo>
                  <a:lnTo>
                    <a:pt x="1160" y="1132"/>
                  </a:lnTo>
                  <a:lnTo>
                    <a:pt x="1160" y="1162"/>
                  </a:lnTo>
                  <a:lnTo>
                    <a:pt x="1090" y="1091"/>
                  </a:lnTo>
                  <a:lnTo>
                    <a:pt x="1000" y="987"/>
                  </a:lnTo>
                  <a:lnTo>
                    <a:pt x="922" y="959"/>
                  </a:lnTo>
                  <a:lnTo>
                    <a:pt x="844" y="926"/>
                  </a:lnTo>
                  <a:lnTo>
                    <a:pt x="712" y="926"/>
                  </a:lnTo>
                  <a:lnTo>
                    <a:pt x="277" y="1021"/>
                  </a:lnTo>
                  <a:lnTo>
                    <a:pt x="173" y="1012"/>
                  </a:lnTo>
                  <a:lnTo>
                    <a:pt x="112" y="986"/>
                  </a:lnTo>
                  <a:lnTo>
                    <a:pt x="48" y="920"/>
                  </a:lnTo>
                  <a:lnTo>
                    <a:pt x="30" y="851"/>
                  </a:lnTo>
                  <a:lnTo>
                    <a:pt x="35" y="786"/>
                  </a:lnTo>
                  <a:lnTo>
                    <a:pt x="62" y="724"/>
                  </a:lnTo>
                  <a:lnTo>
                    <a:pt x="81" y="664"/>
                  </a:lnTo>
                  <a:lnTo>
                    <a:pt x="81" y="610"/>
                  </a:lnTo>
                  <a:lnTo>
                    <a:pt x="48" y="548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260920" y="3740040"/>
              <a:ext cx="254880" cy="276120"/>
            </a:xfrm>
            <a:custGeom>
              <a:avLst/>
              <a:gdLst/>
              <a:ahLst/>
              <a:rect l="l" t="t" r="r" b="b"/>
              <a:pathLst>
                <a:path w="3329" h="4141">
                  <a:moveTo>
                    <a:pt x="64" y="1229"/>
                  </a:moveTo>
                  <a:lnTo>
                    <a:pt x="103" y="1344"/>
                  </a:lnTo>
                  <a:lnTo>
                    <a:pt x="174" y="1418"/>
                  </a:lnTo>
                  <a:lnTo>
                    <a:pt x="271" y="1457"/>
                  </a:lnTo>
                  <a:lnTo>
                    <a:pt x="462" y="1480"/>
                  </a:lnTo>
                  <a:lnTo>
                    <a:pt x="618" y="1457"/>
                  </a:lnTo>
                  <a:lnTo>
                    <a:pt x="774" y="1395"/>
                  </a:lnTo>
                  <a:lnTo>
                    <a:pt x="521" y="1406"/>
                  </a:lnTo>
                  <a:lnTo>
                    <a:pt x="361" y="1367"/>
                  </a:lnTo>
                  <a:lnTo>
                    <a:pt x="271" y="1291"/>
                  </a:lnTo>
                  <a:lnTo>
                    <a:pt x="214" y="1199"/>
                  </a:lnTo>
                  <a:lnTo>
                    <a:pt x="361" y="1261"/>
                  </a:lnTo>
                  <a:lnTo>
                    <a:pt x="488" y="1280"/>
                  </a:lnTo>
                  <a:lnTo>
                    <a:pt x="679" y="1261"/>
                  </a:lnTo>
                  <a:lnTo>
                    <a:pt x="850" y="1206"/>
                  </a:lnTo>
                  <a:lnTo>
                    <a:pt x="1030" y="1081"/>
                  </a:lnTo>
                  <a:lnTo>
                    <a:pt x="926" y="1241"/>
                  </a:lnTo>
                  <a:lnTo>
                    <a:pt x="1104" y="1137"/>
                  </a:lnTo>
                  <a:lnTo>
                    <a:pt x="1263" y="1081"/>
                  </a:lnTo>
                  <a:lnTo>
                    <a:pt x="1413" y="1081"/>
                  </a:lnTo>
                  <a:lnTo>
                    <a:pt x="1572" y="1137"/>
                  </a:lnTo>
                  <a:lnTo>
                    <a:pt x="1401" y="1137"/>
                  </a:lnTo>
                  <a:lnTo>
                    <a:pt x="1275" y="1160"/>
                  </a:lnTo>
                  <a:lnTo>
                    <a:pt x="1168" y="1229"/>
                  </a:lnTo>
                  <a:lnTo>
                    <a:pt x="1327" y="1241"/>
                  </a:lnTo>
                  <a:lnTo>
                    <a:pt x="1539" y="1199"/>
                  </a:lnTo>
                  <a:lnTo>
                    <a:pt x="1685" y="1137"/>
                  </a:lnTo>
                  <a:lnTo>
                    <a:pt x="1611" y="1229"/>
                  </a:lnTo>
                  <a:lnTo>
                    <a:pt x="1389" y="1375"/>
                  </a:lnTo>
                  <a:lnTo>
                    <a:pt x="1203" y="1430"/>
                  </a:lnTo>
                  <a:lnTo>
                    <a:pt x="1039" y="1443"/>
                  </a:lnTo>
                  <a:lnTo>
                    <a:pt x="1113" y="1344"/>
                  </a:lnTo>
                  <a:lnTo>
                    <a:pt x="926" y="1367"/>
                  </a:lnTo>
                  <a:lnTo>
                    <a:pt x="745" y="1480"/>
                  </a:lnTo>
                  <a:lnTo>
                    <a:pt x="850" y="1517"/>
                  </a:lnTo>
                  <a:lnTo>
                    <a:pt x="754" y="1591"/>
                  </a:lnTo>
                  <a:lnTo>
                    <a:pt x="906" y="1591"/>
                  </a:lnTo>
                  <a:lnTo>
                    <a:pt x="1141" y="1526"/>
                  </a:lnTo>
                  <a:lnTo>
                    <a:pt x="1275" y="1465"/>
                  </a:lnTo>
                  <a:lnTo>
                    <a:pt x="1141" y="1639"/>
                  </a:lnTo>
                  <a:lnTo>
                    <a:pt x="1214" y="1702"/>
                  </a:lnTo>
                  <a:lnTo>
                    <a:pt x="1401" y="1711"/>
                  </a:lnTo>
                  <a:lnTo>
                    <a:pt x="1636" y="1687"/>
                  </a:lnTo>
                  <a:lnTo>
                    <a:pt x="1807" y="1711"/>
                  </a:lnTo>
                  <a:lnTo>
                    <a:pt x="1947" y="1784"/>
                  </a:lnTo>
                  <a:lnTo>
                    <a:pt x="2066" y="1905"/>
                  </a:lnTo>
                  <a:lnTo>
                    <a:pt x="2145" y="2019"/>
                  </a:lnTo>
                  <a:lnTo>
                    <a:pt x="1967" y="1905"/>
                  </a:lnTo>
                  <a:lnTo>
                    <a:pt x="2095" y="2045"/>
                  </a:lnTo>
                  <a:lnTo>
                    <a:pt x="2153" y="2215"/>
                  </a:lnTo>
                  <a:lnTo>
                    <a:pt x="2153" y="2379"/>
                  </a:lnTo>
                  <a:lnTo>
                    <a:pt x="2125" y="2511"/>
                  </a:lnTo>
                  <a:lnTo>
                    <a:pt x="2084" y="2340"/>
                  </a:lnTo>
                  <a:lnTo>
                    <a:pt x="2066" y="2599"/>
                  </a:lnTo>
                  <a:lnTo>
                    <a:pt x="2003" y="2817"/>
                  </a:lnTo>
                  <a:lnTo>
                    <a:pt x="2145" y="2573"/>
                  </a:lnTo>
                  <a:lnTo>
                    <a:pt x="2153" y="2698"/>
                  </a:lnTo>
                  <a:lnTo>
                    <a:pt x="2215" y="2502"/>
                  </a:lnTo>
                  <a:lnTo>
                    <a:pt x="2247" y="2315"/>
                  </a:lnTo>
                  <a:lnTo>
                    <a:pt x="2330" y="2416"/>
                  </a:lnTo>
                  <a:lnTo>
                    <a:pt x="2365" y="2259"/>
                  </a:lnTo>
                  <a:lnTo>
                    <a:pt x="2365" y="2085"/>
                  </a:lnTo>
                  <a:lnTo>
                    <a:pt x="2316" y="1978"/>
                  </a:lnTo>
                  <a:lnTo>
                    <a:pt x="2215" y="1824"/>
                  </a:lnTo>
                  <a:lnTo>
                    <a:pt x="2406" y="1942"/>
                  </a:lnTo>
                  <a:lnTo>
                    <a:pt x="2391" y="1817"/>
                  </a:lnTo>
                  <a:lnTo>
                    <a:pt x="2567" y="1944"/>
                  </a:lnTo>
                  <a:lnTo>
                    <a:pt x="2624" y="2109"/>
                  </a:lnTo>
                  <a:lnTo>
                    <a:pt x="2674" y="1920"/>
                  </a:lnTo>
                  <a:lnTo>
                    <a:pt x="2635" y="1711"/>
                  </a:lnTo>
                  <a:lnTo>
                    <a:pt x="2778" y="1839"/>
                  </a:lnTo>
                  <a:lnTo>
                    <a:pt x="2881" y="1874"/>
                  </a:lnTo>
                  <a:lnTo>
                    <a:pt x="2960" y="1748"/>
                  </a:lnTo>
                  <a:lnTo>
                    <a:pt x="3006" y="1540"/>
                  </a:lnTo>
                  <a:lnTo>
                    <a:pt x="3035" y="1663"/>
                  </a:lnTo>
                  <a:lnTo>
                    <a:pt x="3142" y="1526"/>
                  </a:lnTo>
                  <a:lnTo>
                    <a:pt x="3178" y="1344"/>
                  </a:lnTo>
                  <a:lnTo>
                    <a:pt x="3237" y="1206"/>
                  </a:lnTo>
                  <a:lnTo>
                    <a:pt x="3237" y="1045"/>
                  </a:lnTo>
                  <a:lnTo>
                    <a:pt x="3204" y="839"/>
                  </a:lnTo>
                  <a:lnTo>
                    <a:pt x="3112" y="581"/>
                  </a:lnTo>
                  <a:lnTo>
                    <a:pt x="2925" y="305"/>
                  </a:lnTo>
                  <a:lnTo>
                    <a:pt x="2669" y="72"/>
                  </a:lnTo>
                  <a:lnTo>
                    <a:pt x="2503" y="0"/>
                  </a:lnTo>
                  <a:lnTo>
                    <a:pt x="2778" y="109"/>
                  </a:lnTo>
                  <a:lnTo>
                    <a:pt x="3112" y="491"/>
                  </a:lnTo>
                  <a:lnTo>
                    <a:pt x="3266" y="867"/>
                  </a:lnTo>
                  <a:lnTo>
                    <a:pt x="3319" y="1241"/>
                  </a:lnTo>
                  <a:lnTo>
                    <a:pt x="3319" y="1591"/>
                  </a:lnTo>
                  <a:lnTo>
                    <a:pt x="3266" y="1893"/>
                  </a:lnTo>
                  <a:lnTo>
                    <a:pt x="3197" y="2121"/>
                  </a:lnTo>
                  <a:lnTo>
                    <a:pt x="3096" y="2315"/>
                  </a:lnTo>
                  <a:lnTo>
                    <a:pt x="2971" y="2502"/>
                  </a:lnTo>
                  <a:lnTo>
                    <a:pt x="2863" y="2599"/>
                  </a:lnTo>
                  <a:lnTo>
                    <a:pt x="2807" y="2713"/>
                  </a:lnTo>
                  <a:lnTo>
                    <a:pt x="2784" y="2817"/>
                  </a:lnTo>
                  <a:lnTo>
                    <a:pt x="2784" y="2928"/>
                  </a:lnTo>
                  <a:lnTo>
                    <a:pt x="2807" y="3050"/>
                  </a:lnTo>
                  <a:lnTo>
                    <a:pt x="2846" y="3120"/>
                  </a:lnTo>
                  <a:lnTo>
                    <a:pt x="3006" y="3124"/>
                  </a:lnTo>
                  <a:lnTo>
                    <a:pt x="3112" y="3256"/>
                  </a:lnTo>
                  <a:lnTo>
                    <a:pt x="3142" y="3428"/>
                  </a:lnTo>
                  <a:lnTo>
                    <a:pt x="3290" y="3562"/>
                  </a:lnTo>
                  <a:lnTo>
                    <a:pt x="3329" y="3663"/>
                  </a:lnTo>
                  <a:lnTo>
                    <a:pt x="3096" y="3670"/>
                  </a:lnTo>
                  <a:lnTo>
                    <a:pt x="2710" y="3812"/>
                  </a:lnTo>
                  <a:lnTo>
                    <a:pt x="2255" y="3981"/>
                  </a:lnTo>
                  <a:lnTo>
                    <a:pt x="1912" y="4141"/>
                  </a:lnTo>
                  <a:lnTo>
                    <a:pt x="2381" y="3894"/>
                  </a:lnTo>
                  <a:lnTo>
                    <a:pt x="2710" y="3733"/>
                  </a:lnTo>
                  <a:lnTo>
                    <a:pt x="2778" y="3663"/>
                  </a:lnTo>
                  <a:lnTo>
                    <a:pt x="2750" y="3491"/>
                  </a:lnTo>
                  <a:lnTo>
                    <a:pt x="2653" y="3327"/>
                  </a:lnTo>
                  <a:lnTo>
                    <a:pt x="2549" y="3256"/>
                  </a:lnTo>
                  <a:lnTo>
                    <a:pt x="2187" y="3352"/>
                  </a:lnTo>
                  <a:lnTo>
                    <a:pt x="1848" y="3537"/>
                  </a:lnTo>
                  <a:lnTo>
                    <a:pt x="1560" y="3830"/>
                  </a:lnTo>
                  <a:lnTo>
                    <a:pt x="1795" y="3537"/>
                  </a:lnTo>
                  <a:lnTo>
                    <a:pt x="2084" y="3289"/>
                  </a:lnTo>
                  <a:lnTo>
                    <a:pt x="1980" y="3111"/>
                  </a:lnTo>
                  <a:lnTo>
                    <a:pt x="1894" y="2949"/>
                  </a:lnTo>
                  <a:lnTo>
                    <a:pt x="1857" y="2778"/>
                  </a:lnTo>
                  <a:lnTo>
                    <a:pt x="1830" y="2573"/>
                  </a:lnTo>
                  <a:lnTo>
                    <a:pt x="1772" y="2722"/>
                  </a:lnTo>
                  <a:lnTo>
                    <a:pt x="1685" y="2873"/>
                  </a:lnTo>
                  <a:lnTo>
                    <a:pt x="1646" y="2979"/>
                  </a:lnTo>
                  <a:lnTo>
                    <a:pt x="1624" y="3094"/>
                  </a:lnTo>
                  <a:lnTo>
                    <a:pt x="1545" y="3168"/>
                  </a:lnTo>
                  <a:lnTo>
                    <a:pt x="1503" y="3181"/>
                  </a:lnTo>
                  <a:lnTo>
                    <a:pt x="1389" y="3181"/>
                  </a:lnTo>
                  <a:lnTo>
                    <a:pt x="1350" y="3181"/>
                  </a:lnTo>
                  <a:lnTo>
                    <a:pt x="1309" y="3054"/>
                  </a:lnTo>
                  <a:lnTo>
                    <a:pt x="1203" y="3050"/>
                  </a:lnTo>
                  <a:lnTo>
                    <a:pt x="1350" y="3034"/>
                  </a:lnTo>
                  <a:lnTo>
                    <a:pt x="1429" y="2972"/>
                  </a:lnTo>
                  <a:lnTo>
                    <a:pt x="1452" y="2893"/>
                  </a:lnTo>
                  <a:lnTo>
                    <a:pt x="1452" y="2817"/>
                  </a:lnTo>
                  <a:lnTo>
                    <a:pt x="1401" y="2748"/>
                  </a:lnTo>
                  <a:lnTo>
                    <a:pt x="1309" y="2722"/>
                  </a:lnTo>
                  <a:lnTo>
                    <a:pt x="1429" y="2733"/>
                  </a:lnTo>
                  <a:lnTo>
                    <a:pt x="1475" y="2760"/>
                  </a:lnTo>
                  <a:lnTo>
                    <a:pt x="1585" y="2698"/>
                  </a:lnTo>
                  <a:lnTo>
                    <a:pt x="1659" y="2573"/>
                  </a:lnTo>
                  <a:lnTo>
                    <a:pt x="1723" y="2416"/>
                  </a:lnTo>
                  <a:lnTo>
                    <a:pt x="1747" y="2259"/>
                  </a:lnTo>
                  <a:lnTo>
                    <a:pt x="1747" y="2133"/>
                  </a:lnTo>
                  <a:lnTo>
                    <a:pt x="1723" y="2019"/>
                  </a:lnTo>
                  <a:lnTo>
                    <a:pt x="1646" y="1920"/>
                  </a:lnTo>
                  <a:lnTo>
                    <a:pt x="1560" y="1874"/>
                  </a:lnTo>
                  <a:lnTo>
                    <a:pt x="1475" y="1874"/>
                  </a:lnTo>
                  <a:lnTo>
                    <a:pt x="1334" y="1891"/>
                  </a:lnTo>
                  <a:lnTo>
                    <a:pt x="1214" y="1858"/>
                  </a:lnTo>
                  <a:lnTo>
                    <a:pt x="1066" y="1784"/>
                  </a:lnTo>
                  <a:lnTo>
                    <a:pt x="976" y="1711"/>
                  </a:lnTo>
                  <a:lnTo>
                    <a:pt x="1090" y="1920"/>
                  </a:lnTo>
                  <a:lnTo>
                    <a:pt x="1182" y="2006"/>
                  </a:lnTo>
                  <a:lnTo>
                    <a:pt x="1327" y="2059"/>
                  </a:lnTo>
                  <a:lnTo>
                    <a:pt x="1182" y="2094"/>
                  </a:lnTo>
                  <a:lnTo>
                    <a:pt x="1077" y="2085"/>
                  </a:lnTo>
                  <a:lnTo>
                    <a:pt x="1113" y="2195"/>
                  </a:lnTo>
                  <a:lnTo>
                    <a:pt x="1168" y="2269"/>
                  </a:lnTo>
                  <a:lnTo>
                    <a:pt x="1228" y="2305"/>
                  </a:lnTo>
                  <a:lnTo>
                    <a:pt x="1113" y="2305"/>
                  </a:lnTo>
                  <a:lnTo>
                    <a:pt x="945" y="2305"/>
                  </a:lnTo>
                  <a:lnTo>
                    <a:pt x="844" y="2241"/>
                  </a:lnTo>
                  <a:lnTo>
                    <a:pt x="776" y="2144"/>
                  </a:lnTo>
                  <a:lnTo>
                    <a:pt x="774" y="2094"/>
                  </a:lnTo>
                  <a:lnTo>
                    <a:pt x="645" y="2038"/>
                  </a:lnTo>
                  <a:lnTo>
                    <a:pt x="548" y="1944"/>
                  </a:lnTo>
                  <a:lnTo>
                    <a:pt x="502" y="1824"/>
                  </a:lnTo>
                  <a:lnTo>
                    <a:pt x="470" y="1711"/>
                  </a:lnTo>
                  <a:lnTo>
                    <a:pt x="350" y="1678"/>
                  </a:lnTo>
                  <a:lnTo>
                    <a:pt x="299" y="1628"/>
                  </a:lnTo>
                  <a:lnTo>
                    <a:pt x="231" y="1566"/>
                  </a:lnTo>
                  <a:lnTo>
                    <a:pt x="121" y="1526"/>
                  </a:lnTo>
                  <a:lnTo>
                    <a:pt x="36" y="1443"/>
                  </a:lnTo>
                  <a:lnTo>
                    <a:pt x="0" y="1344"/>
                  </a:lnTo>
                  <a:lnTo>
                    <a:pt x="0" y="1261"/>
                  </a:lnTo>
                  <a:lnTo>
                    <a:pt x="64" y="1160"/>
                  </a:lnTo>
                  <a:lnTo>
                    <a:pt x="64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361000" y="3816720"/>
              <a:ext cx="80640" cy="33120"/>
            </a:xfrm>
            <a:custGeom>
              <a:avLst/>
              <a:gdLst/>
              <a:ahLst/>
              <a:rect l="l" t="t" r="r" b="b"/>
              <a:pathLst>
                <a:path w="1056" h="495">
                  <a:moveTo>
                    <a:pt x="41" y="274"/>
                  </a:moveTo>
                  <a:lnTo>
                    <a:pt x="166" y="286"/>
                  </a:lnTo>
                  <a:lnTo>
                    <a:pt x="327" y="251"/>
                  </a:lnTo>
                  <a:lnTo>
                    <a:pt x="438" y="177"/>
                  </a:lnTo>
                  <a:lnTo>
                    <a:pt x="560" y="80"/>
                  </a:lnTo>
                  <a:lnTo>
                    <a:pt x="650" y="0"/>
                  </a:lnTo>
                  <a:lnTo>
                    <a:pt x="585" y="136"/>
                  </a:lnTo>
                  <a:lnTo>
                    <a:pt x="477" y="262"/>
                  </a:lnTo>
                  <a:lnTo>
                    <a:pt x="658" y="200"/>
                  </a:lnTo>
                  <a:lnTo>
                    <a:pt x="800" y="200"/>
                  </a:lnTo>
                  <a:lnTo>
                    <a:pt x="922" y="231"/>
                  </a:lnTo>
                  <a:lnTo>
                    <a:pt x="996" y="313"/>
                  </a:lnTo>
                  <a:lnTo>
                    <a:pt x="1056" y="409"/>
                  </a:lnTo>
                  <a:lnTo>
                    <a:pt x="970" y="348"/>
                  </a:lnTo>
                  <a:lnTo>
                    <a:pt x="878" y="321"/>
                  </a:lnTo>
                  <a:lnTo>
                    <a:pt x="775" y="321"/>
                  </a:lnTo>
                  <a:lnTo>
                    <a:pt x="671" y="348"/>
                  </a:lnTo>
                  <a:lnTo>
                    <a:pt x="800" y="409"/>
                  </a:lnTo>
                  <a:lnTo>
                    <a:pt x="618" y="396"/>
                  </a:lnTo>
                  <a:lnTo>
                    <a:pt x="486" y="447"/>
                  </a:lnTo>
                  <a:lnTo>
                    <a:pt x="350" y="484"/>
                  </a:lnTo>
                  <a:lnTo>
                    <a:pt x="201" y="495"/>
                  </a:lnTo>
                  <a:lnTo>
                    <a:pt x="65" y="458"/>
                  </a:lnTo>
                  <a:lnTo>
                    <a:pt x="0" y="396"/>
                  </a:lnTo>
                  <a:lnTo>
                    <a:pt x="150" y="396"/>
                  </a:lnTo>
                  <a:lnTo>
                    <a:pt x="315" y="336"/>
                  </a:lnTo>
                  <a:lnTo>
                    <a:pt x="166" y="336"/>
                  </a:lnTo>
                  <a:lnTo>
                    <a:pt x="65" y="299"/>
                  </a:lnTo>
                  <a:lnTo>
                    <a:pt x="41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355600" y="3873600"/>
              <a:ext cx="29880" cy="40320"/>
            </a:xfrm>
            <a:custGeom>
              <a:avLst/>
              <a:gdLst/>
              <a:ahLst/>
              <a:rect l="l" t="t" r="r" b="b"/>
              <a:pathLst>
                <a:path w="387" h="613">
                  <a:moveTo>
                    <a:pt x="67" y="60"/>
                  </a:moveTo>
                  <a:lnTo>
                    <a:pt x="152" y="0"/>
                  </a:lnTo>
                  <a:lnTo>
                    <a:pt x="266" y="0"/>
                  </a:lnTo>
                  <a:lnTo>
                    <a:pt x="348" y="46"/>
                  </a:lnTo>
                  <a:lnTo>
                    <a:pt x="387" y="152"/>
                  </a:lnTo>
                  <a:lnTo>
                    <a:pt x="335" y="86"/>
                  </a:lnTo>
                  <a:lnTo>
                    <a:pt x="266" y="60"/>
                  </a:lnTo>
                  <a:lnTo>
                    <a:pt x="164" y="152"/>
                  </a:lnTo>
                  <a:lnTo>
                    <a:pt x="266" y="270"/>
                  </a:lnTo>
                  <a:lnTo>
                    <a:pt x="266" y="429"/>
                  </a:lnTo>
                  <a:lnTo>
                    <a:pt x="90" y="528"/>
                  </a:lnTo>
                  <a:lnTo>
                    <a:pt x="38" y="613"/>
                  </a:lnTo>
                  <a:lnTo>
                    <a:pt x="0" y="613"/>
                  </a:lnTo>
                  <a:lnTo>
                    <a:pt x="14" y="440"/>
                  </a:lnTo>
                  <a:lnTo>
                    <a:pt x="113" y="367"/>
                  </a:lnTo>
                  <a:lnTo>
                    <a:pt x="113" y="306"/>
                  </a:lnTo>
                  <a:lnTo>
                    <a:pt x="38" y="260"/>
                  </a:lnTo>
                  <a:lnTo>
                    <a:pt x="72" y="152"/>
                  </a:lnTo>
                  <a:lnTo>
                    <a:pt x="0" y="71"/>
                  </a:lnTo>
                  <a:lnTo>
                    <a:pt x="6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372880" y="3887640"/>
              <a:ext cx="12600" cy="28080"/>
            </a:xfrm>
            <a:custGeom>
              <a:avLst/>
              <a:gdLst/>
              <a:ahLst/>
              <a:rect l="l" t="t" r="r" b="b"/>
              <a:pathLst>
                <a:path w="165" h="424">
                  <a:moveTo>
                    <a:pt x="152" y="0"/>
                  </a:moveTo>
                  <a:lnTo>
                    <a:pt x="152" y="120"/>
                  </a:lnTo>
                  <a:lnTo>
                    <a:pt x="101" y="240"/>
                  </a:lnTo>
                  <a:lnTo>
                    <a:pt x="0" y="362"/>
                  </a:lnTo>
                  <a:lnTo>
                    <a:pt x="0" y="424"/>
                  </a:lnTo>
                  <a:lnTo>
                    <a:pt x="66" y="401"/>
                  </a:lnTo>
                  <a:lnTo>
                    <a:pt x="165" y="129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244000" y="3740760"/>
              <a:ext cx="174600" cy="82080"/>
            </a:xfrm>
            <a:custGeom>
              <a:avLst/>
              <a:gdLst/>
              <a:ahLst/>
              <a:rect l="l" t="t" r="r" b="b"/>
              <a:pathLst>
                <a:path w="2291" h="1231">
                  <a:moveTo>
                    <a:pt x="231" y="1231"/>
                  </a:moveTo>
                  <a:lnTo>
                    <a:pt x="124" y="1231"/>
                  </a:lnTo>
                  <a:lnTo>
                    <a:pt x="46" y="1170"/>
                  </a:lnTo>
                  <a:lnTo>
                    <a:pt x="0" y="1071"/>
                  </a:lnTo>
                  <a:lnTo>
                    <a:pt x="0" y="984"/>
                  </a:lnTo>
                  <a:lnTo>
                    <a:pt x="23" y="880"/>
                  </a:lnTo>
                  <a:lnTo>
                    <a:pt x="69" y="829"/>
                  </a:lnTo>
                  <a:lnTo>
                    <a:pt x="132" y="728"/>
                  </a:lnTo>
                  <a:lnTo>
                    <a:pt x="205" y="580"/>
                  </a:lnTo>
                  <a:lnTo>
                    <a:pt x="185" y="682"/>
                  </a:lnTo>
                  <a:lnTo>
                    <a:pt x="124" y="804"/>
                  </a:lnTo>
                  <a:lnTo>
                    <a:pt x="124" y="892"/>
                  </a:lnTo>
                  <a:lnTo>
                    <a:pt x="157" y="974"/>
                  </a:lnTo>
                  <a:lnTo>
                    <a:pt x="221" y="1035"/>
                  </a:lnTo>
                  <a:lnTo>
                    <a:pt x="221" y="912"/>
                  </a:lnTo>
                  <a:lnTo>
                    <a:pt x="304" y="937"/>
                  </a:lnTo>
                  <a:lnTo>
                    <a:pt x="284" y="840"/>
                  </a:lnTo>
                  <a:lnTo>
                    <a:pt x="295" y="728"/>
                  </a:lnTo>
                  <a:lnTo>
                    <a:pt x="352" y="668"/>
                  </a:lnTo>
                  <a:lnTo>
                    <a:pt x="405" y="596"/>
                  </a:lnTo>
                  <a:lnTo>
                    <a:pt x="462" y="513"/>
                  </a:lnTo>
                  <a:lnTo>
                    <a:pt x="521" y="456"/>
                  </a:lnTo>
                  <a:lnTo>
                    <a:pt x="631" y="414"/>
                  </a:lnTo>
                  <a:lnTo>
                    <a:pt x="779" y="380"/>
                  </a:lnTo>
                  <a:lnTo>
                    <a:pt x="950" y="286"/>
                  </a:lnTo>
                  <a:lnTo>
                    <a:pt x="1007" y="179"/>
                  </a:lnTo>
                  <a:lnTo>
                    <a:pt x="985" y="310"/>
                  </a:lnTo>
                  <a:lnTo>
                    <a:pt x="943" y="361"/>
                  </a:lnTo>
                  <a:lnTo>
                    <a:pt x="825" y="481"/>
                  </a:lnTo>
                  <a:lnTo>
                    <a:pt x="1005" y="396"/>
                  </a:lnTo>
                  <a:lnTo>
                    <a:pt x="1097" y="373"/>
                  </a:lnTo>
                  <a:lnTo>
                    <a:pt x="1176" y="276"/>
                  </a:lnTo>
                  <a:lnTo>
                    <a:pt x="1236" y="135"/>
                  </a:lnTo>
                  <a:lnTo>
                    <a:pt x="1236" y="225"/>
                  </a:lnTo>
                  <a:lnTo>
                    <a:pt x="1201" y="373"/>
                  </a:lnTo>
                  <a:lnTo>
                    <a:pt x="1372" y="246"/>
                  </a:lnTo>
                  <a:lnTo>
                    <a:pt x="1468" y="218"/>
                  </a:lnTo>
                  <a:lnTo>
                    <a:pt x="1581" y="232"/>
                  </a:lnTo>
                  <a:lnTo>
                    <a:pt x="1683" y="225"/>
                  </a:lnTo>
                  <a:lnTo>
                    <a:pt x="1776" y="179"/>
                  </a:lnTo>
                  <a:lnTo>
                    <a:pt x="1890" y="80"/>
                  </a:lnTo>
                  <a:lnTo>
                    <a:pt x="1978" y="51"/>
                  </a:lnTo>
                  <a:lnTo>
                    <a:pt x="2088" y="0"/>
                  </a:lnTo>
                  <a:lnTo>
                    <a:pt x="1941" y="87"/>
                  </a:lnTo>
                  <a:lnTo>
                    <a:pt x="2061" y="99"/>
                  </a:lnTo>
                  <a:lnTo>
                    <a:pt x="2291" y="51"/>
                  </a:lnTo>
                  <a:lnTo>
                    <a:pt x="2150" y="150"/>
                  </a:lnTo>
                  <a:lnTo>
                    <a:pt x="1994" y="200"/>
                  </a:lnTo>
                  <a:lnTo>
                    <a:pt x="1855" y="186"/>
                  </a:lnTo>
                  <a:lnTo>
                    <a:pt x="1776" y="225"/>
                  </a:lnTo>
                  <a:lnTo>
                    <a:pt x="1713" y="286"/>
                  </a:lnTo>
                  <a:lnTo>
                    <a:pt x="1683" y="361"/>
                  </a:lnTo>
                  <a:lnTo>
                    <a:pt x="1581" y="421"/>
                  </a:lnTo>
                  <a:lnTo>
                    <a:pt x="1434" y="451"/>
                  </a:lnTo>
                  <a:lnTo>
                    <a:pt x="1321" y="481"/>
                  </a:lnTo>
                  <a:lnTo>
                    <a:pt x="1247" y="571"/>
                  </a:lnTo>
                  <a:lnTo>
                    <a:pt x="1201" y="657"/>
                  </a:lnTo>
                  <a:lnTo>
                    <a:pt x="1183" y="717"/>
                  </a:lnTo>
                  <a:lnTo>
                    <a:pt x="1183" y="557"/>
                  </a:lnTo>
                  <a:lnTo>
                    <a:pt x="1207" y="475"/>
                  </a:lnTo>
                  <a:lnTo>
                    <a:pt x="1069" y="481"/>
                  </a:lnTo>
                  <a:lnTo>
                    <a:pt x="910" y="557"/>
                  </a:lnTo>
                  <a:lnTo>
                    <a:pt x="849" y="633"/>
                  </a:lnTo>
                  <a:lnTo>
                    <a:pt x="809" y="754"/>
                  </a:lnTo>
                  <a:lnTo>
                    <a:pt x="752" y="633"/>
                  </a:lnTo>
                  <a:lnTo>
                    <a:pt x="680" y="717"/>
                  </a:lnTo>
                  <a:lnTo>
                    <a:pt x="631" y="880"/>
                  </a:lnTo>
                  <a:lnTo>
                    <a:pt x="592" y="790"/>
                  </a:lnTo>
                  <a:lnTo>
                    <a:pt x="616" y="682"/>
                  </a:lnTo>
                  <a:lnTo>
                    <a:pt x="680" y="633"/>
                  </a:lnTo>
                  <a:lnTo>
                    <a:pt x="701" y="557"/>
                  </a:lnTo>
                  <a:lnTo>
                    <a:pt x="655" y="528"/>
                  </a:lnTo>
                  <a:lnTo>
                    <a:pt x="548" y="580"/>
                  </a:lnTo>
                  <a:lnTo>
                    <a:pt x="502" y="645"/>
                  </a:lnTo>
                  <a:lnTo>
                    <a:pt x="521" y="717"/>
                  </a:lnTo>
                  <a:lnTo>
                    <a:pt x="491" y="880"/>
                  </a:lnTo>
                  <a:lnTo>
                    <a:pt x="456" y="954"/>
                  </a:lnTo>
                  <a:lnTo>
                    <a:pt x="456" y="1025"/>
                  </a:lnTo>
                  <a:lnTo>
                    <a:pt x="456" y="1048"/>
                  </a:lnTo>
                  <a:lnTo>
                    <a:pt x="385" y="1000"/>
                  </a:lnTo>
                  <a:lnTo>
                    <a:pt x="387" y="1127"/>
                  </a:lnTo>
                  <a:lnTo>
                    <a:pt x="284" y="1048"/>
                  </a:lnTo>
                  <a:lnTo>
                    <a:pt x="284" y="1196"/>
                  </a:lnTo>
                  <a:lnTo>
                    <a:pt x="231" y="1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206560" y="3831480"/>
              <a:ext cx="16200" cy="183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0" y="0"/>
                  </a:moveTo>
                  <a:lnTo>
                    <a:pt x="51" y="117"/>
                  </a:lnTo>
                  <a:lnTo>
                    <a:pt x="125" y="165"/>
                  </a:lnTo>
                  <a:lnTo>
                    <a:pt x="217" y="191"/>
                  </a:lnTo>
                  <a:lnTo>
                    <a:pt x="153" y="276"/>
                  </a:lnTo>
                  <a:lnTo>
                    <a:pt x="72" y="239"/>
                  </a:lnTo>
                  <a:lnTo>
                    <a:pt x="8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207280" y="3716280"/>
              <a:ext cx="235800" cy="127440"/>
            </a:xfrm>
            <a:custGeom>
              <a:avLst/>
              <a:gdLst/>
              <a:ahLst/>
              <a:rect l="l" t="t" r="r" b="b"/>
              <a:pathLst>
                <a:path w="3089" h="1908">
                  <a:moveTo>
                    <a:pt x="267" y="1860"/>
                  </a:moveTo>
                  <a:lnTo>
                    <a:pt x="145" y="1812"/>
                  </a:lnTo>
                  <a:lnTo>
                    <a:pt x="55" y="1722"/>
                  </a:lnTo>
                  <a:lnTo>
                    <a:pt x="16" y="1584"/>
                  </a:lnTo>
                  <a:lnTo>
                    <a:pt x="0" y="1492"/>
                  </a:lnTo>
                  <a:lnTo>
                    <a:pt x="27" y="1429"/>
                  </a:lnTo>
                  <a:lnTo>
                    <a:pt x="78" y="1374"/>
                  </a:lnTo>
                  <a:lnTo>
                    <a:pt x="64" y="1302"/>
                  </a:lnTo>
                  <a:lnTo>
                    <a:pt x="87" y="1155"/>
                  </a:lnTo>
                  <a:lnTo>
                    <a:pt x="152" y="1058"/>
                  </a:lnTo>
                  <a:lnTo>
                    <a:pt x="249" y="985"/>
                  </a:lnTo>
                  <a:lnTo>
                    <a:pt x="359" y="936"/>
                  </a:lnTo>
                  <a:lnTo>
                    <a:pt x="420" y="846"/>
                  </a:lnTo>
                  <a:lnTo>
                    <a:pt x="523" y="745"/>
                  </a:lnTo>
                  <a:lnTo>
                    <a:pt x="609" y="738"/>
                  </a:lnTo>
                  <a:lnTo>
                    <a:pt x="514" y="800"/>
                  </a:lnTo>
                  <a:lnTo>
                    <a:pt x="460" y="860"/>
                  </a:lnTo>
                  <a:lnTo>
                    <a:pt x="460" y="886"/>
                  </a:lnTo>
                  <a:lnTo>
                    <a:pt x="560" y="860"/>
                  </a:lnTo>
                  <a:lnTo>
                    <a:pt x="671" y="745"/>
                  </a:lnTo>
                  <a:lnTo>
                    <a:pt x="733" y="641"/>
                  </a:lnTo>
                  <a:lnTo>
                    <a:pt x="816" y="489"/>
                  </a:lnTo>
                  <a:lnTo>
                    <a:pt x="922" y="416"/>
                  </a:lnTo>
                  <a:lnTo>
                    <a:pt x="1040" y="339"/>
                  </a:lnTo>
                  <a:lnTo>
                    <a:pt x="1196" y="319"/>
                  </a:lnTo>
                  <a:lnTo>
                    <a:pt x="1326" y="302"/>
                  </a:lnTo>
                  <a:lnTo>
                    <a:pt x="1387" y="293"/>
                  </a:lnTo>
                  <a:lnTo>
                    <a:pt x="1453" y="183"/>
                  </a:lnTo>
                  <a:lnTo>
                    <a:pt x="1546" y="106"/>
                  </a:lnTo>
                  <a:lnTo>
                    <a:pt x="1724" y="42"/>
                  </a:lnTo>
                  <a:lnTo>
                    <a:pt x="1862" y="62"/>
                  </a:lnTo>
                  <a:lnTo>
                    <a:pt x="1945" y="81"/>
                  </a:lnTo>
                  <a:lnTo>
                    <a:pt x="2058" y="0"/>
                  </a:lnTo>
                  <a:lnTo>
                    <a:pt x="2344" y="0"/>
                  </a:lnTo>
                  <a:lnTo>
                    <a:pt x="2526" y="27"/>
                  </a:lnTo>
                  <a:lnTo>
                    <a:pt x="2655" y="67"/>
                  </a:lnTo>
                  <a:lnTo>
                    <a:pt x="2734" y="132"/>
                  </a:lnTo>
                  <a:lnTo>
                    <a:pt x="2873" y="132"/>
                  </a:lnTo>
                  <a:lnTo>
                    <a:pt x="3013" y="196"/>
                  </a:lnTo>
                  <a:lnTo>
                    <a:pt x="3089" y="293"/>
                  </a:lnTo>
                  <a:lnTo>
                    <a:pt x="3013" y="231"/>
                  </a:lnTo>
                  <a:lnTo>
                    <a:pt x="2895" y="173"/>
                  </a:lnTo>
                  <a:lnTo>
                    <a:pt x="2774" y="183"/>
                  </a:lnTo>
                  <a:lnTo>
                    <a:pt x="2577" y="132"/>
                  </a:lnTo>
                  <a:lnTo>
                    <a:pt x="2367" y="132"/>
                  </a:lnTo>
                  <a:lnTo>
                    <a:pt x="2190" y="173"/>
                  </a:lnTo>
                  <a:lnTo>
                    <a:pt x="2017" y="245"/>
                  </a:lnTo>
                  <a:lnTo>
                    <a:pt x="1922" y="319"/>
                  </a:lnTo>
                  <a:lnTo>
                    <a:pt x="1862" y="330"/>
                  </a:lnTo>
                  <a:lnTo>
                    <a:pt x="1890" y="157"/>
                  </a:lnTo>
                  <a:lnTo>
                    <a:pt x="1763" y="132"/>
                  </a:lnTo>
                  <a:lnTo>
                    <a:pt x="1653" y="207"/>
                  </a:lnTo>
                  <a:lnTo>
                    <a:pt x="1592" y="330"/>
                  </a:lnTo>
                  <a:lnTo>
                    <a:pt x="1339" y="339"/>
                  </a:lnTo>
                  <a:lnTo>
                    <a:pt x="1093" y="416"/>
                  </a:lnTo>
                  <a:lnTo>
                    <a:pt x="882" y="583"/>
                  </a:lnTo>
                  <a:lnTo>
                    <a:pt x="772" y="779"/>
                  </a:lnTo>
                  <a:lnTo>
                    <a:pt x="647" y="860"/>
                  </a:lnTo>
                  <a:lnTo>
                    <a:pt x="477" y="936"/>
                  </a:lnTo>
                  <a:lnTo>
                    <a:pt x="317" y="985"/>
                  </a:lnTo>
                  <a:lnTo>
                    <a:pt x="227" y="1082"/>
                  </a:lnTo>
                  <a:lnTo>
                    <a:pt x="209" y="1245"/>
                  </a:lnTo>
                  <a:lnTo>
                    <a:pt x="267" y="1390"/>
                  </a:lnTo>
                  <a:lnTo>
                    <a:pt x="359" y="1471"/>
                  </a:lnTo>
                  <a:lnTo>
                    <a:pt x="460" y="1535"/>
                  </a:lnTo>
                  <a:lnTo>
                    <a:pt x="278" y="1499"/>
                  </a:lnTo>
                  <a:lnTo>
                    <a:pt x="145" y="1429"/>
                  </a:lnTo>
                  <a:lnTo>
                    <a:pt x="124" y="1554"/>
                  </a:lnTo>
                  <a:lnTo>
                    <a:pt x="209" y="1676"/>
                  </a:lnTo>
                  <a:lnTo>
                    <a:pt x="359" y="1730"/>
                  </a:lnTo>
                  <a:lnTo>
                    <a:pt x="477" y="1730"/>
                  </a:lnTo>
                  <a:lnTo>
                    <a:pt x="647" y="1710"/>
                  </a:lnTo>
                  <a:lnTo>
                    <a:pt x="574" y="1835"/>
                  </a:lnTo>
                  <a:lnTo>
                    <a:pt x="449" y="1908"/>
                  </a:lnTo>
                  <a:lnTo>
                    <a:pt x="267" y="1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388720" y="3921840"/>
              <a:ext cx="23760" cy="65160"/>
            </a:xfrm>
            <a:custGeom>
              <a:avLst/>
              <a:gdLst/>
              <a:ahLst/>
              <a:rect l="l" t="t" r="r" b="b"/>
              <a:pathLst>
                <a:path w="309" h="976">
                  <a:moveTo>
                    <a:pt x="186" y="0"/>
                  </a:moveTo>
                  <a:lnTo>
                    <a:pt x="186" y="187"/>
                  </a:lnTo>
                  <a:lnTo>
                    <a:pt x="147" y="459"/>
                  </a:lnTo>
                  <a:lnTo>
                    <a:pt x="101" y="666"/>
                  </a:lnTo>
                  <a:lnTo>
                    <a:pt x="0" y="976"/>
                  </a:lnTo>
                  <a:lnTo>
                    <a:pt x="136" y="831"/>
                  </a:lnTo>
                  <a:lnTo>
                    <a:pt x="241" y="605"/>
                  </a:lnTo>
                  <a:lnTo>
                    <a:pt x="288" y="446"/>
                  </a:lnTo>
                  <a:lnTo>
                    <a:pt x="309" y="29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289000" y="4096800"/>
              <a:ext cx="341640" cy="338760"/>
            </a:xfrm>
            <a:custGeom>
              <a:avLst/>
              <a:gdLst/>
              <a:ahLst/>
              <a:rect l="l" t="t" r="r" b="b"/>
              <a:pathLst>
                <a:path w="4469" h="5071">
                  <a:moveTo>
                    <a:pt x="4469" y="1452"/>
                  </a:moveTo>
                  <a:lnTo>
                    <a:pt x="3878" y="1759"/>
                  </a:lnTo>
                  <a:lnTo>
                    <a:pt x="3544" y="2040"/>
                  </a:lnTo>
                  <a:lnTo>
                    <a:pt x="3228" y="2346"/>
                  </a:lnTo>
                  <a:lnTo>
                    <a:pt x="2956" y="2784"/>
                  </a:lnTo>
                  <a:lnTo>
                    <a:pt x="2733" y="3276"/>
                  </a:lnTo>
                  <a:lnTo>
                    <a:pt x="2578" y="3865"/>
                  </a:lnTo>
                  <a:lnTo>
                    <a:pt x="2483" y="4482"/>
                  </a:lnTo>
                  <a:lnTo>
                    <a:pt x="2421" y="5071"/>
                  </a:lnTo>
                  <a:lnTo>
                    <a:pt x="0" y="5071"/>
                  </a:lnTo>
                  <a:lnTo>
                    <a:pt x="282" y="4821"/>
                  </a:lnTo>
                  <a:lnTo>
                    <a:pt x="499" y="4544"/>
                  </a:lnTo>
                  <a:lnTo>
                    <a:pt x="657" y="4297"/>
                  </a:lnTo>
                  <a:lnTo>
                    <a:pt x="900" y="4080"/>
                  </a:lnTo>
                  <a:lnTo>
                    <a:pt x="1182" y="3924"/>
                  </a:lnTo>
                  <a:lnTo>
                    <a:pt x="1525" y="3087"/>
                  </a:lnTo>
                  <a:lnTo>
                    <a:pt x="1089" y="3243"/>
                  </a:lnTo>
                  <a:lnTo>
                    <a:pt x="99" y="3801"/>
                  </a:lnTo>
                  <a:lnTo>
                    <a:pt x="900" y="3214"/>
                  </a:lnTo>
                  <a:lnTo>
                    <a:pt x="1525" y="2784"/>
                  </a:lnTo>
                  <a:lnTo>
                    <a:pt x="1835" y="2443"/>
                  </a:lnTo>
                  <a:lnTo>
                    <a:pt x="2055" y="2100"/>
                  </a:lnTo>
                  <a:lnTo>
                    <a:pt x="2209" y="1698"/>
                  </a:lnTo>
                  <a:lnTo>
                    <a:pt x="2306" y="1362"/>
                  </a:lnTo>
                  <a:lnTo>
                    <a:pt x="2145" y="894"/>
                  </a:lnTo>
                  <a:lnTo>
                    <a:pt x="1771" y="307"/>
                  </a:lnTo>
                  <a:lnTo>
                    <a:pt x="1459" y="0"/>
                  </a:lnTo>
                  <a:lnTo>
                    <a:pt x="1894" y="341"/>
                  </a:lnTo>
                  <a:lnTo>
                    <a:pt x="2306" y="894"/>
                  </a:lnTo>
                  <a:lnTo>
                    <a:pt x="2456" y="1298"/>
                  </a:lnTo>
                  <a:lnTo>
                    <a:pt x="2610" y="1698"/>
                  </a:lnTo>
                  <a:lnTo>
                    <a:pt x="2707" y="2135"/>
                  </a:lnTo>
                  <a:lnTo>
                    <a:pt x="3076" y="1913"/>
                  </a:lnTo>
                  <a:lnTo>
                    <a:pt x="2578" y="2346"/>
                  </a:lnTo>
                  <a:lnTo>
                    <a:pt x="2209" y="2784"/>
                  </a:lnTo>
                  <a:lnTo>
                    <a:pt x="2020" y="3119"/>
                  </a:lnTo>
                  <a:lnTo>
                    <a:pt x="1894" y="3463"/>
                  </a:lnTo>
                  <a:lnTo>
                    <a:pt x="1802" y="3801"/>
                  </a:lnTo>
                  <a:lnTo>
                    <a:pt x="1617" y="4177"/>
                  </a:lnTo>
                  <a:lnTo>
                    <a:pt x="1459" y="4423"/>
                  </a:lnTo>
                  <a:lnTo>
                    <a:pt x="1432" y="4669"/>
                  </a:lnTo>
                  <a:lnTo>
                    <a:pt x="1432" y="4857"/>
                  </a:lnTo>
                  <a:lnTo>
                    <a:pt x="1556" y="4509"/>
                  </a:lnTo>
                  <a:lnTo>
                    <a:pt x="1736" y="4177"/>
                  </a:lnTo>
                  <a:lnTo>
                    <a:pt x="1958" y="3865"/>
                  </a:lnTo>
                  <a:lnTo>
                    <a:pt x="2055" y="3619"/>
                  </a:lnTo>
                  <a:lnTo>
                    <a:pt x="2270" y="3340"/>
                  </a:lnTo>
                  <a:lnTo>
                    <a:pt x="2639" y="3054"/>
                  </a:lnTo>
                  <a:lnTo>
                    <a:pt x="2920" y="2658"/>
                  </a:lnTo>
                  <a:lnTo>
                    <a:pt x="3228" y="2226"/>
                  </a:lnTo>
                  <a:lnTo>
                    <a:pt x="3602" y="1883"/>
                  </a:lnTo>
                  <a:lnTo>
                    <a:pt x="3943" y="1637"/>
                  </a:lnTo>
                  <a:lnTo>
                    <a:pt x="4469" y="1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265960" y="4168800"/>
              <a:ext cx="134280" cy="142560"/>
            </a:xfrm>
            <a:custGeom>
              <a:avLst/>
              <a:gdLst/>
              <a:ahLst/>
              <a:rect l="l" t="t" r="r" b="b"/>
              <a:pathLst>
                <a:path w="1765" h="2135">
                  <a:moveTo>
                    <a:pt x="1710" y="0"/>
                  </a:moveTo>
                  <a:lnTo>
                    <a:pt x="1765" y="61"/>
                  </a:lnTo>
                  <a:lnTo>
                    <a:pt x="1425" y="744"/>
                  </a:lnTo>
                  <a:lnTo>
                    <a:pt x="994" y="1147"/>
                  </a:lnTo>
                  <a:lnTo>
                    <a:pt x="743" y="1579"/>
                  </a:lnTo>
                  <a:lnTo>
                    <a:pt x="0" y="2135"/>
                  </a:lnTo>
                  <a:lnTo>
                    <a:pt x="306" y="1482"/>
                  </a:lnTo>
                  <a:lnTo>
                    <a:pt x="1020" y="645"/>
                  </a:lnTo>
                  <a:lnTo>
                    <a:pt x="1579" y="248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8526240" y="3989160"/>
              <a:ext cx="109080" cy="162720"/>
            </a:xfrm>
            <a:custGeom>
              <a:avLst/>
              <a:gdLst/>
              <a:ahLst/>
              <a:rect l="l" t="t" r="r" b="b"/>
              <a:pathLst>
                <a:path w="1430" h="2441">
                  <a:moveTo>
                    <a:pt x="0" y="0"/>
                  </a:moveTo>
                  <a:lnTo>
                    <a:pt x="374" y="373"/>
                  </a:lnTo>
                  <a:lnTo>
                    <a:pt x="745" y="929"/>
                  </a:lnTo>
                  <a:lnTo>
                    <a:pt x="1430" y="2441"/>
                  </a:lnTo>
                  <a:lnTo>
                    <a:pt x="718" y="961"/>
                  </a:lnTo>
                  <a:lnTo>
                    <a:pt x="347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223120" y="4018680"/>
              <a:ext cx="174600" cy="322560"/>
            </a:xfrm>
            <a:custGeom>
              <a:avLst/>
              <a:gdLst/>
              <a:ahLst/>
              <a:rect l="l" t="t" r="r" b="b"/>
              <a:pathLst>
                <a:path w="2285" h="4830">
                  <a:moveTo>
                    <a:pt x="2285" y="0"/>
                  </a:moveTo>
                  <a:lnTo>
                    <a:pt x="1736" y="296"/>
                  </a:lnTo>
                  <a:lnTo>
                    <a:pt x="1471" y="507"/>
                  </a:lnTo>
                  <a:lnTo>
                    <a:pt x="1198" y="646"/>
                  </a:lnTo>
                  <a:lnTo>
                    <a:pt x="862" y="1140"/>
                  </a:lnTo>
                  <a:lnTo>
                    <a:pt x="688" y="1755"/>
                  </a:lnTo>
                  <a:lnTo>
                    <a:pt x="620" y="2283"/>
                  </a:lnTo>
                  <a:lnTo>
                    <a:pt x="559" y="2690"/>
                  </a:lnTo>
                  <a:lnTo>
                    <a:pt x="446" y="3017"/>
                  </a:lnTo>
                  <a:lnTo>
                    <a:pt x="365" y="3412"/>
                  </a:lnTo>
                  <a:lnTo>
                    <a:pt x="286" y="3753"/>
                  </a:lnTo>
                  <a:lnTo>
                    <a:pt x="270" y="4021"/>
                  </a:lnTo>
                  <a:lnTo>
                    <a:pt x="224" y="4254"/>
                  </a:lnTo>
                  <a:lnTo>
                    <a:pt x="207" y="4383"/>
                  </a:lnTo>
                  <a:lnTo>
                    <a:pt x="132" y="4577"/>
                  </a:lnTo>
                  <a:lnTo>
                    <a:pt x="0" y="4830"/>
                  </a:lnTo>
                  <a:lnTo>
                    <a:pt x="240" y="4421"/>
                  </a:lnTo>
                  <a:lnTo>
                    <a:pt x="381" y="4104"/>
                  </a:lnTo>
                  <a:lnTo>
                    <a:pt x="574" y="3689"/>
                  </a:lnTo>
                  <a:lnTo>
                    <a:pt x="688" y="3368"/>
                  </a:lnTo>
                  <a:lnTo>
                    <a:pt x="780" y="2986"/>
                  </a:lnTo>
                  <a:lnTo>
                    <a:pt x="826" y="2430"/>
                  </a:lnTo>
                  <a:lnTo>
                    <a:pt x="766" y="3006"/>
                  </a:lnTo>
                  <a:lnTo>
                    <a:pt x="574" y="3592"/>
                  </a:lnTo>
                  <a:lnTo>
                    <a:pt x="305" y="4083"/>
                  </a:lnTo>
                  <a:lnTo>
                    <a:pt x="365" y="3592"/>
                  </a:lnTo>
                  <a:lnTo>
                    <a:pt x="497" y="3006"/>
                  </a:lnTo>
                  <a:lnTo>
                    <a:pt x="607" y="2718"/>
                  </a:lnTo>
                  <a:lnTo>
                    <a:pt x="730" y="1920"/>
                  </a:lnTo>
                  <a:lnTo>
                    <a:pt x="862" y="1377"/>
                  </a:lnTo>
                  <a:lnTo>
                    <a:pt x="1022" y="973"/>
                  </a:lnTo>
                  <a:lnTo>
                    <a:pt x="1229" y="692"/>
                  </a:lnTo>
                  <a:lnTo>
                    <a:pt x="1532" y="523"/>
                  </a:lnTo>
                  <a:lnTo>
                    <a:pt x="1833" y="268"/>
                  </a:lnTo>
                  <a:lnTo>
                    <a:pt x="22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979040" y="4241880"/>
              <a:ext cx="279000" cy="194760"/>
            </a:xfrm>
            <a:custGeom>
              <a:avLst/>
              <a:gdLst/>
              <a:ahLst/>
              <a:rect l="l" t="t" r="r" b="b"/>
              <a:pathLst>
                <a:path w="3654" h="2924">
                  <a:moveTo>
                    <a:pt x="3236" y="1418"/>
                  </a:moveTo>
                  <a:lnTo>
                    <a:pt x="3179" y="1729"/>
                  </a:lnTo>
                  <a:lnTo>
                    <a:pt x="3291" y="2195"/>
                  </a:lnTo>
                  <a:lnTo>
                    <a:pt x="3543" y="2562"/>
                  </a:lnTo>
                  <a:lnTo>
                    <a:pt x="3654" y="2845"/>
                  </a:lnTo>
                  <a:lnTo>
                    <a:pt x="3432" y="2654"/>
                  </a:lnTo>
                  <a:lnTo>
                    <a:pt x="3261" y="2237"/>
                  </a:lnTo>
                  <a:lnTo>
                    <a:pt x="3192" y="1925"/>
                  </a:lnTo>
                  <a:lnTo>
                    <a:pt x="2796" y="2272"/>
                  </a:lnTo>
                  <a:lnTo>
                    <a:pt x="2796" y="2592"/>
                  </a:lnTo>
                  <a:lnTo>
                    <a:pt x="3015" y="2924"/>
                  </a:lnTo>
                  <a:lnTo>
                    <a:pt x="2777" y="2668"/>
                  </a:lnTo>
                  <a:lnTo>
                    <a:pt x="2715" y="2527"/>
                  </a:lnTo>
                  <a:lnTo>
                    <a:pt x="2683" y="2356"/>
                  </a:lnTo>
                  <a:lnTo>
                    <a:pt x="2683" y="2237"/>
                  </a:lnTo>
                  <a:lnTo>
                    <a:pt x="2733" y="2114"/>
                  </a:lnTo>
                  <a:lnTo>
                    <a:pt x="2937" y="1815"/>
                  </a:lnTo>
                  <a:lnTo>
                    <a:pt x="2983" y="1775"/>
                  </a:lnTo>
                  <a:lnTo>
                    <a:pt x="3131" y="1753"/>
                  </a:lnTo>
                  <a:lnTo>
                    <a:pt x="3131" y="1683"/>
                  </a:lnTo>
                  <a:lnTo>
                    <a:pt x="2904" y="1608"/>
                  </a:lnTo>
                  <a:lnTo>
                    <a:pt x="2808" y="1619"/>
                  </a:lnTo>
                  <a:lnTo>
                    <a:pt x="2427" y="2068"/>
                  </a:lnTo>
                  <a:lnTo>
                    <a:pt x="2505" y="1826"/>
                  </a:lnTo>
                  <a:lnTo>
                    <a:pt x="2268" y="1826"/>
                  </a:lnTo>
                  <a:lnTo>
                    <a:pt x="1579" y="2045"/>
                  </a:lnTo>
                  <a:lnTo>
                    <a:pt x="1401" y="2356"/>
                  </a:lnTo>
                  <a:lnTo>
                    <a:pt x="1309" y="2578"/>
                  </a:lnTo>
                  <a:lnTo>
                    <a:pt x="1296" y="2832"/>
                  </a:lnTo>
                  <a:lnTo>
                    <a:pt x="1265" y="2608"/>
                  </a:lnTo>
                  <a:lnTo>
                    <a:pt x="1276" y="2452"/>
                  </a:lnTo>
                  <a:lnTo>
                    <a:pt x="1447" y="2015"/>
                  </a:lnTo>
                  <a:lnTo>
                    <a:pt x="1039" y="1889"/>
                  </a:lnTo>
                  <a:lnTo>
                    <a:pt x="797" y="1859"/>
                  </a:lnTo>
                  <a:lnTo>
                    <a:pt x="493" y="1909"/>
                  </a:lnTo>
                  <a:lnTo>
                    <a:pt x="219" y="1925"/>
                  </a:lnTo>
                  <a:lnTo>
                    <a:pt x="0" y="1874"/>
                  </a:lnTo>
                  <a:lnTo>
                    <a:pt x="255" y="1889"/>
                  </a:lnTo>
                  <a:lnTo>
                    <a:pt x="529" y="1859"/>
                  </a:lnTo>
                  <a:lnTo>
                    <a:pt x="828" y="1799"/>
                  </a:lnTo>
                  <a:lnTo>
                    <a:pt x="973" y="1775"/>
                  </a:lnTo>
                  <a:lnTo>
                    <a:pt x="1199" y="1826"/>
                  </a:lnTo>
                  <a:lnTo>
                    <a:pt x="1436" y="1826"/>
                  </a:lnTo>
                  <a:lnTo>
                    <a:pt x="1639" y="1753"/>
                  </a:lnTo>
                  <a:lnTo>
                    <a:pt x="1821" y="1619"/>
                  </a:lnTo>
                  <a:lnTo>
                    <a:pt x="1982" y="1481"/>
                  </a:lnTo>
                  <a:lnTo>
                    <a:pt x="2091" y="1367"/>
                  </a:lnTo>
                  <a:lnTo>
                    <a:pt x="2224" y="1176"/>
                  </a:lnTo>
                  <a:lnTo>
                    <a:pt x="2224" y="1257"/>
                  </a:lnTo>
                  <a:lnTo>
                    <a:pt x="2634" y="1107"/>
                  </a:lnTo>
                  <a:lnTo>
                    <a:pt x="2591" y="955"/>
                  </a:lnTo>
                  <a:lnTo>
                    <a:pt x="2476" y="777"/>
                  </a:lnTo>
                  <a:lnTo>
                    <a:pt x="2314" y="648"/>
                  </a:lnTo>
                  <a:lnTo>
                    <a:pt x="2188" y="648"/>
                  </a:lnTo>
                  <a:lnTo>
                    <a:pt x="2268" y="527"/>
                  </a:lnTo>
                  <a:lnTo>
                    <a:pt x="2556" y="393"/>
                  </a:lnTo>
                  <a:lnTo>
                    <a:pt x="2746" y="316"/>
                  </a:lnTo>
                  <a:lnTo>
                    <a:pt x="2983" y="141"/>
                  </a:lnTo>
                  <a:lnTo>
                    <a:pt x="3131" y="30"/>
                  </a:lnTo>
                  <a:lnTo>
                    <a:pt x="3592" y="0"/>
                  </a:lnTo>
                  <a:lnTo>
                    <a:pt x="3573" y="30"/>
                  </a:lnTo>
                  <a:lnTo>
                    <a:pt x="3140" y="74"/>
                  </a:lnTo>
                  <a:lnTo>
                    <a:pt x="2886" y="316"/>
                  </a:lnTo>
                  <a:lnTo>
                    <a:pt x="2591" y="461"/>
                  </a:lnTo>
                  <a:lnTo>
                    <a:pt x="2492" y="478"/>
                  </a:lnTo>
                  <a:lnTo>
                    <a:pt x="2314" y="558"/>
                  </a:lnTo>
                  <a:lnTo>
                    <a:pt x="2476" y="635"/>
                  </a:lnTo>
                  <a:lnTo>
                    <a:pt x="2634" y="777"/>
                  </a:lnTo>
                  <a:lnTo>
                    <a:pt x="2733" y="916"/>
                  </a:lnTo>
                  <a:lnTo>
                    <a:pt x="2796" y="1107"/>
                  </a:lnTo>
                  <a:lnTo>
                    <a:pt x="2832" y="1386"/>
                  </a:lnTo>
                  <a:lnTo>
                    <a:pt x="3370" y="1176"/>
                  </a:lnTo>
                  <a:lnTo>
                    <a:pt x="3236" y="1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699680" y="3811680"/>
              <a:ext cx="46800" cy="76680"/>
            </a:xfrm>
            <a:custGeom>
              <a:avLst/>
              <a:gdLst/>
              <a:ahLst/>
              <a:rect l="l" t="t" r="r" b="b"/>
              <a:pathLst>
                <a:path w="620" h="1156">
                  <a:moveTo>
                    <a:pt x="519" y="950"/>
                  </a:moveTo>
                  <a:lnTo>
                    <a:pt x="620" y="971"/>
                  </a:lnTo>
                  <a:lnTo>
                    <a:pt x="620" y="1059"/>
                  </a:lnTo>
                  <a:lnTo>
                    <a:pt x="547" y="1088"/>
                  </a:lnTo>
                  <a:lnTo>
                    <a:pt x="341" y="1098"/>
                  </a:lnTo>
                  <a:lnTo>
                    <a:pt x="242" y="1059"/>
                  </a:lnTo>
                  <a:lnTo>
                    <a:pt x="169" y="1075"/>
                  </a:lnTo>
                  <a:lnTo>
                    <a:pt x="0" y="1156"/>
                  </a:lnTo>
                  <a:lnTo>
                    <a:pt x="116" y="1015"/>
                  </a:lnTo>
                  <a:lnTo>
                    <a:pt x="305" y="909"/>
                  </a:lnTo>
                  <a:lnTo>
                    <a:pt x="429" y="978"/>
                  </a:lnTo>
                  <a:lnTo>
                    <a:pt x="464" y="964"/>
                  </a:lnTo>
                  <a:lnTo>
                    <a:pt x="452" y="782"/>
                  </a:lnTo>
                  <a:lnTo>
                    <a:pt x="429" y="540"/>
                  </a:lnTo>
                  <a:lnTo>
                    <a:pt x="393" y="293"/>
                  </a:lnTo>
                  <a:lnTo>
                    <a:pt x="305" y="24"/>
                  </a:lnTo>
                  <a:lnTo>
                    <a:pt x="351" y="0"/>
                  </a:lnTo>
                  <a:lnTo>
                    <a:pt x="413" y="202"/>
                  </a:lnTo>
                  <a:lnTo>
                    <a:pt x="464" y="540"/>
                  </a:lnTo>
                  <a:lnTo>
                    <a:pt x="489" y="941"/>
                  </a:lnTo>
                  <a:lnTo>
                    <a:pt x="519" y="9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707240" y="3884400"/>
              <a:ext cx="23040" cy="34920"/>
            </a:xfrm>
            <a:custGeom>
              <a:avLst/>
              <a:gdLst/>
              <a:ahLst/>
              <a:rect l="l" t="t" r="r" b="b"/>
              <a:pathLst>
                <a:path w="298" h="529">
                  <a:moveTo>
                    <a:pt x="298" y="0"/>
                  </a:moveTo>
                  <a:lnTo>
                    <a:pt x="263" y="99"/>
                  </a:lnTo>
                  <a:lnTo>
                    <a:pt x="37" y="169"/>
                  </a:lnTo>
                  <a:lnTo>
                    <a:pt x="77" y="266"/>
                  </a:lnTo>
                  <a:lnTo>
                    <a:pt x="167" y="344"/>
                  </a:lnTo>
                  <a:lnTo>
                    <a:pt x="0" y="494"/>
                  </a:lnTo>
                  <a:lnTo>
                    <a:pt x="7" y="529"/>
                  </a:lnTo>
                  <a:lnTo>
                    <a:pt x="107" y="501"/>
                  </a:lnTo>
                  <a:lnTo>
                    <a:pt x="206" y="400"/>
                  </a:lnTo>
                  <a:lnTo>
                    <a:pt x="206" y="330"/>
                  </a:lnTo>
                  <a:lnTo>
                    <a:pt x="99" y="213"/>
                  </a:lnTo>
                  <a:lnTo>
                    <a:pt x="198" y="160"/>
                  </a:lnTo>
                  <a:lnTo>
                    <a:pt x="173" y="213"/>
                  </a:lnTo>
                  <a:lnTo>
                    <a:pt x="263" y="160"/>
                  </a:lnTo>
                  <a:lnTo>
                    <a:pt x="294" y="83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699320" y="3885120"/>
              <a:ext cx="54720" cy="77760"/>
            </a:xfrm>
            <a:custGeom>
              <a:avLst/>
              <a:gdLst/>
              <a:ahLst/>
              <a:rect l="l" t="t" r="r" b="b"/>
              <a:pathLst>
                <a:path w="721" h="1164">
                  <a:moveTo>
                    <a:pt x="433" y="0"/>
                  </a:moveTo>
                  <a:lnTo>
                    <a:pt x="440" y="73"/>
                  </a:lnTo>
                  <a:lnTo>
                    <a:pt x="721" y="779"/>
                  </a:lnTo>
                  <a:lnTo>
                    <a:pt x="679" y="846"/>
                  </a:lnTo>
                  <a:lnTo>
                    <a:pt x="599" y="878"/>
                  </a:lnTo>
                  <a:lnTo>
                    <a:pt x="373" y="864"/>
                  </a:lnTo>
                  <a:lnTo>
                    <a:pt x="295" y="899"/>
                  </a:lnTo>
                  <a:lnTo>
                    <a:pt x="242" y="1095"/>
                  </a:lnTo>
                  <a:lnTo>
                    <a:pt x="0" y="1164"/>
                  </a:lnTo>
                  <a:lnTo>
                    <a:pt x="11" y="1084"/>
                  </a:lnTo>
                  <a:lnTo>
                    <a:pt x="76" y="1095"/>
                  </a:lnTo>
                  <a:lnTo>
                    <a:pt x="217" y="1065"/>
                  </a:lnTo>
                  <a:lnTo>
                    <a:pt x="265" y="882"/>
                  </a:lnTo>
                  <a:lnTo>
                    <a:pt x="202" y="832"/>
                  </a:lnTo>
                  <a:lnTo>
                    <a:pt x="217" y="814"/>
                  </a:lnTo>
                  <a:lnTo>
                    <a:pt x="362" y="779"/>
                  </a:lnTo>
                  <a:lnTo>
                    <a:pt x="518" y="814"/>
                  </a:lnTo>
                  <a:lnTo>
                    <a:pt x="606" y="802"/>
                  </a:lnTo>
                  <a:lnTo>
                    <a:pt x="679" y="756"/>
                  </a:lnTo>
                  <a:lnTo>
                    <a:pt x="449" y="194"/>
                  </a:lnTo>
                  <a:lnTo>
                    <a:pt x="373" y="97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692480" y="3924000"/>
              <a:ext cx="25560" cy="52200"/>
            </a:xfrm>
            <a:custGeom>
              <a:avLst/>
              <a:gdLst/>
              <a:ahLst/>
              <a:rect l="l" t="t" r="r" b="b"/>
              <a:pathLst>
                <a:path w="339" h="788">
                  <a:moveTo>
                    <a:pt x="339" y="0"/>
                  </a:moveTo>
                  <a:lnTo>
                    <a:pt x="319" y="120"/>
                  </a:lnTo>
                  <a:lnTo>
                    <a:pt x="288" y="209"/>
                  </a:lnTo>
                  <a:lnTo>
                    <a:pt x="233" y="283"/>
                  </a:lnTo>
                  <a:lnTo>
                    <a:pt x="152" y="382"/>
                  </a:lnTo>
                  <a:lnTo>
                    <a:pt x="97" y="428"/>
                  </a:lnTo>
                  <a:lnTo>
                    <a:pt x="72" y="391"/>
                  </a:lnTo>
                  <a:lnTo>
                    <a:pt x="42" y="583"/>
                  </a:lnTo>
                  <a:lnTo>
                    <a:pt x="0" y="788"/>
                  </a:lnTo>
                  <a:lnTo>
                    <a:pt x="97" y="599"/>
                  </a:lnTo>
                  <a:lnTo>
                    <a:pt x="127" y="463"/>
                  </a:lnTo>
                  <a:lnTo>
                    <a:pt x="266" y="329"/>
                  </a:lnTo>
                  <a:lnTo>
                    <a:pt x="319" y="221"/>
                  </a:lnTo>
                  <a:lnTo>
                    <a:pt x="339" y="101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697880" y="3960360"/>
              <a:ext cx="16200" cy="9000"/>
            </a:xfrm>
            <a:custGeom>
              <a:avLst/>
              <a:gdLst/>
              <a:ahLst/>
              <a:rect l="l" t="t" r="r" b="b"/>
              <a:pathLst>
                <a:path w="216" h="137">
                  <a:moveTo>
                    <a:pt x="49" y="0"/>
                  </a:moveTo>
                  <a:lnTo>
                    <a:pt x="216" y="117"/>
                  </a:lnTo>
                  <a:lnTo>
                    <a:pt x="216" y="137"/>
                  </a:lnTo>
                  <a:lnTo>
                    <a:pt x="0" y="61"/>
                  </a:lnTo>
                  <a:lnTo>
                    <a:pt x="0" y="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702920" y="3978000"/>
              <a:ext cx="11880" cy="9000"/>
            </a:xfrm>
            <a:custGeom>
              <a:avLst/>
              <a:gdLst/>
              <a:ahLst/>
              <a:rect l="l" t="t" r="r" b="b"/>
              <a:pathLst>
                <a:path w="159" h="136">
                  <a:moveTo>
                    <a:pt x="152" y="0"/>
                  </a:moveTo>
                  <a:lnTo>
                    <a:pt x="0" y="31"/>
                  </a:lnTo>
                  <a:lnTo>
                    <a:pt x="0" y="97"/>
                  </a:lnTo>
                  <a:lnTo>
                    <a:pt x="67" y="136"/>
                  </a:lnTo>
                  <a:lnTo>
                    <a:pt x="159" y="31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457760" y="3899880"/>
              <a:ext cx="249120" cy="125640"/>
            </a:xfrm>
            <a:custGeom>
              <a:avLst/>
              <a:gdLst/>
              <a:ahLst/>
              <a:rect l="l" t="t" r="r" b="b"/>
              <a:pathLst>
                <a:path w="3264" h="1881">
                  <a:moveTo>
                    <a:pt x="3264" y="1419"/>
                  </a:moveTo>
                  <a:lnTo>
                    <a:pt x="3264" y="1489"/>
                  </a:lnTo>
                  <a:lnTo>
                    <a:pt x="3204" y="1586"/>
                  </a:lnTo>
                  <a:lnTo>
                    <a:pt x="3082" y="1626"/>
                  </a:lnTo>
                  <a:lnTo>
                    <a:pt x="2943" y="1617"/>
                  </a:lnTo>
                  <a:lnTo>
                    <a:pt x="2679" y="1593"/>
                  </a:lnTo>
                  <a:lnTo>
                    <a:pt x="2515" y="1617"/>
                  </a:lnTo>
                  <a:lnTo>
                    <a:pt x="2400" y="1687"/>
                  </a:lnTo>
                  <a:lnTo>
                    <a:pt x="2646" y="1881"/>
                  </a:lnTo>
                  <a:lnTo>
                    <a:pt x="2086" y="1531"/>
                  </a:lnTo>
                  <a:lnTo>
                    <a:pt x="1563" y="1226"/>
                  </a:lnTo>
                  <a:lnTo>
                    <a:pt x="1058" y="920"/>
                  </a:lnTo>
                  <a:lnTo>
                    <a:pt x="602" y="775"/>
                  </a:lnTo>
                  <a:lnTo>
                    <a:pt x="390" y="718"/>
                  </a:lnTo>
                  <a:lnTo>
                    <a:pt x="752" y="800"/>
                  </a:lnTo>
                  <a:lnTo>
                    <a:pt x="1183" y="920"/>
                  </a:lnTo>
                  <a:lnTo>
                    <a:pt x="1533" y="1139"/>
                  </a:lnTo>
                  <a:lnTo>
                    <a:pt x="1381" y="839"/>
                  </a:lnTo>
                  <a:lnTo>
                    <a:pt x="1067" y="593"/>
                  </a:lnTo>
                  <a:lnTo>
                    <a:pt x="655" y="410"/>
                  </a:lnTo>
                  <a:lnTo>
                    <a:pt x="231" y="316"/>
                  </a:lnTo>
                  <a:lnTo>
                    <a:pt x="0" y="551"/>
                  </a:lnTo>
                  <a:lnTo>
                    <a:pt x="196" y="270"/>
                  </a:lnTo>
                  <a:lnTo>
                    <a:pt x="602" y="351"/>
                  </a:lnTo>
                  <a:lnTo>
                    <a:pt x="1026" y="496"/>
                  </a:lnTo>
                  <a:lnTo>
                    <a:pt x="1446" y="751"/>
                  </a:lnTo>
                  <a:lnTo>
                    <a:pt x="1734" y="1012"/>
                  </a:lnTo>
                  <a:lnTo>
                    <a:pt x="1957" y="1270"/>
                  </a:lnTo>
                  <a:lnTo>
                    <a:pt x="1673" y="775"/>
                  </a:lnTo>
                  <a:lnTo>
                    <a:pt x="1914" y="1067"/>
                  </a:lnTo>
                  <a:lnTo>
                    <a:pt x="1914" y="839"/>
                  </a:lnTo>
                  <a:lnTo>
                    <a:pt x="1807" y="661"/>
                  </a:lnTo>
                  <a:lnTo>
                    <a:pt x="1807" y="551"/>
                  </a:lnTo>
                  <a:lnTo>
                    <a:pt x="1673" y="399"/>
                  </a:lnTo>
                  <a:lnTo>
                    <a:pt x="1600" y="242"/>
                  </a:lnTo>
                  <a:lnTo>
                    <a:pt x="1543" y="53"/>
                  </a:lnTo>
                  <a:lnTo>
                    <a:pt x="1591" y="0"/>
                  </a:lnTo>
                  <a:lnTo>
                    <a:pt x="1607" y="138"/>
                  </a:lnTo>
                  <a:lnTo>
                    <a:pt x="1683" y="316"/>
                  </a:lnTo>
                  <a:lnTo>
                    <a:pt x="1778" y="424"/>
                  </a:lnTo>
                  <a:lnTo>
                    <a:pt x="1866" y="535"/>
                  </a:lnTo>
                  <a:lnTo>
                    <a:pt x="1914" y="558"/>
                  </a:lnTo>
                  <a:lnTo>
                    <a:pt x="1987" y="551"/>
                  </a:lnTo>
                  <a:lnTo>
                    <a:pt x="2066" y="480"/>
                  </a:lnTo>
                  <a:lnTo>
                    <a:pt x="2086" y="602"/>
                  </a:lnTo>
                  <a:lnTo>
                    <a:pt x="2061" y="718"/>
                  </a:lnTo>
                  <a:lnTo>
                    <a:pt x="2013" y="782"/>
                  </a:lnTo>
                  <a:lnTo>
                    <a:pt x="1965" y="800"/>
                  </a:lnTo>
                  <a:lnTo>
                    <a:pt x="2031" y="984"/>
                  </a:lnTo>
                  <a:lnTo>
                    <a:pt x="2086" y="1160"/>
                  </a:lnTo>
                  <a:lnTo>
                    <a:pt x="2255" y="1067"/>
                  </a:lnTo>
                  <a:lnTo>
                    <a:pt x="2156" y="839"/>
                  </a:lnTo>
                  <a:lnTo>
                    <a:pt x="2280" y="1035"/>
                  </a:lnTo>
                  <a:lnTo>
                    <a:pt x="2365" y="1052"/>
                  </a:lnTo>
                  <a:lnTo>
                    <a:pt x="2495" y="1052"/>
                  </a:lnTo>
                  <a:lnTo>
                    <a:pt x="2635" y="1234"/>
                  </a:lnTo>
                  <a:lnTo>
                    <a:pt x="2741" y="1300"/>
                  </a:lnTo>
                  <a:lnTo>
                    <a:pt x="2852" y="1277"/>
                  </a:lnTo>
                  <a:lnTo>
                    <a:pt x="3068" y="1173"/>
                  </a:lnTo>
                  <a:lnTo>
                    <a:pt x="3082" y="1347"/>
                  </a:lnTo>
                  <a:lnTo>
                    <a:pt x="3140" y="1507"/>
                  </a:lnTo>
                  <a:lnTo>
                    <a:pt x="3204" y="1507"/>
                  </a:lnTo>
                  <a:lnTo>
                    <a:pt x="3248" y="1467"/>
                  </a:lnTo>
                  <a:lnTo>
                    <a:pt x="3264" y="1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483320" y="3744000"/>
              <a:ext cx="261000" cy="176040"/>
            </a:xfrm>
            <a:custGeom>
              <a:avLst/>
              <a:gdLst/>
              <a:ahLst/>
              <a:rect l="l" t="t" r="r" b="b"/>
              <a:pathLst>
                <a:path w="3415" h="2637">
                  <a:moveTo>
                    <a:pt x="3195" y="1078"/>
                  </a:moveTo>
                  <a:lnTo>
                    <a:pt x="3340" y="1037"/>
                  </a:lnTo>
                  <a:lnTo>
                    <a:pt x="3415" y="882"/>
                  </a:lnTo>
                  <a:lnTo>
                    <a:pt x="3380" y="721"/>
                  </a:lnTo>
                  <a:lnTo>
                    <a:pt x="3198" y="547"/>
                  </a:lnTo>
                  <a:lnTo>
                    <a:pt x="3009" y="477"/>
                  </a:lnTo>
                  <a:lnTo>
                    <a:pt x="2778" y="299"/>
                  </a:lnTo>
                  <a:lnTo>
                    <a:pt x="2418" y="119"/>
                  </a:lnTo>
                  <a:lnTo>
                    <a:pt x="1996" y="0"/>
                  </a:lnTo>
                  <a:lnTo>
                    <a:pt x="1457" y="46"/>
                  </a:lnTo>
                  <a:lnTo>
                    <a:pt x="1033" y="167"/>
                  </a:lnTo>
                  <a:lnTo>
                    <a:pt x="798" y="279"/>
                  </a:lnTo>
                  <a:lnTo>
                    <a:pt x="514" y="444"/>
                  </a:lnTo>
                  <a:lnTo>
                    <a:pt x="145" y="1078"/>
                  </a:lnTo>
                  <a:lnTo>
                    <a:pt x="81" y="1490"/>
                  </a:lnTo>
                  <a:lnTo>
                    <a:pt x="145" y="1963"/>
                  </a:lnTo>
                  <a:lnTo>
                    <a:pt x="90" y="2228"/>
                  </a:lnTo>
                  <a:lnTo>
                    <a:pt x="0" y="2637"/>
                  </a:lnTo>
                  <a:lnTo>
                    <a:pt x="97" y="2439"/>
                  </a:lnTo>
                  <a:lnTo>
                    <a:pt x="288" y="2415"/>
                  </a:lnTo>
                  <a:lnTo>
                    <a:pt x="479" y="1756"/>
                  </a:lnTo>
                  <a:lnTo>
                    <a:pt x="212" y="2101"/>
                  </a:lnTo>
                  <a:lnTo>
                    <a:pt x="127" y="1426"/>
                  </a:lnTo>
                  <a:lnTo>
                    <a:pt x="196" y="1068"/>
                  </a:lnTo>
                  <a:lnTo>
                    <a:pt x="535" y="497"/>
                  </a:lnTo>
                  <a:lnTo>
                    <a:pt x="873" y="255"/>
                  </a:lnTo>
                  <a:lnTo>
                    <a:pt x="1395" y="75"/>
                  </a:lnTo>
                  <a:lnTo>
                    <a:pt x="1923" y="52"/>
                  </a:lnTo>
                  <a:lnTo>
                    <a:pt x="2503" y="218"/>
                  </a:lnTo>
                  <a:lnTo>
                    <a:pt x="2863" y="419"/>
                  </a:lnTo>
                  <a:lnTo>
                    <a:pt x="3024" y="547"/>
                  </a:lnTo>
                  <a:lnTo>
                    <a:pt x="3226" y="617"/>
                  </a:lnTo>
                  <a:lnTo>
                    <a:pt x="3352" y="753"/>
                  </a:lnTo>
                  <a:lnTo>
                    <a:pt x="3358" y="882"/>
                  </a:lnTo>
                  <a:lnTo>
                    <a:pt x="3306" y="949"/>
                  </a:lnTo>
                  <a:lnTo>
                    <a:pt x="3151" y="1037"/>
                  </a:lnTo>
                  <a:lnTo>
                    <a:pt x="3195" y="1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494480" y="3755880"/>
              <a:ext cx="242640" cy="178200"/>
            </a:xfrm>
            <a:custGeom>
              <a:avLst/>
              <a:gdLst/>
              <a:ahLst/>
              <a:rect l="l" t="t" r="r" b="b"/>
              <a:pathLst>
                <a:path w="3177" h="2674">
                  <a:moveTo>
                    <a:pt x="3039" y="881"/>
                  </a:moveTo>
                  <a:lnTo>
                    <a:pt x="3177" y="784"/>
                  </a:lnTo>
                  <a:lnTo>
                    <a:pt x="3172" y="664"/>
                  </a:lnTo>
                  <a:lnTo>
                    <a:pt x="3039" y="494"/>
                  </a:lnTo>
                  <a:lnTo>
                    <a:pt x="3011" y="565"/>
                  </a:lnTo>
                  <a:lnTo>
                    <a:pt x="2886" y="472"/>
                  </a:lnTo>
                  <a:lnTo>
                    <a:pt x="2421" y="420"/>
                  </a:lnTo>
                  <a:lnTo>
                    <a:pt x="2220" y="420"/>
                  </a:lnTo>
                  <a:lnTo>
                    <a:pt x="2567" y="355"/>
                  </a:lnTo>
                  <a:lnTo>
                    <a:pt x="2580" y="296"/>
                  </a:lnTo>
                  <a:lnTo>
                    <a:pt x="2255" y="136"/>
                  </a:lnTo>
                  <a:lnTo>
                    <a:pt x="1840" y="0"/>
                  </a:lnTo>
                  <a:lnTo>
                    <a:pt x="1312" y="7"/>
                  </a:lnTo>
                  <a:lnTo>
                    <a:pt x="826" y="166"/>
                  </a:lnTo>
                  <a:lnTo>
                    <a:pt x="510" y="408"/>
                  </a:lnTo>
                  <a:lnTo>
                    <a:pt x="309" y="733"/>
                  </a:lnTo>
                  <a:lnTo>
                    <a:pt x="233" y="975"/>
                  </a:lnTo>
                  <a:lnTo>
                    <a:pt x="233" y="1230"/>
                  </a:lnTo>
                  <a:lnTo>
                    <a:pt x="279" y="1464"/>
                  </a:lnTo>
                  <a:lnTo>
                    <a:pt x="279" y="1658"/>
                  </a:lnTo>
                  <a:lnTo>
                    <a:pt x="0" y="2257"/>
                  </a:lnTo>
                  <a:lnTo>
                    <a:pt x="275" y="2271"/>
                  </a:lnTo>
                  <a:lnTo>
                    <a:pt x="528" y="2456"/>
                  </a:lnTo>
                  <a:lnTo>
                    <a:pt x="756" y="2674"/>
                  </a:lnTo>
                  <a:lnTo>
                    <a:pt x="877" y="2557"/>
                  </a:lnTo>
                  <a:lnTo>
                    <a:pt x="952" y="2364"/>
                  </a:lnTo>
                  <a:lnTo>
                    <a:pt x="1123" y="2225"/>
                  </a:lnTo>
                  <a:lnTo>
                    <a:pt x="1114" y="1980"/>
                  </a:lnTo>
                  <a:lnTo>
                    <a:pt x="1183" y="1769"/>
                  </a:lnTo>
                  <a:lnTo>
                    <a:pt x="1319" y="1694"/>
                  </a:lnTo>
                  <a:lnTo>
                    <a:pt x="1437" y="1709"/>
                  </a:lnTo>
                  <a:lnTo>
                    <a:pt x="1497" y="1780"/>
                  </a:lnTo>
                  <a:lnTo>
                    <a:pt x="1554" y="1914"/>
                  </a:lnTo>
                  <a:lnTo>
                    <a:pt x="1875" y="2034"/>
                  </a:lnTo>
                  <a:lnTo>
                    <a:pt x="2009" y="1780"/>
                  </a:lnTo>
                  <a:lnTo>
                    <a:pt x="2525" y="1549"/>
                  </a:lnTo>
                  <a:lnTo>
                    <a:pt x="2516" y="1367"/>
                  </a:lnTo>
                  <a:lnTo>
                    <a:pt x="2421" y="1230"/>
                  </a:lnTo>
                  <a:lnTo>
                    <a:pt x="2490" y="1167"/>
                  </a:lnTo>
                  <a:lnTo>
                    <a:pt x="2455" y="832"/>
                  </a:lnTo>
                  <a:lnTo>
                    <a:pt x="2615" y="814"/>
                  </a:lnTo>
                  <a:lnTo>
                    <a:pt x="2824" y="832"/>
                  </a:lnTo>
                  <a:lnTo>
                    <a:pt x="3006" y="870"/>
                  </a:lnTo>
                  <a:lnTo>
                    <a:pt x="3039" y="8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689600" y="3845880"/>
              <a:ext cx="8280" cy="40320"/>
            </a:xfrm>
            <a:custGeom>
              <a:avLst/>
              <a:gdLst/>
              <a:ahLst/>
              <a:rect l="l" t="t" r="r" b="b"/>
              <a:pathLst>
                <a:path w="111" h="609">
                  <a:moveTo>
                    <a:pt x="53" y="609"/>
                  </a:moveTo>
                  <a:lnTo>
                    <a:pt x="0" y="459"/>
                  </a:lnTo>
                  <a:lnTo>
                    <a:pt x="39" y="307"/>
                  </a:lnTo>
                  <a:lnTo>
                    <a:pt x="0" y="0"/>
                  </a:lnTo>
                  <a:lnTo>
                    <a:pt x="111" y="466"/>
                  </a:lnTo>
                  <a:lnTo>
                    <a:pt x="105" y="563"/>
                  </a:lnTo>
                  <a:lnTo>
                    <a:pt x="53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588080" y="3879720"/>
              <a:ext cx="26280" cy="4356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266" y="172"/>
                  </a:moveTo>
                  <a:lnTo>
                    <a:pt x="343" y="60"/>
                  </a:lnTo>
                  <a:lnTo>
                    <a:pt x="275" y="0"/>
                  </a:lnTo>
                  <a:lnTo>
                    <a:pt x="132" y="0"/>
                  </a:lnTo>
                  <a:lnTo>
                    <a:pt x="28" y="113"/>
                  </a:lnTo>
                  <a:lnTo>
                    <a:pt x="0" y="327"/>
                  </a:lnTo>
                  <a:lnTo>
                    <a:pt x="79" y="106"/>
                  </a:lnTo>
                  <a:lnTo>
                    <a:pt x="196" y="83"/>
                  </a:lnTo>
                  <a:lnTo>
                    <a:pt x="108" y="277"/>
                  </a:lnTo>
                  <a:lnTo>
                    <a:pt x="108" y="429"/>
                  </a:lnTo>
                  <a:lnTo>
                    <a:pt x="60" y="417"/>
                  </a:lnTo>
                  <a:lnTo>
                    <a:pt x="23" y="387"/>
                  </a:lnTo>
                  <a:lnTo>
                    <a:pt x="60" y="523"/>
                  </a:lnTo>
                  <a:lnTo>
                    <a:pt x="132" y="655"/>
                  </a:lnTo>
                  <a:lnTo>
                    <a:pt x="119" y="539"/>
                  </a:lnTo>
                  <a:lnTo>
                    <a:pt x="189" y="484"/>
                  </a:lnTo>
                  <a:lnTo>
                    <a:pt x="297" y="558"/>
                  </a:lnTo>
                  <a:lnTo>
                    <a:pt x="316" y="523"/>
                  </a:lnTo>
                  <a:lnTo>
                    <a:pt x="297" y="473"/>
                  </a:lnTo>
                  <a:lnTo>
                    <a:pt x="332" y="387"/>
                  </a:lnTo>
                  <a:lnTo>
                    <a:pt x="314" y="304"/>
                  </a:lnTo>
                  <a:lnTo>
                    <a:pt x="240" y="297"/>
                  </a:lnTo>
                  <a:lnTo>
                    <a:pt x="224" y="207"/>
                  </a:lnTo>
                  <a:lnTo>
                    <a:pt x="2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599600" y="3917520"/>
              <a:ext cx="10800" cy="1152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90"/>
                  </a:moveTo>
                  <a:lnTo>
                    <a:pt x="86" y="0"/>
                  </a:lnTo>
                  <a:lnTo>
                    <a:pt x="143" y="20"/>
                  </a:lnTo>
                  <a:lnTo>
                    <a:pt x="104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717680" y="3915360"/>
              <a:ext cx="15480" cy="11520"/>
            </a:xfrm>
            <a:custGeom>
              <a:avLst/>
              <a:gdLst/>
              <a:ahLst/>
              <a:rect l="l" t="t" r="r" b="b"/>
              <a:pathLst>
                <a:path w="207" h="175">
                  <a:moveTo>
                    <a:pt x="11" y="132"/>
                  </a:moveTo>
                  <a:lnTo>
                    <a:pt x="207" y="175"/>
                  </a:lnTo>
                  <a:lnTo>
                    <a:pt x="0" y="0"/>
                  </a:lnTo>
                  <a:lnTo>
                    <a:pt x="11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380360" y="3943800"/>
              <a:ext cx="72360" cy="73080"/>
            </a:xfrm>
            <a:custGeom>
              <a:avLst/>
              <a:gdLst/>
              <a:ahLst/>
              <a:rect l="l" t="t" r="r" b="b"/>
              <a:pathLst>
                <a:path w="947" h="1096">
                  <a:moveTo>
                    <a:pt x="947" y="0"/>
                  </a:moveTo>
                  <a:lnTo>
                    <a:pt x="628" y="164"/>
                  </a:lnTo>
                  <a:lnTo>
                    <a:pt x="167" y="643"/>
                  </a:lnTo>
                  <a:lnTo>
                    <a:pt x="0" y="883"/>
                  </a:lnTo>
                  <a:lnTo>
                    <a:pt x="0" y="1096"/>
                  </a:lnTo>
                  <a:lnTo>
                    <a:pt x="270" y="672"/>
                  </a:lnTo>
                  <a:lnTo>
                    <a:pt x="628" y="235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380360" y="4036320"/>
              <a:ext cx="769320" cy="399600"/>
            </a:xfrm>
            <a:custGeom>
              <a:avLst/>
              <a:gdLst/>
              <a:ahLst/>
              <a:rect l="l" t="t" r="r" b="b"/>
              <a:pathLst>
                <a:path w="10071" h="5987">
                  <a:moveTo>
                    <a:pt x="3078" y="337"/>
                  </a:moveTo>
                  <a:lnTo>
                    <a:pt x="2554" y="961"/>
                  </a:lnTo>
                  <a:lnTo>
                    <a:pt x="2043" y="1895"/>
                  </a:lnTo>
                  <a:lnTo>
                    <a:pt x="989" y="2609"/>
                  </a:lnTo>
                  <a:lnTo>
                    <a:pt x="508" y="2393"/>
                  </a:lnTo>
                  <a:lnTo>
                    <a:pt x="0" y="2301"/>
                  </a:lnTo>
                  <a:lnTo>
                    <a:pt x="413" y="2423"/>
                  </a:lnTo>
                  <a:lnTo>
                    <a:pt x="796" y="2635"/>
                  </a:lnTo>
                  <a:lnTo>
                    <a:pt x="1109" y="2900"/>
                  </a:lnTo>
                  <a:lnTo>
                    <a:pt x="1446" y="3279"/>
                  </a:lnTo>
                  <a:lnTo>
                    <a:pt x="1758" y="3760"/>
                  </a:lnTo>
                  <a:lnTo>
                    <a:pt x="2119" y="4719"/>
                  </a:lnTo>
                  <a:lnTo>
                    <a:pt x="2336" y="5343"/>
                  </a:lnTo>
                  <a:lnTo>
                    <a:pt x="2457" y="5987"/>
                  </a:lnTo>
                  <a:lnTo>
                    <a:pt x="3945" y="5987"/>
                  </a:lnTo>
                  <a:lnTo>
                    <a:pt x="2982" y="4482"/>
                  </a:lnTo>
                  <a:lnTo>
                    <a:pt x="2527" y="3187"/>
                  </a:lnTo>
                  <a:lnTo>
                    <a:pt x="2578" y="2444"/>
                  </a:lnTo>
                  <a:lnTo>
                    <a:pt x="2624" y="3158"/>
                  </a:lnTo>
                  <a:lnTo>
                    <a:pt x="3052" y="4288"/>
                  </a:lnTo>
                  <a:lnTo>
                    <a:pt x="3991" y="5701"/>
                  </a:lnTo>
                  <a:lnTo>
                    <a:pt x="4281" y="5750"/>
                  </a:lnTo>
                  <a:lnTo>
                    <a:pt x="4378" y="5987"/>
                  </a:lnTo>
                  <a:lnTo>
                    <a:pt x="8152" y="5987"/>
                  </a:lnTo>
                  <a:lnTo>
                    <a:pt x="8322" y="5892"/>
                  </a:lnTo>
                  <a:lnTo>
                    <a:pt x="8722" y="5701"/>
                  </a:lnTo>
                  <a:lnTo>
                    <a:pt x="9113" y="5674"/>
                  </a:lnTo>
                  <a:lnTo>
                    <a:pt x="9135" y="5604"/>
                  </a:lnTo>
                  <a:lnTo>
                    <a:pt x="8843" y="5534"/>
                  </a:lnTo>
                  <a:lnTo>
                    <a:pt x="8530" y="5358"/>
                  </a:lnTo>
                  <a:lnTo>
                    <a:pt x="8242" y="5173"/>
                  </a:lnTo>
                  <a:lnTo>
                    <a:pt x="7839" y="5097"/>
                  </a:lnTo>
                  <a:lnTo>
                    <a:pt x="7546" y="5002"/>
                  </a:lnTo>
                  <a:lnTo>
                    <a:pt x="7168" y="4956"/>
                  </a:lnTo>
                  <a:lnTo>
                    <a:pt x="7168" y="4885"/>
                  </a:lnTo>
                  <a:lnTo>
                    <a:pt x="7452" y="4811"/>
                  </a:lnTo>
                  <a:lnTo>
                    <a:pt x="7767" y="4811"/>
                  </a:lnTo>
                  <a:lnTo>
                    <a:pt x="8080" y="4719"/>
                  </a:lnTo>
                  <a:lnTo>
                    <a:pt x="8652" y="4624"/>
                  </a:lnTo>
                  <a:lnTo>
                    <a:pt x="8992" y="4530"/>
                  </a:lnTo>
                  <a:lnTo>
                    <a:pt x="8821" y="4530"/>
                  </a:lnTo>
                  <a:lnTo>
                    <a:pt x="8627" y="4602"/>
                  </a:lnTo>
                  <a:lnTo>
                    <a:pt x="8339" y="4644"/>
                  </a:lnTo>
                  <a:lnTo>
                    <a:pt x="8030" y="4666"/>
                  </a:lnTo>
                  <a:lnTo>
                    <a:pt x="7818" y="4736"/>
                  </a:lnTo>
                  <a:lnTo>
                    <a:pt x="7818" y="4644"/>
                  </a:lnTo>
                  <a:lnTo>
                    <a:pt x="7931" y="4530"/>
                  </a:lnTo>
                  <a:lnTo>
                    <a:pt x="8201" y="4339"/>
                  </a:lnTo>
                  <a:lnTo>
                    <a:pt x="9234" y="4069"/>
                  </a:lnTo>
                  <a:lnTo>
                    <a:pt x="10071" y="3735"/>
                  </a:lnTo>
                  <a:lnTo>
                    <a:pt x="9159" y="4069"/>
                  </a:lnTo>
                  <a:lnTo>
                    <a:pt x="8516" y="4165"/>
                  </a:lnTo>
                  <a:lnTo>
                    <a:pt x="8272" y="4218"/>
                  </a:lnTo>
                  <a:lnTo>
                    <a:pt x="6778" y="4218"/>
                  </a:lnTo>
                  <a:lnTo>
                    <a:pt x="7117" y="4023"/>
                  </a:lnTo>
                  <a:lnTo>
                    <a:pt x="7382" y="3976"/>
                  </a:lnTo>
                  <a:lnTo>
                    <a:pt x="7594" y="3877"/>
                  </a:lnTo>
                  <a:lnTo>
                    <a:pt x="7670" y="3827"/>
                  </a:lnTo>
                  <a:lnTo>
                    <a:pt x="7670" y="3710"/>
                  </a:lnTo>
                  <a:lnTo>
                    <a:pt x="7643" y="3664"/>
                  </a:lnTo>
                  <a:lnTo>
                    <a:pt x="7522" y="3640"/>
                  </a:lnTo>
                  <a:lnTo>
                    <a:pt x="7474" y="3735"/>
                  </a:lnTo>
                  <a:lnTo>
                    <a:pt x="7353" y="3785"/>
                  </a:lnTo>
                  <a:lnTo>
                    <a:pt x="6832" y="3735"/>
                  </a:lnTo>
                  <a:lnTo>
                    <a:pt x="6685" y="3594"/>
                  </a:lnTo>
                  <a:lnTo>
                    <a:pt x="6731" y="3804"/>
                  </a:lnTo>
                  <a:lnTo>
                    <a:pt x="6731" y="3976"/>
                  </a:lnTo>
                  <a:lnTo>
                    <a:pt x="6661" y="4218"/>
                  </a:lnTo>
                  <a:lnTo>
                    <a:pt x="6661" y="3976"/>
                  </a:lnTo>
                  <a:lnTo>
                    <a:pt x="6441" y="3710"/>
                  </a:lnTo>
                  <a:lnTo>
                    <a:pt x="6589" y="4023"/>
                  </a:lnTo>
                  <a:lnTo>
                    <a:pt x="6589" y="4311"/>
                  </a:lnTo>
                  <a:lnTo>
                    <a:pt x="5434" y="5026"/>
                  </a:lnTo>
                  <a:lnTo>
                    <a:pt x="5265" y="4574"/>
                  </a:lnTo>
                  <a:lnTo>
                    <a:pt x="5265" y="3877"/>
                  </a:lnTo>
                  <a:lnTo>
                    <a:pt x="5602" y="3710"/>
                  </a:lnTo>
                  <a:lnTo>
                    <a:pt x="6107" y="3594"/>
                  </a:lnTo>
                  <a:lnTo>
                    <a:pt x="5773" y="3521"/>
                  </a:lnTo>
                  <a:lnTo>
                    <a:pt x="6056" y="3279"/>
                  </a:lnTo>
                  <a:lnTo>
                    <a:pt x="5173" y="3760"/>
                  </a:lnTo>
                  <a:lnTo>
                    <a:pt x="4810" y="3187"/>
                  </a:lnTo>
                  <a:lnTo>
                    <a:pt x="4666" y="1754"/>
                  </a:lnTo>
                  <a:lnTo>
                    <a:pt x="4500" y="790"/>
                  </a:lnTo>
                  <a:lnTo>
                    <a:pt x="4256" y="242"/>
                  </a:lnTo>
                  <a:lnTo>
                    <a:pt x="3964" y="0"/>
                  </a:lnTo>
                  <a:lnTo>
                    <a:pt x="4187" y="242"/>
                  </a:lnTo>
                  <a:lnTo>
                    <a:pt x="4424" y="693"/>
                  </a:lnTo>
                  <a:lnTo>
                    <a:pt x="4544" y="1271"/>
                  </a:lnTo>
                  <a:lnTo>
                    <a:pt x="4620" y="2181"/>
                  </a:lnTo>
                  <a:lnTo>
                    <a:pt x="4712" y="3140"/>
                  </a:lnTo>
                  <a:lnTo>
                    <a:pt x="3611" y="1531"/>
                  </a:lnTo>
                  <a:lnTo>
                    <a:pt x="4019" y="2469"/>
                  </a:lnTo>
                  <a:lnTo>
                    <a:pt x="4782" y="3543"/>
                  </a:lnTo>
                  <a:lnTo>
                    <a:pt x="4782" y="3947"/>
                  </a:lnTo>
                  <a:lnTo>
                    <a:pt x="4544" y="4549"/>
                  </a:lnTo>
                  <a:lnTo>
                    <a:pt x="5047" y="3947"/>
                  </a:lnTo>
                  <a:lnTo>
                    <a:pt x="5148" y="4288"/>
                  </a:lnTo>
                  <a:lnTo>
                    <a:pt x="5148" y="4574"/>
                  </a:lnTo>
                  <a:lnTo>
                    <a:pt x="4666" y="5125"/>
                  </a:lnTo>
                  <a:lnTo>
                    <a:pt x="4208" y="4736"/>
                  </a:lnTo>
                  <a:lnTo>
                    <a:pt x="3964" y="4908"/>
                  </a:lnTo>
                  <a:lnTo>
                    <a:pt x="3899" y="4811"/>
                  </a:lnTo>
                  <a:lnTo>
                    <a:pt x="4019" y="4359"/>
                  </a:lnTo>
                  <a:lnTo>
                    <a:pt x="3991" y="4189"/>
                  </a:lnTo>
                  <a:lnTo>
                    <a:pt x="2744" y="2589"/>
                  </a:lnTo>
                  <a:lnTo>
                    <a:pt x="2716" y="2324"/>
                  </a:lnTo>
                  <a:lnTo>
                    <a:pt x="2716" y="1824"/>
                  </a:lnTo>
                  <a:lnTo>
                    <a:pt x="2767" y="1339"/>
                  </a:lnTo>
                  <a:lnTo>
                    <a:pt x="2883" y="840"/>
                  </a:lnTo>
                  <a:lnTo>
                    <a:pt x="3078" y="482"/>
                  </a:lnTo>
                  <a:lnTo>
                    <a:pt x="3345" y="173"/>
                  </a:lnTo>
                  <a:lnTo>
                    <a:pt x="3078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744320" y="4238640"/>
              <a:ext cx="77400" cy="44280"/>
            </a:xfrm>
            <a:custGeom>
              <a:avLst/>
              <a:gdLst/>
              <a:ahLst/>
              <a:rect l="l" t="t" r="r" b="b"/>
              <a:pathLst>
                <a:path w="1016" h="665">
                  <a:moveTo>
                    <a:pt x="6" y="0"/>
                  </a:moveTo>
                  <a:lnTo>
                    <a:pt x="218" y="118"/>
                  </a:lnTo>
                  <a:lnTo>
                    <a:pt x="705" y="173"/>
                  </a:lnTo>
                  <a:lnTo>
                    <a:pt x="705" y="228"/>
                  </a:lnTo>
                  <a:lnTo>
                    <a:pt x="1016" y="240"/>
                  </a:lnTo>
                  <a:lnTo>
                    <a:pt x="697" y="275"/>
                  </a:lnTo>
                  <a:lnTo>
                    <a:pt x="653" y="446"/>
                  </a:lnTo>
                  <a:lnTo>
                    <a:pt x="626" y="662"/>
                  </a:lnTo>
                  <a:lnTo>
                    <a:pt x="596" y="665"/>
                  </a:lnTo>
                  <a:lnTo>
                    <a:pt x="615" y="406"/>
                  </a:lnTo>
                  <a:lnTo>
                    <a:pt x="653" y="235"/>
                  </a:lnTo>
                  <a:lnTo>
                    <a:pt x="218" y="178"/>
                  </a:lnTo>
                  <a:lnTo>
                    <a:pt x="0" y="9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826760" y="4216320"/>
              <a:ext cx="139320" cy="70920"/>
            </a:xfrm>
            <a:custGeom>
              <a:avLst/>
              <a:gdLst/>
              <a:ahLst/>
              <a:rect l="l" t="t" r="r" b="b"/>
              <a:pathLst>
                <a:path w="1821" h="1066">
                  <a:moveTo>
                    <a:pt x="0" y="706"/>
                  </a:moveTo>
                  <a:lnTo>
                    <a:pt x="137" y="242"/>
                  </a:lnTo>
                  <a:lnTo>
                    <a:pt x="597" y="0"/>
                  </a:lnTo>
                  <a:lnTo>
                    <a:pt x="906" y="137"/>
                  </a:lnTo>
                  <a:lnTo>
                    <a:pt x="1268" y="176"/>
                  </a:lnTo>
                  <a:lnTo>
                    <a:pt x="1330" y="227"/>
                  </a:lnTo>
                  <a:lnTo>
                    <a:pt x="1341" y="317"/>
                  </a:lnTo>
                  <a:lnTo>
                    <a:pt x="1504" y="360"/>
                  </a:lnTo>
                  <a:lnTo>
                    <a:pt x="1634" y="459"/>
                  </a:lnTo>
                  <a:lnTo>
                    <a:pt x="1708" y="488"/>
                  </a:lnTo>
                  <a:lnTo>
                    <a:pt x="1819" y="579"/>
                  </a:lnTo>
                  <a:lnTo>
                    <a:pt x="1821" y="655"/>
                  </a:lnTo>
                  <a:lnTo>
                    <a:pt x="1763" y="706"/>
                  </a:lnTo>
                  <a:lnTo>
                    <a:pt x="1634" y="822"/>
                  </a:lnTo>
                  <a:lnTo>
                    <a:pt x="1637" y="910"/>
                  </a:lnTo>
                  <a:lnTo>
                    <a:pt x="1612" y="800"/>
                  </a:lnTo>
                  <a:lnTo>
                    <a:pt x="1785" y="640"/>
                  </a:lnTo>
                  <a:lnTo>
                    <a:pt x="1785" y="584"/>
                  </a:lnTo>
                  <a:lnTo>
                    <a:pt x="1637" y="499"/>
                  </a:lnTo>
                  <a:lnTo>
                    <a:pt x="1577" y="512"/>
                  </a:lnTo>
                  <a:lnTo>
                    <a:pt x="1504" y="503"/>
                  </a:lnTo>
                  <a:lnTo>
                    <a:pt x="1370" y="579"/>
                  </a:lnTo>
                  <a:lnTo>
                    <a:pt x="1543" y="448"/>
                  </a:lnTo>
                  <a:lnTo>
                    <a:pt x="1471" y="383"/>
                  </a:lnTo>
                  <a:lnTo>
                    <a:pt x="1341" y="356"/>
                  </a:lnTo>
                  <a:lnTo>
                    <a:pt x="1341" y="409"/>
                  </a:lnTo>
                  <a:lnTo>
                    <a:pt x="1394" y="503"/>
                  </a:lnTo>
                  <a:lnTo>
                    <a:pt x="1319" y="413"/>
                  </a:lnTo>
                  <a:lnTo>
                    <a:pt x="1268" y="247"/>
                  </a:lnTo>
                  <a:lnTo>
                    <a:pt x="1205" y="192"/>
                  </a:lnTo>
                  <a:lnTo>
                    <a:pt x="885" y="176"/>
                  </a:lnTo>
                  <a:lnTo>
                    <a:pt x="641" y="47"/>
                  </a:lnTo>
                  <a:lnTo>
                    <a:pt x="161" y="264"/>
                  </a:lnTo>
                  <a:lnTo>
                    <a:pt x="90" y="552"/>
                  </a:lnTo>
                  <a:lnTo>
                    <a:pt x="321" y="574"/>
                  </a:lnTo>
                  <a:lnTo>
                    <a:pt x="590" y="655"/>
                  </a:lnTo>
                  <a:lnTo>
                    <a:pt x="791" y="822"/>
                  </a:lnTo>
                  <a:lnTo>
                    <a:pt x="1053" y="719"/>
                  </a:lnTo>
                  <a:lnTo>
                    <a:pt x="873" y="930"/>
                  </a:lnTo>
                  <a:lnTo>
                    <a:pt x="873" y="1066"/>
                  </a:lnTo>
                  <a:lnTo>
                    <a:pt x="786" y="851"/>
                  </a:lnTo>
                  <a:lnTo>
                    <a:pt x="597" y="699"/>
                  </a:lnTo>
                  <a:lnTo>
                    <a:pt x="403" y="633"/>
                  </a:lnTo>
                  <a:lnTo>
                    <a:pt x="173" y="614"/>
                  </a:lnTo>
                  <a:lnTo>
                    <a:pt x="0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819200" y="4271040"/>
              <a:ext cx="68400" cy="30600"/>
            </a:xfrm>
            <a:custGeom>
              <a:avLst/>
              <a:gdLst/>
              <a:ahLst/>
              <a:rect l="l" t="t" r="r" b="b"/>
              <a:pathLst>
                <a:path w="895" h="462">
                  <a:moveTo>
                    <a:pt x="0" y="69"/>
                  </a:moveTo>
                  <a:lnTo>
                    <a:pt x="363" y="91"/>
                  </a:lnTo>
                  <a:lnTo>
                    <a:pt x="593" y="177"/>
                  </a:lnTo>
                  <a:lnTo>
                    <a:pt x="764" y="313"/>
                  </a:lnTo>
                  <a:lnTo>
                    <a:pt x="844" y="462"/>
                  </a:lnTo>
                  <a:lnTo>
                    <a:pt x="895" y="421"/>
                  </a:lnTo>
                  <a:lnTo>
                    <a:pt x="791" y="262"/>
                  </a:lnTo>
                  <a:lnTo>
                    <a:pt x="642" y="126"/>
                  </a:lnTo>
                  <a:lnTo>
                    <a:pt x="427" y="20"/>
                  </a:lnTo>
                  <a:lnTo>
                    <a:pt x="180" y="0"/>
                  </a:lnTo>
                  <a:lnTo>
                    <a:pt x="13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936560" y="4358880"/>
              <a:ext cx="15480" cy="1224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0" y="20"/>
                  </a:moveTo>
                  <a:lnTo>
                    <a:pt x="95" y="22"/>
                  </a:lnTo>
                  <a:lnTo>
                    <a:pt x="146" y="62"/>
                  </a:lnTo>
                  <a:lnTo>
                    <a:pt x="169" y="97"/>
                  </a:lnTo>
                  <a:lnTo>
                    <a:pt x="169" y="133"/>
                  </a:lnTo>
                  <a:lnTo>
                    <a:pt x="146" y="182"/>
                  </a:lnTo>
                  <a:lnTo>
                    <a:pt x="181" y="167"/>
                  </a:lnTo>
                  <a:lnTo>
                    <a:pt x="203" y="121"/>
                  </a:lnTo>
                  <a:lnTo>
                    <a:pt x="194" y="86"/>
                  </a:lnTo>
                  <a:lnTo>
                    <a:pt x="165" y="38"/>
                  </a:lnTo>
                  <a:lnTo>
                    <a:pt x="130" y="20"/>
                  </a:lnTo>
                  <a:lnTo>
                    <a:pt x="4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7970040" y="4352040"/>
              <a:ext cx="27360" cy="13320"/>
            </a:xfrm>
            <a:custGeom>
              <a:avLst/>
              <a:gdLst/>
              <a:ahLst/>
              <a:rect l="l" t="t" r="r" b="b"/>
              <a:pathLst>
                <a:path w="360" h="197">
                  <a:moveTo>
                    <a:pt x="245" y="26"/>
                  </a:moveTo>
                  <a:lnTo>
                    <a:pt x="286" y="51"/>
                  </a:lnTo>
                  <a:lnTo>
                    <a:pt x="309" y="100"/>
                  </a:lnTo>
                  <a:lnTo>
                    <a:pt x="296" y="138"/>
                  </a:lnTo>
                  <a:lnTo>
                    <a:pt x="261" y="177"/>
                  </a:lnTo>
                  <a:lnTo>
                    <a:pt x="63" y="166"/>
                  </a:lnTo>
                  <a:lnTo>
                    <a:pt x="28" y="150"/>
                  </a:lnTo>
                  <a:lnTo>
                    <a:pt x="24" y="104"/>
                  </a:lnTo>
                  <a:lnTo>
                    <a:pt x="28" y="100"/>
                  </a:lnTo>
                  <a:lnTo>
                    <a:pt x="0" y="104"/>
                  </a:lnTo>
                  <a:lnTo>
                    <a:pt x="0" y="138"/>
                  </a:lnTo>
                  <a:lnTo>
                    <a:pt x="39" y="186"/>
                  </a:lnTo>
                  <a:lnTo>
                    <a:pt x="296" y="197"/>
                  </a:lnTo>
                  <a:lnTo>
                    <a:pt x="349" y="150"/>
                  </a:lnTo>
                  <a:lnTo>
                    <a:pt x="360" y="87"/>
                  </a:lnTo>
                  <a:lnTo>
                    <a:pt x="325" y="26"/>
                  </a:lnTo>
                  <a:lnTo>
                    <a:pt x="274" y="0"/>
                  </a:lnTo>
                  <a:lnTo>
                    <a:pt x="24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8265960" y="3963240"/>
              <a:ext cx="468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8329320" y="3887640"/>
              <a:ext cx="21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325000" y="3888360"/>
              <a:ext cx="36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320680" y="3894120"/>
              <a:ext cx="10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8315640" y="390384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8308080" y="3911760"/>
              <a:ext cx="216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8300880" y="392472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345880" y="3921480"/>
              <a:ext cx="16920" cy="22320"/>
            </a:xfrm>
            <a:custGeom>
              <a:avLst/>
              <a:gdLst/>
              <a:ahLst/>
              <a:rect l="l" t="t" r="r" b="b"/>
              <a:pathLst>
                <a:path w="226" h="341">
                  <a:moveTo>
                    <a:pt x="191" y="0"/>
                  </a:moveTo>
                  <a:lnTo>
                    <a:pt x="155" y="0"/>
                  </a:lnTo>
                  <a:lnTo>
                    <a:pt x="125" y="5"/>
                  </a:lnTo>
                  <a:lnTo>
                    <a:pt x="104" y="14"/>
                  </a:lnTo>
                  <a:lnTo>
                    <a:pt x="70" y="31"/>
                  </a:lnTo>
                  <a:lnTo>
                    <a:pt x="46" y="47"/>
                  </a:lnTo>
                  <a:lnTo>
                    <a:pt x="28" y="70"/>
                  </a:lnTo>
                  <a:lnTo>
                    <a:pt x="12" y="104"/>
                  </a:lnTo>
                  <a:lnTo>
                    <a:pt x="0" y="130"/>
                  </a:lnTo>
                  <a:lnTo>
                    <a:pt x="0" y="160"/>
                  </a:lnTo>
                  <a:lnTo>
                    <a:pt x="0" y="192"/>
                  </a:lnTo>
                  <a:lnTo>
                    <a:pt x="0" y="215"/>
                  </a:lnTo>
                  <a:lnTo>
                    <a:pt x="12" y="249"/>
                  </a:lnTo>
                  <a:lnTo>
                    <a:pt x="33" y="273"/>
                  </a:lnTo>
                  <a:lnTo>
                    <a:pt x="51" y="301"/>
                  </a:lnTo>
                  <a:lnTo>
                    <a:pt x="74" y="321"/>
                  </a:lnTo>
                  <a:lnTo>
                    <a:pt x="104" y="337"/>
                  </a:lnTo>
                  <a:lnTo>
                    <a:pt x="129" y="341"/>
                  </a:lnTo>
                  <a:lnTo>
                    <a:pt x="164" y="341"/>
                  </a:lnTo>
                  <a:lnTo>
                    <a:pt x="196" y="341"/>
                  </a:lnTo>
                  <a:lnTo>
                    <a:pt x="226" y="3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V="1">
              <a:off x="7719480" y="3893760"/>
              <a:ext cx="28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625160" y="3881880"/>
              <a:ext cx="126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633800" y="3886920"/>
              <a:ext cx="136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643160" y="3893400"/>
              <a:ext cx="1332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654680" y="3901680"/>
              <a:ext cx="936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993800" y="3725280"/>
              <a:ext cx="137880" cy="144720"/>
            </a:xfrm>
            <a:custGeom>
              <a:avLst/>
              <a:gdLst/>
              <a:ahLst/>
              <a:rect l="l" t="t" r="r" b="b"/>
              <a:pathLst>
                <a:path w="1810" h="2171">
                  <a:moveTo>
                    <a:pt x="1367" y="1125"/>
                  </a:moveTo>
                  <a:lnTo>
                    <a:pt x="1215" y="1136"/>
                  </a:lnTo>
                  <a:lnTo>
                    <a:pt x="1090" y="1113"/>
                  </a:lnTo>
                  <a:lnTo>
                    <a:pt x="1033" y="1060"/>
                  </a:lnTo>
                  <a:lnTo>
                    <a:pt x="1120" y="1095"/>
                  </a:lnTo>
                  <a:lnTo>
                    <a:pt x="1206" y="1073"/>
                  </a:lnTo>
                  <a:lnTo>
                    <a:pt x="1265" y="1062"/>
                  </a:lnTo>
                  <a:lnTo>
                    <a:pt x="1145" y="1037"/>
                  </a:lnTo>
                  <a:lnTo>
                    <a:pt x="1044" y="998"/>
                  </a:lnTo>
                  <a:lnTo>
                    <a:pt x="973" y="998"/>
                  </a:lnTo>
                  <a:lnTo>
                    <a:pt x="890" y="1020"/>
                  </a:lnTo>
                  <a:lnTo>
                    <a:pt x="813" y="1023"/>
                  </a:lnTo>
                  <a:lnTo>
                    <a:pt x="740" y="1035"/>
                  </a:lnTo>
                  <a:lnTo>
                    <a:pt x="606" y="998"/>
                  </a:lnTo>
                  <a:lnTo>
                    <a:pt x="556" y="981"/>
                  </a:lnTo>
                  <a:lnTo>
                    <a:pt x="424" y="910"/>
                  </a:lnTo>
                  <a:lnTo>
                    <a:pt x="338" y="878"/>
                  </a:lnTo>
                  <a:lnTo>
                    <a:pt x="263" y="853"/>
                  </a:lnTo>
                  <a:lnTo>
                    <a:pt x="122" y="840"/>
                  </a:lnTo>
                  <a:lnTo>
                    <a:pt x="0" y="829"/>
                  </a:lnTo>
                  <a:lnTo>
                    <a:pt x="178" y="813"/>
                  </a:lnTo>
                  <a:lnTo>
                    <a:pt x="345" y="820"/>
                  </a:lnTo>
                  <a:lnTo>
                    <a:pt x="470" y="840"/>
                  </a:lnTo>
                  <a:lnTo>
                    <a:pt x="574" y="866"/>
                  </a:lnTo>
                  <a:lnTo>
                    <a:pt x="648" y="840"/>
                  </a:lnTo>
                  <a:lnTo>
                    <a:pt x="848" y="820"/>
                  </a:lnTo>
                  <a:lnTo>
                    <a:pt x="986" y="829"/>
                  </a:lnTo>
                  <a:lnTo>
                    <a:pt x="878" y="779"/>
                  </a:lnTo>
                  <a:lnTo>
                    <a:pt x="756" y="746"/>
                  </a:lnTo>
                  <a:lnTo>
                    <a:pt x="648" y="746"/>
                  </a:lnTo>
                  <a:lnTo>
                    <a:pt x="534" y="721"/>
                  </a:lnTo>
                  <a:lnTo>
                    <a:pt x="435" y="689"/>
                  </a:lnTo>
                  <a:lnTo>
                    <a:pt x="597" y="721"/>
                  </a:lnTo>
                  <a:lnTo>
                    <a:pt x="705" y="708"/>
                  </a:lnTo>
                  <a:lnTo>
                    <a:pt x="813" y="703"/>
                  </a:lnTo>
                  <a:lnTo>
                    <a:pt x="908" y="703"/>
                  </a:lnTo>
                  <a:lnTo>
                    <a:pt x="779" y="629"/>
                  </a:lnTo>
                  <a:lnTo>
                    <a:pt x="648" y="587"/>
                  </a:lnTo>
                  <a:lnTo>
                    <a:pt x="779" y="606"/>
                  </a:lnTo>
                  <a:lnTo>
                    <a:pt x="890" y="613"/>
                  </a:lnTo>
                  <a:lnTo>
                    <a:pt x="1019" y="647"/>
                  </a:lnTo>
                  <a:lnTo>
                    <a:pt x="883" y="548"/>
                  </a:lnTo>
                  <a:lnTo>
                    <a:pt x="756" y="479"/>
                  </a:lnTo>
                  <a:lnTo>
                    <a:pt x="899" y="509"/>
                  </a:lnTo>
                  <a:lnTo>
                    <a:pt x="1061" y="548"/>
                  </a:lnTo>
                  <a:lnTo>
                    <a:pt x="986" y="465"/>
                  </a:lnTo>
                  <a:lnTo>
                    <a:pt x="864" y="394"/>
                  </a:lnTo>
                  <a:lnTo>
                    <a:pt x="1039" y="444"/>
                  </a:lnTo>
                  <a:lnTo>
                    <a:pt x="1129" y="479"/>
                  </a:lnTo>
                  <a:lnTo>
                    <a:pt x="1083" y="387"/>
                  </a:lnTo>
                  <a:lnTo>
                    <a:pt x="962" y="281"/>
                  </a:lnTo>
                  <a:lnTo>
                    <a:pt x="1090" y="317"/>
                  </a:lnTo>
                  <a:lnTo>
                    <a:pt x="1235" y="419"/>
                  </a:lnTo>
                  <a:lnTo>
                    <a:pt x="1206" y="320"/>
                  </a:lnTo>
                  <a:lnTo>
                    <a:pt x="1129" y="262"/>
                  </a:lnTo>
                  <a:lnTo>
                    <a:pt x="1256" y="330"/>
                  </a:lnTo>
                  <a:lnTo>
                    <a:pt x="1109" y="191"/>
                  </a:lnTo>
                  <a:lnTo>
                    <a:pt x="899" y="101"/>
                  </a:lnTo>
                  <a:lnTo>
                    <a:pt x="727" y="27"/>
                  </a:lnTo>
                  <a:lnTo>
                    <a:pt x="516" y="0"/>
                  </a:lnTo>
                  <a:lnTo>
                    <a:pt x="793" y="0"/>
                  </a:lnTo>
                  <a:lnTo>
                    <a:pt x="1085" y="75"/>
                  </a:lnTo>
                  <a:lnTo>
                    <a:pt x="1332" y="216"/>
                  </a:lnTo>
                  <a:lnTo>
                    <a:pt x="1519" y="444"/>
                  </a:lnTo>
                  <a:lnTo>
                    <a:pt x="1609" y="613"/>
                  </a:lnTo>
                  <a:lnTo>
                    <a:pt x="1639" y="779"/>
                  </a:lnTo>
                  <a:lnTo>
                    <a:pt x="1623" y="981"/>
                  </a:lnTo>
                  <a:lnTo>
                    <a:pt x="1613" y="1011"/>
                  </a:lnTo>
                  <a:lnTo>
                    <a:pt x="1725" y="1011"/>
                  </a:lnTo>
                  <a:lnTo>
                    <a:pt x="1810" y="1113"/>
                  </a:lnTo>
                  <a:lnTo>
                    <a:pt x="1810" y="1290"/>
                  </a:lnTo>
                  <a:lnTo>
                    <a:pt x="1784" y="1130"/>
                  </a:lnTo>
                  <a:lnTo>
                    <a:pt x="1740" y="1095"/>
                  </a:lnTo>
                  <a:lnTo>
                    <a:pt x="1669" y="1095"/>
                  </a:lnTo>
                  <a:lnTo>
                    <a:pt x="1716" y="1194"/>
                  </a:lnTo>
                  <a:lnTo>
                    <a:pt x="1694" y="1314"/>
                  </a:lnTo>
                  <a:lnTo>
                    <a:pt x="1630" y="1422"/>
                  </a:lnTo>
                  <a:lnTo>
                    <a:pt x="1609" y="1266"/>
                  </a:lnTo>
                  <a:lnTo>
                    <a:pt x="1542" y="1152"/>
                  </a:lnTo>
                  <a:lnTo>
                    <a:pt x="1542" y="1360"/>
                  </a:lnTo>
                  <a:lnTo>
                    <a:pt x="1519" y="1497"/>
                  </a:lnTo>
                  <a:lnTo>
                    <a:pt x="1473" y="1304"/>
                  </a:lnTo>
                  <a:lnTo>
                    <a:pt x="1448" y="1447"/>
                  </a:lnTo>
                  <a:lnTo>
                    <a:pt x="1388" y="1629"/>
                  </a:lnTo>
                  <a:lnTo>
                    <a:pt x="1448" y="1609"/>
                  </a:lnTo>
                  <a:lnTo>
                    <a:pt x="1428" y="1776"/>
                  </a:lnTo>
                  <a:lnTo>
                    <a:pt x="1519" y="1567"/>
                  </a:lnTo>
                  <a:lnTo>
                    <a:pt x="1510" y="1730"/>
                  </a:lnTo>
                  <a:lnTo>
                    <a:pt x="1613" y="1510"/>
                  </a:lnTo>
                  <a:lnTo>
                    <a:pt x="1573" y="1710"/>
                  </a:lnTo>
                  <a:lnTo>
                    <a:pt x="1669" y="1625"/>
                  </a:lnTo>
                  <a:lnTo>
                    <a:pt x="1795" y="1371"/>
                  </a:lnTo>
                  <a:lnTo>
                    <a:pt x="1694" y="1653"/>
                  </a:lnTo>
                  <a:lnTo>
                    <a:pt x="1600" y="1752"/>
                  </a:lnTo>
                  <a:lnTo>
                    <a:pt x="1422" y="1883"/>
                  </a:lnTo>
                  <a:lnTo>
                    <a:pt x="1316" y="1922"/>
                  </a:lnTo>
                  <a:lnTo>
                    <a:pt x="1204" y="2068"/>
                  </a:lnTo>
                  <a:lnTo>
                    <a:pt x="1109" y="2171"/>
                  </a:lnTo>
                  <a:lnTo>
                    <a:pt x="1226" y="1922"/>
                  </a:lnTo>
                  <a:lnTo>
                    <a:pt x="1235" y="1653"/>
                  </a:lnTo>
                  <a:lnTo>
                    <a:pt x="1250" y="1482"/>
                  </a:lnTo>
                  <a:lnTo>
                    <a:pt x="1307" y="1302"/>
                  </a:lnTo>
                  <a:lnTo>
                    <a:pt x="1402" y="1136"/>
                  </a:lnTo>
                  <a:lnTo>
                    <a:pt x="1367" y="1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939440" y="3725280"/>
              <a:ext cx="117720" cy="106200"/>
            </a:xfrm>
            <a:custGeom>
              <a:avLst/>
              <a:gdLst/>
              <a:ahLst/>
              <a:rect l="l" t="t" r="r" b="b"/>
              <a:pathLst>
                <a:path w="1547" h="1598">
                  <a:moveTo>
                    <a:pt x="1038" y="25"/>
                  </a:moveTo>
                  <a:lnTo>
                    <a:pt x="877" y="75"/>
                  </a:lnTo>
                  <a:lnTo>
                    <a:pt x="669" y="163"/>
                  </a:lnTo>
                  <a:lnTo>
                    <a:pt x="491" y="284"/>
                  </a:lnTo>
                  <a:lnTo>
                    <a:pt x="369" y="422"/>
                  </a:lnTo>
                  <a:lnTo>
                    <a:pt x="268" y="606"/>
                  </a:lnTo>
                  <a:lnTo>
                    <a:pt x="183" y="746"/>
                  </a:lnTo>
                  <a:lnTo>
                    <a:pt x="106" y="884"/>
                  </a:lnTo>
                  <a:lnTo>
                    <a:pt x="0" y="1060"/>
                  </a:lnTo>
                  <a:lnTo>
                    <a:pt x="77" y="1023"/>
                  </a:lnTo>
                  <a:lnTo>
                    <a:pt x="157" y="1062"/>
                  </a:lnTo>
                  <a:lnTo>
                    <a:pt x="146" y="1176"/>
                  </a:lnTo>
                  <a:lnTo>
                    <a:pt x="159" y="1262"/>
                  </a:lnTo>
                  <a:lnTo>
                    <a:pt x="159" y="1360"/>
                  </a:lnTo>
                  <a:lnTo>
                    <a:pt x="97" y="1389"/>
                  </a:lnTo>
                  <a:lnTo>
                    <a:pt x="49" y="1348"/>
                  </a:lnTo>
                  <a:lnTo>
                    <a:pt x="25" y="1389"/>
                  </a:lnTo>
                  <a:lnTo>
                    <a:pt x="27" y="1583"/>
                  </a:lnTo>
                  <a:lnTo>
                    <a:pt x="62" y="1598"/>
                  </a:lnTo>
                  <a:lnTo>
                    <a:pt x="111" y="1429"/>
                  </a:lnTo>
                  <a:lnTo>
                    <a:pt x="168" y="1436"/>
                  </a:lnTo>
                  <a:lnTo>
                    <a:pt x="168" y="1567"/>
                  </a:lnTo>
                  <a:lnTo>
                    <a:pt x="304" y="1145"/>
                  </a:lnTo>
                  <a:lnTo>
                    <a:pt x="319" y="1020"/>
                  </a:lnTo>
                  <a:lnTo>
                    <a:pt x="194" y="1130"/>
                  </a:lnTo>
                  <a:lnTo>
                    <a:pt x="176" y="1035"/>
                  </a:lnTo>
                  <a:lnTo>
                    <a:pt x="106" y="991"/>
                  </a:lnTo>
                  <a:lnTo>
                    <a:pt x="198" y="878"/>
                  </a:lnTo>
                  <a:lnTo>
                    <a:pt x="231" y="840"/>
                  </a:lnTo>
                  <a:lnTo>
                    <a:pt x="662" y="829"/>
                  </a:lnTo>
                  <a:lnTo>
                    <a:pt x="231" y="941"/>
                  </a:lnTo>
                  <a:lnTo>
                    <a:pt x="207" y="1011"/>
                  </a:lnTo>
                  <a:lnTo>
                    <a:pt x="434" y="977"/>
                  </a:lnTo>
                  <a:lnTo>
                    <a:pt x="355" y="1062"/>
                  </a:lnTo>
                  <a:lnTo>
                    <a:pt x="515" y="991"/>
                  </a:lnTo>
                  <a:lnTo>
                    <a:pt x="743" y="829"/>
                  </a:lnTo>
                  <a:lnTo>
                    <a:pt x="963" y="820"/>
                  </a:lnTo>
                  <a:lnTo>
                    <a:pt x="917" y="746"/>
                  </a:lnTo>
                  <a:lnTo>
                    <a:pt x="921" y="719"/>
                  </a:lnTo>
                  <a:lnTo>
                    <a:pt x="1053" y="680"/>
                  </a:lnTo>
                  <a:lnTo>
                    <a:pt x="978" y="636"/>
                  </a:lnTo>
                  <a:lnTo>
                    <a:pt x="985" y="574"/>
                  </a:lnTo>
                  <a:lnTo>
                    <a:pt x="1082" y="519"/>
                  </a:lnTo>
                  <a:lnTo>
                    <a:pt x="1038" y="465"/>
                  </a:lnTo>
                  <a:lnTo>
                    <a:pt x="1053" y="394"/>
                  </a:lnTo>
                  <a:lnTo>
                    <a:pt x="978" y="336"/>
                  </a:lnTo>
                  <a:lnTo>
                    <a:pt x="886" y="330"/>
                  </a:lnTo>
                  <a:lnTo>
                    <a:pt x="1014" y="284"/>
                  </a:lnTo>
                  <a:lnTo>
                    <a:pt x="1167" y="281"/>
                  </a:lnTo>
                  <a:lnTo>
                    <a:pt x="1093" y="233"/>
                  </a:lnTo>
                  <a:lnTo>
                    <a:pt x="1167" y="198"/>
                  </a:lnTo>
                  <a:lnTo>
                    <a:pt x="985" y="161"/>
                  </a:lnTo>
                  <a:lnTo>
                    <a:pt x="814" y="161"/>
                  </a:lnTo>
                  <a:lnTo>
                    <a:pt x="662" y="191"/>
                  </a:lnTo>
                  <a:lnTo>
                    <a:pt x="886" y="101"/>
                  </a:lnTo>
                  <a:lnTo>
                    <a:pt x="1110" y="41"/>
                  </a:lnTo>
                  <a:lnTo>
                    <a:pt x="1289" y="25"/>
                  </a:lnTo>
                  <a:lnTo>
                    <a:pt x="1547" y="25"/>
                  </a:lnTo>
                  <a:lnTo>
                    <a:pt x="1466" y="0"/>
                  </a:lnTo>
                  <a:lnTo>
                    <a:pt x="1185" y="0"/>
                  </a:lnTo>
                  <a:lnTo>
                    <a:pt x="10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934040" y="3800520"/>
              <a:ext cx="9360" cy="22320"/>
            </a:xfrm>
            <a:custGeom>
              <a:avLst/>
              <a:gdLst/>
              <a:ahLst/>
              <a:rect l="l" t="t" r="r" b="b"/>
              <a:pathLst>
                <a:path w="134" h="334">
                  <a:moveTo>
                    <a:pt x="132" y="6"/>
                  </a:moveTo>
                  <a:lnTo>
                    <a:pt x="134" y="68"/>
                  </a:lnTo>
                  <a:lnTo>
                    <a:pt x="86" y="112"/>
                  </a:lnTo>
                  <a:lnTo>
                    <a:pt x="49" y="195"/>
                  </a:lnTo>
                  <a:lnTo>
                    <a:pt x="37" y="273"/>
                  </a:lnTo>
                  <a:lnTo>
                    <a:pt x="17" y="334"/>
                  </a:lnTo>
                  <a:lnTo>
                    <a:pt x="0" y="329"/>
                  </a:lnTo>
                  <a:lnTo>
                    <a:pt x="3" y="218"/>
                  </a:lnTo>
                  <a:lnTo>
                    <a:pt x="28" y="128"/>
                  </a:lnTo>
                  <a:lnTo>
                    <a:pt x="63" y="36"/>
                  </a:lnTo>
                  <a:lnTo>
                    <a:pt x="99" y="0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929000" y="3799440"/>
              <a:ext cx="44280" cy="135000"/>
            </a:xfrm>
            <a:custGeom>
              <a:avLst/>
              <a:gdLst/>
              <a:ahLst/>
              <a:rect l="l" t="t" r="r" b="b"/>
              <a:pathLst>
                <a:path w="583" h="2024">
                  <a:moveTo>
                    <a:pt x="90" y="0"/>
                  </a:moveTo>
                  <a:lnTo>
                    <a:pt x="40" y="85"/>
                  </a:lnTo>
                  <a:lnTo>
                    <a:pt x="18" y="191"/>
                  </a:lnTo>
                  <a:lnTo>
                    <a:pt x="18" y="281"/>
                  </a:lnTo>
                  <a:lnTo>
                    <a:pt x="49" y="397"/>
                  </a:lnTo>
                  <a:lnTo>
                    <a:pt x="79" y="485"/>
                  </a:lnTo>
                  <a:lnTo>
                    <a:pt x="111" y="606"/>
                  </a:lnTo>
                  <a:lnTo>
                    <a:pt x="139" y="663"/>
                  </a:lnTo>
                  <a:lnTo>
                    <a:pt x="205" y="692"/>
                  </a:lnTo>
                  <a:lnTo>
                    <a:pt x="245" y="676"/>
                  </a:lnTo>
                  <a:lnTo>
                    <a:pt x="317" y="316"/>
                  </a:lnTo>
                  <a:lnTo>
                    <a:pt x="356" y="258"/>
                  </a:lnTo>
                  <a:lnTo>
                    <a:pt x="302" y="546"/>
                  </a:lnTo>
                  <a:lnTo>
                    <a:pt x="211" y="1001"/>
                  </a:lnTo>
                  <a:lnTo>
                    <a:pt x="211" y="1093"/>
                  </a:lnTo>
                  <a:lnTo>
                    <a:pt x="356" y="1549"/>
                  </a:lnTo>
                  <a:lnTo>
                    <a:pt x="583" y="1823"/>
                  </a:lnTo>
                  <a:lnTo>
                    <a:pt x="489" y="1793"/>
                  </a:lnTo>
                  <a:lnTo>
                    <a:pt x="317" y="1570"/>
                  </a:lnTo>
                  <a:lnTo>
                    <a:pt x="220" y="1390"/>
                  </a:lnTo>
                  <a:lnTo>
                    <a:pt x="293" y="1803"/>
                  </a:lnTo>
                  <a:lnTo>
                    <a:pt x="471" y="2024"/>
                  </a:lnTo>
                  <a:lnTo>
                    <a:pt x="245" y="1768"/>
                  </a:lnTo>
                  <a:lnTo>
                    <a:pt x="194" y="1616"/>
                  </a:lnTo>
                  <a:lnTo>
                    <a:pt x="172" y="1441"/>
                  </a:lnTo>
                  <a:lnTo>
                    <a:pt x="183" y="1282"/>
                  </a:lnTo>
                  <a:lnTo>
                    <a:pt x="159" y="1231"/>
                  </a:lnTo>
                  <a:lnTo>
                    <a:pt x="139" y="1129"/>
                  </a:lnTo>
                  <a:lnTo>
                    <a:pt x="161" y="1015"/>
                  </a:lnTo>
                  <a:lnTo>
                    <a:pt x="205" y="738"/>
                  </a:lnTo>
                  <a:lnTo>
                    <a:pt x="134" y="692"/>
                  </a:lnTo>
                  <a:lnTo>
                    <a:pt x="79" y="627"/>
                  </a:lnTo>
                  <a:lnTo>
                    <a:pt x="62" y="477"/>
                  </a:lnTo>
                  <a:lnTo>
                    <a:pt x="0" y="300"/>
                  </a:lnTo>
                  <a:lnTo>
                    <a:pt x="0" y="201"/>
                  </a:lnTo>
                  <a:lnTo>
                    <a:pt x="38" y="8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961400" y="3852360"/>
              <a:ext cx="126360" cy="99360"/>
            </a:xfrm>
            <a:custGeom>
              <a:avLst/>
              <a:gdLst/>
              <a:ahLst/>
              <a:rect l="l" t="t" r="r" b="b"/>
              <a:pathLst>
                <a:path w="1657" h="1485">
                  <a:moveTo>
                    <a:pt x="272" y="727"/>
                  </a:moveTo>
                  <a:lnTo>
                    <a:pt x="244" y="745"/>
                  </a:lnTo>
                  <a:lnTo>
                    <a:pt x="351" y="844"/>
                  </a:lnTo>
                  <a:lnTo>
                    <a:pt x="300" y="929"/>
                  </a:lnTo>
                  <a:lnTo>
                    <a:pt x="198" y="1000"/>
                  </a:lnTo>
                  <a:lnTo>
                    <a:pt x="62" y="1000"/>
                  </a:lnTo>
                  <a:lnTo>
                    <a:pt x="129" y="1077"/>
                  </a:lnTo>
                  <a:lnTo>
                    <a:pt x="292" y="1192"/>
                  </a:lnTo>
                  <a:lnTo>
                    <a:pt x="156" y="1226"/>
                  </a:lnTo>
                  <a:lnTo>
                    <a:pt x="0" y="1171"/>
                  </a:lnTo>
                  <a:lnTo>
                    <a:pt x="132" y="1321"/>
                  </a:lnTo>
                  <a:lnTo>
                    <a:pt x="277" y="1485"/>
                  </a:lnTo>
                  <a:lnTo>
                    <a:pt x="438" y="1485"/>
                  </a:lnTo>
                  <a:lnTo>
                    <a:pt x="634" y="1402"/>
                  </a:lnTo>
                  <a:lnTo>
                    <a:pt x="767" y="1272"/>
                  </a:lnTo>
                  <a:lnTo>
                    <a:pt x="670" y="1303"/>
                  </a:lnTo>
                  <a:lnTo>
                    <a:pt x="560" y="1206"/>
                  </a:lnTo>
                  <a:lnTo>
                    <a:pt x="731" y="1182"/>
                  </a:lnTo>
                  <a:lnTo>
                    <a:pt x="892" y="1125"/>
                  </a:lnTo>
                  <a:lnTo>
                    <a:pt x="835" y="1226"/>
                  </a:lnTo>
                  <a:lnTo>
                    <a:pt x="996" y="1116"/>
                  </a:lnTo>
                  <a:lnTo>
                    <a:pt x="1028" y="1070"/>
                  </a:lnTo>
                  <a:lnTo>
                    <a:pt x="1162" y="975"/>
                  </a:lnTo>
                  <a:lnTo>
                    <a:pt x="1215" y="874"/>
                  </a:lnTo>
                  <a:lnTo>
                    <a:pt x="1637" y="134"/>
                  </a:lnTo>
                  <a:lnTo>
                    <a:pt x="1657" y="0"/>
                  </a:lnTo>
                  <a:lnTo>
                    <a:pt x="1162" y="922"/>
                  </a:lnTo>
                  <a:lnTo>
                    <a:pt x="1070" y="984"/>
                  </a:lnTo>
                  <a:lnTo>
                    <a:pt x="920" y="1019"/>
                  </a:lnTo>
                  <a:lnTo>
                    <a:pt x="846" y="1109"/>
                  </a:lnTo>
                  <a:lnTo>
                    <a:pt x="721" y="1141"/>
                  </a:lnTo>
                  <a:lnTo>
                    <a:pt x="634" y="1125"/>
                  </a:lnTo>
                  <a:lnTo>
                    <a:pt x="593" y="1077"/>
                  </a:lnTo>
                  <a:lnTo>
                    <a:pt x="560" y="975"/>
                  </a:lnTo>
                  <a:lnTo>
                    <a:pt x="549" y="890"/>
                  </a:lnTo>
                  <a:lnTo>
                    <a:pt x="650" y="855"/>
                  </a:lnTo>
                  <a:lnTo>
                    <a:pt x="634" y="835"/>
                  </a:lnTo>
                  <a:lnTo>
                    <a:pt x="525" y="844"/>
                  </a:lnTo>
                  <a:lnTo>
                    <a:pt x="394" y="800"/>
                  </a:lnTo>
                  <a:lnTo>
                    <a:pt x="303" y="745"/>
                  </a:lnTo>
                  <a:lnTo>
                    <a:pt x="272" y="7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962120" y="3883320"/>
              <a:ext cx="71280" cy="28800"/>
            </a:xfrm>
            <a:custGeom>
              <a:avLst/>
              <a:gdLst/>
              <a:ahLst/>
              <a:rect l="l" t="t" r="r" b="b"/>
              <a:pathLst>
                <a:path w="934" h="431">
                  <a:moveTo>
                    <a:pt x="152" y="83"/>
                  </a:moveTo>
                  <a:lnTo>
                    <a:pt x="152" y="0"/>
                  </a:lnTo>
                  <a:lnTo>
                    <a:pt x="77" y="0"/>
                  </a:lnTo>
                  <a:lnTo>
                    <a:pt x="0" y="64"/>
                  </a:lnTo>
                  <a:lnTo>
                    <a:pt x="33" y="219"/>
                  </a:lnTo>
                  <a:lnTo>
                    <a:pt x="152" y="114"/>
                  </a:lnTo>
                  <a:lnTo>
                    <a:pt x="418" y="205"/>
                  </a:lnTo>
                  <a:lnTo>
                    <a:pt x="485" y="259"/>
                  </a:lnTo>
                  <a:lnTo>
                    <a:pt x="611" y="259"/>
                  </a:lnTo>
                  <a:lnTo>
                    <a:pt x="844" y="316"/>
                  </a:lnTo>
                  <a:lnTo>
                    <a:pt x="842" y="387"/>
                  </a:lnTo>
                  <a:lnTo>
                    <a:pt x="888" y="431"/>
                  </a:lnTo>
                  <a:lnTo>
                    <a:pt x="934" y="367"/>
                  </a:lnTo>
                  <a:lnTo>
                    <a:pt x="881" y="254"/>
                  </a:lnTo>
                  <a:lnTo>
                    <a:pt x="844" y="265"/>
                  </a:lnTo>
                  <a:lnTo>
                    <a:pt x="620" y="219"/>
                  </a:lnTo>
                  <a:lnTo>
                    <a:pt x="521" y="228"/>
                  </a:lnTo>
                  <a:lnTo>
                    <a:pt x="482" y="171"/>
                  </a:lnTo>
                  <a:lnTo>
                    <a:pt x="194" y="99"/>
                  </a:lnTo>
                  <a:lnTo>
                    <a:pt x="15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990200" y="3864600"/>
              <a:ext cx="36000" cy="31320"/>
            </a:xfrm>
            <a:custGeom>
              <a:avLst/>
              <a:gdLst/>
              <a:ahLst/>
              <a:rect l="l" t="t" r="r" b="b"/>
              <a:pathLst>
                <a:path w="472" h="465">
                  <a:moveTo>
                    <a:pt x="28" y="113"/>
                  </a:moveTo>
                  <a:lnTo>
                    <a:pt x="64" y="96"/>
                  </a:lnTo>
                  <a:lnTo>
                    <a:pt x="154" y="195"/>
                  </a:lnTo>
                  <a:lnTo>
                    <a:pt x="248" y="206"/>
                  </a:lnTo>
                  <a:lnTo>
                    <a:pt x="302" y="159"/>
                  </a:lnTo>
                  <a:lnTo>
                    <a:pt x="309" y="0"/>
                  </a:lnTo>
                  <a:lnTo>
                    <a:pt x="345" y="168"/>
                  </a:lnTo>
                  <a:lnTo>
                    <a:pt x="391" y="242"/>
                  </a:lnTo>
                  <a:lnTo>
                    <a:pt x="472" y="242"/>
                  </a:lnTo>
                  <a:lnTo>
                    <a:pt x="470" y="263"/>
                  </a:lnTo>
                  <a:lnTo>
                    <a:pt x="345" y="270"/>
                  </a:lnTo>
                  <a:lnTo>
                    <a:pt x="224" y="292"/>
                  </a:lnTo>
                  <a:lnTo>
                    <a:pt x="217" y="410"/>
                  </a:lnTo>
                  <a:lnTo>
                    <a:pt x="154" y="401"/>
                  </a:lnTo>
                  <a:lnTo>
                    <a:pt x="149" y="465"/>
                  </a:lnTo>
                  <a:lnTo>
                    <a:pt x="110" y="391"/>
                  </a:lnTo>
                  <a:lnTo>
                    <a:pt x="173" y="270"/>
                  </a:lnTo>
                  <a:lnTo>
                    <a:pt x="92" y="175"/>
                  </a:lnTo>
                  <a:lnTo>
                    <a:pt x="11" y="175"/>
                  </a:lnTo>
                  <a:lnTo>
                    <a:pt x="0" y="145"/>
                  </a:lnTo>
                  <a:lnTo>
                    <a:pt x="2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013960" y="3835440"/>
              <a:ext cx="70200" cy="42480"/>
            </a:xfrm>
            <a:custGeom>
              <a:avLst/>
              <a:gdLst/>
              <a:ahLst/>
              <a:rect l="l" t="t" r="r" b="b"/>
              <a:pathLst>
                <a:path w="924" h="640">
                  <a:moveTo>
                    <a:pt x="36" y="71"/>
                  </a:moveTo>
                  <a:lnTo>
                    <a:pt x="92" y="92"/>
                  </a:lnTo>
                  <a:lnTo>
                    <a:pt x="75" y="177"/>
                  </a:lnTo>
                  <a:lnTo>
                    <a:pt x="29" y="334"/>
                  </a:lnTo>
                  <a:lnTo>
                    <a:pt x="0" y="517"/>
                  </a:lnTo>
                  <a:lnTo>
                    <a:pt x="25" y="613"/>
                  </a:lnTo>
                  <a:lnTo>
                    <a:pt x="42" y="431"/>
                  </a:lnTo>
                  <a:lnTo>
                    <a:pt x="92" y="304"/>
                  </a:lnTo>
                  <a:lnTo>
                    <a:pt x="132" y="517"/>
                  </a:lnTo>
                  <a:lnTo>
                    <a:pt x="128" y="594"/>
                  </a:lnTo>
                  <a:lnTo>
                    <a:pt x="178" y="535"/>
                  </a:lnTo>
                  <a:lnTo>
                    <a:pt x="477" y="640"/>
                  </a:lnTo>
                  <a:lnTo>
                    <a:pt x="601" y="620"/>
                  </a:lnTo>
                  <a:lnTo>
                    <a:pt x="694" y="565"/>
                  </a:lnTo>
                  <a:lnTo>
                    <a:pt x="756" y="480"/>
                  </a:lnTo>
                  <a:lnTo>
                    <a:pt x="811" y="408"/>
                  </a:lnTo>
                  <a:lnTo>
                    <a:pt x="680" y="565"/>
                  </a:lnTo>
                  <a:lnTo>
                    <a:pt x="601" y="594"/>
                  </a:lnTo>
                  <a:lnTo>
                    <a:pt x="500" y="604"/>
                  </a:lnTo>
                  <a:lnTo>
                    <a:pt x="424" y="594"/>
                  </a:lnTo>
                  <a:lnTo>
                    <a:pt x="334" y="558"/>
                  </a:lnTo>
                  <a:lnTo>
                    <a:pt x="246" y="466"/>
                  </a:lnTo>
                  <a:lnTo>
                    <a:pt x="253" y="359"/>
                  </a:lnTo>
                  <a:lnTo>
                    <a:pt x="394" y="480"/>
                  </a:lnTo>
                  <a:lnTo>
                    <a:pt x="420" y="414"/>
                  </a:lnTo>
                  <a:lnTo>
                    <a:pt x="299" y="238"/>
                  </a:lnTo>
                  <a:lnTo>
                    <a:pt x="299" y="141"/>
                  </a:lnTo>
                  <a:lnTo>
                    <a:pt x="429" y="133"/>
                  </a:lnTo>
                  <a:lnTo>
                    <a:pt x="477" y="157"/>
                  </a:lnTo>
                  <a:lnTo>
                    <a:pt x="429" y="258"/>
                  </a:lnTo>
                  <a:lnTo>
                    <a:pt x="530" y="293"/>
                  </a:lnTo>
                  <a:lnTo>
                    <a:pt x="659" y="293"/>
                  </a:lnTo>
                  <a:lnTo>
                    <a:pt x="671" y="271"/>
                  </a:lnTo>
                  <a:lnTo>
                    <a:pt x="552" y="141"/>
                  </a:lnTo>
                  <a:lnTo>
                    <a:pt x="694" y="166"/>
                  </a:lnTo>
                  <a:lnTo>
                    <a:pt x="842" y="238"/>
                  </a:lnTo>
                  <a:lnTo>
                    <a:pt x="827" y="348"/>
                  </a:lnTo>
                  <a:lnTo>
                    <a:pt x="866" y="286"/>
                  </a:lnTo>
                  <a:lnTo>
                    <a:pt x="912" y="274"/>
                  </a:lnTo>
                  <a:lnTo>
                    <a:pt x="924" y="223"/>
                  </a:lnTo>
                  <a:lnTo>
                    <a:pt x="650" y="104"/>
                  </a:lnTo>
                  <a:lnTo>
                    <a:pt x="585" y="36"/>
                  </a:lnTo>
                  <a:lnTo>
                    <a:pt x="369" y="0"/>
                  </a:lnTo>
                  <a:lnTo>
                    <a:pt x="223" y="5"/>
                  </a:lnTo>
                  <a:lnTo>
                    <a:pt x="189" y="58"/>
                  </a:lnTo>
                  <a:lnTo>
                    <a:pt x="46" y="11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039880" y="3843720"/>
              <a:ext cx="4680" cy="61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0" y="0"/>
                  </a:moveTo>
                  <a:lnTo>
                    <a:pt x="18" y="90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960680" y="3813480"/>
              <a:ext cx="58320" cy="21600"/>
            </a:xfrm>
            <a:custGeom>
              <a:avLst/>
              <a:gdLst/>
              <a:ahLst/>
              <a:rect l="l" t="t" r="r" b="b"/>
              <a:pathLst>
                <a:path w="774" h="328">
                  <a:moveTo>
                    <a:pt x="759" y="328"/>
                  </a:moveTo>
                  <a:lnTo>
                    <a:pt x="774" y="293"/>
                  </a:lnTo>
                  <a:lnTo>
                    <a:pt x="678" y="185"/>
                  </a:lnTo>
                  <a:lnTo>
                    <a:pt x="443" y="46"/>
                  </a:lnTo>
                  <a:lnTo>
                    <a:pt x="270" y="64"/>
                  </a:lnTo>
                  <a:lnTo>
                    <a:pt x="173" y="2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51" y="64"/>
                  </a:lnTo>
                  <a:lnTo>
                    <a:pt x="245" y="104"/>
                  </a:lnTo>
                  <a:lnTo>
                    <a:pt x="337" y="127"/>
                  </a:lnTo>
                  <a:lnTo>
                    <a:pt x="452" y="134"/>
                  </a:lnTo>
                  <a:lnTo>
                    <a:pt x="607" y="219"/>
                  </a:lnTo>
                  <a:lnTo>
                    <a:pt x="706" y="300"/>
                  </a:lnTo>
                  <a:lnTo>
                    <a:pt x="735" y="328"/>
                  </a:lnTo>
                  <a:lnTo>
                    <a:pt x="75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957800" y="3816720"/>
              <a:ext cx="61560" cy="43560"/>
            </a:xfrm>
            <a:custGeom>
              <a:avLst/>
              <a:gdLst/>
              <a:ahLst/>
              <a:rect l="l" t="t" r="r" b="b"/>
              <a:pathLst>
                <a:path w="807" h="655">
                  <a:moveTo>
                    <a:pt x="132" y="32"/>
                  </a:moveTo>
                  <a:lnTo>
                    <a:pt x="88" y="93"/>
                  </a:lnTo>
                  <a:lnTo>
                    <a:pt x="51" y="227"/>
                  </a:lnTo>
                  <a:lnTo>
                    <a:pt x="37" y="359"/>
                  </a:lnTo>
                  <a:lnTo>
                    <a:pt x="77" y="466"/>
                  </a:lnTo>
                  <a:lnTo>
                    <a:pt x="132" y="535"/>
                  </a:lnTo>
                  <a:lnTo>
                    <a:pt x="249" y="595"/>
                  </a:lnTo>
                  <a:lnTo>
                    <a:pt x="383" y="634"/>
                  </a:lnTo>
                  <a:lnTo>
                    <a:pt x="501" y="625"/>
                  </a:lnTo>
                  <a:lnTo>
                    <a:pt x="581" y="595"/>
                  </a:lnTo>
                  <a:lnTo>
                    <a:pt x="651" y="551"/>
                  </a:lnTo>
                  <a:lnTo>
                    <a:pt x="708" y="480"/>
                  </a:lnTo>
                  <a:lnTo>
                    <a:pt x="761" y="392"/>
                  </a:lnTo>
                  <a:lnTo>
                    <a:pt x="409" y="480"/>
                  </a:lnTo>
                  <a:lnTo>
                    <a:pt x="480" y="381"/>
                  </a:lnTo>
                  <a:lnTo>
                    <a:pt x="576" y="359"/>
                  </a:lnTo>
                  <a:lnTo>
                    <a:pt x="736" y="359"/>
                  </a:lnTo>
                  <a:lnTo>
                    <a:pt x="807" y="288"/>
                  </a:lnTo>
                  <a:lnTo>
                    <a:pt x="807" y="359"/>
                  </a:lnTo>
                  <a:lnTo>
                    <a:pt x="708" y="530"/>
                  </a:lnTo>
                  <a:lnTo>
                    <a:pt x="611" y="611"/>
                  </a:lnTo>
                  <a:lnTo>
                    <a:pt x="491" y="636"/>
                  </a:lnTo>
                  <a:lnTo>
                    <a:pt x="383" y="655"/>
                  </a:lnTo>
                  <a:lnTo>
                    <a:pt x="222" y="611"/>
                  </a:lnTo>
                  <a:lnTo>
                    <a:pt x="88" y="530"/>
                  </a:lnTo>
                  <a:lnTo>
                    <a:pt x="26" y="434"/>
                  </a:lnTo>
                  <a:lnTo>
                    <a:pt x="0" y="282"/>
                  </a:lnTo>
                  <a:lnTo>
                    <a:pt x="26" y="117"/>
                  </a:lnTo>
                  <a:lnTo>
                    <a:pt x="95" y="0"/>
                  </a:lnTo>
                  <a:lnTo>
                    <a:pt x="1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978680" y="3825000"/>
              <a:ext cx="31680" cy="12600"/>
            </a:xfrm>
            <a:custGeom>
              <a:avLst/>
              <a:gdLst/>
              <a:ahLst/>
              <a:rect l="l" t="t" r="r" b="b"/>
              <a:pathLst>
                <a:path w="412" h="189">
                  <a:moveTo>
                    <a:pt x="15" y="110"/>
                  </a:moveTo>
                  <a:lnTo>
                    <a:pt x="0" y="50"/>
                  </a:lnTo>
                  <a:lnTo>
                    <a:pt x="34" y="0"/>
                  </a:lnTo>
                  <a:lnTo>
                    <a:pt x="207" y="0"/>
                  </a:lnTo>
                  <a:lnTo>
                    <a:pt x="393" y="99"/>
                  </a:lnTo>
                  <a:lnTo>
                    <a:pt x="412" y="160"/>
                  </a:lnTo>
                  <a:lnTo>
                    <a:pt x="378" y="189"/>
                  </a:lnTo>
                  <a:lnTo>
                    <a:pt x="165" y="185"/>
                  </a:lnTo>
                  <a:lnTo>
                    <a:pt x="200" y="154"/>
                  </a:lnTo>
                  <a:lnTo>
                    <a:pt x="154" y="119"/>
                  </a:lnTo>
                  <a:lnTo>
                    <a:pt x="165" y="84"/>
                  </a:lnTo>
                  <a:lnTo>
                    <a:pt x="200" y="84"/>
                  </a:lnTo>
                  <a:lnTo>
                    <a:pt x="165" y="50"/>
                  </a:lnTo>
                  <a:lnTo>
                    <a:pt x="55" y="68"/>
                  </a:lnTo>
                  <a:lnTo>
                    <a:pt x="1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071560" y="3850200"/>
              <a:ext cx="28440" cy="33840"/>
            </a:xfrm>
            <a:custGeom>
              <a:avLst/>
              <a:gdLst/>
              <a:ahLst/>
              <a:rect l="l" t="t" r="r" b="b"/>
              <a:pathLst>
                <a:path w="374" h="514">
                  <a:moveTo>
                    <a:pt x="0" y="492"/>
                  </a:moveTo>
                  <a:lnTo>
                    <a:pt x="64" y="514"/>
                  </a:lnTo>
                  <a:lnTo>
                    <a:pt x="136" y="485"/>
                  </a:lnTo>
                  <a:lnTo>
                    <a:pt x="231" y="371"/>
                  </a:lnTo>
                  <a:lnTo>
                    <a:pt x="297" y="243"/>
                  </a:lnTo>
                  <a:lnTo>
                    <a:pt x="369" y="95"/>
                  </a:lnTo>
                  <a:lnTo>
                    <a:pt x="374" y="12"/>
                  </a:lnTo>
                  <a:lnTo>
                    <a:pt x="359" y="0"/>
                  </a:lnTo>
                  <a:lnTo>
                    <a:pt x="334" y="100"/>
                  </a:lnTo>
                  <a:lnTo>
                    <a:pt x="255" y="277"/>
                  </a:lnTo>
                  <a:lnTo>
                    <a:pt x="168" y="426"/>
                  </a:lnTo>
                  <a:lnTo>
                    <a:pt x="110" y="452"/>
                  </a:lnTo>
                  <a:lnTo>
                    <a:pt x="64" y="381"/>
                  </a:lnTo>
                  <a:lnTo>
                    <a:pt x="0" y="452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084880" y="3854520"/>
              <a:ext cx="6480" cy="15480"/>
            </a:xfrm>
            <a:custGeom>
              <a:avLst/>
              <a:gdLst/>
              <a:ahLst/>
              <a:rect l="l" t="t" r="r" b="b"/>
              <a:pathLst>
                <a:path w="85" h="233">
                  <a:moveTo>
                    <a:pt x="0" y="134"/>
                  </a:moveTo>
                  <a:lnTo>
                    <a:pt x="14" y="233"/>
                  </a:lnTo>
                  <a:lnTo>
                    <a:pt x="85" y="122"/>
                  </a:lnTo>
                  <a:lnTo>
                    <a:pt x="82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956000" y="3807360"/>
              <a:ext cx="7200" cy="20520"/>
            </a:xfrm>
            <a:custGeom>
              <a:avLst/>
              <a:gdLst/>
              <a:ahLst/>
              <a:rect l="l" t="t" r="r" b="b"/>
              <a:pathLst>
                <a:path w="103" h="311">
                  <a:moveTo>
                    <a:pt x="103" y="180"/>
                  </a:moveTo>
                  <a:lnTo>
                    <a:pt x="33" y="0"/>
                  </a:lnTo>
                  <a:lnTo>
                    <a:pt x="0" y="57"/>
                  </a:lnTo>
                  <a:lnTo>
                    <a:pt x="52" y="311"/>
                  </a:lnTo>
                  <a:lnTo>
                    <a:pt x="103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076960" y="3850200"/>
              <a:ext cx="17640" cy="9360"/>
            </a:xfrm>
            <a:custGeom>
              <a:avLst/>
              <a:gdLst/>
              <a:ahLst/>
              <a:rect l="l" t="t" r="r" b="b"/>
              <a:pathLst>
                <a:path w="231" h="149">
                  <a:moveTo>
                    <a:pt x="51" y="51"/>
                  </a:moveTo>
                  <a:lnTo>
                    <a:pt x="231" y="0"/>
                  </a:lnTo>
                  <a:lnTo>
                    <a:pt x="222" y="35"/>
                  </a:lnTo>
                  <a:lnTo>
                    <a:pt x="0" y="149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025480" y="3876480"/>
              <a:ext cx="12240" cy="25920"/>
            </a:xfrm>
            <a:custGeom>
              <a:avLst/>
              <a:gdLst/>
              <a:ahLst/>
              <a:rect l="l" t="t" r="r" b="b"/>
              <a:pathLst>
                <a:path w="161" h="392">
                  <a:moveTo>
                    <a:pt x="0" y="76"/>
                  </a:moveTo>
                  <a:lnTo>
                    <a:pt x="13" y="0"/>
                  </a:lnTo>
                  <a:lnTo>
                    <a:pt x="161" y="216"/>
                  </a:lnTo>
                  <a:lnTo>
                    <a:pt x="117" y="392"/>
                  </a:lnTo>
                  <a:lnTo>
                    <a:pt x="57" y="277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962480" y="3866400"/>
              <a:ext cx="28440" cy="16920"/>
            </a:xfrm>
            <a:custGeom>
              <a:avLst/>
              <a:gdLst/>
              <a:ahLst/>
              <a:rect l="l" t="t" r="r" b="b"/>
              <a:pathLst>
                <a:path w="376" h="258">
                  <a:moveTo>
                    <a:pt x="376" y="0"/>
                  </a:moveTo>
                  <a:lnTo>
                    <a:pt x="257" y="159"/>
                  </a:lnTo>
                  <a:lnTo>
                    <a:pt x="83" y="207"/>
                  </a:lnTo>
                  <a:lnTo>
                    <a:pt x="0" y="258"/>
                  </a:lnTo>
                  <a:lnTo>
                    <a:pt x="145" y="85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758000" y="3876480"/>
              <a:ext cx="177120" cy="106200"/>
            </a:xfrm>
            <a:custGeom>
              <a:avLst/>
              <a:gdLst/>
              <a:ahLst/>
              <a:rect l="l" t="t" r="r" b="b"/>
              <a:pathLst>
                <a:path w="2322" h="1591">
                  <a:moveTo>
                    <a:pt x="337" y="1464"/>
                  </a:moveTo>
                  <a:lnTo>
                    <a:pt x="92" y="1187"/>
                  </a:lnTo>
                  <a:lnTo>
                    <a:pt x="16" y="929"/>
                  </a:lnTo>
                  <a:lnTo>
                    <a:pt x="0" y="784"/>
                  </a:lnTo>
                  <a:lnTo>
                    <a:pt x="142" y="613"/>
                  </a:lnTo>
                  <a:lnTo>
                    <a:pt x="491" y="447"/>
                  </a:lnTo>
                  <a:lnTo>
                    <a:pt x="1063" y="251"/>
                  </a:lnTo>
                  <a:lnTo>
                    <a:pt x="1584" y="157"/>
                  </a:lnTo>
                  <a:lnTo>
                    <a:pt x="2021" y="117"/>
                  </a:lnTo>
                  <a:lnTo>
                    <a:pt x="2322" y="0"/>
                  </a:lnTo>
                  <a:lnTo>
                    <a:pt x="2166" y="117"/>
                  </a:lnTo>
                  <a:lnTo>
                    <a:pt x="2036" y="297"/>
                  </a:lnTo>
                  <a:lnTo>
                    <a:pt x="1975" y="583"/>
                  </a:lnTo>
                  <a:lnTo>
                    <a:pt x="1959" y="807"/>
                  </a:lnTo>
                  <a:lnTo>
                    <a:pt x="1959" y="1099"/>
                  </a:lnTo>
                  <a:lnTo>
                    <a:pt x="1944" y="1307"/>
                  </a:lnTo>
                  <a:lnTo>
                    <a:pt x="1849" y="1591"/>
                  </a:lnTo>
                  <a:lnTo>
                    <a:pt x="1819" y="1561"/>
                  </a:lnTo>
                  <a:lnTo>
                    <a:pt x="1898" y="1337"/>
                  </a:lnTo>
                  <a:lnTo>
                    <a:pt x="1929" y="1136"/>
                  </a:lnTo>
                  <a:lnTo>
                    <a:pt x="1929" y="807"/>
                  </a:lnTo>
                  <a:lnTo>
                    <a:pt x="1944" y="508"/>
                  </a:lnTo>
                  <a:lnTo>
                    <a:pt x="1863" y="383"/>
                  </a:lnTo>
                  <a:lnTo>
                    <a:pt x="1692" y="297"/>
                  </a:lnTo>
                  <a:lnTo>
                    <a:pt x="1439" y="251"/>
                  </a:lnTo>
                  <a:lnTo>
                    <a:pt x="1263" y="238"/>
                  </a:lnTo>
                  <a:lnTo>
                    <a:pt x="1074" y="266"/>
                  </a:lnTo>
                  <a:lnTo>
                    <a:pt x="474" y="457"/>
                  </a:lnTo>
                  <a:lnTo>
                    <a:pt x="127" y="688"/>
                  </a:lnTo>
                  <a:lnTo>
                    <a:pt x="81" y="869"/>
                  </a:lnTo>
                  <a:lnTo>
                    <a:pt x="81" y="1040"/>
                  </a:lnTo>
                  <a:lnTo>
                    <a:pt x="142" y="1211"/>
                  </a:lnTo>
                  <a:lnTo>
                    <a:pt x="337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747920" y="3945240"/>
              <a:ext cx="214920" cy="275400"/>
            </a:xfrm>
            <a:custGeom>
              <a:avLst/>
              <a:gdLst/>
              <a:ahLst/>
              <a:rect l="l" t="t" r="r" b="b"/>
              <a:pathLst>
                <a:path w="2817" h="4129">
                  <a:moveTo>
                    <a:pt x="61" y="0"/>
                  </a:moveTo>
                  <a:lnTo>
                    <a:pt x="79" y="122"/>
                  </a:lnTo>
                  <a:lnTo>
                    <a:pt x="156" y="299"/>
                  </a:lnTo>
                  <a:lnTo>
                    <a:pt x="285" y="470"/>
                  </a:lnTo>
                  <a:lnTo>
                    <a:pt x="470" y="662"/>
                  </a:lnTo>
                  <a:lnTo>
                    <a:pt x="802" y="910"/>
                  </a:lnTo>
                  <a:lnTo>
                    <a:pt x="1350" y="1369"/>
                  </a:lnTo>
                  <a:lnTo>
                    <a:pt x="1138" y="829"/>
                  </a:lnTo>
                  <a:lnTo>
                    <a:pt x="1454" y="1305"/>
                  </a:lnTo>
                  <a:lnTo>
                    <a:pt x="1677" y="1664"/>
                  </a:lnTo>
                  <a:lnTo>
                    <a:pt x="1868" y="1950"/>
                  </a:lnTo>
                  <a:lnTo>
                    <a:pt x="2037" y="2215"/>
                  </a:lnTo>
                  <a:lnTo>
                    <a:pt x="2180" y="2361"/>
                  </a:lnTo>
                  <a:lnTo>
                    <a:pt x="2475" y="2672"/>
                  </a:lnTo>
                  <a:lnTo>
                    <a:pt x="2242" y="2056"/>
                  </a:lnTo>
                  <a:lnTo>
                    <a:pt x="2009" y="1492"/>
                  </a:lnTo>
                  <a:lnTo>
                    <a:pt x="1772" y="959"/>
                  </a:lnTo>
                  <a:lnTo>
                    <a:pt x="1624" y="583"/>
                  </a:lnTo>
                  <a:lnTo>
                    <a:pt x="1595" y="470"/>
                  </a:lnTo>
                  <a:lnTo>
                    <a:pt x="1646" y="427"/>
                  </a:lnTo>
                  <a:lnTo>
                    <a:pt x="1989" y="535"/>
                  </a:lnTo>
                  <a:lnTo>
                    <a:pt x="2307" y="726"/>
                  </a:lnTo>
                  <a:lnTo>
                    <a:pt x="2463" y="851"/>
                  </a:lnTo>
                  <a:lnTo>
                    <a:pt x="2162" y="669"/>
                  </a:lnTo>
                  <a:lnTo>
                    <a:pt x="1835" y="548"/>
                  </a:lnTo>
                  <a:lnTo>
                    <a:pt x="1657" y="486"/>
                  </a:lnTo>
                  <a:lnTo>
                    <a:pt x="2009" y="1291"/>
                  </a:lnTo>
                  <a:lnTo>
                    <a:pt x="2364" y="2150"/>
                  </a:lnTo>
                  <a:lnTo>
                    <a:pt x="2635" y="2879"/>
                  </a:lnTo>
                  <a:lnTo>
                    <a:pt x="2817" y="3350"/>
                  </a:lnTo>
                  <a:lnTo>
                    <a:pt x="2560" y="3350"/>
                  </a:lnTo>
                  <a:lnTo>
                    <a:pt x="2261" y="3534"/>
                  </a:lnTo>
                  <a:lnTo>
                    <a:pt x="2055" y="3758"/>
                  </a:lnTo>
                  <a:lnTo>
                    <a:pt x="1989" y="3930"/>
                  </a:lnTo>
                  <a:lnTo>
                    <a:pt x="1945" y="4129"/>
                  </a:lnTo>
                  <a:lnTo>
                    <a:pt x="1945" y="3899"/>
                  </a:lnTo>
                  <a:lnTo>
                    <a:pt x="2009" y="3695"/>
                  </a:lnTo>
                  <a:lnTo>
                    <a:pt x="2147" y="3559"/>
                  </a:lnTo>
                  <a:lnTo>
                    <a:pt x="2429" y="3332"/>
                  </a:lnTo>
                  <a:lnTo>
                    <a:pt x="2136" y="3255"/>
                  </a:lnTo>
                  <a:lnTo>
                    <a:pt x="2085" y="3317"/>
                  </a:lnTo>
                  <a:lnTo>
                    <a:pt x="2009" y="3271"/>
                  </a:lnTo>
                  <a:lnTo>
                    <a:pt x="1989" y="3064"/>
                  </a:lnTo>
                  <a:lnTo>
                    <a:pt x="1835" y="3015"/>
                  </a:lnTo>
                  <a:lnTo>
                    <a:pt x="1200" y="3368"/>
                  </a:lnTo>
                  <a:lnTo>
                    <a:pt x="1138" y="3633"/>
                  </a:lnTo>
                  <a:lnTo>
                    <a:pt x="1565" y="3396"/>
                  </a:lnTo>
                  <a:lnTo>
                    <a:pt x="1090" y="3695"/>
                  </a:lnTo>
                  <a:lnTo>
                    <a:pt x="912" y="3899"/>
                  </a:lnTo>
                  <a:lnTo>
                    <a:pt x="1009" y="3984"/>
                  </a:lnTo>
                  <a:lnTo>
                    <a:pt x="1406" y="3608"/>
                  </a:lnTo>
                  <a:lnTo>
                    <a:pt x="1360" y="3804"/>
                  </a:lnTo>
                  <a:lnTo>
                    <a:pt x="1565" y="4071"/>
                  </a:lnTo>
                  <a:lnTo>
                    <a:pt x="936" y="4044"/>
                  </a:lnTo>
                  <a:lnTo>
                    <a:pt x="741" y="3949"/>
                  </a:lnTo>
                  <a:lnTo>
                    <a:pt x="600" y="3984"/>
                  </a:lnTo>
                  <a:lnTo>
                    <a:pt x="218" y="3758"/>
                  </a:lnTo>
                  <a:lnTo>
                    <a:pt x="33" y="3462"/>
                  </a:lnTo>
                  <a:lnTo>
                    <a:pt x="0" y="3130"/>
                  </a:lnTo>
                  <a:lnTo>
                    <a:pt x="79" y="3176"/>
                  </a:lnTo>
                  <a:lnTo>
                    <a:pt x="268" y="2965"/>
                  </a:lnTo>
                  <a:lnTo>
                    <a:pt x="448" y="2923"/>
                  </a:lnTo>
                  <a:lnTo>
                    <a:pt x="378" y="3086"/>
                  </a:lnTo>
                  <a:lnTo>
                    <a:pt x="378" y="3281"/>
                  </a:lnTo>
                  <a:lnTo>
                    <a:pt x="901" y="3050"/>
                  </a:lnTo>
                  <a:lnTo>
                    <a:pt x="1026" y="3064"/>
                  </a:lnTo>
                  <a:lnTo>
                    <a:pt x="681" y="3306"/>
                  </a:lnTo>
                  <a:lnTo>
                    <a:pt x="681" y="3462"/>
                  </a:lnTo>
                  <a:lnTo>
                    <a:pt x="1189" y="3189"/>
                  </a:lnTo>
                  <a:lnTo>
                    <a:pt x="1360" y="3189"/>
                  </a:lnTo>
                  <a:lnTo>
                    <a:pt x="1578" y="3064"/>
                  </a:lnTo>
                  <a:lnTo>
                    <a:pt x="1486" y="2907"/>
                  </a:lnTo>
                  <a:lnTo>
                    <a:pt x="1263" y="2767"/>
                  </a:lnTo>
                  <a:lnTo>
                    <a:pt x="1026" y="2688"/>
                  </a:lnTo>
                  <a:lnTo>
                    <a:pt x="802" y="2672"/>
                  </a:lnTo>
                  <a:lnTo>
                    <a:pt x="912" y="2612"/>
                  </a:lnTo>
                  <a:lnTo>
                    <a:pt x="741" y="2563"/>
                  </a:lnTo>
                  <a:lnTo>
                    <a:pt x="518" y="2612"/>
                  </a:lnTo>
                  <a:lnTo>
                    <a:pt x="331" y="2688"/>
                  </a:lnTo>
                  <a:lnTo>
                    <a:pt x="79" y="2855"/>
                  </a:lnTo>
                  <a:lnTo>
                    <a:pt x="393" y="2626"/>
                  </a:lnTo>
                  <a:lnTo>
                    <a:pt x="710" y="2517"/>
                  </a:lnTo>
                  <a:lnTo>
                    <a:pt x="947" y="2481"/>
                  </a:lnTo>
                  <a:lnTo>
                    <a:pt x="1122" y="2481"/>
                  </a:lnTo>
                  <a:lnTo>
                    <a:pt x="1360" y="2330"/>
                  </a:lnTo>
                  <a:lnTo>
                    <a:pt x="1350" y="2215"/>
                  </a:lnTo>
                  <a:lnTo>
                    <a:pt x="539" y="2422"/>
                  </a:lnTo>
                  <a:lnTo>
                    <a:pt x="993" y="2169"/>
                  </a:lnTo>
                  <a:lnTo>
                    <a:pt x="1215" y="2169"/>
                  </a:lnTo>
                  <a:lnTo>
                    <a:pt x="1251" y="2119"/>
                  </a:lnTo>
                  <a:lnTo>
                    <a:pt x="1286" y="1980"/>
                  </a:lnTo>
                  <a:lnTo>
                    <a:pt x="1251" y="1747"/>
                  </a:lnTo>
                  <a:lnTo>
                    <a:pt x="1138" y="1556"/>
                  </a:lnTo>
                  <a:lnTo>
                    <a:pt x="963" y="1337"/>
                  </a:lnTo>
                  <a:lnTo>
                    <a:pt x="730" y="1088"/>
                  </a:lnTo>
                  <a:lnTo>
                    <a:pt x="507" y="882"/>
                  </a:lnTo>
                  <a:lnTo>
                    <a:pt x="378" y="741"/>
                  </a:lnTo>
                  <a:lnTo>
                    <a:pt x="378" y="882"/>
                  </a:lnTo>
                  <a:lnTo>
                    <a:pt x="463" y="1042"/>
                  </a:lnTo>
                  <a:lnTo>
                    <a:pt x="741" y="1358"/>
                  </a:lnTo>
                  <a:lnTo>
                    <a:pt x="463" y="1165"/>
                  </a:lnTo>
                  <a:lnTo>
                    <a:pt x="207" y="1042"/>
                  </a:lnTo>
                  <a:lnTo>
                    <a:pt x="156" y="1007"/>
                  </a:lnTo>
                  <a:lnTo>
                    <a:pt x="79" y="1270"/>
                  </a:lnTo>
                  <a:lnTo>
                    <a:pt x="94" y="814"/>
                  </a:lnTo>
                  <a:lnTo>
                    <a:pt x="110" y="438"/>
                  </a:lnTo>
                  <a:lnTo>
                    <a:pt x="50" y="12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743600" y="4031280"/>
              <a:ext cx="67680" cy="105480"/>
            </a:xfrm>
            <a:custGeom>
              <a:avLst/>
              <a:gdLst/>
              <a:ahLst/>
              <a:rect l="l" t="t" r="r" b="b"/>
              <a:pathLst>
                <a:path w="884" h="1588">
                  <a:moveTo>
                    <a:pt x="42" y="0"/>
                  </a:moveTo>
                  <a:lnTo>
                    <a:pt x="10" y="105"/>
                  </a:lnTo>
                  <a:lnTo>
                    <a:pt x="10" y="215"/>
                  </a:lnTo>
                  <a:lnTo>
                    <a:pt x="107" y="360"/>
                  </a:lnTo>
                  <a:lnTo>
                    <a:pt x="342" y="498"/>
                  </a:lnTo>
                  <a:lnTo>
                    <a:pt x="884" y="671"/>
                  </a:lnTo>
                  <a:lnTo>
                    <a:pt x="642" y="828"/>
                  </a:lnTo>
                  <a:lnTo>
                    <a:pt x="423" y="1019"/>
                  </a:lnTo>
                  <a:lnTo>
                    <a:pt x="167" y="1272"/>
                  </a:lnTo>
                  <a:lnTo>
                    <a:pt x="42" y="1588"/>
                  </a:lnTo>
                  <a:lnTo>
                    <a:pt x="136" y="1247"/>
                  </a:lnTo>
                  <a:lnTo>
                    <a:pt x="167" y="945"/>
                  </a:lnTo>
                  <a:lnTo>
                    <a:pt x="183" y="1190"/>
                  </a:lnTo>
                  <a:lnTo>
                    <a:pt x="423" y="909"/>
                  </a:lnTo>
                  <a:lnTo>
                    <a:pt x="520" y="814"/>
                  </a:lnTo>
                  <a:lnTo>
                    <a:pt x="199" y="659"/>
                  </a:lnTo>
                  <a:lnTo>
                    <a:pt x="167" y="828"/>
                  </a:lnTo>
                  <a:lnTo>
                    <a:pt x="118" y="671"/>
                  </a:lnTo>
                  <a:lnTo>
                    <a:pt x="22" y="426"/>
                  </a:lnTo>
                  <a:lnTo>
                    <a:pt x="0" y="235"/>
                  </a:lnTo>
                  <a:lnTo>
                    <a:pt x="0" y="7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755480" y="4032360"/>
              <a:ext cx="93240" cy="52200"/>
            </a:xfrm>
            <a:custGeom>
              <a:avLst/>
              <a:gdLst/>
              <a:ahLst/>
              <a:rect l="l" t="t" r="r" b="b"/>
              <a:pathLst>
                <a:path w="1220" h="786">
                  <a:moveTo>
                    <a:pt x="62" y="18"/>
                  </a:moveTo>
                  <a:lnTo>
                    <a:pt x="223" y="0"/>
                  </a:lnTo>
                  <a:lnTo>
                    <a:pt x="491" y="91"/>
                  </a:lnTo>
                  <a:lnTo>
                    <a:pt x="733" y="251"/>
                  </a:lnTo>
                  <a:lnTo>
                    <a:pt x="1028" y="502"/>
                  </a:lnTo>
                  <a:lnTo>
                    <a:pt x="1220" y="739"/>
                  </a:lnTo>
                  <a:lnTo>
                    <a:pt x="1169" y="786"/>
                  </a:lnTo>
                  <a:lnTo>
                    <a:pt x="996" y="629"/>
                  </a:lnTo>
                  <a:lnTo>
                    <a:pt x="793" y="484"/>
                  </a:lnTo>
                  <a:lnTo>
                    <a:pt x="572" y="376"/>
                  </a:lnTo>
                  <a:lnTo>
                    <a:pt x="376" y="262"/>
                  </a:lnTo>
                  <a:lnTo>
                    <a:pt x="0" y="18"/>
                  </a:lnTo>
                  <a:lnTo>
                    <a:pt x="6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929000" y="3876480"/>
              <a:ext cx="119520" cy="296640"/>
            </a:xfrm>
            <a:custGeom>
              <a:avLst/>
              <a:gdLst/>
              <a:ahLst/>
              <a:rect l="l" t="t" r="r" b="b"/>
              <a:pathLst>
                <a:path w="1568" h="4437">
                  <a:moveTo>
                    <a:pt x="161" y="83"/>
                  </a:moveTo>
                  <a:lnTo>
                    <a:pt x="99" y="205"/>
                  </a:lnTo>
                  <a:lnTo>
                    <a:pt x="49" y="383"/>
                  </a:lnTo>
                  <a:lnTo>
                    <a:pt x="49" y="583"/>
                  </a:lnTo>
                  <a:lnTo>
                    <a:pt x="99" y="774"/>
                  </a:lnTo>
                  <a:lnTo>
                    <a:pt x="257" y="1090"/>
                  </a:lnTo>
                  <a:lnTo>
                    <a:pt x="431" y="1400"/>
                  </a:lnTo>
                  <a:lnTo>
                    <a:pt x="543" y="1767"/>
                  </a:lnTo>
                  <a:lnTo>
                    <a:pt x="637" y="2172"/>
                  </a:lnTo>
                  <a:lnTo>
                    <a:pt x="719" y="2690"/>
                  </a:lnTo>
                  <a:lnTo>
                    <a:pt x="826" y="3398"/>
                  </a:lnTo>
                  <a:lnTo>
                    <a:pt x="877" y="3846"/>
                  </a:lnTo>
                  <a:lnTo>
                    <a:pt x="1057" y="3270"/>
                  </a:lnTo>
                  <a:lnTo>
                    <a:pt x="1192" y="2743"/>
                  </a:lnTo>
                  <a:lnTo>
                    <a:pt x="1347" y="2033"/>
                  </a:lnTo>
                  <a:lnTo>
                    <a:pt x="1444" y="1496"/>
                  </a:lnTo>
                  <a:lnTo>
                    <a:pt x="1471" y="1148"/>
                  </a:lnTo>
                  <a:lnTo>
                    <a:pt x="1490" y="830"/>
                  </a:lnTo>
                  <a:lnTo>
                    <a:pt x="1506" y="664"/>
                  </a:lnTo>
                  <a:lnTo>
                    <a:pt x="1568" y="567"/>
                  </a:lnTo>
                  <a:lnTo>
                    <a:pt x="1554" y="1169"/>
                  </a:lnTo>
                  <a:lnTo>
                    <a:pt x="1444" y="1908"/>
                  </a:lnTo>
                  <a:lnTo>
                    <a:pt x="1301" y="2582"/>
                  </a:lnTo>
                  <a:lnTo>
                    <a:pt x="1154" y="3195"/>
                  </a:lnTo>
                  <a:lnTo>
                    <a:pt x="971" y="3778"/>
                  </a:lnTo>
                  <a:lnTo>
                    <a:pt x="730" y="4394"/>
                  </a:lnTo>
                  <a:lnTo>
                    <a:pt x="637" y="4437"/>
                  </a:lnTo>
                  <a:lnTo>
                    <a:pt x="826" y="3917"/>
                  </a:lnTo>
                  <a:lnTo>
                    <a:pt x="683" y="2848"/>
                  </a:lnTo>
                  <a:lnTo>
                    <a:pt x="559" y="2015"/>
                  </a:lnTo>
                  <a:lnTo>
                    <a:pt x="402" y="1512"/>
                  </a:lnTo>
                  <a:lnTo>
                    <a:pt x="183" y="1090"/>
                  </a:lnTo>
                  <a:lnTo>
                    <a:pt x="49" y="784"/>
                  </a:lnTo>
                  <a:lnTo>
                    <a:pt x="0" y="602"/>
                  </a:lnTo>
                  <a:lnTo>
                    <a:pt x="0" y="394"/>
                  </a:lnTo>
                  <a:lnTo>
                    <a:pt x="49" y="189"/>
                  </a:lnTo>
                  <a:lnTo>
                    <a:pt x="161" y="0"/>
                  </a:lnTo>
                  <a:lnTo>
                    <a:pt x="16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921800" y="4174200"/>
              <a:ext cx="120960" cy="67320"/>
            </a:xfrm>
            <a:custGeom>
              <a:avLst/>
              <a:gdLst/>
              <a:ahLst/>
              <a:rect l="l" t="t" r="r" b="b"/>
              <a:pathLst>
                <a:path w="1582" h="1002">
                  <a:moveTo>
                    <a:pt x="457" y="0"/>
                  </a:moveTo>
                  <a:lnTo>
                    <a:pt x="321" y="103"/>
                  </a:lnTo>
                  <a:lnTo>
                    <a:pt x="191" y="235"/>
                  </a:lnTo>
                  <a:lnTo>
                    <a:pt x="81" y="363"/>
                  </a:lnTo>
                  <a:lnTo>
                    <a:pt x="20" y="529"/>
                  </a:lnTo>
                  <a:lnTo>
                    <a:pt x="0" y="765"/>
                  </a:lnTo>
                  <a:lnTo>
                    <a:pt x="68" y="718"/>
                  </a:lnTo>
                  <a:lnTo>
                    <a:pt x="1174" y="1002"/>
                  </a:lnTo>
                  <a:lnTo>
                    <a:pt x="1296" y="988"/>
                  </a:lnTo>
                  <a:lnTo>
                    <a:pt x="1582" y="857"/>
                  </a:lnTo>
                  <a:lnTo>
                    <a:pt x="1246" y="975"/>
                  </a:lnTo>
                  <a:lnTo>
                    <a:pt x="1187" y="940"/>
                  </a:lnTo>
                  <a:lnTo>
                    <a:pt x="969" y="889"/>
                  </a:lnTo>
                  <a:lnTo>
                    <a:pt x="855" y="698"/>
                  </a:lnTo>
                  <a:lnTo>
                    <a:pt x="775" y="640"/>
                  </a:lnTo>
                  <a:lnTo>
                    <a:pt x="523" y="564"/>
                  </a:lnTo>
                  <a:lnTo>
                    <a:pt x="429" y="468"/>
                  </a:lnTo>
                  <a:lnTo>
                    <a:pt x="397" y="373"/>
                  </a:lnTo>
                  <a:lnTo>
                    <a:pt x="383" y="248"/>
                  </a:lnTo>
                  <a:lnTo>
                    <a:pt x="383" y="128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956000" y="4154400"/>
              <a:ext cx="139680" cy="26640"/>
            </a:xfrm>
            <a:custGeom>
              <a:avLst/>
              <a:gdLst/>
              <a:ahLst/>
              <a:rect l="l" t="t" r="r" b="b"/>
              <a:pathLst>
                <a:path w="1828" h="404">
                  <a:moveTo>
                    <a:pt x="57" y="281"/>
                  </a:moveTo>
                  <a:lnTo>
                    <a:pt x="281" y="250"/>
                  </a:lnTo>
                  <a:lnTo>
                    <a:pt x="862" y="31"/>
                  </a:lnTo>
                  <a:lnTo>
                    <a:pt x="1115" y="46"/>
                  </a:lnTo>
                  <a:lnTo>
                    <a:pt x="1528" y="0"/>
                  </a:lnTo>
                  <a:lnTo>
                    <a:pt x="1587" y="31"/>
                  </a:lnTo>
                  <a:lnTo>
                    <a:pt x="1767" y="301"/>
                  </a:lnTo>
                  <a:lnTo>
                    <a:pt x="1560" y="88"/>
                  </a:lnTo>
                  <a:lnTo>
                    <a:pt x="1479" y="88"/>
                  </a:lnTo>
                  <a:lnTo>
                    <a:pt x="1053" y="88"/>
                  </a:lnTo>
                  <a:lnTo>
                    <a:pt x="1198" y="151"/>
                  </a:lnTo>
                  <a:lnTo>
                    <a:pt x="1440" y="202"/>
                  </a:lnTo>
                  <a:lnTo>
                    <a:pt x="1828" y="404"/>
                  </a:lnTo>
                  <a:lnTo>
                    <a:pt x="1355" y="238"/>
                  </a:lnTo>
                  <a:lnTo>
                    <a:pt x="892" y="112"/>
                  </a:lnTo>
                  <a:lnTo>
                    <a:pt x="798" y="112"/>
                  </a:lnTo>
                  <a:lnTo>
                    <a:pt x="339" y="281"/>
                  </a:lnTo>
                  <a:lnTo>
                    <a:pt x="0" y="332"/>
                  </a:lnTo>
                  <a:lnTo>
                    <a:pt x="57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959600" y="3948840"/>
              <a:ext cx="50040" cy="161280"/>
            </a:xfrm>
            <a:custGeom>
              <a:avLst/>
              <a:gdLst/>
              <a:ahLst/>
              <a:rect l="l" t="t" r="r" b="b"/>
              <a:pathLst>
                <a:path w="655" h="2417">
                  <a:moveTo>
                    <a:pt x="0" y="325"/>
                  </a:moveTo>
                  <a:lnTo>
                    <a:pt x="60" y="218"/>
                  </a:lnTo>
                  <a:lnTo>
                    <a:pt x="157" y="112"/>
                  </a:lnTo>
                  <a:lnTo>
                    <a:pt x="281" y="0"/>
                  </a:lnTo>
                  <a:lnTo>
                    <a:pt x="378" y="24"/>
                  </a:lnTo>
                  <a:lnTo>
                    <a:pt x="235" y="121"/>
                  </a:lnTo>
                  <a:lnTo>
                    <a:pt x="328" y="437"/>
                  </a:lnTo>
                  <a:lnTo>
                    <a:pt x="500" y="468"/>
                  </a:lnTo>
                  <a:lnTo>
                    <a:pt x="539" y="250"/>
                  </a:lnTo>
                  <a:lnTo>
                    <a:pt x="539" y="136"/>
                  </a:lnTo>
                  <a:lnTo>
                    <a:pt x="500" y="24"/>
                  </a:lnTo>
                  <a:lnTo>
                    <a:pt x="585" y="136"/>
                  </a:lnTo>
                  <a:lnTo>
                    <a:pt x="585" y="312"/>
                  </a:lnTo>
                  <a:lnTo>
                    <a:pt x="550" y="486"/>
                  </a:lnTo>
                  <a:lnTo>
                    <a:pt x="618" y="749"/>
                  </a:lnTo>
                  <a:lnTo>
                    <a:pt x="645" y="1242"/>
                  </a:lnTo>
                  <a:lnTo>
                    <a:pt x="629" y="1823"/>
                  </a:lnTo>
                  <a:lnTo>
                    <a:pt x="655" y="2342"/>
                  </a:lnTo>
                  <a:lnTo>
                    <a:pt x="629" y="2417"/>
                  </a:lnTo>
                  <a:lnTo>
                    <a:pt x="569" y="1885"/>
                  </a:lnTo>
                  <a:lnTo>
                    <a:pt x="569" y="1332"/>
                  </a:lnTo>
                  <a:lnTo>
                    <a:pt x="569" y="894"/>
                  </a:lnTo>
                  <a:lnTo>
                    <a:pt x="519" y="620"/>
                  </a:lnTo>
                  <a:lnTo>
                    <a:pt x="458" y="534"/>
                  </a:lnTo>
                  <a:lnTo>
                    <a:pt x="328" y="468"/>
                  </a:lnTo>
                  <a:lnTo>
                    <a:pt x="157" y="802"/>
                  </a:lnTo>
                  <a:lnTo>
                    <a:pt x="126" y="703"/>
                  </a:lnTo>
                  <a:lnTo>
                    <a:pt x="262" y="453"/>
                  </a:lnTo>
                  <a:lnTo>
                    <a:pt x="187" y="182"/>
                  </a:lnTo>
                  <a:lnTo>
                    <a:pt x="106" y="281"/>
                  </a:lnTo>
                  <a:lnTo>
                    <a:pt x="29" y="43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999200" y="3933000"/>
              <a:ext cx="44280" cy="61200"/>
            </a:xfrm>
            <a:custGeom>
              <a:avLst/>
              <a:gdLst/>
              <a:ahLst/>
              <a:rect l="l" t="t" r="r" b="b"/>
              <a:pathLst>
                <a:path w="585" h="919">
                  <a:moveTo>
                    <a:pt x="0" y="251"/>
                  </a:moveTo>
                  <a:lnTo>
                    <a:pt x="191" y="396"/>
                  </a:lnTo>
                  <a:lnTo>
                    <a:pt x="233" y="664"/>
                  </a:lnTo>
                  <a:lnTo>
                    <a:pt x="426" y="300"/>
                  </a:lnTo>
                  <a:lnTo>
                    <a:pt x="585" y="0"/>
                  </a:lnTo>
                  <a:lnTo>
                    <a:pt x="534" y="242"/>
                  </a:lnTo>
                  <a:lnTo>
                    <a:pt x="174" y="919"/>
                  </a:lnTo>
                  <a:lnTo>
                    <a:pt x="198" y="761"/>
                  </a:lnTo>
                  <a:lnTo>
                    <a:pt x="50" y="508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997400" y="4149000"/>
              <a:ext cx="31680" cy="10440"/>
            </a:xfrm>
            <a:custGeom>
              <a:avLst/>
              <a:gdLst/>
              <a:ahLst/>
              <a:rect l="l" t="t" r="r" b="b"/>
              <a:pathLst>
                <a:path w="416" h="166">
                  <a:moveTo>
                    <a:pt x="218" y="166"/>
                  </a:moveTo>
                  <a:lnTo>
                    <a:pt x="0" y="80"/>
                  </a:lnTo>
                  <a:lnTo>
                    <a:pt x="42" y="0"/>
                  </a:lnTo>
                  <a:lnTo>
                    <a:pt x="41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008920" y="4029840"/>
              <a:ext cx="266760" cy="203040"/>
            </a:xfrm>
            <a:custGeom>
              <a:avLst/>
              <a:gdLst/>
              <a:ahLst/>
              <a:rect l="l" t="t" r="r" b="b"/>
              <a:pathLst>
                <a:path w="3494" h="3036">
                  <a:moveTo>
                    <a:pt x="1119" y="2271"/>
                  </a:moveTo>
                  <a:lnTo>
                    <a:pt x="1130" y="2336"/>
                  </a:lnTo>
                  <a:lnTo>
                    <a:pt x="1101" y="2414"/>
                  </a:lnTo>
                  <a:lnTo>
                    <a:pt x="1054" y="2433"/>
                  </a:lnTo>
                  <a:lnTo>
                    <a:pt x="284" y="2338"/>
                  </a:lnTo>
                  <a:lnTo>
                    <a:pt x="292" y="2407"/>
                  </a:lnTo>
                  <a:lnTo>
                    <a:pt x="404" y="2387"/>
                  </a:lnTo>
                  <a:lnTo>
                    <a:pt x="852" y="2442"/>
                  </a:lnTo>
                  <a:lnTo>
                    <a:pt x="771" y="2609"/>
                  </a:lnTo>
                  <a:lnTo>
                    <a:pt x="428" y="2668"/>
                  </a:lnTo>
                  <a:lnTo>
                    <a:pt x="158" y="2552"/>
                  </a:lnTo>
                  <a:lnTo>
                    <a:pt x="68" y="2568"/>
                  </a:lnTo>
                  <a:lnTo>
                    <a:pt x="151" y="2638"/>
                  </a:lnTo>
                  <a:lnTo>
                    <a:pt x="446" y="2679"/>
                  </a:lnTo>
                  <a:lnTo>
                    <a:pt x="752" y="2656"/>
                  </a:lnTo>
                  <a:lnTo>
                    <a:pt x="670" y="2780"/>
                  </a:lnTo>
                  <a:lnTo>
                    <a:pt x="481" y="2895"/>
                  </a:lnTo>
                  <a:lnTo>
                    <a:pt x="158" y="2910"/>
                  </a:lnTo>
                  <a:lnTo>
                    <a:pt x="0" y="2895"/>
                  </a:lnTo>
                  <a:lnTo>
                    <a:pt x="268" y="2954"/>
                  </a:lnTo>
                  <a:lnTo>
                    <a:pt x="455" y="2932"/>
                  </a:lnTo>
                  <a:lnTo>
                    <a:pt x="418" y="3036"/>
                  </a:lnTo>
                  <a:lnTo>
                    <a:pt x="455" y="3025"/>
                  </a:lnTo>
                  <a:lnTo>
                    <a:pt x="525" y="2910"/>
                  </a:lnTo>
                  <a:lnTo>
                    <a:pt x="697" y="2789"/>
                  </a:lnTo>
                  <a:lnTo>
                    <a:pt x="784" y="2668"/>
                  </a:lnTo>
                  <a:lnTo>
                    <a:pt x="3327" y="2668"/>
                  </a:lnTo>
                  <a:lnTo>
                    <a:pt x="3390" y="2495"/>
                  </a:lnTo>
                  <a:lnTo>
                    <a:pt x="3424" y="2200"/>
                  </a:lnTo>
                  <a:lnTo>
                    <a:pt x="3454" y="1985"/>
                  </a:lnTo>
                  <a:lnTo>
                    <a:pt x="2977" y="1849"/>
                  </a:lnTo>
                  <a:lnTo>
                    <a:pt x="3041" y="1780"/>
                  </a:lnTo>
                  <a:lnTo>
                    <a:pt x="3109" y="1833"/>
                  </a:lnTo>
                  <a:lnTo>
                    <a:pt x="3494" y="1886"/>
                  </a:lnTo>
                  <a:lnTo>
                    <a:pt x="3494" y="1844"/>
                  </a:lnTo>
                  <a:lnTo>
                    <a:pt x="3159" y="1785"/>
                  </a:lnTo>
                  <a:lnTo>
                    <a:pt x="2995" y="1598"/>
                  </a:lnTo>
                  <a:lnTo>
                    <a:pt x="2813" y="1805"/>
                  </a:lnTo>
                  <a:lnTo>
                    <a:pt x="2479" y="2336"/>
                  </a:lnTo>
                  <a:lnTo>
                    <a:pt x="2345" y="2236"/>
                  </a:lnTo>
                  <a:lnTo>
                    <a:pt x="2472" y="1955"/>
                  </a:lnTo>
                  <a:lnTo>
                    <a:pt x="2714" y="1671"/>
                  </a:lnTo>
                  <a:lnTo>
                    <a:pt x="2868" y="1559"/>
                  </a:lnTo>
                  <a:lnTo>
                    <a:pt x="2742" y="1303"/>
                  </a:lnTo>
                  <a:lnTo>
                    <a:pt x="2582" y="745"/>
                  </a:lnTo>
                  <a:lnTo>
                    <a:pt x="2707" y="1328"/>
                  </a:lnTo>
                  <a:lnTo>
                    <a:pt x="2771" y="1535"/>
                  </a:lnTo>
                  <a:lnTo>
                    <a:pt x="2544" y="1550"/>
                  </a:lnTo>
                  <a:lnTo>
                    <a:pt x="2272" y="692"/>
                  </a:lnTo>
                  <a:lnTo>
                    <a:pt x="2424" y="552"/>
                  </a:lnTo>
                  <a:lnTo>
                    <a:pt x="1962" y="803"/>
                  </a:lnTo>
                  <a:lnTo>
                    <a:pt x="1962" y="735"/>
                  </a:lnTo>
                  <a:lnTo>
                    <a:pt x="2037" y="602"/>
                  </a:lnTo>
                  <a:lnTo>
                    <a:pt x="2345" y="369"/>
                  </a:lnTo>
                  <a:lnTo>
                    <a:pt x="2439" y="210"/>
                  </a:lnTo>
                  <a:lnTo>
                    <a:pt x="2540" y="614"/>
                  </a:lnTo>
                  <a:lnTo>
                    <a:pt x="2525" y="180"/>
                  </a:lnTo>
                  <a:lnTo>
                    <a:pt x="2403" y="90"/>
                  </a:lnTo>
                  <a:lnTo>
                    <a:pt x="2318" y="88"/>
                  </a:lnTo>
                  <a:lnTo>
                    <a:pt x="2311" y="0"/>
                  </a:lnTo>
                  <a:lnTo>
                    <a:pt x="2311" y="157"/>
                  </a:lnTo>
                  <a:lnTo>
                    <a:pt x="2340" y="297"/>
                  </a:lnTo>
                  <a:lnTo>
                    <a:pt x="2177" y="480"/>
                  </a:lnTo>
                  <a:lnTo>
                    <a:pt x="1905" y="563"/>
                  </a:lnTo>
                  <a:lnTo>
                    <a:pt x="1852" y="231"/>
                  </a:lnTo>
                  <a:lnTo>
                    <a:pt x="1742" y="552"/>
                  </a:lnTo>
                  <a:lnTo>
                    <a:pt x="1485" y="745"/>
                  </a:lnTo>
                  <a:lnTo>
                    <a:pt x="1220" y="818"/>
                  </a:lnTo>
                  <a:lnTo>
                    <a:pt x="944" y="871"/>
                  </a:lnTo>
                  <a:lnTo>
                    <a:pt x="1352" y="835"/>
                  </a:lnTo>
                  <a:lnTo>
                    <a:pt x="1589" y="783"/>
                  </a:lnTo>
                  <a:lnTo>
                    <a:pt x="1371" y="976"/>
                  </a:lnTo>
                  <a:lnTo>
                    <a:pt x="1169" y="1240"/>
                  </a:lnTo>
                  <a:lnTo>
                    <a:pt x="953" y="1621"/>
                  </a:lnTo>
                  <a:lnTo>
                    <a:pt x="842" y="1895"/>
                  </a:lnTo>
                  <a:lnTo>
                    <a:pt x="1087" y="2165"/>
                  </a:lnTo>
                  <a:lnTo>
                    <a:pt x="1191" y="2271"/>
                  </a:lnTo>
                  <a:lnTo>
                    <a:pt x="1172" y="2312"/>
                  </a:lnTo>
                  <a:lnTo>
                    <a:pt x="1331" y="2374"/>
                  </a:lnTo>
                  <a:lnTo>
                    <a:pt x="1415" y="1937"/>
                  </a:lnTo>
                  <a:lnTo>
                    <a:pt x="1589" y="1211"/>
                  </a:lnTo>
                  <a:lnTo>
                    <a:pt x="1698" y="930"/>
                  </a:lnTo>
                  <a:lnTo>
                    <a:pt x="1707" y="1134"/>
                  </a:lnTo>
                  <a:lnTo>
                    <a:pt x="1608" y="1510"/>
                  </a:lnTo>
                  <a:lnTo>
                    <a:pt x="1485" y="2137"/>
                  </a:lnTo>
                  <a:lnTo>
                    <a:pt x="1446" y="2433"/>
                  </a:lnTo>
                  <a:lnTo>
                    <a:pt x="1365" y="2396"/>
                  </a:lnTo>
                  <a:lnTo>
                    <a:pt x="1523" y="2517"/>
                  </a:lnTo>
                  <a:lnTo>
                    <a:pt x="1317" y="2483"/>
                  </a:lnTo>
                  <a:lnTo>
                    <a:pt x="1147" y="2407"/>
                  </a:lnTo>
                  <a:lnTo>
                    <a:pt x="1147" y="2324"/>
                  </a:lnTo>
                  <a:lnTo>
                    <a:pt x="1119" y="2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066520" y="3904920"/>
              <a:ext cx="121320" cy="163440"/>
            </a:xfrm>
            <a:custGeom>
              <a:avLst/>
              <a:gdLst/>
              <a:ahLst/>
              <a:rect l="l" t="t" r="r" b="b"/>
              <a:pathLst>
                <a:path w="1593" h="2446">
                  <a:moveTo>
                    <a:pt x="0" y="0"/>
                  </a:moveTo>
                  <a:lnTo>
                    <a:pt x="406" y="122"/>
                  </a:lnTo>
                  <a:lnTo>
                    <a:pt x="969" y="385"/>
                  </a:lnTo>
                  <a:lnTo>
                    <a:pt x="1273" y="442"/>
                  </a:lnTo>
                  <a:lnTo>
                    <a:pt x="1294" y="537"/>
                  </a:lnTo>
                  <a:lnTo>
                    <a:pt x="1360" y="512"/>
                  </a:lnTo>
                  <a:lnTo>
                    <a:pt x="1457" y="673"/>
                  </a:lnTo>
                  <a:lnTo>
                    <a:pt x="1554" y="965"/>
                  </a:lnTo>
                  <a:lnTo>
                    <a:pt x="1593" y="1323"/>
                  </a:lnTo>
                  <a:lnTo>
                    <a:pt x="1593" y="1552"/>
                  </a:lnTo>
                  <a:lnTo>
                    <a:pt x="1538" y="1879"/>
                  </a:lnTo>
                  <a:lnTo>
                    <a:pt x="1432" y="2137"/>
                  </a:lnTo>
                  <a:lnTo>
                    <a:pt x="1273" y="2285"/>
                  </a:lnTo>
                  <a:lnTo>
                    <a:pt x="1100" y="2446"/>
                  </a:lnTo>
                  <a:lnTo>
                    <a:pt x="1266" y="2191"/>
                  </a:lnTo>
                  <a:lnTo>
                    <a:pt x="1432" y="1863"/>
                  </a:lnTo>
                  <a:lnTo>
                    <a:pt x="1513" y="1552"/>
                  </a:lnTo>
                  <a:lnTo>
                    <a:pt x="1531" y="1180"/>
                  </a:lnTo>
                  <a:lnTo>
                    <a:pt x="1503" y="910"/>
                  </a:lnTo>
                  <a:lnTo>
                    <a:pt x="1425" y="644"/>
                  </a:lnTo>
                  <a:lnTo>
                    <a:pt x="1335" y="567"/>
                  </a:lnTo>
                  <a:lnTo>
                    <a:pt x="1259" y="1238"/>
                  </a:lnTo>
                  <a:lnTo>
                    <a:pt x="1133" y="1904"/>
                  </a:lnTo>
                  <a:lnTo>
                    <a:pt x="1243" y="1226"/>
                  </a:lnTo>
                  <a:lnTo>
                    <a:pt x="1266" y="537"/>
                  </a:lnTo>
                  <a:lnTo>
                    <a:pt x="918" y="408"/>
                  </a:lnTo>
                  <a:lnTo>
                    <a:pt x="182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8039160" y="3922200"/>
              <a:ext cx="77040" cy="237600"/>
            </a:xfrm>
            <a:custGeom>
              <a:avLst/>
              <a:gdLst/>
              <a:ahLst/>
              <a:rect l="l" t="t" r="r" b="b"/>
              <a:pathLst>
                <a:path w="1005" h="3558">
                  <a:moveTo>
                    <a:pt x="479" y="0"/>
                  </a:moveTo>
                  <a:lnTo>
                    <a:pt x="611" y="380"/>
                  </a:lnTo>
                  <a:lnTo>
                    <a:pt x="717" y="888"/>
                  </a:lnTo>
                  <a:lnTo>
                    <a:pt x="965" y="791"/>
                  </a:lnTo>
                  <a:lnTo>
                    <a:pt x="1005" y="842"/>
                  </a:lnTo>
                  <a:lnTo>
                    <a:pt x="954" y="1274"/>
                  </a:lnTo>
                  <a:lnTo>
                    <a:pt x="837" y="1712"/>
                  </a:lnTo>
                  <a:lnTo>
                    <a:pt x="645" y="2285"/>
                  </a:lnTo>
                  <a:lnTo>
                    <a:pt x="456" y="2747"/>
                  </a:lnTo>
                  <a:lnTo>
                    <a:pt x="231" y="3288"/>
                  </a:lnTo>
                  <a:lnTo>
                    <a:pt x="71" y="3533"/>
                  </a:lnTo>
                  <a:lnTo>
                    <a:pt x="0" y="3558"/>
                  </a:lnTo>
                  <a:lnTo>
                    <a:pt x="184" y="3263"/>
                  </a:lnTo>
                  <a:lnTo>
                    <a:pt x="385" y="2782"/>
                  </a:lnTo>
                  <a:lnTo>
                    <a:pt x="550" y="2320"/>
                  </a:lnTo>
                  <a:lnTo>
                    <a:pt x="694" y="1916"/>
                  </a:lnTo>
                  <a:lnTo>
                    <a:pt x="827" y="1514"/>
                  </a:lnTo>
                  <a:lnTo>
                    <a:pt x="879" y="1193"/>
                  </a:lnTo>
                  <a:lnTo>
                    <a:pt x="924" y="896"/>
                  </a:lnTo>
                  <a:lnTo>
                    <a:pt x="420" y="1108"/>
                  </a:lnTo>
                  <a:lnTo>
                    <a:pt x="670" y="905"/>
                  </a:lnTo>
                  <a:lnTo>
                    <a:pt x="670" y="870"/>
                  </a:lnTo>
                  <a:lnTo>
                    <a:pt x="597" y="43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H="1">
              <a:off x="7740000" y="4208400"/>
              <a:ext cx="511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961400" y="4229640"/>
              <a:ext cx="243720" cy="26640"/>
            </a:xfrm>
            <a:custGeom>
              <a:avLst/>
              <a:gdLst/>
              <a:ahLst/>
              <a:rect l="l" t="t" r="r" b="b"/>
              <a:pathLst>
                <a:path w="3188" h="401">
                  <a:moveTo>
                    <a:pt x="0" y="0"/>
                  </a:moveTo>
                  <a:lnTo>
                    <a:pt x="343" y="401"/>
                  </a:lnTo>
                  <a:lnTo>
                    <a:pt x="3188" y="4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063640" y="4214160"/>
              <a:ext cx="192960" cy="15480"/>
            </a:xfrm>
            <a:custGeom>
              <a:avLst/>
              <a:gdLst/>
              <a:ahLst/>
              <a:rect l="l" t="t" r="r" b="b"/>
              <a:pathLst>
                <a:path w="2533" h="230">
                  <a:moveTo>
                    <a:pt x="0" y="0"/>
                  </a:moveTo>
                  <a:lnTo>
                    <a:pt x="1752" y="0"/>
                  </a:lnTo>
                  <a:lnTo>
                    <a:pt x="2533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962480" y="4289040"/>
              <a:ext cx="176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21080" y="4486320"/>
            <a:ext cx="191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Processo da sistemática de gates: avali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3610080" y="2027160"/>
            <a:ext cx="3360600" cy="569880"/>
          </a:xfrm>
          <a:custGeom>
            <a:avLst/>
            <a:gdLst/>
            <a:ahLst/>
            <a:rect l="l" t="t" r="r" b="b"/>
            <a:pathLst>
              <a:path w="2117" h="359">
                <a:moveTo>
                  <a:pt x="1047" y="15"/>
                </a:moveTo>
                <a:lnTo>
                  <a:pt x="0" y="359"/>
                </a:lnTo>
                <a:lnTo>
                  <a:pt x="2117" y="359"/>
                </a:lnTo>
                <a:lnTo>
                  <a:pt x="1496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1722600" y="3440160"/>
            <a:ext cx="1946160" cy="439560"/>
          </a:xfrm>
          <a:custGeom>
            <a:avLst/>
            <a:gdLst/>
            <a:ahLst/>
            <a:rect l="l" t="t" r="r" b="b"/>
            <a:pathLst>
              <a:path w="1226" h="277">
                <a:moveTo>
                  <a:pt x="1174" y="0"/>
                </a:moveTo>
                <a:lnTo>
                  <a:pt x="1226" y="277"/>
                </a:lnTo>
                <a:lnTo>
                  <a:pt x="0" y="277"/>
                </a:lnTo>
                <a:lnTo>
                  <a:pt x="1174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5261040" y="3451320"/>
            <a:ext cx="3360600" cy="428400"/>
          </a:xfrm>
          <a:custGeom>
            <a:avLst/>
            <a:gdLst/>
            <a:ahLst/>
            <a:rect l="l" t="t" r="r" b="b"/>
            <a:pathLst>
              <a:path w="2117" h="270">
                <a:moveTo>
                  <a:pt x="1055" y="0"/>
                </a:moveTo>
                <a:lnTo>
                  <a:pt x="0" y="255"/>
                </a:lnTo>
                <a:lnTo>
                  <a:pt x="2117" y="270"/>
                </a:lnTo>
                <a:lnTo>
                  <a:pt x="1055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6246720" y="4521240"/>
            <a:ext cx="2801880" cy="2173320"/>
          </a:xfrm>
          <a:custGeom>
            <a:avLst/>
            <a:gdLst/>
            <a:ahLst/>
            <a:rect l="l" t="t" r="r" b="b"/>
            <a:pathLst>
              <a:path w="1765" h="1369">
                <a:moveTo>
                  <a:pt x="0" y="30"/>
                </a:moveTo>
                <a:lnTo>
                  <a:pt x="0" y="1369"/>
                </a:lnTo>
                <a:lnTo>
                  <a:pt x="1765" y="1369"/>
                </a:lnTo>
                <a:lnTo>
                  <a:pt x="1765" y="224"/>
                </a:lnTo>
                <a:lnTo>
                  <a:pt x="1488" y="0"/>
                </a:ln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3456000" y="4545000"/>
            <a:ext cx="2790720" cy="2149560"/>
          </a:xfrm>
          <a:custGeom>
            <a:avLst/>
            <a:gdLst/>
            <a:ahLst/>
            <a:rect l="l" t="t" r="r" b="b"/>
            <a:pathLst>
              <a:path w="1758" h="1354">
                <a:moveTo>
                  <a:pt x="1758" y="15"/>
                </a:moveTo>
                <a:lnTo>
                  <a:pt x="1758" y="1354"/>
                </a:lnTo>
                <a:lnTo>
                  <a:pt x="0" y="1354"/>
                </a:lnTo>
                <a:lnTo>
                  <a:pt x="0" y="456"/>
                </a:lnTo>
                <a:lnTo>
                  <a:pt x="1152" y="0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9" name=""/>
          <p:cNvGrpSpPr/>
          <p:nvPr/>
        </p:nvGrpSpPr>
        <p:grpSpPr>
          <a:xfrm>
            <a:off x="4292640" y="1444680"/>
            <a:ext cx="2916360" cy="627120"/>
            <a:chOff x="4292640" y="1444680"/>
            <a:chExt cx="2916360" cy="627120"/>
          </a:xfrm>
        </p:grpSpPr>
        <p:sp>
          <p:nvSpPr>
            <p:cNvPr id="2530" name=""/>
            <p:cNvSpPr/>
            <p:nvPr/>
          </p:nvSpPr>
          <p:spPr>
            <a:xfrm>
              <a:off x="6042240" y="144468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167440" y="144468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292640" y="144468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3" name=""/>
          <p:cNvSpPr/>
          <p:nvPr/>
        </p:nvSpPr>
        <p:spPr>
          <a:xfrm>
            <a:off x="4309560" y="1135080"/>
            <a:ext cx="283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do produto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"/>
          <p:cNvGrpSpPr/>
          <p:nvPr/>
        </p:nvGrpSpPr>
        <p:grpSpPr>
          <a:xfrm>
            <a:off x="3449160" y="2576520"/>
            <a:ext cx="3722760" cy="1239480"/>
            <a:chOff x="3449160" y="2576520"/>
            <a:chExt cx="3722760" cy="1239480"/>
          </a:xfrm>
        </p:grpSpPr>
        <p:grpSp>
          <p:nvGrpSpPr>
            <p:cNvPr id="2535" name=""/>
            <p:cNvGrpSpPr/>
            <p:nvPr/>
          </p:nvGrpSpPr>
          <p:grpSpPr>
            <a:xfrm>
              <a:off x="6816960" y="2963520"/>
              <a:ext cx="245160" cy="852480"/>
              <a:chOff x="6816960" y="2963520"/>
              <a:chExt cx="245160" cy="852480"/>
            </a:xfrm>
          </p:grpSpPr>
          <p:sp>
            <p:nvSpPr>
              <p:cNvPr id="2536" name=""/>
              <p:cNvSpPr/>
              <p:nvPr/>
            </p:nvSpPr>
            <p:spPr>
              <a:xfrm>
                <a:off x="6939000" y="2963520"/>
                <a:ext cx="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rot="2700000">
                <a:off x="6843960" y="3260160"/>
                <a:ext cx="190800" cy="155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8" name=""/>
            <p:cNvSpPr/>
            <p:nvPr/>
          </p:nvSpPr>
          <p:spPr>
            <a:xfrm>
              <a:off x="3569040" y="2576520"/>
              <a:ext cx="3602880" cy="387000"/>
            </a:xfrm>
            <a:custGeom>
              <a:avLst/>
              <a:gdLst>
                <a:gd name="textAreaLeft" fmla="*/ 0 w 3602880"/>
                <a:gd name="textAreaRight" fmla="*/ 3603240 w 360288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82" y="0"/>
                  </a:lnTo>
                  <a:lnTo>
                    <a:pt x="21600" y="10800"/>
                  </a:lnTo>
                  <a:lnTo>
                    <a:pt x="20582" y="21600"/>
                  </a:lnTo>
                  <a:lnTo>
                    <a:pt x="0" y="21600"/>
                  </a:lnTo>
                  <a:lnTo>
                    <a:pt x="1018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9" name=""/>
            <p:cNvGrpSpPr/>
            <p:nvPr/>
          </p:nvGrpSpPr>
          <p:grpSpPr>
            <a:xfrm>
              <a:off x="3449160" y="2958120"/>
              <a:ext cx="245160" cy="852480"/>
              <a:chOff x="3449160" y="2958120"/>
              <a:chExt cx="245160" cy="852480"/>
            </a:xfrm>
          </p:grpSpPr>
          <p:sp>
            <p:nvSpPr>
              <p:cNvPr id="2540" name=""/>
              <p:cNvSpPr/>
              <p:nvPr/>
            </p:nvSpPr>
            <p:spPr>
              <a:xfrm>
                <a:off x="3571200" y="2958120"/>
                <a:ext cx="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rot="2700000">
                <a:off x="3476160" y="3254760"/>
                <a:ext cx="190800" cy="155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2" name=""/>
          <p:cNvSpPr/>
          <p:nvPr/>
        </p:nvSpPr>
        <p:spPr>
          <a:xfrm>
            <a:off x="2152800" y="3831840"/>
            <a:ext cx="1533240" cy="73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finição de critérios para próximo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7155000" y="3831840"/>
            <a:ext cx="1533240" cy="73044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finição de critérios para próximo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6248520" y="3828960"/>
            <a:ext cx="904680" cy="73656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ro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5213520" y="3828960"/>
            <a:ext cx="1035000" cy="736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-avali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962520" y="3637080"/>
            <a:ext cx="9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é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7" name=""/>
          <p:cNvGrpSpPr/>
          <p:nvPr/>
        </p:nvGrpSpPr>
        <p:grpSpPr>
          <a:xfrm>
            <a:off x="7039080" y="4675320"/>
            <a:ext cx="1371240" cy="686880"/>
            <a:chOff x="7039080" y="4675320"/>
            <a:chExt cx="1371240" cy="686880"/>
          </a:xfrm>
        </p:grpSpPr>
        <p:grpSp>
          <p:nvGrpSpPr>
            <p:cNvPr id="2548" name=""/>
            <p:cNvGrpSpPr/>
            <p:nvPr/>
          </p:nvGrpSpPr>
          <p:grpSpPr>
            <a:xfrm>
              <a:off x="7039080" y="4675320"/>
              <a:ext cx="1371240" cy="686880"/>
              <a:chOff x="7039080" y="4675320"/>
              <a:chExt cx="1371240" cy="686880"/>
            </a:xfrm>
          </p:grpSpPr>
          <p:sp>
            <p:nvSpPr>
              <p:cNvPr id="2549" name=""/>
              <p:cNvSpPr/>
              <p:nvPr/>
            </p:nvSpPr>
            <p:spPr>
              <a:xfrm>
                <a:off x="7349760" y="486576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363080" y="487260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351920" y="491148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370280" y="502272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424640" y="509040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432560" y="490896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587360" y="512028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605720" y="505224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508880" y="510732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498440" y="492840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507800" y="500292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445880" y="471060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450560" y="480132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536960" y="48081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060680" y="489636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494480" y="512424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444080" y="518220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185600" y="478368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243920" y="499464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259040" y="473184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250400" y="483876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297560" y="485064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475760" y="477756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515000" y="478116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488360" y="483264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968960" y="486324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8008920" y="497700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8067240" y="497844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8144280" y="497772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8195760" y="486144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8124840" y="495216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917840" y="515160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8066520" y="472752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8080560" y="481572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8127000" y="480384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8067240" y="469692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8160840" y="474120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154720" y="472860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719840" y="481644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03440" y="511488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737840" y="491760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724520" y="495972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801920" y="486648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894080" y="482616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71120" y="488628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8032680" y="494388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853760" y="486144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850520" y="486144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785360" y="485316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789320" y="468432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814520" y="478692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857720" y="477612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842960" y="478116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835040" y="47962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854840" y="47937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837920" y="482184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801920" y="471744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847640" y="474048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792920" y="476748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882920" y="475236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846560" y="484056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791480" y="490320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791840" y="487944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809480" y="492084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817760" y="477180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854480" y="47674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239240" y="481896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247880" y="484884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266240" y="483876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288200" y="483768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286760" y="489636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242480" y="488952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272360" y="487260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260480" y="491832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219800" y="473004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182000" y="473004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290000" y="477756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199280" y="487440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191360" y="484236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192800" y="487368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191360" y="488196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211520" y="484452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212600" y="483948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218000" y="484956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223400" y="486000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253640" y="480060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266240" y="479808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158240" y="490248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039080" y="494208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151760" y="499464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217280" y="521748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235280" y="520488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284240" y="518220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355880" y="523548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254360" y="497160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281000" y="495468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367040" y="515484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414200" y="511164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500960" y="518040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524720" y="521928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530840" y="520308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495200" y="512424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442640" y="518688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412400" y="468612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474320" y="479052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448760" y="477252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459200" y="478044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461360" y="478440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466040" y="479880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452000" y="480204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360560" y="485748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345080" y="490140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410960" y="507528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434000" y="491256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535520" y="490320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504560" y="500076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605720" y="503964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580520" y="509796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518240" y="512424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592040" y="515664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536960" y="480744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471800" y="477432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514280" y="477756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516440" y="47869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473960" y="476244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516440" y="476676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493760" y="481428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509600" y="477504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481880" y="47775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518960" y="478116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487640" y="483192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493040" y="483768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786080" y="48513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794000" y="488700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751520" y="489456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720560" y="491688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762680" y="501012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720560" y="504972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726320" y="503712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742520" y="494568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753680" y="486828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816680" y="483876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829280" y="488520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829280" y="482364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831800" y="486144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886880" y="482256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855920" y="488196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836480" y="495900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927200" y="48236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975080" y="483120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945200" y="487836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8016120" y="491832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8027640" y="504648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8032680" y="519732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915320" y="515088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958520" y="515088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788600" y="467676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812720" y="476928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811280" y="477072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850520" y="475884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852320" y="476748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846920" y="476244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839360" y="477324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855920" y="477684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93280" y="477612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883640" y="475812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823880" y="47732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59160" y="47674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833240" y="479628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30360" y="481644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839720" y="482868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809840" y="479484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16680" y="480384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865640" y="479988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8046000" y="492948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8067960" y="480564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8077320" y="482616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8103600" y="477864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8134200" y="480204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98920" y="485316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8116920" y="484056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8131680" y="484812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74440" y="483012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8110440" y="487584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112960" y="488628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8047440" y="469872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8085960" y="467532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50040" y="473184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8161920" y="477504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68760" y="480384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8109000" y="488952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8164080" y="484884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91000" y="476604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8105040" y="475884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122320" y="475308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8148960" y="479052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8234280" y="496152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07280" y="486252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8278200" y="490644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6720" y="496080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9" name=""/>
            <p:cNvSpPr/>
            <p:nvPr/>
          </p:nvSpPr>
          <p:spPr>
            <a:xfrm>
              <a:off x="8056080" y="495720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176680" y="499464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173440" y="522612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034120" y="524556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034120" y="512280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073000" y="495720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5" name=""/>
          <p:cNvSpPr/>
          <p:nvPr/>
        </p:nvSpPr>
        <p:spPr>
          <a:xfrm>
            <a:off x="3682800" y="5734080"/>
            <a:ext cx="185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6245280" y="4556160"/>
            <a:ext cx="0" cy="1887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7" name="" descr=""/>
          <p:cNvPicPr/>
          <p:nvPr/>
        </p:nvPicPr>
        <p:blipFill>
          <a:blip r:embed="rId1"/>
          <a:stretch/>
        </p:blipFill>
        <p:spPr>
          <a:xfrm>
            <a:off x="5931000" y="5183280"/>
            <a:ext cx="658800" cy="723960"/>
          </a:xfrm>
          <a:prstGeom prst="rect">
            <a:avLst/>
          </a:prstGeom>
          <a:ln w="0">
            <a:noFill/>
          </a:ln>
        </p:spPr>
      </p:pic>
      <p:sp>
        <p:nvSpPr>
          <p:cNvPr id="2758" name=""/>
          <p:cNvSpPr/>
          <p:nvPr/>
        </p:nvSpPr>
        <p:spPr>
          <a:xfrm>
            <a:off x="5764680" y="4865760"/>
            <a:ext cx="967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9" name=""/>
          <p:cNvGrpSpPr/>
          <p:nvPr/>
        </p:nvGrpSpPr>
        <p:grpSpPr>
          <a:xfrm>
            <a:off x="7102440" y="5654520"/>
            <a:ext cx="1274760" cy="720360"/>
            <a:chOff x="7102440" y="5654520"/>
            <a:chExt cx="1274760" cy="720360"/>
          </a:xfrm>
        </p:grpSpPr>
        <p:sp>
          <p:nvSpPr>
            <p:cNvPr id="2760" name=""/>
            <p:cNvSpPr/>
            <p:nvPr/>
          </p:nvSpPr>
          <p:spPr>
            <a:xfrm>
              <a:off x="7444080" y="6146640"/>
              <a:ext cx="567000" cy="133200"/>
            </a:xfrm>
            <a:custGeom>
              <a:avLst/>
              <a:gdLst/>
              <a:ahLst/>
              <a:rect l="l" t="t" r="r" b="b"/>
              <a:pathLst>
                <a:path w="7426" h="2003">
                  <a:moveTo>
                    <a:pt x="0" y="0"/>
                  </a:moveTo>
                  <a:lnTo>
                    <a:pt x="7426" y="0"/>
                  </a:lnTo>
                  <a:lnTo>
                    <a:pt x="6050" y="2003"/>
                  </a:lnTo>
                  <a:lnTo>
                    <a:pt x="0" y="20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668360" y="6153480"/>
              <a:ext cx="345960" cy="41040"/>
            </a:xfrm>
            <a:custGeom>
              <a:avLst/>
              <a:gdLst/>
              <a:ahLst/>
              <a:rect l="l" t="t" r="r" b="b"/>
              <a:pathLst>
                <a:path w="4520" h="620">
                  <a:moveTo>
                    <a:pt x="541" y="620"/>
                  </a:moveTo>
                  <a:lnTo>
                    <a:pt x="0" y="0"/>
                  </a:lnTo>
                  <a:lnTo>
                    <a:pt x="3269" y="0"/>
                  </a:lnTo>
                  <a:lnTo>
                    <a:pt x="4520" y="362"/>
                  </a:lnTo>
                  <a:lnTo>
                    <a:pt x="4520" y="620"/>
                  </a:lnTo>
                  <a:lnTo>
                    <a:pt x="541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7103520" y="5857560"/>
              <a:ext cx="504720" cy="516240"/>
            </a:xfrm>
            <a:custGeom>
              <a:avLst/>
              <a:gdLst/>
              <a:ahLst/>
              <a:rect l="l" t="t" r="r" b="b"/>
              <a:pathLst>
                <a:path w="6609" h="7730">
                  <a:moveTo>
                    <a:pt x="0" y="1307"/>
                  </a:moveTo>
                  <a:lnTo>
                    <a:pt x="0" y="4054"/>
                  </a:lnTo>
                  <a:lnTo>
                    <a:pt x="524" y="4182"/>
                  </a:lnTo>
                  <a:lnTo>
                    <a:pt x="1012" y="4509"/>
                  </a:lnTo>
                  <a:lnTo>
                    <a:pt x="1421" y="4893"/>
                  </a:lnTo>
                  <a:lnTo>
                    <a:pt x="1881" y="5439"/>
                  </a:lnTo>
                  <a:lnTo>
                    <a:pt x="2204" y="6144"/>
                  </a:lnTo>
                  <a:lnTo>
                    <a:pt x="2513" y="7020"/>
                  </a:lnTo>
                  <a:lnTo>
                    <a:pt x="2737" y="7730"/>
                  </a:lnTo>
                  <a:lnTo>
                    <a:pt x="5123" y="7730"/>
                  </a:lnTo>
                  <a:lnTo>
                    <a:pt x="6609" y="6091"/>
                  </a:lnTo>
                  <a:lnTo>
                    <a:pt x="6609" y="5746"/>
                  </a:lnTo>
                  <a:lnTo>
                    <a:pt x="6480" y="5508"/>
                  </a:lnTo>
                  <a:lnTo>
                    <a:pt x="6185" y="5344"/>
                  </a:lnTo>
                  <a:lnTo>
                    <a:pt x="5416" y="5031"/>
                  </a:lnTo>
                  <a:lnTo>
                    <a:pt x="5365" y="4985"/>
                  </a:lnTo>
                  <a:lnTo>
                    <a:pt x="4911" y="4906"/>
                  </a:lnTo>
                  <a:lnTo>
                    <a:pt x="4746" y="4856"/>
                  </a:lnTo>
                  <a:lnTo>
                    <a:pt x="4581" y="3272"/>
                  </a:lnTo>
                  <a:lnTo>
                    <a:pt x="4468" y="2742"/>
                  </a:lnTo>
                  <a:lnTo>
                    <a:pt x="4434" y="2490"/>
                  </a:lnTo>
                  <a:lnTo>
                    <a:pt x="4212" y="2017"/>
                  </a:lnTo>
                  <a:lnTo>
                    <a:pt x="4117" y="1909"/>
                  </a:lnTo>
                  <a:lnTo>
                    <a:pt x="3959" y="1760"/>
                  </a:lnTo>
                  <a:lnTo>
                    <a:pt x="3610" y="1580"/>
                  </a:lnTo>
                  <a:lnTo>
                    <a:pt x="3115" y="1199"/>
                  </a:lnTo>
                  <a:lnTo>
                    <a:pt x="2333" y="417"/>
                  </a:lnTo>
                  <a:lnTo>
                    <a:pt x="1748" y="125"/>
                  </a:lnTo>
                  <a:lnTo>
                    <a:pt x="1222" y="0"/>
                  </a:lnTo>
                  <a:lnTo>
                    <a:pt x="894" y="399"/>
                  </a:lnTo>
                  <a:lnTo>
                    <a:pt x="599" y="582"/>
                  </a:lnTo>
                  <a:lnTo>
                    <a:pt x="146" y="1142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720920" y="5889960"/>
              <a:ext cx="649080" cy="482760"/>
            </a:xfrm>
            <a:custGeom>
              <a:avLst/>
              <a:gdLst/>
              <a:ahLst/>
              <a:rect l="l" t="t" r="r" b="b"/>
              <a:pathLst>
                <a:path w="8500" h="7234">
                  <a:moveTo>
                    <a:pt x="1999" y="4964"/>
                  </a:moveTo>
                  <a:lnTo>
                    <a:pt x="2075" y="4850"/>
                  </a:lnTo>
                  <a:lnTo>
                    <a:pt x="2430" y="4721"/>
                  </a:lnTo>
                  <a:lnTo>
                    <a:pt x="2665" y="4593"/>
                  </a:lnTo>
                  <a:lnTo>
                    <a:pt x="2915" y="4406"/>
                  </a:lnTo>
                  <a:lnTo>
                    <a:pt x="3339" y="4350"/>
                  </a:lnTo>
                  <a:lnTo>
                    <a:pt x="3412" y="3980"/>
                  </a:lnTo>
                  <a:lnTo>
                    <a:pt x="3507" y="3739"/>
                  </a:lnTo>
                  <a:lnTo>
                    <a:pt x="3658" y="2910"/>
                  </a:lnTo>
                  <a:lnTo>
                    <a:pt x="3788" y="2312"/>
                  </a:lnTo>
                  <a:lnTo>
                    <a:pt x="3954" y="1906"/>
                  </a:lnTo>
                  <a:lnTo>
                    <a:pt x="4137" y="1651"/>
                  </a:lnTo>
                  <a:lnTo>
                    <a:pt x="4454" y="1540"/>
                  </a:lnTo>
                  <a:lnTo>
                    <a:pt x="4641" y="1356"/>
                  </a:lnTo>
                  <a:lnTo>
                    <a:pt x="4710" y="1277"/>
                  </a:lnTo>
                  <a:lnTo>
                    <a:pt x="4710" y="1116"/>
                  </a:lnTo>
                  <a:lnTo>
                    <a:pt x="4803" y="876"/>
                  </a:lnTo>
                  <a:lnTo>
                    <a:pt x="5123" y="449"/>
                  </a:lnTo>
                  <a:lnTo>
                    <a:pt x="5717" y="76"/>
                  </a:lnTo>
                  <a:lnTo>
                    <a:pt x="6158" y="0"/>
                  </a:lnTo>
                  <a:lnTo>
                    <a:pt x="6737" y="466"/>
                  </a:lnTo>
                  <a:lnTo>
                    <a:pt x="6999" y="648"/>
                  </a:lnTo>
                  <a:lnTo>
                    <a:pt x="7329" y="1042"/>
                  </a:lnTo>
                  <a:lnTo>
                    <a:pt x="7679" y="1589"/>
                  </a:lnTo>
                  <a:lnTo>
                    <a:pt x="8016" y="2312"/>
                  </a:lnTo>
                  <a:lnTo>
                    <a:pt x="8389" y="3147"/>
                  </a:lnTo>
                  <a:lnTo>
                    <a:pt x="8500" y="3499"/>
                  </a:lnTo>
                  <a:lnTo>
                    <a:pt x="7772" y="3776"/>
                  </a:lnTo>
                  <a:lnTo>
                    <a:pt x="7128" y="4350"/>
                  </a:lnTo>
                  <a:lnTo>
                    <a:pt x="6807" y="4795"/>
                  </a:lnTo>
                  <a:lnTo>
                    <a:pt x="6495" y="5330"/>
                  </a:lnTo>
                  <a:lnTo>
                    <a:pt x="6289" y="5980"/>
                  </a:lnTo>
                  <a:lnTo>
                    <a:pt x="6091" y="7234"/>
                  </a:lnTo>
                  <a:lnTo>
                    <a:pt x="0" y="7234"/>
                  </a:lnTo>
                  <a:lnTo>
                    <a:pt x="1355" y="5533"/>
                  </a:lnTo>
                  <a:lnTo>
                    <a:pt x="1999" y="49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904880" y="6180840"/>
              <a:ext cx="70560" cy="98640"/>
            </a:xfrm>
            <a:custGeom>
              <a:avLst/>
              <a:gdLst/>
              <a:ahLst/>
              <a:rect l="l" t="t" r="r" b="b"/>
              <a:pathLst>
                <a:path w="927" h="1480">
                  <a:moveTo>
                    <a:pt x="394" y="113"/>
                  </a:moveTo>
                  <a:lnTo>
                    <a:pt x="670" y="386"/>
                  </a:lnTo>
                  <a:lnTo>
                    <a:pt x="670" y="540"/>
                  </a:lnTo>
                  <a:lnTo>
                    <a:pt x="0" y="851"/>
                  </a:lnTo>
                  <a:lnTo>
                    <a:pt x="112" y="1480"/>
                  </a:lnTo>
                  <a:lnTo>
                    <a:pt x="670" y="1245"/>
                  </a:lnTo>
                  <a:lnTo>
                    <a:pt x="778" y="962"/>
                  </a:lnTo>
                  <a:lnTo>
                    <a:pt x="855" y="243"/>
                  </a:lnTo>
                  <a:lnTo>
                    <a:pt x="927" y="0"/>
                  </a:lnTo>
                  <a:lnTo>
                    <a:pt x="479" y="56"/>
                  </a:lnTo>
                  <a:lnTo>
                    <a:pt x="394" y="11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876800" y="5931360"/>
              <a:ext cx="500400" cy="441720"/>
            </a:xfrm>
            <a:custGeom>
              <a:avLst/>
              <a:gdLst/>
              <a:ahLst/>
              <a:rect l="l" t="t" r="r" b="b"/>
              <a:pathLst>
                <a:path w="6551" h="6616">
                  <a:moveTo>
                    <a:pt x="6551" y="2921"/>
                  </a:moveTo>
                  <a:lnTo>
                    <a:pt x="6133" y="3048"/>
                  </a:lnTo>
                  <a:lnTo>
                    <a:pt x="5692" y="3252"/>
                  </a:lnTo>
                  <a:lnTo>
                    <a:pt x="5378" y="3432"/>
                  </a:lnTo>
                  <a:lnTo>
                    <a:pt x="5048" y="3801"/>
                  </a:lnTo>
                  <a:lnTo>
                    <a:pt x="4712" y="4252"/>
                  </a:lnTo>
                  <a:lnTo>
                    <a:pt x="4470" y="4694"/>
                  </a:lnTo>
                  <a:lnTo>
                    <a:pt x="3396" y="6547"/>
                  </a:lnTo>
                  <a:lnTo>
                    <a:pt x="2278" y="6616"/>
                  </a:lnTo>
                  <a:lnTo>
                    <a:pt x="0" y="6616"/>
                  </a:lnTo>
                  <a:lnTo>
                    <a:pt x="108" y="6197"/>
                  </a:lnTo>
                  <a:lnTo>
                    <a:pt x="367" y="6485"/>
                  </a:lnTo>
                  <a:lnTo>
                    <a:pt x="606" y="6524"/>
                  </a:lnTo>
                  <a:lnTo>
                    <a:pt x="457" y="6322"/>
                  </a:lnTo>
                  <a:lnTo>
                    <a:pt x="457" y="5971"/>
                  </a:lnTo>
                  <a:lnTo>
                    <a:pt x="870" y="5599"/>
                  </a:lnTo>
                  <a:lnTo>
                    <a:pt x="1145" y="6227"/>
                  </a:lnTo>
                  <a:lnTo>
                    <a:pt x="1332" y="6524"/>
                  </a:lnTo>
                  <a:lnTo>
                    <a:pt x="1909" y="6098"/>
                  </a:lnTo>
                  <a:lnTo>
                    <a:pt x="2466" y="5252"/>
                  </a:lnTo>
                  <a:lnTo>
                    <a:pt x="1481" y="5671"/>
                  </a:lnTo>
                  <a:lnTo>
                    <a:pt x="2134" y="4837"/>
                  </a:lnTo>
                  <a:lnTo>
                    <a:pt x="1462" y="4936"/>
                  </a:lnTo>
                  <a:lnTo>
                    <a:pt x="1446" y="4751"/>
                  </a:lnTo>
                  <a:lnTo>
                    <a:pt x="2206" y="4103"/>
                  </a:lnTo>
                  <a:lnTo>
                    <a:pt x="2241" y="4435"/>
                  </a:lnTo>
                  <a:lnTo>
                    <a:pt x="2448" y="4498"/>
                  </a:lnTo>
                  <a:lnTo>
                    <a:pt x="3188" y="3956"/>
                  </a:lnTo>
                  <a:lnTo>
                    <a:pt x="3465" y="3342"/>
                  </a:lnTo>
                  <a:lnTo>
                    <a:pt x="3558" y="2377"/>
                  </a:lnTo>
                  <a:lnTo>
                    <a:pt x="3211" y="1477"/>
                  </a:lnTo>
                  <a:lnTo>
                    <a:pt x="4212" y="2342"/>
                  </a:lnTo>
                  <a:lnTo>
                    <a:pt x="5378" y="2694"/>
                  </a:lnTo>
                  <a:lnTo>
                    <a:pt x="5766" y="2960"/>
                  </a:lnTo>
                  <a:lnTo>
                    <a:pt x="6254" y="2881"/>
                  </a:lnTo>
                  <a:lnTo>
                    <a:pt x="6087" y="2248"/>
                  </a:lnTo>
                  <a:lnTo>
                    <a:pt x="5582" y="971"/>
                  </a:lnTo>
                  <a:lnTo>
                    <a:pt x="5140" y="258"/>
                  </a:lnTo>
                  <a:lnTo>
                    <a:pt x="4894" y="0"/>
                  </a:lnTo>
                  <a:lnTo>
                    <a:pt x="5250" y="327"/>
                  </a:lnTo>
                  <a:lnTo>
                    <a:pt x="5634" y="940"/>
                  </a:lnTo>
                  <a:lnTo>
                    <a:pt x="6030" y="1810"/>
                  </a:lnTo>
                  <a:lnTo>
                    <a:pt x="6344" y="2513"/>
                  </a:lnTo>
                  <a:lnTo>
                    <a:pt x="6551" y="2921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140680" y="5891760"/>
              <a:ext cx="60120" cy="57600"/>
            </a:xfrm>
            <a:custGeom>
              <a:avLst/>
              <a:gdLst/>
              <a:ahLst/>
              <a:rect l="l" t="t" r="r" b="b"/>
              <a:pathLst>
                <a:path w="791" h="867">
                  <a:moveTo>
                    <a:pt x="197" y="120"/>
                  </a:moveTo>
                  <a:lnTo>
                    <a:pt x="307" y="199"/>
                  </a:lnTo>
                  <a:lnTo>
                    <a:pt x="386" y="512"/>
                  </a:lnTo>
                  <a:lnTo>
                    <a:pt x="346" y="625"/>
                  </a:lnTo>
                  <a:lnTo>
                    <a:pt x="0" y="867"/>
                  </a:lnTo>
                  <a:lnTo>
                    <a:pt x="791" y="535"/>
                  </a:lnTo>
                  <a:lnTo>
                    <a:pt x="791" y="298"/>
                  </a:lnTo>
                  <a:lnTo>
                    <a:pt x="573" y="0"/>
                  </a:lnTo>
                  <a:lnTo>
                    <a:pt x="346" y="39"/>
                  </a:lnTo>
                  <a:lnTo>
                    <a:pt x="197" y="12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467120" y="5814360"/>
              <a:ext cx="531720" cy="353160"/>
            </a:xfrm>
            <a:custGeom>
              <a:avLst/>
              <a:gdLst/>
              <a:ahLst/>
              <a:rect l="l" t="t" r="r" b="b"/>
              <a:pathLst>
                <a:path w="6960" h="5288">
                  <a:moveTo>
                    <a:pt x="2583" y="0"/>
                  </a:moveTo>
                  <a:lnTo>
                    <a:pt x="2425" y="32"/>
                  </a:lnTo>
                  <a:lnTo>
                    <a:pt x="2146" y="173"/>
                  </a:lnTo>
                  <a:lnTo>
                    <a:pt x="1372" y="233"/>
                  </a:lnTo>
                  <a:lnTo>
                    <a:pt x="592" y="498"/>
                  </a:lnTo>
                  <a:lnTo>
                    <a:pt x="229" y="706"/>
                  </a:lnTo>
                  <a:lnTo>
                    <a:pt x="141" y="876"/>
                  </a:lnTo>
                  <a:lnTo>
                    <a:pt x="93" y="1047"/>
                  </a:lnTo>
                  <a:lnTo>
                    <a:pt x="141" y="1374"/>
                  </a:lnTo>
                  <a:lnTo>
                    <a:pt x="229" y="1625"/>
                  </a:lnTo>
                  <a:lnTo>
                    <a:pt x="141" y="2183"/>
                  </a:lnTo>
                  <a:lnTo>
                    <a:pt x="102" y="2308"/>
                  </a:lnTo>
                  <a:lnTo>
                    <a:pt x="32" y="2356"/>
                  </a:lnTo>
                  <a:lnTo>
                    <a:pt x="0" y="2444"/>
                  </a:lnTo>
                  <a:lnTo>
                    <a:pt x="12" y="2620"/>
                  </a:lnTo>
                  <a:lnTo>
                    <a:pt x="155" y="3086"/>
                  </a:lnTo>
                  <a:lnTo>
                    <a:pt x="155" y="3277"/>
                  </a:lnTo>
                  <a:lnTo>
                    <a:pt x="141" y="3525"/>
                  </a:lnTo>
                  <a:lnTo>
                    <a:pt x="126" y="3655"/>
                  </a:lnTo>
                  <a:lnTo>
                    <a:pt x="32" y="3928"/>
                  </a:lnTo>
                  <a:lnTo>
                    <a:pt x="44" y="4198"/>
                  </a:lnTo>
                  <a:lnTo>
                    <a:pt x="556" y="4862"/>
                  </a:lnTo>
                  <a:lnTo>
                    <a:pt x="888" y="4980"/>
                  </a:lnTo>
                  <a:lnTo>
                    <a:pt x="1003" y="5053"/>
                  </a:lnTo>
                  <a:lnTo>
                    <a:pt x="1361" y="5022"/>
                  </a:lnTo>
                  <a:lnTo>
                    <a:pt x="1671" y="5148"/>
                  </a:lnTo>
                  <a:lnTo>
                    <a:pt x="2062" y="5288"/>
                  </a:lnTo>
                  <a:lnTo>
                    <a:pt x="2704" y="4862"/>
                  </a:lnTo>
                  <a:lnTo>
                    <a:pt x="6835" y="4837"/>
                  </a:lnTo>
                  <a:lnTo>
                    <a:pt x="6960" y="4152"/>
                  </a:lnTo>
                  <a:lnTo>
                    <a:pt x="6621" y="4119"/>
                  </a:lnTo>
                  <a:lnTo>
                    <a:pt x="6446" y="3917"/>
                  </a:lnTo>
                  <a:lnTo>
                    <a:pt x="6333" y="3853"/>
                  </a:lnTo>
                  <a:lnTo>
                    <a:pt x="6151" y="3536"/>
                  </a:lnTo>
                  <a:lnTo>
                    <a:pt x="6022" y="3011"/>
                  </a:lnTo>
                  <a:lnTo>
                    <a:pt x="5955" y="2780"/>
                  </a:lnTo>
                  <a:lnTo>
                    <a:pt x="5912" y="2483"/>
                  </a:lnTo>
                  <a:lnTo>
                    <a:pt x="5773" y="2420"/>
                  </a:lnTo>
                  <a:lnTo>
                    <a:pt x="5745" y="2229"/>
                  </a:lnTo>
                  <a:lnTo>
                    <a:pt x="5773" y="1812"/>
                  </a:lnTo>
                  <a:lnTo>
                    <a:pt x="5745" y="1515"/>
                  </a:lnTo>
                  <a:lnTo>
                    <a:pt x="5710" y="1314"/>
                  </a:lnTo>
                  <a:lnTo>
                    <a:pt x="5660" y="1097"/>
                  </a:lnTo>
                  <a:lnTo>
                    <a:pt x="5584" y="998"/>
                  </a:lnTo>
                  <a:lnTo>
                    <a:pt x="5521" y="966"/>
                  </a:lnTo>
                  <a:lnTo>
                    <a:pt x="5424" y="936"/>
                  </a:lnTo>
                  <a:lnTo>
                    <a:pt x="4848" y="717"/>
                  </a:lnTo>
                  <a:lnTo>
                    <a:pt x="4240" y="438"/>
                  </a:lnTo>
                  <a:lnTo>
                    <a:pt x="3850" y="267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619400" y="6104160"/>
              <a:ext cx="69120" cy="61920"/>
            </a:xfrm>
            <a:custGeom>
              <a:avLst/>
              <a:gdLst/>
              <a:ahLst/>
              <a:rect l="l" t="t" r="r" b="b"/>
              <a:pathLst>
                <a:path w="904" h="929">
                  <a:moveTo>
                    <a:pt x="626" y="0"/>
                  </a:moveTo>
                  <a:lnTo>
                    <a:pt x="904" y="74"/>
                  </a:lnTo>
                  <a:lnTo>
                    <a:pt x="720" y="221"/>
                  </a:lnTo>
                  <a:lnTo>
                    <a:pt x="477" y="584"/>
                  </a:lnTo>
                  <a:lnTo>
                    <a:pt x="293" y="929"/>
                  </a:lnTo>
                  <a:lnTo>
                    <a:pt x="0" y="843"/>
                  </a:lnTo>
                  <a:lnTo>
                    <a:pt x="26" y="558"/>
                  </a:lnTo>
                  <a:lnTo>
                    <a:pt x="132" y="378"/>
                  </a:lnTo>
                  <a:lnTo>
                    <a:pt x="277" y="228"/>
                  </a:lnTo>
                  <a:lnTo>
                    <a:pt x="487" y="74"/>
                  </a:lnTo>
                  <a:lnTo>
                    <a:pt x="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618680" y="6115680"/>
              <a:ext cx="39600" cy="50760"/>
            </a:xfrm>
            <a:custGeom>
              <a:avLst/>
              <a:gdLst/>
              <a:ahLst/>
              <a:rect l="l" t="t" r="r" b="b"/>
              <a:pathLst>
                <a:path w="521" h="763">
                  <a:moveTo>
                    <a:pt x="402" y="0"/>
                  </a:moveTo>
                  <a:lnTo>
                    <a:pt x="249" y="172"/>
                  </a:lnTo>
                  <a:lnTo>
                    <a:pt x="152" y="366"/>
                  </a:lnTo>
                  <a:lnTo>
                    <a:pt x="327" y="378"/>
                  </a:lnTo>
                  <a:lnTo>
                    <a:pt x="521" y="212"/>
                  </a:lnTo>
                  <a:lnTo>
                    <a:pt x="378" y="535"/>
                  </a:lnTo>
                  <a:lnTo>
                    <a:pt x="327" y="763"/>
                  </a:lnTo>
                  <a:lnTo>
                    <a:pt x="0" y="763"/>
                  </a:lnTo>
                  <a:lnTo>
                    <a:pt x="11" y="574"/>
                  </a:lnTo>
                  <a:lnTo>
                    <a:pt x="77" y="322"/>
                  </a:lnTo>
                  <a:lnTo>
                    <a:pt x="207" y="17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652880" y="5816880"/>
              <a:ext cx="114840" cy="259560"/>
            </a:xfrm>
            <a:custGeom>
              <a:avLst/>
              <a:gdLst/>
              <a:ahLst/>
              <a:rect l="l" t="t" r="r" b="b"/>
              <a:pathLst>
                <a:path w="1500" h="3892">
                  <a:moveTo>
                    <a:pt x="143" y="0"/>
                  </a:moveTo>
                  <a:lnTo>
                    <a:pt x="1500" y="561"/>
                  </a:lnTo>
                  <a:lnTo>
                    <a:pt x="1500" y="1046"/>
                  </a:lnTo>
                  <a:lnTo>
                    <a:pt x="1426" y="1553"/>
                  </a:lnTo>
                  <a:lnTo>
                    <a:pt x="1336" y="2078"/>
                  </a:lnTo>
                  <a:lnTo>
                    <a:pt x="1193" y="2760"/>
                  </a:lnTo>
                  <a:lnTo>
                    <a:pt x="1053" y="3259"/>
                  </a:lnTo>
                  <a:lnTo>
                    <a:pt x="815" y="3892"/>
                  </a:lnTo>
                  <a:lnTo>
                    <a:pt x="774" y="3293"/>
                  </a:lnTo>
                  <a:lnTo>
                    <a:pt x="642" y="2523"/>
                  </a:lnTo>
                  <a:lnTo>
                    <a:pt x="560" y="2041"/>
                  </a:lnTo>
                  <a:lnTo>
                    <a:pt x="488" y="1659"/>
                  </a:lnTo>
                  <a:lnTo>
                    <a:pt x="338" y="1336"/>
                  </a:lnTo>
                  <a:lnTo>
                    <a:pt x="172" y="995"/>
                  </a:lnTo>
                  <a:lnTo>
                    <a:pt x="43" y="705"/>
                  </a:lnTo>
                  <a:lnTo>
                    <a:pt x="0" y="497"/>
                  </a:lnTo>
                  <a:lnTo>
                    <a:pt x="0" y="301"/>
                  </a:lnTo>
                  <a:lnTo>
                    <a:pt x="66" y="121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693200" y="5885640"/>
              <a:ext cx="37080" cy="192240"/>
            </a:xfrm>
            <a:custGeom>
              <a:avLst/>
              <a:gdLst/>
              <a:ahLst/>
              <a:rect l="l" t="t" r="r" b="b"/>
              <a:pathLst>
                <a:path w="486" h="2874">
                  <a:moveTo>
                    <a:pt x="194" y="0"/>
                  </a:moveTo>
                  <a:lnTo>
                    <a:pt x="51" y="126"/>
                  </a:lnTo>
                  <a:lnTo>
                    <a:pt x="139" y="455"/>
                  </a:lnTo>
                  <a:lnTo>
                    <a:pt x="0" y="806"/>
                  </a:lnTo>
                  <a:lnTo>
                    <a:pt x="81" y="1235"/>
                  </a:lnTo>
                  <a:lnTo>
                    <a:pt x="178" y="1853"/>
                  </a:lnTo>
                  <a:lnTo>
                    <a:pt x="265" y="2463"/>
                  </a:lnTo>
                  <a:lnTo>
                    <a:pt x="328" y="2874"/>
                  </a:lnTo>
                  <a:lnTo>
                    <a:pt x="486" y="2371"/>
                  </a:lnTo>
                  <a:lnTo>
                    <a:pt x="459" y="1973"/>
                  </a:lnTo>
                  <a:lnTo>
                    <a:pt x="440" y="1265"/>
                  </a:lnTo>
                  <a:lnTo>
                    <a:pt x="436" y="857"/>
                  </a:lnTo>
                  <a:lnTo>
                    <a:pt x="401" y="622"/>
                  </a:lnTo>
                  <a:lnTo>
                    <a:pt x="365" y="477"/>
                  </a:lnTo>
                  <a:lnTo>
                    <a:pt x="440" y="248"/>
                  </a:lnTo>
                  <a:lnTo>
                    <a:pt x="355" y="2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693200" y="5887080"/>
              <a:ext cx="35280" cy="157320"/>
            </a:xfrm>
            <a:custGeom>
              <a:avLst/>
              <a:gdLst/>
              <a:ahLst/>
              <a:rect l="l" t="t" r="r" b="b"/>
              <a:pathLst>
                <a:path w="459" h="2362">
                  <a:moveTo>
                    <a:pt x="365" y="94"/>
                  </a:moveTo>
                  <a:lnTo>
                    <a:pt x="288" y="79"/>
                  </a:lnTo>
                  <a:lnTo>
                    <a:pt x="207" y="169"/>
                  </a:lnTo>
                  <a:lnTo>
                    <a:pt x="247" y="433"/>
                  </a:lnTo>
                  <a:lnTo>
                    <a:pt x="288" y="433"/>
                  </a:lnTo>
                  <a:lnTo>
                    <a:pt x="385" y="272"/>
                  </a:lnTo>
                  <a:lnTo>
                    <a:pt x="355" y="523"/>
                  </a:lnTo>
                  <a:lnTo>
                    <a:pt x="440" y="875"/>
                  </a:lnTo>
                  <a:lnTo>
                    <a:pt x="436" y="1701"/>
                  </a:lnTo>
                  <a:lnTo>
                    <a:pt x="459" y="2362"/>
                  </a:lnTo>
                  <a:lnTo>
                    <a:pt x="401" y="2000"/>
                  </a:lnTo>
                  <a:lnTo>
                    <a:pt x="365" y="1542"/>
                  </a:lnTo>
                  <a:lnTo>
                    <a:pt x="355" y="1097"/>
                  </a:lnTo>
                  <a:lnTo>
                    <a:pt x="339" y="848"/>
                  </a:lnTo>
                  <a:lnTo>
                    <a:pt x="265" y="613"/>
                  </a:lnTo>
                  <a:lnTo>
                    <a:pt x="247" y="940"/>
                  </a:lnTo>
                  <a:lnTo>
                    <a:pt x="178" y="1009"/>
                  </a:lnTo>
                  <a:lnTo>
                    <a:pt x="139" y="940"/>
                  </a:lnTo>
                  <a:lnTo>
                    <a:pt x="207" y="606"/>
                  </a:lnTo>
                  <a:lnTo>
                    <a:pt x="104" y="769"/>
                  </a:lnTo>
                  <a:lnTo>
                    <a:pt x="51" y="1085"/>
                  </a:lnTo>
                  <a:lnTo>
                    <a:pt x="0" y="797"/>
                  </a:lnTo>
                  <a:lnTo>
                    <a:pt x="139" y="446"/>
                  </a:lnTo>
                  <a:lnTo>
                    <a:pt x="69" y="117"/>
                  </a:lnTo>
                  <a:lnTo>
                    <a:pt x="171" y="0"/>
                  </a:lnTo>
                  <a:lnTo>
                    <a:pt x="339" y="15"/>
                  </a:lnTo>
                  <a:lnTo>
                    <a:pt x="365" y="94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721280" y="5856840"/>
              <a:ext cx="46800" cy="182520"/>
            </a:xfrm>
            <a:custGeom>
              <a:avLst/>
              <a:gdLst/>
              <a:ahLst/>
              <a:rect l="l" t="t" r="r" b="b"/>
              <a:pathLst>
                <a:path w="620" h="2734">
                  <a:moveTo>
                    <a:pt x="94" y="1255"/>
                  </a:moveTo>
                  <a:lnTo>
                    <a:pt x="266" y="953"/>
                  </a:lnTo>
                  <a:lnTo>
                    <a:pt x="394" y="758"/>
                  </a:lnTo>
                  <a:lnTo>
                    <a:pt x="354" y="1204"/>
                  </a:lnTo>
                  <a:lnTo>
                    <a:pt x="266" y="1709"/>
                  </a:lnTo>
                  <a:lnTo>
                    <a:pt x="106" y="2410"/>
                  </a:lnTo>
                  <a:lnTo>
                    <a:pt x="130" y="2734"/>
                  </a:lnTo>
                  <a:lnTo>
                    <a:pt x="369" y="1831"/>
                  </a:lnTo>
                  <a:lnTo>
                    <a:pt x="525" y="1125"/>
                  </a:lnTo>
                  <a:lnTo>
                    <a:pt x="589" y="703"/>
                  </a:lnTo>
                  <a:lnTo>
                    <a:pt x="620" y="224"/>
                  </a:lnTo>
                  <a:lnTo>
                    <a:pt x="608" y="0"/>
                  </a:lnTo>
                  <a:lnTo>
                    <a:pt x="477" y="105"/>
                  </a:lnTo>
                  <a:lnTo>
                    <a:pt x="477" y="277"/>
                  </a:lnTo>
                  <a:lnTo>
                    <a:pt x="428" y="540"/>
                  </a:lnTo>
                  <a:lnTo>
                    <a:pt x="233" y="899"/>
                  </a:lnTo>
                  <a:lnTo>
                    <a:pt x="75" y="639"/>
                  </a:lnTo>
                  <a:lnTo>
                    <a:pt x="0" y="945"/>
                  </a:lnTo>
                  <a:lnTo>
                    <a:pt x="71" y="1140"/>
                  </a:lnTo>
                  <a:lnTo>
                    <a:pt x="94" y="12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683480" y="5894280"/>
              <a:ext cx="20520" cy="42120"/>
            </a:xfrm>
            <a:custGeom>
              <a:avLst/>
              <a:gdLst/>
              <a:ahLst/>
              <a:rect l="l" t="t" r="r" b="b"/>
              <a:pathLst>
                <a:path w="268" h="627">
                  <a:moveTo>
                    <a:pt x="108" y="627"/>
                  </a:moveTo>
                  <a:lnTo>
                    <a:pt x="0" y="249"/>
                  </a:lnTo>
                  <a:lnTo>
                    <a:pt x="159" y="0"/>
                  </a:lnTo>
                  <a:lnTo>
                    <a:pt x="268" y="329"/>
                  </a:lnTo>
                  <a:lnTo>
                    <a:pt x="198" y="512"/>
                  </a:lnTo>
                  <a:lnTo>
                    <a:pt x="108" y="627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652880" y="5816880"/>
              <a:ext cx="16200" cy="59760"/>
            </a:xfrm>
            <a:custGeom>
              <a:avLst/>
              <a:gdLst/>
              <a:ahLst/>
              <a:rect l="l" t="t" r="r" b="b"/>
              <a:pathLst>
                <a:path w="211" h="900">
                  <a:moveTo>
                    <a:pt x="211" y="549"/>
                  </a:moveTo>
                  <a:lnTo>
                    <a:pt x="161" y="681"/>
                  </a:lnTo>
                  <a:lnTo>
                    <a:pt x="132" y="780"/>
                  </a:lnTo>
                  <a:lnTo>
                    <a:pt x="119" y="900"/>
                  </a:lnTo>
                  <a:lnTo>
                    <a:pt x="50" y="705"/>
                  </a:lnTo>
                  <a:lnTo>
                    <a:pt x="0" y="561"/>
                  </a:lnTo>
                  <a:lnTo>
                    <a:pt x="0" y="354"/>
                  </a:lnTo>
                  <a:lnTo>
                    <a:pt x="43" y="209"/>
                  </a:lnTo>
                  <a:lnTo>
                    <a:pt x="96" y="66"/>
                  </a:lnTo>
                  <a:lnTo>
                    <a:pt x="143" y="0"/>
                  </a:lnTo>
                  <a:lnTo>
                    <a:pt x="182" y="323"/>
                  </a:lnTo>
                  <a:lnTo>
                    <a:pt x="211" y="54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647480" y="6222600"/>
              <a:ext cx="259560" cy="128160"/>
            </a:xfrm>
            <a:custGeom>
              <a:avLst/>
              <a:gdLst/>
              <a:ahLst/>
              <a:rect l="l" t="t" r="r" b="b"/>
              <a:pathLst>
                <a:path w="3405" h="1922">
                  <a:moveTo>
                    <a:pt x="2938" y="0"/>
                  </a:moveTo>
                  <a:lnTo>
                    <a:pt x="2852" y="59"/>
                  </a:lnTo>
                  <a:lnTo>
                    <a:pt x="2017" y="375"/>
                  </a:lnTo>
                  <a:lnTo>
                    <a:pt x="1040" y="587"/>
                  </a:lnTo>
                  <a:lnTo>
                    <a:pt x="581" y="949"/>
                  </a:lnTo>
                  <a:lnTo>
                    <a:pt x="565" y="1028"/>
                  </a:lnTo>
                  <a:lnTo>
                    <a:pt x="191" y="1074"/>
                  </a:lnTo>
                  <a:lnTo>
                    <a:pt x="0" y="1173"/>
                  </a:lnTo>
                  <a:lnTo>
                    <a:pt x="0" y="1274"/>
                  </a:lnTo>
                  <a:lnTo>
                    <a:pt x="1980" y="1922"/>
                  </a:lnTo>
                  <a:lnTo>
                    <a:pt x="2246" y="1371"/>
                  </a:lnTo>
                  <a:lnTo>
                    <a:pt x="3405" y="501"/>
                  </a:lnTo>
                  <a:lnTo>
                    <a:pt x="3331" y="241"/>
                  </a:lnTo>
                  <a:lnTo>
                    <a:pt x="3094" y="0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693200" y="6292080"/>
              <a:ext cx="23040" cy="11160"/>
            </a:xfrm>
            <a:custGeom>
              <a:avLst/>
              <a:gdLst/>
              <a:ahLst/>
              <a:rect l="l" t="t" r="r" b="b"/>
              <a:pathLst>
                <a:path w="308" h="163">
                  <a:moveTo>
                    <a:pt x="34" y="51"/>
                  </a:moveTo>
                  <a:lnTo>
                    <a:pt x="0" y="81"/>
                  </a:lnTo>
                  <a:lnTo>
                    <a:pt x="4" y="123"/>
                  </a:lnTo>
                  <a:lnTo>
                    <a:pt x="31" y="143"/>
                  </a:lnTo>
                  <a:lnTo>
                    <a:pt x="244" y="163"/>
                  </a:lnTo>
                  <a:lnTo>
                    <a:pt x="297" y="132"/>
                  </a:lnTo>
                  <a:lnTo>
                    <a:pt x="308" y="77"/>
                  </a:lnTo>
                  <a:lnTo>
                    <a:pt x="279" y="18"/>
                  </a:lnTo>
                  <a:lnTo>
                    <a:pt x="226" y="0"/>
                  </a:lnTo>
                  <a:lnTo>
                    <a:pt x="34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648200" y="6298920"/>
              <a:ext cx="24120" cy="9360"/>
            </a:xfrm>
            <a:custGeom>
              <a:avLst/>
              <a:gdLst/>
              <a:ahLst/>
              <a:rect l="l" t="t" r="r" b="b"/>
              <a:pathLst>
                <a:path w="319" h="145">
                  <a:moveTo>
                    <a:pt x="0" y="111"/>
                  </a:moveTo>
                  <a:lnTo>
                    <a:pt x="13" y="40"/>
                  </a:lnTo>
                  <a:lnTo>
                    <a:pt x="109" y="0"/>
                  </a:lnTo>
                  <a:lnTo>
                    <a:pt x="209" y="0"/>
                  </a:lnTo>
                  <a:lnTo>
                    <a:pt x="294" y="33"/>
                  </a:lnTo>
                  <a:lnTo>
                    <a:pt x="319" y="99"/>
                  </a:lnTo>
                  <a:lnTo>
                    <a:pt x="308" y="134"/>
                  </a:lnTo>
                  <a:lnTo>
                    <a:pt x="282" y="14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552080" y="6156360"/>
              <a:ext cx="135000" cy="79560"/>
            </a:xfrm>
            <a:custGeom>
              <a:avLst/>
              <a:gdLst/>
              <a:ahLst/>
              <a:rect l="l" t="t" r="r" b="b"/>
              <a:pathLst>
                <a:path w="1763" h="1187">
                  <a:moveTo>
                    <a:pt x="0" y="653"/>
                  </a:moveTo>
                  <a:lnTo>
                    <a:pt x="115" y="226"/>
                  </a:lnTo>
                  <a:lnTo>
                    <a:pt x="569" y="0"/>
                  </a:lnTo>
                  <a:lnTo>
                    <a:pt x="827" y="131"/>
                  </a:lnTo>
                  <a:lnTo>
                    <a:pt x="1193" y="157"/>
                  </a:lnTo>
                  <a:lnTo>
                    <a:pt x="1268" y="226"/>
                  </a:lnTo>
                  <a:lnTo>
                    <a:pt x="1290" y="291"/>
                  </a:lnTo>
                  <a:lnTo>
                    <a:pt x="1464" y="376"/>
                  </a:lnTo>
                  <a:lnTo>
                    <a:pt x="1572" y="458"/>
                  </a:lnTo>
                  <a:lnTo>
                    <a:pt x="1624" y="466"/>
                  </a:lnTo>
                  <a:lnTo>
                    <a:pt x="1763" y="553"/>
                  </a:lnTo>
                  <a:lnTo>
                    <a:pt x="1756" y="629"/>
                  </a:lnTo>
                  <a:lnTo>
                    <a:pt x="1585" y="783"/>
                  </a:lnTo>
                  <a:lnTo>
                    <a:pt x="1597" y="911"/>
                  </a:lnTo>
                  <a:lnTo>
                    <a:pt x="1657" y="917"/>
                  </a:lnTo>
                  <a:lnTo>
                    <a:pt x="1659" y="1035"/>
                  </a:lnTo>
                  <a:lnTo>
                    <a:pt x="1488" y="1176"/>
                  </a:lnTo>
                  <a:lnTo>
                    <a:pt x="1027" y="1187"/>
                  </a:lnTo>
                  <a:lnTo>
                    <a:pt x="0" y="6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513560" y="6193080"/>
              <a:ext cx="103320" cy="65160"/>
            </a:xfrm>
            <a:custGeom>
              <a:avLst/>
              <a:gdLst/>
              <a:ahLst/>
              <a:rect l="l" t="t" r="r" b="b"/>
              <a:pathLst>
                <a:path w="1351" h="980">
                  <a:moveTo>
                    <a:pt x="0" y="393"/>
                  </a:moveTo>
                  <a:lnTo>
                    <a:pt x="4" y="296"/>
                  </a:lnTo>
                  <a:lnTo>
                    <a:pt x="16" y="176"/>
                  </a:lnTo>
                  <a:lnTo>
                    <a:pt x="66" y="17"/>
                  </a:lnTo>
                  <a:lnTo>
                    <a:pt x="389" y="5"/>
                  </a:lnTo>
                  <a:lnTo>
                    <a:pt x="514" y="0"/>
                  </a:lnTo>
                  <a:lnTo>
                    <a:pt x="837" y="31"/>
                  </a:lnTo>
                  <a:lnTo>
                    <a:pt x="998" y="81"/>
                  </a:lnTo>
                  <a:lnTo>
                    <a:pt x="1095" y="145"/>
                  </a:lnTo>
                  <a:lnTo>
                    <a:pt x="1249" y="259"/>
                  </a:lnTo>
                  <a:lnTo>
                    <a:pt x="1330" y="409"/>
                  </a:lnTo>
                  <a:lnTo>
                    <a:pt x="1351" y="563"/>
                  </a:lnTo>
                  <a:lnTo>
                    <a:pt x="1351" y="708"/>
                  </a:lnTo>
                  <a:lnTo>
                    <a:pt x="1330" y="846"/>
                  </a:lnTo>
                  <a:lnTo>
                    <a:pt x="1270" y="980"/>
                  </a:lnTo>
                  <a:lnTo>
                    <a:pt x="1240" y="773"/>
                  </a:lnTo>
                  <a:lnTo>
                    <a:pt x="1185" y="628"/>
                  </a:lnTo>
                  <a:lnTo>
                    <a:pt x="1072" y="487"/>
                  </a:lnTo>
                  <a:lnTo>
                    <a:pt x="945" y="369"/>
                  </a:lnTo>
                  <a:lnTo>
                    <a:pt x="756" y="316"/>
                  </a:lnTo>
                  <a:lnTo>
                    <a:pt x="589" y="294"/>
                  </a:lnTo>
                  <a:lnTo>
                    <a:pt x="362" y="296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936200" y="5659200"/>
              <a:ext cx="298800" cy="215640"/>
            </a:xfrm>
            <a:custGeom>
              <a:avLst/>
              <a:gdLst/>
              <a:ahLst/>
              <a:rect l="l" t="t" r="r" b="b"/>
              <a:pathLst>
                <a:path w="3911" h="3232">
                  <a:moveTo>
                    <a:pt x="426" y="1795"/>
                  </a:moveTo>
                  <a:lnTo>
                    <a:pt x="180" y="1718"/>
                  </a:lnTo>
                  <a:lnTo>
                    <a:pt x="37" y="1609"/>
                  </a:lnTo>
                  <a:lnTo>
                    <a:pt x="0" y="1478"/>
                  </a:lnTo>
                  <a:lnTo>
                    <a:pt x="26" y="1333"/>
                  </a:lnTo>
                  <a:lnTo>
                    <a:pt x="37" y="1160"/>
                  </a:lnTo>
                  <a:lnTo>
                    <a:pt x="120" y="995"/>
                  </a:lnTo>
                  <a:lnTo>
                    <a:pt x="237" y="905"/>
                  </a:lnTo>
                  <a:lnTo>
                    <a:pt x="346" y="850"/>
                  </a:lnTo>
                  <a:lnTo>
                    <a:pt x="386" y="749"/>
                  </a:lnTo>
                  <a:lnTo>
                    <a:pt x="459" y="689"/>
                  </a:lnTo>
                  <a:lnTo>
                    <a:pt x="614" y="659"/>
                  </a:lnTo>
                  <a:lnTo>
                    <a:pt x="777" y="433"/>
                  </a:lnTo>
                  <a:lnTo>
                    <a:pt x="1035" y="292"/>
                  </a:lnTo>
                  <a:lnTo>
                    <a:pt x="1300" y="268"/>
                  </a:lnTo>
                  <a:lnTo>
                    <a:pt x="1515" y="90"/>
                  </a:lnTo>
                  <a:lnTo>
                    <a:pt x="1707" y="57"/>
                  </a:lnTo>
                  <a:lnTo>
                    <a:pt x="1914" y="65"/>
                  </a:lnTo>
                  <a:lnTo>
                    <a:pt x="2221" y="0"/>
                  </a:lnTo>
                  <a:lnTo>
                    <a:pt x="2474" y="39"/>
                  </a:lnTo>
                  <a:lnTo>
                    <a:pt x="2624" y="79"/>
                  </a:lnTo>
                  <a:lnTo>
                    <a:pt x="2795" y="90"/>
                  </a:lnTo>
                  <a:lnTo>
                    <a:pt x="2933" y="178"/>
                  </a:lnTo>
                  <a:lnTo>
                    <a:pt x="3048" y="281"/>
                  </a:lnTo>
                  <a:lnTo>
                    <a:pt x="3254" y="332"/>
                  </a:lnTo>
                  <a:lnTo>
                    <a:pt x="3440" y="468"/>
                  </a:lnTo>
                  <a:lnTo>
                    <a:pt x="3659" y="714"/>
                  </a:lnTo>
                  <a:lnTo>
                    <a:pt x="3788" y="943"/>
                  </a:lnTo>
                  <a:lnTo>
                    <a:pt x="3880" y="1259"/>
                  </a:lnTo>
                  <a:lnTo>
                    <a:pt x="3911" y="1609"/>
                  </a:lnTo>
                  <a:lnTo>
                    <a:pt x="3850" y="1936"/>
                  </a:lnTo>
                  <a:lnTo>
                    <a:pt x="3647" y="2254"/>
                  </a:lnTo>
                  <a:lnTo>
                    <a:pt x="3331" y="2704"/>
                  </a:lnTo>
                  <a:lnTo>
                    <a:pt x="2819" y="3232"/>
                  </a:lnTo>
                  <a:lnTo>
                    <a:pt x="1349" y="2428"/>
                  </a:lnTo>
                  <a:lnTo>
                    <a:pt x="426" y="1795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953480" y="5766480"/>
              <a:ext cx="191880" cy="189720"/>
            </a:xfrm>
            <a:custGeom>
              <a:avLst/>
              <a:gdLst/>
              <a:ahLst/>
              <a:rect l="l" t="t" r="r" b="b"/>
              <a:pathLst>
                <a:path w="2514" h="2843">
                  <a:moveTo>
                    <a:pt x="1734" y="570"/>
                  </a:moveTo>
                  <a:lnTo>
                    <a:pt x="1644" y="621"/>
                  </a:lnTo>
                  <a:lnTo>
                    <a:pt x="1556" y="744"/>
                  </a:lnTo>
                  <a:lnTo>
                    <a:pt x="1262" y="645"/>
                  </a:lnTo>
                  <a:lnTo>
                    <a:pt x="840" y="232"/>
                  </a:lnTo>
                  <a:lnTo>
                    <a:pt x="524" y="146"/>
                  </a:lnTo>
                  <a:lnTo>
                    <a:pt x="409" y="0"/>
                  </a:lnTo>
                  <a:lnTo>
                    <a:pt x="330" y="41"/>
                  </a:lnTo>
                  <a:lnTo>
                    <a:pt x="242" y="159"/>
                  </a:lnTo>
                  <a:lnTo>
                    <a:pt x="156" y="645"/>
                  </a:lnTo>
                  <a:lnTo>
                    <a:pt x="178" y="744"/>
                  </a:lnTo>
                  <a:lnTo>
                    <a:pt x="242" y="854"/>
                  </a:lnTo>
                  <a:lnTo>
                    <a:pt x="264" y="984"/>
                  </a:lnTo>
                  <a:lnTo>
                    <a:pt x="264" y="1125"/>
                  </a:lnTo>
                  <a:lnTo>
                    <a:pt x="229" y="1252"/>
                  </a:lnTo>
                  <a:lnTo>
                    <a:pt x="0" y="1713"/>
                  </a:lnTo>
                  <a:lnTo>
                    <a:pt x="24" y="1790"/>
                  </a:lnTo>
                  <a:lnTo>
                    <a:pt x="303" y="1773"/>
                  </a:lnTo>
                  <a:lnTo>
                    <a:pt x="384" y="1979"/>
                  </a:lnTo>
                  <a:lnTo>
                    <a:pt x="460" y="2003"/>
                  </a:lnTo>
                  <a:lnTo>
                    <a:pt x="547" y="2170"/>
                  </a:lnTo>
                  <a:lnTo>
                    <a:pt x="483" y="2267"/>
                  </a:lnTo>
                  <a:lnTo>
                    <a:pt x="483" y="2298"/>
                  </a:lnTo>
                  <a:lnTo>
                    <a:pt x="596" y="2419"/>
                  </a:lnTo>
                  <a:lnTo>
                    <a:pt x="596" y="2504"/>
                  </a:lnTo>
                  <a:lnTo>
                    <a:pt x="561" y="2579"/>
                  </a:lnTo>
                  <a:lnTo>
                    <a:pt x="572" y="2698"/>
                  </a:lnTo>
                  <a:lnTo>
                    <a:pt x="622" y="2735"/>
                  </a:lnTo>
                  <a:lnTo>
                    <a:pt x="723" y="2764"/>
                  </a:lnTo>
                  <a:lnTo>
                    <a:pt x="1402" y="2698"/>
                  </a:lnTo>
                  <a:lnTo>
                    <a:pt x="1684" y="2843"/>
                  </a:lnTo>
                  <a:lnTo>
                    <a:pt x="1824" y="2612"/>
                  </a:lnTo>
                  <a:lnTo>
                    <a:pt x="1963" y="2483"/>
                  </a:lnTo>
                  <a:lnTo>
                    <a:pt x="2209" y="2232"/>
                  </a:lnTo>
                  <a:lnTo>
                    <a:pt x="2514" y="1979"/>
                  </a:lnTo>
                  <a:lnTo>
                    <a:pt x="2260" y="1162"/>
                  </a:lnTo>
                  <a:lnTo>
                    <a:pt x="2165" y="667"/>
                  </a:lnTo>
                  <a:lnTo>
                    <a:pt x="1951" y="524"/>
                  </a:lnTo>
                  <a:lnTo>
                    <a:pt x="1734" y="57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068680" y="5859720"/>
              <a:ext cx="24840" cy="21600"/>
            </a:xfrm>
            <a:custGeom>
              <a:avLst/>
              <a:gdLst/>
              <a:ahLst/>
              <a:rect l="l" t="t" r="r" b="b"/>
              <a:pathLst>
                <a:path w="334" h="330">
                  <a:moveTo>
                    <a:pt x="230" y="0"/>
                  </a:moveTo>
                  <a:lnTo>
                    <a:pt x="155" y="20"/>
                  </a:lnTo>
                  <a:lnTo>
                    <a:pt x="65" y="47"/>
                  </a:lnTo>
                  <a:lnTo>
                    <a:pt x="0" y="130"/>
                  </a:lnTo>
                  <a:lnTo>
                    <a:pt x="0" y="231"/>
                  </a:lnTo>
                  <a:lnTo>
                    <a:pt x="52" y="321"/>
                  </a:lnTo>
                  <a:lnTo>
                    <a:pt x="155" y="330"/>
                  </a:lnTo>
                  <a:lnTo>
                    <a:pt x="281" y="291"/>
                  </a:lnTo>
                  <a:lnTo>
                    <a:pt x="334" y="215"/>
                  </a:lnTo>
                  <a:lnTo>
                    <a:pt x="334" y="104"/>
                  </a:lnTo>
                  <a:lnTo>
                    <a:pt x="291" y="4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990200" y="5902920"/>
              <a:ext cx="13320" cy="14760"/>
            </a:xfrm>
            <a:custGeom>
              <a:avLst/>
              <a:gdLst/>
              <a:ahLst/>
              <a:rect l="l" t="t" r="r" b="b"/>
              <a:pathLst>
                <a:path w="179" h="227">
                  <a:moveTo>
                    <a:pt x="0" y="137"/>
                  </a:moveTo>
                  <a:lnTo>
                    <a:pt x="0" y="227"/>
                  </a:lnTo>
                  <a:lnTo>
                    <a:pt x="168" y="130"/>
                  </a:lnTo>
                  <a:lnTo>
                    <a:pt x="179" y="0"/>
                  </a:lnTo>
                  <a:lnTo>
                    <a:pt x="51" y="8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988040" y="5897520"/>
              <a:ext cx="18360" cy="14400"/>
            </a:xfrm>
            <a:custGeom>
              <a:avLst/>
              <a:gdLst/>
              <a:ahLst/>
              <a:rect l="l" t="t" r="r" b="b"/>
              <a:pathLst>
                <a:path w="242" h="213">
                  <a:moveTo>
                    <a:pt x="0" y="51"/>
                  </a:moveTo>
                  <a:lnTo>
                    <a:pt x="64" y="213"/>
                  </a:lnTo>
                  <a:lnTo>
                    <a:pt x="203" y="152"/>
                  </a:lnTo>
                  <a:lnTo>
                    <a:pt x="242" y="39"/>
                  </a:lnTo>
                  <a:lnTo>
                    <a:pt x="124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970760" y="5818320"/>
              <a:ext cx="20520" cy="15840"/>
            </a:xfrm>
            <a:custGeom>
              <a:avLst/>
              <a:gdLst/>
              <a:ahLst/>
              <a:rect l="l" t="t" r="r" b="b"/>
              <a:pathLst>
                <a:path w="270" h="242">
                  <a:moveTo>
                    <a:pt x="136" y="40"/>
                  </a:moveTo>
                  <a:lnTo>
                    <a:pt x="270" y="242"/>
                  </a:lnTo>
                  <a:lnTo>
                    <a:pt x="28" y="102"/>
                  </a:lnTo>
                  <a:lnTo>
                    <a:pt x="0" y="28"/>
                  </a:lnTo>
                  <a:lnTo>
                    <a:pt x="55" y="0"/>
                  </a:lnTo>
                  <a:lnTo>
                    <a:pt x="136" y="4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214760" y="5684400"/>
              <a:ext cx="249840" cy="149400"/>
            </a:xfrm>
            <a:custGeom>
              <a:avLst/>
              <a:gdLst/>
              <a:ahLst/>
              <a:rect l="l" t="t" r="r" b="b"/>
              <a:pathLst>
                <a:path w="3274" h="2237">
                  <a:moveTo>
                    <a:pt x="19" y="2140"/>
                  </a:moveTo>
                  <a:lnTo>
                    <a:pt x="35" y="1930"/>
                  </a:lnTo>
                  <a:lnTo>
                    <a:pt x="0" y="1342"/>
                  </a:lnTo>
                  <a:lnTo>
                    <a:pt x="61" y="1035"/>
                  </a:lnTo>
                  <a:lnTo>
                    <a:pt x="229" y="760"/>
                  </a:lnTo>
                  <a:lnTo>
                    <a:pt x="397" y="468"/>
                  </a:lnTo>
                  <a:lnTo>
                    <a:pt x="740" y="226"/>
                  </a:lnTo>
                  <a:lnTo>
                    <a:pt x="1169" y="77"/>
                  </a:lnTo>
                  <a:lnTo>
                    <a:pt x="1511" y="7"/>
                  </a:lnTo>
                  <a:lnTo>
                    <a:pt x="1894" y="0"/>
                  </a:lnTo>
                  <a:lnTo>
                    <a:pt x="2338" y="127"/>
                  </a:lnTo>
                  <a:lnTo>
                    <a:pt x="2654" y="296"/>
                  </a:lnTo>
                  <a:lnTo>
                    <a:pt x="2922" y="487"/>
                  </a:lnTo>
                  <a:lnTo>
                    <a:pt x="3103" y="549"/>
                  </a:lnTo>
                  <a:lnTo>
                    <a:pt x="3252" y="694"/>
                  </a:lnTo>
                  <a:lnTo>
                    <a:pt x="3274" y="844"/>
                  </a:lnTo>
                  <a:lnTo>
                    <a:pt x="3223" y="945"/>
                  </a:lnTo>
                  <a:lnTo>
                    <a:pt x="3078" y="973"/>
                  </a:lnTo>
                  <a:lnTo>
                    <a:pt x="136" y="2237"/>
                  </a:lnTo>
                  <a:lnTo>
                    <a:pt x="19" y="214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206120" y="5734080"/>
              <a:ext cx="267480" cy="206640"/>
            </a:xfrm>
            <a:custGeom>
              <a:avLst/>
              <a:gdLst/>
              <a:ahLst/>
              <a:rect l="l" t="t" r="r" b="b"/>
              <a:pathLst>
                <a:path w="3504" h="3096">
                  <a:moveTo>
                    <a:pt x="0" y="1865"/>
                  </a:moveTo>
                  <a:lnTo>
                    <a:pt x="345" y="1955"/>
                  </a:lnTo>
                  <a:lnTo>
                    <a:pt x="710" y="2087"/>
                  </a:lnTo>
                  <a:lnTo>
                    <a:pt x="1097" y="2344"/>
                  </a:lnTo>
                  <a:lnTo>
                    <a:pt x="1365" y="2591"/>
                  </a:lnTo>
                  <a:lnTo>
                    <a:pt x="1696" y="2953"/>
                  </a:lnTo>
                  <a:lnTo>
                    <a:pt x="2865" y="3096"/>
                  </a:lnTo>
                  <a:lnTo>
                    <a:pt x="2921" y="3023"/>
                  </a:lnTo>
                  <a:lnTo>
                    <a:pt x="2921" y="2889"/>
                  </a:lnTo>
                  <a:lnTo>
                    <a:pt x="2949" y="2817"/>
                  </a:lnTo>
                  <a:lnTo>
                    <a:pt x="3024" y="2740"/>
                  </a:lnTo>
                  <a:lnTo>
                    <a:pt x="3017" y="2600"/>
                  </a:lnTo>
                  <a:lnTo>
                    <a:pt x="2826" y="2469"/>
                  </a:lnTo>
                  <a:lnTo>
                    <a:pt x="3032" y="2419"/>
                  </a:lnTo>
                  <a:lnTo>
                    <a:pt x="3098" y="2213"/>
                  </a:lnTo>
                  <a:lnTo>
                    <a:pt x="3173" y="2167"/>
                  </a:lnTo>
                  <a:lnTo>
                    <a:pt x="3362" y="2177"/>
                  </a:lnTo>
                  <a:lnTo>
                    <a:pt x="3472" y="2158"/>
                  </a:lnTo>
                  <a:lnTo>
                    <a:pt x="3504" y="2118"/>
                  </a:lnTo>
                  <a:lnTo>
                    <a:pt x="3494" y="2068"/>
                  </a:lnTo>
                  <a:lnTo>
                    <a:pt x="3223" y="1378"/>
                  </a:lnTo>
                  <a:lnTo>
                    <a:pt x="3248" y="1303"/>
                  </a:lnTo>
                  <a:lnTo>
                    <a:pt x="3310" y="1222"/>
                  </a:lnTo>
                  <a:lnTo>
                    <a:pt x="3278" y="826"/>
                  </a:lnTo>
                  <a:lnTo>
                    <a:pt x="3239" y="538"/>
                  </a:lnTo>
                  <a:lnTo>
                    <a:pt x="3149" y="242"/>
                  </a:lnTo>
                  <a:lnTo>
                    <a:pt x="2296" y="0"/>
                  </a:lnTo>
                  <a:lnTo>
                    <a:pt x="83" y="1630"/>
                  </a:lnTo>
                  <a:lnTo>
                    <a:pt x="0" y="1865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434720" y="5833800"/>
              <a:ext cx="9360" cy="82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122" y="0"/>
                  </a:moveTo>
                  <a:lnTo>
                    <a:pt x="71" y="129"/>
                  </a:lnTo>
                  <a:lnTo>
                    <a:pt x="0" y="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719480" y="6087240"/>
              <a:ext cx="129960" cy="49680"/>
            </a:xfrm>
            <a:custGeom>
              <a:avLst/>
              <a:gdLst/>
              <a:ahLst/>
              <a:rect l="l" t="t" r="r" b="b"/>
              <a:pathLst>
                <a:path w="1699" h="744">
                  <a:moveTo>
                    <a:pt x="0" y="80"/>
                  </a:moveTo>
                  <a:lnTo>
                    <a:pt x="42" y="0"/>
                  </a:lnTo>
                  <a:lnTo>
                    <a:pt x="814" y="300"/>
                  </a:lnTo>
                  <a:lnTo>
                    <a:pt x="1517" y="616"/>
                  </a:lnTo>
                  <a:lnTo>
                    <a:pt x="1699" y="744"/>
                  </a:lnTo>
                  <a:lnTo>
                    <a:pt x="1460" y="708"/>
                  </a:lnTo>
                  <a:lnTo>
                    <a:pt x="206" y="15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670880" y="6096240"/>
              <a:ext cx="152640" cy="82080"/>
            </a:xfrm>
            <a:custGeom>
              <a:avLst/>
              <a:gdLst/>
              <a:ahLst/>
              <a:rect l="l" t="t" r="r" b="b"/>
              <a:pathLst>
                <a:path w="2003" h="1230">
                  <a:moveTo>
                    <a:pt x="80" y="253"/>
                  </a:moveTo>
                  <a:lnTo>
                    <a:pt x="278" y="218"/>
                  </a:lnTo>
                  <a:lnTo>
                    <a:pt x="477" y="195"/>
                  </a:lnTo>
                  <a:lnTo>
                    <a:pt x="945" y="11"/>
                  </a:lnTo>
                  <a:lnTo>
                    <a:pt x="1262" y="11"/>
                  </a:lnTo>
                  <a:lnTo>
                    <a:pt x="1646" y="0"/>
                  </a:lnTo>
                  <a:lnTo>
                    <a:pt x="2003" y="345"/>
                  </a:lnTo>
                  <a:lnTo>
                    <a:pt x="1973" y="393"/>
                  </a:lnTo>
                  <a:lnTo>
                    <a:pt x="1941" y="380"/>
                  </a:lnTo>
                  <a:lnTo>
                    <a:pt x="1927" y="472"/>
                  </a:lnTo>
                  <a:lnTo>
                    <a:pt x="1869" y="534"/>
                  </a:lnTo>
                  <a:lnTo>
                    <a:pt x="1578" y="725"/>
                  </a:lnTo>
                  <a:lnTo>
                    <a:pt x="1491" y="861"/>
                  </a:lnTo>
                  <a:lnTo>
                    <a:pt x="1297" y="991"/>
                  </a:lnTo>
                  <a:lnTo>
                    <a:pt x="1229" y="1112"/>
                  </a:lnTo>
                  <a:lnTo>
                    <a:pt x="926" y="1221"/>
                  </a:lnTo>
                  <a:lnTo>
                    <a:pt x="848" y="1230"/>
                  </a:lnTo>
                  <a:lnTo>
                    <a:pt x="539" y="1158"/>
                  </a:lnTo>
                  <a:lnTo>
                    <a:pt x="34" y="855"/>
                  </a:lnTo>
                  <a:lnTo>
                    <a:pt x="0" y="419"/>
                  </a:lnTo>
                  <a:lnTo>
                    <a:pt x="80" y="2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652880" y="5706720"/>
              <a:ext cx="173880" cy="180000"/>
            </a:xfrm>
            <a:custGeom>
              <a:avLst/>
              <a:gdLst/>
              <a:ahLst/>
              <a:rect l="l" t="t" r="r" b="b"/>
              <a:pathLst>
                <a:path w="2284" h="2689">
                  <a:moveTo>
                    <a:pt x="166" y="357"/>
                  </a:moveTo>
                  <a:lnTo>
                    <a:pt x="55" y="468"/>
                  </a:lnTo>
                  <a:lnTo>
                    <a:pt x="0" y="597"/>
                  </a:lnTo>
                  <a:lnTo>
                    <a:pt x="0" y="740"/>
                  </a:lnTo>
                  <a:lnTo>
                    <a:pt x="14" y="869"/>
                  </a:lnTo>
                  <a:lnTo>
                    <a:pt x="75" y="1095"/>
                  </a:lnTo>
                  <a:lnTo>
                    <a:pt x="187" y="1190"/>
                  </a:lnTo>
                  <a:lnTo>
                    <a:pt x="148" y="1552"/>
                  </a:lnTo>
                  <a:lnTo>
                    <a:pt x="172" y="1731"/>
                  </a:lnTo>
                  <a:lnTo>
                    <a:pt x="247" y="2225"/>
                  </a:lnTo>
                  <a:lnTo>
                    <a:pt x="326" y="2329"/>
                  </a:lnTo>
                  <a:lnTo>
                    <a:pt x="479" y="2513"/>
                  </a:lnTo>
                  <a:lnTo>
                    <a:pt x="715" y="2689"/>
                  </a:lnTo>
                  <a:lnTo>
                    <a:pt x="1117" y="2548"/>
                  </a:lnTo>
                  <a:lnTo>
                    <a:pt x="1238" y="2467"/>
                  </a:lnTo>
                  <a:lnTo>
                    <a:pt x="1399" y="2357"/>
                  </a:lnTo>
                  <a:lnTo>
                    <a:pt x="1473" y="2252"/>
                  </a:lnTo>
                  <a:lnTo>
                    <a:pt x="1567" y="2201"/>
                  </a:lnTo>
                  <a:lnTo>
                    <a:pt x="1858" y="1681"/>
                  </a:lnTo>
                  <a:lnTo>
                    <a:pt x="1971" y="1690"/>
                  </a:lnTo>
                  <a:lnTo>
                    <a:pt x="2040" y="1607"/>
                  </a:lnTo>
                  <a:lnTo>
                    <a:pt x="2157" y="1439"/>
                  </a:lnTo>
                  <a:lnTo>
                    <a:pt x="2199" y="1298"/>
                  </a:lnTo>
                  <a:lnTo>
                    <a:pt x="2199" y="1190"/>
                  </a:lnTo>
                  <a:lnTo>
                    <a:pt x="2284" y="423"/>
                  </a:lnTo>
                  <a:lnTo>
                    <a:pt x="987" y="0"/>
                  </a:lnTo>
                  <a:lnTo>
                    <a:pt x="341" y="263"/>
                  </a:lnTo>
                  <a:lnTo>
                    <a:pt x="166" y="35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701120" y="5757480"/>
              <a:ext cx="39600" cy="39600"/>
            </a:xfrm>
            <a:custGeom>
              <a:avLst/>
              <a:gdLst/>
              <a:ahLst/>
              <a:rect l="l" t="t" r="r" b="b"/>
              <a:pathLst>
                <a:path w="516" h="592">
                  <a:moveTo>
                    <a:pt x="0" y="0"/>
                  </a:moveTo>
                  <a:lnTo>
                    <a:pt x="230" y="592"/>
                  </a:lnTo>
                  <a:lnTo>
                    <a:pt x="351" y="521"/>
                  </a:lnTo>
                  <a:lnTo>
                    <a:pt x="424" y="449"/>
                  </a:lnTo>
                  <a:lnTo>
                    <a:pt x="481" y="357"/>
                  </a:lnTo>
                  <a:lnTo>
                    <a:pt x="516" y="246"/>
                  </a:lnTo>
                  <a:lnTo>
                    <a:pt x="445" y="145"/>
                  </a:lnTo>
                  <a:lnTo>
                    <a:pt x="288" y="46"/>
                  </a:lnTo>
                  <a:lnTo>
                    <a:pt x="1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770960" y="5779440"/>
              <a:ext cx="30240" cy="31320"/>
            </a:xfrm>
            <a:custGeom>
              <a:avLst/>
              <a:gdLst/>
              <a:ahLst/>
              <a:rect l="l" t="t" r="r" b="b"/>
              <a:pathLst>
                <a:path w="404" h="473">
                  <a:moveTo>
                    <a:pt x="0" y="0"/>
                  </a:moveTo>
                  <a:lnTo>
                    <a:pt x="231" y="473"/>
                  </a:lnTo>
                  <a:lnTo>
                    <a:pt x="303" y="376"/>
                  </a:lnTo>
                  <a:lnTo>
                    <a:pt x="393" y="242"/>
                  </a:lnTo>
                  <a:lnTo>
                    <a:pt x="404" y="146"/>
                  </a:lnTo>
                  <a:lnTo>
                    <a:pt x="17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680960" y="5765040"/>
              <a:ext cx="15480" cy="29160"/>
            </a:xfrm>
            <a:custGeom>
              <a:avLst/>
              <a:gdLst/>
              <a:ahLst/>
              <a:rect l="l" t="t" r="r" b="b"/>
              <a:pathLst>
                <a:path w="210" h="443">
                  <a:moveTo>
                    <a:pt x="39" y="0"/>
                  </a:moveTo>
                  <a:lnTo>
                    <a:pt x="210" y="443"/>
                  </a:lnTo>
                  <a:lnTo>
                    <a:pt x="97" y="374"/>
                  </a:lnTo>
                  <a:lnTo>
                    <a:pt x="39" y="302"/>
                  </a:lnTo>
                  <a:lnTo>
                    <a:pt x="10" y="226"/>
                  </a:lnTo>
                  <a:lnTo>
                    <a:pt x="0" y="9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751520" y="5781960"/>
              <a:ext cx="22320" cy="32040"/>
            </a:xfrm>
            <a:custGeom>
              <a:avLst/>
              <a:gdLst/>
              <a:ahLst/>
              <a:rect l="l" t="t" r="r" b="b"/>
              <a:pathLst>
                <a:path w="292" h="480">
                  <a:moveTo>
                    <a:pt x="32" y="0"/>
                  </a:moveTo>
                  <a:lnTo>
                    <a:pt x="292" y="480"/>
                  </a:lnTo>
                  <a:lnTo>
                    <a:pt x="131" y="432"/>
                  </a:lnTo>
                  <a:lnTo>
                    <a:pt x="32" y="386"/>
                  </a:lnTo>
                  <a:lnTo>
                    <a:pt x="0" y="22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684200" y="5760720"/>
              <a:ext cx="16920" cy="34920"/>
            </a:xfrm>
            <a:custGeom>
              <a:avLst/>
              <a:gdLst/>
              <a:ahLst/>
              <a:rect l="l" t="t" r="r" b="b"/>
              <a:pathLst>
                <a:path w="222" h="523">
                  <a:moveTo>
                    <a:pt x="0" y="119"/>
                  </a:moveTo>
                  <a:lnTo>
                    <a:pt x="150" y="493"/>
                  </a:lnTo>
                  <a:lnTo>
                    <a:pt x="222" y="523"/>
                  </a:lnTo>
                  <a:lnTo>
                    <a:pt x="17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753680" y="5781600"/>
              <a:ext cx="21960" cy="32760"/>
            </a:xfrm>
            <a:custGeom>
              <a:avLst/>
              <a:gdLst/>
              <a:ahLst/>
              <a:rect l="l" t="t" r="r" b="b"/>
              <a:pathLst>
                <a:path w="288" h="498">
                  <a:moveTo>
                    <a:pt x="0" y="35"/>
                  </a:moveTo>
                  <a:lnTo>
                    <a:pt x="224" y="498"/>
                  </a:lnTo>
                  <a:lnTo>
                    <a:pt x="288" y="477"/>
                  </a:lnTo>
                  <a:lnTo>
                    <a:pt x="3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666920" y="5663880"/>
              <a:ext cx="186840" cy="123840"/>
            </a:xfrm>
            <a:custGeom>
              <a:avLst/>
              <a:gdLst/>
              <a:ahLst/>
              <a:rect l="l" t="t" r="r" b="b"/>
              <a:pathLst>
                <a:path w="2454" h="1848">
                  <a:moveTo>
                    <a:pt x="226" y="1063"/>
                  </a:moveTo>
                  <a:lnTo>
                    <a:pt x="323" y="1046"/>
                  </a:lnTo>
                  <a:lnTo>
                    <a:pt x="672" y="790"/>
                  </a:lnTo>
                  <a:lnTo>
                    <a:pt x="943" y="817"/>
                  </a:lnTo>
                  <a:lnTo>
                    <a:pt x="1804" y="960"/>
                  </a:lnTo>
                  <a:lnTo>
                    <a:pt x="2092" y="1063"/>
                  </a:lnTo>
                  <a:lnTo>
                    <a:pt x="1965" y="1735"/>
                  </a:lnTo>
                  <a:lnTo>
                    <a:pt x="2037" y="1848"/>
                  </a:lnTo>
                  <a:lnTo>
                    <a:pt x="2297" y="1666"/>
                  </a:lnTo>
                  <a:lnTo>
                    <a:pt x="2357" y="1544"/>
                  </a:lnTo>
                  <a:lnTo>
                    <a:pt x="2419" y="1364"/>
                  </a:lnTo>
                  <a:lnTo>
                    <a:pt x="2454" y="1248"/>
                  </a:lnTo>
                  <a:lnTo>
                    <a:pt x="2444" y="1122"/>
                  </a:lnTo>
                  <a:lnTo>
                    <a:pt x="2403" y="1059"/>
                  </a:lnTo>
                  <a:lnTo>
                    <a:pt x="2223" y="1009"/>
                  </a:lnTo>
                  <a:lnTo>
                    <a:pt x="2025" y="380"/>
                  </a:lnTo>
                  <a:lnTo>
                    <a:pt x="1848" y="173"/>
                  </a:lnTo>
                  <a:lnTo>
                    <a:pt x="1472" y="11"/>
                  </a:lnTo>
                  <a:lnTo>
                    <a:pt x="1264" y="0"/>
                  </a:lnTo>
                  <a:lnTo>
                    <a:pt x="1004" y="27"/>
                  </a:lnTo>
                  <a:lnTo>
                    <a:pt x="760" y="76"/>
                  </a:lnTo>
                  <a:lnTo>
                    <a:pt x="554" y="207"/>
                  </a:lnTo>
                  <a:lnTo>
                    <a:pt x="202" y="633"/>
                  </a:lnTo>
                  <a:lnTo>
                    <a:pt x="0" y="982"/>
                  </a:lnTo>
                  <a:lnTo>
                    <a:pt x="88" y="1035"/>
                  </a:lnTo>
                  <a:lnTo>
                    <a:pt x="127" y="1162"/>
                  </a:lnTo>
                  <a:lnTo>
                    <a:pt x="226" y="106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763040" y="5781960"/>
              <a:ext cx="13320" cy="8280"/>
            </a:xfrm>
            <a:custGeom>
              <a:avLst/>
              <a:gdLst/>
              <a:ahLst/>
              <a:rect l="l" t="t" r="r" b="b"/>
              <a:pathLst>
                <a:path w="171" h="132">
                  <a:moveTo>
                    <a:pt x="0" y="51"/>
                  </a:moveTo>
                  <a:lnTo>
                    <a:pt x="72" y="132"/>
                  </a:lnTo>
                  <a:lnTo>
                    <a:pt x="171" y="40"/>
                  </a:lnTo>
                  <a:lnTo>
                    <a:pt x="102" y="0"/>
                  </a:lnTo>
                  <a:lnTo>
                    <a:pt x="1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04360" y="5765760"/>
              <a:ext cx="18720" cy="972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0" y="46"/>
                  </a:moveTo>
                  <a:lnTo>
                    <a:pt x="83" y="127"/>
                  </a:lnTo>
                  <a:lnTo>
                    <a:pt x="182" y="148"/>
                  </a:lnTo>
                  <a:lnTo>
                    <a:pt x="251" y="35"/>
                  </a:lnTo>
                  <a:lnTo>
                    <a:pt x="140" y="0"/>
                  </a:lnTo>
                  <a:lnTo>
                    <a:pt x="24" y="1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936560" y="5770800"/>
              <a:ext cx="44280" cy="62280"/>
            </a:xfrm>
            <a:custGeom>
              <a:avLst/>
              <a:gdLst/>
              <a:ahLst/>
              <a:rect l="l" t="t" r="r" b="b"/>
              <a:pathLst>
                <a:path w="585" h="936">
                  <a:moveTo>
                    <a:pt x="532" y="0"/>
                  </a:moveTo>
                  <a:lnTo>
                    <a:pt x="464" y="79"/>
                  </a:lnTo>
                  <a:lnTo>
                    <a:pt x="407" y="22"/>
                  </a:lnTo>
                  <a:lnTo>
                    <a:pt x="315" y="22"/>
                  </a:lnTo>
                  <a:lnTo>
                    <a:pt x="137" y="129"/>
                  </a:lnTo>
                  <a:lnTo>
                    <a:pt x="18" y="277"/>
                  </a:lnTo>
                  <a:lnTo>
                    <a:pt x="0" y="398"/>
                  </a:lnTo>
                  <a:lnTo>
                    <a:pt x="18" y="532"/>
                  </a:lnTo>
                  <a:lnTo>
                    <a:pt x="62" y="592"/>
                  </a:lnTo>
                  <a:lnTo>
                    <a:pt x="112" y="620"/>
                  </a:lnTo>
                  <a:lnTo>
                    <a:pt x="62" y="562"/>
                  </a:lnTo>
                  <a:lnTo>
                    <a:pt x="53" y="484"/>
                  </a:lnTo>
                  <a:lnTo>
                    <a:pt x="77" y="407"/>
                  </a:lnTo>
                  <a:lnTo>
                    <a:pt x="143" y="301"/>
                  </a:lnTo>
                  <a:lnTo>
                    <a:pt x="222" y="262"/>
                  </a:lnTo>
                  <a:lnTo>
                    <a:pt x="264" y="235"/>
                  </a:lnTo>
                  <a:lnTo>
                    <a:pt x="222" y="301"/>
                  </a:lnTo>
                  <a:lnTo>
                    <a:pt x="200" y="407"/>
                  </a:lnTo>
                  <a:lnTo>
                    <a:pt x="213" y="484"/>
                  </a:lnTo>
                  <a:lnTo>
                    <a:pt x="235" y="558"/>
                  </a:lnTo>
                  <a:lnTo>
                    <a:pt x="283" y="613"/>
                  </a:lnTo>
                  <a:lnTo>
                    <a:pt x="350" y="659"/>
                  </a:lnTo>
                  <a:lnTo>
                    <a:pt x="350" y="688"/>
                  </a:lnTo>
                  <a:lnTo>
                    <a:pt x="378" y="735"/>
                  </a:lnTo>
                  <a:lnTo>
                    <a:pt x="435" y="776"/>
                  </a:lnTo>
                  <a:lnTo>
                    <a:pt x="486" y="936"/>
                  </a:lnTo>
                  <a:lnTo>
                    <a:pt x="479" y="754"/>
                  </a:lnTo>
                  <a:lnTo>
                    <a:pt x="506" y="730"/>
                  </a:lnTo>
                  <a:lnTo>
                    <a:pt x="585" y="747"/>
                  </a:lnTo>
                  <a:lnTo>
                    <a:pt x="474" y="688"/>
                  </a:lnTo>
                  <a:lnTo>
                    <a:pt x="382" y="652"/>
                  </a:lnTo>
                  <a:lnTo>
                    <a:pt x="389" y="507"/>
                  </a:lnTo>
                  <a:lnTo>
                    <a:pt x="455" y="2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968960" y="5821560"/>
              <a:ext cx="23760" cy="27720"/>
            </a:xfrm>
            <a:custGeom>
              <a:avLst/>
              <a:gdLst/>
              <a:ahLst/>
              <a:rect l="l" t="t" r="r" b="b"/>
              <a:pathLst>
                <a:path w="310" h="417">
                  <a:moveTo>
                    <a:pt x="0" y="0"/>
                  </a:moveTo>
                  <a:lnTo>
                    <a:pt x="126" y="96"/>
                  </a:lnTo>
                  <a:lnTo>
                    <a:pt x="310" y="202"/>
                  </a:lnTo>
                  <a:lnTo>
                    <a:pt x="297" y="237"/>
                  </a:lnTo>
                  <a:lnTo>
                    <a:pt x="310" y="248"/>
                  </a:lnTo>
                  <a:lnTo>
                    <a:pt x="126" y="417"/>
                  </a:lnTo>
                  <a:lnTo>
                    <a:pt x="115" y="387"/>
                  </a:lnTo>
                  <a:lnTo>
                    <a:pt x="163" y="302"/>
                  </a:lnTo>
                  <a:lnTo>
                    <a:pt x="143" y="242"/>
                  </a:lnTo>
                  <a:lnTo>
                    <a:pt x="27" y="248"/>
                  </a:lnTo>
                  <a:lnTo>
                    <a:pt x="80" y="202"/>
                  </a:lnTo>
                  <a:lnTo>
                    <a:pt x="108" y="173"/>
                  </a:lnTo>
                  <a:lnTo>
                    <a:pt x="55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953480" y="5840280"/>
              <a:ext cx="30960" cy="56520"/>
            </a:xfrm>
            <a:custGeom>
              <a:avLst/>
              <a:gdLst/>
              <a:ahLst/>
              <a:rect l="l" t="t" r="r" b="b"/>
              <a:pathLst>
                <a:path w="409" h="848">
                  <a:moveTo>
                    <a:pt x="264" y="0"/>
                  </a:moveTo>
                  <a:lnTo>
                    <a:pt x="252" y="55"/>
                  </a:lnTo>
                  <a:lnTo>
                    <a:pt x="202" y="200"/>
                  </a:lnTo>
                  <a:lnTo>
                    <a:pt x="97" y="401"/>
                  </a:lnTo>
                  <a:lnTo>
                    <a:pt x="0" y="606"/>
                  </a:lnTo>
                  <a:lnTo>
                    <a:pt x="0" y="661"/>
                  </a:lnTo>
                  <a:lnTo>
                    <a:pt x="61" y="696"/>
                  </a:lnTo>
                  <a:lnTo>
                    <a:pt x="220" y="719"/>
                  </a:lnTo>
                  <a:lnTo>
                    <a:pt x="317" y="740"/>
                  </a:lnTo>
                  <a:lnTo>
                    <a:pt x="338" y="753"/>
                  </a:lnTo>
                  <a:lnTo>
                    <a:pt x="354" y="809"/>
                  </a:lnTo>
                  <a:lnTo>
                    <a:pt x="365" y="848"/>
                  </a:lnTo>
                  <a:lnTo>
                    <a:pt x="354" y="740"/>
                  </a:lnTo>
                  <a:lnTo>
                    <a:pt x="328" y="696"/>
                  </a:lnTo>
                  <a:lnTo>
                    <a:pt x="354" y="666"/>
                  </a:lnTo>
                  <a:lnTo>
                    <a:pt x="409" y="633"/>
                  </a:lnTo>
                  <a:lnTo>
                    <a:pt x="391" y="615"/>
                  </a:lnTo>
                  <a:lnTo>
                    <a:pt x="338" y="615"/>
                  </a:lnTo>
                  <a:lnTo>
                    <a:pt x="202" y="641"/>
                  </a:lnTo>
                  <a:lnTo>
                    <a:pt x="97" y="666"/>
                  </a:lnTo>
                  <a:lnTo>
                    <a:pt x="35" y="661"/>
                  </a:lnTo>
                  <a:lnTo>
                    <a:pt x="13" y="626"/>
                  </a:lnTo>
                  <a:lnTo>
                    <a:pt x="13" y="590"/>
                  </a:lnTo>
                  <a:lnTo>
                    <a:pt x="218" y="200"/>
                  </a:lnTo>
                  <a:lnTo>
                    <a:pt x="233" y="12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981200" y="5868000"/>
              <a:ext cx="34560" cy="45360"/>
            </a:xfrm>
            <a:custGeom>
              <a:avLst/>
              <a:gdLst/>
              <a:ahLst/>
              <a:rect l="l" t="t" r="r" b="b"/>
              <a:pathLst>
                <a:path w="452" h="679">
                  <a:moveTo>
                    <a:pt x="0" y="0"/>
                  </a:moveTo>
                  <a:lnTo>
                    <a:pt x="28" y="101"/>
                  </a:lnTo>
                  <a:lnTo>
                    <a:pt x="72" y="180"/>
                  </a:lnTo>
                  <a:lnTo>
                    <a:pt x="154" y="277"/>
                  </a:lnTo>
                  <a:lnTo>
                    <a:pt x="283" y="338"/>
                  </a:lnTo>
                  <a:lnTo>
                    <a:pt x="404" y="433"/>
                  </a:lnTo>
                  <a:lnTo>
                    <a:pt x="424" y="484"/>
                  </a:lnTo>
                  <a:lnTo>
                    <a:pt x="452" y="679"/>
                  </a:lnTo>
                  <a:lnTo>
                    <a:pt x="404" y="574"/>
                  </a:lnTo>
                  <a:lnTo>
                    <a:pt x="283" y="463"/>
                  </a:lnTo>
                  <a:lnTo>
                    <a:pt x="184" y="457"/>
                  </a:lnTo>
                  <a:lnTo>
                    <a:pt x="53" y="495"/>
                  </a:lnTo>
                  <a:lnTo>
                    <a:pt x="0" y="457"/>
                  </a:lnTo>
                  <a:lnTo>
                    <a:pt x="72" y="413"/>
                  </a:lnTo>
                  <a:lnTo>
                    <a:pt x="166" y="403"/>
                  </a:lnTo>
                  <a:lnTo>
                    <a:pt x="256" y="394"/>
                  </a:lnTo>
                  <a:lnTo>
                    <a:pt x="120" y="281"/>
                  </a:lnTo>
                  <a:lnTo>
                    <a:pt x="53" y="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991640" y="5902200"/>
              <a:ext cx="13680" cy="1116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82" y="0"/>
                  </a:moveTo>
                  <a:lnTo>
                    <a:pt x="123" y="85"/>
                  </a:lnTo>
                  <a:lnTo>
                    <a:pt x="62" y="111"/>
                  </a:lnTo>
                  <a:lnTo>
                    <a:pt x="0" y="146"/>
                  </a:lnTo>
                  <a:lnTo>
                    <a:pt x="0" y="170"/>
                  </a:lnTo>
                  <a:lnTo>
                    <a:pt x="92" y="115"/>
                  </a:lnTo>
                  <a:lnTo>
                    <a:pt x="147" y="99"/>
                  </a:lnTo>
                  <a:lnTo>
                    <a:pt x="173" y="3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991640" y="5888880"/>
              <a:ext cx="102960" cy="77400"/>
            </a:xfrm>
            <a:custGeom>
              <a:avLst/>
              <a:gdLst/>
              <a:ahLst/>
              <a:rect l="l" t="t" r="r" b="b"/>
              <a:pathLst>
                <a:path w="1349" h="1162">
                  <a:moveTo>
                    <a:pt x="0" y="465"/>
                  </a:moveTo>
                  <a:lnTo>
                    <a:pt x="97" y="579"/>
                  </a:lnTo>
                  <a:lnTo>
                    <a:pt x="117" y="634"/>
                  </a:lnTo>
                  <a:lnTo>
                    <a:pt x="117" y="664"/>
                  </a:lnTo>
                  <a:lnTo>
                    <a:pt x="92" y="724"/>
                  </a:lnTo>
                  <a:lnTo>
                    <a:pt x="81" y="770"/>
                  </a:lnTo>
                  <a:lnTo>
                    <a:pt x="81" y="827"/>
                  </a:lnTo>
                  <a:lnTo>
                    <a:pt x="97" y="880"/>
                  </a:lnTo>
                  <a:lnTo>
                    <a:pt x="120" y="899"/>
                  </a:lnTo>
                  <a:lnTo>
                    <a:pt x="198" y="860"/>
                  </a:lnTo>
                  <a:lnTo>
                    <a:pt x="268" y="814"/>
                  </a:lnTo>
                  <a:lnTo>
                    <a:pt x="327" y="728"/>
                  </a:lnTo>
                  <a:lnTo>
                    <a:pt x="345" y="634"/>
                  </a:lnTo>
                  <a:lnTo>
                    <a:pt x="345" y="564"/>
                  </a:lnTo>
                  <a:lnTo>
                    <a:pt x="394" y="814"/>
                  </a:lnTo>
                  <a:lnTo>
                    <a:pt x="505" y="786"/>
                  </a:lnTo>
                  <a:lnTo>
                    <a:pt x="646" y="724"/>
                  </a:lnTo>
                  <a:lnTo>
                    <a:pt x="730" y="643"/>
                  </a:lnTo>
                  <a:lnTo>
                    <a:pt x="802" y="568"/>
                  </a:lnTo>
                  <a:lnTo>
                    <a:pt x="897" y="454"/>
                  </a:lnTo>
                  <a:lnTo>
                    <a:pt x="958" y="408"/>
                  </a:lnTo>
                  <a:lnTo>
                    <a:pt x="1051" y="368"/>
                  </a:lnTo>
                  <a:lnTo>
                    <a:pt x="1125" y="309"/>
                  </a:lnTo>
                  <a:lnTo>
                    <a:pt x="1176" y="238"/>
                  </a:lnTo>
                  <a:lnTo>
                    <a:pt x="1224" y="152"/>
                  </a:lnTo>
                  <a:lnTo>
                    <a:pt x="1257" y="0"/>
                  </a:lnTo>
                  <a:lnTo>
                    <a:pt x="1242" y="223"/>
                  </a:lnTo>
                  <a:lnTo>
                    <a:pt x="1219" y="376"/>
                  </a:lnTo>
                  <a:lnTo>
                    <a:pt x="1164" y="482"/>
                  </a:lnTo>
                  <a:lnTo>
                    <a:pt x="1120" y="568"/>
                  </a:lnTo>
                  <a:lnTo>
                    <a:pt x="1120" y="634"/>
                  </a:lnTo>
                  <a:lnTo>
                    <a:pt x="1153" y="705"/>
                  </a:lnTo>
                  <a:lnTo>
                    <a:pt x="1196" y="790"/>
                  </a:lnTo>
                  <a:lnTo>
                    <a:pt x="1219" y="851"/>
                  </a:lnTo>
                  <a:lnTo>
                    <a:pt x="1226" y="920"/>
                  </a:lnTo>
                  <a:lnTo>
                    <a:pt x="1349" y="746"/>
                  </a:lnTo>
                  <a:lnTo>
                    <a:pt x="1219" y="992"/>
                  </a:lnTo>
                  <a:lnTo>
                    <a:pt x="1160" y="1132"/>
                  </a:lnTo>
                  <a:lnTo>
                    <a:pt x="1160" y="1162"/>
                  </a:lnTo>
                  <a:lnTo>
                    <a:pt x="1090" y="1091"/>
                  </a:lnTo>
                  <a:lnTo>
                    <a:pt x="1000" y="987"/>
                  </a:lnTo>
                  <a:lnTo>
                    <a:pt x="922" y="959"/>
                  </a:lnTo>
                  <a:lnTo>
                    <a:pt x="844" y="926"/>
                  </a:lnTo>
                  <a:lnTo>
                    <a:pt x="712" y="926"/>
                  </a:lnTo>
                  <a:lnTo>
                    <a:pt x="277" y="1021"/>
                  </a:lnTo>
                  <a:lnTo>
                    <a:pt x="173" y="1012"/>
                  </a:lnTo>
                  <a:lnTo>
                    <a:pt x="112" y="986"/>
                  </a:lnTo>
                  <a:lnTo>
                    <a:pt x="48" y="920"/>
                  </a:lnTo>
                  <a:lnTo>
                    <a:pt x="30" y="851"/>
                  </a:lnTo>
                  <a:lnTo>
                    <a:pt x="35" y="786"/>
                  </a:lnTo>
                  <a:lnTo>
                    <a:pt x="62" y="724"/>
                  </a:lnTo>
                  <a:lnTo>
                    <a:pt x="81" y="664"/>
                  </a:lnTo>
                  <a:lnTo>
                    <a:pt x="81" y="610"/>
                  </a:lnTo>
                  <a:lnTo>
                    <a:pt x="48" y="548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983000" y="5678280"/>
              <a:ext cx="254880" cy="276120"/>
            </a:xfrm>
            <a:custGeom>
              <a:avLst/>
              <a:gdLst/>
              <a:ahLst/>
              <a:rect l="l" t="t" r="r" b="b"/>
              <a:pathLst>
                <a:path w="3329" h="4141">
                  <a:moveTo>
                    <a:pt x="64" y="1229"/>
                  </a:moveTo>
                  <a:lnTo>
                    <a:pt x="103" y="1344"/>
                  </a:lnTo>
                  <a:lnTo>
                    <a:pt x="174" y="1418"/>
                  </a:lnTo>
                  <a:lnTo>
                    <a:pt x="271" y="1457"/>
                  </a:lnTo>
                  <a:lnTo>
                    <a:pt x="462" y="1480"/>
                  </a:lnTo>
                  <a:lnTo>
                    <a:pt x="618" y="1457"/>
                  </a:lnTo>
                  <a:lnTo>
                    <a:pt x="774" y="1395"/>
                  </a:lnTo>
                  <a:lnTo>
                    <a:pt x="521" y="1406"/>
                  </a:lnTo>
                  <a:lnTo>
                    <a:pt x="361" y="1367"/>
                  </a:lnTo>
                  <a:lnTo>
                    <a:pt x="271" y="1291"/>
                  </a:lnTo>
                  <a:lnTo>
                    <a:pt x="214" y="1199"/>
                  </a:lnTo>
                  <a:lnTo>
                    <a:pt x="361" y="1261"/>
                  </a:lnTo>
                  <a:lnTo>
                    <a:pt x="488" y="1280"/>
                  </a:lnTo>
                  <a:lnTo>
                    <a:pt x="679" y="1261"/>
                  </a:lnTo>
                  <a:lnTo>
                    <a:pt x="850" y="1206"/>
                  </a:lnTo>
                  <a:lnTo>
                    <a:pt x="1030" y="1081"/>
                  </a:lnTo>
                  <a:lnTo>
                    <a:pt x="926" y="1241"/>
                  </a:lnTo>
                  <a:lnTo>
                    <a:pt x="1104" y="1137"/>
                  </a:lnTo>
                  <a:lnTo>
                    <a:pt x="1263" y="1081"/>
                  </a:lnTo>
                  <a:lnTo>
                    <a:pt x="1413" y="1081"/>
                  </a:lnTo>
                  <a:lnTo>
                    <a:pt x="1572" y="1137"/>
                  </a:lnTo>
                  <a:lnTo>
                    <a:pt x="1401" y="1137"/>
                  </a:lnTo>
                  <a:lnTo>
                    <a:pt x="1275" y="1160"/>
                  </a:lnTo>
                  <a:lnTo>
                    <a:pt x="1168" y="1229"/>
                  </a:lnTo>
                  <a:lnTo>
                    <a:pt x="1327" y="1241"/>
                  </a:lnTo>
                  <a:lnTo>
                    <a:pt x="1539" y="1199"/>
                  </a:lnTo>
                  <a:lnTo>
                    <a:pt x="1685" y="1137"/>
                  </a:lnTo>
                  <a:lnTo>
                    <a:pt x="1611" y="1229"/>
                  </a:lnTo>
                  <a:lnTo>
                    <a:pt x="1389" y="1375"/>
                  </a:lnTo>
                  <a:lnTo>
                    <a:pt x="1203" y="1430"/>
                  </a:lnTo>
                  <a:lnTo>
                    <a:pt x="1039" y="1443"/>
                  </a:lnTo>
                  <a:lnTo>
                    <a:pt x="1113" y="1344"/>
                  </a:lnTo>
                  <a:lnTo>
                    <a:pt x="926" y="1367"/>
                  </a:lnTo>
                  <a:lnTo>
                    <a:pt x="745" y="1480"/>
                  </a:lnTo>
                  <a:lnTo>
                    <a:pt x="850" y="1517"/>
                  </a:lnTo>
                  <a:lnTo>
                    <a:pt x="754" y="1591"/>
                  </a:lnTo>
                  <a:lnTo>
                    <a:pt x="906" y="1591"/>
                  </a:lnTo>
                  <a:lnTo>
                    <a:pt x="1141" y="1526"/>
                  </a:lnTo>
                  <a:lnTo>
                    <a:pt x="1275" y="1465"/>
                  </a:lnTo>
                  <a:lnTo>
                    <a:pt x="1141" y="1639"/>
                  </a:lnTo>
                  <a:lnTo>
                    <a:pt x="1214" y="1702"/>
                  </a:lnTo>
                  <a:lnTo>
                    <a:pt x="1401" y="1711"/>
                  </a:lnTo>
                  <a:lnTo>
                    <a:pt x="1636" y="1687"/>
                  </a:lnTo>
                  <a:lnTo>
                    <a:pt x="1807" y="1711"/>
                  </a:lnTo>
                  <a:lnTo>
                    <a:pt x="1947" y="1784"/>
                  </a:lnTo>
                  <a:lnTo>
                    <a:pt x="2066" y="1905"/>
                  </a:lnTo>
                  <a:lnTo>
                    <a:pt x="2145" y="2019"/>
                  </a:lnTo>
                  <a:lnTo>
                    <a:pt x="1967" y="1905"/>
                  </a:lnTo>
                  <a:lnTo>
                    <a:pt x="2095" y="2045"/>
                  </a:lnTo>
                  <a:lnTo>
                    <a:pt x="2153" y="2215"/>
                  </a:lnTo>
                  <a:lnTo>
                    <a:pt x="2153" y="2379"/>
                  </a:lnTo>
                  <a:lnTo>
                    <a:pt x="2125" y="2511"/>
                  </a:lnTo>
                  <a:lnTo>
                    <a:pt x="2084" y="2340"/>
                  </a:lnTo>
                  <a:lnTo>
                    <a:pt x="2066" y="2599"/>
                  </a:lnTo>
                  <a:lnTo>
                    <a:pt x="2003" y="2817"/>
                  </a:lnTo>
                  <a:lnTo>
                    <a:pt x="2145" y="2573"/>
                  </a:lnTo>
                  <a:lnTo>
                    <a:pt x="2153" y="2698"/>
                  </a:lnTo>
                  <a:lnTo>
                    <a:pt x="2215" y="2502"/>
                  </a:lnTo>
                  <a:lnTo>
                    <a:pt x="2247" y="2315"/>
                  </a:lnTo>
                  <a:lnTo>
                    <a:pt x="2330" y="2416"/>
                  </a:lnTo>
                  <a:lnTo>
                    <a:pt x="2365" y="2259"/>
                  </a:lnTo>
                  <a:lnTo>
                    <a:pt x="2365" y="2085"/>
                  </a:lnTo>
                  <a:lnTo>
                    <a:pt x="2316" y="1978"/>
                  </a:lnTo>
                  <a:lnTo>
                    <a:pt x="2215" y="1824"/>
                  </a:lnTo>
                  <a:lnTo>
                    <a:pt x="2406" y="1942"/>
                  </a:lnTo>
                  <a:lnTo>
                    <a:pt x="2391" y="1817"/>
                  </a:lnTo>
                  <a:lnTo>
                    <a:pt x="2567" y="1944"/>
                  </a:lnTo>
                  <a:lnTo>
                    <a:pt x="2624" y="2109"/>
                  </a:lnTo>
                  <a:lnTo>
                    <a:pt x="2674" y="1920"/>
                  </a:lnTo>
                  <a:lnTo>
                    <a:pt x="2635" y="1711"/>
                  </a:lnTo>
                  <a:lnTo>
                    <a:pt x="2778" y="1839"/>
                  </a:lnTo>
                  <a:lnTo>
                    <a:pt x="2881" y="1874"/>
                  </a:lnTo>
                  <a:lnTo>
                    <a:pt x="2960" y="1748"/>
                  </a:lnTo>
                  <a:lnTo>
                    <a:pt x="3006" y="1540"/>
                  </a:lnTo>
                  <a:lnTo>
                    <a:pt x="3035" y="1663"/>
                  </a:lnTo>
                  <a:lnTo>
                    <a:pt x="3142" y="1526"/>
                  </a:lnTo>
                  <a:lnTo>
                    <a:pt x="3178" y="1344"/>
                  </a:lnTo>
                  <a:lnTo>
                    <a:pt x="3237" y="1206"/>
                  </a:lnTo>
                  <a:lnTo>
                    <a:pt x="3237" y="1045"/>
                  </a:lnTo>
                  <a:lnTo>
                    <a:pt x="3204" y="839"/>
                  </a:lnTo>
                  <a:lnTo>
                    <a:pt x="3112" y="581"/>
                  </a:lnTo>
                  <a:lnTo>
                    <a:pt x="2925" y="305"/>
                  </a:lnTo>
                  <a:lnTo>
                    <a:pt x="2669" y="72"/>
                  </a:lnTo>
                  <a:lnTo>
                    <a:pt x="2503" y="0"/>
                  </a:lnTo>
                  <a:lnTo>
                    <a:pt x="2778" y="109"/>
                  </a:lnTo>
                  <a:lnTo>
                    <a:pt x="3112" y="491"/>
                  </a:lnTo>
                  <a:lnTo>
                    <a:pt x="3266" y="867"/>
                  </a:lnTo>
                  <a:lnTo>
                    <a:pt x="3319" y="1241"/>
                  </a:lnTo>
                  <a:lnTo>
                    <a:pt x="3319" y="1591"/>
                  </a:lnTo>
                  <a:lnTo>
                    <a:pt x="3266" y="1893"/>
                  </a:lnTo>
                  <a:lnTo>
                    <a:pt x="3197" y="2121"/>
                  </a:lnTo>
                  <a:lnTo>
                    <a:pt x="3096" y="2315"/>
                  </a:lnTo>
                  <a:lnTo>
                    <a:pt x="2971" y="2502"/>
                  </a:lnTo>
                  <a:lnTo>
                    <a:pt x="2863" y="2599"/>
                  </a:lnTo>
                  <a:lnTo>
                    <a:pt x="2807" y="2713"/>
                  </a:lnTo>
                  <a:lnTo>
                    <a:pt x="2784" y="2817"/>
                  </a:lnTo>
                  <a:lnTo>
                    <a:pt x="2784" y="2928"/>
                  </a:lnTo>
                  <a:lnTo>
                    <a:pt x="2807" y="3050"/>
                  </a:lnTo>
                  <a:lnTo>
                    <a:pt x="2846" y="3120"/>
                  </a:lnTo>
                  <a:lnTo>
                    <a:pt x="3006" y="3124"/>
                  </a:lnTo>
                  <a:lnTo>
                    <a:pt x="3112" y="3256"/>
                  </a:lnTo>
                  <a:lnTo>
                    <a:pt x="3142" y="3428"/>
                  </a:lnTo>
                  <a:lnTo>
                    <a:pt x="3290" y="3562"/>
                  </a:lnTo>
                  <a:lnTo>
                    <a:pt x="3329" y="3663"/>
                  </a:lnTo>
                  <a:lnTo>
                    <a:pt x="3096" y="3670"/>
                  </a:lnTo>
                  <a:lnTo>
                    <a:pt x="2710" y="3812"/>
                  </a:lnTo>
                  <a:lnTo>
                    <a:pt x="2255" y="3981"/>
                  </a:lnTo>
                  <a:lnTo>
                    <a:pt x="1912" y="4141"/>
                  </a:lnTo>
                  <a:lnTo>
                    <a:pt x="2381" y="3894"/>
                  </a:lnTo>
                  <a:lnTo>
                    <a:pt x="2710" y="3733"/>
                  </a:lnTo>
                  <a:lnTo>
                    <a:pt x="2778" y="3663"/>
                  </a:lnTo>
                  <a:lnTo>
                    <a:pt x="2750" y="3491"/>
                  </a:lnTo>
                  <a:lnTo>
                    <a:pt x="2653" y="3327"/>
                  </a:lnTo>
                  <a:lnTo>
                    <a:pt x="2549" y="3256"/>
                  </a:lnTo>
                  <a:lnTo>
                    <a:pt x="2187" y="3352"/>
                  </a:lnTo>
                  <a:lnTo>
                    <a:pt x="1848" y="3537"/>
                  </a:lnTo>
                  <a:lnTo>
                    <a:pt x="1560" y="3830"/>
                  </a:lnTo>
                  <a:lnTo>
                    <a:pt x="1795" y="3537"/>
                  </a:lnTo>
                  <a:lnTo>
                    <a:pt x="2084" y="3289"/>
                  </a:lnTo>
                  <a:lnTo>
                    <a:pt x="1980" y="3111"/>
                  </a:lnTo>
                  <a:lnTo>
                    <a:pt x="1894" y="2949"/>
                  </a:lnTo>
                  <a:lnTo>
                    <a:pt x="1857" y="2778"/>
                  </a:lnTo>
                  <a:lnTo>
                    <a:pt x="1830" y="2573"/>
                  </a:lnTo>
                  <a:lnTo>
                    <a:pt x="1772" y="2722"/>
                  </a:lnTo>
                  <a:lnTo>
                    <a:pt x="1685" y="2873"/>
                  </a:lnTo>
                  <a:lnTo>
                    <a:pt x="1646" y="2979"/>
                  </a:lnTo>
                  <a:lnTo>
                    <a:pt x="1624" y="3094"/>
                  </a:lnTo>
                  <a:lnTo>
                    <a:pt x="1545" y="3168"/>
                  </a:lnTo>
                  <a:lnTo>
                    <a:pt x="1503" y="3181"/>
                  </a:lnTo>
                  <a:lnTo>
                    <a:pt x="1389" y="3181"/>
                  </a:lnTo>
                  <a:lnTo>
                    <a:pt x="1350" y="3181"/>
                  </a:lnTo>
                  <a:lnTo>
                    <a:pt x="1309" y="3054"/>
                  </a:lnTo>
                  <a:lnTo>
                    <a:pt x="1203" y="3050"/>
                  </a:lnTo>
                  <a:lnTo>
                    <a:pt x="1350" y="3034"/>
                  </a:lnTo>
                  <a:lnTo>
                    <a:pt x="1429" y="2972"/>
                  </a:lnTo>
                  <a:lnTo>
                    <a:pt x="1452" y="2893"/>
                  </a:lnTo>
                  <a:lnTo>
                    <a:pt x="1452" y="2817"/>
                  </a:lnTo>
                  <a:lnTo>
                    <a:pt x="1401" y="2748"/>
                  </a:lnTo>
                  <a:lnTo>
                    <a:pt x="1309" y="2722"/>
                  </a:lnTo>
                  <a:lnTo>
                    <a:pt x="1429" y="2733"/>
                  </a:lnTo>
                  <a:lnTo>
                    <a:pt x="1475" y="2760"/>
                  </a:lnTo>
                  <a:lnTo>
                    <a:pt x="1585" y="2698"/>
                  </a:lnTo>
                  <a:lnTo>
                    <a:pt x="1659" y="2573"/>
                  </a:lnTo>
                  <a:lnTo>
                    <a:pt x="1723" y="2416"/>
                  </a:lnTo>
                  <a:lnTo>
                    <a:pt x="1747" y="2259"/>
                  </a:lnTo>
                  <a:lnTo>
                    <a:pt x="1747" y="2133"/>
                  </a:lnTo>
                  <a:lnTo>
                    <a:pt x="1723" y="2019"/>
                  </a:lnTo>
                  <a:lnTo>
                    <a:pt x="1646" y="1920"/>
                  </a:lnTo>
                  <a:lnTo>
                    <a:pt x="1560" y="1874"/>
                  </a:lnTo>
                  <a:lnTo>
                    <a:pt x="1475" y="1874"/>
                  </a:lnTo>
                  <a:lnTo>
                    <a:pt x="1334" y="1891"/>
                  </a:lnTo>
                  <a:lnTo>
                    <a:pt x="1214" y="1858"/>
                  </a:lnTo>
                  <a:lnTo>
                    <a:pt x="1066" y="1784"/>
                  </a:lnTo>
                  <a:lnTo>
                    <a:pt x="976" y="1711"/>
                  </a:lnTo>
                  <a:lnTo>
                    <a:pt x="1090" y="1920"/>
                  </a:lnTo>
                  <a:lnTo>
                    <a:pt x="1182" y="2006"/>
                  </a:lnTo>
                  <a:lnTo>
                    <a:pt x="1327" y="2059"/>
                  </a:lnTo>
                  <a:lnTo>
                    <a:pt x="1182" y="2094"/>
                  </a:lnTo>
                  <a:lnTo>
                    <a:pt x="1077" y="2085"/>
                  </a:lnTo>
                  <a:lnTo>
                    <a:pt x="1113" y="2195"/>
                  </a:lnTo>
                  <a:lnTo>
                    <a:pt x="1168" y="2269"/>
                  </a:lnTo>
                  <a:lnTo>
                    <a:pt x="1228" y="2305"/>
                  </a:lnTo>
                  <a:lnTo>
                    <a:pt x="1113" y="2305"/>
                  </a:lnTo>
                  <a:lnTo>
                    <a:pt x="945" y="2305"/>
                  </a:lnTo>
                  <a:lnTo>
                    <a:pt x="844" y="2241"/>
                  </a:lnTo>
                  <a:lnTo>
                    <a:pt x="776" y="2144"/>
                  </a:lnTo>
                  <a:lnTo>
                    <a:pt x="774" y="2094"/>
                  </a:lnTo>
                  <a:lnTo>
                    <a:pt x="645" y="2038"/>
                  </a:lnTo>
                  <a:lnTo>
                    <a:pt x="548" y="1944"/>
                  </a:lnTo>
                  <a:lnTo>
                    <a:pt x="502" y="1824"/>
                  </a:lnTo>
                  <a:lnTo>
                    <a:pt x="470" y="1711"/>
                  </a:lnTo>
                  <a:lnTo>
                    <a:pt x="350" y="1678"/>
                  </a:lnTo>
                  <a:lnTo>
                    <a:pt x="299" y="1628"/>
                  </a:lnTo>
                  <a:lnTo>
                    <a:pt x="231" y="1566"/>
                  </a:lnTo>
                  <a:lnTo>
                    <a:pt x="121" y="1526"/>
                  </a:lnTo>
                  <a:lnTo>
                    <a:pt x="36" y="1443"/>
                  </a:lnTo>
                  <a:lnTo>
                    <a:pt x="0" y="1344"/>
                  </a:lnTo>
                  <a:lnTo>
                    <a:pt x="0" y="1261"/>
                  </a:lnTo>
                  <a:lnTo>
                    <a:pt x="64" y="1160"/>
                  </a:lnTo>
                  <a:lnTo>
                    <a:pt x="64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083080" y="5754960"/>
              <a:ext cx="80640" cy="33120"/>
            </a:xfrm>
            <a:custGeom>
              <a:avLst/>
              <a:gdLst/>
              <a:ahLst/>
              <a:rect l="l" t="t" r="r" b="b"/>
              <a:pathLst>
                <a:path w="1056" h="495">
                  <a:moveTo>
                    <a:pt x="41" y="274"/>
                  </a:moveTo>
                  <a:lnTo>
                    <a:pt x="166" y="286"/>
                  </a:lnTo>
                  <a:lnTo>
                    <a:pt x="327" y="251"/>
                  </a:lnTo>
                  <a:lnTo>
                    <a:pt x="438" y="177"/>
                  </a:lnTo>
                  <a:lnTo>
                    <a:pt x="560" y="80"/>
                  </a:lnTo>
                  <a:lnTo>
                    <a:pt x="650" y="0"/>
                  </a:lnTo>
                  <a:lnTo>
                    <a:pt x="585" y="136"/>
                  </a:lnTo>
                  <a:lnTo>
                    <a:pt x="477" y="262"/>
                  </a:lnTo>
                  <a:lnTo>
                    <a:pt x="658" y="200"/>
                  </a:lnTo>
                  <a:lnTo>
                    <a:pt x="800" y="200"/>
                  </a:lnTo>
                  <a:lnTo>
                    <a:pt x="922" y="231"/>
                  </a:lnTo>
                  <a:lnTo>
                    <a:pt x="996" y="313"/>
                  </a:lnTo>
                  <a:lnTo>
                    <a:pt x="1056" y="409"/>
                  </a:lnTo>
                  <a:lnTo>
                    <a:pt x="970" y="348"/>
                  </a:lnTo>
                  <a:lnTo>
                    <a:pt x="878" y="321"/>
                  </a:lnTo>
                  <a:lnTo>
                    <a:pt x="775" y="321"/>
                  </a:lnTo>
                  <a:lnTo>
                    <a:pt x="671" y="348"/>
                  </a:lnTo>
                  <a:lnTo>
                    <a:pt x="800" y="409"/>
                  </a:lnTo>
                  <a:lnTo>
                    <a:pt x="618" y="396"/>
                  </a:lnTo>
                  <a:lnTo>
                    <a:pt x="486" y="447"/>
                  </a:lnTo>
                  <a:lnTo>
                    <a:pt x="350" y="484"/>
                  </a:lnTo>
                  <a:lnTo>
                    <a:pt x="201" y="495"/>
                  </a:lnTo>
                  <a:lnTo>
                    <a:pt x="65" y="458"/>
                  </a:lnTo>
                  <a:lnTo>
                    <a:pt x="0" y="396"/>
                  </a:lnTo>
                  <a:lnTo>
                    <a:pt x="150" y="396"/>
                  </a:lnTo>
                  <a:lnTo>
                    <a:pt x="315" y="336"/>
                  </a:lnTo>
                  <a:lnTo>
                    <a:pt x="166" y="336"/>
                  </a:lnTo>
                  <a:lnTo>
                    <a:pt x="65" y="299"/>
                  </a:lnTo>
                  <a:lnTo>
                    <a:pt x="41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077680" y="5811840"/>
              <a:ext cx="29880" cy="40320"/>
            </a:xfrm>
            <a:custGeom>
              <a:avLst/>
              <a:gdLst/>
              <a:ahLst/>
              <a:rect l="l" t="t" r="r" b="b"/>
              <a:pathLst>
                <a:path w="387" h="613">
                  <a:moveTo>
                    <a:pt x="67" y="60"/>
                  </a:moveTo>
                  <a:lnTo>
                    <a:pt x="152" y="0"/>
                  </a:lnTo>
                  <a:lnTo>
                    <a:pt x="266" y="0"/>
                  </a:lnTo>
                  <a:lnTo>
                    <a:pt x="348" y="46"/>
                  </a:lnTo>
                  <a:lnTo>
                    <a:pt x="387" y="152"/>
                  </a:lnTo>
                  <a:lnTo>
                    <a:pt x="335" y="86"/>
                  </a:lnTo>
                  <a:lnTo>
                    <a:pt x="266" y="60"/>
                  </a:lnTo>
                  <a:lnTo>
                    <a:pt x="164" y="152"/>
                  </a:lnTo>
                  <a:lnTo>
                    <a:pt x="266" y="270"/>
                  </a:lnTo>
                  <a:lnTo>
                    <a:pt x="266" y="429"/>
                  </a:lnTo>
                  <a:lnTo>
                    <a:pt x="90" y="528"/>
                  </a:lnTo>
                  <a:lnTo>
                    <a:pt x="38" y="613"/>
                  </a:lnTo>
                  <a:lnTo>
                    <a:pt x="0" y="613"/>
                  </a:lnTo>
                  <a:lnTo>
                    <a:pt x="14" y="440"/>
                  </a:lnTo>
                  <a:lnTo>
                    <a:pt x="113" y="367"/>
                  </a:lnTo>
                  <a:lnTo>
                    <a:pt x="113" y="306"/>
                  </a:lnTo>
                  <a:lnTo>
                    <a:pt x="38" y="260"/>
                  </a:lnTo>
                  <a:lnTo>
                    <a:pt x="72" y="152"/>
                  </a:lnTo>
                  <a:lnTo>
                    <a:pt x="0" y="71"/>
                  </a:lnTo>
                  <a:lnTo>
                    <a:pt x="6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094960" y="5825880"/>
              <a:ext cx="12600" cy="28080"/>
            </a:xfrm>
            <a:custGeom>
              <a:avLst/>
              <a:gdLst/>
              <a:ahLst/>
              <a:rect l="l" t="t" r="r" b="b"/>
              <a:pathLst>
                <a:path w="165" h="424">
                  <a:moveTo>
                    <a:pt x="152" y="0"/>
                  </a:moveTo>
                  <a:lnTo>
                    <a:pt x="152" y="120"/>
                  </a:lnTo>
                  <a:lnTo>
                    <a:pt x="101" y="240"/>
                  </a:lnTo>
                  <a:lnTo>
                    <a:pt x="0" y="362"/>
                  </a:lnTo>
                  <a:lnTo>
                    <a:pt x="0" y="424"/>
                  </a:lnTo>
                  <a:lnTo>
                    <a:pt x="66" y="401"/>
                  </a:lnTo>
                  <a:lnTo>
                    <a:pt x="165" y="129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966080" y="5679000"/>
              <a:ext cx="174600" cy="82080"/>
            </a:xfrm>
            <a:custGeom>
              <a:avLst/>
              <a:gdLst/>
              <a:ahLst/>
              <a:rect l="l" t="t" r="r" b="b"/>
              <a:pathLst>
                <a:path w="2291" h="1231">
                  <a:moveTo>
                    <a:pt x="231" y="1231"/>
                  </a:moveTo>
                  <a:lnTo>
                    <a:pt x="124" y="1231"/>
                  </a:lnTo>
                  <a:lnTo>
                    <a:pt x="46" y="1170"/>
                  </a:lnTo>
                  <a:lnTo>
                    <a:pt x="0" y="1071"/>
                  </a:lnTo>
                  <a:lnTo>
                    <a:pt x="0" y="984"/>
                  </a:lnTo>
                  <a:lnTo>
                    <a:pt x="23" y="880"/>
                  </a:lnTo>
                  <a:lnTo>
                    <a:pt x="69" y="829"/>
                  </a:lnTo>
                  <a:lnTo>
                    <a:pt x="132" y="728"/>
                  </a:lnTo>
                  <a:lnTo>
                    <a:pt x="205" y="580"/>
                  </a:lnTo>
                  <a:lnTo>
                    <a:pt x="185" y="682"/>
                  </a:lnTo>
                  <a:lnTo>
                    <a:pt x="124" y="804"/>
                  </a:lnTo>
                  <a:lnTo>
                    <a:pt x="124" y="892"/>
                  </a:lnTo>
                  <a:lnTo>
                    <a:pt x="157" y="974"/>
                  </a:lnTo>
                  <a:lnTo>
                    <a:pt x="221" y="1035"/>
                  </a:lnTo>
                  <a:lnTo>
                    <a:pt x="221" y="912"/>
                  </a:lnTo>
                  <a:lnTo>
                    <a:pt x="304" y="937"/>
                  </a:lnTo>
                  <a:lnTo>
                    <a:pt x="284" y="840"/>
                  </a:lnTo>
                  <a:lnTo>
                    <a:pt x="295" y="728"/>
                  </a:lnTo>
                  <a:lnTo>
                    <a:pt x="352" y="668"/>
                  </a:lnTo>
                  <a:lnTo>
                    <a:pt x="405" y="596"/>
                  </a:lnTo>
                  <a:lnTo>
                    <a:pt x="462" y="513"/>
                  </a:lnTo>
                  <a:lnTo>
                    <a:pt x="521" y="456"/>
                  </a:lnTo>
                  <a:lnTo>
                    <a:pt x="631" y="414"/>
                  </a:lnTo>
                  <a:lnTo>
                    <a:pt x="779" y="380"/>
                  </a:lnTo>
                  <a:lnTo>
                    <a:pt x="950" y="286"/>
                  </a:lnTo>
                  <a:lnTo>
                    <a:pt x="1007" y="179"/>
                  </a:lnTo>
                  <a:lnTo>
                    <a:pt x="985" y="310"/>
                  </a:lnTo>
                  <a:lnTo>
                    <a:pt x="943" y="361"/>
                  </a:lnTo>
                  <a:lnTo>
                    <a:pt x="825" y="481"/>
                  </a:lnTo>
                  <a:lnTo>
                    <a:pt x="1005" y="396"/>
                  </a:lnTo>
                  <a:lnTo>
                    <a:pt x="1097" y="373"/>
                  </a:lnTo>
                  <a:lnTo>
                    <a:pt x="1176" y="276"/>
                  </a:lnTo>
                  <a:lnTo>
                    <a:pt x="1236" y="135"/>
                  </a:lnTo>
                  <a:lnTo>
                    <a:pt x="1236" y="225"/>
                  </a:lnTo>
                  <a:lnTo>
                    <a:pt x="1201" y="373"/>
                  </a:lnTo>
                  <a:lnTo>
                    <a:pt x="1372" y="246"/>
                  </a:lnTo>
                  <a:lnTo>
                    <a:pt x="1468" y="218"/>
                  </a:lnTo>
                  <a:lnTo>
                    <a:pt x="1581" y="232"/>
                  </a:lnTo>
                  <a:lnTo>
                    <a:pt x="1683" y="225"/>
                  </a:lnTo>
                  <a:lnTo>
                    <a:pt x="1776" y="179"/>
                  </a:lnTo>
                  <a:lnTo>
                    <a:pt x="1890" y="80"/>
                  </a:lnTo>
                  <a:lnTo>
                    <a:pt x="1978" y="51"/>
                  </a:lnTo>
                  <a:lnTo>
                    <a:pt x="2088" y="0"/>
                  </a:lnTo>
                  <a:lnTo>
                    <a:pt x="1941" y="87"/>
                  </a:lnTo>
                  <a:lnTo>
                    <a:pt x="2061" y="99"/>
                  </a:lnTo>
                  <a:lnTo>
                    <a:pt x="2291" y="51"/>
                  </a:lnTo>
                  <a:lnTo>
                    <a:pt x="2150" y="150"/>
                  </a:lnTo>
                  <a:lnTo>
                    <a:pt x="1994" y="200"/>
                  </a:lnTo>
                  <a:lnTo>
                    <a:pt x="1855" y="186"/>
                  </a:lnTo>
                  <a:lnTo>
                    <a:pt x="1776" y="225"/>
                  </a:lnTo>
                  <a:lnTo>
                    <a:pt x="1713" y="286"/>
                  </a:lnTo>
                  <a:lnTo>
                    <a:pt x="1683" y="361"/>
                  </a:lnTo>
                  <a:lnTo>
                    <a:pt x="1581" y="421"/>
                  </a:lnTo>
                  <a:lnTo>
                    <a:pt x="1434" y="451"/>
                  </a:lnTo>
                  <a:lnTo>
                    <a:pt x="1321" y="481"/>
                  </a:lnTo>
                  <a:lnTo>
                    <a:pt x="1247" y="571"/>
                  </a:lnTo>
                  <a:lnTo>
                    <a:pt x="1201" y="657"/>
                  </a:lnTo>
                  <a:lnTo>
                    <a:pt x="1183" y="717"/>
                  </a:lnTo>
                  <a:lnTo>
                    <a:pt x="1183" y="557"/>
                  </a:lnTo>
                  <a:lnTo>
                    <a:pt x="1207" y="475"/>
                  </a:lnTo>
                  <a:lnTo>
                    <a:pt x="1069" y="481"/>
                  </a:lnTo>
                  <a:lnTo>
                    <a:pt x="910" y="557"/>
                  </a:lnTo>
                  <a:lnTo>
                    <a:pt x="849" y="633"/>
                  </a:lnTo>
                  <a:lnTo>
                    <a:pt x="809" y="754"/>
                  </a:lnTo>
                  <a:lnTo>
                    <a:pt x="752" y="633"/>
                  </a:lnTo>
                  <a:lnTo>
                    <a:pt x="680" y="717"/>
                  </a:lnTo>
                  <a:lnTo>
                    <a:pt x="631" y="880"/>
                  </a:lnTo>
                  <a:lnTo>
                    <a:pt x="592" y="790"/>
                  </a:lnTo>
                  <a:lnTo>
                    <a:pt x="616" y="682"/>
                  </a:lnTo>
                  <a:lnTo>
                    <a:pt x="680" y="633"/>
                  </a:lnTo>
                  <a:lnTo>
                    <a:pt x="701" y="557"/>
                  </a:lnTo>
                  <a:lnTo>
                    <a:pt x="655" y="528"/>
                  </a:lnTo>
                  <a:lnTo>
                    <a:pt x="548" y="580"/>
                  </a:lnTo>
                  <a:lnTo>
                    <a:pt x="502" y="645"/>
                  </a:lnTo>
                  <a:lnTo>
                    <a:pt x="521" y="717"/>
                  </a:lnTo>
                  <a:lnTo>
                    <a:pt x="491" y="880"/>
                  </a:lnTo>
                  <a:lnTo>
                    <a:pt x="456" y="954"/>
                  </a:lnTo>
                  <a:lnTo>
                    <a:pt x="456" y="1025"/>
                  </a:lnTo>
                  <a:lnTo>
                    <a:pt x="456" y="1048"/>
                  </a:lnTo>
                  <a:lnTo>
                    <a:pt x="385" y="1000"/>
                  </a:lnTo>
                  <a:lnTo>
                    <a:pt x="387" y="1127"/>
                  </a:lnTo>
                  <a:lnTo>
                    <a:pt x="284" y="1048"/>
                  </a:lnTo>
                  <a:lnTo>
                    <a:pt x="284" y="1196"/>
                  </a:lnTo>
                  <a:lnTo>
                    <a:pt x="231" y="1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928640" y="5769720"/>
              <a:ext cx="16200" cy="183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0" y="0"/>
                  </a:moveTo>
                  <a:lnTo>
                    <a:pt x="51" y="117"/>
                  </a:lnTo>
                  <a:lnTo>
                    <a:pt x="125" y="165"/>
                  </a:lnTo>
                  <a:lnTo>
                    <a:pt x="217" y="191"/>
                  </a:lnTo>
                  <a:lnTo>
                    <a:pt x="153" y="276"/>
                  </a:lnTo>
                  <a:lnTo>
                    <a:pt x="72" y="239"/>
                  </a:lnTo>
                  <a:lnTo>
                    <a:pt x="8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929360" y="5654520"/>
              <a:ext cx="235800" cy="127440"/>
            </a:xfrm>
            <a:custGeom>
              <a:avLst/>
              <a:gdLst/>
              <a:ahLst/>
              <a:rect l="l" t="t" r="r" b="b"/>
              <a:pathLst>
                <a:path w="3089" h="1908">
                  <a:moveTo>
                    <a:pt x="267" y="1860"/>
                  </a:moveTo>
                  <a:lnTo>
                    <a:pt x="145" y="1812"/>
                  </a:lnTo>
                  <a:lnTo>
                    <a:pt x="55" y="1722"/>
                  </a:lnTo>
                  <a:lnTo>
                    <a:pt x="16" y="1584"/>
                  </a:lnTo>
                  <a:lnTo>
                    <a:pt x="0" y="1492"/>
                  </a:lnTo>
                  <a:lnTo>
                    <a:pt x="27" y="1429"/>
                  </a:lnTo>
                  <a:lnTo>
                    <a:pt x="78" y="1374"/>
                  </a:lnTo>
                  <a:lnTo>
                    <a:pt x="64" y="1302"/>
                  </a:lnTo>
                  <a:lnTo>
                    <a:pt x="87" y="1155"/>
                  </a:lnTo>
                  <a:lnTo>
                    <a:pt x="152" y="1058"/>
                  </a:lnTo>
                  <a:lnTo>
                    <a:pt x="249" y="985"/>
                  </a:lnTo>
                  <a:lnTo>
                    <a:pt x="359" y="936"/>
                  </a:lnTo>
                  <a:lnTo>
                    <a:pt x="420" y="846"/>
                  </a:lnTo>
                  <a:lnTo>
                    <a:pt x="523" y="745"/>
                  </a:lnTo>
                  <a:lnTo>
                    <a:pt x="609" y="738"/>
                  </a:lnTo>
                  <a:lnTo>
                    <a:pt x="514" y="800"/>
                  </a:lnTo>
                  <a:lnTo>
                    <a:pt x="460" y="860"/>
                  </a:lnTo>
                  <a:lnTo>
                    <a:pt x="460" y="886"/>
                  </a:lnTo>
                  <a:lnTo>
                    <a:pt x="560" y="860"/>
                  </a:lnTo>
                  <a:lnTo>
                    <a:pt x="671" y="745"/>
                  </a:lnTo>
                  <a:lnTo>
                    <a:pt x="733" y="641"/>
                  </a:lnTo>
                  <a:lnTo>
                    <a:pt x="816" y="489"/>
                  </a:lnTo>
                  <a:lnTo>
                    <a:pt x="922" y="416"/>
                  </a:lnTo>
                  <a:lnTo>
                    <a:pt x="1040" y="339"/>
                  </a:lnTo>
                  <a:lnTo>
                    <a:pt x="1196" y="319"/>
                  </a:lnTo>
                  <a:lnTo>
                    <a:pt x="1326" y="302"/>
                  </a:lnTo>
                  <a:lnTo>
                    <a:pt x="1387" y="293"/>
                  </a:lnTo>
                  <a:lnTo>
                    <a:pt x="1453" y="183"/>
                  </a:lnTo>
                  <a:lnTo>
                    <a:pt x="1546" y="106"/>
                  </a:lnTo>
                  <a:lnTo>
                    <a:pt x="1724" y="42"/>
                  </a:lnTo>
                  <a:lnTo>
                    <a:pt x="1862" y="62"/>
                  </a:lnTo>
                  <a:lnTo>
                    <a:pt x="1945" y="81"/>
                  </a:lnTo>
                  <a:lnTo>
                    <a:pt x="2058" y="0"/>
                  </a:lnTo>
                  <a:lnTo>
                    <a:pt x="2344" y="0"/>
                  </a:lnTo>
                  <a:lnTo>
                    <a:pt x="2526" y="27"/>
                  </a:lnTo>
                  <a:lnTo>
                    <a:pt x="2655" y="67"/>
                  </a:lnTo>
                  <a:lnTo>
                    <a:pt x="2734" y="132"/>
                  </a:lnTo>
                  <a:lnTo>
                    <a:pt x="2873" y="132"/>
                  </a:lnTo>
                  <a:lnTo>
                    <a:pt x="3013" y="196"/>
                  </a:lnTo>
                  <a:lnTo>
                    <a:pt x="3089" y="293"/>
                  </a:lnTo>
                  <a:lnTo>
                    <a:pt x="3013" y="231"/>
                  </a:lnTo>
                  <a:lnTo>
                    <a:pt x="2895" y="173"/>
                  </a:lnTo>
                  <a:lnTo>
                    <a:pt x="2774" y="183"/>
                  </a:lnTo>
                  <a:lnTo>
                    <a:pt x="2577" y="132"/>
                  </a:lnTo>
                  <a:lnTo>
                    <a:pt x="2367" y="132"/>
                  </a:lnTo>
                  <a:lnTo>
                    <a:pt x="2190" y="173"/>
                  </a:lnTo>
                  <a:lnTo>
                    <a:pt x="2017" y="245"/>
                  </a:lnTo>
                  <a:lnTo>
                    <a:pt x="1922" y="319"/>
                  </a:lnTo>
                  <a:lnTo>
                    <a:pt x="1862" y="330"/>
                  </a:lnTo>
                  <a:lnTo>
                    <a:pt x="1890" y="157"/>
                  </a:lnTo>
                  <a:lnTo>
                    <a:pt x="1763" y="132"/>
                  </a:lnTo>
                  <a:lnTo>
                    <a:pt x="1653" y="207"/>
                  </a:lnTo>
                  <a:lnTo>
                    <a:pt x="1592" y="330"/>
                  </a:lnTo>
                  <a:lnTo>
                    <a:pt x="1339" y="339"/>
                  </a:lnTo>
                  <a:lnTo>
                    <a:pt x="1093" y="416"/>
                  </a:lnTo>
                  <a:lnTo>
                    <a:pt x="882" y="583"/>
                  </a:lnTo>
                  <a:lnTo>
                    <a:pt x="772" y="779"/>
                  </a:lnTo>
                  <a:lnTo>
                    <a:pt x="647" y="860"/>
                  </a:lnTo>
                  <a:lnTo>
                    <a:pt x="477" y="936"/>
                  </a:lnTo>
                  <a:lnTo>
                    <a:pt x="317" y="985"/>
                  </a:lnTo>
                  <a:lnTo>
                    <a:pt x="227" y="1082"/>
                  </a:lnTo>
                  <a:lnTo>
                    <a:pt x="209" y="1245"/>
                  </a:lnTo>
                  <a:lnTo>
                    <a:pt x="267" y="1390"/>
                  </a:lnTo>
                  <a:lnTo>
                    <a:pt x="359" y="1471"/>
                  </a:lnTo>
                  <a:lnTo>
                    <a:pt x="460" y="1535"/>
                  </a:lnTo>
                  <a:lnTo>
                    <a:pt x="278" y="1499"/>
                  </a:lnTo>
                  <a:lnTo>
                    <a:pt x="145" y="1429"/>
                  </a:lnTo>
                  <a:lnTo>
                    <a:pt x="124" y="1554"/>
                  </a:lnTo>
                  <a:lnTo>
                    <a:pt x="209" y="1676"/>
                  </a:lnTo>
                  <a:lnTo>
                    <a:pt x="359" y="1730"/>
                  </a:lnTo>
                  <a:lnTo>
                    <a:pt x="477" y="1730"/>
                  </a:lnTo>
                  <a:lnTo>
                    <a:pt x="647" y="1710"/>
                  </a:lnTo>
                  <a:lnTo>
                    <a:pt x="574" y="1835"/>
                  </a:lnTo>
                  <a:lnTo>
                    <a:pt x="449" y="1908"/>
                  </a:lnTo>
                  <a:lnTo>
                    <a:pt x="267" y="1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110800" y="5860080"/>
              <a:ext cx="23760" cy="65160"/>
            </a:xfrm>
            <a:custGeom>
              <a:avLst/>
              <a:gdLst/>
              <a:ahLst/>
              <a:rect l="l" t="t" r="r" b="b"/>
              <a:pathLst>
                <a:path w="309" h="976">
                  <a:moveTo>
                    <a:pt x="186" y="0"/>
                  </a:moveTo>
                  <a:lnTo>
                    <a:pt x="186" y="187"/>
                  </a:lnTo>
                  <a:lnTo>
                    <a:pt x="147" y="459"/>
                  </a:lnTo>
                  <a:lnTo>
                    <a:pt x="101" y="666"/>
                  </a:lnTo>
                  <a:lnTo>
                    <a:pt x="0" y="976"/>
                  </a:lnTo>
                  <a:lnTo>
                    <a:pt x="136" y="831"/>
                  </a:lnTo>
                  <a:lnTo>
                    <a:pt x="241" y="605"/>
                  </a:lnTo>
                  <a:lnTo>
                    <a:pt x="288" y="446"/>
                  </a:lnTo>
                  <a:lnTo>
                    <a:pt x="309" y="29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011080" y="6035040"/>
              <a:ext cx="341640" cy="338760"/>
            </a:xfrm>
            <a:custGeom>
              <a:avLst/>
              <a:gdLst/>
              <a:ahLst/>
              <a:rect l="l" t="t" r="r" b="b"/>
              <a:pathLst>
                <a:path w="4469" h="5071">
                  <a:moveTo>
                    <a:pt x="4469" y="1452"/>
                  </a:moveTo>
                  <a:lnTo>
                    <a:pt x="3878" y="1759"/>
                  </a:lnTo>
                  <a:lnTo>
                    <a:pt x="3544" y="2040"/>
                  </a:lnTo>
                  <a:lnTo>
                    <a:pt x="3228" y="2346"/>
                  </a:lnTo>
                  <a:lnTo>
                    <a:pt x="2956" y="2784"/>
                  </a:lnTo>
                  <a:lnTo>
                    <a:pt x="2733" y="3276"/>
                  </a:lnTo>
                  <a:lnTo>
                    <a:pt x="2578" y="3865"/>
                  </a:lnTo>
                  <a:lnTo>
                    <a:pt x="2483" y="4482"/>
                  </a:lnTo>
                  <a:lnTo>
                    <a:pt x="2421" y="5071"/>
                  </a:lnTo>
                  <a:lnTo>
                    <a:pt x="0" y="5071"/>
                  </a:lnTo>
                  <a:lnTo>
                    <a:pt x="282" y="4821"/>
                  </a:lnTo>
                  <a:lnTo>
                    <a:pt x="499" y="4544"/>
                  </a:lnTo>
                  <a:lnTo>
                    <a:pt x="657" y="4297"/>
                  </a:lnTo>
                  <a:lnTo>
                    <a:pt x="900" y="4080"/>
                  </a:lnTo>
                  <a:lnTo>
                    <a:pt x="1182" y="3924"/>
                  </a:lnTo>
                  <a:lnTo>
                    <a:pt x="1525" y="3087"/>
                  </a:lnTo>
                  <a:lnTo>
                    <a:pt x="1089" y="3243"/>
                  </a:lnTo>
                  <a:lnTo>
                    <a:pt x="99" y="3801"/>
                  </a:lnTo>
                  <a:lnTo>
                    <a:pt x="900" y="3214"/>
                  </a:lnTo>
                  <a:lnTo>
                    <a:pt x="1525" y="2784"/>
                  </a:lnTo>
                  <a:lnTo>
                    <a:pt x="1835" y="2443"/>
                  </a:lnTo>
                  <a:lnTo>
                    <a:pt x="2055" y="2100"/>
                  </a:lnTo>
                  <a:lnTo>
                    <a:pt x="2209" y="1698"/>
                  </a:lnTo>
                  <a:lnTo>
                    <a:pt x="2306" y="1362"/>
                  </a:lnTo>
                  <a:lnTo>
                    <a:pt x="2145" y="894"/>
                  </a:lnTo>
                  <a:lnTo>
                    <a:pt x="1771" y="307"/>
                  </a:lnTo>
                  <a:lnTo>
                    <a:pt x="1459" y="0"/>
                  </a:lnTo>
                  <a:lnTo>
                    <a:pt x="1894" y="341"/>
                  </a:lnTo>
                  <a:lnTo>
                    <a:pt x="2306" y="894"/>
                  </a:lnTo>
                  <a:lnTo>
                    <a:pt x="2456" y="1298"/>
                  </a:lnTo>
                  <a:lnTo>
                    <a:pt x="2610" y="1698"/>
                  </a:lnTo>
                  <a:lnTo>
                    <a:pt x="2707" y="2135"/>
                  </a:lnTo>
                  <a:lnTo>
                    <a:pt x="3076" y="1913"/>
                  </a:lnTo>
                  <a:lnTo>
                    <a:pt x="2578" y="2346"/>
                  </a:lnTo>
                  <a:lnTo>
                    <a:pt x="2209" y="2784"/>
                  </a:lnTo>
                  <a:lnTo>
                    <a:pt x="2020" y="3119"/>
                  </a:lnTo>
                  <a:lnTo>
                    <a:pt x="1894" y="3463"/>
                  </a:lnTo>
                  <a:lnTo>
                    <a:pt x="1802" y="3801"/>
                  </a:lnTo>
                  <a:lnTo>
                    <a:pt x="1617" y="4177"/>
                  </a:lnTo>
                  <a:lnTo>
                    <a:pt x="1459" y="4423"/>
                  </a:lnTo>
                  <a:lnTo>
                    <a:pt x="1432" y="4669"/>
                  </a:lnTo>
                  <a:lnTo>
                    <a:pt x="1432" y="4857"/>
                  </a:lnTo>
                  <a:lnTo>
                    <a:pt x="1556" y="4509"/>
                  </a:lnTo>
                  <a:lnTo>
                    <a:pt x="1736" y="4177"/>
                  </a:lnTo>
                  <a:lnTo>
                    <a:pt x="1958" y="3865"/>
                  </a:lnTo>
                  <a:lnTo>
                    <a:pt x="2055" y="3619"/>
                  </a:lnTo>
                  <a:lnTo>
                    <a:pt x="2270" y="3340"/>
                  </a:lnTo>
                  <a:lnTo>
                    <a:pt x="2639" y="3054"/>
                  </a:lnTo>
                  <a:lnTo>
                    <a:pt x="2920" y="2658"/>
                  </a:lnTo>
                  <a:lnTo>
                    <a:pt x="3228" y="2226"/>
                  </a:lnTo>
                  <a:lnTo>
                    <a:pt x="3602" y="1883"/>
                  </a:lnTo>
                  <a:lnTo>
                    <a:pt x="3943" y="1637"/>
                  </a:lnTo>
                  <a:lnTo>
                    <a:pt x="4469" y="1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988040" y="6107040"/>
              <a:ext cx="134280" cy="142560"/>
            </a:xfrm>
            <a:custGeom>
              <a:avLst/>
              <a:gdLst/>
              <a:ahLst/>
              <a:rect l="l" t="t" r="r" b="b"/>
              <a:pathLst>
                <a:path w="1765" h="2135">
                  <a:moveTo>
                    <a:pt x="1710" y="0"/>
                  </a:moveTo>
                  <a:lnTo>
                    <a:pt x="1765" y="61"/>
                  </a:lnTo>
                  <a:lnTo>
                    <a:pt x="1425" y="744"/>
                  </a:lnTo>
                  <a:lnTo>
                    <a:pt x="994" y="1147"/>
                  </a:lnTo>
                  <a:lnTo>
                    <a:pt x="743" y="1579"/>
                  </a:lnTo>
                  <a:lnTo>
                    <a:pt x="0" y="2135"/>
                  </a:lnTo>
                  <a:lnTo>
                    <a:pt x="306" y="1482"/>
                  </a:lnTo>
                  <a:lnTo>
                    <a:pt x="1020" y="645"/>
                  </a:lnTo>
                  <a:lnTo>
                    <a:pt x="1579" y="248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248320" y="5927400"/>
              <a:ext cx="109080" cy="162720"/>
            </a:xfrm>
            <a:custGeom>
              <a:avLst/>
              <a:gdLst/>
              <a:ahLst/>
              <a:rect l="l" t="t" r="r" b="b"/>
              <a:pathLst>
                <a:path w="1430" h="2441">
                  <a:moveTo>
                    <a:pt x="0" y="0"/>
                  </a:moveTo>
                  <a:lnTo>
                    <a:pt x="374" y="373"/>
                  </a:lnTo>
                  <a:lnTo>
                    <a:pt x="745" y="929"/>
                  </a:lnTo>
                  <a:lnTo>
                    <a:pt x="1430" y="2441"/>
                  </a:lnTo>
                  <a:lnTo>
                    <a:pt x="718" y="961"/>
                  </a:lnTo>
                  <a:lnTo>
                    <a:pt x="347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945200" y="5956920"/>
              <a:ext cx="174600" cy="322560"/>
            </a:xfrm>
            <a:custGeom>
              <a:avLst/>
              <a:gdLst/>
              <a:ahLst/>
              <a:rect l="l" t="t" r="r" b="b"/>
              <a:pathLst>
                <a:path w="2285" h="4830">
                  <a:moveTo>
                    <a:pt x="2285" y="0"/>
                  </a:moveTo>
                  <a:lnTo>
                    <a:pt x="1736" y="296"/>
                  </a:lnTo>
                  <a:lnTo>
                    <a:pt x="1471" y="507"/>
                  </a:lnTo>
                  <a:lnTo>
                    <a:pt x="1198" y="646"/>
                  </a:lnTo>
                  <a:lnTo>
                    <a:pt x="862" y="1140"/>
                  </a:lnTo>
                  <a:lnTo>
                    <a:pt x="688" y="1755"/>
                  </a:lnTo>
                  <a:lnTo>
                    <a:pt x="620" y="2283"/>
                  </a:lnTo>
                  <a:lnTo>
                    <a:pt x="559" y="2690"/>
                  </a:lnTo>
                  <a:lnTo>
                    <a:pt x="446" y="3017"/>
                  </a:lnTo>
                  <a:lnTo>
                    <a:pt x="365" y="3412"/>
                  </a:lnTo>
                  <a:lnTo>
                    <a:pt x="286" y="3753"/>
                  </a:lnTo>
                  <a:lnTo>
                    <a:pt x="270" y="4021"/>
                  </a:lnTo>
                  <a:lnTo>
                    <a:pt x="224" y="4254"/>
                  </a:lnTo>
                  <a:lnTo>
                    <a:pt x="207" y="4383"/>
                  </a:lnTo>
                  <a:lnTo>
                    <a:pt x="132" y="4577"/>
                  </a:lnTo>
                  <a:lnTo>
                    <a:pt x="0" y="4830"/>
                  </a:lnTo>
                  <a:lnTo>
                    <a:pt x="240" y="4421"/>
                  </a:lnTo>
                  <a:lnTo>
                    <a:pt x="381" y="4104"/>
                  </a:lnTo>
                  <a:lnTo>
                    <a:pt x="574" y="3689"/>
                  </a:lnTo>
                  <a:lnTo>
                    <a:pt x="688" y="3368"/>
                  </a:lnTo>
                  <a:lnTo>
                    <a:pt x="780" y="2986"/>
                  </a:lnTo>
                  <a:lnTo>
                    <a:pt x="826" y="2430"/>
                  </a:lnTo>
                  <a:lnTo>
                    <a:pt x="766" y="3006"/>
                  </a:lnTo>
                  <a:lnTo>
                    <a:pt x="574" y="3592"/>
                  </a:lnTo>
                  <a:lnTo>
                    <a:pt x="305" y="4083"/>
                  </a:lnTo>
                  <a:lnTo>
                    <a:pt x="365" y="3592"/>
                  </a:lnTo>
                  <a:lnTo>
                    <a:pt x="497" y="3006"/>
                  </a:lnTo>
                  <a:lnTo>
                    <a:pt x="607" y="2718"/>
                  </a:lnTo>
                  <a:lnTo>
                    <a:pt x="730" y="1920"/>
                  </a:lnTo>
                  <a:lnTo>
                    <a:pt x="862" y="1377"/>
                  </a:lnTo>
                  <a:lnTo>
                    <a:pt x="1022" y="973"/>
                  </a:lnTo>
                  <a:lnTo>
                    <a:pt x="1229" y="692"/>
                  </a:lnTo>
                  <a:lnTo>
                    <a:pt x="1532" y="523"/>
                  </a:lnTo>
                  <a:lnTo>
                    <a:pt x="1833" y="268"/>
                  </a:lnTo>
                  <a:lnTo>
                    <a:pt x="22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701120" y="6180120"/>
              <a:ext cx="279000" cy="194760"/>
            </a:xfrm>
            <a:custGeom>
              <a:avLst/>
              <a:gdLst/>
              <a:ahLst/>
              <a:rect l="l" t="t" r="r" b="b"/>
              <a:pathLst>
                <a:path w="3654" h="2924">
                  <a:moveTo>
                    <a:pt x="3236" y="1418"/>
                  </a:moveTo>
                  <a:lnTo>
                    <a:pt x="3179" y="1729"/>
                  </a:lnTo>
                  <a:lnTo>
                    <a:pt x="3291" y="2195"/>
                  </a:lnTo>
                  <a:lnTo>
                    <a:pt x="3543" y="2562"/>
                  </a:lnTo>
                  <a:lnTo>
                    <a:pt x="3654" y="2845"/>
                  </a:lnTo>
                  <a:lnTo>
                    <a:pt x="3432" y="2654"/>
                  </a:lnTo>
                  <a:lnTo>
                    <a:pt x="3261" y="2237"/>
                  </a:lnTo>
                  <a:lnTo>
                    <a:pt x="3192" y="1925"/>
                  </a:lnTo>
                  <a:lnTo>
                    <a:pt x="2796" y="2272"/>
                  </a:lnTo>
                  <a:lnTo>
                    <a:pt x="2796" y="2592"/>
                  </a:lnTo>
                  <a:lnTo>
                    <a:pt x="3015" y="2924"/>
                  </a:lnTo>
                  <a:lnTo>
                    <a:pt x="2777" y="2668"/>
                  </a:lnTo>
                  <a:lnTo>
                    <a:pt x="2715" y="2527"/>
                  </a:lnTo>
                  <a:lnTo>
                    <a:pt x="2683" y="2356"/>
                  </a:lnTo>
                  <a:lnTo>
                    <a:pt x="2683" y="2237"/>
                  </a:lnTo>
                  <a:lnTo>
                    <a:pt x="2733" y="2114"/>
                  </a:lnTo>
                  <a:lnTo>
                    <a:pt x="2937" y="1815"/>
                  </a:lnTo>
                  <a:lnTo>
                    <a:pt x="2983" y="1775"/>
                  </a:lnTo>
                  <a:lnTo>
                    <a:pt x="3131" y="1753"/>
                  </a:lnTo>
                  <a:lnTo>
                    <a:pt x="3131" y="1683"/>
                  </a:lnTo>
                  <a:lnTo>
                    <a:pt x="2904" y="1608"/>
                  </a:lnTo>
                  <a:lnTo>
                    <a:pt x="2808" y="1619"/>
                  </a:lnTo>
                  <a:lnTo>
                    <a:pt x="2427" y="2068"/>
                  </a:lnTo>
                  <a:lnTo>
                    <a:pt x="2505" y="1826"/>
                  </a:lnTo>
                  <a:lnTo>
                    <a:pt x="2268" y="1826"/>
                  </a:lnTo>
                  <a:lnTo>
                    <a:pt x="1579" y="2045"/>
                  </a:lnTo>
                  <a:lnTo>
                    <a:pt x="1401" y="2356"/>
                  </a:lnTo>
                  <a:lnTo>
                    <a:pt x="1309" y="2578"/>
                  </a:lnTo>
                  <a:lnTo>
                    <a:pt x="1296" y="2832"/>
                  </a:lnTo>
                  <a:lnTo>
                    <a:pt x="1265" y="2608"/>
                  </a:lnTo>
                  <a:lnTo>
                    <a:pt x="1276" y="2452"/>
                  </a:lnTo>
                  <a:lnTo>
                    <a:pt x="1447" y="2015"/>
                  </a:lnTo>
                  <a:lnTo>
                    <a:pt x="1039" y="1889"/>
                  </a:lnTo>
                  <a:lnTo>
                    <a:pt x="797" y="1859"/>
                  </a:lnTo>
                  <a:lnTo>
                    <a:pt x="493" y="1909"/>
                  </a:lnTo>
                  <a:lnTo>
                    <a:pt x="219" y="1925"/>
                  </a:lnTo>
                  <a:lnTo>
                    <a:pt x="0" y="1874"/>
                  </a:lnTo>
                  <a:lnTo>
                    <a:pt x="255" y="1889"/>
                  </a:lnTo>
                  <a:lnTo>
                    <a:pt x="529" y="1859"/>
                  </a:lnTo>
                  <a:lnTo>
                    <a:pt x="828" y="1799"/>
                  </a:lnTo>
                  <a:lnTo>
                    <a:pt x="973" y="1775"/>
                  </a:lnTo>
                  <a:lnTo>
                    <a:pt x="1199" y="1826"/>
                  </a:lnTo>
                  <a:lnTo>
                    <a:pt x="1436" y="1826"/>
                  </a:lnTo>
                  <a:lnTo>
                    <a:pt x="1639" y="1753"/>
                  </a:lnTo>
                  <a:lnTo>
                    <a:pt x="1821" y="1619"/>
                  </a:lnTo>
                  <a:lnTo>
                    <a:pt x="1982" y="1481"/>
                  </a:lnTo>
                  <a:lnTo>
                    <a:pt x="2091" y="1367"/>
                  </a:lnTo>
                  <a:lnTo>
                    <a:pt x="2224" y="1176"/>
                  </a:lnTo>
                  <a:lnTo>
                    <a:pt x="2224" y="1257"/>
                  </a:lnTo>
                  <a:lnTo>
                    <a:pt x="2634" y="1107"/>
                  </a:lnTo>
                  <a:lnTo>
                    <a:pt x="2591" y="955"/>
                  </a:lnTo>
                  <a:lnTo>
                    <a:pt x="2476" y="777"/>
                  </a:lnTo>
                  <a:lnTo>
                    <a:pt x="2314" y="648"/>
                  </a:lnTo>
                  <a:lnTo>
                    <a:pt x="2188" y="648"/>
                  </a:lnTo>
                  <a:lnTo>
                    <a:pt x="2268" y="527"/>
                  </a:lnTo>
                  <a:lnTo>
                    <a:pt x="2556" y="393"/>
                  </a:lnTo>
                  <a:lnTo>
                    <a:pt x="2746" y="316"/>
                  </a:lnTo>
                  <a:lnTo>
                    <a:pt x="2983" y="141"/>
                  </a:lnTo>
                  <a:lnTo>
                    <a:pt x="3131" y="30"/>
                  </a:lnTo>
                  <a:lnTo>
                    <a:pt x="3592" y="0"/>
                  </a:lnTo>
                  <a:lnTo>
                    <a:pt x="3573" y="30"/>
                  </a:lnTo>
                  <a:lnTo>
                    <a:pt x="3140" y="74"/>
                  </a:lnTo>
                  <a:lnTo>
                    <a:pt x="2886" y="316"/>
                  </a:lnTo>
                  <a:lnTo>
                    <a:pt x="2591" y="461"/>
                  </a:lnTo>
                  <a:lnTo>
                    <a:pt x="2492" y="478"/>
                  </a:lnTo>
                  <a:lnTo>
                    <a:pt x="2314" y="558"/>
                  </a:lnTo>
                  <a:lnTo>
                    <a:pt x="2476" y="635"/>
                  </a:lnTo>
                  <a:lnTo>
                    <a:pt x="2634" y="777"/>
                  </a:lnTo>
                  <a:lnTo>
                    <a:pt x="2733" y="916"/>
                  </a:lnTo>
                  <a:lnTo>
                    <a:pt x="2796" y="1107"/>
                  </a:lnTo>
                  <a:lnTo>
                    <a:pt x="2832" y="1386"/>
                  </a:lnTo>
                  <a:lnTo>
                    <a:pt x="3370" y="1176"/>
                  </a:lnTo>
                  <a:lnTo>
                    <a:pt x="3236" y="1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421760" y="5749920"/>
              <a:ext cx="46800" cy="76680"/>
            </a:xfrm>
            <a:custGeom>
              <a:avLst/>
              <a:gdLst/>
              <a:ahLst/>
              <a:rect l="l" t="t" r="r" b="b"/>
              <a:pathLst>
                <a:path w="620" h="1156">
                  <a:moveTo>
                    <a:pt x="519" y="950"/>
                  </a:moveTo>
                  <a:lnTo>
                    <a:pt x="620" y="971"/>
                  </a:lnTo>
                  <a:lnTo>
                    <a:pt x="620" y="1059"/>
                  </a:lnTo>
                  <a:lnTo>
                    <a:pt x="547" y="1088"/>
                  </a:lnTo>
                  <a:lnTo>
                    <a:pt x="341" y="1098"/>
                  </a:lnTo>
                  <a:lnTo>
                    <a:pt x="242" y="1059"/>
                  </a:lnTo>
                  <a:lnTo>
                    <a:pt x="169" y="1075"/>
                  </a:lnTo>
                  <a:lnTo>
                    <a:pt x="0" y="1156"/>
                  </a:lnTo>
                  <a:lnTo>
                    <a:pt x="116" y="1015"/>
                  </a:lnTo>
                  <a:lnTo>
                    <a:pt x="305" y="909"/>
                  </a:lnTo>
                  <a:lnTo>
                    <a:pt x="429" y="978"/>
                  </a:lnTo>
                  <a:lnTo>
                    <a:pt x="464" y="964"/>
                  </a:lnTo>
                  <a:lnTo>
                    <a:pt x="452" y="782"/>
                  </a:lnTo>
                  <a:lnTo>
                    <a:pt x="429" y="540"/>
                  </a:lnTo>
                  <a:lnTo>
                    <a:pt x="393" y="293"/>
                  </a:lnTo>
                  <a:lnTo>
                    <a:pt x="305" y="24"/>
                  </a:lnTo>
                  <a:lnTo>
                    <a:pt x="351" y="0"/>
                  </a:lnTo>
                  <a:lnTo>
                    <a:pt x="413" y="202"/>
                  </a:lnTo>
                  <a:lnTo>
                    <a:pt x="464" y="540"/>
                  </a:lnTo>
                  <a:lnTo>
                    <a:pt x="489" y="941"/>
                  </a:lnTo>
                  <a:lnTo>
                    <a:pt x="519" y="9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429320" y="5822640"/>
              <a:ext cx="23040" cy="34920"/>
            </a:xfrm>
            <a:custGeom>
              <a:avLst/>
              <a:gdLst/>
              <a:ahLst/>
              <a:rect l="l" t="t" r="r" b="b"/>
              <a:pathLst>
                <a:path w="298" h="529">
                  <a:moveTo>
                    <a:pt x="298" y="0"/>
                  </a:moveTo>
                  <a:lnTo>
                    <a:pt x="263" y="99"/>
                  </a:lnTo>
                  <a:lnTo>
                    <a:pt x="37" y="169"/>
                  </a:lnTo>
                  <a:lnTo>
                    <a:pt x="77" y="266"/>
                  </a:lnTo>
                  <a:lnTo>
                    <a:pt x="167" y="344"/>
                  </a:lnTo>
                  <a:lnTo>
                    <a:pt x="0" y="494"/>
                  </a:lnTo>
                  <a:lnTo>
                    <a:pt x="7" y="529"/>
                  </a:lnTo>
                  <a:lnTo>
                    <a:pt x="107" y="501"/>
                  </a:lnTo>
                  <a:lnTo>
                    <a:pt x="206" y="400"/>
                  </a:lnTo>
                  <a:lnTo>
                    <a:pt x="206" y="330"/>
                  </a:lnTo>
                  <a:lnTo>
                    <a:pt x="99" y="213"/>
                  </a:lnTo>
                  <a:lnTo>
                    <a:pt x="198" y="160"/>
                  </a:lnTo>
                  <a:lnTo>
                    <a:pt x="173" y="213"/>
                  </a:lnTo>
                  <a:lnTo>
                    <a:pt x="263" y="160"/>
                  </a:lnTo>
                  <a:lnTo>
                    <a:pt x="294" y="83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421400" y="5823360"/>
              <a:ext cx="54720" cy="77760"/>
            </a:xfrm>
            <a:custGeom>
              <a:avLst/>
              <a:gdLst/>
              <a:ahLst/>
              <a:rect l="l" t="t" r="r" b="b"/>
              <a:pathLst>
                <a:path w="721" h="1164">
                  <a:moveTo>
                    <a:pt x="433" y="0"/>
                  </a:moveTo>
                  <a:lnTo>
                    <a:pt x="440" y="73"/>
                  </a:lnTo>
                  <a:lnTo>
                    <a:pt x="721" y="779"/>
                  </a:lnTo>
                  <a:lnTo>
                    <a:pt x="679" y="846"/>
                  </a:lnTo>
                  <a:lnTo>
                    <a:pt x="599" y="878"/>
                  </a:lnTo>
                  <a:lnTo>
                    <a:pt x="373" y="864"/>
                  </a:lnTo>
                  <a:lnTo>
                    <a:pt x="295" y="899"/>
                  </a:lnTo>
                  <a:lnTo>
                    <a:pt x="242" y="1095"/>
                  </a:lnTo>
                  <a:lnTo>
                    <a:pt x="0" y="1164"/>
                  </a:lnTo>
                  <a:lnTo>
                    <a:pt x="11" y="1084"/>
                  </a:lnTo>
                  <a:lnTo>
                    <a:pt x="76" y="1095"/>
                  </a:lnTo>
                  <a:lnTo>
                    <a:pt x="217" y="1065"/>
                  </a:lnTo>
                  <a:lnTo>
                    <a:pt x="265" y="882"/>
                  </a:lnTo>
                  <a:lnTo>
                    <a:pt x="202" y="832"/>
                  </a:lnTo>
                  <a:lnTo>
                    <a:pt x="217" y="814"/>
                  </a:lnTo>
                  <a:lnTo>
                    <a:pt x="362" y="779"/>
                  </a:lnTo>
                  <a:lnTo>
                    <a:pt x="518" y="814"/>
                  </a:lnTo>
                  <a:lnTo>
                    <a:pt x="606" y="802"/>
                  </a:lnTo>
                  <a:lnTo>
                    <a:pt x="679" y="756"/>
                  </a:lnTo>
                  <a:lnTo>
                    <a:pt x="449" y="194"/>
                  </a:lnTo>
                  <a:lnTo>
                    <a:pt x="373" y="97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414560" y="5862240"/>
              <a:ext cx="25560" cy="52200"/>
            </a:xfrm>
            <a:custGeom>
              <a:avLst/>
              <a:gdLst/>
              <a:ahLst/>
              <a:rect l="l" t="t" r="r" b="b"/>
              <a:pathLst>
                <a:path w="339" h="788">
                  <a:moveTo>
                    <a:pt x="339" y="0"/>
                  </a:moveTo>
                  <a:lnTo>
                    <a:pt x="319" y="120"/>
                  </a:lnTo>
                  <a:lnTo>
                    <a:pt x="288" y="209"/>
                  </a:lnTo>
                  <a:lnTo>
                    <a:pt x="233" y="283"/>
                  </a:lnTo>
                  <a:lnTo>
                    <a:pt x="152" y="382"/>
                  </a:lnTo>
                  <a:lnTo>
                    <a:pt x="97" y="428"/>
                  </a:lnTo>
                  <a:lnTo>
                    <a:pt x="72" y="391"/>
                  </a:lnTo>
                  <a:lnTo>
                    <a:pt x="42" y="583"/>
                  </a:lnTo>
                  <a:lnTo>
                    <a:pt x="0" y="788"/>
                  </a:lnTo>
                  <a:lnTo>
                    <a:pt x="97" y="599"/>
                  </a:lnTo>
                  <a:lnTo>
                    <a:pt x="127" y="463"/>
                  </a:lnTo>
                  <a:lnTo>
                    <a:pt x="266" y="329"/>
                  </a:lnTo>
                  <a:lnTo>
                    <a:pt x="319" y="221"/>
                  </a:lnTo>
                  <a:lnTo>
                    <a:pt x="339" y="101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419960" y="5898600"/>
              <a:ext cx="16200" cy="9000"/>
            </a:xfrm>
            <a:custGeom>
              <a:avLst/>
              <a:gdLst/>
              <a:ahLst/>
              <a:rect l="l" t="t" r="r" b="b"/>
              <a:pathLst>
                <a:path w="216" h="137">
                  <a:moveTo>
                    <a:pt x="49" y="0"/>
                  </a:moveTo>
                  <a:lnTo>
                    <a:pt x="216" y="117"/>
                  </a:lnTo>
                  <a:lnTo>
                    <a:pt x="216" y="137"/>
                  </a:lnTo>
                  <a:lnTo>
                    <a:pt x="0" y="61"/>
                  </a:lnTo>
                  <a:lnTo>
                    <a:pt x="0" y="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425000" y="5916240"/>
              <a:ext cx="11880" cy="9000"/>
            </a:xfrm>
            <a:custGeom>
              <a:avLst/>
              <a:gdLst/>
              <a:ahLst/>
              <a:rect l="l" t="t" r="r" b="b"/>
              <a:pathLst>
                <a:path w="159" h="136">
                  <a:moveTo>
                    <a:pt x="152" y="0"/>
                  </a:moveTo>
                  <a:lnTo>
                    <a:pt x="0" y="31"/>
                  </a:lnTo>
                  <a:lnTo>
                    <a:pt x="0" y="97"/>
                  </a:lnTo>
                  <a:lnTo>
                    <a:pt x="67" y="136"/>
                  </a:lnTo>
                  <a:lnTo>
                    <a:pt x="159" y="31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179840" y="5838120"/>
              <a:ext cx="249120" cy="125640"/>
            </a:xfrm>
            <a:custGeom>
              <a:avLst/>
              <a:gdLst/>
              <a:ahLst/>
              <a:rect l="l" t="t" r="r" b="b"/>
              <a:pathLst>
                <a:path w="3264" h="1881">
                  <a:moveTo>
                    <a:pt x="3264" y="1419"/>
                  </a:moveTo>
                  <a:lnTo>
                    <a:pt x="3264" y="1489"/>
                  </a:lnTo>
                  <a:lnTo>
                    <a:pt x="3204" y="1586"/>
                  </a:lnTo>
                  <a:lnTo>
                    <a:pt x="3082" y="1626"/>
                  </a:lnTo>
                  <a:lnTo>
                    <a:pt x="2943" y="1617"/>
                  </a:lnTo>
                  <a:lnTo>
                    <a:pt x="2679" y="1593"/>
                  </a:lnTo>
                  <a:lnTo>
                    <a:pt x="2515" y="1617"/>
                  </a:lnTo>
                  <a:lnTo>
                    <a:pt x="2400" y="1687"/>
                  </a:lnTo>
                  <a:lnTo>
                    <a:pt x="2646" y="1881"/>
                  </a:lnTo>
                  <a:lnTo>
                    <a:pt x="2086" y="1531"/>
                  </a:lnTo>
                  <a:lnTo>
                    <a:pt x="1563" y="1226"/>
                  </a:lnTo>
                  <a:lnTo>
                    <a:pt x="1058" y="920"/>
                  </a:lnTo>
                  <a:lnTo>
                    <a:pt x="602" y="775"/>
                  </a:lnTo>
                  <a:lnTo>
                    <a:pt x="390" y="718"/>
                  </a:lnTo>
                  <a:lnTo>
                    <a:pt x="752" y="800"/>
                  </a:lnTo>
                  <a:lnTo>
                    <a:pt x="1183" y="920"/>
                  </a:lnTo>
                  <a:lnTo>
                    <a:pt x="1533" y="1139"/>
                  </a:lnTo>
                  <a:lnTo>
                    <a:pt x="1381" y="839"/>
                  </a:lnTo>
                  <a:lnTo>
                    <a:pt x="1067" y="593"/>
                  </a:lnTo>
                  <a:lnTo>
                    <a:pt x="655" y="410"/>
                  </a:lnTo>
                  <a:lnTo>
                    <a:pt x="231" y="316"/>
                  </a:lnTo>
                  <a:lnTo>
                    <a:pt x="0" y="551"/>
                  </a:lnTo>
                  <a:lnTo>
                    <a:pt x="196" y="270"/>
                  </a:lnTo>
                  <a:lnTo>
                    <a:pt x="602" y="351"/>
                  </a:lnTo>
                  <a:lnTo>
                    <a:pt x="1026" y="496"/>
                  </a:lnTo>
                  <a:lnTo>
                    <a:pt x="1446" y="751"/>
                  </a:lnTo>
                  <a:lnTo>
                    <a:pt x="1734" y="1012"/>
                  </a:lnTo>
                  <a:lnTo>
                    <a:pt x="1957" y="1270"/>
                  </a:lnTo>
                  <a:lnTo>
                    <a:pt x="1673" y="775"/>
                  </a:lnTo>
                  <a:lnTo>
                    <a:pt x="1914" y="1067"/>
                  </a:lnTo>
                  <a:lnTo>
                    <a:pt x="1914" y="839"/>
                  </a:lnTo>
                  <a:lnTo>
                    <a:pt x="1807" y="661"/>
                  </a:lnTo>
                  <a:lnTo>
                    <a:pt x="1807" y="551"/>
                  </a:lnTo>
                  <a:lnTo>
                    <a:pt x="1673" y="399"/>
                  </a:lnTo>
                  <a:lnTo>
                    <a:pt x="1600" y="242"/>
                  </a:lnTo>
                  <a:lnTo>
                    <a:pt x="1543" y="53"/>
                  </a:lnTo>
                  <a:lnTo>
                    <a:pt x="1591" y="0"/>
                  </a:lnTo>
                  <a:lnTo>
                    <a:pt x="1607" y="138"/>
                  </a:lnTo>
                  <a:lnTo>
                    <a:pt x="1683" y="316"/>
                  </a:lnTo>
                  <a:lnTo>
                    <a:pt x="1778" y="424"/>
                  </a:lnTo>
                  <a:lnTo>
                    <a:pt x="1866" y="535"/>
                  </a:lnTo>
                  <a:lnTo>
                    <a:pt x="1914" y="558"/>
                  </a:lnTo>
                  <a:lnTo>
                    <a:pt x="1987" y="551"/>
                  </a:lnTo>
                  <a:lnTo>
                    <a:pt x="2066" y="480"/>
                  </a:lnTo>
                  <a:lnTo>
                    <a:pt x="2086" y="602"/>
                  </a:lnTo>
                  <a:lnTo>
                    <a:pt x="2061" y="718"/>
                  </a:lnTo>
                  <a:lnTo>
                    <a:pt x="2013" y="782"/>
                  </a:lnTo>
                  <a:lnTo>
                    <a:pt x="1965" y="800"/>
                  </a:lnTo>
                  <a:lnTo>
                    <a:pt x="2031" y="984"/>
                  </a:lnTo>
                  <a:lnTo>
                    <a:pt x="2086" y="1160"/>
                  </a:lnTo>
                  <a:lnTo>
                    <a:pt x="2255" y="1067"/>
                  </a:lnTo>
                  <a:lnTo>
                    <a:pt x="2156" y="839"/>
                  </a:lnTo>
                  <a:lnTo>
                    <a:pt x="2280" y="1035"/>
                  </a:lnTo>
                  <a:lnTo>
                    <a:pt x="2365" y="1052"/>
                  </a:lnTo>
                  <a:lnTo>
                    <a:pt x="2495" y="1052"/>
                  </a:lnTo>
                  <a:lnTo>
                    <a:pt x="2635" y="1234"/>
                  </a:lnTo>
                  <a:lnTo>
                    <a:pt x="2741" y="1300"/>
                  </a:lnTo>
                  <a:lnTo>
                    <a:pt x="2852" y="1277"/>
                  </a:lnTo>
                  <a:lnTo>
                    <a:pt x="3068" y="1173"/>
                  </a:lnTo>
                  <a:lnTo>
                    <a:pt x="3082" y="1347"/>
                  </a:lnTo>
                  <a:lnTo>
                    <a:pt x="3140" y="1507"/>
                  </a:lnTo>
                  <a:lnTo>
                    <a:pt x="3204" y="1507"/>
                  </a:lnTo>
                  <a:lnTo>
                    <a:pt x="3248" y="1467"/>
                  </a:lnTo>
                  <a:lnTo>
                    <a:pt x="3264" y="1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205400" y="5682240"/>
              <a:ext cx="261000" cy="176040"/>
            </a:xfrm>
            <a:custGeom>
              <a:avLst/>
              <a:gdLst/>
              <a:ahLst/>
              <a:rect l="l" t="t" r="r" b="b"/>
              <a:pathLst>
                <a:path w="3415" h="2637">
                  <a:moveTo>
                    <a:pt x="3195" y="1078"/>
                  </a:moveTo>
                  <a:lnTo>
                    <a:pt x="3340" y="1037"/>
                  </a:lnTo>
                  <a:lnTo>
                    <a:pt x="3415" y="882"/>
                  </a:lnTo>
                  <a:lnTo>
                    <a:pt x="3380" y="721"/>
                  </a:lnTo>
                  <a:lnTo>
                    <a:pt x="3198" y="547"/>
                  </a:lnTo>
                  <a:lnTo>
                    <a:pt x="3009" y="477"/>
                  </a:lnTo>
                  <a:lnTo>
                    <a:pt x="2778" y="299"/>
                  </a:lnTo>
                  <a:lnTo>
                    <a:pt x="2418" y="119"/>
                  </a:lnTo>
                  <a:lnTo>
                    <a:pt x="1996" y="0"/>
                  </a:lnTo>
                  <a:lnTo>
                    <a:pt x="1457" y="46"/>
                  </a:lnTo>
                  <a:lnTo>
                    <a:pt x="1033" y="167"/>
                  </a:lnTo>
                  <a:lnTo>
                    <a:pt x="798" y="279"/>
                  </a:lnTo>
                  <a:lnTo>
                    <a:pt x="514" y="444"/>
                  </a:lnTo>
                  <a:lnTo>
                    <a:pt x="145" y="1078"/>
                  </a:lnTo>
                  <a:lnTo>
                    <a:pt x="81" y="1490"/>
                  </a:lnTo>
                  <a:lnTo>
                    <a:pt x="145" y="1963"/>
                  </a:lnTo>
                  <a:lnTo>
                    <a:pt x="90" y="2228"/>
                  </a:lnTo>
                  <a:lnTo>
                    <a:pt x="0" y="2637"/>
                  </a:lnTo>
                  <a:lnTo>
                    <a:pt x="97" y="2439"/>
                  </a:lnTo>
                  <a:lnTo>
                    <a:pt x="288" y="2415"/>
                  </a:lnTo>
                  <a:lnTo>
                    <a:pt x="479" y="1756"/>
                  </a:lnTo>
                  <a:lnTo>
                    <a:pt x="212" y="2101"/>
                  </a:lnTo>
                  <a:lnTo>
                    <a:pt x="127" y="1426"/>
                  </a:lnTo>
                  <a:lnTo>
                    <a:pt x="196" y="1068"/>
                  </a:lnTo>
                  <a:lnTo>
                    <a:pt x="535" y="497"/>
                  </a:lnTo>
                  <a:lnTo>
                    <a:pt x="873" y="255"/>
                  </a:lnTo>
                  <a:lnTo>
                    <a:pt x="1395" y="75"/>
                  </a:lnTo>
                  <a:lnTo>
                    <a:pt x="1923" y="52"/>
                  </a:lnTo>
                  <a:lnTo>
                    <a:pt x="2503" y="218"/>
                  </a:lnTo>
                  <a:lnTo>
                    <a:pt x="2863" y="419"/>
                  </a:lnTo>
                  <a:lnTo>
                    <a:pt x="3024" y="547"/>
                  </a:lnTo>
                  <a:lnTo>
                    <a:pt x="3226" y="617"/>
                  </a:lnTo>
                  <a:lnTo>
                    <a:pt x="3352" y="753"/>
                  </a:lnTo>
                  <a:lnTo>
                    <a:pt x="3358" y="882"/>
                  </a:lnTo>
                  <a:lnTo>
                    <a:pt x="3306" y="949"/>
                  </a:lnTo>
                  <a:lnTo>
                    <a:pt x="3151" y="1037"/>
                  </a:lnTo>
                  <a:lnTo>
                    <a:pt x="3195" y="1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216560" y="5694120"/>
              <a:ext cx="242640" cy="178200"/>
            </a:xfrm>
            <a:custGeom>
              <a:avLst/>
              <a:gdLst/>
              <a:ahLst/>
              <a:rect l="l" t="t" r="r" b="b"/>
              <a:pathLst>
                <a:path w="3177" h="2674">
                  <a:moveTo>
                    <a:pt x="3039" y="881"/>
                  </a:moveTo>
                  <a:lnTo>
                    <a:pt x="3177" y="784"/>
                  </a:lnTo>
                  <a:lnTo>
                    <a:pt x="3172" y="664"/>
                  </a:lnTo>
                  <a:lnTo>
                    <a:pt x="3039" y="494"/>
                  </a:lnTo>
                  <a:lnTo>
                    <a:pt x="3011" y="565"/>
                  </a:lnTo>
                  <a:lnTo>
                    <a:pt x="2886" y="472"/>
                  </a:lnTo>
                  <a:lnTo>
                    <a:pt x="2421" y="420"/>
                  </a:lnTo>
                  <a:lnTo>
                    <a:pt x="2220" y="420"/>
                  </a:lnTo>
                  <a:lnTo>
                    <a:pt x="2567" y="355"/>
                  </a:lnTo>
                  <a:lnTo>
                    <a:pt x="2580" y="296"/>
                  </a:lnTo>
                  <a:lnTo>
                    <a:pt x="2255" y="136"/>
                  </a:lnTo>
                  <a:lnTo>
                    <a:pt x="1840" y="0"/>
                  </a:lnTo>
                  <a:lnTo>
                    <a:pt x="1312" y="7"/>
                  </a:lnTo>
                  <a:lnTo>
                    <a:pt x="826" y="166"/>
                  </a:lnTo>
                  <a:lnTo>
                    <a:pt x="510" y="408"/>
                  </a:lnTo>
                  <a:lnTo>
                    <a:pt x="309" y="733"/>
                  </a:lnTo>
                  <a:lnTo>
                    <a:pt x="233" y="975"/>
                  </a:lnTo>
                  <a:lnTo>
                    <a:pt x="233" y="1230"/>
                  </a:lnTo>
                  <a:lnTo>
                    <a:pt x="279" y="1464"/>
                  </a:lnTo>
                  <a:lnTo>
                    <a:pt x="279" y="1658"/>
                  </a:lnTo>
                  <a:lnTo>
                    <a:pt x="0" y="2257"/>
                  </a:lnTo>
                  <a:lnTo>
                    <a:pt x="275" y="2271"/>
                  </a:lnTo>
                  <a:lnTo>
                    <a:pt x="528" y="2456"/>
                  </a:lnTo>
                  <a:lnTo>
                    <a:pt x="756" y="2674"/>
                  </a:lnTo>
                  <a:lnTo>
                    <a:pt x="877" y="2557"/>
                  </a:lnTo>
                  <a:lnTo>
                    <a:pt x="952" y="2364"/>
                  </a:lnTo>
                  <a:lnTo>
                    <a:pt x="1123" y="2225"/>
                  </a:lnTo>
                  <a:lnTo>
                    <a:pt x="1114" y="1980"/>
                  </a:lnTo>
                  <a:lnTo>
                    <a:pt x="1183" y="1769"/>
                  </a:lnTo>
                  <a:lnTo>
                    <a:pt x="1319" y="1694"/>
                  </a:lnTo>
                  <a:lnTo>
                    <a:pt x="1437" y="1709"/>
                  </a:lnTo>
                  <a:lnTo>
                    <a:pt x="1497" y="1780"/>
                  </a:lnTo>
                  <a:lnTo>
                    <a:pt x="1554" y="1914"/>
                  </a:lnTo>
                  <a:lnTo>
                    <a:pt x="1875" y="2034"/>
                  </a:lnTo>
                  <a:lnTo>
                    <a:pt x="2009" y="1780"/>
                  </a:lnTo>
                  <a:lnTo>
                    <a:pt x="2525" y="1549"/>
                  </a:lnTo>
                  <a:lnTo>
                    <a:pt x="2516" y="1367"/>
                  </a:lnTo>
                  <a:lnTo>
                    <a:pt x="2421" y="1230"/>
                  </a:lnTo>
                  <a:lnTo>
                    <a:pt x="2490" y="1167"/>
                  </a:lnTo>
                  <a:lnTo>
                    <a:pt x="2455" y="832"/>
                  </a:lnTo>
                  <a:lnTo>
                    <a:pt x="2615" y="814"/>
                  </a:lnTo>
                  <a:lnTo>
                    <a:pt x="2824" y="832"/>
                  </a:lnTo>
                  <a:lnTo>
                    <a:pt x="3006" y="870"/>
                  </a:lnTo>
                  <a:lnTo>
                    <a:pt x="3039" y="8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411680" y="5784120"/>
              <a:ext cx="8280" cy="40320"/>
            </a:xfrm>
            <a:custGeom>
              <a:avLst/>
              <a:gdLst/>
              <a:ahLst/>
              <a:rect l="l" t="t" r="r" b="b"/>
              <a:pathLst>
                <a:path w="111" h="609">
                  <a:moveTo>
                    <a:pt x="53" y="609"/>
                  </a:moveTo>
                  <a:lnTo>
                    <a:pt x="0" y="459"/>
                  </a:lnTo>
                  <a:lnTo>
                    <a:pt x="39" y="307"/>
                  </a:lnTo>
                  <a:lnTo>
                    <a:pt x="0" y="0"/>
                  </a:lnTo>
                  <a:lnTo>
                    <a:pt x="111" y="466"/>
                  </a:lnTo>
                  <a:lnTo>
                    <a:pt x="105" y="563"/>
                  </a:lnTo>
                  <a:lnTo>
                    <a:pt x="53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310160" y="5817960"/>
              <a:ext cx="26280" cy="4356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266" y="172"/>
                  </a:moveTo>
                  <a:lnTo>
                    <a:pt x="343" y="60"/>
                  </a:lnTo>
                  <a:lnTo>
                    <a:pt x="275" y="0"/>
                  </a:lnTo>
                  <a:lnTo>
                    <a:pt x="132" y="0"/>
                  </a:lnTo>
                  <a:lnTo>
                    <a:pt x="28" y="113"/>
                  </a:lnTo>
                  <a:lnTo>
                    <a:pt x="0" y="327"/>
                  </a:lnTo>
                  <a:lnTo>
                    <a:pt x="79" y="106"/>
                  </a:lnTo>
                  <a:lnTo>
                    <a:pt x="196" y="83"/>
                  </a:lnTo>
                  <a:lnTo>
                    <a:pt x="108" y="277"/>
                  </a:lnTo>
                  <a:lnTo>
                    <a:pt x="108" y="429"/>
                  </a:lnTo>
                  <a:lnTo>
                    <a:pt x="60" y="417"/>
                  </a:lnTo>
                  <a:lnTo>
                    <a:pt x="23" y="387"/>
                  </a:lnTo>
                  <a:lnTo>
                    <a:pt x="60" y="523"/>
                  </a:lnTo>
                  <a:lnTo>
                    <a:pt x="132" y="655"/>
                  </a:lnTo>
                  <a:lnTo>
                    <a:pt x="119" y="539"/>
                  </a:lnTo>
                  <a:lnTo>
                    <a:pt x="189" y="484"/>
                  </a:lnTo>
                  <a:lnTo>
                    <a:pt x="297" y="558"/>
                  </a:lnTo>
                  <a:lnTo>
                    <a:pt x="316" y="523"/>
                  </a:lnTo>
                  <a:lnTo>
                    <a:pt x="297" y="473"/>
                  </a:lnTo>
                  <a:lnTo>
                    <a:pt x="332" y="387"/>
                  </a:lnTo>
                  <a:lnTo>
                    <a:pt x="314" y="304"/>
                  </a:lnTo>
                  <a:lnTo>
                    <a:pt x="240" y="297"/>
                  </a:lnTo>
                  <a:lnTo>
                    <a:pt x="224" y="207"/>
                  </a:lnTo>
                  <a:lnTo>
                    <a:pt x="2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321680" y="5855760"/>
              <a:ext cx="10800" cy="1152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90"/>
                  </a:moveTo>
                  <a:lnTo>
                    <a:pt x="86" y="0"/>
                  </a:lnTo>
                  <a:lnTo>
                    <a:pt x="143" y="20"/>
                  </a:lnTo>
                  <a:lnTo>
                    <a:pt x="104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439760" y="5853600"/>
              <a:ext cx="15480" cy="11520"/>
            </a:xfrm>
            <a:custGeom>
              <a:avLst/>
              <a:gdLst/>
              <a:ahLst/>
              <a:rect l="l" t="t" r="r" b="b"/>
              <a:pathLst>
                <a:path w="207" h="175">
                  <a:moveTo>
                    <a:pt x="11" y="132"/>
                  </a:moveTo>
                  <a:lnTo>
                    <a:pt x="207" y="175"/>
                  </a:lnTo>
                  <a:lnTo>
                    <a:pt x="0" y="0"/>
                  </a:lnTo>
                  <a:lnTo>
                    <a:pt x="11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102440" y="5882040"/>
              <a:ext cx="72360" cy="73080"/>
            </a:xfrm>
            <a:custGeom>
              <a:avLst/>
              <a:gdLst/>
              <a:ahLst/>
              <a:rect l="l" t="t" r="r" b="b"/>
              <a:pathLst>
                <a:path w="947" h="1096">
                  <a:moveTo>
                    <a:pt x="947" y="0"/>
                  </a:moveTo>
                  <a:lnTo>
                    <a:pt x="628" y="164"/>
                  </a:lnTo>
                  <a:lnTo>
                    <a:pt x="167" y="643"/>
                  </a:lnTo>
                  <a:lnTo>
                    <a:pt x="0" y="883"/>
                  </a:lnTo>
                  <a:lnTo>
                    <a:pt x="0" y="1096"/>
                  </a:lnTo>
                  <a:lnTo>
                    <a:pt x="270" y="672"/>
                  </a:lnTo>
                  <a:lnTo>
                    <a:pt x="628" y="235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102440" y="5974560"/>
              <a:ext cx="769320" cy="399600"/>
            </a:xfrm>
            <a:custGeom>
              <a:avLst/>
              <a:gdLst/>
              <a:ahLst/>
              <a:rect l="l" t="t" r="r" b="b"/>
              <a:pathLst>
                <a:path w="10071" h="5987">
                  <a:moveTo>
                    <a:pt x="3078" y="337"/>
                  </a:moveTo>
                  <a:lnTo>
                    <a:pt x="2554" y="961"/>
                  </a:lnTo>
                  <a:lnTo>
                    <a:pt x="2043" y="1895"/>
                  </a:lnTo>
                  <a:lnTo>
                    <a:pt x="989" y="2609"/>
                  </a:lnTo>
                  <a:lnTo>
                    <a:pt x="508" y="2393"/>
                  </a:lnTo>
                  <a:lnTo>
                    <a:pt x="0" y="2301"/>
                  </a:lnTo>
                  <a:lnTo>
                    <a:pt x="413" y="2423"/>
                  </a:lnTo>
                  <a:lnTo>
                    <a:pt x="796" y="2635"/>
                  </a:lnTo>
                  <a:lnTo>
                    <a:pt x="1109" y="2900"/>
                  </a:lnTo>
                  <a:lnTo>
                    <a:pt x="1446" y="3279"/>
                  </a:lnTo>
                  <a:lnTo>
                    <a:pt x="1758" y="3760"/>
                  </a:lnTo>
                  <a:lnTo>
                    <a:pt x="2119" y="4719"/>
                  </a:lnTo>
                  <a:lnTo>
                    <a:pt x="2336" y="5343"/>
                  </a:lnTo>
                  <a:lnTo>
                    <a:pt x="2457" y="5987"/>
                  </a:lnTo>
                  <a:lnTo>
                    <a:pt x="3945" y="5987"/>
                  </a:lnTo>
                  <a:lnTo>
                    <a:pt x="2982" y="4482"/>
                  </a:lnTo>
                  <a:lnTo>
                    <a:pt x="2527" y="3187"/>
                  </a:lnTo>
                  <a:lnTo>
                    <a:pt x="2578" y="2444"/>
                  </a:lnTo>
                  <a:lnTo>
                    <a:pt x="2624" y="3158"/>
                  </a:lnTo>
                  <a:lnTo>
                    <a:pt x="3052" y="4288"/>
                  </a:lnTo>
                  <a:lnTo>
                    <a:pt x="3991" y="5701"/>
                  </a:lnTo>
                  <a:lnTo>
                    <a:pt x="4281" y="5750"/>
                  </a:lnTo>
                  <a:lnTo>
                    <a:pt x="4378" y="5987"/>
                  </a:lnTo>
                  <a:lnTo>
                    <a:pt x="8152" y="5987"/>
                  </a:lnTo>
                  <a:lnTo>
                    <a:pt x="8322" y="5892"/>
                  </a:lnTo>
                  <a:lnTo>
                    <a:pt x="8722" y="5701"/>
                  </a:lnTo>
                  <a:lnTo>
                    <a:pt x="9113" y="5674"/>
                  </a:lnTo>
                  <a:lnTo>
                    <a:pt x="9135" y="5604"/>
                  </a:lnTo>
                  <a:lnTo>
                    <a:pt x="8843" y="5534"/>
                  </a:lnTo>
                  <a:lnTo>
                    <a:pt x="8530" y="5358"/>
                  </a:lnTo>
                  <a:lnTo>
                    <a:pt x="8242" y="5173"/>
                  </a:lnTo>
                  <a:lnTo>
                    <a:pt x="7839" y="5097"/>
                  </a:lnTo>
                  <a:lnTo>
                    <a:pt x="7546" y="5002"/>
                  </a:lnTo>
                  <a:lnTo>
                    <a:pt x="7168" y="4956"/>
                  </a:lnTo>
                  <a:lnTo>
                    <a:pt x="7168" y="4885"/>
                  </a:lnTo>
                  <a:lnTo>
                    <a:pt x="7452" y="4811"/>
                  </a:lnTo>
                  <a:lnTo>
                    <a:pt x="7767" y="4811"/>
                  </a:lnTo>
                  <a:lnTo>
                    <a:pt x="8080" y="4719"/>
                  </a:lnTo>
                  <a:lnTo>
                    <a:pt x="8652" y="4624"/>
                  </a:lnTo>
                  <a:lnTo>
                    <a:pt x="8992" y="4530"/>
                  </a:lnTo>
                  <a:lnTo>
                    <a:pt x="8821" y="4530"/>
                  </a:lnTo>
                  <a:lnTo>
                    <a:pt x="8627" y="4602"/>
                  </a:lnTo>
                  <a:lnTo>
                    <a:pt x="8339" y="4644"/>
                  </a:lnTo>
                  <a:lnTo>
                    <a:pt x="8030" y="4666"/>
                  </a:lnTo>
                  <a:lnTo>
                    <a:pt x="7818" y="4736"/>
                  </a:lnTo>
                  <a:lnTo>
                    <a:pt x="7818" y="4644"/>
                  </a:lnTo>
                  <a:lnTo>
                    <a:pt x="7931" y="4530"/>
                  </a:lnTo>
                  <a:lnTo>
                    <a:pt x="8201" y="4339"/>
                  </a:lnTo>
                  <a:lnTo>
                    <a:pt x="9234" y="4069"/>
                  </a:lnTo>
                  <a:lnTo>
                    <a:pt x="10071" y="3735"/>
                  </a:lnTo>
                  <a:lnTo>
                    <a:pt x="9159" y="4069"/>
                  </a:lnTo>
                  <a:lnTo>
                    <a:pt x="8516" y="4165"/>
                  </a:lnTo>
                  <a:lnTo>
                    <a:pt x="8272" y="4218"/>
                  </a:lnTo>
                  <a:lnTo>
                    <a:pt x="6778" y="4218"/>
                  </a:lnTo>
                  <a:lnTo>
                    <a:pt x="7117" y="4023"/>
                  </a:lnTo>
                  <a:lnTo>
                    <a:pt x="7382" y="3976"/>
                  </a:lnTo>
                  <a:lnTo>
                    <a:pt x="7594" y="3877"/>
                  </a:lnTo>
                  <a:lnTo>
                    <a:pt x="7670" y="3827"/>
                  </a:lnTo>
                  <a:lnTo>
                    <a:pt x="7670" y="3710"/>
                  </a:lnTo>
                  <a:lnTo>
                    <a:pt x="7643" y="3664"/>
                  </a:lnTo>
                  <a:lnTo>
                    <a:pt x="7522" y="3640"/>
                  </a:lnTo>
                  <a:lnTo>
                    <a:pt x="7474" y="3735"/>
                  </a:lnTo>
                  <a:lnTo>
                    <a:pt x="7353" y="3785"/>
                  </a:lnTo>
                  <a:lnTo>
                    <a:pt x="6832" y="3735"/>
                  </a:lnTo>
                  <a:lnTo>
                    <a:pt x="6685" y="3594"/>
                  </a:lnTo>
                  <a:lnTo>
                    <a:pt x="6731" y="3804"/>
                  </a:lnTo>
                  <a:lnTo>
                    <a:pt x="6731" y="3976"/>
                  </a:lnTo>
                  <a:lnTo>
                    <a:pt x="6661" y="4218"/>
                  </a:lnTo>
                  <a:lnTo>
                    <a:pt x="6661" y="3976"/>
                  </a:lnTo>
                  <a:lnTo>
                    <a:pt x="6441" y="3710"/>
                  </a:lnTo>
                  <a:lnTo>
                    <a:pt x="6589" y="4023"/>
                  </a:lnTo>
                  <a:lnTo>
                    <a:pt x="6589" y="4311"/>
                  </a:lnTo>
                  <a:lnTo>
                    <a:pt x="5434" y="5026"/>
                  </a:lnTo>
                  <a:lnTo>
                    <a:pt x="5265" y="4574"/>
                  </a:lnTo>
                  <a:lnTo>
                    <a:pt x="5265" y="3877"/>
                  </a:lnTo>
                  <a:lnTo>
                    <a:pt x="5602" y="3710"/>
                  </a:lnTo>
                  <a:lnTo>
                    <a:pt x="6107" y="3594"/>
                  </a:lnTo>
                  <a:lnTo>
                    <a:pt x="5773" y="3521"/>
                  </a:lnTo>
                  <a:lnTo>
                    <a:pt x="6056" y="3279"/>
                  </a:lnTo>
                  <a:lnTo>
                    <a:pt x="5173" y="3760"/>
                  </a:lnTo>
                  <a:lnTo>
                    <a:pt x="4810" y="3187"/>
                  </a:lnTo>
                  <a:lnTo>
                    <a:pt x="4666" y="1754"/>
                  </a:lnTo>
                  <a:lnTo>
                    <a:pt x="4500" y="790"/>
                  </a:lnTo>
                  <a:lnTo>
                    <a:pt x="4256" y="242"/>
                  </a:lnTo>
                  <a:lnTo>
                    <a:pt x="3964" y="0"/>
                  </a:lnTo>
                  <a:lnTo>
                    <a:pt x="4187" y="242"/>
                  </a:lnTo>
                  <a:lnTo>
                    <a:pt x="4424" y="693"/>
                  </a:lnTo>
                  <a:lnTo>
                    <a:pt x="4544" y="1271"/>
                  </a:lnTo>
                  <a:lnTo>
                    <a:pt x="4620" y="2181"/>
                  </a:lnTo>
                  <a:lnTo>
                    <a:pt x="4712" y="3140"/>
                  </a:lnTo>
                  <a:lnTo>
                    <a:pt x="3611" y="1531"/>
                  </a:lnTo>
                  <a:lnTo>
                    <a:pt x="4019" y="2469"/>
                  </a:lnTo>
                  <a:lnTo>
                    <a:pt x="4782" y="3543"/>
                  </a:lnTo>
                  <a:lnTo>
                    <a:pt x="4782" y="3947"/>
                  </a:lnTo>
                  <a:lnTo>
                    <a:pt x="4544" y="4549"/>
                  </a:lnTo>
                  <a:lnTo>
                    <a:pt x="5047" y="3947"/>
                  </a:lnTo>
                  <a:lnTo>
                    <a:pt x="5148" y="4288"/>
                  </a:lnTo>
                  <a:lnTo>
                    <a:pt x="5148" y="4574"/>
                  </a:lnTo>
                  <a:lnTo>
                    <a:pt x="4666" y="5125"/>
                  </a:lnTo>
                  <a:lnTo>
                    <a:pt x="4208" y="4736"/>
                  </a:lnTo>
                  <a:lnTo>
                    <a:pt x="3964" y="4908"/>
                  </a:lnTo>
                  <a:lnTo>
                    <a:pt x="3899" y="4811"/>
                  </a:lnTo>
                  <a:lnTo>
                    <a:pt x="4019" y="4359"/>
                  </a:lnTo>
                  <a:lnTo>
                    <a:pt x="3991" y="4189"/>
                  </a:lnTo>
                  <a:lnTo>
                    <a:pt x="2744" y="2589"/>
                  </a:lnTo>
                  <a:lnTo>
                    <a:pt x="2716" y="2324"/>
                  </a:lnTo>
                  <a:lnTo>
                    <a:pt x="2716" y="1824"/>
                  </a:lnTo>
                  <a:lnTo>
                    <a:pt x="2767" y="1339"/>
                  </a:lnTo>
                  <a:lnTo>
                    <a:pt x="2883" y="840"/>
                  </a:lnTo>
                  <a:lnTo>
                    <a:pt x="3078" y="482"/>
                  </a:lnTo>
                  <a:lnTo>
                    <a:pt x="3345" y="173"/>
                  </a:lnTo>
                  <a:lnTo>
                    <a:pt x="3078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466400" y="6176880"/>
              <a:ext cx="77400" cy="44280"/>
            </a:xfrm>
            <a:custGeom>
              <a:avLst/>
              <a:gdLst/>
              <a:ahLst/>
              <a:rect l="l" t="t" r="r" b="b"/>
              <a:pathLst>
                <a:path w="1016" h="665">
                  <a:moveTo>
                    <a:pt x="6" y="0"/>
                  </a:moveTo>
                  <a:lnTo>
                    <a:pt x="218" y="118"/>
                  </a:lnTo>
                  <a:lnTo>
                    <a:pt x="705" y="173"/>
                  </a:lnTo>
                  <a:lnTo>
                    <a:pt x="705" y="228"/>
                  </a:lnTo>
                  <a:lnTo>
                    <a:pt x="1016" y="240"/>
                  </a:lnTo>
                  <a:lnTo>
                    <a:pt x="697" y="275"/>
                  </a:lnTo>
                  <a:lnTo>
                    <a:pt x="653" y="446"/>
                  </a:lnTo>
                  <a:lnTo>
                    <a:pt x="626" y="662"/>
                  </a:lnTo>
                  <a:lnTo>
                    <a:pt x="596" y="665"/>
                  </a:lnTo>
                  <a:lnTo>
                    <a:pt x="615" y="406"/>
                  </a:lnTo>
                  <a:lnTo>
                    <a:pt x="653" y="235"/>
                  </a:lnTo>
                  <a:lnTo>
                    <a:pt x="218" y="178"/>
                  </a:lnTo>
                  <a:lnTo>
                    <a:pt x="0" y="9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548840" y="6154560"/>
              <a:ext cx="139320" cy="70920"/>
            </a:xfrm>
            <a:custGeom>
              <a:avLst/>
              <a:gdLst/>
              <a:ahLst/>
              <a:rect l="l" t="t" r="r" b="b"/>
              <a:pathLst>
                <a:path w="1821" h="1066">
                  <a:moveTo>
                    <a:pt x="0" y="706"/>
                  </a:moveTo>
                  <a:lnTo>
                    <a:pt x="137" y="242"/>
                  </a:lnTo>
                  <a:lnTo>
                    <a:pt x="597" y="0"/>
                  </a:lnTo>
                  <a:lnTo>
                    <a:pt x="906" y="137"/>
                  </a:lnTo>
                  <a:lnTo>
                    <a:pt x="1268" y="176"/>
                  </a:lnTo>
                  <a:lnTo>
                    <a:pt x="1330" y="227"/>
                  </a:lnTo>
                  <a:lnTo>
                    <a:pt x="1341" y="317"/>
                  </a:lnTo>
                  <a:lnTo>
                    <a:pt x="1504" y="360"/>
                  </a:lnTo>
                  <a:lnTo>
                    <a:pt x="1634" y="459"/>
                  </a:lnTo>
                  <a:lnTo>
                    <a:pt x="1708" y="488"/>
                  </a:lnTo>
                  <a:lnTo>
                    <a:pt x="1819" y="579"/>
                  </a:lnTo>
                  <a:lnTo>
                    <a:pt x="1821" y="655"/>
                  </a:lnTo>
                  <a:lnTo>
                    <a:pt x="1763" y="706"/>
                  </a:lnTo>
                  <a:lnTo>
                    <a:pt x="1634" y="822"/>
                  </a:lnTo>
                  <a:lnTo>
                    <a:pt x="1637" y="910"/>
                  </a:lnTo>
                  <a:lnTo>
                    <a:pt x="1612" y="800"/>
                  </a:lnTo>
                  <a:lnTo>
                    <a:pt x="1785" y="640"/>
                  </a:lnTo>
                  <a:lnTo>
                    <a:pt x="1785" y="584"/>
                  </a:lnTo>
                  <a:lnTo>
                    <a:pt x="1637" y="499"/>
                  </a:lnTo>
                  <a:lnTo>
                    <a:pt x="1577" y="512"/>
                  </a:lnTo>
                  <a:lnTo>
                    <a:pt x="1504" y="503"/>
                  </a:lnTo>
                  <a:lnTo>
                    <a:pt x="1370" y="579"/>
                  </a:lnTo>
                  <a:lnTo>
                    <a:pt x="1543" y="448"/>
                  </a:lnTo>
                  <a:lnTo>
                    <a:pt x="1471" y="383"/>
                  </a:lnTo>
                  <a:lnTo>
                    <a:pt x="1341" y="356"/>
                  </a:lnTo>
                  <a:lnTo>
                    <a:pt x="1341" y="409"/>
                  </a:lnTo>
                  <a:lnTo>
                    <a:pt x="1394" y="503"/>
                  </a:lnTo>
                  <a:lnTo>
                    <a:pt x="1319" y="413"/>
                  </a:lnTo>
                  <a:lnTo>
                    <a:pt x="1268" y="247"/>
                  </a:lnTo>
                  <a:lnTo>
                    <a:pt x="1205" y="192"/>
                  </a:lnTo>
                  <a:lnTo>
                    <a:pt x="885" y="176"/>
                  </a:lnTo>
                  <a:lnTo>
                    <a:pt x="641" y="47"/>
                  </a:lnTo>
                  <a:lnTo>
                    <a:pt x="161" y="264"/>
                  </a:lnTo>
                  <a:lnTo>
                    <a:pt x="90" y="552"/>
                  </a:lnTo>
                  <a:lnTo>
                    <a:pt x="321" y="574"/>
                  </a:lnTo>
                  <a:lnTo>
                    <a:pt x="590" y="655"/>
                  </a:lnTo>
                  <a:lnTo>
                    <a:pt x="791" y="822"/>
                  </a:lnTo>
                  <a:lnTo>
                    <a:pt x="1053" y="719"/>
                  </a:lnTo>
                  <a:lnTo>
                    <a:pt x="873" y="930"/>
                  </a:lnTo>
                  <a:lnTo>
                    <a:pt x="873" y="1066"/>
                  </a:lnTo>
                  <a:lnTo>
                    <a:pt x="786" y="851"/>
                  </a:lnTo>
                  <a:lnTo>
                    <a:pt x="597" y="699"/>
                  </a:lnTo>
                  <a:lnTo>
                    <a:pt x="403" y="633"/>
                  </a:lnTo>
                  <a:lnTo>
                    <a:pt x="173" y="614"/>
                  </a:lnTo>
                  <a:lnTo>
                    <a:pt x="0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541280" y="6209280"/>
              <a:ext cx="68400" cy="30600"/>
            </a:xfrm>
            <a:custGeom>
              <a:avLst/>
              <a:gdLst/>
              <a:ahLst/>
              <a:rect l="l" t="t" r="r" b="b"/>
              <a:pathLst>
                <a:path w="895" h="462">
                  <a:moveTo>
                    <a:pt x="0" y="69"/>
                  </a:moveTo>
                  <a:lnTo>
                    <a:pt x="363" y="91"/>
                  </a:lnTo>
                  <a:lnTo>
                    <a:pt x="593" y="177"/>
                  </a:lnTo>
                  <a:lnTo>
                    <a:pt x="764" y="313"/>
                  </a:lnTo>
                  <a:lnTo>
                    <a:pt x="844" y="462"/>
                  </a:lnTo>
                  <a:lnTo>
                    <a:pt x="895" y="421"/>
                  </a:lnTo>
                  <a:lnTo>
                    <a:pt x="791" y="262"/>
                  </a:lnTo>
                  <a:lnTo>
                    <a:pt x="642" y="126"/>
                  </a:lnTo>
                  <a:lnTo>
                    <a:pt x="427" y="20"/>
                  </a:lnTo>
                  <a:lnTo>
                    <a:pt x="180" y="0"/>
                  </a:lnTo>
                  <a:lnTo>
                    <a:pt x="13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658640" y="6297120"/>
              <a:ext cx="15480" cy="1224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0" y="20"/>
                  </a:moveTo>
                  <a:lnTo>
                    <a:pt x="95" y="22"/>
                  </a:lnTo>
                  <a:lnTo>
                    <a:pt x="146" y="62"/>
                  </a:lnTo>
                  <a:lnTo>
                    <a:pt x="169" y="97"/>
                  </a:lnTo>
                  <a:lnTo>
                    <a:pt x="169" y="133"/>
                  </a:lnTo>
                  <a:lnTo>
                    <a:pt x="146" y="182"/>
                  </a:lnTo>
                  <a:lnTo>
                    <a:pt x="181" y="167"/>
                  </a:lnTo>
                  <a:lnTo>
                    <a:pt x="203" y="121"/>
                  </a:lnTo>
                  <a:lnTo>
                    <a:pt x="194" y="86"/>
                  </a:lnTo>
                  <a:lnTo>
                    <a:pt x="165" y="38"/>
                  </a:lnTo>
                  <a:lnTo>
                    <a:pt x="130" y="20"/>
                  </a:lnTo>
                  <a:lnTo>
                    <a:pt x="4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692120" y="6290280"/>
              <a:ext cx="27360" cy="13320"/>
            </a:xfrm>
            <a:custGeom>
              <a:avLst/>
              <a:gdLst/>
              <a:ahLst/>
              <a:rect l="l" t="t" r="r" b="b"/>
              <a:pathLst>
                <a:path w="360" h="197">
                  <a:moveTo>
                    <a:pt x="245" y="26"/>
                  </a:moveTo>
                  <a:lnTo>
                    <a:pt x="286" y="51"/>
                  </a:lnTo>
                  <a:lnTo>
                    <a:pt x="309" y="100"/>
                  </a:lnTo>
                  <a:lnTo>
                    <a:pt x="296" y="138"/>
                  </a:lnTo>
                  <a:lnTo>
                    <a:pt x="261" y="177"/>
                  </a:lnTo>
                  <a:lnTo>
                    <a:pt x="63" y="166"/>
                  </a:lnTo>
                  <a:lnTo>
                    <a:pt x="28" y="150"/>
                  </a:lnTo>
                  <a:lnTo>
                    <a:pt x="24" y="104"/>
                  </a:lnTo>
                  <a:lnTo>
                    <a:pt x="28" y="100"/>
                  </a:lnTo>
                  <a:lnTo>
                    <a:pt x="0" y="104"/>
                  </a:lnTo>
                  <a:lnTo>
                    <a:pt x="0" y="138"/>
                  </a:lnTo>
                  <a:lnTo>
                    <a:pt x="39" y="186"/>
                  </a:lnTo>
                  <a:lnTo>
                    <a:pt x="296" y="197"/>
                  </a:lnTo>
                  <a:lnTo>
                    <a:pt x="349" y="150"/>
                  </a:lnTo>
                  <a:lnTo>
                    <a:pt x="360" y="87"/>
                  </a:lnTo>
                  <a:lnTo>
                    <a:pt x="325" y="26"/>
                  </a:lnTo>
                  <a:lnTo>
                    <a:pt x="274" y="0"/>
                  </a:lnTo>
                  <a:lnTo>
                    <a:pt x="24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988040" y="5901480"/>
              <a:ext cx="468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8051400" y="5825880"/>
              <a:ext cx="21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8047080" y="5826600"/>
              <a:ext cx="36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8042760" y="5832360"/>
              <a:ext cx="10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>
              <a:off x="8037720" y="584208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>
              <a:off x="8030160" y="5850000"/>
              <a:ext cx="216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8022960" y="58629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8067960" y="5859720"/>
              <a:ext cx="16920" cy="22320"/>
            </a:xfrm>
            <a:custGeom>
              <a:avLst/>
              <a:gdLst/>
              <a:ahLst/>
              <a:rect l="l" t="t" r="r" b="b"/>
              <a:pathLst>
                <a:path w="226" h="341">
                  <a:moveTo>
                    <a:pt x="191" y="0"/>
                  </a:moveTo>
                  <a:lnTo>
                    <a:pt x="155" y="0"/>
                  </a:lnTo>
                  <a:lnTo>
                    <a:pt x="125" y="5"/>
                  </a:lnTo>
                  <a:lnTo>
                    <a:pt x="104" y="14"/>
                  </a:lnTo>
                  <a:lnTo>
                    <a:pt x="70" y="31"/>
                  </a:lnTo>
                  <a:lnTo>
                    <a:pt x="46" y="47"/>
                  </a:lnTo>
                  <a:lnTo>
                    <a:pt x="28" y="70"/>
                  </a:lnTo>
                  <a:lnTo>
                    <a:pt x="12" y="104"/>
                  </a:lnTo>
                  <a:lnTo>
                    <a:pt x="0" y="130"/>
                  </a:lnTo>
                  <a:lnTo>
                    <a:pt x="0" y="160"/>
                  </a:lnTo>
                  <a:lnTo>
                    <a:pt x="0" y="192"/>
                  </a:lnTo>
                  <a:lnTo>
                    <a:pt x="0" y="215"/>
                  </a:lnTo>
                  <a:lnTo>
                    <a:pt x="12" y="249"/>
                  </a:lnTo>
                  <a:lnTo>
                    <a:pt x="33" y="273"/>
                  </a:lnTo>
                  <a:lnTo>
                    <a:pt x="51" y="301"/>
                  </a:lnTo>
                  <a:lnTo>
                    <a:pt x="74" y="321"/>
                  </a:lnTo>
                  <a:lnTo>
                    <a:pt x="104" y="337"/>
                  </a:lnTo>
                  <a:lnTo>
                    <a:pt x="129" y="341"/>
                  </a:lnTo>
                  <a:lnTo>
                    <a:pt x="164" y="341"/>
                  </a:lnTo>
                  <a:lnTo>
                    <a:pt x="196" y="341"/>
                  </a:lnTo>
                  <a:lnTo>
                    <a:pt x="226" y="3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7441560" y="5832000"/>
              <a:ext cx="28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347240" y="5820120"/>
              <a:ext cx="126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355880" y="5825160"/>
              <a:ext cx="136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365240" y="5831640"/>
              <a:ext cx="1332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376760" y="5839920"/>
              <a:ext cx="936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715880" y="5663520"/>
              <a:ext cx="137880" cy="144720"/>
            </a:xfrm>
            <a:custGeom>
              <a:avLst/>
              <a:gdLst/>
              <a:ahLst/>
              <a:rect l="l" t="t" r="r" b="b"/>
              <a:pathLst>
                <a:path w="1810" h="2171">
                  <a:moveTo>
                    <a:pt x="1367" y="1125"/>
                  </a:moveTo>
                  <a:lnTo>
                    <a:pt x="1215" y="1136"/>
                  </a:lnTo>
                  <a:lnTo>
                    <a:pt x="1090" y="1113"/>
                  </a:lnTo>
                  <a:lnTo>
                    <a:pt x="1033" y="1060"/>
                  </a:lnTo>
                  <a:lnTo>
                    <a:pt x="1120" y="1095"/>
                  </a:lnTo>
                  <a:lnTo>
                    <a:pt x="1206" y="1073"/>
                  </a:lnTo>
                  <a:lnTo>
                    <a:pt x="1265" y="1062"/>
                  </a:lnTo>
                  <a:lnTo>
                    <a:pt x="1145" y="1037"/>
                  </a:lnTo>
                  <a:lnTo>
                    <a:pt x="1044" y="998"/>
                  </a:lnTo>
                  <a:lnTo>
                    <a:pt x="973" y="998"/>
                  </a:lnTo>
                  <a:lnTo>
                    <a:pt x="890" y="1020"/>
                  </a:lnTo>
                  <a:lnTo>
                    <a:pt x="813" y="1023"/>
                  </a:lnTo>
                  <a:lnTo>
                    <a:pt x="740" y="1035"/>
                  </a:lnTo>
                  <a:lnTo>
                    <a:pt x="606" y="998"/>
                  </a:lnTo>
                  <a:lnTo>
                    <a:pt x="556" y="981"/>
                  </a:lnTo>
                  <a:lnTo>
                    <a:pt x="424" y="910"/>
                  </a:lnTo>
                  <a:lnTo>
                    <a:pt x="338" y="878"/>
                  </a:lnTo>
                  <a:lnTo>
                    <a:pt x="263" y="853"/>
                  </a:lnTo>
                  <a:lnTo>
                    <a:pt x="122" y="840"/>
                  </a:lnTo>
                  <a:lnTo>
                    <a:pt x="0" y="829"/>
                  </a:lnTo>
                  <a:lnTo>
                    <a:pt x="178" y="813"/>
                  </a:lnTo>
                  <a:lnTo>
                    <a:pt x="345" y="820"/>
                  </a:lnTo>
                  <a:lnTo>
                    <a:pt x="470" y="840"/>
                  </a:lnTo>
                  <a:lnTo>
                    <a:pt x="574" y="866"/>
                  </a:lnTo>
                  <a:lnTo>
                    <a:pt x="648" y="840"/>
                  </a:lnTo>
                  <a:lnTo>
                    <a:pt x="848" y="820"/>
                  </a:lnTo>
                  <a:lnTo>
                    <a:pt x="986" y="829"/>
                  </a:lnTo>
                  <a:lnTo>
                    <a:pt x="878" y="779"/>
                  </a:lnTo>
                  <a:lnTo>
                    <a:pt x="756" y="746"/>
                  </a:lnTo>
                  <a:lnTo>
                    <a:pt x="648" y="746"/>
                  </a:lnTo>
                  <a:lnTo>
                    <a:pt x="534" y="721"/>
                  </a:lnTo>
                  <a:lnTo>
                    <a:pt x="435" y="689"/>
                  </a:lnTo>
                  <a:lnTo>
                    <a:pt x="597" y="721"/>
                  </a:lnTo>
                  <a:lnTo>
                    <a:pt x="705" y="708"/>
                  </a:lnTo>
                  <a:lnTo>
                    <a:pt x="813" y="703"/>
                  </a:lnTo>
                  <a:lnTo>
                    <a:pt x="908" y="703"/>
                  </a:lnTo>
                  <a:lnTo>
                    <a:pt x="779" y="629"/>
                  </a:lnTo>
                  <a:lnTo>
                    <a:pt x="648" y="587"/>
                  </a:lnTo>
                  <a:lnTo>
                    <a:pt x="779" y="606"/>
                  </a:lnTo>
                  <a:lnTo>
                    <a:pt x="890" y="613"/>
                  </a:lnTo>
                  <a:lnTo>
                    <a:pt x="1019" y="647"/>
                  </a:lnTo>
                  <a:lnTo>
                    <a:pt x="883" y="548"/>
                  </a:lnTo>
                  <a:lnTo>
                    <a:pt x="756" y="479"/>
                  </a:lnTo>
                  <a:lnTo>
                    <a:pt x="899" y="509"/>
                  </a:lnTo>
                  <a:lnTo>
                    <a:pt x="1061" y="548"/>
                  </a:lnTo>
                  <a:lnTo>
                    <a:pt x="986" y="465"/>
                  </a:lnTo>
                  <a:lnTo>
                    <a:pt x="864" y="394"/>
                  </a:lnTo>
                  <a:lnTo>
                    <a:pt x="1039" y="444"/>
                  </a:lnTo>
                  <a:lnTo>
                    <a:pt x="1129" y="479"/>
                  </a:lnTo>
                  <a:lnTo>
                    <a:pt x="1083" y="387"/>
                  </a:lnTo>
                  <a:lnTo>
                    <a:pt x="962" y="281"/>
                  </a:lnTo>
                  <a:lnTo>
                    <a:pt x="1090" y="317"/>
                  </a:lnTo>
                  <a:lnTo>
                    <a:pt x="1235" y="419"/>
                  </a:lnTo>
                  <a:lnTo>
                    <a:pt x="1206" y="320"/>
                  </a:lnTo>
                  <a:lnTo>
                    <a:pt x="1129" y="262"/>
                  </a:lnTo>
                  <a:lnTo>
                    <a:pt x="1256" y="330"/>
                  </a:lnTo>
                  <a:lnTo>
                    <a:pt x="1109" y="191"/>
                  </a:lnTo>
                  <a:lnTo>
                    <a:pt x="899" y="101"/>
                  </a:lnTo>
                  <a:lnTo>
                    <a:pt x="727" y="27"/>
                  </a:lnTo>
                  <a:lnTo>
                    <a:pt x="516" y="0"/>
                  </a:lnTo>
                  <a:lnTo>
                    <a:pt x="793" y="0"/>
                  </a:lnTo>
                  <a:lnTo>
                    <a:pt x="1085" y="75"/>
                  </a:lnTo>
                  <a:lnTo>
                    <a:pt x="1332" y="216"/>
                  </a:lnTo>
                  <a:lnTo>
                    <a:pt x="1519" y="444"/>
                  </a:lnTo>
                  <a:lnTo>
                    <a:pt x="1609" y="613"/>
                  </a:lnTo>
                  <a:lnTo>
                    <a:pt x="1639" y="779"/>
                  </a:lnTo>
                  <a:lnTo>
                    <a:pt x="1623" y="981"/>
                  </a:lnTo>
                  <a:lnTo>
                    <a:pt x="1613" y="1011"/>
                  </a:lnTo>
                  <a:lnTo>
                    <a:pt x="1725" y="1011"/>
                  </a:lnTo>
                  <a:lnTo>
                    <a:pt x="1810" y="1113"/>
                  </a:lnTo>
                  <a:lnTo>
                    <a:pt x="1810" y="1290"/>
                  </a:lnTo>
                  <a:lnTo>
                    <a:pt x="1784" y="1130"/>
                  </a:lnTo>
                  <a:lnTo>
                    <a:pt x="1740" y="1095"/>
                  </a:lnTo>
                  <a:lnTo>
                    <a:pt x="1669" y="1095"/>
                  </a:lnTo>
                  <a:lnTo>
                    <a:pt x="1716" y="1194"/>
                  </a:lnTo>
                  <a:lnTo>
                    <a:pt x="1694" y="1314"/>
                  </a:lnTo>
                  <a:lnTo>
                    <a:pt x="1630" y="1422"/>
                  </a:lnTo>
                  <a:lnTo>
                    <a:pt x="1609" y="1266"/>
                  </a:lnTo>
                  <a:lnTo>
                    <a:pt x="1542" y="1152"/>
                  </a:lnTo>
                  <a:lnTo>
                    <a:pt x="1542" y="1360"/>
                  </a:lnTo>
                  <a:lnTo>
                    <a:pt x="1519" y="1497"/>
                  </a:lnTo>
                  <a:lnTo>
                    <a:pt x="1473" y="1304"/>
                  </a:lnTo>
                  <a:lnTo>
                    <a:pt x="1448" y="1447"/>
                  </a:lnTo>
                  <a:lnTo>
                    <a:pt x="1388" y="1629"/>
                  </a:lnTo>
                  <a:lnTo>
                    <a:pt x="1448" y="1609"/>
                  </a:lnTo>
                  <a:lnTo>
                    <a:pt x="1428" y="1776"/>
                  </a:lnTo>
                  <a:lnTo>
                    <a:pt x="1519" y="1567"/>
                  </a:lnTo>
                  <a:lnTo>
                    <a:pt x="1510" y="1730"/>
                  </a:lnTo>
                  <a:lnTo>
                    <a:pt x="1613" y="1510"/>
                  </a:lnTo>
                  <a:lnTo>
                    <a:pt x="1573" y="1710"/>
                  </a:lnTo>
                  <a:lnTo>
                    <a:pt x="1669" y="1625"/>
                  </a:lnTo>
                  <a:lnTo>
                    <a:pt x="1795" y="1371"/>
                  </a:lnTo>
                  <a:lnTo>
                    <a:pt x="1694" y="1653"/>
                  </a:lnTo>
                  <a:lnTo>
                    <a:pt x="1600" y="1752"/>
                  </a:lnTo>
                  <a:lnTo>
                    <a:pt x="1422" y="1883"/>
                  </a:lnTo>
                  <a:lnTo>
                    <a:pt x="1316" y="1922"/>
                  </a:lnTo>
                  <a:lnTo>
                    <a:pt x="1204" y="2068"/>
                  </a:lnTo>
                  <a:lnTo>
                    <a:pt x="1109" y="2171"/>
                  </a:lnTo>
                  <a:lnTo>
                    <a:pt x="1226" y="1922"/>
                  </a:lnTo>
                  <a:lnTo>
                    <a:pt x="1235" y="1653"/>
                  </a:lnTo>
                  <a:lnTo>
                    <a:pt x="1250" y="1482"/>
                  </a:lnTo>
                  <a:lnTo>
                    <a:pt x="1307" y="1302"/>
                  </a:lnTo>
                  <a:lnTo>
                    <a:pt x="1402" y="1136"/>
                  </a:lnTo>
                  <a:lnTo>
                    <a:pt x="1367" y="1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661520" y="5663520"/>
              <a:ext cx="117720" cy="106200"/>
            </a:xfrm>
            <a:custGeom>
              <a:avLst/>
              <a:gdLst/>
              <a:ahLst/>
              <a:rect l="l" t="t" r="r" b="b"/>
              <a:pathLst>
                <a:path w="1547" h="1598">
                  <a:moveTo>
                    <a:pt x="1038" y="25"/>
                  </a:moveTo>
                  <a:lnTo>
                    <a:pt x="877" y="75"/>
                  </a:lnTo>
                  <a:lnTo>
                    <a:pt x="669" y="163"/>
                  </a:lnTo>
                  <a:lnTo>
                    <a:pt x="491" y="284"/>
                  </a:lnTo>
                  <a:lnTo>
                    <a:pt x="369" y="422"/>
                  </a:lnTo>
                  <a:lnTo>
                    <a:pt x="268" y="606"/>
                  </a:lnTo>
                  <a:lnTo>
                    <a:pt x="183" y="746"/>
                  </a:lnTo>
                  <a:lnTo>
                    <a:pt x="106" y="884"/>
                  </a:lnTo>
                  <a:lnTo>
                    <a:pt x="0" y="1060"/>
                  </a:lnTo>
                  <a:lnTo>
                    <a:pt x="77" y="1023"/>
                  </a:lnTo>
                  <a:lnTo>
                    <a:pt x="157" y="1062"/>
                  </a:lnTo>
                  <a:lnTo>
                    <a:pt x="146" y="1176"/>
                  </a:lnTo>
                  <a:lnTo>
                    <a:pt x="159" y="1262"/>
                  </a:lnTo>
                  <a:lnTo>
                    <a:pt x="159" y="1360"/>
                  </a:lnTo>
                  <a:lnTo>
                    <a:pt x="97" y="1389"/>
                  </a:lnTo>
                  <a:lnTo>
                    <a:pt x="49" y="1348"/>
                  </a:lnTo>
                  <a:lnTo>
                    <a:pt x="25" y="1389"/>
                  </a:lnTo>
                  <a:lnTo>
                    <a:pt x="27" y="1583"/>
                  </a:lnTo>
                  <a:lnTo>
                    <a:pt x="62" y="1598"/>
                  </a:lnTo>
                  <a:lnTo>
                    <a:pt x="111" y="1429"/>
                  </a:lnTo>
                  <a:lnTo>
                    <a:pt x="168" y="1436"/>
                  </a:lnTo>
                  <a:lnTo>
                    <a:pt x="168" y="1567"/>
                  </a:lnTo>
                  <a:lnTo>
                    <a:pt x="304" y="1145"/>
                  </a:lnTo>
                  <a:lnTo>
                    <a:pt x="319" y="1020"/>
                  </a:lnTo>
                  <a:lnTo>
                    <a:pt x="194" y="1130"/>
                  </a:lnTo>
                  <a:lnTo>
                    <a:pt x="176" y="1035"/>
                  </a:lnTo>
                  <a:lnTo>
                    <a:pt x="106" y="991"/>
                  </a:lnTo>
                  <a:lnTo>
                    <a:pt x="198" y="878"/>
                  </a:lnTo>
                  <a:lnTo>
                    <a:pt x="231" y="840"/>
                  </a:lnTo>
                  <a:lnTo>
                    <a:pt x="662" y="829"/>
                  </a:lnTo>
                  <a:lnTo>
                    <a:pt x="231" y="941"/>
                  </a:lnTo>
                  <a:lnTo>
                    <a:pt x="207" y="1011"/>
                  </a:lnTo>
                  <a:lnTo>
                    <a:pt x="434" y="977"/>
                  </a:lnTo>
                  <a:lnTo>
                    <a:pt x="355" y="1062"/>
                  </a:lnTo>
                  <a:lnTo>
                    <a:pt x="515" y="991"/>
                  </a:lnTo>
                  <a:lnTo>
                    <a:pt x="743" y="829"/>
                  </a:lnTo>
                  <a:lnTo>
                    <a:pt x="963" y="820"/>
                  </a:lnTo>
                  <a:lnTo>
                    <a:pt x="917" y="746"/>
                  </a:lnTo>
                  <a:lnTo>
                    <a:pt x="921" y="719"/>
                  </a:lnTo>
                  <a:lnTo>
                    <a:pt x="1053" y="680"/>
                  </a:lnTo>
                  <a:lnTo>
                    <a:pt x="978" y="636"/>
                  </a:lnTo>
                  <a:lnTo>
                    <a:pt x="985" y="574"/>
                  </a:lnTo>
                  <a:lnTo>
                    <a:pt x="1082" y="519"/>
                  </a:lnTo>
                  <a:lnTo>
                    <a:pt x="1038" y="465"/>
                  </a:lnTo>
                  <a:lnTo>
                    <a:pt x="1053" y="394"/>
                  </a:lnTo>
                  <a:lnTo>
                    <a:pt x="978" y="336"/>
                  </a:lnTo>
                  <a:lnTo>
                    <a:pt x="886" y="330"/>
                  </a:lnTo>
                  <a:lnTo>
                    <a:pt x="1014" y="284"/>
                  </a:lnTo>
                  <a:lnTo>
                    <a:pt x="1167" y="281"/>
                  </a:lnTo>
                  <a:lnTo>
                    <a:pt x="1093" y="233"/>
                  </a:lnTo>
                  <a:lnTo>
                    <a:pt x="1167" y="198"/>
                  </a:lnTo>
                  <a:lnTo>
                    <a:pt x="985" y="161"/>
                  </a:lnTo>
                  <a:lnTo>
                    <a:pt x="814" y="161"/>
                  </a:lnTo>
                  <a:lnTo>
                    <a:pt x="662" y="191"/>
                  </a:lnTo>
                  <a:lnTo>
                    <a:pt x="886" y="101"/>
                  </a:lnTo>
                  <a:lnTo>
                    <a:pt x="1110" y="41"/>
                  </a:lnTo>
                  <a:lnTo>
                    <a:pt x="1289" y="25"/>
                  </a:lnTo>
                  <a:lnTo>
                    <a:pt x="1547" y="25"/>
                  </a:lnTo>
                  <a:lnTo>
                    <a:pt x="1466" y="0"/>
                  </a:lnTo>
                  <a:lnTo>
                    <a:pt x="1185" y="0"/>
                  </a:lnTo>
                  <a:lnTo>
                    <a:pt x="10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656120" y="5738760"/>
              <a:ext cx="9360" cy="22320"/>
            </a:xfrm>
            <a:custGeom>
              <a:avLst/>
              <a:gdLst/>
              <a:ahLst/>
              <a:rect l="l" t="t" r="r" b="b"/>
              <a:pathLst>
                <a:path w="134" h="334">
                  <a:moveTo>
                    <a:pt x="132" y="6"/>
                  </a:moveTo>
                  <a:lnTo>
                    <a:pt x="134" y="68"/>
                  </a:lnTo>
                  <a:lnTo>
                    <a:pt x="86" y="112"/>
                  </a:lnTo>
                  <a:lnTo>
                    <a:pt x="49" y="195"/>
                  </a:lnTo>
                  <a:lnTo>
                    <a:pt x="37" y="273"/>
                  </a:lnTo>
                  <a:lnTo>
                    <a:pt x="17" y="334"/>
                  </a:lnTo>
                  <a:lnTo>
                    <a:pt x="0" y="329"/>
                  </a:lnTo>
                  <a:lnTo>
                    <a:pt x="3" y="218"/>
                  </a:lnTo>
                  <a:lnTo>
                    <a:pt x="28" y="128"/>
                  </a:lnTo>
                  <a:lnTo>
                    <a:pt x="63" y="36"/>
                  </a:lnTo>
                  <a:lnTo>
                    <a:pt x="99" y="0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651080" y="5737680"/>
              <a:ext cx="44280" cy="135000"/>
            </a:xfrm>
            <a:custGeom>
              <a:avLst/>
              <a:gdLst/>
              <a:ahLst/>
              <a:rect l="l" t="t" r="r" b="b"/>
              <a:pathLst>
                <a:path w="583" h="2024">
                  <a:moveTo>
                    <a:pt x="90" y="0"/>
                  </a:moveTo>
                  <a:lnTo>
                    <a:pt x="40" y="85"/>
                  </a:lnTo>
                  <a:lnTo>
                    <a:pt x="18" y="191"/>
                  </a:lnTo>
                  <a:lnTo>
                    <a:pt x="18" y="281"/>
                  </a:lnTo>
                  <a:lnTo>
                    <a:pt x="49" y="397"/>
                  </a:lnTo>
                  <a:lnTo>
                    <a:pt x="79" y="485"/>
                  </a:lnTo>
                  <a:lnTo>
                    <a:pt x="111" y="606"/>
                  </a:lnTo>
                  <a:lnTo>
                    <a:pt x="139" y="663"/>
                  </a:lnTo>
                  <a:lnTo>
                    <a:pt x="205" y="692"/>
                  </a:lnTo>
                  <a:lnTo>
                    <a:pt x="245" y="676"/>
                  </a:lnTo>
                  <a:lnTo>
                    <a:pt x="317" y="316"/>
                  </a:lnTo>
                  <a:lnTo>
                    <a:pt x="356" y="258"/>
                  </a:lnTo>
                  <a:lnTo>
                    <a:pt x="302" y="546"/>
                  </a:lnTo>
                  <a:lnTo>
                    <a:pt x="211" y="1001"/>
                  </a:lnTo>
                  <a:lnTo>
                    <a:pt x="211" y="1093"/>
                  </a:lnTo>
                  <a:lnTo>
                    <a:pt x="356" y="1549"/>
                  </a:lnTo>
                  <a:lnTo>
                    <a:pt x="583" y="1823"/>
                  </a:lnTo>
                  <a:lnTo>
                    <a:pt x="489" y="1793"/>
                  </a:lnTo>
                  <a:lnTo>
                    <a:pt x="317" y="1570"/>
                  </a:lnTo>
                  <a:lnTo>
                    <a:pt x="220" y="1390"/>
                  </a:lnTo>
                  <a:lnTo>
                    <a:pt x="293" y="1803"/>
                  </a:lnTo>
                  <a:lnTo>
                    <a:pt x="471" y="2024"/>
                  </a:lnTo>
                  <a:lnTo>
                    <a:pt x="245" y="1768"/>
                  </a:lnTo>
                  <a:lnTo>
                    <a:pt x="194" y="1616"/>
                  </a:lnTo>
                  <a:lnTo>
                    <a:pt x="172" y="1441"/>
                  </a:lnTo>
                  <a:lnTo>
                    <a:pt x="183" y="1282"/>
                  </a:lnTo>
                  <a:lnTo>
                    <a:pt x="159" y="1231"/>
                  </a:lnTo>
                  <a:lnTo>
                    <a:pt x="139" y="1129"/>
                  </a:lnTo>
                  <a:lnTo>
                    <a:pt x="161" y="1015"/>
                  </a:lnTo>
                  <a:lnTo>
                    <a:pt x="205" y="738"/>
                  </a:lnTo>
                  <a:lnTo>
                    <a:pt x="134" y="692"/>
                  </a:lnTo>
                  <a:lnTo>
                    <a:pt x="79" y="627"/>
                  </a:lnTo>
                  <a:lnTo>
                    <a:pt x="62" y="477"/>
                  </a:lnTo>
                  <a:lnTo>
                    <a:pt x="0" y="300"/>
                  </a:lnTo>
                  <a:lnTo>
                    <a:pt x="0" y="201"/>
                  </a:lnTo>
                  <a:lnTo>
                    <a:pt x="38" y="8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683480" y="5790600"/>
              <a:ext cx="126360" cy="99360"/>
            </a:xfrm>
            <a:custGeom>
              <a:avLst/>
              <a:gdLst/>
              <a:ahLst/>
              <a:rect l="l" t="t" r="r" b="b"/>
              <a:pathLst>
                <a:path w="1657" h="1485">
                  <a:moveTo>
                    <a:pt x="272" y="727"/>
                  </a:moveTo>
                  <a:lnTo>
                    <a:pt x="244" y="745"/>
                  </a:lnTo>
                  <a:lnTo>
                    <a:pt x="351" y="844"/>
                  </a:lnTo>
                  <a:lnTo>
                    <a:pt x="300" y="929"/>
                  </a:lnTo>
                  <a:lnTo>
                    <a:pt x="198" y="1000"/>
                  </a:lnTo>
                  <a:lnTo>
                    <a:pt x="62" y="1000"/>
                  </a:lnTo>
                  <a:lnTo>
                    <a:pt x="129" y="1077"/>
                  </a:lnTo>
                  <a:lnTo>
                    <a:pt x="292" y="1192"/>
                  </a:lnTo>
                  <a:lnTo>
                    <a:pt x="156" y="1226"/>
                  </a:lnTo>
                  <a:lnTo>
                    <a:pt x="0" y="1171"/>
                  </a:lnTo>
                  <a:lnTo>
                    <a:pt x="132" y="1321"/>
                  </a:lnTo>
                  <a:lnTo>
                    <a:pt x="277" y="1485"/>
                  </a:lnTo>
                  <a:lnTo>
                    <a:pt x="438" y="1485"/>
                  </a:lnTo>
                  <a:lnTo>
                    <a:pt x="634" y="1402"/>
                  </a:lnTo>
                  <a:lnTo>
                    <a:pt x="767" y="1272"/>
                  </a:lnTo>
                  <a:lnTo>
                    <a:pt x="670" y="1303"/>
                  </a:lnTo>
                  <a:lnTo>
                    <a:pt x="560" y="1206"/>
                  </a:lnTo>
                  <a:lnTo>
                    <a:pt x="731" y="1182"/>
                  </a:lnTo>
                  <a:lnTo>
                    <a:pt x="892" y="1125"/>
                  </a:lnTo>
                  <a:lnTo>
                    <a:pt x="835" y="1226"/>
                  </a:lnTo>
                  <a:lnTo>
                    <a:pt x="996" y="1116"/>
                  </a:lnTo>
                  <a:lnTo>
                    <a:pt x="1028" y="1070"/>
                  </a:lnTo>
                  <a:lnTo>
                    <a:pt x="1162" y="975"/>
                  </a:lnTo>
                  <a:lnTo>
                    <a:pt x="1215" y="874"/>
                  </a:lnTo>
                  <a:lnTo>
                    <a:pt x="1637" y="134"/>
                  </a:lnTo>
                  <a:lnTo>
                    <a:pt x="1657" y="0"/>
                  </a:lnTo>
                  <a:lnTo>
                    <a:pt x="1162" y="922"/>
                  </a:lnTo>
                  <a:lnTo>
                    <a:pt x="1070" y="984"/>
                  </a:lnTo>
                  <a:lnTo>
                    <a:pt x="920" y="1019"/>
                  </a:lnTo>
                  <a:lnTo>
                    <a:pt x="846" y="1109"/>
                  </a:lnTo>
                  <a:lnTo>
                    <a:pt x="721" y="1141"/>
                  </a:lnTo>
                  <a:lnTo>
                    <a:pt x="634" y="1125"/>
                  </a:lnTo>
                  <a:lnTo>
                    <a:pt x="593" y="1077"/>
                  </a:lnTo>
                  <a:lnTo>
                    <a:pt x="560" y="975"/>
                  </a:lnTo>
                  <a:lnTo>
                    <a:pt x="549" y="890"/>
                  </a:lnTo>
                  <a:lnTo>
                    <a:pt x="650" y="855"/>
                  </a:lnTo>
                  <a:lnTo>
                    <a:pt x="634" y="835"/>
                  </a:lnTo>
                  <a:lnTo>
                    <a:pt x="525" y="844"/>
                  </a:lnTo>
                  <a:lnTo>
                    <a:pt x="394" y="800"/>
                  </a:lnTo>
                  <a:lnTo>
                    <a:pt x="303" y="745"/>
                  </a:lnTo>
                  <a:lnTo>
                    <a:pt x="272" y="7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684200" y="5821560"/>
              <a:ext cx="71280" cy="28800"/>
            </a:xfrm>
            <a:custGeom>
              <a:avLst/>
              <a:gdLst/>
              <a:ahLst/>
              <a:rect l="l" t="t" r="r" b="b"/>
              <a:pathLst>
                <a:path w="934" h="431">
                  <a:moveTo>
                    <a:pt x="152" y="83"/>
                  </a:moveTo>
                  <a:lnTo>
                    <a:pt x="152" y="0"/>
                  </a:lnTo>
                  <a:lnTo>
                    <a:pt x="77" y="0"/>
                  </a:lnTo>
                  <a:lnTo>
                    <a:pt x="0" y="64"/>
                  </a:lnTo>
                  <a:lnTo>
                    <a:pt x="33" y="219"/>
                  </a:lnTo>
                  <a:lnTo>
                    <a:pt x="152" y="114"/>
                  </a:lnTo>
                  <a:lnTo>
                    <a:pt x="418" y="205"/>
                  </a:lnTo>
                  <a:lnTo>
                    <a:pt x="485" y="259"/>
                  </a:lnTo>
                  <a:lnTo>
                    <a:pt x="611" y="259"/>
                  </a:lnTo>
                  <a:lnTo>
                    <a:pt x="844" y="316"/>
                  </a:lnTo>
                  <a:lnTo>
                    <a:pt x="842" y="387"/>
                  </a:lnTo>
                  <a:lnTo>
                    <a:pt x="888" y="431"/>
                  </a:lnTo>
                  <a:lnTo>
                    <a:pt x="934" y="367"/>
                  </a:lnTo>
                  <a:lnTo>
                    <a:pt x="881" y="254"/>
                  </a:lnTo>
                  <a:lnTo>
                    <a:pt x="844" y="265"/>
                  </a:lnTo>
                  <a:lnTo>
                    <a:pt x="620" y="219"/>
                  </a:lnTo>
                  <a:lnTo>
                    <a:pt x="521" y="228"/>
                  </a:lnTo>
                  <a:lnTo>
                    <a:pt x="482" y="171"/>
                  </a:lnTo>
                  <a:lnTo>
                    <a:pt x="194" y="99"/>
                  </a:lnTo>
                  <a:lnTo>
                    <a:pt x="15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12280" y="5802840"/>
              <a:ext cx="36000" cy="31320"/>
            </a:xfrm>
            <a:custGeom>
              <a:avLst/>
              <a:gdLst/>
              <a:ahLst/>
              <a:rect l="l" t="t" r="r" b="b"/>
              <a:pathLst>
                <a:path w="472" h="465">
                  <a:moveTo>
                    <a:pt x="28" y="113"/>
                  </a:moveTo>
                  <a:lnTo>
                    <a:pt x="64" y="96"/>
                  </a:lnTo>
                  <a:lnTo>
                    <a:pt x="154" y="195"/>
                  </a:lnTo>
                  <a:lnTo>
                    <a:pt x="248" y="206"/>
                  </a:lnTo>
                  <a:lnTo>
                    <a:pt x="302" y="159"/>
                  </a:lnTo>
                  <a:lnTo>
                    <a:pt x="309" y="0"/>
                  </a:lnTo>
                  <a:lnTo>
                    <a:pt x="345" y="168"/>
                  </a:lnTo>
                  <a:lnTo>
                    <a:pt x="391" y="242"/>
                  </a:lnTo>
                  <a:lnTo>
                    <a:pt x="472" y="242"/>
                  </a:lnTo>
                  <a:lnTo>
                    <a:pt x="470" y="263"/>
                  </a:lnTo>
                  <a:lnTo>
                    <a:pt x="345" y="270"/>
                  </a:lnTo>
                  <a:lnTo>
                    <a:pt x="224" y="292"/>
                  </a:lnTo>
                  <a:lnTo>
                    <a:pt x="217" y="410"/>
                  </a:lnTo>
                  <a:lnTo>
                    <a:pt x="154" y="401"/>
                  </a:lnTo>
                  <a:lnTo>
                    <a:pt x="149" y="465"/>
                  </a:lnTo>
                  <a:lnTo>
                    <a:pt x="110" y="391"/>
                  </a:lnTo>
                  <a:lnTo>
                    <a:pt x="173" y="270"/>
                  </a:lnTo>
                  <a:lnTo>
                    <a:pt x="92" y="175"/>
                  </a:lnTo>
                  <a:lnTo>
                    <a:pt x="11" y="175"/>
                  </a:lnTo>
                  <a:lnTo>
                    <a:pt x="0" y="145"/>
                  </a:lnTo>
                  <a:lnTo>
                    <a:pt x="2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736040" y="5773680"/>
              <a:ext cx="70200" cy="42480"/>
            </a:xfrm>
            <a:custGeom>
              <a:avLst/>
              <a:gdLst/>
              <a:ahLst/>
              <a:rect l="l" t="t" r="r" b="b"/>
              <a:pathLst>
                <a:path w="924" h="640">
                  <a:moveTo>
                    <a:pt x="36" y="71"/>
                  </a:moveTo>
                  <a:lnTo>
                    <a:pt x="92" y="92"/>
                  </a:lnTo>
                  <a:lnTo>
                    <a:pt x="75" y="177"/>
                  </a:lnTo>
                  <a:lnTo>
                    <a:pt x="29" y="334"/>
                  </a:lnTo>
                  <a:lnTo>
                    <a:pt x="0" y="517"/>
                  </a:lnTo>
                  <a:lnTo>
                    <a:pt x="25" y="613"/>
                  </a:lnTo>
                  <a:lnTo>
                    <a:pt x="42" y="431"/>
                  </a:lnTo>
                  <a:lnTo>
                    <a:pt x="92" y="304"/>
                  </a:lnTo>
                  <a:lnTo>
                    <a:pt x="132" y="517"/>
                  </a:lnTo>
                  <a:lnTo>
                    <a:pt x="128" y="594"/>
                  </a:lnTo>
                  <a:lnTo>
                    <a:pt x="178" y="535"/>
                  </a:lnTo>
                  <a:lnTo>
                    <a:pt x="477" y="640"/>
                  </a:lnTo>
                  <a:lnTo>
                    <a:pt x="601" y="620"/>
                  </a:lnTo>
                  <a:lnTo>
                    <a:pt x="694" y="565"/>
                  </a:lnTo>
                  <a:lnTo>
                    <a:pt x="756" y="480"/>
                  </a:lnTo>
                  <a:lnTo>
                    <a:pt x="811" y="408"/>
                  </a:lnTo>
                  <a:lnTo>
                    <a:pt x="680" y="565"/>
                  </a:lnTo>
                  <a:lnTo>
                    <a:pt x="601" y="594"/>
                  </a:lnTo>
                  <a:lnTo>
                    <a:pt x="500" y="604"/>
                  </a:lnTo>
                  <a:lnTo>
                    <a:pt x="424" y="594"/>
                  </a:lnTo>
                  <a:lnTo>
                    <a:pt x="334" y="558"/>
                  </a:lnTo>
                  <a:lnTo>
                    <a:pt x="246" y="466"/>
                  </a:lnTo>
                  <a:lnTo>
                    <a:pt x="253" y="359"/>
                  </a:lnTo>
                  <a:lnTo>
                    <a:pt x="394" y="480"/>
                  </a:lnTo>
                  <a:lnTo>
                    <a:pt x="420" y="414"/>
                  </a:lnTo>
                  <a:lnTo>
                    <a:pt x="299" y="238"/>
                  </a:lnTo>
                  <a:lnTo>
                    <a:pt x="299" y="141"/>
                  </a:lnTo>
                  <a:lnTo>
                    <a:pt x="429" y="133"/>
                  </a:lnTo>
                  <a:lnTo>
                    <a:pt x="477" y="157"/>
                  </a:lnTo>
                  <a:lnTo>
                    <a:pt x="429" y="258"/>
                  </a:lnTo>
                  <a:lnTo>
                    <a:pt x="530" y="293"/>
                  </a:lnTo>
                  <a:lnTo>
                    <a:pt x="659" y="293"/>
                  </a:lnTo>
                  <a:lnTo>
                    <a:pt x="671" y="271"/>
                  </a:lnTo>
                  <a:lnTo>
                    <a:pt x="552" y="141"/>
                  </a:lnTo>
                  <a:lnTo>
                    <a:pt x="694" y="166"/>
                  </a:lnTo>
                  <a:lnTo>
                    <a:pt x="842" y="238"/>
                  </a:lnTo>
                  <a:lnTo>
                    <a:pt x="827" y="348"/>
                  </a:lnTo>
                  <a:lnTo>
                    <a:pt x="866" y="286"/>
                  </a:lnTo>
                  <a:lnTo>
                    <a:pt x="912" y="274"/>
                  </a:lnTo>
                  <a:lnTo>
                    <a:pt x="924" y="223"/>
                  </a:lnTo>
                  <a:lnTo>
                    <a:pt x="650" y="104"/>
                  </a:lnTo>
                  <a:lnTo>
                    <a:pt x="585" y="36"/>
                  </a:lnTo>
                  <a:lnTo>
                    <a:pt x="369" y="0"/>
                  </a:lnTo>
                  <a:lnTo>
                    <a:pt x="223" y="5"/>
                  </a:lnTo>
                  <a:lnTo>
                    <a:pt x="189" y="58"/>
                  </a:lnTo>
                  <a:lnTo>
                    <a:pt x="46" y="11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761960" y="5781960"/>
              <a:ext cx="4680" cy="61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0" y="0"/>
                  </a:moveTo>
                  <a:lnTo>
                    <a:pt x="18" y="90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82760" y="5751720"/>
              <a:ext cx="58320" cy="21600"/>
            </a:xfrm>
            <a:custGeom>
              <a:avLst/>
              <a:gdLst/>
              <a:ahLst/>
              <a:rect l="l" t="t" r="r" b="b"/>
              <a:pathLst>
                <a:path w="774" h="328">
                  <a:moveTo>
                    <a:pt x="759" y="328"/>
                  </a:moveTo>
                  <a:lnTo>
                    <a:pt x="774" y="293"/>
                  </a:lnTo>
                  <a:lnTo>
                    <a:pt x="678" y="185"/>
                  </a:lnTo>
                  <a:lnTo>
                    <a:pt x="443" y="46"/>
                  </a:lnTo>
                  <a:lnTo>
                    <a:pt x="270" y="64"/>
                  </a:lnTo>
                  <a:lnTo>
                    <a:pt x="173" y="2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51" y="64"/>
                  </a:lnTo>
                  <a:lnTo>
                    <a:pt x="245" y="104"/>
                  </a:lnTo>
                  <a:lnTo>
                    <a:pt x="337" y="127"/>
                  </a:lnTo>
                  <a:lnTo>
                    <a:pt x="452" y="134"/>
                  </a:lnTo>
                  <a:lnTo>
                    <a:pt x="607" y="219"/>
                  </a:lnTo>
                  <a:lnTo>
                    <a:pt x="706" y="300"/>
                  </a:lnTo>
                  <a:lnTo>
                    <a:pt x="735" y="328"/>
                  </a:lnTo>
                  <a:lnTo>
                    <a:pt x="75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679880" y="5754960"/>
              <a:ext cx="61560" cy="43560"/>
            </a:xfrm>
            <a:custGeom>
              <a:avLst/>
              <a:gdLst/>
              <a:ahLst/>
              <a:rect l="l" t="t" r="r" b="b"/>
              <a:pathLst>
                <a:path w="807" h="655">
                  <a:moveTo>
                    <a:pt x="132" y="32"/>
                  </a:moveTo>
                  <a:lnTo>
                    <a:pt x="88" y="93"/>
                  </a:lnTo>
                  <a:lnTo>
                    <a:pt x="51" y="227"/>
                  </a:lnTo>
                  <a:lnTo>
                    <a:pt x="37" y="359"/>
                  </a:lnTo>
                  <a:lnTo>
                    <a:pt x="77" y="466"/>
                  </a:lnTo>
                  <a:lnTo>
                    <a:pt x="132" y="535"/>
                  </a:lnTo>
                  <a:lnTo>
                    <a:pt x="249" y="595"/>
                  </a:lnTo>
                  <a:lnTo>
                    <a:pt x="383" y="634"/>
                  </a:lnTo>
                  <a:lnTo>
                    <a:pt x="501" y="625"/>
                  </a:lnTo>
                  <a:lnTo>
                    <a:pt x="581" y="595"/>
                  </a:lnTo>
                  <a:lnTo>
                    <a:pt x="651" y="551"/>
                  </a:lnTo>
                  <a:lnTo>
                    <a:pt x="708" y="480"/>
                  </a:lnTo>
                  <a:lnTo>
                    <a:pt x="761" y="392"/>
                  </a:lnTo>
                  <a:lnTo>
                    <a:pt x="409" y="480"/>
                  </a:lnTo>
                  <a:lnTo>
                    <a:pt x="480" y="381"/>
                  </a:lnTo>
                  <a:lnTo>
                    <a:pt x="576" y="359"/>
                  </a:lnTo>
                  <a:lnTo>
                    <a:pt x="736" y="359"/>
                  </a:lnTo>
                  <a:lnTo>
                    <a:pt x="807" y="288"/>
                  </a:lnTo>
                  <a:lnTo>
                    <a:pt x="807" y="359"/>
                  </a:lnTo>
                  <a:lnTo>
                    <a:pt x="708" y="530"/>
                  </a:lnTo>
                  <a:lnTo>
                    <a:pt x="611" y="611"/>
                  </a:lnTo>
                  <a:lnTo>
                    <a:pt x="491" y="636"/>
                  </a:lnTo>
                  <a:lnTo>
                    <a:pt x="383" y="655"/>
                  </a:lnTo>
                  <a:lnTo>
                    <a:pt x="222" y="611"/>
                  </a:lnTo>
                  <a:lnTo>
                    <a:pt x="88" y="530"/>
                  </a:lnTo>
                  <a:lnTo>
                    <a:pt x="26" y="434"/>
                  </a:lnTo>
                  <a:lnTo>
                    <a:pt x="0" y="282"/>
                  </a:lnTo>
                  <a:lnTo>
                    <a:pt x="26" y="117"/>
                  </a:lnTo>
                  <a:lnTo>
                    <a:pt x="95" y="0"/>
                  </a:lnTo>
                  <a:lnTo>
                    <a:pt x="1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700760" y="5763240"/>
              <a:ext cx="31680" cy="12600"/>
            </a:xfrm>
            <a:custGeom>
              <a:avLst/>
              <a:gdLst/>
              <a:ahLst/>
              <a:rect l="l" t="t" r="r" b="b"/>
              <a:pathLst>
                <a:path w="412" h="189">
                  <a:moveTo>
                    <a:pt x="15" y="110"/>
                  </a:moveTo>
                  <a:lnTo>
                    <a:pt x="0" y="50"/>
                  </a:lnTo>
                  <a:lnTo>
                    <a:pt x="34" y="0"/>
                  </a:lnTo>
                  <a:lnTo>
                    <a:pt x="207" y="0"/>
                  </a:lnTo>
                  <a:lnTo>
                    <a:pt x="393" y="99"/>
                  </a:lnTo>
                  <a:lnTo>
                    <a:pt x="412" y="160"/>
                  </a:lnTo>
                  <a:lnTo>
                    <a:pt x="378" y="189"/>
                  </a:lnTo>
                  <a:lnTo>
                    <a:pt x="165" y="185"/>
                  </a:lnTo>
                  <a:lnTo>
                    <a:pt x="200" y="154"/>
                  </a:lnTo>
                  <a:lnTo>
                    <a:pt x="154" y="119"/>
                  </a:lnTo>
                  <a:lnTo>
                    <a:pt x="165" y="84"/>
                  </a:lnTo>
                  <a:lnTo>
                    <a:pt x="200" y="84"/>
                  </a:lnTo>
                  <a:lnTo>
                    <a:pt x="165" y="50"/>
                  </a:lnTo>
                  <a:lnTo>
                    <a:pt x="55" y="68"/>
                  </a:lnTo>
                  <a:lnTo>
                    <a:pt x="1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793640" y="5788440"/>
              <a:ext cx="28440" cy="33840"/>
            </a:xfrm>
            <a:custGeom>
              <a:avLst/>
              <a:gdLst/>
              <a:ahLst/>
              <a:rect l="l" t="t" r="r" b="b"/>
              <a:pathLst>
                <a:path w="374" h="514">
                  <a:moveTo>
                    <a:pt x="0" y="492"/>
                  </a:moveTo>
                  <a:lnTo>
                    <a:pt x="64" y="514"/>
                  </a:lnTo>
                  <a:lnTo>
                    <a:pt x="136" y="485"/>
                  </a:lnTo>
                  <a:lnTo>
                    <a:pt x="231" y="371"/>
                  </a:lnTo>
                  <a:lnTo>
                    <a:pt x="297" y="243"/>
                  </a:lnTo>
                  <a:lnTo>
                    <a:pt x="369" y="95"/>
                  </a:lnTo>
                  <a:lnTo>
                    <a:pt x="374" y="12"/>
                  </a:lnTo>
                  <a:lnTo>
                    <a:pt x="359" y="0"/>
                  </a:lnTo>
                  <a:lnTo>
                    <a:pt x="334" y="100"/>
                  </a:lnTo>
                  <a:lnTo>
                    <a:pt x="255" y="277"/>
                  </a:lnTo>
                  <a:lnTo>
                    <a:pt x="168" y="426"/>
                  </a:lnTo>
                  <a:lnTo>
                    <a:pt x="110" y="452"/>
                  </a:lnTo>
                  <a:lnTo>
                    <a:pt x="64" y="381"/>
                  </a:lnTo>
                  <a:lnTo>
                    <a:pt x="0" y="452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806960" y="5792760"/>
              <a:ext cx="6480" cy="15480"/>
            </a:xfrm>
            <a:custGeom>
              <a:avLst/>
              <a:gdLst/>
              <a:ahLst/>
              <a:rect l="l" t="t" r="r" b="b"/>
              <a:pathLst>
                <a:path w="85" h="233">
                  <a:moveTo>
                    <a:pt x="0" y="134"/>
                  </a:moveTo>
                  <a:lnTo>
                    <a:pt x="14" y="233"/>
                  </a:lnTo>
                  <a:lnTo>
                    <a:pt x="85" y="122"/>
                  </a:lnTo>
                  <a:lnTo>
                    <a:pt x="82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678080" y="5745600"/>
              <a:ext cx="7200" cy="20520"/>
            </a:xfrm>
            <a:custGeom>
              <a:avLst/>
              <a:gdLst/>
              <a:ahLst/>
              <a:rect l="l" t="t" r="r" b="b"/>
              <a:pathLst>
                <a:path w="103" h="311">
                  <a:moveTo>
                    <a:pt x="103" y="180"/>
                  </a:moveTo>
                  <a:lnTo>
                    <a:pt x="33" y="0"/>
                  </a:lnTo>
                  <a:lnTo>
                    <a:pt x="0" y="57"/>
                  </a:lnTo>
                  <a:lnTo>
                    <a:pt x="52" y="311"/>
                  </a:lnTo>
                  <a:lnTo>
                    <a:pt x="103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799040" y="5788440"/>
              <a:ext cx="17640" cy="9360"/>
            </a:xfrm>
            <a:custGeom>
              <a:avLst/>
              <a:gdLst/>
              <a:ahLst/>
              <a:rect l="l" t="t" r="r" b="b"/>
              <a:pathLst>
                <a:path w="231" h="149">
                  <a:moveTo>
                    <a:pt x="51" y="51"/>
                  </a:moveTo>
                  <a:lnTo>
                    <a:pt x="231" y="0"/>
                  </a:lnTo>
                  <a:lnTo>
                    <a:pt x="222" y="35"/>
                  </a:lnTo>
                  <a:lnTo>
                    <a:pt x="0" y="149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747560" y="5814720"/>
              <a:ext cx="12240" cy="25920"/>
            </a:xfrm>
            <a:custGeom>
              <a:avLst/>
              <a:gdLst/>
              <a:ahLst/>
              <a:rect l="l" t="t" r="r" b="b"/>
              <a:pathLst>
                <a:path w="161" h="392">
                  <a:moveTo>
                    <a:pt x="0" y="76"/>
                  </a:moveTo>
                  <a:lnTo>
                    <a:pt x="13" y="0"/>
                  </a:lnTo>
                  <a:lnTo>
                    <a:pt x="161" y="216"/>
                  </a:lnTo>
                  <a:lnTo>
                    <a:pt x="117" y="392"/>
                  </a:lnTo>
                  <a:lnTo>
                    <a:pt x="57" y="277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684560" y="5804640"/>
              <a:ext cx="28440" cy="16920"/>
            </a:xfrm>
            <a:custGeom>
              <a:avLst/>
              <a:gdLst/>
              <a:ahLst/>
              <a:rect l="l" t="t" r="r" b="b"/>
              <a:pathLst>
                <a:path w="376" h="258">
                  <a:moveTo>
                    <a:pt x="376" y="0"/>
                  </a:moveTo>
                  <a:lnTo>
                    <a:pt x="257" y="159"/>
                  </a:lnTo>
                  <a:lnTo>
                    <a:pt x="83" y="207"/>
                  </a:lnTo>
                  <a:lnTo>
                    <a:pt x="0" y="258"/>
                  </a:lnTo>
                  <a:lnTo>
                    <a:pt x="145" y="85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480080" y="5814720"/>
              <a:ext cx="177120" cy="106200"/>
            </a:xfrm>
            <a:custGeom>
              <a:avLst/>
              <a:gdLst/>
              <a:ahLst/>
              <a:rect l="l" t="t" r="r" b="b"/>
              <a:pathLst>
                <a:path w="2322" h="1591">
                  <a:moveTo>
                    <a:pt x="337" y="1464"/>
                  </a:moveTo>
                  <a:lnTo>
                    <a:pt x="92" y="1187"/>
                  </a:lnTo>
                  <a:lnTo>
                    <a:pt x="16" y="929"/>
                  </a:lnTo>
                  <a:lnTo>
                    <a:pt x="0" y="784"/>
                  </a:lnTo>
                  <a:lnTo>
                    <a:pt x="142" y="613"/>
                  </a:lnTo>
                  <a:lnTo>
                    <a:pt x="491" y="447"/>
                  </a:lnTo>
                  <a:lnTo>
                    <a:pt x="1063" y="251"/>
                  </a:lnTo>
                  <a:lnTo>
                    <a:pt x="1584" y="157"/>
                  </a:lnTo>
                  <a:lnTo>
                    <a:pt x="2021" y="117"/>
                  </a:lnTo>
                  <a:lnTo>
                    <a:pt x="2322" y="0"/>
                  </a:lnTo>
                  <a:lnTo>
                    <a:pt x="2166" y="117"/>
                  </a:lnTo>
                  <a:lnTo>
                    <a:pt x="2036" y="297"/>
                  </a:lnTo>
                  <a:lnTo>
                    <a:pt x="1975" y="583"/>
                  </a:lnTo>
                  <a:lnTo>
                    <a:pt x="1959" y="807"/>
                  </a:lnTo>
                  <a:lnTo>
                    <a:pt x="1959" y="1099"/>
                  </a:lnTo>
                  <a:lnTo>
                    <a:pt x="1944" y="1307"/>
                  </a:lnTo>
                  <a:lnTo>
                    <a:pt x="1849" y="1591"/>
                  </a:lnTo>
                  <a:lnTo>
                    <a:pt x="1819" y="1561"/>
                  </a:lnTo>
                  <a:lnTo>
                    <a:pt x="1898" y="1337"/>
                  </a:lnTo>
                  <a:lnTo>
                    <a:pt x="1929" y="1136"/>
                  </a:lnTo>
                  <a:lnTo>
                    <a:pt x="1929" y="807"/>
                  </a:lnTo>
                  <a:lnTo>
                    <a:pt x="1944" y="508"/>
                  </a:lnTo>
                  <a:lnTo>
                    <a:pt x="1863" y="383"/>
                  </a:lnTo>
                  <a:lnTo>
                    <a:pt x="1692" y="297"/>
                  </a:lnTo>
                  <a:lnTo>
                    <a:pt x="1439" y="251"/>
                  </a:lnTo>
                  <a:lnTo>
                    <a:pt x="1263" y="238"/>
                  </a:lnTo>
                  <a:lnTo>
                    <a:pt x="1074" y="266"/>
                  </a:lnTo>
                  <a:lnTo>
                    <a:pt x="474" y="457"/>
                  </a:lnTo>
                  <a:lnTo>
                    <a:pt x="127" y="688"/>
                  </a:lnTo>
                  <a:lnTo>
                    <a:pt x="81" y="869"/>
                  </a:lnTo>
                  <a:lnTo>
                    <a:pt x="81" y="1040"/>
                  </a:lnTo>
                  <a:lnTo>
                    <a:pt x="142" y="1211"/>
                  </a:lnTo>
                  <a:lnTo>
                    <a:pt x="337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470000" y="5883480"/>
              <a:ext cx="214920" cy="275400"/>
            </a:xfrm>
            <a:custGeom>
              <a:avLst/>
              <a:gdLst/>
              <a:ahLst/>
              <a:rect l="l" t="t" r="r" b="b"/>
              <a:pathLst>
                <a:path w="2817" h="4129">
                  <a:moveTo>
                    <a:pt x="61" y="0"/>
                  </a:moveTo>
                  <a:lnTo>
                    <a:pt x="79" y="122"/>
                  </a:lnTo>
                  <a:lnTo>
                    <a:pt x="156" y="299"/>
                  </a:lnTo>
                  <a:lnTo>
                    <a:pt x="285" y="470"/>
                  </a:lnTo>
                  <a:lnTo>
                    <a:pt x="470" y="662"/>
                  </a:lnTo>
                  <a:lnTo>
                    <a:pt x="802" y="910"/>
                  </a:lnTo>
                  <a:lnTo>
                    <a:pt x="1350" y="1369"/>
                  </a:lnTo>
                  <a:lnTo>
                    <a:pt x="1138" y="829"/>
                  </a:lnTo>
                  <a:lnTo>
                    <a:pt x="1454" y="1305"/>
                  </a:lnTo>
                  <a:lnTo>
                    <a:pt x="1677" y="1664"/>
                  </a:lnTo>
                  <a:lnTo>
                    <a:pt x="1868" y="1950"/>
                  </a:lnTo>
                  <a:lnTo>
                    <a:pt x="2037" y="2215"/>
                  </a:lnTo>
                  <a:lnTo>
                    <a:pt x="2180" y="2361"/>
                  </a:lnTo>
                  <a:lnTo>
                    <a:pt x="2475" y="2672"/>
                  </a:lnTo>
                  <a:lnTo>
                    <a:pt x="2242" y="2056"/>
                  </a:lnTo>
                  <a:lnTo>
                    <a:pt x="2009" y="1492"/>
                  </a:lnTo>
                  <a:lnTo>
                    <a:pt x="1772" y="959"/>
                  </a:lnTo>
                  <a:lnTo>
                    <a:pt x="1624" y="583"/>
                  </a:lnTo>
                  <a:lnTo>
                    <a:pt x="1595" y="470"/>
                  </a:lnTo>
                  <a:lnTo>
                    <a:pt x="1646" y="427"/>
                  </a:lnTo>
                  <a:lnTo>
                    <a:pt x="1989" y="535"/>
                  </a:lnTo>
                  <a:lnTo>
                    <a:pt x="2307" y="726"/>
                  </a:lnTo>
                  <a:lnTo>
                    <a:pt x="2463" y="851"/>
                  </a:lnTo>
                  <a:lnTo>
                    <a:pt x="2162" y="669"/>
                  </a:lnTo>
                  <a:lnTo>
                    <a:pt x="1835" y="548"/>
                  </a:lnTo>
                  <a:lnTo>
                    <a:pt x="1657" y="486"/>
                  </a:lnTo>
                  <a:lnTo>
                    <a:pt x="2009" y="1291"/>
                  </a:lnTo>
                  <a:lnTo>
                    <a:pt x="2364" y="2150"/>
                  </a:lnTo>
                  <a:lnTo>
                    <a:pt x="2635" y="2879"/>
                  </a:lnTo>
                  <a:lnTo>
                    <a:pt x="2817" y="3350"/>
                  </a:lnTo>
                  <a:lnTo>
                    <a:pt x="2560" y="3350"/>
                  </a:lnTo>
                  <a:lnTo>
                    <a:pt x="2261" y="3534"/>
                  </a:lnTo>
                  <a:lnTo>
                    <a:pt x="2055" y="3758"/>
                  </a:lnTo>
                  <a:lnTo>
                    <a:pt x="1989" y="3930"/>
                  </a:lnTo>
                  <a:lnTo>
                    <a:pt x="1945" y="4129"/>
                  </a:lnTo>
                  <a:lnTo>
                    <a:pt x="1945" y="3899"/>
                  </a:lnTo>
                  <a:lnTo>
                    <a:pt x="2009" y="3695"/>
                  </a:lnTo>
                  <a:lnTo>
                    <a:pt x="2147" y="3559"/>
                  </a:lnTo>
                  <a:lnTo>
                    <a:pt x="2429" y="3332"/>
                  </a:lnTo>
                  <a:lnTo>
                    <a:pt x="2136" y="3255"/>
                  </a:lnTo>
                  <a:lnTo>
                    <a:pt x="2085" y="3317"/>
                  </a:lnTo>
                  <a:lnTo>
                    <a:pt x="2009" y="3271"/>
                  </a:lnTo>
                  <a:lnTo>
                    <a:pt x="1989" y="3064"/>
                  </a:lnTo>
                  <a:lnTo>
                    <a:pt x="1835" y="3015"/>
                  </a:lnTo>
                  <a:lnTo>
                    <a:pt x="1200" y="3368"/>
                  </a:lnTo>
                  <a:lnTo>
                    <a:pt x="1138" y="3633"/>
                  </a:lnTo>
                  <a:lnTo>
                    <a:pt x="1565" y="3396"/>
                  </a:lnTo>
                  <a:lnTo>
                    <a:pt x="1090" y="3695"/>
                  </a:lnTo>
                  <a:lnTo>
                    <a:pt x="912" y="3899"/>
                  </a:lnTo>
                  <a:lnTo>
                    <a:pt x="1009" y="3984"/>
                  </a:lnTo>
                  <a:lnTo>
                    <a:pt x="1406" y="3608"/>
                  </a:lnTo>
                  <a:lnTo>
                    <a:pt x="1360" y="3804"/>
                  </a:lnTo>
                  <a:lnTo>
                    <a:pt x="1565" y="4071"/>
                  </a:lnTo>
                  <a:lnTo>
                    <a:pt x="936" y="4044"/>
                  </a:lnTo>
                  <a:lnTo>
                    <a:pt x="741" y="3949"/>
                  </a:lnTo>
                  <a:lnTo>
                    <a:pt x="600" y="3984"/>
                  </a:lnTo>
                  <a:lnTo>
                    <a:pt x="218" y="3758"/>
                  </a:lnTo>
                  <a:lnTo>
                    <a:pt x="33" y="3462"/>
                  </a:lnTo>
                  <a:lnTo>
                    <a:pt x="0" y="3130"/>
                  </a:lnTo>
                  <a:lnTo>
                    <a:pt x="79" y="3176"/>
                  </a:lnTo>
                  <a:lnTo>
                    <a:pt x="268" y="2965"/>
                  </a:lnTo>
                  <a:lnTo>
                    <a:pt x="448" y="2923"/>
                  </a:lnTo>
                  <a:lnTo>
                    <a:pt x="378" y="3086"/>
                  </a:lnTo>
                  <a:lnTo>
                    <a:pt x="378" y="3281"/>
                  </a:lnTo>
                  <a:lnTo>
                    <a:pt x="901" y="3050"/>
                  </a:lnTo>
                  <a:lnTo>
                    <a:pt x="1026" y="3064"/>
                  </a:lnTo>
                  <a:lnTo>
                    <a:pt x="681" y="3306"/>
                  </a:lnTo>
                  <a:lnTo>
                    <a:pt x="681" y="3462"/>
                  </a:lnTo>
                  <a:lnTo>
                    <a:pt x="1189" y="3189"/>
                  </a:lnTo>
                  <a:lnTo>
                    <a:pt x="1360" y="3189"/>
                  </a:lnTo>
                  <a:lnTo>
                    <a:pt x="1578" y="3064"/>
                  </a:lnTo>
                  <a:lnTo>
                    <a:pt x="1486" y="2907"/>
                  </a:lnTo>
                  <a:lnTo>
                    <a:pt x="1263" y="2767"/>
                  </a:lnTo>
                  <a:lnTo>
                    <a:pt x="1026" y="2688"/>
                  </a:lnTo>
                  <a:lnTo>
                    <a:pt x="802" y="2672"/>
                  </a:lnTo>
                  <a:lnTo>
                    <a:pt x="912" y="2612"/>
                  </a:lnTo>
                  <a:lnTo>
                    <a:pt x="741" y="2563"/>
                  </a:lnTo>
                  <a:lnTo>
                    <a:pt x="518" y="2612"/>
                  </a:lnTo>
                  <a:lnTo>
                    <a:pt x="331" y="2688"/>
                  </a:lnTo>
                  <a:lnTo>
                    <a:pt x="79" y="2855"/>
                  </a:lnTo>
                  <a:lnTo>
                    <a:pt x="393" y="2626"/>
                  </a:lnTo>
                  <a:lnTo>
                    <a:pt x="710" y="2517"/>
                  </a:lnTo>
                  <a:lnTo>
                    <a:pt x="947" y="2481"/>
                  </a:lnTo>
                  <a:lnTo>
                    <a:pt x="1122" y="2481"/>
                  </a:lnTo>
                  <a:lnTo>
                    <a:pt x="1360" y="2330"/>
                  </a:lnTo>
                  <a:lnTo>
                    <a:pt x="1350" y="2215"/>
                  </a:lnTo>
                  <a:lnTo>
                    <a:pt x="539" y="2422"/>
                  </a:lnTo>
                  <a:lnTo>
                    <a:pt x="993" y="2169"/>
                  </a:lnTo>
                  <a:lnTo>
                    <a:pt x="1215" y="2169"/>
                  </a:lnTo>
                  <a:lnTo>
                    <a:pt x="1251" y="2119"/>
                  </a:lnTo>
                  <a:lnTo>
                    <a:pt x="1286" y="1980"/>
                  </a:lnTo>
                  <a:lnTo>
                    <a:pt x="1251" y="1747"/>
                  </a:lnTo>
                  <a:lnTo>
                    <a:pt x="1138" y="1556"/>
                  </a:lnTo>
                  <a:lnTo>
                    <a:pt x="963" y="1337"/>
                  </a:lnTo>
                  <a:lnTo>
                    <a:pt x="730" y="1088"/>
                  </a:lnTo>
                  <a:lnTo>
                    <a:pt x="507" y="882"/>
                  </a:lnTo>
                  <a:lnTo>
                    <a:pt x="378" y="741"/>
                  </a:lnTo>
                  <a:lnTo>
                    <a:pt x="378" y="882"/>
                  </a:lnTo>
                  <a:lnTo>
                    <a:pt x="463" y="1042"/>
                  </a:lnTo>
                  <a:lnTo>
                    <a:pt x="741" y="1358"/>
                  </a:lnTo>
                  <a:lnTo>
                    <a:pt x="463" y="1165"/>
                  </a:lnTo>
                  <a:lnTo>
                    <a:pt x="207" y="1042"/>
                  </a:lnTo>
                  <a:lnTo>
                    <a:pt x="156" y="1007"/>
                  </a:lnTo>
                  <a:lnTo>
                    <a:pt x="79" y="1270"/>
                  </a:lnTo>
                  <a:lnTo>
                    <a:pt x="94" y="814"/>
                  </a:lnTo>
                  <a:lnTo>
                    <a:pt x="110" y="438"/>
                  </a:lnTo>
                  <a:lnTo>
                    <a:pt x="50" y="12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465680" y="5969520"/>
              <a:ext cx="67680" cy="105480"/>
            </a:xfrm>
            <a:custGeom>
              <a:avLst/>
              <a:gdLst/>
              <a:ahLst/>
              <a:rect l="l" t="t" r="r" b="b"/>
              <a:pathLst>
                <a:path w="884" h="1588">
                  <a:moveTo>
                    <a:pt x="42" y="0"/>
                  </a:moveTo>
                  <a:lnTo>
                    <a:pt x="10" y="105"/>
                  </a:lnTo>
                  <a:lnTo>
                    <a:pt x="10" y="215"/>
                  </a:lnTo>
                  <a:lnTo>
                    <a:pt x="107" y="360"/>
                  </a:lnTo>
                  <a:lnTo>
                    <a:pt x="342" y="498"/>
                  </a:lnTo>
                  <a:lnTo>
                    <a:pt x="884" y="671"/>
                  </a:lnTo>
                  <a:lnTo>
                    <a:pt x="642" y="828"/>
                  </a:lnTo>
                  <a:lnTo>
                    <a:pt x="423" y="1019"/>
                  </a:lnTo>
                  <a:lnTo>
                    <a:pt x="167" y="1272"/>
                  </a:lnTo>
                  <a:lnTo>
                    <a:pt x="42" y="1588"/>
                  </a:lnTo>
                  <a:lnTo>
                    <a:pt x="136" y="1247"/>
                  </a:lnTo>
                  <a:lnTo>
                    <a:pt x="167" y="945"/>
                  </a:lnTo>
                  <a:lnTo>
                    <a:pt x="183" y="1190"/>
                  </a:lnTo>
                  <a:lnTo>
                    <a:pt x="423" y="909"/>
                  </a:lnTo>
                  <a:lnTo>
                    <a:pt x="520" y="814"/>
                  </a:lnTo>
                  <a:lnTo>
                    <a:pt x="199" y="659"/>
                  </a:lnTo>
                  <a:lnTo>
                    <a:pt x="167" y="828"/>
                  </a:lnTo>
                  <a:lnTo>
                    <a:pt x="118" y="671"/>
                  </a:lnTo>
                  <a:lnTo>
                    <a:pt x="22" y="426"/>
                  </a:lnTo>
                  <a:lnTo>
                    <a:pt x="0" y="235"/>
                  </a:lnTo>
                  <a:lnTo>
                    <a:pt x="0" y="7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477560" y="5970600"/>
              <a:ext cx="93240" cy="52200"/>
            </a:xfrm>
            <a:custGeom>
              <a:avLst/>
              <a:gdLst/>
              <a:ahLst/>
              <a:rect l="l" t="t" r="r" b="b"/>
              <a:pathLst>
                <a:path w="1220" h="786">
                  <a:moveTo>
                    <a:pt x="62" y="18"/>
                  </a:moveTo>
                  <a:lnTo>
                    <a:pt x="223" y="0"/>
                  </a:lnTo>
                  <a:lnTo>
                    <a:pt x="491" y="91"/>
                  </a:lnTo>
                  <a:lnTo>
                    <a:pt x="733" y="251"/>
                  </a:lnTo>
                  <a:lnTo>
                    <a:pt x="1028" y="502"/>
                  </a:lnTo>
                  <a:lnTo>
                    <a:pt x="1220" y="739"/>
                  </a:lnTo>
                  <a:lnTo>
                    <a:pt x="1169" y="786"/>
                  </a:lnTo>
                  <a:lnTo>
                    <a:pt x="996" y="629"/>
                  </a:lnTo>
                  <a:lnTo>
                    <a:pt x="793" y="484"/>
                  </a:lnTo>
                  <a:lnTo>
                    <a:pt x="572" y="376"/>
                  </a:lnTo>
                  <a:lnTo>
                    <a:pt x="376" y="262"/>
                  </a:lnTo>
                  <a:lnTo>
                    <a:pt x="0" y="18"/>
                  </a:lnTo>
                  <a:lnTo>
                    <a:pt x="6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651080" y="5814720"/>
              <a:ext cx="119520" cy="296640"/>
            </a:xfrm>
            <a:custGeom>
              <a:avLst/>
              <a:gdLst/>
              <a:ahLst/>
              <a:rect l="l" t="t" r="r" b="b"/>
              <a:pathLst>
                <a:path w="1568" h="4437">
                  <a:moveTo>
                    <a:pt x="161" y="83"/>
                  </a:moveTo>
                  <a:lnTo>
                    <a:pt x="99" y="205"/>
                  </a:lnTo>
                  <a:lnTo>
                    <a:pt x="49" y="383"/>
                  </a:lnTo>
                  <a:lnTo>
                    <a:pt x="49" y="583"/>
                  </a:lnTo>
                  <a:lnTo>
                    <a:pt x="99" y="774"/>
                  </a:lnTo>
                  <a:lnTo>
                    <a:pt x="257" y="1090"/>
                  </a:lnTo>
                  <a:lnTo>
                    <a:pt x="431" y="1400"/>
                  </a:lnTo>
                  <a:lnTo>
                    <a:pt x="543" y="1767"/>
                  </a:lnTo>
                  <a:lnTo>
                    <a:pt x="637" y="2172"/>
                  </a:lnTo>
                  <a:lnTo>
                    <a:pt x="719" y="2690"/>
                  </a:lnTo>
                  <a:lnTo>
                    <a:pt x="826" y="3398"/>
                  </a:lnTo>
                  <a:lnTo>
                    <a:pt x="877" y="3846"/>
                  </a:lnTo>
                  <a:lnTo>
                    <a:pt x="1057" y="3270"/>
                  </a:lnTo>
                  <a:lnTo>
                    <a:pt x="1192" y="2743"/>
                  </a:lnTo>
                  <a:lnTo>
                    <a:pt x="1347" y="2033"/>
                  </a:lnTo>
                  <a:lnTo>
                    <a:pt x="1444" y="1496"/>
                  </a:lnTo>
                  <a:lnTo>
                    <a:pt x="1471" y="1148"/>
                  </a:lnTo>
                  <a:lnTo>
                    <a:pt x="1490" y="830"/>
                  </a:lnTo>
                  <a:lnTo>
                    <a:pt x="1506" y="664"/>
                  </a:lnTo>
                  <a:lnTo>
                    <a:pt x="1568" y="567"/>
                  </a:lnTo>
                  <a:lnTo>
                    <a:pt x="1554" y="1169"/>
                  </a:lnTo>
                  <a:lnTo>
                    <a:pt x="1444" y="1908"/>
                  </a:lnTo>
                  <a:lnTo>
                    <a:pt x="1301" y="2582"/>
                  </a:lnTo>
                  <a:lnTo>
                    <a:pt x="1154" y="3195"/>
                  </a:lnTo>
                  <a:lnTo>
                    <a:pt x="971" y="3778"/>
                  </a:lnTo>
                  <a:lnTo>
                    <a:pt x="730" y="4394"/>
                  </a:lnTo>
                  <a:lnTo>
                    <a:pt x="637" y="4437"/>
                  </a:lnTo>
                  <a:lnTo>
                    <a:pt x="826" y="3917"/>
                  </a:lnTo>
                  <a:lnTo>
                    <a:pt x="683" y="2848"/>
                  </a:lnTo>
                  <a:lnTo>
                    <a:pt x="559" y="2015"/>
                  </a:lnTo>
                  <a:lnTo>
                    <a:pt x="402" y="1512"/>
                  </a:lnTo>
                  <a:lnTo>
                    <a:pt x="183" y="1090"/>
                  </a:lnTo>
                  <a:lnTo>
                    <a:pt x="49" y="784"/>
                  </a:lnTo>
                  <a:lnTo>
                    <a:pt x="0" y="602"/>
                  </a:lnTo>
                  <a:lnTo>
                    <a:pt x="0" y="394"/>
                  </a:lnTo>
                  <a:lnTo>
                    <a:pt x="49" y="189"/>
                  </a:lnTo>
                  <a:lnTo>
                    <a:pt x="161" y="0"/>
                  </a:lnTo>
                  <a:lnTo>
                    <a:pt x="16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643880" y="6112440"/>
              <a:ext cx="120960" cy="67320"/>
            </a:xfrm>
            <a:custGeom>
              <a:avLst/>
              <a:gdLst/>
              <a:ahLst/>
              <a:rect l="l" t="t" r="r" b="b"/>
              <a:pathLst>
                <a:path w="1582" h="1002">
                  <a:moveTo>
                    <a:pt x="457" y="0"/>
                  </a:moveTo>
                  <a:lnTo>
                    <a:pt x="321" y="103"/>
                  </a:lnTo>
                  <a:lnTo>
                    <a:pt x="191" y="235"/>
                  </a:lnTo>
                  <a:lnTo>
                    <a:pt x="81" y="363"/>
                  </a:lnTo>
                  <a:lnTo>
                    <a:pt x="20" y="529"/>
                  </a:lnTo>
                  <a:lnTo>
                    <a:pt x="0" y="765"/>
                  </a:lnTo>
                  <a:lnTo>
                    <a:pt x="68" y="718"/>
                  </a:lnTo>
                  <a:lnTo>
                    <a:pt x="1174" y="1002"/>
                  </a:lnTo>
                  <a:lnTo>
                    <a:pt x="1296" y="988"/>
                  </a:lnTo>
                  <a:lnTo>
                    <a:pt x="1582" y="857"/>
                  </a:lnTo>
                  <a:lnTo>
                    <a:pt x="1246" y="975"/>
                  </a:lnTo>
                  <a:lnTo>
                    <a:pt x="1187" y="940"/>
                  </a:lnTo>
                  <a:lnTo>
                    <a:pt x="969" y="889"/>
                  </a:lnTo>
                  <a:lnTo>
                    <a:pt x="855" y="698"/>
                  </a:lnTo>
                  <a:lnTo>
                    <a:pt x="775" y="640"/>
                  </a:lnTo>
                  <a:lnTo>
                    <a:pt x="523" y="564"/>
                  </a:lnTo>
                  <a:lnTo>
                    <a:pt x="429" y="468"/>
                  </a:lnTo>
                  <a:lnTo>
                    <a:pt x="397" y="373"/>
                  </a:lnTo>
                  <a:lnTo>
                    <a:pt x="383" y="248"/>
                  </a:lnTo>
                  <a:lnTo>
                    <a:pt x="383" y="128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678080" y="6092640"/>
              <a:ext cx="139680" cy="26640"/>
            </a:xfrm>
            <a:custGeom>
              <a:avLst/>
              <a:gdLst/>
              <a:ahLst/>
              <a:rect l="l" t="t" r="r" b="b"/>
              <a:pathLst>
                <a:path w="1828" h="404">
                  <a:moveTo>
                    <a:pt x="57" y="281"/>
                  </a:moveTo>
                  <a:lnTo>
                    <a:pt x="281" y="250"/>
                  </a:lnTo>
                  <a:lnTo>
                    <a:pt x="862" y="31"/>
                  </a:lnTo>
                  <a:lnTo>
                    <a:pt x="1115" y="46"/>
                  </a:lnTo>
                  <a:lnTo>
                    <a:pt x="1528" y="0"/>
                  </a:lnTo>
                  <a:lnTo>
                    <a:pt x="1587" y="31"/>
                  </a:lnTo>
                  <a:lnTo>
                    <a:pt x="1767" y="301"/>
                  </a:lnTo>
                  <a:lnTo>
                    <a:pt x="1560" y="88"/>
                  </a:lnTo>
                  <a:lnTo>
                    <a:pt x="1479" y="88"/>
                  </a:lnTo>
                  <a:lnTo>
                    <a:pt x="1053" y="88"/>
                  </a:lnTo>
                  <a:lnTo>
                    <a:pt x="1198" y="151"/>
                  </a:lnTo>
                  <a:lnTo>
                    <a:pt x="1440" y="202"/>
                  </a:lnTo>
                  <a:lnTo>
                    <a:pt x="1828" y="404"/>
                  </a:lnTo>
                  <a:lnTo>
                    <a:pt x="1355" y="238"/>
                  </a:lnTo>
                  <a:lnTo>
                    <a:pt x="892" y="112"/>
                  </a:lnTo>
                  <a:lnTo>
                    <a:pt x="798" y="112"/>
                  </a:lnTo>
                  <a:lnTo>
                    <a:pt x="339" y="281"/>
                  </a:lnTo>
                  <a:lnTo>
                    <a:pt x="0" y="332"/>
                  </a:lnTo>
                  <a:lnTo>
                    <a:pt x="57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681680" y="5887080"/>
              <a:ext cx="50040" cy="161280"/>
            </a:xfrm>
            <a:custGeom>
              <a:avLst/>
              <a:gdLst/>
              <a:ahLst/>
              <a:rect l="l" t="t" r="r" b="b"/>
              <a:pathLst>
                <a:path w="655" h="2417">
                  <a:moveTo>
                    <a:pt x="0" y="325"/>
                  </a:moveTo>
                  <a:lnTo>
                    <a:pt x="60" y="218"/>
                  </a:lnTo>
                  <a:lnTo>
                    <a:pt x="157" y="112"/>
                  </a:lnTo>
                  <a:lnTo>
                    <a:pt x="281" y="0"/>
                  </a:lnTo>
                  <a:lnTo>
                    <a:pt x="378" y="24"/>
                  </a:lnTo>
                  <a:lnTo>
                    <a:pt x="235" y="121"/>
                  </a:lnTo>
                  <a:lnTo>
                    <a:pt x="328" y="437"/>
                  </a:lnTo>
                  <a:lnTo>
                    <a:pt x="500" y="468"/>
                  </a:lnTo>
                  <a:lnTo>
                    <a:pt x="539" y="250"/>
                  </a:lnTo>
                  <a:lnTo>
                    <a:pt x="539" y="136"/>
                  </a:lnTo>
                  <a:lnTo>
                    <a:pt x="500" y="24"/>
                  </a:lnTo>
                  <a:lnTo>
                    <a:pt x="585" y="136"/>
                  </a:lnTo>
                  <a:lnTo>
                    <a:pt x="585" y="312"/>
                  </a:lnTo>
                  <a:lnTo>
                    <a:pt x="550" y="486"/>
                  </a:lnTo>
                  <a:lnTo>
                    <a:pt x="618" y="749"/>
                  </a:lnTo>
                  <a:lnTo>
                    <a:pt x="645" y="1242"/>
                  </a:lnTo>
                  <a:lnTo>
                    <a:pt x="629" y="1823"/>
                  </a:lnTo>
                  <a:lnTo>
                    <a:pt x="655" y="2342"/>
                  </a:lnTo>
                  <a:lnTo>
                    <a:pt x="629" y="2417"/>
                  </a:lnTo>
                  <a:lnTo>
                    <a:pt x="569" y="1885"/>
                  </a:lnTo>
                  <a:lnTo>
                    <a:pt x="569" y="1332"/>
                  </a:lnTo>
                  <a:lnTo>
                    <a:pt x="569" y="894"/>
                  </a:lnTo>
                  <a:lnTo>
                    <a:pt x="519" y="620"/>
                  </a:lnTo>
                  <a:lnTo>
                    <a:pt x="458" y="534"/>
                  </a:lnTo>
                  <a:lnTo>
                    <a:pt x="328" y="468"/>
                  </a:lnTo>
                  <a:lnTo>
                    <a:pt x="157" y="802"/>
                  </a:lnTo>
                  <a:lnTo>
                    <a:pt x="126" y="703"/>
                  </a:lnTo>
                  <a:lnTo>
                    <a:pt x="262" y="453"/>
                  </a:lnTo>
                  <a:lnTo>
                    <a:pt x="187" y="182"/>
                  </a:lnTo>
                  <a:lnTo>
                    <a:pt x="106" y="281"/>
                  </a:lnTo>
                  <a:lnTo>
                    <a:pt x="29" y="43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721280" y="5871240"/>
              <a:ext cx="44280" cy="61200"/>
            </a:xfrm>
            <a:custGeom>
              <a:avLst/>
              <a:gdLst/>
              <a:ahLst/>
              <a:rect l="l" t="t" r="r" b="b"/>
              <a:pathLst>
                <a:path w="585" h="919">
                  <a:moveTo>
                    <a:pt x="0" y="251"/>
                  </a:moveTo>
                  <a:lnTo>
                    <a:pt x="191" y="396"/>
                  </a:lnTo>
                  <a:lnTo>
                    <a:pt x="233" y="664"/>
                  </a:lnTo>
                  <a:lnTo>
                    <a:pt x="426" y="300"/>
                  </a:lnTo>
                  <a:lnTo>
                    <a:pt x="585" y="0"/>
                  </a:lnTo>
                  <a:lnTo>
                    <a:pt x="534" y="242"/>
                  </a:lnTo>
                  <a:lnTo>
                    <a:pt x="174" y="919"/>
                  </a:lnTo>
                  <a:lnTo>
                    <a:pt x="198" y="761"/>
                  </a:lnTo>
                  <a:lnTo>
                    <a:pt x="50" y="508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719480" y="6087240"/>
              <a:ext cx="31680" cy="10440"/>
            </a:xfrm>
            <a:custGeom>
              <a:avLst/>
              <a:gdLst/>
              <a:ahLst/>
              <a:rect l="l" t="t" r="r" b="b"/>
              <a:pathLst>
                <a:path w="416" h="166">
                  <a:moveTo>
                    <a:pt x="218" y="166"/>
                  </a:moveTo>
                  <a:lnTo>
                    <a:pt x="0" y="80"/>
                  </a:lnTo>
                  <a:lnTo>
                    <a:pt x="42" y="0"/>
                  </a:lnTo>
                  <a:lnTo>
                    <a:pt x="41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731000" y="5968080"/>
              <a:ext cx="266760" cy="203040"/>
            </a:xfrm>
            <a:custGeom>
              <a:avLst/>
              <a:gdLst/>
              <a:ahLst/>
              <a:rect l="l" t="t" r="r" b="b"/>
              <a:pathLst>
                <a:path w="3494" h="3036">
                  <a:moveTo>
                    <a:pt x="1119" y="2271"/>
                  </a:moveTo>
                  <a:lnTo>
                    <a:pt x="1130" y="2336"/>
                  </a:lnTo>
                  <a:lnTo>
                    <a:pt x="1101" y="2414"/>
                  </a:lnTo>
                  <a:lnTo>
                    <a:pt x="1054" y="2433"/>
                  </a:lnTo>
                  <a:lnTo>
                    <a:pt x="284" y="2338"/>
                  </a:lnTo>
                  <a:lnTo>
                    <a:pt x="292" y="2407"/>
                  </a:lnTo>
                  <a:lnTo>
                    <a:pt x="404" y="2387"/>
                  </a:lnTo>
                  <a:lnTo>
                    <a:pt x="852" y="2442"/>
                  </a:lnTo>
                  <a:lnTo>
                    <a:pt x="771" y="2609"/>
                  </a:lnTo>
                  <a:lnTo>
                    <a:pt x="428" y="2668"/>
                  </a:lnTo>
                  <a:lnTo>
                    <a:pt x="158" y="2552"/>
                  </a:lnTo>
                  <a:lnTo>
                    <a:pt x="68" y="2568"/>
                  </a:lnTo>
                  <a:lnTo>
                    <a:pt x="151" y="2638"/>
                  </a:lnTo>
                  <a:lnTo>
                    <a:pt x="446" y="2679"/>
                  </a:lnTo>
                  <a:lnTo>
                    <a:pt x="752" y="2656"/>
                  </a:lnTo>
                  <a:lnTo>
                    <a:pt x="670" y="2780"/>
                  </a:lnTo>
                  <a:lnTo>
                    <a:pt x="481" y="2895"/>
                  </a:lnTo>
                  <a:lnTo>
                    <a:pt x="158" y="2910"/>
                  </a:lnTo>
                  <a:lnTo>
                    <a:pt x="0" y="2895"/>
                  </a:lnTo>
                  <a:lnTo>
                    <a:pt x="268" y="2954"/>
                  </a:lnTo>
                  <a:lnTo>
                    <a:pt x="455" y="2932"/>
                  </a:lnTo>
                  <a:lnTo>
                    <a:pt x="418" y="3036"/>
                  </a:lnTo>
                  <a:lnTo>
                    <a:pt x="455" y="3025"/>
                  </a:lnTo>
                  <a:lnTo>
                    <a:pt x="525" y="2910"/>
                  </a:lnTo>
                  <a:lnTo>
                    <a:pt x="697" y="2789"/>
                  </a:lnTo>
                  <a:lnTo>
                    <a:pt x="784" y="2668"/>
                  </a:lnTo>
                  <a:lnTo>
                    <a:pt x="3327" y="2668"/>
                  </a:lnTo>
                  <a:lnTo>
                    <a:pt x="3390" y="2495"/>
                  </a:lnTo>
                  <a:lnTo>
                    <a:pt x="3424" y="2200"/>
                  </a:lnTo>
                  <a:lnTo>
                    <a:pt x="3454" y="1985"/>
                  </a:lnTo>
                  <a:lnTo>
                    <a:pt x="2977" y="1849"/>
                  </a:lnTo>
                  <a:lnTo>
                    <a:pt x="3041" y="1780"/>
                  </a:lnTo>
                  <a:lnTo>
                    <a:pt x="3109" y="1833"/>
                  </a:lnTo>
                  <a:lnTo>
                    <a:pt x="3494" y="1886"/>
                  </a:lnTo>
                  <a:lnTo>
                    <a:pt x="3494" y="1844"/>
                  </a:lnTo>
                  <a:lnTo>
                    <a:pt x="3159" y="1785"/>
                  </a:lnTo>
                  <a:lnTo>
                    <a:pt x="2995" y="1598"/>
                  </a:lnTo>
                  <a:lnTo>
                    <a:pt x="2813" y="1805"/>
                  </a:lnTo>
                  <a:lnTo>
                    <a:pt x="2479" y="2336"/>
                  </a:lnTo>
                  <a:lnTo>
                    <a:pt x="2345" y="2236"/>
                  </a:lnTo>
                  <a:lnTo>
                    <a:pt x="2472" y="1955"/>
                  </a:lnTo>
                  <a:lnTo>
                    <a:pt x="2714" y="1671"/>
                  </a:lnTo>
                  <a:lnTo>
                    <a:pt x="2868" y="1559"/>
                  </a:lnTo>
                  <a:lnTo>
                    <a:pt x="2742" y="1303"/>
                  </a:lnTo>
                  <a:lnTo>
                    <a:pt x="2582" y="745"/>
                  </a:lnTo>
                  <a:lnTo>
                    <a:pt x="2707" y="1328"/>
                  </a:lnTo>
                  <a:lnTo>
                    <a:pt x="2771" y="1535"/>
                  </a:lnTo>
                  <a:lnTo>
                    <a:pt x="2544" y="1550"/>
                  </a:lnTo>
                  <a:lnTo>
                    <a:pt x="2272" y="692"/>
                  </a:lnTo>
                  <a:lnTo>
                    <a:pt x="2424" y="552"/>
                  </a:lnTo>
                  <a:lnTo>
                    <a:pt x="1962" y="803"/>
                  </a:lnTo>
                  <a:lnTo>
                    <a:pt x="1962" y="735"/>
                  </a:lnTo>
                  <a:lnTo>
                    <a:pt x="2037" y="602"/>
                  </a:lnTo>
                  <a:lnTo>
                    <a:pt x="2345" y="369"/>
                  </a:lnTo>
                  <a:lnTo>
                    <a:pt x="2439" y="210"/>
                  </a:lnTo>
                  <a:lnTo>
                    <a:pt x="2540" y="614"/>
                  </a:lnTo>
                  <a:lnTo>
                    <a:pt x="2525" y="180"/>
                  </a:lnTo>
                  <a:lnTo>
                    <a:pt x="2403" y="90"/>
                  </a:lnTo>
                  <a:lnTo>
                    <a:pt x="2318" y="88"/>
                  </a:lnTo>
                  <a:lnTo>
                    <a:pt x="2311" y="0"/>
                  </a:lnTo>
                  <a:lnTo>
                    <a:pt x="2311" y="157"/>
                  </a:lnTo>
                  <a:lnTo>
                    <a:pt x="2340" y="297"/>
                  </a:lnTo>
                  <a:lnTo>
                    <a:pt x="2177" y="480"/>
                  </a:lnTo>
                  <a:lnTo>
                    <a:pt x="1905" y="563"/>
                  </a:lnTo>
                  <a:lnTo>
                    <a:pt x="1852" y="231"/>
                  </a:lnTo>
                  <a:lnTo>
                    <a:pt x="1742" y="552"/>
                  </a:lnTo>
                  <a:lnTo>
                    <a:pt x="1485" y="745"/>
                  </a:lnTo>
                  <a:lnTo>
                    <a:pt x="1220" y="818"/>
                  </a:lnTo>
                  <a:lnTo>
                    <a:pt x="944" y="871"/>
                  </a:lnTo>
                  <a:lnTo>
                    <a:pt x="1352" y="835"/>
                  </a:lnTo>
                  <a:lnTo>
                    <a:pt x="1589" y="783"/>
                  </a:lnTo>
                  <a:lnTo>
                    <a:pt x="1371" y="976"/>
                  </a:lnTo>
                  <a:lnTo>
                    <a:pt x="1169" y="1240"/>
                  </a:lnTo>
                  <a:lnTo>
                    <a:pt x="953" y="1621"/>
                  </a:lnTo>
                  <a:lnTo>
                    <a:pt x="842" y="1895"/>
                  </a:lnTo>
                  <a:lnTo>
                    <a:pt x="1087" y="2165"/>
                  </a:lnTo>
                  <a:lnTo>
                    <a:pt x="1191" y="2271"/>
                  </a:lnTo>
                  <a:lnTo>
                    <a:pt x="1172" y="2312"/>
                  </a:lnTo>
                  <a:lnTo>
                    <a:pt x="1331" y="2374"/>
                  </a:lnTo>
                  <a:lnTo>
                    <a:pt x="1415" y="1937"/>
                  </a:lnTo>
                  <a:lnTo>
                    <a:pt x="1589" y="1211"/>
                  </a:lnTo>
                  <a:lnTo>
                    <a:pt x="1698" y="930"/>
                  </a:lnTo>
                  <a:lnTo>
                    <a:pt x="1707" y="1134"/>
                  </a:lnTo>
                  <a:lnTo>
                    <a:pt x="1608" y="1510"/>
                  </a:lnTo>
                  <a:lnTo>
                    <a:pt x="1485" y="2137"/>
                  </a:lnTo>
                  <a:lnTo>
                    <a:pt x="1446" y="2433"/>
                  </a:lnTo>
                  <a:lnTo>
                    <a:pt x="1365" y="2396"/>
                  </a:lnTo>
                  <a:lnTo>
                    <a:pt x="1523" y="2517"/>
                  </a:lnTo>
                  <a:lnTo>
                    <a:pt x="1317" y="2483"/>
                  </a:lnTo>
                  <a:lnTo>
                    <a:pt x="1147" y="2407"/>
                  </a:lnTo>
                  <a:lnTo>
                    <a:pt x="1147" y="2324"/>
                  </a:lnTo>
                  <a:lnTo>
                    <a:pt x="1119" y="2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788600" y="5843160"/>
              <a:ext cx="121320" cy="163440"/>
            </a:xfrm>
            <a:custGeom>
              <a:avLst/>
              <a:gdLst/>
              <a:ahLst/>
              <a:rect l="l" t="t" r="r" b="b"/>
              <a:pathLst>
                <a:path w="1593" h="2446">
                  <a:moveTo>
                    <a:pt x="0" y="0"/>
                  </a:moveTo>
                  <a:lnTo>
                    <a:pt x="406" y="122"/>
                  </a:lnTo>
                  <a:lnTo>
                    <a:pt x="969" y="385"/>
                  </a:lnTo>
                  <a:lnTo>
                    <a:pt x="1273" y="442"/>
                  </a:lnTo>
                  <a:lnTo>
                    <a:pt x="1294" y="537"/>
                  </a:lnTo>
                  <a:lnTo>
                    <a:pt x="1360" y="512"/>
                  </a:lnTo>
                  <a:lnTo>
                    <a:pt x="1457" y="673"/>
                  </a:lnTo>
                  <a:lnTo>
                    <a:pt x="1554" y="965"/>
                  </a:lnTo>
                  <a:lnTo>
                    <a:pt x="1593" y="1323"/>
                  </a:lnTo>
                  <a:lnTo>
                    <a:pt x="1593" y="1552"/>
                  </a:lnTo>
                  <a:lnTo>
                    <a:pt x="1538" y="1879"/>
                  </a:lnTo>
                  <a:lnTo>
                    <a:pt x="1432" y="2137"/>
                  </a:lnTo>
                  <a:lnTo>
                    <a:pt x="1273" y="2285"/>
                  </a:lnTo>
                  <a:lnTo>
                    <a:pt x="1100" y="2446"/>
                  </a:lnTo>
                  <a:lnTo>
                    <a:pt x="1266" y="2191"/>
                  </a:lnTo>
                  <a:lnTo>
                    <a:pt x="1432" y="1863"/>
                  </a:lnTo>
                  <a:lnTo>
                    <a:pt x="1513" y="1552"/>
                  </a:lnTo>
                  <a:lnTo>
                    <a:pt x="1531" y="1180"/>
                  </a:lnTo>
                  <a:lnTo>
                    <a:pt x="1503" y="910"/>
                  </a:lnTo>
                  <a:lnTo>
                    <a:pt x="1425" y="644"/>
                  </a:lnTo>
                  <a:lnTo>
                    <a:pt x="1335" y="567"/>
                  </a:lnTo>
                  <a:lnTo>
                    <a:pt x="1259" y="1238"/>
                  </a:lnTo>
                  <a:lnTo>
                    <a:pt x="1133" y="1904"/>
                  </a:lnTo>
                  <a:lnTo>
                    <a:pt x="1243" y="1226"/>
                  </a:lnTo>
                  <a:lnTo>
                    <a:pt x="1266" y="537"/>
                  </a:lnTo>
                  <a:lnTo>
                    <a:pt x="918" y="408"/>
                  </a:lnTo>
                  <a:lnTo>
                    <a:pt x="182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761240" y="5860440"/>
              <a:ext cx="77040" cy="237600"/>
            </a:xfrm>
            <a:custGeom>
              <a:avLst/>
              <a:gdLst/>
              <a:ahLst/>
              <a:rect l="l" t="t" r="r" b="b"/>
              <a:pathLst>
                <a:path w="1005" h="3558">
                  <a:moveTo>
                    <a:pt x="479" y="0"/>
                  </a:moveTo>
                  <a:lnTo>
                    <a:pt x="611" y="380"/>
                  </a:lnTo>
                  <a:lnTo>
                    <a:pt x="717" y="888"/>
                  </a:lnTo>
                  <a:lnTo>
                    <a:pt x="965" y="791"/>
                  </a:lnTo>
                  <a:lnTo>
                    <a:pt x="1005" y="842"/>
                  </a:lnTo>
                  <a:lnTo>
                    <a:pt x="954" y="1274"/>
                  </a:lnTo>
                  <a:lnTo>
                    <a:pt x="837" y="1712"/>
                  </a:lnTo>
                  <a:lnTo>
                    <a:pt x="645" y="2285"/>
                  </a:lnTo>
                  <a:lnTo>
                    <a:pt x="456" y="2747"/>
                  </a:lnTo>
                  <a:lnTo>
                    <a:pt x="231" y="3288"/>
                  </a:lnTo>
                  <a:lnTo>
                    <a:pt x="71" y="3533"/>
                  </a:lnTo>
                  <a:lnTo>
                    <a:pt x="0" y="3558"/>
                  </a:lnTo>
                  <a:lnTo>
                    <a:pt x="184" y="3263"/>
                  </a:lnTo>
                  <a:lnTo>
                    <a:pt x="385" y="2782"/>
                  </a:lnTo>
                  <a:lnTo>
                    <a:pt x="550" y="2320"/>
                  </a:lnTo>
                  <a:lnTo>
                    <a:pt x="694" y="1916"/>
                  </a:lnTo>
                  <a:lnTo>
                    <a:pt x="827" y="1514"/>
                  </a:lnTo>
                  <a:lnTo>
                    <a:pt x="879" y="1193"/>
                  </a:lnTo>
                  <a:lnTo>
                    <a:pt x="924" y="896"/>
                  </a:lnTo>
                  <a:lnTo>
                    <a:pt x="420" y="1108"/>
                  </a:lnTo>
                  <a:lnTo>
                    <a:pt x="670" y="905"/>
                  </a:lnTo>
                  <a:lnTo>
                    <a:pt x="670" y="870"/>
                  </a:lnTo>
                  <a:lnTo>
                    <a:pt x="597" y="43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H="1">
              <a:off x="7462080" y="6146640"/>
              <a:ext cx="511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683480" y="6167880"/>
              <a:ext cx="243720" cy="26640"/>
            </a:xfrm>
            <a:custGeom>
              <a:avLst/>
              <a:gdLst/>
              <a:ahLst/>
              <a:rect l="l" t="t" r="r" b="b"/>
              <a:pathLst>
                <a:path w="3188" h="401">
                  <a:moveTo>
                    <a:pt x="0" y="0"/>
                  </a:moveTo>
                  <a:lnTo>
                    <a:pt x="343" y="401"/>
                  </a:lnTo>
                  <a:lnTo>
                    <a:pt x="3188" y="4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785720" y="6152400"/>
              <a:ext cx="192960" cy="15480"/>
            </a:xfrm>
            <a:custGeom>
              <a:avLst/>
              <a:gdLst/>
              <a:ahLst/>
              <a:rect l="l" t="t" r="r" b="b"/>
              <a:pathLst>
                <a:path w="2533" h="230">
                  <a:moveTo>
                    <a:pt x="0" y="0"/>
                  </a:moveTo>
                  <a:lnTo>
                    <a:pt x="1752" y="0"/>
                  </a:lnTo>
                  <a:lnTo>
                    <a:pt x="2533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684560" y="6227280"/>
              <a:ext cx="176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9" name=""/>
          <p:cNvSpPr/>
          <p:nvPr/>
        </p:nvSpPr>
        <p:spPr>
          <a:xfrm>
            <a:off x="7539840" y="5073480"/>
            <a:ext cx="493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4057560" y="4946760"/>
            <a:ext cx="1371240" cy="686880"/>
            <a:chOff x="4057560" y="4946760"/>
            <a:chExt cx="1371240" cy="686880"/>
          </a:xfrm>
        </p:grpSpPr>
        <p:grpSp>
          <p:nvGrpSpPr>
            <p:cNvPr id="2891" name=""/>
            <p:cNvGrpSpPr/>
            <p:nvPr/>
          </p:nvGrpSpPr>
          <p:grpSpPr>
            <a:xfrm>
              <a:off x="4057560" y="4946760"/>
              <a:ext cx="1371240" cy="686880"/>
              <a:chOff x="4057560" y="4946760"/>
              <a:chExt cx="1371240" cy="686880"/>
            </a:xfrm>
          </p:grpSpPr>
          <p:sp>
            <p:nvSpPr>
              <p:cNvPr id="2892" name=""/>
              <p:cNvSpPr/>
              <p:nvPr/>
            </p:nvSpPr>
            <p:spPr>
              <a:xfrm>
                <a:off x="4368240" y="51372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381560" y="51440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370400" y="518292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388760" y="52941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443120" y="536184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451040" y="518040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605840" y="53917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624200" y="532368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527360" y="537876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516920" y="51998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526280" y="527436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464360" y="49820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469040" y="507276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555440" y="50796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079160" y="516780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512960" y="539568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462560" y="54536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204080" y="505512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262400" y="52660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277520" y="50032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268880" y="51102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316040" y="51220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494240" y="50490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533480" y="50526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506840" y="510408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987440" y="513468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027400" y="52484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085720" y="524988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162760" y="52491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214240" y="513288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143320" y="522360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936320" y="54230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085000" y="49989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099040" y="508716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145480" y="50752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085720" y="49683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179320" y="50126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173200" y="500004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738320" y="508788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921920" y="538632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756320" y="51890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743000" y="523116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820400" y="513792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912560" y="50976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989600" y="51577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051160" y="52153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872240" y="513288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869000" y="513288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803840" y="51246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807800" y="49557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833000" y="50583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876200" y="50475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861440" y="50526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853520" y="50677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873320" y="50652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856400" y="50932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820400" y="498888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866120" y="50119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811400" y="50389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901400" y="50238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865040" y="51120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09960" y="5174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810320" y="51508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827960" y="519228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836240" y="50432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4872960" y="50389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4257720" y="509040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266360" y="51202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284720" y="51102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306680" y="51091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305240" y="51678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4260960" y="51609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4290840" y="51440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278960" y="51897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238280" y="500148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200480" y="50014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308480" y="50490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4217760" y="51458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209840" y="51138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211280" y="51451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4209840" y="51534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230000" y="511596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231080" y="51109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236480" y="512100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241880" y="51314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272120" y="50720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284720" y="50695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176720" y="517392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057560" y="521352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170240" y="52660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235760" y="548892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253760" y="547632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302720" y="54536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4374360" y="550692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4272840" y="524304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299480" y="522612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85520" y="542628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432680" y="538308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519440" y="54518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543200" y="549072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549320" y="547452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513680" y="539568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461120" y="545832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4430880" y="49575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4492800" y="50619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4467240" y="50439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4477680" y="50518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479840" y="50558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4484520" y="507024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470480" y="507348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379040" y="51289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4363560" y="51728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4429440" y="53467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4452480" y="51840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554000" y="51746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523040" y="52722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624200" y="53110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599000" y="53694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536720" y="539568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610520" y="542808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555440" y="50788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490280" y="50457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532760" y="50490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534920" y="50583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492440" y="50338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534920" y="50382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512240" y="50857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528080" y="50464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500360" y="5049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537440" y="50526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506120" y="51033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511520" y="51091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804560" y="51228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812480" y="51584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770000" y="516600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739040" y="51883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781160" y="52815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739040" y="532116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744800" y="53085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761000" y="52171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772160" y="51397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835160" y="51102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847760" y="51566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847760" y="50950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850280" y="513288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905360" y="50940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874400" y="515340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854960" y="523044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945680" y="50950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993560" y="51026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963680" y="514980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034600" y="51897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046120" y="53179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051160" y="546876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933800" y="542232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977000" y="54223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807080" y="49482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831200" y="50407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829760" y="504216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869000" y="50302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870800" y="50389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865400" y="50338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857840" y="504468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874400" y="50482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811760" y="50475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902120" y="50295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842360" y="50446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877640" y="50389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4851720" y="50677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848840" y="508788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858200" y="51001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828320" y="50662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835160" y="50752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4884120" y="50713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064480" y="520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086440" y="50770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095800" y="50976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122080" y="505008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152680" y="507348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117400" y="51246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135400" y="51120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150160" y="51195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092920" y="510156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128920" y="514728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131440" y="51577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065920" y="49701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104440" y="494676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168520" y="50032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180400" y="50464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187240" y="507528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127480" y="51609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182560" y="51202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109480" y="50374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123520" y="50302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140800" y="50245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167440" y="50619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252760" y="523296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225760" y="51339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296680" y="517788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155200" y="52322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2" name=""/>
            <p:cNvSpPr/>
            <p:nvPr/>
          </p:nvSpPr>
          <p:spPr>
            <a:xfrm>
              <a:off x="5074560" y="522864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195160" y="52660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191920" y="549756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052600" y="551700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052600" y="53942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091480" y="522864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8" name=""/>
          <p:cNvSpPr/>
          <p:nvPr/>
        </p:nvSpPr>
        <p:spPr>
          <a:xfrm>
            <a:off x="6743160" y="6424560"/>
            <a:ext cx="191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5548320" y="5433840"/>
            <a:ext cx="404640" cy="189000"/>
          </a:xfrm>
          <a:prstGeom prst="rightArrow">
            <a:avLst>
              <a:gd name="adj1" fmla="val 50000"/>
              <a:gd name="adj2" fmla="val 53524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6539040" y="5433840"/>
            <a:ext cx="404640" cy="189000"/>
          </a:xfrm>
          <a:prstGeom prst="rightArrow">
            <a:avLst>
              <a:gd name="adj1" fmla="val 50000"/>
              <a:gd name="adj2" fmla="val 53524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5013360" y="2614680"/>
            <a:ext cx="7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2652840" y="2766960"/>
            <a:ext cx="93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6961320" y="2867040"/>
            <a:ext cx="812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4" name=""/>
          <p:cNvGrpSpPr/>
          <p:nvPr/>
        </p:nvGrpSpPr>
        <p:grpSpPr>
          <a:xfrm>
            <a:off x="4200480" y="3906720"/>
            <a:ext cx="519120" cy="600120"/>
            <a:chOff x="4200480" y="3906720"/>
            <a:chExt cx="519120" cy="600120"/>
          </a:xfrm>
        </p:grpSpPr>
        <p:sp>
          <p:nvSpPr>
            <p:cNvPr id="3105" name=""/>
            <p:cNvSpPr/>
            <p:nvPr/>
          </p:nvSpPr>
          <p:spPr>
            <a:xfrm>
              <a:off x="4200480" y="3906720"/>
              <a:ext cx="519120" cy="60012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257720" y="400608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257720" y="4055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257720" y="4105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257720" y="41551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57720" y="42051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257720" y="42548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257720" y="43045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257720" y="4354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257720" y="440388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5" name=""/>
          <p:cNvSpPr/>
          <p:nvPr/>
        </p:nvSpPr>
        <p:spPr>
          <a:xfrm>
            <a:off x="3762360" y="4111560"/>
            <a:ext cx="405000" cy="189000"/>
          </a:xfrm>
          <a:prstGeom prst="rightArrow">
            <a:avLst>
              <a:gd name="adj1" fmla="val 50000"/>
              <a:gd name="adj2" fmla="val 53571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4753080" y="4111560"/>
            <a:ext cx="404640" cy="189000"/>
          </a:xfrm>
          <a:prstGeom prst="rightArrow">
            <a:avLst>
              <a:gd name="adj1" fmla="val 50000"/>
              <a:gd name="adj2" fmla="val 53524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7" name=""/>
          <p:cNvGrpSpPr/>
          <p:nvPr/>
        </p:nvGrpSpPr>
        <p:grpSpPr>
          <a:xfrm>
            <a:off x="8483760" y="5092560"/>
            <a:ext cx="470880" cy="852120"/>
            <a:chOff x="8483760" y="5092560"/>
            <a:chExt cx="470880" cy="852120"/>
          </a:xfrm>
        </p:grpSpPr>
        <p:sp>
          <p:nvSpPr>
            <p:cNvPr id="3118" name=""/>
            <p:cNvSpPr/>
            <p:nvPr/>
          </p:nvSpPr>
          <p:spPr>
            <a:xfrm>
              <a:off x="8505000" y="5258520"/>
              <a:ext cx="12492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solidFill>
              <a:srgbClr val="ff4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483760" y="5249520"/>
              <a:ext cx="88200" cy="197640"/>
            </a:xfrm>
            <a:custGeom>
              <a:avLst/>
              <a:gdLst/>
              <a:ahLst/>
              <a:rect l="l" t="t" r="r" b="b"/>
              <a:pathLst>
                <a:path w="243" h="556">
                  <a:moveTo>
                    <a:pt x="240" y="0"/>
                  </a:moveTo>
                  <a:lnTo>
                    <a:pt x="0" y="0"/>
                  </a:lnTo>
                  <a:lnTo>
                    <a:pt x="28" y="7"/>
                  </a:lnTo>
                  <a:lnTo>
                    <a:pt x="42" y="14"/>
                  </a:lnTo>
                  <a:lnTo>
                    <a:pt x="54" y="22"/>
                  </a:lnTo>
                  <a:lnTo>
                    <a:pt x="69" y="31"/>
                  </a:lnTo>
                  <a:lnTo>
                    <a:pt x="81" y="42"/>
                  </a:lnTo>
                  <a:lnTo>
                    <a:pt x="90" y="53"/>
                  </a:lnTo>
                  <a:lnTo>
                    <a:pt x="101" y="65"/>
                  </a:lnTo>
                  <a:lnTo>
                    <a:pt x="107" y="76"/>
                  </a:lnTo>
                  <a:lnTo>
                    <a:pt x="114" y="90"/>
                  </a:lnTo>
                  <a:lnTo>
                    <a:pt x="121" y="105"/>
                  </a:lnTo>
                  <a:lnTo>
                    <a:pt x="129" y="121"/>
                  </a:lnTo>
                  <a:lnTo>
                    <a:pt x="133" y="136"/>
                  </a:lnTo>
                  <a:lnTo>
                    <a:pt x="139" y="150"/>
                  </a:lnTo>
                  <a:lnTo>
                    <a:pt x="179" y="333"/>
                  </a:lnTo>
                  <a:lnTo>
                    <a:pt x="194" y="409"/>
                  </a:lnTo>
                  <a:lnTo>
                    <a:pt x="203" y="459"/>
                  </a:lnTo>
                  <a:lnTo>
                    <a:pt x="215" y="510"/>
                  </a:lnTo>
                  <a:lnTo>
                    <a:pt x="233" y="556"/>
                  </a:lnTo>
                  <a:lnTo>
                    <a:pt x="243" y="556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8808120" y="5260320"/>
              <a:ext cx="12816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4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868600" y="5251320"/>
              <a:ext cx="86040" cy="197640"/>
            </a:xfrm>
            <a:custGeom>
              <a:avLst/>
              <a:gdLst/>
              <a:ahLst/>
              <a:rect l="l" t="t" r="r" b="b"/>
              <a:pathLst>
                <a:path w="243" h="556">
                  <a:moveTo>
                    <a:pt x="3" y="0"/>
                  </a:moveTo>
                  <a:lnTo>
                    <a:pt x="243" y="0"/>
                  </a:lnTo>
                  <a:lnTo>
                    <a:pt x="216" y="7"/>
                  </a:lnTo>
                  <a:lnTo>
                    <a:pt x="201" y="14"/>
                  </a:lnTo>
                  <a:lnTo>
                    <a:pt x="189" y="21"/>
                  </a:lnTo>
                  <a:lnTo>
                    <a:pt x="175" y="31"/>
                  </a:lnTo>
                  <a:lnTo>
                    <a:pt x="163" y="42"/>
                  </a:lnTo>
                  <a:lnTo>
                    <a:pt x="153" y="53"/>
                  </a:lnTo>
                  <a:lnTo>
                    <a:pt x="142" y="65"/>
                  </a:lnTo>
                  <a:lnTo>
                    <a:pt x="136" y="75"/>
                  </a:lnTo>
                  <a:lnTo>
                    <a:pt x="129" y="90"/>
                  </a:lnTo>
                  <a:lnTo>
                    <a:pt x="122" y="104"/>
                  </a:lnTo>
                  <a:lnTo>
                    <a:pt x="115" y="121"/>
                  </a:lnTo>
                  <a:lnTo>
                    <a:pt x="110" y="135"/>
                  </a:lnTo>
                  <a:lnTo>
                    <a:pt x="104" y="150"/>
                  </a:lnTo>
                  <a:lnTo>
                    <a:pt x="64" y="333"/>
                  </a:lnTo>
                  <a:lnTo>
                    <a:pt x="50" y="408"/>
                  </a:lnTo>
                  <a:lnTo>
                    <a:pt x="40" y="459"/>
                  </a:lnTo>
                  <a:lnTo>
                    <a:pt x="28" y="509"/>
                  </a:lnTo>
                  <a:lnTo>
                    <a:pt x="10" y="556"/>
                  </a:lnTo>
                  <a:lnTo>
                    <a:pt x="0" y="55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505000" y="5724000"/>
              <a:ext cx="12492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solidFill>
              <a:srgbClr val="66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483760" y="5715000"/>
              <a:ext cx="88200" cy="197640"/>
            </a:xfrm>
            <a:custGeom>
              <a:avLst/>
              <a:gdLst/>
              <a:ahLst/>
              <a:rect l="l" t="t" r="r" b="b"/>
              <a:pathLst>
                <a:path w="243" h="555">
                  <a:moveTo>
                    <a:pt x="240" y="0"/>
                  </a:moveTo>
                  <a:lnTo>
                    <a:pt x="0" y="0"/>
                  </a:lnTo>
                  <a:lnTo>
                    <a:pt x="28" y="7"/>
                  </a:lnTo>
                  <a:lnTo>
                    <a:pt x="42" y="15"/>
                  </a:lnTo>
                  <a:lnTo>
                    <a:pt x="54" y="22"/>
                  </a:lnTo>
                  <a:lnTo>
                    <a:pt x="69" y="31"/>
                  </a:lnTo>
                  <a:lnTo>
                    <a:pt x="81" y="42"/>
                  </a:lnTo>
                  <a:lnTo>
                    <a:pt x="90" y="53"/>
                  </a:lnTo>
                  <a:lnTo>
                    <a:pt x="101" y="64"/>
                  </a:lnTo>
                  <a:lnTo>
                    <a:pt x="107" y="75"/>
                  </a:lnTo>
                  <a:lnTo>
                    <a:pt x="114" y="89"/>
                  </a:lnTo>
                  <a:lnTo>
                    <a:pt x="121" y="104"/>
                  </a:lnTo>
                  <a:lnTo>
                    <a:pt x="129" y="120"/>
                  </a:lnTo>
                  <a:lnTo>
                    <a:pt x="133" y="135"/>
                  </a:lnTo>
                  <a:lnTo>
                    <a:pt x="139" y="149"/>
                  </a:lnTo>
                  <a:lnTo>
                    <a:pt x="179" y="333"/>
                  </a:lnTo>
                  <a:lnTo>
                    <a:pt x="194" y="409"/>
                  </a:lnTo>
                  <a:lnTo>
                    <a:pt x="203" y="458"/>
                  </a:lnTo>
                  <a:lnTo>
                    <a:pt x="215" y="509"/>
                  </a:lnTo>
                  <a:lnTo>
                    <a:pt x="233" y="555"/>
                  </a:lnTo>
                  <a:lnTo>
                    <a:pt x="243" y="555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808120" y="5725440"/>
              <a:ext cx="128160" cy="1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66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868600" y="5716800"/>
              <a:ext cx="86040" cy="198000"/>
            </a:xfrm>
            <a:custGeom>
              <a:avLst/>
              <a:gdLst/>
              <a:ahLst/>
              <a:rect l="l" t="t" r="r" b="b"/>
              <a:pathLst>
                <a:path w="243" h="555">
                  <a:moveTo>
                    <a:pt x="3" y="0"/>
                  </a:moveTo>
                  <a:lnTo>
                    <a:pt x="243" y="0"/>
                  </a:lnTo>
                  <a:lnTo>
                    <a:pt x="216" y="7"/>
                  </a:lnTo>
                  <a:lnTo>
                    <a:pt x="201" y="14"/>
                  </a:lnTo>
                  <a:lnTo>
                    <a:pt x="189" y="21"/>
                  </a:lnTo>
                  <a:lnTo>
                    <a:pt x="175" y="31"/>
                  </a:lnTo>
                  <a:lnTo>
                    <a:pt x="163" y="42"/>
                  </a:lnTo>
                  <a:lnTo>
                    <a:pt x="153" y="53"/>
                  </a:lnTo>
                  <a:lnTo>
                    <a:pt x="142" y="64"/>
                  </a:lnTo>
                  <a:lnTo>
                    <a:pt x="136" y="74"/>
                  </a:lnTo>
                  <a:lnTo>
                    <a:pt x="129" y="89"/>
                  </a:lnTo>
                  <a:lnTo>
                    <a:pt x="122" y="103"/>
                  </a:lnTo>
                  <a:lnTo>
                    <a:pt x="115" y="120"/>
                  </a:lnTo>
                  <a:lnTo>
                    <a:pt x="110" y="134"/>
                  </a:lnTo>
                  <a:lnTo>
                    <a:pt x="104" y="149"/>
                  </a:lnTo>
                  <a:lnTo>
                    <a:pt x="64" y="333"/>
                  </a:lnTo>
                  <a:lnTo>
                    <a:pt x="50" y="408"/>
                  </a:lnTo>
                  <a:lnTo>
                    <a:pt x="40" y="458"/>
                  </a:lnTo>
                  <a:lnTo>
                    <a:pt x="28" y="508"/>
                  </a:lnTo>
                  <a:lnTo>
                    <a:pt x="10" y="555"/>
                  </a:lnTo>
                  <a:lnTo>
                    <a:pt x="0" y="55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505000" y="5490360"/>
              <a:ext cx="12492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483760" y="5481360"/>
              <a:ext cx="88200" cy="199440"/>
            </a:xfrm>
            <a:custGeom>
              <a:avLst/>
              <a:gdLst/>
              <a:ahLst/>
              <a:rect l="l" t="t" r="r" b="b"/>
              <a:pathLst>
                <a:path w="243" h="557">
                  <a:moveTo>
                    <a:pt x="240" y="0"/>
                  </a:moveTo>
                  <a:lnTo>
                    <a:pt x="0" y="0"/>
                  </a:lnTo>
                  <a:lnTo>
                    <a:pt x="28" y="7"/>
                  </a:lnTo>
                  <a:lnTo>
                    <a:pt x="42" y="15"/>
                  </a:lnTo>
                  <a:lnTo>
                    <a:pt x="54" y="22"/>
                  </a:lnTo>
                  <a:lnTo>
                    <a:pt x="69" y="31"/>
                  </a:lnTo>
                  <a:lnTo>
                    <a:pt x="81" y="42"/>
                  </a:lnTo>
                  <a:lnTo>
                    <a:pt x="90" y="53"/>
                  </a:lnTo>
                  <a:lnTo>
                    <a:pt x="101" y="65"/>
                  </a:lnTo>
                  <a:lnTo>
                    <a:pt x="107" y="76"/>
                  </a:lnTo>
                  <a:lnTo>
                    <a:pt x="114" y="90"/>
                  </a:lnTo>
                  <a:lnTo>
                    <a:pt x="121" y="105"/>
                  </a:lnTo>
                  <a:lnTo>
                    <a:pt x="129" y="122"/>
                  </a:lnTo>
                  <a:lnTo>
                    <a:pt x="133" y="136"/>
                  </a:lnTo>
                  <a:lnTo>
                    <a:pt x="139" y="150"/>
                  </a:lnTo>
                  <a:lnTo>
                    <a:pt x="179" y="333"/>
                  </a:lnTo>
                  <a:lnTo>
                    <a:pt x="194" y="409"/>
                  </a:lnTo>
                  <a:lnTo>
                    <a:pt x="203" y="459"/>
                  </a:lnTo>
                  <a:lnTo>
                    <a:pt x="215" y="510"/>
                  </a:lnTo>
                  <a:lnTo>
                    <a:pt x="233" y="557"/>
                  </a:lnTo>
                  <a:lnTo>
                    <a:pt x="243" y="557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808120" y="5492160"/>
              <a:ext cx="12816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868600" y="5483160"/>
              <a:ext cx="86040" cy="197640"/>
            </a:xfrm>
            <a:custGeom>
              <a:avLst/>
              <a:gdLst/>
              <a:ahLst/>
              <a:rect l="l" t="t" r="r" b="b"/>
              <a:pathLst>
                <a:path w="243" h="556">
                  <a:moveTo>
                    <a:pt x="3" y="0"/>
                  </a:moveTo>
                  <a:lnTo>
                    <a:pt x="243" y="0"/>
                  </a:lnTo>
                  <a:lnTo>
                    <a:pt x="216" y="7"/>
                  </a:lnTo>
                  <a:lnTo>
                    <a:pt x="201" y="14"/>
                  </a:lnTo>
                  <a:lnTo>
                    <a:pt x="189" y="21"/>
                  </a:lnTo>
                  <a:lnTo>
                    <a:pt x="175" y="31"/>
                  </a:lnTo>
                  <a:lnTo>
                    <a:pt x="163" y="42"/>
                  </a:lnTo>
                  <a:lnTo>
                    <a:pt x="153" y="53"/>
                  </a:lnTo>
                  <a:lnTo>
                    <a:pt x="142" y="65"/>
                  </a:lnTo>
                  <a:lnTo>
                    <a:pt x="136" y="76"/>
                  </a:lnTo>
                  <a:lnTo>
                    <a:pt x="129" y="90"/>
                  </a:lnTo>
                  <a:lnTo>
                    <a:pt x="122" y="104"/>
                  </a:lnTo>
                  <a:lnTo>
                    <a:pt x="115" y="121"/>
                  </a:lnTo>
                  <a:lnTo>
                    <a:pt x="110" y="136"/>
                  </a:lnTo>
                  <a:lnTo>
                    <a:pt x="104" y="150"/>
                  </a:lnTo>
                  <a:lnTo>
                    <a:pt x="64" y="333"/>
                  </a:lnTo>
                  <a:lnTo>
                    <a:pt x="50" y="408"/>
                  </a:lnTo>
                  <a:lnTo>
                    <a:pt x="40" y="459"/>
                  </a:lnTo>
                  <a:lnTo>
                    <a:pt x="28" y="509"/>
                  </a:lnTo>
                  <a:lnTo>
                    <a:pt x="10" y="556"/>
                  </a:lnTo>
                  <a:lnTo>
                    <a:pt x="0" y="55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628840" y="5092560"/>
              <a:ext cx="180360" cy="135720"/>
            </a:xfrm>
            <a:custGeom>
              <a:avLst/>
              <a:gdLst/>
              <a:ahLst/>
              <a:rect l="l" t="t" r="r" b="b"/>
              <a:pathLst>
                <a:path w="500" h="377">
                  <a:moveTo>
                    <a:pt x="160" y="375"/>
                  </a:moveTo>
                  <a:lnTo>
                    <a:pt x="160" y="292"/>
                  </a:lnTo>
                  <a:lnTo>
                    <a:pt x="61" y="292"/>
                  </a:lnTo>
                  <a:lnTo>
                    <a:pt x="50" y="289"/>
                  </a:lnTo>
                  <a:lnTo>
                    <a:pt x="41" y="286"/>
                  </a:lnTo>
                  <a:lnTo>
                    <a:pt x="31" y="280"/>
                  </a:lnTo>
                  <a:lnTo>
                    <a:pt x="21" y="273"/>
                  </a:lnTo>
                  <a:lnTo>
                    <a:pt x="13" y="265"/>
                  </a:lnTo>
                  <a:lnTo>
                    <a:pt x="7" y="255"/>
                  </a:lnTo>
                  <a:lnTo>
                    <a:pt x="3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3" y="204"/>
                  </a:lnTo>
                  <a:lnTo>
                    <a:pt x="10" y="191"/>
                  </a:lnTo>
                  <a:lnTo>
                    <a:pt x="19" y="181"/>
                  </a:lnTo>
                  <a:lnTo>
                    <a:pt x="29" y="171"/>
                  </a:lnTo>
                  <a:lnTo>
                    <a:pt x="41" y="163"/>
                  </a:lnTo>
                  <a:lnTo>
                    <a:pt x="49" y="157"/>
                  </a:lnTo>
                  <a:lnTo>
                    <a:pt x="60" y="153"/>
                  </a:lnTo>
                  <a:lnTo>
                    <a:pt x="162" y="153"/>
                  </a:lnTo>
                  <a:lnTo>
                    <a:pt x="162" y="80"/>
                  </a:lnTo>
                  <a:lnTo>
                    <a:pt x="166" y="70"/>
                  </a:lnTo>
                  <a:lnTo>
                    <a:pt x="172" y="58"/>
                  </a:lnTo>
                  <a:lnTo>
                    <a:pt x="178" y="47"/>
                  </a:lnTo>
                  <a:lnTo>
                    <a:pt x="187" y="35"/>
                  </a:lnTo>
                  <a:lnTo>
                    <a:pt x="198" y="24"/>
                  </a:lnTo>
                  <a:lnTo>
                    <a:pt x="209" y="16"/>
                  </a:lnTo>
                  <a:lnTo>
                    <a:pt x="218" y="10"/>
                  </a:lnTo>
                  <a:lnTo>
                    <a:pt x="232" y="4"/>
                  </a:lnTo>
                  <a:lnTo>
                    <a:pt x="246" y="0"/>
                  </a:lnTo>
                  <a:lnTo>
                    <a:pt x="261" y="0"/>
                  </a:lnTo>
                  <a:lnTo>
                    <a:pt x="276" y="3"/>
                  </a:lnTo>
                  <a:lnTo>
                    <a:pt x="289" y="9"/>
                  </a:lnTo>
                  <a:lnTo>
                    <a:pt x="300" y="15"/>
                  </a:lnTo>
                  <a:lnTo>
                    <a:pt x="312" y="24"/>
                  </a:lnTo>
                  <a:lnTo>
                    <a:pt x="325" y="36"/>
                  </a:lnTo>
                  <a:lnTo>
                    <a:pt x="335" y="47"/>
                  </a:lnTo>
                  <a:lnTo>
                    <a:pt x="340" y="58"/>
                  </a:lnTo>
                  <a:lnTo>
                    <a:pt x="345" y="70"/>
                  </a:lnTo>
                  <a:lnTo>
                    <a:pt x="347" y="85"/>
                  </a:lnTo>
                  <a:lnTo>
                    <a:pt x="347" y="152"/>
                  </a:lnTo>
                  <a:lnTo>
                    <a:pt x="443" y="152"/>
                  </a:lnTo>
                  <a:lnTo>
                    <a:pt x="454" y="157"/>
                  </a:lnTo>
                  <a:lnTo>
                    <a:pt x="464" y="163"/>
                  </a:lnTo>
                  <a:lnTo>
                    <a:pt x="473" y="170"/>
                  </a:lnTo>
                  <a:lnTo>
                    <a:pt x="483" y="179"/>
                  </a:lnTo>
                  <a:lnTo>
                    <a:pt x="490" y="189"/>
                  </a:lnTo>
                  <a:lnTo>
                    <a:pt x="496" y="200"/>
                  </a:lnTo>
                  <a:lnTo>
                    <a:pt x="498" y="212"/>
                  </a:lnTo>
                  <a:lnTo>
                    <a:pt x="500" y="223"/>
                  </a:lnTo>
                  <a:lnTo>
                    <a:pt x="500" y="236"/>
                  </a:lnTo>
                  <a:lnTo>
                    <a:pt x="496" y="247"/>
                  </a:lnTo>
                  <a:lnTo>
                    <a:pt x="490" y="259"/>
                  </a:lnTo>
                  <a:lnTo>
                    <a:pt x="483" y="268"/>
                  </a:lnTo>
                  <a:lnTo>
                    <a:pt x="474" y="278"/>
                  </a:lnTo>
                  <a:lnTo>
                    <a:pt x="464" y="284"/>
                  </a:lnTo>
                  <a:lnTo>
                    <a:pt x="442" y="292"/>
                  </a:lnTo>
                  <a:lnTo>
                    <a:pt x="347" y="292"/>
                  </a:lnTo>
                  <a:lnTo>
                    <a:pt x="347" y="377"/>
                  </a:lnTo>
                  <a:lnTo>
                    <a:pt x="160" y="375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695800" y="5149440"/>
              <a:ext cx="49680" cy="50400"/>
            </a:xfrm>
            <a:prstGeom prst="ellipse">
              <a:avLst/>
            </a:prstGeom>
            <a:solidFill>
              <a:srgbClr val="ffa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565840" y="5217480"/>
              <a:ext cx="308160" cy="727200"/>
            </a:xfrm>
            <a:prstGeom prst="rect">
              <a:avLst/>
            </a:prstGeom>
            <a:solidFill>
              <a:srgbClr val="ff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613000" y="5237280"/>
              <a:ext cx="213840" cy="190800"/>
            </a:xfrm>
            <a:custGeom>
              <a:avLst/>
              <a:gdLst/>
              <a:ahLst/>
              <a:rect l="l" t="t" r="r" b="b"/>
              <a:pathLst>
                <a:path w="595" h="538">
                  <a:moveTo>
                    <a:pt x="0" y="185"/>
                  </a:moveTo>
                  <a:lnTo>
                    <a:pt x="1" y="168"/>
                  </a:lnTo>
                  <a:lnTo>
                    <a:pt x="6" y="150"/>
                  </a:lnTo>
                  <a:lnTo>
                    <a:pt x="13" y="134"/>
                  </a:lnTo>
                  <a:lnTo>
                    <a:pt x="23" y="119"/>
                  </a:lnTo>
                  <a:lnTo>
                    <a:pt x="31" y="107"/>
                  </a:lnTo>
                  <a:lnTo>
                    <a:pt x="41" y="95"/>
                  </a:lnTo>
                  <a:lnTo>
                    <a:pt x="53" y="81"/>
                  </a:lnTo>
                  <a:lnTo>
                    <a:pt x="68" y="68"/>
                  </a:lnTo>
                  <a:lnTo>
                    <a:pt x="88" y="56"/>
                  </a:lnTo>
                  <a:lnTo>
                    <a:pt x="112" y="43"/>
                  </a:lnTo>
                  <a:lnTo>
                    <a:pt x="134" y="32"/>
                  </a:lnTo>
                  <a:lnTo>
                    <a:pt x="162" y="22"/>
                  </a:lnTo>
                  <a:lnTo>
                    <a:pt x="187" y="14"/>
                  </a:lnTo>
                  <a:lnTo>
                    <a:pt x="217" y="8"/>
                  </a:lnTo>
                  <a:lnTo>
                    <a:pt x="244" y="3"/>
                  </a:lnTo>
                  <a:lnTo>
                    <a:pt x="265" y="2"/>
                  </a:lnTo>
                  <a:lnTo>
                    <a:pt x="291" y="0"/>
                  </a:lnTo>
                  <a:lnTo>
                    <a:pt x="317" y="0"/>
                  </a:lnTo>
                  <a:lnTo>
                    <a:pt x="338" y="2"/>
                  </a:lnTo>
                  <a:lnTo>
                    <a:pt x="359" y="4"/>
                  </a:lnTo>
                  <a:lnTo>
                    <a:pt x="383" y="9"/>
                  </a:lnTo>
                  <a:lnTo>
                    <a:pt x="405" y="14"/>
                  </a:lnTo>
                  <a:lnTo>
                    <a:pt x="428" y="21"/>
                  </a:lnTo>
                  <a:lnTo>
                    <a:pt x="448" y="28"/>
                  </a:lnTo>
                  <a:lnTo>
                    <a:pt x="470" y="38"/>
                  </a:lnTo>
                  <a:lnTo>
                    <a:pt x="485" y="45"/>
                  </a:lnTo>
                  <a:lnTo>
                    <a:pt x="499" y="54"/>
                  </a:lnTo>
                  <a:lnTo>
                    <a:pt x="512" y="62"/>
                  </a:lnTo>
                  <a:lnTo>
                    <a:pt x="526" y="72"/>
                  </a:lnTo>
                  <a:lnTo>
                    <a:pt x="539" y="83"/>
                  </a:lnTo>
                  <a:lnTo>
                    <a:pt x="553" y="97"/>
                  </a:lnTo>
                  <a:lnTo>
                    <a:pt x="564" y="110"/>
                  </a:lnTo>
                  <a:lnTo>
                    <a:pt x="572" y="122"/>
                  </a:lnTo>
                  <a:lnTo>
                    <a:pt x="579" y="133"/>
                  </a:lnTo>
                  <a:lnTo>
                    <a:pt x="585" y="145"/>
                  </a:lnTo>
                  <a:lnTo>
                    <a:pt x="590" y="157"/>
                  </a:lnTo>
                  <a:lnTo>
                    <a:pt x="595" y="173"/>
                  </a:lnTo>
                  <a:lnTo>
                    <a:pt x="595" y="538"/>
                  </a:lnTo>
                  <a:lnTo>
                    <a:pt x="1" y="536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613000" y="5245920"/>
              <a:ext cx="213840" cy="192600"/>
            </a:xfrm>
            <a:custGeom>
              <a:avLst/>
              <a:gdLst/>
              <a:ahLst/>
              <a:rect l="l" t="t" r="r" b="b"/>
              <a:pathLst>
                <a:path w="595" h="539">
                  <a:moveTo>
                    <a:pt x="0" y="184"/>
                  </a:moveTo>
                  <a:lnTo>
                    <a:pt x="1" y="169"/>
                  </a:lnTo>
                  <a:lnTo>
                    <a:pt x="6" y="151"/>
                  </a:lnTo>
                  <a:lnTo>
                    <a:pt x="13" y="135"/>
                  </a:lnTo>
                  <a:lnTo>
                    <a:pt x="23" y="119"/>
                  </a:lnTo>
                  <a:lnTo>
                    <a:pt x="31" y="107"/>
                  </a:lnTo>
                  <a:lnTo>
                    <a:pt x="41" y="95"/>
                  </a:lnTo>
                  <a:lnTo>
                    <a:pt x="53" y="82"/>
                  </a:lnTo>
                  <a:lnTo>
                    <a:pt x="68" y="69"/>
                  </a:lnTo>
                  <a:lnTo>
                    <a:pt x="88" y="57"/>
                  </a:lnTo>
                  <a:lnTo>
                    <a:pt x="112" y="44"/>
                  </a:lnTo>
                  <a:lnTo>
                    <a:pt x="134" y="33"/>
                  </a:lnTo>
                  <a:lnTo>
                    <a:pt x="162" y="23"/>
                  </a:lnTo>
                  <a:lnTo>
                    <a:pt x="187" y="15"/>
                  </a:lnTo>
                  <a:lnTo>
                    <a:pt x="217" y="9"/>
                  </a:lnTo>
                  <a:lnTo>
                    <a:pt x="244" y="4"/>
                  </a:lnTo>
                  <a:lnTo>
                    <a:pt x="265" y="3"/>
                  </a:lnTo>
                  <a:lnTo>
                    <a:pt x="291" y="0"/>
                  </a:lnTo>
                  <a:lnTo>
                    <a:pt x="317" y="0"/>
                  </a:lnTo>
                  <a:lnTo>
                    <a:pt x="338" y="3"/>
                  </a:lnTo>
                  <a:lnTo>
                    <a:pt x="359" y="5"/>
                  </a:lnTo>
                  <a:lnTo>
                    <a:pt x="383" y="10"/>
                  </a:lnTo>
                  <a:lnTo>
                    <a:pt x="405" y="15"/>
                  </a:lnTo>
                  <a:lnTo>
                    <a:pt x="428" y="22"/>
                  </a:lnTo>
                  <a:lnTo>
                    <a:pt x="448" y="29"/>
                  </a:lnTo>
                  <a:lnTo>
                    <a:pt x="470" y="39"/>
                  </a:lnTo>
                  <a:lnTo>
                    <a:pt x="485" y="46"/>
                  </a:lnTo>
                  <a:lnTo>
                    <a:pt x="499" y="55"/>
                  </a:lnTo>
                  <a:lnTo>
                    <a:pt x="512" y="63"/>
                  </a:lnTo>
                  <a:lnTo>
                    <a:pt x="526" y="73"/>
                  </a:lnTo>
                  <a:lnTo>
                    <a:pt x="539" y="83"/>
                  </a:lnTo>
                  <a:lnTo>
                    <a:pt x="553" y="98"/>
                  </a:lnTo>
                  <a:lnTo>
                    <a:pt x="564" y="111"/>
                  </a:lnTo>
                  <a:lnTo>
                    <a:pt x="572" y="123"/>
                  </a:lnTo>
                  <a:lnTo>
                    <a:pt x="579" y="134"/>
                  </a:lnTo>
                  <a:lnTo>
                    <a:pt x="585" y="146"/>
                  </a:lnTo>
                  <a:lnTo>
                    <a:pt x="590" y="158"/>
                  </a:lnTo>
                  <a:lnTo>
                    <a:pt x="595" y="172"/>
                  </a:lnTo>
                  <a:lnTo>
                    <a:pt x="595" y="539"/>
                  </a:lnTo>
                  <a:lnTo>
                    <a:pt x="1" y="536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627760" y="5254920"/>
              <a:ext cx="181440" cy="180000"/>
            </a:xfrm>
            <a:prstGeom prst="ellipse">
              <a:avLst/>
            </a:prstGeom>
            <a:solidFill>
              <a:srgbClr val="ff4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6" name=""/>
            <p:cNvGrpSpPr/>
            <p:nvPr/>
          </p:nvGrpSpPr>
          <p:grpSpPr>
            <a:xfrm>
              <a:off x="8730000" y="5272920"/>
              <a:ext cx="31680" cy="27720"/>
              <a:chOff x="8730000" y="5272920"/>
              <a:chExt cx="31680" cy="27720"/>
            </a:xfrm>
          </p:grpSpPr>
          <p:sp>
            <p:nvSpPr>
              <p:cNvPr id="3137" name=""/>
              <p:cNvSpPr/>
              <p:nvPr/>
            </p:nvSpPr>
            <p:spPr>
              <a:xfrm>
                <a:off x="8730000" y="5272920"/>
                <a:ext cx="19440" cy="19080"/>
              </a:xfrm>
              <a:prstGeom prst="ellipse">
                <a:avLst/>
              </a:pr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8746200" y="5285160"/>
                <a:ext cx="15480" cy="15480"/>
              </a:xfrm>
              <a:prstGeom prst="ellipse">
                <a:avLst/>
              </a:pr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9" name=""/>
            <p:cNvSpPr/>
            <p:nvPr/>
          </p:nvSpPr>
          <p:spPr>
            <a:xfrm>
              <a:off x="8606160" y="5479560"/>
              <a:ext cx="214200" cy="190800"/>
            </a:xfrm>
            <a:custGeom>
              <a:avLst/>
              <a:gdLst/>
              <a:ahLst/>
              <a:rect l="l" t="t" r="r" b="b"/>
              <a:pathLst>
                <a:path w="595" h="538">
                  <a:moveTo>
                    <a:pt x="0" y="185"/>
                  </a:moveTo>
                  <a:lnTo>
                    <a:pt x="1" y="168"/>
                  </a:lnTo>
                  <a:lnTo>
                    <a:pt x="6" y="150"/>
                  </a:lnTo>
                  <a:lnTo>
                    <a:pt x="13" y="135"/>
                  </a:lnTo>
                  <a:lnTo>
                    <a:pt x="23" y="119"/>
                  </a:lnTo>
                  <a:lnTo>
                    <a:pt x="31" y="107"/>
                  </a:lnTo>
                  <a:lnTo>
                    <a:pt x="41" y="95"/>
                  </a:lnTo>
                  <a:lnTo>
                    <a:pt x="53" y="82"/>
                  </a:lnTo>
                  <a:lnTo>
                    <a:pt x="69" y="69"/>
                  </a:lnTo>
                  <a:lnTo>
                    <a:pt x="88" y="57"/>
                  </a:lnTo>
                  <a:lnTo>
                    <a:pt x="112" y="43"/>
                  </a:lnTo>
                  <a:lnTo>
                    <a:pt x="135" y="32"/>
                  </a:lnTo>
                  <a:lnTo>
                    <a:pt x="162" y="23"/>
                  </a:lnTo>
                  <a:lnTo>
                    <a:pt x="189" y="14"/>
                  </a:lnTo>
                  <a:lnTo>
                    <a:pt x="218" y="8"/>
                  </a:lnTo>
                  <a:lnTo>
                    <a:pt x="244" y="4"/>
                  </a:lnTo>
                  <a:lnTo>
                    <a:pt x="266" y="2"/>
                  </a:lnTo>
                  <a:lnTo>
                    <a:pt x="291" y="0"/>
                  </a:lnTo>
                  <a:lnTo>
                    <a:pt x="317" y="0"/>
                  </a:lnTo>
                  <a:lnTo>
                    <a:pt x="338" y="2"/>
                  </a:lnTo>
                  <a:lnTo>
                    <a:pt x="360" y="5"/>
                  </a:lnTo>
                  <a:lnTo>
                    <a:pt x="384" y="10"/>
                  </a:lnTo>
                  <a:lnTo>
                    <a:pt x="405" y="14"/>
                  </a:lnTo>
                  <a:lnTo>
                    <a:pt x="428" y="22"/>
                  </a:lnTo>
                  <a:lnTo>
                    <a:pt x="449" y="29"/>
                  </a:lnTo>
                  <a:lnTo>
                    <a:pt x="470" y="38"/>
                  </a:lnTo>
                  <a:lnTo>
                    <a:pt x="486" y="46"/>
                  </a:lnTo>
                  <a:lnTo>
                    <a:pt x="499" y="54"/>
                  </a:lnTo>
                  <a:lnTo>
                    <a:pt x="512" y="63"/>
                  </a:lnTo>
                  <a:lnTo>
                    <a:pt x="527" y="72"/>
                  </a:lnTo>
                  <a:lnTo>
                    <a:pt x="540" y="83"/>
                  </a:lnTo>
                  <a:lnTo>
                    <a:pt x="553" y="97"/>
                  </a:lnTo>
                  <a:lnTo>
                    <a:pt x="564" y="111"/>
                  </a:lnTo>
                  <a:lnTo>
                    <a:pt x="572" y="123"/>
                  </a:lnTo>
                  <a:lnTo>
                    <a:pt x="580" y="133"/>
                  </a:lnTo>
                  <a:lnTo>
                    <a:pt x="586" y="145"/>
                  </a:lnTo>
                  <a:lnTo>
                    <a:pt x="590" y="157"/>
                  </a:lnTo>
                  <a:lnTo>
                    <a:pt x="595" y="173"/>
                  </a:lnTo>
                  <a:lnTo>
                    <a:pt x="595" y="538"/>
                  </a:lnTo>
                  <a:lnTo>
                    <a:pt x="1" y="536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607240" y="5486760"/>
              <a:ext cx="213840" cy="192600"/>
            </a:xfrm>
            <a:custGeom>
              <a:avLst/>
              <a:gdLst/>
              <a:ahLst/>
              <a:rect l="l" t="t" r="r" b="b"/>
              <a:pathLst>
                <a:path w="595" h="538">
                  <a:moveTo>
                    <a:pt x="0" y="185"/>
                  </a:moveTo>
                  <a:lnTo>
                    <a:pt x="2" y="168"/>
                  </a:lnTo>
                  <a:lnTo>
                    <a:pt x="6" y="150"/>
                  </a:lnTo>
                  <a:lnTo>
                    <a:pt x="14" y="134"/>
                  </a:lnTo>
                  <a:lnTo>
                    <a:pt x="23" y="119"/>
                  </a:lnTo>
                  <a:lnTo>
                    <a:pt x="32" y="107"/>
                  </a:lnTo>
                  <a:lnTo>
                    <a:pt x="41" y="95"/>
                  </a:lnTo>
                  <a:lnTo>
                    <a:pt x="53" y="82"/>
                  </a:lnTo>
                  <a:lnTo>
                    <a:pt x="69" y="68"/>
                  </a:lnTo>
                  <a:lnTo>
                    <a:pt x="88" y="56"/>
                  </a:lnTo>
                  <a:lnTo>
                    <a:pt x="112" y="43"/>
                  </a:lnTo>
                  <a:lnTo>
                    <a:pt x="135" y="32"/>
                  </a:lnTo>
                  <a:lnTo>
                    <a:pt x="163" y="23"/>
                  </a:lnTo>
                  <a:lnTo>
                    <a:pt x="189" y="14"/>
                  </a:lnTo>
                  <a:lnTo>
                    <a:pt x="218" y="8"/>
                  </a:lnTo>
                  <a:lnTo>
                    <a:pt x="244" y="3"/>
                  </a:lnTo>
                  <a:lnTo>
                    <a:pt x="266" y="2"/>
                  </a:lnTo>
                  <a:lnTo>
                    <a:pt x="291" y="0"/>
                  </a:lnTo>
                  <a:lnTo>
                    <a:pt x="318" y="0"/>
                  </a:lnTo>
                  <a:lnTo>
                    <a:pt x="338" y="2"/>
                  </a:lnTo>
                  <a:lnTo>
                    <a:pt x="360" y="5"/>
                  </a:lnTo>
                  <a:lnTo>
                    <a:pt x="384" y="9"/>
                  </a:lnTo>
                  <a:lnTo>
                    <a:pt x="405" y="14"/>
                  </a:lnTo>
                  <a:lnTo>
                    <a:pt x="428" y="21"/>
                  </a:lnTo>
                  <a:lnTo>
                    <a:pt x="449" y="29"/>
                  </a:lnTo>
                  <a:lnTo>
                    <a:pt x="470" y="38"/>
                  </a:lnTo>
                  <a:lnTo>
                    <a:pt x="486" y="46"/>
                  </a:lnTo>
                  <a:lnTo>
                    <a:pt x="499" y="54"/>
                  </a:lnTo>
                  <a:lnTo>
                    <a:pt x="512" y="62"/>
                  </a:lnTo>
                  <a:lnTo>
                    <a:pt x="527" y="72"/>
                  </a:lnTo>
                  <a:lnTo>
                    <a:pt x="540" y="83"/>
                  </a:lnTo>
                  <a:lnTo>
                    <a:pt x="553" y="97"/>
                  </a:lnTo>
                  <a:lnTo>
                    <a:pt x="564" y="110"/>
                  </a:lnTo>
                  <a:lnTo>
                    <a:pt x="573" y="122"/>
                  </a:lnTo>
                  <a:lnTo>
                    <a:pt x="580" y="133"/>
                  </a:lnTo>
                  <a:lnTo>
                    <a:pt x="586" y="145"/>
                  </a:lnTo>
                  <a:lnTo>
                    <a:pt x="591" y="157"/>
                  </a:lnTo>
                  <a:lnTo>
                    <a:pt x="595" y="173"/>
                  </a:lnTo>
                  <a:lnTo>
                    <a:pt x="595" y="538"/>
                  </a:lnTo>
                  <a:lnTo>
                    <a:pt x="2" y="536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622000" y="5495400"/>
              <a:ext cx="181440" cy="18180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2" name=""/>
            <p:cNvGrpSpPr/>
            <p:nvPr/>
          </p:nvGrpSpPr>
          <p:grpSpPr>
            <a:xfrm>
              <a:off x="8723880" y="5513400"/>
              <a:ext cx="32040" cy="27720"/>
              <a:chOff x="8723880" y="5513400"/>
              <a:chExt cx="32040" cy="27720"/>
            </a:xfrm>
          </p:grpSpPr>
          <p:sp>
            <p:nvSpPr>
              <p:cNvPr id="3143" name=""/>
              <p:cNvSpPr/>
              <p:nvPr/>
            </p:nvSpPr>
            <p:spPr>
              <a:xfrm>
                <a:off x="8723880" y="5513400"/>
                <a:ext cx="21600" cy="20880"/>
              </a:xfrm>
              <a:prstGeom prst="ellipse">
                <a:avLst/>
              </a:pr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8739720" y="5525640"/>
                <a:ext cx="16200" cy="15480"/>
              </a:xfrm>
              <a:prstGeom prst="ellipse">
                <a:avLst/>
              </a:pr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5" name=""/>
            <p:cNvSpPr/>
            <p:nvPr/>
          </p:nvSpPr>
          <p:spPr>
            <a:xfrm>
              <a:off x="8611200" y="5709600"/>
              <a:ext cx="214200" cy="190800"/>
            </a:xfrm>
            <a:custGeom>
              <a:avLst/>
              <a:gdLst/>
              <a:ahLst/>
              <a:rect l="l" t="t" r="r" b="b"/>
              <a:pathLst>
                <a:path w="595" h="537">
                  <a:moveTo>
                    <a:pt x="0" y="184"/>
                  </a:moveTo>
                  <a:lnTo>
                    <a:pt x="1" y="167"/>
                  </a:lnTo>
                  <a:lnTo>
                    <a:pt x="6" y="149"/>
                  </a:lnTo>
                  <a:lnTo>
                    <a:pt x="13" y="134"/>
                  </a:lnTo>
                  <a:lnTo>
                    <a:pt x="22" y="118"/>
                  </a:lnTo>
                  <a:lnTo>
                    <a:pt x="31" y="106"/>
                  </a:lnTo>
                  <a:lnTo>
                    <a:pt x="40" y="94"/>
                  </a:lnTo>
                  <a:lnTo>
                    <a:pt x="52" y="81"/>
                  </a:lnTo>
                  <a:lnTo>
                    <a:pt x="68" y="69"/>
                  </a:lnTo>
                  <a:lnTo>
                    <a:pt x="87" y="57"/>
                  </a:lnTo>
                  <a:lnTo>
                    <a:pt x="111" y="43"/>
                  </a:lnTo>
                  <a:lnTo>
                    <a:pt x="134" y="33"/>
                  </a:lnTo>
                  <a:lnTo>
                    <a:pt x="162" y="23"/>
                  </a:lnTo>
                  <a:lnTo>
                    <a:pt x="188" y="15"/>
                  </a:lnTo>
                  <a:lnTo>
                    <a:pt x="217" y="9"/>
                  </a:lnTo>
                  <a:lnTo>
                    <a:pt x="244" y="4"/>
                  </a:lnTo>
                  <a:lnTo>
                    <a:pt x="265" y="3"/>
                  </a:lnTo>
                  <a:lnTo>
                    <a:pt x="290" y="0"/>
                  </a:lnTo>
                  <a:lnTo>
                    <a:pt x="317" y="0"/>
                  </a:lnTo>
                  <a:lnTo>
                    <a:pt x="337" y="3"/>
                  </a:lnTo>
                  <a:lnTo>
                    <a:pt x="359" y="5"/>
                  </a:lnTo>
                  <a:lnTo>
                    <a:pt x="383" y="10"/>
                  </a:lnTo>
                  <a:lnTo>
                    <a:pt x="405" y="15"/>
                  </a:lnTo>
                  <a:lnTo>
                    <a:pt x="427" y="22"/>
                  </a:lnTo>
                  <a:lnTo>
                    <a:pt x="448" y="29"/>
                  </a:lnTo>
                  <a:lnTo>
                    <a:pt x="470" y="39"/>
                  </a:lnTo>
                  <a:lnTo>
                    <a:pt x="485" y="46"/>
                  </a:lnTo>
                  <a:lnTo>
                    <a:pt x="498" y="54"/>
                  </a:lnTo>
                  <a:lnTo>
                    <a:pt x="512" y="63"/>
                  </a:lnTo>
                  <a:lnTo>
                    <a:pt x="526" y="72"/>
                  </a:lnTo>
                  <a:lnTo>
                    <a:pt x="539" y="82"/>
                  </a:lnTo>
                  <a:lnTo>
                    <a:pt x="553" y="96"/>
                  </a:lnTo>
                  <a:lnTo>
                    <a:pt x="563" y="110"/>
                  </a:lnTo>
                  <a:lnTo>
                    <a:pt x="572" y="122"/>
                  </a:lnTo>
                  <a:lnTo>
                    <a:pt x="579" y="132"/>
                  </a:lnTo>
                  <a:lnTo>
                    <a:pt x="585" y="144"/>
                  </a:lnTo>
                  <a:lnTo>
                    <a:pt x="590" y="156"/>
                  </a:lnTo>
                  <a:lnTo>
                    <a:pt x="595" y="172"/>
                  </a:lnTo>
                  <a:lnTo>
                    <a:pt x="595" y="537"/>
                  </a:lnTo>
                  <a:lnTo>
                    <a:pt x="1" y="535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613000" y="5715000"/>
              <a:ext cx="213840" cy="192240"/>
            </a:xfrm>
            <a:custGeom>
              <a:avLst/>
              <a:gdLst/>
              <a:ahLst/>
              <a:rect l="l" t="t" r="r" b="b"/>
              <a:pathLst>
                <a:path w="595" h="538">
                  <a:moveTo>
                    <a:pt x="0" y="184"/>
                  </a:moveTo>
                  <a:lnTo>
                    <a:pt x="1" y="167"/>
                  </a:lnTo>
                  <a:lnTo>
                    <a:pt x="6" y="149"/>
                  </a:lnTo>
                  <a:lnTo>
                    <a:pt x="13" y="134"/>
                  </a:lnTo>
                  <a:lnTo>
                    <a:pt x="23" y="118"/>
                  </a:lnTo>
                  <a:lnTo>
                    <a:pt x="31" y="106"/>
                  </a:lnTo>
                  <a:lnTo>
                    <a:pt x="41" y="94"/>
                  </a:lnTo>
                  <a:lnTo>
                    <a:pt x="53" y="81"/>
                  </a:lnTo>
                  <a:lnTo>
                    <a:pt x="68" y="68"/>
                  </a:lnTo>
                  <a:lnTo>
                    <a:pt x="88" y="56"/>
                  </a:lnTo>
                  <a:lnTo>
                    <a:pt x="112" y="44"/>
                  </a:lnTo>
                  <a:lnTo>
                    <a:pt x="134" y="33"/>
                  </a:lnTo>
                  <a:lnTo>
                    <a:pt x="162" y="23"/>
                  </a:lnTo>
                  <a:lnTo>
                    <a:pt x="187" y="15"/>
                  </a:lnTo>
                  <a:lnTo>
                    <a:pt x="217" y="9"/>
                  </a:lnTo>
                  <a:lnTo>
                    <a:pt x="244" y="4"/>
                  </a:lnTo>
                  <a:lnTo>
                    <a:pt x="265" y="3"/>
                  </a:lnTo>
                  <a:lnTo>
                    <a:pt x="291" y="0"/>
                  </a:lnTo>
                  <a:lnTo>
                    <a:pt x="317" y="0"/>
                  </a:lnTo>
                  <a:lnTo>
                    <a:pt x="338" y="3"/>
                  </a:lnTo>
                  <a:lnTo>
                    <a:pt x="359" y="5"/>
                  </a:lnTo>
                  <a:lnTo>
                    <a:pt x="383" y="10"/>
                  </a:lnTo>
                  <a:lnTo>
                    <a:pt x="405" y="15"/>
                  </a:lnTo>
                  <a:lnTo>
                    <a:pt x="428" y="22"/>
                  </a:lnTo>
                  <a:lnTo>
                    <a:pt x="448" y="29"/>
                  </a:lnTo>
                  <a:lnTo>
                    <a:pt x="470" y="39"/>
                  </a:lnTo>
                  <a:lnTo>
                    <a:pt x="485" y="46"/>
                  </a:lnTo>
                  <a:lnTo>
                    <a:pt x="499" y="55"/>
                  </a:lnTo>
                  <a:lnTo>
                    <a:pt x="512" y="62"/>
                  </a:lnTo>
                  <a:lnTo>
                    <a:pt x="526" y="71"/>
                  </a:lnTo>
                  <a:lnTo>
                    <a:pt x="539" y="82"/>
                  </a:lnTo>
                  <a:lnTo>
                    <a:pt x="553" y="97"/>
                  </a:lnTo>
                  <a:lnTo>
                    <a:pt x="564" y="110"/>
                  </a:lnTo>
                  <a:lnTo>
                    <a:pt x="572" y="122"/>
                  </a:lnTo>
                  <a:lnTo>
                    <a:pt x="579" y="133"/>
                  </a:lnTo>
                  <a:lnTo>
                    <a:pt x="585" y="145"/>
                  </a:lnTo>
                  <a:lnTo>
                    <a:pt x="590" y="157"/>
                  </a:lnTo>
                  <a:lnTo>
                    <a:pt x="595" y="172"/>
                  </a:lnTo>
                  <a:lnTo>
                    <a:pt x="595" y="538"/>
                  </a:lnTo>
                  <a:lnTo>
                    <a:pt x="1" y="535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627760" y="5724000"/>
              <a:ext cx="181440" cy="180000"/>
            </a:xfrm>
            <a:prstGeom prst="ellipse">
              <a:avLst/>
            </a:prstGeom>
            <a:solidFill>
              <a:srgbClr val="66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8" name=""/>
            <p:cNvGrpSpPr/>
            <p:nvPr/>
          </p:nvGrpSpPr>
          <p:grpSpPr>
            <a:xfrm>
              <a:off x="8730000" y="5741640"/>
              <a:ext cx="31680" cy="27720"/>
              <a:chOff x="8730000" y="5741640"/>
              <a:chExt cx="31680" cy="27720"/>
            </a:xfrm>
          </p:grpSpPr>
          <p:sp>
            <p:nvSpPr>
              <p:cNvPr id="3149" name=""/>
              <p:cNvSpPr/>
              <p:nvPr/>
            </p:nvSpPr>
            <p:spPr>
              <a:xfrm>
                <a:off x="8730000" y="5741640"/>
                <a:ext cx="19440" cy="1908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8746200" y="5753880"/>
                <a:ext cx="15480" cy="1548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1" name=""/>
          <p:cNvGrpSpPr/>
          <p:nvPr/>
        </p:nvGrpSpPr>
        <p:grpSpPr>
          <a:xfrm>
            <a:off x="276120" y="1243080"/>
            <a:ext cx="3576600" cy="1274760"/>
            <a:chOff x="276120" y="1243080"/>
            <a:chExt cx="3576600" cy="1274760"/>
          </a:xfrm>
        </p:grpSpPr>
        <p:sp>
          <p:nvSpPr>
            <p:cNvPr id="3152" name=""/>
            <p:cNvSpPr/>
            <p:nvPr/>
          </p:nvSpPr>
          <p:spPr>
            <a:xfrm>
              <a:off x="276120" y="1243080"/>
              <a:ext cx="3576600" cy="1274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3" name="" descr=""/>
            <p:cNvPicPr/>
            <p:nvPr/>
          </p:nvPicPr>
          <p:blipFill>
            <a:blip r:embed="rId2"/>
            <a:stretch/>
          </p:blipFill>
          <p:spPr>
            <a:xfrm>
              <a:off x="276120" y="1243080"/>
              <a:ext cx="356796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4" name=""/>
          <p:cNvSpPr/>
          <p:nvPr/>
        </p:nvSpPr>
        <p:spPr>
          <a:xfrm>
            <a:off x="637920" y="961920"/>
            <a:ext cx="253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o de re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5" name=""/>
          <p:cNvGrpSpPr/>
          <p:nvPr/>
        </p:nvGrpSpPr>
        <p:grpSpPr>
          <a:xfrm>
            <a:off x="176040" y="3409920"/>
            <a:ext cx="1544400" cy="1673280"/>
            <a:chOff x="176040" y="3409920"/>
            <a:chExt cx="1544400" cy="1673280"/>
          </a:xfrm>
        </p:grpSpPr>
        <p:sp>
          <p:nvSpPr>
            <p:cNvPr id="3156" name=""/>
            <p:cNvSpPr/>
            <p:nvPr/>
          </p:nvSpPr>
          <p:spPr>
            <a:xfrm>
              <a:off x="176040" y="3409920"/>
              <a:ext cx="1544400" cy="1673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7" name=""/>
            <p:cNvGrpSpPr/>
            <p:nvPr/>
          </p:nvGrpSpPr>
          <p:grpSpPr>
            <a:xfrm>
              <a:off x="301320" y="3517920"/>
              <a:ext cx="519120" cy="600120"/>
              <a:chOff x="301320" y="3517920"/>
              <a:chExt cx="519120" cy="600120"/>
            </a:xfrm>
          </p:grpSpPr>
          <p:sp>
            <p:nvSpPr>
              <p:cNvPr id="3158" name=""/>
              <p:cNvSpPr/>
              <p:nvPr/>
            </p:nvSpPr>
            <p:spPr>
              <a:xfrm>
                <a:off x="301320" y="351792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58560" y="36172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58560" y="3666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58560" y="3716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58560" y="3766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358560" y="38163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358560" y="38660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358560" y="39157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358560" y="39657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358560" y="4015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8" name=""/>
            <p:cNvGrpSpPr/>
            <p:nvPr/>
          </p:nvGrpSpPr>
          <p:grpSpPr>
            <a:xfrm>
              <a:off x="507600" y="3776760"/>
              <a:ext cx="519120" cy="600120"/>
              <a:chOff x="507600" y="3776760"/>
              <a:chExt cx="519120" cy="600120"/>
            </a:xfrm>
          </p:grpSpPr>
          <p:sp>
            <p:nvSpPr>
              <p:cNvPr id="3169" name=""/>
              <p:cNvSpPr/>
              <p:nvPr/>
            </p:nvSpPr>
            <p:spPr>
              <a:xfrm>
                <a:off x="507600" y="377676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64840" y="38761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64840" y="3925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64840" y="39754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64840" y="40251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564840" y="40752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64840" y="41248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64840" y="4174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564840" y="42246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64840" y="4273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9" name=""/>
            <p:cNvGrpSpPr/>
            <p:nvPr/>
          </p:nvGrpSpPr>
          <p:grpSpPr>
            <a:xfrm>
              <a:off x="714240" y="4035600"/>
              <a:ext cx="519120" cy="600120"/>
              <a:chOff x="714240" y="4035600"/>
              <a:chExt cx="519120" cy="600120"/>
            </a:xfrm>
          </p:grpSpPr>
          <p:sp>
            <p:nvSpPr>
              <p:cNvPr id="3180" name=""/>
              <p:cNvSpPr/>
              <p:nvPr/>
            </p:nvSpPr>
            <p:spPr>
              <a:xfrm>
                <a:off x="714240" y="403560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71480" y="4134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71480" y="4184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71480" y="4234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71480" y="42840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71480" y="43340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71480" y="43837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71480" y="44334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71480" y="44834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71480" y="45327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0" name=""/>
            <p:cNvGrpSpPr/>
            <p:nvPr/>
          </p:nvGrpSpPr>
          <p:grpSpPr>
            <a:xfrm>
              <a:off x="920520" y="4294080"/>
              <a:ext cx="519120" cy="600120"/>
              <a:chOff x="920520" y="4294080"/>
              <a:chExt cx="519120" cy="600120"/>
            </a:xfrm>
          </p:grpSpPr>
          <p:sp>
            <p:nvSpPr>
              <p:cNvPr id="3191" name=""/>
              <p:cNvSpPr/>
              <p:nvPr/>
            </p:nvSpPr>
            <p:spPr>
              <a:xfrm>
                <a:off x="920520" y="429408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977760" y="43934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977760" y="44431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977760" y="4492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977760" y="45424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977760" y="4592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977760" y="46422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977760" y="46918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977760" y="4741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977760" y="4791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1" name=""/>
          <p:cNvSpPr/>
          <p:nvPr/>
        </p:nvSpPr>
        <p:spPr>
          <a:xfrm rot="5400000">
            <a:off x="1698480" y="409248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 rot="5400000">
            <a:off x="3852720" y="1677960"/>
            <a:ext cx="48600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213840" y="2085840"/>
            <a:ext cx="1187640" cy="137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474840" y="2122560"/>
            <a:ext cx="118728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H="1">
            <a:off x="723960" y="2098800"/>
            <a:ext cx="122400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960120" y="2085840"/>
            <a:ext cx="1176120" cy="15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 flipH="1">
            <a:off x="1152360" y="2098800"/>
            <a:ext cx="1222560" cy="157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 flipH="1">
            <a:off x="1400040" y="2098800"/>
            <a:ext cx="1224000" cy="161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250920" y="5048280"/>
            <a:ext cx="2012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álogo” de crité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alizar plano d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ovar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ocumentar as decisões tomadas e registr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içõ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s genéricas durante a realizaçã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3213" name=""/>
          <p:cNvGrpSpPr/>
          <p:nvPr/>
        </p:nvGrpSpPr>
        <p:grpSpPr>
          <a:xfrm>
            <a:off x="76320" y="909720"/>
            <a:ext cx="8991360" cy="5810040"/>
            <a:chOff x="76320" y="909720"/>
            <a:chExt cx="8991360" cy="5810040"/>
          </a:xfrm>
        </p:grpSpPr>
        <p:sp>
          <p:nvSpPr>
            <p:cNvPr id="3214" name=""/>
            <p:cNvSpPr/>
            <p:nvPr/>
          </p:nvSpPr>
          <p:spPr>
            <a:xfrm>
              <a:off x="1000080" y="644508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549520" y="6081480"/>
              <a:ext cx="609300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14200" y="602784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5350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524400" y="5789520"/>
              <a:ext cx="111096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5148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5056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1" name=""/>
            <p:cNvGrpSpPr/>
            <p:nvPr/>
          </p:nvGrpSpPr>
          <p:grpSpPr>
            <a:xfrm>
              <a:off x="76320" y="909720"/>
              <a:ext cx="8991360" cy="3205080"/>
              <a:chOff x="76320" y="909720"/>
              <a:chExt cx="8991360" cy="3205080"/>
            </a:xfrm>
          </p:grpSpPr>
          <p:grpSp>
            <p:nvGrpSpPr>
              <p:cNvPr id="3222" name=""/>
              <p:cNvGrpSpPr/>
              <p:nvPr/>
            </p:nvGrpSpPr>
            <p:grpSpPr>
              <a:xfrm>
                <a:off x="76320" y="1068480"/>
                <a:ext cx="8991360" cy="3046320"/>
                <a:chOff x="76320" y="1068480"/>
                <a:chExt cx="8991360" cy="3046320"/>
              </a:xfrm>
            </p:grpSpPr>
            <p:sp>
              <p:nvSpPr>
                <p:cNvPr id="3223" name=""/>
                <p:cNvSpPr/>
                <p:nvPr/>
              </p:nvSpPr>
              <p:spPr>
                <a:xfrm>
                  <a:off x="76320" y="1068480"/>
                  <a:ext cx="8991360" cy="30463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795240" y="2317680"/>
                  <a:ext cx="7291440" cy="133992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25" name=""/>
                <p:cNvGrpSpPr/>
                <p:nvPr/>
              </p:nvGrpSpPr>
              <p:grpSpPr>
                <a:xfrm>
                  <a:off x="2239920" y="1679400"/>
                  <a:ext cx="4146480" cy="298440"/>
                  <a:chOff x="2239920" y="1679400"/>
                  <a:chExt cx="4146480" cy="298440"/>
                </a:xfrm>
              </p:grpSpPr>
              <p:sp>
                <p:nvSpPr>
                  <p:cNvPr id="3226" name=""/>
                  <p:cNvSpPr/>
                  <p:nvPr/>
                </p:nvSpPr>
                <p:spPr>
                  <a:xfrm>
                    <a:off x="2239920" y="1679400"/>
                    <a:ext cx="4146480" cy="29844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>
                    <a:off x="3293280" y="169236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8" name=""/>
                <p:cNvGrpSpPr/>
                <p:nvPr/>
              </p:nvGrpSpPr>
              <p:grpSpPr>
                <a:xfrm>
                  <a:off x="962280" y="3490560"/>
                  <a:ext cx="6981480" cy="534600"/>
                  <a:chOff x="962280" y="3490560"/>
                  <a:chExt cx="6981480" cy="534600"/>
                </a:xfrm>
              </p:grpSpPr>
              <p:grpSp>
                <p:nvGrpSpPr>
                  <p:cNvPr id="3229" name=""/>
                  <p:cNvGrpSpPr/>
                  <p:nvPr/>
                </p:nvGrpSpPr>
                <p:grpSpPr>
                  <a:xfrm>
                    <a:off x="2259360" y="3504600"/>
                    <a:ext cx="5684400" cy="520560"/>
                    <a:chOff x="2259360" y="3504600"/>
                    <a:chExt cx="5684400" cy="520560"/>
                  </a:xfrm>
                </p:grpSpPr>
                <p:sp>
                  <p:nvSpPr>
                    <p:cNvPr id="3230" name=""/>
                    <p:cNvSpPr/>
                    <p:nvPr/>
                  </p:nvSpPr>
                  <p:spPr>
                    <a:xfrm>
                      <a:off x="4633560" y="3504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1" name=""/>
                    <p:cNvSpPr/>
                    <p:nvPr/>
                  </p:nvSpPr>
                  <p:spPr>
                    <a:xfrm>
                      <a:off x="3557160" y="3504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2" name=""/>
                    <p:cNvSpPr/>
                    <p:nvPr/>
                  </p:nvSpPr>
                  <p:spPr>
                    <a:xfrm>
                      <a:off x="2259360" y="3504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3" name=""/>
                    <p:cNvSpPr/>
                    <p:nvPr/>
                  </p:nvSpPr>
                  <p:spPr>
                    <a:xfrm>
                      <a:off x="6781680" y="3504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4" name=""/>
                    <p:cNvSpPr/>
                    <p:nvPr/>
                  </p:nvSpPr>
                  <p:spPr>
                    <a:xfrm>
                      <a:off x="5676480" y="3504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35" name=""/>
                  <p:cNvSpPr/>
                  <p:nvPr/>
                </p:nvSpPr>
                <p:spPr>
                  <a:xfrm>
                    <a:off x="962280" y="3490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6" name=""/>
                <p:cNvGrpSpPr/>
                <p:nvPr/>
              </p:nvGrpSpPr>
              <p:grpSpPr>
                <a:xfrm>
                  <a:off x="6364440" y="1681200"/>
                  <a:ext cx="2652480" cy="298440"/>
                  <a:chOff x="6364440" y="1681200"/>
                  <a:chExt cx="2652480" cy="298440"/>
                </a:xfrm>
              </p:grpSpPr>
              <p:sp>
                <p:nvSpPr>
                  <p:cNvPr id="3237" name=""/>
                  <p:cNvSpPr/>
                  <p:nvPr/>
                </p:nvSpPr>
                <p:spPr>
                  <a:xfrm>
                    <a:off x="6364440" y="168120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>
                    <a:off x="7431480" y="171792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9" name=""/>
                <p:cNvSpPr/>
                <p:nvPr/>
              </p:nvSpPr>
              <p:spPr>
                <a:xfrm>
                  <a:off x="8223120" y="176544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240" name=""/>
                <p:cNvCxnSpPr>
                  <a:stCxn id="3237" idx="0"/>
                  <a:endCxn id="3241" idx="0"/>
                </p:cNvCxnSpPr>
                <p:nvPr/>
              </p:nvCxnSpPr>
              <p:spPr>
                <a:xfrm rot="5400000">
                  <a:off x="4402440" y="-154548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242" name=""/>
                <p:cNvGrpSpPr/>
                <p:nvPr/>
              </p:nvGrpSpPr>
              <p:grpSpPr>
                <a:xfrm>
                  <a:off x="171360" y="1681200"/>
                  <a:ext cx="2124000" cy="296640"/>
                  <a:chOff x="171360" y="1681200"/>
                  <a:chExt cx="2124000" cy="296640"/>
                </a:xfrm>
              </p:grpSpPr>
              <p:sp>
                <p:nvSpPr>
                  <p:cNvPr id="3241" name=""/>
                  <p:cNvSpPr/>
                  <p:nvPr/>
                </p:nvSpPr>
                <p:spPr>
                  <a:xfrm>
                    <a:off x="171360" y="1681200"/>
                    <a:ext cx="2124000" cy="29664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>
                    <a:off x="998280" y="171756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44" name=""/>
                <p:cNvSpPr/>
                <p:nvPr/>
              </p:nvSpPr>
              <p:spPr>
                <a:xfrm>
                  <a:off x="185760" y="205092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5" name=""/>
                <p:cNvGrpSpPr/>
                <p:nvPr/>
              </p:nvGrpSpPr>
              <p:grpSpPr>
                <a:xfrm>
                  <a:off x="6164280" y="2031840"/>
                  <a:ext cx="2871720" cy="933480"/>
                  <a:chOff x="6164280" y="2031840"/>
                  <a:chExt cx="2871720" cy="933480"/>
                </a:xfrm>
              </p:grpSpPr>
              <p:sp>
                <p:nvSpPr>
                  <p:cNvPr id="3246" name=""/>
                  <p:cNvSpPr/>
                  <p:nvPr/>
                </p:nvSpPr>
                <p:spPr>
                  <a:xfrm>
                    <a:off x="6164280" y="203184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>
                    <a:off x="7421400" y="203184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>
                    <a:off x="6249960" y="209556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9" name=""/>
                  <p:cNvSpPr/>
                  <p:nvPr/>
                </p:nvSpPr>
                <p:spPr>
                  <a:xfrm>
                    <a:off x="7535880" y="209556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0" name=""/>
                  <p:cNvSpPr/>
                  <p:nvPr/>
                </p:nvSpPr>
                <p:spPr>
                  <a:xfrm>
                    <a:off x="7694640" y="213516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1" name=""/>
                  <p:cNvSpPr/>
                  <p:nvPr/>
                </p:nvSpPr>
                <p:spPr>
                  <a:xfrm>
                    <a:off x="6348240" y="213516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2" name=""/>
                <p:cNvGrpSpPr/>
                <p:nvPr/>
              </p:nvGrpSpPr>
              <p:grpSpPr>
                <a:xfrm>
                  <a:off x="2413080" y="2018880"/>
                  <a:ext cx="3600000" cy="407880"/>
                  <a:chOff x="2413080" y="2018880"/>
                  <a:chExt cx="3600000" cy="407880"/>
                </a:xfrm>
              </p:grpSpPr>
              <p:sp>
                <p:nvSpPr>
                  <p:cNvPr id="3253" name=""/>
                  <p:cNvSpPr/>
                  <p:nvPr/>
                </p:nvSpPr>
                <p:spPr>
                  <a:xfrm flipV="1">
                    <a:off x="241308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 flipV="1">
                    <a:off x="31334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 flipV="1">
                    <a:off x="385596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 flipV="1">
                    <a:off x="457668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 flipV="1">
                    <a:off x="52988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8" name=""/>
                <p:cNvGrpSpPr/>
                <p:nvPr/>
              </p:nvGrpSpPr>
              <p:grpSpPr>
                <a:xfrm>
                  <a:off x="2565360" y="2171520"/>
                  <a:ext cx="3600000" cy="407880"/>
                  <a:chOff x="2565360" y="2171520"/>
                  <a:chExt cx="3600000" cy="407880"/>
                </a:xfrm>
              </p:grpSpPr>
              <p:sp>
                <p:nvSpPr>
                  <p:cNvPr id="3259" name=""/>
                  <p:cNvSpPr/>
                  <p:nvPr/>
                </p:nvSpPr>
                <p:spPr>
                  <a:xfrm flipV="1">
                    <a:off x="256536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 flipV="1">
                    <a:off x="32857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1" name=""/>
                  <p:cNvSpPr/>
                  <p:nvPr/>
                </p:nvSpPr>
                <p:spPr>
                  <a:xfrm flipV="1">
                    <a:off x="400824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 flipV="1">
                    <a:off x="472896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 flipV="1">
                    <a:off x="54511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4" name=""/>
                <p:cNvGrpSpPr/>
                <p:nvPr/>
              </p:nvGrpSpPr>
              <p:grpSpPr>
                <a:xfrm>
                  <a:off x="2717640" y="2323800"/>
                  <a:ext cx="3600720" cy="407880"/>
                  <a:chOff x="2717640" y="2323800"/>
                  <a:chExt cx="3600720" cy="407880"/>
                </a:xfrm>
              </p:grpSpPr>
              <p:sp>
                <p:nvSpPr>
                  <p:cNvPr id="3265" name=""/>
                  <p:cNvSpPr/>
                  <p:nvPr/>
                </p:nvSpPr>
                <p:spPr>
                  <a:xfrm flipV="1">
                    <a:off x="271764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 flipV="1">
                    <a:off x="34383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7" name=""/>
                  <p:cNvSpPr/>
                  <p:nvPr/>
                </p:nvSpPr>
                <p:spPr>
                  <a:xfrm flipV="1">
                    <a:off x="416088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8" name=""/>
                  <p:cNvSpPr/>
                  <p:nvPr/>
                </p:nvSpPr>
                <p:spPr>
                  <a:xfrm flipV="1">
                    <a:off x="488160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 flipV="1">
                    <a:off x="56037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0" name=""/>
                <p:cNvGrpSpPr/>
                <p:nvPr/>
              </p:nvGrpSpPr>
              <p:grpSpPr>
                <a:xfrm>
                  <a:off x="1565280" y="2060640"/>
                  <a:ext cx="950760" cy="671400"/>
                  <a:chOff x="1565280" y="2060640"/>
                  <a:chExt cx="950760" cy="671400"/>
                </a:xfrm>
              </p:grpSpPr>
              <p:sp>
                <p:nvSpPr>
                  <p:cNvPr id="3271" name=""/>
                  <p:cNvSpPr/>
                  <p:nvPr/>
                </p:nvSpPr>
                <p:spPr>
                  <a:xfrm>
                    <a:off x="1565280" y="206064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>
                    <a:off x="1717560" y="221292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>
                    <a:off x="1870200" y="236520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4" name=""/>
                <p:cNvGrpSpPr/>
                <p:nvPr/>
              </p:nvGrpSpPr>
              <p:grpSpPr>
                <a:xfrm>
                  <a:off x="279720" y="2674800"/>
                  <a:ext cx="6232320" cy="776520"/>
                  <a:chOff x="279720" y="2674800"/>
                  <a:chExt cx="6232320" cy="776520"/>
                </a:xfrm>
              </p:grpSpPr>
              <p:sp>
                <p:nvSpPr>
                  <p:cNvPr id="3275" name=""/>
                  <p:cNvSpPr/>
                  <p:nvPr/>
                </p:nvSpPr>
                <p:spPr>
                  <a:xfrm>
                    <a:off x="279720" y="312408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76" name=""/>
                  <p:cNvGrpSpPr/>
                  <p:nvPr/>
                </p:nvGrpSpPr>
                <p:grpSpPr>
                  <a:xfrm>
                    <a:off x="3319560" y="2674800"/>
                    <a:ext cx="185760" cy="617400"/>
                    <a:chOff x="3319560" y="2674800"/>
                    <a:chExt cx="185760" cy="617400"/>
                  </a:xfrm>
                </p:grpSpPr>
                <p:sp>
                  <p:nvSpPr>
                    <p:cNvPr id="3277" name=""/>
                    <p:cNvSpPr/>
                    <p:nvPr/>
                  </p:nvSpPr>
                  <p:spPr>
                    <a:xfrm>
                      <a:off x="331956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8" name=""/>
                    <p:cNvSpPr/>
                    <p:nvPr/>
                  </p:nvSpPr>
                  <p:spPr>
                    <a:xfrm flipV="1">
                      <a:off x="341172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79" name=""/>
                  <p:cNvSpPr/>
                  <p:nvPr/>
                </p:nvSpPr>
                <p:spPr>
                  <a:xfrm>
                    <a:off x="1208160" y="295128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80" name=""/>
                  <p:cNvGrpSpPr/>
                  <p:nvPr/>
                </p:nvGrpSpPr>
                <p:grpSpPr>
                  <a:xfrm>
                    <a:off x="6219720" y="2849040"/>
                    <a:ext cx="185400" cy="474840"/>
                    <a:chOff x="6219720" y="2849040"/>
                    <a:chExt cx="185400" cy="474840"/>
                  </a:xfrm>
                </p:grpSpPr>
                <p:sp>
                  <p:nvSpPr>
                    <p:cNvPr id="3281" name=""/>
                    <p:cNvSpPr/>
                    <p:nvPr/>
                  </p:nvSpPr>
                  <p:spPr>
                    <a:xfrm>
                      <a:off x="6219720" y="30524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2" name=""/>
                    <p:cNvSpPr/>
                    <p:nvPr/>
                  </p:nvSpPr>
                  <p:spPr>
                    <a:xfrm flipV="1">
                      <a:off x="6311520" y="284904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3" name=""/>
                  <p:cNvGrpSpPr/>
                  <p:nvPr/>
                </p:nvGrpSpPr>
                <p:grpSpPr>
                  <a:xfrm>
                    <a:off x="4748040" y="2674800"/>
                    <a:ext cx="185760" cy="617400"/>
                    <a:chOff x="4748040" y="2674800"/>
                    <a:chExt cx="185760" cy="617400"/>
                  </a:xfrm>
                </p:grpSpPr>
                <p:sp>
                  <p:nvSpPr>
                    <p:cNvPr id="3284" name=""/>
                    <p:cNvSpPr/>
                    <p:nvPr/>
                  </p:nvSpPr>
                  <p:spPr>
                    <a:xfrm>
                      <a:off x="474804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5" name=""/>
                    <p:cNvSpPr/>
                    <p:nvPr/>
                  </p:nvSpPr>
                  <p:spPr>
                    <a:xfrm flipV="1">
                      <a:off x="484020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6" name=""/>
                  <p:cNvGrpSpPr/>
                  <p:nvPr/>
                </p:nvGrpSpPr>
                <p:grpSpPr>
                  <a:xfrm>
                    <a:off x="5464080" y="2674800"/>
                    <a:ext cx="185760" cy="617400"/>
                    <a:chOff x="5464080" y="2674800"/>
                    <a:chExt cx="185760" cy="617400"/>
                  </a:xfrm>
                </p:grpSpPr>
                <p:sp>
                  <p:nvSpPr>
                    <p:cNvPr id="3287" name=""/>
                    <p:cNvSpPr/>
                    <p:nvPr/>
                  </p:nvSpPr>
                  <p:spPr>
                    <a:xfrm>
                      <a:off x="546408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8" name=""/>
                    <p:cNvSpPr/>
                    <p:nvPr/>
                  </p:nvSpPr>
                  <p:spPr>
                    <a:xfrm flipV="1">
                      <a:off x="555624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9" name=""/>
                  <p:cNvGrpSpPr/>
                  <p:nvPr/>
                </p:nvGrpSpPr>
                <p:grpSpPr>
                  <a:xfrm>
                    <a:off x="2422440" y="2706840"/>
                    <a:ext cx="185760" cy="585720"/>
                    <a:chOff x="2422440" y="2706840"/>
                    <a:chExt cx="185760" cy="585720"/>
                  </a:xfrm>
                </p:grpSpPr>
                <p:sp>
                  <p:nvSpPr>
                    <p:cNvPr id="3290" name=""/>
                    <p:cNvSpPr/>
                    <p:nvPr/>
                  </p:nvSpPr>
                  <p:spPr>
                    <a:xfrm flipV="1">
                      <a:off x="25146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1" name=""/>
                    <p:cNvSpPr/>
                    <p:nvPr/>
                  </p:nvSpPr>
                  <p:spPr>
                    <a:xfrm>
                      <a:off x="2422440" y="302112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2" name=""/>
                  <p:cNvGrpSpPr/>
                  <p:nvPr/>
                </p:nvGrpSpPr>
                <p:grpSpPr>
                  <a:xfrm>
                    <a:off x="4035600" y="2706840"/>
                    <a:ext cx="185400" cy="585720"/>
                    <a:chOff x="4035600" y="2706840"/>
                    <a:chExt cx="185400" cy="585720"/>
                  </a:xfrm>
                </p:grpSpPr>
                <p:sp>
                  <p:nvSpPr>
                    <p:cNvPr id="3293" name=""/>
                    <p:cNvSpPr/>
                    <p:nvPr/>
                  </p:nvSpPr>
                  <p:spPr>
                    <a:xfrm flipV="1">
                      <a:off x="41274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4" name=""/>
                    <p:cNvSpPr/>
                    <p:nvPr/>
                  </p:nvSpPr>
                  <p:spPr>
                    <a:xfrm>
                      <a:off x="4035600" y="302112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5" name=""/>
                  <p:cNvGrpSpPr/>
                  <p:nvPr/>
                </p:nvGrpSpPr>
                <p:grpSpPr>
                  <a:xfrm>
                    <a:off x="3597120" y="2731680"/>
                    <a:ext cx="141480" cy="473400"/>
                    <a:chOff x="3597120" y="2731680"/>
                    <a:chExt cx="141480" cy="473400"/>
                  </a:xfrm>
                </p:grpSpPr>
                <p:sp>
                  <p:nvSpPr>
                    <p:cNvPr id="3296" name=""/>
                    <p:cNvSpPr/>
                    <p:nvPr/>
                  </p:nvSpPr>
                  <p:spPr>
                    <a:xfrm flipV="1">
                      <a:off x="36687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7" name=""/>
                    <p:cNvSpPr/>
                    <p:nvPr/>
                  </p:nvSpPr>
                  <p:spPr>
                    <a:xfrm>
                      <a:off x="35971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8" name=""/>
                  <p:cNvGrpSpPr/>
                  <p:nvPr/>
                </p:nvGrpSpPr>
                <p:grpSpPr>
                  <a:xfrm>
                    <a:off x="3784680" y="2731680"/>
                    <a:ext cx="141120" cy="473400"/>
                    <a:chOff x="3784680" y="2731680"/>
                    <a:chExt cx="141120" cy="473400"/>
                  </a:xfrm>
                </p:grpSpPr>
                <p:sp>
                  <p:nvSpPr>
                    <p:cNvPr id="3299" name=""/>
                    <p:cNvSpPr/>
                    <p:nvPr/>
                  </p:nvSpPr>
                  <p:spPr>
                    <a:xfrm flipV="1">
                      <a:off x="38559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0" name=""/>
                    <p:cNvSpPr/>
                    <p:nvPr/>
                  </p:nvSpPr>
                  <p:spPr>
                    <a:xfrm>
                      <a:off x="378468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1" name=""/>
                  <p:cNvGrpSpPr/>
                  <p:nvPr/>
                </p:nvGrpSpPr>
                <p:grpSpPr>
                  <a:xfrm>
                    <a:off x="4284720" y="2731680"/>
                    <a:ext cx="141120" cy="473400"/>
                    <a:chOff x="4284720" y="2731680"/>
                    <a:chExt cx="141120" cy="473400"/>
                  </a:xfrm>
                </p:grpSpPr>
                <p:sp>
                  <p:nvSpPr>
                    <p:cNvPr id="3302" name=""/>
                    <p:cNvSpPr/>
                    <p:nvPr/>
                  </p:nvSpPr>
                  <p:spPr>
                    <a:xfrm flipV="1">
                      <a:off x="435600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3" name=""/>
                    <p:cNvSpPr/>
                    <p:nvPr/>
                  </p:nvSpPr>
                  <p:spPr>
                    <a:xfrm>
                      <a:off x="428472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4" name=""/>
                  <p:cNvGrpSpPr/>
                  <p:nvPr/>
                </p:nvGrpSpPr>
                <p:grpSpPr>
                  <a:xfrm>
                    <a:off x="4498920" y="2731680"/>
                    <a:ext cx="141480" cy="473400"/>
                    <a:chOff x="4498920" y="2731680"/>
                    <a:chExt cx="141480" cy="473400"/>
                  </a:xfrm>
                </p:grpSpPr>
                <p:sp>
                  <p:nvSpPr>
                    <p:cNvPr id="3305" name=""/>
                    <p:cNvSpPr/>
                    <p:nvPr/>
                  </p:nvSpPr>
                  <p:spPr>
                    <a:xfrm flipV="1">
                      <a:off x="45705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6" name=""/>
                    <p:cNvSpPr/>
                    <p:nvPr/>
                  </p:nvSpPr>
                  <p:spPr>
                    <a:xfrm>
                      <a:off x="44989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7" name=""/>
                  <p:cNvGrpSpPr/>
                  <p:nvPr/>
                </p:nvGrpSpPr>
                <p:grpSpPr>
                  <a:xfrm>
                    <a:off x="3051000" y="2731680"/>
                    <a:ext cx="141480" cy="473400"/>
                    <a:chOff x="3051000" y="2731680"/>
                    <a:chExt cx="141480" cy="473400"/>
                  </a:xfrm>
                </p:grpSpPr>
                <p:sp>
                  <p:nvSpPr>
                    <p:cNvPr id="3308" name=""/>
                    <p:cNvSpPr/>
                    <p:nvPr/>
                  </p:nvSpPr>
                  <p:spPr>
                    <a:xfrm flipV="1">
                      <a:off x="312264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9" name=""/>
                    <p:cNvSpPr/>
                    <p:nvPr/>
                  </p:nvSpPr>
                  <p:spPr>
                    <a:xfrm>
                      <a:off x="305100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0" name=""/>
                  <p:cNvGrpSpPr/>
                  <p:nvPr/>
                </p:nvGrpSpPr>
                <p:grpSpPr>
                  <a:xfrm>
                    <a:off x="5164200" y="2731680"/>
                    <a:ext cx="141120" cy="473400"/>
                    <a:chOff x="5164200" y="2731680"/>
                    <a:chExt cx="141120" cy="473400"/>
                  </a:xfrm>
                </p:grpSpPr>
                <p:sp>
                  <p:nvSpPr>
                    <p:cNvPr id="3311" name=""/>
                    <p:cNvSpPr/>
                    <p:nvPr/>
                  </p:nvSpPr>
                  <p:spPr>
                    <a:xfrm flipV="1">
                      <a:off x="523548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2" name=""/>
                    <p:cNvSpPr/>
                    <p:nvPr/>
                  </p:nvSpPr>
                  <p:spPr>
                    <a:xfrm>
                      <a:off x="516420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313" name=""/>
              <p:cNvSpPr/>
              <p:nvPr/>
            </p:nvSpPr>
            <p:spPr>
              <a:xfrm>
                <a:off x="1500120" y="90972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4" name=""/>
          <p:cNvSpPr/>
          <p:nvPr/>
        </p:nvSpPr>
        <p:spPr>
          <a:xfrm>
            <a:off x="264960" y="4309920"/>
            <a:ext cx="8680680" cy="1395720"/>
          </a:xfrm>
          <a:custGeom>
            <a:avLst/>
            <a:gdLst/>
            <a:ahLst/>
            <a:rect l="l" t="t" r="r" b="b"/>
            <a:pathLst>
              <a:path w="5468" h="1388">
                <a:moveTo>
                  <a:pt x="347" y="0"/>
                </a:moveTo>
                <a:lnTo>
                  <a:pt x="0" y="1388"/>
                </a:lnTo>
                <a:lnTo>
                  <a:pt x="5468" y="1388"/>
                </a:lnTo>
                <a:lnTo>
                  <a:pt x="5022" y="7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2314080" y="4195800"/>
            <a:ext cx="2064960" cy="2437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Atividades Gen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6" name=""/>
          <p:cNvGrpSpPr/>
          <p:nvPr/>
        </p:nvGrpSpPr>
        <p:grpSpPr>
          <a:xfrm>
            <a:off x="260280" y="4202280"/>
            <a:ext cx="8612280" cy="1364760"/>
            <a:chOff x="260280" y="4202280"/>
            <a:chExt cx="8612280" cy="1364760"/>
          </a:xfrm>
        </p:grpSpPr>
        <p:sp>
          <p:nvSpPr>
            <p:cNvPr id="3317" name=""/>
            <p:cNvSpPr/>
            <p:nvPr/>
          </p:nvSpPr>
          <p:spPr>
            <a:xfrm>
              <a:off x="4817880" y="4202280"/>
              <a:ext cx="1970280" cy="12697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8" name=""/>
            <p:cNvGrpSpPr/>
            <p:nvPr/>
          </p:nvGrpSpPr>
          <p:grpSpPr>
            <a:xfrm>
              <a:off x="260280" y="4412880"/>
              <a:ext cx="8612280" cy="1154160"/>
              <a:chOff x="260280" y="4412880"/>
              <a:chExt cx="8612280" cy="1154160"/>
            </a:xfrm>
          </p:grpSpPr>
          <p:sp>
            <p:nvSpPr>
              <p:cNvPr id="3319" name=""/>
              <p:cNvSpPr/>
              <p:nvPr/>
            </p:nvSpPr>
            <p:spPr>
              <a:xfrm>
                <a:off x="5060880" y="4412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vali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789520" y="4934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rov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064280" y="4714200"/>
                <a:ext cx="1808280" cy="852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cumentar as decisões tomadas e registrar lições aprendid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22" name=""/>
              <p:cNvCxnSpPr>
                <a:stCxn id="3320" idx="3"/>
                <a:endCxn id="3321" idx="1"/>
              </p:cNvCxnSpPr>
              <p:nvPr/>
            </p:nvCxnSpPr>
            <p:spPr>
              <a:xfrm flipV="1">
                <a:off x="6640560" y="5149080"/>
                <a:ext cx="414720" cy="8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3323" name=""/>
              <p:cNvGrpSpPr/>
              <p:nvPr/>
            </p:nvGrpSpPr>
            <p:grpSpPr>
              <a:xfrm>
                <a:off x="3527280" y="4926960"/>
                <a:ext cx="1203480" cy="639720"/>
                <a:chOff x="3527280" y="4926960"/>
                <a:chExt cx="1203480" cy="639720"/>
              </a:xfrm>
            </p:grpSpPr>
            <p:sp>
              <p:nvSpPr>
                <p:cNvPr id="3324" name=""/>
                <p:cNvSpPr/>
                <p:nvPr/>
              </p:nvSpPr>
              <p:spPr>
                <a:xfrm>
                  <a:off x="3527280" y="4926960"/>
                  <a:ext cx="120348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>
                  <a:off x="4546440" y="4939920"/>
                  <a:ext cx="17136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326" name=""/>
              <p:cNvCxnSpPr>
                <a:stCxn id="3319" idx="2"/>
                <a:endCxn id="3320" idx="1"/>
              </p:cNvCxnSpPr>
              <p:nvPr/>
            </p:nvCxnSpPr>
            <p:spPr>
              <a:xfrm flipH="1" rot="16200000">
                <a:off x="5484240" y="4862520"/>
                <a:ext cx="291240" cy="2991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327" name=""/>
              <p:cNvCxnSpPr>
                <a:stCxn id="3324" idx="0"/>
                <a:endCxn id="3319" idx="1"/>
              </p:cNvCxnSpPr>
              <p:nvPr/>
            </p:nvCxnSpPr>
            <p:spPr>
              <a:xfrm flipH="1" flipV="1" rot="5400000">
                <a:off x="4448520" y="4314600"/>
                <a:ext cx="283320" cy="92304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3328" name=""/>
              <p:cNvGrpSpPr/>
              <p:nvPr/>
            </p:nvGrpSpPr>
            <p:grpSpPr>
              <a:xfrm>
                <a:off x="260280" y="4926960"/>
                <a:ext cx="1036440" cy="639720"/>
                <a:chOff x="260280" y="4926960"/>
                <a:chExt cx="1036440" cy="639720"/>
              </a:xfrm>
            </p:grpSpPr>
            <p:sp>
              <p:nvSpPr>
                <p:cNvPr id="3329" name=""/>
                <p:cNvSpPr/>
                <p:nvPr/>
              </p:nvSpPr>
              <p:spPr>
                <a:xfrm>
                  <a:off x="260280" y="4926960"/>
                  <a:ext cx="103644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talhar Plano da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1137960" y="4939920"/>
                  <a:ext cx="14724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1" name=""/>
              <p:cNvSpPr/>
              <p:nvPr/>
            </p:nvSpPr>
            <p:spPr>
              <a:xfrm>
                <a:off x="1744560" y="4926960"/>
                <a:ext cx="1333440" cy="639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ividades Especificas da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32" name=""/>
              <p:cNvCxnSpPr>
                <a:stCxn id="3329" idx="3"/>
                <a:endCxn id="3331" idx="1"/>
              </p:cNvCxnSpPr>
              <p:nvPr/>
            </p:nvCxnSpPr>
            <p:spPr>
              <a:xfrm>
                <a:off x="1306440" y="5255280"/>
                <a:ext cx="4291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333" name=""/>
              <p:cNvCxnSpPr>
                <a:stCxn id="3331" idx="3"/>
                <a:endCxn id="3324" idx="1"/>
              </p:cNvCxnSpPr>
              <p:nvPr/>
            </p:nvCxnSpPr>
            <p:spPr>
              <a:xfrm>
                <a:off x="3087360" y="5255280"/>
                <a:ext cx="4309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334" name=""/>
            <p:cNvSpPr/>
            <p:nvPr/>
          </p:nvSpPr>
          <p:spPr>
            <a:xfrm>
              <a:off x="6068880" y="4265280"/>
              <a:ext cx="1104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visão de Fase “gate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964120" y="4544640"/>
              <a:ext cx="185760" cy="271440"/>
            </a:xfrm>
            <a:prstGeom prst="flowChartDecis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6" name=""/>
          <p:cNvGrpSpPr/>
          <p:nvPr/>
        </p:nvGrpSpPr>
        <p:grpSpPr>
          <a:xfrm>
            <a:off x="6783840" y="3776400"/>
            <a:ext cx="3442320" cy="2388960"/>
            <a:chOff x="6783840" y="3776400"/>
            <a:chExt cx="3442320" cy="2388960"/>
          </a:xfrm>
        </p:grpSpPr>
        <p:grpSp>
          <p:nvGrpSpPr>
            <p:cNvPr id="3337" name=""/>
            <p:cNvGrpSpPr/>
            <p:nvPr/>
          </p:nvGrpSpPr>
          <p:grpSpPr>
            <a:xfrm>
              <a:off x="6783840" y="4281480"/>
              <a:ext cx="2340000" cy="1883880"/>
              <a:chOff x="6783840" y="4281480"/>
              <a:chExt cx="2340000" cy="1883880"/>
            </a:xfrm>
          </p:grpSpPr>
          <p:grpSp>
            <p:nvGrpSpPr>
              <p:cNvPr id="3338" name=""/>
              <p:cNvGrpSpPr/>
              <p:nvPr/>
            </p:nvGrpSpPr>
            <p:grpSpPr>
              <a:xfrm>
                <a:off x="6835680" y="4281480"/>
                <a:ext cx="2274840" cy="1851840"/>
                <a:chOff x="6835680" y="4281480"/>
                <a:chExt cx="2274840" cy="1851840"/>
              </a:xfrm>
            </p:grpSpPr>
            <p:grpSp>
              <p:nvGrpSpPr>
                <p:cNvPr id="3339" name=""/>
                <p:cNvGrpSpPr/>
                <p:nvPr/>
              </p:nvGrpSpPr>
              <p:grpSpPr>
                <a:xfrm>
                  <a:off x="6835680" y="4281480"/>
                  <a:ext cx="2274840" cy="1851840"/>
                  <a:chOff x="6835680" y="4281480"/>
                  <a:chExt cx="2274840" cy="1851840"/>
                </a:xfrm>
              </p:grpSpPr>
              <p:sp>
                <p:nvSpPr>
                  <p:cNvPr id="3340" name=""/>
                  <p:cNvSpPr/>
                  <p:nvPr/>
                </p:nvSpPr>
                <p:spPr>
                  <a:xfrm rot="15622800">
                    <a:off x="6899760" y="4782960"/>
                    <a:ext cx="1292400" cy="122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 rot="15622800">
                    <a:off x="7539120" y="4359600"/>
                    <a:ext cx="1425600" cy="150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2" name=""/>
                <p:cNvGrpSpPr/>
                <p:nvPr/>
              </p:nvGrpSpPr>
              <p:grpSpPr>
                <a:xfrm>
                  <a:off x="6876000" y="4374000"/>
                  <a:ext cx="2145600" cy="1676880"/>
                  <a:chOff x="6876000" y="4374000"/>
                  <a:chExt cx="2145600" cy="1676880"/>
                </a:xfrm>
              </p:grpSpPr>
              <p:sp>
                <p:nvSpPr>
                  <p:cNvPr id="3343" name=""/>
                  <p:cNvSpPr/>
                  <p:nvPr/>
                </p:nvSpPr>
                <p:spPr>
                  <a:xfrm rot="15622800">
                    <a:off x="8561520" y="5315400"/>
                    <a:ext cx="369360" cy="49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 rot="15622800">
                    <a:off x="7808040" y="4033440"/>
                    <a:ext cx="132840" cy="9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 rot="15622800">
                    <a:off x="6802200" y="5014080"/>
                    <a:ext cx="525600" cy="29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 rot="15622800">
                    <a:off x="7728840" y="5565240"/>
                    <a:ext cx="167400" cy="69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47" name=""/>
              <p:cNvSpPr/>
              <p:nvPr/>
            </p:nvSpPr>
            <p:spPr>
              <a:xfrm rot="15622800">
                <a:off x="7283880" y="4193640"/>
                <a:ext cx="1487160" cy="1971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8" name=""/>
              <p:cNvGrpSpPr/>
              <p:nvPr/>
            </p:nvGrpSpPr>
            <p:grpSpPr>
              <a:xfrm>
                <a:off x="6783840" y="4369680"/>
                <a:ext cx="2191680" cy="1795680"/>
                <a:chOff x="6783840" y="4369680"/>
                <a:chExt cx="2191680" cy="1795680"/>
              </a:xfrm>
            </p:grpSpPr>
            <p:sp>
              <p:nvSpPr>
                <p:cNvPr id="3349" name=""/>
                <p:cNvSpPr/>
                <p:nvPr/>
              </p:nvSpPr>
              <p:spPr>
                <a:xfrm rot="15622800">
                  <a:off x="7156080" y="4305600"/>
                  <a:ext cx="1452600" cy="192348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 rot="15622800">
                  <a:off x="7135920" y="4281840"/>
                  <a:ext cx="1487160" cy="197100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 rot="15622800">
                  <a:off x="7178040" y="4334040"/>
                  <a:ext cx="1404720" cy="18662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2" name=""/>
            <p:cNvGrpSpPr/>
            <p:nvPr/>
          </p:nvGrpSpPr>
          <p:grpSpPr>
            <a:xfrm>
              <a:off x="8647560" y="3776400"/>
              <a:ext cx="1578600" cy="1026360"/>
              <a:chOff x="8647560" y="3776400"/>
              <a:chExt cx="1578600" cy="1026360"/>
            </a:xfrm>
          </p:grpSpPr>
          <p:sp>
            <p:nvSpPr>
              <p:cNvPr id="3353" name=""/>
              <p:cNvSpPr/>
              <p:nvPr/>
            </p:nvSpPr>
            <p:spPr>
              <a:xfrm rot="15622800">
                <a:off x="9055440" y="3584160"/>
                <a:ext cx="726840" cy="144180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rot="15622800">
                <a:off x="8700120" y="4520520"/>
                <a:ext cx="223920" cy="29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rot="15622800">
                <a:off x="8730000" y="4494960"/>
                <a:ext cx="22680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rot="15622800">
                <a:off x="8809560" y="4516920"/>
                <a:ext cx="137880" cy="36900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rot="15622800">
                <a:off x="8698320" y="4521960"/>
                <a:ext cx="223560" cy="29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rot="15622800">
                <a:off x="8884800" y="4408200"/>
                <a:ext cx="22428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9" name=""/>
              <p:cNvGrpSpPr/>
              <p:nvPr/>
            </p:nvGrpSpPr>
            <p:grpSpPr>
              <a:xfrm>
                <a:off x="8861040" y="4389120"/>
                <a:ext cx="353880" cy="287640"/>
                <a:chOff x="8861040" y="4389120"/>
                <a:chExt cx="353880" cy="287640"/>
              </a:xfrm>
            </p:grpSpPr>
            <p:grpSp>
              <p:nvGrpSpPr>
                <p:cNvPr id="3360" name=""/>
                <p:cNvGrpSpPr/>
                <p:nvPr/>
              </p:nvGrpSpPr>
              <p:grpSpPr>
                <a:xfrm>
                  <a:off x="8861040" y="4405680"/>
                  <a:ext cx="325440" cy="271080"/>
                  <a:chOff x="8861040" y="4405680"/>
                  <a:chExt cx="325440" cy="271080"/>
                </a:xfrm>
              </p:grpSpPr>
              <p:sp>
                <p:nvSpPr>
                  <p:cNvPr id="3361" name=""/>
                  <p:cNvSpPr/>
                  <p:nvPr/>
                </p:nvSpPr>
                <p:spPr>
                  <a:xfrm rot="15622800">
                    <a:off x="8911800" y="4395960"/>
                    <a:ext cx="223920" cy="291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 rot="15622800">
                    <a:off x="8910360" y="4395240"/>
                    <a:ext cx="225720" cy="29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"/>
                  <p:cNvSpPr/>
                  <p:nvPr/>
                </p:nvSpPr>
                <p:spPr>
                  <a:xfrm rot="15622800">
                    <a:off x="8910720" y="4394880"/>
                    <a:ext cx="224280" cy="290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"/>
                <p:cNvSpPr/>
                <p:nvPr/>
              </p:nvSpPr>
              <p:spPr>
                <a:xfrm rot="15622800">
                  <a:off x="8940240" y="4378680"/>
                  <a:ext cx="224640" cy="290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5" name=""/>
              <p:cNvGrpSpPr/>
              <p:nvPr/>
            </p:nvGrpSpPr>
            <p:grpSpPr>
              <a:xfrm>
                <a:off x="8917200" y="4357080"/>
                <a:ext cx="354960" cy="288000"/>
                <a:chOff x="8917200" y="4357080"/>
                <a:chExt cx="354960" cy="288000"/>
              </a:xfrm>
            </p:grpSpPr>
            <p:grpSp>
              <p:nvGrpSpPr>
                <p:cNvPr id="3366" name=""/>
                <p:cNvGrpSpPr/>
                <p:nvPr/>
              </p:nvGrpSpPr>
              <p:grpSpPr>
                <a:xfrm>
                  <a:off x="8917200" y="4374000"/>
                  <a:ext cx="325080" cy="271080"/>
                  <a:chOff x="8917200" y="4374000"/>
                  <a:chExt cx="325080" cy="271080"/>
                </a:xfrm>
              </p:grpSpPr>
              <p:sp>
                <p:nvSpPr>
                  <p:cNvPr id="3367" name=""/>
                  <p:cNvSpPr/>
                  <p:nvPr/>
                </p:nvSpPr>
                <p:spPr>
                  <a:xfrm rot="15622800">
                    <a:off x="8967240" y="4363920"/>
                    <a:ext cx="225000" cy="29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 rot="15622800">
                    <a:off x="8966520" y="4363560"/>
                    <a:ext cx="225720" cy="29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9" name=""/>
                  <p:cNvSpPr/>
                  <p:nvPr/>
                </p:nvSpPr>
                <p:spPr>
                  <a:xfrm rot="15622800">
                    <a:off x="8967600" y="4363200"/>
                    <a:ext cx="223920" cy="290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70" name=""/>
                <p:cNvSpPr/>
                <p:nvPr/>
              </p:nvSpPr>
              <p:spPr>
                <a:xfrm rot="15622800">
                  <a:off x="8997120" y="4346280"/>
                  <a:ext cx="224280" cy="29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1" name=""/>
              <p:cNvGrpSpPr/>
              <p:nvPr/>
            </p:nvGrpSpPr>
            <p:grpSpPr>
              <a:xfrm>
                <a:off x="8969400" y="4340520"/>
                <a:ext cx="325440" cy="272160"/>
                <a:chOff x="8969400" y="4340520"/>
                <a:chExt cx="325440" cy="272160"/>
              </a:xfrm>
            </p:grpSpPr>
            <p:sp>
              <p:nvSpPr>
                <p:cNvPr id="3372" name=""/>
                <p:cNvSpPr/>
                <p:nvPr/>
              </p:nvSpPr>
              <p:spPr>
                <a:xfrm rot="15622800">
                  <a:off x="9019440" y="4331880"/>
                  <a:ext cx="225000" cy="290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 rot="15622800">
                  <a:off x="9018720" y="4330800"/>
                  <a:ext cx="226440" cy="29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4" name=""/>
              <p:cNvGrpSpPr/>
              <p:nvPr/>
            </p:nvGrpSpPr>
            <p:grpSpPr>
              <a:xfrm>
                <a:off x="8970120" y="4324680"/>
                <a:ext cx="353520" cy="286560"/>
                <a:chOff x="8970120" y="4324680"/>
                <a:chExt cx="353520" cy="286560"/>
              </a:xfrm>
            </p:grpSpPr>
            <p:sp>
              <p:nvSpPr>
                <p:cNvPr id="3375" name=""/>
                <p:cNvSpPr/>
                <p:nvPr/>
              </p:nvSpPr>
              <p:spPr>
                <a:xfrm rot="15622800">
                  <a:off x="9019440" y="4330440"/>
                  <a:ext cx="225000" cy="290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 rot="15622800">
                  <a:off x="9048960" y="4313880"/>
                  <a:ext cx="224640" cy="290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7" name=""/>
              <p:cNvGrpSpPr/>
              <p:nvPr/>
            </p:nvGrpSpPr>
            <p:grpSpPr>
              <a:xfrm>
                <a:off x="8738640" y="3849480"/>
                <a:ext cx="1375200" cy="914760"/>
                <a:chOff x="8738640" y="3849480"/>
                <a:chExt cx="1375200" cy="914760"/>
              </a:xfrm>
            </p:grpSpPr>
            <p:sp>
              <p:nvSpPr>
                <p:cNvPr id="3378" name=""/>
                <p:cNvSpPr/>
                <p:nvPr/>
              </p:nvSpPr>
              <p:spPr>
                <a:xfrm flipV="1">
                  <a:off x="8738640" y="3849480"/>
                  <a:ext cx="1182240" cy="72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 flipV="1">
                  <a:off x="8875800" y="4029480"/>
                  <a:ext cx="1238040" cy="73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0" name=""/>
              <p:cNvGrpSpPr/>
              <p:nvPr/>
            </p:nvGrpSpPr>
            <p:grpSpPr>
              <a:xfrm>
                <a:off x="9021960" y="4294440"/>
                <a:ext cx="349200" cy="285480"/>
                <a:chOff x="9021960" y="4294440"/>
                <a:chExt cx="349200" cy="285480"/>
              </a:xfrm>
            </p:grpSpPr>
            <p:grpSp>
              <p:nvGrpSpPr>
                <p:cNvPr id="3381" name=""/>
                <p:cNvGrpSpPr/>
                <p:nvPr/>
              </p:nvGrpSpPr>
              <p:grpSpPr>
                <a:xfrm>
                  <a:off x="9021960" y="4308840"/>
                  <a:ext cx="324720" cy="271080"/>
                  <a:chOff x="9021960" y="4308840"/>
                  <a:chExt cx="324720" cy="271080"/>
                </a:xfrm>
              </p:grpSpPr>
              <p:sp>
                <p:nvSpPr>
                  <p:cNvPr id="3382" name=""/>
                  <p:cNvSpPr/>
                  <p:nvPr/>
                </p:nvSpPr>
                <p:spPr>
                  <a:xfrm rot="15622800">
                    <a:off x="9071640" y="4299840"/>
                    <a:ext cx="22464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 rot="15622800">
                    <a:off x="9071280" y="4298760"/>
                    <a:ext cx="225720" cy="290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4" name=""/>
                <p:cNvSpPr/>
                <p:nvPr/>
              </p:nvSpPr>
              <p:spPr>
                <a:xfrm rot="15622800">
                  <a:off x="9072360" y="4298040"/>
                  <a:ext cx="2246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 rot="15622800">
                  <a:off x="9096840" y="4283640"/>
                  <a:ext cx="224280" cy="290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6" name=""/>
              <p:cNvSpPr/>
              <p:nvPr/>
            </p:nvSpPr>
            <p:spPr>
              <a:xfrm rot="15622800">
                <a:off x="9355680" y="3725280"/>
                <a:ext cx="448200" cy="10652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 rot="15622800">
                <a:off x="9922320" y="3760920"/>
                <a:ext cx="244800" cy="32652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ocumentar as decisões tomadas e registrar lições aprendida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5741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ntes de melh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não formalizar, estruturar e sistematizar, pode-se perder a memória e repetir erros do pass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mples de registrar, difícil de analisar e ap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istrar a todo o m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mento formal para garantir documentação, logo após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iste um conjunto de tarefas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je existem sistemas que analisam, classificam e ajudam a recuperar informações não estrutu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 (essencial) praticar a gestão do conhecimento, pois só sistemas não garan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"/>
          <p:cNvSpPr/>
          <p:nvPr/>
        </p:nvSpPr>
        <p:spPr>
          <a:xfrm>
            <a:off x="190440" y="3165480"/>
            <a:ext cx="5335560" cy="15699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PlaceHolder 1"/>
          <p:cNvSpPr>
            <a:spLocks noGrp="1"/>
          </p:cNvSpPr>
          <p:nvPr>
            <p:ph/>
          </p:nvPr>
        </p:nvSpPr>
        <p:spPr>
          <a:xfrm>
            <a:off x="193680" y="1103040"/>
            <a:ext cx="884232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alização do plano d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amento da viabilidade econômico-financ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iação d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ovação d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íntese do que foi vis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3735360" y="3314880"/>
            <a:ext cx="204840" cy="1228680"/>
          </a:xfrm>
          <a:custGeom>
            <a:avLst/>
            <a:gdLst>
              <a:gd name="textAreaLeft" fmla="*/ 0 w 204840"/>
              <a:gd name="textAreaRight" fmla="*/ 73800 w 204840"/>
              <a:gd name="textAreaTop" fmla="*/ 32040 h 1228680"/>
              <a:gd name="textAreaBottom" fmla="*/ 1196640 h 12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4081320" y="367200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s genéricas durante a realizaçã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3396" name=""/>
          <p:cNvGrpSpPr/>
          <p:nvPr/>
        </p:nvGrpSpPr>
        <p:grpSpPr>
          <a:xfrm>
            <a:off x="219240" y="2052000"/>
            <a:ext cx="8684640" cy="2964240"/>
            <a:chOff x="219240" y="2052000"/>
            <a:chExt cx="8684640" cy="2964240"/>
          </a:xfrm>
        </p:grpSpPr>
        <p:sp>
          <p:nvSpPr>
            <p:cNvPr id="3397" name=""/>
            <p:cNvSpPr/>
            <p:nvPr/>
          </p:nvSpPr>
          <p:spPr>
            <a:xfrm>
              <a:off x="223560" y="3276360"/>
              <a:ext cx="8680320" cy="1739880"/>
            </a:xfrm>
            <a:custGeom>
              <a:avLst/>
              <a:gdLst/>
              <a:ahLst/>
              <a:rect l="l" t="t" r="r" b="b"/>
              <a:pathLst>
                <a:path w="5468" h="1388">
                  <a:moveTo>
                    <a:pt x="347" y="0"/>
                  </a:moveTo>
                  <a:lnTo>
                    <a:pt x="0" y="1388"/>
                  </a:lnTo>
                  <a:lnTo>
                    <a:pt x="5468" y="1388"/>
                  </a:lnTo>
                  <a:lnTo>
                    <a:pt x="5022" y="7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8" name=""/>
            <p:cNvGrpSpPr/>
            <p:nvPr/>
          </p:nvGrpSpPr>
          <p:grpSpPr>
            <a:xfrm>
              <a:off x="219240" y="3513240"/>
              <a:ext cx="8611560" cy="1364400"/>
              <a:chOff x="219240" y="3513240"/>
              <a:chExt cx="8611560" cy="1364400"/>
            </a:xfrm>
          </p:grpSpPr>
          <p:sp>
            <p:nvSpPr>
              <p:cNvPr id="3399" name=""/>
              <p:cNvSpPr/>
              <p:nvPr/>
            </p:nvSpPr>
            <p:spPr>
              <a:xfrm>
                <a:off x="4776480" y="3513240"/>
                <a:ext cx="1969920" cy="1269360"/>
              </a:xfrm>
              <a:prstGeom prst="roundRect">
                <a:avLst>
                  <a:gd name="adj" fmla="val 16667"/>
                </a:avLst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0" name=""/>
              <p:cNvGrpSpPr/>
              <p:nvPr/>
            </p:nvGrpSpPr>
            <p:grpSpPr>
              <a:xfrm>
                <a:off x="219240" y="3723840"/>
                <a:ext cx="8611560" cy="1153800"/>
                <a:chOff x="219240" y="3723840"/>
                <a:chExt cx="8611560" cy="115380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5019480" y="3723840"/>
                  <a:ext cx="840960" cy="4266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valiar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5748120" y="4245480"/>
                  <a:ext cx="840960" cy="4266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provar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7022880" y="4024800"/>
                  <a:ext cx="1807920" cy="852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ocumentar as decisões tomadas e registrar lições aprendid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404" name=""/>
                <p:cNvCxnSpPr>
                  <a:stCxn id="3402" idx="3"/>
                  <a:endCxn id="3403" idx="1"/>
                </p:cNvCxnSpPr>
                <p:nvPr/>
              </p:nvCxnSpPr>
              <p:spPr>
                <a:xfrm flipV="1">
                  <a:off x="6598800" y="4459680"/>
                  <a:ext cx="414360" cy="792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405" name=""/>
                <p:cNvGrpSpPr/>
                <p:nvPr/>
              </p:nvGrpSpPr>
              <p:grpSpPr>
                <a:xfrm>
                  <a:off x="3485880" y="4237560"/>
                  <a:ext cx="1203120" cy="639720"/>
                  <a:chOff x="3485880" y="4237560"/>
                  <a:chExt cx="1203120" cy="639720"/>
                </a:xfrm>
              </p:grpSpPr>
              <p:sp>
                <p:nvSpPr>
                  <p:cNvPr id="3406" name=""/>
                  <p:cNvSpPr/>
                  <p:nvPr/>
                </p:nvSpPr>
                <p:spPr>
                  <a:xfrm>
                    <a:off x="3485880" y="4237560"/>
                    <a:ext cx="1203120" cy="63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Monitorar viabilidade econômic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7" name=""/>
                  <p:cNvSpPr/>
                  <p:nvPr/>
                </p:nvSpPr>
                <p:spPr>
                  <a:xfrm>
                    <a:off x="4504680" y="4250160"/>
                    <a:ext cx="171000" cy="13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3408" name=""/>
                <p:cNvCxnSpPr>
                  <a:stCxn id="3401" idx="2"/>
                  <a:endCxn id="3402" idx="1"/>
                </p:cNvCxnSpPr>
                <p:nvPr/>
              </p:nvCxnSpPr>
              <p:spPr>
                <a:xfrm flipH="1" rot="16200000">
                  <a:off x="5443920" y="4173120"/>
                  <a:ext cx="290880" cy="29880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409" name=""/>
                <p:cNvCxnSpPr>
                  <a:stCxn id="3406" idx="0"/>
                  <a:endCxn id="3401" idx="1"/>
                </p:cNvCxnSpPr>
                <p:nvPr/>
              </p:nvCxnSpPr>
              <p:spPr>
                <a:xfrm flipH="1" flipV="1" rot="5400000">
                  <a:off x="4406760" y="3625200"/>
                  <a:ext cx="282960" cy="92268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410" name=""/>
                <p:cNvGrpSpPr/>
                <p:nvPr/>
              </p:nvGrpSpPr>
              <p:grpSpPr>
                <a:xfrm>
                  <a:off x="219240" y="4237560"/>
                  <a:ext cx="1036080" cy="639720"/>
                  <a:chOff x="219240" y="4237560"/>
                  <a:chExt cx="1036080" cy="639720"/>
                </a:xfrm>
              </p:grpSpPr>
              <p:sp>
                <p:nvSpPr>
                  <p:cNvPr id="3411" name=""/>
                  <p:cNvSpPr/>
                  <p:nvPr/>
                </p:nvSpPr>
                <p:spPr>
                  <a:xfrm>
                    <a:off x="219240" y="4237560"/>
                    <a:ext cx="1036080" cy="63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tualizar Plano da Fas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2" name=""/>
                  <p:cNvSpPr/>
                  <p:nvPr/>
                </p:nvSpPr>
                <p:spPr>
                  <a:xfrm>
                    <a:off x="1096560" y="4250160"/>
                    <a:ext cx="147240" cy="13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3" name=""/>
                <p:cNvSpPr/>
                <p:nvPr/>
              </p:nvSpPr>
              <p:spPr>
                <a:xfrm>
                  <a:off x="1703160" y="4237560"/>
                  <a:ext cx="133308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tividades Especificas da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414" name=""/>
                <p:cNvCxnSpPr>
                  <a:stCxn id="3411" idx="3"/>
                  <a:endCxn id="3413" idx="1"/>
                </p:cNvCxnSpPr>
                <p:nvPr/>
              </p:nvCxnSpPr>
              <p:spPr>
                <a:xfrm>
                  <a:off x="1264680" y="4565880"/>
                  <a:ext cx="428760" cy="1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415" name=""/>
                <p:cNvCxnSpPr>
                  <a:stCxn id="3413" idx="3"/>
                  <a:endCxn id="3406" idx="1"/>
                </p:cNvCxnSpPr>
                <p:nvPr/>
              </p:nvCxnSpPr>
              <p:spPr>
                <a:xfrm>
                  <a:off x="3046320" y="4565880"/>
                  <a:ext cx="430560" cy="1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416" name=""/>
              <p:cNvSpPr/>
              <p:nvPr/>
            </p:nvSpPr>
            <p:spPr>
              <a:xfrm>
                <a:off x="6027480" y="3576240"/>
                <a:ext cx="1104480" cy="42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visão de Fase “gate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922720" y="3855600"/>
                <a:ext cx="185400" cy="271440"/>
              </a:xfrm>
              <a:prstGeom prst="flowChartDecis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8" name=""/>
            <p:cNvGrpSpPr/>
            <p:nvPr/>
          </p:nvGrpSpPr>
          <p:grpSpPr>
            <a:xfrm>
              <a:off x="1040040" y="2052000"/>
              <a:ext cx="6981120" cy="534240"/>
              <a:chOff x="1040040" y="2052000"/>
              <a:chExt cx="6981120" cy="534240"/>
            </a:xfrm>
          </p:grpSpPr>
          <p:grpSp>
            <p:nvGrpSpPr>
              <p:cNvPr id="3419" name=""/>
              <p:cNvGrpSpPr/>
              <p:nvPr/>
            </p:nvGrpSpPr>
            <p:grpSpPr>
              <a:xfrm>
                <a:off x="2337120" y="2065680"/>
                <a:ext cx="5684040" cy="520560"/>
                <a:chOff x="2337120" y="2065680"/>
                <a:chExt cx="5684040" cy="520560"/>
              </a:xfrm>
            </p:grpSpPr>
            <p:sp>
              <p:nvSpPr>
                <p:cNvPr id="3420" name=""/>
                <p:cNvSpPr/>
                <p:nvPr/>
              </p:nvSpPr>
              <p:spPr>
                <a:xfrm>
                  <a:off x="4711320" y="2065680"/>
                  <a:ext cx="1043640" cy="520560"/>
                </a:xfrm>
                <a:custGeom>
                  <a:avLst/>
                  <a:gdLst>
                    <a:gd name="textAreaLeft" fmla="*/ 0 w 1043640"/>
                    <a:gd name="textAreaRight" fmla="*/ 1044000 w 1043640"/>
                    <a:gd name="textAreaTop" fmla="*/ 0 h 520560"/>
                    <a:gd name="textAreaBottom" fmla="*/ 520920 h 520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4" y="0"/>
                      </a:lnTo>
                      <a:lnTo>
                        <a:pt x="21600" y="10800"/>
                      </a:lnTo>
                      <a:lnTo>
                        <a:pt x="19544" y="21600"/>
                      </a:lnTo>
                      <a:lnTo>
                        <a:pt x="0" y="21600"/>
                      </a:lnTo>
                      <a:lnTo>
                        <a:pt x="2056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talhado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3634920" y="2065680"/>
                  <a:ext cx="1074240" cy="520560"/>
                </a:xfrm>
                <a:custGeom>
                  <a:avLst/>
                  <a:gdLst>
                    <a:gd name="textAreaLeft" fmla="*/ 0 w 1074240"/>
                    <a:gd name="textAreaRight" fmla="*/ 1074600 w 1074240"/>
                    <a:gd name="textAreaTop" fmla="*/ 0 h 520560"/>
                    <a:gd name="textAreaBottom" fmla="*/ 520920 h 520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672" y="0"/>
                      </a:lnTo>
                      <a:lnTo>
                        <a:pt x="21600" y="10800"/>
                      </a:lnTo>
                      <a:lnTo>
                        <a:pt x="19672" y="21600"/>
                      </a:lnTo>
                      <a:lnTo>
                        <a:pt x="0" y="21600"/>
                      </a:lnTo>
                      <a:lnTo>
                        <a:pt x="1928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onceitual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2337120" y="2065680"/>
                  <a:ext cx="1302840" cy="520560"/>
                </a:xfrm>
                <a:custGeom>
                  <a:avLst/>
                  <a:gdLst>
                    <a:gd name="textAreaLeft" fmla="*/ 0 w 1302840"/>
                    <a:gd name="textAreaRight" fmla="*/ 1303200 w 1302840"/>
                    <a:gd name="textAreaTop" fmla="*/ 0 h 520560"/>
                    <a:gd name="textAreaBottom" fmla="*/ 520920 h 520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746" y="0"/>
                      </a:lnTo>
                      <a:lnTo>
                        <a:pt x="21600" y="10800"/>
                      </a:lnTo>
                      <a:lnTo>
                        <a:pt x="19746" y="21600"/>
                      </a:lnTo>
                      <a:lnTo>
                        <a:pt x="0" y="21600"/>
                      </a:lnTo>
                      <a:lnTo>
                        <a:pt x="1854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formacional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6859080" y="2065680"/>
                  <a:ext cx="1162080" cy="520560"/>
                </a:xfrm>
                <a:custGeom>
                  <a:avLst/>
                  <a:gdLst>
                    <a:gd name="textAreaLeft" fmla="*/ 0 w 1162080"/>
                    <a:gd name="textAreaRight" fmla="*/ 1162080 w 1162080"/>
                    <a:gd name="textAreaTop" fmla="*/ 0 h 520560"/>
                    <a:gd name="textAreaBottom" fmla="*/ 520920 h 520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740" y="0"/>
                      </a:lnTo>
                      <a:lnTo>
                        <a:pt x="21600" y="10800"/>
                      </a:lnTo>
                      <a:lnTo>
                        <a:pt x="19740" y="21600"/>
                      </a:lnTo>
                      <a:lnTo>
                        <a:pt x="0" y="21600"/>
                      </a:lnTo>
                      <a:lnTo>
                        <a:pt x="1860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Lanç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o Produ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5753880" y="2065680"/>
                  <a:ext cx="1102680" cy="520560"/>
                </a:xfrm>
                <a:custGeom>
                  <a:avLst/>
                  <a:gdLst>
                    <a:gd name="textAreaLeft" fmla="*/ 0 w 1102680"/>
                    <a:gd name="textAreaRight" fmla="*/ 1102680 w 1102680"/>
                    <a:gd name="textAreaTop" fmla="*/ 0 h 520560"/>
                    <a:gd name="textAreaBottom" fmla="*/ 520920 h 520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987" y="0"/>
                      </a:lnTo>
                      <a:lnTo>
                        <a:pt x="21600" y="10800"/>
                      </a:lnTo>
                      <a:lnTo>
                        <a:pt x="19987" y="21600"/>
                      </a:lnTo>
                      <a:lnTo>
                        <a:pt x="0" y="21600"/>
                      </a:lnTo>
                      <a:lnTo>
                        <a:pt x="1613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epara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d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5" name=""/>
              <p:cNvSpPr/>
              <p:nvPr/>
            </p:nvSpPr>
            <p:spPr>
              <a:xfrm>
                <a:off x="1040040" y="2052000"/>
                <a:ext cx="1270800" cy="520560"/>
              </a:xfrm>
              <a:custGeom>
                <a:avLst/>
                <a:gdLst>
                  <a:gd name="textAreaLeft" fmla="*/ 0 w 1270800"/>
                  <a:gd name="textAreaRight" fmla="*/ 1271160 w 1270800"/>
                  <a:gd name="textAreaTop" fmla="*/ 0 h 520560"/>
                  <a:gd name="textAreaBottom" fmla="*/ 520920 h 52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22" y="0"/>
                    </a:lnTo>
                    <a:lnTo>
                      <a:pt x="21600" y="10800"/>
                    </a:lnTo>
                    <a:lnTo>
                      <a:pt x="19522" y="21600"/>
                    </a:lnTo>
                    <a:lnTo>
                      <a:pt x="0" y="21600"/>
                    </a:lnTo>
                    <a:lnTo>
                      <a:pt x="2078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laneja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je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6" name=""/>
            <p:cNvSpPr/>
            <p:nvPr/>
          </p:nvSpPr>
          <p:spPr>
            <a:xfrm>
              <a:off x="2781000" y="3124080"/>
              <a:ext cx="3065400" cy="3045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cc"/>
                  </a:solidFill>
                  <a:latin typeface="Arial"/>
                </a:rPr>
                <a:t>Atividades Genér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27" name=""/>
            <p:cNvCxnSpPr>
              <a:stCxn id="3426" idx="0"/>
              <a:endCxn id="3422" idx="0"/>
            </p:cNvCxnSpPr>
            <p:nvPr/>
          </p:nvCxnSpPr>
          <p:spPr>
            <a:xfrm flipH="1" flipV="1">
              <a:off x="2930040" y="2589840"/>
              <a:ext cx="1384560" cy="53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428" name=""/>
            <p:cNvCxnSpPr>
              <a:stCxn id="3426" idx="0"/>
              <a:endCxn id="3421" idx="0"/>
            </p:cNvCxnSpPr>
            <p:nvPr/>
          </p:nvCxnSpPr>
          <p:spPr>
            <a:xfrm flipH="1" flipV="1">
              <a:off x="4122360" y="2589840"/>
              <a:ext cx="192240" cy="53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429" name=""/>
            <p:cNvCxnSpPr>
              <a:stCxn id="3426" idx="0"/>
              <a:endCxn id="3420" idx="0"/>
            </p:cNvCxnSpPr>
            <p:nvPr/>
          </p:nvCxnSpPr>
          <p:spPr>
            <a:xfrm flipV="1">
              <a:off x="4314240" y="2589840"/>
              <a:ext cx="867240" cy="53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430" name=""/>
            <p:cNvCxnSpPr>
              <a:stCxn id="3426" idx="0"/>
              <a:endCxn id="3424" idx="0"/>
            </p:cNvCxnSpPr>
            <p:nvPr/>
          </p:nvCxnSpPr>
          <p:spPr>
            <a:xfrm flipV="1">
              <a:off x="4314600" y="2589840"/>
              <a:ext cx="1949760" cy="53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431" name=""/>
            <p:cNvCxnSpPr>
              <a:stCxn id="3426" idx="0"/>
              <a:endCxn id="3423" idx="0"/>
            </p:cNvCxnSpPr>
            <p:nvPr/>
          </p:nvCxnSpPr>
          <p:spPr>
            <a:xfrm flipV="1">
              <a:off x="4314240" y="2589840"/>
              <a:ext cx="3075480" cy="53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432" name=""/>
            <p:cNvCxnSpPr>
              <a:stCxn id="3426" idx="0"/>
              <a:endCxn id="3425" idx="0"/>
            </p:cNvCxnSpPr>
            <p:nvPr/>
          </p:nvCxnSpPr>
          <p:spPr>
            <a:xfrm flipH="1" flipV="1">
              <a:off x="1611000" y="2576160"/>
              <a:ext cx="2703600" cy="54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óximo capítulo: Planejamento estratégico de produ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3434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3435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2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3443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3444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46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3447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9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3450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3451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2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3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4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5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6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7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3458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9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60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461" name=""/>
                <p:cNvCxnSpPr>
                  <a:stCxn id="3458" idx="0"/>
                  <a:endCxn id="3462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463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3462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65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66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3467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9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0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1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2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3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3474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5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6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7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8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9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3480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2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3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4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5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3486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8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1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3492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5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3496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97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3498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9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0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01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3502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3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4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3505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6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7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3508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9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0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3511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2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3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3514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5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6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3517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8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9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3520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1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2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3523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4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5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3526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7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8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3529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0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1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3532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3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534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5" name=""/>
          <p:cNvGrpSpPr/>
          <p:nvPr/>
        </p:nvGrpSpPr>
        <p:grpSpPr>
          <a:xfrm>
            <a:off x="-103680" y="1716120"/>
            <a:ext cx="2806560" cy="2129400"/>
            <a:chOff x="-103680" y="1716120"/>
            <a:chExt cx="2806560" cy="2129400"/>
          </a:xfrm>
        </p:grpSpPr>
        <p:grpSp>
          <p:nvGrpSpPr>
            <p:cNvPr id="3536" name=""/>
            <p:cNvGrpSpPr/>
            <p:nvPr/>
          </p:nvGrpSpPr>
          <p:grpSpPr>
            <a:xfrm>
              <a:off x="-103680" y="2155680"/>
              <a:ext cx="1932840" cy="1689840"/>
              <a:chOff x="-103680" y="2155680"/>
              <a:chExt cx="1932840" cy="1689840"/>
            </a:xfrm>
          </p:grpSpPr>
          <p:grpSp>
            <p:nvGrpSpPr>
              <p:cNvPr id="3537" name=""/>
              <p:cNvGrpSpPr/>
              <p:nvPr/>
            </p:nvGrpSpPr>
            <p:grpSpPr>
              <a:xfrm>
                <a:off x="-58680" y="2155680"/>
                <a:ext cx="1876320" cy="1660680"/>
                <a:chOff x="-58680" y="2155680"/>
                <a:chExt cx="1876320" cy="1660680"/>
              </a:xfrm>
            </p:grpSpPr>
            <p:grpSp>
              <p:nvGrpSpPr>
                <p:cNvPr id="3538" name=""/>
                <p:cNvGrpSpPr/>
                <p:nvPr/>
              </p:nvGrpSpPr>
              <p:grpSpPr>
                <a:xfrm>
                  <a:off x="-58680" y="2155680"/>
                  <a:ext cx="1876320" cy="1660680"/>
                  <a:chOff x="-58680" y="2155680"/>
                  <a:chExt cx="1876320" cy="1660680"/>
                </a:xfrm>
              </p:grpSpPr>
              <p:sp>
                <p:nvSpPr>
                  <p:cNvPr id="3539" name=""/>
                  <p:cNvSpPr/>
                  <p:nvPr/>
                </p:nvSpPr>
                <p:spPr>
                  <a:xfrm rot="15622800">
                    <a:off x="-60120" y="2650680"/>
                    <a:ext cx="118368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 rot="15622800">
                    <a:off x="452160" y="2288880"/>
                    <a:ext cx="130536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1" name=""/>
                <p:cNvGrpSpPr/>
                <p:nvPr/>
              </p:nvGrpSpPr>
              <p:grpSpPr>
                <a:xfrm>
                  <a:off x="-24480" y="2231280"/>
                  <a:ext cx="1768680" cy="1517040"/>
                  <a:chOff x="-24480" y="2231280"/>
                  <a:chExt cx="1768680" cy="1517040"/>
                </a:xfrm>
              </p:grpSpPr>
              <p:sp>
                <p:nvSpPr>
                  <p:cNvPr id="3542" name=""/>
                  <p:cNvSpPr/>
                  <p:nvPr/>
                </p:nvSpPr>
                <p:spPr>
                  <a:xfrm rot="15622800">
                    <a:off x="1347120" y="3121560"/>
                    <a:ext cx="33840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 rot="15622800">
                    <a:off x="725040" y="1960200"/>
                    <a:ext cx="12168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 rot="15622800">
                    <a:off x="-106560" y="2809080"/>
                    <a:ext cx="48132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 rot="15622800">
                    <a:off x="681120" y="3343680"/>
                    <a:ext cx="1533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46" name=""/>
              <p:cNvSpPr/>
              <p:nvPr/>
            </p:nvSpPr>
            <p:spPr>
              <a:xfrm rot="15622800">
                <a:off x="241200" y="2157840"/>
                <a:ext cx="136188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7" name=""/>
              <p:cNvGrpSpPr/>
              <p:nvPr/>
            </p:nvGrpSpPr>
            <p:grpSpPr>
              <a:xfrm>
                <a:off x="-103680" y="2234520"/>
                <a:ext cx="1813320" cy="1611000"/>
                <a:chOff x="-103680" y="2234520"/>
                <a:chExt cx="1813320" cy="1611000"/>
              </a:xfrm>
            </p:grpSpPr>
            <p:sp>
              <p:nvSpPr>
                <p:cNvPr id="3548" name=""/>
                <p:cNvSpPr/>
                <p:nvPr/>
              </p:nvSpPr>
              <p:spPr>
                <a:xfrm rot="15622800">
                  <a:off x="140040" y="2255400"/>
                  <a:ext cx="132984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 rot="15622800">
                  <a:off x="122040" y="2235600"/>
                  <a:ext cx="136152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 rot="15622800">
                  <a:off x="160560" y="2278440"/>
                  <a:ext cx="128592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51" name=""/>
            <p:cNvGrpSpPr/>
            <p:nvPr/>
          </p:nvGrpSpPr>
          <p:grpSpPr>
            <a:xfrm>
              <a:off x="1410840" y="1716120"/>
              <a:ext cx="1292040" cy="913320"/>
              <a:chOff x="1410840" y="1716120"/>
              <a:chExt cx="1292040" cy="913320"/>
            </a:xfrm>
          </p:grpSpPr>
          <p:sp>
            <p:nvSpPr>
              <p:cNvPr id="3552" name=""/>
              <p:cNvSpPr/>
              <p:nvPr/>
            </p:nvSpPr>
            <p:spPr>
              <a:xfrm rot="15622800">
                <a:off x="1713240" y="1598400"/>
                <a:ext cx="66564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 rot="15622800">
                <a:off x="1452960" y="2388240"/>
                <a:ext cx="20484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 rot="15622800">
                <a:off x="1477800" y="2365560"/>
                <a:ext cx="20772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 rot="15622800">
                <a:off x="1547640" y="2389320"/>
                <a:ext cx="126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 rot="15622800">
                <a:off x="1451520" y="2389320"/>
                <a:ext cx="20484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 rot="15622800">
                <a:off x="1602360" y="2287800"/>
                <a:ext cx="20556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8" name=""/>
              <p:cNvGrpSpPr/>
              <p:nvPr/>
            </p:nvGrpSpPr>
            <p:grpSpPr>
              <a:xfrm>
                <a:off x="1592280" y="2259000"/>
                <a:ext cx="292320" cy="258480"/>
                <a:chOff x="1592280" y="2259000"/>
                <a:chExt cx="292320" cy="258480"/>
              </a:xfrm>
            </p:grpSpPr>
            <p:grpSp>
              <p:nvGrpSpPr>
                <p:cNvPr id="3559" name=""/>
                <p:cNvGrpSpPr/>
                <p:nvPr/>
              </p:nvGrpSpPr>
              <p:grpSpPr>
                <a:xfrm>
                  <a:off x="1592280" y="2273760"/>
                  <a:ext cx="268920" cy="243720"/>
                  <a:chOff x="1592280" y="2273760"/>
                  <a:chExt cx="268920" cy="243720"/>
                </a:xfrm>
              </p:grpSpPr>
              <p:sp>
                <p:nvSpPr>
                  <p:cNvPr id="3560" name=""/>
                  <p:cNvSpPr/>
                  <p:nvPr/>
                </p:nvSpPr>
                <p:spPr>
                  <a:xfrm rot="15622800">
                    <a:off x="1623600" y="2277360"/>
                    <a:ext cx="20592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 rot="15622800">
                    <a:off x="1622880" y="2276640"/>
                    <a:ext cx="20700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 rot="15622800">
                    <a:off x="1623240" y="2276280"/>
                    <a:ext cx="2055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63" name=""/>
                <p:cNvSpPr/>
                <p:nvPr/>
              </p:nvSpPr>
              <p:spPr>
                <a:xfrm rot="15622800">
                  <a:off x="1647360" y="2261880"/>
                  <a:ext cx="20592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4" name=""/>
              <p:cNvGrpSpPr/>
              <p:nvPr/>
            </p:nvGrpSpPr>
            <p:grpSpPr>
              <a:xfrm>
                <a:off x="1638000" y="2230920"/>
                <a:ext cx="292320" cy="258480"/>
                <a:chOff x="1638000" y="2230920"/>
                <a:chExt cx="292320" cy="258480"/>
              </a:xfrm>
            </p:grpSpPr>
            <p:grpSp>
              <p:nvGrpSpPr>
                <p:cNvPr id="3565" name=""/>
                <p:cNvGrpSpPr/>
                <p:nvPr/>
              </p:nvGrpSpPr>
              <p:grpSpPr>
                <a:xfrm>
                  <a:off x="1638000" y="2245680"/>
                  <a:ext cx="268560" cy="243720"/>
                  <a:chOff x="1638000" y="2245680"/>
                  <a:chExt cx="268560" cy="243720"/>
                </a:xfrm>
              </p:grpSpPr>
              <p:sp>
                <p:nvSpPr>
                  <p:cNvPr id="3566" name=""/>
                  <p:cNvSpPr/>
                  <p:nvPr/>
                </p:nvSpPr>
                <p:spPr>
                  <a:xfrm rot="15622800">
                    <a:off x="1668600" y="2248920"/>
                    <a:ext cx="2066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 rot="15622800">
                    <a:off x="1668600" y="2248560"/>
                    <a:ext cx="20700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 rot="15622800">
                    <a:off x="1668960" y="2248200"/>
                    <a:ext cx="2055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69" name=""/>
                <p:cNvSpPr/>
                <p:nvPr/>
              </p:nvSpPr>
              <p:spPr>
                <a:xfrm rot="15622800">
                  <a:off x="1693080" y="2233440"/>
                  <a:ext cx="2059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0" name=""/>
              <p:cNvGrpSpPr/>
              <p:nvPr/>
            </p:nvGrpSpPr>
            <p:grpSpPr>
              <a:xfrm>
                <a:off x="1680120" y="2216160"/>
                <a:ext cx="269280" cy="244440"/>
                <a:chOff x="1680120" y="2216160"/>
                <a:chExt cx="269280" cy="244440"/>
              </a:xfrm>
            </p:grpSpPr>
            <p:sp>
              <p:nvSpPr>
                <p:cNvPr id="3571" name=""/>
                <p:cNvSpPr/>
                <p:nvPr/>
              </p:nvSpPr>
              <p:spPr>
                <a:xfrm rot="15622800">
                  <a:off x="1711440" y="2220120"/>
                  <a:ext cx="20628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 rot="15622800">
                  <a:off x="1710720" y="2219040"/>
                  <a:ext cx="20772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3" name=""/>
              <p:cNvGrpSpPr/>
              <p:nvPr/>
            </p:nvGrpSpPr>
            <p:grpSpPr>
              <a:xfrm>
                <a:off x="1680120" y="2201760"/>
                <a:ext cx="292680" cy="257760"/>
                <a:chOff x="1680120" y="2201760"/>
                <a:chExt cx="292680" cy="257760"/>
              </a:xfrm>
            </p:grpSpPr>
            <p:sp>
              <p:nvSpPr>
                <p:cNvPr id="3574" name=""/>
                <p:cNvSpPr/>
                <p:nvPr/>
              </p:nvSpPr>
              <p:spPr>
                <a:xfrm rot="15622800">
                  <a:off x="1710720" y="2219040"/>
                  <a:ext cx="2066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 rot="15622800">
                  <a:off x="1735200" y="2204280"/>
                  <a:ext cx="20628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6" name=""/>
              <p:cNvGrpSpPr/>
              <p:nvPr/>
            </p:nvGrpSpPr>
            <p:grpSpPr>
              <a:xfrm>
                <a:off x="1494000" y="1778400"/>
                <a:ext cx="1116360" cy="818280"/>
                <a:chOff x="1494000" y="1778400"/>
                <a:chExt cx="1116360" cy="818280"/>
              </a:xfrm>
            </p:grpSpPr>
            <p:sp>
              <p:nvSpPr>
                <p:cNvPr id="3577" name=""/>
                <p:cNvSpPr/>
                <p:nvPr/>
              </p:nvSpPr>
              <p:spPr>
                <a:xfrm flipV="1">
                  <a:off x="1494000" y="1778400"/>
                  <a:ext cx="955440" cy="64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 flipV="1">
                  <a:off x="1609200" y="1945800"/>
                  <a:ext cx="1001160" cy="65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9" name=""/>
              <p:cNvGrpSpPr/>
              <p:nvPr/>
            </p:nvGrpSpPr>
            <p:grpSpPr>
              <a:xfrm>
                <a:off x="1722240" y="2175480"/>
                <a:ext cx="288360" cy="256320"/>
                <a:chOff x="1722240" y="2175480"/>
                <a:chExt cx="288360" cy="256320"/>
              </a:xfrm>
            </p:grpSpPr>
            <p:grpSp>
              <p:nvGrpSpPr>
                <p:cNvPr id="3580" name=""/>
                <p:cNvGrpSpPr/>
                <p:nvPr/>
              </p:nvGrpSpPr>
              <p:grpSpPr>
                <a:xfrm>
                  <a:off x="1722240" y="2188080"/>
                  <a:ext cx="268560" cy="243720"/>
                  <a:chOff x="1722240" y="2188080"/>
                  <a:chExt cx="268560" cy="243720"/>
                </a:xfrm>
              </p:grpSpPr>
              <p:sp>
                <p:nvSpPr>
                  <p:cNvPr id="3581" name=""/>
                  <p:cNvSpPr/>
                  <p:nvPr/>
                </p:nvSpPr>
                <p:spPr>
                  <a:xfrm rot="15622800">
                    <a:off x="1753560" y="2192040"/>
                    <a:ext cx="20592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2" name=""/>
                  <p:cNvSpPr/>
                  <p:nvPr/>
                </p:nvSpPr>
                <p:spPr>
                  <a:xfrm rot="15622800">
                    <a:off x="1752840" y="2190960"/>
                    <a:ext cx="20700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3" name=""/>
                <p:cNvSpPr/>
                <p:nvPr/>
              </p:nvSpPr>
              <p:spPr>
                <a:xfrm rot="15622800">
                  <a:off x="1753560" y="2190600"/>
                  <a:ext cx="20628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 rot="15622800">
                  <a:off x="1773720" y="2178000"/>
                  <a:ext cx="20556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5" name=""/>
              <p:cNvSpPr/>
              <p:nvPr/>
            </p:nvSpPr>
            <p:spPr>
              <a:xfrm rot="15622800">
                <a:off x="1972080" y="1711440"/>
                <a:ext cx="41040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 rot="15622800">
                <a:off x="2440440" y="1715760"/>
                <a:ext cx="2242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s genéricas durante a realizaçã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19240" y="2052000"/>
            <a:ext cx="8684640" cy="2964240"/>
            <a:chOff x="219240" y="2052000"/>
            <a:chExt cx="8684640" cy="2964240"/>
          </a:xfrm>
        </p:grpSpPr>
        <p:sp>
          <p:nvSpPr>
            <p:cNvPr id="328" name=""/>
            <p:cNvSpPr/>
            <p:nvPr/>
          </p:nvSpPr>
          <p:spPr>
            <a:xfrm>
              <a:off x="223560" y="3276360"/>
              <a:ext cx="8680320" cy="1739880"/>
            </a:xfrm>
            <a:custGeom>
              <a:avLst/>
              <a:gdLst/>
              <a:ahLst/>
              <a:rect l="l" t="t" r="r" b="b"/>
              <a:pathLst>
                <a:path w="5468" h="1388">
                  <a:moveTo>
                    <a:pt x="347" y="0"/>
                  </a:moveTo>
                  <a:lnTo>
                    <a:pt x="0" y="1388"/>
                  </a:lnTo>
                  <a:lnTo>
                    <a:pt x="5468" y="1388"/>
                  </a:lnTo>
                  <a:lnTo>
                    <a:pt x="5022" y="7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219240" y="3513240"/>
              <a:ext cx="8611560" cy="1364400"/>
              <a:chOff x="219240" y="3513240"/>
              <a:chExt cx="8611560" cy="1364400"/>
            </a:xfrm>
          </p:grpSpPr>
          <p:sp>
            <p:nvSpPr>
              <p:cNvPr id="330" name=""/>
              <p:cNvSpPr/>
              <p:nvPr/>
            </p:nvSpPr>
            <p:spPr>
              <a:xfrm>
                <a:off x="4776480" y="3513240"/>
                <a:ext cx="1969920" cy="1269360"/>
              </a:xfrm>
              <a:prstGeom prst="roundRect">
                <a:avLst>
                  <a:gd name="adj" fmla="val 16667"/>
                </a:avLst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219240" y="3723840"/>
                <a:ext cx="8611560" cy="1153800"/>
                <a:chOff x="219240" y="3723840"/>
                <a:chExt cx="8611560" cy="11538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019480" y="3723840"/>
                  <a:ext cx="840960" cy="4266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valiar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48120" y="4245480"/>
                  <a:ext cx="840960" cy="4266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provar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022880" y="4024800"/>
                  <a:ext cx="1807920" cy="852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ocumentar as decisões tomadas e registrar lições aprendid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35" name=""/>
                <p:cNvCxnSpPr>
                  <a:stCxn id="333" idx="3"/>
                  <a:endCxn id="334" idx="1"/>
                </p:cNvCxnSpPr>
                <p:nvPr/>
              </p:nvCxnSpPr>
              <p:spPr>
                <a:xfrm flipV="1">
                  <a:off x="6598800" y="4459680"/>
                  <a:ext cx="414360" cy="792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36" name=""/>
                <p:cNvGrpSpPr/>
                <p:nvPr/>
              </p:nvGrpSpPr>
              <p:grpSpPr>
                <a:xfrm>
                  <a:off x="3485880" y="4237560"/>
                  <a:ext cx="1203120" cy="639720"/>
                  <a:chOff x="3485880" y="4237560"/>
                  <a:chExt cx="1203120" cy="63972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3485880" y="4237560"/>
                    <a:ext cx="1203120" cy="63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Monitorar viabilidade econômic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4504680" y="4250160"/>
                    <a:ext cx="171000" cy="13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339" name=""/>
                <p:cNvCxnSpPr>
                  <a:stCxn id="332" idx="2"/>
                  <a:endCxn id="333" idx="1"/>
                </p:cNvCxnSpPr>
                <p:nvPr/>
              </p:nvCxnSpPr>
              <p:spPr>
                <a:xfrm flipH="1" rot="16200000">
                  <a:off x="5443920" y="4173120"/>
                  <a:ext cx="290880" cy="29880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40" name=""/>
                <p:cNvCxnSpPr>
                  <a:stCxn id="337" idx="0"/>
                  <a:endCxn id="332" idx="1"/>
                </p:cNvCxnSpPr>
                <p:nvPr/>
              </p:nvCxnSpPr>
              <p:spPr>
                <a:xfrm flipH="1" flipV="1" rot="5400000">
                  <a:off x="4406760" y="3625200"/>
                  <a:ext cx="282960" cy="92268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41" name=""/>
                <p:cNvGrpSpPr/>
                <p:nvPr/>
              </p:nvGrpSpPr>
              <p:grpSpPr>
                <a:xfrm>
                  <a:off x="219240" y="4237560"/>
                  <a:ext cx="1036080" cy="639720"/>
                  <a:chOff x="219240" y="4237560"/>
                  <a:chExt cx="1036080" cy="63972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219240" y="4237560"/>
                    <a:ext cx="1036080" cy="63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tualizar Plano da Fas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1096560" y="4250160"/>
                    <a:ext cx="147240" cy="13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>
                  <a:off x="1703160" y="4237560"/>
                  <a:ext cx="133308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tividades Especificas da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45" name=""/>
                <p:cNvCxnSpPr>
                  <a:stCxn id="342" idx="3"/>
                  <a:endCxn id="344" idx="1"/>
                </p:cNvCxnSpPr>
                <p:nvPr/>
              </p:nvCxnSpPr>
              <p:spPr>
                <a:xfrm>
                  <a:off x="1264680" y="4565880"/>
                  <a:ext cx="428760" cy="1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46" name=""/>
                <p:cNvCxnSpPr>
                  <a:stCxn id="344" idx="3"/>
                  <a:endCxn id="337" idx="1"/>
                </p:cNvCxnSpPr>
                <p:nvPr/>
              </p:nvCxnSpPr>
              <p:spPr>
                <a:xfrm>
                  <a:off x="3046320" y="4565880"/>
                  <a:ext cx="430560" cy="1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47" name=""/>
              <p:cNvSpPr/>
              <p:nvPr/>
            </p:nvSpPr>
            <p:spPr>
              <a:xfrm>
                <a:off x="6027480" y="3576240"/>
                <a:ext cx="1104480" cy="42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visão de Fase “gate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22720" y="3855600"/>
                <a:ext cx="185400" cy="271440"/>
              </a:xfrm>
              <a:prstGeom prst="flowChartDecis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040040" y="2052000"/>
              <a:ext cx="6981120" cy="534240"/>
              <a:chOff x="1040040" y="2052000"/>
              <a:chExt cx="6981120" cy="53424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2337120" y="2065680"/>
                <a:ext cx="5684040" cy="520560"/>
                <a:chOff x="2337120" y="2065680"/>
                <a:chExt cx="5684040" cy="5205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711320" y="2065680"/>
                  <a:ext cx="1043640" cy="520560"/>
                </a:xfrm>
                <a:custGeom>
                  <a:avLst/>
                  <a:gdLst>
                    <a:gd name="textAreaLeft" fmla="*/ 0 w 1043640"/>
                    <a:gd name="textAreaRight" fmla="*/ 1044000 w 1043640"/>
                    <a:gd name="textAreaTop" fmla="*/ 0 h 520560"/>
                    <a:gd name="textAreaBottom" fmla="*/ 520920 h 520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4" y="0"/>
                      </a:lnTo>
                      <a:lnTo>
                        <a:pt x="21600" y="10800"/>
                      </a:lnTo>
                      <a:lnTo>
                        <a:pt x="19544" y="21600"/>
                      </a:lnTo>
                      <a:lnTo>
                        <a:pt x="0" y="21600"/>
                      </a:lnTo>
                      <a:lnTo>
                        <a:pt x="2056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talhado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634920" y="2065680"/>
                  <a:ext cx="1074240" cy="520560"/>
                </a:xfrm>
                <a:custGeom>
                  <a:avLst/>
                  <a:gdLst>
                    <a:gd name="textAreaLeft" fmla="*/ 0 w 1074240"/>
                    <a:gd name="textAreaRight" fmla="*/ 1074600 w 1074240"/>
                    <a:gd name="textAreaTop" fmla="*/ 0 h 520560"/>
                    <a:gd name="textAreaBottom" fmla="*/ 520920 h 520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672" y="0"/>
                      </a:lnTo>
                      <a:lnTo>
                        <a:pt x="21600" y="10800"/>
                      </a:lnTo>
                      <a:lnTo>
                        <a:pt x="19672" y="21600"/>
                      </a:lnTo>
                      <a:lnTo>
                        <a:pt x="0" y="21600"/>
                      </a:lnTo>
                      <a:lnTo>
                        <a:pt x="1928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onceitual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337120" y="2065680"/>
                  <a:ext cx="1302840" cy="520560"/>
                </a:xfrm>
                <a:custGeom>
                  <a:avLst/>
                  <a:gdLst>
                    <a:gd name="textAreaLeft" fmla="*/ 0 w 1302840"/>
                    <a:gd name="textAreaRight" fmla="*/ 1303200 w 1302840"/>
                    <a:gd name="textAreaTop" fmla="*/ 0 h 520560"/>
                    <a:gd name="textAreaBottom" fmla="*/ 520920 h 520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746" y="0"/>
                      </a:lnTo>
                      <a:lnTo>
                        <a:pt x="21600" y="10800"/>
                      </a:lnTo>
                      <a:lnTo>
                        <a:pt x="19746" y="21600"/>
                      </a:lnTo>
                      <a:lnTo>
                        <a:pt x="0" y="21600"/>
                      </a:lnTo>
                      <a:lnTo>
                        <a:pt x="1854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formacional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859080" y="2065680"/>
                  <a:ext cx="1162080" cy="520560"/>
                </a:xfrm>
                <a:custGeom>
                  <a:avLst/>
                  <a:gdLst>
                    <a:gd name="textAreaLeft" fmla="*/ 0 w 1162080"/>
                    <a:gd name="textAreaRight" fmla="*/ 1162080 w 1162080"/>
                    <a:gd name="textAreaTop" fmla="*/ 0 h 520560"/>
                    <a:gd name="textAreaBottom" fmla="*/ 520920 h 520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740" y="0"/>
                      </a:lnTo>
                      <a:lnTo>
                        <a:pt x="21600" y="10800"/>
                      </a:lnTo>
                      <a:lnTo>
                        <a:pt x="19740" y="21600"/>
                      </a:lnTo>
                      <a:lnTo>
                        <a:pt x="0" y="21600"/>
                      </a:lnTo>
                      <a:lnTo>
                        <a:pt x="1860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Lanç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o Produ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753880" y="2065680"/>
                  <a:ext cx="1102680" cy="520560"/>
                </a:xfrm>
                <a:custGeom>
                  <a:avLst/>
                  <a:gdLst>
                    <a:gd name="textAreaLeft" fmla="*/ 0 w 1102680"/>
                    <a:gd name="textAreaRight" fmla="*/ 1102680 w 1102680"/>
                    <a:gd name="textAreaTop" fmla="*/ 0 h 520560"/>
                    <a:gd name="textAreaBottom" fmla="*/ 520920 h 520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987" y="0"/>
                      </a:lnTo>
                      <a:lnTo>
                        <a:pt x="21600" y="10800"/>
                      </a:lnTo>
                      <a:lnTo>
                        <a:pt x="19987" y="21600"/>
                      </a:lnTo>
                      <a:lnTo>
                        <a:pt x="0" y="21600"/>
                      </a:lnTo>
                      <a:lnTo>
                        <a:pt x="1613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epara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d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040040" y="2052000"/>
                <a:ext cx="1270800" cy="520560"/>
              </a:xfrm>
              <a:custGeom>
                <a:avLst/>
                <a:gdLst>
                  <a:gd name="textAreaLeft" fmla="*/ 0 w 1270800"/>
                  <a:gd name="textAreaRight" fmla="*/ 1271160 w 1270800"/>
                  <a:gd name="textAreaTop" fmla="*/ 0 h 520560"/>
                  <a:gd name="textAreaBottom" fmla="*/ 520920 h 52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22" y="0"/>
                    </a:lnTo>
                    <a:lnTo>
                      <a:pt x="21600" y="10800"/>
                    </a:lnTo>
                    <a:lnTo>
                      <a:pt x="19522" y="21600"/>
                    </a:lnTo>
                    <a:lnTo>
                      <a:pt x="0" y="21600"/>
                    </a:lnTo>
                    <a:lnTo>
                      <a:pt x="2078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laneja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je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781000" y="3124080"/>
              <a:ext cx="3065400" cy="3045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cc"/>
                  </a:solidFill>
                  <a:latin typeface="Arial"/>
                </a:rPr>
                <a:t>Atividades Genér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8" name=""/>
            <p:cNvCxnSpPr>
              <a:stCxn id="357" idx="0"/>
              <a:endCxn id="353" idx="0"/>
            </p:cNvCxnSpPr>
            <p:nvPr/>
          </p:nvCxnSpPr>
          <p:spPr>
            <a:xfrm flipH="1" flipV="1">
              <a:off x="2930040" y="2589840"/>
              <a:ext cx="1384560" cy="53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9" name=""/>
            <p:cNvCxnSpPr>
              <a:stCxn id="357" idx="0"/>
              <a:endCxn id="352" idx="0"/>
            </p:cNvCxnSpPr>
            <p:nvPr/>
          </p:nvCxnSpPr>
          <p:spPr>
            <a:xfrm flipH="1" flipV="1">
              <a:off x="4122360" y="2589840"/>
              <a:ext cx="192240" cy="53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60" name=""/>
            <p:cNvCxnSpPr>
              <a:stCxn id="357" idx="0"/>
              <a:endCxn id="351" idx="0"/>
            </p:cNvCxnSpPr>
            <p:nvPr/>
          </p:nvCxnSpPr>
          <p:spPr>
            <a:xfrm flipV="1">
              <a:off x="4314240" y="2589840"/>
              <a:ext cx="867240" cy="53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61" name=""/>
            <p:cNvCxnSpPr>
              <a:stCxn id="357" idx="0"/>
              <a:endCxn id="355" idx="0"/>
            </p:cNvCxnSpPr>
            <p:nvPr/>
          </p:nvCxnSpPr>
          <p:spPr>
            <a:xfrm flipV="1">
              <a:off x="4314600" y="2589840"/>
              <a:ext cx="1949760" cy="53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62" name=""/>
            <p:cNvCxnSpPr>
              <a:stCxn id="357" idx="0"/>
              <a:endCxn id="354" idx="0"/>
            </p:cNvCxnSpPr>
            <p:nvPr/>
          </p:nvCxnSpPr>
          <p:spPr>
            <a:xfrm flipV="1">
              <a:off x="4314240" y="2589840"/>
              <a:ext cx="3075480" cy="53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57" idx="0"/>
              <a:endCxn id="356" idx="0"/>
            </p:cNvCxnSpPr>
            <p:nvPr/>
          </p:nvCxnSpPr>
          <p:spPr>
            <a:xfrm flipH="1" flipV="1">
              <a:off x="1611000" y="2576160"/>
              <a:ext cx="2703600" cy="54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bjetivos do capítul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7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hecer as atividades genéricas que são recorrentes em todas as fases do modelo un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reender a importância e saber como atualizar o plano de projeto no início de cada f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reender a importância e como implementar o monitoramento da viabilidade econômico-financeira no final de cada f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as tarefas de revisão das fase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ga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cumentar as decisões tomadas durante o desenvolvimento e registrar as lições aprend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tualizar plano d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iar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ovar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s genéricas durante a realização do proje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76320" y="909720"/>
            <a:ext cx="8991360" cy="5810040"/>
            <a:chOff x="76320" y="909720"/>
            <a:chExt cx="8991360" cy="5810040"/>
          </a:xfrm>
        </p:grpSpPr>
        <p:sp>
          <p:nvSpPr>
            <p:cNvPr id="370" name=""/>
            <p:cNvSpPr/>
            <p:nvPr/>
          </p:nvSpPr>
          <p:spPr>
            <a:xfrm>
              <a:off x="1000080" y="644508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49520" y="6081480"/>
              <a:ext cx="609300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4200" y="602784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350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24400" y="5789520"/>
              <a:ext cx="111096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148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05640" y="5789520"/>
              <a:ext cx="1111320" cy="1875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6320" y="909720"/>
              <a:ext cx="8991360" cy="3205080"/>
              <a:chOff x="76320" y="909720"/>
              <a:chExt cx="8991360" cy="32050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76320" y="1068480"/>
                <a:ext cx="8991360" cy="3046320"/>
                <a:chOff x="76320" y="1068480"/>
                <a:chExt cx="8991360" cy="30463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76320" y="1068480"/>
                  <a:ext cx="8991360" cy="30463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5240" y="2317680"/>
                  <a:ext cx="7291440" cy="133992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1" name=""/>
                <p:cNvGrpSpPr/>
                <p:nvPr/>
              </p:nvGrpSpPr>
              <p:grpSpPr>
                <a:xfrm>
                  <a:off x="2239920" y="1679400"/>
                  <a:ext cx="4146480" cy="298440"/>
                  <a:chOff x="2239920" y="1679400"/>
                  <a:chExt cx="4146480" cy="29844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2239920" y="1679400"/>
                    <a:ext cx="4146480" cy="29844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293280" y="169236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962280" y="3490560"/>
                  <a:ext cx="6981480" cy="534600"/>
                  <a:chOff x="962280" y="3490560"/>
                  <a:chExt cx="6981480" cy="534600"/>
                </a:xfrm>
              </p:grpSpPr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2259360" y="3504600"/>
                    <a:ext cx="5684400" cy="520560"/>
                    <a:chOff x="2259360" y="3504600"/>
                    <a:chExt cx="5684400" cy="52056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633560" y="3504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3557160" y="3504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59360" y="3504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6781680" y="3504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5676480" y="3504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1" name=""/>
                  <p:cNvSpPr/>
                  <p:nvPr/>
                </p:nvSpPr>
                <p:spPr>
                  <a:xfrm>
                    <a:off x="962280" y="3490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364440" y="1681200"/>
                  <a:ext cx="2652480" cy="298440"/>
                  <a:chOff x="6364440" y="1681200"/>
                  <a:chExt cx="2652480" cy="2984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6364440" y="168120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431480" y="171792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5" name=""/>
                <p:cNvSpPr/>
                <p:nvPr/>
              </p:nvSpPr>
              <p:spPr>
                <a:xfrm>
                  <a:off x="8223120" y="176544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6" name=""/>
                <p:cNvCxnSpPr>
                  <a:stCxn id="393" idx="0"/>
                  <a:endCxn id="397" idx="0"/>
                </p:cNvCxnSpPr>
                <p:nvPr/>
              </p:nvCxnSpPr>
              <p:spPr>
                <a:xfrm rot="5400000">
                  <a:off x="4402440" y="-154548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98" name=""/>
                <p:cNvGrpSpPr/>
                <p:nvPr/>
              </p:nvGrpSpPr>
              <p:grpSpPr>
                <a:xfrm>
                  <a:off x="171360" y="1681200"/>
                  <a:ext cx="2124000" cy="296640"/>
                  <a:chOff x="171360" y="1681200"/>
                  <a:chExt cx="2124000" cy="29664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171360" y="1681200"/>
                    <a:ext cx="2124000" cy="29664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998280" y="171756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0" name=""/>
                <p:cNvSpPr/>
                <p:nvPr/>
              </p:nvSpPr>
              <p:spPr>
                <a:xfrm>
                  <a:off x="185760" y="205092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1" name=""/>
                <p:cNvGrpSpPr/>
                <p:nvPr/>
              </p:nvGrpSpPr>
              <p:grpSpPr>
                <a:xfrm>
                  <a:off x="6164280" y="2031840"/>
                  <a:ext cx="2871720" cy="933480"/>
                  <a:chOff x="6164280" y="2031840"/>
                  <a:chExt cx="2871720" cy="9334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6164280" y="203184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7421400" y="203184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249960" y="209556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535880" y="209556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694640" y="213516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6348240" y="213516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2413080" y="2018880"/>
                  <a:ext cx="3600000" cy="407880"/>
                  <a:chOff x="2413080" y="2018880"/>
                  <a:chExt cx="3600000" cy="4078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V="1">
                    <a:off x="241308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V="1">
                    <a:off x="31334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V="1">
                    <a:off x="385596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V="1">
                    <a:off x="4576680" y="201852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5298840" y="201852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2565360" y="2171520"/>
                  <a:ext cx="3600000" cy="407880"/>
                  <a:chOff x="2565360" y="2171520"/>
                  <a:chExt cx="3600000" cy="4078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256536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32857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V="1">
                    <a:off x="400824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V="1">
                    <a:off x="4728960" y="2171160"/>
                    <a:ext cx="713880" cy="407880"/>
                  </a:xfrm>
                  <a:custGeom>
                    <a:avLst/>
                    <a:gdLst>
                      <a:gd name="textAreaLeft" fmla="*/ 0 w 713880"/>
                      <a:gd name="textAreaRight" fmla="*/ 714240 w 71388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V="1">
                    <a:off x="5451120" y="21711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2717640" y="2323800"/>
                  <a:ext cx="3600720" cy="407880"/>
                  <a:chOff x="2717640" y="2323800"/>
                  <a:chExt cx="3600720" cy="4078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271764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34383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V="1">
                    <a:off x="416088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>
                    <a:off x="4881600" y="23234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>
                    <a:off x="5603760" y="23234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1565280" y="2060640"/>
                  <a:ext cx="950760" cy="671400"/>
                  <a:chOff x="1565280" y="2060640"/>
                  <a:chExt cx="950760" cy="6714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1565280" y="206064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1717560" y="221292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1870200" y="236520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279720" y="2674800"/>
                  <a:ext cx="6232320" cy="776520"/>
                  <a:chOff x="279720" y="2674800"/>
                  <a:chExt cx="6232320" cy="77652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279720" y="312408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3319560" y="2674800"/>
                    <a:ext cx="185760" cy="617400"/>
                    <a:chOff x="3319560" y="2674800"/>
                    <a:chExt cx="185760" cy="61740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31956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V="1">
                      <a:off x="341172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1208160" y="295128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6219720" y="2849040"/>
                    <a:ext cx="185400" cy="474840"/>
                    <a:chOff x="6219720" y="2849040"/>
                    <a:chExt cx="185400" cy="47484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6219720" y="30524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V="1">
                      <a:off x="6311520" y="284904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4748040" y="2674800"/>
                    <a:ext cx="185760" cy="617400"/>
                    <a:chOff x="4748040" y="2674800"/>
                    <a:chExt cx="185760" cy="61740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474804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V="1">
                      <a:off x="484020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464080" y="2674800"/>
                    <a:ext cx="185760" cy="617400"/>
                    <a:chOff x="5464080" y="2674800"/>
                    <a:chExt cx="185760" cy="61740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464080" y="302076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V="1">
                      <a:off x="5556240" y="267480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2422440" y="2706840"/>
                    <a:ext cx="185760" cy="585720"/>
                    <a:chOff x="2422440" y="2706840"/>
                    <a:chExt cx="185760" cy="5857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V="1">
                      <a:off x="25146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2422440" y="302112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035600" y="2706840"/>
                    <a:ext cx="185400" cy="585720"/>
                    <a:chOff x="4035600" y="2706840"/>
                    <a:chExt cx="185400" cy="58572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V="1">
                      <a:off x="4127400" y="270684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4035600" y="302112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3597120" y="2731680"/>
                    <a:ext cx="141480" cy="473400"/>
                    <a:chOff x="3597120" y="2731680"/>
                    <a:chExt cx="141480" cy="47340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V="1">
                      <a:off x="36687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35971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3784680" y="2731680"/>
                    <a:ext cx="141120" cy="473400"/>
                    <a:chOff x="3784680" y="2731680"/>
                    <a:chExt cx="141120" cy="47340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flipV="1">
                      <a:off x="38559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78468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4284720" y="2731680"/>
                    <a:ext cx="141120" cy="473400"/>
                    <a:chOff x="4284720" y="2731680"/>
                    <a:chExt cx="141120" cy="47340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flipV="1">
                      <a:off x="435600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428472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4498920" y="2731680"/>
                    <a:ext cx="141480" cy="473400"/>
                    <a:chOff x="4498920" y="2731680"/>
                    <a:chExt cx="141480" cy="47340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flipV="1">
                      <a:off x="457056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449892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3051000" y="2731680"/>
                    <a:ext cx="141480" cy="473400"/>
                    <a:chOff x="3051000" y="2731680"/>
                    <a:chExt cx="141480" cy="47340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flipV="1">
                      <a:off x="312264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3051000" y="307008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164200" y="2731680"/>
                    <a:ext cx="141120" cy="473400"/>
                    <a:chOff x="5164200" y="2731680"/>
                    <a:chExt cx="141120" cy="47340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flipV="1">
                      <a:off x="5235480" y="273168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164200" y="307008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69" name=""/>
              <p:cNvSpPr/>
              <p:nvPr/>
            </p:nvSpPr>
            <p:spPr>
              <a:xfrm>
                <a:off x="1500120" y="90972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>
            <a:off x="264960" y="4309920"/>
            <a:ext cx="8680680" cy="1395720"/>
          </a:xfrm>
          <a:custGeom>
            <a:avLst/>
            <a:gdLst/>
            <a:ahLst/>
            <a:rect l="l" t="t" r="r" b="b"/>
            <a:pathLst>
              <a:path w="5468" h="1388">
                <a:moveTo>
                  <a:pt x="347" y="0"/>
                </a:moveTo>
                <a:lnTo>
                  <a:pt x="0" y="1388"/>
                </a:lnTo>
                <a:lnTo>
                  <a:pt x="5468" y="1388"/>
                </a:lnTo>
                <a:lnTo>
                  <a:pt x="5022" y="7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314080" y="4195800"/>
            <a:ext cx="2064960" cy="2437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Atividades Gen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0280" y="4202280"/>
            <a:ext cx="8612280" cy="1364760"/>
            <a:chOff x="260280" y="4202280"/>
            <a:chExt cx="8612280" cy="1364760"/>
          </a:xfrm>
        </p:grpSpPr>
        <p:sp>
          <p:nvSpPr>
            <p:cNvPr id="473" name=""/>
            <p:cNvSpPr/>
            <p:nvPr/>
          </p:nvSpPr>
          <p:spPr>
            <a:xfrm>
              <a:off x="4817880" y="4202280"/>
              <a:ext cx="1970280" cy="12697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260280" y="4412880"/>
              <a:ext cx="8612280" cy="1154160"/>
              <a:chOff x="260280" y="4412880"/>
              <a:chExt cx="8612280" cy="1154160"/>
            </a:xfrm>
          </p:grpSpPr>
          <p:sp>
            <p:nvSpPr>
              <p:cNvPr id="475" name=""/>
              <p:cNvSpPr/>
              <p:nvPr/>
            </p:nvSpPr>
            <p:spPr>
              <a:xfrm>
                <a:off x="5060880" y="4412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vali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9520" y="4934880"/>
                <a:ext cx="841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rov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064280" y="4714200"/>
                <a:ext cx="1808280" cy="852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cumentar as decisões tomadas e registrar lições aprendid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8" name=""/>
              <p:cNvCxnSpPr>
                <a:stCxn id="476" idx="3"/>
                <a:endCxn id="477" idx="1"/>
              </p:cNvCxnSpPr>
              <p:nvPr/>
            </p:nvCxnSpPr>
            <p:spPr>
              <a:xfrm flipV="1">
                <a:off x="6640560" y="5149080"/>
                <a:ext cx="414720" cy="8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479" name=""/>
              <p:cNvGrpSpPr/>
              <p:nvPr/>
            </p:nvGrpSpPr>
            <p:grpSpPr>
              <a:xfrm>
                <a:off x="3527280" y="4926960"/>
                <a:ext cx="1203480" cy="639720"/>
                <a:chOff x="3527280" y="4926960"/>
                <a:chExt cx="1203480" cy="6397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3527280" y="4926960"/>
                  <a:ext cx="120348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546440" y="4939920"/>
                  <a:ext cx="17136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482" name=""/>
              <p:cNvCxnSpPr>
                <a:stCxn id="475" idx="2"/>
                <a:endCxn id="476" idx="1"/>
              </p:cNvCxnSpPr>
              <p:nvPr/>
            </p:nvCxnSpPr>
            <p:spPr>
              <a:xfrm flipH="1" rot="16200000">
                <a:off x="5484240" y="4862520"/>
                <a:ext cx="291240" cy="2991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3" name=""/>
              <p:cNvCxnSpPr>
                <a:stCxn id="480" idx="0"/>
                <a:endCxn id="475" idx="1"/>
              </p:cNvCxnSpPr>
              <p:nvPr/>
            </p:nvCxnSpPr>
            <p:spPr>
              <a:xfrm flipH="1" flipV="1" rot="5400000">
                <a:off x="4448520" y="4314600"/>
                <a:ext cx="283320" cy="92304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484" name=""/>
              <p:cNvGrpSpPr/>
              <p:nvPr/>
            </p:nvGrpSpPr>
            <p:grpSpPr>
              <a:xfrm>
                <a:off x="260280" y="4926960"/>
                <a:ext cx="1036440" cy="639720"/>
                <a:chOff x="260280" y="4926960"/>
                <a:chExt cx="1036440" cy="6397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260280" y="4926960"/>
                  <a:ext cx="103644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tualizar Plano da Fa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137960" y="4939920"/>
                  <a:ext cx="147240" cy="13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1744560" y="4926960"/>
                <a:ext cx="1333440" cy="639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ividades Especificas da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8" name=""/>
              <p:cNvCxnSpPr>
                <a:stCxn id="485" idx="3"/>
                <a:endCxn id="487" idx="1"/>
              </p:cNvCxnSpPr>
              <p:nvPr/>
            </p:nvCxnSpPr>
            <p:spPr>
              <a:xfrm>
                <a:off x="1306440" y="5255280"/>
                <a:ext cx="4291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9" name=""/>
              <p:cNvCxnSpPr>
                <a:stCxn id="487" idx="3"/>
                <a:endCxn id="480" idx="1"/>
              </p:cNvCxnSpPr>
              <p:nvPr/>
            </p:nvCxnSpPr>
            <p:spPr>
              <a:xfrm>
                <a:off x="3087360" y="5255280"/>
                <a:ext cx="4309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90" name=""/>
            <p:cNvSpPr/>
            <p:nvPr/>
          </p:nvSpPr>
          <p:spPr>
            <a:xfrm>
              <a:off x="6068880" y="4265280"/>
              <a:ext cx="1104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visão de Fase “gate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64120" y="4544640"/>
              <a:ext cx="185760" cy="271440"/>
            </a:xfrm>
            <a:prstGeom prst="flowChartDecis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-61200" y="4024800"/>
            <a:ext cx="2808000" cy="2010240"/>
            <a:chOff x="-61200" y="4024800"/>
            <a:chExt cx="2808000" cy="2010240"/>
          </a:xfrm>
        </p:grpSpPr>
        <p:grpSp>
          <p:nvGrpSpPr>
            <p:cNvPr id="493" name=""/>
            <p:cNvGrpSpPr/>
            <p:nvPr/>
          </p:nvGrpSpPr>
          <p:grpSpPr>
            <a:xfrm>
              <a:off x="-61200" y="4446360"/>
              <a:ext cx="1917360" cy="1588680"/>
              <a:chOff x="-61200" y="4446360"/>
              <a:chExt cx="1917360" cy="158868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-18000" y="4446360"/>
                <a:ext cx="1863360" cy="1562040"/>
                <a:chOff x="-18000" y="4446360"/>
                <a:chExt cx="1863360" cy="1562040"/>
              </a:xfrm>
            </p:grpSpPr>
            <p:grpSp>
              <p:nvGrpSpPr>
                <p:cNvPr id="495" name=""/>
                <p:cNvGrpSpPr/>
                <p:nvPr/>
              </p:nvGrpSpPr>
              <p:grpSpPr>
                <a:xfrm>
                  <a:off x="-18000" y="4446360"/>
                  <a:ext cx="1863360" cy="1562040"/>
                  <a:chOff x="-18000" y="4446360"/>
                  <a:chExt cx="1863360" cy="156204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rot="15622800">
                    <a:off x="16200" y="4884840"/>
                    <a:ext cx="109836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5622800">
                    <a:off x="534600" y="4533480"/>
                    <a:ext cx="121140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15840" y="4522320"/>
                  <a:ext cx="1756080" cy="1418400"/>
                  <a:chOff x="15840" y="4522320"/>
                  <a:chExt cx="1756080" cy="141840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rot="15622800">
                    <a:off x="1389240" y="5331960"/>
                    <a:ext cx="3139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15622800">
                    <a:off x="772200" y="4246560"/>
                    <a:ext cx="11268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15622800">
                    <a:off x="-51840" y="506340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5622800">
                    <a:off x="714240" y="554148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3" name=""/>
              <p:cNvSpPr/>
              <p:nvPr/>
            </p:nvSpPr>
            <p:spPr>
              <a:xfrm rot="15622800">
                <a:off x="325440" y="4399560"/>
                <a:ext cx="126396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-61200" y="4520520"/>
                <a:ext cx="1797120" cy="1514520"/>
                <a:chOff x="-61200" y="4520520"/>
                <a:chExt cx="1797120" cy="1514520"/>
              </a:xfrm>
            </p:grpSpPr>
            <p:sp>
              <p:nvSpPr>
                <p:cNvPr id="505" name=""/>
                <p:cNvSpPr/>
                <p:nvPr/>
              </p:nvSpPr>
              <p:spPr>
                <a:xfrm rot="15622800">
                  <a:off x="222120" y="4493160"/>
                  <a:ext cx="123408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rot="15622800">
                  <a:off x="205560" y="4473360"/>
                  <a:ext cx="126360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rot="15622800">
                  <a:off x="241200" y="4516200"/>
                  <a:ext cx="119340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8" name=""/>
            <p:cNvGrpSpPr/>
            <p:nvPr/>
          </p:nvGrpSpPr>
          <p:grpSpPr>
            <a:xfrm>
              <a:off x="1457280" y="4024800"/>
              <a:ext cx="1289520" cy="863280"/>
              <a:chOff x="1457280" y="4024800"/>
              <a:chExt cx="1289520" cy="863280"/>
            </a:xfrm>
          </p:grpSpPr>
          <p:sp>
            <p:nvSpPr>
              <p:cNvPr id="509" name=""/>
              <p:cNvSpPr/>
              <p:nvPr/>
            </p:nvSpPr>
            <p:spPr>
              <a:xfrm rot="15622800">
                <a:off x="1779840" y="388116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5622800">
                <a:off x="1500120" y="465408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5622800">
                <a:off x="1524960" y="463248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5622800">
                <a:off x="1591200" y="465228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5622800">
                <a:off x="1499040" y="465552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5622800">
                <a:off x="1650240" y="455940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1634040" y="4538880"/>
                <a:ext cx="289800" cy="243000"/>
                <a:chOff x="1634040" y="4538880"/>
                <a:chExt cx="289800" cy="24300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1634040" y="4552920"/>
                  <a:ext cx="266400" cy="228960"/>
                  <a:chOff x="1634040" y="4552920"/>
                  <a:chExt cx="266400" cy="22896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rot="15622800">
                    <a:off x="1671840" y="454932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5622800">
                    <a:off x="1671120" y="454860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5622800">
                    <a:off x="1671840" y="454824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0" name=""/>
                <p:cNvSpPr/>
                <p:nvPr/>
              </p:nvSpPr>
              <p:spPr>
                <a:xfrm rot="15622800">
                  <a:off x="1695600" y="453420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1680120" y="4512960"/>
                <a:ext cx="290160" cy="242640"/>
                <a:chOff x="1680120" y="4512960"/>
                <a:chExt cx="290160" cy="242640"/>
              </a:xfrm>
            </p:grpSpPr>
            <p:grpSp>
              <p:nvGrpSpPr>
                <p:cNvPr id="522" name=""/>
                <p:cNvGrpSpPr/>
                <p:nvPr/>
              </p:nvGrpSpPr>
              <p:grpSpPr>
                <a:xfrm>
                  <a:off x="1680120" y="4526640"/>
                  <a:ext cx="266040" cy="228960"/>
                  <a:chOff x="1680120" y="4526640"/>
                  <a:chExt cx="266040" cy="22896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rot="15622800">
                    <a:off x="1717200" y="452268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15622800">
                    <a:off x="1716840" y="452232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rot="15622800">
                    <a:off x="1717560" y="452232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 rot="15622800">
                  <a:off x="1742040" y="450792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1722600" y="4498560"/>
                <a:ext cx="266760" cy="229680"/>
                <a:chOff x="1722600" y="4498560"/>
                <a:chExt cx="266760" cy="229680"/>
              </a:xfrm>
            </p:grpSpPr>
            <p:sp>
              <p:nvSpPr>
                <p:cNvPr id="528" name=""/>
                <p:cNvSpPr/>
                <p:nvPr/>
              </p:nvSpPr>
              <p:spPr>
                <a:xfrm rot="15622800">
                  <a:off x="1760400" y="449532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5622800">
                  <a:off x="1759320" y="449424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722600" y="4484880"/>
                <a:ext cx="290160" cy="242280"/>
                <a:chOff x="1722600" y="4484880"/>
                <a:chExt cx="290160" cy="242280"/>
              </a:xfrm>
            </p:grpSpPr>
            <p:sp>
              <p:nvSpPr>
                <p:cNvPr id="531" name=""/>
                <p:cNvSpPr/>
                <p:nvPr/>
              </p:nvSpPr>
              <p:spPr>
                <a:xfrm rot="15622800">
                  <a:off x="1759680" y="449424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622800">
                  <a:off x="1783800" y="448020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1534680" y="4085640"/>
                <a:ext cx="1119960" cy="770760"/>
                <a:chOff x="1534680" y="4085640"/>
                <a:chExt cx="1119960" cy="770760"/>
              </a:xfrm>
            </p:grpSpPr>
            <p:sp>
              <p:nvSpPr>
                <p:cNvPr id="534" name=""/>
                <p:cNvSpPr/>
                <p:nvPr/>
              </p:nvSpPr>
              <p:spPr>
                <a:xfrm flipV="1">
                  <a:off x="1534680" y="4085640"/>
                  <a:ext cx="961200" cy="60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1647720" y="4239000"/>
                  <a:ext cx="1006920" cy="61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1765080" y="4459680"/>
                <a:ext cx="285480" cy="241200"/>
                <a:chOff x="1765080" y="4459680"/>
                <a:chExt cx="285480" cy="24120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1765080" y="4471920"/>
                  <a:ext cx="266040" cy="228960"/>
                  <a:chOff x="1765080" y="4471920"/>
                  <a:chExt cx="266040" cy="22896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rot="15622800">
                    <a:off x="1802880" y="446832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rot="15622800">
                    <a:off x="1801800" y="446760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"/>
                <p:cNvSpPr/>
                <p:nvPr/>
              </p:nvSpPr>
              <p:spPr>
                <a:xfrm rot="15622800">
                  <a:off x="1802160" y="446724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15622800">
                  <a:off x="1822320" y="445500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"/>
              <p:cNvSpPr/>
              <p:nvPr/>
            </p:nvSpPr>
            <p:spPr>
              <a:xfrm rot="15622800">
                <a:off x="2029680" y="399564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5622800">
                <a:off x="2493720" y="401652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ualizar plano da fase 1/1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9031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ício de cada fase de desenvolvimento realiza-se a atualização (ou detalhamento) do plano de projeto gerado na fase de planejamento do proje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lano de projeto inicial pode não conter detalhes sobre todas as atividades, prazos, riscos, etc... de alguma fase especí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m surgir novas condi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danças no merc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ços na tecnolog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ção de recurs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s polític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818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ualizar plano da fase 1/2 - Tarefas genéricas da fase: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9031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r o plano de projeto atu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r e sintetizar as novas condições para a realização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o escopo do produ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e detalhar o escopo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e detalhar as atividades, os responsáveis, os prazos e o cronogr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e detalhar recursos necess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estimativa de orçamento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, monitorar, valorar e definir novos indicadores de desempenh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r a viabilidade econômico-financeira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novos ris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plano de comunic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r, atualizar e preparar novas aquisiçõe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/atualizar os critérios de passagem d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ga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3:18:54Z</dcterms:created>
  <dc:creator>Forcellini</dc:creator>
  <dc:description/>
  <dc:language>en-US</dc:language>
  <cp:lastModifiedBy>Fernando Forcellini</cp:lastModifiedBy>
  <dcterms:modified xsi:type="dcterms:W3CDTF">2005-12-13T12:56:12Z</dcterms:modified>
  <cp:revision>99</cp:revision>
  <dc:subject/>
  <dc:title>Slide 1</dc:title>
</cp:coreProperties>
</file>